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B038-876D-4499-9D83-F29169A75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391860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B225-9F04-42D1-BF55-CF4A0CB9F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464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DFA7-C3AC-4F0E-82EC-7184E8B72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956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52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956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52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4BFA-B0FC-40F0-9AA7-579D49B05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C0CB2-B176-42DF-BCB0-35418D6E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E43DD-B82B-4CC6-8382-2454D4F3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6A1B8-33F3-4A5D-8C3B-0A9372F3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1F477-B735-4E15-8B5F-F8645045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22705-DEA0-4275-B8E9-CBE0E439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8960" y="1519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80085-4569-4374-8650-E168FE28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A8512-09F1-4A49-AD13-581FA639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B9C4-4718-4804-AA28-FEE7F5CFD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464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FF872-E146-4C92-929D-F042582A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E85EB-D17F-4A4E-BFE6-F9A7300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391860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BF0BC-4B29-436D-9879-6A01531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464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15D02-9BC0-4930-9C5A-DF2419A1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6956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052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6956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052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BE669-125E-4749-B2F9-B63B165F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3A3A-BB63-4520-B328-9E5DAC6AC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7B5E-78A4-4942-9E5B-7ED471B76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8AA1-7181-4FCF-B85E-836CA4612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1519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00E4E-B40C-435A-85F3-A8F854BA3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E79C-9950-4223-8E58-A6837EC31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464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9941-507D-41EE-A2E8-CC83921CD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CC1A-3B05-4068-BB18-7B4042A8E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age23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1896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Insign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nsignia"/>
              </a:rPr>
              <a:t>© Vide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0" y="64004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Insign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7484-A3D2-4BE4-803E-955D3F70E6D2}" type="slidenum">
              <a:rPr b="1" lang="en-US" sz="1000" spc="-1" strike="noStrike">
                <a:solidFill>
                  <a:srgbClr val="808080"/>
                </a:solidFill>
                <a:latin typeface="Insign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" name="yellowline" descr=""/>
          <p:cNvPicPr/>
          <p:nvPr/>
        </p:nvPicPr>
        <p:blipFill>
          <a:blip r:embed="rId4"/>
          <a:stretch/>
        </p:blipFill>
        <p:spPr>
          <a:xfrm>
            <a:off x="1565280" y="990720"/>
            <a:ext cx="7197840" cy="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age1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Insign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sign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419112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Insign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nsignia"/>
              </a:rPr>
              <a:t>© vide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Insign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D478-4AF8-465B-AE04-0312FC0B3C2C}" type="slidenum">
              <a:rPr b="0" lang="en-US" sz="1000" spc="-1" strike="noStrike">
                <a:solidFill>
                  <a:srgbClr val="000000"/>
                </a:solidFill>
                <a:latin typeface="Insign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Franklin Gothic Boo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Franklin Gothic Book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Font typeface="Franklin Gothic Book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28800" algn="ctr">
              <a:spcBef>
                <a:spcPts val="400"/>
              </a:spcBef>
              <a:buClr>
                <a:srgbClr val="000099"/>
              </a:buClr>
              <a:buFont typeface="Franklin Gothic Book"/>
              <a:buChar char="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Opus: TV-Anytime data creation, editing &amp; management tool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2120" y="5257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Franklin Gothic Book"/>
              </a:rPr>
              <a:t>15</a:t>
            </a:r>
            <a:r>
              <a:rPr b="1" lang="en-US" sz="2800" spc="-1" strike="noStrike" baseline="30000">
                <a:solidFill>
                  <a:srgbClr val="808080"/>
                </a:solidFill>
                <a:latin typeface="Franklin Gothic Book"/>
              </a:rPr>
              <a:t>th</a:t>
            </a:r>
            <a:r>
              <a:rPr b="1" lang="en-US" sz="2800" spc="-1" strike="noStrike">
                <a:solidFill>
                  <a:srgbClr val="808080"/>
                </a:solidFill>
                <a:latin typeface="Franklin Gothic Book"/>
              </a:rPr>
              <a:t> TV-Anytime Meeting, Sunnyvale</a:t>
            </a:r>
            <a:endParaRPr b="1" lang="en-US" sz="2800" spc="-1" strike="noStrike">
              <a:solidFill>
                <a:srgbClr val="808080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Franklin Gothic Book"/>
              </a:rPr>
              <a:t>David Black</a:t>
            </a:r>
            <a:endParaRPr b="1" lang="en-US" sz="2800" spc="-1" strike="noStrike">
              <a:solidFill>
                <a:srgbClr val="80808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Importing metadata / CRIDs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Any valid TV-Anytime XML instance document (as per 1.1 spec) recognise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Opus will pick ou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ontent description metadata / CRIDs (programs and groups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Segment metadata (segments and groups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Franklin Gothic Book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anklin Gothic Book"/>
              </a:rPr>
              <a:t>associated CRIDs must be in same file or already in Opus library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User can choose what to import from the fil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port" descr=""/>
          <p:cNvPicPr/>
          <p:nvPr/>
        </p:nvPicPr>
        <p:blipFill>
          <a:blip r:embed="rId1"/>
          <a:stretch/>
        </p:blipFill>
        <p:spPr>
          <a:xfrm>
            <a:off x="130320" y="23760"/>
            <a:ext cx="893736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Active CRID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Toolbar shows the ‘focus’ or Active CRI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Most recently used CRIDs also availabl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Views are opened for the Active CRI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Some views are used together to create and edit metadata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3" name="Active%20CRID%20toolbar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7570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ontent Description property inspecto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ntent Description View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Detailed property inspector &amp; editor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Full 1.1 metadata can be inspected, added, edited, removed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View divided into broad division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escription: titles / synopsis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Keywords &amp; genres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udio / video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arental Rating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reation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Language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Related Materia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redits / cast lis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6" name="Content%20desc%20view%201" descr=""/>
          <p:cNvPicPr/>
          <p:nvPr/>
        </p:nvPicPr>
        <p:blipFill>
          <a:blip r:embed="rId3"/>
          <a:stretch/>
        </p:blipFill>
        <p:spPr>
          <a:xfrm>
            <a:off x="4287960" y="3778200"/>
            <a:ext cx="48560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RID Grouping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Two ways to create group CRIDs (e.g. series, show)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via a wizard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on a canvas, using tools available on palettes, and drag &amp; drop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Content Reference Grouping canva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Visual construction / inspection of group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Tools to focus on, hide and show parts of the tree or graph in questi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RID%20Grouping" descr=""/>
          <p:cNvPicPr/>
          <p:nvPr/>
        </p:nvPicPr>
        <p:blipFill>
          <a:blip r:embed="rId1"/>
          <a:stretch/>
        </p:blipFill>
        <p:spPr>
          <a:xfrm>
            <a:off x="76320" y="0"/>
            <a:ext cx="90234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RID%20Grouping%202" descr=""/>
          <p:cNvPicPr/>
          <p:nvPr/>
        </p:nvPicPr>
        <p:blipFill>
          <a:blip r:embed="rId1"/>
          <a:stretch/>
        </p:blipFill>
        <p:spPr>
          <a:xfrm>
            <a:off x="152280" y="93600"/>
            <a:ext cx="891540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Location Resolution data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anklin Gothic Book"/>
              </a:rPr>
              <a:t>Created implicitly by CRID grouping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anklin Gothic Book"/>
              </a:rPr>
              <a:t>Created explicitly by adding locators for CRIDs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3" name="Locators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591012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Location Resolution data export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ontent Referencing specification contains XML schema for Content Reference Tabl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REF Tables can be exported to XML fil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ontrol on individual CRID basis fo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mplete fla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solution statu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cquisition directiv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-resolve dat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export%20lres" descr=""/>
          <p:cNvPicPr/>
          <p:nvPr/>
        </p:nvPicPr>
        <p:blipFill>
          <a:blip r:embed="rId1"/>
          <a:stretch/>
        </p:blipFill>
        <p:spPr>
          <a:xfrm>
            <a:off x="76320" y="142920"/>
            <a:ext cx="89424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Videsti Opus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is Opus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A TV-Anytime data creation, editing &amp; management PC-based too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urrently features metadata and content referencing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mplements entire 1.1 data model for content description metadata and segmentatio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mport from and export to TVA XML instance documen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Segment Metadata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egment metadata organised in a separate librar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egments not created directl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egment templates created firs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egment metadata items are instances of segment templat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articular video clip may have different meaning in different grouping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est goal by player X, worst mistake by goalie 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seg%20temp%20create" descr=""/>
          <p:cNvPicPr/>
          <p:nvPr/>
        </p:nvPicPr>
        <p:blipFill>
          <a:blip r:embed="rId1"/>
          <a:stretch/>
        </p:blipFill>
        <p:spPr>
          <a:xfrm>
            <a:off x="152280" y="0"/>
            <a:ext cx="89154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Segment grouping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wo ways to create segment groups (e.g. synopsis, highlights)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via a wizard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n a canvas, using tools available on palettes, and drag &amp; drop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emplates can be dragged to canvas to create segment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ull range of canvas tools availabl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eg%20grouping" descr=""/>
          <p:cNvPicPr/>
          <p:nvPr/>
        </p:nvPicPr>
        <p:blipFill>
          <a:blip r:embed="rId1"/>
          <a:stretch/>
        </p:blipFill>
        <p:spPr>
          <a:xfrm>
            <a:off x="182520" y="33480"/>
            <a:ext cx="88851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Metadata Export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oth Content metadata and Segment metadata can be exported to TV-Anytime XML fil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ocument level parameters specified firs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5" name="export%20metadata%20doc%20level%20params" descr=""/>
          <p:cNvPicPr/>
          <p:nvPr/>
        </p:nvPicPr>
        <p:blipFill>
          <a:blip r:embed="rId3"/>
          <a:stretch/>
        </p:blipFill>
        <p:spPr>
          <a:xfrm>
            <a:off x="3581280" y="2971800"/>
            <a:ext cx="26672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t%20metadata%20export" descr=""/>
          <p:cNvPicPr/>
          <p:nvPr/>
        </p:nvPicPr>
        <p:blipFill>
          <a:blip r:embed="rId1"/>
          <a:stretch/>
        </p:blipFill>
        <p:spPr>
          <a:xfrm>
            <a:off x="152280" y="93600"/>
            <a:ext cx="877572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xport%20seg%20metadata" descr=""/>
          <p:cNvPicPr/>
          <p:nvPr/>
        </p:nvPicPr>
        <p:blipFill>
          <a:blip r:embed="rId1"/>
          <a:stretch/>
        </p:blipFill>
        <p:spPr>
          <a:xfrm>
            <a:off x="216000" y="76320"/>
            <a:ext cx="877572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o need to save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Data is saved on the fly as user work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imilar to Microsoft Outlook mode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Workspac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articular arrangements of windows / view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an be saved, closed and re-opened lat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0" name="workspaces" descr=""/>
          <p:cNvPicPr/>
          <p:nvPr/>
        </p:nvPicPr>
        <p:blipFill>
          <a:blip r:embed="rId3"/>
          <a:stretch/>
        </p:blipFill>
        <p:spPr>
          <a:xfrm>
            <a:off x="2666880" y="3886200"/>
            <a:ext cx="4381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Videsti Opus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Opus available at 16</a:t>
            </a:r>
            <a:r>
              <a:rPr b="1" lang="en-GB" sz="2800" spc="-1" strike="noStrike" baseline="30000">
                <a:solidFill>
                  <a:srgbClr val="000000"/>
                </a:solidFill>
                <a:latin typeface="Franklin Gothic Book"/>
              </a:rPr>
              <a:t>th</a:t>
            </a: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 meeting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Will work for 90 day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Plan to have version 1.2 by timeou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Franklin Gothic Book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anklin Gothic Book"/>
              </a:rPr>
              <a:t>Adhering to 1.2 specification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Franklin Gothic Book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anklin Gothic Book"/>
              </a:rPr>
              <a:t>New features!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Don’t forget to register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www.videsti.com/opu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Like to know more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dblack@videsti.co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Thanks for your attention!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RID-centric organisation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Opus organises TV-Anytime data around the CRI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CRIDs are organised in the Content Reference Librar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Content Reference Librar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Windows Explorer like interfac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reate folders in a hierarchal tre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Full drag and drop suppor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Drag files from Windows Explorer to impor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RID%20lib" descr=""/>
          <p:cNvPicPr/>
          <p:nvPr/>
        </p:nvPicPr>
        <p:blipFill>
          <a:blip r:embed="rId1"/>
          <a:stretch/>
        </p:blipFill>
        <p:spPr>
          <a:xfrm>
            <a:off x="185760" y="57240"/>
            <a:ext cx="880596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reating a CRID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Various ways a CRID can get into the library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reate a new CRID explicitl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Import a TV-Anytime instance document containing content description metadata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Creating a new CRI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Wizard guides user through step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Main title (mandatory element in the ProgramInformationType type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CRID itself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Short synopsis (optional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Organise into the librar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New%20CRID%20wiz%201" descr=""/>
          <p:cNvPicPr/>
          <p:nvPr/>
        </p:nvPicPr>
        <p:blipFill>
          <a:blip r:embed="rId1"/>
          <a:stretch/>
        </p:blipFill>
        <p:spPr>
          <a:xfrm>
            <a:off x="206280" y="14400"/>
            <a:ext cx="8861400" cy="67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New%20CRID%20wiz%202" descr=""/>
          <p:cNvPicPr/>
          <p:nvPr/>
        </p:nvPicPr>
        <p:blipFill>
          <a:blip r:embed="rId1"/>
          <a:stretch/>
        </p:blipFill>
        <p:spPr>
          <a:xfrm>
            <a:off x="196920" y="20520"/>
            <a:ext cx="887076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ontent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Frame accurate representation of the content referred to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Any video file supported by DirectShow or Quicktim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Opus Video Description fil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Opus Video Description (OVD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Substitute if video file not availabl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Simple text fil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Franklin Gothic Book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Duration and frames per second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New%20CRID%20wiz%203" descr=""/>
          <p:cNvPicPr/>
          <p:nvPr/>
        </p:nvPicPr>
        <p:blipFill>
          <a:blip r:embed="rId1"/>
          <a:stretch/>
        </p:blipFill>
        <p:spPr>
          <a:xfrm>
            <a:off x="130320" y="4680"/>
            <a:ext cx="88614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20:58:46Z</dcterms:created>
  <dc:creator>STEPHENB</dc:creator>
  <dc:description/>
  <dc:language>en-US</dc:language>
  <cp:lastModifiedBy>David Black</cp:lastModifiedBy>
  <dcterms:modified xsi:type="dcterms:W3CDTF">2002-02-09T10:35:39Z</dcterms:modified>
  <cp:revision>80</cp:revision>
  <dc:subject/>
  <dc:title>Opus – TVA metadata authoring tool</dc:title>
</cp:coreProperties>
</file>