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43713" cy="9356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43600" cy="93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9360"/>
            <a:ext cx="2965320" cy="4384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76480" y="9360"/>
            <a:ext cx="2965320" cy="4384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-360" y="8908560"/>
            <a:ext cx="2965320" cy="438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3876480" y="8908560"/>
            <a:ext cx="2965320" cy="438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6A9E0FB-2E72-4777-A19A-CFCE4C0A818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912960" y="4457880"/>
            <a:ext cx="5016240" cy="42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1233360" y="814320"/>
            <a:ext cx="4375440" cy="3278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235160" y="814320"/>
            <a:ext cx="4371840" cy="327816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912960" y="4457880"/>
            <a:ext cx="5016240" cy="42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s generate options which result not always in working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Ethernet connectivity (static &amp; dtynamic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ETF protocol set for carrying IP on top of ATM (5 op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235160" y="814320"/>
            <a:ext cx="4371840" cy="327816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914040" y="4495320"/>
            <a:ext cx="501660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design can lead to overkil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monolithic specifications that are not suited for the job at h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AV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SM-CC U-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3756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54800" cy="17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400560"/>
            <a:ext cx="7354800" cy="17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3756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88840" cy="17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0440" y="1447560"/>
            <a:ext cx="3588840" cy="17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400560"/>
            <a:ext cx="3588840" cy="17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0440" y="3400560"/>
            <a:ext cx="3588840" cy="17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3756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2368080" cy="17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58480" y="1447560"/>
            <a:ext cx="2368080" cy="17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5360" y="1447560"/>
            <a:ext cx="2368080" cy="17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400560"/>
            <a:ext cx="2368080" cy="17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58480" y="3400560"/>
            <a:ext cx="2368080" cy="17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5360" y="3400560"/>
            <a:ext cx="2368080" cy="17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3756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735480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3756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5480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3756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8884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0440" y="1447560"/>
            <a:ext cx="358884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3756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440"/>
            <a:ext cx="737568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3756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88840" cy="17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0440" y="1447560"/>
            <a:ext cx="358884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400560"/>
            <a:ext cx="3588840" cy="17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3756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8884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0440" y="1447560"/>
            <a:ext cx="3588840" cy="17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0440" y="3400560"/>
            <a:ext cx="3588840" cy="17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3756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88840" cy="17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0440" y="1447560"/>
            <a:ext cx="3588840" cy="17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400560"/>
            <a:ext cx="7354800" cy="17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91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6843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-76320" y="-57240"/>
            <a:ext cx="9280800" cy="696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3756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71600" y="1447560"/>
            <a:ext cx="735480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15000"/>
              </a:lnSpc>
              <a:buClr>
                <a:srgbClr val="fafd00"/>
              </a:buClr>
              <a:buSzPct val="70000"/>
              <a:buFont typeface="Wingdings" charset="2"/>
              <a:buChar char="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6720" indent="-190440">
              <a:lnSpc>
                <a:spcPct val="115000"/>
              </a:lnSpc>
              <a:buClr>
                <a:srgbClr val="fafd00"/>
              </a:buClr>
              <a:buSzPct val="120000"/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85840">
              <a:lnSpc>
                <a:spcPct val="115000"/>
              </a:lnSpc>
              <a:buClr>
                <a:srgbClr val="fafd00"/>
              </a:buClr>
              <a:buSzPct val="12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523880" indent="-190440">
              <a:lnSpc>
                <a:spcPct val="115000"/>
              </a:lnSpc>
              <a:buClr>
                <a:srgbClr val="fafd00"/>
              </a:buClr>
              <a:buSzPct val="90000"/>
              <a:buFont typeface="Arial"/>
              <a:buChar char="#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905120" indent="-19044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905120" indent="-190440">
              <a:lnSpc>
                <a:spcPct val="115000"/>
              </a:lnSpc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905120" indent="-190440">
              <a:lnSpc>
                <a:spcPct val="115000"/>
              </a:lnSpc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89640" y="3621240"/>
            <a:ext cx="917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6BC8CF6-EE4C-4C9E-BD87-55A3D335DD9B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80880" y="1143000"/>
            <a:ext cx="927360" cy="92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91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920320"/>
            <a:ext cx="77724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900" spc="-1" strike="noStrike">
                <a:solidFill>
                  <a:srgbClr val="ffcc00"/>
                </a:solidFill>
                <a:latin typeface="Arial"/>
              </a:rPr>
              <a:t>TV-Anytime System Design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63760" y="4130640"/>
            <a:ext cx="62164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its Kl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PN Resea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1 September 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BC@Amsterd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91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3756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ynamic behaviour examp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00480" y="2532240"/>
            <a:ext cx="97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00480" y="2467080"/>
            <a:ext cx="97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447920" y="1219320"/>
          <a:ext cx="7245360" cy="50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19320"/>
                    <a:ext cx="724536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91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3756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V-Anytime System Desig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057400" y="1219320"/>
            <a:ext cx="4557600" cy="4564800"/>
            <a:chOff x="2057400" y="1219320"/>
            <a:chExt cx="4557600" cy="4564800"/>
          </a:xfrm>
        </p:grpSpPr>
        <p:grpSp>
          <p:nvGrpSpPr>
            <p:cNvPr id="78" name=""/>
            <p:cNvGrpSpPr/>
            <p:nvPr/>
          </p:nvGrpSpPr>
          <p:grpSpPr>
            <a:xfrm>
              <a:off x="2941560" y="2001600"/>
              <a:ext cx="2746440" cy="2585520"/>
              <a:chOff x="2941560" y="2001600"/>
              <a:chExt cx="2746440" cy="2585520"/>
            </a:xfrm>
          </p:grpSpPr>
          <p:sp>
            <p:nvSpPr>
              <p:cNvPr id="79" name=""/>
              <p:cNvSpPr/>
              <p:nvPr/>
            </p:nvSpPr>
            <p:spPr>
              <a:xfrm>
                <a:off x="4611600" y="2917440"/>
                <a:ext cx="435240" cy="921960"/>
              </a:xfrm>
              <a:custGeom>
                <a:avLst/>
                <a:gdLst/>
                <a:ahLst/>
                <a:rect l="l" t="t" r="r" b="b"/>
                <a:pathLst>
                  <a:path w="547" h="1162">
                    <a:moveTo>
                      <a:pt x="371" y="353"/>
                    </a:moveTo>
                    <a:lnTo>
                      <a:pt x="361" y="345"/>
                    </a:lnTo>
                    <a:lnTo>
                      <a:pt x="350" y="336"/>
                    </a:lnTo>
                    <a:lnTo>
                      <a:pt x="346" y="332"/>
                    </a:lnTo>
                    <a:lnTo>
                      <a:pt x="341" y="330"/>
                    </a:lnTo>
                    <a:lnTo>
                      <a:pt x="330" y="325"/>
                    </a:lnTo>
                    <a:lnTo>
                      <a:pt x="320" y="320"/>
                    </a:lnTo>
                    <a:lnTo>
                      <a:pt x="309" y="318"/>
                    </a:lnTo>
                    <a:lnTo>
                      <a:pt x="304" y="317"/>
                    </a:lnTo>
                    <a:lnTo>
                      <a:pt x="299" y="317"/>
                    </a:lnTo>
                    <a:lnTo>
                      <a:pt x="288" y="315"/>
                    </a:lnTo>
                    <a:lnTo>
                      <a:pt x="277" y="315"/>
                    </a:lnTo>
                    <a:lnTo>
                      <a:pt x="266" y="315"/>
                    </a:lnTo>
                    <a:lnTo>
                      <a:pt x="245" y="319"/>
                    </a:lnTo>
                    <a:lnTo>
                      <a:pt x="223" y="323"/>
                    </a:lnTo>
                    <a:lnTo>
                      <a:pt x="203" y="328"/>
                    </a:lnTo>
                    <a:lnTo>
                      <a:pt x="181" y="332"/>
                    </a:lnTo>
                    <a:lnTo>
                      <a:pt x="160" y="337"/>
                    </a:lnTo>
                    <a:lnTo>
                      <a:pt x="149" y="339"/>
                    </a:lnTo>
                    <a:lnTo>
                      <a:pt x="139" y="340"/>
                    </a:lnTo>
                    <a:lnTo>
                      <a:pt x="128" y="340"/>
                    </a:lnTo>
                    <a:lnTo>
                      <a:pt x="118" y="340"/>
                    </a:lnTo>
                    <a:lnTo>
                      <a:pt x="107" y="339"/>
                    </a:lnTo>
                    <a:lnTo>
                      <a:pt x="97" y="336"/>
                    </a:lnTo>
                    <a:lnTo>
                      <a:pt x="88" y="334"/>
                    </a:lnTo>
                    <a:lnTo>
                      <a:pt x="77" y="329"/>
                    </a:lnTo>
                    <a:lnTo>
                      <a:pt x="67" y="324"/>
                    </a:lnTo>
                    <a:lnTo>
                      <a:pt x="57" y="317"/>
                    </a:lnTo>
                    <a:lnTo>
                      <a:pt x="47" y="308"/>
                    </a:lnTo>
                    <a:lnTo>
                      <a:pt x="38" y="298"/>
                    </a:lnTo>
                    <a:lnTo>
                      <a:pt x="30" y="290"/>
                    </a:lnTo>
                    <a:lnTo>
                      <a:pt x="24" y="281"/>
                    </a:lnTo>
                    <a:lnTo>
                      <a:pt x="19" y="273"/>
                    </a:lnTo>
                    <a:lnTo>
                      <a:pt x="14" y="263"/>
                    </a:lnTo>
                    <a:lnTo>
                      <a:pt x="9" y="254"/>
                    </a:lnTo>
                    <a:lnTo>
                      <a:pt x="6" y="244"/>
                    </a:lnTo>
                    <a:lnTo>
                      <a:pt x="3" y="235"/>
                    </a:lnTo>
                    <a:lnTo>
                      <a:pt x="1" y="226"/>
                    </a:lnTo>
                    <a:lnTo>
                      <a:pt x="0" y="216"/>
                    </a:lnTo>
                    <a:lnTo>
                      <a:pt x="0" y="207"/>
                    </a:lnTo>
                    <a:lnTo>
                      <a:pt x="0" y="197"/>
                    </a:lnTo>
                    <a:lnTo>
                      <a:pt x="0" y="187"/>
                    </a:lnTo>
                    <a:lnTo>
                      <a:pt x="1" y="177"/>
                    </a:lnTo>
                    <a:lnTo>
                      <a:pt x="2" y="167"/>
                    </a:lnTo>
                    <a:lnTo>
                      <a:pt x="6" y="148"/>
                    </a:lnTo>
                    <a:lnTo>
                      <a:pt x="13" y="128"/>
                    </a:lnTo>
                    <a:lnTo>
                      <a:pt x="20" y="109"/>
                    </a:lnTo>
                    <a:lnTo>
                      <a:pt x="29" y="89"/>
                    </a:lnTo>
                    <a:lnTo>
                      <a:pt x="40" y="71"/>
                    </a:lnTo>
                    <a:lnTo>
                      <a:pt x="51" y="52"/>
                    </a:lnTo>
                    <a:lnTo>
                      <a:pt x="63" y="34"/>
                    </a:lnTo>
                    <a:lnTo>
                      <a:pt x="75" y="17"/>
                    </a:lnTo>
                    <a:lnTo>
                      <a:pt x="89" y="0"/>
                    </a:lnTo>
                    <a:lnTo>
                      <a:pt x="84" y="13"/>
                    </a:lnTo>
                    <a:lnTo>
                      <a:pt x="80" y="26"/>
                    </a:lnTo>
                    <a:lnTo>
                      <a:pt x="78" y="39"/>
                    </a:lnTo>
                    <a:lnTo>
                      <a:pt x="75" y="51"/>
                    </a:lnTo>
                    <a:lnTo>
                      <a:pt x="73" y="65"/>
                    </a:lnTo>
                    <a:lnTo>
                      <a:pt x="73" y="77"/>
                    </a:lnTo>
                    <a:lnTo>
                      <a:pt x="73" y="89"/>
                    </a:lnTo>
                    <a:lnTo>
                      <a:pt x="74" y="103"/>
                    </a:lnTo>
                    <a:lnTo>
                      <a:pt x="75" y="115"/>
                    </a:lnTo>
                    <a:lnTo>
                      <a:pt x="78" y="127"/>
                    </a:lnTo>
                    <a:lnTo>
                      <a:pt x="82" y="139"/>
                    </a:lnTo>
                    <a:lnTo>
                      <a:pt x="86" y="152"/>
                    </a:lnTo>
                    <a:lnTo>
                      <a:pt x="93" y="163"/>
                    </a:lnTo>
                    <a:lnTo>
                      <a:pt x="100" y="175"/>
                    </a:lnTo>
                    <a:lnTo>
                      <a:pt x="108" y="186"/>
                    </a:lnTo>
                    <a:lnTo>
                      <a:pt x="117" y="198"/>
                    </a:lnTo>
                    <a:lnTo>
                      <a:pt x="129" y="209"/>
                    </a:lnTo>
                    <a:lnTo>
                      <a:pt x="134" y="214"/>
                    </a:lnTo>
                    <a:lnTo>
                      <a:pt x="140" y="219"/>
                    </a:lnTo>
                    <a:lnTo>
                      <a:pt x="145" y="222"/>
                    </a:lnTo>
                    <a:lnTo>
                      <a:pt x="151" y="226"/>
                    </a:lnTo>
                    <a:lnTo>
                      <a:pt x="157" y="230"/>
                    </a:lnTo>
                    <a:lnTo>
                      <a:pt x="162" y="232"/>
                    </a:lnTo>
                    <a:lnTo>
                      <a:pt x="168" y="236"/>
                    </a:lnTo>
                    <a:lnTo>
                      <a:pt x="174" y="238"/>
                    </a:lnTo>
                    <a:lnTo>
                      <a:pt x="185" y="241"/>
                    </a:lnTo>
                    <a:lnTo>
                      <a:pt x="198" y="243"/>
                    </a:lnTo>
                    <a:lnTo>
                      <a:pt x="210" y="246"/>
                    </a:lnTo>
                    <a:lnTo>
                      <a:pt x="222" y="246"/>
                    </a:lnTo>
                    <a:lnTo>
                      <a:pt x="233" y="246"/>
                    </a:lnTo>
                    <a:lnTo>
                      <a:pt x="258" y="242"/>
                    </a:lnTo>
                    <a:lnTo>
                      <a:pt x="270" y="240"/>
                    </a:lnTo>
                    <a:lnTo>
                      <a:pt x="282" y="237"/>
                    </a:lnTo>
                    <a:lnTo>
                      <a:pt x="306" y="232"/>
                    </a:lnTo>
                    <a:lnTo>
                      <a:pt x="332" y="226"/>
                    </a:lnTo>
                    <a:lnTo>
                      <a:pt x="344" y="224"/>
                    </a:lnTo>
                    <a:lnTo>
                      <a:pt x="357" y="221"/>
                    </a:lnTo>
                    <a:lnTo>
                      <a:pt x="369" y="219"/>
                    </a:lnTo>
                    <a:lnTo>
                      <a:pt x="381" y="218"/>
                    </a:lnTo>
                    <a:lnTo>
                      <a:pt x="393" y="216"/>
                    </a:lnTo>
                    <a:lnTo>
                      <a:pt x="405" y="218"/>
                    </a:lnTo>
                    <a:lnTo>
                      <a:pt x="418" y="218"/>
                    </a:lnTo>
                    <a:lnTo>
                      <a:pt x="430" y="220"/>
                    </a:lnTo>
                    <a:lnTo>
                      <a:pt x="442" y="224"/>
                    </a:lnTo>
                    <a:lnTo>
                      <a:pt x="454" y="227"/>
                    </a:lnTo>
                    <a:lnTo>
                      <a:pt x="467" y="233"/>
                    </a:lnTo>
                    <a:lnTo>
                      <a:pt x="478" y="241"/>
                    </a:lnTo>
                    <a:lnTo>
                      <a:pt x="490" y="251"/>
                    </a:lnTo>
                    <a:lnTo>
                      <a:pt x="496" y="255"/>
                    </a:lnTo>
                    <a:lnTo>
                      <a:pt x="502" y="262"/>
                    </a:lnTo>
                    <a:lnTo>
                      <a:pt x="511" y="271"/>
                    </a:lnTo>
                    <a:lnTo>
                      <a:pt x="519" y="282"/>
                    </a:lnTo>
                    <a:lnTo>
                      <a:pt x="523" y="288"/>
                    </a:lnTo>
                    <a:lnTo>
                      <a:pt x="526" y="293"/>
                    </a:lnTo>
                    <a:lnTo>
                      <a:pt x="533" y="306"/>
                    </a:lnTo>
                    <a:lnTo>
                      <a:pt x="537" y="318"/>
                    </a:lnTo>
                    <a:lnTo>
                      <a:pt x="542" y="330"/>
                    </a:lnTo>
                    <a:lnTo>
                      <a:pt x="545" y="343"/>
                    </a:lnTo>
                    <a:lnTo>
                      <a:pt x="546" y="357"/>
                    </a:lnTo>
                    <a:lnTo>
                      <a:pt x="547" y="369"/>
                    </a:lnTo>
                    <a:lnTo>
                      <a:pt x="546" y="383"/>
                    </a:lnTo>
                    <a:lnTo>
                      <a:pt x="545" y="396"/>
                    </a:lnTo>
                    <a:lnTo>
                      <a:pt x="542" y="408"/>
                    </a:lnTo>
                    <a:lnTo>
                      <a:pt x="539" y="421"/>
                    </a:lnTo>
                    <a:lnTo>
                      <a:pt x="534" y="433"/>
                    </a:lnTo>
                    <a:lnTo>
                      <a:pt x="530" y="439"/>
                    </a:lnTo>
                    <a:lnTo>
                      <a:pt x="528" y="445"/>
                    </a:lnTo>
                    <a:lnTo>
                      <a:pt x="520" y="457"/>
                    </a:lnTo>
                    <a:lnTo>
                      <a:pt x="513" y="465"/>
                    </a:lnTo>
                    <a:lnTo>
                      <a:pt x="432" y="543"/>
                    </a:lnTo>
                    <a:lnTo>
                      <a:pt x="447" y="529"/>
                    </a:lnTo>
                    <a:lnTo>
                      <a:pt x="460" y="517"/>
                    </a:lnTo>
                    <a:lnTo>
                      <a:pt x="320" y="663"/>
                    </a:lnTo>
                    <a:lnTo>
                      <a:pt x="209" y="779"/>
                    </a:lnTo>
                    <a:lnTo>
                      <a:pt x="134" y="856"/>
                    </a:lnTo>
                    <a:lnTo>
                      <a:pt x="112" y="877"/>
                    </a:lnTo>
                    <a:lnTo>
                      <a:pt x="106" y="883"/>
                    </a:lnTo>
                    <a:lnTo>
                      <a:pt x="102" y="885"/>
                    </a:lnTo>
                    <a:lnTo>
                      <a:pt x="105" y="888"/>
                    </a:lnTo>
                    <a:lnTo>
                      <a:pt x="110" y="893"/>
                    </a:lnTo>
                    <a:lnTo>
                      <a:pt x="126" y="908"/>
                    </a:lnTo>
                    <a:lnTo>
                      <a:pt x="181" y="965"/>
                    </a:lnTo>
                    <a:lnTo>
                      <a:pt x="369" y="1158"/>
                    </a:lnTo>
                    <a:lnTo>
                      <a:pt x="363" y="1159"/>
                    </a:lnTo>
                    <a:lnTo>
                      <a:pt x="355" y="1160"/>
                    </a:lnTo>
                    <a:lnTo>
                      <a:pt x="343" y="1162"/>
                    </a:lnTo>
                    <a:lnTo>
                      <a:pt x="331" y="1162"/>
                    </a:lnTo>
                    <a:lnTo>
                      <a:pt x="317" y="1160"/>
                    </a:lnTo>
                    <a:lnTo>
                      <a:pt x="305" y="1159"/>
                    </a:lnTo>
                    <a:lnTo>
                      <a:pt x="293" y="1155"/>
                    </a:lnTo>
                    <a:lnTo>
                      <a:pt x="281" y="1151"/>
                    </a:lnTo>
                    <a:lnTo>
                      <a:pt x="270" y="1144"/>
                    </a:lnTo>
                    <a:lnTo>
                      <a:pt x="172" y="1045"/>
                    </a:lnTo>
                    <a:lnTo>
                      <a:pt x="96" y="967"/>
                    </a:lnTo>
                    <a:lnTo>
                      <a:pt x="46" y="916"/>
                    </a:lnTo>
                    <a:lnTo>
                      <a:pt x="31" y="901"/>
                    </a:lnTo>
                    <a:lnTo>
                      <a:pt x="25" y="895"/>
                    </a:lnTo>
                    <a:lnTo>
                      <a:pt x="28" y="893"/>
                    </a:lnTo>
                    <a:lnTo>
                      <a:pt x="34" y="888"/>
                    </a:lnTo>
                    <a:lnTo>
                      <a:pt x="52" y="869"/>
                    </a:lnTo>
                    <a:lnTo>
                      <a:pt x="117" y="803"/>
                    </a:lnTo>
                    <a:lnTo>
                      <a:pt x="214" y="702"/>
                    </a:lnTo>
                    <a:lnTo>
                      <a:pt x="336" y="576"/>
                    </a:lnTo>
                    <a:lnTo>
                      <a:pt x="325" y="587"/>
                    </a:lnTo>
                    <a:lnTo>
                      <a:pt x="311" y="598"/>
                    </a:lnTo>
                    <a:lnTo>
                      <a:pt x="381" y="531"/>
                    </a:lnTo>
                    <a:lnTo>
                      <a:pt x="387" y="523"/>
                    </a:lnTo>
                    <a:lnTo>
                      <a:pt x="393" y="513"/>
                    </a:lnTo>
                    <a:lnTo>
                      <a:pt x="399" y="502"/>
                    </a:lnTo>
                    <a:lnTo>
                      <a:pt x="403" y="493"/>
                    </a:lnTo>
                    <a:lnTo>
                      <a:pt x="407" y="482"/>
                    </a:lnTo>
                    <a:lnTo>
                      <a:pt x="409" y="471"/>
                    </a:lnTo>
                    <a:lnTo>
                      <a:pt x="410" y="458"/>
                    </a:lnTo>
                    <a:lnTo>
                      <a:pt x="410" y="447"/>
                    </a:lnTo>
                    <a:lnTo>
                      <a:pt x="410" y="436"/>
                    </a:lnTo>
                    <a:lnTo>
                      <a:pt x="409" y="425"/>
                    </a:lnTo>
                    <a:lnTo>
                      <a:pt x="407" y="414"/>
                    </a:lnTo>
                    <a:lnTo>
                      <a:pt x="403" y="403"/>
                    </a:lnTo>
                    <a:lnTo>
                      <a:pt x="398" y="392"/>
                    </a:lnTo>
                    <a:lnTo>
                      <a:pt x="393" y="381"/>
                    </a:lnTo>
                    <a:lnTo>
                      <a:pt x="387" y="372"/>
                    </a:lnTo>
                    <a:lnTo>
                      <a:pt x="383" y="367"/>
                    </a:lnTo>
                    <a:lnTo>
                      <a:pt x="380" y="363"/>
                    </a:lnTo>
                    <a:lnTo>
                      <a:pt x="371" y="353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638600" y="3150720"/>
                <a:ext cx="273240" cy="51840"/>
              </a:xfrm>
              <a:custGeom>
                <a:avLst/>
                <a:gdLst/>
                <a:ahLst/>
                <a:rect l="l" t="t" r="r" b="b"/>
                <a:pathLst>
                  <a:path w="343" h="66">
                    <a:moveTo>
                      <a:pt x="333" y="66"/>
                    </a:moveTo>
                    <a:lnTo>
                      <a:pt x="313" y="49"/>
                    </a:lnTo>
                    <a:lnTo>
                      <a:pt x="293" y="38"/>
                    </a:lnTo>
                    <a:lnTo>
                      <a:pt x="273" y="32"/>
                    </a:lnTo>
                    <a:lnTo>
                      <a:pt x="255" y="30"/>
                    </a:lnTo>
                    <a:lnTo>
                      <a:pt x="234" y="30"/>
                    </a:lnTo>
                    <a:lnTo>
                      <a:pt x="214" y="32"/>
                    </a:lnTo>
                    <a:lnTo>
                      <a:pt x="172" y="42"/>
                    </a:lnTo>
                    <a:lnTo>
                      <a:pt x="128" y="52"/>
                    </a:lnTo>
                    <a:lnTo>
                      <a:pt x="106" y="54"/>
                    </a:lnTo>
                    <a:lnTo>
                      <a:pt x="85" y="54"/>
                    </a:lnTo>
                    <a:lnTo>
                      <a:pt x="62" y="50"/>
                    </a:lnTo>
                    <a:lnTo>
                      <a:pt x="40" y="42"/>
                    </a:lnTo>
                    <a:lnTo>
                      <a:pt x="19" y="30"/>
                    </a:lnTo>
                    <a:lnTo>
                      <a:pt x="0" y="11"/>
                    </a:lnTo>
                    <a:lnTo>
                      <a:pt x="9" y="0"/>
                    </a:lnTo>
                    <a:lnTo>
                      <a:pt x="29" y="19"/>
                    </a:lnTo>
                    <a:lnTo>
                      <a:pt x="47" y="30"/>
                    </a:lnTo>
                    <a:lnTo>
                      <a:pt x="67" y="37"/>
                    </a:lnTo>
                    <a:lnTo>
                      <a:pt x="85" y="41"/>
                    </a:lnTo>
                    <a:lnTo>
                      <a:pt x="106" y="41"/>
                    </a:lnTo>
                    <a:lnTo>
                      <a:pt x="124" y="38"/>
                    </a:lnTo>
                    <a:lnTo>
                      <a:pt x="167" y="28"/>
                    </a:lnTo>
                    <a:lnTo>
                      <a:pt x="210" y="19"/>
                    </a:lnTo>
                    <a:lnTo>
                      <a:pt x="232" y="16"/>
                    </a:lnTo>
                    <a:lnTo>
                      <a:pt x="255" y="16"/>
                    </a:lnTo>
                    <a:lnTo>
                      <a:pt x="277" y="19"/>
                    </a:lnTo>
                    <a:lnTo>
                      <a:pt x="299" y="26"/>
                    </a:lnTo>
                    <a:lnTo>
                      <a:pt x="321" y="38"/>
                    </a:lnTo>
                    <a:lnTo>
                      <a:pt x="343" y="55"/>
                    </a:lnTo>
                    <a:lnTo>
                      <a:pt x="333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606920" y="2912760"/>
                <a:ext cx="79560" cy="245520"/>
              </a:xfrm>
              <a:custGeom>
                <a:avLst/>
                <a:gdLst/>
                <a:ahLst/>
                <a:rect l="l" t="t" r="r" b="b"/>
                <a:pathLst>
                  <a:path w="101" h="308">
                    <a:moveTo>
                      <a:pt x="39" y="308"/>
                    </a:moveTo>
                    <a:lnTo>
                      <a:pt x="26" y="291"/>
                    </a:lnTo>
                    <a:lnTo>
                      <a:pt x="15" y="271"/>
                    </a:lnTo>
                    <a:lnTo>
                      <a:pt x="6" y="252"/>
                    </a:lnTo>
                    <a:lnTo>
                      <a:pt x="1" y="232"/>
                    </a:lnTo>
                    <a:lnTo>
                      <a:pt x="0" y="212"/>
                    </a:lnTo>
                    <a:lnTo>
                      <a:pt x="0" y="191"/>
                    </a:lnTo>
                    <a:lnTo>
                      <a:pt x="6" y="150"/>
                    </a:lnTo>
                    <a:lnTo>
                      <a:pt x="21" y="111"/>
                    </a:lnTo>
                    <a:lnTo>
                      <a:pt x="42" y="72"/>
                    </a:lnTo>
                    <a:lnTo>
                      <a:pt x="65" y="34"/>
                    </a:lnTo>
                    <a:lnTo>
                      <a:pt x="90" y="0"/>
                    </a:lnTo>
                    <a:lnTo>
                      <a:pt x="101" y="10"/>
                    </a:lnTo>
                    <a:lnTo>
                      <a:pt x="76" y="44"/>
                    </a:lnTo>
                    <a:lnTo>
                      <a:pt x="54" y="81"/>
                    </a:lnTo>
                    <a:lnTo>
                      <a:pt x="35" y="117"/>
                    </a:lnTo>
                    <a:lnTo>
                      <a:pt x="20" y="155"/>
                    </a:lnTo>
                    <a:lnTo>
                      <a:pt x="14" y="193"/>
                    </a:lnTo>
                    <a:lnTo>
                      <a:pt x="14" y="212"/>
                    </a:lnTo>
                    <a:lnTo>
                      <a:pt x="15" y="229"/>
                    </a:lnTo>
                    <a:lnTo>
                      <a:pt x="20" y="247"/>
                    </a:lnTo>
                    <a:lnTo>
                      <a:pt x="27" y="264"/>
                    </a:lnTo>
                    <a:lnTo>
                      <a:pt x="37" y="282"/>
                    </a:lnTo>
                    <a:lnTo>
                      <a:pt x="50" y="298"/>
                    </a:lnTo>
                    <a:lnTo>
                      <a:pt x="39" y="3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637160" y="315072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11"/>
                    </a:moveTo>
                    <a:lnTo>
                      <a:pt x="0" y="10"/>
                    </a:lnTo>
                    <a:lnTo>
                      <a:pt x="11" y="0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664160" y="2915640"/>
                <a:ext cx="44280" cy="161640"/>
              </a:xfrm>
              <a:custGeom>
                <a:avLst/>
                <a:gdLst/>
                <a:ahLst/>
                <a:rect l="l" t="t" r="r" b="b"/>
                <a:pathLst>
                  <a:path w="56" h="206">
                    <a:moveTo>
                      <a:pt x="28" y="5"/>
                    </a:moveTo>
                    <a:lnTo>
                      <a:pt x="22" y="30"/>
                    </a:lnTo>
                    <a:lnTo>
                      <a:pt x="17" y="54"/>
                    </a:lnTo>
                    <a:lnTo>
                      <a:pt x="14" y="80"/>
                    </a:lnTo>
                    <a:lnTo>
                      <a:pt x="14" y="104"/>
                    </a:lnTo>
                    <a:lnTo>
                      <a:pt x="19" y="129"/>
                    </a:lnTo>
                    <a:lnTo>
                      <a:pt x="27" y="152"/>
                    </a:lnTo>
                    <a:lnTo>
                      <a:pt x="33" y="162"/>
                    </a:lnTo>
                    <a:lnTo>
                      <a:pt x="40" y="174"/>
                    </a:lnTo>
                    <a:lnTo>
                      <a:pt x="56" y="196"/>
                    </a:lnTo>
                    <a:lnTo>
                      <a:pt x="45" y="206"/>
                    </a:lnTo>
                    <a:lnTo>
                      <a:pt x="28" y="183"/>
                    </a:lnTo>
                    <a:lnTo>
                      <a:pt x="20" y="170"/>
                    </a:lnTo>
                    <a:lnTo>
                      <a:pt x="13" y="158"/>
                    </a:lnTo>
                    <a:lnTo>
                      <a:pt x="5" y="131"/>
                    </a:lnTo>
                    <a:lnTo>
                      <a:pt x="0" y="106"/>
                    </a:lnTo>
                    <a:lnTo>
                      <a:pt x="0" y="80"/>
                    </a:lnTo>
                    <a:lnTo>
                      <a:pt x="2" y="53"/>
                    </a:lnTo>
                    <a:lnTo>
                      <a:pt x="7" y="27"/>
                    </a:lnTo>
                    <a:lnTo>
                      <a:pt x="14" y="0"/>
                    </a:lnTo>
                    <a:lnTo>
                      <a:pt x="2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676760" y="291276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0"/>
                    </a:moveTo>
                    <a:lnTo>
                      <a:pt x="14" y="7"/>
                    </a:lnTo>
                    <a:lnTo>
                      <a:pt x="0" y="2"/>
                    </a:lnTo>
                    <a:lnTo>
                      <a:pt x="13" y="1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702320" y="3071160"/>
                <a:ext cx="312480" cy="56880"/>
              </a:xfrm>
              <a:custGeom>
                <a:avLst/>
                <a:gdLst/>
                <a:ahLst/>
                <a:rect l="l" t="t" r="r" b="b"/>
                <a:pathLst>
                  <a:path w="395" h="73">
                    <a:moveTo>
                      <a:pt x="10" y="0"/>
                    </a:moveTo>
                    <a:lnTo>
                      <a:pt x="33" y="21"/>
                    </a:lnTo>
                    <a:lnTo>
                      <a:pt x="43" y="27"/>
                    </a:lnTo>
                    <a:lnTo>
                      <a:pt x="53" y="33"/>
                    </a:lnTo>
                    <a:lnTo>
                      <a:pt x="75" y="40"/>
                    </a:lnTo>
                    <a:lnTo>
                      <a:pt x="98" y="44"/>
                    </a:lnTo>
                    <a:lnTo>
                      <a:pt x="121" y="45"/>
                    </a:lnTo>
                    <a:lnTo>
                      <a:pt x="144" y="42"/>
                    </a:lnTo>
                    <a:lnTo>
                      <a:pt x="193" y="31"/>
                    </a:lnTo>
                    <a:lnTo>
                      <a:pt x="243" y="21"/>
                    </a:lnTo>
                    <a:lnTo>
                      <a:pt x="269" y="17"/>
                    </a:lnTo>
                    <a:lnTo>
                      <a:pt x="293" y="16"/>
                    </a:lnTo>
                    <a:lnTo>
                      <a:pt x="319" y="20"/>
                    </a:lnTo>
                    <a:lnTo>
                      <a:pt x="345" y="28"/>
                    </a:lnTo>
                    <a:lnTo>
                      <a:pt x="369" y="42"/>
                    </a:lnTo>
                    <a:lnTo>
                      <a:pt x="395" y="62"/>
                    </a:lnTo>
                    <a:lnTo>
                      <a:pt x="385" y="73"/>
                    </a:lnTo>
                    <a:lnTo>
                      <a:pt x="361" y="54"/>
                    </a:lnTo>
                    <a:lnTo>
                      <a:pt x="339" y="42"/>
                    </a:lnTo>
                    <a:lnTo>
                      <a:pt x="317" y="34"/>
                    </a:lnTo>
                    <a:lnTo>
                      <a:pt x="292" y="31"/>
                    </a:lnTo>
                    <a:lnTo>
                      <a:pt x="269" y="32"/>
                    </a:lnTo>
                    <a:lnTo>
                      <a:pt x="246" y="36"/>
                    </a:lnTo>
                    <a:lnTo>
                      <a:pt x="196" y="45"/>
                    </a:lnTo>
                    <a:lnTo>
                      <a:pt x="147" y="56"/>
                    </a:lnTo>
                    <a:lnTo>
                      <a:pt x="121" y="60"/>
                    </a:lnTo>
                    <a:lnTo>
                      <a:pt x="97" y="59"/>
                    </a:lnTo>
                    <a:lnTo>
                      <a:pt x="72" y="55"/>
                    </a:lnTo>
                    <a:lnTo>
                      <a:pt x="47" y="47"/>
                    </a:lnTo>
                    <a:lnTo>
                      <a:pt x="34" y="39"/>
                    </a:lnTo>
                    <a:lnTo>
                      <a:pt x="23" y="32"/>
                    </a:lnTo>
                    <a:lnTo>
                      <a:pt x="0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700520" y="3071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0"/>
                    </a:moveTo>
                    <a:lnTo>
                      <a:pt x="1" y="11"/>
                    </a:lnTo>
                    <a:lnTo>
                      <a:pt x="1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05440" y="3120480"/>
                <a:ext cx="46080" cy="161640"/>
              </a:xfrm>
              <a:custGeom>
                <a:avLst/>
                <a:gdLst/>
                <a:ahLst/>
                <a:rect l="l" t="t" r="r" b="b"/>
                <a:pathLst>
                  <a:path w="57" h="206">
                    <a:moveTo>
                      <a:pt x="11" y="0"/>
                    </a:moveTo>
                    <a:lnTo>
                      <a:pt x="29" y="24"/>
                    </a:lnTo>
                    <a:lnTo>
                      <a:pt x="43" y="48"/>
                    </a:lnTo>
                    <a:lnTo>
                      <a:pt x="52" y="74"/>
                    </a:lnTo>
                    <a:lnTo>
                      <a:pt x="57" y="101"/>
                    </a:lnTo>
                    <a:lnTo>
                      <a:pt x="57" y="128"/>
                    </a:lnTo>
                    <a:lnTo>
                      <a:pt x="54" y="155"/>
                    </a:lnTo>
                    <a:lnTo>
                      <a:pt x="44" y="181"/>
                    </a:lnTo>
                    <a:lnTo>
                      <a:pt x="30" y="206"/>
                    </a:lnTo>
                    <a:lnTo>
                      <a:pt x="18" y="199"/>
                    </a:lnTo>
                    <a:lnTo>
                      <a:pt x="30" y="175"/>
                    </a:lnTo>
                    <a:lnTo>
                      <a:pt x="39" y="152"/>
                    </a:lnTo>
                    <a:lnTo>
                      <a:pt x="43" y="128"/>
                    </a:lnTo>
                    <a:lnTo>
                      <a:pt x="43" y="102"/>
                    </a:lnTo>
                    <a:lnTo>
                      <a:pt x="38" y="76"/>
                    </a:lnTo>
                    <a:lnTo>
                      <a:pt x="29" y="54"/>
                    </a:lnTo>
                    <a:lnTo>
                      <a:pt x="17" y="32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05440" y="312048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0" y="10"/>
                    </a:lnTo>
                    <a:lnTo>
                      <a:pt x="1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4800" y="327600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0"/>
                    </a:moveTo>
                    <a:lnTo>
                      <a:pt x="7" y="0"/>
                    </a:lnTo>
                    <a:lnTo>
                      <a:pt x="0" y="8"/>
                    </a:lnTo>
                    <a:lnTo>
                      <a:pt x="11" y="17"/>
                    </a:lnTo>
                    <a:lnTo>
                      <a:pt x="18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21280" y="327600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9"/>
                    </a:moveTo>
                    <a:lnTo>
                      <a:pt x="11" y="1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951440" y="3282480"/>
                <a:ext cx="71280" cy="69480"/>
              </a:xfrm>
              <a:custGeom>
                <a:avLst/>
                <a:gdLst/>
                <a:ahLst/>
                <a:rect l="l" t="t" r="r" b="b"/>
                <a:pathLst>
                  <a:path w="91" h="89">
                    <a:moveTo>
                      <a:pt x="91" y="11"/>
                    </a:moveTo>
                    <a:lnTo>
                      <a:pt x="81" y="0"/>
                    </a:lnTo>
                    <a:lnTo>
                      <a:pt x="0" y="78"/>
                    </a:lnTo>
                    <a:lnTo>
                      <a:pt x="10" y="89"/>
                    </a:lnTo>
                    <a:lnTo>
                      <a:pt x="9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4800" y="328248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9"/>
                    </a:moveTo>
                    <a:lnTo>
                      <a:pt x="11" y="1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951440" y="3323880"/>
                <a:ext cx="30240" cy="280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0" y="26"/>
                    </a:moveTo>
                    <a:lnTo>
                      <a:pt x="29" y="0"/>
                    </a:lnTo>
                    <a:lnTo>
                      <a:pt x="38" y="11"/>
                    </a:lnTo>
                    <a:lnTo>
                      <a:pt x="10" y="37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951440" y="33444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10" y="11"/>
                    </a:lnTo>
                    <a:lnTo>
                      <a:pt x="0" y="0"/>
                    </a:lnTo>
                    <a:lnTo>
                      <a:pt x="1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89360" y="3323880"/>
                <a:ext cx="292320" cy="300960"/>
              </a:xfrm>
              <a:custGeom>
                <a:avLst/>
                <a:gdLst/>
                <a:ahLst/>
                <a:rect l="l" t="t" r="r" b="b"/>
                <a:pathLst>
                  <a:path w="368" h="379">
                    <a:moveTo>
                      <a:pt x="368" y="10"/>
                    </a:moveTo>
                    <a:lnTo>
                      <a:pt x="117" y="272"/>
                    </a:lnTo>
                    <a:lnTo>
                      <a:pt x="41" y="350"/>
                    </a:lnTo>
                    <a:lnTo>
                      <a:pt x="10" y="379"/>
                    </a:lnTo>
                    <a:lnTo>
                      <a:pt x="0" y="368"/>
                    </a:lnTo>
                    <a:lnTo>
                      <a:pt x="31" y="339"/>
                    </a:lnTo>
                    <a:lnTo>
                      <a:pt x="106" y="262"/>
                    </a:lnTo>
                    <a:lnTo>
                      <a:pt x="357" y="0"/>
                    </a:lnTo>
                    <a:lnTo>
                      <a:pt x="368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973760" y="33238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0"/>
                    </a:moveTo>
                    <a:lnTo>
                      <a:pt x="11" y="10"/>
                    </a:lnTo>
                    <a:lnTo>
                      <a:pt x="0" y="0"/>
                    </a:lnTo>
                    <a:lnTo>
                      <a:pt x="11" y="1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89360" y="3615840"/>
                <a:ext cx="219240" cy="223560"/>
              </a:xfrm>
              <a:custGeom>
                <a:avLst/>
                <a:gdLst/>
                <a:ahLst/>
                <a:rect l="l" t="t" r="r" b="b"/>
                <a:pathLst>
                  <a:path w="278" h="282">
                    <a:moveTo>
                      <a:pt x="11" y="0"/>
                    </a:moveTo>
                    <a:lnTo>
                      <a:pt x="89" y="79"/>
                    </a:lnTo>
                    <a:lnTo>
                      <a:pt x="278" y="272"/>
                    </a:lnTo>
                    <a:lnTo>
                      <a:pt x="267" y="282"/>
                    </a:lnTo>
                    <a:lnTo>
                      <a:pt x="78" y="88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84680" y="3615840"/>
                <a:ext cx="12600" cy="900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6" y="0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16" y="0"/>
                    </a:lnTo>
                    <a:lnTo>
                      <a:pt x="16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822920" y="3820680"/>
                <a:ext cx="82440" cy="23400"/>
              </a:xfrm>
              <a:custGeom>
                <a:avLst/>
                <a:gdLst/>
                <a:ahLst/>
                <a:rect l="l" t="t" r="r" b="b"/>
                <a:pathLst>
                  <a:path w="105" h="31">
                    <a:moveTo>
                      <a:pt x="105" y="26"/>
                    </a:moveTo>
                    <a:lnTo>
                      <a:pt x="79" y="31"/>
                    </a:lnTo>
                    <a:lnTo>
                      <a:pt x="52" y="30"/>
                    </a:lnTo>
                    <a:lnTo>
                      <a:pt x="38" y="27"/>
                    </a:lnTo>
                    <a:lnTo>
                      <a:pt x="24" y="25"/>
                    </a:lnTo>
                    <a:lnTo>
                      <a:pt x="0" y="14"/>
                    </a:lnTo>
                    <a:lnTo>
                      <a:pt x="6" y="0"/>
                    </a:lnTo>
                    <a:lnTo>
                      <a:pt x="30" y="11"/>
                    </a:lnTo>
                    <a:lnTo>
                      <a:pt x="41" y="14"/>
                    </a:lnTo>
                    <a:lnTo>
                      <a:pt x="52" y="16"/>
                    </a:lnTo>
                    <a:lnTo>
                      <a:pt x="77" y="17"/>
                    </a:lnTo>
                    <a:lnTo>
                      <a:pt x="101" y="13"/>
                    </a:lnTo>
                    <a:lnTo>
                      <a:pt x="105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900680" y="3830040"/>
                <a:ext cx="15840" cy="10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1" y="1"/>
                    </a:moveTo>
                    <a:lnTo>
                      <a:pt x="20" y="11"/>
                    </a:lnTo>
                    <a:lnTo>
                      <a:pt x="7" y="13"/>
                    </a:lnTo>
                    <a:lnTo>
                      <a:pt x="3" y="0"/>
                    </a:lnTo>
                    <a:lnTo>
                      <a:pt x="0" y="11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9240" y="3623760"/>
                <a:ext cx="199800" cy="205920"/>
              </a:xfrm>
              <a:custGeom>
                <a:avLst/>
                <a:gdLst/>
                <a:ahLst/>
                <a:rect l="l" t="t" r="r" b="b"/>
                <a:pathLst>
                  <a:path w="253" h="261">
                    <a:moveTo>
                      <a:pt x="244" y="261"/>
                    </a:moveTo>
                    <a:lnTo>
                      <a:pt x="71" y="83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81" y="72"/>
                    </a:lnTo>
                    <a:lnTo>
                      <a:pt x="253" y="250"/>
                    </a:lnTo>
                    <a:lnTo>
                      <a:pt x="244" y="2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821120" y="38206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14"/>
                    </a:moveTo>
                    <a:lnTo>
                      <a:pt x="0" y="1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629240" y="3369960"/>
                <a:ext cx="253800" cy="263160"/>
              </a:xfrm>
              <a:custGeom>
                <a:avLst/>
                <a:gdLst/>
                <a:ahLst/>
                <a:rect l="l" t="t" r="r" b="b"/>
                <a:pathLst>
                  <a:path w="321" h="330">
                    <a:moveTo>
                      <a:pt x="0" y="319"/>
                    </a:moveTo>
                    <a:lnTo>
                      <a:pt x="27" y="293"/>
                    </a:lnTo>
                    <a:lnTo>
                      <a:pt x="92" y="226"/>
                    </a:lnTo>
                    <a:lnTo>
                      <a:pt x="311" y="0"/>
                    </a:lnTo>
                    <a:lnTo>
                      <a:pt x="321" y="11"/>
                    </a:lnTo>
                    <a:lnTo>
                      <a:pt x="102" y="237"/>
                    </a:lnTo>
                    <a:lnTo>
                      <a:pt x="37" y="304"/>
                    </a:lnTo>
                    <a:lnTo>
                      <a:pt x="10" y="330"/>
                    </a:lnTo>
                    <a:lnTo>
                      <a:pt x="0" y="3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624560" y="362376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6" y="11"/>
                    </a:moveTo>
                    <a:lnTo>
                      <a:pt x="0" y="5"/>
                    </a:lnTo>
                    <a:lnTo>
                      <a:pt x="6" y="0"/>
                    </a:lnTo>
                    <a:lnTo>
                      <a:pt x="16" y="11"/>
                    </a:lnTo>
                    <a:lnTo>
                      <a:pt x="16" y="0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856040" y="3369960"/>
                <a:ext cx="27000" cy="2628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35" y="11"/>
                    </a:moveTo>
                    <a:lnTo>
                      <a:pt x="10" y="33"/>
                    </a:lnTo>
                    <a:lnTo>
                      <a:pt x="0" y="22"/>
                    </a:lnTo>
                    <a:lnTo>
                      <a:pt x="25" y="0"/>
                    </a:lnTo>
                    <a:lnTo>
                      <a:pt x="3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875120" y="336996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11"/>
                    </a:moveTo>
                    <a:lnTo>
                      <a:pt x="0" y="0"/>
                    </a:lnTo>
                    <a:lnTo>
                      <a:pt x="10" y="11"/>
                    </a:lnTo>
                    <a:lnTo>
                      <a:pt x="0" y="0"/>
                    </a:lnTo>
                    <a:lnTo>
                      <a:pt x="1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856040" y="3333240"/>
                <a:ext cx="61920" cy="6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69"/>
                    </a:moveTo>
                    <a:lnTo>
                      <a:pt x="10" y="80"/>
                    </a:lnTo>
                    <a:lnTo>
                      <a:pt x="80" y="11"/>
                    </a:lnTo>
                    <a:lnTo>
                      <a:pt x="7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856040" y="338724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11"/>
                    </a:moveTo>
                    <a:lnTo>
                      <a:pt x="0" y="0"/>
                    </a:lnTo>
                    <a:lnTo>
                      <a:pt x="10" y="11"/>
                    </a:lnTo>
                    <a:lnTo>
                      <a:pt x="0" y="0"/>
                    </a:lnTo>
                    <a:lnTo>
                      <a:pt x="1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11840" y="332856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6"/>
                    </a:moveTo>
                    <a:lnTo>
                      <a:pt x="10" y="17"/>
                    </a:lnTo>
                    <a:lnTo>
                      <a:pt x="16" y="11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911840" y="33332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11"/>
                    </a:moveTo>
                    <a:lnTo>
                      <a:pt x="0" y="0"/>
                    </a:lnTo>
                    <a:lnTo>
                      <a:pt x="1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902120" y="3193560"/>
                <a:ext cx="41400" cy="142560"/>
              </a:xfrm>
              <a:custGeom>
                <a:avLst/>
                <a:gdLst/>
                <a:ahLst/>
                <a:rect l="l" t="t" r="r" b="b"/>
                <a:pathLst>
                  <a:path w="51" h="180">
                    <a:moveTo>
                      <a:pt x="16" y="172"/>
                    </a:moveTo>
                    <a:lnTo>
                      <a:pt x="22" y="162"/>
                    </a:lnTo>
                    <a:lnTo>
                      <a:pt x="26" y="152"/>
                    </a:lnTo>
                    <a:lnTo>
                      <a:pt x="34" y="131"/>
                    </a:lnTo>
                    <a:lnTo>
                      <a:pt x="38" y="109"/>
                    </a:lnTo>
                    <a:lnTo>
                      <a:pt x="38" y="90"/>
                    </a:lnTo>
                    <a:lnTo>
                      <a:pt x="33" y="68"/>
                    </a:lnTo>
                    <a:lnTo>
                      <a:pt x="27" y="48"/>
                    </a:lnTo>
                    <a:lnTo>
                      <a:pt x="16" y="29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27" y="20"/>
                    </a:lnTo>
                    <a:lnTo>
                      <a:pt x="39" y="41"/>
                    </a:lnTo>
                    <a:lnTo>
                      <a:pt x="47" y="63"/>
                    </a:lnTo>
                    <a:lnTo>
                      <a:pt x="51" y="87"/>
                    </a:lnTo>
                    <a:lnTo>
                      <a:pt x="51" y="112"/>
                    </a:lnTo>
                    <a:lnTo>
                      <a:pt x="48" y="136"/>
                    </a:lnTo>
                    <a:lnTo>
                      <a:pt x="39" y="158"/>
                    </a:lnTo>
                    <a:lnTo>
                      <a:pt x="34" y="170"/>
                    </a:lnTo>
                    <a:lnTo>
                      <a:pt x="28" y="180"/>
                    </a:lnTo>
                    <a:lnTo>
                      <a:pt x="16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15080" y="332856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1" y="11"/>
                    </a:moveTo>
                    <a:lnTo>
                      <a:pt x="12" y="10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902120" y="3193560"/>
                <a:ext cx="9720" cy="9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1" y="11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118120" y="3487320"/>
                <a:ext cx="546120" cy="1090080"/>
              </a:xfrm>
              <a:custGeom>
                <a:avLst/>
                <a:gdLst/>
                <a:ahLst/>
                <a:rect l="l" t="t" r="r" b="b"/>
                <a:pathLst>
                  <a:path w="688" h="1374">
                    <a:moveTo>
                      <a:pt x="688" y="1374"/>
                    </a:moveTo>
                    <a:lnTo>
                      <a:pt x="677" y="1373"/>
                    </a:lnTo>
                    <a:lnTo>
                      <a:pt x="665" y="1370"/>
                    </a:lnTo>
                    <a:lnTo>
                      <a:pt x="651" y="1367"/>
                    </a:lnTo>
                    <a:lnTo>
                      <a:pt x="638" y="1362"/>
                    </a:lnTo>
                    <a:lnTo>
                      <a:pt x="624" y="1356"/>
                    </a:lnTo>
                    <a:lnTo>
                      <a:pt x="610" y="1348"/>
                    </a:lnTo>
                    <a:lnTo>
                      <a:pt x="595" y="1339"/>
                    </a:lnTo>
                    <a:lnTo>
                      <a:pt x="579" y="1329"/>
                    </a:lnTo>
                    <a:lnTo>
                      <a:pt x="563" y="1318"/>
                    </a:lnTo>
                    <a:lnTo>
                      <a:pt x="546" y="1306"/>
                    </a:lnTo>
                    <a:lnTo>
                      <a:pt x="511" y="1277"/>
                    </a:lnTo>
                    <a:lnTo>
                      <a:pt x="473" y="1246"/>
                    </a:lnTo>
                    <a:lnTo>
                      <a:pt x="434" y="1210"/>
                    </a:lnTo>
                    <a:lnTo>
                      <a:pt x="391" y="1171"/>
                    </a:lnTo>
                    <a:lnTo>
                      <a:pt x="347" y="1128"/>
                    </a:lnTo>
                    <a:lnTo>
                      <a:pt x="250" y="1034"/>
                    </a:lnTo>
                    <a:lnTo>
                      <a:pt x="144" y="930"/>
                    </a:lnTo>
                    <a:lnTo>
                      <a:pt x="29" y="820"/>
                    </a:lnTo>
                    <a:lnTo>
                      <a:pt x="25" y="810"/>
                    </a:lnTo>
                    <a:lnTo>
                      <a:pt x="23" y="801"/>
                    </a:lnTo>
                    <a:lnTo>
                      <a:pt x="18" y="780"/>
                    </a:lnTo>
                    <a:lnTo>
                      <a:pt x="17" y="770"/>
                    </a:lnTo>
                    <a:lnTo>
                      <a:pt x="16" y="759"/>
                    </a:lnTo>
                    <a:lnTo>
                      <a:pt x="16" y="739"/>
                    </a:lnTo>
                    <a:lnTo>
                      <a:pt x="17" y="730"/>
                    </a:lnTo>
                    <a:lnTo>
                      <a:pt x="17" y="725"/>
                    </a:lnTo>
                    <a:lnTo>
                      <a:pt x="18" y="720"/>
                    </a:lnTo>
                    <a:lnTo>
                      <a:pt x="20" y="710"/>
                    </a:lnTo>
                    <a:lnTo>
                      <a:pt x="24" y="702"/>
                    </a:lnTo>
                    <a:lnTo>
                      <a:pt x="28" y="693"/>
                    </a:lnTo>
                    <a:lnTo>
                      <a:pt x="33" y="684"/>
                    </a:lnTo>
                    <a:lnTo>
                      <a:pt x="38" y="677"/>
                    </a:lnTo>
                    <a:lnTo>
                      <a:pt x="41" y="673"/>
                    </a:lnTo>
                    <a:lnTo>
                      <a:pt x="44" y="670"/>
                    </a:lnTo>
                    <a:lnTo>
                      <a:pt x="52" y="662"/>
                    </a:lnTo>
                    <a:lnTo>
                      <a:pt x="62" y="656"/>
                    </a:lnTo>
                    <a:lnTo>
                      <a:pt x="71" y="650"/>
                    </a:lnTo>
                    <a:lnTo>
                      <a:pt x="80" y="647"/>
                    </a:lnTo>
                    <a:lnTo>
                      <a:pt x="90" y="643"/>
                    </a:lnTo>
                    <a:lnTo>
                      <a:pt x="100" y="640"/>
                    </a:lnTo>
                    <a:lnTo>
                      <a:pt x="111" y="639"/>
                    </a:lnTo>
                    <a:lnTo>
                      <a:pt x="121" y="639"/>
                    </a:lnTo>
                    <a:lnTo>
                      <a:pt x="132" y="639"/>
                    </a:lnTo>
                    <a:lnTo>
                      <a:pt x="143" y="639"/>
                    </a:lnTo>
                    <a:lnTo>
                      <a:pt x="165" y="642"/>
                    </a:lnTo>
                    <a:lnTo>
                      <a:pt x="187" y="647"/>
                    </a:lnTo>
                    <a:lnTo>
                      <a:pt x="209" y="651"/>
                    </a:lnTo>
                    <a:lnTo>
                      <a:pt x="231" y="656"/>
                    </a:lnTo>
                    <a:lnTo>
                      <a:pt x="253" y="660"/>
                    </a:lnTo>
                    <a:lnTo>
                      <a:pt x="275" y="664"/>
                    </a:lnTo>
                    <a:lnTo>
                      <a:pt x="286" y="664"/>
                    </a:lnTo>
                    <a:lnTo>
                      <a:pt x="297" y="664"/>
                    </a:lnTo>
                    <a:lnTo>
                      <a:pt x="307" y="664"/>
                    </a:lnTo>
                    <a:lnTo>
                      <a:pt x="316" y="662"/>
                    </a:lnTo>
                    <a:lnTo>
                      <a:pt x="327" y="660"/>
                    </a:lnTo>
                    <a:lnTo>
                      <a:pt x="332" y="658"/>
                    </a:lnTo>
                    <a:lnTo>
                      <a:pt x="337" y="656"/>
                    </a:lnTo>
                    <a:lnTo>
                      <a:pt x="347" y="653"/>
                    </a:lnTo>
                    <a:lnTo>
                      <a:pt x="355" y="647"/>
                    </a:lnTo>
                    <a:lnTo>
                      <a:pt x="360" y="644"/>
                    </a:lnTo>
                    <a:lnTo>
                      <a:pt x="364" y="640"/>
                    </a:lnTo>
                    <a:lnTo>
                      <a:pt x="369" y="637"/>
                    </a:lnTo>
                    <a:lnTo>
                      <a:pt x="374" y="632"/>
                    </a:lnTo>
                    <a:lnTo>
                      <a:pt x="379" y="626"/>
                    </a:lnTo>
                    <a:lnTo>
                      <a:pt x="385" y="620"/>
                    </a:lnTo>
                    <a:lnTo>
                      <a:pt x="393" y="604"/>
                    </a:lnTo>
                    <a:lnTo>
                      <a:pt x="398" y="595"/>
                    </a:lnTo>
                    <a:lnTo>
                      <a:pt x="401" y="585"/>
                    </a:lnTo>
                    <a:lnTo>
                      <a:pt x="404" y="577"/>
                    </a:lnTo>
                    <a:lnTo>
                      <a:pt x="407" y="566"/>
                    </a:lnTo>
                    <a:lnTo>
                      <a:pt x="408" y="556"/>
                    </a:lnTo>
                    <a:lnTo>
                      <a:pt x="409" y="545"/>
                    </a:lnTo>
                    <a:lnTo>
                      <a:pt x="410" y="533"/>
                    </a:lnTo>
                    <a:lnTo>
                      <a:pt x="410" y="522"/>
                    </a:lnTo>
                    <a:lnTo>
                      <a:pt x="410" y="510"/>
                    </a:lnTo>
                    <a:lnTo>
                      <a:pt x="409" y="496"/>
                    </a:lnTo>
                    <a:lnTo>
                      <a:pt x="407" y="484"/>
                    </a:lnTo>
                    <a:lnTo>
                      <a:pt x="404" y="470"/>
                    </a:lnTo>
                    <a:lnTo>
                      <a:pt x="402" y="457"/>
                    </a:lnTo>
                    <a:lnTo>
                      <a:pt x="397" y="442"/>
                    </a:lnTo>
                    <a:lnTo>
                      <a:pt x="393" y="429"/>
                    </a:lnTo>
                    <a:lnTo>
                      <a:pt x="387" y="414"/>
                    </a:lnTo>
                    <a:lnTo>
                      <a:pt x="381" y="400"/>
                    </a:lnTo>
                    <a:lnTo>
                      <a:pt x="374" y="385"/>
                    </a:lnTo>
                    <a:lnTo>
                      <a:pt x="366" y="369"/>
                    </a:lnTo>
                    <a:lnTo>
                      <a:pt x="358" y="354"/>
                    </a:lnTo>
                    <a:lnTo>
                      <a:pt x="348" y="338"/>
                    </a:lnTo>
                    <a:lnTo>
                      <a:pt x="338" y="322"/>
                    </a:lnTo>
                    <a:lnTo>
                      <a:pt x="327" y="308"/>
                    </a:lnTo>
                    <a:lnTo>
                      <a:pt x="315" y="292"/>
                    </a:lnTo>
                    <a:lnTo>
                      <a:pt x="302" y="276"/>
                    </a:lnTo>
                    <a:lnTo>
                      <a:pt x="288" y="260"/>
                    </a:lnTo>
                    <a:lnTo>
                      <a:pt x="272" y="244"/>
                    </a:lnTo>
                    <a:lnTo>
                      <a:pt x="256" y="228"/>
                    </a:lnTo>
                    <a:lnTo>
                      <a:pt x="226" y="195"/>
                    </a:lnTo>
                    <a:lnTo>
                      <a:pt x="199" y="170"/>
                    </a:lnTo>
                    <a:lnTo>
                      <a:pt x="166" y="140"/>
                    </a:lnTo>
                    <a:lnTo>
                      <a:pt x="148" y="124"/>
                    </a:lnTo>
                    <a:lnTo>
                      <a:pt x="139" y="117"/>
                    </a:lnTo>
                    <a:lnTo>
                      <a:pt x="129" y="110"/>
                    </a:lnTo>
                    <a:lnTo>
                      <a:pt x="109" y="95"/>
                    </a:lnTo>
                    <a:lnTo>
                      <a:pt x="99" y="88"/>
                    </a:lnTo>
                    <a:lnTo>
                      <a:pt x="88" y="82"/>
                    </a:lnTo>
                    <a:lnTo>
                      <a:pt x="67" y="68"/>
                    </a:lnTo>
                    <a:lnTo>
                      <a:pt x="56" y="63"/>
                    </a:lnTo>
                    <a:lnTo>
                      <a:pt x="45" y="57"/>
                    </a:lnTo>
                    <a:lnTo>
                      <a:pt x="22" y="47"/>
                    </a:lnTo>
                    <a:lnTo>
                      <a:pt x="11" y="44"/>
                    </a:lnTo>
                    <a:lnTo>
                      <a:pt x="0" y="40"/>
                    </a:lnTo>
                    <a:lnTo>
                      <a:pt x="8" y="34"/>
                    </a:lnTo>
                    <a:lnTo>
                      <a:pt x="16" y="28"/>
                    </a:lnTo>
                    <a:lnTo>
                      <a:pt x="24" y="23"/>
                    </a:lnTo>
                    <a:lnTo>
                      <a:pt x="34" y="18"/>
                    </a:lnTo>
                    <a:lnTo>
                      <a:pt x="42" y="13"/>
                    </a:lnTo>
                    <a:lnTo>
                      <a:pt x="51" y="11"/>
                    </a:lnTo>
                    <a:lnTo>
                      <a:pt x="60" y="7"/>
                    </a:lnTo>
                    <a:lnTo>
                      <a:pt x="68" y="5"/>
                    </a:lnTo>
                    <a:lnTo>
                      <a:pt x="78" y="3"/>
                    </a:lnTo>
                    <a:lnTo>
                      <a:pt x="86" y="2"/>
                    </a:lnTo>
                    <a:lnTo>
                      <a:pt x="96" y="1"/>
                    </a:lnTo>
                    <a:lnTo>
                      <a:pt x="105" y="0"/>
                    </a:lnTo>
                    <a:lnTo>
                      <a:pt x="115" y="1"/>
                    </a:lnTo>
                    <a:lnTo>
                      <a:pt x="123" y="1"/>
                    </a:lnTo>
                    <a:lnTo>
                      <a:pt x="143" y="3"/>
                    </a:lnTo>
                    <a:lnTo>
                      <a:pt x="151" y="5"/>
                    </a:lnTo>
                    <a:lnTo>
                      <a:pt x="161" y="7"/>
                    </a:lnTo>
                    <a:lnTo>
                      <a:pt x="179" y="12"/>
                    </a:lnTo>
                    <a:lnTo>
                      <a:pt x="189" y="16"/>
                    </a:lnTo>
                    <a:lnTo>
                      <a:pt x="198" y="19"/>
                    </a:lnTo>
                    <a:lnTo>
                      <a:pt x="216" y="27"/>
                    </a:lnTo>
                    <a:lnTo>
                      <a:pt x="234" y="35"/>
                    </a:lnTo>
                    <a:lnTo>
                      <a:pt x="253" y="45"/>
                    </a:lnTo>
                    <a:lnTo>
                      <a:pt x="270" y="56"/>
                    </a:lnTo>
                    <a:lnTo>
                      <a:pt x="287" y="67"/>
                    </a:lnTo>
                    <a:lnTo>
                      <a:pt x="304" y="78"/>
                    </a:lnTo>
                    <a:lnTo>
                      <a:pt x="320" y="90"/>
                    </a:lnTo>
                    <a:lnTo>
                      <a:pt x="352" y="115"/>
                    </a:lnTo>
                    <a:lnTo>
                      <a:pt x="366" y="128"/>
                    </a:lnTo>
                    <a:lnTo>
                      <a:pt x="380" y="140"/>
                    </a:lnTo>
                    <a:lnTo>
                      <a:pt x="406" y="164"/>
                    </a:lnTo>
                    <a:lnTo>
                      <a:pt x="428" y="186"/>
                    </a:lnTo>
                    <a:lnTo>
                      <a:pt x="445" y="204"/>
                    </a:lnTo>
                    <a:lnTo>
                      <a:pt x="467" y="226"/>
                    </a:lnTo>
                    <a:lnTo>
                      <a:pt x="485" y="244"/>
                    </a:lnTo>
                    <a:lnTo>
                      <a:pt x="503" y="263"/>
                    </a:lnTo>
                    <a:lnTo>
                      <a:pt x="519" y="281"/>
                    </a:lnTo>
                    <a:lnTo>
                      <a:pt x="534" y="299"/>
                    </a:lnTo>
                    <a:lnTo>
                      <a:pt x="547" y="318"/>
                    </a:lnTo>
                    <a:lnTo>
                      <a:pt x="561" y="336"/>
                    </a:lnTo>
                    <a:lnTo>
                      <a:pt x="573" y="353"/>
                    </a:lnTo>
                    <a:lnTo>
                      <a:pt x="584" y="371"/>
                    </a:lnTo>
                    <a:lnTo>
                      <a:pt x="594" y="389"/>
                    </a:lnTo>
                    <a:lnTo>
                      <a:pt x="602" y="407"/>
                    </a:lnTo>
                    <a:lnTo>
                      <a:pt x="611" y="424"/>
                    </a:lnTo>
                    <a:lnTo>
                      <a:pt x="618" y="440"/>
                    </a:lnTo>
                    <a:lnTo>
                      <a:pt x="624" y="457"/>
                    </a:lnTo>
                    <a:lnTo>
                      <a:pt x="629" y="473"/>
                    </a:lnTo>
                    <a:lnTo>
                      <a:pt x="634" y="490"/>
                    </a:lnTo>
                    <a:lnTo>
                      <a:pt x="638" y="505"/>
                    </a:lnTo>
                    <a:lnTo>
                      <a:pt x="640" y="521"/>
                    </a:lnTo>
                    <a:lnTo>
                      <a:pt x="643" y="535"/>
                    </a:lnTo>
                    <a:lnTo>
                      <a:pt x="644" y="550"/>
                    </a:lnTo>
                    <a:lnTo>
                      <a:pt x="644" y="565"/>
                    </a:lnTo>
                    <a:lnTo>
                      <a:pt x="644" y="578"/>
                    </a:lnTo>
                    <a:lnTo>
                      <a:pt x="644" y="591"/>
                    </a:lnTo>
                    <a:lnTo>
                      <a:pt x="641" y="604"/>
                    </a:lnTo>
                    <a:lnTo>
                      <a:pt x="640" y="616"/>
                    </a:lnTo>
                    <a:lnTo>
                      <a:pt x="637" y="628"/>
                    </a:lnTo>
                    <a:lnTo>
                      <a:pt x="634" y="639"/>
                    </a:lnTo>
                    <a:lnTo>
                      <a:pt x="629" y="649"/>
                    </a:lnTo>
                    <a:lnTo>
                      <a:pt x="626" y="659"/>
                    </a:lnTo>
                    <a:lnTo>
                      <a:pt x="619" y="669"/>
                    </a:lnTo>
                    <a:lnTo>
                      <a:pt x="615" y="677"/>
                    </a:lnTo>
                    <a:lnTo>
                      <a:pt x="608" y="684"/>
                    </a:lnTo>
                    <a:lnTo>
                      <a:pt x="601" y="692"/>
                    </a:lnTo>
                    <a:lnTo>
                      <a:pt x="591" y="702"/>
                    </a:lnTo>
                    <a:lnTo>
                      <a:pt x="582" y="709"/>
                    </a:lnTo>
                    <a:lnTo>
                      <a:pt x="571" y="715"/>
                    </a:lnTo>
                    <a:lnTo>
                      <a:pt x="560" y="720"/>
                    </a:lnTo>
                    <a:lnTo>
                      <a:pt x="549" y="724"/>
                    </a:lnTo>
                    <a:lnTo>
                      <a:pt x="536" y="726"/>
                    </a:lnTo>
                    <a:lnTo>
                      <a:pt x="524" y="727"/>
                    </a:lnTo>
                    <a:lnTo>
                      <a:pt x="513" y="728"/>
                    </a:lnTo>
                    <a:lnTo>
                      <a:pt x="501" y="728"/>
                    </a:lnTo>
                    <a:lnTo>
                      <a:pt x="487" y="727"/>
                    </a:lnTo>
                    <a:lnTo>
                      <a:pt x="475" y="726"/>
                    </a:lnTo>
                    <a:lnTo>
                      <a:pt x="463" y="725"/>
                    </a:lnTo>
                    <a:lnTo>
                      <a:pt x="437" y="720"/>
                    </a:lnTo>
                    <a:lnTo>
                      <a:pt x="412" y="714"/>
                    </a:lnTo>
                    <a:lnTo>
                      <a:pt x="386" y="709"/>
                    </a:lnTo>
                    <a:lnTo>
                      <a:pt x="360" y="704"/>
                    </a:lnTo>
                    <a:lnTo>
                      <a:pt x="348" y="702"/>
                    </a:lnTo>
                    <a:lnTo>
                      <a:pt x="336" y="700"/>
                    </a:lnTo>
                    <a:lnTo>
                      <a:pt x="310" y="699"/>
                    </a:lnTo>
                    <a:lnTo>
                      <a:pt x="299" y="700"/>
                    </a:lnTo>
                    <a:lnTo>
                      <a:pt x="287" y="702"/>
                    </a:lnTo>
                    <a:lnTo>
                      <a:pt x="275" y="704"/>
                    </a:lnTo>
                    <a:lnTo>
                      <a:pt x="264" y="708"/>
                    </a:lnTo>
                    <a:lnTo>
                      <a:pt x="253" y="713"/>
                    </a:lnTo>
                    <a:lnTo>
                      <a:pt x="242" y="719"/>
                    </a:lnTo>
                    <a:lnTo>
                      <a:pt x="237" y="722"/>
                    </a:lnTo>
                    <a:lnTo>
                      <a:pt x="232" y="727"/>
                    </a:lnTo>
                    <a:lnTo>
                      <a:pt x="222" y="736"/>
                    </a:lnTo>
                    <a:lnTo>
                      <a:pt x="215" y="744"/>
                    </a:lnTo>
                    <a:lnTo>
                      <a:pt x="209" y="753"/>
                    </a:lnTo>
                    <a:lnTo>
                      <a:pt x="203" y="761"/>
                    </a:lnTo>
                    <a:lnTo>
                      <a:pt x="199" y="771"/>
                    </a:lnTo>
                    <a:lnTo>
                      <a:pt x="195" y="782"/>
                    </a:lnTo>
                    <a:lnTo>
                      <a:pt x="192" y="793"/>
                    </a:lnTo>
                    <a:lnTo>
                      <a:pt x="190" y="804"/>
                    </a:lnTo>
                    <a:lnTo>
                      <a:pt x="189" y="815"/>
                    </a:lnTo>
                    <a:lnTo>
                      <a:pt x="188" y="827"/>
                    </a:lnTo>
                    <a:lnTo>
                      <a:pt x="189" y="838"/>
                    </a:lnTo>
                    <a:lnTo>
                      <a:pt x="192" y="862"/>
                    </a:lnTo>
                    <a:lnTo>
                      <a:pt x="194" y="874"/>
                    </a:lnTo>
                    <a:lnTo>
                      <a:pt x="197" y="885"/>
                    </a:lnTo>
                    <a:lnTo>
                      <a:pt x="200" y="897"/>
                    </a:lnTo>
                    <a:lnTo>
                      <a:pt x="205" y="908"/>
                    </a:lnTo>
                    <a:lnTo>
                      <a:pt x="276" y="977"/>
                    </a:lnTo>
                    <a:lnTo>
                      <a:pt x="344" y="1043"/>
                    </a:lnTo>
                    <a:lnTo>
                      <a:pt x="470" y="1166"/>
                    </a:lnTo>
                    <a:lnTo>
                      <a:pt x="529" y="1224"/>
                    </a:lnTo>
                    <a:lnTo>
                      <a:pt x="585" y="1279"/>
                    </a:lnTo>
                    <a:lnTo>
                      <a:pt x="639" y="1329"/>
                    </a:lnTo>
                    <a:lnTo>
                      <a:pt x="663" y="1352"/>
                    </a:lnTo>
                    <a:lnTo>
                      <a:pt x="688" y="1374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138640" y="4133520"/>
                <a:ext cx="527040" cy="450360"/>
              </a:xfrm>
              <a:custGeom>
                <a:avLst/>
                <a:gdLst/>
                <a:ahLst/>
                <a:rect l="l" t="t" r="r" b="b"/>
                <a:pathLst>
                  <a:path w="665" h="567">
                    <a:moveTo>
                      <a:pt x="663" y="567"/>
                    </a:moveTo>
                    <a:lnTo>
                      <a:pt x="638" y="564"/>
                    </a:lnTo>
                    <a:lnTo>
                      <a:pt x="610" y="555"/>
                    </a:lnTo>
                    <a:lnTo>
                      <a:pt x="582" y="541"/>
                    </a:lnTo>
                    <a:lnTo>
                      <a:pt x="550" y="521"/>
                    </a:lnTo>
                    <a:lnTo>
                      <a:pt x="482" y="470"/>
                    </a:lnTo>
                    <a:lnTo>
                      <a:pt x="444" y="438"/>
                    </a:lnTo>
                    <a:lnTo>
                      <a:pt x="405" y="402"/>
                    </a:lnTo>
                    <a:lnTo>
                      <a:pt x="318" y="320"/>
                    </a:lnTo>
                    <a:lnTo>
                      <a:pt x="221" y="226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231" y="215"/>
                    </a:lnTo>
                    <a:lnTo>
                      <a:pt x="328" y="309"/>
                    </a:lnTo>
                    <a:lnTo>
                      <a:pt x="415" y="391"/>
                    </a:lnTo>
                    <a:lnTo>
                      <a:pt x="454" y="427"/>
                    </a:lnTo>
                    <a:lnTo>
                      <a:pt x="492" y="459"/>
                    </a:lnTo>
                    <a:lnTo>
                      <a:pt x="559" y="510"/>
                    </a:lnTo>
                    <a:lnTo>
                      <a:pt x="589" y="528"/>
                    </a:lnTo>
                    <a:lnTo>
                      <a:pt x="616" y="542"/>
                    </a:lnTo>
                    <a:lnTo>
                      <a:pt x="642" y="550"/>
                    </a:lnTo>
                    <a:lnTo>
                      <a:pt x="665" y="554"/>
                    </a:lnTo>
                    <a:lnTo>
                      <a:pt x="663" y="5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126040" y="4014360"/>
                <a:ext cx="31680" cy="124920"/>
              </a:xfrm>
              <a:custGeom>
                <a:avLst/>
                <a:gdLst/>
                <a:ahLst/>
                <a:rect l="l" t="t" r="r" b="b"/>
                <a:pathLst>
                  <a:path w="41" h="156">
                    <a:moveTo>
                      <a:pt x="14" y="156"/>
                    </a:moveTo>
                    <a:lnTo>
                      <a:pt x="6" y="137"/>
                    </a:lnTo>
                    <a:lnTo>
                      <a:pt x="3" y="117"/>
                    </a:lnTo>
                    <a:lnTo>
                      <a:pt x="0" y="94"/>
                    </a:lnTo>
                    <a:lnTo>
                      <a:pt x="0" y="73"/>
                    </a:lnTo>
                    <a:lnTo>
                      <a:pt x="3" y="52"/>
                    </a:lnTo>
                    <a:lnTo>
                      <a:pt x="9" y="33"/>
                    </a:lnTo>
                    <a:lnTo>
                      <a:pt x="17" y="16"/>
                    </a:lnTo>
                    <a:lnTo>
                      <a:pt x="30" y="0"/>
                    </a:lnTo>
                    <a:lnTo>
                      <a:pt x="41" y="10"/>
                    </a:lnTo>
                    <a:lnTo>
                      <a:pt x="30" y="24"/>
                    </a:lnTo>
                    <a:lnTo>
                      <a:pt x="21" y="40"/>
                    </a:lnTo>
                    <a:lnTo>
                      <a:pt x="16" y="57"/>
                    </a:lnTo>
                    <a:lnTo>
                      <a:pt x="14" y="76"/>
                    </a:lnTo>
                    <a:lnTo>
                      <a:pt x="14" y="94"/>
                    </a:lnTo>
                    <a:lnTo>
                      <a:pt x="16" y="114"/>
                    </a:lnTo>
                    <a:lnTo>
                      <a:pt x="20" y="132"/>
                    </a:lnTo>
                    <a:lnTo>
                      <a:pt x="27" y="151"/>
                    </a:lnTo>
                    <a:lnTo>
                      <a:pt x="1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135400" y="41335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2" y="11"/>
                    </a:moveTo>
                    <a:lnTo>
                      <a:pt x="1" y="10"/>
                    </a:lnTo>
                    <a:lnTo>
                      <a:pt x="0" y="7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149800" y="3984120"/>
                <a:ext cx="268200" cy="39240"/>
              </a:xfrm>
              <a:custGeom>
                <a:avLst/>
                <a:gdLst/>
                <a:ahLst/>
                <a:rect l="l" t="t" r="r" b="b"/>
                <a:pathLst>
                  <a:path w="338" h="49">
                    <a:moveTo>
                      <a:pt x="0" y="38"/>
                    </a:moveTo>
                    <a:lnTo>
                      <a:pt x="18" y="22"/>
                    </a:lnTo>
                    <a:lnTo>
                      <a:pt x="38" y="13"/>
                    </a:lnTo>
                    <a:lnTo>
                      <a:pt x="60" y="6"/>
                    </a:lnTo>
                    <a:lnTo>
                      <a:pt x="82" y="4"/>
                    </a:lnTo>
                    <a:lnTo>
                      <a:pt x="126" y="7"/>
                    </a:lnTo>
                    <a:lnTo>
                      <a:pt x="171" y="17"/>
                    </a:lnTo>
                    <a:lnTo>
                      <a:pt x="215" y="26"/>
                    </a:lnTo>
                    <a:lnTo>
                      <a:pt x="257" y="29"/>
                    </a:lnTo>
                    <a:lnTo>
                      <a:pt x="276" y="27"/>
                    </a:lnTo>
                    <a:lnTo>
                      <a:pt x="294" y="23"/>
                    </a:lnTo>
                    <a:lnTo>
                      <a:pt x="312" y="13"/>
                    </a:lnTo>
                    <a:lnTo>
                      <a:pt x="320" y="9"/>
                    </a:lnTo>
                    <a:lnTo>
                      <a:pt x="329" y="0"/>
                    </a:lnTo>
                    <a:lnTo>
                      <a:pt x="338" y="11"/>
                    </a:lnTo>
                    <a:lnTo>
                      <a:pt x="330" y="20"/>
                    </a:lnTo>
                    <a:lnTo>
                      <a:pt x="320" y="26"/>
                    </a:lnTo>
                    <a:lnTo>
                      <a:pt x="301" y="37"/>
                    </a:lnTo>
                    <a:lnTo>
                      <a:pt x="279" y="42"/>
                    </a:lnTo>
                    <a:lnTo>
                      <a:pt x="257" y="44"/>
                    </a:lnTo>
                    <a:lnTo>
                      <a:pt x="213" y="40"/>
                    </a:lnTo>
                    <a:lnTo>
                      <a:pt x="169" y="32"/>
                    </a:lnTo>
                    <a:lnTo>
                      <a:pt x="123" y="22"/>
                    </a:lnTo>
                    <a:lnTo>
                      <a:pt x="82" y="18"/>
                    </a:lnTo>
                    <a:lnTo>
                      <a:pt x="62" y="21"/>
                    </a:lnTo>
                    <a:lnTo>
                      <a:pt x="44" y="27"/>
                    </a:lnTo>
                    <a:lnTo>
                      <a:pt x="27" y="34"/>
                    </a:lnTo>
                    <a:lnTo>
                      <a:pt x="10" y="49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148360" y="401436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0"/>
                    </a:moveTo>
                    <a:lnTo>
                      <a:pt x="1" y="0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318280" y="3665160"/>
                <a:ext cx="131760" cy="326520"/>
              </a:xfrm>
              <a:custGeom>
                <a:avLst/>
                <a:gdLst/>
                <a:ahLst/>
                <a:rect l="l" t="t" r="r" b="b"/>
                <a:pathLst>
                  <a:path w="165" h="414">
                    <a:moveTo>
                      <a:pt x="114" y="404"/>
                    </a:moveTo>
                    <a:lnTo>
                      <a:pt x="127" y="390"/>
                    </a:lnTo>
                    <a:lnTo>
                      <a:pt x="135" y="377"/>
                    </a:lnTo>
                    <a:lnTo>
                      <a:pt x="141" y="360"/>
                    </a:lnTo>
                    <a:lnTo>
                      <a:pt x="147" y="342"/>
                    </a:lnTo>
                    <a:lnTo>
                      <a:pt x="150" y="320"/>
                    </a:lnTo>
                    <a:lnTo>
                      <a:pt x="151" y="298"/>
                    </a:lnTo>
                    <a:lnTo>
                      <a:pt x="150" y="274"/>
                    </a:lnTo>
                    <a:lnTo>
                      <a:pt x="145" y="250"/>
                    </a:lnTo>
                    <a:lnTo>
                      <a:pt x="138" y="222"/>
                    </a:lnTo>
                    <a:lnTo>
                      <a:pt x="128" y="195"/>
                    </a:lnTo>
                    <a:lnTo>
                      <a:pt x="116" y="164"/>
                    </a:lnTo>
                    <a:lnTo>
                      <a:pt x="100" y="136"/>
                    </a:lnTo>
                    <a:lnTo>
                      <a:pt x="80" y="104"/>
                    </a:lnTo>
                    <a:lnTo>
                      <a:pt x="57" y="74"/>
                    </a:lnTo>
                    <a:lnTo>
                      <a:pt x="30" y="43"/>
                    </a:lnTo>
                    <a:lnTo>
                      <a:pt x="0" y="11"/>
                    </a:lnTo>
                    <a:lnTo>
                      <a:pt x="9" y="0"/>
                    </a:lnTo>
                    <a:lnTo>
                      <a:pt x="40" y="32"/>
                    </a:lnTo>
                    <a:lnTo>
                      <a:pt x="68" y="64"/>
                    </a:lnTo>
                    <a:lnTo>
                      <a:pt x="91" y="96"/>
                    </a:lnTo>
                    <a:lnTo>
                      <a:pt x="112" y="128"/>
                    </a:lnTo>
                    <a:lnTo>
                      <a:pt x="128" y="157"/>
                    </a:lnTo>
                    <a:lnTo>
                      <a:pt x="141" y="189"/>
                    </a:lnTo>
                    <a:lnTo>
                      <a:pt x="151" y="217"/>
                    </a:lnTo>
                    <a:lnTo>
                      <a:pt x="158" y="246"/>
                    </a:lnTo>
                    <a:lnTo>
                      <a:pt x="163" y="272"/>
                    </a:lnTo>
                    <a:lnTo>
                      <a:pt x="165" y="298"/>
                    </a:lnTo>
                    <a:lnTo>
                      <a:pt x="163" y="322"/>
                    </a:lnTo>
                    <a:lnTo>
                      <a:pt x="161" y="345"/>
                    </a:lnTo>
                    <a:lnTo>
                      <a:pt x="155" y="366"/>
                    </a:lnTo>
                    <a:lnTo>
                      <a:pt x="147" y="384"/>
                    </a:lnTo>
                    <a:lnTo>
                      <a:pt x="138" y="400"/>
                    </a:lnTo>
                    <a:lnTo>
                      <a:pt x="125" y="414"/>
                    </a:lnTo>
                    <a:lnTo>
                      <a:pt x="114" y="4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410080" y="39841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1"/>
                    </a:moveTo>
                    <a:lnTo>
                      <a:pt x="11" y="1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16680" y="3514320"/>
                <a:ext cx="209520" cy="158400"/>
              </a:xfrm>
              <a:custGeom>
                <a:avLst/>
                <a:gdLst/>
                <a:ahLst/>
                <a:rect l="l" t="t" r="r" b="b"/>
                <a:pathLst>
                  <a:path w="264" h="200">
                    <a:moveTo>
                      <a:pt x="255" y="200"/>
                    </a:moveTo>
                    <a:lnTo>
                      <a:pt x="223" y="167"/>
                    </a:lnTo>
                    <a:lnTo>
                      <a:pt x="164" y="111"/>
                    </a:lnTo>
                    <a:lnTo>
                      <a:pt x="127" y="82"/>
                    </a:lnTo>
                    <a:lnTo>
                      <a:pt x="86" y="54"/>
                    </a:lnTo>
                    <a:lnTo>
                      <a:pt x="43" y="29"/>
                    </a:lnTo>
                    <a:lnTo>
                      <a:pt x="21" y="21"/>
                    </a:lnTo>
                    <a:lnTo>
                      <a:pt x="0" y="13"/>
                    </a:lnTo>
                    <a:lnTo>
                      <a:pt x="5" y="0"/>
                    </a:lnTo>
                    <a:lnTo>
                      <a:pt x="27" y="7"/>
                    </a:lnTo>
                    <a:lnTo>
                      <a:pt x="50" y="17"/>
                    </a:lnTo>
                    <a:lnTo>
                      <a:pt x="94" y="41"/>
                    </a:lnTo>
                    <a:lnTo>
                      <a:pt x="137" y="71"/>
                    </a:lnTo>
                    <a:lnTo>
                      <a:pt x="174" y="101"/>
                    </a:lnTo>
                    <a:lnTo>
                      <a:pt x="233" y="156"/>
                    </a:lnTo>
                    <a:lnTo>
                      <a:pt x="264" y="189"/>
                    </a:lnTo>
                    <a:lnTo>
                      <a:pt x="255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18280" y="36651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9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14880" y="3480840"/>
                <a:ext cx="378000" cy="188640"/>
              </a:xfrm>
              <a:custGeom>
                <a:avLst/>
                <a:gdLst/>
                <a:ahLst/>
                <a:rect l="l" t="t" r="r" b="b"/>
                <a:pathLst>
                  <a:path w="477" h="239">
                    <a:moveTo>
                      <a:pt x="0" y="42"/>
                    </a:moveTo>
                    <a:lnTo>
                      <a:pt x="16" y="30"/>
                    </a:lnTo>
                    <a:lnTo>
                      <a:pt x="34" y="20"/>
                    </a:lnTo>
                    <a:lnTo>
                      <a:pt x="52" y="11"/>
                    </a:lnTo>
                    <a:lnTo>
                      <a:pt x="72" y="5"/>
                    </a:lnTo>
                    <a:lnTo>
                      <a:pt x="91" y="2"/>
                    </a:lnTo>
                    <a:lnTo>
                      <a:pt x="110" y="0"/>
                    </a:lnTo>
                    <a:lnTo>
                      <a:pt x="149" y="4"/>
                    </a:lnTo>
                    <a:lnTo>
                      <a:pt x="187" y="14"/>
                    </a:lnTo>
                    <a:lnTo>
                      <a:pt x="224" y="28"/>
                    </a:lnTo>
                    <a:lnTo>
                      <a:pt x="261" y="47"/>
                    </a:lnTo>
                    <a:lnTo>
                      <a:pt x="296" y="69"/>
                    </a:lnTo>
                    <a:lnTo>
                      <a:pt x="329" y="92"/>
                    </a:lnTo>
                    <a:lnTo>
                      <a:pt x="362" y="118"/>
                    </a:lnTo>
                    <a:lnTo>
                      <a:pt x="415" y="167"/>
                    </a:lnTo>
                    <a:lnTo>
                      <a:pt x="477" y="229"/>
                    </a:lnTo>
                    <a:lnTo>
                      <a:pt x="466" y="239"/>
                    </a:lnTo>
                    <a:lnTo>
                      <a:pt x="406" y="178"/>
                    </a:lnTo>
                    <a:lnTo>
                      <a:pt x="352" y="129"/>
                    </a:lnTo>
                    <a:lnTo>
                      <a:pt x="320" y="104"/>
                    </a:lnTo>
                    <a:lnTo>
                      <a:pt x="287" y="81"/>
                    </a:lnTo>
                    <a:lnTo>
                      <a:pt x="253" y="59"/>
                    </a:lnTo>
                    <a:lnTo>
                      <a:pt x="217" y="42"/>
                    </a:lnTo>
                    <a:lnTo>
                      <a:pt x="181" y="27"/>
                    </a:lnTo>
                    <a:lnTo>
                      <a:pt x="147" y="19"/>
                    </a:lnTo>
                    <a:lnTo>
                      <a:pt x="110" y="15"/>
                    </a:lnTo>
                    <a:lnTo>
                      <a:pt x="93" y="16"/>
                    </a:lnTo>
                    <a:lnTo>
                      <a:pt x="74" y="20"/>
                    </a:lnTo>
                    <a:lnTo>
                      <a:pt x="58" y="25"/>
                    </a:lnTo>
                    <a:lnTo>
                      <a:pt x="40" y="33"/>
                    </a:lnTo>
                    <a:lnTo>
                      <a:pt x="24" y="42"/>
                    </a:lnTo>
                    <a:lnTo>
                      <a:pt x="8" y="5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05520" y="3514320"/>
                <a:ext cx="15840" cy="10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4" y="13"/>
                    </a:moveTo>
                    <a:lnTo>
                      <a:pt x="0" y="8"/>
                    </a:lnTo>
                    <a:lnTo>
                      <a:pt x="12" y="0"/>
                    </a:lnTo>
                    <a:lnTo>
                      <a:pt x="20" y="12"/>
                    </a:lnTo>
                    <a:lnTo>
                      <a:pt x="19" y="0"/>
                    </a:lnTo>
                    <a:lnTo>
                      <a:pt x="1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484960" y="3661920"/>
                <a:ext cx="150840" cy="377280"/>
              </a:xfrm>
              <a:custGeom>
                <a:avLst/>
                <a:gdLst/>
                <a:ahLst/>
                <a:rect l="l" t="t" r="r" b="b"/>
                <a:pathLst>
                  <a:path w="190" h="476">
                    <a:moveTo>
                      <a:pt x="11" y="0"/>
                    </a:moveTo>
                    <a:lnTo>
                      <a:pt x="46" y="37"/>
                    </a:lnTo>
                    <a:lnTo>
                      <a:pt x="78" y="73"/>
                    </a:lnTo>
                    <a:lnTo>
                      <a:pt x="106" y="111"/>
                    </a:lnTo>
                    <a:lnTo>
                      <a:pt x="129" y="147"/>
                    </a:lnTo>
                    <a:lnTo>
                      <a:pt x="147" y="182"/>
                    </a:lnTo>
                    <a:lnTo>
                      <a:pt x="162" y="216"/>
                    </a:lnTo>
                    <a:lnTo>
                      <a:pt x="174" y="249"/>
                    </a:lnTo>
                    <a:lnTo>
                      <a:pt x="184" y="282"/>
                    </a:lnTo>
                    <a:lnTo>
                      <a:pt x="189" y="314"/>
                    </a:lnTo>
                    <a:lnTo>
                      <a:pt x="190" y="344"/>
                    </a:lnTo>
                    <a:lnTo>
                      <a:pt x="189" y="369"/>
                    </a:lnTo>
                    <a:lnTo>
                      <a:pt x="187" y="396"/>
                    </a:lnTo>
                    <a:lnTo>
                      <a:pt x="178" y="419"/>
                    </a:lnTo>
                    <a:lnTo>
                      <a:pt x="169" y="441"/>
                    </a:lnTo>
                    <a:lnTo>
                      <a:pt x="160" y="461"/>
                    </a:lnTo>
                    <a:lnTo>
                      <a:pt x="145" y="476"/>
                    </a:lnTo>
                    <a:lnTo>
                      <a:pt x="134" y="466"/>
                    </a:lnTo>
                    <a:lnTo>
                      <a:pt x="147" y="452"/>
                    </a:lnTo>
                    <a:lnTo>
                      <a:pt x="156" y="435"/>
                    </a:lnTo>
                    <a:lnTo>
                      <a:pt x="165" y="415"/>
                    </a:lnTo>
                    <a:lnTo>
                      <a:pt x="172" y="394"/>
                    </a:lnTo>
                    <a:lnTo>
                      <a:pt x="174" y="368"/>
                    </a:lnTo>
                    <a:lnTo>
                      <a:pt x="176" y="344"/>
                    </a:lnTo>
                    <a:lnTo>
                      <a:pt x="174" y="315"/>
                    </a:lnTo>
                    <a:lnTo>
                      <a:pt x="169" y="285"/>
                    </a:lnTo>
                    <a:lnTo>
                      <a:pt x="161" y="256"/>
                    </a:lnTo>
                    <a:lnTo>
                      <a:pt x="149" y="223"/>
                    </a:lnTo>
                    <a:lnTo>
                      <a:pt x="134" y="188"/>
                    </a:lnTo>
                    <a:lnTo>
                      <a:pt x="117" y="155"/>
                    </a:lnTo>
                    <a:lnTo>
                      <a:pt x="94" y="120"/>
                    </a:lnTo>
                    <a:lnTo>
                      <a:pt x="67" y="83"/>
                    </a:lnTo>
                    <a:lnTo>
                      <a:pt x="35" y="46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84960" y="36619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0"/>
                    </a:move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91280" y="4031640"/>
                <a:ext cx="309600" cy="44280"/>
              </a:xfrm>
              <a:custGeom>
                <a:avLst/>
                <a:gdLst/>
                <a:ahLst/>
                <a:rect l="l" t="t" r="r" b="b"/>
                <a:pathLst>
                  <a:path w="389" h="55">
                    <a:moveTo>
                      <a:pt x="389" y="11"/>
                    </a:moveTo>
                    <a:lnTo>
                      <a:pt x="367" y="28"/>
                    </a:lnTo>
                    <a:lnTo>
                      <a:pt x="345" y="40"/>
                    </a:lnTo>
                    <a:lnTo>
                      <a:pt x="321" y="46"/>
                    </a:lnTo>
                    <a:lnTo>
                      <a:pt x="295" y="49"/>
                    </a:lnTo>
                    <a:lnTo>
                      <a:pt x="245" y="45"/>
                    </a:lnTo>
                    <a:lnTo>
                      <a:pt x="192" y="34"/>
                    </a:lnTo>
                    <a:lnTo>
                      <a:pt x="141" y="23"/>
                    </a:lnTo>
                    <a:lnTo>
                      <a:pt x="118" y="21"/>
                    </a:lnTo>
                    <a:lnTo>
                      <a:pt x="93" y="19"/>
                    </a:lnTo>
                    <a:lnTo>
                      <a:pt x="71" y="22"/>
                    </a:lnTo>
                    <a:lnTo>
                      <a:pt x="49" y="28"/>
                    </a:lnTo>
                    <a:lnTo>
                      <a:pt x="28" y="38"/>
                    </a:lnTo>
                    <a:lnTo>
                      <a:pt x="10" y="55"/>
                    </a:lnTo>
                    <a:lnTo>
                      <a:pt x="0" y="44"/>
                    </a:lnTo>
                    <a:lnTo>
                      <a:pt x="20" y="26"/>
                    </a:lnTo>
                    <a:lnTo>
                      <a:pt x="43" y="15"/>
                    </a:lnTo>
                    <a:lnTo>
                      <a:pt x="68" y="8"/>
                    </a:lnTo>
                    <a:lnTo>
                      <a:pt x="93" y="6"/>
                    </a:lnTo>
                    <a:lnTo>
                      <a:pt x="118" y="7"/>
                    </a:lnTo>
                    <a:lnTo>
                      <a:pt x="145" y="10"/>
                    </a:lnTo>
                    <a:lnTo>
                      <a:pt x="196" y="21"/>
                    </a:lnTo>
                    <a:lnTo>
                      <a:pt x="247" y="32"/>
                    </a:lnTo>
                    <a:lnTo>
                      <a:pt x="295" y="35"/>
                    </a:lnTo>
                    <a:lnTo>
                      <a:pt x="317" y="33"/>
                    </a:lnTo>
                    <a:lnTo>
                      <a:pt x="339" y="27"/>
                    </a:lnTo>
                    <a:lnTo>
                      <a:pt x="358" y="16"/>
                    </a:lnTo>
                    <a:lnTo>
                      <a:pt x="379" y="0"/>
                    </a:lnTo>
                    <a:lnTo>
                      <a:pt x="38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591160" y="4031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0"/>
                    </a:moveTo>
                    <a:lnTo>
                      <a:pt x="11" y="1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262480" y="4066560"/>
                <a:ext cx="36720" cy="144360"/>
              </a:xfrm>
              <a:custGeom>
                <a:avLst/>
                <a:gdLst/>
                <a:ahLst/>
                <a:rect l="l" t="t" r="r" b="b"/>
                <a:pathLst>
                  <a:path w="45" h="181">
                    <a:moveTo>
                      <a:pt x="45" y="10"/>
                    </a:moveTo>
                    <a:lnTo>
                      <a:pt x="33" y="27"/>
                    </a:lnTo>
                    <a:lnTo>
                      <a:pt x="22" y="44"/>
                    </a:lnTo>
                    <a:lnTo>
                      <a:pt x="17" y="63"/>
                    </a:lnTo>
                    <a:lnTo>
                      <a:pt x="15" y="84"/>
                    </a:lnTo>
                    <a:lnTo>
                      <a:pt x="15" y="107"/>
                    </a:lnTo>
                    <a:lnTo>
                      <a:pt x="17" y="130"/>
                    </a:lnTo>
                    <a:lnTo>
                      <a:pt x="22" y="153"/>
                    </a:lnTo>
                    <a:lnTo>
                      <a:pt x="29" y="175"/>
                    </a:lnTo>
                    <a:lnTo>
                      <a:pt x="16" y="181"/>
                    </a:lnTo>
                    <a:lnTo>
                      <a:pt x="7" y="155"/>
                    </a:lnTo>
                    <a:lnTo>
                      <a:pt x="2" y="132"/>
                    </a:lnTo>
                    <a:lnTo>
                      <a:pt x="0" y="109"/>
                    </a:lnTo>
                    <a:lnTo>
                      <a:pt x="0" y="84"/>
                    </a:lnTo>
                    <a:lnTo>
                      <a:pt x="2" y="61"/>
                    </a:lnTo>
                    <a:lnTo>
                      <a:pt x="8" y="38"/>
                    </a:lnTo>
                    <a:lnTo>
                      <a:pt x="21" y="18"/>
                    </a:lnTo>
                    <a:lnTo>
                      <a:pt x="34" y="0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291280" y="40665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0"/>
                    </a:moveTo>
                    <a:lnTo>
                      <a:pt x="0" y="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278320" y="4204800"/>
                <a:ext cx="390600" cy="377640"/>
              </a:xfrm>
              <a:custGeom>
                <a:avLst/>
                <a:gdLst/>
                <a:ahLst/>
                <a:rect l="l" t="t" r="r" b="b"/>
                <a:pathLst>
                  <a:path w="493" h="477">
                    <a:moveTo>
                      <a:pt x="10" y="0"/>
                    </a:moveTo>
                    <a:lnTo>
                      <a:pt x="148" y="134"/>
                    </a:lnTo>
                    <a:lnTo>
                      <a:pt x="275" y="258"/>
                    </a:lnTo>
                    <a:lnTo>
                      <a:pt x="390" y="370"/>
                    </a:lnTo>
                    <a:lnTo>
                      <a:pt x="493" y="466"/>
                    </a:lnTo>
                    <a:lnTo>
                      <a:pt x="483" y="477"/>
                    </a:lnTo>
                    <a:lnTo>
                      <a:pt x="380" y="381"/>
                    </a:lnTo>
                    <a:lnTo>
                      <a:pt x="265" y="269"/>
                    </a:lnTo>
                    <a:lnTo>
                      <a:pt x="138" y="145"/>
                    </a:lnTo>
                    <a:lnTo>
                      <a:pt x="0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275440" y="4204800"/>
                <a:ext cx="10800" cy="756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0" y="9"/>
                    </a:moveTo>
                    <a:lnTo>
                      <a:pt x="2" y="11"/>
                    </a:lnTo>
                    <a:lnTo>
                      <a:pt x="12" y="0"/>
                    </a:lnTo>
                    <a:lnTo>
                      <a:pt x="13" y="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661000" y="457308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10" y="1"/>
                    </a:moveTo>
                    <a:lnTo>
                      <a:pt x="27" y="17"/>
                    </a:lnTo>
                    <a:lnTo>
                      <a:pt x="4" y="13"/>
                    </a:lnTo>
                    <a:lnTo>
                      <a:pt x="6" y="0"/>
                    </a:lnTo>
                    <a:lnTo>
                      <a:pt x="0" y="12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345280" y="2650680"/>
                <a:ext cx="338040" cy="267840"/>
              </a:xfrm>
              <a:custGeom>
                <a:avLst/>
                <a:gdLst/>
                <a:ahLst/>
                <a:rect l="l" t="t" r="r" b="b"/>
                <a:pathLst>
                  <a:path w="425" h="336">
                    <a:moveTo>
                      <a:pt x="0" y="336"/>
                    </a:moveTo>
                    <a:lnTo>
                      <a:pt x="68" y="273"/>
                    </a:lnTo>
                    <a:lnTo>
                      <a:pt x="132" y="215"/>
                    </a:lnTo>
                    <a:lnTo>
                      <a:pt x="162" y="188"/>
                    </a:lnTo>
                    <a:lnTo>
                      <a:pt x="192" y="162"/>
                    </a:lnTo>
                    <a:lnTo>
                      <a:pt x="220" y="139"/>
                    </a:lnTo>
                    <a:lnTo>
                      <a:pt x="247" y="117"/>
                    </a:lnTo>
                    <a:lnTo>
                      <a:pt x="272" y="96"/>
                    </a:lnTo>
                    <a:lnTo>
                      <a:pt x="298" y="77"/>
                    </a:lnTo>
                    <a:lnTo>
                      <a:pt x="321" y="60"/>
                    </a:lnTo>
                    <a:lnTo>
                      <a:pt x="344" y="44"/>
                    </a:lnTo>
                    <a:lnTo>
                      <a:pt x="366" y="30"/>
                    </a:lnTo>
                    <a:lnTo>
                      <a:pt x="387" y="18"/>
                    </a:lnTo>
                    <a:lnTo>
                      <a:pt x="407" y="8"/>
                    </a:lnTo>
                    <a:lnTo>
                      <a:pt x="425" y="0"/>
                    </a:lnTo>
                    <a:lnTo>
                      <a:pt x="390" y="30"/>
                    </a:lnTo>
                    <a:lnTo>
                      <a:pt x="353" y="63"/>
                    </a:lnTo>
                    <a:lnTo>
                      <a:pt x="275" y="134"/>
                    </a:lnTo>
                    <a:lnTo>
                      <a:pt x="190" y="213"/>
                    </a:lnTo>
                    <a:lnTo>
                      <a:pt x="100" y="296"/>
                    </a:lnTo>
                    <a:lnTo>
                      <a:pt x="90" y="304"/>
                    </a:lnTo>
                    <a:lnTo>
                      <a:pt x="78" y="310"/>
                    </a:lnTo>
                    <a:lnTo>
                      <a:pt x="66" y="317"/>
                    </a:lnTo>
                    <a:lnTo>
                      <a:pt x="54" y="323"/>
                    </a:lnTo>
                    <a:lnTo>
                      <a:pt x="47" y="325"/>
                    </a:lnTo>
                    <a:lnTo>
                      <a:pt x="40" y="328"/>
                    </a:lnTo>
                    <a:lnTo>
                      <a:pt x="27" y="331"/>
                    </a:lnTo>
                    <a:lnTo>
                      <a:pt x="13" y="334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342040" y="2646000"/>
                <a:ext cx="342720" cy="277200"/>
              </a:xfrm>
              <a:custGeom>
                <a:avLst/>
                <a:gdLst/>
                <a:ahLst/>
                <a:rect l="l" t="t" r="r" b="b"/>
                <a:pathLst>
                  <a:path w="433" h="348">
                    <a:moveTo>
                      <a:pt x="0" y="337"/>
                    </a:moveTo>
                    <a:lnTo>
                      <a:pt x="132" y="216"/>
                    </a:lnTo>
                    <a:lnTo>
                      <a:pt x="192" y="164"/>
                    </a:lnTo>
                    <a:lnTo>
                      <a:pt x="247" y="118"/>
                    </a:lnTo>
                    <a:lnTo>
                      <a:pt x="298" y="77"/>
                    </a:lnTo>
                    <a:lnTo>
                      <a:pt x="345" y="44"/>
                    </a:lnTo>
                    <a:lnTo>
                      <a:pt x="387" y="18"/>
                    </a:lnTo>
                    <a:lnTo>
                      <a:pt x="426" y="0"/>
                    </a:lnTo>
                    <a:lnTo>
                      <a:pt x="433" y="13"/>
                    </a:lnTo>
                    <a:lnTo>
                      <a:pt x="395" y="30"/>
                    </a:lnTo>
                    <a:lnTo>
                      <a:pt x="353" y="56"/>
                    </a:lnTo>
                    <a:lnTo>
                      <a:pt x="307" y="89"/>
                    </a:lnTo>
                    <a:lnTo>
                      <a:pt x="257" y="129"/>
                    </a:lnTo>
                    <a:lnTo>
                      <a:pt x="202" y="175"/>
                    </a:lnTo>
                    <a:lnTo>
                      <a:pt x="142" y="227"/>
                    </a:lnTo>
                    <a:lnTo>
                      <a:pt x="10" y="348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421240" y="2647440"/>
                <a:ext cx="266760" cy="242640"/>
              </a:xfrm>
              <a:custGeom>
                <a:avLst/>
                <a:gdLst/>
                <a:ahLst/>
                <a:rect l="l" t="t" r="r" b="b"/>
                <a:pathLst>
                  <a:path w="335" h="307">
                    <a:moveTo>
                      <a:pt x="335" y="11"/>
                    </a:moveTo>
                    <a:lnTo>
                      <a:pt x="185" y="145"/>
                    </a:lnTo>
                    <a:lnTo>
                      <a:pt x="10" y="307"/>
                    </a:lnTo>
                    <a:lnTo>
                      <a:pt x="0" y="296"/>
                    </a:lnTo>
                    <a:lnTo>
                      <a:pt x="175" y="134"/>
                    </a:lnTo>
                    <a:lnTo>
                      <a:pt x="325" y="0"/>
                    </a:lnTo>
                    <a:lnTo>
                      <a:pt x="33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680080" y="264600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1" y="0"/>
                    </a:moveTo>
                    <a:lnTo>
                      <a:pt x="10" y="12"/>
                    </a:lnTo>
                    <a:lnTo>
                      <a:pt x="0" y="1"/>
                    </a:lnTo>
                    <a:lnTo>
                      <a:pt x="8" y="1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343480" y="2880720"/>
                <a:ext cx="84240" cy="42480"/>
              </a:xfrm>
              <a:custGeom>
                <a:avLst/>
                <a:gdLst/>
                <a:ahLst/>
                <a:rect l="l" t="t" r="r" b="b"/>
                <a:pathLst>
                  <a:path w="107" h="53">
                    <a:moveTo>
                      <a:pt x="107" y="12"/>
                    </a:moveTo>
                    <a:lnTo>
                      <a:pt x="85" y="27"/>
                    </a:lnTo>
                    <a:lnTo>
                      <a:pt x="59" y="40"/>
                    </a:lnTo>
                    <a:lnTo>
                      <a:pt x="32" y="49"/>
                    </a:lnTo>
                    <a:lnTo>
                      <a:pt x="4" y="53"/>
                    </a:lnTo>
                    <a:lnTo>
                      <a:pt x="0" y="40"/>
                    </a:lnTo>
                    <a:lnTo>
                      <a:pt x="27" y="35"/>
                    </a:lnTo>
                    <a:lnTo>
                      <a:pt x="53" y="27"/>
                    </a:lnTo>
                    <a:lnTo>
                      <a:pt x="76" y="14"/>
                    </a:lnTo>
                    <a:lnTo>
                      <a:pt x="98" y="0"/>
                    </a:lnTo>
                    <a:lnTo>
                      <a:pt x="10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421240" y="28807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12"/>
                    </a:moveTo>
                    <a:lnTo>
                      <a:pt x="9" y="1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27640" y="2912760"/>
                <a:ext cx="22320" cy="15480"/>
              </a:xfrm>
              <a:custGeom>
                <a:avLst/>
                <a:gdLst/>
                <a:ahLst/>
                <a:rect l="l" t="t" r="r" b="b"/>
                <a:pathLst>
                  <a:path w="28" h="18">
                    <a:moveTo>
                      <a:pt x="24" y="13"/>
                    </a:moveTo>
                    <a:lnTo>
                      <a:pt x="0" y="18"/>
                    </a:lnTo>
                    <a:lnTo>
                      <a:pt x="18" y="1"/>
                    </a:lnTo>
                    <a:lnTo>
                      <a:pt x="28" y="12"/>
                    </a:lnTo>
                    <a:lnTo>
                      <a:pt x="2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767040" y="2890440"/>
                <a:ext cx="41400" cy="174240"/>
              </a:xfrm>
              <a:custGeom>
                <a:avLst/>
                <a:gdLst/>
                <a:ahLst/>
                <a:rect l="l" t="t" r="r" b="b"/>
                <a:pathLst>
                  <a:path w="51" h="219">
                    <a:moveTo>
                      <a:pt x="29" y="0"/>
                    </a:moveTo>
                    <a:lnTo>
                      <a:pt x="41" y="35"/>
                    </a:lnTo>
                    <a:lnTo>
                      <a:pt x="48" y="68"/>
                    </a:lnTo>
                    <a:lnTo>
                      <a:pt x="51" y="100"/>
                    </a:lnTo>
                    <a:lnTo>
                      <a:pt x="50" y="128"/>
                    </a:lnTo>
                    <a:lnTo>
                      <a:pt x="45" y="155"/>
                    </a:lnTo>
                    <a:lnTo>
                      <a:pt x="37" y="181"/>
                    </a:lnTo>
                    <a:lnTo>
                      <a:pt x="26" y="202"/>
                    </a:lnTo>
                    <a:lnTo>
                      <a:pt x="11" y="219"/>
                    </a:lnTo>
                    <a:lnTo>
                      <a:pt x="0" y="209"/>
                    </a:lnTo>
                    <a:lnTo>
                      <a:pt x="13" y="193"/>
                    </a:lnTo>
                    <a:lnTo>
                      <a:pt x="23" y="175"/>
                    </a:lnTo>
                    <a:lnTo>
                      <a:pt x="30" y="153"/>
                    </a:lnTo>
                    <a:lnTo>
                      <a:pt x="35" y="127"/>
                    </a:lnTo>
                    <a:lnTo>
                      <a:pt x="37" y="100"/>
                    </a:lnTo>
                    <a:lnTo>
                      <a:pt x="33" y="71"/>
                    </a:lnTo>
                    <a:lnTo>
                      <a:pt x="27" y="38"/>
                    </a:lnTo>
                    <a:lnTo>
                      <a:pt x="16" y="6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506760" y="3057120"/>
                <a:ext cx="268200" cy="37800"/>
              </a:xfrm>
              <a:custGeom>
                <a:avLst/>
                <a:gdLst/>
                <a:ahLst/>
                <a:rect l="l" t="t" r="r" b="b"/>
                <a:pathLst>
                  <a:path w="339" h="49">
                    <a:moveTo>
                      <a:pt x="339" y="11"/>
                    </a:moveTo>
                    <a:lnTo>
                      <a:pt x="321" y="26"/>
                    </a:lnTo>
                    <a:lnTo>
                      <a:pt x="300" y="37"/>
                    </a:lnTo>
                    <a:lnTo>
                      <a:pt x="279" y="42"/>
                    </a:lnTo>
                    <a:lnTo>
                      <a:pt x="257" y="44"/>
                    </a:lnTo>
                    <a:lnTo>
                      <a:pt x="213" y="40"/>
                    </a:lnTo>
                    <a:lnTo>
                      <a:pt x="167" y="31"/>
                    </a:lnTo>
                    <a:lnTo>
                      <a:pt x="124" y="22"/>
                    </a:lnTo>
                    <a:lnTo>
                      <a:pt x="82" y="18"/>
                    </a:lnTo>
                    <a:lnTo>
                      <a:pt x="64" y="21"/>
                    </a:lnTo>
                    <a:lnTo>
                      <a:pt x="44" y="26"/>
                    </a:lnTo>
                    <a:lnTo>
                      <a:pt x="26" y="34"/>
                    </a:lnTo>
                    <a:lnTo>
                      <a:pt x="19" y="40"/>
                    </a:lnTo>
                    <a:lnTo>
                      <a:pt x="10" y="49"/>
                    </a:lnTo>
                    <a:lnTo>
                      <a:pt x="0" y="38"/>
                    </a:lnTo>
                    <a:lnTo>
                      <a:pt x="9" y="29"/>
                    </a:lnTo>
                    <a:lnTo>
                      <a:pt x="17" y="22"/>
                    </a:lnTo>
                    <a:lnTo>
                      <a:pt x="38" y="12"/>
                    </a:lnTo>
                    <a:lnTo>
                      <a:pt x="59" y="7"/>
                    </a:lnTo>
                    <a:lnTo>
                      <a:pt x="82" y="5"/>
                    </a:lnTo>
                    <a:lnTo>
                      <a:pt x="126" y="9"/>
                    </a:lnTo>
                    <a:lnTo>
                      <a:pt x="170" y="17"/>
                    </a:lnTo>
                    <a:lnTo>
                      <a:pt x="215" y="27"/>
                    </a:lnTo>
                    <a:lnTo>
                      <a:pt x="257" y="31"/>
                    </a:lnTo>
                    <a:lnTo>
                      <a:pt x="275" y="28"/>
                    </a:lnTo>
                    <a:lnTo>
                      <a:pt x="294" y="23"/>
                    </a:lnTo>
                    <a:lnTo>
                      <a:pt x="312" y="13"/>
                    </a:lnTo>
                    <a:lnTo>
                      <a:pt x="329" y="0"/>
                    </a:lnTo>
                    <a:lnTo>
                      <a:pt x="33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767040" y="30571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0"/>
                    </a:moveTo>
                    <a:lnTo>
                      <a:pt x="11" y="1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78320" y="3087360"/>
                <a:ext cx="36360" cy="101160"/>
              </a:xfrm>
              <a:custGeom>
                <a:avLst/>
                <a:gdLst/>
                <a:ahLst/>
                <a:rect l="l" t="t" r="r" b="b"/>
                <a:pathLst>
                  <a:path w="45" h="127">
                    <a:moveTo>
                      <a:pt x="45" y="10"/>
                    </a:moveTo>
                    <a:lnTo>
                      <a:pt x="34" y="22"/>
                    </a:lnTo>
                    <a:lnTo>
                      <a:pt x="26" y="35"/>
                    </a:lnTo>
                    <a:lnTo>
                      <a:pt x="19" y="50"/>
                    </a:lnTo>
                    <a:lnTo>
                      <a:pt x="16" y="63"/>
                    </a:lnTo>
                    <a:lnTo>
                      <a:pt x="15" y="78"/>
                    </a:lnTo>
                    <a:lnTo>
                      <a:pt x="15" y="94"/>
                    </a:lnTo>
                    <a:lnTo>
                      <a:pt x="16" y="109"/>
                    </a:lnTo>
                    <a:lnTo>
                      <a:pt x="19" y="125"/>
                    </a:lnTo>
                    <a:lnTo>
                      <a:pt x="5" y="127"/>
                    </a:lnTo>
                    <a:lnTo>
                      <a:pt x="1" y="111"/>
                    </a:lnTo>
                    <a:lnTo>
                      <a:pt x="0" y="95"/>
                    </a:lnTo>
                    <a:lnTo>
                      <a:pt x="0" y="78"/>
                    </a:lnTo>
                    <a:lnTo>
                      <a:pt x="1" y="61"/>
                    </a:lnTo>
                    <a:lnTo>
                      <a:pt x="6" y="44"/>
                    </a:lnTo>
                    <a:lnTo>
                      <a:pt x="12" y="29"/>
                    </a:lnTo>
                    <a:lnTo>
                      <a:pt x="22" y="13"/>
                    </a:lnTo>
                    <a:lnTo>
                      <a:pt x="34" y="0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506760" y="30873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0"/>
                    </a:moveTo>
                    <a:lnTo>
                      <a:pt x="0" y="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483000" y="3182400"/>
                <a:ext cx="438120" cy="452160"/>
              </a:xfrm>
              <a:custGeom>
                <a:avLst/>
                <a:gdLst/>
                <a:ahLst/>
                <a:rect l="l" t="t" r="r" b="b"/>
                <a:pathLst>
                  <a:path w="550" h="570">
                    <a:moveTo>
                      <a:pt x="11" y="0"/>
                    </a:moveTo>
                    <a:lnTo>
                      <a:pt x="117" y="108"/>
                    </a:lnTo>
                    <a:lnTo>
                      <a:pt x="216" y="209"/>
                    </a:lnTo>
                    <a:lnTo>
                      <a:pt x="385" y="386"/>
                    </a:lnTo>
                    <a:lnTo>
                      <a:pt x="550" y="560"/>
                    </a:lnTo>
                    <a:lnTo>
                      <a:pt x="539" y="570"/>
                    </a:lnTo>
                    <a:lnTo>
                      <a:pt x="374" y="396"/>
                    </a:lnTo>
                    <a:lnTo>
                      <a:pt x="205" y="219"/>
                    </a:lnTo>
                    <a:lnTo>
                      <a:pt x="106" y="117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483000" y="318240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6"/>
                    </a:moveTo>
                    <a:lnTo>
                      <a:pt x="1" y="10"/>
                    </a:lnTo>
                    <a:lnTo>
                      <a:pt x="12" y="0"/>
                    </a:lnTo>
                    <a:lnTo>
                      <a:pt x="14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800520" y="3627000"/>
                <a:ext cx="120600" cy="121680"/>
              </a:xfrm>
              <a:custGeom>
                <a:avLst/>
                <a:gdLst/>
                <a:ahLst/>
                <a:rect l="l" t="t" r="r" b="b"/>
                <a:pathLst>
                  <a:path w="150" h="153">
                    <a:moveTo>
                      <a:pt x="150" y="11"/>
                    </a:moveTo>
                    <a:lnTo>
                      <a:pt x="110" y="50"/>
                    </a:lnTo>
                    <a:lnTo>
                      <a:pt x="11" y="153"/>
                    </a:lnTo>
                    <a:lnTo>
                      <a:pt x="0" y="143"/>
                    </a:lnTo>
                    <a:lnTo>
                      <a:pt x="99" y="40"/>
                    </a:lnTo>
                    <a:lnTo>
                      <a:pt x="140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911760" y="3627000"/>
                <a:ext cx="12600" cy="900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1" y="0"/>
                    </a:moveTo>
                    <a:lnTo>
                      <a:pt x="16" y="6"/>
                    </a:lnTo>
                    <a:lnTo>
                      <a:pt x="11" y="11"/>
                    </a:lnTo>
                    <a:lnTo>
                      <a:pt x="1" y="0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687840" y="3725280"/>
                <a:ext cx="120600" cy="36360"/>
              </a:xfrm>
              <a:custGeom>
                <a:avLst/>
                <a:gdLst/>
                <a:ahLst/>
                <a:rect l="l" t="t" r="r" b="b"/>
                <a:pathLst>
                  <a:path w="150" h="46">
                    <a:moveTo>
                      <a:pt x="150" y="32"/>
                    </a:moveTo>
                    <a:lnTo>
                      <a:pt x="132" y="40"/>
                    </a:lnTo>
                    <a:lnTo>
                      <a:pt x="112" y="44"/>
                    </a:lnTo>
                    <a:lnTo>
                      <a:pt x="92" y="46"/>
                    </a:lnTo>
                    <a:lnTo>
                      <a:pt x="72" y="46"/>
                    </a:lnTo>
                    <a:lnTo>
                      <a:pt x="52" y="42"/>
                    </a:lnTo>
                    <a:lnTo>
                      <a:pt x="33" y="35"/>
                    </a:lnTo>
                    <a:lnTo>
                      <a:pt x="16" y="25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24" y="14"/>
                    </a:lnTo>
                    <a:lnTo>
                      <a:pt x="40" y="22"/>
                    </a:lnTo>
                    <a:lnTo>
                      <a:pt x="57" y="29"/>
                    </a:lnTo>
                    <a:lnTo>
                      <a:pt x="74" y="32"/>
                    </a:lnTo>
                    <a:lnTo>
                      <a:pt x="92" y="32"/>
                    </a:lnTo>
                    <a:lnTo>
                      <a:pt x="109" y="31"/>
                    </a:lnTo>
                    <a:lnTo>
                      <a:pt x="126" y="26"/>
                    </a:lnTo>
                    <a:lnTo>
                      <a:pt x="144" y="19"/>
                    </a:lnTo>
                    <a:lnTo>
                      <a:pt x="15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800520" y="373968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1" y="11"/>
                    </a:moveTo>
                    <a:lnTo>
                      <a:pt x="8" y="13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657600" y="3465000"/>
                <a:ext cx="38160" cy="267840"/>
              </a:xfrm>
              <a:custGeom>
                <a:avLst/>
                <a:gdLst/>
                <a:ahLst/>
                <a:rect l="l" t="t" r="r" b="b"/>
                <a:pathLst>
                  <a:path w="48" h="338">
                    <a:moveTo>
                      <a:pt x="37" y="338"/>
                    </a:moveTo>
                    <a:lnTo>
                      <a:pt x="23" y="321"/>
                    </a:lnTo>
                    <a:lnTo>
                      <a:pt x="12" y="300"/>
                    </a:lnTo>
                    <a:lnTo>
                      <a:pt x="6" y="280"/>
                    </a:lnTo>
                    <a:lnTo>
                      <a:pt x="5" y="256"/>
                    </a:lnTo>
                    <a:lnTo>
                      <a:pt x="9" y="212"/>
                    </a:lnTo>
                    <a:lnTo>
                      <a:pt x="17" y="168"/>
                    </a:lnTo>
                    <a:lnTo>
                      <a:pt x="26" y="123"/>
                    </a:lnTo>
                    <a:lnTo>
                      <a:pt x="29" y="81"/>
                    </a:lnTo>
                    <a:lnTo>
                      <a:pt x="28" y="63"/>
                    </a:lnTo>
                    <a:lnTo>
                      <a:pt x="22" y="45"/>
                    </a:lnTo>
                    <a:lnTo>
                      <a:pt x="13" y="26"/>
                    </a:lnTo>
                    <a:lnTo>
                      <a:pt x="7" y="18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18" y="8"/>
                    </a:lnTo>
                    <a:lnTo>
                      <a:pt x="26" y="18"/>
                    </a:lnTo>
                    <a:lnTo>
                      <a:pt x="35" y="39"/>
                    </a:lnTo>
                    <a:lnTo>
                      <a:pt x="42" y="59"/>
                    </a:lnTo>
                    <a:lnTo>
                      <a:pt x="43" y="81"/>
                    </a:lnTo>
                    <a:lnTo>
                      <a:pt x="39" y="127"/>
                    </a:lnTo>
                    <a:lnTo>
                      <a:pt x="31" y="172"/>
                    </a:lnTo>
                    <a:lnTo>
                      <a:pt x="22" y="216"/>
                    </a:lnTo>
                    <a:lnTo>
                      <a:pt x="18" y="256"/>
                    </a:lnTo>
                    <a:lnTo>
                      <a:pt x="20" y="276"/>
                    </a:lnTo>
                    <a:lnTo>
                      <a:pt x="26" y="294"/>
                    </a:lnTo>
                    <a:lnTo>
                      <a:pt x="35" y="313"/>
                    </a:lnTo>
                    <a:lnTo>
                      <a:pt x="48" y="328"/>
                    </a:lnTo>
                    <a:lnTo>
                      <a:pt x="37" y="3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687840" y="37252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11"/>
                    </a:moveTo>
                    <a:lnTo>
                      <a:pt x="0" y="10"/>
                    </a:lnTo>
                    <a:lnTo>
                      <a:pt x="11" y="0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338640" y="3433320"/>
                <a:ext cx="326880" cy="131400"/>
              </a:xfrm>
              <a:custGeom>
                <a:avLst/>
                <a:gdLst/>
                <a:ahLst/>
                <a:rect l="l" t="t" r="r" b="b"/>
                <a:pathLst>
                  <a:path w="413" h="167">
                    <a:moveTo>
                      <a:pt x="403" y="51"/>
                    </a:moveTo>
                    <a:lnTo>
                      <a:pt x="391" y="40"/>
                    </a:lnTo>
                    <a:lnTo>
                      <a:pt x="376" y="30"/>
                    </a:lnTo>
                    <a:lnTo>
                      <a:pt x="360" y="24"/>
                    </a:lnTo>
                    <a:lnTo>
                      <a:pt x="339" y="19"/>
                    </a:lnTo>
                    <a:lnTo>
                      <a:pt x="320" y="15"/>
                    </a:lnTo>
                    <a:lnTo>
                      <a:pt x="298" y="14"/>
                    </a:lnTo>
                    <a:lnTo>
                      <a:pt x="273" y="16"/>
                    </a:lnTo>
                    <a:lnTo>
                      <a:pt x="248" y="20"/>
                    </a:lnTo>
                    <a:lnTo>
                      <a:pt x="221" y="27"/>
                    </a:lnTo>
                    <a:lnTo>
                      <a:pt x="193" y="37"/>
                    </a:lnTo>
                    <a:lnTo>
                      <a:pt x="165" y="49"/>
                    </a:lnTo>
                    <a:lnTo>
                      <a:pt x="134" y="66"/>
                    </a:lnTo>
                    <a:lnTo>
                      <a:pt x="105" y="86"/>
                    </a:lnTo>
                    <a:lnTo>
                      <a:pt x="73" y="109"/>
                    </a:lnTo>
                    <a:lnTo>
                      <a:pt x="41" y="136"/>
                    </a:lnTo>
                    <a:lnTo>
                      <a:pt x="9" y="167"/>
                    </a:lnTo>
                    <a:lnTo>
                      <a:pt x="0" y="156"/>
                    </a:lnTo>
                    <a:lnTo>
                      <a:pt x="31" y="125"/>
                    </a:lnTo>
                    <a:lnTo>
                      <a:pt x="63" y="98"/>
                    </a:lnTo>
                    <a:lnTo>
                      <a:pt x="95" y="75"/>
                    </a:lnTo>
                    <a:lnTo>
                      <a:pt x="125" y="54"/>
                    </a:lnTo>
                    <a:lnTo>
                      <a:pt x="157" y="37"/>
                    </a:lnTo>
                    <a:lnTo>
                      <a:pt x="187" y="24"/>
                    </a:lnTo>
                    <a:lnTo>
                      <a:pt x="215" y="14"/>
                    </a:lnTo>
                    <a:lnTo>
                      <a:pt x="244" y="7"/>
                    </a:lnTo>
                    <a:lnTo>
                      <a:pt x="271" y="3"/>
                    </a:lnTo>
                    <a:lnTo>
                      <a:pt x="298" y="0"/>
                    </a:lnTo>
                    <a:lnTo>
                      <a:pt x="322" y="2"/>
                    </a:lnTo>
                    <a:lnTo>
                      <a:pt x="343" y="5"/>
                    </a:lnTo>
                    <a:lnTo>
                      <a:pt x="365" y="10"/>
                    </a:lnTo>
                    <a:lnTo>
                      <a:pt x="383" y="18"/>
                    </a:lnTo>
                    <a:lnTo>
                      <a:pt x="399" y="29"/>
                    </a:lnTo>
                    <a:lnTo>
                      <a:pt x="413" y="40"/>
                    </a:lnTo>
                    <a:lnTo>
                      <a:pt x="403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657600" y="34650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0"/>
                    </a:moveTo>
                    <a:lnTo>
                      <a:pt x="0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181320" y="3557160"/>
                <a:ext cx="165240" cy="333000"/>
              </a:xfrm>
              <a:custGeom>
                <a:avLst/>
                <a:gdLst/>
                <a:ahLst/>
                <a:rect l="l" t="t" r="r" b="b"/>
                <a:pathLst>
                  <a:path w="207" h="420">
                    <a:moveTo>
                      <a:pt x="207" y="11"/>
                    </a:moveTo>
                    <a:lnTo>
                      <a:pt x="152" y="65"/>
                    </a:lnTo>
                    <a:lnTo>
                      <a:pt x="110" y="112"/>
                    </a:lnTo>
                    <a:lnTo>
                      <a:pt x="68" y="168"/>
                    </a:lnTo>
                    <a:lnTo>
                      <a:pt x="50" y="198"/>
                    </a:lnTo>
                    <a:lnTo>
                      <a:pt x="34" y="230"/>
                    </a:lnTo>
                    <a:lnTo>
                      <a:pt x="23" y="260"/>
                    </a:lnTo>
                    <a:lnTo>
                      <a:pt x="15" y="292"/>
                    </a:lnTo>
                    <a:lnTo>
                      <a:pt x="14" y="308"/>
                    </a:lnTo>
                    <a:lnTo>
                      <a:pt x="14" y="324"/>
                    </a:lnTo>
                    <a:lnTo>
                      <a:pt x="15" y="338"/>
                    </a:lnTo>
                    <a:lnTo>
                      <a:pt x="19" y="354"/>
                    </a:lnTo>
                    <a:lnTo>
                      <a:pt x="23" y="369"/>
                    </a:lnTo>
                    <a:lnTo>
                      <a:pt x="30" y="382"/>
                    </a:lnTo>
                    <a:lnTo>
                      <a:pt x="51" y="412"/>
                    </a:lnTo>
                    <a:lnTo>
                      <a:pt x="39" y="420"/>
                    </a:lnTo>
                    <a:lnTo>
                      <a:pt x="18" y="391"/>
                    </a:lnTo>
                    <a:lnTo>
                      <a:pt x="9" y="375"/>
                    </a:lnTo>
                    <a:lnTo>
                      <a:pt x="4" y="357"/>
                    </a:lnTo>
                    <a:lnTo>
                      <a:pt x="1" y="341"/>
                    </a:lnTo>
                    <a:lnTo>
                      <a:pt x="0" y="325"/>
                    </a:lnTo>
                    <a:lnTo>
                      <a:pt x="0" y="308"/>
                    </a:lnTo>
                    <a:lnTo>
                      <a:pt x="1" y="290"/>
                    </a:lnTo>
                    <a:lnTo>
                      <a:pt x="8" y="258"/>
                    </a:lnTo>
                    <a:lnTo>
                      <a:pt x="20" y="223"/>
                    </a:lnTo>
                    <a:lnTo>
                      <a:pt x="36" y="192"/>
                    </a:lnTo>
                    <a:lnTo>
                      <a:pt x="56" y="160"/>
                    </a:lnTo>
                    <a:lnTo>
                      <a:pt x="99" y="102"/>
                    </a:lnTo>
                    <a:lnTo>
                      <a:pt x="141" y="55"/>
                    </a:lnTo>
                    <a:lnTo>
                      <a:pt x="198" y="0"/>
                    </a:lnTo>
                    <a:lnTo>
                      <a:pt x="20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338640" y="35571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0"/>
                    </a:moveTo>
                    <a:lnTo>
                      <a:pt x="9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211560" y="3882600"/>
                <a:ext cx="274680" cy="51840"/>
              </a:xfrm>
              <a:custGeom>
                <a:avLst/>
                <a:gdLst/>
                <a:ahLst/>
                <a:rect l="l" t="t" r="r" b="b"/>
                <a:pathLst>
                  <a:path w="344" h="66">
                    <a:moveTo>
                      <a:pt x="11" y="0"/>
                    </a:moveTo>
                    <a:lnTo>
                      <a:pt x="20" y="9"/>
                    </a:lnTo>
                    <a:lnTo>
                      <a:pt x="29" y="17"/>
                    </a:lnTo>
                    <a:lnTo>
                      <a:pt x="50" y="29"/>
                    </a:lnTo>
                    <a:lnTo>
                      <a:pt x="58" y="34"/>
                    </a:lnTo>
                    <a:lnTo>
                      <a:pt x="67" y="35"/>
                    </a:lnTo>
                    <a:lnTo>
                      <a:pt x="86" y="39"/>
                    </a:lnTo>
                    <a:lnTo>
                      <a:pt x="107" y="39"/>
                    </a:lnTo>
                    <a:lnTo>
                      <a:pt x="127" y="36"/>
                    </a:lnTo>
                    <a:lnTo>
                      <a:pt x="170" y="26"/>
                    </a:lnTo>
                    <a:lnTo>
                      <a:pt x="214" y="18"/>
                    </a:lnTo>
                    <a:lnTo>
                      <a:pt x="256" y="14"/>
                    </a:lnTo>
                    <a:lnTo>
                      <a:pt x="278" y="17"/>
                    </a:lnTo>
                    <a:lnTo>
                      <a:pt x="300" y="25"/>
                    </a:lnTo>
                    <a:lnTo>
                      <a:pt x="322" y="36"/>
                    </a:lnTo>
                    <a:lnTo>
                      <a:pt x="344" y="55"/>
                    </a:lnTo>
                    <a:lnTo>
                      <a:pt x="335" y="66"/>
                    </a:lnTo>
                    <a:lnTo>
                      <a:pt x="314" y="48"/>
                    </a:lnTo>
                    <a:lnTo>
                      <a:pt x="294" y="39"/>
                    </a:lnTo>
                    <a:lnTo>
                      <a:pt x="276" y="31"/>
                    </a:lnTo>
                    <a:lnTo>
                      <a:pt x="256" y="29"/>
                    </a:lnTo>
                    <a:lnTo>
                      <a:pt x="215" y="33"/>
                    </a:lnTo>
                    <a:lnTo>
                      <a:pt x="172" y="41"/>
                    </a:lnTo>
                    <a:lnTo>
                      <a:pt x="129" y="51"/>
                    </a:lnTo>
                    <a:lnTo>
                      <a:pt x="107" y="53"/>
                    </a:lnTo>
                    <a:lnTo>
                      <a:pt x="85" y="53"/>
                    </a:lnTo>
                    <a:lnTo>
                      <a:pt x="64" y="50"/>
                    </a:lnTo>
                    <a:lnTo>
                      <a:pt x="52" y="47"/>
                    </a:lnTo>
                    <a:lnTo>
                      <a:pt x="41" y="41"/>
                    </a:lnTo>
                    <a:lnTo>
                      <a:pt x="20" y="29"/>
                    </a:lnTo>
                    <a:lnTo>
                      <a:pt x="11" y="20"/>
                    </a:lnTo>
                    <a:lnTo>
                      <a:pt x="0" y="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11560" y="388260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9"/>
                    </a:moveTo>
                    <a:lnTo>
                      <a:pt x="11" y="0"/>
                    </a:lnTo>
                    <a:lnTo>
                      <a:pt x="12" y="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476520" y="3926880"/>
                <a:ext cx="41400" cy="122040"/>
              </a:xfrm>
              <a:custGeom>
                <a:avLst/>
                <a:gdLst/>
                <a:ahLst/>
                <a:rect l="l" t="t" r="r" b="b"/>
                <a:pathLst>
                  <a:path w="53" h="155">
                    <a:moveTo>
                      <a:pt x="11" y="0"/>
                    </a:moveTo>
                    <a:lnTo>
                      <a:pt x="26" y="17"/>
                    </a:lnTo>
                    <a:lnTo>
                      <a:pt x="37" y="35"/>
                    </a:lnTo>
                    <a:lnTo>
                      <a:pt x="44" y="53"/>
                    </a:lnTo>
                    <a:lnTo>
                      <a:pt x="51" y="74"/>
                    </a:lnTo>
                    <a:lnTo>
                      <a:pt x="53" y="95"/>
                    </a:lnTo>
                    <a:lnTo>
                      <a:pt x="53" y="115"/>
                    </a:lnTo>
                    <a:lnTo>
                      <a:pt x="49" y="135"/>
                    </a:lnTo>
                    <a:lnTo>
                      <a:pt x="41" y="155"/>
                    </a:lnTo>
                    <a:lnTo>
                      <a:pt x="27" y="150"/>
                    </a:lnTo>
                    <a:lnTo>
                      <a:pt x="35" y="133"/>
                    </a:lnTo>
                    <a:lnTo>
                      <a:pt x="38" y="113"/>
                    </a:lnTo>
                    <a:lnTo>
                      <a:pt x="38" y="95"/>
                    </a:lnTo>
                    <a:lnTo>
                      <a:pt x="36" y="77"/>
                    </a:lnTo>
                    <a:lnTo>
                      <a:pt x="31" y="59"/>
                    </a:lnTo>
                    <a:lnTo>
                      <a:pt x="24" y="41"/>
                    </a:lnTo>
                    <a:lnTo>
                      <a:pt x="14" y="25"/>
                    </a:lnTo>
                    <a:lnTo>
                      <a:pt x="0" y="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476520" y="392688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0" y="9"/>
                    </a:lnTo>
                    <a:lnTo>
                      <a:pt x="2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986200" y="4044600"/>
                <a:ext cx="522000" cy="441000"/>
              </a:xfrm>
              <a:custGeom>
                <a:avLst/>
                <a:gdLst/>
                <a:ahLst/>
                <a:rect l="l" t="t" r="r" b="b"/>
                <a:pathLst>
                  <a:path w="658" h="556">
                    <a:moveTo>
                      <a:pt x="658" y="11"/>
                    </a:moveTo>
                    <a:lnTo>
                      <a:pt x="488" y="172"/>
                    </a:lnTo>
                    <a:lnTo>
                      <a:pt x="318" y="324"/>
                    </a:lnTo>
                    <a:lnTo>
                      <a:pt x="235" y="393"/>
                    </a:lnTo>
                    <a:lnTo>
                      <a:pt x="155" y="456"/>
                    </a:lnTo>
                    <a:lnTo>
                      <a:pt x="79" y="511"/>
                    </a:lnTo>
                    <a:lnTo>
                      <a:pt x="8" y="556"/>
                    </a:lnTo>
                    <a:lnTo>
                      <a:pt x="0" y="544"/>
                    </a:lnTo>
                    <a:lnTo>
                      <a:pt x="70" y="500"/>
                    </a:lnTo>
                    <a:lnTo>
                      <a:pt x="145" y="445"/>
                    </a:lnTo>
                    <a:lnTo>
                      <a:pt x="225" y="382"/>
                    </a:lnTo>
                    <a:lnTo>
                      <a:pt x="308" y="313"/>
                    </a:lnTo>
                    <a:lnTo>
                      <a:pt x="478" y="161"/>
                    </a:lnTo>
                    <a:lnTo>
                      <a:pt x="648" y="0"/>
                    </a:lnTo>
                    <a:lnTo>
                      <a:pt x="65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498840" y="404460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4" y="7"/>
                    </a:moveTo>
                    <a:lnTo>
                      <a:pt x="13" y="11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946240" y="2720520"/>
                <a:ext cx="970200" cy="1780920"/>
              </a:xfrm>
              <a:custGeom>
                <a:avLst/>
                <a:gdLst/>
                <a:ahLst/>
                <a:rect l="l" t="t" r="r" b="b"/>
                <a:pathLst>
                  <a:path w="1222" h="2244">
                    <a:moveTo>
                      <a:pt x="941" y="0"/>
                    </a:moveTo>
                    <a:lnTo>
                      <a:pt x="948" y="12"/>
                    </a:lnTo>
                    <a:lnTo>
                      <a:pt x="954" y="24"/>
                    </a:lnTo>
                    <a:lnTo>
                      <a:pt x="965" y="50"/>
                    </a:lnTo>
                    <a:lnTo>
                      <a:pt x="975" y="74"/>
                    </a:lnTo>
                    <a:lnTo>
                      <a:pt x="983" y="98"/>
                    </a:lnTo>
                    <a:lnTo>
                      <a:pt x="987" y="121"/>
                    </a:lnTo>
                    <a:lnTo>
                      <a:pt x="990" y="132"/>
                    </a:lnTo>
                    <a:lnTo>
                      <a:pt x="992" y="143"/>
                    </a:lnTo>
                    <a:lnTo>
                      <a:pt x="995" y="165"/>
                    </a:lnTo>
                    <a:lnTo>
                      <a:pt x="995" y="175"/>
                    </a:lnTo>
                    <a:lnTo>
                      <a:pt x="995" y="186"/>
                    </a:lnTo>
                    <a:lnTo>
                      <a:pt x="995" y="196"/>
                    </a:lnTo>
                    <a:lnTo>
                      <a:pt x="995" y="205"/>
                    </a:lnTo>
                    <a:lnTo>
                      <a:pt x="992" y="224"/>
                    </a:lnTo>
                    <a:lnTo>
                      <a:pt x="991" y="232"/>
                    </a:lnTo>
                    <a:lnTo>
                      <a:pt x="989" y="241"/>
                    </a:lnTo>
                    <a:lnTo>
                      <a:pt x="984" y="257"/>
                    </a:lnTo>
                    <a:lnTo>
                      <a:pt x="978" y="273"/>
                    </a:lnTo>
                    <a:lnTo>
                      <a:pt x="974" y="279"/>
                    </a:lnTo>
                    <a:lnTo>
                      <a:pt x="970" y="286"/>
                    </a:lnTo>
                    <a:lnTo>
                      <a:pt x="965" y="292"/>
                    </a:lnTo>
                    <a:lnTo>
                      <a:pt x="962" y="298"/>
                    </a:lnTo>
                    <a:lnTo>
                      <a:pt x="957" y="304"/>
                    </a:lnTo>
                    <a:lnTo>
                      <a:pt x="952" y="309"/>
                    </a:lnTo>
                    <a:lnTo>
                      <a:pt x="942" y="318"/>
                    </a:lnTo>
                    <a:lnTo>
                      <a:pt x="931" y="325"/>
                    </a:lnTo>
                    <a:lnTo>
                      <a:pt x="921" y="331"/>
                    </a:lnTo>
                    <a:lnTo>
                      <a:pt x="910" y="336"/>
                    </a:lnTo>
                    <a:lnTo>
                      <a:pt x="898" y="340"/>
                    </a:lnTo>
                    <a:lnTo>
                      <a:pt x="887" y="343"/>
                    </a:lnTo>
                    <a:lnTo>
                      <a:pt x="875" y="345"/>
                    </a:lnTo>
                    <a:lnTo>
                      <a:pt x="863" y="346"/>
                    </a:lnTo>
                    <a:lnTo>
                      <a:pt x="851" y="345"/>
                    </a:lnTo>
                    <a:lnTo>
                      <a:pt x="838" y="345"/>
                    </a:lnTo>
                    <a:lnTo>
                      <a:pt x="826" y="343"/>
                    </a:lnTo>
                    <a:lnTo>
                      <a:pt x="814" y="341"/>
                    </a:lnTo>
                    <a:lnTo>
                      <a:pt x="788" y="336"/>
                    </a:lnTo>
                    <a:lnTo>
                      <a:pt x="763" y="331"/>
                    </a:lnTo>
                    <a:lnTo>
                      <a:pt x="737" y="325"/>
                    </a:lnTo>
                    <a:lnTo>
                      <a:pt x="711" y="320"/>
                    </a:lnTo>
                    <a:lnTo>
                      <a:pt x="699" y="319"/>
                    </a:lnTo>
                    <a:lnTo>
                      <a:pt x="686" y="317"/>
                    </a:lnTo>
                    <a:lnTo>
                      <a:pt x="661" y="317"/>
                    </a:lnTo>
                    <a:lnTo>
                      <a:pt x="649" y="317"/>
                    </a:lnTo>
                    <a:lnTo>
                      <a:pt x="638" y="319"/>
                    </a:lnTo>
                    <a:lnTo>
                      <a:pt x="626" y="321"/>
                    </a:lnTo>
                    <a:lnTo>
                      <a:pt x="615" y="325"/>
                    </a:lnTo>
                    <a:lnTo>
                      <a:pt x="604" y="330"/>
                    </a:lnTo>
                    <a:lnTo>
                      <a:pt x="593" y="336"/>
                    </a:lnTo>
                    <a:lnTo>
                      <a:pt x="588" y="340"/>
                    </a:lnTo>
                    <a:lnTo>
                      <a:pt x="583" y="343"/>
                    </a:lnTo>
                    <a:lnTo>
                      <a:pt x="573" y="352"/>
                    </a:lnTo>
                    <a:lnTo>
                      <a:pt x="566" y="359"/>
                    </a:lnTo>
                    <a:lnTo>
                      <a:pt x="560" y="368"/>
                    </a:lnTo>
                    <a:lnTo>
                      <a:pt x="555" y="375"/>
                    </a:lnTo>
                    <a:lnTo>
                      <a:pt x="550" y="384"/>
                    </a:lnTo>
                    <a:lnTo>
                      <a:pt x="545" y="392"/>
                    </a:lnTo>
                    <a:lnTo>
                      <a:pt x="541" y="401"/>
                    </a:lnTo>
                    <a:lnTo>
                      <a:pt x="539" y="410"/>
                    </a:lnTo>
                    <a:lnTo>
                      <a:pt x="536" y="418"/>
                    </a:lnTo>
                    <a:lnTo>
                      <a:pt x="535" y="428"/>
                    </a:lnTo>
                    <a:lnTo>
                      <a:pt x="534" y="438"/>
                    </a:lnTo>
                    <a:lnTo>
                      <a:pt x="534" y="456"/>
                    </a:lnTo>
                    <a:lnTo>
                      <a:pt x="535" y="465"/>
                    </a:lnTo>
                    <a:lnTo>
                      <a:pt x="536" y="474"/>
                    </a:lnTo>
                    <a:lnTo>
                      <a:pt x="541" y="493"/>
                    </a:lnTo>
                    <a:lnTo>
                      <a:pt x="663" y="616"/>
                    </a:lnTo>
                    <a:lnTo>
                      <a:pt x="777" y="734"/>
                    </a:lnTo>
                    <a:lnTo>
                      <a:pt x="881" y="841"/>
                    </a:lnTo>
                    <a:lnTo>
                      <a:pt x="972" y="938"/>
                    </a:lnTo>
                    <a:lnTo>
                      <a:pt x="1107" y="1081"/>
                    </a:lnTo>
                    <a:lnTo>
                      <a:pt x="1146" y="1121"/>
                    </a:lnTo>
                    <a:lnTo>
                      <a:pt x="1162" y="1138"/>
                    </a:lnTo>
                    <a:lnTo>
                      <a:pt x="1157" y="1142"/>
                    </a:lnTo>
                    <a:lnTo>
                      <a:pt x="1148" y="1151"/>
                    </a:lnTo>
                    <a:lnTo>
                      <a:pt x="1116" y="1185"/>
                    </a:lnTo>
                    <a:lnTo>
                      <a:pt x="1001" y="1302"/>
                    </a:lnTo>
                    <a:lnTo>
                      <a:pt x="991" y="1307"/>
                    </a:lnTo>
                    <a:lnTo>
                      <a:pt x="980" y="1311"/>
                    </a:lnTo>
                    <a:lnTo>
                      <a:pt x="969" y="1314"/>
                    </a:lnTo>
                    <a:lnTo>
                      <a:pt x="958" y="1317"/>
                    </a:lnTo>
                    <a:lnTo>
                      <a:pt x="947" y="1318"/>
                    </a:lnTo>
                    <a:lnTo>
                      <a:pt x="937" y="1319"/>
                    </a:lnTo>
                    <a:lnTo>
                      <a:pt x="926" y="1319"/>
                    </a:lnTo>
                    <a:lnTo>
                      <a:pt x="915" y="1318"/>
                    </a:lnTo>
                    <a:lnTo>
                      <a:pt x="904" y="1317"/>
                    </a:lnTo>
                    <a:lnTo>
                      <a:pt x="895" y="1314"/>
                    </a:lnTo>
                    <a:lnTo>
                      <a:pt x="884" y="1311"/>
                    </a:lnTo>
                    <a:lnTo>
                      <a:pt x="874" y="1307"/>
                    </a:lnTo>
                    <a:lnTo>
                      <a:pt x="864" y="1302"/>
                    </a:lnTo>
                    <a:lnTo>
                      <a:pt x="854" y="1296"/>
                    </a:lnTo>
                    <a:lnTo>
                      <a:pt x="846" y="1289"/>
                    </a:lnTo>
                    <a:lnTo>
                      <a:pt x="837" y="1281"/>
                    </a:lnTo>
                    <a:lnTo>
                      <a:pt x="829" y="1270"/>
                    </a:lnTo>
                    <a:lnTo>
                      <a:pt x="820" y="1261"/>
                    </a:lnTo>
                    <a:lnTo>
                      <a:pt x="814" y="1250"/>
                    </a:lnTo>
                    <a:lnTo>
                      <a:pt x="809" y="1239"/>
                    </a:lnTo>
                    <a:lnTo>
                      <a:pt x="805" y="1228"/>
                    </a:lnTo>
                    <a:lnTo>
                      <a:pt x="803" y="1215"/>
                    </a:lnTo>
                    <a:lnTo>
                      <a:pt x="802" y="1204"/>
                    </a:lnTo>
                    <a:lnTo>
                      <a:pt x="800" y="1192"/>
                    </a:lnTo>
                    <a:lnTo>
                      <a:pt x="800" y="1180"/>
                    </a:lnTo>
                    <a:lnTo>
                      <a:pt x="802" y="1168"/>
                    </a:lnTo>
                    <a:lnTo>
                      <a:pt x="803" y="1155"/>
                    </a:lnTo>
                    <a:lnTo>
                      <a:pt x="805" y="1142"/>
                    </a:lnTo>
                    <a:lnTo>
                      <a:pt x="810" y="1116"/>
                    </a:lnTo>
                    <a:lnTo>
                      <a:pt x="815" y="1091"/>
                    </a:lnTo>
                    <a:lnTo>
                      <a:pt x="821" y="1065"/>
                    </a:lnTo>
                    <a:lnTo>
                      <a:pt x="826" y="1039"/>
                    </a:lnTo>
                    <a:lnTo>
                      <a:pt x="827" y="1027"/>
                    </a:lnTo>
                    <a:lnTo>
                      <a:pt x="829" y="1015"/>
                    </a:lnTo>
                    <a:lnTo>
                      <a:pt x="830" y="990"/>
                    </a:lnTo>
                    <a:lnTo>
                      <a:pt x="829" y="978"/>
                    </a:lnTo>
                    <a:lnTo>
                      <a:pt x="827" y="966"/>
                    </a:lnTo>
                    <a:lnTo>
                      <a:pt x="825" y="955"/>
                    </a:lnTo>
                    <a:lnTo>
                      <a:pt x="821" y="943"/>
                    </a:lnTo>
                    <a:lnTo>
                      <a:pt x="816" y="932"/>
                    </a:lnTo>
                    <a:lnTo>
                      <a:pt x="810" y="922"/>
                    </a:lnTo>
                    <a:lnTo>
                      <a:pt x="807" y="916"/>
                    </a:lnTo>
                    <a:lnTo>
                      <a:pt x="803" y="911"/>
                    </a:lnTo>
                    <a:lnTo>
                      <a:pt x="793" y="901"/>
                    </a:lnTo>
                    <a:lnTo>
                      <a:pt x="786" y="895"/>
                    </a:lnTo>
                    <a:lnTo>
                      <a:pt x="778" y="889"/>
                    </a:lnTo>
                    <a:lnTo>
                      <a:pt x="774" y="885"/>
                    </a:lnTo>
                    <a:lnTo>
                      <a:pt x="770" y="883"/>
                    </a:lnTo>
                    <a:lnTo>
                      <a:pt x="760" y="878"/>
                    </a:lnTo>
                    <a:lnTo>
                      <a:pt x="750" y="873"/>
                    </a:lnTo>
                    <a:lnTo>
                      <a:pt x="741" y="869"/>
                    </a:lnTo>
                    <a:lnTo>
                      <a:pt x="730" y="866"/>
                    </a:lnTo>
                    <a:lnTo>
                      <a:pt x="717" y="863"/>
                    </a:lnTo>
                    <a:lnTo>
                      <a:pt x="705" y="861"/>
                    </a:lnTo>
                    <a:lnTo>
                      <a:pt x="693" y="859"/>
                    </a:lnTo>
                    <a:lnTo>
                      <a:pt x="679" y="858"/>
                    </a:lnTo>
                    <a:lnTo>
                      <a:pt x="666" y="858"/>
                    </a:lnTo>
                    <a:lnTo>
                      <a:pt x="637" y="859"/>
                    </a:lnTo>
                    <a:lnTo>
                      <a:pt x="622" y="862"/>
                    </a:lnTo>
                    <a:lnTo>
                      <a:pt x="606" y="866"/>
                    </a:lnTo>
                    <a:lnTo>
                      <a:pt x="591" y="869"/>
                    </a:lnTo>
                    <a:lnTo>
                      <a:pt x="574" y="873"/>
                    </a:lnTo>
                    <a:lnTo>
                      <a:pt x="558" y="879"/>
                    </a:lnTo>
                    <a:lnTo>
                      <a:pt x="541" y="885"/>
                    </a:lnTo>
                    <a:lnTo>
                      <a:pt x="525" y="893"/>
                    </a:lnTo>
                    <a:lnTo>
                      <a:pt x="508" y="900"/>
                    </a:lnTo>
                    <a:lnTo>
                      <a:pt x="490" y="908"/>
                    </a:lnTo>
                    <a:lnTo>
                      <a:pt x="473" y="919"/>
                    </a:lnTo>
                    <a:lnTo>
                      <a:pt x="454" y="930"/>
                    </a:lnTo>
                    <a:lnTo>
                      <a:pt x="437" y="941"/>
                    </a:lnTo>
                    <a:lnTo>
                      <a:pt x="419" y="955"/>
                    </a:lnTo>
                    <a:lnTo>
                      <a:pt x="401" y="968"/>
                    </a:lnTo>
                    <a:lnTo>
                      <a:pt x="382" y="984"/>
                    </a:lnTo>
                    <a:lnTo>
                      <a:pt x="364" y="1000"/>
                    </a:lnTo>
                    <a:lnTo>
                      <a:pt x="346" y="1017"/>
                    </a:lnTo>
                    <a:lnTo>
                      <a:pt x="327" y="1036"/>
                    </a:lnTo>
                    <a:lnTo>
                      <a:pt x="304" y="1058"/>
                    </a:lnTo>
                    <a:lnTo>
                      <a:pt x="286" y="1076"/>
                    </a:lnTo>
                    <a:lnTo>
                      <a:pt x="264" y="1098"/>
                    </a:lnTo>
                    <a:lnTo>
                      <a:pt x="252" y="1110"/>
                    </a:lnTo>
                    <a:lnTo>
                      <a:pt x="241" y="1124"/>
                    </a:lnTo>
                    <a:lnTo>
                      <a:pt x="215" y="1153"/>
                    </a:lnTo>
                    <a:lnTo>
                      <a:pt x="190" y="1185"/>
                    </a:lnTo>
                    <a:lnTo>
                      <a:pt x="178" y="1201"/>
                    </a:lnTo>
                    <a:lnTo>
                      <a:pt x="166" y="1218"/>
                    </a:lnTo>
                    <a:lnTo>
                      <a:pt x="155" y="1236"/>
                    </a:lnTo>
                    <a:lnTo>
                      <a:pt x="144" y="1253"/>
                    </a:lnTo>
                    <a:lnTo>
                      <a:pt x="135" y="1272"/>
                    </a:lnTo>
                    <a:lnTo>
                      <a:pt x="126" y="1290"/>
                    </a:lnTo>
                    <a:lnTo>
                      <a:pt x="118" y="1309"/>
                    </a:lnTo>
                    <a:lnTo>
                      <a:pt x="112" y="1328"/>
                    </a:lnTo>
                    <a:lnTo>
                      <a:pt x="110" y="1338"/>
                    </a:lnTo>
                    <a:lnTo>
                      <a:pt x="107" y="1346"/>
                    </a:lnTo>
                    <a:lnTo>
                      <a:pt x="105" y="1356"/>
                    </a:lnTo>
                    <a:lnTo>
                      <a:pt x="104" y="1366"/>
                    </a:lnTo>
                    <a:lnTo>
                      <a:pt x="102" y="1384"/>
                    </a:lnTo>
                    <a:lnTo>
                      <a:pt x="102" y="1402"/>
                    </a:lnTo>
                    <a:lnTo>
                      <a:pt x="104" y="1421"/>
                    </a:lnTo>
                    <a:lnTo>
                      <a:pt x="106" y="1431"/>
                    </a:lnTo>
                    <a:lnTo>
                      <a:pt x="107" y="1439"/>
                    </a:lnTo>
                    <a:lnTo>
                      <a:pt x="111" y="1449"/>
                    </a:lnTo>
                    <a:lnTo>
                      <a:pt x="113" y="1457"/>
                    </a:lnTo>
                    <a:lnTo>
                      <a:pt x="118" y="1466"/>
                    </a:lnTo>
                    <a:lnTo>
                      <a:pt x="122" y="1476"/>
                    </a:lnTo>
                    <a:lnTo>
                      <a:pt x="127" y="1484"/>
                    </a:lnTo>
                    <a:lnTo>
                      <a:pt x="133" y="1493"/>
                    </a:lnTo>
                    <a:lnTo>
                      <a:pt x="139" y="1500"/>
                    </a:lnTo>
                    <a:lnTo>
                      <a:pt x="146" y="1509"/>
                    </a:lnTo>
                    <a:lnTo>
                      <a:pt x="157" y="1521"/>
                    </a:lnTo>
                    <a:lnTo>
                      <a:pt x="164" y="1526"/>
                    </a:lnTo>
                    <a:lnTo>
                      <a:pt x="168" y="1530"/>
                    </a:lnTo>
                    <a:lnTo>
                      <a:pt x="175" y="1534"/>
                    </a:lnTo>
                    <a:lnTo>
                      <a:pt x="181" y="1538"/>
                    </a:lnTo>
                    <a:lnTo>
                      <a:pt x="186" y="1542"/>
                    </a:lnTo>
                    <a:lnTo>
                      <a:pt x="192" y="1544"/>
                    </a:lnTo>
                    <a:lnTo>
                      <a:pt x="198" y="1547"/>
                    </a:lnTo>
                    <a:lnTo>
                      <a:pt x="204" y="1549"/>
                    </a:lnTo>
                    <a:lnTo>
                      <a:pt x="215" y="1553"/>
                    </a:lnTo>
                    <a:lnTo>
                      <a:pt x="227" y="1555"/>
                    </a:lnTo>
                    <a:lnTo>
                      <a:pt x="239" y="1556"/>
                    </a:lnTo>
                    <a:lnTo>
                      <a:pt x="250" y="1558"/>
                    </a:lnTo>
                    <a:lnTo>
                      <a:pt x="263" y="1556"/>
                    </a:lnTo>
                    <a:lnTo>
                      <a:pt x="287" y="1554"/>
                    </a:lnTo>
                    <a:lnTo>
                      <a:pt x="299" y="1552"/>
                    </a:lnTo>
                    <a:lnTo>
                      <a:pt x="311" y="1549"/>
                    </a:lnTo>
                    <a:lnTo>
                      <a:pt x="336" y="1543"/>
                    </a:lnTo>
                    <a:lnTo>
                      <a:pt x="360" y="1537"/>
                    </a:lnTo>
                    <a:lnTo>
                      <a:pt x="374" y="1534"/>
                    </a:lnTo>
                    <a:lnTo>
                      <a:pt x="386" y="1532"/>
                    </a:lnTo>
                    <a:lnTo>
                      <a:pt x="398" y="1531"/>
                    </a:lnTo>
                    <a:lnTo>
                      <a:pt x="410" y="1530"/>
                    </a:lnTo>
                    <a:lnTo>
                      <a:pt x="423" y="1528"/>
                    </a:lnTo>
                    <a:lnTo>
                      <a:pt x="435" y="1528"/>
                    </a:lnTo>
                    <a:lnTo>
                      <a:pt x="447" y="1530"/>
                    </a:lnTo>
                    <a:lnTo>
                      <a:pt x="459" y="1532"/>
                    </a:lnTo>
                    <a:lnTo>
                      <a:pt x="472" y="1534"/>
                    </a:lnTo>
                    <a:lnTo>
                      <a:pt x="484" y="1539"/>
                    </a:lnTo>
                    <a:lnTo>
                      <a:pt x="495" y="1545"/>
                    </a:lnTo>
                    <a:lnTo>
                      <a:pt x="507" y="1553"/>
                    </a:lnTo>
                    <a:lnTo>
                      <a:pt x="519" y="1561"/>
                    </a:lnTo>
                    <a:lnTo>
                      <a:pt x="525" y="1567"/>
                    </a:lnTo>
                    <a:lnTo>
                      <a:pt x="530" y="1572"/>
                    </a:lnTo>
                    <a:lnTo>
                      <a:pt x="539" y="1581"/>
                    </a:lnTo>
                    <a:lnTo>
                      <a:pt x="542" y="1586"/>
                    </a:lnTo>
                    <a:lnTo>
                      <a:pt x="546" y="1591"/>
                    </a:lnTo>
                    <a:lnTo>
                      <a:pt x="553" y="1601"/>
                    </a:lnTo>
                    <a:lnTo>
                      <a:pt x="558" y="1610"/>
                    </a:lnTo>
                    <a:lnTo>
                      <a:pt x="563" y="1621"/>
                    </a:lnTo>
                    <a:lnTo>
                      <a:pt x="568" y="1632"/>
                    </a:lnTo>
                    <a:lnTo>
                      <a:pt x="571" y="1643"/>
                    </a:lnTo>
                    <a:lnTo>
                      <a:pt x="573" y="1654"/>
                    </a:lnTo>
                    <a:lnTo>
                      <a:pt x="575" y="1665"/>
                    </a:lnTo>
                    <a:lnTo>
                      <a:pt x="575" y="1676"/>
                    </a:lnTo>
                    <a:lnTo>
                      <a:pt x="575" y="1687"/>
                    </a:lnTo>
                    <a:lnTo>
                      <a:pt x="575" y="1700"/>
                    </a:lnTo>
                    <a:lnTo>
                      <a:pt x="573" y="1711"/>
                    </a:lnTo>
                    <a:lnTo>
                      <a:pt x="571" y="1722"/>
                    </a:lnTo>
                    <a:lnTo>
                      <a:pt x="568" y="1733"/>
                    </a:lnTo>
                    <a:lnTo>
                      <a:pt x="563" y="1744"/>
                    </a:lnTo>
                    <a:lnTo>
                      <a:pt x="492" y="1811"/>
                    </a:lnTo>
                    <a:lnTo>
                      <a:pt x="457" y="1845"/>
                    </a:lnTo>
                    <a:lnTo>
                      <a:pt x="421" y="1878"/>
                    </a:lnTo>
                    <a:lnTo>
                      <a:pt x="349" y="1945"/>
                    </a:lnTo>
                    <a:lnTo>
                      <a:pt x="277" y="2010"/>
                    </a:lnTo>
                    <a:lnTo>
                      <a:pt x="242" y="2042"/>
                    </a:lnTo>
                    <a:lnTo>
                      <a:pt x="206" y="2074"/>
                    </a:lnTo>
                    <a:lnTo>
                      <a:pt x="135" y="2134"/>
                    </a:lnTo>
                    <a:lnTo>
                      <a:pt x="101" y="2163"/>
                    </a:lnTo>
                    <a:lnTo>
                      <a:pt x="67" y="2191"/>
                    </a:lnTo>
                    <a:lnTo>
                      <a:pt x="33" y="2218"/>
                    </a:lnTo>
                    <a:lnTo>
                      <a:pt x="0" y="2244"/>
                    </a:lnTo>
                    <a:lnTo>
                      <a:pt x="17" y="2235"/>
                    </a:lnTo>
                    <a:lnTo>
                      <a:pt x="35" y="2227"/>
                    </a:lnTo>
                    <a:lnTo>
                      <a:pt x="52" y="2216"/>
                    </a:lnTo>
                    <a:lnTo>
                      <a:pt x="72" y="2205"/>
                    </a:lnTo>
                    <a:lnTo>
                      <a:pt x="90" y="2194"/>
                    </a:lnTo>
                    <a:lnTo>
                      <a:pt x="110" y="2180"/>
                    </a:lnTo>
                    <a:lnTo>
                      <a:pt x="150" y="2153"/>
                    </a:lnTo>
                    <a:lnTo>
                      <a:pt x="192" y="2123"/>
                    </a:lnTo>
                    <a:lnTo>
                      <a:pt x="234" y="2090"/>
                    </a:lnTo>
                    <a:lnTo>
                      <a:pt x="280" y="2054"/>
                    </a:lnTo>
                    <a:lnTo>
                      <a:pt x="325" y="2017"/>
                    </a:lnTo>
                    <a:lnTo>
                      <a:pt x="370" y="1978"/>
                    </a:lnTo>
                    <a:lnTo>
                      <a:pt x="418" y="1938"/>
                    </a:lnTo>
                    <a:lnTo>
                      <a:pt x="465" y="1895"/>
                    </a:lnTo>
                    <a:lnTo>
                      <a:pt x="513" y="1852"/>
                    </a:lnTo>
                    <a:lnTo>
                      <a:pt x="561" y="1807"/>
                    </a:lnTo>
                    <a:lnTo>
                      <a:pt x="608" y="1763"/>
                    </a:lnTo>
                    <a:lnTo>
                      <a:pt x="703" y="1671"/>
                    </a:lnTo>
                    <a:lnTo>
                      <a:pt x="706" y="1663"/>
                    </a:lnTo>
                    <a:lnTo>
                      <a:pt x="710" y="1653"/>
                    </a:lnTo>
                    <a:lnTo>
                      <a:pt x="711" y="1643"/>
                    </a:lnTo>
                    <a:lnTo>
                      <a:pt x="714" y="1634"/>
                    </a:lnTo>
                    <a:lnTo>
                      <a:pt x="714" y="1614"/>
                    </a:lnTo>
                    <a:lnTo>
                      <a:pt x="714" y="1604"/>
                    </a:lnTo>
                    <a:lnTo>
                      <a:pt x="712" y="1594"/>
                    </a:lnTo>
                    <a:lnTo>
                      <a:pt x="710" y="1585"/>
                    </a:lnTo>
                    <a:lnTo>
                      <a:pt x="708" y="1576"/>
                    </a:lnTo>
                    <a:lnTo>
                      <a:pt x="704" y="1566"/>
                    </a:lnTo>
                    <a:lnTo>
                      <a:pt x="699" y="1558"/>
                    </a:lnTo>
                    <a:lnTo>
                      <a:pt x="694" y="1548"/>
                    </a:lnTo>
                    <a:lnTo>
                      <a:pt x="688" y="1539"/>
                    </a:lnTo>
                    <a:lnTo>
                      <a:pt x="682" y="1532"/>
                    </a:lnTo>
                    <a:lnTo>
                      <a:pt x="678" y="1527"/>
                    </a:lnTo>
                    <a:lnTo>
                      <a:pt x="674" y="1523"/>
                    </a:lnTo>
                    <a:lnTo>
                      <a:pt x="665" y="1515"/>
                    </a:lnTo>
                    <a:lnTo>
                      <a:pt x="654" y="1506"/>
                    </a:lnTo>
                    <a:lnTo>
                      <a:pt x="649" y="1504"/>
                    </a:lnTo>
                    <a:lnTo>
                      <a:pt x="644" y="1500"/>
                    </a:lnTo>
                    <a:lnTo>
                      <a:pt x="633" y="1495"/>
                    </a:lnTo>
                    <a:lnTo>
                      <a:pt x="623" y="1492"/>
                    </a:lnTo>
                    <a:lnTo>
                      <a:pt x="612" y="1488"/>
                    </a:lnTo>
                    <a:lnTo>
                      <a:pt x="607" y="1488"/>
                    </a:lnTo>
                    <a:lnTo>
                      <a:pt x="602" y="1487"/>
                    </a:lnTo>
                    <a:lnTo>
                      <a:pt x="591" y="1486"/>
                    </a:lnTo>
                    <a:lnTo>
                      <a:pt x="580" y="1486"/>
                    </a:lnTo>
                    <a:lnTo>
                      <a:pt x="571" y="1487"/>
                    </a:lnTo>
                    <a:lnTo>
                      <a:pt x="549" y="1489"/>
                    </a:lnTo>
                    <a:lnTo>
                      <a:pt x="528" y="1493"/>
                    </a:lnTo>
                    <a:lnTo>
                      <a:pt x="506" y="1499"/>
                    </a:lnTo>
                    <a:lnTo>
                      <a:pt x="485" y="1504"/>
                    </a:lnTo>
                    <a:lnTo>
                      <a:pt x="463" y="1508"/>
                    </a:lnTo>
                    <a:lnTo>
                      <a:pt x="453" y="1509"/>
                    </a:lnTo>
                    <a:lnTo>
                      <a:pt x="442" y="1510"/>
                    </a:lnTo>
                    <a:lnTo>
                      <a:pt x="431" y="1510"/>
                    </a:lnTo>
                    <a:lnTo>
                      <a:pt x="421" y="1510"/>
                    </a:lnTo>
                    <a:lnTo>
                      <a:pt x="412" y="1509"/>
                    </a:lnTo>
                    <a:lnTo>
                      <a:pt x="401" y="1506"/>
                    </a:lnTo>
                    <a:lnTo>
                      <a:pt x="391" y="1504"/>
                    </a:lnTo>
                    <a:lnTo>
                      <a:pt x="381" y="1499"/>
                    </a:lnTo>
                    <a:lnTo>
                      <a:pt x="371" y="1494"/>
                    </a:lnTo>
                    <a:lnTo>
                      <a:pt x="360" y="1487"/>
                    </a:lnTo>
                    <a:lnTo>
                      <a:pt x="351" y="1478"/>
                    </a:lnTo>
                    <a:lnTo>
                      <a:pt x="342" y="1468"/>
                    </a:lnTo>
                    <a:lnTo>
                      <a:pt x="336" y="1461"/>
                    </a:lnTo>
                    <a:lnTo>
                      <a:pt x="330" y="1454"/>
                    </a:lnTo>
                    <a:lnTo>
                      <a:pt x="325" y="1446"/>
                    </a:lnTo>
                    <a:lnTo>
                      <a:pt x="320" y="1439"/>
                    </a:lnTo>
                    <a:lnTo>
                      <a:pt x="316" y="1432"/>
                    </a:lnTo>
                    <a:lnTo>
                      <a:pt x="313" y="1424"/>
                    </a:lnTo>
                    <a:lnTo>
                      <a:pt x="310" y="1416"/>
                    </a:lnTo>
                    <a:lnTo>
                      <a:pt x="308" y="1409"/>
                    </a:lnTo>
                    <a:lnTo>
                      <a:pt x="305" y="1401"/>
                    </a:lnTo>
                    <a:lnTo>
                      <a:pt x="304" y="1393"/>
                    </a:lnTo>
                    <a:lnTo>
                      <a:pt x="303" y="1385"/>
                    </a:lnTo>
                    <a:lnTo>
                      <a:pt x="303" y="1377"/>
                    </a:lnTo>
                    <a:lnTo>
                      <a:pt x="303" y="1361"/>
                    </a:lnTo>
                    <a:lnTo>
                      <a:pt x="304" y="1344"/>
                    </a:lnTo>
                    <a:lnTo>
                      <a:pt x="308" y="1328"/>
                    </a:lnTo>
                    <a:lnTo>
                      <a:pt x="311" y="1312"/>
                    </a:lnTo>
                    <a:lnTo>
                      <a:pt x="314" y="1303"/>
                    </a:lnTo>
                    <a:lnTo>
                      <a:pt x="318" y="1295"/>
                    </a:lnTo>
                    <a:lnTo>
                      <a:pt x="324" y="1279"/>
                    </a:lnTo>
                    <a:lnTo>
                      <a:pt x="331" y="1263"/>
                    </a:lnTo>
                    <a:lnTo>
                      <a:pt x="340" y="1247"/>
                    </a:lnTo>
                    <a:lnTo>
                      <a:pt x="348" y="1232"/>
                    </a:lnTo>
                    <a:lnTo>
                      <a:pt x="358" y="1217"/>
                    </a:lnTo>
                    <a:lnTo>
                      <a:pt x="369" y="1202"/>
                    </a:lnTo>
                    <a:lnTo>
                      <a:pt x="379" y="1187"/>
                    </a:lnTo>
                    <a:lnTo>
                      <a:pt x="390" y="1174"/>
                    </a:lnTo>
                    <a:lnTo>
                      <a:pt x="401" y="1160"/>
                    </a:lnTo>
                    <a:lnTo>
                      <a:pt x="423" y="1135"/>
                    </a:lnTo>
                    <a:lnTo>
                      <a:pt x="432" y="1124"/>
                    </a:lnTo>
                    <a:lnTo>
                      <a:pt x="443" y="1113"/>
                    </a:lnTo>
                    <a:lnTo>
                      <a:pt x="462" y="1093"/>
                    </a:lnTo>
                    <a:lnTo>
                      <a:pt x="479" y="1077"/>
                    </a:lnTo>
                    <a:lnTo>
                      <a:pt x="498" y="1058"/>
                    </a:lnTo>
                    <a:lnTo>
                      <a:pt x="514" y="1042"/>
                    </a:lnTo>
                    <a:lnTo>
                      <a:pt x="530" y="1027"/>
                    </a:lnTo>
                    <a:lnTo>
                      <a:pt x="546" y="1014"/>
                    </a:lnTo>
                    <a:lnTo>
                      <a:pt x="562" y="1000"/>
                    </a:lnTo>
                    <a:lnTo>
                      <a:pt x="578" y="988"/>
                    </a:lnTo>
                    <a:lnTo>
                      <a:pt x="594" y="977"/>
                    </a:lnTo>
                    <a:lnTo>
                      <a:pt x="624" y="957"/>
                    </a:lnTo>
                    <a:lnTo>
                      <a:pt x="639" y="949"/>
                    </a:lnTo>
                    <a:lnTo>
                      <a:pt x="655" y="940"/>
                    </a:lnTo>
                    <a:lnTo>
                      <a:pt x="670" y="934"/>
                    </a:lnTo>
                    <a:lnTo>
                      <a:pt x="684" y="928"/>
                    </a:lnTo>
                    <a:lnTo>
                      <a:pt x="699" y="922"/>
                    </a:lnTo>
                    <a:lnTo>
                      <a:pt x="712" y="917"/>
                    </a:lnTo>
                    <a:lnTo>
                      <a:pt x="727" y="913"/>
                    </a:lnTo>
                    <a:lnTo>
                      <a:pt x="741" y="910"/>
                    </a:lnTo>
                    <a:lnTo>
                      <a:pt x="754" y="907"/>
                    </a:lnTo>
                    <a:lnTo>
                      <a:pt x="766" y="906"/>
                    </a:lnTo>
                    <a:lnTo>
                      <a:pt x="780" y="905"/>
                    </a:lnTo>
                    <a:lnTo>
                      <a:pt x="792" y="905"/>
                    </a:lnTo>
                    <a:lnTo>
                      <a:pt x="803" y="905"/>
                    </a:lnTo>
                    <a:lnTo>
                      <a:pt x="815" y="905"/>
                    </a:lnTo>
                    <a:lnTo>
                      <a:pt x="826" y="906"/>
                    </a:lnTo>
                    <a:lnTo>
                      <a:pt x="837" y="908"/>
                    </a:lnTo>
                    <a:lnTo>
                      <a:pt x="847" y="911"/>
                    </a:lnTo>
                    <a:lnTo>
                      <a:pt x="857" y="913"/>
                    </a:lnTo>
                    <a:lnTo>
                      <a:pt x="865" y="917"/>
                    </a:lnTo>
                    <a:lnTo>
                      <a:pt x="874" y="921"/>
                    </a:lnTo>
                    <a:lnTo>
                      <a:pt x="877" y="923"/>
                    </a:lnTo>
                    <a:lnTo>
                      <a:pt x="882" y="926"/>
                    </a:lnTo>
                    <a:lnTo>
                      <a:pt x="890" y="930"/>
                    </a:lnTo>
                    <a:lnTo>
                      <a:pt x="896" y="935"/>
                    </a:lnTo>
                    <a:lnTo>
                      <a:pt x="903" y="941"/>
                    </a:lnTo>
                    <a:lnTo>
                      <a:pt x="910" y="950"/>
                    </a:lnTo>
                    <a:lnTo>
                      <a:pt x="917" y="959"/>
                    </a:lnTo>
                    <a:lnTo>
                      <a:pt x="923" y="968"/>
                    </a:lnTo>
                    <a:lnTo>
                      <a:pt x="926" y="978"/>
                    </a:lnTo>
                    <a:lnTo>
                      <a:pt x="930" y="988"/>
                    </a:lnTo>
                    <a:lnTo>
                      <a:pt x="932" y="998"/>
                    </a:lnTo>
                    <a:lnTo>
                      <a:pt x="934" y="1009"/>
                    </a:lnTo>
                    <a:lnTo>
                      <a:pt x="934" y="1018"/>
                    </a:lnTo>
                    <a:lnTo>
                      <a:pt x="934" y="1029"/>
                    </a:lnTo>
                    <a:lnTo>
                      <a:pt x="934" y="1039"/>
                    </a:lnTo>
                    <a:lnTo>
                      <a:pt x="930" y="1061"/>
                    </a:lnTo>
                    <a:lnTo>
                      <a:pt x="926" y="1083"/>
                    </a:lnTo>
                    <a:lnTo>
                      <a:pt x="921" y="1107"/>
                    </a:lnTo>
                    <a:lnTo>
                      <a:pt x="917" y="1129"/>
                    </a:lnTo>
                    <a:lnTo>
                      <a:pt x="913" y="1151"/>
                    </a:lnTo>
                    <a:lnTo>
                      <a:pt x="909" y="1173"/>
                    </a:lnTo>
                    <a:lnTo>
                      <a:pt x="909" y="1184"/>
                    </a:lnTo>
                    <a:lnTo>
                      <a:pt x="909" y="1193"/>
                    </a:lnTo>
                    <a:lnTo>
                      <a:pt x="909" y="1204"/>
                    </a:lnTo>
                    <a:lnTo>
                      <a:pt x="910" y="1214"/>
                    </a:lnTo>
                    <a:lnTo>
                      <a:pt x="913" y="1224"/>
                    </a:lnTo>
                    <a:lnTo>
                      <a:pt x="914" y="1229"/>
                    </a:lnTo>
                    <a:lnTo>
                      <a:pt x="917" y="1234"/>
                    </a:lnTo>
                    <a:lnTo>
                      <a:pt x="920" y="1243"/>
                    </a:lnTo>
                    <a:lnTo>
                      <a:pt x="926" y="1253"/>
                    </a:lnTo>
                    <a:lnTo>
                      <a:pt x="929" y="1258"/>
                    </a:lnTo>
                    <a:lnTo>
                      <a:pt x="932" y="1262"/>
                    </a:lnTo>
                    <a:lnTo>
                      <a:pt x="936" y="1267"/>
                    </a:lnTo>
                    <a:lnTo>
                      <a:pt x="941" y="1270"/>
                    </a:lnTo>
                    <a:lnTo>
                      <a:pt x="948" y="1278"/>
                    </a:lnTo>
                    <a:lnTo>
                      <a:pt x="956" y="1284"/>
                    </a:lnTo>
                    <a:lnTo>
                      <a:pt x="964" y="1289"/>
                    </a:lnTo>
                    <a:lnTo>
                      <a:pt x="973" y="1294"/>
                    </a:lnTo>
                    <a:lnTo>
                      <a:pt x="981" y="1297"/>
                    </a:lnTo>
                    <a:lnTo>
                      <a:pt x="990" y="1300"/>
                    </a:lnTo>
                    <a:lnTo>
                      <a:pt x="1008" y="1303"/>
                    </a:lnTo>
                    <a:lnTo>
                      <a:pt x="1018" y="1305"/>
                    </a:lnTo>
                    <a:lnTo>
                      <a:pt x="1027" y="1305"/>
                    </a:lnTo>
                    <a:lnTo>
                      <a:pt x="1036" y="1303"/>
                    </a:lnTo>
                    <a:lnTo>
                      <a:pt x="1046" y="1302"/>
                    </a:lnTo>
                    <a:lnTo>
                      <a:pt x="1055" y="1300"/>
                    </a:lnTo>
                    <a:lnTo>
                      <a:pt x="1064" y="1297"/>
                    </a:lnTo>
                    <a:lnTo>
                      <a:pt x="1073" y="1294"/>
                    </a:lnTo>
                    <a:lnTo>
                      <a:pt x="1083" y="1290"/>
                    </a:lnTo>
                    <a:lnTo>
                      <a:pt x="1182" y="1187"/>
                    </a:lnTo>
                    <a:lnTo>
                      <a:pt x="1210" y="1158"/>
                    </a:lnTo>
                    <a:lnTo>
                      <a:pt x="1218" y="1151"/>
                    </a:lnTo>
                    <a:lnTo>
                      <a:pt x="1221" y="1148"/>
                    </a:lnTo>
                    <a:lnTo>
                      <a:pt x="1222" y="1147"/>
                    </a:lnTo>
                    <a:lnTo>
                      <a:pt x="1209" y="1132"/>
                    </a:lnTo>
                    <a:lnTo>
                      <a:pt x="1174" y="1097"/>
                    </a:lnTo>
                    <a:lnTo>
                      <a:pt x="1057" y="973"/>
                    </a:lnTo>
                    <a:lnTo>
                      <a:pt x="979" y="890"/>
                    </a:lnTo>
                    <a:lnTo>
                      <a:pt x="888" y="796"/>
                    </a:lnTo>
                    <a:lnTo>
                      <a:pt x="789" y="694"/>
                    </a:lnTo>
                    <a:lnTo>
                      <a:pt x="684" y="587"/>
                    </a:lnTo>
                    <a:lnTo>
                      <a:pt x="682" y="579"/>
                    </a:lnTo>
                    <a:lnTo>
                      <a:pt x="679" y="571"/>
                    </a:lnTo>
                    <a:lnTo>
                      <a:pt x="678" y="555"/>
                    </a:lnTo>
                    <a:lnTo>
                      <a:pt x="678" y="539"/>
                    </a:lnTo>
                    <a:lnTo>
                      <a:pt x="678" y="535"/>
                    </a:lnTo>
                    <a:lnTo>
                      <a:pt x="678" y="531"/>
                    </a:lnTo>
                    <a:lnTo>
                      <a:pt x="681" y="523"/>
                    </a:lnTo>
                    <a:lnTo>
                      <a:pt x="682" y="515"/>
                    </a:lnTo>
                    <a:lnTo>
                      <a:pt x="684" y="507"/>
                    </a:lnTo>
                    <a:lnTo>
                      <a:pt x="687" y="500"/>
                    </a:lnTo>
                    <a:lnTo>
                      <a:pt x="690" y="493"/>
                    </a:lnTo>
                    <a:lnTo>
                      <a:pt x="695" y="485"/>
                    </a:lnTo>
                    <a:lnTo>
                      <a:pt x="700" y="479"/>
                    </a:lnTo>
                    <a:lnTo>
                      <a:pt x="705" y="472"/>
                    </a:lnTo>
                    <a:lnTo>
                      <a:pt x="711" y="466"/>
                    </a:lnTo>
                    <a:lnTo>
                      <a:pt x="720" y="457"/>
                    </a:lnTo>
                    <a:lnTo>
                      <a:pt x="728" y="451"/>
                    </a:lnTo>
                    <a:lnTo>
                      <a:pt x="738" y="446"/>
                    </a:lnTo>
                    <a:lnTo>
                      <a:pt x="748" y="441"/>
                    </a:lnTo>
                    <a:lnTo>
                      <a:pt x="758" y="439"/>
                    </a:lnTo>
                    <a:lnTo>
                      <a:pt x="767" y="436"/>
                    </a:lnTo>
                    <a:lnTo>
                      <a:pt x="777" y="435"/>
                    </a:lnTo>
                    <a:lnTo>
                      <a:pt x="788" y="434"/>
                    </a:lnTo>
                    <a:lnTo>
                      <a:pt x="798" y="434"/>
                    </a:lnTo>
                    <a:lnTo>
                      <a:pt x="809" y="435"/>
                    </a:lnTo>
                    <a:lnTo>
                      <a:pt x="831" y="438"/>
                    </a:lnTo>
                    <a:lnTo>
                      <a:pt x="853" y="441"/>
                    </a:lnTo>
                    <a:lnTo>
                      <a:pt x="875" y="446"/>
                    </a:lnTo>
                    <a:lnTo>
                      <a:pt x="898" y="451"/>
                    </a:lnTo>
                    <a:lnTo>
                      <a:pt x="920" y="456"/>
                    </a:lnTo>
                    <a:lnTo>
                      <a:pt x="942" y="458"/>
                    </a:lnTo>
                    <a:lnTo>
                      <a:pt x="952" y="460"/>
                    </a:lnTo>
                    <a:lnTo>
                      <a:pt x="963" y="460"/>
                    </a:lnTo>
                    <a:lnTo>
                      <a:pt x="974" y="458"/>
                    </a:lnTo>
                    <a:lnTo>
                      <a:pt x="984" y="457"/>
                    </a:lnTo>
                    <a:lnTo>
                      <a:pt x="994" y="455"/>
                    </a:lnTo>
                    <a:lnTo>
                      <a:pt x="998" y="454"/>
                    </a:lnTo>
                    <a:lnTo>
                      <a:pt x="1003" y="452"/>
                    </a:lnTo>
                    <a:lnTo>
                      <a:pt x="1013" y="447"/>
                    </a:lnTo>
                    <a:lnTo>
                      <a:pt x="1023" y="443"/>
                    </a:lnTo>
                    <a:lnTo>
                      <a:pt x="1027" y="439"/>
                    </a:lnTo>
                    <a:lnTo>
                      <a:pt x="1031" y="435"/>
                    </a:lnTo>
                    <a:lnTo>
                      <a:pt x="1036" y="432"/>
                    </a:lnTo>
                    <a:lnTo>
                      <a:pt x="1040" y="428"/>
                    </a:lnTo>
                    <a:lnTo>
                      <a:pt x="1047" y="419"/>
                    </a:lnTo>
                    <a:lnTo>
                      <a:pt x="1051" y="416"/>
                    </a:lnTo>
                    <a:lnTo>
                      <a:pt x="1055" y="411"/>
                    </a:lnTo>
                    <a:lnTo>
                      <a:pt x="1060" y="400"/>
                    </a:lnTo>
                    <a:lnTo>
                      <a:pt x="1066" y="389"/>
                    </a:lnTo>
                    <a:lnTo>
                      <a:pt x="1069" y="378"/>
                    </a:lnTo>
                    <a:lnTo>
                      <a:pt x="1073" y="364"/>
                    </a:lnTo>
                    <a:lnTo>
                      <a:pt x="1075" y="351"/>
                    </a:lnTo>
                    <a:lnTo>
                      <a:pt x="1077" y="336"/>
                    </a:lnTo>
                    <a:lnTo>
                      <a:pt x="1078" y="321"/>
                    </a:lnTo>
                    <a:lnTo>
                      <a:pt x="1077" y="306"/>
                    </a:lnTo>
                    <a:lnTo>
                      <a:pt x="1075" y="290"/>
                    </a:lnTo>
                    <a:lnTo>
                      <a:pt x="1073" y="273"/>
                    </a:lnTo>
                    <a:lnTo>
                      <a:pt x="1069" y="255"/>
                    </a:lnTo>
                    <a:lnTo>
                      <a:pt x="1064" y="237"/>
                    </a:lnTo>
                    <a:lnTo>
                      <a:pt x="1058" y="219"/>
                    </a:lnTo>
                    <a:lnTo>
                      <a:pt x="1051" y="200"/>
                    </a:lnTo>
                    <a:lnTo>
                      <a:pt x="941" y="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687840" y="2719080"/>
                <a:ext cx="54000" cy="252000"/>
              </a:xfrm>
              <a:custGeom>
                <a:avLst/>
                <a:gdLst/>
                <a:ahLst/>
                <a:rect l="l" t="t" r="r" b="b"/>
                <a:pathLst>
                  <a:path w="68" h="317">
                    <a:moveTo>
                      <a:pt x="13" y="0"/>
                    </a:moveTo>
                    <a:lnTo>
                      <a:pt x="38" y="51"/>
                    </a:lnTo>
                    <a:lnTo>
                      <a:pt x="47" y="75"/>
                    </a:lnTo>
                    <a:lnTo>
                      <a:pt x="56" y="99"/>
                    </a:lnTo>
                    <a:lnTo>
                      <a:pt x="61" y="123"/>
                    </a:lnTo>
                    <a:lnTo>
                      <a:pt x="66" y="146"/>
                    </a:lnTo>
                    <a:lnTo>
                      <a:pt x="68" y="189"/>
                    </a:lnTo>
                    <a:lnTo>
                      <a:pt x="66" y="228"/>
                    </a:lnTo>
                    <a:lnTo>
                      <a:pt x="56" y="262"/>
                    </a:lnTo>
                    <a:lnTo>
                      <a:pt x="50" y="279"/>
                    </a:lnTo>
                    <a:lnTo>
                      <a:pt x="42" y="294"/>
                    </a:lnTo>
                    <a:lnTo>
                      <a:pt x="33" y="306"/>
                    </a:lnTo>
                    <a:lnTo>
                      <a:pt x="23" y="317"/>
                    </a:lnTo>
                    <a:lnTo>
                      <a:pt x="12" y="307"/>
                    </a:lnTo>
                    <a:lnTo>
                      <a:pt x="22" y="296"/>
                    </a:lnTo>
                    <a:lnTo>
                      <a:pt x="30" y="285"/>
                    </a:lnTo>
                    <a:lnTo>
                      <a:pt x="36" y="273"/>
                    </a:lnTo>
                    <a:lnTo>
                      <a:pt x="42" y="257"/>
                    </a:lnTo>
                    <a:lnTo>
                      <a:pt x="51" y="225"/>
                    </a:lnTo>
                    <a:lnTo>
                      <a:pt x="53" y="189"/>
                    </a:lnTo>
                    <a:lnTo>
                      <a:pt x="51" y="147"/>
                    </a:lnTo>
                    <a:lnTo>
                      <a:pt x="46" y="125"/>
                    </a:lnTo>
                    <a:lnTo>
                      <a:pt x="41" y="102"/>
                    </a:lnTo>
                    <a:lnTo>
                      <a:pt x="34" y="81"/>
                    </a:lnTo>
                    <a:lnTo>
                      <a:pt x="24" y="57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95520" y="2963520"/>
                <a:ext cx="309600" cy="42480"/>
              </a:xfrm>
              <a:custGeom>
                <a:avLst/>
                <a:gdLst/>
                <a:ahLst/>
                <a:rect l="l" t="t" r="r" b="b"/>
                <a:pathLst>
                  <a:path w="390" h="54">
                    <a:moveTo>
                      <a:pt x="390" y="11"/>
                    </a:moveTo>
                    <a:lnTo>
                      <a:pt x="368" y="27"/>
                    </a:lnTo>
                    <a:lnTo>
                      <a:pt x="345" y="39"/>
                    </a:lnTo>
                    <a:lnTo>
                      <a:pt x="321" y="46"/>
                    </a:lnTo>
                    <a:lnTo>
                      <a:pt x="296" y="48"/>
                    </a:lnTo>
                    <a:lnTo>
                      <a:pt x="246" y="44"/>
                    </a:lnTo>
                    <a:lnTo>
                      <a:pt x="193" y="33"/>
                    </a:lnTo>
                    <a:lnTo>
                      <a:pt x="142" y="24"/>
                    </a:lnTo>
                    <a:lnTo>
                      <a:pt x="119" y="20"/>
                    </a:lnTo>
                    <a:lnTo>
                      <a:pt x="94" y="20"/>
                    </a:lnTo>
                    <a:lnTo>
                      <a:pt x="72" y="22"/>
                    </a:lnTo>
                    <a:lnTo>
                      <a:pt x="50" y="28"/>
                    </a:lnTo>
                    <a:lnTo>
                      <a:pt x="29" y="38"/>
                    </a:lnTo>
                    <a:lnTo>
                      <a:pt x="10" y="54"/>
                    </a:lnTo>
                    <a:lnTo>
                      <a:pt x="0" y="43"/>
                    </a:lnTo>
                    <a:lnTo>
                      <a:pt x="21" y="26"/>
                    </a:lnTo>
                    <a:lnTo>
                      <a:pt x="44" y="15"/>
                    </a:lnTo>
                    <a:lnTo>
                      <a:pt x="68" y="9"/>
                    </a:lnTo>
                    <a:lnTo>
                      <a:pt x="94" y="6"/>
                    </a:lnTo>
                    <a:lnTo>
                      <a:pt x="119" y="6"/>
                    </a:lnTo>
                    <a:lnTo>
                      <a:pt x="145" y="10"/>
                    </a:lnTo>
                    <a:lnTo>
                      <a:pt x="197" y="20"/>
                    </a:lnTo>
                    <a:lnTo>
                      <a:pt x="248" y="31"/>
                    </a:lnTo>
                    <a:lnTo>
                      <a:pt x="296" y="35"/>
                    </a:lnTo>
                    <a:lnTo>
                      <a:pt x="318" y="32"/>
                    </a:lnTo>
                    <a:lnTo>
                      <a:pt x="339" y="26"/>
                    </a:lnTo>
                    <a:lnTo>
                      <a:pt x="359" y="15"/>
                    </a:lnTo>
                    <a:lnTo>
                      <a:pt x="380" y="0"/>
                    </a:lnTo>
                    <a:lnTo>
                      <a:pt x="39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697200" y="29635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0"/>
                    </a:moveTo>
                    <a:lnTo>
                      <a:pt x="11" y="1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363840" y="2996640"/>
                <a:ext cx="39600" cy="115560"/>
              </a:xfrm>
              <a:custGeom>
                <a:avLst/>
                <a:gdLst/>
                <a:ahLst/>
                <a:rect l="l" t="t" r="r" b="b"/>
                <a:pathLst>
                  <a:path w="50" h="147">
                    <a:moveTo>
                      <a:pt x="50" y="10"/>
                    </a:moveTo>
                    <a:lnTo>
                      <a:pt x="39" y="26"/>
                    </a:lnTo>
                    <a:lnTo>
                      <a:pt x="29" y="41"/>
                    </a:lnTo>
                    <a:lnTo>
                      <a:pt x="20" y="58"/>
                    </a:lnTo>
                    <a:lnTo>
                      <a:pt x="17" y="72"/>
                    </a:lnTo>
                    <a:lnTo>
                      <a:pt x="14" y="89"/>
                    </a:lnTo>
                    <a:lnTo>
                      <a:pt x="14" y="109"/>
                    </a:lnTo>
                    <a:lnTo>
                      <a:pt x="22" y="144"/>
                    </a:lnTo>
                    <a:lnTo>
                      <a:pt x="7" y="147"/>
                    </a:lnTo>
                    <a:lnTo>
                      <a:pt x="0" y="110"/>
                    </a:lnTo>
                    <a:lnTo>
                      <a:pt x="0" y="89"/>
                    </a:lnTo>
                    <a:lnTo>
                      <a:pt x="2" y="70"/>
                    </a:lnTo>
                    <a:lnTo>
                      <a:pt x="7" y="52"/>
                    </a:lnTo>
                    <a:lnTo>
                      <a:pt x="15" y="34"/>
                    </a:lnTo>
                    <a:lnTo>
                      <a:pt x="26" y="17"/>
                    </a:lnTo>
                    <a:lnTo>
                      <a:pt x="39" y="0"/>
                    </a:lnTo>
                    <a:lnTo>
                      <a:pt x="5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395520" y="299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0"/>
                    </a:moveTo>
                    <a:lnTo>
                      <a:pt x="0" y="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371760" y="3107880"/>
                <a:ext cx="501840" cy="520200"/>
              </a:xfrm>
              <a:custGeom>
                <a:avLst/>
                <a:gdLst/>
                <a:ahLst/>
                <a:rect l="l" t="t" r="r" b="b"/>
                <a:pathLst>
                  <a:path w="632" h="655">
                    <a:moveTo>
                      <a:pt x="11" y="0"/>
                    </a:moveTo>
                    <a:lnTo>
                      <a:pt x="247" y="241"/>
                    </a:lnTo>
                    <a:lnTo>
                      <a:pt x="441" y="445"/>
                    </a:lnTo>
                    <a:lnTo>
                      <a:pt x="577" y="588"/>
                    </a:lnTo>
                    <a:lnTo>
                      <a:pt x="632" y="645"/>
                    </a:lnTo>
                    <a:lnTo>
                      <a:pt x="621" y="655"/>
                    </a:lnTo>
                    <a:lnTo>
                      <a:pt x="566" y="598"/>
                    </a:lnTo>
                    <a:lnTo>
                      <a:pt x="430" y="455"/>
                    </a:lnTo>
                    <a:lnTo>
                      <a:pt x="236" y="250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70320" y="310788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6"/>
                    </a:moveTo>
                    <a:lnTo>
                      <a:pt x="0" y="8"/>
                    </a:lnTo>
                    <a:lnTo>
                      <a:pt x="1" y="10"/>
                    </a:lnTo>
                    <a:lnTo>
                      <a:pt x="12" y="0"/>
                    </a:lnTo>
                    <a:lnTo>
                      <a:pt x="15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735360" y="3620520"/>
                <a:ext cx="138240" cy="137880"/>
              </a:xfrm>
              <a:custGeom>
                <a:avLst/>
                <a:gdLst/>
                <a:ahLst/>
                <a:rect l="l" t="t" r="r" b="b"/>
                <a:pathLst>
                  <a:path w="172" h="174">
                    <a:moveTo>
                      <a:pt x="172" y="11"/>
                    </a:moveTo>
                    <a:lnTo>
                      <a:pt x="157" y="24"/>
                    </a:lnTo>
                    <a:lnTo>
                      <a:pt x="124" y="57"/>
                    </a:lnTo>
                    <a:lnTo>
                      <a:pt x="11" y="174"/>
                    </a:lnTo>
                    <a:lnTo>
                      <a:pt x="0" y="164"/>
                    </a:lnTo>
                    <a:lnTo>
                      <a:pt x="113" y="47"/>
                    </a:lnTo>
                    <a:lnTo>
                      <a:pt x="148" y="13"/>
                    </a:lnTo>
                    <a:lnTo>
                      <a:pt x="162" y="0"/>
                    </a:lnTo>
                    <a:lnTo>
                      <a:pt x="17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863880" y="362052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1" y="0"/>
                    </a:moveTo>
                    <a:lnTo>
                      <a:pt x="17" y="7"/>
                    </a:lnTo>
                    <a:lnTo>
                      <a:pt x="11" y="11"/>
                    </a:lnTo>
                    <a:lnTo>
                      <a:pt x="1" y="0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606840" y="3733200"/>
                <a:ext cx="136440" cy="41040"/>
              </a:xfrm>
              <a:custGeom>
                <a:avLst/>
                <a:gdLst/>
                <a:ahLst/>
                <a:rect l="l" t="t" r="r" b="b"/>
                <a:pathLst>
                  <a:path w="171" h="52">
                    <a:moveTo>
                      <a:pt x="171" y="34"/>
                    </a:moveTo>
                    <a:lnTo>
                      <a:pt x="151" y="43"/>
                    </a:lnTo>
                    <a:lnTo>
                      <a:pt x="127" y="49"/>
                    </a:lnTo>
                    <a:lnTo>
                      <a:pt x="104" y="52"/>
                    </a:lnTo>
                    <a:lnTo>
                      <a:pt x="82" y="50"/>
                    </a:lnTo>
                    <a:lnTo>
                      <a:pt x="59" y="47"/>
                    </a:lnTo>
                    <a:lnTo>
                      <a:pt x="38" y="38"/>
                    </a:lnTo>
                    <a:lnTo>
                      <a:pt x="17" y="26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27" y="15"/>
                    </a:lnTo>
                    <a:lnTo>
                      <a:pt x="45" y="26"/>
                    </a:lnTo>
                    <a:lnTo>
                      <a:pt x="64" y="33"/>
                    </a:lnTo>
                    <a:lnTo>
                      <a:pt x="85" y="37"/>
                    </a:lnTo>
                    <a:lnTo>
                      <a:pt x="104" y="38"/>
                    </a:lnTo>
                    <a:lnTo>
                      <a:pt x="124" y="36"/>
                    </a:lnTo>
                    <a:lnTo>
                      <a:pt x="144" y="30"/>
                    </a:lnTo>
                    <a:lnTo>
                      <a:pt x="165" y="21"/>
                    </a:lnTo>
                    <a:lnTo>
                      <a:pt x="171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735360" y="3750840"/>
                <a:ext cx="9720" cy="90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1" y="11"/>
                    </a:moveTo>
                    <a:lnTo>
                      <a:pt x="8" y="13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570120" y="3433320"/>
                <a:ext cx="44640" cy="307440"/>
              </a:xfrm>
              <a:custGeom>
                <a:avLst/>
                <a:gdLst/>
                <a:ahLst/>
                <a:rect l="l" t="t" r="r" b="b"/>
                <a:pathLst>
                  <a:path w="55" h="389">
                    <a:moveTo>
                      <a:pt x="44" y="389"/>
                    </a:moveTo>
                    <a:lnTo>
                      <a:pt x="27" y="369"/>
                    </a:lnTo>
                    <a:lnTo>
                      <a:pt x="15" y="346"/>
                    </a:lnTo>
                    <a:lnTo>
                      <a:pt x="9" y="322"/>
                    </a:lnTo>
                    <a:lnTo>
                      <a:pt x="6" y="296"/>
                    </a:lnTo>
                    <a:lnTo>
                      <a:pt x="10" y="245"/>
                    </a:lnTo>
                    <a:lnTo>
                      <a:pt x="21" y="193"/>
                    </a:lnTo>
                    <a:lnTo>
                      <a:pt x="32" y="142"/>
                    </a:lnTo>
                    <a:lnTo>
                      <a:pt x="34" y="118"/>
                    </a:lnTo>
                    <a:lnTo>
                      <a:pt x="35" y="94"/>
                    </a:lnTo>
                    <a:lnTo>
                      <a:pt x="33" y="72"/>
                    </a:lnTo>
                    <a:lnTo>
                      <a:pt x="27" y="50"/>
                    </a:lnTo>
                    <a:lnTo>
                      <a:pt x="17" y="31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29" y="22"/>
                    </a:lnTo>
                    <a:lnTo>
                      <a:pt x="40" y="44"/>
                    </a:lnTo>
                    <a:lnTo>
                      <a:pt x="46" y="69"/>
                    </a:lnTo>
                    <a:lnTo>
                      <a:pt x="49" y="94"/>
                    </a:lnTo>
                    <a:lnTo>
                      <a:pt x="48" y="120"/>
                    </a:lnTo>
                    <a:lnTo>
                      <a:pt x="45" y="146"/>
                    </a:lnTo>
                    <a:lnTo>
                      <a:pt x="34" y="197"/>
                    </a:lnTo>
                    <a:lnTo>
                      <a:pt x="23" y="248"/>
                    </a:lnTo>
                    <a:lnTo>
                      <a:pt x="20" y="296"/>
                    </a:lnTo>
                    <a:lnTo>
                      <a:pt x="22" y="318"/>
                    </a:lnTo>
                    <a:lnTo>
                      <a:pt x="28" y="340"/>
                    </a:lnTo>
                    <a:lnTo>
                      <a:pt x="39" y="361"/>
                    </a:lnTo>
                    <a:lnTo>
                      <a:pt x="55" y="379"/>
                    </a:lnTo>
                    <a:lnTo>
                      <a:pt x="44" y="3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605040" y="37332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11"/>
                    </a:moveTo>
                    <a:lnTo>
                      <a:pt x="0" y="10"/>
                    </a:lnTo>
                    <a:lnTo>
                      <a:pt x="11" y="0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201840" y="3398400"/>
                <a:ext cx="378000" cy="148680"/>
              </a:xfrm>
              <a:custGeom>
                <a:avLst/>
                <a:gdLst/>
                <a:ahLst/>
                <a:rect l="l" t="t" r="r" b="b"/>
                <a:pathLst>
                  <a:path w="476" h="190">
                    <a:moveTo>
                      <a:pt x="466" y="55"/>
                    </a:moveTo>
                    <a:lnTo>
                      <a:pt x="452" y="42"/>
                    </a:lnTo>
                    <a:lnTo>
                      <a:pt x="434" y="32"/>
                    </a:lnTo>
                    <a:lnTo>
                      <a:pt x="415" y="25"/>
                    </a:lnTo>
                    <a:lnTo>
                      <a:pt x="393" y="19"/>
                    </a:lnTo>
                    <a:lnTo>
                      <a:pt x="370" y="15"/>
                    </a:lnTo>
                    <a:lnTo>
                      <a:pt x="344" y="14"/>
                    </a:lnTo>
                    <a:lnTo>
                      <a:pt x="316" y="15"/>
                    </a:lnTo>
                    <a:lnTo>
                      <a:pt x="285" y="20"/>
                    </a:lnTo>
                    <a:lnTo>
                      <a:pt x="255" y="28"/>
                    </a:lnTo>
                    <a:lnTo>
                      <a:pt x="222" y="41"/>
                    </a:lnTo>
                    <a:lnTo>
                      <a:pt x="189" y="54"/>
                    </a:lnTo>
                    <a:lnTo>
                      <a:pt x="154" y="72"/>
                    </a:lnTo>
                    <a:lnTo>
                      <a:pt x="120" y="96"/>
                    </a:lnTo>
                    <a:lnTo>
                      <a:pt x="84" y="122"/>
                    </a:lnTo>
                    <a:lnTo>
                      <a:pt x="47" y="154"/>
                    </a:lnTo>
                    <a:lnTo>
                      <a:pt x="10" y="190"/>
                    </a:lnTo>
                    <a:lnTo>
                      <a:pt x="0" y="179"/>
                    </a:lnTo>
                    <a:lnTo>
                      <a:pt x="37" y="143"/>
                    </a:lnTo>
                    <a:lnTo>
                      <a:pt x="74" y="111"/>
                    </a:lnTo>
                    <a:lnTo>
                      <a:pt x="110" y="85"/>
                    </a:lnTo>
                    <a:lnTo>
                      <a:pt x="146" y="60"/>
                    </a:lnTo>
                    <a:lnTo>
                      <a:pt x="181" y="42"/>
                    </a:lnTo>
                    <a:lnTo>
                      <a:pt x="216" y="27"/>
                    </a:lnTo>
                    <a:lnTo>
                      <a:pt x="249" y="15"/>
                    </a:lnTo>
                    <a:lnTo>
                      <a:pt x="282" y="6"/>
                    </a:lnTo>
                    <a:lnTo>
                      <a:pt x="313" y="1"/>
                    </a:lnTo>
                    <a:lnTo>
                      <a:pt x="344" y="0"/>
                    </a:lnTo>
                    <a:lnTo>
                      <a:pt x="372" y="1"/>
                    </a:lnTo>
                    <a:lnTo>
                      <a:pt x="397" y="5"/>
                    </a:lnTo>
                    <a:lnTo>
                      <a:pt x="420" y="11"/>
                    </a:lnTo>
                    <a:lnTo>
                      <a:pt x="442" y="20"/>
                    </a:lnTo>
                    <a:lnTo>
                      <a:pt x="460" y="31"/>
                    </a:lnTo>
                    <a:lnTo>
                      <a:pt x="476" y="44"/>
                    </a:lnTo>
                    <a:lnTo>
                      <a:pt x="466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570120" y="343332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1" y="11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022560" y="3539520"/>
                <a:ext cx="187200" cy="382320"/>
              </a:xfrm>
              <a:custGeom>
                <a:avLst/>
                <a:gdLst/>
                <a:ahLst/>
                <a:rect l="l" t="t" r="r" b="b"/>
                <a:pathLst>
                  <a:path w="237" h="483">
                    <a:moveTo>
                      <a:pt x="237" y="11"/>
                    </a:moveTo>
                    <a:lnTo>
                      <a:pt x="174" y="72"/>
                    </a:lnTo>
                    <a:lnTo>
                      <a:pt x="125" y="127"/>
                    </a:lnTo>
                    <a:lnTo>
                      <a:pt x="77" y="192"/>
                    </a:lnTo>
                    <a:lnTo>
                      <a:pt x="55" y="226"/>
                    </a:lnTo>
                    <a:lnTo>
                      <a:pt x="37" y="263"/>
                    </a:lnTo>
                    <a:lnTo>
                      <a:pt x="25" y="298"/>
                    </a:lnTo>
                    <a:lnTo>
                      <a:pt x="16" y="335"/>
                    </a:lnTo>
                    <a:lnTo>
                      <a:pt x="15" y="371"/>
                    </a:lnTo>
                    <a:lnTo>
                      <a:pt x="16" y="389"/>
                    </a:lnTo>
                    <a:lnTo>
                      <a:pt x="20" y="407"/>
                    </a:lnTo>
                    <a:lnTo>
                      <a:pt x="25" y="424"/>
                    </a:lnTo>
                    <a:lnTo>
                      <a:pt x="33" y="440"/>
                    </a:lnTo>
                    <a:lnTo>
                      <a:pt x="44" y="457"/>
                    </a:lnTo>
                    <a:lnTo>
                      <a:pt x="56" y="473"/>
                    </a:lnTo>
                    <a:lnTo>
                      <a:pt x="45" y="483"/>
                    </a:lnTo>
                    <a:lnTo>
                      <a:pt x="32" y="466"/>
                    </a:lnTo>
                    <a:lnTo>
                      <a:pt x="21" y="448"/>
                    </a:lnTo>
                    <a:lnTo>
                      <a:pt x="11" y="430"/>
                    </a:lnTo>
                    <a:lnTo>
                      <a:pt x="5" y="409"/>
                    </a:lnTo>
                    <a:lnTo>
                      <a:pt x="1" y="391"/>
                    </a:lnTo>
                    <a:lnTo>
                      <a:pt x="0" y="371"/>
                    </a:lnTo>
                    <a:lnTo>
                      <a:pt x="1" y="334"/>
                    </a:lnTo>
                    <a:lnTo>
                      <a:pt x="10" y="296"/>
                    </a:lnTo>
                    <a:lnTo>
                      <a:pt x="23" y="256"/>
                    </a:lnTo>
                    <a:lnTo>
                      <a:pt x="42" y="220"/>
                    </a:lnTo>
                    <a:lnTo>
                      <a:pt x="65" y="183"/>
                    </a:lnTo>
                    <a:lnTo>
                      <a:pt x="114" y="117"/>
                    </a:lnTo>
                    <a:lnTo>
                      <a:pt x="163" y="62"/>
                    </a:lnTo>
                    <a:lnTo>
                      <a:pt x="227" y="0"/>
                    </a:lnTo>
                    <a:lnTo>
                      <a:pt x="23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201840" y="35395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1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059280" y="3914280"/>
                <a:ext cx="312480" cy="60120"/>
              </a:xfrm>
              <a:custGeom>
                <a:avLst/>
                <a:gdLst/>
                <a:ahLst/>
                <a:rect l="l" t="t" r="r" b="b"/>
                <a:pathLst>
                  <a:path w="393" h="74">
                    <a:moveTo>
                      <a:pt x="9" y="0"/>
                    </a:moveTo>
                    <a:lnTo>
                      <a:pt x="31" y="21"/>
                    </a:lnTo>
                    <a:lnTo>
                      <a:pt x="42" y="28"/>
                    </a:lnTo>
                    <a:lnTo>
                      <a:pt x="52" y="34"/>
                    </a:lnTo>
                    <a:lnTo>
                      <a:pt x="74" y="41"/>
                    </a:lnTo>
                    <a:lnTo>
                      <a:pt x="96" y="45"/>
                    </a:lnTo>
                    <a:lnTo>
                      <a:pt x="121" y="45"/>
                    </a:lnTo>
                    <a:lnTo>
                      <a:pt x="144" y="43"/>
                    </a:lnTo>
                    <a:lnTo>
                      <a:pt x="193" y="32"/>
                    </a:lnTo>
                    <a:lnTo>
                      <a:pt x="242" y="21"/>
                    </a:lnTo>
                    <a:lnTo>
                      <a:pt x="268" y="17"/>
                    </a:lnTo>
                    <a:lnTo>
                      <a:pt x="293" y="17"/>
                    </a:lnTo>
                    <a:lnTo>
                      <a:pt x="319" y="21"/>
                    </a:lnTo>
                    <a:lnTo>
                      <a:pt x="343" y="29"/>
                    </a:lnTo>
                    <a:lnTo>
                      <a:pt x="369" y="43"/>
                    </a:lnTo>
                    <a:lnTo>
                      <a:pt x="393" y="63"/>
                    </a:lnTo>
                    <a:lnTo>
                      <a:pt x="383" y="74"/>
                    </a:lnTo>
                    <a:lnTo>
                      <a:pt x="360" y="55"/>
                    </a:lnTo>
                    <a:lnTo>
                      <a:pt x="337" y="43"/>
                    </a:lnTo>
                    <a:lnTo>
                      <a:pt x="316" y="35"/>
                    </a:lnTo>
                    <a:lnTo>
                      <a:pt x="292" y="32"/>
                    </a:lnTo>
                    <a:lnTo>
                      <a:pt x="268" y="32"/>
                    </a:lnTo>
                    <a:lnTo>
                      <a:pt x="244" y="35"/>
                    </a:lnTo>
                    <a:lnTo>
                      <a:pt x="195" y="46"/>
                    </a:lnTo>
                    <a:lnTo>
                      <a:pt x="146" y="57"/>
                    </a:lnTo>
                    <a:lnTo>
                      <a:pt x="121" y="60"/>
                    </a:lnTo>
                    <a:lnTo>
                      <a:pt x="95" y="60"/>
                    </a:lnTo>
                    <a:lnTo>
                      <a:pt x="72" y="56"/>
                    </a:lnTo>
                    <a:lnTo>
                      <a:pt x="46" y="48"/>
                    </a:lnTo>
                    <a:lnTo>
                      <a:pt x="34" y="40"/>
                    </a:lnTo>
                    <a:lnTo>
                      <a:pt x="22" y="32"/>
                    </a:lnTo>
                    <a:lnTo>
                      <a:pt x="0" y="1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057480" y="39142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0"/>
                    </a:moveTo>
                    <a:lnTo>
                      <a:pt x="2" y="11"/>
                    </a:lnTo>
                    <a:lnTo>
                      <a:pt x="1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362400" y="3965040"/>
                <a:ext cx="46080" cy="141120"/>
              </a:xfrm>
              <a:custGeom>
                <a:avLst/>
                <a:gdLst/>
                <a:ahLst/>
                <a:rect l="l" t="t" r="r" b="b"/>
                <a:pathLst>
                  <a:path w="59" h="178">
                    <a:moveTo>
                      <a:pt x="11" y="0"/>
                    </a:moveTo>
                    <a:lnTo>
                      <a:pt x="28" y="20"/>
                    </a:lnTo>
                    <a:lnTo>
                      <a:pt x="40" y="41"/>
                    </a:lnTo>
                    <a:lnTo>
                      <a:pt x="50" y="63"/>
                    </a:lnTo>
                    <a:lnTo>
                      <a:pt x="56" y="86"/>
                    </a:lnTo>
                    <a:lnTo>
                      <a:pt x="59" y="109"/>
                    </a:lnTo>
                    <a:lnTo>
                      <a:pt x="59" y="131"/>
                    </a:lnTo>
                    <a:lnTo>
                      <a:pt x="54" y="156"/>
                    </a:lnTo>
                    <a:lnTo>
                      <a:pt x="45" y="178"/>
                    </a:lnTo>
                    <a:lnTo>
                      <a:pt x="32" y="173"/>
                    </a:lnTo>
                    <a:lnTo>
                      <a:pt x="39" y="153"/>
                    </a:lnTo>
                    <a:lnTo>
                      <a:pt x="44" y="130"/>
                    </a:lnTo>
                    <a:lnTo>
                      <a:pt x="44" y="109"/>
                    </a:lnTo>
                    <a:lnTo>
                      <a:pt x="42" y="89"/>
                    </a:lnTo>
                    <a:lnTo>
                      <a:pt x="37" y="69"/>
                    </a:lnTo>
                    <a:lnTo>
                      <a:pt x="27" y="47"/>
                    </a:lnTo>
                    <a:lnTo>
                      <a:pt x="16" y="29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62400" y="39650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0" y="10"/>
                    </a:lnTo>
                    <a:lnTo>
                      <a:pt x="1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41560" y="4100040"/>
                <a:ext cx="455760" cy="406080"/>
              </a:xfrm>
              <a:custGeom>
                <a:avLst/>
                <a:gdLst/>
                <a:ahLst/>
                <a:rect l="l" t="t" r="r" b="b"/>
                <a:pathLst>
                  <a:path w="573" h="513">
                    <a:moveTo>
                      <a:pt x="573" y="11"/>
                    </a:moveTo>
                    <a:lnTo>
                      <a:pt x="431" y="147"/>
                    </a:lnTo>
                    <a:lnTo>
                      <a:pt x="287" y="279"/>
                    </a:lnTo>
                    <a:lnTo>
                      <a:pt x="145" y="403"/>
                    </a:lnTo>
                    <a:lnTo>
                      <a:pt x="10" y="513"/>
                    </a:lnTo>
                    <a:lnTo>
                      <a:pt x="0" y="502"/>
                    </a:lnTo>
                    <a:lnTo>
                      <a:pt x="136" y="392"/>
                    </a:lnTo>
                    <a:lnTo>
                      <a:pt x="277" y="268"/>
                    </a:lnTo>
                    <a:lnTo>
                      <a:pt x="422" y="136"/>
                    </a:lnTo>
                    <a:lnTo>
                      <a:pt x="563" y="0"/>
                    </a:lnTo>
                    <a:lnTo>
                      <a:pt x="57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87600" y="41000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3" y="8"/>
                    </a:moveTo>
                    <a:lnTo>
                      <a:pt x="12" y="11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943360" y="4044600"/>
                <a:ext cx="564840" cy="462960"/>
              </a:xfrm>
              <a:custGeom>
                <a:avLst/>
                <a:gdLst/>
                <a:ahLst/>
                <a:rect l="l" t="t" r="r" b="b"/>
                <a:pathLst>
                  <a:path w="712" h="584">
                    <a:moveTo>
                      <a:pt x="0" y="571"/>
                    </a:moveTo>
                    <a:lnTo>
                      <a:pt x="34" y="552"/>
                    </a:lnTo>
                    <a:lnTo>
                      <a:pt x="70" y="531"/>
                    </a:lnTo>
                    <a:lnTo>
                      <a:pt x="109" y="507"/>
                    </a:lnTo>
                    <a:lnTo>
                      <a:pt x="149" y="480"/>
                    </a:lnTo>
                    <a:lnTo>
                      <a:pt x="191" y="450"/>
                    </a:lnTo>
                    <a:lnTo>
                      <a:pt x="234" y="418"/>
                    </a:lnTo>
                    <a:lnTo>
                      <a:pt x="324" y="346"/>
                    </a:lnTo>
                    <a:lnTo>
                      <a:pt x="417" y="265"/>
                    </a:lnTo>
                    <a:lnTo>
                      <a:pt x="511" y="179"/>
                    </a:lnTo>
                    <a:lnTo>
                      <a:pt x="702" y="0"/>
                    </a:lnTo>
                    <a:lnTo>
                      <a:pt x="712" y="11"/>
                    </a:lnTo>
                    <a:lnTo>
                      <a:pt x="521" y="190"/>
                    </a:lnTo>
                    <a:lnTo>
                      <a:pt x="427" y="276"/>
                    </a:lnTo>
                    <a:lnTo>
                      <a:pt x="334" y="357"/>
                    </a:lnTo>
                    <a:lnTo>
                      <a:pt x="243" y="429"/>
                    </a:lnTo>
                    <a:lnTo>
                      <a:pt x="199" y="462"/>
                    </a:lnTo>
                    <a:lnTo>
                      <a:pt x="158" y="492"/>
                    </a:lnTo>
                    <a:lnTo>
                      <a:pt x="117" y="519"/>
                    </a:lnTo>
                    <a:lnTo>
                      <a:pt x="78" y="544"/>
                    </a:lnTo>
                    <a:lnTo>
                      <a:pt x="40" y="566"/>
                    </a:lnTo>
                    <a:lnTo>
                      <a:pt x="6" y="584"/>
                    </a:lnTo>
                    <a:lnTo>
                      <a:pt x="0" y="5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941560" y="449676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0" y="1"/>
                    </a:moveTo>
                    <a:lnTo>
                      <a:pt x="7" y="13"/>
                    </a:lnTo>
                    <a:lnTo>
                      <a:pt x="1" y="0"/>
                    </a:lnTo>
                    <a:lnTo>
                      <a:pt x="10" y="1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476520" y="3926880"/>
                <a:ext cx="41400" cy="123480"/>
              </a:xfrm>
              <a:custGeom>
                <a:avLst/>
                <a:gdLst/>
                <a:ahLst/>
                <a:rect l="l" t="t" r="r" b="b"/>
                <a:pathLst>
                  <a:path w="52" h="156">
                    <a:moveTo>
                      <a:pt x="27" y="150"/>
                    </a:moveTo>
                    <a:lnTo>
                      <a:pt x="35" y="132"/>
                    </a:lnTo>
                    <a:lnTo>
                      <a:pt x="38" y="113"/>
                    </a:lnTo>
                    <a:lnTo>
                      <a:pt x="38" y="95"/>
                    </a:lnTo>
                    <a:lnTo>
                      <a:pt x="36" y="78"/>
                    </a:lnTo>
                    <a:lnTo>
                      <a:pt x="31" y="59"/>
                    </a:lnTo>
                    <a:lnTo>
                      <a:pt x="25" y="41"/>
                    </a:lnTo>
                    <a:lnTo>
                      <a:pt x="20" y="34"/>
                    </a:lnTo>
                    <a:lnTo>
                      <a:pt x="14" y="25"/>
                    </a:lnTo>
                    <a:lnTo>
                      <a:pt x="0" y="9"/>
                    </a:lnTo>
                    <a:lnTo>
                      <a:pt x="11" y="0"/>
                    </a:lnTo>
                    <a:lnTo>
                      <a:pt x="25" y="15"/>
                    </a:lnTo>
                    <a:lnTo>
                      <a:pt x="32" y="25"/>
                    </a:lnTo>
                    <a:lnTo>
                      <a:pt x="37" y="34"/>
                    </a:lnTo>
                    <a:lnTo>
                      <a:pt x="44" y="53"/>
                    </a:lnTo>
                    <a:lnTo>
                      <a:pt x="49" y="74"/>
                    </a:lnTo>
                    <a:lnTo>
                      <a:pt x="52" y="95"/>
                    </a:lnTo>
                    <a:lnTo>
                      <a:pt x="52" y="116"/>
                    </a:lnTo>
                    <a:lnTo>
                      <a:pt x="48" y="137"/>
                    </a:lnTo>
                    <a:lnTo>
                      <a:pt x="41" y="156"/>
                    </a:lnTo>
                    <a:lnTo>
                      <a:pt x="27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498840" y="404460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3" y="11"/>
                    </a:moveTo>
                    <a:lnTo>
                      <a:pt x="14" y="8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213000" y="3882600"/>
                <a:ext cx="273240" cy="51840"/>
              </a:xfrm>
              <a:custGeom>
                <a:avLst/>
                <a:gdLst/>
                <a:ahLst/>
                <a:rect l="l" t="t" r="r" b="b"/>
                <a:pathLst>
                  <a:path w="343" h="66">
                    <a:moveTo>
                      <a:pt x="334" y="66"/>
                    </a:moveTo>
                    <a:lnTo>
                      <a:pt x="313" y="48"/>
                    </a:lnTo>
                    <a:lnTo>
                      <a:pt x="293" y="37"/>
                    </a:lnTo>
                    <a:lnTo>
                      <a:pt x="274" y="31"/>
                    </a:lnTo>
                    <a:lnTo>
                      <a:pt x="255" y="29"/>
                    </a:lnTo>
                    <a:lnTo>
                      <a:pt x="235" y="29"/>
                    </a:lnTo>
                    <a:lnTo>
                      <a:pt x="214" y="33"/>
                    </a:lnTo>
                    <a:lnTo>
                      <a:pt x="172" y="41"/>
                    </a:lnTo>
                    <a:lnTo>
                      <a:pt x="128" y="51"/>
                    </a:lnTo>
                    <a:lnTo>
                      <a:pt x="106" y="53"/>
                    </a:lnTo>
                    <a:lnTo>
                      <a:pt x="85" y="53"/>
                    </a:lnTo>
                    <a:lnTo>
                      <a:pt x="62" y="50"/>
                    </a:lnTo>
                    <a:lnTo>
                      <a:pt x="41" y="41"/>
                    </a:lnTo>
                    <a:lnTo>
                      <a:pt x="19" y="29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29" y="18"/>
                    </a:lnTo>
                    <a:lnTo>
                      <a:pt x="49" y="29"/>
                    </a:lnTo>
                    <a:lnTo>
                      <a:pt x="67" y="36"/>
                    </a:lnTo>
                    <a:lnTo>
                      <a:pt x="85" y="40"/>
                    </a:lnTo>
                    <a:lnTo>
                      <a:pt x="106" y="40"/>
                    </a:lnTo>
                    <a:lnTo>
                      <a:pt x="125" y="37"/>
                    </a:lnTo>
                    <a:lnTo>
                      <a:pt x="167" y="28"/>
                    </a:lnTo>
                    <a:lnTo>
                      <a:pt x="210" y="19"/>
                    </a:lnTo>
                    <a:lnTo>
                      <a:pt x="232" y="15"/>
                    </a:lnTo>
                    <a:lnTo>
                      <a:pt x="255" y="15"/>
                    </a:lnTo>
                    <a:lnTo>
                      <a:pt x="277" y="18"/>
                    </a:lnTo>
                    <a:lnTo>
                      <a:pt x="299" y="25"/>
                    </a:lnTo>
                    <a:lnTo>
                      <a:pt x="321" y="37"/>
                    </a:lnTo>
                    <a:lnTo>
                      <a:pt x="343" y="55"/>
                    </a:lnTo>
                    <a:lnTo>
                      <a:pt x="33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476520" y="392688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2" y="11"/>
                    </a:lnTo>
                    <a:lnTo>
                      <a:pt x="0" y="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181320" y="3557160"/>
                <a:ext cx="165240" cy="333000"/>
              </a:xfrm>
              <a:custGeom>
                <a:avLst/>
                <a:gdLst/>
                <a:ahLst/>
                <a:rect l="l" t="t" r="r" b="b"/>
                <a:pathLst>
                  <a:path w="207" h="420">
                    <a:moveTo>
                      <a:pt x="39" y="420"/>
                    </a:moveTo>
                    <a:lnTo>
                      <a:pt x="28" y="406"/>
                    </a:lnTo>
                    <a:lnTo>
                      <a:pt x="18" y="390"/>
                    </a:lnTo>
                    <a:lnTo>
                      <a:pt x="9" y="375"/>
                    </a:lnTo>
                    <a:lnTo>
                      <a:pt x="4" y="358"/>
                    </a:lnTo>
                    <a:lnTo>
                      <a:pt x="1" y="341"/>
                    </a:lnTo>
                    <a:lnTo>
                      <a:pt x="0" y="324"/>
                    </a:lnTo>
                    <a:lnTo>
                      <a:pt x="1" y="290"/>
                    </a:lnTo>
                    <a:lnTo>
                      <a:pt x="8" y="256"/>
                    </a:lnTo>
                    <a:lnTo>
                      <a:pt x="20" y="223"/>
                    </a:lnTo>
                    <a:lnTo>
                      <a:pt x="37" y="190"/>
                    </a:lnTo>
                    <a:lnTo>
                      <a:pt x="56" y="159"/>
                    </a:lnTo>
                    <a:lnTo>
                      <a:pt x="99" y="102"/>
                    </a:lnTo>
                    <a:lnTo>
                      <a:pt x="143" y="55"/>
                    </a:lnTo>
                    <a:lnTo>
                      <a:pt x="198" y="0"/>
                    </a:lnTo>
                    <a:lnTo>
                      <a:pt x="207" y="11"/>
                    </a:lnTo>
                    <a:lnTo>
                      <a:pt x="152" y="66"/>
                    </a:lnTo>
                    <a:lnTo>
                      <a:pt x="110" y="112"/>
                    </a:lnTo>
                    <a:lnTo>
                      <a:pt x="67" y="168"/>
                    </a:lnTo>
                    <a:lnTo>
                      <a:pt x="50" y="199"/>
                    </a:lnTo>
                    <a:lnTo>
                      <a:pt x="34" y="230"/>
                    </a:lnTo>
                    <a:lnTo>
                      <a:pt x="22" y="261"/>
                    </a:lnTo>
                    <a:lnTo>
                      <a:pt x="14" y="293"/>
                    </a:lnTo>
                    <a:lnTo>
                      <a:pt x="14" y="324"/>
                    </a:lnTo>
                    <a:lnTo>
                      <a:pt x="14" y="338"/>
                    </a:lnTo>
                    <a:lnTo>
                      <a:pt x="18" y="353"/>
                    </a:lnTo>
                    <a:lnTo>
                      <a:pt x="23" y="369"/>
                    </a:lnTo>
                    <a:lnTo>
                      <a:pt x="30" y="382"/>
                    </a:lnTo>
                    <a:lnTo>
                      <a:pt x="39" y="397"/>
                    </a:lnTo>
                    <a:lnTo>
                      <a:pt x="50" y="411"/>
                    </a:lnTo>
                    <a:lnTo>
                      <a:pt x="39" y="4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211560" y="388260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11"/>
                    </a:moveTo>
                    <a:lnTo>
                      <a:pt x="0" y="9"/>
                    </a:lnTo>
                    <a:lnTo>
                      <a:pt x="11" y="0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38640" y="3433320"/>
                <a:ext cx="326880" cy="131400"/>
              </a:xfrm>
              <a:custGeom>
                <a:avLst/>
                <a:gdLst/>
                <a:ahLst/>
                <a:rect l="l" t="t" r="r" b="b"/>
                <a:pathLst>
                  <a:path w="413" h="168">
                    <a:moveTo>
                      <a:pt x="0" y="157"/>
                    </a:moveTo>
                    <a:lnTo>
                      <a:pt x="31" y="126"/>
                    </a:lnTo>
                    <a:lnTo>
                      <a:pt x="63" y="99"/>
                    </a:lnTo>
                    <a:lnTo>
                      <a:pt x="95" y="75"/>
                    </a:lnTo>
                    <a:lnTo>
                      <a:pt x="125" y="55"/>
                    </a:lnTo>
                    <a:lnTo>
                      <a:pt x="157" y="38"/>
                    </a:lnTo>
                    <a:lnTo>
                      <a:pt x="187" y="25"/>
                    </a:lnTo>
                    <a:lnTo>
                      <a:pt x="216" y="15"/>
                    </a:lnTo>
                    <a:lnTo>
                      <a:pt x="245" y="6"/>
                    </a:lnTo>
                    <a:lnTo>
                      <a:pt x="272" y="3"/>
                    </a:lnTo>
                    <a:lnTo>
                      <a:pt x="298" y="0"/>
                    </a:lnTo>
                    <a:lnTo>
                      <a:pt x="343" y="5"/>
                    </a:lnTo>
                    <a:lnTo>
                      <a:pt x="365" y="11"/>
                    </a:lnTo>
                    <a:lnTo>
                      <a:pt x="382" y="19"/>
                    </a:lnTo>
                    <a:lnTo>
                      <a:pt x="399" y="28"/>
                    </a:lnTo>
                    <a:lnTo>
                      <a:pt x="413" y="41"/>
                    </a:lnTo>
                    <a:lnTo>
                      <a:pt x="403" y="52"/>
                    </a:lnTo>
                    <a:lnTo>
                      <a:pt x="391" y="41"/>
                    </a:lnTo>
                    <a:lnTo>
                      <a:pt x="376" y="32"/>
                    </a:lnTo>
                    <a:lnTo>
                      <a:pt x="359" y="25"/>
                    </a:lnTo>
                    <a:lnTo>
                      <a:pt x="341" y="20"/>
                    </a:lnTo>
                    <a:lnTo>
                      <a:pt x="298" y="15"/>
                    </a:lnTo>
                    <a:lnTo>
                      <a:pt x="273" y="17"/>
                    </a:lnTo>
                    <a:lnTo>
                      <a:pt x="248" y="21"/>
                    </a:lnTo>
                    <a:lnTo>
                      <a:pt x="221" y="28"/>
                    </a:lnTo>
                    <a:lnTo>
                      <a:pt x="193" y="38"/>
                    </a:lnTo>
                    <a:lnTo>
                      <a:pt x="163" y="52"/>
                    </a:lnTo>
                    <a:lnTo>
                      <a:pt x="134" y="67"/>
                    </a:lnTo>
                    <a:lnTo>
                      <a:pt x="103" y="87"/>
                    </a:lnTo>
                    <a:lnTo>
                      <a:pt x="73" y="110"/>
                    </a:lnTo>
                    <a:lnTo>
                      <a:pt x="41" y="137"/>
                    </a:lnTo>
                    <a:lnTo>
                      <a:pt x="9" y="168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38640" y="35571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0"/>
                    </a:moveTo>
                    <a:lnTo>
                      <a:pt x="9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57600" y="3465000"/>
                <a:ext cx="38160" cy="267840"/>
              </a:xfrm>
              <a:custGeom>
                <a:avLst/>
                <a:gdLst/>
                <a:ahLst/>
                <a:rect l="l" t="t" r="r" b="b"/>
                <a:pathLst>
                  <a:path w="49" h="338">
                    <a:moveTo>
                      <a:pt x="11" y="0"/>
                    </a:moveTo>
                    <a:lnTo>
                      <a:pt x="27" y="18"/>
                    </a:lnTo>
                    <a:lnTo>
                      <a:pt x="36" y="39"/>
                    </a:lnTo>
                    <a:lnTo>
                      <a:pt x="44" y="59"/>
                    </a:lnTo>
                    <a:lnTo>
                      <a:pt x="45" y="81"/>
                    </a:lnTo>
                    <a:lnTo>
                      <a:pt x="41" y="124"/>
                    </a:lnTo>
                    <a:lnTo>
                      <a:pt x="33" y="171"/>
                    </a:lnTo>
                    <a:lnTo>
                      <a:pt x="24" y="214"/>
                    </a:lnTo>
                    <a:lnTo>
                      <a:pt x="21" y="256"/>
                    </a:lnTo>
                    <a:lnTo>
                      <a:pt x="22" y="276"/>
                    </a:lnTo>
                    <a:lnTo>
                      <a:pt x="27" y="294"/>
                    </a:lnTo>
                    <a:lnTo>
                      <a:pt x="36" y="313"/>
                    </a:lnTo>
                    <a:lnTo>
                      <a:pt x="41" y="320"/>
                    </a:lnTo>
                    <a:lnTo>
                      <a:pt x="49" y="328"/>
                    </a:lnTo>
                    <a:lnTo>
                      <a:pt x="38" y="338"/>
                    </a:lnTo>
                    <a:lnTo>
                      <a:pt x="30" y="330"/>
                    </a:lnTo>
                    <a:lnTo>
                      <a:pt x="24" y="321"/>
                    </a:lnTo>
                    <a:lnTo>
                      <a:pt x="13" y="300"/>
                    </a:lnTo>
                    <a:lnTo>
                      <a:pt x="7" y="278"/>
                    </a:lnTo>
                    <a:lnTo>
                      <a:pt x="6" y="256"/>
                    </a:lnTo>
                    <a:lnTo>
                      <a:pt x="10" y="212"/>
                    </a:lnTo>
                    <a:lnTo>
                      <a:pt x="18" y="168"/>
                    </a:lnTo>
                    <a:lnTo>
                      <a:pt x="27" y="123"/>
                    </a:lnTo>
                    <a:lnTo>
                      <a:pt x="30" y="81"/>
                    </a:lnTo>
                    <a:lnTo>
                      <a:pt x="29" y="62"/>
                    </a:lnTo>
                    <a:lnTo>
                      <a:pt x="23" y="45"/>
                    </a:lnTo>
                    <a:lnTo>
                      <a:pt x="14" y="26"/>
                    </a:lnTo>
                    <a:lnTo>
                      <a:pt x="0" y="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657600" y="34650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0" y="9"/>
                    </a:lnTo>
                    <a:lnTo>
                      <a:pt x="1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687840" y="3725280"/>
                <a:ext cx="120600" cy="36360"/>
              </a:xfrm>
              <a:custGeom>
                <a:avLst/>
                <a:gdLst/>
                <a:ahLst/>
                <a:rect l="l" t="t" r="r" b="b"/>
                <a:pathLst>
                  <a:path w="150" h="46">
                    <a:moveTo>
                      <a:pt x="10" y="0"/>
                    </a:moveTo>
                    <a:lnTo>
                      <a:pt x="24" y="13"/>
                    </a:lnTo>
                    <a:lnTo>
                      <a:pt x="39" y="22"/>
                    </a:lnTo>
                    <a:lnTo>
                      <a:pt x="56" y="27"/>
                    </a:lnTo>
                    <a:lnTo>
                      <a:pt x="73" y="31"/>
                    </a:lnTo>
                    <a:lnTo>
                      <a:pt x="92" y="31"/>
                    </a:lnTo>
                    <a:lnTo>
                      <a:pt x="110" y="30"/>
                    </a:lnTo>
                    <a:lnTo>
                      <a:pt x="127" y="26"/>
                    </a:lnTo>
                    <a:lnTo>
                      <a:pt x="144" y="19"/>
                    </a:lnTo>
                    <a:lnTo>
                      <a:pt x="150" y="32"/>
                    </a:lnTo>
                    <a:lnTo>
                      <a:pt x="132" y="40"/>
                    </a:lnTo>
                    <a:lnTo>
                      <a:pt x="112" y="44"/>
                    </a:lnTo>
                    <a:lnTo>
                      <a:pt x="92" y="46"/>
                    </a:lnTo>
                    <a:lnTo>
                      <a:pt x="72" y="46"/>
                    </a:lnTo>
                    <a:lnTo>
                      <a:pt x="54" y="42"/>
                    </a:lnTo>
                    <a:lnTo>
                      <a:pt x="33" y="36"/>
                    </a:lnTo>
                    <a:lnTo>
                      <a:pt x="16" y="25"/>
                    </a:lnTo>
                    <a:lnTo>
                      <a:pt x="0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687840" y="37252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0"/>
                    </a:moveTo>
                    <a:lnTo>
                      <a:pt x="1" y="11"/>
                    </a:lnTo>
                    <a:lnTo>
                      <a:pt x="1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801960" y="3627000"/>
                <a:ext cx="119160" cy="123480"/>
              </a:xfrm>
              <a:custGeom>
                <a:avLst/>
                <a:gdLst/>
                <a:ahLst/>
                <a:rect l="l" t="t" r="r" b="b"/>
                <a:pathLst>
                  <a:path w="149" h="154">
                    <a:moveTo>
                      <a:pt x="0" y="143"/>
                    </a:moveTo>
                    <a:lnTo>
                      <a:pt x="99" y="40"/>
                    </a:lnTo>
                    <a:lnTo>
                      <a:pt x="139" y="0"/>
                    </a:lnTo>
                    <a:lnTo>
                      <a:pt x="149" y="11"/>
                    </a:lnTo>
                    <a:lnTo>
                      <a:pt x="109" y="51"/>
                    </a:lnTo>
                    <a:lnTo>
                      <a:pt x="10" y="154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801960" y="37396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7" y="13"/>
                    </a:moveTo>
                    <a:lnTo>
                      <a:pt x="10" y="1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84440" y="3182400"/>
                <a:ext cx="436680" cy="453600"/>
              </a:xfrm>
              <a:custGeom>
                <a:avLst/>
                <a:gdLst/>
                <a:ahLst/>
                <a:rect l="l" t="t" r="r" b="b"/>
                <a:pathLst>
                  <a:path w="549" h="571">
                    <a:moveTo>
                      <a:pt x="539" y="571"/>
                    </a:moveTo>
                    <a:lnTo>
                      <a:pt x="374" y="397"/>
                    </a:lnTo>
                    <a:lnTo>
                      <a:pt x="206" y="220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215" y="209"/>
                    </a:lnTo>
                    <a:lnTo>
                      <a:pt x="384" y="386"/>
                    </a:lnTo>
                    <a:lnTo>
                      <a:pt x="549" y="560"/>
                    </a:lnTo>
                    <a:lnTo>
                      <a:pt x="539" y="5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913200" y="36270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0" y="11"/>
                    </a:moveTo>
                    <a:lnTo>
                      <a:pt x="15" y="6"/>
                    </a:lnTo>
                    <a:lnTo>
                      <a:pt x="10" y="0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478320" y="3087360"/>
                <a:ext cx="36360" cy="101160"/>
              </a:xfrm>
              <a:custGeom>
                <a:avLst/>
                <a:gdLst/>
                <a:ahLst/>
                <a:rect l="l" t="t" r="r" b="b"/>
                <a:pathLst>
                  <a:path w="45" h="128">
                    <a:moveTo>
                      <a:pt x="5" y="128"/>
                    </a:moveTo>
                    <a:lnTo>
                      <a:pt x="1" y="112"/>
                    </a:lnTo>
                    <a:lnTo>
                      <a:pt x="0" y="94"/>
                    </a:lnTo>
                    <a:lnTo>
                      <a:pt x="0" y="77"/>
                    </a:lnTo>
                    <a:lnTo>
                      <a:pt x="1" y="61"/>
                    </a:lnTo>
                    <a:lnTo>
                      <a:pt x="6" y="44"/>
                    </a:lnTo>
                    <a:lnTo>
                      <a:pt x="13" y="28"/>
                    </a:lnTo>
                    <a:lnTo>
                      <a:pt x="22" y="12"/>
                    </a:lnTo>
                    <a:lnTo>
                      <a:pt x="34" y="0"/>
                    </a:lnTo>
                    <a:lnTo>
                      <a:pt x="45" y="10"/>
                    </a:lnTo>
                    <a:lnTo>
                      <a:pt x="33" y="22"/>
                    </a:lnTo>
                    <a:lnTo>
                      <a:pt x="26" y="37"/>
                    </a:lnTo>
                    <a:lnTo>
                      <a:pt x="19" y="50"/>
                    </a:lnTo>
                    <a:lnTo>
                      <a:pt x="15" y="65"/>
                    </a:lnTo>
                    <a:lnTo>
                      <a:pt x="13" y="79"/>
                    </a:lnTo>
                    <a:lnTo>
                      <a:pt x="13" y="94"/>
                    </a:lnTo>
                    <a:lnTo>
                      <a:pt x="15" y="109"/>
                    </a:lnTo>
                    <a:lnTo>
                      <a:pt x="18" y="125"/>
                    </a:lnTo>
                    <a:lnTo>
                      <a:pt x="5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483000" y="31824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2" y="11"/>
                    </a:moveTo>
                    <a:lnTo>
                      <a:pt x="0" y="8"/>
                    </a:lnTo>
                    <a:lnTo>
                      <a:pt x="0" y="7"/>
                    </a:lnTo>
                    <a:lnTo>
                      <a:pt x="13" y="4"/>
                    </a:lnTo>
                    <a:lnTo>
                      <a:pt x="12" y="0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506760" y="3057120"/>
                <a:ext cx="268200" cy="37800"/>
              </a:xfrm>
              <a:custGeom>
                <a:avLst/>
                <a:gdLst/>
                <a:ahLst/>
                <a:rect l="l" t="t" r="r" b="b"/>
                <a:pathLst>
                  <a:path w="339" h="49">
                    <a:moveTo>
                      <a:pt x="0" y="38"/>
                    </a:moveTo>
                    <a:lnTo>
                      <a:pt x="17" y="22"/>
                    </a:lnTo>
                    <a:lnTo>
                      <a:pt x="38" y="12"/>
                    </a:lnTo>
                    <a:lnTo>
                      <a:pt x="60" y="6"/>
                    </a:lnTo>
                    <a:lnTo>
                      <a:pt x="82" y="4"/>
                    </a:lnTo>
                    <a:lnTo>
                      <a:pt x="126" y="7"/>
                    </a:lnTo>
                    <a:lnTo>
                      <a:pt x="170" y="16"/>
                    </a:lnTo>
                    <a:lnTo>
                      <a:pt x="215" y="26"/>
                    </a:lnTo>
                    <a:lnTo>
                      <a:pt x="257" y="29"/>
                    </a:lnTo>
                    <a:lnTo>
                      <a:pt x="277" y="27"/>
                    </a:lnTo>
                    <a:lnTo>
                      <a:pt x="294" y="23"/>
                    </a:lnTo>
                    <a:lnTo>
                      <a:pt x="312" y="13"/>
                    </a:lnTo>
                    <a:lnTo>
                      <a:pt x="321" y="7"/>
                    </a:lnTo>
                    <a:lnTo>
                      <a:pt x="329" y="0"/>
                    </a:lnTo>
                    <a:lnTo>
                      <a:pt x="339" y="11"/>
                    </a:lnTo>
                    <a:lnTo>
                      <a:pt x="330" y="18"/>
                    </a:lnTo>
                    <a:lnTo>
                      <a:pt x="321" y="26"/>
                    </a:lnTo>
                    <a:lnTo>
                      <a:pt x="300" y="37"/>
                    </a:lnTo>
                    <a:lnTo>
                      <a:pt x="279" y="42"/>
                    </a:lnTo>
                    <a:lnTo>
                      <a:pt x="257" y="44"/>
                    </a:lnTo>
                    <a:lnTo>
                      <a:pt x="213" y="40"/>
                    </a:lnTo>
                    <a:lnTo>
                      <a:pt x="168" y="31"/>
                    </a:lnTo>
                    <a:lnTo>
                      <a:pt x="124" y="22"/>
                    </a:lnTo>
                    <a:lnTo>
                      <a:pt x="82" y="18"/>
                    </a:lnTo>
                    <a:lnTo>
                      <a:pt x="63" y="21"/>
                    </a:lnTo>
                    <a:lnTo>
                      <a:pt x="44" y="26"/>
                    </a:lnTo>
                    <a:lnTo>
                      <a:pt x="26" y="34"/>
                    </a:lnTo>
                    <a:lnTo>
                      <a:pt x="10" y="49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506760" y="30873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0"/>
                    </a:moveTo>
                    <a:lnTo>
                      <a:pt x="1" y="0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767040" y="2877480"/>
                <a:ext cx="38160" cy="187200"/>
              </a:xfrm>
              <a:custGeom>
                <a:avLst/>
                <a:gdLst/>
                <a:ahLst/>
                <a:rect l="l" t="t" r="r" b="b"/>
                <a:pathLst>
                  <a:path w="49" h="235">
                    <a:moveTo>
                      <a:pt x="0" y="225"/>
                    </a:moveTo>
                    <a:lnTo>
                      <a:pt x="13" y="209"/>
                    </a:lnTo>
                    <a:lnTo>
                      <a:pt x="24" y="187"/>
                    </a:lnTo>
                    <a:lnTo>
                      <a:pt x="28" y="177"/>
                    </a:lnTo>
                    <a:lnTo>
                      <a:pt x="32" y="164"/>
                    </a:lnTo>
                    <a:lnTo>
                      <a:pt x="34" y="152"/>
                    </a:lnTo>
                    <a:lnTo>
                      <a:pt x="35" y="138"/>
                    </a:lnTo>
                    <a:lnTo>
                      <a:pt x="35" y="108"/>
                    </a:lnTo>
                    <a:lnTo>
                      <a:pt x="32" y="77"/>
                    </a:lnTo>
                    <a:lnTo>
                      <a:pt x="23" y="42"/>
                    </a:lnTo>
                    <a:lnTo>
                      <a:pt x="10" y="6"/>
                    </a:lnTo>
                    <a:lnTo>
                      <a:pt x="23" y="0"/>
                    </a:lnTo>
                    <a:lnTo>
                      <a:pt x="37" y="37"/>
                    </a:lnTo>
                    <a:lnTo>
                      <a:pt x="45" y="73"/>
                    </a:lnTo>
                    <a:lnTo>
                      <a:pt x="49" y="108"/>
                    </a:lnTo>
                    <a:lnTo>
                      <a:pt x="49" y="138"/>
                    </a:lnTo>
                    <a:lnTo>
                      <a:pt x="48" y="155"/>
                    </a:lnTo>
                    <a:lnTo>
                      <a:pt x="45" y="169"/>
                    </a:lnTo>
                    <a:lnTo>
                      <a:pt x="41" y="182"/>
                    </a:lnTo>
                    <a:lnTo>
                      <a:pt x="37" y="194"/>
                    </a:lnTo>
                    <a:lnTo>
                      <a:pt x="26" y="218"/>
                    </a:lnTo>
                    <a:lnTo>
                      <a:pt x="11" y="235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767040" y="30571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1"/>
                    </a:moveTo>
                    <a:lnTo>
                      <a:pt x="11" y="1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687840" y="2719080"/>
                <a:ext cx="98280" cy="164520"/>
              </a:xfrm>
              <a:custGeom>
                <a:avLst/>
                <a:gdLst/>
                <a:ahLst/>
                <a:rect l="l" t="t" r="r" b="b"/>
                <a:pathLst>
                  <a:path w="122" h="208">
                    <a:moveTo>
                      <a:pt x="110" y="208"/>
                    </a:moveTo>
                    <a:lnTo>
                      <a:pt x="122" y="201"/>
                    </a:lnTo>
                    <a:lnTo>
                      <a:pt x="12" y="0"/>
                    </a:lnTo>
                    <a:lnTo>
                      <a:pt x="0" y="8"/>
                    </a:lnTo>
                    <a:lnTo>
                      <a:pt x="11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774960" y="287748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1"/>
                    </a:moveTo>
                    <a:lnTo>
                      <a:pt x="13" y="0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687840" y="271908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0"/>
                    </a:moveTo>
                    <a:lnTo>
                      <a:pt x="0" y="8"/>
                    </a:lnTo>
                    <a:lnTo>
                      <a:pt x="13" y="1"/>
                    </a:lnTo>
                    <a:lnTo>
                      <a:pt x="1" y="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800520" y="2707920"/>
                <a:ext cx="833400" cy="563040"/>
              </a:xfrm>
              <a:custGeom>
                <a:avLst/>
                <a:gdLst/>
                <a:ahLst/>
                <a:rect l="l" t="t" r="r" b="b"/>
                <a:pathLst>
                  <a:path w="1049" h="709">
                    <a:moveTo>
                      <a:pt x="51" y="137"/>
                    </a:moveTo>
                    <a:lnTo>
                      <a:pt x="53" y="145"/>
                    </a:lnTo>
                    <a:lnTo>
                      <a:pt x="58" y="155"/>
                    </a:lnTo>
                    <a:lnTo>
                      <a:pt x="62" y="164"/>
                    </a:lnTo>
                    <a:lnTo>
                      <a:pt x="68" y="174"/>
                    </a:lnTo>
                    <a:lnTo>
                      <a:pt x="74" y="182"/>
                    </a:lnTo>
                    <a:lnTo>
                      <a:pt x="80" y="192"/>
                    </a:lnTo>
                    <a:lnTo>
                      <a:pt x="84" y="196"/>
                    </a:lnTo>
                    <a:lnTo>
                      <a:pt x="88" y="201"/>
                    </a:lnTo>
                    <a:lnTo>
                      <a:pt x="94" y="208"/>
                    </a:lnTo>
                    <a:lnTo>
                      <a:pt x="344" y="455"/>
                    </a:lnTo>
                    <a:lnTo>
                      <a:pt x="437" y="545"/>
                    </a:lnTo>
                    <a:lnTo>
                      <a:pt x="518" y="626"/>
                    </a:lnTo>
                    <a:lnTo>
                      <a:pt x="577" y="685"/>
                    </a:lnTo>
                    <a:lnTo>
                      <a:pt x="593" y="702"/>
                    </a:lnTo>
                    <a:lnTo>
                      <a:pt x="597" y="707"/>
                    </a:lnTo>
                    <a:lnTo>
                      <a:pt x="599" y="709"/>
                    </a:lnTo>
                    <a:lnTo>
                      <a:pt x="602" y="707"/>
                    </a:lnTo>
                    <a:lnTo>
                      <a:pt x="608" y="701"/>
                    </a:lnTo>
                    <a:lnTo>
                      <a:pt x="630" y="679"/>
                    </a:lnTo>
                    <a:lnTo>
                      <a:pt x="707" y="604"/>
                    </a:lnTo>
                    <a:lnTo>
                      <a:pt x="824" y="494"/>
                    </a:lnTo>
                    <a:lnTo>
                      <a:pt x="967" y="353"/>
                    </a:lnTo>
                    <a:lnTo>
                      <a:pt x="973" y="345"/>
                    </a:lnTo>
                    <a:lnTo>
                      <a:pt x="980" y="335"/>
                    </a:lnTo>
                    <a:lnTo>
                      <a:pt x="1000" y="311"/>
                    </a:lnTo>
                    <a:lnTo>
                      <a:pt x="1008" y="300"/>
                    </a:lnTo>
                    <a:lnTo>
                      <a:pt x="1015" y="287"/>
                    </a:lnTo>
                    <a:lnTo>
                      <a:pt x="1019" y="281"/>
                    </a:lnTo>
                    <a:lnTo>
                      <a:pt x="1020" y="276"/>
                    </a:lnTo>
                    <a:lnTo>
                      <a:pt x="1022" y="271"/>
                    </a:lnTo>
                    <a:lnTo>
                      <a:pt x="1023" y="267"/>
                    </a:lnTo>
                    <a:lnTo>
                      <a:pt x="1049" y="203"/>
                    </a:lnTo>
                    <a:lnTo>
                      <a:pt x="880" y="367"/>
                    </a:lnTo>
                    <a:lnTo>
                      <a:pt x="742" y="501"/>
                    </a:lnTo>
                    <a:lnTo>
                      <a:pt x="646" y="593"/>
                    </a:lnTo>
                    <a:lnTo>
                      <a:pt x="619" y="620"/>
                    </a:lnTo>
                    <a:lnTo>
                      <a:pt x="608" y="631"/>
                    </a:lnTo>
                    <a:lnTo>
                      <a:pt x="601" y="622"/>
                    </a:lnTo>
                    <a:lnTo>
                      <a:pt x="583" y="600"/>
                    </a:lnTo>
                    <a:lnTo>
                      <a:pt x="520" y="528"/>
                    </a:lnTo>
                    <a:lnTo>
                      <a:pt x="335" y="313"/>
                    </a:lnTo>
                    <a:lnTo>
                      <a:pt x="64" y="4"/>
                    </a:lnTo>
                    <a:lnTo>
                      <a:pt x="63" y="1"/>
                    </a:lnTo>
                    <a:lnTo>
                      <a:pt x="61" y="1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9" y="2"/>
                    </a:lnTo>
                    <a:lnTo>
                      <a:pt x="44" y="6"/>
                    </a:lnTo>
                    <a:lnTo>
                      <a:pt x="38" y="10"/>
                    </a:lnTo>
                    <a:lnTo>
                      <a:pt x="28" y="18"/>
                    </a:lnTo>
                    <a:lnTo>
                      <a:pt x="18" y="27"/>
                    </a:lnTo>
                    <a:lnTo>
                      <a:pt x="14" y="31"/>
                    </a:lnTo>
                    <a:lnTo>
                      <a:pt x="9" y="33"/>
                    </a:lnTo>
                    <a:lnTo>
                      <a:pt x="7" y="34"/>
                    </a:lnTo>
                    <a:lnTo>
                      <a:pt x="3" y="34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51" y="137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835440" y="2814120"/>
                <a:ext cx="44280" cy="63000"/>
              </a:xfrm>
              <a:custGeom>
                <a:avLst/>
                <a:gdLst/>
                <a:ahLst/>
                <a:rect l="l" t="t" r="r" b="b"/>
                <a:pathLst>
                  <a:path w="55" h="80">
                    <a:moveTo>
                      <a:pt x="13" y="0"/>
                    </a:moveTo>
                    <a:lnTo>
                      <a:pt x="19" y="20"/>
                    </a:lnTo>
                    <a:lnTo>
                      <a:pt x="30" y="37"/>
                    </a:lnTo>
                    <a:lnTo>
                      <a:pt x="42" y="55"/>
                    </a:lnTo>
                    <a:lnTo>
                      <a:pt x="55" y="70"/>
                    </a:lnTo>
                    <a:lnTo>
                      <a:pt x="44" y="80"/>
                    </a:lnTo>
                    <a:lnTo>
                      <a:pt x="30" y="64"/>
                    </a:lnTo>
                    <a:lnTo>
                      <a:pt x="18" y="46"/>
                    </a:lnTo>
                    <a:lnTo>
                      <a:pt x="6" y="26"/>
                    </a:lnTo>
                    <a:lnTo>
                      <a:pt x="0" y="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871800" y="2869560"/>
                <a:ext cx="408240" cy="406080"/>
              </a:xfrm>
              <a:custGeom>
                <a:avLst/>
                <a:gdLst/>
                <a:ahLst/>
                <a:rect l="l" t="t" r="r" b="b"/>
                <a:pathLst>
                  <a:path w="515" h="511">
                    <a:moveTo>
                      <a:pt x="10" y="0"/>
                    </a:moveTo>
                    <a:lnTo>
                      <a:pt x="260" y="247"/>
                    </a:lnTo>
                    <a:lnTo>
                      <a:pt x="434" y="418"/>
                    </a:lnTo>
                    <a:lnTo>
                      <a:pt x="515" y="501"/>
                    </a:lnTo>
                    <a:lnTo>
                      <a:pt x="504" y="511"/>
                    </a:lnTo>
                    <a:lnTo>
                      <a:pt x="423" y="428"/>
                    </a:lnTo>
                    <a:lnTo>
                      <a:pt x="251" y="258"/>
                    </a:lnTo>
                    <a:lnTo>
                      <a:pt x="0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870360" y="286956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0"/>
                    </a:moveTo>
                    <a:lnTo>
                      <a:pt x="1" y="11"/>
                    </a:lnTo>
                    <a:lnTo>
                      <a:pt x="1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272120" y="2985480"/>
                <a:ext cx="299880" cy="290160"/>
              </a:xfrm>
              <a:custGeom>
                <a:avLst/>
                <a:gdLst/>
                <a:ahLst/>
                <a:rect l="l" t="t" r="r" b="b"/>
                <a:pathLst>
                  <a:path w="377" h="367">
                    <a:moveTo>
                      <a:pt x="0" y="356"/>
                    </a:moveTo>
                    <a:lnTo>
                      <a:pt x="109" y="251"/>
                    </a:lnTo>
                    <a:lnTo>
                      <a:pt x="225" y="140"/>
                    </a:lnTo>
                    <a:lnTo>
                      <a:pt x="368" y="0"/>
                    </a:lnTo>
                    <a:lnTo>
                      <a:pt x="377" y="11"/>
                    </a:lnTo>
                    <a:lnTo>
                      <a:pt x="234" y="151"/>
                    </a:lnTo>
                    <a:lnTo>
                      <a:pt x="118" y="262"/>
                    </a:lnTo>
                    <a:lnTo>
                      <a:pt x="10" y="367"/>
                    </a:lnTo>
                    <a:lnTo>
                      <a:pt x="0" y="3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72120" y="32680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10"/>
                    </a:moveTo>
                    <a:lnTo>
                      <a:pt x="6" y="16"/>
                    </a:lnTo>
                    <a:lnTo>
                      <a:pt x="11" y="11"/>
                    </a:lnTo>
                    <a:lnTo>
                      <a:pt x="1" y="0"/>
                    </a:lnTo>
                    <a:lnTo>
                      <a:pt x="1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564080" y="2918880"/>
                <a:ext cx="54000" cy="74160"/>
              </a:xfrm>
              <a:custGeom>
                <a:avLst/>
                <a:gdLst/>
                <a:ahLst/>
                <a:rect l="l" t="t" r="r" b="b"/>
                <a:pathLst>
                  <a:path w="69" h="93">
                    <a:moveTo>
                      <a:pt x="0" y="83"/>
                    </a:moveTo>
                    <a:lnTo>
                      <a:pt x="14" y="64"/>
                    </a:lnTo>
                    <a:lnTo>
                      <a:pt x="33" y="41"/>
                    </a:lnTo>
                    <a:lnTo>
                      <a:pt x="49" y="19"/>
                    </a:lnTo>
                    <a:lnTo>
                      <a:pt x="53" y="9"/>
                    </a:lnTo>
                    <a:lnTo>
                      <a:pt x="55" y="0"/>
                    </a:lnTo>
                    <a:lnTo>
                      <a:pt x="69" y="4"/>
                    </a:lnTo>
                    <a:lnTo>
                      <a:pt x="66" y="14"/>
                    </a:lnTo>
                    <a:lnTo>
                      <a:pt x="62" y="27"/>
                    </a:lnTo>
                    <a:lnTo>
                      <a:pt x="44" y="50"/>
                    </a:lnTo>
                    <a:lnTo>
                      <a:pt x="25" y="74"/>
                    </a:lnTo>
                    <a:lnTo>
                      <a:pt x="11" y="9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564080" y="298548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1"/>
                    </a:moveTo>
                    <a:lnTo>
                      <a:pt x="11" y="1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606920" y="2868120"/>
                <a:ext cx="31680" cy="55080"/>
              </a:xfrm>
              <a:custGeom>
                <a:avLst/>
                <a:gdLst/>
                <a:ahLst/>
                <a:rect l="l" t="t" r="r" b="b"/>
                <a:pathLst>
                  <a:path w="40" h="69">
                    <a:moveTo>
                      <a:pt x="0" y="63"/>
                    </a:moveTo>
                    <a:lnTo>
                      <a:pt x="14" y="69"/>
                    </a:lnTo>
                    <a:lnTo>
                      <a:pt x="40" y="6"/>
                    </a:lnTo>
                    <a:lnTo>
                      <a:pt x="26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606920" y="291888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1"/>
                    </a:moveTo>
                    <a:lnTo>
                      <a:pt x="0" y="0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280040" y="2866680"/>
                <a:ext cx="357120" cy="347040"/>
              </a:xfrm>
              <a:custGeom>
                <a:avLst/>
                <a:gdLst/>
                <a:ahLst/>
                <a:rect l="l" t="t" r="r" b="b"/>
                <a:pathLst>
                  <a:path w="449" h="439">
                    <a:moveTo>
                      <a:pt x="449" y="11"/>
                    </a:moveTo>
                    <a:lnTo>
                      <a:pt x="143" y="309"/>
                    </a:lnTo>
                    <a:lnTo>
                      <a:pt x="47" y="401"/>
                    </a:lnTo>
                    <a:lnTo>
                      <a:pt x="9" y="439"/>
                    </a:lnTo>
                    <a:lnTo>
                      <a:pt x="0" y="428"/>
                    </a:lnTo>
                    <a:lnTo>
                      <a:pt x="37" y="390"/>
                    </a:lnTo>
                    <a:lnTo>
                      <a:pt x="133" y="298"/>
                    </a:lnTo>
                    <a:lnTo>
                      <a:pt x="440" y="0"/>
                    </a:lnTo>
                    <a:lnTo>
                      <a:pt x="44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627440" y="286668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4" y="9"/>
                    </a:moveTo>
                    <a:lnTo>
                      <a:pt x="3" y="0"/>
                    </a:lnTo>
                    <a:lnTo>
                      <a:pt x="12" y="11"/>
                    </a:lnTo>
                    <a:lnTo>
                      <a:pt x="0" y="3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848040" y="2707920"/>
                <a:ext cx="439920" cy="504360"/>
              </a:xfrm>
              <a:custGeom>
                <a:avLst/>
                <a:gdLst/>
                <a:ahLst/>
                <a:rect l="l" t="t" r="r" b="b"/>
                <a:pathLst>
                  <a:path w="555" h="637">
                    <a:moveTo>
                      <a:pt x="544" y="637"/>
                    </a:moveTo>
                    <a:lnTo>
                      <a:pt x="519" y="606"/>
                    </a:lnTo>
                    <a:lnTo>
                      <a:pt x="456" y="534"/>
                    </a:lnTo>
                    <a:lnTo>
                      <a:pt x="271" y="318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282" y="308"/>
                    </a:lnTo>
                    <a:lnTo>
                      <a:pt x="467" y="524"/>
                    </a:lnTo>
                    <a:lnTo>
                      <a:pt x="530" y="596"/>
                    </a:lnTo>
                    <a:lnTo>
                      <a:pt x="555" y="627"/>
                    </a:lnTo>
                    <a:lnTo>
                      <a:pt x="544" y="6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280040" y="3206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11"/>
                    </a:moveTo>
                    <a:lnTo>
                      <a:pt x="5" y="17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2" y="0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795840" y="2702880"/>
                <a:ext cx="60120" cy="3780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67" y="16"/>
                    </a:moveTo>
                    <a:lnTo>
                      <a:pt x="63" y="13"/>
                    </a:lnTo>
                    <a:lnTo>
                      <a:pt x="57" y="15"/>
                    </a:lnTo>
                    <a:lnTo>
                      <a:pt x="39" y="30"/>
                    </a:lnTo>
                    <a:lnTo>
                      <a:pt x="19" y="45"/>
                    </a:lnTo>
                    <a:lnTo>
                      <a:pt x="8" y="48"/>
                    </a:lnTo>
                    <a:lnTo>
                      <a:pt x="1" y="43"/>
                    </a:lnTo>
                    <a:lnTo>
                      <a:pt x="0" y="39"/>
                    </a:lnTo>
                    <a:lnTo>
                      <a:pt x="12" y="32"/>
                    </a:lnTo>
                    <a:lnTo>
                      <a:pt x="13" y="35"/>
                    </a:lnTo>
                    <a:lnTo>
                      <a:pt x="11" y="34"/>
                    </a:lnTo>
                    <a:lnTo>
                      <a:pt x="11" y="33"/>
                    </a:lnTo>
                    <a:lnTo>
                      <a:pt x="29" y="19"/>
                    </a:lnTo>
                    <a:lnTo>
                      <a:pt x="48" y="2"/>
                    </a:lnTo>
                    <a:lnTo>
                      <a:pt x="63" y="0"/>
                    </a:lnTo>
                    <a:lnTo>
                      <a:pt x="74" y="4"/>
                    </a:lnTo>
                    <a:lnTo>
                      <a:pt x="6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848040" y="27061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1"/>
                    </a:moveTo>
                    <a:lnTo>
                      <a:pt x="10" y="0"/>
                    </a:lnTo>
                    <a:lnTo>
                      <a:pt x="3" y="12"/>
                    </a:lnTo>
                    <a:lnTo>
                      <a:pt x="0" y="11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795840" y="2729880"/>
                <a:ext cx="50760" cy="88560"/>
              </a:xfrm>
              <a:custGeom>
                <a:avLst/>
                <a:gdLst/>
                <a:ahLst/>
                <a:rect l="l" t="t" r="r" b="b"/>
                <a:pathLst>
                  <a:path w="65" h="112">
                    <a:moveTo>
                      <a:pt x="14" y="0"/>
                    </a:moveTo>
                    <a:lnTo>
                      <a:pt x="0" y="6"/>
                    </a:lnTo>
                    <a:lnTo>
                      <a:pt x="52" y="112"/>
                    </a:lnTo>
                    <a:lnTo>
                      <a:pt x="65" y="10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795840" y="272844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2" y="7"/>
                    </a:moveTo>
                    <a:lnTo>
                      <a:pt x="14" y="1"/>
                    </a:lnTo>
                    <a:lnTo>
                      <a:pt x="0" y="7"/>
                    </a:lnTo>
                    <a:lnTo>
                      <a:pt x="14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835440" y="281412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0" y="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281400" y="2007720"/>
                <a:ext cx="873000" cy="549000"/>
              </a:xfrm>
              <a:custGeom>
                <a:avLst/>
                <a:gdLst/>
                <a:ahLst/>
                <a:rect l="l" t="t" r="r" b="b"/>
                <a:pathLst>
                  <a:path w="1100" h="691">
                    <a:moveTo>
                      <a:pt x="41" y="300"/>
                    </a:moveTo>
                    <a:lnTo>
                      <a:pt x="73" y="343"/>
                    </a:lnTo>
                    <a:lnTo>
                      <a:pt x="107" y="388"/>
                    </a:lnTo>
                    <a:lnTo>
                      <a:pt x="144" y="434"/>
                    </a:lnTo>
                    <a:lnTo>
                      <a:pt x="183" y="482"/>
                    </a:lnTo>
                    <a:lnTo>
                      <a:pt x="223" y="532"/>
                    </a:lnTo>
                    <a:lnTo>
                      <a:pt x="266" y="581"/>
                    </a:lnTo>
                    <a:lnTo>
                      <a:pt x="311" y="632"/>
                    </a:lnTo>
                    <a:lnTo>
                      <a:pt x="358" y="684"/>
                    </a:lnTo>
                    <a:lnTo>
                      <a:pt x="366" y="686"/>
                    </a:lnTo>
                    <a:lnTo>
                      <a:pt x="375" y="689"/>
                    </a:lnTo>
                    <a:lnTo>
                      <a:pt x="384" y="690"/>
                    </a:lnTo>
                    <a:lnTo>
                      <a:pt x="393" y="690"/>
                    </a:lnTo>
                    <a:lnTo>
                      <a:pt x="402" y="690"/>
                    </a:lnTo>
                    <a:lnTo>
                      <a:pt x="410" y="690"/>
                    </a:lnTo>
                    <a:lnTo>
                      <a:pt x="420" y="689"/>
                    </a:lnTo>
                    <a:lnTo>
                      <a:pt x="429" y="687"/>
                    </a:lnTo>
                    <a:lnTo>
                      <a:pt x="437" y="685"/>
                    </a:lnTo>
                    <a:lnTo>
                      <a:pt x="446" y="681"/>
                    </a:lnTo>
                    <a:lnTo>
                      <a:pt x="454" y="678"/>
                    </a:lnTo>
                    <a:lnTo>
                      <a:pt x="463" y="674"/>
                    </a:lnTo>
                    <a:lnTo>
                      <a:pt x="470" y="669"/>
                    </a:lnTo>
                    <a:lnTo>
                      <a:pt x="479" y="664"/>
                    </a:lnTo>
                    <a:lnTo>
                      <a:pt x="486" y="658"/>
                    </a:lnTo>
                    <a:lnTo>
                      <a:pt x="494" y="651"/>
                    </a:lnTo>
                    <a:lnTo>
                      <a:pt x="502" y="641"/>
                    </a:lnTo>
                    <a:lnTo>
                      <a:pt x="511" y="630"/>
                    </a:lnTo>
                    <a:lnTo>
                      <a:pt x="513" y="625"/>
                    </a:lnTo>
                    <a:lnTo>
                      <a:pt x="517" y="620"/>
                    </a:lnTo>
                    <a:lnTo>
                      <a:pt x="522" y="610"/>
                    </a:lnTo>
                    <a:lnTo>
                      <a:pt x="525" y="599"/>
                    </a:lnTo>
                    <a:lnTo>
                      <a:pt x="529" y="588"/>
                    </a:lnTo>
                    <a:lnTo>
                      <a:pt x="529" y="583"/>
                    </a:lnTo>
                    <a:lnTo>
                      <a:pt x="530" y="579"/>
                    </a:lnTo>
                    <a:lnTo>
                      <a:pt x="531" y="568"/>
                    </a:lnTo>
                    <a:lnTo>
                      <a:pt x="531" y="556"/>
                    </a:lnTo>
                    <a:lnTo>
                      <a:pt x="531" y="547"/>
                    </a:lnTo>
                    <a:lnTo>
                      <a:pt x="528" y="525"/>
                    </a:lnTo>
                    <a:lnTo>
                      <a:pt x="524" y="504"/>
                    </a:lnTo>
                    <a:lnTo>
                      <a:pt x="518" y="482"/>
                    </a:lnTo>
                    <a:lnTo>
                      <a:pt x="513" y="461"/>
                    </a:lnTo>
                    <a:lnTo>
                      <a:pt x="509" y="439"/>
                    </a:lnTo>
                    <a:lnTo>
                      <a:pt x="508" y="429"/>
                    </a:lnTo>
                    <a:lnTo>
                      <a:pt x="507" y="418"/>
                    </a:lnTo>
                    <a:lnTo>
                      <a:pt x="507" y="409"/>
                    </a:lnTo>
                    <a:lnTo>
                      <a:pt x="507" y="398"/>
                    </a:lnTo>
                    <a:lnTo>
                      <a:pt x="508" y="388"/>
                    </a:lnTo>
                    <a:lnTo>
                      <a:pt x="511" y="377"/>
                    </a:lnTo>
                    <a:lnTo>
                      <a:pt x="513" y="367"/>
                    </a:lnTo>
                    <a:lnTo>
                      <a:pt x="518" y="357"/>
                    </a:lnTo>
                    <a:lnTo>
                      <a:pt x="523" y="347"/>
                    </a:lnTo>
                    <a:lnTo>
                      <a:pt x="530" y="336"/>
                    </a:lnTo>
                    <a:lnTo>
                      <a:pt x="539" y="328"/>
                    </a:lnTo>
                    <a:lnTo>
                      <a:pt x="549" y="318"/>
                    </a:lnTo>
                    <a:lnTo>
                      <a:pt x="556" y="312"/>
                    </a:lnTo>
                    <a:lnTo>
                      <a:pt x="563" y="306"/>
                    </a:lnTo>
                    <a:lnTo>
                      <a:pt x="571" y="301"/>
                    </a:lnTo>
                    <a:lnTo>
                      <a:pt x="578" y="296"/>
                    </a:lnTo>
                    <a:lnTo>
                      <a:pt x="585" y="292"/>
                    </a:lnTo>
                    <a:lnTo>
                      <a:pt x="593" y="289"/>
                    </a:lnTo>
                    <a:lnTo>
                      <a:pt x="601" y="286"/>
                    </a:lnTo>
                    <a:lnTo>
                      <a:pt x="608" y="284"/>
                    </a:lnTo>
                    <a:lnTo>
                      <a:pt x="616" y="281"/>
                    </a:lnTo>
                    <a:lnTo>
                      <a:pt x="624" y="280"/>
                    </a:lnTo>
                    <a:lnTo>
                      <a:pt x="632" y="279"/>
                    </a:lnTo>
                    <a:lnTo>
                      <a:pt x="640" y="279"/>
                    </a:lnTo>
                    <a:lnTo>
                      <a:pt x="656" y="279"/>
                    </a:lnTo>
                    <a:lnTo>
                      <a:pt x="673" y="280"/>
                    </a:lnTo>
                    <a:lnTo>
                      <a:pt x="689" y="284"/>
                    </a:lnTo>
                    <a:lnTo>
                      <a:pt x="705" y="287"/>
                    </a:lnTo>
                    <a:lnTo>
                      <a:pt x="714" y="290"/>
                    </a:lnTo>
                    <a:lnTo>
                      <a:pt x="722" y="294"/>
                    </a:lnTo>
                    <a:lnTo>
                      <a:pt x="738" y="300"/>
                    </a:lnTo>
                    <a:lnTo>
                      <a:pt x="754" y="307"/>
                    </a:lnTo>
                    <a:lnTo>
                      <a:pt x="770" y="316"/>
                    </a:lnTo>
                    <a:lnTo>
                      <a:pt x="784" y="325"/>
                    </a:lnTo>
                    <a:lnTo>
                      <a:pt x="800" y="334"/>
                    </a:lnTo>
                    <a:lnTo>
                      <a:pt x="815" y="345"/>
                    </a:lnTo>
                    <a:lnTo>
                      <a:pt x="830" y="355"/>
                    </a:lnTo>
                    <a:lnTo>
                      <a:pt x="843" y="366"/>
                    </a:lnTo>
                    <a:lnTo>
                      <a:pt x="857" y="377"/>
                    </a:lnTo>
                    <a:lnTo>
                      <a:pt x="882" y="399"/>
                    </a:lnTo>
                    <a:lnTo>
                      <a:pt x="893" y="409"/>
                    </a:lnTo>
                    <a:lnTo>
                      <a:pt x="904" y="420"/>
                    </a:lnTo>
                    <a:lnTo>
                      <a:pt x="924" y="438"/>
                    </a:lnTo>
                    <a:lnTo>
                      <a:pt x="940" y="455"/>
                    </a:lnTo>
                    <a:lnTo>
                      <a:pt x="959" y="475"/>
                    </a:lnTo>
                    <a:lnTo>
                      <a:pt x="980" y="495"/>
                    </a:lnTo>
                    <a:lnTo>
                      <a:pt x="998" y="516"/>
                    </a:lnTo>
                    <a:lnTo>
                      <a:pt x="1017" y="537"/>
                    </a:lnTo>
                    <a:lnTo>
                      <a:pt x="1033" y="558"/>
                    </a:lnTo>
                    <a:lnTo>
                      <a:pt x="1046" y="579"/>
                    </a:lnTo>
                    <a:lnTo>
                      <a:pt x="1060" y="599"/>
                    </a:lnTo>
                    <a:lnTo>
                      <a:pt x="1071" y="619"/>
                    </a:lnTo>
                    <a:lnTo>
                      <a:pt x="1080" y="640"/>
                    </a:lnTo>
                    <a:lnTo>
                      <a:pt x="1058" y="691"/>
                    </a:lnTo>
                    <a:lnTo>
                      <a:pt x="1057" y="691"/>
                    </a:lnTo>
                    <a:lnTo>
                      <a:pt x="1064" y="685"/>
                    </a:lnTo>
                    <a:lnTo>
                      <a:pt x="1071" y="676"/>
                    </a:lnTo>
                    <a:lnTo>
                      <a:pt x="1073" y="673"/>
                    </a:lnTo>
                    <a:lnTo>
                      <a:pt x="1075" y="668"/>
                    </a:lnTo>
                    <a:lnTo>
                      <a:pt x="1082" y="658"/>
                    </a:lnTo>
                    <a:lnTo>
                      <a:pt x="1085" y="648"/>
                    </a:lnTo>
                    <a:lnTo>
                      <a:pt x="1090" y="638"/>
                    </a:lnTo>
                    <a:lnTo>
                      <a:pt x="1093" y="627"/>
                    </a:lnTo>
                    <a:lnTo>
                      <a:pt x="1096" y="615"/>
                    </a:lnTo>
                    <a:lnTo>
                      <a:pt x="1097" y="603"/>
                    </a:lnTo>
                    <a:lnTo>
                      <a:pt x="1100" y="591"/>
                    </a:lnTo>
                    <a:lnTo>
                      <a:pt x="1100" y="577"/>
                    </a:lnTo>
                    <a:lnTo>
                      <a:pt x="1100" y="564"/>
                    </a:lnTo>
                    <a:lnTo>
                      <a:pt x="1099" y="534"/>
                    </a:lnTo>
                    <a:lnTo>
                      <a:pt x="1096" y="520"/>
                    </a:lnTo>
                    <a:lnTo>
                      <a:pt x="1094" y="505"/>
                    </a:lnTo>
                    <a:lnTo>
                      <a:pt x="1090" y="489"/>
                    </a:lnTo>
                    <a:lnTo>
                      <a:pt x="1085" y="473"/>
                    </a:lnTo>
                    <a:lnTo>
                      <a:pt x="1080" y="456"/>
                    </a:lnTo>
                    <a:lnTo>
                      <a:pt x="1073" y="440"/>
                    </a:lnTo>
                    <a:lnTo>
                      <a:pt x="1067" y="423"/>
                    </a:lnTo>
                    <a:lnTo>
                      <a:pt x="1058" y="406"/>
                    </a:lnTo>
                    <a:lnTo>
                      <a:pt x="1050" y="388"/>
                    </a:lnTo>
                    <a:lnTo>
                      <a:pt x="1040" y="371"/>
                    </a:lnTo>
                    <a:lnTo>
                      <a:pt x="1029" y="354"/>
                    </a:lnTo>
                    <a:lnTo>
                      <a:pt x="1017" y="335"/>
                    </a:lnTo>
                    <a:lnTo>
                      <a:pt x="1003" y="317"/>
                    </a:lnTo>
                    <a:lnTo>
                      <a:pt x="990" y="298"/>
                    </a:lnTo>
                    <a:lnTo>
                      <a:pt x="975" y="280"/>
                    </a:lnTo>
                    <a:lnTo>
                      <a:pt x="958" y="262"/>
                    </a:lnTo>
                    <a:lnTo>
                      <a:pt x="941" y="243"/>
                    </a:lnTo>
                    <a:lnTo>
                      <a:pt x="923" y="225"/>
                    </a:lnTo>
                    <a:lnTo>
                      <a:pt x="901" y="202"/>
                    </a:lnTo>
                    <a:lnTo>
                      <a:pt x="882" y="184"/>
                    </a:lnTo>
                    <a:lnTo>
                      <a:pt x="860" y="162"/>
                    </a:lnTo>
                    <a:lnTo>
                      <a:pt x="848" y="151"/>
                    </a:lnTo>
                    <a:lnTo>
                      <a:pt x="835" y="138"/>
                    </a:lnTo>
                    <a:lnTo>
                      <a:pt x="805" y="113"/>
                    </a:lnTo>
                    <a:lnTo>
                      <a:pt x="773" y="88"/>
                    </a:lnTo>
                    <a:lnTo>
                      <a:pt x="758" y="76"/>
                    </a:lnTo>
                    <a:lnTo>
                      <a:pt x="740" y="64"/>
                    </a:lnTo>
                    <a:lnTo>
                      <a:pt x="722" y="53"/>
                    </a:lnTo>
                    <a:lnTo>
                      <a:pt x="705" y="43"/>
                    </a:lnTo>
                    <a:lnTo>
                      <a:pt x="687" y="33"/>
                    </a:lnTo>
                    <a:lnTo>
                      <a:pt x="668" y="25"/>
                    </a:lnTo>
                    <a:lnTo>
                      <a:pt x="650" y="16"/>
                    </a:lnTo>
                    <a:lnTo>
                      <a:pt x="630" y="10"/>
                    </a:lnTo>
                    <a:lnTo>
                      <a:pt x="622" y="7"/>
                    </a:lnTo>
                    <a:lnTo>
                      <a:pt x="612" y="5"/>
                    </a:lnTo>
                    <a:lnTo>
                      <a:pt x="602" y="4"/>
                    </a:lnTo>
                    <a:lnTo>
                      <a:pt x="593" y="1"/>
                    </a:lnTo>
                    <a:lnTo>
                      <a:pt x="574" y="0"/>
                    </a:lnTo>
                    <a:lnTo>
                      <a:pt x="556" y="0"/>
                    </a:lnTo>
                    <a:lnTo>
                      <a:pt x="538" y="1"/>
                    </a:lnTo>
                    <a:lnTo>
                      <a:pt x="528" y="4"/>
                    </a:lnTo>
                    <a:lnTo>
                      <a:pt x="519" y="6"/>
                    </a:lnTo>
                    <a:lnTo>
                      <a:pt x="509" y="9"/>
                    </a:lnTo>
                    <a:lnTo>
                      <a:pt x="501" y="12"/>
                    </a:lnTo>
                    <a:lnTo>
                      <a:pt x="492" y="16"/>
                    </a:lnTo>
                    <a:lnTo>
                      <a:pt x="484" y="20"/>
                    </a:lnTo>
                    <a:lnTo>
                      <a:pt x="475" y="26"/>
                    </a:lnTo>
                    <a:lnTo>
                      <a:pt x="467" y="31"/>
                    </a:lnTo>
                    <a:lnTo>
                      <a:pt x="458" y="38"/>
                    </a:lnTo>
                    <a:lnTo>
                      <a:pt x="450" y="44"/>
                    </a:lnTo>
                    <a:lnTo>
                      <a:pt x="439" y="55"/>
                    </a:lnTo>
                    <a:lnTo>
                      <a:pt x="434" y="61"/>
                    </a:lnTo>
                    <a:lnTo>
                      <a:pt x="429" y="67"/>
                    </a:lnTo>
                    <a:lnTo>
                      <a:pt x="424" y="72"/>
                    </a:lnTo>
                    <a:lnTo>
                      <a:pt x="420" y="78"/>
                    </a:lnTo>
                    <a:lnTo>
                      <a:pt x="418" y="85"/>
                    </a:lnTo>
                    <a:lnTo>
                      <a:pt x="414" y="89"/>
                    </a:lnTo>
                    <a:lnTo>
                      <a:pt x="412" y="96"/>
                    </a:lnTo>
                    <a:lnTo>
                      <a:pt x="409" y="102"/>
                    </a:lnTo>
                    <a:lnTo>
                      <a:pt x="406" y="113"/>
                    </a:lnTo>
                    <a:lnTo>
                      <a:pt x="403" y="125"/>
                    </a:lnTo>
                    <a:lnTo>
                      <a:pt x="402" y="137"/>
                    </a:lnTo>
                    <a:lnTo>
                      <a:pt x="402" y="148"/>
                    </a:lnTo>
                    <a:lnTo>
                      <a:pt x="402" y="160"/>
                    </a:lnTo>
                    <a:lnTo>
                      <a:pt x="404" y="185"/>
                    </a:lnTo>
                    <a:lnTo>
                      <a:pt x="407" y="197"/>
                    </a:lnTo>
                    <a:lnTo>
                      <a:pt x="409" y="209"/>
                    </a:lnTo>
                    <a:lnTo>
                      <a:pt x="415" y="234"/>
                    </a:lnTo>
                    <a:lnTo>
                      <a:pt x="421" y="259"/>
                    </a:lnTo>
                    <a:lnTo>
                      <a:pt x="424" y="272"/>
                    </a:lnTo>
                    <a:lnTo>
                      <a:pt x="426" y="284"/>
                    </a:lnTo>
                    <a:lnTo>
                      <a:pt x="429" y="296"/>
                    </a:lnTo>
                    <a:lnTo>
                      <a:pt x="430" y="308"/>
                    </a:lnTo>
                    <a:lnTo>
                      <a:pt x="430" y="320"/>
                    </a:lnTo>
                    <a:lnTo>
                      <a:pt x="430" y="333"/>
                    </a:lnTo>
                    <a:lnTo>
                      <a:pt x="429" y="345"/>
                    </a:lnTo>
                    <a:lnTo>
                      <a:pt x="426" y="357"/>
                    </a:lnTo>
                    <a:lnTo>
                      <a:pt x="425" y="363"/>
                    </a:lnTo>
                    <a:lnTo>
                      <a:pt x="424" y="369"/>
                    </a:lnTo>
                    <a:lnTo>
                      <a:pt x="419" y="382"/>
                    </a:lnTo>
                    <a:lnTo>
                      <a:pt x="413" y="394"/>
                    </a:lnTo>
                    <a:lnTo>
                      <a:pt x="406" y="405"/>
                    </a:lnTo>
                    <a:lnTo>
                      <a:pt x="397" y="417"/>
                    </a:lnTo>
                    <a:lnTo>
                      <a:pt x="392" y="423"/>
                    </a:lnTo>
                    <a:lnTo>
                      <a:pt x="386" y="429"/>
                    </a:lnTo>
                    <a:lnTo>
                      <a:pt x="377" y="437"/>
                    </a:lnTo>
                    <a:lnTo>
                      <a:pt x="369" y="443"/>
                    </a:lnTo>
                    <a:lnTo>
                      <a:pt x="360" y="450"/>
                    </a:lnTo>
                    <a:lnTo>
                      <a:pt x="351" y="455"/>
                    </a:lnTo>
                    <a:lnTo>
                      <a:pt x="342" y="460"/>
                    </a:lnTo>
                    <a:lnTo>
                      <a:pt x="332" y="464"/>
                    </a:lnTo>
                    <a:lnTo>
                      <a:pt x="322" y="467"/>
                    </a:lnTo>
                    <a:lnTo>
                      <a:pt x="311" y="470"/>
                    </a:lnTo>
                    <a:lnTo>
                      <a:pt x="302" y="472"/>
                    </a:lnTo>
                    <a:lnTo>
                      <a:pt x="292" y="473"/>
                    </a:lnTo>
                    <a:lnTo>
                      <a:pt x="281" y="475"/>
                    </a:lnTo>
                    <a:lnTo>
                      <a:pt x="271" y="475"/>
                    </a:lnTo>
                    <a:lnTo>
                      <a:pt x="260" y="473"/>
                    </a:lnTo>
                    <a:lnTo>
                      <a:pt x="250" y="472"/>
                    </a:lnTo>
                    <a:lnTo>
                      <a:pt x="239" y="470"/>
                    </a:lnTo>
                    <a:lnTo>
                      <a:pt x="229" y="467"/>
                    </a:lnTo>
                    <a:lnTo>
                      <a:pt x="168" y="399"/>
                    </a:lnTo>
                    <a:lnTo>
                      <a:pt x="110" y="332"/>
                    </a:lnTo>
                    <a:lnTo>
                      <a:pt x="53" y="265"/>
                    </a:lnTo>
                    <a:lnTo>
                      <a:pt x="27" y="232"/>
                    </a:lnTo>
                    <a:lnTo>
                      <a:pt x="0" y="201"/>
                    </a:lnTo>
                    <a:lnTo>
                      <a:pt x="41" y="30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309840" y="2242800"/>
                <a:ext cx="260280" cy="310680"/>
              </a:xfrm>
              <a:custGeom>
                <a:avLst/>
                <a:gdLst/>
                <a:ahLst/>
                <a:rect l="l" t="t" r="r" b="b"/>
                <a:pathLst>
                  <a:path w="328" h="393">
                    <a:moveTo>
                      <a:pt x="12" y="0"/>
                    </a:moveTo>
                    <a:lnTo>
                      <a:pt x="78" y="88"/>
                    </a:lnTo>
                    <a:lnTo>
                      <a:pt x="152" y="181"/>
                    </a:lnTo>
                    <a:lnTo>
                      <a:pt x="236" y="280"/>
                    </a:lnTo>
                    <a:lnTo>
                      <a:pt x="328" y="383"/>
                    </a:lnTo>
                    <a:lnTo>
                      <a:pt x="317" y="393"/>
                    </a:lnTo>
                    <a:lnTo>
                      <a:pt x="225" y="290"/>
                    </a:lnTo>
                    <a:lnTo>
                      <a:pt x="141" y="191"/>
                    </a:lnTo>
                    <a:lnTo>
                      <a:pt x="66" y="97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565440" y="2520360"/>
                <a:ext cx="112680" cy="41040"/>
              </a:xfrm>
              <a:custGeom>
                <a:avLst/>
                <a:gdLst/>
                <a:ahLst/>
                <a:rect l="l" t="t" r="r" b="b"/>
                <a:pathLst>
                  <a:path w="141" h="51">
                    <a:moveTo>
                      <a:pt x="2" y="30"/>
                    </a:moveTo>
                    <a:lnTo>
                      <a:pt x="19" y="35"/>
                    </a:lnTo>
                    <a:lnTo>
                      <a:pt x="36" y="36"/>
                    </a:lnTo>
                    <a:lnTo>
                      <a:pt x="53" y="36"/>
                    </a:lnTo>
                    <a:lnTo>
                      <a:pt x="71" y="33"/>
                    </a:lnTo>
                    <a:lnTo>
                      <a:pt x="85" y="29"/>
                    </a:lnTo>
                    <a:lnTo>
                      <a:pt x="102" y="22"/>
                    </a:lnTo>
                    <a:lnTo>
                      <a:pt x="117" y="11"/>
                    </a:lnTo>
                    <a:lnTo>
                      <a:pt x="132" y="0"/>
                    </a:lnTo>
                    <a:lnTo>
                      <a:pt x="141" y="11"/>
                    </a:lnTo>
                    <a:lnTo>
                      <a:pt x="126" y="23"/>
                    </a:lnTo>
                    <a:lnTo>
                      <a:pt x="110" y="34"/>
                    </a:lnTo>
                    <a:lnTo>
                      <a:pt x="91" y="43"/>
                    </a:lnTo>
                    <a:lnTo>
                      <a:pt x="73" y="47"/>
                    </a:lnTo>
                    <a:lnTo>
                      <a:pt x="55" y="51"/>
                    </a:lnTo>
                    <a:lnTo>
                      <a:pt x="35" y="51"/>
                    </a:lnTo>
                    <a:lnTo>
                      <a:pt x="17" y="50"/>
                    </a:lnTo>
                    <a:lnTo>
                      <a:pt x="0" y="45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560760" y="254412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0" y="13"/>
                    </a:moveTo>
                    <a:lnTo>
                      <a:pt x="1" y="14"/>
                    </a:lnTo>
                    <a:lnTo>
                      <a:pt x="5" y="15"/>
                    </a:lnTo>
                    <a:lnTo>
                      <a:pt x="7" y="0"/>
                    </a:lnTo>
                    <a:lnTo>
                      <a:pt x="11" y="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668760" y="2256840"/>
                <a:ext cx="52200" cy="271080"/>
              </a:xfrm>
              <a:custGeom>
                <a:avLst/>
                <a:gdLst/>
                <a:ahLst/>
                <a:rect l="l" t="t" r="r" b="b"/>
                <a:pathLst>
                  <a:path w="66" h="343">
                    <a:moveTo>
                      <a:pt x="0" y="333"/>
                    </a:moveTo>
                    <a:lnTo>
                      <a:pt x="18" y="312"/>
                    </a:lnTo>
                    <a:lnTo>
                      <a:pt x="29" y="292"/>
                    </a:lnTo>
                    <a:lnTo>
                      <a:pt x="35" y="273"/>
                    </a:lnTo>
                    <a:lnTo>
                      <a:pt x="37" y="253"/>
                    </a:lnTo>
                    <a:lnTo>
                      <a:pt x="36" y="234"/>
                    </a:lnTo>
                    <a:lnTo>
                      <a:pt x="33" y="214"/>
                    </a:lnTo>
                    <a:lnTo>
                      <a:pt x="24" y="171"/>
                    </a:lnTo>
                    <a:lnTo>
                      <a:pt x="15" y="129"/>
                    </a:lnTo>
                    <a:lnTo>
                      <a:pt x="13" y="105"/>
                    </a:lnTo>
                    <a:lnTo>
                      <a:pt x="13" y="83"/>
                    </a:lnTo>
                    <a:lnTo>
                      <a:pt x="15" y="61"/>
                    </a:lnTo>
                    <a:lnTo>
                      <a:pt x="25" y="41"/>
                    </a:lnTo>
                    <a:lnTo>
                      <a:pt x="37" y="19"/>
                    </a:lnTo>
                    <a:lnTo>
                      <a:pt x="57" y="0"/>
                    </a:lnTo>
                    <a:lnTo>
                      <a:pt x="66" y="11"/>
                    </a:lnTo>
                    <a:lnTo>
                      <a:pt x="48" y="28"/>
                    </a:lnTo>
                    <a:lnTo>
                      <a:pt x="37" y="48"/>
                    </a:lnTo>
                    <a:lnTo>
                      <a:pt x="29" y="66"/>
                    </a:lnTo>
                    <a:lnTo>
                      <a:pt x="26" y="86"/>
                    </a:lnTo>
                    <a:lnTo>
                      <a:pt x="26" y="105"/>
                    </a:lnTo>
                    <a:lnTo>
                      <a:pt x="29" y="125"/>
                    </a:lnTo>
                    <a:lnTo>
                      <a:pt x="37" y="168"/>
                    </a:lnTo>
                    <a:lnTo>
                      <a:pt x="47" y="210"/>
                    </a:lnTo>
                    <a:lnTo>
                      <a:pt x="49" y="234"/>
                    </a:lnTo>
                    <a:lnTo>
                      <a:pt x="51" y="256"/>
                    </a:lnTo>
                    <a:lnTo>
                      <a:pt x="48" y="278"/>
                    </a:lnTo>
                    <a:lnTo>
                      <a:pt x="41" y="300"/>
                    </a:lnTo>
                    <a:lnTo>
                      <a:pt x="29" y="322"/>
                    </a:lnTo>
                    <a:lnTo>
                      <a:pt x="11" y="343"/>
                    </a:lnTo>
                    <a:lnTo>
                      <a:pt x="0" y="3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668760" y="252036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1"/>
                    </a:moveTo>
                    <a:lnTo>
                      <a:pt x="11" y="1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13040" y="2223720"/>
                <a:ext cx="335160" cy="164520"/>
              </a:xfrm>
              <a:custGeom>
                <a:avLst/>
                <a:gdLst/>
                <a:ahLst/>
                <a:rect l="l" t="t" r="r" b="b"/>
                <a:pathLst>
                  <a:path w="420" h="207">
                    <a:moveTo>
                      <a:pt x="0" y="41"/>
                    </a:moveTo>
                    <a:lnTo>
                      <a:pt x="13" y="28"/>
                    </a:lnTo>
                    <a:lnTo>
                      <a:pt x="30" y="18"/>
                    </a:lnTo>
                    <a:lnTo>
                      <a:pt x="45" y="11"/>
                    </a:lnTo>
                    <a:lnTo>
                      <a:pt x="63" y="4"/>
                    </a:lnTo>
                    <a:lnTo>
                      <a:pt x="80" y="1"/>
                    </a:lnTo>
                    <a:lnTo>
                      <a:pt x="96" y="0"/>
                    </a:lnTo>
                    <a:lnTo>
                      <a:pt x="129" y="1"/>
                    </a:lnTo>
                    <a:lnTo>
                      <a:pt x="162" y="8"/>
                    </a:lnTo>
                    <a:lnTo>
                      <a:pt x="196" y="22"/>
                    </a:lnTo>
                    <a:lnTo>
                      <a:pt x="229" y="37"/>
                    </a:lnTo>
                    <a:lnTo>
                      <a:pt x="260" y="56"/>
                    </a:lnTo>
                    <a:lnTo>
                      <a:pt x="317" y="100"/>
                    </a:lnTo>
                    <a:lnTo>
                      <a:pt x="365" y="143"/>
                    </a:lnTo>
                    <a:lnTo>
                      <a:pt x="420" y="198"/>
                    </a:lnTo>
                    <a:lnTo>
                      <a:pt x="409" y="207"/>
                    </a:lnTo>
                    <a:lnTo>
                      <a:pt x="355" y="154"/>
                    </a:lnTo>
                    <a:lnTo>
                      <a:pt x="308" y="111"/>
                    </a:lnTo>
                    <a:lnTo>
                      <a:pt x="251" y="68"/>
                    </a:lnTo>
                    <a:lnTo>
                      <a:pt x="221" y="50"/>
                    </a:lnTo>
                    <a:lnTo>
                      <a:pt x="190" y="35"/>
                    </a:lnTo>
                    <a:lnTo>
                      <a:pt x="160" y="23"/>
                    </a:lnTo>
                    <a:lnTo>
                      <a:pt x="127" y="15"/>
                    </a:lnTo>
                    <a:lnTo>
                      <a:pt x="96" y="14"/>
                    </a:lnTo>
                    <a:lnTo>
                      <a:pt x="82" y="15"/>
                    </a:lnTo>
                    <a:lnTo>
                      <a:pt x="66" y="19"/>
                    </a:lnTo>
                    <a:lnTo>
                      <a:pt x="51" y="24"/>
                    </a:lnTo>
                    <a:lnTo>
                      <a:pt x="38" y="30"/>
                    </a:lnTo>
                    <a:lnTo>
                      <a:pt x="22" y="40"/>
                    </a:lnTo>
                    <a:lnTo>
                      <a:pt x="9" y="5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13040" y="225684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0"/>
                    </a:moveTo>
                    <a:lnTo>
                      <a:pt x="9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038480" y="2380680"/>
                <a:ext cx="106560" cy="136080"/>
              </a:xfrm>
              <a:custGeom>
                <a:avLst/>
                <a:gdLst/>
                <a:ahLst/>
                <a:rect l="l" t="t" r="r" b="b"/>
                <a:pathLst>
                  <a:path w="133" h="172">
                    <a:moveTo>
                      <a:pt x="11" y="0"/>
                    </a:moveTo>
                    <a:lnTo>
                      <a:pt x="50" y="41"/>
                    </a:lnTo>
                    <a:lnTo>
                      <a:pt x="86" y="84"/>
                    </a:lnTo>
                    <a:lnTo>
                      <a:pt x="113" y="126"/>
                    </a:lnTo>
                    <a:lnTo>
                      <a:pt x="124" y="146"/>
                    </a:lnTo>
                    <a:lnTo>
                      <a:pt x="133" y="166"/>
                    </a:lnTo>
                    <a:lnTo>
                      <a:pt x="120" y="172"/>
                    </a:lnTo>
                    <a:lnTo>
                      <a:pt x="110" y="153"/>
                    </a:lnTo>
                    <a:lnTo>
                      <a:pt x="100" y="134"/>
                    </a:lnTo>
                    <a:lnTo>
                      <a:pt x="74" y="93"/>
                    </a:lnTo>
                    <a:lnTo>
                      <a:pt x="39" y="51"/>
                    </a:lnTo>
                    <a:lnTo>
                      <a:pt x="0" y="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038480" y="238068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0" y="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14800" y="2512440"/>
                <a:ext cx="30240" cy="45720"/>
              </a:xfrm>
              <a:custGeom>
                <a:avLst/>
                <a:gdLst/>
                <a:ahLst/>
                <a:rect l="l" t="t" r="r" b="b"/>
                <a:pathLst>
                  <a:path w="36" h="59">
                    <a:moveTo>
                      <a:pt x="36" y="6"/>
                    </a:moveTo>
                    <a:lnTo>
                      <a:pt x="23" y="0"/>
                    </a:lnTo>
                    <a:lnTo>
                      <a:pt x="0" y="53"/>
                    </a:lnTo>
                    <a:lnTo>
                      <a:pt x="13" y="59"/>
                    </a:lnTo>
                    <a:lnTo>
                      <a:pt x="3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133880" y="251244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5" y="2"/>
                    </a:lnTo>
                    <a:lnTo>
                      <a:pt x="13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18040" y="2552400"/>
                <a:ext cx="6120" cy="9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11"/>
                    </a:moveTo>
                    <a:lnTo>
                      <a:pt x="0" y="0"/>
                    </a:lnTo>
                    <a:lnTo>
                      <a:pt x="1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114800" y="25524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3" y="9"/>
                    </a:moveTo>
                    <a:lnTo>
                      <a:pt x="12" y="11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010040" y="2182320"/>
                <a:ext cx="149040" cy="377640"/>
              </a:xfrm>
              <a:custGeom>
                <a:avLst/>
                <a:gdLst/>
                <a:ahLst/>
                <a:rect l="l" t="t" r="r" b="b"/>
                <a:pathLst>
                  <a:path w="188" h="476">
                    <a:moveTo>
                      <a:pt x="133" y="466"/>
                    </a:moveTo>
                    <a:lnTo>
                      <a:pt x="146" y="451"/>
                    </a:lnTo>
                    <a:lnTo>
                      <a:pt x="156" y="434"/>
                    </a:lnTo>
                    <a:lnTo>
                      <a:pt x="164" y="416"/>
                    </a:lnTo>
                    <a:lnTo>
                      <a:pt x="170" y="394"/>
                    </a:lnTo>
                    <a:lnTo>
                      <a:pt x="173" y="370"/>
                    </a:lnTo>
                    <a:lnTo>
                      <a:pt x="175" y="344"/>
                    </a:lnTo>
                    <a:lnTo>
                      <a:pt x="173" y="316"/>
                    </a:lnTo>
                    <a:lnTo>
                      <a:pt x="168" y="286"/>
                    </a:lnTo>
                    <a:lnTo>
                      <a:pt x="160" y="255"/>
                    </a:lnTo>
                    <a:lnTo>
                      <a:pt x="148" y="223"/>
                    </a:lnTo>
                    <a:lnTo>
                      <a:pt x="134" y="190"/>
                    </a:lnTo>
                    <a:lnTo>
                      <a:pt x="115" y="156"/>
                    </a:lnTo>
                    <a:lnTo>
                      <a:pt x="93" y="120"/>
                    </a:lnTo>
                    <a:lnTo>
                      <a:pt x="66" y="83"/>
                    </a:lnTo>
                    <a:lnTo>
                      <a:pt x="35" y="48"/>
                    </a:lnTo>
                    <a:lnTo>
                      <a:pt x="0" y="11"/>
                    </a:lnTo>
                    <a:lnTo>
                      <a:pt x="9" y="0"/>
                    </a:lnTo>
                    <a:lnTo>
                      <a:pt x="45" y="37"/>
                    </a:lnTo>
                    <a:lnTo>
                      <a:pt x="77" y="74"/>
                    </a:lnTo>
                    <a:lnTo>
                      <a:pt x="104" y="112"/>
                    </a:lnTo>
                    <a:lnTo>
                      <a:pt x="127" y="147"/>
                    </a:lnTo>
                    <a:lnTo>
                      <a:pt x="146" y="182"/>
                    </a:lnTo>
                    <a:lnTo>
                      <a:pt x="161" y="217"/>
                    </a:lnTo>
                    <a:lnTo>
                      <a:pt x="173" y="250"/>
                    </a:lnTo>
                    <a:lnTo>
                      <a:pt x="182" y="283"/>
                    </a:lnTo>
                    <a:lnTo>
                      <a:pt x="187" y="313"/>
                    </a:lnTo>
                    <a:lnTo>
                      <a:pt x="188" y="344"/>
                    </a:lnTo>
                    <a:lnTo>
                      <a:pt x="187" y="372"/>
                    </a:lnTo>
                    <a:lnTo>
                      <a:pt x="183" y="398"/>
                    </a:lnTo>
                    <a:lnTo>
                      <a:pt x="177" y="422"/>
                    </a:lnTo>
                    <a:lnTo>
                      <a:pt x="168" y="442"/>
                    </a:lnTo>
                    <a:lnTo>
                      <a:pt x="157" y="461"/>
                    </a:lnTo>
                    <a:lnTo>
                      <a:pt x="144" y="476"/>
                    </a:lnTo>
                    <a:lnTo>
                      <a:pt x="133" y="4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116240" y="255240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1"/>
                    </a:moveTo>
                    <a:lnTo>
                      <a:pt x="0" y="0"/>
                    </a:lnTo>
                    <a:lnTo>
                      <a:pt x="11" y="10"/>
                    </a:lnTo>
                    <a:lnTo>
                      <a:pt x="1" y="0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35280" y="2001600"/>
                <a:ext cx="382680" cy="190080"/>
              </a:xfrm>
              <a:custGeom>
                <a:avLst/>
                <a:gdLst/>
                <a:ahLst/>
                <a:rect l="l" t="t" r="r" b="b"/>
                <a:pathLst>
                  <a:path w="482" h="238">
                    <a:moveTo>
                      <a:pt x="473" y="238"/>
                    </a:moveTo>
                    <a:lnTo>
                      <a:pt x="410" y="175"/>
                    </a:lnTo>
                    <a:lnTo>
                      <a:pt x="355" y="126"/>
                    </a:lnTo>
                    <a:lnTo>
                      <a:pt x="291" y="77"/>
                    </a:lnTo>
                    <a:lnTo>
                      <a:pt x="256" y="55"/>
                    </a:lnTo>
                    <a:lnTo>
                      <a:pt x="220" y="38"/>
                    </a:lnTo>
                    <a:lnTo>
                      <a:pt x="183" y="24"/>
                    </a:lnTo>
                    <a:lnTo>
                      <a:pt x="146" y="16"/>
                    </a:lnTo>
                    <a:lnTo>
                      <a:pt x="111" y="14"/>
                    </a:lnTo>
                    <a:lnTo>
                      <a:pt x="94" y="16"/>
                    </a:lnTo>
                    <a:lnTo>
                      <a:pt x="77" y="19"/>
                    </a:lnTo>
                    <a:lnTo>
                      <a:pt x="58" y="25"/>
                    </a:lnTo>
                    <a:lnTo>
                      <a:pt x="42" y="33"/>
                    </a:lnTo>
                    <a:lnTo>
                      <a:pt x="27" y="44"/>
                    </a:lnTo>
                    <a:lnTo>
                      <a:pt x="9" y="57"/>
                    </a:lnTo>
                    <a:lnTo>
                      <a:pt x="0" y="46"/>
                    </a:lnTo>
                    <a:lnTo>
                      <a:pt x="17" y="33"/>
                    </a:lnTo>
                    <a:lnTo>
                      <a:pt x="34" y="21"/>
                    </a:lnTo>
                    <a:lnTo>
                      <a:pt x="52" y="12"/>
                    </a:lnTo>
                    <a:lnTo>
                      <a:pt x="72" y="6"/>
                    </a:lnTo>
                    <a:lnTo>
                      <a:pt x="90" y="2"/>
                    </a:lnTo>
                    <a:lnTo>
                      <a:pt x="111" y="0"/>
                    </a:lnTo>
                    <a:lnTo>
                      <a:pt x="149" y="2"/>
                    </a:lnTo>
                    <a:lnTo>
                      <a:pt x="188" y="11"/>
                    </a:lnTo>
                    <a:lnTo>
                      <a:pt x="226" y="24"/>
                    </a:lnTo>
                    <a:lnTo>
                      <a:pt x="264" y="43"/>
                    </a:lnTo>
                    <a:lnTo>
                      <a:pt x="299" y="66"/>
                    </a:lnTo>
                    <a:lnTo>
                      <a:pt x="365" y="115"/>
                    </a:lnTo>
                    <a:lnTo>
                      <a:pt x="420" y="164"/>
                    </a:lnTo>
                    <a:lnTo>
                      <a:pt x="482" y="227"/>
                    </a:lnTo>
                    <a:lnTo>
                      <a:pt x="473" y="2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010040" y="218232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0"/>
                    </a:moveTo>
                    <a:lnTo>
                      <a:pt x="0" y="1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583080" y="2039400"/>
                <a:ext cx="60120" cy="310680"/>
              </a:xfrm>
              <a:custGeom>
                <a:avLst/>
                <a:gdLst/>
                <a:ahLst/>
                <a:rect l="l" t="t" r="r" b="b"/>
                <a:pathLst>
                  <a:path w="74" h="394">
                    <a:moveTo>
                      <a:pt x="74" y="10"/>
                    </a:moveTo>
                    <a:lnTo>
                      <a:pt x="54" y="32"/>
                    </a:lnTo>
                    <a:lnTo>
                      <a:pt x="46" y="44"/>
                    </a:lnTo>
                    <a:lnTo>
                      <a:pt x="40" y="54"/>
                    </a:lnTo>
                    <a:lnTo>
                      <a:pt x="33" y="75"/>
                    </a:lnTo>
                    <a:lnTo>
                      <a:pt x="29" y="98"/>
                    </a:lnTo>
                    <a:lnTo>
                      <a:pt x="29" y="121"/>
                    </a:lnTo>
                    <a:lnTo>
                      <a:pt x="32" y="145"/>
                    </a:lnTo>
                    <a:lnTo>
                      <a:pt x="43" y="193"/>
                    </a:lnTo>
                    <a:lnTo>
                      <a:pt x="54" y="244"/>
                    </a:lnTo>
                    <a:lnTo>
                      <a:pt x="57" y="269"/>
                    </a:lnTo>
                    <a:lnTo>
                      <a:pt x="57" y="294"/>
                    </a:lnTo>
                    <a:lnTo>
                      <a:pt x="54" y="319"/>
                    </a:lnTo>
                    <a:lnTo>
                      <a:pt x="45" y="346"/>
                    </a:lnTo>
                    <a:lnTo>
                      <a:pt x="32" y="371"/>
                    </a:lnTo>
                    <a:lnTo>
                      <a:pt x="11" y="394"/>
                    </a:lnTo>
                    <a:lnTo>
                      <a:pt x="0" y="384"/>
                    </a:lnTo>
                    <a:lnTo>
                      <a:pt x="19" y="362"/>
                    </a:lnTo>
                    <a:lnTo>
                      <a:pt x="32" y="340"/>
                    </a:lnTo>
                    <a:lnTo>
                      <a:pt x="39" y="317"/>
                    </a:lnTo>
                    <a:lnTo>
                      <a:pt x="43" y="294"/>
                    </a:lnTo>
                    <a:lnTo>
                      <a:pt x="43" y="270"/>
                    </a:lnTo>
                    <a:lnTo>
                      <a:pt x="39" y="246"/>
                    </a:lnTo>
                    <a:lnTo>
                      <a:pt x="28" y="196"/>
                    </a:lnTo>
                    <a:lnTo>
                      <a:pt x="17" y="147"/>
                    </a:lnTo>
                    <a:lnTo>
                      <a:pt x="15" y="123"/>
                    </a:lnTo>
                    <a:lnTo>
                      <a:pt x="15" y="98"/>
                    </a:lnTo>
                    <a:lnTo>
                      <a:pt x="18" y="72"/>
                    </a:lnTo>
                    <a:lnTo>
                      <a:pt x="27" y="48"/>
                    </a:lnTo>
                    <a:lnTo>
                      <a:pt x="34" y="36"/>
                    </a:lnTo>
                    <a:lnTo>
                      <a:pt x="43" y="22"/>
                    </a:lnTo>
                    <a:lnTo>
                      <a:pt x="63" y="0"/>
                    </a:lnTo>
                    <a:lnTo>
                      <a:pt x="7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33840" y="203940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0"/>
                    </a:moveTo>
                    <a:lnTo>
                      <a:pt x="0" y="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462480" y="2344320"/>
                <a:ext cx="129960" cy="43920"/>
              </a:xfrm>
              <a:custGeom>
                <a:avLst/>
                <a:gdLst/>
                <a:ahLst/>
                <a:rect l="l" t="t" r="r" b="b"/>
                <a:pathLst>
                  <a:path w="164" h="58">
                    <a:moveTo>
                      <a:pt x="164" y="11"/>
                    </a:moveTo>
                    <a:lnTo>
                      <a:pt x="147" y="26"/>
                    </a:lnTo>
                    <a:lnTo>
                      <a:pt x="127" y="38"/>
                    </a:lnTo>
                    <a:lnTo>
                      <a:pt x="108" y="48"/>
                    </a:lnTo>
                    <a:lnTo>
                      <a:pt x="87" y="54"/>
                    </a:lnTo>
                    <a:lnTo>
                      <a:pt x="65" y="58"/>
                    </a:lnTo>
                    <a:lnTo>
                      <a:pt x="44" y="58"/>
                    </a:lnTo>
                    <a:lnTo>
                      <a:pt x="21" y="56"/>
                    </a:lnTo>
                    <a:lnTo>
                      <a:pt x="0" y="50"/>
                    </a:lnTo>
                    <a:lnTo>
                      <a:pt x="4" y="37"/>
                    </a:lnTo>
                    <a:lnTo>
                      <a:pt x="24" y="43"/>
                    </a:lnTo>
                    <a:lnTo>
                      <a:pt x="44" y="44"/>
                    </a:lnTo>
                    <a:lnTo>
                      <a:pt x="62" y="44"/>
                    </a:lnTo>
                    <a:lnTo>
                      <a:pt x="82" y="41"/>
                    </a:lnTo>
                    <a:lnTo>
                      <a:pt x="102" y="34"/>
                    </a:lnTo>
                    <a:lnTo>
                      <a:pt x="119" y="26"/>
                    </a:lnTo>
                    <a:lnTo>
                      <a:pt x="137" y="15"/>
                    </a:lnTo>
                    <a:lnTo>
                      <a:pt x="154" y="0"/>
                    </a:lnTo>
                    <a:lnTo>
                      <a:pt x="16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583080" y="234432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0"/>
                    </a:moveTo>
                    <a:lnTo>
                      <a:pt x="11" y="1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276720" y="2163240"/>
                <a:ext cx="191880" cy="217080"/>
              </a:xfrm>
              <a:custGeom>
                <a:avLst/>
                <a:gdLst/>
                <a:ahLst/>
                <a:rect l="l" t="t" r="r" b="b"/>
                <a:pathLst>
                  <a:path w="240" h="275">
                    <a:moveTo>
                      <a:pt x="231" y="275"/>
                    </a:moveTo>
                    <a:lnTo>
                      <a:pt x="110" y="139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121" y="129"/>
                    </a:lnTo>
                    <a:lnTo>
                      <a:pt x="240" y="265"/>
                    </a:lnTo>
                    <a:lnTo>
                      <a:pt x="231" y="2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460680" y="237276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2" y="13"/>
                    </a:moveTo>
                    <a:lnTo>
                      <a:pt x="0" y="11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76720" y="2165040"/>
                <a:ext cx="42840" cy="83520"/>
              </a:xfrm>
              <a:custGeom>
                <a:avLst/>
                <a:gdLst/>
                <a:ahLst/>
                <a:rect l="l" t="t" r="r" b="b"/>
                <a:pathLst>
                  <a:path w="55" h="105">
                    <a:moveTo>
                      <a:pt x="14" y="0"/>
                    </a:moveTo>
                    <a:lnTo>
                      <a:pt x="0" y="6"/>
                    </a:lnTo>
                    <a:lnTo>
                      <a:pt x="42" y="105"/>
                    </a:lnTo>
                    <a:lnTo>
                      <a:pt x="55" y="9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276720" y="21632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0"/>
                    </a:moveTo>
                    <a:lnTo>
                      <a:pt x="0" y="8"/>
                    </a:lnTo>
                    <a:lnTo>
                      <a:pt x="14" y="2"/>
                    </a:lnTo>
                    <a:lnTo>
                      <a:pt x="2" y="1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308400" y="2242800"/>
                <a:ext cx="11160" cy="57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7"/>
                    </a:moveTo>
                    <a:lnTo>
                      <a:pt x="1" y="9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259160" y="2174400"/>
                <a:ext cx="979560" cy="512280"/>
              </a:xfrm>
              <a:custGeom>
                <a:avLst/>
                <a:gdLst/>
                <a:ahLst/>
                <a:rect l="l" t="t" r="r" b="b"/>
                <a:pathLst>
                  <a:path w="1234" h="647">
                    <a:moveTo>
                      <a:pt x="17" y="620"/>
                    </a:moveTo>
                    <a:lnTo>
                      <a:pt x="27" y="601"/>
                    </a:lnTo>
                    <a:lnTo>
                      <a:pt x="38" y="582"/>
                    </a:lnTo>
                    <a:lnTo>
                      <a:pt x="44" y="572"/>
                    </a:lnTo>
                    <a:lnTo>
                      <a:pt x="50" y="563"/>
                    </a:lnTo>
                    <a:lnTo>
                      <a:pt x="62" y="546"/>
                    </a:lnTo>
                    <a:lnTo>
                      <a:pt x="68" y="536"/>
                    </a:lnTo>
                    <a:lnTo>
                      <a:pt x="75" y="527"/>
                    </a:lnTo>
                    <a:lnTo>
                      <a:pt x="89" y="511"/>
                    </a:lnTo>
                    <a:lnTo>
                      <a:pt x="102" y="495"/>
                    </a:lnTo>
                    <a:lnTo>
                      <a:pt x="116" y="480"/>
                    </a:lnTo>
                    <a:lnTo>
                      <a:pt x="140" y="453"/>
                    </a:lnTo>
                    <a:lnTo>
                      <a:pt x="162" y="431"/>
                    </a:lnTo>
                    <a:lnTo>
                      <a:pt x="189" y="405"/>
                    </a:lnTo>
                    <a:lnTo>
                      <a:pt x="205" y="389"/>
                    </a:lnTo>
                    <a:lnTo>
                      <a:pt x="221" y="374"/>
                    </a:lnTo>
                    <a:lnTo>
                      <a:pt x="237" y="360"/>
                    </a:lnTo>
                    <a:lnTo>
                      <a:pt x="253" y="347"/>
                    </a:lnTo>
                    <a:lnTo>
                      <a:pt x="269" y="335"/>
                    </a:lnTo>
                    <a:lnTo>
                      <a:pt x="284" y="324"/>
                    </a:lnTo>
                    <a:lnTo>
                      <a:pt x="315" y="303"/>
                    </a:lnTo>
                    <a:lnTo>
                      <a:pt x="331" y="295"/>
                    </a:lnTo>
                    <a:lnTo>
                      <a:pt x="346" y="288"/>
                    </a:lnTo>
                    <a:lnTo>
                      <a:pt x="360" y="280"/>
                    </a:lnTo>
                    <a:lnTo>
                      <a:pt x="375" y="274"/>
                    </a:lnTo>
                    <a:lnTo>
                      <a:pt x="390" y="269"/>
                    </a:lnTo>
                    <a:lnTo>
                      <a:pt x="404" y="264"/>
                    </a:lnTo>
                    <a:lnTo>
                      <a:pt x="418" y="261"/>
                    </a:lnTo>
                    <a:lnTo>
                      <a:pt x="431" y="257"/>
                    </a:lnTo>
                    <a:lnTo>
                      <a:pt x="445" y="255"/>
                    </a:lnTo>
                    <a:lnTo>
                      <a:pt x="458" y="253"/>
                    </a:lnTo>
                    <a:lnTo>
                      <a:pt x="470" y="252"/>
                    </a:lnTo>
                    <a:lnTo>
                      <a:pt x="483" y="251"/>
                    </a:lnTo>
                    <a:lnTo>
                      <a:pt x="495" y="251"/>
                    </a:lnTo>
                    <a:lnTo>
                      <a:pt x="506" y="252"/>
                    </a:lnTo>
                    <a:lnTo>
                      <a:pt x="517" y="253"/>
                    </a:lnTo>
                    <a:lnTo>
                      <a:pt x="528" y="256"/>
                    </a:lnTo>
                    <a:lnTo>
                      <a:pt x="538" y="258"/>
                    </a:lnTo>
                    <a:lnTo>
                      <a:pt x="547" y="261"/>
                    </a:lnTo>
                    <a:lnTo>
                      <a:pt x="556" y="264"/>
                    </a:lnTo>
                    <a:lnTo>
                      <a:pt x="564" y="268"/>
                    </a:lnTo>
                    <a:lnTo>
                      <a:pt x="569" y="270"/>
                    </a:lnTo>
                    <a:lnTo>
                      <a:pt x="573" y="273"/>
                    </a:lnTo>
                    <a:lnTo>
                      <a:pt x="580" y="278"/>
                    </a:lnTo>
                    <a:lnTo>
                      <a:pt x="588" y="283"/>
                    </a:lnTo>
                    <a:lnTo>
                      <a:pt x="594" y="289"/>
                    </a:lnTo>
                    <a:lnTo>
                      <a:pt x="601" y="297"/>
                    </a:lnTo>
                    <a:lnTo>
                      <a:pt x="608" y="306"/>
                    </a:lnTo>
                    <a:lnTo>
                      <a:pt x="613" y="316"/>
                    </a:lnTo>
                    <a:lnTo>
                      <a:pt x="617" y="325"/>
                    </a:lnTo>
                    <a:lnTo>
                      <a:pt x="621" y="335"/>
                    </a:lnTo>
                    <a:lnTo>
                      <a:pt x="623" y="345"/>
                    </a:lnTo>
                    <a:lnTo>
                      <a:pt x="624" y="355"/>
                    </a:lnTo>
                    <a:lnTo>
                      <a:pt x="626" y="366"/>
                    </a:lnTo>
                    <a:lnTo>
                      <a:pt x="626" y="376"/>
                    </a:lnTo>
                    <a:lnTo>
                      <a:pt x="624" y="387"/>
                    </a:lnTo>
                    <a:lnTo>
                      <a:pt x="622" y="409"/>
                    </a:lnTo>
                    <a:lnTo>
                      <a:pt x="617" y="431"/>
                    </a:lnTo>
                    <a:lnTo>
                      <a:pt x="612" y="453"/>
                    </a:lnTo>
                    <a:lnTo>
                      <a:pt x="607" y="476"/>
                    </a:lnTo>
                    <a:lnTo>
                      <a:pt x="604" y="498"/>
                    </a:lnTo>
                    <a:lnTo>
                      <a:pt x="601" y="520"/>
                    </a:lnTo>
                    <a:lnTo>
                      <a:pt x="600" y="530"/>
                    </a:lnTo>
                    <a:lnTo>
                      <a:pt x="600" y="541"/>
                    </a:lnTo>
                    <a:lnTo>
                      <a:pt x="600" y="552"/>
                    </a:lnTo>
                    <a:lnTo>
                      <a:pt x="602" y="561"/>
                    </a:lnTo>
                    <a:lnTo>
                      <a:pt x="604" y="571"/>
                    </a:lnTo>
                    <a:lnTo>
                      <a:pt x="606" y="576"/>
                    </a:lnTo>
                    <a:lnTo>
                      <a:pt x="607" y="581"/>
                    </a:lnTo>
                    <a:lnTo>
                      <a:pt x="612" y="591"/>
                    </a:lnTo>
                    <a:lnTo>
                      <a:pt x="617" y="601"/>
                    </a:lnTo>
                    <a:lnTo>
                      <a:pt x="621" y="604"/>
                    </a:lnTo>
                    <a:lnTo>
                      <a:pt x="623" y="609"/>
                    </a:lnTo>
                    <a:lnTo>
                      <a:pt x="627" y="614"/>
                    </a:lnTo>
                    <a:lnTo>
                      <a:pt x="632" y="618"/>
                    </a:lnTo>
                    <a:lnTo>
                      <a:pt x="638" y="624"/>
                    </a:lnTo>
                    <a:lnTo>
                      <a:pt x="646" y="630"/>
                    </a:lnTo>
                    <a:lnTo>
                      <a:pt x="654" y="634"/>
                    </a:lnTo>
                    <a:lnTo>
                      <a:pt x="662" y="639"/>
                    </a:lnTo>
                    <a:lnTo>
                      <a:pt x="671" y="641"/>
                    </a:lnTo>
                    <a:lnTo>
                      <a:pt x="681" y="643"/>
                    </a:lnTo>
                    <a:lnTo>
                      <a:pt x="700" y="646"/>
                    </a:lnTo>
                    <a:lnTo>
                      <a:pt x="710" y="647"/>
                    </a:lnTo>
                    <a:lnTo>
                      <a:pt x="720" y="647"/>
                    </a:lnTo>
                    <a:lnTo>
                      <a:pt x="731" y="646"/>
                    </a:lnTo>
                    <a:lnTo>
                      <a:pt x="740" y="645"/>
                    </a:lnTo>
                    <a:lnTo>
                      <a:pt x="760" y="640"/>
                    </a:lnTo>
                    <a:lnTo>
                      <a:pt x="770" y="636"/>
                    </a:lnTo>
                    <a:lnTo>
                      <a:pt x="780" y="632"/>
                    </a:lnTo>
                    <a:lnTo>
                      <a:pt x="858" y="550"/>
                    </a:lnTo>
                    <a:lnTo>
                      <a:pt x="930" y="470"/>
                    </a:lnTo>
                    <a:lnTo>
                      <a:pt x="964" y="432"/>
                    </a:lnTo>
                    <a:lnTo>
                      <a:pt x="997" y="394"/>
                    </a:lnTo>
                    <a:lnTo>
                      <a:pt x="1029" y="357"/>
                    </a:lnTo>
                    <a:lnTo>
                      <a:pt x="1058" y="322"/>
                    </a:lnTo>
                    <a:lnTo>
                      <a:pt x="1086" y="286"/>
                    </a:lnTo>
                    <a:lnTo>
                      <a:pt x="1113" y="253"/>
                    </a:lnTo>
                    <a:lnTo>
                      <a:pt x="1138" y="222"/>
                    </a:lnTo>
                    <a:lnTo>
                      <a:pt x="1161" y="190"/>
                    </a:lnTo>
                    <a:lnTo>
                      <a:pt x="1182" y="160"/>
                    </a:lnTo>
                    <a:lnTo>
                      <a:pt x="1201" y="132"/>
                    </a:lnTo>
                    <a:lnTo>
                      <a:pt x="1218" y="105"/>
                    </a:lnTo>
                    <a:lnTo>
                      <a:pt x="1234" y="80"/>
                    </a:lnTo>
                    <a:lnTo>
                      <a:pt x="1199" y="120"/>
                    </a:lnTo>
                    <a:lnTo>
                      <a:pt x="1162" y="163"/>
                    </a:lnTo>
                    <a:lnTo>
                      <a:pt x="1123" y="206"/>
                    </a:lnTo>
                    <a:lnTo>
                      <a:pt x="1083" y="250"/>
                    </a:lnTo>
                    <a:lnTo>
                      <a:pt x="997" y="343"/>
                    </a:lnTo>
                    <a:lnTo>
                      <a:pt x="904" y="440"/>
                    </a:lnTo>
                    <a:lnTo>
                      <a:pt x="893" y="444"/>
                    </a:lnTo>
                    <a:lnTo>
                      <a:pt x="882" y="448"/>
                    </a:lnTo>
                    <a:lnTo>
                      <a:pt x="871" y="450"/>
                    </a:lnTo>
                    <a:lnTo>
                      <a:pt x="859" y="453"/>
                    </a:lnTo>
                    <a:lnTo>
                      <a:pt x="836" y="456"/>
                    </a:lnTo>
                    <a:lnTo>
                      <a:pt x="824" y="456"/>
                    </a:lnTo>
                    <a:lnTo>
                      <a:pt x="813" y="455"/>
                    </a:lnTo>
                    <a:lnTo>
                      <a:pt x="802" y="454"/>
                    </a:lnTo>
                    <a:lnTo>
                      <a:pt x="791" y="453"/>
                    </a:lnTo>
                    <a:lnTo>
                      <a:pt x="780" y="450"/>
                    </a:lnTo>
                    <a:lnTo>
                      <a:pt x="770" y="447"/>
                    </a:lnTo>
                    <a:lnTo>
                      <a:pt x="765" y="444"/>
                    </a:lnTo>
                    <a:lnTo>
                      <a:pt x="760" y="442"/>
                    </a:lnTo>
                    <a:lnTo>
                      <a:pt x="755" y="439"/>
                    </a:lnTo>
                    <a:lnTo>
                      <a:pt x="750" y="437"/>
                    </a:lnTo>
                    <a:lnTo>
                      <a:pt x="742" y="429"/>
                    </a:lnTo>
                    <a:lnTo>
                      <a:pt x="738" y="427"/>
                    </a:lnTo>
                    <a:lnTo>
                      <a:pt x="733" y="423"/>
                    </a:lnTo>
                    <a:lnTo>
                      <a:pt x="725" y="412"/>
                    </a:lnTo>
                    <a:lnTo>
                      <a:pt x="717" y="403"/>
                    </a:lnTo>
                    <a:lnTo>
                      <a:pt x="711" y="392"/>
                    </a:lnTo>
                    <a:lnTo>
                      <a:pt x="706" y="381"/>
                    </a:lnTo>
                    <a:lnTo>
                      <a:pt x="703" y="370"/>
                    </a:lnTo>
                    <a:lnTo>
                      <a:pt x="699" y="357"/>
                    </a:lnTo>
                    <a:lnTo>
                      <a:pt x="698" y="346"/>
                    </a:lnTo>
                    <a:lnTo>
                      <a:pt x="698" y="334"/>
                    </a:lnTo>
                    <a:lnTo>
                      <a:pt x="698" y="322"/>
                    </a:lnTo>
                    <a:lnTo>
                      <a:pt x="698" y="310"/>
                    </a:lnTo>
                    <a:lnTo>
                      <a:pt x="699" y="296"/>
                    </a:lnTo>
                    <a:lnTo>
                      <a:pt x="701" y="284"/>
                    </a:lnTo>
                    <a:lnTo>
                      <a:pt x="706" y="258"/>
                    </a:lnTo>
                    <a:lnTo>
                      <a:pt x="711" y="233"/>
                    </a:lnTo>
                    <a:lnTo>
                      <a:pt x="717" y="207"/>
                    </a:lnTo>
                    <a:lnTo>
                      <a:pt x="722" y="181"/>
                    </a:lnTo>
                    <a:lnTo>
                      <a:pt x="725" y="169"/>
                    </a:lnTo>
                    <a:lnTo>
                      <a:pt x="726" y="157"/>
                    </a:lnTo>
                    <a:lnTo>
                      <a:pt x="726" y="132"/>
                    </a:lnTo>
                    <a:lnTo>
                      <a:pt x="726" y="120"/>
                    </a:lnTo>
                    <a:lnTo>
                      <a:pt x="723" y="108"/>
                    </a:lnTo>
                    <a:lnTo>
                      <a:pt x="721" y="97"/>
                    </a:lnTo>
                    <a:lnTo>
                      <a:pt x="717" y="85"/>
                    </a:lnTo>
                    <a:lnTo>
                      <a:pt x="712" y="74"/>
                    </a:lnTo>
                    <a:lnTo>
                      <a:pt x="706" y="64"/>
                    </a:lnTo>
                    <a:lnTo>
                      <a:pt x="703" y="58"/>
                    </a:lnTo>
                    <a:lnTo>
                      <a:pt x="699" y="53"/>
                    </a:lnTo>
                    <a:lnTo>
                      <a:pt x="690" y="43"/>
                    </a:lnTo>
                    <a:lnTo>
                      <a:pt x="683" y="36"/>
                    </a:lnTo>
                    <a:lnTo>
                      <a:pt x="674" y="30"/>
                    </a:lnTo>
                    <a:lnTo>
                      <a:pt x="671" y="27"/>
                    </a:lnTo>
                    <a:lnTo>
                      <a:pt x="666" y="25"/>
                    </a:lnTo>
                    <a:lnTo>
                      <a:pt x="657" y="20"/>
                    </a:lnTo>
                    <a:lnTo>
                      <a:pt x="648" y="15"/>
                    </a:lnTo>
                    <a:lnTo>
                      <a:pt x="637" y="11"/>
                    </a:lnTo>
                    <a:lnTo>
                      <a:pt x="626" y="8"/>
                    </a:lnTo>
                    <a:lnTo>
                      <a:pt x="613" y="5"/>
                    </a:lnTo>
                    <a:lnTo>
                      <a:pt x="601" y="3"/>
                    </a:lnTo>
                    <a:lnTo>
                      <a:pt x="589" y="1"/>
                    </a:lnTo>
                    <a:lnTo>
                      <a:pt x="575" y="0"/>
                    </a:lnTo>
                    <a:lnTo>
                      <a:pt x="562" y="0"/>
                    </a:lnTo>
                    <a:lnTo>
                      <a:pt x="533" y="1"/>
                    </a:lnTo>
                    <a:lnTo>
                      <a:pt x="518" y="4"/>
                    </a:lnTo>
                    <a:lnTo>
                      <a:pt x="503" y="6"/>
                    </a:lnTo>
                    <a:lnTo>
                      <a:pt x="487" y="10"/>
                    </a:lnTo>
                    <a:lnTo>
                      <a:pt x="472" y="15"/>
                    </a:lnTo>
                    <a:lnTo>
                      <a:pt x="454" y="21"/>
                    </a:lnTo>
                    <a:lnTo>
                      <a:pt x="438" y="27"/>
                    </a:lnTo>
                    <a:lnTo>
                      <a:pt x="421" y="34"/>
                    </a:lnTo>
                    <a:lnTo>
                      <a:pt x="404" y="42"/>
                    </a:lnTo>
                    <a:lnTo>
                      <a:pt x="387" y="50"/>
                    </a:lnTo>
                    <a:lnTo>
                      <a:pt x="369" y="61"/>
                    </a:lnTo>
                    <a:lnTo>
                      <a:pt x="352" y="71"/>
                    </a:lnTo>
                    <a:lnTo>
                      <a:pt x="333" y="83"/>
                    </a:lnTo>
                    <a:lnTo>
                      <a:pt x="315" y="97"/>
                    </a:lnTo>
                    <a:lnTo>
                      <a:pt x="297" y="110"/>
                    </a:lnTo>
                    <a:lnTo>
                      <a:pt x="280" y="126"/>
                    </a:lnTo>
                    <a:lnTo>
                      <a:pt x="261" y="142"/>
                    </a:lnTo>
                    <a:lnTo>
                      <a:pt x="243" y="159"/>
                    </a:lnTo>
                    <a:lnTo>
                      <a:pt x="225" y="178"/>
                    </a:lnTo>
                    <a:lnTo>
                      <a:pt x="216" y="185"/>
                    </a:lnTo>
                    <a:lnTo>
                      <a:pt x="204" y="195"/>
                    </a:lnTo>
                    <a:lnTo>
                      <a:pt x="187" y="209"/>
                    </a:lnTo>
                    <a:lnTo>
                      <a:pt x="167" y="226"/>
                    </a:lnTo>
                    <a:lnTo>
                      <a:pt x="145" y="246"/>
                    </a:lnTo>
                    <a:lnTo>
                      <a:pt x="134" y="257"/>
                    </a:lnTo>
                    <a:lnTo>
                      <a:pt x="123" y="269"/>
                    </a:lnTo>
                    <a:lnTo>
                      <a:pt x="111" y="281"/>
                    </a:lnTo>
                    <a:lnTo>
                      <a:pt x="100" y="295"/>
                    </a:lnTo>
                    <a:lnTo>
                      <a:pt x="88" y="308"/>
                    </a:lnTo>
                    <a:lnTo>
                      <a:pt x="77" y="323"/>
                    </a:lnTo>
                    <a:lnTo>
                      <a:pt x="66" y="338"/>
                    </a:lnTo>
                    <a:lnTo>
                      <a:pt x="55" y="352"/>
                    </a:lnTo>
                    <a:lnTo>
                      <a:pt x="45" y="370"/>
                    </a:lnTo>
                    <a:lnTo>
                      <a:pt x="36" y="385"/>
                    </a:lnTo>
                    <a:lnTo>
                      <a:pt x="28" y="403"/>
                    </a:lnTo>
                    <a:lnTo>
                      <a:pt x="20" y="421"/>
                    </a:lnTo>
                    <a:lnTo>
                      <a:pt x="13" y="438"/>
                    </a:lnTo>
                    <a:lnTo>
                      <a:pt x="11" y="448"/>
                    </a:lnTo>
                    <a:lnTo>
                      <a:pt x="8" y="458"/>
                    </a:lnTo>
                    <a:lnTo>
                      <a:pt x="3" y="476"/>
                    </a:lnTo>
                    <a:lnTo>
                      <a:pt x="1" y="495"/>
                    </a:lnTo>
                    <a:lnTo>
                      <a:pt x="0" y="515"/>
                    </a:lnTo>
                    <a:lnTo>
                      <a:pt x="0" y="536"/>
                    </a:lnTo>
                    <a:lnTo>
                      <a:pt x="1" y="557"/>
                    </a:lnTo>
                    <a:lnTo>
                      <a:pt x="5" y="577"/>
                    </a:lnTo>
                    <a:lnTo>
                      <a:pt x="9" y="599"/>
                    </a:lnTo>
                    <a:lnTo>
                      <a:pt x="17" y="62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267080" y="2491920"/>
                <a:ext cx="146160" cy="177480"/>
              </a:xfrm>
              <a:custGeom>
                <a:avLst/>
                <a:gdLst/>
                <a:ahLst/>
                <a:rect l="l" t="t" r="r" b="b"/>
                <a:pathLst>
                  <a:path w="183" h="225">
                    <a:moveTo>
                      <a:pt x="0" y="217"/>
                    </a:moveTo>
                    <a:lnTo>
                      <a:pt x="20" y="179"/>
                    </a:lnTo>
                    <a:lnTo>
                      <a:pt x="45" y="139"/>
                    </a:lnTo>
                    <a:lnTo>
                      <a:pt x="72" y="105"/>
                    </a:lnTo>
                    <a:lnTo>
                      <a:pt x="99" y="75"/>
                    </a:lnTo>
                    <a:lnTo>
                      <a:pt x="124" y="48"/>
                    </a:lnTo>
                    <a:lnTo>
                      <a:pt x="146" y="26"/>
                    </a:lnTo>
                    <a:lnTo>
                      <a:pt x="173" y="0"/>
                    </a:lnTo>
                    <a:lnTo>
                      <a:pt x="183" y="11"/>
                    </a:lnTo>
                    <a:lnTo>
                      <a:pt x="156" y="37"/>
                    </a:lnTo>
                    <a:lnTo>
                      <a:pt x="134" y="59"/>
                    </a:lnTo>
                    <a:lnTo>
                      <a:pt x="108" y="86"/>
                    </a:lnTo>
                    <a:lnTo>
                      <a:pt x="83" y="115"/>
                    </a:lnTo>
                    <a:lnTo>
                      <a:pt x="56" y="149"/>
                    </a:lnTo>
                    <a:lnTo>
                      <a:pt x="33" y="187"/>
                    </a:lnTo>
                    <a:lnTo>
                      <a:pt x="12" y="225"/>
                    </a:lnTo>
                    <a:lnTo>
                      <a:pt x="0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405320" y="2366640"/>
                <a:ext cx="328680" cy="132840"/>
              </a:xfrm>
              <a:custGeom>
                <a:avLst/>
                <a:gdLst/>
                <a:ahLst/>
                <a:rect l="l" t="t" r="r" b="b"/>
                <a:pathLst>
                  <a:path w="415" h="167">
                    <a:moveTo>
                      <a:pt x="0" y="156"/>
                    </a:moveTo>
                    <a:lnTo>
                      <a:pt x="32" y="126"/>
                    </a:lnTo>
                    <a:lnTo>
                      <a:pt x="64" y="99"/>
                    </a:lnTo>
                    <a:lnTo>
                      <a:pt x="96" y="73"/>
                    </a:lnTo>
                    <a:lnTo>
                      <a:pt x="126" y="53"/>
                    </a:lnTo>
                    <a:lnTo>
                      <a:pt x="158" y="37"/>
                    </a:lnTo>
                    <a:lnTo>
                      <a:pt x="187" y="24"/>
                    </a:lnTo>
                    <a:lnTo>
                      <a:pt x="217" y="14"/>
                    </a:lnTo>
                    <a:lnTo>
                      <a:pt x="246" y="6"/>
                    </a:lnTo>
                    <a:lnTo>
                      <a:pt x="274" y="2"/>
                    </a:lnTo>
                    <a:lnTo>
                      <a:pt x="299" y="0"/>
                    </a:lnTo>
                    <a:lnTo>
                      <a:pt x="345" y="3"/>
                    </a:lnTo>
                    <a:lnTo>
                      <a:pt x="366" y="11"/>
                    </a:lnTo>
                    <a:lnTo>
                      <a:pt x="383" y="18"/>
                    </a:lnTo>
                    <a:lnTo>
                      <a:pt x="400" y="28"/>
                    </a:lnTo>
                    <a:lnTo>
                      <a:pt x="415" y="40"/>
                    </a:lnTo>
                    <a:lnTo>
                      <a:pt x="405" y="51"/>
                    </a:lnTo>
                    <a:lnTo>
                      <a:pt x="391" y="40"/>
                    </a:lnTo>
                    <a:lnTo>
                      <a:pt x="377" y="31"/>
                    </a:lnTo>
                    <a:lnTo>
                      <a:pt x="360" y="24"/>
                    </a:lnTo>
                    <a:lnTo>
                      <a:pt x="343" y="18"/>
                    </a:lnTo>
                    <a:lnTo>
                      <a:pt x="299" y="14"/>
                    </a:lnTo>
                    <a:lnTo>
                      <a:pt x="275" y="17"/>
                    </a:lnTo>
                    <a:lnTo>
                      <a:pt x="248" y="20"/>
                    </a:lnTo>
                    <a:lnTo>
                      <a:pt x="221" y="28"/>
                    </a:lnTo>
                    <a:lnTo>
                      <a:pt x="193" y="37"/>
                    </a:lnTo>
                    <a:lnTo>
                      <a:pt x="164" y="51"/>
                    </a:lnTo>
                    <a:lnTo>
                      <a:pt x="135" y="66"/>
                    </a:lnTo>
                    <a:lnTo>
                      <a:pt x="104" y="85"/>
                    </a:lnTo>
                    <a:lnTo>
                      <a:pt x="74" y="110"/>
                    </a:lnTo>
                    <a:lnTo>
                      <a:pt x="42" y="137"/>
                    </a:lnTo>
                    <a:lnTo>
                      <a:pt x="10" y="167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405320" y="24919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11"/>
                    </a:moveTo>
                    <a:lnTo>
                      <a:pt x="0" y="0"/>
                    </a:lnTo>
                    <a:lnTo>
                      <a:pt x="1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726080" y="2398320"/>
                <a:ext cx="38160" cy="269280"/>
              </a:xfrm>
              <a:custGeom>
                <a:avLst/>
                <a:gdLst/>
                <a:ahLst/>
                <a:rect l="l" t="t" r="r" b="b"/>
                <a:pathLst>
                  <a:path w="49" h="339">
                    <a:moveTo>
                      <a:pt x="11" y="0"/>
                    </a:moveTo>
                    <a:lnTo>
                      <a:pt x="25" y="18"/>
                    </a:lnTo>
                    <a:lnTo>
                      <a:pt x="35" y="39"/>
                    </a:lnTo>
                    <a:lnTo>
                      <a:pt x="42" y="60"/>
                    </a:lnTo>
                    <a:lnTo>
                      <a:pt x="44" y="82"/>
                    </a:lnTo>
                    <a:lnTo>
                      <a:pt x="41" y="125"/>
                    </a:lnTo>
                    <a:lnTo>
                      <a:pt x="31" y="170"/>
                    </a:lnTo>
                    <a:lnTo>
                      <a:pt x="23" y="214"/>
                    </a:lnTo>
                    <a:lnTo>
                      <a:pt x="19" y="257"/>
                    </a:lnTo>
                    <a:lnTo>
                      <a:pt x="20" y="276"/>
                    </a:lnTo>
                    <a:lnTo>
                      <a:pt x="25" y="295"/>
                    </a:lnTo>
                    <a:lnTo>
                      <a:pt x="35" y="313"/>
                    </a:lnTo>
                    <a:lnTo>
                      <a:pt x="40" y="320"/>
                    </a:lnTo>
                    <a:lnTo>
                      <a:pt x="49" y="329"/>
                    </a:lnTo>
                    <a:lnTo>
                      <a:pt x="38" y="339"/>
                    </a:lnTo>
                    <a:lnTo>
                      <a:pt x="29" y="330"/>
                    </a:lnTo>
                    <a:lnTo>
                      <a:pt x="23" y="322"/>
                    </a:lnTo>
                    <a:lnTo>
                      <a:pt x="12" y="301"/>
                    </a:lnTo>
                    <a:lnTo>
                      <a:pt x="6" y="279"/>
                    </a:lnTo>
                    <a:lnTo>
                      <a:pt x="5" y="257"/>
                    </a:lnTo>
                    <a:lnTo>
                      <a:pt x="8" y="213"/>
                    </a:lnTo>
                    <a:lnTo>
                      <a:pt x="17" y="167"/>
                    </a:lnTo>
                    <a:lnTo>
                      <a:pt x="27" y="123"/>
                    </a:lnTo>
                    <a:lnTo>
                      <a:pt x="29" y="82"/>
                    </a:lnTo>
                    <a:lnTo>
                      <a:pt x="28" y="62"/>
                    </a:lnTo>
                    <a:lnTo>
                      <a:pt x="22" y="45"/>
                    </a:lnTo>
                    <a:lnTo>
                      <a:pt x="13" y="27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726080" y="239832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0" y="10"/>
                    </a:lnTo>
                    <a:lnTo>
                      <a:pt x="1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756320" y="2660040"/>
                <a:ext cx="123480" cy="3168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0" y="0"/>
                    </a:moveTo>
                    <a:lnTo>
                      <a:pt x="23" y="11"/>
                    </a:lnTo>
                    <a:lnTo>
                      <a:pt x="38" y="19"/>
                    </a:lnTo>
                    <a:lnTo>
                      <a:pt x="55" y="23"/>
                    </a:lnTo>
                    <a:lnTo>
                      <a:pt x="73" y="26"/>
                    </a:lnTo>
                    <a:lnTo>
                      <a:pt x="93" y="26"/>
                    </a:lnTo>
                    <a:lnTo>
                      <a:pt x="112" y="24"/>
                    </a:lnTo>
                    <a:lnTo>
                      <a:pt x="132" y="19"/>
                    </a:lnTo>
                    <a:lnTo>
                      <a:pt x="150" y="13"/>
                    </a:lnTo>
                    <a:lnTo>
                      <a:pt x="155" y="27"/>
                    </a:lnTo>
                    <a:lnTo>
                      <a:pt x="134" y="34"/>
                    </a:lnTo>
                    <a:lnTo>
                      <a:pt x="115" y="39"/>
                    </a:lnTo>
                    <a:lnTo>
                      <a:pt x="93" y="40"/>
                    </a:lnTo>
                    <a:lnTo>
                      <a:pt x="72" y="40"/>
                    </a:lnTo>
                    <a:lnTo>
                      <a:pt x="52" y="38"/>
                    </a:lnTo>
                    <a:lnTo>
                      <a:pt x="32" y="33"/>
                    </a:lnTo>
                    <a:lnTo>
                      <a:pt x="14" y="23"/>
                    </a:lnTo>
                    <a:lnTo>
                      <a:pt x="0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756320" y="266004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0"/>
                    </a:moveTo>
                    <a:lnTo>
                      <a:pt x="1" y="11"/>
                    </a:lnTo>
                    <a:lnTo>
                      <a:pt x="1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73680" y="2234880"/>
                <a:ext cx="369720" cy="445680"/>
              </a:xfrm>
              <a:custGeom>
                <a:avLst/>
                <a:gdLst/>
                <a:ahLst/>
                <a:rect l="l" t="t" r="r" b="b"/>
                <a:pathLst>
                  <a:path w="464" h="563">
                    <a:moveTo>
                      <a:pt x="0" y="552"/>
                    </a:moveTo>
                    <a:lnTo>
                      <a:pt x="78" y="470"/>
                    </a:lnTo>
                    <a:lnTo>
                      <a:pt x="150" y="389"/>
                    </a:lnTo>
                    <a:lnTo>
                      <a:pt x="216" y="313"/>
                    </a:lnTo>
                    <a:lnTo>
                      <a:pt x="277" y="241"/>
                    </a:lnTo>
                    <a:lnTo>
                      <a:pt x="331" y="172"/>
                    </a:lnTo>
                    <a:lnTo>
                      <a:pt x="379" y="109"/>
                    </a:lnTo>
                    <a:lnTo>
                      <a:pt x="420" y="51"/>
                    </a:lnTo>
                    <a:lnTo>
                      <a:pt x="452" y="0"/>
                    </a:lnTo>
                    <a:lnTo>
                      <a:pt x="464" y="9"/>
                    </a:lnTo>
                    <a:lnTo>
                      <a:pt x="431" y="61"/>
                    </a:lnTo>
                    <a:lnTo>
                      <a:pt x="390" y="119"/>
                    </a:lnTo>
                    <a:lnTo>
                      <a:pt x="342" y="182"/>
                    </a:lnTo>
                    <a:lnTo>
                      <a:pt x="288" y="251"/>
                    </a:lnTo>
                    <a:lnTo>
                      <a:pt x="227" y="323"/>
                    </a:lnTo>
                    <a:lnTo>
                      <a:pt x="160" y="400"/>
                    </a:lnTo>
                    <a:lnTo>
                      <a:pt x="88" y="481"/>
                    </a:lnTo>
                    <a:lnTo>
                      <a:pt x="9" y="563"/>
                    </a:lnTo>
                    <a:lnTo>
                      <a:pt x="0" y="5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73680" y="26712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7" y="14"/>
                    </a:moveTo>
                    <a:lnTo>
                      <a:pt x="9" y="1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971960" y="2233080"/>
                <a:ext cx="270000" cy="293400"/>
              </a:xfrm>
              <a:custGeom>
                <a:avLst/>
                <a:gdLst/>
                <a:ahLst/>
                <a:rect l="l" t="t" r="r" b="b"/>
                <a:pathLst>
                  <a:path w="340" h="370">
                    <a:moveTo>
                      <a:pt x="340" y="10"/>
                    </a:moveTo>
                    <a:lnTo>
                      <a:pt x="269" y="92"/>
                    </a:lnTo>
                    <a:lnTo>
                      <a:pt x="190" y="180"/>
                    </a:lnTo>
                    <a:lnTo>
                      <a:pt x="11" y="370"/>
                    </a:lnTo>
                    <a:lnTo>
                      <a:pt x="0" y="361"/>
                    </a:lnTo>
                    <a:lnTo>
                      <a:pt x="179" y="170"/>
                    </a:lnTo>
                    <a:lnTo>
                      <a:pt x="258" y="82"/>
                    </a:lnTo>
                    <a:lnTo>
                      <a:pt x="329" y="0"/>
                    </a:lnTo>
                    <a:lnTo>
                      <a:pt x="3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32240" y="223308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10"/>
                    </a:moveTo>
                    <a:lnTo>
                      <a:pt x="0" y="0"/>
                    </a:lnTo>
                    <a:lnTo>
                      <a:pt x="11" y="10"/>
                    </a:lnTo>
                    <a:lnTo>
                      <a:pt x="0" y="1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36960" y="2504520"/>
                <a:ext cx="141480" cy="36360"/>
              </a:xfrm>
              <a:custGeom>
                <a:avLst/>
                <a:gdLst/>
                <a:ahLst/>
                <a:rect l="l" t="t" r="r" b="b"/>
                <a:pathLst>
                  <a:path w="179" h="45">
                    <a:moveTo>
                      <a:pt x="179" y="31"/>
                    </a:moveTo>
                    <a:lnTo>
                      <a:pt x="157" y="38"/>
                    </a:lnTo>
                    <a:lnTo>
                      <a:pt x="132" y="43"/>
                    </a:lnTo>
                    <a:lnTo>
                      <a:pt x="109" y="45"/>
                    </a:lnTo>
                    <a:lnTo>
                      <a:pt x="85" y="45"/>
                    </a:lnTo>
                    <a:lnTo>
                      <a:pt x="60" y="43"/>
                    </a:lnTo>
                    <a:lnTo>
                      <a:pt x="37" y="36"/>
                    </a:lnTo>
                    <a:lnTo>
                      <a:pt x="17" y="25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26" y="14"/>
                    </a:lnTo>
                    <a:lnTo>
                      <a:pt x="43" y="22"/>
                    </a:lnTo>
                    <a:lnTo>
                      <a:pt x="64" y="30"/>
                    </a:lnTo>
                    <a:lnTo>
                      <a:pt x="85" y="32"/>
                    </a:lnTo>
                    <a:lnTo>
                      <a:pt x="107" y="32"/>
                    </a:lnTo>
                    <a:lnTo>
                      <a:pt x="129" y="30"/>
                    </a:lnTo>
                    <a:lnTo>
                      <a:pt x="152" y="25"/>
                    </a:lnTo>
                    <a:lnTo>
                      <a:pt x="173" y="17"/>
                    </a:lnTo>
                    <a:lnTo>
                      <a:pt x="179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971960" y="2518920"/>
                <a:ext cx="9720" cy="900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11"/>
                    </a:moveTo>
                    <a:lnTo>
                      <a:pt x="9" y="14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00600" y="2204640"/>
                <a:ext cx="44280" cy="307440"/>
              </a:xfrm>
              <a:custGeom>
                <a:avLst/>
                <a:gdLst/>
                <a:ahLst/>
                <a:rect l="l" t="t" r="r" b="b"/>
                <a:pathLst>
                  <a:path w="55" h="389">
                    <a:moveTo>
                      <a:pt x="44" y="389"/>
                    </a:moveTo>
                    <a:lnTo>
                      <a:pt x="28" y="369"/>
                    </a:lnTo>
                    <a:lnTo>
                      <a:pt x="16" y="346"/>
                    </a:lnTo>
                    <a:lnTo>
                      <a:pt x="9" y="322"/>
                    </a:lnTo>
                    <a:lnTo>
                      <a:pt x="6" y="296"/>
                    </a:lnTo>
                    <a:lnTo>
                      <a:pt x="11" y="245"/>
                    </a:lnTo>
                    <a:lnTo>
                      <a:pt x="21" y="193"/>
                    </a:lnTo>
                    <a:lnTo>
                      <a:pt x="32" y="142"/>
                    </a:lnTo>
                    <a:lnTo>
                      <a:pt x="35" y="118"/>
                    </a:lnTo>
                    <a:lnTo>
                      <a:pt x="35" y="93"/>
                    </a:lnTo>
                    <a:lnTo>
                      <a:pt x="33" y="72"/>
                    </a:lnTo>
                    <a:lnTo>
                      <a:pt x="27" y="50"/>
                    </a:lnTo>
                    <a:lnTo>
                      <a:pt x="17" y="29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29" y="21"/>
                    </a:lnTo>
                    <a:lnTo>
                      <a:pt x="40" y="44"/>
                    </a:lnTo>
                    <a:lnTo>
                      <a:pt x="46" y="69"/>
                    </a:lnTo>
                    <a:lnTo>
                      <a:pt x="49" y="93"/>
                    </a:lnTo>
                    <a:lnTo>
                      <a:pt x="49" y="120"/>
                    </a:lnTo>
                    <a:lnTo>
                      <a:pt x="45" y="146"/>
                    </a:lnTo>
                    <a:lnTo>
                      <a:pt x="34" y="197"/>
                    </a:lnTo>
                    <a:lnTo>
                      <a:pt x="24" y="248"/>
                    </a:lnTo>
                    <a:lnTo>
                      <a:pt x="20" y="296"/>
                    </a:lnTo>
                    <a:lnTo>
                      <a:pt x="22" y="318"/>
                    </a:lnTo>
                    <a:lnTo>
                      <a:pt x="29" y="340"/>
                    </a:lnTo>
                    <a:lnTo>
                      <a:pt x="40" y="361"/>
                    </a:lnTo>
                    <a:lnTo>
                      <a:pt x="55" y="379"/>
                    </a:lnTo>
                    <a:lnTo>
                      <a:pt x="44" y="3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35520" y="25045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11"/>
                    </a:moveTo>
                    <a:lnTo>
                      <a:pt x="0" y="10"/>
                    </a:lnTo>
                    <a:lnTo>
                      <a:pt x="11" y="0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432320" y="2169720"/>
                <a:ext cx="377640" cy="148680"/>
              </a:xfrm>
              <a:custGeom>
                <a:avLst/>
                <a:gdLst/>
                <a:ahLst/>
                <a:rect l="l" t="t" r="r" b="b"/>
                <a:pathLst>
                  <a:path w="476" h="190">
                    <a:moveTo>
                      <a:pt x="466" y="55"/>
                    </a:moveTo>
                    <a:lnTo>
                      <a:pt x="452" y="42"/>
                    </a:lnTo>
                    <a:lnTo>
                      <a:pt x="434" y="32"/>
                    </a:lnTo>
                    <a:lnTo>
                      <a:pt x="416" y="25"/>
                    </a:lnTo>
                    <a:lnTo>
                      <a:pt x="393" y="17"/>
                    </a:lnTo>
                    <a:lnTo>
                      <a:pt x="370" y="14"/>
                    </a:lnTo>
                    <a:lnTo>
                      <a:pt x="344" y="14"/>
                    </a:lnTo>
                    <a:lnTo>
                      <a:pt x="316" y="15"/>
                    </a:lnTo>
                    <a:lnTo>
                      <a:pt x="287" y="20"/>
                    </a:lnTo>
                    <a:lnTo>
                      <a:pt x="256" y="28"/>
                    </a:lnTo>
                    <a:lnTo>
                      <a:pt x="223" y="40"/>
                    </a:lnTo>
                    <a:lnTo>
                      <a:pt x="190" y="54"/>
                    </a:lnTo>
                    <a:lnTo>
                      <a:pt x="154" y="72"/>
                    </a:lnTo>
                    <a:lnTo>
                      <a:pt x="120" y="95"/>
                    </a:lnTo>
                    <a:lnTo>
                      <a:pt x="84" y="122"/>
                    </a:lnTo>
                    <a:lnTo>
                      <a:pt x="47" y="154"/>
                    </a:lnTo>
                    <a:lnTo>
                      <a:pt x="10" y="190"/>
                    </a:lnTo>
                    <a:lnTo>
                      <a:pt x="0" y="179"/>
                    </a:lnTo>
                    <a:lnTo>
                      <a:pt x="37" y="143"/>
                    </a:lnTo>
                    <a:lnTo>
                      <a:pt x="74" y="111"/>
                    </a:lnTo>
                    <a:lnTo>
                      <a:pt x="110" y="84"/>
                    </a:lnTo>
                    <a:lnTo>
                      <a:pt x="146" y="60"/>
                    </a:lnTo>
                    <a:lnTo>
                      <a:pt x="183" y="42"/>
                    </a:lnTo>
                    <a:lnTo>
                      <a:pt x="217" y="27"/>
                    </a:lnTo>
                    <a:lnTo>
                      <a:pt x="250" y="15"/>
                    </a:lnTo>
                    <a:lnTo>
                      <a:pt x="283" y="6"/>
                    </a:lnTo>
                    <a:lnTo>
                      <a:pt x="313" y="1"/>
                    </a:lnTo>
                    <a:lnTo>
                      <a:pt x="344" y="0"/>
                    </a:lnTo>
                    <a:lnTo>
                      <a:pt x="372" y="0"/>
                    </a:lnTo>
                    <a:lnTo>
                      <a:pt x="397" y="4"/>
                    </a:lnTo>
                    <a:lnTo>
                      <a:pt x="421" y="11"/>
                    </a:lnTo>
                    <a:lnTo>
                      <a:pt x="442" y="20"/>
                    </a:lnTo>
                    <a:lnTo>
                      <a:pt x="460" y="31"/>
                    </a:lnTo>
                    <a:lnTo>
                      <a:pt x="476" y="44"/>
                    </a:lnTo>
                    <a:lnTo>
                      <a:pt x="466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2270160" y="1590480"/>
              <a:ext cx="4143240" cy="4102920"/>
              <a:chOff x="2270160" y="1590480"/>
              <a:chExt cx="4143240" cy="4102920"/>
            </a:xfrm>
          </p:grpSpPr>
          <p:sp>
            <p:nvSpPr>
              <p:cNvPr id="280" name=""/>
              <p:cNvSpPr/>
              <p:nvPr/>
            </p:nvSpPr>
            <p:spPr>
              <a:xfrm>
                <a:off x="4800600" y="22046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1" y="11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253040" y="2310840"/>
                <a:ext cx="187200" cy="356760"/>
              </a:xfrm>
              <a:custGeom>
                <a:avLst/>
                <a:gdLst/>
                <a:ahLst/>
                <a:rect l="l" t="t" r="r" b="b"/>
                <a:pathLst>
                  <a:path w="236" h="451">
                    <a:moveTo>
                      <a:pt x="236" y="11"/>
                    </a:moveTo>
                    <a:lnTo>
                      <a:pt x="180" y="60"/>
                    </a:lnTo>
                    <a:lnTo>
                      <a:pt x="136" y="101"/>
                    </a:lnTo>
                    <a:lnTo>
                      <a:pt x="112" y="126"/>
                    </a:lnTo>
                    <a:lnTo>
                      <a:pt x="91" y="154"/>
                    </a:lnTo>
                    <a:lnTo>
                      <a:pt x="69" y="184"/>
                    </a:lnTo>
                    <a:lnTo>
                      <a:pt x="50" y="216"/>
                    </a:lnTo>
                    <a:lnTo>
                      <a:pt x="35" y="250"/>
                    </a:lnTo>
                    <a:lnTo>
                      <a:pt x="24" y="285"/>
                    </a:lnTo>
                    <a:lnTo>
                      <a:pt x="19" y="304"/>
                    </a:lnTo>
                    <a:lnTo>
                      <a:pt x="16" y="322"/>
                    </a:lnTo>
                    <a:lnTo>
                      <a:pt x="15" y="342"/>
                    </a:lnTo>
                    <a:lnTo>
                      <a:pt x="15" y="363"/>
                    </a:lnTo>
                    <a:lnTo>
                      <a:pt x="16" y="384"/>
                    </a:lnTo>
                    <a:lnTo>
                      <a:pt x="20" y="403"/>
                    </a:lnTo>
                    <a:lnTo>
                      <a:pt x="25" y="424"/>
                    </a:lnTo>
                    <a:lnTo>
                      <a:pt x="31" y="445"/>
                    </a:lnTo>
                    <a:lnTo>
                      <a:pt x="17" y="451"/>
                    </a:lnTo>
                    <a:lnTo>
                      <a:pt x="10" y="426"/>
                    </a:lnTo>
                    <a:lnTo>
                      <a:pt x="5" y="406"/>
                    </a:lnTo>
                    <a:lnTo>
                      <a:pt x="2" y="385"/>
                    </a:lnTo>
                    <a:lnTo>
                      <a:pt x="0" y="364"/>
                    </a:lnTo>
                    <a:lnTo>
                      <a:pt x="0" y="342"/>
                    </a:lnTo>
                    <a:lnTo>
                      <a:pt x="2" y="321"/>
                    </a:lnTo>
                    <a:lnTo>
                      <a:pt x="4" y="302"/>
                    </a:lnTo>
                    <a:lnTo>
                      <a:pt x="9" y="282"/>
                    </a:lnTo>
                    <a:lnTo>
                      <a:pt x="21" y="244"/>
                    </a:lnTo>
                    <a:lnTo>
                      <a:pt x="37" y="210"/>
                    </a:lnTo>
                    <a:lnTo>
                      <a:pt x="57" y="176"/>
                    </a:lnTo>
                    <a:lnTo>
                      <a:pt x="79" y="145"/>
                    </a:lnTo>
                    <a:lnTo>
                      <a:pt x="101" y="116"/>
                    </a:lnTo>
                    <a:lnTo>
                      <a:pt x="125" y="91"/>
                    </a:lnTo>
                    <a:lnTo>
                      <a:pt x="170" y="49"/>
                    </a:lnTo>
                    <a:lnTo>
                      <a:pt x="226" y="0"/>
                    </a:lnTo>
                    <a:lnTo>
                      <a:pt x="23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432320" y="231084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11"/>
                    </a:moveTo>
                    <a:lnTo>
                      <a:pt x="0" y="0"/>
                    </a:lnTo>
                    <a:lnTo>
                      <a:pt x="1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267080" y="2663280"/>
                <a:ext cx="9720" cy="1728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7"/>
                    </a:moveTo>
                    <a:lnTo>
                      <a:pt x="5" y="23"/>
                    </a:lnTo>
                    <a:lnTo>
                      <a:pt x="14" y="8"/>
                    </a:lnTo>
                    <a:lnTo>
                      <a:pt x="2" y="0"/>
                    </a:lnTo>
                    <a:lnTo>
                      <a:pt x="14" y="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343320" y="3804840"/>
                <a:ext cx="1886040" cy="1221840"/>
              </a:xfrm>
              <a:custGeom>
                <a:avLst/>
                <a:gdLst/>
                <a:ahLst/>
                <a:rect l="l" t="t" r="r" b="b"/>
                <a:pathLst>
                  <a:path w="2375" h="1539">
                    <a:moveTo>
                      <a:pt x="0" y="1539"/>
                    </a:moveTo>
                    <a:lnTo>
                      <a:pt x="12" y="1521"/>
                    </a:lnTo>
                    <a:lnTo>
                      <a:pt x="24" y="1504"/>
                    </a:lnTo>
                    <a:lnTo>
                      <a:pt x="50" y="1467"/>
                    </a:lnTo>
                    <a:lnTo>
                      <a:pt x="78" y="1430"/>
                    </a:lnTo>
                    <a:lnTo>
                      <a:pt x="109" y="1391"/>
                    </a:lnTo>
                    <a:lnTo>
                      <a:pt x="172" y="1313"/>
                    </a:lnTo>
                    <a:lnTo>
                      <a:pt x="207" y="1272"/>
                    </a:lnTo>
                    <a:lnTo>
                      <a:pt x="241" y="1232"/>
                    </a:lnTo>
                    <a:lnTo>
                      <a:pt x="314" y="1150"/>
                    </a:lnTo>
                    <a:lnTo>
                      <a:pt x="391" y="1067"/>
                    </a:lnTo>
                    <a:lnTo>
                      <a:pt x="469" y="984"/>
                    </a:lnTo>
                    <a:lnTo>
                      <a:pt x="548" y="902"/>
                    </a:lnTo>
                    <a:lnTo>
                      <a:pt x="551" y="892"/>
                    </a:lnTo>
                    <a:lnTo>
                      <a:pt x="554" y="881"/>
                    </a:lnTo>
                    <a:lnTo>
                      <a:pt x="556" y="870"/>
                    </a:lnTo>
                    <a:lnTo>
                      <a:pt x="557" y="860"/>
                    </a:lnTo>
                    <a:lnTo>
                      <a:pt x="557" y="849"/>
                    </a:lnTo>
                    <a:lnTo>
                      <a:pt x="557" y="838"/>
                    </a:lnTo>
                    <a:lnTo>
                      <a:pt x="556" y="827"/>
                    </a:lnTo>
                    <a:lnTo>
                      <a:pt x="555" y="816"/>
                    </a:lnTo>
                    <a:lnTo>
                      <a:pt x="552" y="807"/>
                    </a:lnTo>
                    <a:lnTo>
                      <a:pt x="549" y="796"/>
                    </a:lnTo>
                    <a:lnTo>
                      <a:pt x="545" y="786"/>
                    </a:lnTo>
                    <a:lnTo>
                      <a:pt x="540" y="775"/>
                    </a:lnTo>
                    <a:lnTo>
                      <a:pt x="534" y="765"/>
                    </a:lnTo>
                    <a:lnTo>
                      <a:pt x="528" y="756"/>
                    </a:lnTo>
                    <a:lnTo>
                      <a:pt x="521" y="747"/>
                    </a:lnTo>
                    <a:lnTo>
                      <a:pt x="512" y="738"/>
                    </a:lnTo>
                    <a:lnTo>
                      <a:pt x="501" y="728"/>
                    </a:lnTo>
                    <a:lnTo>
                      <a:pt x="495" y="723"/>
                    </a:lnTo>
                    <a:lnTo>
                      <a:pt x="489" y="719"/>
                    </a:lnTo>
                    <a:lnTo>
                      <a:pt x="477" y="711"/>
                    </a:lnTo>
                    <a:lnTo>
                      <a:pt x="471" y="709"/>
                    </a:lnTo>
                    <a:lnTo>
                      <a:pt x="466" y="705"/>
                    </a:lnTo>
                    <a:lnTo>
                      <a:pt x="453" y="701"/>
                    </a:lnTo>
                    <a:lnTo>
                      <a:pt x="441" y="698"/>
                    </a:lnTo>
                    <a:lnTo>
                      <a:pt x="429" y="695"/>
                    </a:lnTo>
                    <a:lnTo>
                      <a:pt x="417" y="694"/>
                    </a:lnTo>
                    <a:lnTo>
                      <a:pt x="405" y="694"/>
                    </a:lnTo>
                    <a:lnTo>
                      <a:pt x="392" y="695"/>
                    </a:lnTo>
                    <a:lnTo>
                      <a:pt x="380" y="697"/>
                    </a:lnTo>
                    <a:lnTo>
                      <a:pt x="368" y="698"/>
                    </a:lnTo>
                    <a:lnTo>
                      <a:pt x="342" y="704"/>
                    </a:lnTo>
                    <a:lnTo>
                      <a:pt x="318" y="709"/>
                    </a:lnTo>
                    <a:lnTo>
                      <a:pt x="293" y="715"/>
                    </a:lnTo>
                    <a:lnTo>
                      <a:pt x="269" y="720"/>
                    </a:lnTo>
                    <a:lnTo>
                      <a:pt x="257" y="722"/>
                    </a:lnTo>
                    <a:lnTo>
                      <a:pt x="244" y="722"/>
                    </a:lnTo>
                    <a:lnTo>
                      <a:pt x="232" y="723"/>
                    </a:lnTo>
                    <a:lnTo>
                      <a:pt x="220" y="722"/>
                    </a:lnTo>
                    <a:lnTo>
                      <a:pt x="215" y="722"/>
                    </a:lnTo>
                    <a:lnTo>
                      <a:pt x="209" y="721"/>
                    </a:lnTo>
                    <a:lnTo>
                      <a:pt x="197" y="719"/>
                    </a:lnTo>
                    <a:lnTo>
                      <a:pt x="191" y="717"/>
                    </a:lnTo>
                    <a:lnTo>
                      <a:pt x="186" y="715"/>
                    </a:lnTo>
                    <a:lnTo>
                      <a:pt x="173" y="710"/>
                    </a:lnTo>
                    <a:lnTo>
                      <a:pt x="162" y="704"/>
                    </a:lnTo>
                    <a:lnTo>
                      <a:pt x="156" y="700"/>
                    </a:lnTo>
                    <a:lnTo>
                      <a:pt x="150" y="697"/>
                    </a:lnTo>
                    <a:lnTo>
                      <a:pt x="139" y="687"/>
                    </a:lnTo>
                    <a:lnTo>
                      <a:pt x="128" y="676"/>
                    </a:lnTo>
                    <a:lnTo>
                      <a:pt x="121" y="667"/>
                    </a:lnTo>
                    <a:lnTo>
                      <a:pt x="115" y="659"/>
                    </a:lnTo>
                    <a:lnTo>
                      <a:pt x="104" y="641"/>
                    </a:lnTo>
                    <a:lnTo>
                      <a:pt x="100" y="633"/>
                    </a:lnTo>
                    <a:lnTo>
                      <a:pt x="95" y="623"/>
                    </a:lnTo>
                    <a:lnTo>
                      <a:pt x="93" y="615"/>
                    </a:lnTo>
                    <a:lnTo>
                      <a:pt x="89" y="606"/>
                    </a:lnTo>
                    <a:lnTo>
                      <a:pt x="87" y="596"/>
                    </a:lnTo>
                    <a:lnTo>
                      <a:pt x="85" y="588"/>
                    </a:lnTo>
                    <a:lnTo>
                      <a:pt x="84" y="569"/>
                    </a:lnTo>
                    <a:lnTo>
                      <a:pt x="84" y="550"/>
                    </a:lnTo>
                    <a:lnTo>
                      <a:pt x="85" y="531"/>
                    </a:lnTo>
                    <a:lnTo>
                      <a:pt x="89" y="513"/>
                    </a:lnTo>
                    <a:lnTo>
                      <a:pt x="94" y="494"/>
                    </a:lnTo>
                    <a:lnTo>
                      <a:pt x="100" y="475"/>
                    </a:lnTo>
                    <a:lnTo>
                      <a:pt x="107" y="457"/>
                    </a:lnTo>
                    <a:lnTo>
                      <a:pt x="116" y="438"/>
                    </a:lnTo>
                    <a:lnTo>
                      <a:pt x="126" y="420"/>
                    </a:lnTo>
                    <a:lnTo>
                      <a:pt x="137" y="402"/>
                    </a:lnTo>
                    <a:lnTo>
                      <a:pt x="148" y="385"/>
                    </a:lnTo>
                    <a:lnTo>
                      <a:pt x="160" y="368"/>
                    </a:lnTo>
                    <a:lnTo>
                      <a:pt x="166" y="359"/>
                    </a:lnTo>
                    <a:lnTo>
                      <a:pt x="172" y="350"/>
                    </a:lnTo>
                    <a:lnTo>
                      <a:pt x="185" y="335"/>
                    </a:lnTo>
                    <a:lnTo>
                      <a:pt x="197" y="319"/>
                    </a:lnTo>
                    <a:lnTo>
                      <a:pt x="209" y="304"/>
                    </a:lnTo>
                    <a:lnTo>
                      <a:pt x="221" y="291"/>
                    </a:lnTo>
                    <a:lnTo>
                      <a:pt x="246" y="265"/>
                    </a:lnTo>
                    <a:lnTo>
                      <a:pt x="268" y="242"/>
                    </a:lnTo>
                    <a:lnTo>
                      <a:pt x="286" y="223"/>
                    </a:lnTo>
                    <a:lnTo>
                      <a:pt x="309" y="201"/>
                    </a:lnTo>
                    <a:lnTo>
                      <a:pt x="328" y="183"/>
                    </a:lnTo>
                    <a:lnTo>
                      <a:pt x="346" y="166"/>
                    </a:lnTo>
                    <a:lnTo>
                      <a:pt x="364" y="150"/>
                    </a:lnTo>
                    <a:lnTo>
                      <a:pt x="383" y="135"/>
                    </a:lnTo>
                    <a:lnTo>
                      <a:pt x="401" y="121"/>
                    </a:lnTo>
                    <a:lnTo>
                      <a:pt x="419" y="108"/>
                    </a:lnTo>
                    <a:lnTo>
                      <a:pt x="436" y="96"/>
                    </a:lnTo>
                    <a:lnTo>
                      <a:pt x="455" y="85"/>
                    </a:lnTo>
                    <a:lnTo>
                      <a:pt x="472" y="75"/>
                    </a:lnTo>
                    <a:lnTo>
                      <a:pt x="489" y="66"/>
                    </a:lnTo>
                    <a:lnTo>
                      <a:pt x="507" y="58"/>
                    </a:lnTo>
                    <a:lnTo>
                      <a:pt x="523" y="51"/>
                    </a:lnTo>
                    <a:lnTo>
                      <a:pt x="540" y="45"/>
                    </a:lnTo>
                    <a:lnTo>
                      <a:pt x="556" y="40"/>
                    </a:lnTo>
                    <a:lnTo>
                      <a:pt x="572" y="35"/>
                    </a:lnTo>
                    <a:lnTo>
                      <a:pt x="588" y="31"/>
                    </a:lnTo>
                    <a:lnTo>
                      <a:pt x="604" y="28"/>
                    </a:lnTo>
                    <a:lnTo>
                      <a:pt x="618" y="26"/>
                    </a:lnTo>
                    <a:lnTo>
                      <a:pt x="633" y="25"/>
                    </a:lnTo>
                    <a:lnTo>
                      <a:pt x="648" y="24"/>
                    </a:lnTo>
                    <a:lnTo>
                      <a:pt x="661" y="24"/>
                    </a:lnTo>
                    <a:lnTo>
                      <a:pt x="675" y="25"/>
                    </a:lnTo>
                    <a:lnTo>
                      <a:pt x="687" y="26"/>
                    </a:lnTo>
                    <a:lnTo>
                      <a:pt x="699" y="29"/>
                    </a:lnTo>
                    <a:lnTo>
                      <a:pt x="710" y="31"/>
                    </a:lnTo>
                    <a:lnTo>
                      <a:pt x="722" y="35"/>
                    </a:lnTo>
                    <a:lnTo>
                      <a:pt x="732" y="39"/>
                    </a:lnTo>
                    <a:lnTo>
                      <a:pt x="742" y="44"/>
                    </a:lnTo>
                    <a:lnTo>
                      <a:pt x="752" y="48"/>
                    </a:lnTo>
                    <a:lnTo>
                      <a:pt x="760" y="55"/>
                    </a:lnTo>
                    <a:lnTo>
                      <a:pt x="768" y="61"/>
                    </a:lnTo>
                    <a:lnTo>
                      <a:pt x="775" y="67"/>
                    </a:lnTo>
                    <a:lnTo>
                      <a:pt x="785" y="77"/>
                    </a:lnTo>
                    <a:lnTo>
                      <a:pt x="792" y="88"/>
                    </a:lnTo>
                    <a:lnTo>
                      <a:pt x="798" y="99"/>
                    </a:lnTo>
                    <a:lnTo>
                      <a:pt x="803" y="110"/>
                    </a:lnTo>
                    <a:lnTo>
                      <a:pt x="807" y="121"/>
                    </a:lnTo>
                    <a:lnTo>
                      <a:pt x="809" y="132"/>
                    </a:lnTo>
                    <a:lnTo>
                      <a:pt x="810" y="144"/>
                    </a:lnTo>
                    <a:lnTo>
                      <a:pt x="812" y="156"/>
                    </a:lnTo>
                    <a:lnTo>
                      <a:pt x="812" y="168"/>
                    </a:lnTo>
                    <a:lnTo>
                      <a:pt x="810" y="180"/>
                    </a:lnTo>
                    <a:lnTo>
                      <a:pt x="809" y="193"/>
                    </a:lnTo>
                    <a:lnTo>
                      <a:pt x="808" y="206"/>
                    </a:lnTo>
                    <a:lnTo>
                      <a:pt x="803" y="231"/>
                    </a:lnTo>
                    <a:lnTo>
                      <a:pt x="797" y="258"/>
                    </a:lnTo>
                    <a:lnTo>
                      <a:pt x="791" y="283"/>
                    </a:lnTo>
                    <a:lnTo>
                      <a:pt x="787" y="308"/>
                    </a:lnTo>
                    <a:lnTo>
                      <a:pt x="785" y="321"/>
                    </a:lnTo>
                    <a:lnTo>
                      <a:pt x="783" y="333"/>
                    </a:lnTo>
                    <a:lnTo>
                      <a:pt x="782" y="358"/>
                    </a:lnTo>
                    <a:lnTo>
                      <a:pt x="783" y="370"/>
                    </a:lnTo>
                    <a:lnTo>
                      <a:pt x="785" y="382"/>
                    </a:lnTo>
                    <a:lnTo>
                      <a:pt x="787" y="393"/>
                    </a:lnTo>
                    <a:lnTo>
                      <a:pt x="791" y="404"/>
                    </a:lnTo>
                    <a:lnTo>
                      <a:pt x="796" y="415"/>
                    </a:lnTo>
                    <a:lnTo>
                      <a:pt x="802" y="426"/>
                    </a:lnTo>
                    <a:lnTo>
                      <a:pt x="805" y="431"/>
                    </a:lnTo>
                    <a:lnTo>
                      <a:pt x="810" y="437"/>
                    </a:lnTo>
                    <a:lnTo>
                      <a:pt x="819" y="447"/>
                    </a:lnTo>
                    <a:lnTo>
                      <a:pt x="829" y="456"/>
                    </a:lnTo>
                    <a:lnTo>
                      <a:pt x="838" y="463"/>
                    </a:lnTo>
                    <a:lnTo>
                      <a:pt x="849" y="469"/>
                    </a:lnTo>
                    <a:lnTo>
                      <a:pt x="859" y="475"/>
                    </a:lnTo>
                    <a:lnTo>
                      <a:pt x="871" y="479"/>
                    </a:lnTo>
                    <a:lnTo>
                      <a:pt x="882" y="483"/>
                    </a:lnTo>
                    <a:lnTo>
                      <a:pt x="895" y="484"/>
                    </a:lnTo>
                    <a:lnTo>
                      <a:pt x="906" y="485"/>
                    </a:lnTo>
                    <a:lnTo>
                      <a:pt x="918" y="485"/>
                    </a:lnTo>
                    <a:lnTo>
                      <a:pt x="930" y="484"/>
                    </a:lnTo>
                    <a:lnTo>
                      <a:pt x="942" y="483"/>
                    </a:lnTo>
                    <a:lnTo>
                      <a:pt x="955" y="479"/>
                    </a:lnTo>
                    <a:lnTo>
                      <a:pt x="967" y="475"/>
                    </a:lnTo>
                    <a:lnTo>
                      <a:pt x="978" y="472"/>
                    </a:lnTo>
                    <a:lnTo>
                      <a:pt x="989" y="465"/>
                    </a:lnTo>
                    <a:lnTo>
                      <a:pt x="1000" y="459"/>
                    </a:lnTo>
                    <a:lnTo>
                      <a:pt x="1127" y="339"/>
                    </a:lnTo>
                    <a:lnTo>
                      <a:pt x="1164" y="305"/>
                    </a:lnTo>
                    <a:lnTo>
                      <a:pt x="1173" y="295"/>
                    </a:lnTo>
                    <a:lnTo>
                      <a:pt x="1178" y="291"/>
                    </a:lnTo>
                    <a:lnTo>
                      <a:pt x="1180" y="292"/>
                    </a:lnTo>
                    <a:lnTo>
                      <a:pt x="1183" y="297"/>
                    </a:lnTo>
                    <a:lnTo>
                      <a:pt x="1195" y="309"/>
                    </a:lnTo>
                    <a:lnTo>
                      <a:pt x="1242" y="354"/>
                    </a:lnTo>
                    <a:lnTo>
                      <a:pt x="1404" y="508"/>
                    </a:lnTo>
                    <a:lnTo>
                      <a:pt x="1392" y="494"/>
                    </a:lnTo>
                    <a:lnTo>
                      <a:pt x="1379" y="479"/>
                    </a:lnTo>
                    <a:lnTo>
                      <a:pt x="1437" y="539"/>
                    </a:lnTo>
                    <a:lnTo>
                      <a:pt x="1469" y="569"/>
                    </a:lnTo>
                    <a:lnTo>
                      <a:pt x="1475" y="573"/>
                    </a:lnTo>
                    <a:lnTo>
                      <a:pt x="1480" y="575"/>
                    </a:lnTo>
                    <a:lnTo>
                      <a:pt x="1492" y="582"/>
                    </a:lnTo>
                    <a:lnTo>
                      <a:pt x="1505" y="585"/>
                    </a:lnTo>
                    <a:lnTo>
                      <a:pt x="1517" y="589"/>
                    </a:lnTo>
                    <a:lnTo>
                      <a:pt x="1529" y="591"/>
                    </a:lnTo>
                    <a:lnTo>
                      <a:pt x="1543" y="593"/>
                    </a:lnTo>
                    <a:lnTo>
                      <a:pt x="1555" y="593"/>
                    </a:lnTo>
                    <a:lnTo>
                      <a:pt x="1568" y="591"/>
                    </a:lnTo>
                    <a:lnTo>
                      <a:pt x="1580" y="590"/>
                    </a:lnTo>
                    <a:lnTo>
                      <a:pt x="1593" y="586"/>
                    </a:lnTo>
                    <a:lnTo>
                      <a:pt x="1605" y="583"/>
                    </a:lnTo>
                    <a:lnTo>
                      <a:pt x="1617" y="578"/>
                    </a:lnTo>
                    <a:lnTo>
                      <a:pt x="1628" y="572"/>
                    </a:lnTo>
                    <a:lnTo>
                      <a:pt x="1639" y="564"/>
                    </a:lnTo>
                    <a:lnTo>
                      <a:pt x="1645" y="561"/>
                    </a:lnTo>
                    <a:lnTo>
                      <a:pt x="1650" y="557"/>
                    </a:lnTo>
                    <a:lnTo>
                      <a:pt x="1660" y="547"/>
                    </a:lnTo>
                    <a:lnTo>
                      <a:pt x="1671" y="535"/>
                    </a:lnTo>
                    <a:lnTo>
                      <a:pt x="1676" y="530"/>
                    </a:lnTo>
                    <a:lnTo>
                      <a:pt x="1681" y="524"/>
                    </a:lnTo>
                    <a:lnTo>
                      <a:pt x="1688" y="512"/>
                    </a:lnTo>
                    <a:lnTo>
                      <a:pt x="1691" y="506"/>
                    </a:lnTo>
                    <a:lnTo>
                      <a:pt x="1693" y="500"/>
                    </a:lnTo>
                    <a:lnTo>
                      <a:pt x="1698" y="487"/>
                    </a:lnTo>
                    <a:lnTo>
                      <a:pt x="1702" y="475"/>
                    </a:lnTo>
                    <a:lnTo>
                      <a:pt x="1704" y="463"/>
                    </a:lnTo>
                    <a:lnTo>
                      <a:pt x="1704" y="451"/>
                    </a:lnTo>
                    <a:lnTo>
                      <a:pt x="1705" y="438"/>
                    </a:lnTo>
                    <a:lnTo>
                      <a:pt x="1704" y="426"/>
                    </a:lnTo>
                    <a:lnTo>
                      <a:pt x="1703" y="414"/>
                    </a:lnTo>
                    <a:lnTo>
                      <a:pt x="1700" y="402"/>
                    </a:lnTo>
                    <a:lnTo>
                      <a:pt x="1695" y="377"/>
                    </a:lnTo>
                    <a:lnTo>
                      <a:pt x="1689" y="353"/>
                    </a:lnTo>
                    <a:lnTo>
                      <a:pt x="1684" y="328"/>
                    </a:lnTo>
                    <a:lnTo>
                      <a:pt x="1680" y="304"/>
                    </a:lnTo>
                    <a:lnTo>
                      <a:pt x="1677" y="292"/>
                    </a:lnTo>
                    <a:lnTo>
                      <a:pt x="1676" y="280"/>
                    </a:lnTo>
                    <a:lnTo>
                      <a:pt x="1676" y="267"/>
                    </a:lnTo>
                    <a:lnTo>
                      <a:pt x="1676" y="255"/>
                    </a:lnTo>
                    <a:lnTo>
                      <a:pt x="1677" y="249"/>
                    </a:lnTo>
                    <a:lnTo>
                      <a:pt x="1677" y="243"/>
                    </a:lnTo>
                    <a:lnTo>
                      <a:pt x="1680" y="232"/>
                    </a:lnTo>
                    <a:lnTo>
                      <a:pt x="1682" y="226"/>
                    </a:lnTo>
                    <a:lnTo>
                      <a:pt x="1683" y="220"/>
                    </a:lnTo>
                    <a:lnTo>
                      <a:pt x="1689" y="209"/>
                    </a:lnTo>
                    <a:lnTo>
                      <a:pt x="1695" y="196"/>
                    </a:lnTo>
                    <a:lnTo>
                      <a:pt x="1699" y="191"/>
                    </a:lnTo>
                    <a:lnTo>
                      <a:pt x="1703" y="185"/>
                    </a:lnTo>
                    <a:lnTo>
                      <a:pt x="1713" y="174"/>
                    </a:lnTo>
                    <a:lnTo>
                      <a:pt x="1724" y="163"/>
                    </a:lnTo>
                    <a:lnTo>
                      <a:pt x="1732" y="156"/>
                    </a:lnTo>
                    <a:lnTo>
                      <a:pt x="1741" y="150"/>
                    </a:lnTo>
                    <a:lnTo>
                      <a:pt x="1758" y="139"/>
                    </a:lnTo>
                    <a:lnTo>
                      <a:pt x="1766" y="134"/>
                    </a:lnTo>
                    <a:lnTo>
                      <a:pt x="1775" y="130"/>
                    </a:lnTo>
                    <a:lnTo>
                      <a:pt x="1785" y="127"/>
                    </a:lnTo>
                    <a:lnTo>
                      <a:pt x="1793" y="124"/>
                    </a:lnTo>
                    <a:lnTo>
                      <a:pt x="1803" y="122"/>
                    </a:lnTo>
                    <a:lnTo>
                      <a:pt x="1812" y="121"/>
                    </a:lnTo>
                    <a:lnTo>
                      <a:pt x="1830" y="118"/>
                    </a:lnTo>
                    <a:lnTo>
                      <a:pt x="1848" y="118"/>
                    </a:lnTo>
                    <a:lnTo>
                      <a:pt x="1868" y="121"/>
                    </a:lnTo>
                    <a:lnTo>
                      <a:pt x="1886" y="124"/>
                    </a:lnTo>
                    <a:lnTo>
                      <a:pt x="1906" y="129"/>
                    </a:lnTo>
                    <a:lnTo>
                      <a:pt x="1924" y="135"/>
                    </a:lnTo>
                    <a:lnTo>
                      <a:pt x="1942" y="143"/>
                    </a:lnTo>
                    <a:lnTo>
                      <a:pt x="1961" y="151"/>
                    </a:lnTo>
                    <a:lnTo>
                      <a:pt x="1979" y="161"/>
                    </a:lnTo>
                    <a:lnTo>
                      <a:pt x="1997" y="172"/>
                    </a:lnTo>
                    <a:lnTo>
                      <a:pt x="2014" y="183"/>
                    </a:lnTo>
                    <a:lnTo>
                      <a:pt x="2032" y="194"/>
                    </a:lnTo>
                    <a:lnTo>
                      <a:pt x="2040" y="200"/>
                    </a:lnTo>
                    <a:lnTo>
                      <a:pt x="2049" y="206"/>
                    </a:lnTo>
                    <a:lnTo>
                      <a:pt x="2065" y="218"/>
                    </a:lnTo>
                    <a:lnTo>
                      <a:pt x="2079" y="232"/>
                    </a:lnTo>
                    <a:lnTo>
                      <a:pt x="2095" y="244"/>
                    </a:lnTo>
                    <a:lnTo>
                      <a:pt x="2109" y="256"/>
                    </a:lnTo>
                    <a:lnTo>
                      <a:pt x="2134" y="281"/>
                    </a:lnTo>
                    <a:lnTo>
                      <a:pt x="2156" y="303"/>
                    </a:lnTo>
                    <a:lnTo>
                      <a:pt x="2175" y="321"/>
                    </a:lnTo>
                    <a:lnTo>
                      <a:pt x="2198" y="344"/>
                    </a:lnTo>
                    <a:lnTo>
                      <a:pt x="2216" y="363"/>
                    </a:lnTo>
                    <a:lnTo>
                      <a:pt x="2233" y="381"/>
                    </a:lnTo>
                    <a:lnTo>
                      <a:pt x="2249" y="399"/>
                    </a:lnTo>
                    <a:lnTo>
                      <a:pt x="2264" y="418"/>
                    </a:lnTo>
                    <a:lnTo>
                      <a:pt x="2278" y="436"/>
                    </a:lnTo>
                    <a:lnTo>
                      <a:pt x="2291" y="453"/>
                    </a:lnTo>
                    <a:lnTo>
                      <a:pt x="2303" y="472"/>
                    </a:lnTo>
                    <a:lnTo>
                      <a:pt x="2314" y="489"/>
                    </a:lnTo>
                    <a:lnTo>
                      <a:pt x="2324" y="507"/>
                    </a:lnTo>
                    <a:lnTo>
                      <a:pt x="2332" y="524"/>
                    </a:lnTo>
                    <a:lnTo>
                      <a:pt x="2341" y="541"/>
                    </a:lnTo>
                    <a:lnTo>
                      <a:pt x="2348" y="558"/>
                    </a:lnTo>
                    <a:lnTo>
                      <a:pt x="2354" y="575"/>
                    </a:lnTo>
                    <a:lnTo>
                      <a:pt x="2359" y="591"/>
                    </a:lnTo>
                    <a:lnTo>
                      <a:pt x="2364" y="607"/>
                    </a:lnTo>
                    <a:lnTo>
                      <a:pt x="2368" y="623"/>
                    </a:lnTo>
                    <a:lnTo>
                      <a:pt x="2370" y="638"/>
                    </a:lnTo>
                    <a:lnTo>
                      <a:pt x="2373" y="654"/>
                    </a:lnTo>
                    <a:lnTo>
                      <a:pt x="2374" y="668"/>
                    </a:lnTo>
                    <a:lnTo>
                      <a:pt x="2375" y="682"/>
                    </a:lnTo>
                    <a:lnTo>
                      <a:pt x="2375" y="695"/>
                    </a:lnTo>
                    <a:lnTo>
                      <a:pt x="2374" y="709"/>
                    </a:lnTo>
                    <a:lnTo>
                      <a:pt x="2373" y="722"/>
                    </a:lnTo>
                    <a:lnTo>
                      <a:pt x="2370" y="734"/>
                    </a:lnTo>
                    <a:lnTo>
                      <a:pt x="2368" y="745"/>
                    </a:lnTo>
                    <a:lnTo>
                      <a:pt x="2364" y="756"/>
                    </a:lnTo>
                    <a:lnTo>
                      <a:pt x="2360" y="767"/>
                    </a:lnTo>
                    <a:lnTo>
                      <a:pt x="2356" y="777"/>
                    </a:lnTo>
                    <a:lnTo>
                      <a:pt x="2351" y="786"/>
                    </a:lnTo>
                    <a:lnTo>
                      <a:pt x="2345" y="794"/>
                    </a:lnTo>
                    <a:lnTo>
                      <a:pt x="2338" y="803"/>
                    </a:lnTo>
                    <a:lnTo>
                      <a:pt x="2332" y="810"/>
                    </a:lnTo>
                    <a:lnTo>
                      <a:pt x="2321" y="819"/>
                    </a:lnTo>
                    <a:lnTo>
                      <a:pt x="2311" y="826"/>
                    </a:lnTo>
                    <a:lnTo>
                      <a:pt x="2300" y="833"/>
                    </a:lnTo>
                    <a:lnTo>
                      <a:pt x="2289" y="838"/>
                    </a:lnTo>
                    <a:lnTo>
                      <a:pt x="2278" y="842"/>
                    </a:lnTo>
                    <a:lnTo>
                      <a:pt x="2266" y="844"/>
                    </a:lnTo>
                    <a:lnTo>
                      <a:pt x="2255" y="846"/>
                    </a:lnTo>
                    <a:lnTo>
                      <a:pt x="2243" y="847"/>
                    </a:lnTo>
                    <a:lnTo>
                      <a:pt x="2231" y="847"/>
                    </a:lnTo>
                    <a:lnTo>
                      <a:pt x="2219" y="846"/>
                    </a:lnTo>
                    <a:lnTo>
                      <a:pt x="2206" y="844"/>
                    </a:lnTo>
                    <a:lnTo>
                      <a:pt x="2193" y="842"/>
                    </a:lnTo>
                    <a:lnTo>
                      <a:pt x="2167" y="837"/>
                    </a:lnTo>
                    <a:lnTo>
                      <a:pt x="2142" y="832"/>
                    </a:lnTo>
                    <a:lnTo>
                      <a:pt x="2116" y="826"/>
                    </a:lnTo>
                    <a:lnTo>
                      <a:pt x="2090" y="821"/>
                    </a:lnTo>
                    <a:lnTo>
                      <a:pt x="2078" y="820"/>
                    </a:lnTo>
                    <a:lnTo>
                      <a:pt x="2066" y="819"/>
                    </a:lnTo>
                    <a:lnTo>
                      <a:pt x="2041" y="818"/>
                    </a:lnTo>
                    <a:lnTo>
                      <a:pt x="2029" y="818"/>
                    </a:lnTo>
                    <a:lnTo>
                      <a:pt x="2017" y="820"/>
                    </a:lnTo>
                    <a:lnTo>
                      <a:pt x="2006" y="822"/>
                    </a:lnTo>
                    <a:lnTo>
                      <a:pt x="1994" y="826"/>
                    </a:lnTo>
                    <a:lnTo>
                      <a:pt x="1983" y="831"/>
                    </a:lnTo>
                    <a:lnTo>
                      <a:pt x="1973" y="837"/>
                    </a:lnTo>
                    <a:lnTo>
                      <a:pt x="1967" y="841"/>
                    </a:lnTo>
                    <a:lnTo>
                      <a:pt x="1962" y="844"/>
                    </a:lnTo>
                    <a:lnTo>
                      <a:pt x="1952" y="854"/>
                    </a:lnTo>
                    <a:lnTo>
                      <a:pt x="1947" y="859"/>
                    </a:lnTo>
                    <a:lnTo>
                      <a:pt x="1942" y="864"/>
                    </a:lnTo>
                    <a:lnTo>
                      <a:pt x="1939" y="870"/>
                    </a:lnTo>
                    <a:lnTo>
                      <a:pt x="1935" y="876"/>
                    </a:lnTo>
                    <a:lnTo>
                      <a:pt x="1931" y="884"/>
                    </a:lnTo>
                    <a:lnTo>
                      <a:pt x="1930" y="886"/>
                    </a:lnTo>
                    <a:lnTo>
                      <a:pt x="1929" y="890"/>
                    </a:lnTo>
                    <a:lnTo>
                      <a:pt x="1924" y="903"/>
                    </a:lnTo>
                    <a:lnTo>
                      <a:pt x="1923" y="910"/>
                    </a:lnTo>
                    <a:lnTo>
                      <a:pt x="1922" y="918"/>
                    </a:lnTo>
                    <a:lnTo>
                      <a:pt x="1919" y="932"/>
                    </a:lnTo>
                    <a:lnTo>
                      <a:pt x="1919" y="941"/>
                    </a:lnTo>
                    <a:lnTo>
                      <a:pt x="1919" y="948"/>
                    </a:lnTo>
                    <a:lnTo>
                      <a:pt x="1919" y="964"/>
                    </a:lnTo>
                    <a:lnTo>
                      <a:pt x="1896" y="940"/>
                    </a:lnTo>
                    <a:lnTo>
                      <a:pt x="1874" y="918"/>
                    </a:lnTo>
                    <a:lnTo>
                      <a:pt x="1852" y="896"/>
                    </a:lnTo>
                    <a:lnTo>
                      <a:pt x="1827" y="871"/>
                    </a:lnTo>
                    <a:lnTo>
                      <a:pt x="1824" y="862"/>
                    </a:lnTo>
                    <a:lnTo>
                      <a:pt x="1820" y="852"/>
                    </a:lnTo>
                    <a:lnTo>
                      <a:pt x="1818" y="842"/>
                    </a:lnTo>
                    <a:lnTo>
                      <a:pt x="1815" y="831"/>
                    </a:lnTo>
                    <a:lnTo>
                      <a:pt x="1813" y="810"/>
                    </a:lnTo>
                    <a:lnTo>
                      <a:pt x="1813" y="800"/>
                    </a:lnTo>
                    <a:lnTo>
                      <a:pt x="1813" y="789"/>
                    </a:lnTo>
                    <a:lnTo>
                      <a:pt x="1814" y="780"/>
                    </a:lnTo>
                    <a:lnTo>
                      <a:pt x="1815" y="770"/>
                    </a:lnTo>
                    <a:lnTo>
                      <a:pt x="1818" y="760"/>
                    </a:lnTo>
                    <a:lnTo>
                      <a:pt x="1821" y="752"/>
                    </a:lnTo>
                    <a:lnTo>
                      <a:pt x="1825" y="743"/>
                    </a:lnTo>
                    <a:lnTo>
                      <a:pt x="1830" y="734"/>
                    </a:lnTo>
                    <a:lnTo>
                      <a:pt x="1835" y="727"/>
                    </a:lnTo>
                    <a:lnTo>
                      <a:pt x="1838" y="723"/>
                    </a:lnTo>
                    <a:lnTo>
                      <a:pt x="1841" y="720"/>
                    </a:lnTo>
                    <a:lnTo>
                      <a:pt x="1849" y="711"/>
                    </a:lnTo>
                    <a:lnTo>
                      <a:pt x="1859" y="705"/>
                    </a:lnTo>
                    <a:lnTo>
                      <a:pt x="1868" y="700"/>
                    </a:lnTo>
                    <a:lnTo>
                      <a:pt x="1878" y="695"/>
                    </a:lnTo>
                    <a:lnTo>
                      <a:pt x="1887" y="692"/>
                    </a:lnTo>
                    <a:lnTo>
                      <a:pt x="1897" y="690"/>
                    </a:lnTo>
                    <a:lnTo>
                      <a:pt x="1908" y="688"/>
                    </a:lnTo>
                    <a:lnTo>
                      <a:pt x="1918" y="688"/>
                    </a:lnTo>
                    <a:lnTo>
                      <a:pt x="1929" y="688"/>
                    </a:lnTo>
                    <a:lnTo>
                      <a:pt x="1940" y="689"/>
                    </a:lnTo>
                    <a:lnTo>
                      <a:pt x="1962" y="692"/>
                    </a:lnTo>
                    <a:lnTo>
                      <a:pt x="1984" y="695"/>
                    </a:lnTo>
                    <a:lnTo>
                      <a:pt x="2006" y="700"/>
                    </a:lnTo>
                    <a:lnTo>
                      <a:pt x="2028" y="705"/>
                    </a:lnTo>
                    <a:lnTo>
                      <a:pt x="2050" y="710"/>
                    </a:lnTo>
                    <a:lnTo>
                      <a:pt x="2072" y="712"/>
                    </a:lnTo>
                    <a:lnTo>
                      <a:pt x="2083" y="714"/>
                    </a:lnTo>
                    <a:lnTo>
                      <a:pt x="2094" y="714"/>
                    </a:lnTo>
                    <a:lnTo>
                      <a:pt x="2104" y="712"/>
                    </a:lnTo>
                    <a:lnTo>
                      <a:pt x="2115" y="711"/>
                    </a:lnTo>
                    <a:lnTo>
                      <a:pt x="2124" y="709"/>
                    </a:lnTo>
                    <a:lnTo>
                      <a:pt x="2129" y="708"/>
                    </a:lnTo>
                    <a:lnTo>
                      <a:pt x="2134" y="705"/>
                    </a:lnTo>
                    <a:lnTo>
                      <a:pt x="2144" y="701"/>
                    </a:lnTo>
                    <a:lnTo>
                      <a:pt x="2153" y="697"/>
                    </a:lnTo>
                    <a:lnTo>
                      <a:pt x="2157" y="693"/>
                    </a:lnTo>
                    <a:lnTo>
                      <a:pt x="2162" y="689"/>
                    </a:lnTo>
                    <a:lnTo>
                      <a:pt x="2166" y="685"/>
                    </a:lnTo>
                    <a:lnTo>
                      <a:pt x="2171" y="682"/>
                    </a:lnTo>
                    <a:lnTo>
                      <a:pt x="2176" y="676"/>
                    </a:lnTo>
                    <a:lnTo>
                      <a:pt x="2182" y="668"/>
                    </a:lnTo>
                    <a:lnTo>
                      <a:pt x="2190" y="652"/>
                    </a:lnTo>
                    <a:lnTo>
                      <a:pt x="2195" y="644"/>
                    </a:lnTo>
                    <a:lnTo>
                      <a:pt x="2199" y="635"/>
                    </a:lnTo>
                    <a:lnTo>
                      <a:pt x="2201" y="626"/>
                    </a:lnTo>
                    <a:lnTo>
                      <a:pt x="2204" y="616"/>
                    </a:lnTo>
                    <a:lnTo>
                      <a:pt x="2205" y="605"/>
                    </a:lnTo>
                    <a:lnTo>
                      <a:pt x="2208" y="594"/>
                    </a:lnTo>
                    <a:lnTo>
                      <a:pt x="2208" y="583"/>
                    </a:lnTo>
                    <a:lnTo>
                      <a:pt x="2208" y="571"/>
                    </a:lnTo>
                    <a:lnTo>
                      <a:pt x="2208" y="558"/>
                    </a:lnTo>
                    <a:lnTo>
                      <a:pt x="2206" y="546"/>
                    </a:lnTo>
                    <a:lnTo>
                      <a:pt x="2204" y="533"/>
                    </a:lnTo>
                    <a:lnTo>
                      <a:pt x="2201" y="519"/>
                    </a:lnTo>
                    <a:lnTo>
                      <a:pt x="2199" y="506"/>
                    </a:lnTo>
                    <a:lnTo>
                      <a:pt x="2194" y="492"/>
                    </a:lnTo>
                    <a:lnTo>
                      <a:pt x="2190" y="478"/>
                    </a:lnTo>
                    <a:lnTo>
                      <a:pt x="2184" y="463"/>
                    </a:lnTo>
                    <a:lnTo>
                      <a:pt x="2178" y="448"/>
                    </a:lnTo>
                    <a:lnTo>
                      <a:pt x="2171" y="434"/>
                    </a:lnTo>
                    <a:lnTo>
                      <a:pt x="2164" y="419"/>
                    </a:lnTo>
                    <a:lnTo>
                      <a:pt x="2155" y="403"/>
                    </a:lnTo>
                    <a:lnTo>
                      <a:pt x="2145" y="388"/>
                    </a:lnTo>
                    <a:lnTo>
                      <a:pt x="2135" y="372"/>
                    </a:lnTo>
                    <a:lnTo>
                      <a:pt x="2124" y="357"/>
                    </a:lnTo>
                    <a:lnTo>
                      <a:pt x="2112" y="341"/>
                    </a:lnTo>
                    <a:lnTo>
                      <a:pt x="2099" y="325"/>
                    </a:lnTo>
                    <a:lnTo>
                      <a:pt x="2085" y="309"/>
                    </a:lnTo>
                    <a:lnTo>
                      <a:pt x="2069" y="293"/>
                    </a:lnTo>
                    <a:lnTo>
                      <a:pt x="2054" y="277"/>
                    </a:lnTo>
                    <a:lnTo>
                      <a:pt x="2035" y="258"/>
                    </a:lnTo>
                    <a:lnTo>
                      <a:pt x="2019" y="240"/>
                    </a:lnTo>
                    <a:lnTo>
                      <a:pt x="2000" y="222"/>
                    </a:lnTo>
                    <a:lnTo>
                      <a:pt x="1977" y="201"/>
                    </a:lnTo>
                    <a:lnTo>
                      <a:pt x="1952" y="179"/>
                    </a:lnTo>
                    <a:lnTo>
                      <a:pt x="1939" y="168"/>
                    </a:lnTo>
                    <a:lnTo>
                      <a:pt x="1925" y="157"/>
                    </a:lnTo>
                    <a:lnTo>
                      <a:pt x="1911" y="147"/>
                    </a:lnTo>
                    <a:lnTo>
                      <a:pt x="1896" y="138"/>
                    </a:lnTo>
                    <a:lnTo>
                      <a:pt x="1880" y="128"/>
                    </a:lnTo>
                    <a:lnTo>
                      <a:pt x="1864" y="118"/>
                    </a:lnTo>
                    <a:lnTo>
                      <a:pt x="1857" y="114"/>
                    </a:lnTo>
                    <a:lnTo>
                      <a:pt x="1849" y="110"/>
                    </a:lnTo>
                    <a:lnTo>
                      <a:pt x="1834" y="102"/>
                    </a:lnTo>
                    <a:lnTo>
                      <a:pt x="1816" y="96"/>
                    </a:lnTo>
                    <a:lnTo>
                      <a:pt x="1801" y="90"/>
                    </a:lnTo>
                    <a:lnTo>
                      <a:pt x="1785" y="86"/>
                    </a:lnTo>
                    <a:lnTo>
                      <a:pt x="1768" y="83"/>
                    </a:lnTo>
                    <a:lnTo>
                      <a:pt x="1760" y="83"/>
                    </a:lnTo>
                    <a:lnTo>
                      <a:pt x="1752" y="81"/>
                    </a:lnTo>
                    <a:lnTo>
                      <a:pt x="1736" y="81"/>
                    </a:lnTo>
                    <a:lnTo>
                      <a:pt x="1720" y="83"/>
                    </a:lnTo>
                    <a:lnTo>
                      <a:pt x="1711" y="85"/>
                    </a:lnTo>
                    <a:lnTo>
                      <a:pt x="1704" y="86"/>
                    </a:lnTo>
                    <a:lnTo>
                      <a:pt x="1695" y="89"/>
                    </a:lnTo>
                    <a:lnTo>
                      <a:pt x="1688" y="92"/>
                    </a:lnTo>
                    <a:lnTo>
                      <a:pt x="1681" y="95"/>
                    </a:lnTo>
                    <a:lnTo>
                      <a:pt x="1672" y="100"/>
                    </a:lnTo>
                    <a:lnTo>
                      <a:pt x="1665" y="103"/>
                    </a:lnTo>
                    <a:lnTo>
                      <a:pt x="1658" y="108"/>
                    </a:lnTo>
                    <a:lnTo>
                      <a:pt x="1643" y="121"/>
                    </a:lnTo>
                    <a:lnTo>
                      <a:pt x="1638" y="125"/>
                    </a:lnTo>
                    <a:lnTo>
                      <a:pt x="1633" y="130"/>
                    </a:lnTo>
                    <a:lnTo>
                      <a:pt x="1626" y="140"/>
                    </a:lnTo>
                    <a:lnTo>
                      <a:pt x="1622" y="145"/>
                    </a:lnTo>
                    <a:lnTo>
                      <a:pt x="1618" y="150"/>
                    </a:lnTo>
                    <a:lnTo>
                      <a:pt x="1612" y="160"/>
                    </a:lnTo>
                    <a:lnTo>
                      <a:pt x="1609" y="169"/>
                    </a:lnTo>
                    <a:lnTo>
                      <a:pt x="1605" y="179"/>
                    </a:lnTo>
                    <a:lnTo>
                      <a:pt x="1604" y="190"/>
                    </a:lnTo>
                    <a:lnTo>
                      <a:pt x="1602" y="200"/>
                    </a:lnTo>
                    <a:lnTo>
                      <a:pt x="1601" y="211"/>
                    </a:lnTo>
                    <a:lnTo>
                      <a:pt x="1602" y="221"/>
                    </a:lnTo>
                    <a:lnTo>
                      <a:pt x="1602" y="232"/>
                    </a:lnTo>
                    <a:lnTo>
                      <a:pt x="1605" y="242"/>
                    </a:lnTo>
                    <a:lnTo>
                      <a:pt x="1606" y="253"/>
                    </a:lnTo>
                    <a:lnTo>
                      <a:pt x="1609" y="264"/>
                    </a:lnTo>
                    <a:lnTo>
                      <a:pt x="1613" y="284"/>
                    </a:lnTo>
                    <a:lnTo>
                      <a:pt x="1618" y="306"/>
                    </a:lnTo>
                    <a:lnTo>
                      <a:pt x="1623" y="327"/>
                    </a:lnTo>
                    <a:lnTo>
                      <a:pt x="1626" y="349"/>
                    </a:lnTo>
                    <a:lnTo>
                      <a:pt x="1627" y="360"/>
                    </a:lnTo>
                    <a:lnTo>
                      <a:pt x="1627" y="370"/>
                    </a:lnTo>
                    <a:lnTo>
                      <a:pt x="1626" y="381"/>
                    </a:lnTo>
                    <a:lnTo>
                      <a:pt x="1623" y="392"/>
                    </a:lnTo>
                    <a:lnTo>
                      <a:pt x="1621" y="402"/>
                    </a:lnTo>
                    <a:lnTo>
                      <a:pt x="1617" y="413"/>
                    </a:lnTo>
                    <a:lnTo>
                      <a:pt x="1615" y="418"/>
                    </a:lnTo>
                    <a:lnTo>
                      <a:pt x="1612" y="423"/>
                    </a:lnTo>
                    <a:lnTo>
                      <a:pt x="1605" y="434"/>
                    </a:lnTo>
                    <a:lnTo>
                      <a:pt x="1598" y="443"/>
                    </a:lnTo>
                    <a:lnTo>
                      <a:pt x="1593" y="448"/>
                    </a:lnTo>
                    <a:lnTo>
                      <a:pt x="1588" y="453"/>
                    </a:lnTo>
                    <a:lnTo>
                      <a:pt x="1579" y="462"/>
                    </a:lnTo>
                    <a:lnTo>
                      <a:pt x="1571" y="469"/>
                    </a:lnTo>
                    <a:lnTo>
                      <a:pt x="1561" y="475"/>
                    </a:lnTo>
                    <a:lnTo>
                      <a:pt x="1550" y="480"/>
                    </a:lnTo>
                    <a:lnTo>
                      <a:pt x="1540" y="485"/>
                    </a:lnTo>
                    <a:lnTo>
                      <a:pt x="1529" y="489"/>
                    </a:lnTo>
                    <a:lnTo>
                      <a:pt x="1519" y="491"/>
                    </a:lnTo>
                    <a:lnTo>
                      <a:pt x="1508" y="492"/>
                    </a:lnTo>
                    <a:lnTo>
                      <a:pt x="1497" y="494"/>
                    </a:lnTo>
                    <a:lnTo>
                      <a:pt x="1486" y="492"/>
                    </a:lnTo>
                    <a:lnTo>
                      <a:pt x="1475" y="491"/>
                    </a:lnTo>
                    <a:lnTo>
                      <a:pt x="1464" y="490"/>
                    </a:lnTo>
                    <a:lnTo>
                      <a:pt x="1453" y="486"/>
                    </a:lnTo>
                    <a:lnTo>
                      <a:pt x="1442" y="483"/>
                    </a:lnTo>
                    <a:lnTo>
                      <a:pt x="1433" y="478"/>
                    </a:lnTo>
                    <a:lnTo>
                      <a:pt x="1423" y="473"/>
                    </a:lnTo>
                    <a:lnTo>
                      <a:pt x="1395" y="446"/>
                    </a:lnTo>
                    <a:lnTo>
                      <a:pt x="1343" y="393"/>
                    </a:lnTo>
                    <a:lnTo>
                      <a:pt x="1356" y="407"/>
                    </a:lnTo>
                    <a:lnTo>
                      <a:pt x="1367" y="419"/>
                    </a:lnTo>
                    <a:lnTo>
                      <a:pt x="1226" y="286"/>
                    </a:lnTo>
                    <a:lnTo>
                      <a:pt x="1186" y="247"/>
                    </a:lnTo>
                    <a:lnTo>
                      <a:pt x="1175" y="236"/>
                    </a:lnTo>
                    <a:lnTo>
                      <a:pt x="1171" y="232"/>
                    </a:lnTo>
                    <a:lnTo>
                      <a:pt x="1170" y="231"/>
                    </a:lnTo>
                    <a:lnTo>
                      <a:pt x="1158" y="244"/>
                    </a:lnTo>
                    <a:lnTo>
                      <a:pt x="1126" y="273"/>
                    </a:lnTo>
                    <a:lnTo>
                      <a:pt x="1016" y="377"/>
                    </a:lnTo>
                    <a:lnTo>
                      <a:pt x="1006" y="382"/>
                    </a:lnTo>
                    <a:lnTo>
                      <a:pt x="996" y="387"/>
                    </a:lnTo>
                    <a:lnTo>
                      <a:pt x="986" y="392"/>
                    </a:lnTo>
                    <a:lnTo>
                      <a:pt x="975" y="394"/>
                    </a:lnTo>
                    <a:lnTo>
                      <a:pt x="966" y="397"/>
                    </a:lnTo>
                    <a:lnTo>
                      <a:pt x="955" y="399"/>
                    </a:lnTo>
                    <a:lnTo>
                      <a:pt x="945" y="399"/>
                    </a:lnTo>
                    <a:lnTo>
                      <a:pt x="934" y="399"/>
                    </a:lnTo>
                    <a:lnTo>
                      <a:pt x="924" y="398"/>
                    </a:lnTo>
                    <a:lnTo>
                      <a:pt x="913" y="397"/>
                    </a:lnTo>
                    <a:lnTo>
                      <a:pt x="903" y="394"/>
                    </a:lnTo>
                    <a:lnTo>
                      <a:pt x="893" y="391"/>
                    </a:lnTo>
                    <a:lnTo>
                      <a:pt x="884" y="386"/>
                    </a:lnTo>
                    <a:lnTo>
                      <a:pt x="875" y="381"/>
                    </a:lnTo>
                    <a:lnTo>
                      <a:pt x="867" y="374"/>
                    </a:lnTo>
                    <a:lnTo>
                      <a:pt x="858" y="366"/>
                    </a:lnTo>
                    <a:lnTo>
                      <a:pt x="851" y="358"/>
                    </a:lnTo>
                    <a:lnTo>
                      <a:pt x="843" y="349"/>
                    </a:lnTo>
                    <a:lnTo>
                      <a:pt x="838" y="339"/>
                    </a:lnTo>
                    <a:lnTo>
                      <a:pt x="834" y="330"/>
                    </a:lnTo>
                    <a:lnTo>
                      <a:pt x="831" y="320"/>
                    </a:lnTo>
                    <a:lnTo>
                      <a:pt x="829" y="310"/>
                    </a:lnTo>
                    <a:lnTo>
                      <a:pt x="827" y="300"/>
                    </a:lnTo>
                    <a:lnTo>
                      <a:pt x="826" y="289"/>
                    </a:lnTo>
                    <a:lnTo>
                      <a:pt x="826" y="278"/>
                    </a:lnTo>
                    <a:lnTo>
                      <a:pt x="827" y="269"/>
                    </a:lnTo>
                    <a:lnTo>
                      <a:pt x="830" y="247"/>
                    </a:lnTo>
                    <a:lnTo>
                      <a:pt x="835" y="225"/>
                    </a:lnTo>
                    <a:lnTo>
                      <a:pt x="840" y="201"/>
                    </a:lnTo>
                    <a:lnTo>
                      <a:pt x="845" y="179"/>
                    </a:lnTo>
                    <a:lnTo>
                      <a:pt x="848" y="157"/>
                    </a:lnTo>
                    <a:lnTo>
                      <a:pt x="851" y="135"/>
                    </a:lnTo>
                    <a:lnTo>
                      <a:pt x="852" y="124"/>
                    </a:lnTo>
                    <a:lnTo>
                      <a:pt x="852" y="114"/>
                    </a:lnTo>
                    <a:lnTo>
                      <a:pt x="851" y="103"/>
                    </a:lnTo>
                    <a:lnTo>
                      <a:pt x="849" y="94"/>
                    </a:lnTo>
                    <a:lnTo>
                      <a:pt x="847" y="84"/>
                    </a:lnTo>
                    <a:lnTo>
                      <a:pt x="846" y="79"/>
                    </a:lnTo>
                    <a:lnTo>
                      <a:pt x="845" y="74"/>
                    </a:lnTo>
                    <a:lnTo>
                      <a:pt x="840" y="64"/>
                    </a:lnTo>
                    <a:lnTo>
                      <a:pt x="835" y="55"/>
                    </a:lnTo>
                    <a:lnTo>
                      <a:pt x="831" y="50"/>
                    </a:lnTo>
                    <a:lnTo>
                      <a:pt x="829" y="46"/>
                    </a:lnTo>
                    <a:lnTo>
                      <a:pt x="825" y="41"/>
                    </a:lnTo>
                    <a:lnTo>
                      <a:pt x="820" y="37"/>
                    </a:lnTo>
                    <a:lnTo>
                      <a:pt x="814" y="31"/>
                    </a:lnTo>
                    <a:lnTo>
                      <a:pt x="807" y="26"/>
                    </a:lnTo>
                    <a:lnTo>
                      <a:pt x="792" y="17"/>
                    </a:lnTo>
                    <a:lnTo>
                      <a:pt x="783" y="13"/>
                    </a:lnTo>
                    <a:lnTo>
                      <a:pt x="774" y="9"/>
                    </a:lnTo>
                    <a:lnTo>
                      <a:pt x="764" y="6"/>
                    </a:lnTo>
                    <a:lnTo>
                      <a:pt x="754" y="3"/>
                    </a:lnTo>
                    <a:lnTo>
                      <a:pt x="743" y="2"/>
                    </a:lnTo>
                    <a:lnTo>
                      <a:pt x="732" y="1"/>
                    </a:lnTo>
                    <a:lnTo>
                      <a:pt x="709" y="0"/>
                    </a:lnTo>
                    <a:lnTo>
                      <a:pt x="697" y="1"/>
                    </a:lnTo>
                    <a:lnTo>
                      <a:pt x="684" y="2"/>
                    </a:lnTo>
                    <a:lnTo>
                      <a:pt x="671" y="3"/>
                    </a:lnTo>
                    <a:lnTo>
                      <a:pt x="659" y="6"/>
                    </a:lnTo>
                    <a:lnTo>
                      <a:pt x="644" y="9"/>
                    </a:lnTo>
                    <a:lnTo>
                      <a:pt x="631" y="13"/>
                    </a:lnTo>
                    <a:lnTo>
                      <a:pt x="616" y="18"/>
                    </a:lnTo>
                    <a:lnTo>
                      <a:pt x="603" y="23"/>
                    </a:lnTo>
                    <a:lnTo>
                      <a:pt x="588" y="29"/>
                    </a:lnTo>
                    <a:lnTo>
                      <a:pt x="572" y="36"/>
                    </a:lnTo>
                    <a:lnTo>
                      <a:pt x="557" y="44"/>
                    </a:lnTo>
                    <a:lnTo>
                      <a:pt x="543" y="52"/>
                    </a:lnTo>
                    <a:lnTo>
                      <a:pt x="527" y="62"/>
                    </a:lnTo>
                    <a:lnTo>
                      <a:pt x="511" y="73"/>
                    </a:lnTo>
                    <a:lnTo>
                      <a:pt x="495" y="84"/>
                    </a:lnTo>
                    <a:lnTo>
                      <a:pt x="480" y="96"/>
                    </a:lnTo>
                    <a:lnTo>
                      <a:pt x="464" y="108"/>
                    </a:lnTo>
                    <a:lnTo>
                      <a:pt x="449" y="123"/>
                    </a:lnTo>
                    <a:lnTo>
                      <a:pt x="433" y="138"/>
                    </a:lnTo>
                    <a:lnTo>
                      <a:pt x="417" y="154"/>
                    </a:lnTo>
                    <a:lnTo>
                      <a:pt x="396" y="173"/>
                    </a:lnTo>
                    <a:lnTo>
                      <a:pt x="380" y="189"/>
                    </a:lnTo>
                    <a:lnTo>
                      <a:pt x="361" y="209"/>
                    </a:lnTo>
                    <a:lnTo>
                      <a:pt x="340" y="231"/>
                    </a:lnTo>
                    <a:lnTo>
                      <a:pt x="319" y="255"/>
                    </a:lnTo>
                    <a:lnTo>
                      <a:pt x="308" y="269"/>
                    </a:lnTo>
                    <a:lnTo>
                      <a:pt x="297" y="283"/>
                    </a:lnTo>
                    <a:lnTo>
                      <a:pt x="286" y="298"/>
                    </a:lnTo>
                    <a:lnTo>
                      <a:pt x="276" y="313"/>
                    </a:lnTo>
                    <a:lnTo>
                      <a:pt x="266" y="327"/>
                    </a:lnTo>
                    <a:lnTo>
                      <a:pt x="258" y="343"/>
                    </a:lnTo>
                    <a:lnTo>
                      <a:pt x="253" y="350"/>
                    </a:lnTo>
                    <a:lnTo>
                      <a:pt x="249" y="359"/>
                    </a:lnTo>
                    <a:lnTo>
                      <a:pt x="242" y="375"/>
                    </a:lnTo>
                    <a:lnTo>
                      <a:pt x="235" y="391"/>
                    </a:lnTo>
                    <a:lnTo>
                      <a:pt x="230" y="407"/>
                    </a:lnTo>
                    <a:lnTo>
                      <a:pt x="225" y="424"/>
                    </a:lnTo>
                    <a:lnTo>
                      <a:pt x="222" y="440"/>
                    </a:lnTo>
                    <a:lnTo>
                      <a:pt x="221" y="448"/>
                    </a:lnTo>
                    <a:lnTo>
                      <a:pt x="220" y="456"/>
                    </a:lnTo>
                    <a:lnTo>
                      <a:pt x="220" y="473"/>
                    </a:lnTo>
                    <a:lnTo>
                      <a:pt x="222" y="489"/>
                    </a:lnTo>
                    <a:lnTo>
                      <a:pt x="224" y="496"/>
                    </a:lnTo>
                    <a:lnTo>
                      <a:pt x="226" y="505"/>
                    </a:lnTo>
                    <a:lnTo>
                      <a:pt x="229" y="512"/>
                    </a:lnTo>
                    <a:lnTo>
                      <a:pt x="231" y="519"/>
                    </a:lnTo>
                    <a:lnTo>
                      <a:pt x="235" y="528"/>
                    </a:lnTo>
                    <a:lnTo>
                      <a:pt x="238" y="535"/>
                    </a:lnTo>
                    <a:lnTo>
                      <a:pt x="243" y="542"/>
                    </a:lnTo>
                    <a:lnTo>
                      <a:pt x="248" y="550"/>
                    </a:lnTo>
                    <a:lnTo>
                      <a:pt x="259" y="564"/>
                    </a:lnTo>
                    <a:lnTo>
                      <a:pt x="264" y="569"/>
                    </a:lnTo>
                    <a:lnTo>
                      <a:pt x="269" y="574"/>
                    </a:lnTo>
                    <a:lnTo>
                      <a:pt x="279" y="583"/>
                    </a:lnTo>
                    <a:lnTo>
                      <a:pt x="284" y="586"/>
                    </a:lnTo>
                    <a:lnTo>
                      <a:pt x="288" y="590"/>
                    </a:lnTo>
                    <a:lnTo>
                      <a:pt x="298" y="595"/>
                    </a:lnTo>
                    <a:lnTo>
                      <a:pt x="308" y="600"/>
                    </a:lnTo>
                    <a:lnTo>
                      <a:pt x="319" y="602"/>
                    </a:lnTo>
                    <a:lnTo>
                      <a:pt x="329" y="605"/>
                    </a:lnTo>
                    <a:lnTo>
                      <a:pt x="340" y="606"/>
                    </a:lnTo>
                    <a:lnTo>
                      <a:pt x="350" y="606"/>
                    </a:lnTo>
                    <a:lnTo>
                      <a:pt x="361" y="606"/>
                    </a:lnTo>
                    <a:lnTo>
                      <a:pt x="370" y="605"/>
                    </a:lnTo>
                    <a:lnTo>
                      <a:pt x="381" y="604"/>
                    </a:lnTo>
                    <a:lnTo>
                      <a:pt x="391" y="601"/>
                    </a:lnTo>
                    <a:lnTo>
                      <a:pt x="402" y="599"/>
                    </a:lnTo>
                    <a:lnTo>
                      <a:pt x="424" y="594"/>
                    </a:lnTo>
                    <a:lnTo>
                      <a:pt x="445" y="589"/>
                    </a:lnTo>
                    <a:lnTo>
                      <a:pt x="467" y="585"/>
                    </a:lnTo>
                    <a:lnTo>
                      <a:pt x="488" y="582"/>
                    </a:lnTo>
                    <a:lnTo>
                      <a:pt x="499" y="582"/>
                    </a:lnTo>
                    <a:lnTo>
                      <a:pt x="510" y="582"/>
                    </a:lnTo>
                    <a:lnTo>
                      <a:pt x="519" y="583"/>
                    </a:lnTo>
                    <a:lnTo>
                      <a:pt x="530" y="584"/>
                    </a:lnTo>
                    <a:lnTo>
                      <a:pt x="541" y="586"/>
                    </a:lnTo>
                    <a:lnTo>
                      <a:pt x="551" y="591"/>
                    </a:lnTo>
                    <a:lnTo>
                      <a:pt x="556" y="594"/>
                    </a:lnTo>
                    <a:lnTo>
                      <a:pt x="562" y="596"/>
                    </a:lnTo>
                    <a:lnTo>
                      <a:pt x="572" y="602"/>
                    </a:lnTo>
                    <a:lnTo>
                      <a:pt x="582" y="610"/>
                    </a:lnTo>
                    <a:lnTo>
                      <a:pt x="588" y="615"/>
                    </a:lnTo>
                    <a:lnTo>
                      <a:pt x="593" y="619"/>
                    </a:lnTo>
                    <a:lnTo>
                      <a:pt x="599" y="627"/>
                    </a:lnTo>
                    <a:lnTo>
                      <a:pt x="606" y="635"/>
                    </a:lnTo>
                    <a:lnTo>
                      <a:pt x="611" y="643"/>
                    </a:lnTo>
                    <a:lnTo>
                      <a:pt x="616" y="651"/>
                    </a:lnTo>
                    <a:lnTo>
                      <a:pt x="621" y="660"/>
                    </a:lnTo>
                    <a:lnTo>
                      <a:pt x="625" y="668"/>
                    </a:lnTo>
                    <a:lnTo>
                      <a:pt x="627" y="678"/>
                    </a:lnTo>
                    <a:lnTo>
                      <a:pt x="629" y="687"/>
                    </a:lnTo>
                    <a:lnTo>
                      <a:pt x="631" y="697"/>
                    </a:lnTo>
                    <a:lnTo>
                      <a:pt x="632" y="706"/>
                    </a:lnTo>
                    <a:lnTo>
                      <a:pt x="632" y="715"/>
                    </a:lnTo>
                    <a:lnTo>
                      <a:pt x="632" y="725"/>
                    </a:lnTo>
                    <a:lnTo>
                      <a:pt x="631" y="734"/>
                    </a:lnTo>
                    <a:lnTo>
                      <a:pt x="628" y="743"/>
                    </a:lnTo>
                    <a:lnTo>
                      <a:pt x="623" y="761"/>
                    </a:lnTo>
                    <a:lnTo>
                      <a:pt x="592" y="794"/>
                    </a:lnTo>
                    <a:lnTo>
                      <a:pt x="560" y="827"/>
                    </a:lnTo>
                    <a:lnTo>
                      <a:pt x="497" y="892"/>
                    </a:lnTo>
                    <a:lnTo>
                      <a:pt x="436" y="958"/>
                    </a:lnTo>
                    <a:lnTo>
                      <a:pt x="378" y="1024"/>
                    </a:lnTo>
                    <a:lnTo>
                      <a:pt x="350" y="1057"/>
                    </a:lnTo>
                    <a:lnTo>
                      <a:pt x="321" y="1089"/>
                    </a:lnTo>
                    <a:lnTo>
                      <a:pt x="295" y="1121"/>
                    </a:lnTo>
                    <a:lnTo>
                      <a:pt x="269" y="1153"/>
                    </a:lnTo>
                    <a:lnTo>
                      <a:pt x="243" y="1183"/>
                    </a:lnTo>
                    <a:lnTo>
                      <a:pt x="220" y="1214"/>
                    </a:lnTo>
                    <a:lnTo>
                      <a:pt x="197" y="1244"/>
                    </a:lnTo>
                    <a:lnTo>
                      <a:pt x="176" y="1274"/>
                    </a:lnTo>
                    <a:lnTo>
                      <a:pt x="0" y="1539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338640" y="4517640"/>
                <a:ext cx="444240" cy="510840"/>
              </a:xfrm>
              <a:custGeom>
                <a:avLst/>
                <a:gdLst/>
                <a:ahLst/>
                <a:rect l="l" t="t" r="r" b="b"/>
                <a:pathLst>
                  <a:path w="558" h="646">
                    <a:moveTo>
                      <a:pt x="0" y="636"/>
                    </a:moveTo>
                    <a:lnTo>
                      <a:pt x="50" y="565"/>
                    </a:lnTo>
                    <a:lnTo>
                      <a:pt x="107" y="489"/>
                    </a:lnTo>
                    <a:lnTo>
                      <a:pt x="172" y="411"/>
                    </a:lnTo>
                    <a:lnTo>
                      <a:pt x="241" y="330"/>
                    </a:lnTo>
                    <a:lnTo>
                      <a:pt x="315" y="248"/>
                    </a:lnTo>
                    <a:lnTo>
                      <a:pt x="392" y="165"/>
                    </a:lnTo>
                    <a:lnTo>
                      <a:pt x="549" y="0"/>
                    </a:lnTo>
                    <a:lnTo>
                      <a:pt x="558" y="11"/>
                    </a:lnTo>
                    <a:lnTo>
                      <a:pt x="402" y="176"/>
                    </a:lnTo>
                    <a:lnTo>
                      <a:pt x="325" y="259"/>
                    </a:lnTo>
                    <a:lnTo>
                      <a:pt x="252" y="340"/>
                    </a:lnTo>
                    <a:lnTo>
                      <a:pt x="183" y="421"/>
                    </a:lnTo>
                    <a:lnTo>
                      <a:pt x="118" y="499"/>
                    </a:lnTo>
                    <a:lnTo>
                      <a:pt x="61" y="575"/>
                    </a:lnTo>
                    <a:lnTo>
                      <a:pt x="11" y="646"/>
                    </a:lnTo>
                    <a:lnTo>
                      <a:pt x="0" y="6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45080" y="4387320"/>
                <a:ext cx="45720" cy="134640"/>
              </a:xfrm>
              <a:custGeom>
                <a:avLst/>
                <a:gdLst/>
                <a:ahLst/>
                <a:rect l="l" t="t" r="r" b="b"/>
                <a:pathLst>
                  <a:path w="57" h="171">
                    <a:moveTo>
                      <a:pt x="34" y="166"/>
                    </a:moveTo>
                    <a:lnTo>
                      <a:pt x="40" y="146"/>
                    </a:lnTo>
                    <a:lnTo>
                      <a:pt x="44" y="126"/>
                    </a:lnTo>
                    <a:lnTo>
                      <a:pt x="44" y="105"/>
                    </a:lnTo>
                    <a:lnTo>
                      <a:pt x="42" y="86"/>
                    </a:lnTo>
                    <a:lnTo>
                      <a:pt x="35" y="66"/>
                    </a:lnTo>
                    <a:lnTo>
                      <a:pt x="28" y="45"/>
                    </a:lnTo>
                    <a:lnTo>
                      <a:pt x="16" y="28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27" y="19"/>
                    </a:lnTo>
                    <a:lnTo>
                      <a:pt x="40" y="38"/>
                    </a:lnTo>
                    <a:lnTo>
                      <a:pt x="49" y="60"/>
                    </a:lnTo>
                    <a:lnTo>
                      <a:pt x="55" y="82"/>
                    </a:lnTo>
                    <a:lnTo>
                      <a:pt x="57" y="105"/>
                    </a:lnTo>
                    <a:lnTo>
                      <a:pt x="57" y="129"/>
                    </a:lnTo>
                    <a:lnTo>
                      <a:pt x="54" y="151"/>
                    </a:lnTo>
                    <a:lnTo>
                      <a:pt x="48" y="171"/>
                    </a:lnTo>
                    <a:lnTo>
                      <a:pt x="34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773520" y="45176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2" y="11"/>
                    </a:moveTo>
                    <a:lnTo>
                      <a:pt x="14" y="7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441600" y="4336560"/>
                <a:ext cx="312840" cy="58320"/>
              </a:xfrm>
              <a:custGeom>
                <a:avLst/>
                <a:gdLst/>
                <a:ahLst/>
                <a:rect l="l" t="t" r="r" b="b"/>
                <a:pathLst>
                  <a:path w="394" h="74">
                    <a:moveTo>
                      <a:pt x="384" y="74"/>
                    </a:moveTo>
                    <a:lnTo>
                      <a:pt x="361" y="55"/>
                    </a:lnTo>
                    <a:lnTo>
                      <a:pt x="338" y="41"/>
                    </a:lnTo>
                    <a:lnTo>
                      <a:pt x="316" y="35"/>
                    </a:lnTo>
                    <a:lnTo>
                      <a:pt x="294" y="31"/>
                    </a:lnTo>
                    <a:lnTo>
                      <a:pt x="271" y="33"/>
                    </a:lnTo>
                    <a:lnTo>
                      <a:pt x="245" y="35"/>
                    </a:lnTo>
                    <a:lnTo>
                      <a:pt x="197" y="46"/>
                    </a:lnTo>
                    <a:lnTo>
                      <a:pt x="147" y="57"/>
                    </a:lnTo>
                    <a:lnTo>
                      <a:pt x="121" y="60"/>
                    </a:lnTo>
                    <a:lnTo>
                      <a:pt x="97" y="60"/>
                    </a:lnTo>
                    <a:lnTo>
                      <a:pt x="71" y="56"/>
                    </a:lnTo>
                    <a:lnTo>
                      <a:pt x="47" y="46"/>
                    </a:lnTo>
                    <a:lnTo>
                      <a:pt x="22" y="33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32" y="22"/>
                    </a:lnTo>
                    <a:lnTo>
                      <a:pt x="54" y="34"/>
                    </a:lnTo>
                    <a:lnTo>
                      <a:pt x="76" y="42"/>
                    </a:lnTo>
                    <a:lnTo>
                      <a:pt x="97" y="46"/>
                    </a:lnTo>
                    <a:lnTo>
                      <a:pt x="121" y="46"/>
                    </a:lnTo>
                    <a:lnTo>
                      <a:pt x="143" y="44"/>
                    </a:lnTo>
                    <a:lnTo>
                      <a:pt x="192" y="33"/>
                    </a:lnTo>
                    <a:lnTo>
                      <a:pt x="241" y="22"/>
                    </a:lnTo>
                    <a:lnTo>
                      <a:pt x="268" y="19"/>
                    </a:lnTo>
                    <a:lnTo>
                      <a:pt x="294" y="18"/>
                    </a:lnTo>
                    <a:lnTo>
                      <a:pt x="319" y="22"/>
                    </a:lnTo>
                    <a:lnTo>
                      <a:pt x="344" y="29"/>
                    </a:lnTo>
                    <a:lnTo>
                      <a:pt x="370" y="44"/>
                    </a:lnTo>
                    <a:lnTo>
                      <a:pt x="394" y="63"/>
                    </a:lnTo>
                    <a:lnTo>
                      <a:pt x="384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45080" y="438732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1" y="11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403440" y="3960360"/>
                <a:ext cx="190800" cy="383760"/>
              </a:xfrm>
              <a:custGeom>
                <a:avLst/>
                <a:gdLst/>
                <a:ahLst/>
                <a:rect l="l" t="t" r="r" b="b"/>
                <a:pathLst>
                  <a:path w="238" h="483">
                    <a:moveTo>
                      <a:pt x="46" y="483"/>
                    </a:moveTo>
                    <a:lnTo>
                      <a:pt x="33" y="467"/>
                    </a:lnTo>
                    <a:lnTo>
                      <a:pt x="22" y="449"/>
                    </a:lnTo>
                    <a:lnTo>
                      <a:pt x="6" y="412"/>
                    </a:lnTo>
                    <a:lnTo>
                      <a:pt x="2" y="393"/>
                    </a:lnTo>
                    <a:lnTo>
                      <a:pt x="0" y="372"/>
                    </a:lnTo>
                    <a:lnTo>
                      <a:pt x="0" y="353"/>
                    </a:lnTo>
                    <a:lnTo>
                      <a:pt x="2" y="334"/>
                    </a:lnTo>
                    <a:lnTo>
                      <a:pt x="6" y="313"/>
                    </a:lnTo>
                    <a:lnTo>
                      <a:pt x="11" y="295"/>
                    </a:lnTo>
                    <a:lnTo>
                      <a:pt x="24" y="258"/>
                    </a:lnTo>
                    <a:lnTo>
                      <a:pt x="44" y="220"/>
                    </a:lnTo>
                    <a:lnTo>
                      <a:pt x="55" y="202"/>
                    </a:lnTo>
                    <a:lnTo>
                      <a:pt x="66" y="184"/>
                    </a:lnTo>
                    <a:lnTo>
                      <a:pt x="89" y="150"/>
                    </a:lnTo>
                    <a:lnTo>
                      <a:pt x="115" y="118"/>
                    </a:lnTo>
                    <a:lnTo>
                      <a:pt x="165" y="63"/>
                    </a:lnTo>
                    <a:lnTo>
                      <a:pt x="228" y="0"/>
                    </a:lnTo>
                    <a:lnTo>
                      <a:pt x="238" y="11"/>
                    </a:lnTo>
                    <a:lnTo>
                      <a:pt x="175" y="74"/>
                    </a:lnTo>
                    <a:lnTo>
                      <a:pt x="126" y="128"/>
                    </a:lnTo>
                    <a:lnTo>
                      <a:pt x="100" y="159"/>
                    </a:lnTo>
                    <a:lnTo>
                      <a:pt x="77" y="194"/>
                    </a:lnTo>
                    <a:lnTo>
                      <a:pt x="67" y="211"/>
                    </a:lnTo>
                    <a:lnTo>
                      <a:pt x="56" y="229"/>
                    </a:lnTo>
                    <a:lnTo>
                      <a:pt x="38" y="265"/>
                    </a:lnTo>
                    <a:lnTo>
                      <a:pt x="24" y="301"/>
                    </a:lnTo>
                    <a:lnTo>
                      <a:pt x="19" y="318"/>
                    </a:lnTo>
                    <a:lnTo>
                      <a:pt x="16" y="338"/>
                    </a:lnTo>
                    <a:lnTo>
                      <a:pt x="13" y="355"/>
                    </a:lnTo>
                    <a:lnTo>
                      <a:pt x="13" y="372"/>
                    </a:lnTo>
                    <a:lnTo>
                      <a:pt x="16" y="390"/>
                    </a:lnTo>
                    <a:lnTo>
                      <a:pt x="19" y="408"/>
                    </a:lnTo>
                    <a:lnTo>
                      <a:pt x="34" y="442"/>
                    </a:lnTo>
                    <a:lnTo>
                      <a:pt x="44" y="459"/>
                    </a:lnTo>
                    <a:lnTo>
                      <a:pt x="57" y="474"/>
                    </a:lnTo>
                    <a:lnTo>
                      <a:pt x="46" y="4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441600" y="43365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11"/>
                    </a:moveTo>
                    <a:lnTo>
                      <a:pt x="0" y="9"/>
                    </a:lnTo>
                    <a:lnTo>
                      <a:pt x="11" y="0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586320" y="3817440"/>
                <a:ext cx="376200" cy="151920"/>
              </a:xfrm>
              <a:custGeom>
                <a:avLst/>
                <a:gdLst/>
                <a:ahLst/>
                <a:rect l="l" t="t" r="r" b="b"/>
                <a:pathLst>
                  <a:path w="476" h="190">
                    <a:moveTo>
                      <a:pt x="0" y="179"/>
                    </a:moveTo>
                    <a:lnTo>
                      <a:pt x="37" y="144"/>
                    </a:lnTo>
                    <a:lnTo>
                      <a:pt x="74" y="112"/>
                    </a:lnTo>
                    <a:lnTo>
                      <a:pt x="110" y="84"/>
                    </a:lnTo>
                    <a:lnTo>
                      <a:pt x="146" y="62"/>
                    </a:lnTo>
                    <a:lnTo>
                      <a:pt x="181" y="42"/>
                    </a:lnTo>
                    <a:lnTo>
                      <a:pt x="215" y="28"/>
                    </a:lnTo>
                    <a:lnTo>
                      <a:pt x="250" y="16"/>
                    </a:lnTo>
                    <a:lnTo>
                      <a:pt x="283" y="7"/>
                    </a:lnTo>
                    <a:lnTo>
                      <a:pt x="314" y="2"/>
                    </a:lnTo>
                    <a:lnTo>
                      <a:pt x="343" y="0"/>
                    </a:lnTo>
                    <a:lnTo>
                      <a:pt x="369" y="1"/>
                    </a:lnTo>
                    <a:lnTo>
                      <a:pt x="396" y="5"/>
                    </a:lnTo>
                    <a:lnTo>
                      <a:pt x="420" y="12"/>
                    </a:lnTo>
                    <a:lnTo>
                      <a:pt x="440" y="20"/>
                    </a:lnTo>
                    <a:lnTo>
                      <a:pt x="460" y="31"/>
                    </a:lnTo>
                    <a:lnTo>
                      <a:pt x="476" y="45"/>
                    </a:lnTo>
                    <a:lnTo>
                      <a:pt x="466" y="56"/>
                    </a:lnTo>
                    <a:lnTo>
                      <a:pt x="451" y="44"/>
                    </a:lnTo>
                    <a:lnTo>
                      <a:pt x="434" y="34"/>
                    </a:lnTo>
                    <a:lnTo>
                      <a:pt x="413" y="25"/>
                    </a:lnTo>
                    <a:lnTo>
                      <a:pt x="394" y="19"/>
                    </a:lnTo>
                    <a:lnTo>
                      <a:pt x="368" y="16"/>
                    </a:lnTo>
                    <a:lnTo>
                      <a:pt x="343" y="14"/>
                    </a:lnTo>
                    <a:lnTo>
                      <a:pt x="316" y="17"/>
                    </a:lnTo>
                    <a:lnTo>
                      <a:pt x="285" y="22"/>
                    </a:lnTo>
                    <a:lnTo>
                      <a:pt x="255" y="29"/>
                    </a:lnTo>
                    <a:lnTo>
                      <a:pt x="222" y="41"/>
                    </a:lnTo>
                    <a:lnTo>
                      <a:pt x="187" y="56"/>
                    </a:lnTo>
                    <a:lnTo>
                      <a:pt x="154" y="74"/>
                    </a:lnTo>
                    <a:lnTo>
                      <a:pt x="119" y="96"/>
                    </a:lnTo>
                    <a:lnTo>
                      <a:pt x="83" y="123"/>
                    </a:lnTo>
                    <a:lnTo>
                      <a:pt x="47" y="155"/>
                    </a:lnTo>
                    <a:lnTo>
                      <a:pt x="10" y="19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586320" y="396036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1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954600" y="3853800"/>
                <a:ext cx="42840" cy="309240"/>
              </a:xfrm>
              <a:custGeom>
                <a:avLst/>
                <a:gdLst/>
                <a:ahLst/>
                <a:rect l="l" t="t" r="r" b="b"/>
                <a:pathLst>
                  <a:path w="55" h="390">
                    <a:moveTo>
                      <a:pt x="11" y="0"/>
                    </a:moveTo>
                    <a:lnTo>
                      <a:pt x="29" y="22"/>
                    </a:lnTo>
                    <a:lnTo>
                      <a:pt x="40" y="45"/>
                    </a:lnTo>
                    <a:lnTo>
                      <a:pt x="47" y="68"/>
                    </a:lnTo>
                    <a:lnTo>
                      <a:pt x="50" y="94"/>
                    </a:lnTo>
                    <a:lnTo>
                      <a:pt x="46" y="143"/>
                    </a:lnTo>
                    <a:lnTo>
                      <a:pt x="35" y="196"/>
                    </a:lnTo>
                    <a:lnTo>
                      <a:pt x="24" y="247"/>
                    </a:lnTo>
                    <a:lnTo>
                      <a:pt x="22" y="271"/>
                    </a:lnTo>
                    <a:lnTo>
                      <a:pt x="21" y="296"/>
                    </a:lnTo>
                    <a:lnTo>
                      <a:pt x="23" y="318"/>
                    </a:lnTo>
                    <a:lnTo>
                      <a:pt x="28" y="340"/>
                    </a:lnTo>
                    <a:lnTo>
                      <a:pt x="39" y="361"/>
                    </a:lnTo>
                    <a:lnTo>
                      <a:pt x="55" y="380"/>
                    </a:lnTo>
                    <a:lnTo>
                      <a:pt x="44" y="390"/>
                    </a:lnTo>
                    <a:lnTo>
                      <a:pt x="27" y="369"/>
                    </a:lnTo>
                    <a:lnTo>
                      <a:pt x="14" y="346"/>
                    </a:lnTo>
                    <a:lnTo>
                      <a:pt x="8" y="320"/>
                    </a:lnTo>
                    <a:lnTo>
                      <a:pt x="6" y="296"/>
                    </a:lnTo>
                    <a:lnTo>
                      <a:pt x="7" y="271"/>
                    </a:lnTo>
                    <a:lnTo>
                      <a:pt x="10" y="244"/>
                    </a:lnTo>
                    <a:lnTo>
                      <a:pt x="21" y="193"/>
                    </a:lnTo>
                    <a:lnTo>
                      <a:pt x="32" y="142"/>
                    </a:lnTo>
                    <a:lnTo>
                      <a:pt x="35" y="94"/>
                    </a:lnTo>
                    <a:lnTo>
                      <a:pt x="33" y="71"/>
                    </a:lnTo>
                    <a:lnTo>
                      <a:pt x="27" y="51"/>
                    </a:lnTo>
                    <a:lnTo>
                      <a:pt x="17" y="30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954600" y="38538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0" y="10"/>
                    </a:lnTo>
                    <a:lnTo>
                      <a:pt x="1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990960" y="4155480"/>
                <a:ext cx="149400" cy="39600"/>
              </a:xfrm>
              <a:custGeom>
                <a:avLst/>
                <a:gdLst/>
                <a:ahLst/>
                <a:rect l="l" t="t" r="r" b="b"/>
                <a:pathLst>
                  <a:path w="188" h="50">
                    <a:moveTo>
                      <a:pt x="10" y="0"/>
                    </a:moveTo>
                    <a:lnTo>
                      <a:pt x="28" y="15"/>
                    </a:lnTo>
                    <a:lnTo>
                      <a:pt x="48" y="26"/>
                    </a:lnTo>
                    <a:lnTo>
                      <a:pt x="60" y="31"/>
                    </a:lnTo>
                    <a:lnTo>
                      <a:pt x="70" y="32"/>
                    </a:lnTo>
                    <a:lnTo>
                      <a:pt x="92" y="36"/>
                    </a:lnTo>
                    <a:lnTo>
                      <a:pt x="116" y="34"/>
                    </a:lnTo>
                    <a:lnTo>
                      <a:pt x="139" y="30"/>
                    </a:lnTo>
                    <a:lnTo>
                      <a:pt x="160" y="22"/>
                    </a:lnTo>
                    <a:lnTo>
                      <a:pt x="182" y="11"/>
                    </a:lnTo>
                    <a:lnTo>
                      <a:pt x="188" y="25"/>
                    </a:lnTo>
                    <a:lnTo>
                      <a:pt x="166" y="36"/>
                    </a:lnTo>
                    <a:lnTo>
                      <a:pt x="142" y="44"/>
                    </a:lnTo>
                    <a:lnTo>
                      <a:pt x="117" y="49"/>
                    </a:lnTo>
                    <a:lnTo>
                      <a:pt x="91" y="50"/>
                    </a:lnTo>
                    <a:lnTo>
                      <a:pt x="67" y="47"/>
                    </a:lnTo>
                    <a:lnTo>
                      <a:pt x="55" y="44"/>
                    </a:lnTo>
                    <a:lnTo>
                      <a:pt x="42" y="39"/>
                    </a:lnTo>
                    <a:lnTo>
                      <a:pt x="20" y="27"/>
                    </a:lnTo>
                    <a:lnTo>
                      <a:pt x="0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989520" y="41554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0"/>
                    </a:moveTo>
                    <a:lnTo>
                      <a:pt x="1" y="11"/>
                    </a:lnTo>
                    <a:lnTo>
                      <a:pt x="1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133880" y="4031640"/>
                <a:ext cx="149040" cy="142560"/>
              </a:xfrm>
              <a:custGeom>
                <a:avLst/>
                <a:gdLst/>
                <a:ahLst/>
                <a:rect l="l" t="t" r="r" b="b"/>
                <a:pathLst>
                  <a:path w="188" h="179">
                    <a:moveTo>
                      <a:pt x="0" y="168"/>
                    </a:moveTo>
                    <a:lnTo>
                      <a:pt x="178" y="0"/>
                    </a:lnTo>
                    <a:lnTo>
                      <a:pt x="188" y="11"/>
                    </a:lnTo>
                    <a:lnTo>
                      <a:pt x="10" y="179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133880" y="416520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7" y="14"/>
                    </a:moveTo>
                    <a:lnTo>
                      <a:pt x="10" y="1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275000" y="4031640"/>
                <a:ext cx="187560" cy="180720"/>
              </a:xfrm>
              <a:custGeom>
                <a:avLst/>
                <a:gdLst/>
                <a:ahLst/>
                <a:rect l="l" t="t" r="r" b="b"/>
                <a:pathLst>
                  <a:path w="237" h="227">
                    <a:moveTo>
                      <a:pt x="11" y="0"/>
                    </a:moveTo>
                    <a:lnTo>
                      <a:pt x="28" y="18"/>
                    </a:lnTo>
                    <a:lnTo>
                      <a:pt x="75" y="62"/>
                    </a:lnTo>
                    <a:lnTo>
                      <a:pt x="237" y="216"/>
                    </a:lnTo>
                    <a:lnTo>
                      <a:pt x="228" y="227"/>
                    </a:lnTo>
                    <a:lnTo>
                      <a:pt x="65" y="73"/>
                    </a:lnTo>
                    <a:lnTo>
                      <a:pt x="19" y="29"/>
                    </a:lnTo>
                    <a:lnTo>
                      <a:pt x="0" y="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275000" y="402696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" y="5"/>
                    </a:moveTo>
                    <a:lnTo>
                      <a:pt x="6" y="0"/>
                    </a:lnTo>
                    <a:lnTo>
                      <a:pt x="11" y="5"/>
                    </a:lnTo>
                    <a:lnTo>
                      <a:pt x="0" y="14"/>
                    </a:lnTo>
                    <a:lnTo>
                      <a:pt x="11" y="16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33760" y="417924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27" y="40"/>
                    </a:moveTo>
                    <a:lnTo>
                      <a:pt x="0" y="11"/>
                    </a:lnTo>
                    <a:lnTo>
                      <a:pt x="9" y="0"/>
                    </a:lnTo>
                    <a:lnTo>
                      <a:pt x="36" y="29"/>
                    </a:lnTo>
                    <a:lnTo>
                      <a:pt x="2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54640" y="420336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9" y="0"/>
                    </a:lnTo>
                    <a:lnTo>
                      <a:pt x="0" y="11"/>
                    </a:lnTo>
                    <a:lnTo>
                      <a:pt x="9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32320" y="417924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11" y="0"/>
                    </a:moveTo>
                    <a:lnTo>
                      <a:pt x="0" y="10"/>
                    </a:lnTo>
                    <a:lnTo>
                      <a:pt x="60" y="71"/>
                    </a:lnTo>
                    <a:lnTo>
                      <a:pt x="71" y="6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32320" y="41792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11"/>
                    </a:moveTo>
                    <a:lnTo>
                      <a:pt x="11" y="0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481640" y="422856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9" y="0"/>
                    </a:moveTo>
                    <a:lnTo>
                      <a:pt x="0" y="11"/>
                    </a:lnTo>
                    <a:lnTo>
                      <a:pt x="31" y="41"/>
                    </a:lnTo>
                    <a:lnTo>
                      <a:pt x="41" y="3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479840" y="422856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0"/>
                    </a:moveTo>
                    <a:lnTo>
                      <a:pt x="2" y="11"/>
                    </a:lnTo>
                    <a:lnTo>
                      <a:pt x="1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06840" y="4235040"/>
                <a:ext cx="158760" cy="45720"/>
              </a:xfrm>
              <a:custGeom>
                <a:avLst/>
                <a:gdLst/>
                <a:ahLst/>
                <a:rect l="l" t="t" r="r" b="b"/>
                <a:pathLst>
                  <a:path w="199" h="58">
                    <a:moveTo>
                      <a:pt x="6" y="21"/>
                    </a:moveTo>
                    <a:lnTo>
                      <a:pt x="29" y="32"/>
                    </a:lnTo>
                    <a:lnTo>
                      <a:pt x="52" y="40"/>
                    </a:lnTo>
                    <a:lnTo>
                      <a:pt x="77" y="43"/>
                    </a:lnTo>
                    <a:lnTo>
                      <a:pt x="102" y="42"/>
                    </a:lnTo>
                    <a:lnTo>
                      <a:pt x="125" y="37"/>
                    </a:lnTo>
                    <a:lnTo>
                      <a:pt x="147" y="30"/>
                    </a:lnTo>
                    <a:lnTo>
                      <a:pt x="168" y="16"/>
                    </a:lnTo>
                    <a:lnTo>
                      <a:pt x="189" y="0"/>
                    </a:lnTo>
                    <a:lnTo>
                      <a:pt x="199" y="11"/>
                    </a:lnTo>
                    <a:lnTo>
                      <a:pt x="177" y="29"/>
                    </a:lnTo>
                    <a:lnTo>
                      <a:pt x="154" y="43"/>
                    </a:lnTo>
                    <a:lnTo>
                      <a:pt x="128" y="52"/>
                    </a:lnTo>
                    <a:lnTo>
                      <a:pt x="103" y="57"/>
                    </a:lnTo>
                    <a:lnTo>
                      <a:pt x="75" y="58"/>
                    </a:lnTo>
                    <a:lnTo>
                      <a:pt x="50" y="54"/>
                    </a:lnTo>
                    <a:lnTo>
                      <a:pt x="23" y="46"/>
                    </a:lnTo>
                    <a:lnTo>
                      <a:pt x="0" y="35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506840" y="42523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12"/>
                    </a:moveTo>
                    <a:lnTo>
                      <a:pt x="2" y="14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656240" y="3930120"/>
                <a:ext cx="60120" cy="312480"/>
              </a:xfrm>
              <a:custGeom>
                <a:avLst/>
                <a:gdLst/>
                <a:ahLst/>
                <a:rect l="l" t="t" r="r" b="b"/>
                <a:pathLst>
                  <a:path w="74" h="394">
                    <a:moveTo>
                      <a:pt x="0" y="384"/>
                    </a:moveTo>
                    <a:lnTo>
                      <a:pt x="19" y="361"/>
                    </a:lnTo>
                    <a:lnTo>
                      <a:pt x="33" y="338"/>
                    </a:lnTo>
                    <a:lnTo>
                      <a:pt x="40" y="315"/>
                    </a:lnTo>
                    <a:lnTo>
                      <a:pt x="43" y="291"/>
                    </a:lnTo>
                    <a:lnTo>
                      <a:pt x="43" y="268"/>
                    </a:lnTo>
                    <a:lnTo>
                      <a:pt x="39" y="246"/>
                    </a:lnTo>
                    <a:lnTo>
                      <a:pt x="28" y="197"/>
                    </a:lnTo>
                    <a:lnTo>
                      <a:pt x="18" y="147"/>
                    </a:lnTo>
                    <a:lnTo>
                      <a:pt x="15" y="122"/>
                    </a:lnTo>
                    <a:lnTo>
                      <a:pt x="15" y="97"/>
                    </a:lnTo>
                    <a:lnTo>
                      <a:pt x="16" y="84"/>
                    </a:lnTo>
                    <a:lnTo>
                      <a:pt x="18" y="71"/>
                    </a:lnTo>
                    <a:lnTo>
                      <a:pt x="28" y="47"/>
                    </a:lnTo>
                    <a:lnTo>
                      <a:pt x="43" y="22"/>
                    </a:lnTo>
                    <a:lnTo>
                      <a:pt x="65" y="0"/>
                    </a:lnTo>
                    <a:lnTo>
                      <a:pt x="74" y="11"/>
                    </a:lnTo>
                    <a:lnTo>
                      <a:pt x="54" y="32"/>
                    </a:lnTo>
                    <a:lnTo>
                      <a:pt x="40" y="54"/>
                    </a:lnTo>
                    <a:lnTo>
                      <a:pt x="32" y="78"/>
                    </a:lnTo>
                    <a:lnTo>
                      <a:pt x="29" y="87"/>
                    </a:lnTo>
                    <a:lnTo>
                      <a:pt x="28" y="97"/>
                    </a:lnTo>
                    <a:lnTo>
                      <a:pt x="28" y="122"/>
                    </a:lnTo>
                    <a:lnTo>
                      <a:pt x="32" y="144"/>
                    </a:lnTo>
                    <a:lnTo>
                      <a:pt x="41" y="194"/>
                    </a:lnTo>
                    <a:lnTo>
                      <a:pt x="52" y="243"/>
                    </a:lnTo>
                    <a:lnTo>
                      <a:pt x="56" y="268"/>
                    </a:lnTo>
                    <a:lnTo>
                      <a:pt x="56" y="294"/>
                    </a:lnTo>
                    <a:lnTo>
                      <a:pt x="54" y="320"/>
                    </a:lnTo>
                    <a:lnTo>
                      <a:pt x="45" y="345"/>
                    </a:lnTo>
                    <a:lnTo>
                      <a:pt x="30" y="371"/>
                    </a:lnTo>
                    <a:lnTo>
                      <a:pt x="11" y="394"/>
                    </a:lnTo>
                    <a:lnTo>
                      <a:pt x="0" y="3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656240" y="42350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1"/>
                    </a:moveTo>
                    <a:lnTo>
                      <a:pt x="11" y="1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08440" y="3891960"/>
                <a:ext cx="384120" cy="190080"/>
              </a:xfrm>
              <a:custGeom>
                <a:avLst/>
                <a:gdLst/>
                <a:ahLst/>
                <a:rect l="l" t="t" r="r" b="b"/>
                <a:pathLst>
                  <a:path w="484" h="238">
                    <a:moveTo>
                      <a:pt x="0" y="47"/>
                    </a:moveTo>
                    <a:lnTo>
                      <a:pt x="17" y="33"/>
                    </a:lnTo>
                    <a:lnTo>
                      <a:pt x="35" y="22"/>
                    </a:lnTo>
                    <a:lnTo>
                      <a:pt x="72" y="7"/>
                    </a:lnTo>
                    <a:lnTo>
                      <a:pt x="93" y="2"/>
                    </a:lnTo>
                    <a:lnTo>
                      <a:pt x="111" y="0"/>
                    </a:lnTo>
                    <a:lnTo>
                      <a:pt x="129" y="0"/>
                    </a:lnTo>
                    <a:lnTo>
                      <a:pt x="150" y="2"/>
                    </a:lnTo>
                    <a:lnTo>
                      <a:pt x="168" y="5"/>
                    </a:lnTo>
                    <a:lnTo>
                      <a:pt x="188" y="11"/>
                    </a:lnTo>
                    <a:lnTo>
                      <a:pt x="226" y="25"/>
                    </a:lnTo>
                    <a:lnTo>
                      <a:pt x="262" y="44"/>
                    </a:lnTo>
                    <a:lnTo>
                      <a:pt x="282" y="54"/>
                    </a:lnTo>
                    <a:lnTo>
                      <a:pt x="299" y="66"/>
                    </a:lnTo>
                    <a:lnTo>
                      <a:pt x="333" y="89"/>
                    </a:lnTo>
                    <a:lnTo>
                      <a:pt x="365" y="115"/>
                    </a:lnTo>
                    <a:lnTo>
                      <a:pt x="420" y="165"/>
                    </a:lnTo>
                    <a:lnTo>
                      <a:pt x="484" y="228"/>
                    </a:lnTo>
                    <a:lnTo>
                      <a:pt x="473" y="238"/>
                    </a:lnTo>
                    <a:lnTo>
                      <a:pt x="410" y="176"/>
                    </a:lnTo>
                    <a:lnTo>
                      <a:pt x="355" y="126"/>
                    </a:lnTo>
                    <a:lnTo>
                      <a:pt x="325" y="101"/>
                    </a:lnTo>
                    <a:lnTo>
                      <a:pt x="291" y="78"/>
                    </a:lnTo>
                    <a:lnTo>
                      <a:pt x="273" y="66"/>
                    </a:lnTo>
                    <a:lnTo>
                      <a:pt x="256" y="57"/>
                    </a:lnTo>
                    <a:lnTo>
                      <a:pt x="220" y="39"/>
                    </a:lnTo>
                    <a:lnTo>
                      <a:pt x="182" y="24"/>
                    </a:lnTo>
                    <a:lnTo>
                      <a:pt x="166" y="19"/>
                    </a:lnTo>
                    <a:lnTo>
                      <a:pt x="148" y="17"/>
                    </a:lnTo>
                    <a:lnTo>
                      <a:pt x="128" y="14"/>
                    </a:lnTo>
                    <a:lnTo>
                      <a:pt x="111" y="14"/>
                    </a:lnTo>
                    <a:lnTo>
                      <a:pt x="94" y="17"/>
                    </a:lnTo>
                    <a:lnTo>
                      <a:pt x="77" y="21"/>
                    </a:lnTo>
                    <a:lnTo>
                      <a:pt x="41" y="35"/>
                    </a:lnTo>
                    <a:lnTo>
                      <a:pt x="25" y="45"/>
                    </a:lnTo>
                    <a:lnTo>
                      <a:pt x="9" y="58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08440" y="39301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0"/>
                    </a:moveTo>
                    <a:lnTo>
                      <a:pt x="9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083200" y="4074480"/>
                <a:ext cx="152280" cy="377640"/>
              </a:xfrm>
              <a:custGeom>
                <a:avLst/>
                <a:gdLst/>
                <a:ahLst/>
                <a:rect l="l" t="t" r="r" b="b"/>
                <a:pathLst>
                  <a:path w="190" h="476">
                    <a:moveTo>
                      <a:pt x="11" y="0"/>
                    </a:moveTo>
                    <a:lnTo>
                      <a:pt x="46" y="37"/>
                    </a:lnTo>
                    <a:lnTo>
                      <a:pt x="77" y="74"/>
                    </a:lnTo>
                    <a:lnTo>
                      <a:pt x="105" y="110"/>
                    </a:lnTo>
                    <a:lnTo>
                      <a:pt x="128" y="146"/>
                    </a:lnTo>
                    <a:lnTo>
                      <a:pt x="146" y="183"/>
                    </a:lnTo>
                    <a:lnTo>
                      <a:pt x="162" y="217"/>
                    </a:lnTo>
                    <a:lnTo>
                      <a:pt x="173" y="250"/>
                    </a:lnTo>
                    <a:lnTo>
                      <a:pt x="183" y="283"/>
                    </a:lnTo>
                    <a:lnTo>
                      <a:pt x="188" y="315"/>
                    </a:lnTo>
                    <a:lnTo>
                      <a:pt x="190" y="343"/>
                    </a:lnTo>
                    <a:lnTo>
                      <a:pt x="189" y="370"/>
                    </a:lnTo>
                    <a:lnTo>
                      <a:pt x="186" y="395"/>
                    </a:lnTo>
                    <a:lnTo>
                      <a:pt x="178" y="420"/>
                    </a:lnTo>
                    <a:lnTo>
                      <a:pt x="170" y="442"/>
                    </a:lnTo>
                    <a:lnTo>
                      <a:pt x="159" y="460"/>
                    </a:lnTo>
                    <a:lnTo>
                      <a:pt x="144" y="476"/>
                    </a:lnTo>
                    <a:lnTo>
                      <a:pt x="133" y="466"/>
                    </a:lnTo>
                    <a:lnTo>
                      <a:pt x="146" y="452"/>
                    </a:lnTo>
                    <a:lnTo>
                      <a:pt x="156" y="436"/>
                    </a:lnTo>
                    <a:lnTo>
                      <a:pt x="165" y="415"/>
                    </a:lnTo>
                    <a:lnTo>
                      <a:pt x="171" y="393"/>
                    </a:lnTo>
                    <a:lnTo>
                      <a:pt x="175" y="369"/>
                    </a:lnTo>
                    <a:lnTo>
                      <a:pt x="176" y="343"/>
                    </a:lnTo>
                    <a:lnTo>
                      <a:pt x="173" y="316"/>
                    </a:lnTo>
                    <a:lnTo>
                      <a:pt x="168" y="285"/>
                    </a:lnTo>
                    <a:lnTo>
                      <a:pt x="160" y="256"/>
                    </a:lnTo>
                    <a:lnTo>
                      <a:pt x="149" y="223"/>
                    </a:lnTo>
                    <a:lnTo>
                      <a:pt x="133" y="189"/>
                    </a:lnTo>
                    <a:lnTo>
                      <a:pt x="116" y="155"/>
                    </a:lnTo>
                    <a:lnTo>
                      <a:pt x="93" y="119"/>
                    </a:lnTo>
                    <a:lnTo>
                      <a:pt x="66" y="84"/>
                    </a:lnTo>
                    <a:lnTo>
                      <a:pt x="35" y="47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083200" y="407448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0"/>
                    </a:move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889520" y="4444560"/>
                <a:ext cx="307800" cy="42480"/>
              </a:xfrm>
              <a:custGeom>
                <a:avLst/>
                <a:gdLst/>
                <a:ahLst/>
                <a:rect l="l" t="t" r="r" b="b"/>
                <a:pathLst>
                  <a:path w="389" h="54">
                    <a:moveTo>
                      <a:pt x="389" y="11"/>
                    </a:moveTo>
                    <a:lnTo>
                      <a:pt x="368" y="27"/>
                    </a:lnTo>
                    <a:lnTo>
                      <a:pt x="345" y="39"/>
                    </a:lnTo>
                    <a:lnTo>
                      <a:pt x="320" y="47"/>
                    </a:lnTo>
                    <a:lnTo>
                      <a:pt x="296" y="48"/>
                    </a:lnTo>
                    <a:lnTo>
                      <a:pt x="245" y="44"/>
                    </a:lnTo>
                    <a:lnTo>
                      <a:pt x="192" y="35"/>
                    </a:lnTo>
                    <a:lnTo>
                      <a:pt x="141" y="24"/>
                    </a:lnTo>
                    <a:lnTo>
                      <a:pt x="119" y="20"/>
                    </a:lnTo>
                    <a:lnTo>
                      <a:pt x="94" y="20"/>
                    </a:lnTo>
                    <a:lnTo>
                      <a:pt x="71" y="22"/>
                    </a:lnTo>
                    <a:lnTo>
                      <a:pt x="49" y="28"/>
                    </a:lnTo>
                    <a:lnTo>
                      <a:pt x="30" y="38"/>
                    </a:lnTo>
                    <a:lnTo>
                      <a:pt x="10" y="54"/>
                    </a:lnTo>
                    <a:lnTo>
                      <a:pt x="0" y="43"/>
                    </a:lnTo>
                    <a:lnTo>
                      <a:pt x="21" y="26"/>
                    </a:lnTo>
                    <a:lnTo>
                      <a:pt x="43" y="15"/>
                    </a:lnTo>
                    <a:lnTo>
                      <a:pt x="67" y="9"/>
                    </a:lnTo>
                    <a:lnTo>
                      <a:pt x="94" y="6"/>
                    </a:lnTo>
                    <a:lnTo>
                      <a:pt x="119" y="6"/>
                    </a:lnTo>
                    <a:lnTo>
                      <a:pt x="144" y="10"/>
                    </a:lnTo>
                    <a:lnTo>
                      <a:pt x="196" y="21"/>
                    </a:lnTo>
                    <a:lnTo>
                      <a:pt x="247" y="31"/>
                    </a:lnTo>
                    <a:lnTo>
                      <a:pt x="296" y="35"/>
                    </a:lnTo>
                    <a:lnTo>
                      <a:pt x="317" y="33"/>
                    </a:lnTo>
                    <a:lnTo>
                      <a:pt x="339" y="26"/>
                    </a:lnTo>
                    <a:lnTo>
                      <a:pt x="360" y="15"/>
                    </a:lnTo>
                    <a:lnTo>
                      <a:pt x="379" y="0"/>
                    </a:lnTo>
                    <a:lnTo>
                      <a:pt x="38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189400" y="44445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0"/>
                    </a:moveTo>
                    <a:lnTo>
                      <a:pt x="11" y="1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61080" y="4477680"/>
                <a:ext cx="36360" cy="91800"/>
              </a:xfrm>
              <a:custGeom>
                <a:avLst/>
                <a:gdLst/>
                <a:ahLst/>
                <a:rect l="l" t="t" r="r" b="b"/>
                <a:pathLst>
                  <a:path w="45" h="116">
                    <a:moveTo>
                      <a:pt x="45" y="10"/>
                    </a:moveTo>
                    <a:lnTo>
                      <a:pt x="36" y="21"/>
                    </a:lnTo>
                    <a:lnTo>
                      <a:pt x="29" y="32"/>
                    </a:lnTo>
                    <a:lnTo>
                      <a:pt x="23" y="45"/>
                    </a:lnTo>
                    <a:lnTo>
                      <a:pt x="19" y="56"/>
                    </a:lnTo>
                    <a:lnTo>
                      <a:pt x="14" y="84"/>
                    </a:lnTo>
                    <a:lnTo>
                      <a:pt x="14" y="116"/>
                    </a:lnTo>
                    <a:lnTo>
                      <a:pt x="0" y="116"/>
                    </a:lnTo>
                    <a:lnTo>
                      <a:pt x="0" y="84"/>
                    </a:lnTo>
                    <a:lnTo>
                      <a:pt x="5" y="54"/>
                    </a:lnTo>
                    <a:lnTo>
                      <a:pt x="10" y="39"/>
                    </a:lnTo>
                    <a:lnTo>
                      <a:pt x="17" y="25"/>
                    </a:lnTo>
                    <a:lnTo>
                      <a:pt x="24" y="12"/>
                    </a:lnTo>
                    <a:lnTo>
                      <a:pt x="34" y="0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888080" y="44776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0"/>
                    </a:moveTo>
                    <a:lnTo>
                      <a:pt x="0" y="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91240" y="4492080"/>
                <a:ext cx="79200" cy="82080"/>
              </a:xfrm>
              <a:custGeom>
                <a:avLst/>
                <a:gdLst/>
                <a:ahLst/>
                <a:rect l="l" t="t" r="r" b="b"/>
                <a:pathLst>
                  <a:path w="101" h="104">
                    <a:moveTo>
                      <a:pt x="91" y="104"/>
                    </a:moveTo>
                    <a:lnTo>
                      <a:pt x="0" y="11"/>
                    </a:lnTo>
                    <a:lnTo>
                      <a:pt x="9" y="0"/>
                    </a:lnTo>
                    <a:lnTo>
                      <a:pt x="101" y="93"/>
                    </a:lnTo>
                    <a:lnTo>
                      <a:pt x="91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861080" y="456660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14" y="5"/>
                    </a:moveTo>
                    <a:lnTo>
                      <a:pt x="14" y="24"/>
                    </a:lnTo>
                    <a:lnTo>
                      <a:pt x="2" y="11"/>
                    </a:lnTo>
                    <a:lnTo>
                      <a:pt x="12" y="0"/>
                    </a:lnTo>
                    <a:lnTo>
                      <a:pt x="0" y="5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76840" y="4371480"/>
                <a:ext cx="31680" cy="128160"/>
              </a:xfrm>
              <a:custGeom>
                <a:avLst/>
                <a:gdLst/>
                <a:ahLst/>
                <a:rect l="l" t="t" r="r" b="b"/>
                <a:pathLst>
                  <a:path w="41" h="160">
                    <a:moveTo>
                      <a:pt x="15" y="160"/>
                    </a:moveTo>
                    <a:lnTo>
                      <a:pt x="8" y="139"/>
                    </a:lnTo>
                    <a:lnTo>
                      <a:pt x="3" y="118"/>
                    </a:lnTo>
                    <a:lnTo>
                      <a:pt x="0" y="95"/>
                    </a:lnTo>
                    <a:lnTo>
                      <a:pt x="0" y="73"/>
                    </a:lnTo>
                    <a:lnTo>
                      <a:pt x="3" y="54"/>
                    </a:lnTo>
                    <a:lnTo>
                      <a:pt x="8" y="34"/>
                    </a:lnTo>
                    <a:lnTo>
                      <a:pt x="18" y="16"/>
                    </a:lnTo>
                    <a:lnTo>
                      <a:pt x="30" y="0"/>
                    </a:lnTo>
                    <a:lnTo>
                      <a:pt x="41" y="10"/>
                    </a:lnTo>
                    <a:lnTo>
                      <a:pt x="30" y="24"/>
                    </a:lnTo>
                    <a:lnTo>
                      <a:pt x="21" y="40"/>
                    </a:lnTo>
                    <a:lnTo>
                      <a:pt x="16" y="57"/>
                    </a:lnTo>
                    <a:lnTo>
                      <a:pt x="14" y="76"/>
                    </a:lnTo>
                    <a:lnTo>
                      <a:pt x="14" y="95"/>
                    </a:lnTo>
                    <a:lnTo>
                      <a:pt x="16" y="115"/>
                    </a:lnTo>
                    <a:lnTo>
                      <a:pt x="21" y="134"/>
                    </a:lnTo>
                    <a:lnTo>
                      <a:pt x="29" y="154"/>
                    </a:lnTo>
                    <a:lnTo>
                      <a:pt x="15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89440" y="4492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3" y="11"/>
                    </a:moveTo>
                    <a:lnTo>
                      <a:pt x="0" y="9"/>
                    </a:lnTo>
                    <a:lnTo>
                      <a:pt x="14" y="3"/>
                    </a:lnTo>
                    <a:lnTo>
                      <a:pt x="12" y="0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800600" y="4341240"/>
                <a:ext cx="270000" cy="39600"/>
              </a:xfrm>
              <a:custGeom>
                <a:avLst/>
                <a:gdLst/>
                <a:ahLst/>
                <a:rect l="l" t="t" r="r" b="b"/>
                <a:pathLst>
                  <a:path w="340" h="49">
                    <a:moveTo>
                      <a:pt x="0" y="38"/>
                    </a:moveTo>
                    <a:lnTo>
                      <a:pt x="18" y="22"/>
                    </a:lnTo>
                    <a:lnTo>
                      <a:pt x="38" y="12"/>
                    </a:lnTo>
                    <a:lnTo>
                      <a:pt x="60" y="5"/>
                    </a:lnTo>
                    <a:lnTo>
                      <a:pt x="82" y="4"/>
                    </a:lnTo>
                    <a:lnTo>
                      <a:pt x="127" y="7"/>
                    </a:lnTo>
                    <a:lnTo>
                      <a:pt x="171" y="16"/>
                    </a:lnTo>
                    <a:lnTo>
                      <a:pt x="215" y="26"/>
                    </a:lnTo>
                    <a:lnTo>
                      <a:pt x="258" y="28"/>
                    </a:lnTo>
                    <a:lnTo>
                      <a:pt x="276" y="27"/>
                    </a:lnTo>
                    <a:lnTo>
                      <a:pt x="295" y="22"/>
                    </a:lnTo>
                    <a:lnTo>
                      <a:pt x="312" y="12"/>
                    </a:lnTo>
                    <a:lnTo>
                      <a:pt x="320" y="7"/>
                    </a:lnTo>
                    <a:lnTo>
                      <a:pt x="330" y="0"/>
                    </a:lnTo>
                    <a:lnTo>
                      <a:pt x="340" y="11"/>
                    </a:lnTo>
                    <a:lnTo>
                      <a:pt x="330" y="18"/>
                    </a:lnTo>
                    <a:lnTo>
                      <a:pt x="320" y="24"/>
                    </a:lnTo>
                    <a:lnTo>
                      <a:pt x="301" y="35"/>
                    </a:lnTo>
                    <a:lnTo>
                      <a:pt x="279" y="42"/>
                    </a:lnTo>
                    <a:lnTo>
                      <a:pt x="258" y="43"/>
                    </a:lnTo>
                    <a:lnTo>
                      <a:pt x="213" y="40"/>
                    </a:lnTo>
                    <a:lnTo>
                      <a:pt x="169" y="31"/>
                    </a:lnTo>
                    <a:lnTo>
                      <a:pt x="125" y="22"/>
                    </a:lnTo>
                    <a:lnTo>
                      <a:pt x="82" y="18"/>
                    </a:lnTo>
                    <a:lnTo>
                      <a:pt x="62" y="20"/>
                    </a:lnTo>
                    <a:lnTo>
                      <a:pt x="44" y="26"/>
                    </a:lnTo>
                    <a:lnTo>
                      <a:pt x="27" y="34"/>
                    </a:lnTo>
                    <a:lnTo>
                      <a:pt x="10" y="49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800600" y="43714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0"/>
                    </a:moveTo>
                    <a:lnTo>
                      <a:pt x="1" y="0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70520" y="4020480"/>
                <a:ext cx="129960" cy="328320"/>
              </a:xfrm>
              <a:custGeom>
                <a:avLst/>
                <a:gdLst/>
                <a:ahLst/>
                <a:rect l="l" t="t" r="r" b="b"/>
                <a:pathLst>
                  <a:path w="165" h="415">
                    <a:moveTo>
                      <a:pt x="116" y="405"/>
                    </a:moveTo>
                    <a:lnTo>
                      <a:pt x="127" y="391"/>
                    </a:lnTo>
                    <a:lnTo>
                      <a:pt x="135" y="377"/>
                    </a:lnTo>
                    <a:lnTo>
                      <a:pt x="141" y="361"/>
                    </a:lnTo>
                    <a:lnTo>
                      <a:pt x="148" y="343"/>
                    </a:lnTo>
                    <a:lnTo>
                      <a:pt x="150" y="321"/>
                    </a:lnTo>
                    <a:lnTo>
                      <a:pt x="151" y="299"/>
                    </a:lnTo>
                    <a:lnTo>
                      <a:pt x="150" y="274"/>
                    </a:lnTo>
                    <a:lnTo>
                      <a:pt x="145" y="250"/>
                    </a:lnTo>
                    <a:lnTo>
                      <a:pt x="138" y="222"/>
                    </a:lnTo>
                    <a:lnTo>
                      <a:pt x="128" y="195"/>
                    </a:lnTo>
                    <a:lnTo>
                      <a:pt x="116" y="165"/>
                    </a:lnTo>
                    <a:lnTo>
                      <a:pt x="100" y="136"/>
                    </a:lnTo>
                    <a:lnTo>
                      <a:pt x="80" y="105"/>
                    </a:lnTo>
                    <a:lnTo>
                      <a:pt x="57" y="74"/>
                    </a:lnTo>
                    <a:lnTo>
                      <a:pt x="31" y="43"/>
                    </a:lnTo>
                    <a:lnTo>
                      <a:pt x="0" y="11"/>
                    </a:lnTo>
                    <a:lnTo>
                      <a:pt x="9" y="0"/>
                    </a:lnTo>
                    <a:lnTo>
                      <a:pt x="41" y="32"/>
                    </a:lnTo>
                    <a:lnTo>
                      <a:pt x="68" y="64"/>
                    </a:lnTo>
                    <a:lnTo>
                      <a:pt x="91" y="97"/>
                    </a:lnTo>
                    <a:lnTo>
                      <a:pt x="112" y="127"/>
                    </a:lnTo>
                    <a:lnTo>
                      <a:pt x="128" y="158"/>
                    </a:lnTo>
                    <a:lnTo>
                      <a:pt x="141" y="189"/>
                    </a:lnTo>
                    <a:lnTo>
                      <a:pt x="151" y="217"/>
                    </a:lnTo>
                    <a:lnTo>
                      <a:pt x="159" y="246"/>
                    </a:lnTo>
                    <a:lnTo>
                      <a:pt x="163" y="272"/>
                    </a:lnTo>
                    <a:lnTo>
                      <a:pt x="165" y="299"/>
                    </a:lnTo>
                    <a:lnTo>
                      <a:pt x="163" y="323"/>
                    </a:lnTo>
                    <a:lnTo>
                      <a:pt x="161" y="346"/>
                    </a:lnTo>
                    <a:lnTo>
                      <a:pt x="155" y="367"/>
                    </a:lnTo>
                    <a:lnTo>
                      <a:pt x="148" y="384"/>
                    </a:lnTo>
                    <a:lnTo>
                      <a:pt x="138" y="401"/>
                    </a:lnTo>
                    <a:lnTo>
                      <a:pt x="127" y="415"/>
                    </a:lnTo>
                    <a:lnTo>
                      <a:pt x="116" y="4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062680" y="43412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1"/>
                    </a:moveTo>
                    <a:lnTo>
                      <a:pt x="11" y="1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643280" y="3864960"/>
                <a:ext cx="335160" cy="164880"/>
              </a:xfrm>
              <a:custGeom>
                <a:avLst/>
                <a:gdLst/>
                <a:ahLst/>
                <a:rect l="l" t="t" r="r" b="b"/>
                <a:pathLst>
                  <a:path w="420" h="208">
                    <a:moveTo>
                      <a:pt x="411" y="208"/>
                    </a:moveTo>
                    <a:lnTo>
                      <a:pt x="357" y="153"/>
                    </a:lnTo>
                    <a:lnTo>
                      <a:pt x="309" y="110"/>
                    </a:lnTo>
                    <a:lnTo>
                      <a:pt x="252" y="68"/>
                    </a:lnTo>
                    <a:lnTo>
                      <a:pt x="222" y="49"/>
                    </a:lnTo>
                    <a:lnTo>
                      <a:pt x="191" y="35"/>
                    </a:lnTo>
                    <a:lnTo>
                      <a:pt x="160" y="22"/>
                    </a:lnTo>
                    <a:lnTo>
                      <a:pt x="127" y="15"/>
                    </a:lnTo>
                    <a:lnTo>
                      <a:pt x="114" y="14"/>
                    </a:lnTo>
                    <a:lnTo>
                      <a:pt x="99" y="14"/>
                    </a:lnTo>
                    <a:lnTo>
                      <a:pt x="83" y="15"/>
                    </a:lnTo>
                    <a:lnTo>
                      <a:pt x="68" y="19"/>
                    </a:lnTo>
                    <a:lnTo>
                      <a:pt x="53" y="24"/>
                    </a:lnTo>
                    <a:lnTo>
                      <a:pt x="38" y="30"/>
                    </a:lnTo>
                    <a:lnTo>
                      <a:pt x="10" y="52"/>
                    </a:lnTo>
                    <a:lnTo>
                      <a:pt x="0" y="41"/>
                    </a:lnTo>
                    <a:lnTo>
                      <a:pt x="29" y="17"/>
                    </a:lnTo>
                    <a:lnTo>
                      <a:pt x="46" y="10"/>
                    </a:lnTo>
                    <a:lnTo>
                      <a:pt x="64" y="5"/>
                    </a:lnTo>
                    <a:lnTo>
                      <a:pt x="79" y="2"/>
                    </a:lnTo>
                    <a:lnTo>
                      <a:pt x="97" y="0"/>
                    </a:lnTo>
                    <a:lnTo>
                      <a:pt x="114" y="0"/>
                    </a:lnTo>
                    <a:lnTo>
                      <a:pt x="131" y="2"/>
                    </a:lnTo>
                    <a:lnTo>
                      <a:pt x="165" y="9"/>
                    </a:lnTo>
                    <a:lnTo>
                      <a:pt x="197" y="21"/>
                    </a:lnTo>
                    <a:lnTo>
                      <a:pt x="230" y="37"/>
                    </a:lnTo>
                    <a:lnTo>
                      <a:pt x="260" y="57"/>
                    </a:lnTo>
                    <a:lnTo>
                      <a:pt x="319" y="99"/>
                    </a:lnTo>
                    <a:lnTo>
                      <a:pt x="367" y="142"/>
                    </a:lnTo>
                    <a:lnTo>
                      <a:pt x="420" y="197"/>
                    </a:lnTo>
                    <a:lnTo>
                      <a:pt x="411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970520" y="40204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0"/>
                    </a:moveTo>
                    <a:lnTo>
                      <a:pt x="0" y="1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599000" y="3897000"/>
                <a:ext cx="52200" cy="271080"/>
              </a:xfrm>
              <a:custGeom>
                <a:avLst/>
                <a:gdLst/>
                <a:ahLst/>
                <a:rect l="l" t="t" r="r" b="b"/>
                <a:pathLst>
                  <a:path w="66" h="342">
                    <a:moveTo>
                      <a:pt x="66" y="11"/>
                    </a:moveTo>
                    <a:lnTo>
                      <a:pt x="56" y="19"/>
                    </a:lnTo>
                    <a:lnTo>
                      <a:pt x="49" y="29"/>
                    </a:lnTo>
                    <a:lnTo>
                      <a:pt x="36" y="47"/>
                    </a:lnTo>
                    <a:lnTo>
                      <a:pt x="33" y="56"/>
                    </a:lnTo>
                    <a:lnTo>
                      <a:pt x="30" y="64"/>
                    </a:lnTo>
                    <a:lnTo>
                      <a:pt x="27" y="84"/>
                    </a:lnTo>
                    <a:lnTo>
                      <a:pt x="27" y="105"/>
                    </a:lnTo>
                    <a:lnTo>
                      <a:pt x="29" y="124"/>
                    </a:lnTo>
                    <a:lnTo>
                      <a:pt x="39" y="167"/>
                    </a:lnTo>
                    <a:lnTo>
                      <a:pt x="49" y="210"/>
                    </a:lnTo>
                    <a:lnTo>
                      <a:pt x="51" y="254"/>
                    </a:lnTo>
                    <a:lnTo>
                      <a:pt x="49" y="276"/>
                    </a:lnTo>
                    <a:lnTo>
                      <a:pt x="41" y="300"/>
                    </a:lnTo>
                    <a:lnTo>
                      <a:pt x="29" y="322"/>
                    </a:lnTo>
                    <a:lnTo>
                      <a:pt x="11" y="342"/>
                    </a:lnTo>
                    <a:lnTo>
                      <a:pt x="0" y="332"/>
                    </a:lnTo>
                    <a:lnTo>
                      <a:pt x="17" y="314"/>
                    </a:lnTo>
                    <a:lnTo>
                      <a:pt x="28" y="294"/>
                    </a:lnTo>
                    <a:lnTo>
                      <a:pt x="34" y="274"/>
                    </a:lnTo>
                    <a:lnTo>
                      <a:pt x="36" y="254"/>
                    </a:lnTo>
                    <a:lnTo>
                      <a:pt x="34" y="212"/>
                    </a:lnTo>
                    <a:lnTo>
                      <a:pt x="24" y="170"/>
                    </a:lnTo>
                    <a:lnTo>
                      <a:pt x="14" y="127"/>
                    </a:lnTo>
                    <a:lnTo>
                      <a:pt x="12" y="106"/>
                    </a:lnTo>
                    <a:lnTo>
                      <a:pt x="12" y="84"/>
                    </a:lnTo>
                    <a:lnTo>
                      <a:pt x="16" y="62"/>
                    </a:lnTo>
                    <a:lnTo>
                      <a:pt x="19" y="51"/>
                    </a:lnTo>
                    <a:lnTo>
                      <a:pt x="24" y="40"/>
                    </a:lnTo>
                    <a:lnTo>
                      <a:pt x="36" y="20"/>
                    </a:lnTo>
                    <a:lnTo>
                      <a:pt x="45" y="9"/>
                    </a:lnTo>
                    <a:lnTo>
                      <a:pt x="56" y="0"/>
                    </a:lnTo>
                    <a:lnTo>
                      <a:pt x="6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643280" y="38970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1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470480" y="4160520"/>
                <a:ext cx="137880" cy="40680"/>
              </a:xfrm>
              <a:custGeom>
                <a:avLst/>
                <a:gdLst/>
                <a:ahLst/>
                <a:rect l="l" t="t" r="r" b="b"/>
                <a:pathLst>
                  <a:path w="174" h="52">
                    <a:moveTo>
                      <a:pt x="174" y="11"/>
                    </a:moveTo>
                    <a:lnTo>
                      <a:pt x="155" y="27"/>
                    </a:lnTo>
                    <a:lnTo>
                      <a:pt x="135" y="38"/>
                    </a:lnTo>
                    <a:lnTo>
                      <a:pt x="113" y="47"/>
                    </a:lnTo>
                    <a:lnTo>
                      <a:pt x="89" y="52"/>
                    </a:lnTo>
                    <a:lnTo>
                      <a:pt x="66" y="52"/>
                    </a:lnTo>
                    <a:lnTo>
                      <a:pt x="43" y="49"/>
                    </a:lnTo>
                    <a:lnTo>
                      <a:pt x="32" y="46"/>
                    </a:lnTo>
                    <a:lnTo>
                      <a:pt x="20" y="41"/>
                    </a:lnTo>
                    <a:lnTo>
                      <a:pt x="0" y="31"/>
                    </a:lnTo>
                    <a:lnTo>
                      <a:pt x="7" y="19"/>
                    </a:lnTo>
                    <a:lnTo>
                      <a:pt x="27" y="28"/>
                    </a:lnTo>
                    <a:lnTo>
                      <a:pt x="37" y="32"/>
                    </a:lnTo>
                    <a:lnTo>
                      <a:pt x="47" y="36"/>
                    </a:lnTo>
                    <a:lnTo>
                      <a:pt x="66" y="38"/>
                    </a:lnTo>
                    <a:lnTo>
                      <a:pt x="87" y="38"/>
                    </a:lnTo>
                    <a:lnTo>
                      <a:pt x="108" y="33"/>
                    </a:lnTo>
                    <a:lnTo>
                      <a:pt x="127" y="26"/>
                    </a:lnTo>
                    <a:lnTo>
                      <a:pt x="146" y="16"/>
                    </a:lnTo>
                    <a:lnTo>
                      <a:pt x="164" y="0"/>
                    </a:lnTo>
                    <a:lnTo>
                      <a:pt x="17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599000" y="416052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0"/>
                    </a:moveTo>
                    <a:lnTo>
                      <a:pt x="11" y="1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446720" y="4154040"/>
                <a:ext cx="29880" cy="298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28" y="38"/>
                    </a:moveTo>
                    <a:lnTo>
                      <a:pt x="38" y="27"/>
                    </a:lnTo>
                    <a:lnTo>
                      <a:pt x="10" y="0"/>
                    </a:lnTo>
                    <a:lnTo>
                      <a:pt x="0" y="11"/>
                    </a:lnTo>
                    <a:lnTo>
                      <a:pt x="28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468680" y="41745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" y="12"/>
                    </a:moveTo>
                    <a:lnTo>
                      <a:pt x="0" y="1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06760" y="4112640"/>
                <a:ext cx="47880" cy="50400"/>
              </a:xfrm>
              <a:custGeom>
                <a:avLst/>
                <a:gdLst/>
                <a:ahLst/>
                <a:rect l="l" t="t" r="r" b="b"/>
                <a:pathLst>
                  <a:path w="62" h="64">
                    <a:moveTo>
                      <a:pt x="52" y="64"/>
                    </a:moveTo>
                    <a:lnTo>
                      <a:pt x="62" y="53"/>
                    </a:lnTo>
                    <a:lnTo>
                      <a:pt x="10" y="0"/>
                    </a:lnTo>
                    <a:lnTo>
                      <a:pt x="0" y="11"/>
                    </a:lnTo>
                    <a:lnTo>
                      <a:pt x="52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446720" y="415404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1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405320" y="411264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34" h="36">
                    <a:moveTo>
                      <a:pt x="11" y="0"/>
                    </a:moveTo>
                    <a:lnTo>
                      <a:pt x="34" y="26"/>
                    </a:lnTo>
                    <a:lnTo>
                      <a:pt x="23" y="36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05320" y="4112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0" y="10"/>
                    </a:lnTo>
                    <a:lnTo>
                      <a:pt x="11" y="0"/>
                    </a:lnTo>
                    <a:lnTo>
                      <a:pt x="1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68880" y="3984120"/>
                <a:ext cx="163440" cy="158400"/>
              </a:xfrm>
              <a:custGeom>
                <a:avLst/>
                <a:gdLst/>
                <a:ahLst/>
                <a:rect l="l" t="t" r="r" b="b"/>
                <a:pathLst>
                  <a:path w="206" h="199">
                    <a:moveTo>
                      <a:pt x="197" y="199"/>
                    </a:moveTo>
                    <a:lnTo>
                      <a:pt x="55" y="66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65" y="55"/>
                    </a:lnTo>
                    <a:lnTo>
                      <a:pt x="206" y="188"/>
                    </a:lnTo>
                    <a:lnTo>
                      <a:pt x="197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424400" y="413352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2" y="11"/>
                    </a:lnTo>
                    <a:lnTo>
                      <a:pt x="11" y="0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46480" y="3984120"/>
                <a:ext cx="130320" cy="124920"/>
              </a:xfrm>
              <a:custGeom>
                <a:avLst/>
                <a:gdLst/>
                <a:ahLst/>
                <a:rect l="l" t="t" r="r" b="b"/>
                <a:pathLst>
                  <a:path w="164" h="157">
                    <a:moveTo>
                      <a:pt x="164" y="11"/>
                    </a:moveTo>
                    <a:lnTo>
                      <a:pt x="10" y="157"/>
                    </a:lnTo>
                    <a:lnTo>
                      <a:pt x="0" y="146"/>
                    </a:lnTo>
                    <a:lnTo>
                      <a:pt x="154" y="0"/>
                    </a:lnTo>
                    <a:lnTo>
                      <a:pt x="16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268880" y="397944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5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0" y="16"/>
                    </a:lnTo>
                    <a:lnTo>
                      <a:pt x="0" y="16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021200" y="4092120"/>
                <a:ext cx="131760" cy="34560"/>
              </a:xfrm>
              <a:custGeom>
                <a:avLst/>
                <a:gdLst/>
                <a:ahLst/>
                <a:rect l="l" t="t" r="r" b="b"/>
                <a:pathLst>
                  <a:path w="166" h="46">
                    <a:moveTo>
                      <a:pt x="166" y="22"/>
                    </a:moveTo>
                    <a:lnTo>
                      <a:pt x="147" y="32"/>
                    </a:lnTo>
                    <a:lnTo>
                      <a:pt x="125" y="41"/>
                    </a:lnTo>
                    <a:lnTo>
                      <a:pt x="103" y="44"/>
                    </a:lnTo>
                    <a:lnTo>
                      <a:pt x="81" y="46"/>
                    </a:lnTo>
                    <a:lnTo>
                      <a:pt x="58" y="43"/>
                    </a:lnTo>
                    <a:lnTo>
                      <a:pt x="37" y="37"/>
                    </a:lnTo>
                    <a:lnTo>
                      <a:pt x="17" y="25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27" y="14"/>
                    </a:lnTo>
                    <a:lnTo>
                      <a:pt x="43" y="24"/>
                    </a:lnTo>
                    <a:lnTo>
                      <a:pt x="61" y="30"/>
                    </a:lnTo>
                    <a:lnTo>
                      <a:pt x="81" y="32"/>
                    </a:lnTo>
                    <a:lnTo>
                      <a:pt x="100" y="31"/>
                    </a:lnTo>
                    <a:lnTo>
                      <a:pt x="120" y="27"/>
                    </a:lnTo>
                    <a:lnTo>
                      <a:pt x="140" y="20"/>
                    </a:lnTo>
                    <a:lnTo>
                      <a:pt x="158" y="10"/>
                    </a:lnTo>
                    <a:lnTo>
                      <a:pt x="16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146480" y="410004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12"/>
                    </a:moveTo>
                    <a:lnTo>
                      <a:pt x="8" y="1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990960" y="3830040"/>
                <a:ext cx="38160" cy="269640"/>
              </a:xfrm>
              <a:custGeom>
                <a:avLst/>
                <a:gdLst/>
                <a:ahLst/>
                <a:rect l="l" t="t" r="r" b="b"/>
                <a:pathLst>
                  <a:path w="48" h="338">
                    <a:moveTo>
                      <a:pt x="37" y="338"/>
                    </a:moveTo>
                    <a:lnTo>
                      <a:pt x="22" y="320"/>
                    </a:lnTo>
                    <a:lnTo>
                      <a:pt x="11" y="300"/>
                    </a:lnTo>
                    <a:lnTo>
                      <a:pt x="6" y="280"/>
                    </a:lnTo>
                    <a:lnTo>
                      <a:pt x="4" y="256"/>
                    </a:lnTo>
                    <a:lnTo>
                      <a:pt x="8" y="212"/>
                    </a:lnTo>
                    <a:lnTo>
                      <a:pt x="17" y="167"/>
                    </a:lnTo>
                    <a:lnTo>
                      <a:pt x="26" y="123"/>
                    </a:lnTo>
                    <a:lnTo>
                      <a:pt x="30" y="81"/>
                    </a:lnTo>
                    <a:lnTo>
                      <a:pt x="27" y="63"/>
                    </a:lnTo>
                    <a:lnTo>
                      <a:pt x="22" y="44"/>
                    </a:lnTo>
                    <a:lnTo>
                      <a:pt x="14" y="26"/>
                    </a:lnTo>
                    <a:lnTo>
                      <a:pt x="6" y="18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17" y="8"/>
                    </a:lnTo>
                    <a:lnTo>
                      <a:pt x="26" y="18"/>
                    </a:lnTo>
                    <a:lnTo>
                      <a:pt x="36" y="37"/>
                    </a:lnTo>
                    <a:lnTo>
                      <a:pt x="41" y="59"/>
                    </a:lnTo>
                    <a:lnTo>
                      <a:pt x="43" y="81"/>
                    </a:lnTo>
                    <a:lnTo>
                      <a:pt x="39" y="127"/>
                    </a:lnTo>
                    <a:lnTo>
                      <a:pt x="31" y="171"/>
                    </a:lnTo>
                    <a:lnTo>
                      <a:pt x="21" y="216"/>
                    </a:lnTo>
                    <a:lnTo>
                      <a:pt x="17" y="256"/>
                    </a:lnTo>
                    <a:lnTo>
                      <a:pt x="20" y="276"/>
                    </a:lnTo>
                    <a:lnTo>
                      <a:pt x="25" y="294"/>
                    </a:lnTo>
                    <a:lnTo>
                      <a:pt x="34" y="311"/>
                    </a:lnTo>
                    <a:lnTo>
                      <a:pt x="48" y="328"/>
                    </a:lnTo>
                    <a:lnTo>
                      <a:pt x="37" y="3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019400" y="409212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11"/>
                    </a:moveTo>
                    <a:lnTo>
                      <a:pt x="0" y="10"/>
                    </a:lnTo>
                    <a:lnTo>
                      <a:pt x="11" y="0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670200" y="3800160"/>
                <a:ext cx="328680" cy="131400"/>
              </a:xfrm>
              <a:custGeom>
                <a:avLst/>
                <a:gdLst/>
                <a:ahLst/>
                <a:rect l="l" t="t" r="r" b="b"/>
                <a:pathLst>
                  <a:path w="413" h="167">
                    <a:moveTo>
                      <a:pt x="403" y="51"/>
                    </a:moveTo>
                    <a:lnTo>
                      <a:pt x="390" y="38"/>
                    </a:lnTo>
                    <a:lnTo>
                      <a:pt x="376" y="30"/>
                    </a:lnTo>
                    <a:lnTo>
                      <a:pt x="359" y="24"/>
                    </a:lnTo>
                    <a:lnTo>
                      <a:pt x="340" y="18"/>
                    </a:lnTo>
                    <a:lnTo>
                      <a:pt x="319" y="15"/>
                    </a:lnTo>
                    <a:lnTo>
                      <a:pt x="297" y="14"/>
                    </a:lnTo>
                    <a:lnTo>
                      <a:pt x="274" y="15"/>
                    </a:lnTo>
                    <a:lnTo>
                      <a:pt x="247" y="20"/>
                    </a:lnTo>
                    <a:lnTo>
                      <a:pt x="221" y="27"/>
                    </a:lnTo>
                    <a:lnTo>
                      <a:pt x="192" y="37"/>
                    </a:lnTo>
                    <a:lnTo>
                      <a:pt x="164" y="49"/>
                    </a:lnTo>
                    <a:lnTo>
                      <a:pt x="133" y="65"/>
                    </a:lnTo>
                    <a:lnTo>
                      <a:pt x="104" y="85"/>
                    </a:lnTo>
                    <a:lnTo>
                      <a:pt x="72" y="109"/>
                    </a:lnTo>
                    <a:lnTo>
                      <a:pt x="41" y="136"/>
                    </a:lnTo>
                    <a:lnTo>
                      <a:pt x="10" y="167"/>
                    </a:lnTo>
                    <a:lnTo>
                      <a:pt x="0" y="156"/>
                    </a:lnTo>
                    <a:lnTo>
                      <a:pt x="32" y="125"/>
                    </a:lnTo>
                    <a:lnTo>
                      <a:pt x="62" y="98"/>
                    </a:lnTo>
                    <a:lnTo>
                      <a:pt x="94" y="74"/>
                    </a:lnTo>
                    <a:lnTo>
                      <a:pt x="125" y="53"/>
                    </a:lnTo>
                    <a:lnTo>
                      <a:pt x="156" y="37"/>
                    </a:lnTo>
                    <a:lnTo>
                      <a:pt x="186" y="24"/>
                    </a:lnTo>
                    <a:lnTo>
                      <a:pt x="215" y="14"/>
                    </a:lnTo>
                    <a:lnTo>
                      <a:pt x="243" y="7"/>
                    </a:lnTo>
                    <a:lnTo>
                      <a:pt x="271" y="2"/>
                    </a:lnTo>
                    <a:lnTo>
                      <a:pt x="297" y="0"/>
                    </a:lnTo>
                    <a:lnTo>
                      <a:pt x="321" y="2"/>
                    </a:lnTo>
                    <a:lnTo>
                      <a:pt x="343" y="4"/>
                    </a:lnTo>
                    <a:lnTo>
                      <a:pt x="364" y="10"/>
                    </a:lnTo>
                    <a:lnTo>
                      <a:pt x="384" y="18"/>
                    </a:lnTo>
                    <a:lnTo>
                      <a:pt x="398" y="27"/>
                    </a:lnTo>
                    <a:lnTo>
                      <a:pt x="413" y="40"/>
                    </a:lnTo>
                    <a:lnTo>
                      <a:pt x="403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990960" y="38300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0"/>
                    </a:moveTo>
                    <a:lnTo>
                      <a:pt x="0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513240" y="3922200"/>
                <a:ext cx="164880" cy="334800"/>
              </a:xfrm>
              <a:custGeom>
                <a:avLst/>
                <a:gdLst/>
                <a:ahLst/>
                <a:rect l="l" t="t" r="r" b="b"/>
                <a:pathLst>
                  <a:path w="209" h="420">
                    <a:moveTo>
                      <a:pt x="209" y="11"/>
                    </a:moveTo>
                    <a:lnTo>
                      <a:pt x="152" y="63"/>
                    </a:lnTo>
                    <a:lnTo>
                      <a:pt x="110" y="111"/>
                    </a:lnTo>
                    <a:lnTo>
                      <a:pt x="69" y="168"/>
                    </a:lnTo>
                    <a:lnTo>
                      <a:pt x="51" y="198"/>
                    </a:lnTo>
                    <a:lnTo>
                      <a:pt x="35" y="230"/>
                    </a:lnTo>
                    <a:lnTo>
                      <a:pt x="24" y="259"/>
                    </a:lnTo>
                    <a:lnTo>
                      <a:pt x="17" y="292"/>
                    </a:lnTo>
                    <a:lnTo>
                      <a:pt x="14" y="307"/>
                    </a:lnTo>
                    <a:lnTo>
                      <a:pt x="14" y="324"/>
                    </a:lnTo>
                    <a:lnTo>
                      <a:pt x="17" y="338"/>
                    </a:lnTo>
                    <a:lnTo>
                      <a:pt x="19" y="354"/>
                    </a:lnTo>
                    <a:lnTo>
                      <a:pt x="24" y="368"/>
                    </a:lnTo>
                    <a:lnTo>
                      <a:pt x="31" y="382"/>
                    </a:lnTo>
                    <a:lnTo>
                      <a:pt x="52" y="412"/>
                    </a:lnTo>
                    <a:lnTo>
                      <a:pt x="40" y="420"/>
                    </a:lnTo>
                    <a:lnTo>
                      <a:pt x="19" y="391"/>
                    </a:lnTo>
                    <a:lnTo>
                      <a:pt x="11" y="374"/>
                    </a:lnTo>
                    <a:lnTo>
                      <a:pt x="5" y="357"/>
                    </a:lnTo>
                    <a:lnTo>
                      <a:pt x="2" y="341"/>
                    </a:lnTo>
                    <a:lnTo>
                      <a:pt x="0" y="325"/>
                    </a:lnTo>
                    <a:lnTo>
                      <a:pt x="0" y="307"/>
                    </a:lnTo>
                    <a:lnTo>
                      <a:pt x="2" y="289"/>
                    </a:lnTo>
                    <a:lnTo>
                      <a:pt x="9" y="256"/>
                    </a:lnTo>
                    <a:lnTo>
                      <a:pt x="22" y="223"/>
                    </a:lnTo>
                    <a:lnTo>
                      <a:pt x="38" y="192"/>
                    </a:lnTo>
                    <a:lnTo>
                      <a:pt x="57" y="160"/>
                    </a:lnTo>
                    <a:lnTo>
                      <a:pt x="99" y="101"/>
                    </a:lnTo>
                    <a:lnTo>
                      <a:pt x="141" y="53"/>
                    </a:lnTo>
                    <a:lnTo>
                      <a:pt x="199" y="0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670200" y="39222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1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544920" y="4249080"/>
                <a:ext cx="272880" cy="52200"/>
              </a:xfrm>
              <a:custGeom>
                <a:avLst/>
                <a:gdLst/>
                <a:ahLst/>
                <a:rect l="l" t="t" r="r" b="b"/>
                <a:pathLst>
                  <a:path w="345" h="66">
                    <a:moveTo>
                      <a:pt x="11" y="0"/>
                    </a:moveTo>
                    <a:lnTo>
                      <a:pt x="21" y="9"/>
                    </a:lnTo>
                    <a:lnTo>
                      <a:pt x="29" y="17"/>
                    </a:lnTo>
                    <a:lnTo>
                      <a:pt x="49" y="29"/>
                    </a:lnTo>
                    <a:lnTo>
                      <a:pt x="57" y="33"/>
                    </a:lnTo>
                    <a:lnTo>
                      <a:pt x="67" y="35"/>
                    </a:lnTo>
                    <a:lnTo>
                      <a:pt x="86" y="39"/>
                    </a:lnTo>
                    <a:lnTo>
                      <a:pt x="106" y="39"/>
                    </a:lnTo>
                    <a:lnTo>
                      <a:pt x="127" y="36"/>
                    </a:lnTo>
                    <a:lnTo>
                      <a:pt x="170" y="26"/>
                    </a:lnTo>
                    <a:lnTo>
                      <a:pt x="214" y="17"/>
                    </a:lnTo>
                    <a:lnTo>
                      <a:pt x="257" y="14"/>
                    </a:lnTo>
                    <a:lnTo>
                      <a:pt x="279" y="17"/>
                    </a:lnTo>
                    <a:lnTo>
                      <a:pt x="301" y="24"/>
                    </a:lnTo>
                    <a:lnTo>
                      <a:pt x="323" y="36"/>
                    </a:lnTo>
                    <a:lnTo>
                      <a:pt x="345" y="55"/>
                    </a:lnTo>
                    <a:lnTo>
                      <a:pt x="335" y="66"/>
                    </a:lnTo>
                    <a:lnTo>
                      <a:pt x="314" y="48"/>
                    </a:lnTo>
                    <a:lnTo>
                      <a:pt x="295" y="37"/>
                    </a:lnTo>
                    <a:lnTo>
                      <a:pt x="276" y="31"/>
                    </a:lnTo>
                    <a:lnTo>
                      <a:pt x="257" y="29"/>
                    </a:lnTo>
                    <a:lnTo>
                      <a:pt x="215" y="31"/>
                    </a:lnTo>
                    <a:lnTo>
                      <a:pt x="172" y="41"/>
                    </a:lnTo>
                    <a:lnTo>
                      <a:pt x="130" y="51"/>
                    </a:lnTo>
                    <a:lnTo>
                      <a:pt x="106" y="53"/>
                    </a:lnTo>
                    <a:lnTo>
                      <a:pt x="84" y="53"/>
                    </a:lnTo>
                    <a:lnTo>
                      <a:pt x="65" y="50"/>
                    </a:lnTo>
                    <a:lnTo>
                      <a:pt x="51" y="46"/>
                    </a:lnTo>
                    <a:lnTo>
                      <a:pt x="40" y="41"/>
                    </a:lnTo>
                    <a:lnTo>
                      <a:pt x="21" y="29"/>
                    </a:lnTo>
                    <a:lnTo>
                      <a:pt x="11" y="20"/>
                    </a:lnTo>
                    <a:lnTo>
                      <a:pt x="0" y="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544920" y="42490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9"/>
                    </a:moveTo>
                    <a:lnTo>
                      <a:pt x="11" y="0"/>
                    </a:lnTo>
                    <a:lnTo>
                      <a:pt x="12" y="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809880" y="4292280"/>
                <a:ext cx="41400" cy="118440"/>
              </a:xfrm>
              <a:custGeom>
                <a:avLst/>
                <a:gdLst/>
                <a:ahLst/>
                <a:rect l="l" t="t" r="r" b="b"/>
                <a:pathLst>
                  <a:path w="52" h="149">
                    <a:moveTo>
                      <a:pt x="11" y="0"/>
                    </a:moveTo>
                    <a:lnTo>
                      <a:pt x="24" y="15"/>
                    </a:lnTo>
                    <a:lnTo>
                      <a:pt x="35" y="34"/>
                    </a:lnTo>
                    <a:lnTo>
                      <a:pt x="42" y="51"/>
                    </a:lnTo>
                    <a:lnTo>
                      <a:pt x="50" y="70"/>
                    </a:lnTo>
                    <a:lnTo>
                      <a:pt x="52" y="91"/>
                    </a:lnTo>
                    <a:lnTo>
                      <a:pt x="51" y="110"/>
                    </a:lnTo>
                    <a:lnTo>
                      <a:pt x="49" y="129"/>
                    </a:lnTo>
                    <a:lnTo>
                      <a:pt x="42" y="149"/>
                    </a:lnTo>
                    <a:lnTo>
                      <a:pt x="29" y="144"/>
                    </a:lnTo>
                    <a:lnTo>
                      <a:pt x="34" y="127"/>
                    </a:lnTo>
                    <a:lnTo>
                      <a:pt x="36" y="110"/>
                    </a:lnTo>
                    <a:lnTo>
                      <a:pt x="38" y="93"/>
                    </a:lnTo>
                    <a:lnTo>
                      <a:pt x="35" y="73"/>
                    </a:lnTo>
                    <a:lnTo>
                      <a:pt x="29" y="57"/>
                    </a:lnTo>
                    <a:lnTo>
                      <a:pt x="22" y="40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09880" y="42922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0" y="9"/>
                    </a:lnTo>
                    <a:lnTo>
                      <a:pt x="1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478320" y="4404960"/>
                <a:ext cx="365040" cy="414000"/>
              </a:xfrm>
              <a:custGeom>
                <a:avLst/>
                <a:gdLst/>
                <a:ahLst/>
                <a:rect l="l" t="t" r="r" b="b"/>
                <a:pathLst>
                  <a:path w="458" h="521">
                    <a:moveTo>
                      <a:pt x="458" y="10"/>
                    </a:moveTo>
                    <a:lnTo>
                      <a:pt x="332" y="141"/>
                    </a:lnTo>
                    <a:lnTo>
                      <a:pt x="271" y="207"/>
                    </a:lnTo>
                    <a:lnTo>
                      <a:pt x="213" y="273"/>
                    </a:lnTo>
                    <a:lnTo>
                      <a:pt x="156" y="338"/>
                    </a:lnTo>
                    <a:lnTo>
                      <a:pt x="104" y="401"/>
                    </a:lnTo>
                    <a:lnTo>
                      <a:pt x="56" y="463"/>
                    </a:lnTo>
                    <a:lnTo>
                      <a:pt x="12" y="521"/>
                    </a:lnTo>
                    <a:lnTo>
                      <a:pt x="0" y="513"/>
                    </a:lnTo>
                    <a:lnTo>
                      <a:pt x="44" y="454"/>
                    </a:lnTo>
                    <a:lnTo>
                      <a:pt x="93" y="392"/>
                    </a:lnTo>
                    <a:lnTo>
                      <a:pt x="145" y="328"/>
                    </a:lnTo>
                    <a:lnTo>
                      <a:pt x="202" y="263"/>
                    </a:lnTo>
                    <a:lnTo>
                      <a:pt x="260" y="197"/>
                    </a:lnTo>
                    <a:lnTo>
                      <a:pt x="321" y="131"/>
                    </a:lnTo>
                    <a:lnTo>
                      <a:pt x="447" y="0"/>
                    </a:lnTo>
                    <a:lnTo>
                      <a:pt x="458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833640" y="440496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3" y="8"/>
                    </a:moveTo>
                    <a:lnTo>
                      <a:pt x="13" y="9"/>
                    </a:lnTo>
                    <a:lnTo>
                      <a:pt x="12" y="10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338640" y="4811400"/>
                <a:ext cx="150840" cy="217080"/>
              </a:xfrm>
              <a:custGeom>
                <a:avLst/>
                <a:gdLst/>
                <a:ahLst/>
                <a:rect l="l" t="t" r="r" b="b"/>
                <a:pathLst>
                  <a:path w="188" h="274">
                    <a:moveTo>
                      <a:pt x="188" y="8"/>
                    </a:moveTo>
                    <a:lnTo>
                      <a:pt x="176" y="0"/>
                    </a:lnTo>
                    <a:lnTo>
                      <a:pt x="0" y="265"/>
                    </a:lnTo>
                    <a:lnTo>
                      <a:pt x="12" y="274"/>
                    </a:lnTo>
                    <a:lnTo>
                      <a:pt x="18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478320" y="481140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0"/>
                    </a:moveTo>
                    <a:lnTo>
                      <a:pt x="1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8640" y="502092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1"/>
                    </a:moveTo>
                    <a:lnTo>
                      <a:pt x="11" y="10"/>
                    </a:lnTo>
                    <a:lnTo>
                      <a:pt x="0" y="0"/>
                    </a:lnTo>
                    <a:lnTo>
                      <a:pt x="12" y="1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86160" y="3804840"/>
                <a:ext cx="1892160" cy="1615680"/>
              </a:xfrm>
              <a:custGeom>
                <a:avLst/>
                <a:gdLst/>
                <a:ahLst/>
                <a:rect l="l" t="t" r="r" b="b"/>
                <a:pathLst>
                  <a:path w="2385" h="2035">
                    <a:moveTo>
                      <a:pt x="1536" y="453"/>
                    </a:moveTo>
                    <a:lnTo>
                      <a:pt x="1546" y="443"/>
                    </a:lnTo>
                    <a:lnTo>
                      <a:pt x="1553" y="434"/>
                    </a:lnTo>
                    <a:lnTo>
                      <a:pt x="1557" y="427"/>
                    </a:lnTo>
                    <a:lnTo>
                      <a:pt x="1560" y="423"/>
                    </a:lnTo>
                    <a:lnTo>
                      <a:pt x="1565" y="413"/>
                    </a:lnTo>
                    <a:lnTo>
                      <a:pt x="1569" y="402"/>
                    </a:lnTo>
                    <a:lnTo>
                      <a:pt x="1571" y="392"/>
                    </a:lnTo>
                    <a:lnTo>
                      <a:pt x="1573" y="386"/>
                    </a:lnTo>
                    <a:lnTo>
                      <a:pt x="1574" y="381"/>
                    </a:lnTo>
                    <a:lnTo>
                      <a:pt x="1575" y="370"/>
                    </a:lnTo>
                    <a:lnTo>
                      <a:pt x="1575" y="360"/>
                    </a:lnTo>
                    <a:lnTo>
                      <a:pt x="1574" y="349"/>
                    </a:lnTo>
                    <a:lnTo>
                      <a:pt x="1571" y="327"/>
                    </a:lnTo>
                    <a:lnTo>
                      <a:pt x="1566" y="306"/>
                    </a:lnTo>
                    <a:lnTo>
                      <a:pt x="1561" y="284"/>
                    </a:lnTo>
                    <a:lnTo>
                      <a:pt x="1557" y="264"/>
                    </a:lnTo>
                    <a:lnTo>
                      <a:pt x="1553" y="242"/>
                    </a:lnTo>
                    <a:lnTo>
                      <a:pt x="1550" y="232"/>
                    </a:lnTo>
                    <a:lnTo>
                      <a:pt x="1550" y="221"/>
                    </a:lnTo>
                    <a:lnTo>
                      <a:pt x="1549" y="211"/>
                    </a:lnTo>
                    <a:lnTo>
                      <a:pt x="1550" y="200"/>
                    </a:lnTo>
                    <a:lnTo>
                      <a:pt x="1552" y="190"/>
                    </a:lnTo>
                    <a:lnTo>
                      <a:pt x="1553" y="179"/>
                    </a:lnTo>
                    <a:lnTo>
                      <a:pt x="1557" y="169"/>
                    </a:lnTo>
                    <a:lnTo>
                      <a:pt x="1560" y="160"/>
                    </a:lnTo>
                    <a:lnTo>
                      <a:pt x="1566" y="150"/>
                    </a:lnTo>
                    <a:lnTo>
                      <a:pt x="1574" y="140"/>
                    </a:lnTo>
                    <a:lnTo>
                      <a:pt x="1581" y="130"/>
                    </a:lnTo>
                    <a:lnTo>
                      <a:pt x="1591" y="121"/>
                    </a:lnTo>
                    <a:lnTo>
                      <a:pt x="1598" y="114"/>
                    </a:lnTo>
                    <a:lnTo>
                      <a:pt x="1606" y="108"/>
                    </a:lnTo>
                    <a:lnTo>
                      <a:pt x="1613" y="103"/>
                    </a:lnTo>
                    <a:lnTo>
                      <a:pt x="1620" y="100"/>
                    </a:lnTo>
                    <a:lnTo>
                      <a:pt x="1629" y="95"/>
                    </a:lnTo>
                    <a:lnTo>
                      <a:pt x="1636" y="92"/>
                    </a:lnTo>
                    <a:lnTo>
                      <a:pt x="1643" y="89"/>
                    </a:lnTo>
                    <a:lnTo>
                      <a:pt x="1652" y="86"/>
                    </a:lnTo>
                    <a:lnTo>
                      <a:pt x="1659" y="85"/>
                    </a:lnTo>
                    <a:lnTo>
                      <a:pt x="1668" y="83"/>
                    </a:lnTo>
                    <a:lnTo>
                      <a:pt x="1675" y="83"/>
                    </a:lnTo>
                    <a:lnTo>
                      <a:pt x="1684" y="81"/>
                    </a:lnTo>
                    <a:lnTo>
                      <a:pt x="1700" y="81"/>
                    </a:lnTo>
                    <a:lnTo>
                      <a:pt x="1716" y="83"/>
                    </a:lnTo>
                    <a:lnTo>
                      <a:pt x="1733" y="86"/>
                    </a:lnTo>
                    <a:lnTo>
                      <a:pt x="1749" y="90"/>
                    </a:lnTo>
                    <a:lnTo>
                      <a:pt x="1757" y="94"/>
                    </a:lnTo>
                    <a:lnTo>
                      <a:pt x="1764" y="96"/>
                    </a:lnTo>
                    <a:lnTo>
                      <a:pt x="1782" y="102"/>
                    </a:lnTo>
                    <a:lnTo>
                      <a:pt x="1797" y="110"/>
                    </a:lnTo>
                    <a:lnTo>
                      <a:pt x="1812" y="118"/>
                    </a:lnTo>
                    <a:lnTo>
                      <a:pt x="1828" y="128"/>
                    </a:lnTo>
                    <a:lnTo>
                      <a:pt x="1844" y="138"/>
                    </a:lnTo>
                    <a:lnTo>
                      <a:pt x="1859" y="147"/>
                    </a:lnTo>
                    <a:lnTo>
                      <a:pt x="1873" y="157"/>
                    </a:lnTo>
                    <a:lnTo>
                      <a:pt x="1887" y="168"/>
                    </a:lnTo>
                    <a:lnTo>
                      <a:pt x="1900" y="179"/>
                    </a:lnTo>
                    <a:lnTo>
                      <a:pt x="1925" y="201"/>
                    </a:lnTo>
                    <a:lnTo>
                      <a:pt x="1937" y="212"/>
                    </a:lnTo>
                    <a:lnTo>
                      <a:pt x="1948" y="222"/>
                    </a:lnTo>
                    <a:lnTo>
                      <a:pt x="1967" y="240"/>
                    </a:lnTo>
                    <a:lnTo>
                      <a:pt x="1983" y="258"/>
                    </a:lnTo>
                    <a:lnTo>
                      <a:pt x="2002" y="277"/>
                    </a:lnTo>
                    <a:lnTo>
                      <a:pt x="2017" y="293"/>
                    </a:lnTo>
                    <a:lnTo>
                      <a:pt x="2033" y="309"/>
                    </a:lnTo>
                    <a:lnTo>
                      <a:pt x="2047" y="325"/>
                    </a:lnTo>
                    <a:lnTo>
                      <a:pt x="2060" y="341"/>
                    </a:lnTo>
                    <a:lnTo>
                      <a:pt x="2072" y="357"/>
                    </a:lnTo>
                    <a:lnTo>
                      <a:pt x="2083" y="372"/>
                    </a:lnTo>
                    <a:lnTo>
                      <a:pt x="2103" y="403"/>
                    </a:lnTo>
                    <a:lnTo>
                      <a:pt x="2112" y="419"/>
                    </a:lnTo>
                    <a:lnTo>
                      <a:pt x="2119" y="434"/>
                    </a:lnTo>
                    <a:lnTo>
                      <a:pt x="2126" y="448"/>
                    </a:lnTo>
                    <a:lnTo>
                      <a:pt x="2132" y="463"/>
                    </a:lnTo>
                    <a:lnTo>
                      <a:pt x="2138" y="478"/>
                    </a:lnTo>
                    <a:lnTo>
                      <a:pt x="2142" y="492"/>
                    </a:lnTo>
                    <a:lnTo>
                      <a:pt x="2147" y="506"/>
                    </a:lnTo>
                    <a:lnTo>
                      <a:pt x="2149" y="519"/>
                    </a:lnTo>
                    <a:lnTo>
                      <a:pt x="2152" y="533"/>
                    </a:lnTo>
                    <a:lnTo>
                      <a:pt x="2154" y="546"/>
                    </a:lnTo>
                    <a:lnTo>
                      <a:pt x="2156" y="558"/>
                    </a:lnTo>
                    <a:lnTo>
                      <a:pt x="2156" y="571"/>
                    </a:lnTo>
                    <a:lnTo>
                      <a:pt x="2156" y="583"/>
                    </a:lnTo>
                    <a:lnTo>
                      <a:pt x="2156" y="594"/>
                    </a:lnTo>
                    <a:lnTo>
                      <a:pt x="2153" y="605"/>
                    </a:lnTo>
                    <a:lnTo>
                      <a:pt x="2152" y="616"/>
                    </a:lnTo>
                    <a:lnTo>
                      <a:pt x="2149" y="626"/>
                    </a:lnTo>
                    <a:lnTo>
                      <a:pt x="2147" y="635"/>
                    </a:lnTo>
                    <a:lnTo>
                      <a:pt x="2143" y="644"/>
                    </a:lnTo>
                    <a:lnTo>
                      <a:pt x="2138" y="652"/>
                    </a:lnTo>
                    <a:lnTo>
                      <a:pt x="2137" y="657"/>
                    </a:lnTo>
                    <a:lnTo>
                      <a:pt x="2135" y="661"/>
                    </a:lnTo>
                    <a:lnTo>
                      <a:pt x="2130" y="668"/>
                    </a:lnTo>
                    <a:lnTo>
                      <a:pt x="2124" y="676"/>
                    </a:lnTo>
                    <a:lnTo>
                      <a:pt x="2119" y="682"/>
                    </a:lnTo>
                    <a:lnTo>
                      <a:pt x="2110" y="689"/>
                    </a:lnTo>
                    <a:lnTo>
                      <a:pt x="2101" y="697"/>
                    </a:lnTo>
                    <a:lnTo>
                      <a:pt x="2092" y="701"/>
                    </a:lnTo>
                    <a:lnTo>
                      <a:pt x="2082" y="705"/>
                    </a:lnTo>
                    <a:lnTo>
                      <a:pt x="2072" y="709"/>
                    </a:lnTo>
                    <a:lnTo>
                      <a:pt x="2063" y="711"/>
                    </a:lnTo>
                    <a:lnTo>
                      <a:pt x="2052" y="712"/>
                    </a:lnTo>
                    <a:lnTo>
                      <a:pt x="2042" y="714"/>
                    </a:lnTo>
                    <a:lnTo>
                      <a:pt x="2031" y="714"/>
                    </a:lnTo>
                    <a:lnTo>
                      <a:pt x="2020" y="712"/>
                    </a:lnTo>
                    <a:lnTo>
                      <a:pt x="1998" y="710"/>
                    </a:lnTo>
                    <a:lnTo>
                      <a:pt x="1976" y="705"/>
                    </a:lnTo>
                    <a:lnTo>
                      <a:pt x="1954" y="700"/>
                    </a:lnTo>
                    <a:lnTo>
                      <a:pt x="1932" y="695"/>
                    </a:lnTo>
                    <a:lnTo>
                      <a:pt x="1910" y="692"/>
                    </a:lnTo>
                    <a:lnTo>
                      <a:pt x="1888" y="689"/>
                    </a:lnTo>
                    <a:lnTo>
                      <a:pt x="1877" y="688"/>
                    </a:lnTo>
                    <a:lnTo>
                      <a:pt x="1866" y="688"/>
                    </a:lnTo>
                    <a:lnTo>
                      <a:pt x="1856" y="688"/>
                    </a:lnTo>
                    <a:lnTo>
                      <a:pt x="1845" y="690"/>
                    </a:lnTo>
                    <a:lnTo>
                      <a:pt x="1835" y="692"/>
                    </a:lnTo>
                    <a:lnTo>
                      <a:pt x="1830" y="694"/>
                    </a:lnTo>
                    <a:lnTo>
                      <a:pt x="1826" y="695"/>
                    </a:lnTo>
                    <a:lnTo>
                      <a:pt x="1816" y="700"/>
                    </a:lnTo>
                    <a:lnTo>
                      <a:pt x="1807" y="705"/>
                    </a:lnTo>
                    <a:lnTo>
                      <a:pt x="1802" y="708"/>
                    </a:lnTo>
                    <a:lnTo>
                      <a:pt x="1797" y="711"/>
                    </a:lnTo>
                    <a:lnTo>
                      <a:pt x="1794" y="715"/>
                    </a:lnTo>
                    <a:lnTo>
                      <a:pt x="1789" y="720"/>
                    </a:lnTo>
                    <a:lnTo>
                      <a:pt x="1783" y="727"/>
                    </a:lnTo>
                    <a:lnTo>
                      <a:pt x="1778" y="734"/>
                    </a:lnTo>
                    <a:lnTo>
                      <a:pt x="1773" y="743"/>
                    </a:lnTo>
                    <a:lnTo>
                      <a:pt x="1769" y="752"/>
                    </a:lnTo>
                    <a:lnTo>
                      <a:pt x="1766" y="760"/>
                    </a:lnTo>
                    <a:lnTo>
                      <a:pt x="1763" y="770"/>
                    </a:lnTo>
                    <a:lnTo>
                      <a:pt x="1762" y="780"/>
                    </a:lnTo>
                    <a:lnTo>
                      <a:pt x="1761" y="789"/>
                    </a:lnTo>
                    <a:lnTo>
                      <a:pt x="1761" y="810"/>
                    </a:lnTo>
                    <a:lnTo>
                      <a:pt x="1763" y="831"/>
                    </a:lnTo>
                    <a:lnTo>
                      <a:pt x="1766" y="842"/>
                    </a:lnTo>
                    <a:lnTo>
                      <a:pt x="1768" y="852"/>
                    </a:lnTo>
                    <a:lnTo>
                      <a:pt x="1772" y="862"/>
                    </a:lnTo>
                    <a:lnTo>
                      <a:pt x="1775" y="871"/>
                    </a:lnTo>
                    <a:lnTo>
                      <a:pt x="1840" y="937"/>
                    </a:lnTo>
                    <a:lnTo>
                      <a:pt x="1904" y="1003"/>
                    </a:lnTo>
                    <a:lnTo>
                      <a:pt x="1965" y="1069"/>
                    </a:lnTo>
                    <a:lnTo>
                      <a:pt x="2025" y="1133"/>
                    </a:lnTo>
                    <a:lnTo>
                      <a:pt x="2082" y="1197"/>
                    </a:lnTo>
                    <a:lnTo>
                      <a:pt x="2137" y="1258"/>
                    </a:lnTo>
                    <a:lnTo>
                      <a:pt x="2187" y="1318"/>
                    </a:lnTo>
                    <a:lnTo>
                      <a:pt x="2234" y="1375"/>
                    </a:lnTo>
                    <a:lnTo>
                      <a:pt x="2255" y="1402"/>
                    </a:lnTo>
                    <a:lnTo>
                      <a:pt x="2274" y="1429"/>
                    </a:lnTo>
                    <a:lnTo>
                      <a:pt x="2293" y="1455"/>
                    </a:lnTo>
                    <a:lnTo>
                      <a:pt x="2310" y="1480"/>
                    </a:lnTo>
                    <a:lnTo>
                      <a:pt x="2326" y="1504"/>
                    </a:lnTo>
                    <a:lnTo>
                      <a:pt x="2339" y="1527"/>
                    </a:lnTo>
                    <a:lnTo>
                      <a:pt x="2351" y="1549"/>
                    </a:lnTo>
                    <a:lnTo>
                      <a:pt x="2357" y="1560"/>
                    </a:lnTo>
                    <a:lnTo>
                      <a:pt x="2362" y="1570"/>
                    </a:lnTo>
                    <a:lnTo>
                      <a:pt x="2371" y="1590"/>
                    </a:lnTo>
                    <a:lnTo>
                      <a:pt x="2377" y="1609"/>
                    </a:lnTo>
                    <a:lnTo>
                      <a:pt x="2382" y="1626"/>
                    </a:lnTo>
                    <a:lnTo>
                      <a:pt x="2384" y="1643"/>
                    </a:lnTo>
                    <a:lnTo>
                      <a:pt x="2385" y="1650"/>
                    </a:lnTo>
                    <a:lnTo>
                      <a:pt x="2385" y="1658"/>
                    </a:lnTo>
                    <a:lnTo>
                      <a:pt x="2384" y="1665"/>
                    </a:lnTo>
                    <a:lnTo>
                      <a:pt x="2383" y="1671"/>
                    </a:lnTo>
                    <a:lnTo>
                      <a:pt x="2382" y="1677"/>
                    </a:lnTo>
                    <a:lnTo>
                      <a:pt x="2379" y="1683"/>
                    </a:lnTo>
                    <a:lnTo>
                      <a:pt x="2377" y="1689"/>
                    </a:lnTo>
                    <a:lnTo>
                      <a:pt x="2373" y="1694"/>
                    </a:lnTo>
                    <a:lnTo>
                      <a:pt x="2348" y="1719"/>
                    </a:lnTo>
                    <a:lnTo>
                      <a:pt x="2321" y="1742"/>
                    </a:lnTo>
                    <a:lnTo>
                      <a:pt x="2293" y="1765"/>
                    </a:lnTo>
                    <a:lnTo>
                      <a:pt x="2264" y="1787"/>
                    </a:lnTo>
                    <a:lnTo>
                      <a:pt x="2234" y="1807"/>
                    </a:lnTo>
                    <a:lnTo>
                      <a:pt x="2203" y="1828"/>
                    </a:lnTo>
                    <a:lnTo>
                      <a:pt x="2171" y="1846"/>
                    </a:lnTo>
                    <a:lnTo>
                      <a:pt x="2140" y="1864"/>
                    </a:lnTo>
                    <a:lnTo>
                      <a:pt x="2107" y="1881"/>
                    </a:lnTo>
                    <a:lnTo>
                      <a:pt x="2072" y="1897"/>
                    </a:lnTo>
                    <a:lnTo>
                      <a:pt x="2037" y="1912"/>
                    </a:lnTo>
                    <a:lnTo>
                      <a:pt x="2002" y="1927"/>
                    </a:lnTo>
                    <a:lnTo>
                      <a:pt x="1966" y="1940"/>
                    </a:lnTo>
                    <a:lnTo>
                      <a:pt x="1928" y="1952"/>
                    </a:lnTo>
                    <a:lnTo>
                      <a:pt x="1892" y="1963"/>
                    </a:lnTo>
                    <a:lnTo>
                      <a:pt x="1854" y="1974"/>
                    </a:lnTo>
                    <a:lnTo>
                      <a:pt x="1815" y="1984"/>
                    </a:lnTo>
                    <a:lnTo>
                      <a:pt x="1775" y="1993"/>
                    </a:lnTo>
                    <a:lnTo>
                      <a:pt x="1735" y="2001"/>
                    </a:lnTo>
                    <a:lnTo>
                      <a:pt x="1696" y="2009"/>
                    </a:lnTo>
                    <a:lnTo>
                      <a:pt x="1656" y="2015"/>
                    </a:lnTo>
                    <a:lnTo>
                      <a:pt x="1614" y="2021"/>
                    </a:lnTo>
                    <a:lnTo>
                      <a:pt x="1573" y="2024"/>
                    </a:lnTo>
                    <a:lnTo>
                      <a:pt x="1531" y="2029"/>
                    </a:lnTo>
                    <a:lnTo>
                      <a:pt x="1489" y="2032"/>
                    </a:lnTo>
                    <a:lnTo>
                      <a:pt x="1448" y="2034"/>
                    </a:lnTo>
                    <a:lnTo>
                      <a:pt x="1405" y="2035"/>
                    </a:lnTo>
                    <a:lnTo>
                      <a:pt x="1362" y="2035"/>
                    </a:lnTo>
                    <a:lnTo>
                      <a:pt x="1319" y="2035"/>
                    </a:lnTo>
                    <a:lnTo>
                      <a:pt x="1278" y="2034"/>
                    </a:lnTo>
                    <a:lnTo>
                      <a:pt x="1235" y="2033"/>
                    </a:lnTo>
                    <a:lnTo>
                      <a:pt x="1192" y="2031"/>
                    </a:lnTo>
                    <a:lnTo>
                      <a:pt x="1150" y="2027"/>
                    </a:lnTo>
                    <a:lnTo>
                      <a:pt x="1107" y="2023"/>
                    </a:lnTo>
                    <a:lnTo>
                      <a:pt x="1064" y="2018"/>
                    </a:lnTo>
                    <a:lnTo>
                      <a:pt x="1021" y="2012"/>
                    </a:lnTo>
                    <a:lnTo>
                      <a:pt x="978" y="2006"/>
                    </a:lnTo>
                    <a:lnTo>
                      <a:pt x="937" y="1999"/>
                    </a:lnTo>
                    <a:lnTo>
                      <a:pt x="894" y="1991"/>
                    </a:lnTo>
                    <a:lnTo>
                      <a:pt x="853" y="1983"/>
                    </a:lnTo>
                    <a:lnTo>
                      <a:pt x="811" y="1973"/>
                    </a:lnTo>
                    <a:lnTo>
                      <a:pt x="769" y="1963"/>
                    </a:lnTo>
                    <a:lnTo>
                      <a:pt x="729" y="1952"/>
                    </a:lnTo>
                    <a:lnTo>
                      <a:pt x="689" y="1941"/>
                    </a:lnTo>
                    <a:lnTo>
                      <a:pt x="648" y="1929"/>
                    </a:lnTo>
                    <a:lnTo>
                      <a:pt x="609" y="1916"/>
                    </a:lnTo>
                    <a:lnTo>
                      <a:pt x="570" y="1902"/>
                    </a:lnTo>
                    <a:lnTo>
                      <a:pt x="531" y="1887"/>
                    </a:lnTo>
                    <a:lnTo>
                      <a:pt x="493" y="1873"/>
                    </a:lnTo>
                    <a:lnTo>
                      <a:pt x="455" y="1858"/>
                    </a:lnTo>
                    <a:lnTo>
                      <a:pt x="419" y="1841"/>
                    </a:lnTo>
                    <a:lnTo>
                      <a:pt x="383" y="1825"/>
                    </a:lnTo>
                    <a:lnTo>
                      <a:pt x="348" y="1807"/>
                    </a:lnTo>
                    <a:lnTo>
                      <a:pt x="312" y="1790"/>
                    </a:lnTo>
                    <a:lnTo>
                      <a:pt x="279" y="1770"/>
                    </a:lnTo>
                    <a:lnTo>
                      <a:pt x="246" y="1751"/>
                    </a:lnTo>
                    <a:lnTo>
                      <a:pt x="213" y="1731"/>
                    </a:lnTo>
                    <a:lnTo>
                      <a:pt x="181" y="1710"/>
                    </a:lnTo>
                    <a:lnTo>
                      <a:pt x="151" y="1689"/>
                    </a:lnTo>
                    <a:lnTo>
                      <a:pt x="121" y="1667"/>
                    </a:lnTo>
                    <a:lnTo>
                      <a:pt x="93" y="1645"/>
                    </a:lnTo>
                    <a:lnTo>
                      <a:pt x="65" y="1622"/>
                    </a:lnTo>
                    <a:lnTo>
                      <a:pt x="40" y="1599"/>
                    </a:lnTo>
                    <a:lnTo>
                      <a:pt x="14" y="1574"/>
                    </a:lnTo>
                    <a:lnTo>
                      <a:pt x="10" y="1568"/>
                    </a:lnTo>
                    <a:lnTo>
                      <a:pt x="7" y="1563"/>
                    </a:lnTo>
                    <a:lnTo>
                      <a:pt x="4" y="1557"/>
                    </a:lnTo>
                    <a:lnTo>
                      <a:pt x="3" y="1550"/>
                    </a:lnTo>
                    <a:lnTo>
                      <a:pt x="2" y="1544"/>
                    </a:lnTo>
                    <a:lnTo>
                      <a:pt x="0" y="1537"/>
                    </a:lnTo>
                    <a:lnTo>
                      <a:pt x="0" y="1521"/>
                    </a:lnTo>
                    <a:lnTo>
                      <a:pt x="2" y="1512"/>
                    </a:lnTo>
                    <a:lnTo>
                      <a:pt x="3" y="1504"/>
                    </a:lnTo>
                    <a:lnTo>
                      <a:pt x="4" y="1495"/>
                    </a:lnTo>
                    <a:lnTo>
                      <a:pt x="7" y="1486"/>
                    </a:lnTo>
                    <a:lnTo>
                      <a:pt x="13" y="1467"/>
                    </a:lnTo>
                    <a:lnTo>
                      <a:pt x="20" y="1446"/>
                    </a:lnTo>
                    <a:lnTo>
                      <a:pt x="30" y="1425"/>
                    </a:lnTo>
                    <a:lnTo>
                      <a:pt x="42" y="1402"/>
                    </a:lnTo>
                    <a:lnTo>
                      <a:pt x="54" y="1379"/>
                    </a:lnTo>
                    <a:lnTo>
                      <a:pt x="69" y="1354"/>
                    </a:lnTo>
                    <a:lnTo>
                      <a:pt x="85" y="1329"/>
                    </a:lnTo>
                    <a:lnTo>
                      <a:pt x="103" y="1303"/>
                    </a:lnTo>
                    <a:lnTo>
                      <a:pt x="121" y="1276"/>
                    </a:lnTo>
                    <a:lnTo>
                      <a:pt x="141" y="1249"/>
                    </a:lnTo>
                    <a:lnTo>
                      <a:pt x="163" y="1221"/>
                    </a:lnTo>
                    <a:lnTo>
                      <a:pt x="185" y="1192"/>
                    </a:lnTo>
                    <a:lnTo>
                      <a:pt x="208" y="1162"/>
                    </a:lnTo>
                    <a:lnTo>
                      <a:pt x="233" y="1133"/>
                    </a:lnTo>
                    <a:lnTo>
                      <a:pt x="284" y="1072"/>
                    </a:lnTo>
                    <a:lnTo>
                      <a:pt x="311" y="1041"/>
                    </a:lnTo>
                    <a:lnTo>
                      <a:pt x="338" y="1011"/>
                    </a:lnTo>
                    <a:lnTo>
                      <a:pt x="394" y="948"/>
                    </a:lnTo>
                    <a:lnTo>
                      <a:pt x="453" y="886"/>
                    </a:lnTo>
                    <a:lnTo>
                      <a:pt x="511" y="824"/>
                    </a:lnTo>
                    <a:lnTo>
                      <a:pt x="571" y="761"/>
                    </a:lnTo>
                    <a:lnTo>
                      <a:pt x="576" y="743"/>
                    </a:lnTo>
                    <a:lnTo>
                      <a:pt x="579" y="734"/>
                    </a:lnTo>
                    <a:lnTo>
                      <a:pt x="580" y="725"/>
                    </a:lnTo>
                    <a:lnTo>
                      <a:pt x="580" y="715"/>
                    </a:lnTo>
                    <a:lnTo>
                      <a:pt x="580" y="706"/>
                    </a:lnTo>
                    <a:lnTo>
                      <a:pt x="579" y="697"/>
                    </a:lnTo>
                    <a:lnTo>
                      <a:pt x="577" y="687"/>
                    </a:lnTo>
                    <a:lnTo>
                      <a:pt x="575" y="678"/>
                    </a:lnTo>
                    <a:lnTo>
                      <a:pt x="573" y="668"/>
                    </a:lnTo>
                    <a:lnTo>
                      <a:pt x="570" y="665"/>
                    </a:lnTo>
                    <a:lnTo>
                      <a:pt x="569" y="660"/>
                    </a:lnTo>
                    <a:lnTo>
                      <a:pt x="564" y="651"/>
                    </a:lnTo>
                    <a:lnTo>
                      <a:pt x="559" y="643"/>
                    </a:lnTo>
                    <a:lnTo>
                      <a:pt x="554" y="635"/>
                    </a:lnTo>
                    <a:lnTo>
                      <a:pt x="547" y="627"/>
                    </a:lnTo>
                    <a:lnTo>
                      <a:pt x="541" y="619"/>
                    </a:lnTo>
                    <a:lnTo>
                      <a:pt x="530" y="610"/>
                    </a:lnTo>
                    <a:lnTo>
                      <a:pt x="520" y="602"/>
                    </a:lnTo>
                    <a:lnTo>
                      <a:pt x="515" y="599"/>
                    </a:lnTo>
                    <a:lnTo>
                      <a:pt x="510" y="596"/>
                    </a:lnTo>
                    <a:lnTo>
                      <a:pt x="499" y="591"/>
                    </a:lnTo>
                    <a:lnTo>
                      <a:pt x="489" y="586"/>
                    </a:lnTo>
                    <a:lnTo>
                      <a:pt x="478" y="584"/>
                    </a:lnTo>
                    <a:lnTo>
                      <a:pt x="474" y="583"/>
                    </a:lnTo>
                    <a:lnTo>
                      <a:pt x="467" y="583"/>
                    </a:lnTo>
                    <a:lnTo>
                      <a:pt x="458" y="582"/>
                    </a:lnTo>
                    <a:lnTo>
                      <a:pt x="447" y="582"/>
                    </a:lnTo>
                    <a:lnTo>
                      <a:pt x="436" y="582"/>
                    </a:lnTo>
                    <a:lnTo>
                      <a:pt x="415" y="585"/>
                    </a:lnTo>
                    <a:lnTo>
                      <a:pt x="393" y="589"/>
                    </a:lnTo>
                    <a:lnTo>
                      <a:pt x="372" y="594"/>
                    </a:lnTo>
                    <a:lnTo>
                      <a:pt x="350" y="599"/>
                    </a:lnTo>
                    <a:lnTo>
                      <a:pt x="329" y="604"/>
                    </a:lnTo>
                    <a:lnTo>
                      <a:pt x="318" y="605"/>
                    </a:lnTo>
                    <a:lnTo>
                      <a:pt x="309" y="606"/>
                    </a:lnTo>
                    <a:lnTo>
                      <a:pt x="298" y="606"/>
                    </a:lnTo>
                    <a:lnTo>
                      <a:pt x="288" y="606"/>
                    </a:lnTo>
                    <a:lnTo>
                      <a:pt x="277" y="605"/>
                    </a:lnTo>
                    <a:lnTo>
                      <a:pt x="267" y="602"/>
                    </a:lnTo>
                    <a:lnTo>
                      <a:pt x="256" y="600"/>
                    </a:lnTo>
                    <a:lnTo>
                      <a:pt x="246" y="595"/>
                    </a:lnTo>
                    <a:lnTo>
                      <a:pt x="236" y="590"/>
                    </a:lnTo>
                    <a:lnTo>
                      <a:pt x="227" y="583"/>
                    </a:lnTo>
                    <a:lnTo>
                      <a:pt x="217" y="574"/>
                    </a:lnTo>
                    <a:lnTo>
                      <a:pt x="207" y="564"/>
                    </a:lnTo>
                    <a:lnTo>
                      <a:pt x="201" y="557"/>
                    </a:lnTo>
                    <a:lnTo>
                      <a:pt x="196" y="550"/>
                    </a:lnTo>
                    <a:lnTo>
                      <a:pt x="191" y="542"/>
                    </a:lnTo>
                    <a:lnTo>
                      <a:pt x="186" y="535"/>
                    </a:lnTo>
                    <a:lnTo>
                      <a:pt x="183" y="528"/>
                    </a:lnTo>
                    <a:lnTo>
                      <a:pt x="179" y="519"/>
                    </a:lnTo>
                    <a:lnTo>
                      <a:pt x="177" y="512"/>
                    </a:lnTo>
                    <a:lnTo>
                      <a:pt x="174" y="505"/>
                    </a:lnTo>
                    <a:lnTo>
                      <a:pt x="172" y="496"/>
                    </a:lnTo>
                    <a:lnTo>
                      <a:pt x="170" y="489"/>
                    </a:lnTo>
                    <a:lnTo>
                      <a:pt x="169" y="480"/>
                    </a:lnTo>
                    <a:lnTo>
                      <a:pt x="168" y="473"/>
                    </a:lnTo>
                    <a:lnTo>
                      <a:pt x="168" y="456"/>
                    </a:lnTo>
                    <a:lnTo>
                      <a:pt x="170" y="440"/>
                    </a:lnTo>
                    <a:lnTo>
                      <a:pt x="173" y="424"/>
                    </a:lnTo>
                    <a:lnTo>
                      <a:pt x="178" y="407"/>
                    </a:lnTo>
                    <a:lnTo>
                      <a:pt x="180" y="399"/>
                    </a:lnTo>
                    <a:lnTo>
                      <a:pt x="183" y="391"/>
                    </a:lnTo>
                    <a:lnTo>
                      <a:pt x="190" y="375"/>
                    </a:lnTo>
                    <a:lnTo>
                      <a:pt x="197" y="359"/>
                    </a:lnTo>
                    <a:lnTo>
                      <a:pt x="206" y="343"/>
                    </a:lnTo>
                    <a:lnTo>
                      <a:pt x="214" y="327"/>
                    </a:lnTo>
                    <a:lnTo>
                      <a:pt x="224" y="313"/>
                    </a:lnTo>
                    <a:lnTo>
                      <a:pt x="234" y="298"/>
                    </a:lnTo>
                    <a:lnTo>
                      <a:pt x="245" y="283"/>
                    </a:lnTo>
                    <a:lnTo>
                      <a:pt x="256" y="269"/>
                    </a:lnTo>
                    <a:lnTo>
                      <a:pt x="267" y="255"/>
                    </a:lnTo>
                    <a:lnTo>
                      <a:pt x="288" y="231"/>
                    </a:lnTo>
                    <a:lnTo>
                      <a:pt x="299" y="218"/>
                    </a:lnTo>
                    <a:lnTo>
                      <a:pt x="309" y="209"/>
                    </a:lnTo>
                    <a:lnTo>
                      <a:pt x="328" y="189"/>
                    </a:lnTo>
                    <a:lnTo>
                      <a:pt x="344" y="173"/>
                    </a:lnTo>
                    <a:lnTo>
                      <a:pt x="365" y="154"/>
                    </a:lnTo>
                    <a:lnTo>
                      <a:pt x="381" y="138"/>
                    </a:lnTo>
                    <a:lnTo>
                      <a:pt x="397" y="123"/>
                    </a:lnTo>
                    <a:lnTo>
                      <a:pt x="412" y="108"/>
                    </a:lnTo>
                    <a:lnTo>
                      <a:pt x="428" y="96"/>
                    </a:lnTo>
                    <a:lnTo>
                      <a:pt x="443" y="84"/>
                    </a:lnTo>
                    <a:lnTo>
                      <a:pt x="459" y="73"/>
                    </a:lnTo>
                    <a:lnTo>
                      <a:pt x="491" y="52"/>
                    </a:lnTo>
                    <a:lnTo>
                      <a:pt x="505" y="44"/>
                    </a:lnTo>
                    <a:lnTo>
                      <a:pt x="520" y="36"/>
                    </a:lnTo>
                    <a:lnTo>
                      <a:pt x="536" y="29"/>
                    </a:lnTo>
                    <a:lnTo>
                      <a:pt x="551" y="23"/>
                    </a:lnTo>
                    <a:lnTo>
                      <a:pt x="564" y="18"/>
                    </a:lnTo>
                    <a:lnTo>
                      <a:pt x="579" y="13"/>
                    </a:lnTo>
                    <a:lnTo>
                      <a:pt x="592" y="9"/>
                    </a:lnTo>
                    <a:lnTo>
                      <a:pt x="607" y="6"/>
                    </a:lnTo>
                    <a:lnTo>
                      <a:pt x="619" y="3"/>
                    </a:lnTo>
                    <a:lnTo>
                      <a:pt x="632" y="2"/>
                    </a:lnTo>
                    <a:lnTo>
                      <a:pt x="645" y="1"/>
                    </a:lnTo>
                    <a:lnTo>
                      <a:pt x="657" y="0"/>
                    </a:lnTo>
                    <a:lnTo>
                      <a:pt x="669" y="0"/>
                    </a:lnTo>
                    <a:lnTo>
                      <a:pt x="680" y="1"/>
                    </a:lnTo>
                    <a:lnTo>
                      <a:pt x="691" y="2"/>
                    </a:lnTo>
                    <a:lnTo>
                      <a:pt x="702" y="3"/>
                    </a:lnTo>
                    <a:lnTo>
                      <a:pt x="712" y="6"/>
                    </a:lnTo>
                    <a:lnTo>
                      <a:pt x="722" y="9"/>
                    </a:lnTo>
                    <a:lnTo>
                      <a:pt x="731" y="13"/>
                    </a:lnTo>
                    <a:lnTo>
                      <a:pt x="740" y="17"/>
                    </a:lnTo>
                    <a:lnTo>
                      <a:pt x="744" y="19"/>
                    </a:lnTo>
                    <a:lnTo>
                      <a:pt x="747" y="22"/>
                    </a:lnTo>
                    <a:lnTo>
                      <a:pt x="755" y="26"/>
                    </a:lnTo>
                    <a:lnTo>
                      <a:pt x="762" y="31"/>
                    </a:lnTo>
                    <a:lnTo>
                      <a:pt x="768" y="37"/>
                    </a:lnTo>
                    <a:lnTo>
                      <a:pt x="777" y="46"/>
                    </a:lnTo>
                    <a:lnTo>
                      <a:pt x="783" y="55"/>
                    </a:lnTo>
                    <a:lnTo>
                      <a:pt x="788" y="64"/>
                    </a:lnTo>
                    <a:lnTo>
                      <a:pt x="793" y="74"/>
                    </a:lnTo>
                    <a:lnTo>
                      <a:pt x="795" y="84"/>
                    </a:lnTo>
                    <a:lnTo>
                      <a:pt x="797" y="94"/>
                    </a:lnTo>
                    <a:lnTo>
                      <a:pt x="799" y="103"/>
                    </a:lnTo>
                    <a:lnTo>
                      <a:pt x="800" y="114"/>
                    </a:lnTo>
                    <a:lnTo>
                      <a:pt x="800" y="124"/>
                    </a:lnTo>
                    <a:lnTo>
                      <a:pt x="799" y="135"/>
                    </a:lnTo>
                    <a:lnTo>
                      <a:pt x="796" y="157"/>
                    </a:lnTo>
                    <a:lnTo>
                      <a:pt x="793" y="179"/>
                    </a:lnTo>
                    <a:lnTo>
                      <a:pt x="788" y="201"/>
                    </a:lnTo>
                    <a:lnTo>
                      <a:pt x="783" y="225"/>
                    </a:lnTo>
                    <a:lnTo>
                      <a:pt x="778" y="247"/>
                    </a:lnTo>
                    <a:lnTo>
                      <a:pt x="775" y="269"/>
                    </a:lnTo>
                    <a:lnTo>
                      <a:pt x="774" y="278"/>
                    </a:lnTo>
                    <a:lnTo>
                      <a:pt x="774" y="289"/>
                    </a:lnTo>
                    <a:lnTo>
                      <a:pt x="775" y="300"/>
                    </a:lnTo>
                    <a:lnTo>
                      <a:pt x="777" y="310"/>
                    </a:lnTo>
                    <a:lnTo>
                      <a:pt x="779" y="320"/>
                    </a:lnTo>
                    <a:lnTo>
                      <a:pt x="780" y="325"/>
                    </a:lnTo>
                    <a:lnTo>
                      <a:pt x="782" y="330"/>
                    </a:lnTo>
                    <a:lnTo>
                      <a:pt x="786" y="339"/>
                    </a:lnTo>
                    <a:lnTo>
                      <a:pt x="791" y="349"/>
                    </a:lnTo>
                    <a:lnTo>
                      <a:pt x="795" y="353"/>
                    </a:lnTo>
                    <a:lnTo>
                      <a:pt x="799" y="358"/>
                    </a:lnTo>
                    <a:lnTo>
                      <a:pt x="802" y="363"/>
                    </a:lnTo>
                    <a:lnTo>
                      <a:pt x="806" y="366"/>
                    </a:lnTo>
                    <a:lnTo>
                      <a:pt x="815" y="374"/>
                    </a:lnTo>
                    <a:lnTo>
                      <a:pt x="823" y="381"/>
                    </a:lnTo>
                    <a:lnTo>
                      <a:pt x="832" y="386"/>
                    </a:lnTo>
                    <a:lnTo>
                      <a:pt x="841" y="391"/>
                    </a:lnTo>
                    <a:lnTo>
                      <a:pt x="851" y="394"/>
                    </a:lnTo>
                    <a:lnTo>
                      <a:pt x="861" y="397"/>
                    </a:lnTo>
                    <a:lnTo>
                      <a:pt x="872" y="398"/>
                    </a:lnTo>
                    <a:lnTo>
                      <a:pt x="882" y="399"/>
                    </a:lnTo>
                    <a:lnTo>
                      <a:pt x="893" y="399"/>
                    </a:lnTo>
                    <a:lnTo>
                      <a:pt x="903" y="399"/>
                    </a:lnTo>
                    <a:lnTo>
                      <a:pt x="914" y="397"/>
                    </a:lnTo>
                    <a:lnTo>
                      <a:pt x="923" y="394"/>
                    </a:lnTo>
                    <a:lnTo>
                      <a:pt x="934" y="392"/>
                    </a:lnTo>
                    <a:lnTo>
                      <a:pt x="944" y="387"/>
                    </a:lnTo>
                    <a:lnTo>
                      <a:pt x="954" y="382"/>
                    </a:lnTo>
                    <a:lnTo>
                      <a:pt x="964" y="377"/>
                    </a:lnTo>
                    <a:lnTo>
                      <a:pt x="1074" y="273"/>
                    </a:lnTo>
                    <a:lnTo>
                      <a:pt x="1106" y="244"/>
                    </a:lnTo>
                    <a:lnTo>
                      <a:pt x="1118" y="231"/>
                    </a:lnTo>
                    <a:lnTo>
                      <a:pt x="1123" y="236"/>
                    </a:lnTo>
                    <a:lnTo>
                      <a:pt x="1134" y="247"/>
                    </a:lnTo>
                    <a:lnTo>
                      <a:pt x="1174" y="286"/>
                    </a:lnTo>
                    <a:lnTo>
                      <a:pt x="1315" y="419"/>
                    </a:lnTo>
                    <a:lnTo>
                      <a:pt x="1291" y="393"/>
                    </a:lnTo>
                    <a:lnTo>
                      <a:pt x="1343" y="446"/>
                    </a:lnTo>
                    <a:lnTo>
                      <a:pt x="1371" y="473"/>
                    </a:lnTo>
                    <a:lnTo>
                      <a:pt x="1381" y="478"/>
                    </a:lnTo>
                    <a:lnTo>
                      <a:pt x="1385" y="480"/>
                    </a:lnTo>
                    <a:lnTo>
                      <a:pt x="1390" y="483"/>
                    </a:lnTo>
                    <a:lnTo>
                      <a:pt x="1401" y="486"/>
                    </a:lnTo>
                    <a:lnTo>
                      <a:pt x="1412" y="490"/>
                    </a:lnTo>
                    <a:lnTo>
                      <a:pt x="1423" y="491"/>
                    </a:lnTo>
                    <a:lnTo>
                      <a:pt x="1434" y="492"/>
                    </a:lnTo>
                    <a:lnTo>
                      <a:pt x="1445" y="494"/>
                    </a:lnTo>
                    <a:lnTo>
                      <a:pt x="1456" y="492"/>
                    </a:lnTo>
                    <a:lnTo>
                      <a:pt x="1467" y="491"/>
                    </a:lnTo>
                    <a:lnTo>
                      <a:pt x="1477" y="489"/>
                    </a:lnTo>
                    <a:lnTo>
                      <a:pt x="1488" y="485"/>
                    </a:lnTo>
                    <a:lnTo>
                      <a:pt x="1498" y="480"/>
                    </a:lnTo>
                    <a:lnTo>
                      <a:pt x="1509" y="475"/>
                    </a:lnTo>
                    <a:lnTo>
                      <a:pt x="1519" y="469"/>
                    </a:lnTo>
                    <a:lnTo>
                      <a:pt x="1527" y="462"/>
                    </a:lnTo>
                    <a:lnTo>
                      <a:pt x="1536" y="453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599000" y="3897000"/>
                <a:ext cx="52200" cy="271080"/>
              </a:xfrm>
              <a:custGeom>
                <a:avLst/>
                <a:gdLst/>
                <a:ahLst/>
                <a:rect l="l" t="t" r="r" b="b"/>
                <a:pathLst>
                  <a:path w="66" h="342">
                    <a:moveTo>
                      <a:pt x="0" y="332"/>
                    </a:moveTo>
                    <a:lnTo>
                      <a:pt x="17" y="313"/>
                    </a:lnTo>
                    <a:lnTo>
                      <a:pt x="29" y="293"/>
                    </a:lnTo>
                    <a:lnTo>
                      <a:pt x="34" y="272"/>
                    </a:lnTo>
                    <a:lnTo>
                      <a:pt x="36" y="253"/>
                    </a:lnTo>
                    <a:lnTo>
                      <a:pt x="36" y="233"/>
                    </a:lnTo>
                    <a:lnTo>
                      <a:pt x="34" y="214"/>
                    </a:lnTo>
                    <a:lnTo>
                      <a:pt x="24" y="171"/>
                    </a:lnTo>
                    <a:lnTo>
                      <a:pt x="14" y="128"/>
                    </a:lnTo>
                    <a:lnTo>
                      <a:pt x="12" y="105"/>
                    </a:lnTo>
                    <a:lnTo>
                      <a:pt x="12" y="83"/>
                    </a:lnTo>
                    <a:lnTo>
                      <a:pt x="16" y="61"/>
                    </a:lnTo>
                    <a:lnTo>
                      <a:pt x="24" y="40"/>
                    </a:lnTo>
                    <a:lnTo>
                      <a:pt x="36" y="19"/>
                    </a:lnTo>
                    <a:lnTo>
                      <a:pt x="56" y="0"/>
                    </a:lnTo>
                    <a:lnTo>
                      <a:pt x="66" y="11"/>
                    </a:lnTo>
                    <a:lnTo>
                      <a:pt x="47" y="29"/>
                    </a:lnTo>
                    <a:lnTo>
                      <a:pt x="36" y="47"/>
                    </a:lnTo>
                    <a:lnTo>
                      <a:pt x="29" y="66"/>
                    </a:lnTo>
                    <a:lnTo>
                      <a:pt x="25" y="85"/>
                    </a:lnTo>
                    <a:lnTo>
                      <a:pt x="25" y="105"/>
                    </a:lnTo>
                    <a:lnTo>
                      <a:pt x="28" y="124"/>
                    </a:lnTo>
                    <a:lnTo>
                      <a:pt x="38" y="167"/>
                    </a:lnTo>
                    <a:lnTo>
                      <a:pt x="47" y="210"/>
                    </a:lnTo>
                    <a:lnTo>
                      <a:pt x="50" y="233"/>
                    </a:lnTo>
                    <a:lnTo>
                      <a:pt x="50" y="255"/>
                    </a:lnTo>
                    <a:lnTo>
                      <a:pt x="47" y="277"/>
                    </a:lnTo>
                    <a:lnTo>
                      <a:pt x="41" y="300"/>
                    </a:lnTo>
                    <a:lnTo>
                      <a:pt x="28" y="322"/>
                    </a:lnTo>
                    <a:lnTo>
                      <a:pt x="11" y="342"/>
                    </a:lnTo>
                    <a:lnTo>
                      <a:pt x="0" y="3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643280" y="3863520"/>
                <a:ext cx="335160" cy="164880"/>
              </a:xfrm>
              <a:custGeom>
                <a:avLst/>
                <a:gdLst/>
                <a:ahLst/>
                <a:rect l="l" t="t" r="r" b="b"/>
                <a:pathLst>
                  <a:path w="420" h="208">
                    <a:moveTo>
                      <a:pt x="0" y="42"/>
                    </a:moveTo>
                    <a:lnTo>
                      <a:pt x="15" y="28"/>
                    </a:lnTo>
                    <a:lnTo>
                      <a:pt x="31" y="18"/>
                    </a:lnTo>
                    <a:lnTo>
                      <a:pt x="46" y="11"/>
                    </a:lnTo>
                    <a:lnTo>
                      <a:pt x="65" y="5"/>
                    </a:lnTo>
                    <a:lnTo>
                      <a:pt x="82" y="1"/>
                    </a:lnTo>
                    <a:lnTo>
                      <a:pt x="98" y="0"/>
                    </a:lnTo>
                    <a:lnTo>
                      <a:pt x="131" y="1"/>
                    </a:lnTo>
                    <a:lnTo>
                      <a:pt x="164" y="9"/>
                    </a:lnTo>
                    <a:lnTo>
                      <a:pt x="197" y="22"/>
                    </a:lnTo>
                    <a:lnTo>
                      <a:pt x="230" y="38"/>
                    </a:lnTo>
                    <a:lnTo>
                      <a:pt x="260" y="56"/>
                    </a:lnTo>
                    <a:lnTo>
                      <a:pt x="319" y="100"/>
                    </a:lnTo>
                    <a:lnTo>
                      <a:pt x="367" y="143"/>
                    </a:lnTo>
                    <a:lnTo>
                      <a:pt x="420" y="198"/>
                    </a:lnTo>
                    <a:lnTo>
                      <a:pt x="409" y="208"/>
                    </a:lnTo>
                    <a:lnTo>
                      <a:pt x="357" y="154"/>
                    </a:lnTo>
                    <a:lnTo>
                      <a:pt x="309" y="111"/>
                    </a:lnTo>
                    <a:lnTo>
                      <a:pt x="252" y="69"/>
                    </a:lnTo>
                    <a:lnTo>
                      <a:pt x="221" y="50"/>
                    </a:lnTo>
                    <a:lnTo>
                      <a:pt x="191" y="36"/>
                    </a:lnTo>
                    <a:lnTo>
                      <a:pt x="161" y="23"/>
                    </a:lnTo>
                    <a:lnTo>
                      <a:pt x="128" y="16"/>
                    </a:lnTo>
                    <a:lnTo>
                      <a:pt x="98" y="15"/>
                    </a:lnTo>
                    <a:lnTo>
                      <a:pt x="83" y="16"/>
                    </a:lnTo>
                    <a:lnTo>
                      <a:pt x="67" y="20"/>
                    </a:lnTo>
                    <a:lnTo>
                      <a:pt x="53" y="25"/>
                    </a:lnTo>
                    <a:lnTo>
                      <a:pt x="38" y="31"/>
                    </a:lnTo>
                    <a:lnTo>
                      <a:pt x="23" y="40"/>
                    </a:lnTo>
                    <a:lnTo>
                      <a:pt x="10" y="53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643280" y="38970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1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968720" y="4020480"/>
                <a:ext cx="133560" cy="328320"/>
              </a:xfrm>
              <a:custGeom>
                <a:avLst/>
                <a:gdLst/>
                <a:ahLst/>
                <a:rect l="l" t="t" r="r" b="b"/>
                <a:pathLst>
                  <a:path w="168" h="415">
                    <a:moveTo>
                      <a:pt x="11" y="0"/>
                    </a:moveTo>
                    <a:lnTo>
                      <a:pt x="43" y="32"/>
                    </a:lnTo>
                    <a:lnTo>
                      <a:pt x="70" y="64"/>
                    </a:lnTo>
                    <a:lnTo>
                      <a:pt x="95" y="97"/>
                    </a:lnTo>
                    <a:lnTo>
                      <a:pt x="114" y="127"/>
                    </a:lnTo>
                    <a:lnTo>
                      <a:pt x="130" y="159"/>
                    </a:lnTo>
                    <a:lnTo>
                      <a:pt x="143" y="189"/>
                    </a:lnTo>
                    <a:lnTo>
                      <a:pt x="153" y="217"/>
                    </a:lnTo>
                    <a:lnTo>
                      <a:pt x="162" y="246"/>
                    </a:lnTo>
                    <a:lnTo>
                      <a:pt x="167" y="273"/>
                    </a:lnTo>
                    <a:lnTo>
                      <a:pt x="168" y="299"/>
                    </a:lnTo>
                    <a:lnTo>
                      <a:pt x="167" y="322"/>
                    </a:lnTo>
                    <a:lnTo>
                      <a:pt x="164" y="345"/>
                    </a:lnTo>
                    <a:lnTo>
                      <a:pt x="157" y="366"/>
                    </a:lnTo>
                    <a:lnTo>
                      <a:pt x="150" y="384"/>
                    </a:lnTo>
                    <a:lnTo>
                      <a:pt x="141" y="401"/>
                    </a:lnTo>
                    <a:lnTo>
                      <a:pt x="129" y="415"/>
                    </a:lnTo>
                    <a:lnTo>
                      <a:pt x="118" y="405"/>
                    </a:lnTo>
                    <a:lnTo>
                      <a:pt x="129" y="393"/>
                    </a:lnTo>
                    <a:lnTo>
                      <a:pt x="136" y="378"/>
                    </a:lnTo>
                    <a:lnTo>
                      <a:pt x="143" y="361"/>
                    </a:lnTo>
                    <a:lnTo>
                      <a:pt x="150" y="343"/>
                    </a:lnTo>
                    <a:lnTo>
                      <a:pt x="152" y="321"/>
                    </a:lnTo>
                    <a:lnTo>
                      <a:pt x="153" y="299"/>
                    </a:lnTo>
                    <a:lnTo>
                      <a:pt x="152" y="274"/>
                    </a:lnTo>
                    <a:lnTo>
                      <a:pt x="147" y="248"/>
                    </a:lnTo>
                    <a:lnTo>
                      <a:pt x="140" y="223"/>
                    </a:lnTo>
                    <a:lnTo>
                      <a:pt x="130" y="195"/>
                    </a:lnTo>
                    <a:lnTo>
                      <a:pt x="117" y="165"/>
                    </a:lnTo>
                    <a:lnTo>
                      <a:pt x="102" y="136"/>
                    </a:lnTo>
                    <a:lnTo>
                      <a:pt x="82" y="105"/>
                    </a:lnTo>
                    <a:lnTo>
                      <a:pt x="59" y="74"/>
                    </a:lnTo>
                    <a:lnTo>
                      <a:pt x="32" y="42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968720" y="4020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0"/>
                    </a:move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00600" y="4341240"/>
                <a:ext cx="270000" cy="39600"/>
              </a:xfrm>
              <a:custGeom>
                <a:avLst/>
                <a:gdLst/>
                <a:ahLst/>
                <a:rect l="l" t="t" r="r" b="b"/>
                <a:pathLst>
                  <a:path w="340" h="49">
                    <a:moveTo>
                      <a:pt x="340" y="11"/>
                    </a:moveTo>
                    <a:lnTo>
                      <a:pt x="320" y="24"/>
                    </a:lnTo>
                    <a:lnTo>
                      <a:pt x="301" y="35"/>
                    </a:lnTo>
                    <a:lnTo>
                      <a:pt x="279" y="42"/>
                    </a:lnTo>
                    <a:lnTo>
                      <a:pt x="258" y="43"/>
                    </a:lnTo>
                    <a:lnTo>
                      <a:pt x="213" y="40"/>
                    </a:lnTo>
                    <a:lnTo>
                      <a:pt x="167" y="31"/>
                    </a:lnTo>
                    <a:lnTo>
                      <a:pt x="125" y="22"/>
                    </a:lnTo>
                    <a:lnTo>
                      <a:pt x="82" y="18"/>
                    </a:lnTo>
                    <a:lnTo>
                      <a:pt x="64" y="20"/>
                    </a:lnTo>
                    <a:lnTo>
                      <a:pt x="44" y="26"/>
                    </a:lnTo>
                    <a:lnTo>
                      <a:pt x="27" y="34"/>
                    </a:lnTo>
                    <a:lnTo>
                      <a:pt x="18" y="40"/>
                    </a:lnTo>
                    <a:lnTo>
                      <a:pt x="10" y="49"/>
                    </a:lnTo>
                    <a:lnTo>
                      <a:pt x="0" y="38"/>
                    </a:lnTo>
                    <a:lnTo>
                      <a:pt x="9" y="29"/>
                    </a:lnTo>
                    <a:lnTo>
                      <a:pt x="18" y="22"/>
                    </a:lnTo>
                    <a:lnTo>
                      <a:pt x="38" y="12"/>
                    </a:lnTo>
                    <a:lnTo>
                      <a:pt x="59" y="6"/>
                    </a:lnTo>
                    <a:lnTo>
                      <a:pt x="82" y="5"/>
                    </a:lnTo>
                    <a:lnTo>
                      <a:pt x="127" y="8"/>
                    </a:lnTo>
                    <a:lnTo>
                      <a:pt x="171" y="17"/>
                    </a:lnTo>
                    <a:lnTo>
                      <a:pt x="215" y="27"/>
                    </a:lnTo>
                    <a:lnTo>
                      <a:pt x="258" y="29"/>
                    </a:lnTo>
                    <a:lnTo>
                      <a:pt x="275" y="28"/>
                    </a:lnTo>
                    <a:lnTo>
                      <a:pt x="295" y="22"/>
                    </a:lnTo>
                    <a:lnTo>
                      <a:pt x="312" y="12"/>
                    </a:lnTo>
                    <a:lnTo>
                      <a:pt x="330" y="0"/>
                    </a:lnTo>
                    <a:lnTo>
                      <a:pt x="34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062680" y="43412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0"/>
                    </a:moveTo>
                    <a:lnTo>
                      <a:pt x="11" y="1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76840" y="4371480"/>
                <a:ext cx="31680" cy="128160"/>
              </a:xfrm>
              <a:custGeom>
                <a:avLst/>
                <a:gdLst/>
                <a:ahLst/>
                <a:rect l="l" t="t" r="r" b="b"/>
                <a:pathLst>
                  <a:path w="41" h="160">
                    <a:moveTo>
                      <a:pt x="41" y="10"/>
                    </a:moveTo>
                    <a:lnTo>
                      <a:pt x="30" y="24"/>
                    </a:lnTo>
                    <a:lnTo>
                      <a:pt x="21" y="40"/>
                    </a:lnTo>
                    <a:lnTo>
                      <a:pt x="18" y="56"/>
                    </a:lnTo>
                    <a:lnTo>
                      <a:pt x="15" y="74"/>
                    </a:lnTo>
                    <a:lnTo>
                      <a:pt x="15" y="95"/>
                    </a:lnTo>
                    <a:lnTo>
                      <a:pt x="18" y="115"/>
                    </a:lnTo>
                    <a:lnTo>
                      <a:pt x="21" y="134"/>
                    </a:lnTo>
                    <a:lnTo>
                      <a:pt x="29" y="154"/>
                    </a:lnTo>
                    <a:lnTo>
                      <a:pt x="15" y="160"/>
                    </a:lnTo>
                    <a:lnTo>
                      <a:pt x="8" y="139"/>
                    </a:lnTo>
                    <a:lnTo>
                      <a:pt x="3" y="117"/>
                    </a:lnTo>
                    <a:lnTo>
                      <a:pt x="0" y="96"/>
                    </a:lnTo>
                    <a:lnTo>
                      <a:pt x="0" y="74"/>
                    </a:lnTo>
                    <a:lnTo>
                      <a:pt x="3" y="54"/>
                    </a:lnTo>
                    <a:lnTo>
                      <a:pt x="8" y="34"/>
                    </a:lnTo>
                    <a:lnTo>
                      <a:pt x="18" y="16"/>
                    </a:lnTo>
                    <a:lnTo>
                      <a:pt x="30" y="0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800600" y="43714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0"/>
                    </a:moveTo>
                    <a:lnTo>
                      <a:pt x="0" y="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89440" y="4492080"/>
                <a:ext cx="493920" cy="661680"/>
              </a:xfrm>
              <a:custGeom>
                <a:avLst/>
                <a:gdLst/>
                <a:ahLst/>
                <a:rect l="l" t="t" r="r" b="b"/>
                <a:pathLst>
                  <a:path w="623" h="833">
                    <a:moveTo>
                      <a:pt x="11" y="0"/>
                    </a:moveTo>
                    <a:lnTo>
                      <a:pt x="138" y="133"/>
                    </a:lnTo>
                    <a:lnTo>
                      <a:pt x="261" y="262"/>
                    </a:lnTo>
                    <a:lnTo>
                      <a:pt x="373" y="387"/>
                    </a:lnTo>
                    <a:lnTo>
                      <a:pt x="423" y="447"/>
                    </a:lnTo>
                    <a:lnTo>
                      <a:pt x="470" y="504"/>
                    </a:lnTo>
                    <a:lnTo>
                      <a:pt x="511" y="559"/>
                    </a:lnTo>
                    <a:lnTo>
                      <a:pt x="547" y="609"/>
                    </a:lnTo>
                    <a:lnTo>
                      <a:pt x="576" y="657"/>
                    </a:lnTo>
                    <a:lnTo>
                      <a:pt x="599" y="701"/>
                    </a:lnTo>
                    <a:lnTo>
                      <a:pt x="614" y="740"/>
                    </a:lnTo>
                    <a:lnTo>
                      <a:pt x="623" y="776"/>
                    </a:lnTo>
                    <a:lnTo>
                      <a:pt x="623" y="792"/>
                    </a:lnTo>
                    <a:lnTo>
                      <a:pt x="621" y="806"/>
                    </a:lnTo>
                    <a:lnTo>
                      <a:pt x="616" y="821"/>
                    </a:lnTo>
                    <a:lnTo>
                      <a:pt x="610" y="833"/>
                    </a:lnTo>
                    <a:lnTo>
                      <a:pt x="598" y="825"/>
                    </a:lnTo>
                    <a:lnTo>
                      <a:pt x="603" y="815"/>
                    </a:lnTo>
                    <a:lnTo>
                      <a:pt x="607" y="804"/>
                    </a:lnTo>
                    <a:lnTo>
                      <a:pt x="608" y="792"/>
                    </a:lnTo>
                    <a:lnTo>
                      <a:pt x="608" y="778"/>
                    </a:lnTo>
                    <a:lnTo>
                      <a:pt x="601" y="746"/>
                    </a:lnTo>
                    <a:lnTo>
                      <a:pt x="586" y="707"/>
                    </a:lnTo>
                    <a:lnTo>
                      <a:pt x="564" y="666"/>
                    </a:lnTo>
                    <a:lnTo>
                      <a:pt x="535" y="618"/>
                    </a:lnTo>
                    <a:lnTo>
                      <a:pt x="499" y="568"/>
                    </a:lnTo>
                    <a:lnTo>
                      <a:pt x="459" y="514"/>
                    </a:lnTo>
                    <a:lnTo>
                      <a:pt x="412" y="457"/>
                    </a:lnTo>
                    <a:lnTo>
                      <a:pt x="362" y="397"/>
                    </a:lnTo>
                    <a:lnTo>
                      <a:pt x="250" y="272"/>
                    </a:lnTo>
                    <a:lnTo>
                      <a:pt x="127" y="142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89440" y="449208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9"/>
                    </a:moveTo>
                    <a:lnTo>
                      <a:pt x="1" y="10"/>
                    </a:lnTo>
                    <a:lnTo>
                      <a:pt x="12" y="0"/>
                    </a:lnTo>
                    <a:lnTo>
                      <a:pt x="14" y="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392640" y="5050800"/>
                <a:ext cx="1881000" cy="374400"/>
              </a:xfrm>
              <a:custGeom>
                <a:avLst/>
                <a:gdLst/>
                <a:ahLst/>
                <a:rect l="l" t="t" r="r" b="b"/>
                <a:pathLst>
                  <a:path w="2369" h="473">
                    <a:moveTo>
                      <a:pt x="2369" y="130"/>
                    </a:moveTo>
                    <a:lnTo>
                      <a:pt x="2343" y="155"/>
                    </a:lnTo>
                    <a:lnTo>
                      <a:pt x="2317" y="178"/>
                    </a:lnTo>
                    <a:lnTo>
                      <a:pt x="2288" y="201"/>
                    </a:lnTo>
                    <a:lnTo>
                      <a:pt x="2260" y="222"/>
                    </a:lnTo>
                    <a:lnTo>
                      <a:pt x="2230" y="243"/>
                    </a:lnTo>
                    <a:lnTo>
                      <a:pt x="2198" y="264"/>
                    </a:lnTo>
                    <a:lnTo>
                      <a:pt x="2166" y="282"/>
                    </a:lnTo>
                    <a:lnTo>
                      <a:pt x="2134" y="300"/>
                    </a:lnTo>
                    <a:lnTo>
                      <a:pt x="2101" y="317"/>
                    </a:lnTo>
                    <a:lnTo>
                      <a:pt x="2067" y="333"/>
                    </a:lnTo>
                    <a:lnTo>
                      <a:pt x="2030" y="349"/>
                    </a:lnTo>
                    <a:lnTo>
                      <a:pt x="1995" y="364"/>
                    </a:lnTo>
                    <a:lnTo>
                      <a:pt x="1922" y="390"/>
                    </a:lnTo>
                    <a:lnTo>
                      <a:pt x="1885" y="401"/>
                    </a:lnTo>
                    <a:lnTo>
                      <a:pt x="1846" y="412"/>
                    </a:lnTo>
                    <a:lnTo>
                      <a:pt x="1808" y="421"/>
                    </a:lnTo>
                    <a:lnTo>
                      <a:pt x="1768" y="430"/>
                    </a:lnTo>
                    <a:lnTo>
                      <a:pt x="1688" y="446"/>
                    </a:lnTo>
                    <a:lnTo>
                      <a:pt x="1606" y="457"/>
                    </a:lnTo>
                    <a:lnTo>
                      <a:pt x="1523" y="465"/>
                    </a:lnTo>
                    <a:lnTo>
                      <a:pt x="1440" y="472"/>
                    </a:lnTo>
                    <a:lnTo>
                      <a:pt x="1353" y="473"/>
                    </a:lnTo>
                    <a:lnTo>
                      <a:pt x="1268" y="472"/>
                    </a:lnTo>
                    <a:lnTo>
                      <a:pt x="1182" y="468"/>
                    </a:lnTo>
                    <a:lnTo>
                      <a:pt x="1095" y="461"/>
                    </a:lnTo>
                    <a:lnTo>
                      <a:pt x="1011" y="450"/>
                    </a:lnTo>
                    <a:lnTo>
                      <a:pt x="924" y="436"/>
                    </a:lnTo>
                    <a:lnTo>
                      <a:pt x="841" y="419"/>
                    </a:lnTo>
                    <a:lnTo>
                      <a:pt x="758" y="401"/>
                    </a:lnTo>
                    <a:lnTo>
                      <a:pt x="677" y="377"/>
                    </a:lnTo>
                    <a:lnTo>
                      <a:pt x="598" y="353"/>
                    </a:lnTo>
                    <a:lnTo>
                      <a:pt x="518" y="325"/>
                    </a:lnTo>
                    <a:lnTo>
                      <a:pt x="443" y="294"/>
                    </a:lnTo>
                    <a:lnTo>
                      <a:pt x="370" y="260"/>
                    </a:lnTo>
                    <a:lnTo>
                      <a:pt x="300" y="225"/>
                    </a:lnTo>
                    <a:lnTo>
                      <a:pt x="231" y="187"/>
                    </a:lnTo>
                    <a:lnTo>
                      <a:pt x="168" y="146"/>
                    </a:lnTo>
                    <a:lnTo>
                      <a:pt x="108" y="104"/>
                    </a:lnTo>
                    <a:lnTo>
                      <a:pt x="51" y="58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61" y="47"/>
                    </a:lnTo>
                    <a:lnTo>
                      <a:pt x="117" y="93"/>
                    </a:lnTo>
                    <a:lnTo>
                      <a:pt x="176" y="135"/>
                    </a:lnTo>
                    <a:lnTo>
                      <a:pt x="240" y="174"/>
                    </a:lnTo>
                    <a:lnTo>
                      <a:pt x="307" y="212"/>
                    </a:lnTo>
                    <a:lnTo>
                      <a:pt x="378" y="248"/>
                    </a:lnTo>
                    <a:lnTo>
                      <a:pt x="449" y="281"/>
                    </a:lnTo>
                    <a:lnTo>
                      <a:pt x="524" y="311"/>
                    </a:lnTo>
                    <a:lnTo>
                      <a:pt x="603" y="340"/>
                    </a:lnTo>
                    <a:lnTo>
                      <a:pt x="682" y="364"/>
                    </a:lnTo>
                    <a:lnTo>
                      <a:pt x="762" y="387"/>
                    </a:lnTo>
                    <a:lnTo>
                      <a:pt x="845" y="406"/>
                    </a:lnTo>
                    <a:lnTo>
                      <a:pt x="928" y="423"/>
                    </a:lnTo>
                    <a:lnTo>
                      <a:pt x="1013" y="436"/>
                    </a:lnTo>
                    <a:lnTo>
                      <a:pt x="1098" y="447"/>
                    </a:lnTo>
                    <a:lnTo>
                      <a:pt x="1182" y="454"/>
                    </a:lnTo>
                    <a:lnTo>
                      <a:pt x="1268" y="458"/>
                    </a:lnTo>
                    <a:lnTo>
                      <a:pt x="1353" y="458"/>
                    </a:lnTo>
                    <a:lnTo>
                      <a:pt x="1438" y="458"/>
                    </a:lnTo>
                    <a:lnTo>
                      <a:pt x="1521" y="452"/>
                    </a:lnTo>
                    <a:lnTo>
                      <a:pt x="1604" y="443"/>
                    </a:lnTo>
                    <a:lnTo>
                      <a:pt x="1685" y="432"/>
                    </a:lnTo>
                    <a:lnTo>
                      <a:pt x="1764" y="417"/>
                    </a:lnTo>
                    <a:lnTo>
                      <a:pt x="1803" y="408"/>
                    </a:lnTo>
                    <a:lnTo>
                      <a:pt x="1841" y="398"/>
                    </a:lnTo>
                    <a:lnTo>
                      <a:pt x="1880" y="387"/>
                    </a:lnTo>
                    <a:lnTo>
                      <a:pt x="1916" y="376"/>
                    </a:lnTo>
                    <a:lnTo>
                      <a:pt x="1989" y="351"/>
                    </a:lnTo>
                    <a:lnTo>
                      <a:pt x="2024" y="336"/>
                    </a:lnTo>
                    <a:lnTo>
                      <a:pt x="2060" y="321"/>
                    </a:lnTo>
                    <a:lnTo>
                      <a:pt x="2094" y="305"/>
                    </a:lnTo>
                    <a:lnTo>
                      <a:pt x="2126" y="288"/>
                    </a:lnTo>
                    <a:lnTo>
                      <a:pt x="2158" y="270"/>
                    </a:lnTo>
                    <a:lnTo>
                      <a:pt x="2189" y="251"/>
                    </a:lnTo>
                    <a:lnTo>
                      <a:pt x="2220" y="232"/>
                    </a:lnTo>
                    <a:lnTo>
                      <a:pt x="2250" y="211"/>
                    </a:lnTo>
                    <a:lnTo>
                      <a:pt x="2279" y="190"/>
                    </a:lnTo>
                    <a:lnTo>
                      <a:pt x="2307" y="167"/>
                    </a:lnTo>
                    <a:lnTo>
                      <a:pt x="2334" y="144"/>
                    </a:lnTo>
                    <a:lnTo>
                      <a:pt x="2359" y="119"/>
                    </a:lnTo>
                    <a:lnTo>
                      <a:pt x="2369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264280" y="514620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10"/>
                    </a:moveTo>
                    <a:lnTo>
                      <a:pt x="11" y="1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379680" y="4404960"/>
                <a:ext cx="463680" cy="653400"/>
              </a:xfrm>
              <a:custGeom>
                <a:avLst/>
                <a:gdLst/>
                <a:ahLst/>
                <a:rect l="l" t="t" r="r" b="b"/>
                <a:pathLst>
                  <a:path w="583" h="823">
                    <a:moveTo>
                      <a:pt x="15" y="823"/>
                    </a:moveTo>
                    <a:lnTo>
                      <a:pt x="7" y="811"/>
                    </a:lnTo>
                    <a:lnTo>
                      <a:pt x="3" y="796"/>
                    </a:lnTo>
                    <a:lnTo>
                      <a:pt x="0" y="781"/>
                    </a:lnTo>
                    <a:lnTo>
                      <a:pt x="0" y="763"/>
                    </a:lnTo>
                    <a:lnTo>
                      <a:pt x="3" y="746"/>
                    </a:lnTo>
                    <a:lnTo>
                      <a:pt x="6" y="728"/>
                    </a:lnTo>
                    <a:lnTo>
                      <a:pt x="20" y="688"/>
                    </a:lnTo>
                    <a:lnTo>
                      <a:pt x="42" y="642"/>
                    </a:lnTo>
                    <a:lnTo>
                      <a:pt x="55" y="619"/>
                    </a:lnTo>
                    <a:lnTo>
                      <a:pt x="70" y="595"/>
                    </a:lnTo>
                    <a:lnTo>
                      <a:pt x="103" y="542"/>
                    </a:lnTo>
                    <a:lnTo>
                      <a:pt x="142" y="487"/>
                    </a:lnTo>
                    <a:lnTo>
                      <a:pt x="234" y="372"/>
                    </a:lnTo>
                    <a:lnTo>
                      <a:pt x="340" y="250"/>
                    </a:lnTo>
                    <a:lnTo>
                      <a:pt x="454" y="125"/>
                    </a:lnTo>
                    <a:lnTo>
                      <a:pt x="573" y="0"/>
                    </a:lnTo>
                    <a:lnTo>
                      <a:pt x="583" y="11"/>
                    </a:lnTo>
                    <a:lnTo>
                      <a:pt x="463" y="136"/>
                    </a:lnTo>
                    <a:lnTo>
                      <a:pt x="350" y="261"/>
                    </a:lnTo>
                    <a:lnTo>
                      <a:pt x="245" y="382"/>
                    </a:lnTo>
                    <a:lnTo>
                      <a:pt x="153" y="497"/>
                    </a:lnTo>
                    <a:lnTo>
                      <a:pt x="114" y="552"/>
                    </a:lnTo>
                    <a:lnTo>
                      <a:pt x="82" y="603"/>
                    </a:lnTo>
                    <a:lnTo>
                      <a:pt x="67" y="628"/>
                    </a:lnTo>
                    <a:lnTo>
                      <a:pt x="54" y="650"/>
                    </a:lnTo>
                    <a:lnTo>
                      <a:pt x="33" y="694"/>
                    </a:lnTo>
                    <a:lnTo>
                      <a:pt x="20" y="734"/>
                    </a:lnTo>
                    <a:lnTo>
                      <a:pt x="16" y="750"/>
                    </a:lnTo>
                    <a:lnTo>
                      <a:pt x="14" y="766"/>
                    </a:lnTo>
                    <a:lnTo>
                      <a:pt x="14" y="781"/>
                    </a:lnTo>
                    <a:lnTo>
                      <a:pt x="16" y="793"/>
                    </a:lnTo>
                    <a:lnTo>
                      <a:pt x="20" y="804"/>
                    </a:lnTo>
                    <a:lnTo>
                      <a:pt x="27" y="815"/>
                    </a:lnTo>
                    <a:lnTo>
                      <a:pt x="15" y="8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390840" y="505080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" y="11"/>
                    </a:moveTo>
                    <a:lnTo>
                      <a:pt x="0" y="9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809880" y="4292280"/>
                <a:ext cx="41400" cy="118440"/>
              </a:xfrm>
              <a:custGeom>
                <a:avLst/>
                <a:gdLst/>
                <a:ahLst/>
                <a:rect l="l" t="t" r="r" b="b"/>
                <a:pathLst>
                  <a:path w="51" h="149">
                    <a:moveTo>
                      <a:pt x="29" y="144"/>
                    </a:moveTo>
                    <a:lnTo>
                      <a:pt x="34" y="126"/>
                    </a:lnTo>
                    <a:lnTo>
                      <a:pt x="36" y="108"/>
                    </a:lnTo>
                    <a:lnTo>
                      <a:pt x="38" y="91"/>
                    </a:lnTo>
                    <a:lnTo>
                      <a:pt x="35" y="74"/>
                    </a:lnTo>
                    <a:lnTo>
                      <a:pt x="29" y="57"/>
                    </a:lnTo>
                    <a:lnTo>
                      <a:pt x="23" y="40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11" y="0"/>
                    </a:lnTo>
                    <a:lnTo>
                      <a:pt x="23" y="14"/>
                    </a:lnTo>
                    <a:lnTo>
                      <a:pt x="35" y="33"/>
                    </a:lnTo>
                    <a:lnTo>
                      <a:pt x="42" y="51"/>
                    </a:lnTo>
                    <a:lnTo>
                      <a:pt x="49" y="70"/>
                    </a:lnTo>
                    <a:lnTo>
                      <a:pt x="51" y="91"/>
                    </a:lnTo>
                    <a:lnTo>
                      <a:pt x="50" y="111"/>
                    </a:lnTo>
                    <a:lnTo>
                      <a:pt x="47" y="130"/>
                    </a:lnTo>
                    <a:lnTo>
                      <a:pt x="42" y="149"/>
                    </a:lnTo>
                    <a:lnTo>
                      <a:pt x="29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33640" y="4404960"/>
                <a:ext cx="9720" cy="900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2" y="11"/>
                    </a:moveTo>
                    <a:lnTo>
                      <a:pt x="13" y="8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546360" y="4249080"/>
                <a:ext cx="271440" cy="52200"/>
              </a:xfrm>
              <a:custGeom>
                <a:avLst/>
                <a:gdLst/>
                <a:ahLst/>
                <a:rect l="l" t="t" r="r" b="b"/>
                <a:pathLst>
                  <a:path w="344" h="66">
                    <a:moveTo>
                      <a:pt x="334" y="66"/>
                    </a:moveTo>
                    <a:lnTo>
                      <a:pt x="313" y="48"/>
                    </a:lnTo>
                    <a:lnTo>
                      <a:pt x="294" y="36"/>
                    </a:lnTo>
                    <a:lnTo>
                      <a:pt x="274" y="31"/>
                    </a:lnTo>
                    <a:lnTo>
                      <a:pt x="256" y="29"/>
                    </a:lnTo>
                    <a:lnTo>
                      <a:pt x="235" y="29"/>
                    </a:lnTo>
                    <a:lnTo>
                      <a:pt x="214" y="31"/>
                    </a:lnTo>
                    <a:lnTo>
                      <a:pt x="173" y="41"/>
                    </a:lnTo>
                    <a:lnTo>
                      <a:pt x="129" y="51"/>
                    </a:lnTo>
                    <a:lnTo>
                      <a:pt x="105" y="53"/>
                    </a:lnTo>
                    <a:lnTo>
                      <a:pt x="85" y="53"/>
                    </a:lnTo>
                    <a:lnTo>
                      <a:pt x="63" y="50"/>
                    </a:lnTo>
                    <a:lnTo>
                      <a:pt x="41" y="41"/>
                    </a:lnTo>
                    <a:lnTo>
                      <a:pt x="20" y="29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30" y="18"/>
                    </a:lnTo>
                    <a:lnTo>
                      <a:pt x="48" y="29"/>
                    </a:lnTo>
                    <a:lnTo>
                      <a:pt x="67" y="36"/>
                    </a:lnTo>
                    <a:lnTo>
                      <a:pt x="85" y="40"/>
                    </a:lnTo>
                    <a:lnTo>
                      <a:pt x="105" y="40"/>
                    </a:lnTo>
                    <a:lnTo>
                      <a:pt x="125" y="37"/>
                    </a:lnTo>
                    <a:lnTo>
                      <a:pt x="168" y="28"/>
                    </a:lnTo>
                    <a:lnTo>
                      <a:pt x="210" y="18"/>
                    </a:lnTo>
                    <a:lnTo>
                      <a:pt x="232" y="15"/>
                    </a:lnTo>
                    <a:lnTo>
                      <a:pt x="256" y="15"/>
                    </a:lnTo>
                    <a:lnTo>
                      <a:pt x="278" y="18"/>
                    </a:lnTo>
                    <a:lnTo>
                      <a:pt x="300" y="24"/>
                    </a:lnTo>
                    <a:lnTo>
                      <a:pt x="322" y="37"/>
                    </a:lnTo>
                    <a:lnTo>
                      <a:pt x="344" y="55"/>
                    </a:lnTo>
                    <a:lnTo>
                      <a:pt x="33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09880" y="42922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1" y="11"/>
                    </a:lnTo>
                    <a:lnTo>
                      <a:pt x="0" y="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513240" y="3922200"/>
                <a:ext cx="164880" cy="334800"/>
              </a:xfrm>
              <a:custGeom>
                <a:avLst/>
                <a:gdLst/>
                <a:ahLst/>
                <a:rect l="l" t="t" r="r" b="b"/>
                <a:pathLst>
                  <a:path w="209" h="420">
                    <a:moveTo>
                      <a:pt x="40" y="420"/>
                    </a:moveTo>
                    <a:lnTo>
                      <a:pt x="28" y="406"/>
                    </a:lnTo>
                    <a:lnTo>
                      <a:pt x="19" y="390"/>
                    </a:lnTo>
                    <a:lnTo>
                      <a:pt x="11" y="374"/>
                    </a:lnTo>
                    <a:lnTo>
                      <a:pt x="5" y="358"/>
                    </a:lnTo>
                    <a:lnTo>
                      <a:pt x="2" y="341"/>
                    </a:lnTo>
                    <a:lnTo>
                      <a:pt x="0" y="324"/>
                    </a:lnTo>
                    <a:lnTo>
                      <a:pt x="2" y="289"/>
                    </a:lnTo>
                    <a:lnTo>
                      <a:pt x="9" y="255"/>
                    </a:lnTo>
                    <a:lnTo>
                      <a:pt x="22" y="223"/>
                    </a:lnTo>
                    <a:lnTo>
                      <a:pt x="39" y="190"/>
                    </a:lnTo>
                    <a:lnTo>
                      <a:pt x="57" y="159"/>
                    </a:lnTo>
                    <a:lnTo>
                      <a:pt x="99" y="101"/>
                    </a:lnTo>
                    <a:lnTo>
                      <a:pt x="143" y="53"/>
                    </a:lnTo>
                    <a:lnTo>
                      <a:pt x="199" y="0"/>
                    </a:lnTo>
                    <a:lnTo>
                      <a:pt x="209" y="11"/>
                    </a:lnTo>
                    <a:lnTo>
                      <a:pt x="152" y="64"/>
                    </a:lnTo>
                    <a:lnTo>
                      <a:pt x="110" y="111"/>
                    </a:lnTo>
                    <a:lnTo>
                      <a:pt x="68" y="168"/>
                    </a:lnTo>
                    <a:lnTo>
                      <a:pt x="51" y="199"/>
                    </a:lnTo>
                    <a:lnTo>
                      <a:pt x="35" y="230"/>
                    </a:lnTo>
                    <a:lnTo>
                      <a:pt x="23" y="260"/>
                    </a:lnTo>
                    <a:lnTo>
                      <a:pt x="16" y="293"/>
                    </a:lnTo>
                    <a:lnTo>
                      <a:pt x="14" y="324"/>
                    </a:lnTo>
                    <a:lnTo>
                      <a:pt x="16" y="338"/>
                    </a:lnTo>
                    <a:lnTo>
                      <a:pt x="18" y="353"/>
                    </a:lnTo>
                    <a:lnTo>
                      <a:pt x="24" y="368"/>
                    </a:lnTo>
                    <a:lnTo>
                      <a:pt x="31" y="382"/>
                    </a:lnTo>
                    <a:lnTo>
                      <a:pt x="39" y="397"/>
                    </a:lnTo>
                    <a:lnTo>
                      <a:pt x="51" y="411"/>
                    </a:lnTo>
                    <a:lnTo>
                      <a:pt x="40" y="4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544920" y="42490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11"/>
                    </a:moveTo>
                    <a:lnTo>
                      <a:pt x="0" y="9"/>
                    </a:lnTo>
                    <a:lnTo>
                      <a:pt x="11" y="0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670200" y="3798360"/>
                <a:ext cx="328680" cy="133200"/>
              </a:xfrm>
              <a:custGeom>
                <a:avLst/>
                <a:gdLst/>
                <a:ahLst/>
                <a:rect l="l" t="t" r="r" b="b"/>
                <a:pathLst>
                  <a:path w="413" h="168">
                    <a:moveTo>
                      <a:pt x="0" y="157"/>
                    </a:moveTo>
                    <a:lnTo>
                      <a:pt x="32" y="126"/>
                    </a:lnTo>
                    <a:lnTo>
                      <a:pt x="62" y="99"/>
                    </a:lnTo>
                    <a:lnTo>
                      <a:pt x="94" y="74"/>
                    </a:lnTo>
                    <a:lnTo>
                      <a:pt x="125" y="54"/>
                    </a:lnTo>
                    <a:lnTo>
                      <a:pt x="156" y="38"/>
                    </a:lnTo>
                    <a:lnTo>
                      <a:pt x="186" y="25"/>
                    </a:lnTo>
                    <a:lnTo>
                      <a:pt x="216" y="15"/>
                    </a:lnTo>
                    <a:lnTo>
                      <a:pt x="244" y="6"/>
                    </a:lnTo>
                    <a:lnTo>
                      <a:pt x="272" y="1"/>
                    </a:lnTo>
                    <a:lnTo>
                      <a:pt x="297" y="0"/>
                    </a:lnTo>
                    <a:lnTo>
                      <a:pt x="343" y="4"/>
                    </a:lnTo>
                    <a:lnTo>
                      <a:pt x="364" y="11"/>
                    </a:lnTo>
                    <a:lnTo>
                      <a:pt x="382" y="19"/>
                    </a:lnTo>
                    <a:lnTo>
                      <a:pt x="398" y="27"/>
                    </a:lnTo>
                    <a:lnTo>
                      <a:pt x="413" y="41"/>
                    </a:lnTo>
                    <a:lnTo>
                      <a:pt x="403" y="52"/>
                    </a:lnTo>
                    <a:lnTo>
                      <a:pt x="390" y="39"/>
                    </a:lnTo>
                    <a:lnTo>
                      <a:pt x="376" y="32"/>
                    </a:lnTo>
                    <a:lnTo>
                      <a:pt x="358" y="25"/>
                    </a:lnTo>
                    <a:lnTo>
                      <a:pt x="341" y="19"/>
                    </a:lnTo>
                    <a:lnTo>
                      <a:pt x="297" y="15"/>
                    </a:lnTo>
                    <a:lnTo>
                      <a:pt x="274" y="16"/>
                    </a:lnTo>
                    <a:lnTo>
                      <a:pt x="247" y="21"/>
                    </a:lnTo>
                    <a:lnTo>
                      <a:pt x="221" y="28"/>
                    </a:lnTo>
                    <a:lnTo>
                      <a:pt x="192" y="38"/>
                    </a:lnTo>
                    <a:lnTo>
                      <a:pt x="162" y="52"/>
                    </a:lnTo>
                    <a:lnTo>
                      <a:pt x="133" y="66"/>
                    </a:lnTo>
                    <a:lnTo>
                      <a:pt x="103" y="86"/>
                    </a:lnTo>
                    <a:lnTo>
                      <a:pt x="72" y="110"/>
                    </a:lnTo>
                    <a:lnTo>
                      <a:pt x="41" y="137"/>
                    </a:lnTo>
                    <a:lnTo>
                      <a:pt x="10" y="168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670200" y="39222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1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90960" y="3830040"/>
                <a:ext cx="38160" cy="269640"/>
              </a:xfrm>
              <a:custGeom>
                <a:avLst/>
                <a:gdLst/>
                <a:ahLst/>
                <a:rect l="l" t="t" r="r" b="b"/>
                <a:pathLst>
                  <a:path w="49" h="338">
                    <a:moveTo>
                      <a:pt x="11" y="0"/>
                    </a:moveTo>
                    <a:lnTo>
                      <a:pt x="27" y="18"/>
                    </a:lnTo>
                    <a:lnTo>
                      <a:pt x="37" y="37"/>
                    </a:lnTo>
                    <a:lnTo>
                      <a:pt x="43" y="59"/>
                    </a:lnTo>
                    <a:lnTo>
                      <a:pt x="45" y="81"/>
                    </a:lnTo>
                    <a:lnTo>
                      <a:pt x="42" y="124"/>
                    </a:lnTo>
                    <a:lnTo>
                      <a:pt x="33" y="169"/>
                    </a:lnTo>
                    <a:lnTo>
                      <a:pt x="23" y="214"/>
                    </a:lnTo>
                    <a:lnTo>
                      <a:pt x="20" y="256"/>
                    </a:lnTo>
                    <a:lnTo>
                      <a:pt x="22" y="276"/>
                    </a:lnTo>
                    <a:lnTo>
                      <a:pt x="26" y="294"/>
                    </a:lnTo>
                    <a:lnTo>
                      <a:pt x="35" y="311"/>
                    </a:lnTo>
                    <a:lnTo>
                      <a:pt x="42" y="320"/>
                    </a:lnTo>
                    <a:lnTo>
                      <a:pt x="49" y="328"/>
                    </a:lnTo>
                    <a:lnTo>
                      <a:pt x="38" y="338"/>
                    </a:lnTo>
                    <a:lnTo>
                      <a:pt x="31" y="330"/>
                    </a:lnTo>
                    <a:lnTo>
                      <a:pt x="23" y="320"/>
                    </a:lnTo>
                    <a:lnTo>
                      <a:pt x="12" y="300"/>
                    </a:lnTo>
                    <a:lnTo>
                      <a:pt x="7" y="278"/>
                    </a:lnTo>
                    <a:lnTo>
                      <a:pt x="5" y="256"/>
                    </a:lnTo>
                    <a:lnTo>
                      <a:pt x="9" y="212"/>
                    </a:lnTo>
                    <a:lnTo>
                      <a:pt x="18" y="167"/>
                    </a:lnTo>
                    <a:lnTo>
                      <a:pt x="27" y="123"/>
                    </a:lnTo>
                    <a:lnTo>
                      <a:pt x="31" y="81"/>
                    </a:lnTo>
                    <a:lnTo>
                      <a:pt x="28" y="62"/>
                    </a:lnTo>
                    <a:lnTo>
                      <a:pt x="23" y="44"/>
                    </a:lnTo>
                    <a:lnTo>
                      <a:pt x="15" y="26"/>
                    </a:lnTo>
                    <a:lnTo>
                      <a:pt x="0" y="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90960" y="38300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0" y="9"/>
                    </a:lnTo>
                    <a:lnTo>
                      <a:pt x="1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021200" y="4092120"/>
                <a:ext cx="131760" cy="34560"/>
              </a:xfrm>
              <a:custGeom>
                <a:avLst/>
                <a:gdLst/>
                <a:ahLst/>
                <a:rect l="l" t="t" r="r" b="b"/>
                <a:pathLst>
                  <a:path w="165" h="46">
                    <a:moveTo>
                      <a:pt x="10" y="0"/>
                    </a:moveTo>
                    <a:lnTo>
                      <a:pt x="26" y="13"/>
                    </a:lnTo>
                    <a:lnTo>
                      <a:pt x="43" y="24"/>
                    </a:lnTo>
                    <a:lnTo>
                      <a:pt x="61" y="29"/>
                    </a:lnTo>
                    <a:lnTo>
                      <a:pt x="81" y="31"/>
                    </a:lnTo>
                    <a:lnTo>
                      <a:pt x="102" y="30"/>
                    </a:lnTo>
                    <a:lnTo>
                      <a:pt x="121" y="26"/>
                    </a:lnTo>
                    <a:lnTo>
                      <a:pt x="140" y="20"/>
                    </a:lnTo>
                    <a:lnTo>
                      <a:pt x="159" y="10"/>
                    </a:lnTo>
                    <a:lnTo>
                      <a:pt x="165" y="24"/>
                    </a:lnTo>
                    <a:lnTo>
                      <a:pt x="146" y="33"/>
                    </a:lnTo>
                    <a:lnTo>
                      <a:pt x="124" y="41"/>
                    </a:lnTo>
                    <a:lnTo>
                      <a:pt x="103" y="44"/>
                    </a:lnTo>
                    <a:lnTo>
                      <a:pt x="80" y="46"/>
                    </a:lnTo>
                    <a:lnTo>
                      <a:pt x="59" y="43"/>
                    </a:lnTo>
                    <a:lnTo>
                      <a:pt x="37" y="37"/>
                    </a:lnTo>
                    <a:lnTo>
                      <a:pt x="17" y="25"/>
                    </a:lnTo>
                    <a:lnTo>
                      <a:pt x="0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019400" y="409212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0"/>
                    </a:moveTo>
                    <a:lnTo>
                      <a:pt x="1" y="11"/>
                    </a:lnTo>
                    <a:lnTo>
                      <a:pt x="1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146480" y="3984120"/>
                <a:ext cx="130320" cy="124920"/>
              </a:xfrm>
              <a:custGeom>
                <a:avLst/>
                <a:gdLst/>
                <a:ahLst/>
                <a:rect l="l" t="t" r="r" b="b"/>
                <a:pathLst>
                  <a:path w="164" h="157">
                    <a:moveTo>
                      <a:pt x="0" y="146"/>
                    </a:moveTo>
                    <a:lnTo>
                      <a:pt x="154" y="0"/>
                    </a:lnTo>
                    <a:lnTo>
                      <a:pt x="164" y="11"/>
                    </a:lnTo>
                    <a:lnTo>
                      <a:pt x="10" y="157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146480" y="410004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7" y="14"/>
                    </a:moveTo>
                    <a:lnTo>
                      <a:pt x="10" y="1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268880" y="3984120"/>
                <a:ext cx="163440" cy="158400"/>
              </a:xfrm>
              <a:custGeom>
                <a:avLst/>
                <a:gdLst/>
                <a:ahLst/>
                <a:rect l="l" t="t" r="r" b="b"/>
                <a:pathLst>
                  <a:path w="206" h="199">
                    <a:moveTo>
                      <a:pt x="10" y="0"/>
                    </a:moveTo>
                    <a:lnTo>
                      <a:pt x="65" y="55"/>
                    </a:lnTo>
                    <a:lnTo>
                      <a:pt x="206" y="188"/>
                    </a:lnTo>
                    <a:lnTo>
                      <a:pt x="197" y="199"/>
                    </a:lnTo>
                    <a:lnTo>
                      <a:pt x="55" y="66"/>
                    </a:lnTo>
                    <a:lnTo>
                      <a:pt x="0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268880" y="397944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5"/>
                    </a:moveTo>
                    <a:lnTo>
                      <a:pt x="5" y="0"/>
                    </a:lnTo>
                    <a:lnTo>
                      <a:pt x="10" y="5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406760" y="4112640"/>
                <a:ext cx="25560" cy="2988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24" y="37"/>
                    </a:moveTo>
                    <a:lnTo>
                      <a:pt x="0" y="11"/>
                    </a:lnTo>
                    <a:lnTo>
                      <a:pt x="10" y="0"/>
                    </a:lnTo>
                    <a:lnTo>
                      <a:pt x="33" y="26"/>
                    </a:lnTo>
                    <a:lnTo>
                      <a:pt x="24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424400" y="413352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9" y="0"/>
                    </a:lnTo>
                    <a:lnTo>
                      <a:pt x="0" y="11"/>
                    </a:lnTo>
                    <a:lnTo>
                      <a:pt x="9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405320" y="4112640"/>
                <a:ext cx="49320" cy="489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11" y="0"/>
                    </a:moveTo>
                    <a:lnTo>
                      <a:pt x="0" y="10"/>
                    </a:lnTo>
                    <a:lnTo>
                      <a:pt x="52" y="63"/>
                    </a:lnTo>
                    <a:lnTo>
                      <a:pt x="63" y="5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405320" y="4112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11"/>
                    </a:moveTo>
                    <a:lnTo>
                      <a:pt x="11" y="0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446720" y="4154040"/>
                <a:ext cx="29880" cy="298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0" y="0"/>
                    </a:moveTo>
                    <a:lnTo>
                      <a:pt x="0" y="11"/>
                    </a:lnTo>
                    <a:lnTo>
                      <a:pt x="28" y="38"/>
                    </a:lnTo>
                    <a:lnTo>
                      <a:pt x="38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446720" y="415404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0"/>
                    </a:moveTo>
                    <a:lnTo>
                      <a:pt x="1" y="11"/>
                    </a:lnTo>
                    <a:lnTo>
                      <a:pt x="1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470480" y="4160520"/>
                <a:ext cx="137880" cy="40680"/>
              </a:xfrm>
              <a:custGeom>
                <a:avLst/>
                <a:gdLst/>
                <a:ahLst/>
                <a:rect l="l" t="t" r="r" b="b"/>
                <a:pathLst>
                  <a:path w="174" h="52">
                    <a:moveTo>
                      <a:pt x="6" y="19"/>
                    </a:moveTo>
                    <a:lnTo>
                      <a:pt x="26" y="28"/>
                    </a:lnTo>
                    <a:lnTo>
                      <a:pt x="47" y="35"/>
                    </a:lnTo>
                    <a:lnTo>
                      <a:pt x="66" y="37"/>
                    </a:lnTo>
                    <a:lnTo>
                      <a:pt x="88" y="37"/>
                    </a:lnTo>
                    <a:lnTo>
                      <a:pt x="109" y="32"/>
                    </a:lnTo>
                    <a:lnTo>
                      <a:pt x="127" y="26"/>
                    </a:lnTo>
                    <a:lnTo>
                      <a:pt x="146" y="15"/>
                    </a:lnTo>
                    <a:lnTo>
                      <a:pt x="164" y="0"/>
                    </a:lnTo>
                    <a:lnTo>
                      <a:pt x="174" y="11"/>
                    </a:lnTo>
                    <a:lnTo>
                      <a:pt x="154" y="27"/>
                    </a:lnTo>
                    <a:lnTo>
                      <a:pt x="133" y="39"/>
                    </a:lnTo>
                    <a:lnTo>
                      <a:pt x="111" y="47"/>
                    </a:lnTo>
                    <a:lnTo>
                      <a:pt x="89" y="52"/>
                    </a:lnTo>
                    <a:lnTo>
                      <a:pt x="65" y="52"/>
                    </a:lnTo>
                    <a:lnTo>
                      <a:pt x="44" y="49"/>
                    </a:lnTo>
                    <a:lnTo>
                      <a:pt x="20" y="42"/>
                    </a:lnTo>
                    <a:lnTo>
                      <a:pt x="0" y="32"/>
                    </a:lnTo>
                    <a:lnTo>
                      <a:pt x="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468680" y="417456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0" y="12"/>
                    </a:moveTo>
                    <a:lnTo>
                      <a:pt x="1" y="13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599000" y="416052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1"/>
                    </a:moveTo>
                    <a:lnTo>
                      <a:pt x="11" y="1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611600" y="2639520"/>
                <a:ext cx="1513080" cy="1937880"/>
              </a:xfrm>
              <a:custGeom>
                <a:avLst/>
                <a:gdLst/>
                <a:ahLst/>
                <a:rect l="l" t="t" r="r" b="b"/>
                <a:pathLst>
                  <a:path w="1904" h="2442">
                    <a:moveTo>
                      <a:pt x="371" y="703"/>
                    </a:moveTo>
                    <a:lnTo>
                      <a:pt x="361" y="695"/>
                    </a:lnTo>
                    <a:lnTo>
                      <a:pt x="350" y="686"/>
                    </a:lnTo>
                    <a:lnTo>
                      <a:pt x="346" y="682"/>
                    </a:lnTo>
                    <a:lnTo>
                      <a:pt x="341" y="680"/>
                    </a:lnTo>
                    <a:lnTo>
                      <a:pt x="330" y="675"/>
                    </a:lnTo>
                    <a:lnTo>
                      <a:pt x="320" y="670"/>
                    </a:lnTo>
                    <a:lnTo>
                      <a:pt x="309" y="668"/>
                    </a:lnTo>
                    <a:lnTo>
                      <a:pt x="304" y="667"/>
                    </a:lnTo>
                    <a:lnTo>
                      <a:pt x="299" y="667"/>
                    </a:lnTo>
                    <a:lnTo>
                      <a:pt x="288" y="665"/>
                    </a:lnTo>
                    <a:lnTo>
                      <a:pt x="277" y="665"/>
                    </a:lnTo>
                    <a:lnTo>
                      <a:pt x="266" y="665"/>
                    </a:lnTo>
                    <a:lnTo>
                      <a:pt x="245" y="669"/>
                    </a:lnTo>
                    <a:lnTo>
                      <a:pt x="223" y="673"/>
                    </a:lnTo>
                    <a:lnTo>
                      <a:pt x="203" y="678"/>
                    </a:lnTo>
                    <a:lnTo>
                      <a:pt x="181" y="682"/>
                    </a:lnTo>
                    <a:lnTo>
                      <a:pt x="160" y="687"/>
                    </a:lnTo>
                    <a:lnTo>
                      <a:pt x="149" y="689"/>
                    </a:lnTo>
                    <a:lnTo>
                      <a:pt x="139" y="690"/>
                    </a:lnTo>
                    <a:lnTo>
                      <a:pt x="128" y="690"/>
                    </a:lnTo>
                    <a:lnTo>
                      <a:pt x="118" y="690"/>
                    </a:lnTo>
                    <a:lnTo>
                      <a:pt x="107" y="689"/>
                    </a:lnTo>
                    <a:lnTo>
                      <a:pt x="97" y="686"/>
                    </a:lnTo>
                    <a:lnTo>
                      <a:pt x="88" y="684"/>
                    </a:lnTo>
                    <a:lnTo>
                      <a:pt x="77" y="679"/>
                    </a:lnTo>
                    <a:lnTo>
                      <a:pt x="67" y="674"/>
                    </a:lnTo>
                    <a:lnTo>
                      <a:pt x="57" y="667"/>
                    </a:lnTo>
                    <a:lnTo>
                      <a:pt x="47" y="658"/>
                    </a:lnTo>
                    <a:lnTo>
                      <a:pt x="38" y="648"/>
                    </a:lnTo>
                    <a:lnTo>
                      <a:pt x="31" y="641"/>
                    </a:lnTo>
                    <a:lnTo>
                      <a:pt x="27" y="634"/>
                    </a:lnTo>
                    <a:lnTo>
                      <a:pt x="22" y="626"/>
                    </a:lnTo>
                    <a:lnTo>
                      <a:pt x="17" y="619"/>
                    </a:lnTo>
                    <a:lnTo>
                      <a:pt x="13" y="612"/>
                    </a:lnTo>
                    <a:lnTo>
                      <a:pt x="9" y="604"/>
                    </a:lnTo>
                    <a:lnTo>
                      <a:pt x="7" y="596"/>
                    </a:lnTo>
                    <a:lnTo>
                      <a:pt x="4" y="588"/>
                    </a:lnTo>
                    <a:lnTo>
                      <a:pt x="2" y="580"/>
                    </a:lnTo>
                    <a:lnTo>
                      <a:pt x="1" y="572"/>
                    </a:lnTo>
                    <a:lnTo>
                      <a:pt x="0" y="564"/>
                    </a:lnTo>
                    <a:lnTo>
                      <a:pt x="0" y="557"/>
                    </a:lnTo>
                    <a:lnTo>
                      <a:pt x="0" y="541"/>
                    </a:lnTo>
                    <a:lnTo>
                      <a:pt x="1" y="524"/>
                    </a:lnTo>
                    <a:lnTo>
                      <a:pt x="4" y="508"/>
                    </a:lnTo>
                    <a:lnTo>
                      <a:pt x="8" y="492"/>
                    </a:lnTo>
                    <a:lnTo>
                      <a:pt x="11" y="483"/>
                    </a:lnTo>
                    <a:lnTo>
                      <a:pt x="14" y="475"/>
                    </a:lnTo>
                    <a:lnTo>
                      <a:pt x="20" y="459"/>
                    </a:lnTo>
                    <a:lnTo>
                      <a:pt x="28" y="443"/>
                    </a:lnTo>
                    <a:lnTo>
                      <a:pt x="36" y="427"/>
                    </a:lnTo>
                    <a:lnTo>
                      <a:pt x="45" y="411"/>
                    </a:lnTo>
                    <a:lnTo>
                      <a:pt x="55" y="396"/>
                    </a:lnTo>
                    <a:lnTo>
                      <a:pt x="66" y="382"/>
                    </a:lnTo>
                    <a:lnTo>
                      <a:pt x="75" y="367"/>
                    </a:lnTo>
                    <a:lnTo>
                      <a:pt x="86" y="354"/>
                    </a:lnTo>
                    <a:lnTo>
                      <a:pt x="97" y="340"/>
                    </a:lnTo>
                    <a:lnTo>
                      <a:pt x="119" y="314"/>
                    </a:lnTo>
                    <a:lnTo>
                      <a:pt x="129" y="303"/>
                    </a:lnTo>
                    <a:lnTo>
                      <a:pt x="140" y="292"/>
                    </a:lnTo>
                    <a:lnTo>
                      <a:pt x="159" y="273"/>
                    </a:lnTo>
                    <a:lnTo>
                      <a:pt x="174" y="257"/>
                    </a:lnTo>
                    <a:lnTo>
                      <a:pt x="195" y="237"/>
                    </a:lnTo>
                    <a:lnTo>
                      <a:pt x="211" y="221"/>
                    </a:lnTo>
                    <a:lnTo>
                      <a:pt x="227" y="207"/>
                    </a:lnTo>
                    <a:lnTo>
                      <a:pt x="243" y="192"/>
                    </a:lnTo>
                    <a:lnTo>
                      <a:pt x="259" y="180"/>
                    </a:lnTo>
                    <a:lnTo>
                      <a:pt x="275" y="168"/>
                    </a:lnTo>
                    <a:lnTo>
                      <a:pt x="291" y="157"/>
                    </a:lnTo>
                    <a:lnTo>
                      <a:pt x="321" y="136"/>
                    </a:lnTo>
                    <a:lnTo>
                      <a:pt x="336" y="127"/>
                    </a:lnTo>
                    <a:lnTo>
                      <a:pt x="352" y="120"/>
                    </a:lnTo>
                    <a:lnTo>
                      <a:pt x="366" y="113"/>
                    </a:lnTo>
                    <a:lnTo>
                      <a:pt x="381" y="107"/>
                    </a:lnTo>
                    <a:lnTo>
                      <a:pt x="396" y="102"/>
                    </a:lnTo>
                    <a:lnTo>
                      <a:pt x="409" y="97"/>
                    </a:lnTo>
                    <a:lnTo>
                      <a:pt x="424" y="93"/>
                    </a:lnTo>
                    <a:lnTo>
                      <a:pt x="437" y="89"/>
                    </a:lnTo>
                    <a:lnTo>
                      <a:pt x="451" y="87"/>
                    </a:lnTo>
                    <a:lnTo>
                      <a:pt x="463" y="86"/>
                    </a:lnTo>
                    <a:lnTo>
                      <a:pt x="476" y="85"/>
                    </a:lnTo>
                    <a:lnTo>
                      <a:pt x="489" y="83"/>
                    </a:lnTo>
                    <a:lnTo>
                      <a:pt x="500" y="83"/>
                    </a:lnTo>
                    <a:lnTo>
                      <a:pt x="512" y="85"/>
                    </a:lnTo>
                    <a:lnTo>
                      <a:pt x="523" y="86"/>
                    </a:lnTo>
                    <a:lnTo>
                      <a:pt x="533" y="88"/>
                    </a:lnTo>
                    <a:lnTo>
                      <a:pt x="544" y="91"/>
                    </a:lnTo>
                    <a:lnTo>
                      <a:pt x="553" y="93"/>
                    </a:lnTo>
                    <a:lnTo>
                      <a:pt x="562" y="97"/>
                    </a:lnTo>
                    <a:lnTo>
                      <a:pt x="570" y="100"/>
                    </a:lnTo>
                    <a:lnTo>
                      <a:pt x="574" y="103"/>
                    </a:lnTo>
                    <a:lnTo>
                      <a:pt x="579" y="105"/>
                    </a:lnTo>
                    <a:lnTo>
                      <a:pt x="586" y="110"/>
                    </a:lnTo>
                    <a:lnTo>
                      <a:pt x="592" y="115"/>
                    </a:lnTo>
                    <a:lnTo>
                      <a:pt x="599" y="121"/>
                    </a:lnTo>
                    <a:lnTo>
                      <a:pt x="607" y="130"/>
                    </a:lnTo>
                    <a:lnTo>
                      <a:pt x="613" y="138"/>
                    </a:lnTo>
                    <a:lnTo>
                      <a:pt x="619" y="148"/>
                    </a:lnTo>
                    <a:lnTo>
                      <a:pt x="623" y="158"/>
                    </a:lnTo>
                    <a:lnTo>
                      <a:pt x="627" y="168"/>
                    </a:lnTo>
                    <a:lnTo>
                      <a:pt x="629" y="177"/>
                    </a:lnTo>
                    <a:lnTo>
                      <a:pt x="630" y="187"/>
                    </a:lnTo>
                    <a:lnTo>
                      <a:pt x="630" y="198"/>
                    </a:lnTo>
                    <a:lnTo>
                      <a:pt x="630" y="208"/>
                    </a:lnTo>
                    <a:lnTo>
                      <a:pt x="630" y="219"/>
                    </a:lnTo>
                    <a:lnTo>
                      <a:pt x="627" y="241"/>
                    </a:lnTo>
                    <a:lnTo>
                      <a:pt x="623" y="263"/>
                    </a:lnTo>
                    <a:lnTo>
                      <a:pt x="618" y="285"/>
                    </a:lnTo>
                    <a:lnTo>
                      <a:pt x="613" y="308"/>
                    </a:lnTo>
                    <a:lnTo>
                      <a:pt x="608" y="330"/>
                    </a:lnTo>
                    <a:lnTo>
                      <a:pt x="606" y="352"/>
                    </a:lnTo>
                    <a:lnTo>
                      <a:pt x="606" y="362"/>
                    </a:lnTo>
                    <a:lnTo>
                      <a:pt x="606" y="373"/>
                    </a:lnTo>
                    <a:lnTo>
                      <a:pt x="606" y="384"/>
                    </a:lnTo>
                    <a:lnTo>
                      <a:pt x="607" y="394"/>
                    </a:lnTo>
                    <a:lnTo>
                      <a:pt x="610" y="404"/>
                    </a:lnTo>
                    <a:lnTo>
                      <a:pt x="611" y="409"/>
                    </a:lnTo>
                    <a:lnTo>
                      <a:pt x="613" y="413"/>
                    </a:lnTo>
                    <a:lnTo>
                      <a:pt x="617" y="423"/>
                    </a:lnTo>
                    <a:lnTo>
                      <a:pt x="623" y="433"/>
                    </a:lnTo>
                    <a:lnTo>
                      <a:pt x="625" y="437"/>
                    </a:lnTo>
                    <a:lnTo>
                      <a:pt x="629" y="442"/>
                    </a:lnTo>
                    <a:lnTo>
                      <a:pt x="633" y="446"/>
                    </a:lnTo>
                    <a:lnTo>
                      <a:pt x="636" y="450"/>
                    </a:lnTo>
                    <a:lnTo>
                      <a:pt x="641" y="455"/>
                    </a:lnTo>
                    <a:lnTo>
                      <a:pt x="646" y="459"/>
                    </a:lnTo>
                    <a:lnTo>
                      <a:pt x="651" y="461"/>
                    </a:lnTo>
                    <a:lnTo>
                      <a:pt x="656" y="465"/>
                    </a:lnTo>
                    <a:lnTo>
                      <a:pt x="667" y="470"/>
                    </a:lnTo>
                    <a:lnTo>
                      <a:pt x="678" y="475"/>
                    </a:lnTo>
                    <a:lnTo>
                      <a:pt x="690" y="477"/>
                    </a:lnTo>
                    <a:lnTo>
                      <a:pt x="702" y="478"/>
                    </a:lnTo>
                    <a:lnTo>
                      <a:pt x="715" y="479"/>
                    </a:lnTo>
                    <a:lnTo>
                      <a:pt x="728" y="478"/>
                    </a:lnTo>
                    <a:lnTo>
                      <a:pt x="742" y="477"/>
                    </a:lnTo>
                    <a:lnTo>
                      <a:pt x="754" y="475"/>
                    </a:lnTo>
                    <a:lnTo>
                      <a:pt x="767" y="472"/>
                    </a:lnTo>
                    <a:lnTo>
                      <a:pt x="780" y="467"/>
                    </a:lnTo>
                    <a:lnTo>
                      <a:pt x="792" y="462"/>
                    </a:lnTo>
                    <a:lnTo>
                      <a:pt x="804" y="457"/>
                    </a:lnTo>
                    <a:lnTo>
                      <a:pt x="815" y="450"/>
                    </a:lnTo>
                    <a:lnTo>
                      <a:pt x="825" y="444"/>
                    </a:lnTo>
                    <a:lnTo>
                      <a:pt x="946" y="330"/>
                    </a:lnTo>
                    <a:lnTo>
                      <a:pt x="1002" y="279"/>
                    </a:lnTo>
                    <a:lnTo>
                      <a:pt x="1055" y="231"/>
                    </a:lnTo>
                    <a:lnTo>
                      <a:pt x="1105" y="187"/>
                    </a:lnTo>
                    <a:lnTo>
                      <a:pt x="1151" y="148"/>
                    </a:lnTo>
                    <a:lnTo>
                      <a:pt x="1173" y="130"/>
                    </a:lnTo>
                    <a:lnTo>
                      <a:pt x="1195" y="113"/>
                    </a:lnTo>
                    <a:lnTo>
                      <a:pt x="1216" y="97"/>
                    </a:lnTo>
                    <a:lnTo>
                      <a:pt x="1235" y="82"/>
                    </a:lnTo>
                    <a:lnTo>
                      <a:pt x="1255" y="69"/>
                    </a:lnTo>
                    <a:lnTo>
                      <a:pt x="1273" y="56"/>
                    </a:lnTo>
                    <a:lnTo>
                      <a:pt x="1292" y="44"/>
                    </a:lnTo>
                    <a:lnTo>
                      <a:pt x="1309" y="34"/>
                    </a:lnTo>
                    <a:lnTo>
                      <a:pt x="1325" y="26"/>
                    </a:lnTo>
                    <a:lnTo>
                      <a:pt x="1341" y="19"/>
                    </a:lnTo>
                    <a:lnTo>
                      <a:pt x="1355" y="11"/>
                    </a:lnTo>
                    <a:lnTo>
                      <a:pt x="1370" y="6"/>
                    </a:lnTo>
                    <a:lnTo>
                      <a:pt x="1385" y="3"/>
                    </a:lnTo>
                    <a:lnTo>
                      <a:pt x="1397" y="0"/>
                    </a:lnTo>
                    <a:lnTo>
                      <a:pt x="1409" y="0"/>
                    </a:lnTo>
                    <a:lnTo>
                      <a:pt x="1421" y="0"/>
                    </a:lnTo>
                    <a:lnTo>
                      <a:pt x="1427" y="0"/>
                    </a:lnTo>
                    <a:lnTo>
                      <a:pt x="1432" y="1"/>
                    </a:lnTo>
                    <a:lnTo>
                      <a:pt x="1443" y="5"/>
                    </a:lnTo>
                    <a:lnTo>
                      <a:pt x="1448" y="8"/>
                    </a:lnTo>
                    <a:lnTo>
                      <a:pt x="1453" y="10"/>
                    </a:lnTo>
                    <a:lnTo>
                      <a:pt x="1458" y="12"/>
                    </a:lnTo>
                    <a:lnTo>
                      <a:pt x="1463" y="16"/>
                    </a:lnTo>
                    <a:lnTo>
                      <a:pt x="1487" y="41"/>
                    </a:lnTo>
                    <a:lnTo>
                      <a:pt x="1512" y="67"/>
                    </a:lnTo>
                    <a:lnTo>
                      <a:pt x="1535" y="94"/>
                    </a:lnTo>
                    <a:lnTo>
                      <a:pt x="1558" y="121"/>
                    </a:lnTo>
                    <a:lnTo>
                      <a:pt x="1580" y="149"/>
                    </a:lnTo>
                    <a:lnTo>
                      <a:pt x="1602" y="179"/>
                    </a:lnTo>
                    <a:lnTo>
                      <a:pt x="1623" y="208"/>
                    </a:lnTo>
                    <a:lnTo>
                      <a:pt x="1644" y="237"/>
                    </a:lnTo>
                    <a:lnTo>
                      <a:pt x="1663" y="268"/>
                    </a:lnTo>
                    <a:lnTo>
                      <a:pt x="1682" y="300"/>
                    </a:lnTo>
                    <a:lnTo>
                      <a:pt x="1700" y="332"/>
                    </a:lnTo>
                    <a:lnTo>
                      <a:pt x="1718" y="363"/>
                    </a:lnTo>
                    <a:lnTo>
                      <a:pt x="1735" y="396"/>
                    </a:lnTo>
                    <a:lnTo>
                      <a:pt x="1751" y="429"/>
                    </a:lnTo>
                    <a:lnTo>
                      <a:pt x="1766" y="464"/>
                    </a:lnTo>
                    <a:lnTo>
                      <a:pt x="1781" y="498"/>
                    </a:lnTo>
                    <a:lnTo>
                      <a:pt x="1795" y="533"/>
                    </a:lnTo>
                    <a:lnTo>
                      <a:pt x="1808" y="569"/>
                    </a:lnTo>
                    <a:lnTo>
                      <a:pt x="1821" y="604"/>
                    </a:lnTo>
                    <a:lnTo>
                      <a:pt x="1832" y="640"/>
                    </a:lnTo>
                    <a:lnTo>
                      <a:pt x="1843" y="676"/>
                    </a:lnTo>
                    <a:lnTo>
                      <a:pt x="1853" y="713"/>
                    </a:lnTo>
                    <a:lnTo>
                      <a:pt x="1861" y="751"/>
                    </a:lnTo>
                    <a:lnTo>
                      <a:pt x="1870" y="789"/>
                    </a:lnTo>
                    <a:lnTo>
                      <a:pt x="1877" y="827"/>
                    </a:lnTo>
                    <a:lnTo>
                      <a:pt x="1883" y="865"/>
                    </a:lnTo>
                    <a:lnTo>
                      <a:pt x="1889" y="904"/>
                    </a:lnTo>
                    <a:lnTo>
                      <a:pt x="1894" y="943"/>
                    </a:lnTo>
                    <a:lnTo>
                      <a:pt x="1898" y="982"/>
                    </a:lnTo>
                    <a:lnTo>
                      <a:pt x="1900" y="1022"/>
                    </a:lnTo>
                    <a:lnTo>
                      <a:pt x="1903" y="1062"/>
                    </a:lnTo>
                    <a:lnTo>
                      <a:pt x="1904" y="1102"/>
                    </a:lnTo>
                    <a:lnTo>
                      <a:pt x="1904" y="1142"/>
                    </a:lnTo>
                    <a:lnTo>
                      <a:pt x="1903" y="1183"/>
                    </a:lnTo>
                    <a:lnTo>
                      <a:pt x="1902" y="1224"/>
                    </a:lnTo>
                    <a:lnTo>
                      <a:pt x="1898" y="1265"/>
                    </a:lnTo>
                    <a:lnTo>
                      <a:pt x="1894" y="1306"/>
                    </a:lnTo>
                    <a:lnTo>
                      <a:pt x="1889" y="1346"/>
                    </a:lnTo>
                    <a:lnTo>
                      <a:pt x="1883" y="1388"/>
                    </a:lnTo>
                    <a:lnTo>
                      <a:pt x="1877" y="1430"/>
                    </a:lnTo>
                    <a:lnTo>
                      <a:pt x="1869" y="1471"/>
                    </a:lnTo>
                    <a:lnTo>
                      <a:pt x="1860" y="1514"/>
                    </a:lnTo>
                    <a:lnTo>
                      <a:pt x="1850" y="1556"/>
                    </a:lnTo>
                    <a:lnTo>
                      <a:pt x="1839" y="1597"/>
                    </a:lnTo>
                    <a:lnTo>
                      <a:pt x="1827" y="1640"/>
                    </a:lnTo>
                    <a:lnTo>
                      <a:pt x="1814" y="1681"/>
                    </a:lnTo>
                    <a:lnTo>
                      <a:pt x="1799" y="1723"/>
                    </a:lnTo>
                    <a:lnTo>
                      <a:pt x="1783" y="1766"/>
                    </a:lnTo>
                    <a:lnTo>
                      <a:pt x="1767" y="1807"/>
                    </a:lnTo>
                    <a:lnTo>
                      <a:pt x="1749" y="1849"/>
                    </a:lnTo>
                    <a:lnTo>
                      <a:pt x="1731" y="1892"/>
                    </a:lnTo>
                    <a:lnTo>
                      <a:pt x="1710" y="1933"/>
                    </a:lnTo>
                    <a:lnTo>
                      <a:pt x="1689" y="1975"/>
                    </a:lnTo>
                    <a:lnTo>
                      <a:pt x="1666" y="2018"/>
                    </a:lnTo>
                    <a:lnTo>
                      <a:pt x="1643" y="2059"/>
                    </a:lnTo>
                    <a:lnTo>
                      <a:pt x="1618" y="2101"/>
                    </a:lnTo>
                    <a:lnTo>
                      <a:pt x="1591" y="2142"/>
                    </a:lnTo>
                    <a:lnTo>
                      <a:pt x="1564" y="2183"/>
                    </a:lnTo>
                    <a:lnTo>
                      <a:pt x="1536" y="2224"/>
                    </a:lnTo>
                    <a:lnTo>
                      <a:pt x="1506" y="2266"/>
                    </a:lnTo>
                    <a:lnTo>
                      <a:pt x="1475" y="2306"/>
                    </a:lnTo>
                    <a:lnTo>
                      <a:pt x="1442" y="2347"/>
                    </a:lnTo>
                    <a:lnTo>
                      <a:pt x="1409" y="2387"/>
                    </a:lnTo>
                    <a:lnTo>
                      <a:pt x="1374" y="2427"/>
                    </a:lnTo>
                    <a:lnTo>
                      <a:pt x="1369" y="2431"/>
                    </a:lnTo>
                    <a:lnTo>
                      <a:pt x="1364" y="2435"/>
                    </a:lnTo>
                    <a:lnTo>
                      <a:pt x="1358" y="2437"/>
                    </a:lnTo>
                    <a:lnTo>
                      <a:pt x="1352" y="2438"/>
                    </a:lnTo>
                    <a:lnTo>
                      <a:pt x="1341" y="2442"/>
                    </a:lnTo>
                    <a:lnTo>
                      <a:pt x="1333" y="2442"/>
                    </a:lnTo>
                    <a:lnTo>
                      <a:pt x="1327" y="2442"/>
                    </a:lnTo>
                    <a:lnTo>
                      <a:pt x="1321" y="2442"/>
                    </a:lnTo>
                    <a:lnTo>
                      <a:pt x="1314" y="2441"/>
                    </a:lnTo>
                    <a:lnTo>
                      <a:pt x="1308" y="2440"/>
                    </a:lnTo>
                    <a:lnTo>
                      <a:pt x="1300" y="2438"/>
                    </a:lnTo>
                    <a:lnTo>
                      <a:pt x="1293" y="2436"/>
                    </a:lnTo>
                    <a:lnTo>
                      <a:pt x="1286" y="2434"/>
                    </a:lnTo>
                    <a:lnTo>
                      <a:pt x="1270" y="2427"/>
                    </a:lnTo>
                    <a:lnTo>
                      <a:pt x="1253" y="2419"/>
                    </a:lnTo>
                    <a:lnTo>
                      <a:pt x="1235" y="2409"/>
                    </a:lnTo>
                    <a:lnTo>
                      <a:pt x="1218" y="2398"/>
                    </a:lnTo>
                    <a:lnTo>
                      <a:pt x="1200" y="2385"/>
                    </a:lnTo>
                    <a:lnTo>
                      <a:pt x="1180" y="2371"/>
                    </a:lnTo>
                    <a:lnTo>
                      <a:pt x="1160" y="2355"/>
                    </a:lnTo>
                    <a:lnTo>
                      <a:pt x="1139" y="2338"/>
                    </a:lnTo>
                    <a:lnTo>
                      <a:pt x="1118" y="2320"/>
                    </a:lnTo>
                    <a:lnTo>
                      <a:pt x="1095" y="2300"/>
                    </a:lnTo>
                    <a:lnTo>
                      <a:pt x="1072" y="2278"/>
                    </a:lnTo>
                    <a:lnTo>
                      <a:pt x="1024" y="2233"/>
                    </a:lnTo>
                    <a:lnTo>
                      <a:pt x="971" y="2184"/>
                    </a:lnTo>
                    <a:lnTo>
                      <a:pt x="918" y="2130"/>
                    </a:lnTo>
                    <a:lnTo>
                      <a:pt x="799" y="2014"/>
                    </a:lnTo>
                    <a:lnTo>
                      <a:pt x="734" y="1952"/>
                    </a:lnTo>
                    <a:lnTo>
                      <a:pt x="667" y="1888"/>
                    </a:lnTo>
                    <a:lnTo>
                      <a:pt x="663" y="1878"/>
                    </a:lnTo>
                    <a:lnTo>
                      <a:pt x="661" y="1869"/>
                    </a:lnTo>
                    <a:lnTo>
                      <a:pt x="656" y="1848"/>
                    </a:lnTo>
                    <a:lnTo>
                      <a:pt x="655" y="1838"/>
                    </a:lnTo>
                    <a:lnTo>
                      <a:pt x="654" y="1827"/>
                    </a:lnTo>
                    <a:lnTo>
                      <a:pt x="654" y="1807"/>
                    </a:lnTo>
                    <a:lnTo>
                      <a:pt x="655" y="1798"/>
                    </a:lnTo>
                    <a:lnTo>
                      <a:pt x="655" y="1793"/>
                    </a:lnTo>
                    <a:lnTo>
                      <a:pt x="656" y="1788"/>
                    </a:lnTo>
                    <a:lnTo>
                      <a:pt x="658" y="1778"/>
                    </a:lnTo>
                    <a:lnTo>
                      <a:pt x="662" y="1770"/>
                    </a:lnTo>
                    <a:lnTo>
                      <a:pt x="666" y="1761"/>
                    </a:lnTo>
                    <a:lnTo>
                      <a:pt x="671" y="1752"/>
                    </a:lnTo>
                    <a:lnTo>
                      <a:pt x="676" y="1745"/>
                    </a:lnTo>
                    <a:lnTo>
                      <a:pt x="679" y="1741"/>
                    </a:lnTo>
                    <a:lnTo>
                      <a:pt x="682" y="1738"/>
                    </a:lnTo>
                    <a:lnTo>
                      <a:pt x="690" y="1730"/>
                    </a:lnTo>
                    <a:lnTo>
                      <a:pt x="700" y="1724"/>
                    </a:lnTo>
                    <a:lnTo>
                      <a:pt x="709" y="1718"/>
                    </a:lnTo>
                    <a:lnTo>
                      <a:pt x="718" y="1715"/>
                    </a:lnTo>
                    <a:lnTo>
                      <a:pt x="728" y="1711"/>
                    </a:lnTo>
                    <a:lnTo>
                      <a:pt x="738" y="1708"/>
                    </a:lnTo>
                    <a:lnTo>
                      <a:pt x="749" y="1707"/>
                    </a:lnTo>
                    <a:lnTo>
                      <a:pt x="759" y="1707"/>
                    </a:lnTo>
                    <a:lnTo>
                      <a:pt x="770" y="1707"/>
                    </a:lnTo>
                    <a:lnTo>
                      <a:pt x="781" y="1707"/>
                    </a:lnTo>
                    <a:lnTo>
                      <a:pt x="803" y="1710"/>
                    </a:lnTo>
                    <a:lnTo>
                      <a:pt x="825" y="1715"/>
                    </a:lnTo>
                    <a:lnTo>
                      <a:pt x="847" y="1719"/>
                    </a:lnTo>
                    <a:lnTo>
                      <a:pt x="869" y="1724"/>
                    </a:lnTo>
                    <a:lnTo>
                      <a:pt x="891" y="1728"/>
                    </a:lnTo>
                    <a:lnTo>
                      <a:pt x="913" y="1732"/>
                    </a:lnTo>
                    <a:lnTo>
                      <a:pt x="924" y="1732"/>
                    </a:lnTo>
                    <a:lnTo>
                      <a:pt x="935" y="1732"/>
                    </a:lnTo>
                    <a:lnTo>
                      <a:pt x="945" y="1732"/>
                    </a:lnTo>
                    <a:lnTo>
                      <a:pt x="954" y="1730"/>
                    </a:lnTo>
                    <a:lnTo>
                      <a:pt x="965" y="1728"/>
                    </a:lnTo>
                    <a:lnTo>
                      <a:pt x="970" y="1726"/>
                    </a:lnTo>
                    <a:lnTo>
                      <a:pt x="975" y="1724"/>
                    </a:lnTo>
                    <a:lnTo>
                      <a:pt x="985" y="1721"/>
                    </a:lnTo>
                    <a:lnTo>
                      <a:pt x="993" y="1715"/>
                    </a:lnTo>
                    <a:lnTo>
                      <a:pt x="998" y="1712"/>
                    </a:lnTo>
                    <a:lnTo>
                      <a:pt x="1002" y="1708"/>
                    </a:lnTo>
                    <a:lnTo>
                      <a:pt x="1007" y="1705"/>
                    </a:lnTo>
                    <a:lnTo>
                      <a:pt x="1012" y="1700"/>
                    </a:lnTo>
                    <a:lnTo>
                      <a:pt x="1017" y="1694"/>
                    </a:lnTo>
                    <a:lnTo>
                      <a:pt x="1023" y="1688"/>
                    </a:lnTo>
                    <a:lnTo>
                      <a:pt x="1031" y="1672"/>
                    </a:lnTo>
                    <a:lnTo>
                      <a:pt x="1036" y="1663"/>
                    </a:lnTo>
                    <a:lnTo>
                      <a:pt x="1039" y="1653"/>
                    </a:lnTo>
                    <a:lnTo>
                      <a:pt x="1042" y="1645"/>
                    </a:lnTo>
                    <a:lnTo>
                      <a:pt x="1045" y="1634"/>
                    </a:lnTo>
                    <a:lnTo>
                      <a:pt x="1046" y="1624"/>
                    </a:lnTo>
                    <a:lnTo>
                      <a:pt x="1047" y="1613"/>
                    </a:lnTo>
                    <a:lnTo>
                      <a:pt x="1048" y="1601"/>
                    </a:lnTo>
                    <a:lnTo>
                      <a:pt x="1048" y="1590"/>
                    </a:lnTo>
                    <a:lnTo>
                      <a:pt x="1048" y="1578"/>
                    </a:lnTo>
                    <a:lnTo>
                      <a:pt x="1047" y="1564"/>
                    </a:lnTo>
                    <a:lnTo>
                      <a:pt x="1045" y="1552"/>
                    </a:lnTo>
                    <a:lnTo>
                      <a:pt x="1042" y="1538"/>
                    </a:lnTo>
                    <a:lnTo>
                      <a:pt x="1040" y="1525"/>
                    </a:lnTo>
                    <a:lnTo>
                      <a:pt x="1035" y="1510"/>
                    </a:lnTo>
                    <a:lnTo>
                      <a:pt x="1031" y="1497"/>
                    </a:lnTo>
                    <a:lnTo>
                      <a:pt x="1025" y="1482"/>
                    </a:lnTo>
                    <a:lnTo>
                      <a:pt x="1019" y="1468"/>
                    </a:lnTo>
                    <a:lnTo>
                      <a:pt x="1012" y="1453"/>
                    </a:lnTo>
                    <a:lnTo>
                      <a:pt x="1004" y="1437"/>
                    </a:lnTo>
                    <a:lnTo>
                      <a:pt x="996" y="1422"/>
                    </a:lnTo>
                    <a:lnTo>
                      <a:pt x="986" y="1406"/>
                    </a:lnTo>
                    <a:lnTo>
                      <a:pt x="976" y="1390"/>
                    </a:lnTo>
                    <a:lnTo>
                      <a:pt x="965" y="1376"/>
                    </a:lnTo>
                    <a:lnTo>
                      <a:pt x="953" y="1360"/>
                    </a:lnTo>
                    <a:lnTo>
                      <a:pt x="940" y="1344"/>
                    </a:lnTo>
                    <a:lnTo>
                      <a:pt x="926" y="1328"/>
                    </a:lnTo>
                    <a:lnTo>
                      <a:pt x="910" y="1312"/>
                    </a:lnTo>
                    <a:lnTo>
                      <a:pt x="894" y="1296"/>
                    </a:lnTo>
                    <a:lnTo>
                      <a:pt x="875" y="1276"/>
                    </a:lnTo>
                    <a:lnTo>
                      <a:pt x="859" y="1260"/>
                    </a:lnTo>
                    <a:lnTo>
                      <a:pt x="841" y="1241"/>
                    </a:lnTo>
                    <a:lnTo>
                      <a:pt x="817" y="1221"/>
                    </a:lnTo>
                    <a:lnTo>
                      <a:pt x="793" y="1198"/>
                    </a:lnTo>
                    <a:lnTo>
                      <a:pt x="780" y="1187"/>
                    </a:lnTo>
                    <a:lnTo>
                      <a:pt x="765" y="1176"/>
                    </a:lnTo>
                    <a:lnTo>
                      <a:pt x="751" y="1165"/>
                    </a:lnTo>
                    <a:lnTo>
                      <a:pt x="737" y="1156"/>
                    </a:lnTo>
                    <a:lnTo>
                      <a:pt x="721" y="1146"/>
                    </a:lnTo>
                    <a:lnTo>
                      <a:pt x="705" y="1137"/>
                    </a:lnTo>
                    <a:lnTo>
                      <a:pt x="698" y="1132"/>
                    </a:lnTo>
                    <a:lnTo>
                      <a:pt x="689" y="1129"/>
                    </a:lnTo>
                    <a:lnTo>
                      <a:pt x="673" y="1121"/>
                    </a:lnTo>
                    <a:lnTo>
                      <a:pt x="657" y="1114"/>
                    </a:lnTo>
                    <a:lnTo>
                      <a:pt x="641" y="1109"/>
                    </a:lnTo>
                    <a:lnTo>
                      <a:pt x="625" y="1104"/>
                    </a:lnTo>
                    <a:lnTo>
                      <a:pt x="608" y="1102"/>
                    </a:lnTo>
                    <a:lnTo>
                      <a:pt x="601" y="1101"/>
                    </a:lnTo>
                    <a:lnTo>
                      <a:pt x="592" y="1101"/>
                    </a:lnTo>
                    <a:lnTo>
                      <a:pt x="577" y="1101"/>
                    </a:lnTo>
                    <a:lnTo>
                      <a:pt x="561" y="1102"/>
                    </a:lnTo>
                    <a:lnTo>
                      <a:pt x="552" y="1103"/>
                    </a:lnTo>
                    <a:lnTo>
                      <a:pt x="545" y="1106"/>
                    </a:lnTo>
                    <a:lnTo>
                      <a:pt x="536" y="1108"/>
                    </a:lnTo>
                    <a:lnTo>
                      <a:pt x="529" y="1110"/>
                    </a:lnTo>
                    <a:lnTo>
                      <a:pt x="522" y="1114"/>
                    </a:lnTo>
                    <a:lnTo>
                      <a:pt x="513" y="1118"/>
                    </a:lnTo>
                    <a:lnTo>
                      <a:pt x="506" y="1123"/>
                    </a:lnTo>
                    <a:lnTo>
                      <a:pt x="498" y="1128"/>
                    </a:lnTo>
                    <a:lnTo>
                      <a:pt x="484" y="1139"/>
                    </a:lnTo>
                    <a:lnTo>
                      <a:pt x="479" y="1143"/>
                    </a:lnTo>
                    <a:lnTo>
                      <a:pt x="474" y="1148"/>
                    </a:lnTo>
                    <a:lnTo>
                      <a:pt x="467" y="1159"/>
                    </a:lnTo>
                    <a:lnTo>
                      <a:pt x="459" y="1169"/>
                    </a:lnTo>
                    <a:lnTo>
                      <a:pt x="454" y="1180"/>
                    </a:lnTo>
                    <a:lnTo>
                      <a:pt x="451" y="1192"/>
                    </a:lnTo>
                    <a:lnTo>
                      <a:pt x="447" y="1203"/>
                    </a:lnTo>
                    <a:lnTo>
                      <a:pt x="446" y="1216"/>
                    </a:lnTo>
                    <a:lnTo>
                      <a:pt x="446" y="1228"/>
                    </a:lnTo>
                    <a:lnTo>
                      <a:pt x="446" y="1240"/>
                    </a:lnTo>
                    <a:lnTo>
                      <a:pt x="447" y="1252"/>
                    </a:lnTo>
                    <a:lnTo>
                      <a:pt x="448" y="1266"/>
                    </a:lnTo>
                    <a:lnTo>
                      <a:pt x="451" y="1279"/>
                    </a:lnTo>
                    <a:lnTo>
                      <a:pt x="456" y="1305"/>
                    </a:lnTo>
                    <a:lnTo>
                      <a:pt x="463" y="1332"/>
                    </a:lnTo>
                    <a:lnTo>
                      <a:pt x="469" y="1359"/>
                    </a:lnTo>
                    <a:lnTo>
                      <a:pt x="475" y="1384"/>
                    </a:lnTo>
                    <a:lnTo>
                      <a:pt x="478" y="1398"/>
                    </a:lnTo>
                    <a:lnTo>
                      <a:pt x="479" y="1411"/>
                    </a:lnTo>
                    <a:lnTo>
                      <a:pt x="480" y="1423"/>
                    </a:lnTo>
                    <a:lnTo>
                      <a:pt x="481" y="1437"/>
                    </a:lnTo>
                    <a:lnTo>
                      <a:pt x="480" y="1449"/>
                    </a:lnTo>
                    <a:lnTo>
                      <a:pt x="479" y="1461"/>
                    </a:lnTo>
                    <a:lnTo>
                      <a:pt x="476" y="1474"/>
                    </a:lnTo>
                    <a:lnTo>
                      <a:pt x="475" y="1480"/>
                    </a:lnTo>
                    <a:lnTo>
                      <a:pt x="473" y="1485"/>
                    </a:lnTo>
                    <a:lnTo>
                      <a:pt x="468" y="1497"/>
                    </a:lnTo>
                    <a:lnTo>
                      <a:pt x="462" y="1508"/>
                    </a:lnTo>
                    <a:lnTo>
                      <a:pt x="454" y="1518"/>
                    </a:lnTo>
                    <a:lnTo>
                      <a:pt x="446" y="1529"/>
                    </a:lnTo>
                    <a:lnTo>
                      <a:pt x="441" y="1532"/>
                    </a:lnTo>
                    <a:lnTo>
                      <a:pt x="436" y="1536"/>
                    </a:lnTo>
                    <a:lnTo>
                      <a:pt x="432" y="1538"/>
                    </a:lnTo>
                    <a:lnTo>
                      <a:pt x="427" y="1541"/>
                    </a:lnTo>
                    <a:lnTo>
                      <a:pt x="423" y="1542"/>
                    </a:lnTo>
                    <a:lnTo>
                      <a:pt x="418" y="1545"/>
                    </a:lnTo>
                    <a:lnTo>
                      <a:pt x="412" y="1545"/>
                    </a:lnTo>
                    <a:lnTo>
                      <a:pt x="407" y="1546"/>
                    </a:lnTo>
                    <a:lnTo>
                      <a:pt x="396" y="1546"/>
                    </a:lnTo>
                    <a:lnTo>
                      <a:pt x="383" y="1545"/>
                    </a:lnTo>
                    <a:lnTo>
                      <a:pt x="372" y="1542"/>
                    </a:lnTo>
                    <a:lnTo>
                      <a:pt x="360" y="1538"/>
                    </a:lnTo>
                    <a:lnTo>
                      <a:pt x="348" y="1535"/>
                    </a:lnTo>
                    <a:lnTo>
                      <a:pt x="336" y="1530"/>
                    </a:lnTo>
                    <a:lnTo>
                      <a:pt x="324" y="1524"/>
                    </a:lnTo>
                    <a:lnTo>
                      <a:pt x="313" y="1518"/>
                    </a:lnTo>
                    <a:lnTo>
                      <a:pt x="289" y="1507"/>
                    </a:lnTo>
                    <a:lnTo>
                      <a:pt x="270" y="1494"/>
                    </a:lnTo>
                    <a:lnTo>
                      <a:pt x="172" y="1395"/>
                    </a:lnTo>
                    <a:lnTo>
                      <a:pt x="96" y="1317"/>
                    </a:lnTo>
                    <a:lnTo>
                      <a:pt x="46" y="1266"/>
                    </a:lnTo>
                    <a:lnTo>
                      <a:pt x="31" y="1251"/>
                    </a:lnTo>
                    <a:lnTo>
                      <a:pt x="25" y="1245"/>
                    </a:lnTo>
                    <a:lnTo>
                      <a:pt x="28" y="1243"/>
                    </a:lnTo>
                    <a:lnTo>
                      <a:pt x="34" y="1238"/>
                    </a:lnTo>
                    <a:lnTo>
                      <a:pt x="52" y="1219"/>
                    </a:lnTo>
                    <a:lnTo>
                      <a:pt x="117" y="1153"/>
                    </a:lnTo>
                    <a:lnTo>
                      <a:pt x="214" y="1052"/>
                    </a:lnTo>
                    <a:lnTo>
                      <a:pt x="336" y="926"/>
                    </a:lnTo>
                    <a:lnTo>
                      <a:pt x="325" y="937"/>
                    </a:lnTo>
                    <a:lnTo>
                      <a:pt x="311" y="948"/>
                    </a:lnTo>
                    <a:lnTo>
                      <a:pt x="381" y="881"/>
                    </a:lnTo>
                    <a:lnTo>
                      <a:pt x="387" y="873"/>
                    </a:lnTo>
                    <a:lnTo>
                      <a:pt x="393" y="863"/>
                    </a:lnTo>
                    <a:lnTo>
                      <a:pt x="399" y="852"/>
                    </a:lnTo>
                    <a:lnTo>
                      <a:pt x="403" y="843"/>
                    </a:lnTo>
                    <a:lnTo>
                      <a:pt x="407" y="832"/>
                    </a:lnTo>
                    <a:lnTo>
                      <a:pt x="409" y="821"/>
                    </a:lnTo>
                    <a:lnTo>
                      <a:pt x="410" y="808"/>
                    </a:lnTo>
                    <a:lnTo>
                      <a:pt x="410" y="797"/>
                    </a:lnTo>
                    <a:lnTo>
                      <a:pt x="410" y="786"/>
                    </a:lnTo>
                    <a:lnTo>
                      <a:pt x="409" y="775"/>
                    </a:lnTo>
                    <a:lnTo>
                      <a:pt x="407" y="764"/>
                    </a:lnTo>
                    <a:lnTo>
                      <a:pt x="403" y="753"/>
                    </a:lnTo>
                    <a:lnTo>
                      <a:pt x="398" y="742"/>
                    </a:lnTo>
                    <a:lnTo>
                      <a:pt x="393" y="731"/>
                    </a:lnTo>
                    <a:lnTo>
                      <a:pt x="387" y="722"/>
                    </a:lnTo>
                    <a:lnTo>
                      <a:pt x="383" y="717"/>
                    </a:lnTo>
                    <a:lnTo>
                      <a:pt x="380" y="713"/>
                    </a:lnTo>
                    <a:lnTo>
                      <a:pt x="371" y="703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638600" y="3150720"/>
                <a:ext cx="273240" cy="51840"/>
              </a:xfrm>
              <a:custGeom>
                <a:avLst/>
                <a:gdLst/>
                <a:ahLst/>
                <a:rect l="l" t="t" r="r" b="b"/>
                <a:pathLst>
                  <a:path w="343" h="66">
                    <a:moveTo>
                      <a:pt x="333" y="66"/>
                    </a:moveTo>
                    <a:lnTo>
                      <a:pt x="313" y="49"/>
                    </a:lnTo>
                    <a:lnTo>
                      <a:pt x="293" y="38"/>
                    </a:lnTo>
                    <a:lnTo>
                      <a:pt x="273" y="32"/>
                    </a:lnTo>
                    <a:lnTo>
                      <a:pt x="255" y="30"/>
                    </a:lnTo>
                    <a:lnTo>
                      <a:pt x="234" y="30"/>
                    </a:lnTo>
                    <a:lnTo>
                      <a:pt x="214" y="32"/>
                    </a:lnTo>
                    <a:lnTo>
                      <a:pt x="172" y="42"/>
                    </a:lnTo>
                    <a:lnTo>
                      <a:pt x="128" y="52"/>
                    </a:lnTo>
                    <a:lnTo>
                      <a:pt x="106" y="54"/>
                    </a:lnTo>
                    <a:lnTo>
                      <a:pt x="85" y="54"/>
                    </a:lnTo>
                    <a:lnTo>
                      <a:pt x="62" y="50"/>
                    </a:lnTo>
                    <a:lnTo>
                      <a:pt x="40" y="42"/>
                    </a:lnTo>
                    <a:lnTo>
                      <a:pt x="19" y="30"/>
                    </a:lnTo>
                    <a:lnTo>
                      <a:pt x="0" y="11"/>
                    </a:lnTo>
                    <a:lnTo>
                      <a:pt x="9" y="0"/>
                    </a:lnTo>
                    <a:lnTo>
                      <a:pt x="29" y="19"/>
                    </a:lnTo>
                    <a:lnTo>
                      <a:pt x="47" y="30"/>
                    </a:lnTo>
                    <a:lnTo>
                      <a:pt x="67" y="37"/>
                    </a:lnTo>
                    <a:lnTo>
                      <a:pt x="85" y="41"/>
                    </a:lnTo>
                    <a:lnTo>
                      <a:pt x="106" y="41"/>
                    </a:lnTo>
                    <a:lnTo>
                      <a:pt x="124" y="38"/>
                    </a:lnTo>
                    <a:lnTo>
                      <a:pt x="167" y="28"/>
                    </a:lnTo>
                    <a:lnTo>
                      <a:pt x="210" y="19"/>
                    </a:lnTo>
                    <a:lnTo>
                      <a:pt x="232" y="16"/>
                    </a:lnTo>
                    <a:lnTo>
                      <a:pt x="255" y="16"/>
                    </a:lnTo>
                    <a:lnTo>
                      <a:pt x="277" y="19"/>
                    </a:lnTo>
                    <a:lnTo>
                      <a:pt x="299" y="26"/>
                    </a:lnTo>
                    <a:lnTo>
                      <a:pt x="321" y="38"/>
                    </a:lnTo>
                    <a:lnTo>
                      <a:pt x="343" y="55"/>
                    </a:lnTo>
                    <a:lnTo>
                      <a:pt x="333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606920" y="2823840"/>
                <a:ext cx="165240" cy="334440"/>
              </a:xfrm>
              <a:custGeom>
                <a:avLst/>
                <a:gdLst/>
                <a:ahLst/>
                <a:rect l="l" t="t" r="r" b="b"/>
                <a:pathLst>
                  <a:path w="208" h="421">
                    <a:moveTo>
                      <a:pt x="39" y="421"/>
                    </a:moveTo>
                    <a:lnTo>
                      <a:pt x="28" y="406"/>
                    </a:lnTo>
                    <a:lnTo>
                      <a:pt x="19" y="391"/>
                    </a:lnTo>
                    <a:lnTo>
                      <a:pt x="10" y="375"/>
                    </a:lnTo>
                    <a:lnTo>
                      <a:pt x="5" y="359"/>
                    </a:lnTo>
                    <a:lnTo>
                      <a:pt x="1" y="342"/>
                    </a:lnTo>
                    <a:lnTo>
                      <a:pt x="0" y="325"/>
                    </a:lnTo>
                    <a:lnTo>
                      <a:pt x="1" y="290"/>
                    </a:lnTo>
                    <a:lnTo>
                      <a:pt x="9" y="256"/>
                    </a:lnTo>
                    <a:lnTo>
                      <a:pt x="21" y="224"/>
                    </a:lnTo>
                    <a:lnTo>
                      <a:pt x="38" y="191"/>
                    </a:lnTo>
                    <a:lnTo>
                      <a:pt x="57" y="159"/>
                    </a:lnTo>
                    <a:lnTo>
                      <a:pt x="99" y="102"/>
                    </a:lnTo>
                    <a:lnTo>
                      <a:pt x="143" y="56"/>
                    </a:lnTo>
                    <a:lnTo>
                      <a:pt x="198" y="0"/>
                    </a:lnTo>
                    <a:lnTo>
                      <a:pt x="208" y="11"/>
                    </a:lnTo>
                    <a:lnTo>
                      <a:pt x="153" y="67"/>
                    </a:lnTo>
                    <a:lnTo>
                      <a:pt x="110" y="112"/>
                    </a:lnTo>
                    <a:lnTo>
                      <a:pt x="68" y="169"/>
                    </a:lnTo>
                    <a:lnTo>
                      <a:pt x="50" y="200"/>
                    </a:lnTo>
                    <a:lnTo>
                      <a:pt x="35" y="230"/>
                    </a:lnTo>
                    <a:lnTo>
                      <a:pt x="22" y="261"/>
                    </a:lnTo>
                    <a:lnTo>
                      <a:pt x="15" y="294"/>
                    </a:lnTo>
                    <a:lnTo>
                      <a:pt x="15" y="325"/>
                    </a:lnTo>
                    <a:lnTo>
                      <a:pt x="15" y="339"/>
                    </a:lnTo>
                    <a:lnTo>
                      <a:pt x="19" y="354"/>
                    </a:lnTo>
                    <a:lnTo>
                      <a:pt x="23" y="369"/>
                    </a:lnTo>
                    <a:lnTo>
                      <a:pt x="31" y="383"/>
                    </a:lnTo>
                    <a:lnTo>
                      <a:pt x="39" y="398"/>
                    </a:lnTo>
                    <a:lnTo>
                      <a:pt x="50" y="411"/>
                    </a:lnTo>
                    <a:lnTo>
                      <a:pt x="39" y="4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637160" y="315072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11"/>
                    </a:moveTo>
                    <a:lnTo>
                      <a:pt x="0" y="10"/>
                    </a:lnTo>
                    <a:lnTo>
                      <a:pt x="11" y="0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64240" y="2700000"/>
                <a:ext cx="326880" cy="132840"/>
              </a:xfrm>
              <a:custGeom>
                <a:avLst/>
                <a:gdLst/>
                <a:ahLst/>
                <a:rect l="l" t="t" r="r" b="b"/>
                <a:pathLst>
                  <a:path w="413" h="167">
                    <a:moveTo>
                      <a:pt x="0" y="156"/>
                    </a:moveTo>
                    <a:lnTo>
                      <a:pt x="32" y="126"/>
                    </a:lnTo>
                    <a:lnTo>
                      <a:pt x="64" y="99"/>
                    </a:lnTo>
                    <a:lnTo>
                      <a:pt x="94" y="75"/>
                    </a:lnTo>
                    <a:lnTo>
                      <a:pt x="126" y="54"/>
                    </a:lnTo>
                    <a:lnTo>
                      <a:pt x="158" y="38"/>
                    </a:lnTo>
                    <a:lnTo>
                      <a:pt x="187" y="24"/>
                    </a:lnTo>
                    <a:lnTo>
                      <a:pt x="217" y="15"/>
                    </a:lnTo>
                    <a:lnTo>
                      <a:pt x="246" y="6"/>
                    </a:lnTo>
                    <a:lnTo>
                      <a:pt x="273" y="2"/>
                    </a:lnTo>
                    <a:lnTo>
                      <a:pt x="299" y="0"/>
                    </a:lnTo>
                    <a:lnTo>
                      <a:pt x="344" y="4"/>
                    </a:lnTo>
                    <a:lnTo>
                      <a:pt x="365" y="11"/>
                    </a:lnTo>
                    <a:lnTo>
                      <a:pt x="383" y="18"/>
                    </a:lnTo>
                    <a:lnTo>
                      <a:pt x="400" y="28"/>
                    </a:lnTo>
                    <a:lnTo>
                      <a:pt x="413" y="40"/>
                    </a:lnTo>
                    <a:lnTo>
                      <a:pt x="404" y="51"/>
                    </a:lnTo>
                    <a:lnTo>
                      <a:pt x="391" y="40"/>
                    </a:lnTo>
                    <a:lnTo>
                      <a:pt x="377" y="32"/>
                    </a:lnTo>
                    <a:lnTo>
                      <a:pt x="358" y="24"/>
                    </a:lnTo>
                    <a:lnTo>
                      <a:pt x="341" y="18"/>
                    </a:lnTo>
                    <a:lnTo>
                      <a:pt x="299" y="15"/>
                    </a:lnTo>
                    <a:lnTo>
                      <a:pt x="274" y="17"/>
                    </a:lnTo>
                    <a:lnTo>
                      <a:pt x="248" y="21"/>
                    </a:lnTo>
                    <a:lnTo>
                      <a:pt x="222" y="28"/>
                    </a:lnTo>
                    <a:lnTo>
                      <a:pt x="193" y="38"/>
                    </a:lnTo>
                    <a:lnTo>
                      <a:pt x="164" y="51"/>
                    </a:lnTo>
                    <a:lnTo>
                      <a:pt x="135" y="66"/>
                    </a:lnTo>
                    <a:lnTo>
                      <a:pt x="103" y="87"/>
                    </a:lnTo>
                    <a:lnTo>
                      <a:pt x="74" y="110"/>
                    </a:lnTo>
                    <a:lnTo>
                      <a:pt x="42" y="137"/>
                    </a:lnTo>
                    <a:lnTo>
                      <a:pt x="10" y="167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764240" y="282384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1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083200" y="2731680"/>
                <a:ext cx="38160" cy="269280"/>
              </a:xfrm>
              <a:custGeom>
                <a:avLst/>
                <a:gdLst/>
                <a:ahLst/>
                <a:rect l="l" t="t" r="r" b="b"/>
                <a:pathLst>
                  <a:path w="49" h="339">
                    <a:moveTo>
                      <a:pt x="11" y="0"/>
                    </a:moveTo>
                    <a:lnTo>
                      <a:pt x="27" y="19"/>
                    </a:lnTo>
                    <a:lnTo>
                      <a:pt x="37" y="39"/>
                    </a:lnTo>
                    <a:lnTo>
                      <a:pt x="43" y="60"/>
                    </a:lnTo>
                    <a:lnTo>
                      <a:pt x="46" y="82"/>
                    </a:lnTo>
                    <a:lnTo>
                      <a:pt x="42" y="125"/>
                    </a:lnTo>
                    <a:lnTo>
                      <a:pt x="33" y="170"/>
                    </a:lnTo>
                    <a:lnTo>
                      <a:pt x="24" y="214"/>
                    </a:lnTo>
                    <a:lnTo>
                      <a:pt x="20" y="257"/>
                    </a:lnTo>
                    <a:lnTo>
                      <a:pt x="22" y="277"/>
                    </a:lnTo>
                    <a:lnTo>
                      <a:pt x="27" y="295"/>
                    </a:lnTo>
                    <a:lnTo>
                      <a:pt x="36" y="313"/>
                    </a:lnTo>
                    <a:lnTo>
                      <a:pt x="42" y="321"/>
                    </a:lnTo>
                    <a:lnTo>
                      <a:pt x="49" y="329"/>
                    </a:lnTo>
                    <a:lnTo>
                      <a:pt x="38" y="339"/>
                    </a:lnTo>
                    <a:lnTo>
                      <a:pt x="31" y="330"/>
                    </a:lnTo>
                    <a:lnTo>
                      <a:pt x="24" y="322"/>
                    </a:lnTo>
                    <a:lnTo>
                      <a:pt x="14" y="301"/>
                    </a:lnTo>
                    <a:lnTo>
                      <a:pt x="8" y="279"/>
                    </a:lnTo>
                    <a:lnTo>
                      <a:pt x="5" y="257"/>
                    </a:lnTo>
                    <a:lnTo>
                      <a:pt x="9" y="213"/>
                    </a:lnTo>
                    <a:lnTo>
                      <a:pt x="19" y="168"/>
                    </a:lnTo>
                    <a:lnTo>
                      <a:pt x="27" y="124"/>
                    </a:lnTo>
                    <a:lnTo>
                      <a:pt x="31" y="82"/>
                    </a:lnTo>
                    <a:lnTo>
                      <a:pt x="29" y="63"/>
                    </a:lnTo>
                    <a:lnTo>
                      <a:pt x="24" y="46"/>
                    </a:lnTo>
                    <a:lnTo>
                      <a:pt x="15" y="27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083200" y="27316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0" y="10"/>
                    </a:lnTo>
                    <a:lnTo>
                      <a:pt x="2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113440" y="2985480"/>
                <a:ext cx="156960" cy="39600"/>
              </a:xfrm>
              <a:custGeom>
                <a:avLst/>
                <a:gdLst/>
                <a:ahLst/>
                <a:rect l="l" t="t" r="r" b="b"/>
                <a:pathLst>
                  <a:path w="196" h="49">
                    <a:moveTo>
                      <a:pt x="9" y="8"/>
                    </a:moveTo>
                    <a:lnTo>
                      <a:pt x="18" y="14"/>
                    </a:lnTo>
                    <a:lnTo>
                      <a:pt x="26" y="22"/>
                    </a:lnTo>
                    <a:lnTo>
                      <a:pt x="47" y="29"/>
                    </a:lnTo>
                    <a:lnTo>
                      <a:pt x="70" y="34"/>
                    </a:lnTo>
                    <a:lnTo>
                      <a:pt x="96" y="34"/>
                    </a:lnTo>
                    <a:lnTo>
                      <a:pt x="121" y="30"/>
                    </a:lnTo>
                    <a:lnTo>
                      <a:pt x="145" y="24"/>
                    </a:lnTo>
                    <a:lnTo>
                      <a:pt x="156" y="19"/>
                    </a:lnTo>
                    <a:lnTo>
                      <a:pt x="167" y="14"/>
                    </a:lnTo>
                    <a:lnTo>
                      <a:pt x="188" y="0"/>
                    </a:lnTo>
                    <a:lnTo>
                      <a:pt x="196" y="12"/>
                    </a:lnTo>
                    <a:lnTo>
                      <a:pt x="176" y="27"/>
                    </a:lnTo>
                    <a:lnTo>
                      <a:pt x="162" y="33"/>
                    </a:lnTo>
                    <a:lnTo>
                      <a:pt x="150" y="38"/>
                    </a:lnTo>
                    <a:lnTo>
                      <a:pt x="123" y="45"/>
                    </a:lnTo>
                    <a:lnTo>
                      <a:pt x="96" y="49"/>
                    </a:lnTo>
                    <a:lnTo>
                      <a:pt x="69" y="49"/>
                    </a:lnTo>
                    <a:lnTo>
                      <a:pt x="45" y="44"/>
                    </a:lnTo>
                    <a:lnTo>
                      <a:pt x="20" y="35"/>
                    </a:lnTo>
                    <a:lnTo>
                      <a:pt x="9" y="27"/>
                    </a:lnTo>
                    <a:lnTo>
                      <a:pt x="0" y="19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113440" y="29934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0"/>
                    </a:moveTo>
                    <a:lnTo>
                      <a:pt x="2" y="11"/>
                    </a:lnTo>
                    <a:lnTo>
                      <a:pt x="1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262480" y="2633040"/>
                <a:ext cx="513000" cy="361800"/>
              </a:xfrm>
              <a:custGeom>
                <a:avLst/>
                <a:gdLst/>
                <a:ahLst/>
                <a:rect l="l" t="t" r="r" b="b"/>
                <a:pathLst>
                  <a:path w="645" h="456">
                    <a:moveTo>
                      <a:pt x="0" y="445"/>
                    </a:moveTo>
                    <a:lnTo>
                      <a:pt x="121" y="332"/>
                    </a:lnTo>
                    <a:lnTo>
                      <a:pt x="230" y="233"/>
                    </a:lnTo>
                    <a:lnTo>
                      <a:pt x="280" y="189"/>
                    </a:lnTo>
                    <a:lnTo>
                      <a:pt x="326" y="150"/>
                    </a:lnTo>
                    <a:lnTo>
                      <a:pt x="411" y="83"/>
                    </a:lnTo>
                    <a:lnTo>
                      <a:pt x="448" y="56"/>
                    </a:lnTo>
                    <a:lnTo>
                      <a:pt x="485" y="35"/>
                    </a:lnTo>
                    <a:lnTo>
                      <a:pt x="517" y="18"/>
                    </a:lnTo>
                    <a:lnTo>
                      <a:pt x="547" y="7"/>
                    </a:lnTo>
                    <a:lnTo>
                      <a:pt x="577" y="0"/>
                    </a:lnTo>
                    <a:lnTo>
                      <a:pt x="601" y="0"/>
                    </a:lnTo>
                    <a:lnTo>
                      <a:pt x="626" y="6"/>
                    </a:lnTo>
                    <a:lnTo>
                      <a:pt x="637" y="10"/>
                    </a:lnTo>
                    <a:lnTo>
                      <a:pt x="645" y="16"/>
                    </a:lnTo>
                    <a:lnTo>
                      <a:pt x="637" y="28"/>
                    </a:lnTo>
                    <a:lnTo>
                      <a:pt x="628" y="22"/>
                    </a:lnTo>
                    <a:lnTo>
                      <a:pt x="621" y="19"/>
                    </a:lnTo>
                    <a:lnTo>
                      <a:pt x="600" y="15"/>
                    </a:lnTo>
                    <a:lnTo>
                      <a:pt x="578" y="15"/>
                    </a:lnTo>
                    <a:lnTo>
                      <a:pt x="552" y="21"/>
                    </a:lnTo>
                    <a:lnTo>
                      <a:pt x="523" y="32"/>
                    </a:lnTo>
                    <a:lnTo>
                      <a:pt x="492" y="48"/>
                    </a:lnTo>
                    <a:lnTo>
                      <a:pt x="457" y="68"/>
                    </a:lnTo>
                    <a:lnTo>
                      <a:pt x="419" y="95"/>
                    </a:lnTo>
                    <a:lnTo>
                      <a:pt x="336" y="161"/>
                    </a:lnTo>
                    <a:lnTo>
                      <a:pt x="290" y="200"/>
                    </a:lnTo>
                    <a:lnTo>
                      <a:pt x="239" y="244"/>
                    </a:lnTo>
                    <a:lnTo>
                      <a:pt x="131" y="343"/>
                    </a:lnTo>
                    <a:lnTo>
                      <a:pt x="10" y="456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262480" y="29854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8" y="12"/>
                    </a:moveTo>
                    <a:lnTo>
                      <a:pt x="10" y="1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697360" y="2647440"/>
                <a:ext cx="432000" cy="1922040"/>
              </a:xfrm>
              <a:custGeom>
                <a:avLst/>
                <a:gdLst/>
                <a:ahLst/>
                <a:rect l="l" t="t" r="r" b="b"/>
                <a:pathLst>
                  <a:path w="544" h="2422">
                    <a:moveTo>
                      <a:pt x="100" y="0"/>
                    </a:moveTo>
                    <a:lnTo>
                      <a:pt x="148" y="53"/>
                    </a:lnTo>
                    <a:lnTo>
                      <a:pt x="196" y="106"/>
                    </a:lnTo>
                    <a:lnTo>
                      <a:pt x="241" y="165"/>
                    </a:lnTo>
                    <a:lnTo>
                      <a:pt x="282" y="224"/>
                    </a:lnTo>
                    <a:lnTo>
                      <a:pt x="321" y="286"/>
                    </a:lnTo>
                    <a:lnTo>
                      <a:pt x="357" y="351"/>
                    </a:lnTo>
                    <a:lnTo>
                      <a:pt x="390" y="417"/>
                    </a:lnTo>
                    <a:lnTo>
                      <a:pt x="420" y="485"/>
                    </a:lnTo>
                    <a:lnTo>
                      <a:pt x="447" y="555"/>
                    </a:lnTo>
                    <a:lnTo>
                      <a:pt x="471" y="627"/>
                    </a:lnTo>
                    <a:lnTo>
                      <a:pt x="493" y="702"/>
                    </a:lnTo>
                    <a:lnTo>
                      <a:pt x="510" y="778"/>
                    </a:lnTo>
                    <a:lnTo>
                      <a:pt x="524" y="853"/>
                    </a:lnTo>
                    <a:lnTo>
                      <a:pt x="535" y="933"/>
                    </a:lnTo>
                    <a:lnTo>
                      <a:pt x="541" y="1011"/>
                    </a:lnTo>
                    <a:lnTo>
                      <a:pt x="544" y="1092"/>
                    </a:lnTo>
                    <a:lnTo>
                      <a:pt x="543" y="1173"/>
                    </a:lnTo>
                    <a:lnTo>
                      <a:pt x="538" y="1255"/>
                    </a:lnTo>
                    <a:lnTo>
                      <a:pt x="530" y="1336"/>
                    </a:lnTo>
                    <a:lnTo>
                      <a:pt x="518" y="1421"/>
                    </a:lnTo>
                    <a:lnTo>
                      <a:pt x="500" y="1505"/>
                    </a:lnTo>
                    <a:lnTo>
                      <a:pt x="480" y="1588"/>
                    </a:lnTo>
                    <a:lnTo>
                      <a:pt x="453" y="1674"/>
                    </a:lnTo>
                    <a:lnTo>
                      <a:pt x="422" y="1760"/>
                    </a:lnTo>
                    <a:lnTo>
                      <a:pt x="388" y="1843"/>
                    </a:lnTo>
                    <a:lnTo>
                      <a:pt x="349" y="1927"/>
                    </a:lnTo>
                    <a:lnTo>
                      <a:pt x="328" y="1969"/>
                    </a:lnTo>
                    <a:lnTo>
                      <a:pt x="305" y="2010"/>
                    </a:lnTo>
                    <a:lnTo>
                      <a:pt x="257" y="2096"/>
                    </a:lnTo>
                    <a:lnTo>
                      <a:pt x="203" y="2178"/>
                    </a:lnTo>
                    <a:lnTo>
                      <a:pt x="145" y="2261"/>
                    </a:lnTo>
                    <a:lnTo>
                      <a:pt x="80" y="2342"/>
                    </a:lnTo>
                    <a:lnTo>
                      <a:pt x="11" y="2422"/>
                    </a:lnTo>
                    <a:lnTo>
                      <a:pt x="0" y="2413"/>
                    </a:lnTo>
                    <a:lnTo>
                      <a:pt x="69" y="2332"/>
                    </a:lnTo>
                    <a:lnTo>
                      <a:pt x="133" y="2252"/>
                    </a:lnTo>
                    <a:lnTo>
                      <a:pt x="191" y="2169"/>
                    </a:lnTo>
                    <a:lnTo>
                      <a:pt x="245" y="2087"/>
                    </a:lnTo>
                    <a:lnTo>
                      <a:pt x="293" y="2003"/>
                    </a:lnTo>
                    <a:lnTo>
                      <a:pt x="315" y="1963"/>
                    </a:lnTo>
                    <a:lnTo>
                      <a:pt x="335" y="1921"/>
                    </a:lnTo>
                    <a:lnTo>
                      <a:pt x="375" y="1837"/>
                    </a:lnTo>
                    <a:lnTo>
                      <a:pt x="409" y="1753"/>
                    </a:lnTo>
                    <a:lnTo>
                      <a:pt x="439" y="1669"/>
                    </a:lnTo>
                    <a:lnTo>
                      <a:pt x="465" y="1586"/>
                    </a:lnTo>
                    <a:lnTo>
                      <a:pt x="486" y="1503"/>
                    </a:lnTo>
                    <a:lnTo>
                      <a:pt x="503" y="1418"/>
                    </a:lnTo>
                    <a:lnTo>
                      <a:pt x="515" y="1335"/>
                    </a:lnTo>
                    <a:lnTo>
                      <a:pt x="524" y="1255"/>
                    </a:lnTo>
                    <a:lnTo>
                      <a:pt x="529" y="1173"/>
                    </a:lnTo>
                    <a:lnTo>
                      <a:pt x="530" y="1092"/>
                    </a:lnTo>
                    <a:lnTo>
                      <a:pt x="526" y="1012"/>
                    </a:lnTo>
                    <a:lnTo>
                      <a:pt x="520" y="934"/>
                    </a:lnTo>
                    <a:lnTo>
                      <a:pt x="509" y="856"/>
                    </a:lnTo>
                    <a:lnTo>
                      <a:pt x="496" y="780"/>
                    </a:lnTo>
                    <a:lnTo>
                      <a:pt x="478" y="704"/>
                    </a:lnTo>
                    <a:lnTo>
                      <a:pt x="458" y="633"/>
                    </a:lnTo>
                    <a:lnTo>
                      <a:pt x="433" y="561"/>
                    </a:lnTo>
                    <a:lnTo>
                      <a:pt x="406" y="492"/>
                    </a:lnTo>
                    <a:lnTo>
                      <a:pt x="377" y="423"/>
                    </a:lnTo>
                    <a:lnTo>
                      <a:pt x="344" y="357"/>
                    </a:lnTo>
                    <a:lnTo>
                      <a:pt x="309" y="295"/>
                    </a:lnTo>
                    <a:lnTo>
                      <a:pt x="269" y="232"/>
                    </a:lnTo>
                    <a:lnTo>
                      <a:pt x="229" y="174"/>
                    </a:lnTo>
                    <a:lnTo>
                      <a:pt x="185" y="116"/>
                    </a:lnTo>
                    <a:lnTo>
                      <a:pt x="137" y="62"/>
                    </a:lnTo>
                    <a:lnTo>
                      <a:pt x="88" y="1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67560" y="264600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0" y="0"/>
                    </a:moveTo>
                    <a:lnTo>
                      <a:pt x="12" y="1"/>
                    </a:lnTo>
                    <a:lnTo>
                      <a:pt x="0" y="11"/>
                    </a:lnTo>
                    <a:lnTo>
                      <a:pt x="2" y="1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138640" y="4133520"/>
                <a:ext cx="567000" cy="450360"/>
              </a:xfrm>
              <a:custGeom>
                <a:avLst/>
                <a:gdLst/>
                <a:ahLst/>
                <a:rect l="l" t="t" r="r" b="b"/>
                <a:pathLst>
                  <a:path w="715" h="567">
                    <a:moveTo>
                      <a:pt x="715" y="552"/>
                    </a:moveTo>
                    <a:lnTo>
                      <a:pt x="704" y="558"/>
                    </a:lnTo>
                    <a:lnTo>
                      <a:pt x="692" y="564"/>
                    </a:lnTo>
                    <a:lnTo>
                      <a:pt x="665" y="567"/>
                    </a:lnTo>
                    <a:lnTo>
                      <a:pt x="636" y="564"/>
                    </a:lnTo>
                    <a:lnTo>
                      <a:pt x="604" y="552"/>
                    </a:lnTo>
                    <a:lnTo>
                      <a:pt x="569" y="533"/>
                    </a:lnTo>
                    <a:lnTo>
                      <a:pt x="532" y="509"/>
                    </a:lnTo>
                    <a:lnTo>
                      <a:pt x="493" y="479"/>
                    </a:lnTo>
                    <a:lnTo>
                      <a:pt x="450" y="443"/>
                    </a:lnTo>
                    <a:lnTo>
                      <a:pt x="357" y="357"/>
                    </a:lnTo>
                    <a:lnTo>
                      <a:pt x="251" y="254"/>
                    </a:lnTo>
                    <a:lnTo>
                      <a:pt x="131" y="138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141" y="127"/>
                    </a:lnTo>
                    <a:lnTo>
                      <a:pt x="261" y="243"/>
                    </a:lnTo>
                    <a:lnTo>
                      <a:pt x="367" y="346"/>
                    </a:lnTo>
                    <a:lnTo>
                      <a:pt x="460" y="433"/>
                    </a:lnTo>
                    <a:lnTo>
                      <a:pt x="503" y="468"/>
                    </a:lnTo>
                    <a:lnTo>
                      <a:pt x="540" y="498"/>
                    </a:lnTo>
                    <a:lnTo>
                      <a:pt x="577" y="521"/>
                    </a:lnTo>
                    <a:lnTo>
                      <a:pt x="610" y="539"/>
                    </a:lnTo>
                    <a:lnTo>
                      <a:pt x="641" y="550"/>
                    </a:lnTo>
                    <a:lnTo>
                      <a:pt x="665" y="554"/>
                    </a:lnTo>
                    <a:lnTo>
                      <a:pt x="687" y="550"/>
                    </a:lnTo>
                    <a:lnTo>
                      <a:pt x="696" y="545"/>
                    </a:lnTo>
                    <a:lnTo>
                      <a:pt x="707" y="539"/>
                    </a:lnTo>
                    <a:lnTo>
                      <a:pt x="715" y="5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697360" y="4561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1" y="11"/>
                    </a:moveTo>
                    <a:lnTo>
                      <a:pt x="10" y="1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126040" y="4014360"/>
                <a:ext cx="31680" cy="124920"/>
              </a:xfrm>
              <a:custGeom>
                <a:avLst/>
                <a:gdLst/>
                <a:ahLst/>
                <a:rect l="l" t="t" r="r" b="b"/>
                <a:pathLst>
                  <a:path w="41" h="156">
                    <a:moveTo>
                      <a:pt x="14" y="156"/>
                    </a:moveTo>
                    <a:lnTo>
                      <a:pt x="6" y="137"/>
                    </a:lnTo>
                    <a:lnTo>
                      <a:pt x="3" y="117"/>
                    </a:lnTo>
                    <a:lnTo>
                      <a:pt x="0" y="94"/>
                    </a:lnTo>
                    <a:lnTo>
                      <a:pt x="0" y="73"/>
                    </a:lnTo>
                    <a:lnTo>
                      <a:pt x="3" y="52"/>
                    </a:lnTo>
                    <a:lnTo>
                      <a:pt x="9" y="33"/>
                    </a:lnTo>
                    <a:lnTo>
                      <a:pt x="17" y="16"/>
                    </a:lnTo>
                    <a:lnTo>
                      <a:pt x="30" y="0"/>
                    </a:lnTo>
                    <a:lnTo>
                      <a:pt x="41" y="10"/>
                    </a:lnTo>
                    <a:lnTo>
                      <a:pt x="30" y="24"/>
                    </a:lnTo>
                    <a:lnTo>
                      <a:pt x="21" y="40"/>
                    </a:lnTo>
                    <a:lnTo>
                      <a:pt x="16" y="57"/>
                    </a:lnTo>
                    <a:lnTo>
                      <a:pt x="14" y="76"/>
                    </a:lnTo>
                    <a:lnTo>
                      <a:pt x="14" y="94"/>
                    </a:lnTo>
                    <a:lnTo>
                      <a:pt x="16" y="114"/>
                    </a:lnTo>
                    <a:lnTo>
                      <a:pt x="20" y="132"/>
                    </a:lnTo>
                    <a:lnTo>
                      <a:pt x="27" y="151"/>
                    </a:lnTo>
                    <a:lnTo>
                      <a:pt x="1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135400" y="41335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2" y="11"/>
                    </a:moveTo>
                    <a:lnTo>
                      <a:pt x="1" y="10"/>
                    </a:lnTo>
                    <a:lnTo>
                      <a:pt x="0" y="7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149800" y="3984120"/>
                <a:ext cx="268200" cy="39240"/>
              </a:xfrm>
              <a:custGeom>
                <a:avLst/>
                <a:gdLst/>
                <a:ahLst/>
                <a:rect l="l" t="t" r="r" b="b"/>
                <a:pathLst>
                  <a:path w="338" h="49">
                    <a:moveTo>
                      <a:pt x="0" y="38"/>
                    </a:moveTo>
                    <a:lnTo>
                      <a:pt x="18" y="22"/>
                    </a:lnTo>
                    <a:lnTo>
                      <a:pt x="38" y="13"/>
                    </a:lnTo>
                    <a:lnTo>
                      <a:pt x="60" y="6"/>
                    </a:lnTo>
                    <a:lnTo>
                      <a:pt x="82" y="4"/>
                    </a:lnTo>
                    <a:lnTo>
                      <a:pt x="126" y="7"/>
                    </a:lnTo>
                    <a:lnTo>
                      <a:pt x="171" y="17"/>
                    </a:lnTo>
                    <a:lnTo>
                      <a:pt x="215" y="26"/>
                    </a:lnTo>
                    <a:lnTo>
                      <a:pt x="257" y="29"/>
                    </a:lnTo>
                    <a:lnTo>
                      <a:pt x="276" y="27"/>
                    </a:lnTo>
                    <a:lnTo>
                      <a:pt x="294" y="23"/>
                    </a:lnTo>
                    <a:lnTo>
                      <a:pt x="312" y="13"/>
                    </a:lnTo>
                    <a:lnTo>
                      <a:pt x="320" y="9"/>
                    </a:lnTo>
                    <a:lnTo>
                      <a:pt x="329" y="0"/>
                    </a:lnTo>
                    <a:lnTo>
                      <a:pt x="338" y="11"/>
                    </a:lnTo>
                    <a:lnTo>
                      <a:pt x="330" y="20"/>
                    </a:lnTo>
                    <a:lnTo>
                      <a:pt x="320" y="26"/>
                    </a:lnTo>
                    <a:lnTo>
                      <a:pt x="301" y="37"/>
                    </a:lnTo>
                    <a:lnTo>
                      <a:pt x="279" y="42"/>
                    </a:lnTo>
                    <a:lnTo>
                      <a:pt x="257" y="44"/>
                    </a:lnTo>
                    <a:lnTo>
                      <a:pt x="213" y="40"/>
                    </a:lnTo>
                    <a:lnTo>
                      <a:pt x="169" y="32"/>
                    </a:lnTo>
                    <a:lnTo>
                      <a:pt x="123" y="22"/>
                    </a:lnTo>
                    <a:lnTo>
                      <a:pt x="82" y="18"/>
                    </a:lnTo>
                    <a:lnTo>
                      <a:pt x="62" y="21"/>
                    </a:lnTo>
                    <a:lnTo>
                      <a:pt x="44" y="27"/>
                    </a:lnTo>
                    <a:lnTo>
                      <a:pt x="27" y="34"/>
                    </a:lnTo>
                    <a:lnTo>
                      <a:pt x="10" y="49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148360" y="401436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0"/>
                    </a:moveTo>
                    <a:lnTo>
                      <a:pt x="1" y="0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318280" y="3665160"/>
                <a:ext cx="131760" cy="326520"/>
              </a:xfrm>
              <a:custGeom>
                <a:avLst/>
                <a:gdLst/>
                <a:ahLst/>
                <a:rect l="l" t="t" r="r" b="b"/>
                <a:pathLst>
                  <a:path w="165" h="414">
                    <a:moveTo>
                      <a:pt x="114" y="404"/>
                    </a:moveTo>
                    <a:lnTo>
                      <a:pt x="127" y="390"/>
                    </a:lnTo>
                    <a:lnTo>
                      <a:pt x="135" y="377"/>
                    </a:lnTo>
                    <a:lnTo>
                      <a:pt x="141" y="360"/>
                    </a:lnTo>
                    <a:lnTo>
                      <a:pt x="147" y="342"/>
                    </a:lnTo>
                    <a:lnTo>
                      <a:pt x="150" y="320"/>
                    </a:lnTo>
                    <a:lnTo>
                      <a:pt x="151" y="298"/>
                    </a:lnTo>
                    <a:lnTo>
                      <a:pt x="150" y="274"/>
                    </a:lnTo>
                    <a:lnTo>
                      <a:pt x="145" y="250"/>
                    </a:lnTo>
                    <a:lnTo>
                      <a:pt x="138" y="222"/>
                    </a:lnTo>
                    <a:lnTo>
                      <a:pt x="128" y="195"/>
                    </a:lnTo>
                    <a:lnTo>
                      <a:pt x="116" y="164"/>
                    </a:lnTo>
                    <a:lnTo>
                      <a:pt x="100" y="136"/>
                    </a:lnTo>
                    <a:lnTo>
                      <a:pt x="80" y="104"/>
                    </a:lnTo>
                    <a:lnTo>
                      <a:pt x="57" y="74"/>
                    </a:lnTo>
                    <a:lnTo>
                      <a:pt x="30" y="43"/>
                    </a:lnTo>
                    <a:lnTo>
                      <a:pt x="0" y="11"/>
                    </a:lnTo>
                    <a:lnTo>
                      <a:pt x="9" y="0"/>
                    </a:lnTo>
                    <a:lnTo>
                      <a:pt x="40" y="32"/>
                    </a:lnTo>
                    <a:lnTo>
                      <a:pt x="68" y="64"/>
                    </a:lnTo>
                    <a:lnTo>
                      <a:pt x="91" y="96"/>
                    </a:lnTo>
                    <a:lnTo>
                      <a:pt x="112" y="128"/>
                    </a:lnTo>
                    <a:lnTo>
                      <a:pt x="128" y="157"/>
                    </a:lnTo>
                    <a:lnTo>
                      <a:pt x="141" y="189"/>
                    </a:lnTo>
                    <a:lnTo>
                      <a:pt x="151" y="217"/>
                    </a:lnTo>
                    <a:lnTo>
                      <a:pt x="158" y="246"/>
                    </a:lnTo>
                    <a:lnTo>
                      <a:pt x="163" y="272"/>
                    </a:lnTo>
                    <a:lnTo>
                      <a:pt x="165" y="298"/>
                    </a:lnTo>
                    <a:lnTo>
                      <a:pt x="163" y="322"/>
                    </a:lnTo>
                    <a:lnTo>
                      <a:pt x="161" y="345"/>
                    </a:lnTo>
                    <a:lnTo>
                      <a:pt x="155" y="366"/>
                    </a:lnTo>
                    <a:lnTo>
                      <a:pt x="147" y="384"/>
                    </a:lnTo>
                    <a:lnTo>
                      <a:pt x="138" y="400"/>
                    </a:lnTo>
                    <a:lnTo>
                      <a:pt x="125" y="414"/>
                    </a:lnTo>
                    <a:lnTo>
                      <a:pt x="114" y="4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10080" y="39841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1"/>
                    </a:moveTo>
                    <a:lnTo>
                      <a:pt x="11" y="1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992840" y="3507840"/>
                <a:ext cx="333360" cy="164880"/>
              </a:xfrm>
              <a:custGeom>
                <a:avLst/>
                <a:gdLst/>
                <a:ahLst/>
                <a:rect l="l" t="t" r="r" b="b"/>
                <a:pathLst>
                  <a:path w="420" h="207">
                    <a:moveTo>
                      <a:pt x="411" y="207"/>
                    </a:moveTo>
                    <a:lnTo>
                      <a:pt x="357" y="151"/>
                    </a:lnTo>
                    <a:lnTo>
                      <a:pt x="309" y="110"/>
                    </a:lnTo>
                    <a:lnTo>
                      <a:pt x="252" y="67"/>
                    </a:lnTo>
                    <a:lnTo>
                      <a:pt x="222" y="48"/>
                    </a:lnTo>
                    <a:lnTo>
                      <a:pt x="190" y="34"/>
                    </a:lnTo>
                    <a:lnTo>
                      <a:pt x="160" y="22"/>
                    </a:lnTo>
                    <a:lnTo>
                      <a:pt x="127" y="14"/>
                    </a:lnTo>
                    <a:lnTo>
                      <a:pt x="113" y="13"/>
                    </a:lnTo>
                    <a:lnTo>
                      <a:pt x="99" y="13"/>
                    </a:lnTo>
                    <a:lnTo>
                      <a:pt x="82" y="14"/>
                    </a:lnTo>
                    <a:lnTo>
                      <a:pt x="67" y="18"/>
                    </a:lnTo>
                    <a:lnTo>
                      <a:pt x="52" y="23"/>
                    </a:lnTo>
                    <a:lnTo>
                      <a:pt x="38" y="29"/>
                    </a:lnTo>
                    <a:lnTo>
                      <a:pt x="10" y="50"/>
                    </a:lnTo>
                    <a:lnTo>
                      <a:pt x="0" y="39"/>
                    </a:lnTo>
                    <a:lnTo>
                      <a:pt x="29" y="17"/>
                    </a:lnTo>
                    <a:lnTo>
                      <a:pt x="46" y="9"/>
                    </a:lnTo>
                    <a:lnTo>
                      <a:pt x="62" y="4"/>
                    </a:lnTo>
                    <a:lnTo>
                      <a:pt x="78" y="1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31" y="1"/>
                    </a:lnTo>
                    <a:lnTo>
                      <a:pt x="165" y="8"/>
                    </a:lnTo>
                    <a:lnTo>
                      <a:pt x="197" y="20"/>
                    </a:lnTo>
                    <a:lnTo>
                      <a:pt x="230" y="36"/>
                    </a:lnTo>
                    <a:lnTo>
                      <a:pt x="260" y="56"/>
                    </a:lnTo>
                    <a:lnTo>
                      <a:pt x="319" y="99"/>
                    </a:lnTo>
                    <a:lnTo>
                      <a:pt x="367" y="140"/>
                    </a:lnTo>
                    <a:lnTo>
                      <a:pt x="420" y="196"/>
                    </a:lnTo>
                    <a:lnTo>
                      <a:pt x="411" y="2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318280" y="36651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0"/>
                    </a:moveTo>
                    <a:lnTo>
                      <a:pt x="0" y="1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959360" y="3539520"/>
                <a:ext cx="41400" cy="317160"/>
              </a:xfrm>
              <a:custGeom>
                <a:avLst/>
                <a:gdLst/>
                <a:ahLst/>
                <a:rect l="l" t="t" r="r" b="b"/>
                <a:pathLst>
                  <a:path w="52" h="400">
                    <a:moveTo>
                      <a:pt x="52" y="9"/>
                    </a:moveTo>
                    <a:lnTo>
                      <a:pt x="34" y="30"/>
                    </a:lnTo>
                    <a:lnTo>
                      <a:pt x="23" y="50"/>
                    </a:lnTo>
                    <a:lnTo>
                      <a:pt x="17" y="71"/>
                    </a:lnTo>
                    <a:lnTo>
                      <a:pt x="15" y="94"/>
                    </a:lnTo>
                    <a:lnTo>
                      <a:pt x="16" y="118"/>
                    </a:lnTo>
                    <a:lnTo>
                      <a:pt x="21" y="143"/>
                    </a:lnTo>
                    <a:lnTo>
                      <a:pt x="33" y="197"/>
                    </a:lnTo>
                    <a:lnTo>
                      <a:pt x="45" y="249"/>
                    </a:lnTo>
                    <a:lnTo>
                      <a:pt x="49" y="277"/>
                    </a:lnTo>
                    <a:lnTo>
                      <a:pt x="52" y="303"/>
                    </a:lnTo>
                    <a:lnTo>
                      <a:pt x="49" y="327"/>
                    </a:lnTo>
                    <a:lnTo>
                      <a:pt x="42" y="354"/>
                    </a:lnTo>
                    <a:lnTo>
                      <a:pt x="31" y="378"/>
                    </a:lnTo>
                    <a:lnTo>
                      <a:pt x="22" y="389"/>
                    </a:lnTo>
                    <a:lnTo>
                      <a:pt x="12" y="400"/>
                    </a:lnTo>
                    <a:lnTo>
                      <a:pt x="1" y="390"/>
                    </a:lnTo>
                    <a:lnTo>
                      <a:pt x="11" y="379"/>
                    </a:lnTo>
                    <a:lnTo>
                      <a:pt x="19" y="370"/>
                    </a:lnTo>
                    <a:lnTo>
                      <a:pt x="28" y="348"/>
                    </a:lnTo>
                    <a:lnTo>
                      <a:pt x="34" y="326"/>
                    </a:lnTo>
                    <a:lnTo>
                      <a:pt x="37" y="303"/>
                    </a:lnTo>
                    <a:lnTo>
                      <a:pt x="34" y="278"/>
                    </a:lnTo>
                    <a:lnTo>
                      <a:pt x="31" y="252"/>
                    </a:lnTo>
                    <a:lnTo>
                      <a:pt x="19" y="199"/>
                    </a:lnTo>
                    <a:lnTo>
                      <a:pt x="6" y="145"/>
                    </a:lnTo>
                    <a:lnTo>
                      <a:pt x="1" y="120"/>
                    </a:lnTo>
                    <a:lnTo>
                      <a:pt x="0" y="94"/>
                    </a:lnTo>
                    <a:lnTo>
                      <a:pt x="3" y="68"/>
                    </a:lnTo>
                    <a:lnTo>
                      <a:pt x="10" y="44"/>
                    </a:lnTo>
                    <a:lnTo>
                      <a:pt x="22" y="22"/>
                    </a:lnTo>
                    <a:lnTo>
                      <a:pt x="41" y="0"/>
                    </a:lnTo>
                    <a:lnTo>
                      <a:pt x="5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991040" y="353952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0"/>
                    </a:moveTo>
                    <a:lnTo>
                      <a:pt x="0" y="0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822920" y="3820680"/>
                <a:ext cx="145800" cy="51840"/>
              </a:xfrm>
              <a:custGeom>
                <a:avLst/>
                <a:gdLst/>
                <a:ahLst/>
                <a:rect l="l" t="t" r="r" b="b"/>
                <a:pathLst>
                  <a:path w="184" h="65">
                    <a:moveTo>
                      <a:pt x="184" y="47"/>
                    </a:moveTo>
                    <a:lnTo>
                      <a:pt x="176" y="54"/>
                    </a:lnTo>
                    <a:lnTo>
                      <a:pt x="165" y="60"/>
                    </a:lnTo>
                    <a:lnTo>
                      <a:pt x="154" y="63"/>
                    </a:lnTo>
                    <a:lnTo>
                      <a:pt x="142" y="65"/>
                    </a:lnTo>
                    <a:lnTo>
                      <a:pt x="117" y="64"/>
                    </a:lnTo>
                    <a:lnTo>
                      <a:pt x="93" y="58"/>
                    </a:lnTo>
                    <a:lnTo>
                      <a:pt x="67" y="49"/>
                    </a:lnTo>
                    <a:lnTo>
                      <a:pt x="44" y="36"/>
                    </a:lnTo>
                    <a:lnTo>
                      <a:pt x="0" y="13"/>
                    </a:lnTo>
                    <a:lnTo>
                      <a:pt x="7" y="0"/>
                    </a:lnTo>
                    <a:lnTo>
                      <a:pt x="51" y="24"/>
                    </a:lnTo>
                    <a:lnTo>
                      <a:pt x="73" y="36"/>
                    </a:lnTo>
                    <a:lnTo>
                      <a:pt x="98" y="44"/>
                    </a:lnTo>
                    <a:lnTo>
                      <a:pt x="120" y="50"/>
                    </a:lnTo>
                    <a:lnTo>
                      <a:pt x="142" y="50"/>
                    </a:lnTo>
                    <a:lnTo>
                      <a:pt x="149" y="49"/>
                    </a:lnTo>
                    <a:lnTo>
                      <a:pt x="159" y="47"/>
                    </a:lnTo>
                    <a:lnTo>
                      <a:pt x="166" y="43"/>
                    </a:lnTo>
                    <a:lnTo>
                      <a:pt x="175" y="36"/>
                    </a:lnTo>
                    <a:lnTo>
                      <a:pt x="184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960800" y="38491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0"/>
                    </a:moveTo>
                    <a:lnTo>
                      <a:pt x="11" y="1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629240" y="3623760"/>
                <a:ext cx="199800" cy="205920"/>
              </a:xfrm>
              <a:custGeom>
                <a:avLst/>
                <a:gdLst/>
                <a:ahLst/>
                <a:rect l="l" t="t" r="r" b="b"/>
                <a:pathLst>
                  <a:path w="253" h="261">
                    <a:moveTo>
                      <a:pt x="244" y="261"/>
                    </a:moveTo>
                    <a:lnTo>
                      <a:pt x="71" y="83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81" y="72"/>
                    </a:lnTo>
                    <a:lnTo>
                      <a:pt x="253" y="250"/>
                    </a:lnTo>
                    <a:lnTo>
                      <a:pt x="244" y="2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21120" y="38206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1" y="13"/>
                    </a:moveTo>
                    <a:lnTo>
                      <a:pt x="0" y="13"/>
                    </a:lnTo>
                    <a:lnTo>
                      <a:pt x="9" y="2"/>
                    </a:lnTo>
                    <a:lnTo>
                      <a:pt x="8" y="0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629240" y="3369960"/>
                <a:ext cx="253800" cy="263160"/>
              </a:xfrm>
              <a:custGeom>
                <a:avLst/>
                <a:gdLst/>
                <a:ahLst/>
                <a:rect l="l" t="t" r="r" b="b"/>
                <a:pathLst>
                  <a:path w="321" h="330">
                    <a:moveTo>
                      <a:pt x="0" y="319"/>
                    </a:moveTo>
                    <a:lnTo>
                      <a:pt x="27" y="293"/>
                    </a:lnTo>
                    <a:lnTo>
                      <a:pt x="92" y="226"/>
                    </a:lnTo>
                    <a:lnTo>
                      <a:pt x="311" y="0"/>
                    </a:lnTo>
                    <a:lnTo>
                      <a:pt x="321" y="11"/>
                    </a:lnTo>
                    <a:lnTo>
                      <a:pt x="102" y="237"/>
                    </a:lnTo>
                    <a:lnTo>
                      <a:pt x="37" y="304"/>
                    </a:lnTo>
                    <a:lnTo>
                      <a:pt x="10" y="330"/>
                    </a:lnTo>
                    <a:lnTo>
                      <a:pt x="0" y="3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24560" y="362376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6" y="11"/>
                    </a:moveTo>
                    <a:lnTo>
                      <a:pt x="0" y="5"/>
                    </a:lnTo>
                    <a:lnTo>
                      <a:pt x="6" y="0"/>
                    </a:lnTo>
                    <a:lnTo>
                      <a:pt x="16" y="11"/>
                    </a:lnTo>
                    <a:lnTo>
                      <a:pt x="16" y="0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856040" y="3369960"/>
                <a:ext cx="27000" cy="2628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35" y="11"/>
                    </a:moveTo>
                    <a:lnTo>
                      <a:pt x="10" y="33"/>
                    </a:lnTo>
                    <a:lnTo>
                      <a:pt x="0" y="22"/>
                    </a:lnTo>
                    <a:lnTo>
                      <a:pt x="25" y="0"/>
                    </a:lnTo>
                    <a:lnTo>
                      <a:pt x="3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875120" y="336996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11"/>
                    </a:moveTo>
                    <a:lnTo>
                      <a:pt x="0" y="0"/>
                    </a:lnTo>
                    <a:lnTo>
                      <a:pt x="10" y="11"/>
                    </a:lnTo>
                    <a:lnTo>
                      <a:pt x="0" y="0"/>
                    </a:lnTo>
                    <a:lnTo>
                      <a:pt x="1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856040" y="3333240"/>
                <a:ext cx="61920" cy="6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69"/>
                    </a:moveTo>
                    <a:lnTo>
                      <a:pt x="10" y="80"/>
                    </a:lnTo>
                    <a:lnTo>
                      <a:pt x="80" y="11"/>
                    </a:lnTo>
                    <a:lnTo>
                      <a:pt x="7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856040" y="338724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11"/>
                    </a:moveTo>
                    <a:lnTo>
                      <a:pt x="0" y="0"/>
                    </a:lnTo>
                    <a:lnTo>
                      <a:pt x="10" y="11"/>
                    </a:lnTo>
                    <a:lnTo>
                      <a:pt x="0" y="0"/>
                    </a:lnTo>
                    <a:lnTo>
                      <a:pt x="1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911840" y="332856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6"/>
                    </a:moveTo>
                    <a:lnTo>
                      <a:pt x="10" y="17"/>
                    </a:lnTo>
                    <a:lnTo>
                      <a:pt x="16" y="11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911840" y="33332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11"/>
                    </a:moveTo>
                    <a:lnTo>
                      <a:pt x="0" y="0"/>
                    </a:lnTo>
                    <a:lnTo>
                      <a:pt x="1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902120" y="3193560"/>
                <a:ext cx="41400" cy="142560"/>
              </a:xfrm>
              <a:custGeom>
                <a:avLst/>
                <a:gdLst/>
                <a:ahLst/>
                <a:rect l="l" t="t" r="r" b="b"/>
                <a:pathLst>
                  <a:path w="51" h="180">
                    <a:moveTo>
                      <a:pt x="16" y="172"/>
                    </a:moveTo>
                    <a:lnTo>
                      <a:pt x="22" y="162"/>
                    </a:lnTo>
                    <a:lnTo>
                      <a:pt x="26" y="152"/>
                    </a:lnTo>
                    <a:lnTo>
                      <a:pt x="34" y="131"/>
                    </a:lnTo>
                    <a:lnTo>
                      <a:pt x="38" y="109"/>
                    </a:lnTo>
                    <a:lnTo>
                      <a:pt x="38" y="90"/>
                    </a:lnTo>
                    <a:lnTo>
                      <a:pt x="33" y="68"/>
                    </a:lnTo>
                    <a:lnTo>
                      <a:pt x="27" y="48"/>
                    </a:lnTo>
                    <a:lnTo>
                      <a:pt x="16" y="29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27" y="20"/>
                    </a:lnTo>
                    <a:lnTo>
                      <a:pt x="39" y="41"/>
                    </a:lnTo>
                    <a:lnTo>
                      <a:pt x="47" y="63"/>
                    </a:lnTo>
                    <a:lnTo>
                      <a:pt x="51" y="87"/>
                    </a:lnTo>
                    <a:lnTo>
                      <a:pt x="51" y="112"/>
                    </a:lnTo>
                    <a:lnTo>
                      <a:pt x="48" y="136"/>
                    </a:lnTo>
                    <a:lnTo>
                      <a:pt x="39" y="158"/>
                    </a:lnTo>
                    <a:lnTo>
                      <a:pt x="34" y="170"/>
                    </a:lnTo>
                    <a:lnTo>
                      <a:pt x="28" y="180"/>
                    </a:lnTo>
                    <a:lnTo>
                      <a:pt x="16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915080" y="332856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1" y="11"/>
                    </a:moveTo>
                    <a:lnTo>
                      <a:pt x="12" y="10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902120" y="3193560"/>
                <a:ext cx="9720" cy="9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1" y="11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270160" y="1590480"/>
                <a:ext cx="4143240" cy="4097160"/>
              </a:xfrm>
              <a:custGeom>
                <a:avLst/>
                <a:gdLst/>
                <a:ahLst/>
                <a:rect l="l" t="t" r="r" b="b"/>
                <a:pathLst>
                  <a:path w="5218" h="5162">
                    <a:moveTo>
                      <a:pt x="3012" y="3337"/>
                    </a:moveTo>
                    <a:lnTo>
                      <a:pt x="3023" y="3325"/>
                    </a:lnTo>
                    <a:lnTo>
                      <a:pt x="3028" y="3320"/>
                    </a:lnTo>
                    <a:lnTo>
                      <a:pt x="3033" y="3314"/>
                    </a:lnTo>
                    <a:lnTo>
                      <a:pt x="3040" y="3302"/>
                    </a:lnTo>
                    <a:lnTo>
                      <a:pt x="3043" y="3296"/>
                    </a:lnTo>
                    <a:lnTo>
                      <a:pt x="3045" y="3290"/>
                    </a:lnTo>
                    <a:lnTo>
                      <a:pt x="3050" y="3277"/>
                    </a:lnTo>
                    <a:lnTo>
                      <a:pt x="3054" y="3265"/>
                    </a:lnTo>
                    <a:lnTo>
                      <a:pt x="3056" y="3253"/>
                    </a:lnTo>
                    <a:lnTo>
                      <a:pt x="3056" y="3241"/>
                    </a:lnTo>
                    <a:lnTo>
                      <a:pt x="3057" y="3228"/>
                    </a:lnTo>
                    <a:lnTo>
                      <a:pt x="3056" y="3216"/>
                    </a:lnTo>
                    <a:lnTo>
                      <a:pt x="3055" y="3204"/>
                    </a:lnTo>
                    <a:lnTo>
                      <a:pt x="3052" y="3192"/>
                    </a:lnTo>
                    <a:lnTo>
                      <a:pt x="3047" y="3167"/>
                    </a:lnTo>
                    <a:lnTo>
                      <a:pt x="3041" y="3143"/>
                    </a:lnTo>
                    <a:lnTo>
                      <a:pt x="3036" y="3118"/>
                    </a:lnTo>
                    <a:lnTo>
                      <a:pt x="3032" y="3094"/>
                    </a:lnTo>
                    <a:lnTo>
                      <a:pt x="3029" y="3082"/>
                    </a:lnTo>
                    <a:lnTo>
                      <a:pt x="3028" y="3070"/>
                    </a:lnTo>
                    <a:lnTo>
                      <a:pt x="3028" y="3057"/>
                    </a:lnTo>
                    <a:lnTo>
                      <a:pt x="3028" y="3045"/>
                    </a:lnTo>
                    <a:lnTo>
                      <a:pt x="3029" y="3039"/>
                    </a:lnTo>
                    <a:lnTo>
                      <a:pt x="3029" y="3033"/>
                    </a:lnTo>
                    <a:lnTo>
                      <a:pt x="3032" y="3022"/>
                    </a:lnTo>
                    <a:lnTo>
                      <a:pt x="3034" y="3016"/>
                    </a:lnTo>
                    <a:lnTo>
                      <a:pt x="3035" y="3010"/>
                    </a:lnTo>
                    <a:lnTo>
                      <a:pt x="3041" y="2999"/>
                    </a:lnTo>
                    <a:lnTo>
                      <a:pt x="3047" y="2986"/>
                    </a:lnTo>
                    <a:lnTo>
                      <a:pt x="3051" y="2981"/>
                    </a:lnTo>
                    <a:lnTo>
                      <a:pt x="3055" y="2975"/>
                    </a:lnTo>
                    <a:lnTo>
                      <a:pt x="3065" y="2964"/>
                    </a:lnTo>
                    <a:lnTo>
                      <a:pt x="3076" y="2953"/>
                    </a:lnTo>
                    <a:lnTo>
                      <a:pt x="3084" y="2946"/>
                    </a:lnTo>
                    <a:lnTo>
                      <a:pt x="3093" y="2940"/>
                    </a:lnTo>
                    <a:lnTo>
                      <a:pt x="3110" y="2929"/>
                    </a:lnTo>
                    <a:lnTo>
                      <a:pt x="3118" y="2924"/>
                    </a:lnTo>
                    <a:lnTo>
                      <a:pt x="3127" y="2920"/>
                    </a:lnTo>
                    <a:lnTo>
                      <a:pt x="3137" y="2917"/>
                    </a:lnTo>
                    <a:lnTo>
                      <a:pt x="3145" y="2914"/>
                    </a:lnTo>
                    <a:lnTo>
                      <a:pt x="3155" y="2912"/>
                    </a:lnTo>
                    <a:lnTo>
                      <a:pt x="3164" y="2911"/>
                    </a:lnTo>
                    <a:lnTo>
                      <a:pt x="3182" y="2908"/>
                    </a:lnTo>
                    <a:lnTo>
                      <a:pt x="3200" y="2908"/>
                    </a:lnTo>
                    <a:lnTo>
                      <a:pt x="3220" y="2911"/>
                    </a:lnTo>
                    <a:lnTo>
                      <a:pt x="3238" y="2914"/>
                    </a:lnTo>
                    <a:lnTo>
                      <a:pt x="3258" y="2919"/>
                    </a:lnTo>
                    <a:lnTo>
                      <a:pt x="3276" y="2925"/>
                    </a:lnTo>
                    <a:lnTo>
                      <a:pt x="3294" y="2933"/>
                    </a:lnTo>
                    <a:lnTo>
                      <a:pt x="3313" y="2941"/>
                    </a:lnTo>
                    <a:lnTo>
                      <a:pt x="3331" y="2951"/>
                    </a:lnTo>
                    <a:lnTo>
                      <a:pt x="3349" y="2962"/>
                    </a:lnTo>
                    <a:lnTo>
                      <a:pt x="3366" y="2973"/>
                    </a:lnTo>
                    <a:lnTo>
                      <a:pt x="3384" y="2984"/>
                    </a:lnTo>
                    <a:lnTo>
                      <a:pt x="3392" y="2990"/>
                    </a:lnTo>
                    <a:lnTo>
                      <a:pt x="3401" y="2996"/>
                    </a:lnTo>
                    <a:lnTo>
                      <a:pt x="3417" y="3008"/>
                    </a:lnTo>
                    <a:lnTo>
                      <a:pt x="3431" y="3022"/>
                    </a:lnTo>
                    <a:lnTo>
                      <a:pt x="3447" y="3034"/>
                    </a:lnTo>
                    <a:lnTo>
                      <a:pt x="3461" y="3046"/>
                    </a:lnTo>
                    <a:lnTo>
                      <a:pt x="3486" y="3071"/>
                    </a:lnTo>
                    <a:lnTo>
                      <a:pt x="3508" y="3093"/>
                    </a:lnTo>
                    <a:lnTo>
                      <a:pt x="3527" y="3111"/>
                    </a:lnTo>
                    <a:lnTo>
                      <a:pt x="3550" y="3134"/>
                    </a:lnTo>
                    <a:lnTo>
                      <a:pt x="3568" y="3153"/>
                    </a:lnTo>
                    <a:lnTo>
                      <a:pt x="3585" y="3171"/>
                    </a:lnTo>
                    <a:lnTo>
                      <a:pt x="3601" y="3189"/>
                    </a:lnTo>
                    <a:lnTo>
                      <a:pt x="3616" y="3208"/>
                    </a:lnTo>
                    <a:lnTo>
                      <a:pt x="3630" y="3226"/>
                    </a:lnTo>
                    <a:lnTo>
                      <a:pt x="3643" y="3243"/>
                    </a:lnTo>
                    <a:lnTo>
                      <a:pt x="3655" y="3262"/>
                    </a:lnTo>
                    <a:lnTo>
                      <a:pt x="3666" y="3279"/>
                    </a:lnTo>
                    <a:lnTo>
                      <a:pt x="3676" y="3297"/>
                    </a:lnTo>
                    <a:lnTo>
                      <a:pt x="3684" y="3314"/>
                    </a:lnTo>
                    <a:lnTo>
                      <a:pt x="3693" y="3331"/>
                    </a:lnTo>
                    <a:lnTo>
                      <a:pt x="3700" y="3348"/>
                    </a:lnTo>
                    <a:lnTo>
                      <a:pt x="3706" y="3365"/>
                    </a:lnTo>
                    <a:lnTo>
                      <a:pt x="3711" y="3381"/>
                    </a:lnTo>
                    <a:lnTo>
                      <a:pt x="3716" y="3397"/>
                    </a:lnTo>
                    <a:lnTo>
                      <a:pt x="3720" y="3413"/>
                    </a:lnTo>
                    <a:lnTo>
                      <a:pt x="3722" y="3428"/>
                    </a:lnTo>
                    <a:lnTo>
                      <a:pt x="3725" y="3444"/>
                    </a:lnTo>
                    <a:lnTo>
                      <a:pt x="3726" y="3458"/>
                    </a:lnTo>
                    <a:lnTo>
                      <a:pt x="3727" y="3472"/>
                    </a:lnTo>
                    <a:lnTo>
                      <a:pt x="3727" y="3485"/>
                    </a:lnTo>
                    <a:lnTo>
                      <a:pt x="3726" y="3499"/>
                    </a:lnTo>
                    <a:lnTo>
                      <a:pt x="3725" y="3512"/>
                    </a:lnTo>
                    <a:lnTo>
                      <a:pt x="3722" y="3524"/>
                    </a:lnTo>
                    <a:lnTo>
                      <a:pt x="3720" y="3535"/>
                    </a:lnTo>
                    <a:lnTo>
                      <a:pt x="3716" y="3546"/>
                    </a:lnTo>
                    <a:lnTo>
                      <a:pt x="3712" y="3557"/>
                    </a:lnTo>
                    <a:lnTo>
                      <a:pt x="3708" y="3567"/>
                    </a:lnTo>
                    <a:lnTo>
                      <a:pt x="3703" y="3576"/>
                    </a:lnTo>
                    <a:lnTo>
                      <a:pt x="3697" y="3584"/>
                    </a:lnTo>
                    <a:lnTo>
                      <a:pt x="3690" y="3593"/>
                    </a:lnTo>
                    <a:lnTo>
                      <a:pt x="3684" y="3600"/>
                    </a:lnTo>
                    <a:lnTo>
                      <a:pt x="3673" y="3609"/>
                    </a:lnTo>
                    <a:lnTo>
                      <a:pt x="3663" y="3616"/>
                    </a:lnTo>
                    <a:lnTo>
                      <a:pt x="3652" y="3623"/>
                    </a:lnTo>
                    <a:lnTo>
                      <a:pt x="3641" y="3628"/>
                    </a:lnTo>
                    <a:lnTo>
                      <a:pt x="3630" y="3632"/>
                    </a:lnTo>
                    <a:lnTo>
                      <a:pt x="3618" y="3634"/>
                    </a:lnTo>
                    <a:lnTo>
                      <a:pt x="3607" y="3636"/>
                    </a:lnTo>
                    <a:lnTo>
                      <a:pt x="3595" y="3637"/>
                    </a:lnTo>
                    <a:lnTo>
                      <a:pt x="3583" y="3637"/>
                    </a:lnTo>
                    <a:lnTo>
                      <a:pt x="3571" y="3636"/>
                    </a:lnTo>
                    <a:lnTo>
                      <a:pt x="3558" y="3634"/>
                    </a:lnTo>
                    <a:lnTo>
                      <a:pt x="3545" y="3632"/>
                    </a:lnTo>
                    <a:lnTo>
                      <a:pt x="3519" y="3627"/>
                    </a:lnTo>
                    <a:lnTo>
                      <a:pt x="3494" y="3622"/>
                    </a:lnTo>
                    <a:lnTo>
                      <a:pt x="3468" y="3616"/>
                    </a:lnTo>
                    <a:lnTo>
                      <a:pt x="3442" y="3611"/>
                    </a:lnTo>
                    <a:lnTo>
                      <a:pt x="3430" y="3610"/>
                    </a:lnTo>
                    <a:lnTo>
                      <a:pt x="3418" y="3609"/>
                    </a:lnTo>
                    <a:lnTo>
                      <a:pt x="3393" y="3608"/>
                    </a:lnTo>
                    <a:lnTo>
                      <a:pt x="3381" y="3608"/>
                    </a:lnTo>
                    <a:lnTo>
                      <a:pt x="3369" y="3610"/>
                    </a:lnTo>
                    <a:lnTo>
                      <a:pt x="3358" y="3612"/>
                    </a:lnTo>
                    <a:lnTo>
                      <a:pt x="3346" y="3616"/>
                    </a:lnTo>
                    <a:lnTo>
                      <a:pt x="3335" y="3621"/>
                    </a:lnTo>
                    <a:lnTo>
                      <a:pt x="3325" y="3627"/>
                    </a:lnTo>
                    <a:lnTo>
                      <a:pt x="3319" y="3631"/>
                    </a:lnTo>
                    <a:lnTo>
                      <a:pt x="3314" y="3634"/>
                    </a:lnTo>
                    <a:lnTo>
                      <a:pt x="3304" y="3644"/>
                    </a:lnTo>
                    <a:lnTo>
                      <a:pt x="3297" y="3652"/>
                    </a:lnTo>
                    <a:lnTo>
                      <a:pt x="3291" y="3661"/>
                    </a:lnTo>
                    <a:lnTo>
                      <a:pt x="3285" y="3670"/>
                    </a:lnTo>
                    <a:lnTo>
                      <a:pt x="3281" y="3681"/>
                    </a:lnTo>
                    <a:lnTo>
                      <a:pt x="3277" y="3691"/>
                    </a:lnTo>
                    <a:lnTo>
                      <a:pt x="3274" y="3702"/>
                    </a:lnTo>
                    <a:lnTo>
                      <a:pt x="3272" y="3714"/>
                    </a:lnTo>
                    <a:lnTo>
                      <a:pt x="3271" y="3725"/>
                    </a:lnTo>
                    <a:lnTo>
                      <a:pt x="3271" y="3737"/>
                    </a:lnTo>
                    <a:lnTo>
                      <a:pt x="3271" y="3748"/>
                    </a:lnTo>
                    <a:lnTo>
                      <a:pt x="3272" y="3760"/>
                    </a:lnTo>
                    <a:lnTo>
                      <a:pt x="3275" y="3773"/>
                    </a:lnTo>
                    <a:lnTo>
                      <a:pt x="3277" y="3785"/>
                    </a:lnTo>
                    <a:lnTo>
                      <a:pt x="3280" y="3796"/>
                    </a:lnTo>
                    <a:lnTo>
                      <a:pt x="3288" y="3819"/>
                    </a:lnTo>
                    <a:lnTo>
                      <a:pt x="3363" y="3895"/>
                    </a:lnTo>
                    <a:lnTo>
                      <a:pt x="3436" y="3971"/>
                    </a:lnTo>
                    <a:lnTo>
                      <a:pt x="3507" y="4047"/>
                    </a:lnTo>
                    <a:lnTo>
                      <a:pt x="3577" y="4121"/>
                    </a:lnTo>
                    <a:lnTo>
                      <a:pt x="3643" y="4194"/>
                    </a:lnTo>
                    <a:lnTo>
                      <a:pt x="3674" y="4230"/>
                    </a:lnTo>
                    <a:lnTo>
                      <a:pt x="3705" y="4265"/>
                    </a:lnTo>
                    <a:lnTo>
                      <a:pt x="3734" y="4300"/>
                    </a:lnTo>
                    <a:lnTo>
                      <a:pt x="3763" y="4334"/>
                    </a:lnTo>
                    <a:lnTo>
                      <a:pt x="3791" y="4367"/>
                    </a:lnTo>
                    <a:lnTo>
                      <a:pt x="3816" y="4399"/>
                    </a:lnTo>
                    <a:lnTo>
                      <a:pt x="3841" y="4430"/>
                    </a:lnTo>
                    <a:lnTo>
                      <a:pt x="3864" y="4461"/>
                    </a:lnTo>
                    <a:lnTo>
                      <a:pt x="3885" y="4492"/>
                    </a:lnTo>
                    <a:lnTo>
                      <a:pt x="3904" y="4520"/>
                    </a:lnTo>
                    <a:lnTo>
                      <a:pt x="3923" y="4548"/>
                    </a:lnTo>
                    <a:lnTo>
                      <a:pt x="3939" y="4575"/>
                    </a:lnTo>
                    <a:lnTo>
                      <a:pt x="3952" y="4600"/>
                    </a:lnTo>
                    <a:lnTo>
                      <a:pt x="3964" y="4625"/>
                    </a:lnTo>
                    <a:lnTo>
                      <a:pt x="3969" y="4636"/>
                    </a:lnTo>
                    <a:lnTo>
                      <a:pt x="3974" y="4647"/>
                    </a:lnTo>
                    <a:lnTo>
                      <a:pt x="3979" y="4658"/>
                    </a:lnTo>
                    <a:lnTo>
                      <a:pt x="3981" y="4669"/>
                    </a:lnTo>
                    <a:lnTo>
                      <a:pt x="3987" y="4690"/>
                    </a:lnTo>
                    <a:lnTo>
                      <a:pt x="3989" y="4698"/>
                    </a:lnTo>
                    <a:lnTo>
                      <a:pt x="3990" y="4708"/>
                    </a:lnTo>
                    <a:lnTo>
                      <a:pt x="3991" y="4717"/>
                    </a:lnTo>
                    <a:lnTo>
                      <a:pt x="3991" y="4725"/>
                    </a:lnTo>
                    <a:lnTo>
                      <a:pt x="3990" y="4734"/>
                    </a:lnTo>
                    <a:lnTo>
                      <a:pt x="3989" y="4741"/>
                    </a:lnTo>
                    <a:lnTo>
                      <a:pt x="3987" y="4748"/>
                    </a:lnTo>
                    <a:lnTo>
                      <a:pt x="3984" y="4755"/>
                    </a:lnTo>
                    <a:lnTo>
                      <a:pt x="3981" y="4762"/>
                    </a:lnTo>
                    <a:lnTo>
                      <a:pt x="3976" y="4767"/>
                    </a:lnTo>
                    <a:lnTo>
                      <a:pt x="3947" y="4796"/>
                    </a:lnTo>
                    <a:lnTo>
                      <a:pt x="3917" y="4823"/>
                    </a:lnTo>
                    <a:lnTo>
                      <a:pt x="3885" y="4849"/>
                    </a:lnTo>
                    <a:lnTo>
                      <a:pt x="3852" y="4874"/>
                    </a:lnTo>
                    <a:lnTo>
                      <a:pt x="3818" y="4898"/>
                    </a:lnTo>
                    <a:lnTo>
                      <a:pt x="3782" y="4921"/>
                    </a:lnTo>
                    <a:lnTo>
                      <a:pt x="3745" y="4943"/>
                    </a:lnTo>
                    <a:lnTo>
                      <a:pt x="3708" y="4964"/>
                    </a:lnTo>
                    <a:lnTo>
                      <a:pt x="3670" y="4983"/>
                    </a:lnTo>
                    <a:lnTo>
                      <a:pt x="3630" y="5002"/>
                    </a:lnTo>
                    <a:lnTo>
                      <a:pt x="3590" y="5019"/>
                    </a:lnTo>
                    <a:lnTo>
                      <a:pt x="3550" y="5035"/>
                    </a:lnTo>
                    <a:lnTo>
                      <a:pt x="3507" y="5050"/>
                    </a:lnTo>
                    <a:lnTo>
                      <a:pt x="3465" y="5065"/>
                    </a:lnTo>
                    <a:lnTo>
                      <a:pt x="3421" y="5079"/>
                    </a:lnTo>
                    <a:lnTo>
                      <a:pt x="3377" y="5091"/>
                    </a:lnTo>
                    <a:lnTo>
                      <a:pt x="3333" y="5102"/>
                    </a:lnTo>
                    <a:lnTo>
                      <a:pt x="3288" y="5112"/>
                    </a:lnTo>
                    <a:lnTo>
                      <a:pt x="3242" y="5121"/>
                    </a:lnTo>
                    <a:lnTo>
                      <a:pt x="3197" y="5130"/>
                    </a:lnTo>
                    <a:lnTo>
                      <a:pt x="3149" y="5137"/>
                    </a:lnTo>
                    <a:lnTo>
                      <a:pt x="3102" y="5143"/>
                    </a:lnTo>
                    <a:lnTo>
                      <a:pt x="3055" y="5148"/>
                    </a:lnTo>
                    <a:lnTo>
                      <a:pt x="3007" y="5153"/>
                    </a:lnTo>
                    <a:lnTo>
                      <a:pt x="2958" y="5157"/>
                    </a:lnTo>
                    <a:lnTo>
                      <a:pt x="2910" y="5159"/>
                    </a:lnTo>
                    <a:lnTo>
                      <a:pt x="2862" y="5160"/>
                    </a:lnTo>
                    <a:lnTo>
                      <a:pt x="2813" y="5162"/>
                    </a:lnTo>
                    <a:lnTo>
                      <a:pt x="2764" y="5160"/>
                    </a:lnTo>
                    <a:lnTo>
                      <a:pt x="2714" y="5160"/>
                    </a:lnTo>
                    <a:lnTo>
                      <a:pt x="2665" y="5158"/>
                    </a:lnTo>
                    <a:lnTo>
                      <a:pt x="2616" y="5154"/>
                    </a:lnTo>
                    <a:lnTo>
                      <a:pt x="2566" y="5151"/>
                    </a:lnTo>
                    <a:lnTo>
                      <a:pt x="2517" y="5146"/>
                    </a:lnTo>
                    <a:lnTo>
                      <a:pt x="2468" y="5141"/>
                    </a:lnTo>
                    <a:lnTo>
                      <a:pt x="2419" y="5134"/>
                    </a:lnTo>
                    <a:lnTo>
                      <a:pt x="2370" y="5126"/>
                    </a:lnTo>
                    <a:lnTo>
                      <a:pt x="2321" y="5119"/>
                    </a:lnTo>
                    <a:lnTo>
                      <a:pt x="2272" y="5109"/>
                    </a:lnTo>
                    <a:lnTo>
                      <a:pt x="2225" y="5099"/>
                    </a:lnTo>
                    <a:lnTo>
                      <a:pt x="2176" y="5088"/>
                    </a:lnTo>
                    <a:lnTo>
                      <a:pt x="2129" y="5077"/>
                    </a:lnTo>
                    <a:lnTo>
                      <a:pt x="2082" y="5065"/>
                    </a:lnTo>
                    <a:lnTo>
                      <a:pt x="2035" y="5052"/>
                    </a:lnTo>
                    <a:lnTo>
                      <a:pt x="1989" y="5038"/>
                    </a:lnTo>
                    <a:lnTo>
                      <a:pt x="1944" y="5022"/>
                    </a:lnTo>
                    <a:lnTo>
                      <a:pt x="1898" y="5008"/>
                    </a:lnTo>
                    <a:lnTo>
                      <a:pt x="1854" y="4991"/>
                    </a:lnTo>
                    <a:lnTo>
                      <a:pt x="1810" y="4973"/>
                    </a:lnTo>
                    <a:lnTo>
                      <a:pt x="1766" y="4956"/>
                    </a:lnTo>
                    <a:lnTo>
                      <a:pt x="1725" y="4937"/>
                    </a:lnTo>
                    <a:lnTo>
                      <a:pt x="1683" y="4918"/>
                    </a:lnTo>
                    <a:lnTo>
                      <a:pt x="1642" y="4898"/>
                    </a:lnTo>
                    <a:lnTo>
                      <a:pt x="1603" y="4877"/>
                    </a:lnTo>
                    <a:lnTo>
                      <a:pt x="1563" y="4855"/>
                    </a:lnTo>
                    <a:lnTo>
                      <a:pt x="1524" y="4833"/>
                    </a:lnTo>
                    <a:lnTo>
                      <a:pt x="1488" y="4810"/>
                    </a:lnTo>
                    <a:lnTo>
                      <a:pt x="1451" y="4786"/>
                    </a:lnTo>
                    <a:lnTo>
                      <a:pt x="1415" y="4762"/>
                    </a:lnTo>
                    <a:lnTo>
                      <a:pt x="1382" y="4736"/>
                    </a:lnTo>
                    <a:lnTo>
                      <a:pt x="1349" y="4711"/>
                    </a:lnTo>
                    <a:lnTo>
                      <a:pt x="1318" y="4684"/>
                    </a:lnTo>
                    <a:lnTo>
                      <a:pt x="1287" y="4657"/>
                    </a:lnTo>
                    <a:lnTo>
                      <a:pt x="1258" y="4630"/>
                    </a:lnTo>
                    <a:lnTo>
                      <a:pt x="1253" y="4622"/>
                    </a:lnTo>
                    <a:lnTo>
                      <a:pt x="1249" y="4616"/>
                    </a:lnTo>
                    <a:lnTo>
                      <a:pt x="1247" y="4609"/>
                    </a:lnTo>
                    <a:lnTo>
                      <a:pt x="1244" y="4602"/>
                    </a:lnTo>
                    <a:lnTo>
                      <a:pt x="1243" y="4594"/>
                    </a:lnTo>
                    <a:lnTo>
                      <a:pt x="1242" y="4586"/>
                    </a:lnTo>
                    <a:lnTo>
                      <a:pt x="1242" y="4567"/>
                    </a:lnTo>
                    <a:lnTo>
                      <a:pt x="1243" y="4558"/>
                    </a:lnTo>
                    <a:lnTo>
                      <a:pt x="1244" y="4548"/>
                    </a:lnTo>
                    <a:lnTo>
                      <a:pt x="1249" y="4527"/>
                    </a:lnTo>
                    <a:lnTo>
                      <a:pt x="1252" y="4516"/>
                    </a:lnTo>
                    <a:lnTo>
                      <a:pt x="1257" y="4505"/>
                    </a:lnTo>
                    <a:lnTo>
                      <a:pt x="1265" y="4482"/>
                    </a:lnTo>
                    <a:lnTo>
                      <a:pt x="1276" y="4457"/>
                    </a:lnTo>
                    <a:lnTo>
                      <a:pt x="1290" y="4430"/>
                    </a:lnTo>
                    <a:lnTo>
                      <a:pt x="1304" y="4404"/>
                    </a:lnTo>
                    <a:lnTo>
                      <a:pt x="1321" y="4375"/>
                    </a:lnTo>
                    <a:lnTo>
                      <a:pt x="1330" y="4361"/>
                    </a:lnTo>
                    <a:lnTo>
                      <a:pt x="1340" y="4346"/>
                    </a:lnTo>
                    <a:lnTo>
                      <a:pt x="1359" y="4317"/>
                    </a:lnTo>
                    <a:lnTo>
                      <a:pt x="1381" y="4285"/>
                    </a:lnTo>
                    <a:lnTo>
                      <a:pt x="1404" y="4254"/>
                    </a:lnTo>
                    <a:lnTo>
                      <a:pt x="1429" y="4221"/>
                    </a:lnTo>
                    <a:lnTo>
                      <a:pt x="1455" y="4188"/>
                    </a:lnTo>
                    <a:lnTo>
                      <a:pt x="1481" y="4154"/>
                    </a:lnTo>
                    <a:lnTo>
                      <a:pt x="1510" y="4120"/>
                    </a:lnTo>
                    <a:lnTo>
                      <a:pt x="1539" y="4086"/>
                    </a:lnTo>
                    <a:lnTo>
                      <a:pt x="1568" y="4050"/>
                    </a:lnTo>
                    <a:lnTo>
                      <a:pt x="1600" y="4015"/>
                    </a:lnTo>
                    <a:lnTo>
                      <a:pt x="1631" y="3979"/>
                    </a:lnTo>
                    <a:lnTo>
                      <a:pt x="1695" y="3907"/>
                    </a:lnTo>
                    <a:lnTo>
                      <a:pt x="1763" y="3835"/>
                    </a:lnTo>
                    <a:lnTo>
                      <a:pt x="1831" y="3764"/>
                    </a:lnTo>
                    <a:lnTo>
                      <a:pt x="1900" y="3692"/>
                    </a:lnTo>
                    <a:lnTo>
                      <a:pt x="1903" y="3682"/>
                    </a:lnTo>
                    <a:lnTo>
                      <a:pt x="1906" y="3671"/>
                    </a:lnTo>
                    <a:lnTo>
                      <a:pt x="1908" y="3660"/>
                    </a:lnTo>
                    <a:lnTo>
                      <a:pt x="1909" y="3650"/>
                    </a:lnTo>
                    <a:lnTo>
                      <a:pt x="1909" y="3639"/>
                    </a:lnTo>
                    <a:lnTo>
                      <a:pt x="1909" y="3628"/>
                    </a:lnTo>
                    <a:lnTo>
                      <a:pt x="1908" y="3617"/>
                    </a:lnTo>
                    <a:lnTo>
                      <a:pt x="1907" y="3606"/>
                    </a:lnTo>
                    <a:lnTo>
                      <a:pt x="1904" y="3597"/>
                    </a:lnTo>
                    <a:lnTo>
                      <a:pt x="1901" y="3586"/>
                    </a:lnTo>
                    <a:lnTo>
                      <a:pt x="1897" y="3576"/>
                    </a:lnTo>
                    <a:lnTo>
                      <a:pt x="1892" y="3565"/>
                    </a:lnTo>
                    <a:lnTo>
                      <a:pt x="1886" y="3555"/>
                    </a:lnTo>
                    <a:lnTo>
                      <a:pt x="1880" y="3546"/>
                    </a:lnTo>
                    <a:lnTo>
                      <a:pt x="1873" y="3537"/>
                    </a:lnTo>
                    <a:lnTo>
                      <a:pt x="1864" y="3528"/>
                    </a:lnTo>
                    <a:lnTo>
                      <a:pt x="1853" y="3518"/>
                    </a:lnTo>
                    <a:lnTo>
                      <a:pt x="1847" y="3513"/>
                    </a:lnTo>
                    <a:lnTo>
                      <a:pt x="1841" y="3509"/>
                    </a:lnTo>
                    <a:lnTo>
                      <a:pt x="1829" y="3501"/>
                    </a:lnTo>
                    <a:lnTo>
                      <a:pt x="1823" y="3499"/>
                    </a:lnTo>
                    <a:lnTo>
                      <a:pt x="1818" y="3495"/>
                    </a:lnTo>
                    <a:lnTo>
                      <a:pt x="1805" y="3491"/>
                    </a:lnTo>
                    <a:lnTo>
                      <a:pt x="1793" y="3488"/>
                    </a:lnTo>
                    <a:lnTo>
                      <a:pt x="1781" y="3485"/>
                    </a:lnTo>
                    <a:lnTo>
                      <a:pt x="1769" y="3484"/>
                    </a:lnTo>
                    <a:lnTo>
                      <a:pt x="1757" y="3484"/>
                    </a:lnTo>
                    <a:lnTo>
                      <a:pt x="1744" y="3485"/>
                    </a:lnTo>
                    <a:lnTo>
                      <a:pt x="1732" y="3487"/>
                    </a:lnTo>
                    <a:lnTo>
                      <a:pt x="1720" y="3488"/>
                    </a:lnTo>
                    <a:lnTo>
                      <a:pt x="1694" y="3494"/>
                    </a:lnTo>
                    <a:lnTo>
                      <a:pt x="1670" y="3499"/>
                    </a:lnTo>
                    <a:lnTo>
                      <a:pt x="1645" y="3505"/>
                    </a:lnTo>
                    <a:lnTo>
                      <a:pt x="1621" y="3510"/>
                    </a:lnTo>
                    <a:lnTo>
                      <a:pt x="1609" y="3512"/>
                    </a:lnTo>
                    <a:lnTo>
                      <a:pt x="1596" y="3512"/>
                    </a:lnTo>
                    <a:lnTo>
                      <a:pt x="1584" y="3513"/>
                    </a:lnTo>
                    <a:lnTo>
                      <a:pt x="1572" y="3512"/>
                    </a:lnTo>
                    <a:lnTo>
                      <a:pt x="1567" y="3512"/>
                    </a:lnTo>
                    <a:lnTo>
                      <a:pt x="1561" y="3511"/>
                    </a:lnTo>
                    <a:lnTo>
                      <a:pt x="1549" y="3509"/>
                    </a:lnTo>
                    <a:lnTo>
                      <a:pt x="1543" y="3507"/>
                    </a:lnTo>
                    <a:lnTo>
                      <a:pt x="1538" y="3505"/>
                    </a:lnTo>
                    <a:lnTo>
                      <a:pt x="1525" y="3500"/>
                    </a:lnTo>
                    <a:lnTo>
                      <a:pt x="1514" y="3494"/>
                    </a:lnTo>
                    <a:lnTo>
                      <a:pt x="1508" y="3490"/>
                    </a:lnTo>
                    <a:lnTo>
                      <a:pt x="1502" y="3487"/>
                    </a:lnTo>
                    <a:lnTo>
                      <a:pt x="1491" y="3477"/>
                    </a:lnTo>
                    <a:lnTo>
                      <a:pt x="1480" y="3466"/>
                    </a:lnTo>
                    <a:lnTo>
                      <a:pt x="1473" y="3457"/>
                    </a:lnTo>
                    <a:lnTo>
                      <a:pt x="1467" y="3449"/>
                    </a:lnTo>
                    <a:lnTo>
                      <a:pt x="1456" y="3431"/>
                    </a:lnTo>
                    <a:lnTo>
                      <a:pt x="1452" y="3423"/>
                    </a:lnTo>
                    <a:lnTo>
                      <a:pt x="1447" y="3413"/>
                    </a:lnTo>
                    <a:lnTo>
                      <a:pt x="1445" y="3405"/>
                    </a:lnTo>
                    <a:lnTo>
                      <a:pt x="1441" y="3396"/>
                    </a:lnTo>
                    <a:lnTo>
                      <a:pt x="1439" y="3386"/>
                    </a:lnTo>
                    <a:lnTo>
                      <a:pt x="1437" y="3378"/>
                    </a:lnTo>
                    <a:lnTo>
                      <a:pt x="1436" y="3359"/>
                    </a:lnTo>
                    <a:lnTo>
                      <a:pt x="1436" y="3340"/>
                    </a:lnTo>
                    <a:lnTo>
                      <a:pt x="1437" y="3321"/>
                    </a:lnTo>
                    <a:lnTo>
                      <a:pt x="1441" y="3303"/>
                    </a:lnTo>
                    <a:lnTo>
                      <a:pt x="1446" y="3284"/>
                    </a:lnTo>
                    <a:lnTo>
                      <a:pt x="1452" y="3265"/>
                    </a:lnTo>
                    <a:lnTo>
                      <a:pt x="1459" y="3247"/>
                    </a:lnTo>
                    <a:lnTo>
                      <a:pt x="1468" y="3228"/>
                    </a:lnTo>
                    <a:lnTo>
                      <a:pt x="1478" y="3210"/>
                    </a:lnTo>
                    <a:lnTo>
                      <a:pt x="1489" y="3192"/>
                    </a:lnTo>
                    <a:lnTo>
                      <a:pt x="1500" y="3175"/>
                    </a:lnTo>
                    <a:lnTo>
                      <a:pt x="1512" y="3158"/>
                    </a:lnTo>
                    <a:lnTo>
                      <a:pt x="1518" y="3149"/>
                    </a:lnTo>
                    <a:lnTo>
                      <a:pt x="1524" y="3140"/>
                    </a:lnTo>
                    <a:lnTo>
                      <a:pt x="1537" y="3125"/>
                    </a:lnTo>
                    <a:lnTo>
                      <a:pt x="1549" y="3109"/>
                    </a:lnTo>
                    <a:lnTo>
                      <a:pt x="1561" y="3094"/>
                    </a:lnTo>
                    <a:lnTo>
                      <a:pt x="1573" y="3081"/>
                    </a:lnTo>
                    <a:lnTo>
                      <a:pt x="1598" y="3055"/>
                    </a:lnTo>
                    <a:lnTo>
                      <a:pt x="1620" y="3032"/>
                    </a:lnTo>
                    <a:lnTo>
                      <a:pt x="1638" y="3013"/>
                    </a:lnTo>
                    <a:lnTo>
                      <a:pt x="1661" y="2991"/>
                    </a:lnTo>
                    <a:lnTo>
                      <a:pt x="1680" y="2973"/>
                    </a:lnTo>
                    <a:lnTo>
                      <a:pt x="1698" y="2956"/>
                    </a:lnTo>
                    <a:lnTo>
                      <a:pt x="1716" y="2940"/>
                    </a:lnTo>
                    <a:lnTo>
                      <a:pt x="1735" y="2925"/>
                    </a:lnTo>
                    <a:lnTo>
                      <a:pt x="1753" y="2911"/>
                    </a:lnTo>
                    <a:lnTo>
                      <a:pt x="1771" y="2898"/>
                    </a:lnTo>
                    <a:lnTo>
                      <a:pt x="1788" y="2886"/>
                    </a:lnTo>
                    <a:lnTo>
                      <a:pt x="1807" y="2875"/>
                    </a:lnTo>
                    <a:lnTo>
                      <a:pt x="1824" y="2865"/>
                    </a:lnTo>
                    <a:lnTo>
                      <a:pt x="1841" y="2856"/>
                    </a:lnTo>
                    <a:lnTo>
                      <a:pt x="1859" y="2848"/>
                    </a:lnTo>
                    <a:lnTo>
                      <a:pt x="1875" y="2841"/>
                    </a:lnTo>
                    <a:lnTo>
                      <a:pt x="1892" y="2835"/>
                    </a:lnTo>
                    <a:lnTo>
                      <a:pt x="1908" y="2830"/>
                    </a:lnTo>
                    <a:lnTo>
                      <a:pt x="1924" y="2825"/>
                    </a:lnTo>
                    <a:lnTo>
                      <a:pt x="1940" y="2821"/>
                    </a:lnTo>
                    <a:lnTo>
                      <a:pt x="1956" y="2818"/>
                    </a:lnTo>
                    <a:lnTo>
                      <a:pt x="1970" y="2816"/>
                    </a:lnTo>
                    <a:lnTo>
                      <a:pt x="1985" y="2815"/>
                    </a:lnTo>
                    <a:lnTo>
                      <a:pt x="2000" y="2814"/>
                    </a:lnTo>
                    <a:lnTo>
                      <a:pt x="2013" y="2814"/>
                    </a:lnTo>
                    <a:lnTo>
                      <a:pt x="2027" y="2815"/>
                    </a:lnTo>
                    <a:lnTo>
                      <a:pt x="2039" y="2816"/>
                    </a:lnTo>
                    <a:lnTo>
                      <a:pt x="2051" y="2819"/>
                    </a:lnTo>
                    <a:lnTo>
                      <a:pt x="2062" y="2821"/>
                    </a:lnTo>
                    <a:lnTo>
                      <a:pt x="2074" y="2825"/>
                    </a:lnTo>
                    <a:lnTo>
                      <a:pt x="2084" y="2829"/>
                    </a:lnTo>
                    <a:lnTo>
                      <a:pt x="2094" y="2834"/>
                    </a:lnTo>
                    <a:lnTo>
                      <a:pt x="2104" y="2838"/>
                    </a:lnTo>
                    <a:lnTo>
                      <a:pt x="2112" y="2845"/>
                    </a:lnTo>
                    <a:lnTo>
                      <a:pt x="2120" y="2851"/>
                    </a:lnTo>
                    <a:lnTo>
                      <a:pt x="2127" y="2857"/>
                    </a:lnTo>
                    <a:lnTo>
                      <a:pt x="2137" y="2867"/>
                    </a:lnTo>
                    <a:lnTo>
                      <a:pt x="2144" y="2878"/>
                    </a:lnTo>
                    <a:lnTo>
                      <a:pt x="2150" y="2889"/>
                    </a:lnTo>
                    <a:lnTo>
                      <a:pt x="2155" y="2900"/>
                    </a:lnTo>
                    <a:lnTo>
                      <a:pt x="2159" y="2911"/>
                    </a:lnTo>
                    <a:lnTo>
                      <a:pt x="2161" y="2922"/>
                    </a:lnTo>
                    <a:lnTo>
                      <a:pt x="2162" y="2934"/>
                    </a:lnTo>
                    <a:lnTo>
                      <a:pt x="2164" y="2946"/>
                    </a:lnTo>
                    <a:lnTo>
                      <a:pt x="2164" y="2958"/>
                    </a:lnTo>
                    <a:lnTo>
                      <a:pt x="2162" y="2970"/>
                    </a:lnTo>
                    <a:lnTo>
                      <a:pt x="2161" y="2983"/>
                    </a:lnTo>
                    <a:lnTo>
                      <a:pt x="2160" y="2996"/>
                    </a:lnTo>
                    <a:lnTo>
                      <a:pt x="2155" y="3021"/>
                    </a:lnTo>
                    <a:lnTo>
                      <a:pt x="2149" y="3048"/>
                    </a:lnTo>
                    <a:lnTo>
                      <a:pt x="2143" y="3073"/>
                    </a:lnTo>
                    <a:lnTo>
                      <a:pt x="2139" y="3098"/>
                    </a:lnTo>
                    <a:lnTo>
                      <a:pt x="2137" y="3111"/>
                    </a:lnTo>
                    <a:lnTo>
                      <a:pt x="2135" y="3123"/>
                    </a:lnTo>
                    <a:lnTo>
                      <a:pt x="2134" y="3148"/>
                    </a:lnTo>
                    <a:lnTo>
                      <a:pt x="2135" y="3160"/>
                    </a:lnTo>
                    <a:lnTo>
                      <a:pt x="2137" y="3172"/>
                    </a:lnTo>
                    <a:lnTo>
                      <a:pt x="2139" y="3183"/>
                    </a:lnTo>
                    <a:lnTo>
                      <a:pt x="2143" y="3194"/>
                    </a:lnTo>
                    <a:lnTo>
                      <a:pt x="2148" y="3205"/>
                    </a:lnTo>
                    <a:lnTo>
                      <a:pt x="2154" y="3216"/>
                    </a:lnTo>
                    <a:lnTo>
                      <a:pt x="2157" y="3221"/>
                    </a:lnTo>
                    <a:lnTo>
                      <a:pt x="2162" y="3227"/>
                    </a:lnTo>
                    <a:lnTo>
                      <a:pt x="2171" y="3237"/>
                    </a:lnTo>
                    <a:lnTo>
                      <a:pt x="2181" y="3246"/>
                    </a:lnTo>
                    <a:lnTo>
                      <a:pt x="2190" y="3253"/>
                    </a:lnTo>
                    <a:lnTo>
                      <a:pt x="2201" y="3259"/>
                    </a:lnTo>
                    <a:lnTo>
                      <a:pt x="2211" y="3265"/>
                    </a:lnTo>
                    <a:lnTo>
                      <a:pt x="2223" y="3269"/>
                    </a:lnTo>
                    <a:lnTo>
                      <a:pt x="2234" y="3273"/>
                    </a:lnTo>
                    <a:lnTo>
                      <a:pt x="2247" y="3274"/>
                    </a:lnTo>
                    <a:lnTo>
                      <a:pt x="2258" y="3275"/>
                    </a:lnTo>
                    <a:lnTo>
                      <a:pt x="2270" y="3275"/>
                    </a:lnTo>
                    <a:lnTo>
                      <a:pt x="2282" y="3274"/>
                    </a:lnTo>
                    <a:lnTo>
                      <a:pt x="2294" y="3273"/>
                    </a:lnTo>
                    <a:lnTo>
                      <a:pt x="2307" y="3269"/>
                    </a:lnTo>
                    <a:lnTo>
                      <a:pt x="2319" y="3265"/>
                    </a:lnTo>
                    <a:lnTo>
                      <a:pt x="2330" y="3262"/>
                    </a:lnTo>
                    <a:lnTo>
                      <a:pt x="2341" y="3255"/>
                    </a:lnTo>
                    <a:lnTo>
                      <a:pt x="2352" y="3249"/>
                    </a:lnTo>
                    <a:lnTo>
                      <a:pt x="2479" y="3129"/>
                    </a:lnTo>
                    <a:lnTo>
                      <a:pt x="2516" y="3095"/>
                    </a:lnTo>
                    <a:lnTo>
                      <a:pt x="2525" y="3085"/>
                    </a:lnTo>
                    <a:lnTo>
                      <a:pt x="2530" y="3081"/>
                    </a:lnTo>
                    <a:lnTo>
                      <a:pt x="2532" y="3082"/>
                    </a:lnTo>
                    <a:lnTo>
                      <a:pt x="2535" y="3087"/>
                    </a:lnTo>
                    <a:lnTo>
                      <a:pt x="2547" y="3099"/>
                    </a:lnTo>
                    <a:lnTo>
                      <a:pt x="2594" y="3144"/>
                    </a:lnTo>
                    <a:lnTo>
                      <a:pt x="2756" y="3298"/>
                    </a:lnTo>
                    <a:lnTo>
                      <a:pt x="2744" y="3284"/>
                    </a:lnTo>
                    <a:lnTo>
                      <a:pt x="2731" y="3269"/>
                    </a:lnTo>
                    <a:lnTo>
                      <a:pt x="2789" y="3329"/>
                    </a:lnTo>
                    <a:lnTo>
                      <a:pt x="2821" y="3359"/>
                    </a:lnTo>
                    <a:lnTo>
                      <a:pt x="2827" y="3363"/>
                    </a:lnTo>
                    <a:lnTo>
                      <a:pt x="2832" y="3365"/>
                    </a:lnTo>
                    <a:lnTo>
                      <a:pt x="2844" y="3372"/>
                    </a:lnTo>
                    <a:lnTo>
                      <a:pt x="2857" y="3375"/>
                    </a:lnTo>
                    <a:lnTo>
                      <a:pt x="2869" y="3379"/>
                    </a:lnTo>
                    <a:lnTo>
                      <a:pt x="2881" y="3381"/>
                    </a:lnTo>
                    <a:lnTo>
                      <a:pt x="2895" y="3383"/>
                    </a:lnTo>
                    <a:lnTo>
                      <a:pt x="2907" y="3383"/>
                    </a:lnTo>
                    <a:lnTo>
                      <a:pt x="2920" y="3381"/>
                    </a:lnTo>
                    <a:lnTo>
                      <a:pt x="2932" y="3380"/>
                    </a:lnTo>
                    <a:lnTo>
                      <a:pt x="2945" y="3376"/>
                    </a:lnTo>
                    <a:lnTo>
                      <a:pt x="2957" y="3373"/>
                    </a:lnTo>
                    <a:lnTo>
                      <a:pt x="2969" y="3368"/>
                    </a:lnTo>
                    <a:lnTo>
                      <a:pt x="2980" y="3362"/>
                    </a:lnTo>
                    <a:lnTo>
                      <a:pt x="2991" y="3354"/>
                    </a:lnTo>
                    <a:lnTo>
                      <a:pt x="2997" y="3351"/>
                    </a:lnTo>
                    <a:lnTo>
                      <a:pt x="3002" y="3347"/>
                    </a:lnTo>
                    <a:lnTo>
                      <a:pt x="3012" y="3337"/>
                    </a:lnTo>
                    <a:close/>
                    <a:moveTo>
                      <a:pt x="3452" y="1934"/>
                    </a:moveTo>
                    <a:lnTo>
                      <a:pt x="3440" y="1923"/>
                    </a:lnTo>
                    <a:lnTo>
                      <a:pt x="3434" y="1918"/>
                    </a:lnTo>
                    <a:lnTo>
                      <a:pt x="3428" y="1913"/>
                    </a:lnTo>
                    <a:lnTo>
                      <a:pt x="3417" y="1905"/>
                    </a:lnTo>
                    <a:lnTo>
                      <a:pt x="3410" y="1903"/>
                    </a:lnTo>
                    <a:lnTo>
                      <a:pt x="3404" y="1899"/>
                    </a:lnTo>
                    <a:lnTo>
                      <a:pt x="3392" y="1896"/>
                    </a:lnTo>
                    <a:lnTo>
                      <a:pt x="3380" y="1892"/>
                    </a:lnTo>
                    <a:lnTo>
                      <a:pt x="3368" y="1890"/>
                    </a:lnTo>
                    <a:lnTo>
                      <a:pt x="3355" y="1890"/>
                    </a:lnTo>
                    <a:lnTo>
                      <a:pt x="3343" y="1888"/>
                    </a:lnTo>
                    <a:lnTo>
                      <a:pt x="3331" y="1890"/>
                    </a:lnTo>
                    <a:lnTo>
                      <a:pt x="3319" y="1891"/>
                    </a:lnTo>
                    <a:lnTo>
                      <a:pt x="3307" y="1893"/>
                    </a:lnTo>
                    <a:lnTo>
                      <a:pt x="3282" y="1898"/>
                    </a:lnTo>
                    <a:lnTo>
                      <a:pt x="3256" y="1904"/>
                    </a:lnTo>
                    <a:lnTo>
                      <a:pt x="3232" y="1909"/>
                    </a:lnTo>
                    <a:lnTo>
                      <a:pt x="3208" y="1914"/>
                    </a:lnTo>
                    <a:lnTo>
                      <a:pt x="3195" y="1916"/>
                    </a:lnTo>
                    <a:lnTo>
                      <a:pt x="3183" y="1918"/>
                    </a:lnTo>
                    <a:lnTo>
                      <a:pt x="3172" y="1918"/>
                    </a:lnTo>
                    <a:lnTo>
                      <a:pt x="3160" y="1918"/>
                    </a:lnTo>
                    <a:lnTo>
                      <a:pt x="3154" y="1916"/>
                    </a:lnTo>
                    <a:lnTo>
                      <a:pt x="3148" y="1915"/>
                    </a:lnTo>
                    <a:lnTo>
                      <a:pt x="3135" y="1913"/>
                    </a:lnTo>
                    <a:lnTo>
                      <a:pt x="3131" y="1912"/>
                    </a:lnTo>
                    <a:lnTo>
                      <a:pt x="3124" y="1910"/>
                    </a:lnTo>
                    <a:lnTo>
                      <a:pt x="3112" y="1904"/>
                    </a:lnTo>
                    <a:lnTo>
                      <a:pt x="3101" y="1898"/>
                    </a:lnTo>
                    <a:lnTo>
                      <a:pt x="3095" y="1894"/>
                    </a:lnTo>
                    <a:lnTo>
                      <a:pt x="3090" y="1891"/>
                    </a:lnTo>
                    <a:lnTo>
                      <a:pt x="3079" y="1881"/>
                    </a:lnTo>
                    <a:lnTo>
                      <a:pt x="3067" y="1870"/>
                    </a:lnTo>
                    <a:lnTo>
                      <a:pt x="3061" y="1861"/>
                    </a:lnTo>
                    <a:lnTo>
                      <a:pt x="3054" y="1853"/>
                    </a:lnTo>
                    <a:lnTo>
                      <a:pt x="3044" y="1836"/>
                    </a:lnTo>
                    <a:lnTo>
                      <a:pt x="3039" y="1827"/>
                    </a:lnTo>
                    <a:lnTo>
                      <a:pt x="3035" y="1819"/>
                    </a:lnTo>
                    <a:lnTo>
                      <a:pt x="3032" y="1809"/>
                    </a:lnTo>
                    <a:lnTo>
                      <a:pt x="3029" y="1800"/>
                    </a:lnTo>
                    <a:lnTo>
                      <a:pt x="3027" y="1790"/>
                    </a:lnTo>
                    <a:lnTo>
                      <a:pt x="3024" y="1782"/>
                    </a:lnTo>
                    <a:lnTo>
                      <a:pt x="3023" y="1764"/>
                    </a:lnTo>
                    <a:lnTo>
                      <a:pt x="3023" y="1745"/>
                    </a:lnTo>
                    <a:lnTo>
                      <a:pt x="3024" y="1726"/>
                    </a:lnTo>
                    <a:lnTo>
                      <a:pt x="3028" y="1707"/>
                    </a:lnTo>
                    <a:lnTo>
                      <a:pt x="3033" y="1688"/>
                    </a:lnTo>
                    <a:lnTo>
                      <a:pt x="3040" y="1669"/>
                    </a:lnTo>
                    <a:lnTo>
                      <a:pt x="3047" y="1651"/>
                    </a:lnTo>
                    <a:lnTo>
                      <a:pt x="3056" y="1633"/>
                    </a:lnTo>
                    <a:lnTo>
                      <a:pt x="3066" y="1614"/>
                    </a:lnTo>
                    <a:lnTo>
                      <a:pt x="3076" y="1596"/>
                    </a:lnTo>
                    <a:lnTo>
                      <a:pt x="3087" y="1579"/>
                    </a:lnTo>
                    <a:lnTo>
                      <a:pt x="3099" y="1562"/>
                    </a:lnTo>
                    <a:lnTo>
                      <a:pt x="3105" y="1553"/>
                    </a:lnTo>
                    <a:lnTo>
                      <a:pt x="3111" y="1545"/>
                    </a:lnTo>
                    <a:lnTo>
                      <a:pt x="3123" y="1529"/>
                    </a:lnTo>
                    <a:lnTo>
                      <a:pt x="3135" y="1513"/>
                    </a:lnTo>
                    <a:lnTo>
                      <a:pt x="3149" y="1498"/>
                    </a:lnTo>
                    <a:lnTo>
                      <a:pt x="3161" y="1485"/>
                    </a:lnTo>
                    <a:lnTo>
                      <a:pt x="3184" y="1459"/>
                    </a:lnTo>
                    <a:lnTo>
                      <a:pt x="3206" y="1436"/>
                    </a:lnTo>
                    <a:lnTo>
                      <a:pt x="3226" y="1419"/>
                    </a:lnTo>
                    <a:lnTo>
                      <a:pt x="3249" y="1396"/>
                    </a:lnTo>
                    <a:lnTo>
                      <a:pt x="3267" y="1377"/>
                    </a:lnTo>
                    <a:lnTo>
                      <a:pt x="3286" y="1360"/>
                    </a:lnTo>
                    <a:lnTo>
                      <a:pt x="3304" y="1344"/>
                    </a:lnTo>
                    <a:lnTo>
                      <a:pt x="3321" y="1330"/>
                    </a:lnTo>
                    <a:lnTo>
                      <a:pt x="3340" y="1315"/>
                    </a:lnTo>
                    <a:lnTo>
                      <a:pt x="3358" y="1303"/>
                    </a:lnTo>
                    <a:lnTo>
                      <a:pt x="3376" y="1290"/>
                    </a:lnTo>
                    <a:lnTo>
                      <a:pt x="3393" y="1279"/>
                    </a:lnTo>
                    <a:lnTo>
                      <a:pt x="3412" y="1270"/>
                    </a:lnTo>
                    <a:lnTo>
                      <a:pt x="3429" y="1261"/>
                    </a:lnTo>
                    <a:lnTo>
                      <a:pt x="3446" y="1252"/>
                    </a:lnTo>
                    <a:lnTo>
                      <a:pt x="3463" y="1245"/>
                    </a:lnTo>
                    <a:lnTo>
                      <a:pt x="3479" y="1239"/>
                    </a:lnTo>
                    <a:lnTo>
                      <a:pt x="3496" y="1234"/>
                    </a:lnTo>
                    <a:lnTo>
                      <a:pt x="3512" y="1229"/>
                    </a:lnTo>
                    <a:lnTo>
                      <a:pt x="3528" y="1226"/>
                    </a:lnTo>
                    <a:lnTo>
                      <a:pt x="3542" y="1223"/>
                    </a:lnTo>
                    <a:lnTo>
                      <a:pt x="3557" y="1221"/>
                    </a:lnTo>
                    <a:lnTo>
                      <a:pt x="3572" y="1219"/>
                    </a:lnTo>
                    <a:lnTo>
                      <a:pt x="3586" y="1218"/>
                    </a:lnTo>
                    <a:lnTo>
                      <a:pt x="3600" y="1218"/>
                    </a:lnTo>
                    <a:lnTo>
                      <a:pt x="3613" y="1219"/>
                    </a:lnTo>
                    <a:lnTo>
                      <a:pt x="3626" y="1221"/>
                    </a:lnTo>
                    <a:lnTo>
                      <a:pt x="3638" y="1223"/>
                    </a:lnTo>
                    <a:lnTo>
                      <a:pt x="3650" y="1226"/>
                    </a:lnTo>
                    <a:lnTo>
                      <a:pt x="3661" y="1229"/>
                    </a:lnTo>
                    <a:lnTo>
                      <a:pt x="3671" y="1233"/>
                    </a:lnTo>
                    <a:lnTo>
                      <a:pt x="3682" y="1238"/>
                    </a:lnTo>
                    <a:lnTo>
                      <a:pt x="3690" y="1243"/>
                    </a:lnTo>
                    <a:lnTo>
                      <a:pt x="3699" y="1249"/>
                    </a:lnTo>
                    <a:lnTo>
                      <a:pt x="3708" y="1255"/>
                    </a:lnTo>
                    <a:lnTo>
                      <a:pt x="3715" y="1261"/>
                    </a:lnTo>
                    <a:lnTo>
                      <a:pt x="3723" y="1272"/>
                    </a:lnTo>
                    <a:lnTo>
                      <a:pt x="3731" y="1282"/>
                    </a:lnTo>
                    <a:lnTo>
                      <a:pt x="3737" y="1293"/>
                    </a:lnTo>
                    <a:lnTo>
                      <a:pt x="3742" y="1304"/>
                    </a:lnTo>
                    <a:lnTo>
                      <a:pt x="3745" y="1315"/>
                    </a:lnTo>
                    <a:lnTo>
                      <a:pt x="3748" y="1327"/>
                    </a:lnTo>
                    <a:lnTo>
                      <a:pt x="3750" y="1338"/>
                    </a:lnTo>
                    <a:lnTo>
                      <a:pt x="3750" y="1350"/>
                    </a:lnTo>
                    <a:lnTo>
                      <a:pt x="3750" y="1363"/>
                    </a:lnTo>
                    <a:lnTo>
                      <a:pt x="3750" y="1375"/>
                    </a:lnTo>
                    <a:lnTo>
                      <a:pt x="3749" y="1387"/>
                    </a:lnTo>
                    <a:lnTo>
                      <a:pt x="3747" y="1400"/>
                    </a:lnTo>
                    <a:lnTo>
                      <a:pt x="3742" y="1426"/>
                    </a:lnTo>
                    <a:lnTo>
                      <a:pt x="3736" y="1452"/>
                    </a:lnTo>
                    <a:lnTo>
                      <a:pt x="3731" y="1477"/>
                    </a:lnTo>
                    <a:lnTo>
                      <a:pt x="3726" y="1503"/>
                    </a:lnTo>
                    <a:lnTo>
                      <a:pt x="3723" y="1515"/>
                    </a:lnTo>
                    <a:lnTo>
                      <a:pt x="3722" y="1528"/>
                    </a:lnTo>
                    <a:lnTo>
                      <a:pt x="3722" y="1552"/>
                    </a:lnTo>
                    <a:lnTo>
                      <a:pt x="3722" y="1564"/>
                    </a:lnTo>
                    <a:lnTo>
                      <a:pt x="3723" y="1577"/>
                    </a:lnTo>
                    <a:lnTo>
                      <a:pt x="3727" y="1588"/>
                    </a:lnTo>
                    <a:lnTo>
                      <a:pt x="3731" y="1599"/>
                    </a:lnTo>
                    <a:lnTo>
                      <a:pt x="3736" y="1610"/>
                    </a:lnTo>
                    <a:lnTo>
                      <a:pt x="3742" y="1621"/>
                    </a:lnTo>
                    <a:lnTo>
                      <a:pt x="3745" y="1627"/>
                    </a:lnTo>
                    <a:lnTo>
                      <a:pt x="3749" y="1632"/>
                    </a:lnTo>
                    <a:lnTo>
                      <a:pt x="3758" y="1641"/>
                    </a:lnTo>
                    <a:lnTo>
                      <a:pt x="3763" y="1646"/>
                    </a:lnTo>
                    <a:lnTo>
                      <a:pt x="3769" y="1650"/>
                    </a:lnTo>
                    <a:lnTo>
                      <a:pt x="3780" y="1658"/>
                    </a:lnTo>
                    <a:lnTo>
                      <a:pt x="3792" y="1665"/>
                    </a:lnTo>
                    <a:lnTo>
                      <a:pt x="3799" y="1667"/>
                    </a:lnTo>
                    <a:lnTo>
                      <a:pt x="3805" y="1668"/>
                    </a:lnTo>
                    <a:lnTo>
                      <a:pt x="3819" y="1672"/>
                    </a:lnTo>
                    <a:lnTo>
                      <a:pt x="3826" y="1673"/>
                    </a:lnTo>
                    <a:lnTo>
                      <a:pt x="3833" y="1674"/>
                    </a:lnTo>
                    <a:lnTo>
                      <a:pt x="3848" y="1674"/>
                    </a:lnTo>
                    <a:lnTo>
                      <a:pt x="3855" y="1674"/>
                    </a:lnTo>
                    <a:lnTo>
                      <a:pt x="3863" y="1674"/>
                    </a:lnTo>
                    <a:lnTo>
                      <a:pt x="3879" y="1672"/>
                    </a:lnTo>
                    <a:lnTo>
                      <a:pt x="3893" y="1669"/>
                    </a:lnTo>
                    <a:lnTo>
                      <a:pt x="3908" y="1666"/>
                    </a:lnTo>
                    <a:lnTo>
                      <a:pt x="3923" y="1661"/>
                    </a:lnTo>
                    <a:lnTo>
                      <a:pt x="3936" y="1656"/>
                    </a:lnTo>
                    <a:lnTo>
                      <a:pt x="3950" y="1649"/>
                    </a:lnTo>
                    <a:lnTo>
                      <a:pt x="3963" y="1641"/>
                    </a:lnTo>
                    <a:lnTo>
                      <a:pt x="3974" y="1633"/>
                    </a:lnTo>
                    <a:lnTo>
                      <a:pt x="4046" y="1565"/>
                    </a:lnTo>
                    <a:lnTo>
                      <a:pt x="4115" y="1503"/>
                    </a:lnTo>
                    <a:lnTo>
                      <a:pt x="4179" y="1443"/>
                    </a:lnTo>
                    <a:lnTo>
                      <a:pt x="4239" y="1388"/>
                    </a:lnTo>
                    <a:lnTo>
                      <a:pt x="4297" y="1338"/>
                    </a:lnTo>
                    <a:lnTo>
                      <a:pt x="4350" y="1293"/>
                    </a:lnTo>
                    <a:lnTo>
                      <a:pt x="4401" y="1252"/>
                    </a:lnTo>
                    <a:lnTo>
                      <a:pt x="4425" y="1234"/>
                    </a:lnTo>
                    <a:lnTo>
                      <a:pt x="4448" y="1217"/>
                    </a:lnTo>
                    <a:lnTo>
                      <a:pt x="4470" y="1201"/>
                    </a:lnTo>
                    <a:lnTo>
                      <a:pt x="4492" y="1186"/>
                    </a:lnTo>
                    <a:lnTo>
                      <a:pt x="4512" y="1173"/>
                    </a:lnTo>
                    <a:lnTo>
                      <a:pt x="4533" y="1162"/>
                    </a:lnTo>
                    <a:lnTo>
                      <a:pt x="4551" y="1152"/>
                    </a:lnTo>
                    <a:lnTo>
                      <a:pt x="4569" y="1142"/>
                    </a:lnTo>
                    <a:lnTo>
                      <a:pt x="4586" y="1135"/>
                    </a:lnTo>
                    <a:lnTo>
                      <a:pt x="4604" y="1130"/>
                    </a:lnTo>
                    <a:lnTo>
                      <a:pt x="4619" y="1125"/>
                    </a:lnTo>
                    <a:lnTo>
                      <a:pt x="4634" y="1123"/>
                    </a:lnTo>
                    <a:lnTo>
                      <a:pt x="4649" y="1122"/>
                    </a:lnTo>
                    <a:lnTo>
                      <a:pt x="4662" y="1122"/>
                    </a:lnTo>
                    <a:lnTo>
                      <a:pt x="4668" y="1123"/>
                    </a:lnTo>
                    <a:lnTo>
                      <a:pt x="4676" y="1124"/>
                    </a:lnTo>
                    <a:lnTo>
                      <a:pt x="4682" y="1125"/>
                    </a:lnTo>
                    <a:lnTo>
                      <a:pt x="4687" y="1128"/>
                    </a:lnTo>
                    <a:lnTo>
                      <a:pt x="4699" y="1133"/>
                    </a:lnTo>
                    <a:lnTo>
                      <a:pt x="4704" y="1136"/>
                    </a:lnTo>
                    <a:lnTo>
                      <a:pt x="4710" y="1140"/>
                    </a:lnTo>
                    <a:lnTo>
                      <a:pt x="4738" y="1169"/>
                    </a:lnTo>
                    <a:lnTo>
                      <a:pt x="4766" y="1200"/>
                    </a:lnTo>
                    <a:lnTo>
                      <a:pt x="4793" y="1230"/>
                    </a:lnTo>
                    <a:lnTo>
                      <a:pt x="4820" y="1262"/>
                    </a:lnTo>
                    <a:lnTo>
                      <a:pt x="4846" y="1294"/>
                    </a:lnTo>
                    <a:lnTo>
                      <a:pt x="4870" y="1328"/>
                    </a:lnTo>
                    <a:lnTo>
                      <a:pt x="4894" y="1361"/>
                    </a:lnTo>
                    <a:lnTo>
                      <a:pt x="4918" y="1397"/>
                    </a:lnTo>
                    <a:lnTo>
                      <a:pt x="4941" y="1431"/>
                    </a:lnTo>
                    <a:lnTo>
                      <a:pt x="4963" y="1468"/>
                    </a:lnTo>
                    <a:lnTo>
                      <a:pt x="4984" y="1504"/>
                    </a:lnTo>
                    <a:lnTo>
                      <a:pt x="5004" y="1541"/>
                    </a:lnTo>
                    <a:lnTo>
                      <a:pt x="5024" y="1579"/>
                    </a:lnTo>
                    <a:lnTo>
                      <a:pt x="5042" y="1618"/>
                    </a:lnTo>
                    <a:lnTo>
                      <a:pt x="5059" y="1657"/>
                    </a:lnTo>
                    <a:lnTo>
                      <a:pt x="5077" y="1696"/>
                    </a:lnTo>
                    <a:lnTo>
                      <a:pt x="5092" y="1737"/>
                    </a:lnTo>
                    <a:lnTo>
                      <a:pt x="5108" y="1777"/>
                    </a:lnTo>
                    <a:lnTo>
                      <a:pt x="5122" y="1819"/>
                    </a:lnTo>
                    <a:lnTo>
                      <a:pt x="5135" y="1860"/>
                    </a:lnTo>
                    <a:lnTo>
                      <a:pt x="5148" y="1902"/>
                    </a:lnTo>
                    <a:lnTo>
                      <a:pt x="5160" y="1945"/>
                    </a:lnTo>
                    <a:lnTo>
                      <a:pt x="5170" y="1987"/>
                    </a:lnTo>
                    <a:lnTo>
                      <a:pt x="5179" y="2031"/>
                    </a:lnTo>
                    <a:lnTo>
                      <a:pt x="5188" y="2075"/>
                    </a:lnTo>
                    <a:lnTo>
                      <a:pt x="5195" y="2119"/>
                    </a:lnTo>
                    <a:lnTo>
                      <a:pt x="5201" y="2165"/>
                    </a:lnTo>
                    <a:lnTo>
                      <a:pt x="5207" y="2209"/>
                    </a:lnTo>
                    <a:lnTo>
                      <a:pt x="5211" y="2254"/>
                    </a:lnTo>
                    <a:lnTo>
                      <a:pt x="5215" y="2300"/>
                    </a:lnTo>
                    <a:lnTo>
                      <a:pt x="5217" y="2346"/>
                    </a:lnTo>
                    <a:lnTo>
                      <a:pt x="5218" y="2392"/>
                    </a:lnTo>
                    <a:lnTo>
                      <a:pt x="5218" y="2439"/>
                    </a:lnTo>
                    <a:lnTo>
                      <a:pt x="5217" y="2485"/>
                    </a:lnTo>
                    <a:lnTo>
                      <a:pt x="5215" y="2533"/>
                    </a:lnTo>
                    <a:lnTo>
                      <a:pt x="5212" y="2580"/>
                    </a:lnTo>
                    <a:lnTo>
                      <a:pt x="5207" y="2627"/>
                    </a:lnTo>
                    <a:lnTo>
                      <a:pt x="5203" y="2675"/>
                    </a:lnTo>
                    <a:lnTo>
                      <a:pt x="5195" y="2722"/>
                    </a:lnTo>
                    <a:lnTo>
                      <a:pt x="5188" y="2771"/>
                    </a:lnTo>
                    <a:lnTo>
                      <a:pt x="5178" y="2819"/>
                    </a:lnTo>
                    <a:lnTo>
                      <a:pt x="5168" y="2867"/>
                    </a:lnTo>
                    <a:lnTo>
                      <a:pt x="5156" y="2915"/>
                    </a:lnTo>
                    <a:lnTo>
                      <a:pt x="5144" y="2963"/>
                    </a:lnTo>
                    <a:lnTo>
                      <a:pt x="5129" y="3012"/>
                    </a:lnTo>
                    <a:lnTo>
                      <a:pt x="5114" y="3061"/>
                    </a:lnTo>
                    <a:lnTo>
                      <a:pt x="5097" y="3109"/>
                    </a:lnTo>
                    <a:lnTo>
                      <a:pt x="5080" y="3158"/>
                    </a:lnTo>
                    <a:lnTo>
                      <a:pt x="5061" y="3205"/>
                    </a:lnTo>
                    <a:lnTo>
                      <a:pt x="5040" y="3254"/>
                    </a:lnTo>
                    <a:lnTo>
                      <a:pt x="5018" y="3303"/>
                    </a:lnTo>
                    <a:lnTo>
                      <a:pt x="4995" y="3351"/>
                    </a:lnTo>
                    <a:lnTo>
                      <a:pt x="4970" y="3400"/>
                    </a:lnTo>
                    <a:lnTo>
                      <a:pt x="4945" y="3447"/>
                    </a:lnTo>
                    <a:lnTo>
                      <a:pt x="4918" y="3495"/>
                    </a:lnTo>
                    <a:lnTo>
                      <a:pt x="4888" y="3544"/>
                    </a:lnTo>
                    <a:lnTo>
                      <a:pt x="4859" y="3592"/>
                    </a:lnTo>
                    <a:lnTo>
                      <a:pt x="4827" y="3639"/>
                    </a:lnTo>
                    <a:lnTo>
                      <a:pt x="4794" y="3687"/>
                    </a:lnTo>
                    <a:lnTo>
                      <a:pt x="4760" y="3734"/>
                    </a:lnTo>
                    <a:lnTo>
                      <a:pt x="4723" y="3781"/>
                    </a:lnTo>
                    <a:lnTo>
                      <a:pt x="4687" y="3828"/>
                    </a:lnTo>
                    <a:lnTo>
                      <a:pt x="4648" y="3874"/>
                    </a:lnTo>
                    <a:lnTo>
                      <a:pt x="4607" y="3921"/>
                    </a:lnTo>
                    <a:lnTo>
                      <a:pt x="4601" y="3924"/>
                    </a:lnTo>
                    <a:lnTo>
                      <a:pt x="4595" y="3928"/>
                    </a:lnTo>
                    <a:lnTo>
                      <a:pt x="4589" y="3932"/>
                    </a:lnTo>
                    <a:lnTo>
                      <a:pt x="4583" y="3934"/>
                    </a:lnTo>
                    <a:lnTo>
                      <a:pt x="4575" y="3935"/>
                    </a:lnTo>
                    <a:lnTo>
                      <a:pt x="4568" y="3936"/>
                    </a:lnTo>
                    <a:lnTo>
                      <a:pt x="4561" y="3938"/>
                    </a:lnTo>
                    <a:lnTo>
                      <a:pt x="4553" y="3938"/>
                    </a:lnTo>
                    <a:lnTo>
                      <a:pt x="4546" y="3938"/>
                    </a:lnTo>
                    <a:lnTo>
                      <a:pt x="4539" y="3936"/>
                    </a:lnTo>
                    <a:lnTo>
                      <a:pt x="4530" y="3935"/>
                    </a:lnTo>
                    <a:lnTo>
                      <a:pt x="4522" y="3933"/>
                    </a:lnTo>
                    <a:lnTo>
                      <a:pt x="4505" y="3927"/>
                    </a:lnTo>
                    <a:lnTo>
                      <a:pt x="4487" y="3919"/>
                    </a:lnTo>
                    <a:lnTo>
                      <a:pt x="4478" y="3916"/>
                    </a:lnTo>
                    <a:lnTo>
                      <a:pt x="4468" y="3911"/>
                    </a:lnTo>
                    <a:lnTo>
                      <a:pt x="4448" y="3900"/>
                    </a:lnTo>
                    <a:lnTo>
                      <a:pt x="4428" y="3886"/>
                    </a:lnTo>
                    <a:lnTo>
                      <a:pt x="4407" y="3872"/>
                    </a:lnTo>
                    <a:lnTo>
                      <a:pt x="4385" y="3855"/>
                    </a:lnTo>
                    <a:lnTo>
                      <a:pt x="4361" y="3836"/>
                    </a:lnTo>
                    <a:lnTo>
                      <a:pt x="4337" y="3817"/>
                    </a:lnTo>
                    <a:lnTo>
                      <a:pt x="4313" y="3796"/>
                    </a:lnTo>
                    <a:lnTo>
                      <a:pt x="4260" y="3749"/>
                    </a:lnTo>
                    <a:lnTo>
                      <a:pt x="4204" y="3697"/>
                    </a:lnTo>
                    <a:lnTo>
                      <a:pt x="4144" y="3639"/>
                    </a:lnTo>
                    <a:lnTo>
                      <a:pt x="4082" y="3578"/>
                    </a:lnTo>
                    <a:lnTo>
                      <a:pt x="3945" y="3444"/>
                    </a:lnTo>
                    <a:lnTo>
                      <a:pt x="3870" y="3373"/>
                    </a:lnTo>
                    <a:lnTo>
                      <a:pt x="3793" y="3298"/>
                    </a:lnTo>
                    <a:lnTo>
                      <a:pt x="3788" y="3287"/>
                    </a:lnTo>
                    <a:lnTo>
                      <a:pt x="3785" y="3275"/>
                    </a:lnTo>
                    <a:lnTo>
                      <a:pt x="3780" y="3252"/>
                    </a:lnTo>
                    <a:lnTo>
                      <a:pt x="3778" y="3241"/>
                    </a:lnTo>
                    <a:lnTo>
                      <a:pt x="3777" y="3228"/>
                    </a:lnTo>
                    <a:lnTo>
                      <a:pt x="3776" y="3217"/>
                    </a:lnTo>
                    <a:lnTo>
                      <a:pt x="3777" y="3205"/>
                    </a:lnTo>
                    <a:lnTo>
                      <a:pt x="3778" y="3194"/>
                    </a:lnTo>
                    <a:lnTo>
                      <a:pt x="3780" y="3183"/>
                    </a:lnTo>
                    <a:lnTo>
                      <a:pt x="3783" y="3172"/>
                    </a:lnTo>
                    <a:lnTo>
                      <a:pt x="3785" y="3167"/>
                    </a:lnTo>
                    <a:lnTo>
                      <a:pt x="3787" y="3161"/>
                    </a:lnTo>
                    <a:lnTo>
                      <a:pt x="3788" y="3156"/>
                    </a:lnTo>
                    <a:lnTo>
                      <a:pt x="3791" y="3151"/>
                    </a:lnTo>
                    <a:lnTo>
                      <a:pt x="3797" y="3143"/>
                    </a:lnTo>
                    <a:lnTo>
                      <a:pt x="3803" y="3134"/>
                    </a:lnTo>
                    <a:lnTo>
                      <a:pt x="3807" y="3129"/>
                    </a:lnTo>
                    <a:lnTo>
                      <a:pt x="3810" y="3126"/>
                    </a:lnTo>
                    <a:lnTo>
                      <a:pt x="3820" y="3117"/>
                    </a:lnTo>
                    <a:lnTo>
                      <a:pt x="3830" y="3109"/>
                    </a:lnTo>
                    <a:lnTo>
                      <a:pt x="3841" y="3103"/>
                    </a:lnTo>
                    <a:lnTo>
                      <a:pt x="3852" y="3098"/>
                    </a:lnTo>
                    <a:lnTo>
                      <a:pt x="3863" y="3094"/>
                    </a:lnTo>
                    <a:lnTo>
                      <a:pt x="3875" y="3092"/>
                    </a:lnTo>
                    <a:lnTo>
                      <a:pt x="3887" y="3090"/>
                    </a:lnTo>
                    <a:lnTo>
                      <a:pt x="3898" y="3089"/>
                    </a:lnTo>
                    <a:lnTo>
                      <a:pt x="3910" y="3089"/>
                    </a:lnTo>
                    <a:lnTo>
                      <a:pt x="3924" y="3090"/>
                    </a:lnTo>
                    <a:lnTo>
                      <a:pt x="3936" y="3092"/>
                    </a:lnTo>
                    <a:lnTo>
                      <a:pt x="3948" y="3094"/>
                    </a:lnTo>
                    <a:lnTo>
                      <a:pt x="3974" y="3099"/>
                    </a:lnTo>
                    <a:lnTo>
                      <a:pt x="4000" y="3104"/>
                    </a:lnTo>
                    <a:lnTo>
                      <a:pt x="4025" y="3110"/>
                    </a:lnTo>
                    <a:lnTo>
                      <a:pt x="4051" y="3115"/>
                    </a:lnTo>
                    <a:lnTo>
                      <a:pt x="4063" y="3116"/>
                    </a:lnTo>
                    <a:lnTo>
                      <a:pt x="4075" y="3117"/>
                    </a:lnTo>
                    <a:lnTo>
                      <a:pt x="4101" y="3118"/>
                    </a:lnTo>
                    <a:lnTo>
                      <a:pt x="4112" y="3117"/>
                    </a:lnTo>
                    <a:lnTo>
                      <a:pt x="4124" y="3116"/>
                    </a:lnTo>
                    <a:lnTo>
                      <a:pt x="4137" y="3114"/>
                    </a:lnTo>
                    <a:lnTo>
                      <a:pt x="4148" y="3110"/>
                    </a:lnTo>
                    <a:lnTo>
                      <a:pt x="4159" y="3105"/>
                    </a:lnTo>
                    <a:lnTo>
                      <a:pt x="4170" y="3099"/>
                    </a:lnTo>
                    <a:lnTo>
                      <a:pt x="4174" y="3095"/>
                    </a:lnTo>
                    <a:lnTo>
                      <a:pt x="4179" y="3092"/>
                    </a:lnTo>
                    <a:lnTo>
                      <a:pt x="4189" y="3082"/>
                    </a:lnTo>
                    <a:lnTo>
                      <a:pt x="4196" y="3074"/>
                    </a:lnTo>
                    <a:lnTo>
                      <a:pt x="4203" y="3067"/>
                    </a:lnTo>
                    <a:lnTo>
                      <a:pt x="4205" y="3062"/>
                    </a:lnTo>
                    <a:lnTo>
                      <a:pt x="4207" y="3059"/>
                    </a:lnTo>
                    <a:lnTo>
                      <a:pt x="4214" y="3049"/>
                    </a:lnTo>
                    <a:lnTo>
                      <a:pt x="4217" y="3039"/>
                    </a:lnTo>
                    <a:lnTo>
                      <a:pt x="4222" y="3029"/>
                    </a:lnTo>
                    <a:lnTo>
                      <a:pt x="4225" y="3018"/>
                    </a:lnTo>
                    <a:lnTo>
                      <a:pt x="4228" y="3006"/>
                    </a:lnTo>
                    <a:lnTo>
                      <a:pt x="4229" y="2994"/>
                    </a:lnTo>
                    <a:lnTo>
                      <a:pt x="4232" y="2981"/>
                    </a:lnTo>
                    <a:lnTo>
                      <a:pt x="4232" y="2968"/>
                    </a:lnTo>
                    <a:lnTo>
                      <a:pt x="4232" y="2955"/>
                    </a:lnTo>
                    <a:lnTo>
                      <a:pt x="4231" y="2925"/>
                    </a:lnTo>
                    <a:lnTo>
                      <a:pt x="4228" y="2911"/>
                    </a:lnTo>
                    <a:lnTo>
                      <a:pt x="4226" y="2895"/>
                    </a:lnTo>
                    <a:lnTo>
                      <a:pt x="4222" y="2880"/>
                    </a:lnTo>
                    <a:lnTo>
                      <a:pt x="4217" y="2863"/>
                    </a:lnTo>
                    <a:lnTo>
                      <a:pt x="4212" y="2847"/>
                    </a:lnTo>
                    <a:lnTo>
                      <a:pt x="4206" y="2830"/>
                    </a:lnTo>
                    <a:lnTo>
                      <a:pt x="4199" y="2814"/>
                    </a:lnTo>
                    <a:lnTo>
                      <a:pt x="4190" y="2797"/>
                    </a:lnTo>
                    <a:lnTo>
                      <a:pt x="4182" y="2779"/>
                    </a:lnTo>
                    <a:lnTo>
                      <a:pt x="4172" y="2761"/>
                    </a:lnTo>
                    <a:lnTo>
                      <a:pt x="4161" y="2743"/>
                    </a:lnTo>
                    <a:lnTo>
                      <a:pt x="4149" y="2726"/>
                    </a:lnTo>
                    <a:lnTo>
                      <a:pt x="4135" y="2708"/>
                    </a:lnTo>
                    <a:lnTo>
                      <a:pt x="4122" y="2689"/>
                    </a:lnTo>
                    <a:lnTo>
                      <a:pt x="4107" y="2671"/>
                    </a:lnTo>
                    <a:lnTo>
                      <a:pt x="4091" y="2653"/>
                    </a:lnTo>
                    <a:lnTo>
                      <a:pt x="4073" y="2634"/>
                    </a:lnTo>
                    <a:lnTo>
                      <a:pt x="4055" y="2616"/>
                    </a:lnTo>
                    <a:lnTo>
                      <a:pt x="4033" y="2593"/>
                    </a:lnTo>
                    <a:lnTo>
                      <a:pt x="4014" y="2574"/>
                    </a:lnTo>
                    <a:lnTo>
                      <a:pt x="3992" y="2552"/>
                    </a:lnTo>
                    <a:lnTo>
                      <a:pt x="3980" y="2540"/>
                    </a:lnTo>
                    <a:lnTo>
                      <a:pt x="3967" y="2529"/>
                    </a:lnTo>
                    <a:lnTo>
                      <a:pt x="3937" y="2503"/>
                    </a:lnTo>
                    <a:lnTo>
                      <a:pt x="3906" y="2479"/>
                    </a:lnTo>
                    <a:lnTo>
                      <a:pt x="3890" y="2467"/>
                    </a:lnTo>
                    <a:lnTo>
                      <a:pt x="3873" y="2454"/>
                    </a:lnTo>
                    <a:lnTo>
                      <a:pt x="3854" y="2443"/>
                    </a:lnTo>
                    <a:lnTo>
                      <a:pt x="3837" y="2432"/>
                    </a:lnTo>
                    <a:lnTo>
                      <a:pt x="3819" y="2424"/>
                    </a:lnTo>
                    <a:lnTo>
                      <a:pt x="3800" y="2414"/>
                    </a:lnTo>
                    <a:lnTo>
                      <a:pt x="3782" y="2407"/>
                    </a:lnTo>
                    <a:lnTo>
                      <a:pt x="3763" y="2401"/>
                    </a:lnTo>
                    <a:lnTo>
                      <a:pt x="3754" y="2398"/>
                    </a:lnTo>
                    <a:lnTo>
                      <a:pt x="3744" y="2396"/>
                    </a:lnTo>
                    <a:lnTo>
                      <a:pt x="3734" y="2393"/>
                    </a:lnTo>
                    <a:lnTo>
                      <a:pt x="3726" y="2392"/>
                    </a:lnTo>
                    <a:lnTo>
                      <a:pt x="3706" y="2391"/>
                    </a:lnTo>
                    <a:lnTo>
                      <a:pt x="3688" y="2391"/>
                    </a:lnTo>
                    <a:lnTo>
                      <a:pt x="3670" y="2392"/>
                    </a:lnTo>
                    <a:lnTo>
                      <a:pt x="3660" y="2395"/>
                    </a:lnTo>
                    <a:lnTo>
                      <a:pt x="3651" y="2396"/>
                    </a:lnTo>
                    <a:lnTo>
                      <a:pt x="3643" y="2399"/>
                    </a:lnTo>
                    <a:lnTo>
                      <a:pt x="3633" y="2402"/>
                    </a:lnTo>
                    <a:lnTo>
                      <a:pt x="3624" y="2407"/>
                    </a:lnTo>
                    <a:lnTo>
                      <a:pt x="3616" y="2410"/>
                    </a:lnTo>
                    <a:lnTo>
                      <a:pt x="3607" y="2415"/>
                    </a:lnTo>
                    <a:lnTo>
                      <a:pt x="3599" y="2421"/>
                    </a:lnTo>
                    <a:lnTo>
                      <a:pt x="3590" y="2428"/>
                    </a:lnTo>
                    <a:lnTo>
                      <a:pt x="3582" y="2435"/>
                    </a:lnTo>
                    <a:lnTo>
                      <a:pt x="3571" y="2446"/>
                    </a:lnTo>
                    <a:lnTo>
                      <a:pt x="3566" y="2452"/>
                    </a:lnTo>
                    <a:lnTo>
                      <a:pt x="3561" y="2457"/>
                    </a:lnTo>
                    <a:lnTo>
                      <a:pt x="3557" y="2463"/>
                    </a:lnTo>
                    <a:lnTo>
                      <a:pt x="3552" y="2469"/>
                    </a:lnTo>
                    <a:lnTo>
                      <a:pt x="3550" y="2474"/>
                    </a:lnTo>
                    <a:lnTo>
                      <a:pt x="3546" y="2480"/>
                    </a:lnTo>
                    <a:lnTo>
                      <a:pt x="3544" y="2486"/>
                    </a:lnTo>
                    <a:lnTo>
                      <a:pt x="3541" y="2492"/>
                    </a:lnTo>
                    <a:lnTo>
                      <a:pt x="3538" y="2503"/>
                    </a:lnTo>
                    <a:lnTo>
                      <a:pt x="3535" y="2516"/>
                    </a:lnTo>
                    <a:lnTo>
                      <a:pt x="3534" y="2528"/>
                    </a:lnTo>
                    <a:lnTo>
                      <a:pt x="3534" y="2539"/>
                    </a:lnTo>
                    <a:lnTo>
                      <a:pt x="3534" y="2551"/>
                    </a:lnTo>
                    <a:lnTo>
                      <a:pt x="3536" y="2576"/>
                    </a:lnTo>
                    <a:lnTo>
                      <a:pt x="3539" y="2588"/>
                    </a:lnTo>
                    <a:lnTo>
                      <a:pt x="3541" y="2600"/>
                    </a:lnTo>
                    <a:lnTo>
                      <a:pt x="3547" y="2624"/>
                    </a:lnTo>
                    <a:lnTo>
                      <a:pt x="3553" y="2649"/>
                    </a:lnTo>
                    <a:lnTo>
                      <a:pt x="3556" y="2662"/>
                    </a:lnTo>
                    <a:lnTo>
                      <a:pt x="3558" y="2675"/>
                    </a:lnTo>
                    <a:lnTo>
                      <a:pt x="3561" y="2687"/>
                    </a:lnTo>
                    <a:lnTo>
                      <a:pt x="3562" y="2699"/>
                    </a:lnTo>
                    <a:lnTo>
                      <a:pt x="3562" y="2711"/>
                    </a:lnTo>
                    <a:lnTo>
                      <a:pt x="3562" y="2723"/>
                    </a:lnTo>
                    <a:lnTo>
                      <a:pt x="3561" y="2736"/>
                    </a:lnTo>
                    <a:lnTo>
                      <a:pt x="3560" y="2748"/>
                    </a:lnTo>
                    <a:lnTo>
                      <a:pt x="3557" y="2754"/>
                    </a:lnTo>
                    <a:lnTo>
                      <a:pt x="3556" y="2760"/>
                    </a:lnTo>
                    <a:lnTo>
                      <a:pt x="3551" y="2772"/>
                    </a:lnTo>
                    <a:lnTo>
                      <a:pt x="3545" y="2783"/>
                    </a:lnTo>
                    <a:lnTo>
                      <a:pt x="3538" y="2796"/>
                    </a:lnTo>
                    <a:lnTo>
                      <a:pt x="3529" y="2808"/>
                    </a:lnTo>
                    <a:lnTo>
                      <a:pt x="3524" y="2814"/>
                    </a:lnTo>
                    <a:lnTo>
                      <a:pt x="3518" y="2819"/>
                    </a:lnTo>
                    <a:lnTo>
                      <a:pt x="3508" y="2829"/>
                    </a:lnTo>
                    <a:lnTo>
                      <a:pt x="3498" y="2836"/>
                    </a:lnTo>
                    <a:lnTo>
                      <a:pt x="3487" y="2843"/>
                    </a:lnTo>
                    <a:lnTo>
                      <a:pt x="3476" y="2849"/>
                    </a:lnTo>
                    <a:lnTo>
                      <a:pt x="3465" y="2854"/>
                    </a:lnTo>
                    <a:lnTo>
                      <a:pt x="3453" y="2858"/>
                    </a:lnTo>
                    <a:lnTo>
                      <a:pt x="3441" y="2862"/>
                    </a:lnTo>
                    <a:lnTo>
                      <a:pt x="3430" y="2863"/>
                    </a:lnTo>
                    <a:lnTo>
                      <a:pt x="3418" y="2864"/>
                    </a:lnTo>
                    <a:lnTo>
                      <a:pt x="3406" y="2864"/>
                    </a:lnTo>
                    <a:lnTo>
                      <a:pt x="3393" y="2864"/>
                    </a:lnTo>
                    <a:lnTo>
                      <a:pt x="3381" y="2862"/>
                    </a:lnTo>
                    <a:lnTo>
                      <a:pt x="3369" y="2859"/>
                    </a:lnTo>
                    <a:lnTo>
                      <a:pt x="3357" y="2856"/>
                    </a:lnTo>
                    <a:lnTo>
                      <a:pt x="3346" y="2851"/>
                    </a:lnTo>
                    <a:lnTo>
                      <a:pt x="3335" y="2846"/>
                    </a:lnTo>
                    <a:lnTo>
                      <a:pt x="3222" y="2731"/>
                    </a:lnTo>
                    <a:lnTo>
                      <a:pt x="3135" y="2642"/>
                    </a:lnTo>
                    <a:lnTo>
                      <a:pt x="3077" y="2582"/>
                    </a:lnTo>
                    <a:lnTo>
                      <a:pt x="3061" y="2565"/>
                    </a:lnTo>
                    <a:lnTo>
                      <a:pt x="3052" y="2557"/>
                    </a:lnTo>
                    <a:lnTo>
                      <a:pt x="3062" y="2549"/>
                    </a:lnTo>
                    <a:lnTo>
                      <a:pt x="3084" y="2528"/>
                    </a:lnTo>
                    <a:lnTo>
                      <a:pt x="3116" y="2495"/>
                    </a:lnTo>
                    <a:lnTo>
                      <a:pt x="3159" y="2451"/>
                    </a:lnTo>
                    <a:lnTo>
                      <a:pt x="3270" y="2335"/>
                    </a:lnTo>
                    <a:lnTo>
                      <a:pt x="3410" y="2189"/>
                    </a:lnTo>
                    <a:lnTo>
                      <a:pt x="3397" y="2201"/>
                    </a:lnTo>
                    <a:lnTo>
                      <a:pt x="3382" y="2215"/>
                    </a:lnTo>
                    <a:lnTo>
                      <a:pt x="3463" y="2137"/>
                    </a:lnTo>
                    <a:lnTo>
                      <a:pt x="3470" y="2129"/>
                    </a:lnTo>
                    <a:lnTo>
                      <a:pt x="3478" y="2117"/>
                    </a:lnTo>
                    <a:lnTo>
                      <a:pt x="3484" y="2105"/>
                    </a:lnTo>
                    <a:lnTo>
                      <a:pt x="3489" y="2093"/>
                    </a:lnTo>
                    <a:lnTo>
                      <a:pt x="3492" y="2080"/>
                    </a:lnTo>
                    <a:lnTo>
                      <a:pt x="3495" y="2068"/>
                    </a:lnTo>
                    <a:lnTo>
                      <a:pt x="3496" y="2055"/>
                    </a:lnTo>
                    <a:lnTo>
                      <a:pt x="3497" y="2041"/>
                    </a:lnTo>
                    <a:lnTo>
                      <a:pt x="3496" y="2029"/>
                    </a:lnTo>
                    <a:lnTo>
                      <a:pt x="3495" y="2015"/>
                    </a:lnTo>
                    <a:lnTo>
                      <a:pt x="3492" y="2002"/>
                    </a:lnTo>
                    <a:lnTo>
                      <a:pt x="3487" y="1990"/>
                    </a:lnTo>
                    <a:lnTo>
                      <a:pt x="3483" y="1978"/>
                    </a:lnTo>
                    <a:lnTo>
                      <a:pt x="3476" y="1965"/>
                    </a:lnTo>
                    <a:lnTo>
                      <a:pt x="3469" y="1954"/>
                    </a:lnTo>
                    <a:lnTo>
                      <a:pt x="3461" y="1943"/>
                    </a:lnTo>
                    <a:lnTo>
                      <a:pt x="3452" y="1934"/>
                    </a:lnTo>
                    <a:close/>
                    <a:moveTo>
                      <a:pt x="1017" y="222"/>
                    </a:moveTo>
                    <a:lnTo>
                      <a:pt x="1035" y="207"/>
                    </a:lnTo>
                    <a:lnTo>
                      <a:pt x="1055" y="194"/>
                    </a:lnTo>
                    <a:lnTo>
                      <a:pt x="1077" y="180"/>
                    </a:lnTo>
                    <a:lnTo>
                      <a:pt x="1101" y="168"/>
                    </a:lnTo>
                    <a:lnTo>
                      <a:pt x="1127" y="156"/>
                    </a:lnTo>
                    <a:lnTo>
                      <a:pt x="1155" y="143"/>
                    </a:lnTo>
                    <a:lnTo>
                      <a:pt x="1186" y="131"/>
                    </a:lnTo>
                    <a:lnTo>
                      <a:pt x="1217" y="120"/>
                    </a:lnTo>
                    <a:lnTo>
                      <a:pt x="1250" y="110"/>
                    </a:lnTo>
                    <a:lnTo>
                      <a:pt x="1286" y="99"/>
                    </a:lnTo>
                    <a:lnTo>
                      <a:pt x="1323" y="91"/>
                    </a:lnTo>
                    <a:lnTo>
                      <a:pt x="1362" y="81"/>
                    </a:lnTo>
                    <a:lnTo>
                      <a:pt x="1402" y="72"/>
                    </a:lnTo>
                    <a:lnTo>
                      <a:pt x="1444" y="64"/>
                    </a:lnTo>
                    <a:lnTo>
                      <a:pt x="1486" y="57"/>
                    </a:lnTo>
                    <a:lnTo>
                      <a:pt x="1530" y="49"/>
                    </a:lnTo>
                    <a:lnTo>
                      <a:pt x="1577" y="43"/>
                    </a:lnTo>
                    <a:lnTo>
                      <a:pt x="1623" y="36"/>
                    </a:lnTo>
                    <a:lnTo>
                      <a:pt x="1671" y="31"/>
                    </a:lnTo>
                    <a:lnTo>
                      <a:pt x="1720" y="25"/>
                    </a:lnTo>
                    <a:lnTo>
                      <a:pt x="1770" y="21"/>
                    </a:lnTo>
                    <a:lnTo>
                      <a:pt x="1821" y="16"/>
                    </a:lnTo>
                    <a:lnTo>
                      <a:pt x="1874" y="13"/>
                    </a:lnTo>
                    <a:lnTo>
                      <a:pt x="1926" y="9"/>
                    </a:lnTo>
                    <a:lnTo>
                      <a:pt x="1979" y="6"/>
                    </a:lnTo>
                    <a:lnTo>
                      <a:pt x="2034" y="4"/>
                    </a:lnTo>
                    <a:lnTo>
                      <a:pt x="2089" y="3"/>
                    </a:lnTo>
                    <a:lnTo>
                      <a:pt x="2144" y="2"/>
                    </a:lnTo>
                    <a:lnTo>
                      <a:pt x="2200" y="0"/>
                    </a:lnTo>
                    <a:lnTo>
                      <a:pt x="2257" y="0"/>
                    </a:lnTo>
                    <a:lnTo>
                      <a:pt x="2313" y="2"/>
                    </a:lnTo>
                    <a:lnTo>
                      <a:pt x="2370" y="3"/>
                    </a:lnTo>
                    <a:lnTo>
                      <a:pt x="2484" y="5"/>
                    </a:lnTo>
                    <a:lnTo>
                      <a:pt x="2541" y="9"/>
                    </a:lnTo>
                    <a:lnTo>
                      <a:pt x="2599" y="11"/>
                    </a:lnTo>
                    <a:lnTo>
                      <a:pt x="2656" y="15"/>
                    </a:lnTo>
                    <a:lnTo>
                      <a:pt x="2715" y="20"/>
                    </a:lnTo>
                    <a:lnTo>
                      <a:pt x="2771" y="25"/>
                    </a:lnTo>
                    <a:lnTo>
                      <a:pt x="2829" y="30"/>
                    </a:lnTo>
                    <a:lnTo>
                      <a:pt x="2886" y="36"/>
                    </a:lnTo>
                    <a:lnTo>
                      <a:pt x="2942" y="43"/>
                    </a:lnTo>
                    <a:lnTo>
                      <a:pt x="2999" y="49"/>
                    </a:lnTo>
                    <a:lnTo>
                      <a:pt x="3054" y="58"/>
                    </a:lnTo>
                    <a:lnTo>
                      <a:pt x="3109" y="66"/>
                    </a:lnTo>
                    <a:lnTo>
                      <a:pt x="3164" y="75"/>
                    </a:lnTo>
                    <a:lnTo>
                      <a:pt x="3217" y="85"/>
                    </a:lnTo>
                    <a:lnTo>
                      <a:pt x="3271" y="94"/>
                    </a:lnTo>
                    <a:lnTo>
                      <a:pt x="3322" y="105"/>
                    </a:lnTo>
                    <a:lnTo>
                      <a:pt x="3375" y="116"/>
                    </a:lnTo>
                    <a:lnTo>
                      <a:pt x="3425" y="129"/>
                    </a:lnTo>
                    <a:lnTo>
                      <a:pt x="3475" y="141"/>
                    </a:lnTo>
                    <a:lnTo>
                      <a:pt x="3523" y="154"/>
                    </a:lnTo>
                    <a:lnTo>
                      <a:pt x="3571" y="168"/>
                    </a:lnTo>
                    <a:lnTo>
                      <a:pt x="3617" y="183"/>
                    </a:lnTo>
                    <a:lnTo>
                      <a:pt x="3662" y="197"/>
                    </a:lnTo>
                    <a:lnTo>
                      <a:pt x="3706" y="213"/>
                    </a:lnTo>
                    <a:lnTo>
                      <a:pt x="3749" y="230"/>
                    </a:lnTo>
                    <a:lnTo>
                      <a:pt x="3789" y="247"/>
                    </a:lnTo>
                    <a:lnTo>
                      <a:pt x="3829" y="264"/>
                    </a:lnTo>
                    <a:lnTo>
                      <a:pt x="3868" y="283"/>
                    </a:lnTo>
                    <a:lnTo>
                      <a:pt x="3903" y="301"/>
                    </a:lnTo>
                    <a:lnTo>
                      <a:pt x="3939" y="321"/>
                    </a:lnTo>
                    <a:lnTo>
                      <a:pt x="3972" y="341"/>
                    </a:lnTo>
                    <a:lnTo>
                      <a:pt x="3975" y="346"/>
                    </a:lnTo>
                    <a:lnTo>
                      <a:pt x="3979" y="352"/>
                    </a:lnTo>
                    <a:lnTo>
                      <a:pt x="3981" y="359"/>
                    </a:lnTo>
                    <a:lnTo>
                      <a:pt x="3984" y="365"/>
                    </a:lnTo>
                    <a:lnTo>
                      <a:pt x="3986" y="372"/>
                    </a:lnTo>
                    <a:lnTo>
                      <a:pt x="3987" y="379"/>
                    </a:lnTo>
                    <a:lnTo>
                      <a:pt x="3989" y="386"/>
                    </a:lnTo>
                    <a:lnTo>
                      <a:pt x="3989" y="393"/>
                    </a:lnTo>
                    <a:lnTo>
                      <a:pt x="3989" y="401"/>
                    </a:lnTo>
                    <a:lnTo>
                      <a:pt x="3989" y="409"/>
                    </a:lnTo>
                    <a:lnTo>
                      <a:pt x="3987" y="417"/>
                    </a:lnTo>
                    <a:lnTo>
                      <a:pt x="3986" y="426"/>
                    </a:lnTo>
                    <a:lnTo>
                      <a:pt x="3983" y="443"/>
                    </a:lnTo>
                    <a:lnTo>
                      <a:pt x="3978" y="461"/>
                    </a:lnTo>
                    <a:lnTo>
                      <a:pt x="3970" y="481"/>
                    </a:lnTo>
                    <a:lnTo>
                      <a:pt x="3962" y="502"/>
                    </a:lnTo>
                    <a:lnTo>
                      <a:pt x="3951" y="522"/>
                    </a:lnTo>
                    <a:lnTo>
                      <a:pt x="3939" y="544"/>
                    </a:lnTo>
                    <a:lnTo>
                      <a:pt x="3925" y="568"/>
                    </a:lnTo>
                    <a:lnTo>
                      <a:pt x="3910" y="592"/>
                    </a:lnTo>
                    <a:lnTo>
                      <a:pt x="3893" y="618"/>
                    </a:lnTo>
                    <a:lnTo>
                      <a:pt x="3875" y="644"/>
                    </a:lnTo>
                    <a:lnTo>
                      <a:pt x="3855" y="670"/>
                    </a:lnTo>
                    <a:lnTo>
                      <a:pt x="3835" y="697"/>
                    </a:lnTo>
                    <a:lnTo>
                      <a:pt x="3811" y="727"/>
                    </a:lnTo>
                    <a:lnTo>
                      <a:pt x="3788" y="756"/>
                    </a:lnTo>
                    <a:lnTo>
                      <a:pt x="3737" y="817"/>
                    </a:lnTo>
                    <a:lnTo>
                      <a:pt x="3681" y="883"/>
                    </a:lnTo>
                    <a:lnTo>
                      <a:pt x="3650" y="916"/>
                    </a:lnTo>
                    <a:lnTo>
                      <a:pt x="3619" y="950"/>
                    </a:lnTo>
                    <a:lnTo>
                      <a:pt x="3553" y="1023"/>
                    </a:lnTo>
                    <a:lnTo>
                      <a:pt x="3484" y="1097"/>
                    </a:lnTo>
                    <a:lnTo>
                      <a:pt x="3409" y="1175"/>
                    </a:lnTo>
                    <a:lnTo>
                      <a:pt x="3398" y="1179"/>
                    </a:lnTo>
                    <a:lnTo>
                      <a:pt x="3387" y="1183"/>
                    </a:lnTo>
                    <a:lnTo>
                      <a:pt x="3376" y="1185"/>
                    </a:lnTo>
                    <a:lnTo>
                      <a:pt x="3364" y="1188"/>
                    </a:lnTo>
                    <a:lnTo>
                      <a:pt x="3341" y="1191"/>
                    </a:lnTo>
                    <a:lnTo>
                      <a:pt x="3329" y="1191"/>
                    </a:lnTo>
                    <a:lnTo>
                      <a:pt x="3318" y="1190"/>
                    </a:lnTo>
                    <a:lnTo>
                      <a:pt x="3307" y="1189"/>
                    </a:lnTo>
                    <a:lnTo>
                      <a:pt x="3296" y="1188"/>
                    </a:lnTo>
                    <a:lnTo>
                      <a:pt x="3285" y="1185"/>
                    </a:lnTo>
                    <a:lnTo>
                      <a:pt x="3275" y="1182"/>
                    </a:lnTo>
                    <a:lnTo>
                      <a:pt x="3270" y="1179"/>
                    </a:lnTo>
                    <a:lnTo>
                      <a:pt x="3265" y="1177"/>
                    </a:lnTo>
                    <a:lnTo>
                      <a:pt x="3260" y="1174"/>
                    </a:lnTo>
                    <a:lnTo>
                      <a:pt x="3255" y="1172"/>
                    </a:lnTo>
                    <a:lnTo>
                      <a:pt x="3247" y="1164"/>
                    </a:lnTo>
                    <a:lnTo>
                      <a:pt x="3243" y="1162"/>
                    </a:lnTo>
                    <a:lnTo>
                      <a:pt x="3238" y="1158"/>
                    </a:lnTo>
                    <a:lnTo>
                      <a:pt x="3230" y="1147"/>
                    </a:lnTo>
                    <a:lnTo>
                      <a:pt x="3222" y="1138"/>
                    </a:lnTo>
                    <a:lnTo>
                      <a:pt x="3216" y="1127"/>
                    </a:lnTo>
                    <a:lnTo>
                      <a:pt x="3211" y="1116"/>
                    </a:lnTo>
                    <a:lnTo>
                      <a:pt x="3208" y="1105"/>
                    </a:lnTo>
                    <a:lnTo>
                      <a:pt x="3204" y="1092"/>
                    </a:lnTo>
                    <a:lnTo>
                      <a:pt x="3203" y="1081"/>
                    </a:lnTo>
                    <a:lnTo>
                      <a:pt x="3203" y="1069"/>
                    </a:lnTo>
                    <a:lnTo>
                      <a:pt x="3203" y="1057"/>
                    </a:lnTo>
                    <a:lnTo>
                      <a:pt x="3203" y="1045"/>
                    </a:lnTo>
                    <a:lnTo>
                      <a:pt x="3204" y="1031"/>
                    </a:lnTo>
                    <a:lnTo>
                      <a:pt x="3206" y="1019"/>
                    </a:lnTo>
                    <a:lnTo>
                      <a:pt x="3211" y="993"/>
                    </a:lnTo>
                    <a:lnTo>
                      <a:pt x="3216" y="968"/>
                    </a:lnTo>
                    <a:lnTo>
                      <a:pt x="3222" y="942"/>
                    </a:lnTo>
                    <a:lnTo>
                      <a:pt x="3227" y="916"/>
                    </a:lnTo>
                    <a:lnTo>
                      <a:pt x="3230" y="904"/>
                    </a:lnTo>
                    <a:lnTo>
                      <a:pt x="3231" y="892"/>
                    </a:lnTo>
                    <a:lnTo>
                      <a:pt x="3231" y="867"/>
                    </a:lnTo>
                    <a:lnTo>
                      <a:pt x="3231" y="855"/>
                    </a:lnTo>
                    <a:lnTo>
                      <a:pt x="3228" y="843"/>
                    </a:lnTo>
                    <a:lnTo>
                      <a:pt x="3226" y="832"/>
                    </a:lnTo>
                    <a:lnTo>
                      <a:pt x="3222" y="820"/>
                    </a:lnTo>
                    <a:lnTo>
                      <a:pt x="3217" y="809"/>
                    </a:lnTo>
                    <a:lnTo>
                      <a:pt x="3211" y="799"/>
                    </a:lnTo>
                    <a:lnTo>
                      <a:pt x="3208" y="793"/>
                    </a:lnTo>
                    <a:lnTo>
                      <a:pt x="3204" y="788"/>
                    </a:lnTo>
                    <a:lnTo>
                      <a:pt x="3195" y="778"/>
                    </a:lnTo>
                    <a:lnTo>
                      <a:pt x="3188" y="771"/>
                    </a:lnTo>
                    <a:lnTo>
                      <a:pt x="3179" y="765"/>
                    </a:lnTo>
                    <a:lnTo>
                      <a:pt x="3176" y="762"/>
                    </a:lnTo>
                    <a:lnTo>
                      <a:pt x="3171" y="760"/>
                    </a:lnTo>
                    <a:lnTo>
                      <a:pt x="3162" y="755"/>
                    </a:lnTo>
                    <a:lnTo>
                      <a:pt x="3153" y="750"/>
                    </a:lnTo>
                    <a:lnTo>
                      <a:pt x="3142" y="746"/>
                    </a:lnTo>
                    <a:lnTo>
                      <a:pt x="3131" y="743"/>
                    </a:lnTo>
                    <a:lnTo>
                      <a:pt x="3118" y="740"/>
                    </a:lnTo>
                    <a:lnTo>
                      <a:pt x="3106" y="738"/>
                    </a:lnTo>
                    <a:lnTo>
                      <a:pt x="3094" y="736"/>
                    </a:lnTo>
                    <a:lnTo>
                      <a:pt x="3080" y="735"/>
                    </a:lnTo>
                    <a:lnTo>
                      <a:pt x="3067" y="735"/>
                    </a:lnTo>
                    <a:lnTo>
                      <a:pt x="3038" y="736"/>
                    </a:lnTo>
                    <a:lnTo>
                      <a:pt x="3023" y="739"/>
                    </a:lnTo>
                    <a:lnTo>
                      <a:pt x="3008" y="741"/>
                    </a:lnTo>
                    <a:lnTo>
                      <a:pt x="2992" y="745"/>
                    </a:lnTo>
                    <a:lnTo>
                      <a:pt x="2977" y="750"/>
                    </a:lnTo>
                    <a:lnTo>
                      <a:pt x="2959" y="756"/>
                    </a:lnTo>
                    <a:lnTo>
                      <a:pt x="2943" y="762"/>
                    </a:lnTo>
                    <a:lnTo>
                      <a:pt x="2926" y="769"/>
                    </a:lnTo>
                    <a:lnTo>
                      <a:pt x="2909" y="777"/>
                    </a:lnTo>
                    <a:lnTo>
                      <a:pt x="2892" y="785"/>
                    </a:lnTo>
                    <a:lnTo>
                      <a:pt x="2874" y="796"/>
                    </a:lnTo>
                    <a:lnTo>
                      <a:pt x="2857" y="806"/>
                    </a:lnTo>
                    <a:lnTo>
                      <a:pt x="2838" y="818"/>
                    </a:lnTo>
                    <a:lnTo>
                      <a:pt x="2820" y="832"/>
                    </a:lnTo>
                    <a:lnTo>
                      <a:pt x="2802" y="845"/>
                    </a:lnTo>
                    <a:lnTo>
                      <a:pt x="2785" y="861"/>
                    </a:lnTo>
                    <a:lnTo>
                      <a:pt x="2766" y="877"/>
                    </a:lnTo>
                    <a:lnTo>
                      <a:pt x="2748" y="894"/>
                    </a:lnTo>
                    <a:lnTo>
                      <a:pt x="2730" y="913"/>
                    </a:lnTo>
                    <a:lnTo>
                      <a:pt x="2706" y="935"/>
                    </a:lnTo>
                    <a:lnTo>
                      <a:pt x="2687" y="953"/>
                    </a:lnTo>
                    <a:lnTo>
                      <a:pt x="2665" y="975"/>
                    </a:lnTo>
                    <a:lnTo>
                      <a:pt x="2654" y="987"/>
                    </a:lnTo>
                    <a:lnTo>
                      <a:pt x="2642" y="1001"/>
                    </a:lnTo>
                    <a:lnTo>
                      <a:pt x="2616" y="1030"/>
                    </a:lnTo>
                    <a:lnTo>
                      <a:pt x="2591" y="1062"/>
                    </a:lnTo>
                    <a:lnTo>
                      <a:pt x="2579" y="1078"/>
                    </a:lnTo>
                    <a:lnTo>
                      <a:pt x="2567" y="1095"/>
                    </a:lnTo>
                    <a:lnTo>
                      <a:pt x="2556" y="1113"/>
                    </a:lnTo>
                    <a:lnTo>
                      <a:pt x="2546" y="1130"/>
                    </a:lnTo>
                    <a:lnTo>
                      <a:pt x="2536" y="1149"/>
                    </a:lnTo>
                    <a:lnTo>
                      <a:pt x="2528" y="1167"/>
                    </a:lnTo>
                    <a:lnTo>
                      <a:pt x="2521" y="1186"/>
                    </a:lnTo>
                    <a:lnTo>
                      <a:pt x="2513" y="1205"/>
                    </a:lnTo>
                    <a:lnTo>
                      <a:pt x="2511" y="1215"/>
                    </a:lnTo>
                    <a:lnTo>
                      <a:pt x="2508" y="1223"/>
                    </a:lnTo>
                    <a:lnTo>
                      <a:pt x="2507" y="1233"/>
                    </a:lnTo>
                    <a:lnTo>
                      <a:pt x="2505" y="1243"/>
                    </a:lnTo>
                    <a:lnTo>
                      <a:pt x="2503" y="1261"/>
                    </a:lnTo>
                    <a:lnTo>
                      <a:pt x="2503" y="1279"/>
                    </a:lnTo>
                    <a:lnTo>
                      <a:pt x="2505" y="1298"/>
                    </a:lnTo>
                    <a:lnTo>
                      <a:pt x="2507" y="1307"/>
                    </a:lnTo>
                    <a:lnTo>
                      <a:pt x="2510" y="1316"/>
                    </a:lnTo>
                    <a:lnTo>
                      <a:pt x="2512" y="1326"/>
                    </a:lnTo>
                    <a:lnTo>
                      <a:pt x="2516" y="1334"/>
                    </a:lnTo>
                    <a:lnTo>
                      <a:pt x="2519" y="1343"/>
                    </a:lnTo>
                    <a:lnTo>
                      <a:pt x="2524" y="1352"/>
                    </a:lnTo>
                    <a:lnTo>
                      <a:pt x="2529" y="1361"/>
                    </a:lnTo>
                    <a:lnTo>
                      <a:pt x="2534" y="1370"/>
                    </a:lnTo>
                    <a:lnTo>
                      <a:pt x="2541" y="1377"/>
                    </a:lnTo>
                    <a:lnTo>
                      <a:pt x="2549" y="1386"/>
                    </a:lnTo>
                    <a:lnTo>
                      <a:pt x="2560" y="1397"/>
                    </a:lnTo>
                    <a:lnTo>
                      <a:pt x="2565" y="1403"/>
                    </a:lnTo>
                    <a:lnTo>
                      <a:pt x="2571" y="1407"/>
                    </a:lnTo>
                    <a:lnTo>
                      <a:pt x="2576" y="1411"/>
                    </a:lnTo>
                    <a:lnTo>
                      <a:pt x="2582" y="1415"/>
                    </a:lnTo>
                    <a:lnTo>
                      <a:pt x="2588" y="1419"/>
                    </a:lnTo>
                    <a:lnTo>
                      <a:pt x="2593" y="1421"/>
                    </a:lnTo>
                    <a:lnTo>
                      <a:pt x="2599" y="1424"/>
                    </a:lnTo>
                    <a:lnTo>
                      <a:pt x="2605" y="1426"/>
                    </a:lnTo>
                    <a:lnTo>
                      <a:pt x="2617" y="1430"/>
                    </a:lnTo>
                    <a:lnTo>
                      <a:pt x="2628" y="1432"/>
                    </a:lnTo>
                    <a:lnTo>
                      <a:pt x="2640" y="1433"/>
                    </a:lnTo>
                    <a:lnTo>
                      <a:pt x="2653" y="1433"/>
                    </a:lnTo>
                    <a:lnTo>
                      <a:pt x="2665" y="1433"/>
                    </a:lnTo>
                    <a:lnTo>
                      <a:pt x="2688" y="1431"/>
                    </a:lnTo>
                    <a:lnTo>
                      <a:pt x="2700" y="1429"/>
                    </a:lnTo>
                    <a:lnTo>
                      <a:pt x="2712" y="1426"/>
                    </a:lnTo>
                    <a:lnTo>
                      <a:pt x="2738" y="1420"/>
                    </a:lnTo>
                    <a:lnTo>
                      <a:pt x="2763" y="1414"/>
                    </a:lnTo>
                    <a:lnTo>
                      <a:pt x="2775" y="1411"/>
                    </a:lnTo>
                    <a:lnTo>
                      <a:pt x="2787" y="1409"/>
                    </a:lnTo>
                    <a:lnTo>
                      <a:pt x="2799" y="1408"/>
                    </a:lnTo>
                    <a:lnTo>
                      <a:pt x="2811" y="1407"/>
                    </a:lnTo>
                    <a:lnTo>
                      <a:pt x="2824" y="1405"/>
                    </a:lnTo>
                    <a:lnTo>
                      <a:pt x="2836" y="1405"/>
                    </a:lnTo>
                    <a:lnTo>
                      <a:pt x="2848" y="1407"/>
                    </a:lnTo>
                    <a:lnTo>
                      <a:pt x="2860" y="1409"/>
                    </a:lnTo>
                    <a:lnTo>
                      <a:pt x="2873" y="1411"/>
                    </a:lnTo>
                    <a:lnTo>
                      <a:pt x="2885" y="1416"/>
                    </a:lnTo>
                    <a:lnTo>
                      <a:pt x="2897" y="1422"/>
                    </a:lnTo>
                    <a:lnTo>
                      <a:pt x="2908" y="1430"/>
                    </a:lnTo>
                    <a:lnTo>
                      <a:pt x="2920" y="1438"/>
                    </a:lnTo>
                    <a:lnTo>
                      <a:pt x="2926" y="1443"/>
                    </a:lnTo>
                    <a:lnTo>
                      <a:pt x="2932" y="1449"/>
                    </a:lnTo>
                    <a:lnTo>
                      <a:pt x="2941" y="1459"/>
                    </a:lnTo>
                    <a:lnTo>
                      <a:pt x="2948" y="1469"/>
                    </a:lnTo>
                    <a:lnTo>
                      <a:pt x="2956" y="1480"/>
                    </a:lnTo>
                    <a:lnTo>
                      <a:pt x="2962" y="1490"/>
                    </a:lnTo>
                    <a:lnTo>
                      <a:pt x="2967" y="1502"/>
                    </a:lnTo>
                    <a:lnTo>
                      <a:pt x="2970" y="1513"/>
                    </a:lnTo>
                    <a:lnTo>
                      <a:pt x="2974" y="1525"/>
                    </a:lnTo>
                    <a:lnTo>
                      <a:pt x="2977" y="1536"/>
                    </a:lnTo>
                    <a:lnTo>
                      <a:pt x="2978" y="1548"/>
                    </a:lnTo>
                    <a:lnTo>
                      <a:pt x="2978" y="1561"/>
                    </a:lnTo>
                    <a:lnTo>
                      <a:pt x="2977" y="1573"/>
                    </a:lnTo>
                    <a:lnTo>
                      <a:pt x="2975" y="1584"/>
                    </a:lnTo>
                    <a:lnTo>
                      <a:pt x="2973" y="1596"/>
                    </a:lnTo>
                    <a:lnTo>
                      <a:pt x="2969" y="1608"/>
                    </a:lnTo>
                    <a:lnTo>
                      <a:pt x="2965" y="1619"/>
                    </a:lnTo>
                    <a:lnTo>
                      <a:pt x="2959" y="1630"/>
                    </a:lnTo>
                    <a:lnTo>
                      <a:pt x="2794" y="1792"/>
                    </a:lnTo>
                    <a:lnTo>
                      <a:pt x="2661" y="1919"/>
                    </a:lnTo>
                    <a:lnTo>
                      <a:pt x="2572" y="2006"/>
                    </a:lnTo>
                    <a:lnTo>
                      <a:pt x="2546" y="2030"/>
                    </a:lnTo>
                    <a:lnTo>
                      <a:pt x="2539" y="2037"/>
                    </a:lnTo>
                    <a:lnTo>
                      <a:pt x="2536" y="2040"/>
                    </a:lnTo>
                    <a:lnTo>
                      <a:pt x="2534" y="2037"/>
                    </a:lnTo>
                    <a:lnTo>
                      <a:pt x="2529" y="2031"/>
                    </a:lnTo>
                    <a:lnTo>
                      <a:pt x="2510" y="2012"/>
                    </a:lnTo>
                    <a:lnTo>
                      <a:pt x="2480" y="1982"/>
                    </a:lnTo>
                    <a:lnTo>
                      <a:pt x="2442" y="1945"/>
                    </a:lnTo>
                    <a:lnTo>
                      <a:pt x="2243" y="1746"/>
                    </a:lnTo>
                    <a:lnTo>
                      <a:pt x="2044" y="1551"/>
                    </a:lnTo>
                    <a:lnTo>
                      <a:pt x="1953" y="1462"/>
                    </a:lnTo>
                    <a:lnTo>
                      <a:pt x="1945" y="1451"/>
                    </a:lnTo>
                    <a:lnTo>
                      <a:pt x="1937" y="1438"/>
                    </a:lnTo>
                    <a:lnTo>
                      <a:pt x="1930" y="1426"/>
                    </a:lnTo>
                    <a:lnTo>
                      <a:pt x="1925" y="1413"/>
                    </a:lnTo>
                    <a:lnTo>
                      <a:pt x="1923" y="1407"/>
                    </a:lnTo>
                    <a:lnTo>
                      <a:pt x="1920" y="1400"/>
                    </a:lnTo>
                    <a:lnTo>
                      <a:pt x="1917" y="1387"/>
                    </a:lnTo>
                    <a:lnTo>
                      <a:pt x="1915" y="1380"/>
                    </a:lnTo>
                    <a:lnTo>
                      <a:pt x="1914" y="1374"/>
                    </a:lnTo>
                    <a:lnTo>
                      <a:pt x="1913" y="1360"/>
                    </a:lnTo>
                    <a:lnTo>
                      <a:pt x="1913" y="1347"/>
                    </a:lnTo>
                    <a:lnTo>
                      <a:pt x="1914" y="1339"/>
                    </a:lnTo>
                    <a:lnTo>
                      <a:pt x="1915" y="1333"/>
                    </a:lnTo>
                    <a:lnTo>
                      <a:pt x="1918" y="1320"/>
                    </a:lnTo>
                    <a:lnTo>
                      <a:pt x="1922" y="1307"/>
                    </a:lnTo>
                    <a:lnTo>
                      <a:pt x="1924" y="1301"/>
                    </a:lnTo>
                    <a:lnTo>
                      <a:pt x="1928" y="1295"/>
                    </a:lnTo>
                    <a:lnTo>
                      <a:pt x="1934" y="1283"/>
                    </a:lnTo>
                    <a:lnTo>
                      <a:pt x="1937" y="1277"/>
                    </a:lnTo>
                    <a:lnTo>
                      <a:pt x="1942" y="1272"/>
                    </a:lnTo>
                    <a:lnTo>
                      <a:pt x="1952" y="1261"/>
                    </a:lnTo>
                    <a:lnTo>
                      <a:pt x="1962" y="1252"/>
                    </a:lnTo>
                    <a:lnTo>
                      <a:pt x="1972" y="1245"/>
                    </a:lnTo>
                    <a:lnTo>
                      <a:pt x="1983" y="1238"/>
                    </a:lnTo>
                    <a:lnTo>
                      <a:pt x="1994" y="1233"/>
                    </a:lnTo>
                    <a:lnTo>
                      <a:pt x="2005" y="1229"/>
                    </a:lnTo>
                    <a:lnTo>
                      <a:pt x="2017" y="1227"/>
                    </a:lnTo>
                    <a:lnTo>
                      <a:pt x="2029" y="1226"/>
                    </a:lnTo>
                    <a:lnTo>
                      <a:pt x="2040" y="1224"/>
                    </a:lnTo>
                    <a:lnTo>
                      <a:pt x="2052" y="1224"/>
                    </a:lnTo>
                    <a:lnTo>
                      <a:pt x="2065" y="1226"/>
                    </a:lnTo>
                    <a:lnTo>
                      <a:pt x="2078" y="1227"/>
                    </a:lnTo>
                    <a:lnTo>
                      <a:pt x="2090" y="1229"/>
                    </a:lnTo>
                    <a:lnTo>
                      <a:pt x="2116" y="1234"/>
                    </a:lnTo>
                    <a:lnTo>
                      <a:pt x="2142" y="1239"/>
                    </a:lnTo>
                    <a:lnTo>
                      <a:pt x="2167" y="1245"/>
                    </a:lnTo>
                    <a:lnTo>
                      <a:pt x="2193" y="1250"/>
                    </a:lnTo>
                    <a:lnTo>
                      <a:pt x="2205" y="1251"/>
                    </a:lnTo>
                    <a:lnTo>
                      <a:pt x="2217" y="1254"/>
                    </a:lnTo>
                    <a:lnTo>
                      <a:pt x="2243" y="1254"/>
                    </a:lnTo>
                    <a:lnTo>
                      <a:pt x="2254" y="1254"/>
                    </a:lnTo>
                    <a:lnTo>
                      <a:pt x="2266" y="1251"/>
                    </a:lnTo>
                    <a:lnTo>
                      <a:pt x="2277" y="1249"/>
                    </a:lnTo>
                    <a:lnTo>
                      <a:pt x="2290" y="1245"/>
                    </a:lnTo>
                    <a:lnTo>
                      <a:pt x="2301" y="1240"/>
                    </a:lnTo>
                    <a:lnTo>
                      <a:pt x="2312" y="1234"/>
                    </a:lnTo>
                    <a:lnTo>
                      <a:pt x="2316" y="1230"/>
                    </a:lnTo>
                    <a:lnTo>
                      <a:pt x="2321" y="1227"/>
                    </a:lnTo>
                    <a:lnTo>
                      <a:pt x="2331" y="1217"/>
                    </a:lnTo>
                    <a:lnTo>
                      <a:pt x="2338" y="1211"/>
                    </a:lnTo>
                    <a:lnTo>
                      <a:pt x="2345" y="1202"/>
                    </a:lnTo>
                    <a:lnTo>
                      <a:pt x="2347" y="1199"/>
                    </a:lnTo>
                    <a:lnTo>
                      <a:pt x="2349" y="1194"/>
                    </a:lnTo>
                    <a:lnTo>
                      <a:pt x="2356" y="1184"/>
                    </a:lnTo>
                    <a:lnTo>
                      <a:pt x="2359" y="1174"/>
                    </a:lnTo>
                    <a:lnTo>
                      <a:pt x="2364" y="1164"/>
                    </a:lnTo>
                    <a:lnTo>
                      <a:pt x="2367" y="1153"/>
                    </a:lnTo>
                    <a:lnTo>
                      <a:pt x="2370" y="1141"/>
                    </a:lnTo>
                    <a:lnTo>
                      <a:pt x="2371" y="1129"/>
                    </a:lnTo>
                    <a:lnTo>
                      <a:pt x="2374" y="1117"/>
                    </a:lnTo>
                    <a:lnTo>
                      <a:pt x="2374" y="1103"/>
                    </a:lnTo>
                    <a:lnTo>
                      <a:pt x="2374" y="1090"/>
                    </a:lnTo>
                    <a:lnTo>
                      <a:pt x="2373" y="1060"/>
                    </a:lnTo>
                    <a:lnTo>
                      <a:pt x="2370" y="1046"/>
                    </a:lnTo>
                    <a:lnTo>
                      <a:pt x="2368" y="1031"/>
                    </a:lnTo>
                    <a:lnTo>
                      <a:pt x="2364" y="1015"/>
                    </a:lnTo>
                    <a:lnTo>
                      <a:pt x="2359" y="999"/>
                    </a:lnTo>
                    <a:lnTo>
                      <a:pt x="2354" y="982"/>
                    </a:lnTo>
                    <a:lnTo>
                      <a:pt x="2347" y="966"/>
                    </a:lnTo>
                    <a:lnTo>
                      <a:pt x="2341" y="949"/>
                    </a:lnTo>
                    <a:lnTo>
                      <a:pt x="2332" y="932"/>
                    </a:lnTo>
                    <a:lnTo>
                      <a:pt x="2324" y="914"/>
                    </a:lnTo>
                    <a:lnTo>
                      <a:pt x="2314" y="897"/>
                    </a:lnTo>
                    <a:lnTo>
                      <a:pt x="2303" y="880"/>
                    </a:lnTo>
                    <a:lnTo>
                      <a:pt x="2291" y="861"/>
                    </a:lnTo>
                    <a:lnTo>
                      <a:pt x="2277" y="843"/>
                    </a:lnTo>
                    <a:lnTo>
                      <a:pt x="2264" y="824"/>
                    </a:lnTo>
                    <a:lnTo>
                      <a:pt x="2249" y="806"/>
                    </a:lnTo>
                    <a:lnTo>
                      <a:pt x="2232" y="788"/>
                    </a:lnTo>
                    <a:lnTo>
                      <a:pt x="2215" y="769"/>
                    </a:lnTo>
                    <a:lnTo>
                      <a:pt x="2197" y="751"/>
                    </a:lnTo>
                    <a:lnTo>
                      <a:pt x="2175" y="728"/>
                    </a:lnTo>
                    <a:lnTo>
                      <a:pt x="2156" y="710"/>
                    </a:lnTo>
                    <a:lnTo>
                      <a:pt x="2134" y="688"/>
                    </a:lnTo>
                    <a:lnTo>
                      <a:pt x="2122" y="677"/>
                    </a:lnTo>
                    <a:lnTo>
                      <a:pt x="2109" y="664"/>
                    </a:lnTo>
                    <a:lnTo>
                      <a:pt x="2079" y="639"/>
                    </a:lnTo>
                    <a:lnTo>
                      <a:pt x="2047" y="614"/>
                    </a:lnTo>
                    <a:lnTo>
                      <a:pt x="2032" y="602"/>
                    </a:lnTo>
                    <a:lnTo>
                      <a:pt x="2014" y="590"/>
                    </a:lnTo>
                    <a:lnTo>
                      <a:pt x="1996" y="579"/>
                    </a:lnTo>
                    <a:lnTo>
                      <a:pt x="1979" y="569"/>
                    </a:lnTo>
                    <a:lnTo>
                      <a:pt x="1961" y="559"/>
                    </a:lnTo>
                    <a:lnTo>
                      <a:pt x="1942" y="551"/>
                    </a:lnTo>
                    <a:lnTo>
                      <a:pt x="1924" y="542"/>
                    </a:lnTo>
                    <a:lnTo>
                      <a:pt x="1904" y="536"/>
                    </a:lnTo>
                    <a:lnTo>
                      <a:pt x="1896" y="533"/>
                    </a:lnTo>
                    <a:lnTo>
                      <a:pt x="1886" y="531"/>
                    </a:lnTo>
                    <a:lnTo>
                      <a:pt x="1876" y="530"/>
                    </a:lnTo>
                    <a:lnTo>
                      <a:pt x="1867" y="527"/>
                    </a:lnTo>
                    <a:lnTo>
                      <a:pt x="1848" y="526"/>
                    </a:lnTo>
                    <a:lnTo>
                      <a:pt x="1830" y="526"/>
                    </a:lnTo>
                    <a:lnTo>
                      <a:pt x="1812" y="527"/>
                    </a:lnTo>
                    <a:lnTo>
                      <a:pt x="1802" y="530"/>
                    </a:lnTo>
                    <a:lnTo>
                      <a:pt x="1793" y="532"/>
                    </a:lnTo>
                    <a:lnTo>
                      <a:pt x="1783" y="535"/>
                    </a:lnTo>
                    <a:lnTo>
                      <a:pt x="1775" y="538"/>
                    </a:lnTo>
                    <a:lnTo>
                      <a:pt x="1766" y="542"/>
                    </a:lnTo>
                    <a:lnTo>
                      <a:pt x="1758" y="546"/>
                    </a:lnTo>
                    <a:lnTo>
                      <a:pt x="1749" y="552"/>
                    </a:lnTo>
                    <a:lnTo>
                      <a:pt x="1741" y="557"/>
                    </a:lnTo>
                    <a:lnTo>
                      <a:pt x="1732" y="564"/>
                    </a:lnTo>
                    <a:lnTo>
                      <a:pt x="1724" y="570"/>
                    </a:lnTo>
                    <a:lnTo>
                      <a:pt x="1713" y="581"/>
                    </a:lnTo>
                    <a:lnTo>
                      <a:pt x="1708" y="587"/>
                    </a:lnTo>
                    <a:lnTo>
                      <a:pt x="1703" y="593"/>
                    </a:lnTo>
                    <a:lnTo>
                      <a:pt x="1698" y="598"/>
                    </a:lnTo>
                    <a:lnTo>
                      <a:pt x="1694" y="604"/>
                    </a:lnTo>
                    <a:lnTo>
                      <a:pt x="1692" y="611"/>
                    </a:lnTo>
                    <a:lnTo>
                      <a:pt x="1688" y="615"/>
                    </a:lnTo>
                    <a:lnTo>
                      <a:pt x="1686" y="622"/>
                    </a:lnTo>
                    <a:lnTo>
                      <a:pt x="1683" y="628"/>
                    </a:lnTo>
                    <a:lnTo>
                      <a:pt x="1680" y="639"/>
                    </a:lnTo>
                    <a:lnTo>
                      <a:pt x="1677" y="651"/>
                    </a:lnTo>
                    <a:lnTo>
                      <a:pt x="1676" y="663"/>
                    </a:lnTo>
                    <a:lnTo>
                      <a:pt x="1676" y="674"/>
                    </a:lnTo>
                    <a:lnTo>
                      <a:pt x="1676" y="686"/>
                    </a:lnTo>
                    <a:lnTo>
                      <a:pt x="1678" y="711"/>
                    </a:lnTo>
                    <a:lnTo>
                      <a:pt x="1681" y="723"/>
                    </a:lnTo>
                    <a:lnTo>
                      <a:pt x="1683" y="735"/>
                    </a:lnTo>
                    <a:lnTo>
                      <a:pt x="1689" y="760"/>
                    </a:lnTo>
                    <a:lnTo>
                      <a:pt x="1695" y="785"/>
                    </a:lnTo>
                    <a:lnTo>
                      <a:pt x="1698" y="798"/>
                    </a:lnTo>
                    <a:lnTo>
                      <a:pt x="1700" y="810"/>
                    </a:lnTo>
                    <a:lnTo>
                      <a:pt x="1703" y="822"/>
                    </a:lnTo>
                    <a:lnTo>
                      <a:pt x="1704" y="834"/>
                    </a:lnTo>
                    <a:lnTo>
                      <a:pt x="1704" y="846"/>
                    </a:lnTo>
                    <a:lnTo>
                      <a:pt x="1704" y="859"/>
                    </a:lnTo>
                    <a:lnTo>
                      <a:pt x="1703" y="871"/>
                    </a:lnTo>
                    <a:lnTo>
                      <a:pt x="1700" y="883"/>
                    </a:lnTo>
                    <a:lnTo>
                      <a:pt x="1699" y="889"/>
                    </a:lnTo>
                    <a:lnTo>
                      <a:pt x="1698" y="895"/>
                    </a:lnTo>
                    <a:lnTo>
                      <a:pt x="1693" y="908"/>
                    </a:lnTo>
                    <a:lnTo>
                      <a:pt x="1687" y="920"/>
                    </a:lnTo>
                    <a:lnTo>
                      <a:pt x="1680" y="931"/>
                    </a:lnTo>
                    <a:lnTo>
                      <a:pt x="1671" y="943"/>
                    </a:lnTo>
                    <a:lnTo>
                      <a:pt x="1666" y="949"/>
                    </a:lnTo>
                    <a:lnTo>
                      <a:pt x="1660" y="955"/>
                    </a:lnTo>
                    <a:lnTo>
                      <a:pt x="1651" y="963"/>
                    </a:lnTo>
                    <a:lnTo>
                      <a:pt x="1643" y="969"/>
                    </a:lnTo>
                    <a:lnTo>
                      <a:pt x="1634" y="976"/>
                    </a:lnTo>
                    <a:lnTo>
                      <a:pt x="1625" y="981"/>
                    </a:lnTo>
                    <a:lnTo>
                      <a:pt x="1616" y="986"/>
                    </a:lnTo>
                    <a:lnTo>
                      <a:pt x="1606" y="990"/>
                    </a:lnTo>
                    <a:lnTo>
                      <a:pt x="1596" y="993"/>
                    </a:lnTo>
                    <a:lnTo>
                      <a:pt x="1585" y="996"/>
                    </a:lnTo>
                    <a:lnTo>
                      <a:pt x="1576" y="998"/>
                    </a:lnTo>
                    <a:lnTo>
                      <a:pt x="1566" y="999"/>
                    </a:lnTo>
                    <a:lnTo>
                      <a:pt x="1555" y="1001"/>
                    </a:lnTo>
                    <a:lnTo>
                      <a:pt x="1545" y="1001"/>
                    </a:lnTo>
                    <a:lnTo>
                      <a:pt x="1534" y="999"/>
                    </a:lnTo>
                    <a:lnTo>
                      <a:pt x="1524" y="998"/>
                    </a:lnTo>
                    <a:lnTo>
                      <a:pt x="1513" y="996"/>
                    </a:lnTo>
                    <a:lnTo>
                      <a:pt x="1503" y="993"/>
                    </a:lnTo>
                    <a:lnTo>
                      <a:pt x="1446" y="927"/>
                    </a:lnTo>
                    <a:lnTo>
                      <a:pt x="1390" y="864"/>
                    </a:lnTo>
                    <a:lnTo>
                      <a:pt x="1336" y="800"/>
                    </a:lnTo>
                    <a:lnTo>
                      <a:pt x="1285" y="739"/>
                    </a:lnTo>
                    <a:lnTo>
                      <a:pt x="1260" y="708"/>
                    </a:lnTo>
                    <a:lnTo>
                      <a:pt x="1236" y="679"/>
                    </a:lnTo>
                    <a:lnTo>
                      <a:pt x="1214" y="650"/>
                    </a:lnTo>
                    <a:lnTo>
                      <a:pt x="1192" y="622"/>
                    </a:lnTo>
                    <a:lnTo>
                      <a:pt x="1171" y="593"/>
                    </a:lnTo>
                    <a:lnTo>
                      <a:pt x="1151" y="566"/>
                    </a:lnTo>
                    <a:lnTo>
                      <a:pt x="1115" y="513"/>
                    </a:lnTo>
                    <a:lnTo>
                      <a:pt x="1083" y="464"/>
                    </a:lnTo>
                    <a:lnTo>
                      <a:pt x="1076" y="452"/>
                    </a:lnTo>
                    <a:lnTo>
                      <a:pt x="1068" y="439"/>
                    </a:lnTo>
                    <a:lnTo>
                      <a:pt x="1055" y="417"/>
                    </a:lnTo>
                    <a:lnTo>
                      <a:pt x="1044" y="395"/>
                    </a:lnTo>
                    <a:lnTo>
                      <a:pt x="1034" y="373"/>
                    </a:lnTo>
                    <a:lnTo>
                      <a:pt x="1024" y="354"/>
                    </a:lnTo>
                    <a:lnTo>
                      <a:pt x="1017" y="334"/>
                    </a:lnTo>
                    <a:lnTo>
                      <a:pt x="1012" y="316"/>
                    </a:lnTo>
                    <a:lnTo>
                      <a:pt x="1007" y="299"/>
                    </a:lnTo>
                    <a:lnTo>
                      <a:pt x="1005" y="283"/>
                    </a:lnTo>
                    <a:lnTo>
                      <a:pt x="1004" y="268"/>
                    </a:lnTo>
                    <a:lnTo>
                      <a:pt x="1005" y="255"/>
                    </a:lnTo>
                    <a:lnTo>
                      <a:pt x="1006" y="249"/>
                    </a:lnTo>
                    <a:lnTo>
                      <a:pt x="1007" y="242"/>
                    </a:lnTo>
                    <a:lnTo>
                      <a:pt x="1008" y="236"/>
                    </a:lnTo>
                    <a:lnTo>
                      <a:pt x="1011" y="231"/>
                    </a:lnTo>
                    <a:lnTo>
                      <a:pt x="1015" y="227"/>
                    </a:lnTo>
                    <a:lnTo>
                      <a:pt x="1017" y="222"/>
                    </a:lnTo>
                    <a:close/>
                    <a:moveTo>
                      <a:pt x="842" y="3675"/>
                    </a:moveTo>
                    <a:lnTo>
                      <a:pt x="807" y="3702"/>
                    </a:lnTo>
                    <a:lnTo>
                      <a:pt x="772" y="3727"/>
                    </a:lnTo>
                    <a:lnTo>
                      <a:pt x="738" y="3751"/>
                    </a:lnTo>
                    <a:lnTo>
                      <a:pt x="705" y="3773"/>
                    </a:lnTo>
                    <a:lnTo>
                      <a:pt x="673" y="3792"/>
                    </a:lnTo>
                    <a:lnTo>
                      <a:pt x="643" y="3811"/>
                    </a:lnTo>
                    <a:lnTo>
                      <a:pt x="628" y="3818"/>
                    </a:lnTo>
                    <a:lnTo>
                      <a:pt x="614" y="3825"/>
                    </a:lnTo>
                    <a:lnTo>
                      <a:pt x="587" y="3840"/>
                    </a:lnTo>
                    <a:lnTo>
                      <a:pt x="560" y="3851"/>
                    </a:lnTo>
                    <a:lnTo>
                      <a:pt x="535" y="3859"/>
                    </a:lnTo>
                    <a:lnTo>
                      <a:pt x="523" y="3863"/>
                    </a:lnTo>
                    <a:lnTo>
                      <a:pt x="512" y="3866"/>
                    </a:lnTo>
                    <a:lnTo>
                      <a:pt x="490" y="3869"/>
                    </a:lnTo>
                    <a:lnTo>
                      <a:pt x="471" y="3869"/>
                    </a:lnTo>
                    <a:lnTo>
                      <a:pt x="461" y="3869"/>
                    </a:lnTo>
                    <a:lnTo>
                      <a:pt x="452" y="3868"/>
                    </a:lnTo>
                    <a:lnTo>
                      <a:pt x="445" y="3866"/>
                    </a:lnTo>
                    <a:lnTo>
                      <a:pt x="436" y="3863"/>
                    </a:lnTo>
                    <a:lnTo>
                      <a:pt x="429" y="3859"/>
                    </a:lnTo>
                    <a:lnTo>
                      <a:pt x="427" y="3857"/>
                    </a:lnTo>
                    <a:lnTo>
                      <a:pt x="423" y="3855"/>
                    </a:lnTo>
                    <a:lnTo>
                      <a:pt x="395" y="3825"/>
                    </a:lnTo>
                    <a:lnTo>
                      <a:pt x="367" y="3793"/>
                    </a:lnTo>
                    <a:lnTo>
                      <a:pt x="341" y="3760"/>
                    </a:lnTo>
                    <a:lnTo>
                      <a:pt x="315" y="3726"/>
                    </a:lnTo>
                    <a:lnTo>
                      <a:pt x="292" y="3689"/>
                    </a:lnTo>
                    <a:lnTo>
                      <a:pt x="269" y="3653"/>
                    </a:lnTo>
                    <a:lnTo>
                      <a:pt x="247" y="3614"/>
                    </a:lnTo>
                    <a:lnTo>
                      <a:pt x="226" y="3575"/>
                    </a:lnTo>
                    <a:lnTo>
                      <a:pt x="205" y="3533"/>
                    </a:lnTo>
                    <a:lnTo>
                      <a:pt x="187" y="3490"/>
                    </a:lnTo>
                    <a:lnTo>
                      <a:pt x="169" y="3447"/>
                    </a:lnTo>
                    <a:lnTo>
                      <a:pt x="152" y="3403"/>
                    </a:lnTo>
                    <a:lnTo>
                      <a:pt x="136" y="3357"/>
                    </a:lnTo>
                    <a:lnTo>
                      <a:pt x="120" y="3312"/>
                    </a:lnTo>
                    <a:lnTo>
                      <a:pt x="106" y="3264"/>
                    </a:lnTo>
                    <a:lnTo>
                      <a:pt x="93" y="3216"/>
                    </a:lnTo>
                    <a:lnTo>
                      <a:pt x="81" y="3167"/>
                    </a:lnTo>
                    <a:lnTo>
                      <a:pt x="70" y="3117"/>
                    </a:lnTo>
                    <a:lnTo>
                      <a:pt x="59" y="3067"/>
                    </a:lnTo>
                    <a:lnTo>
                      <a:pt x="49" y="3017"/>
                    </a:lnTo>
                    <a:lnTo>
                      <a:pt x="40" y="2966"/>
                    </a:lnTo>
                    <a:lnTo>
                      <a:pt x="33" y="2914"/>
                    </a:lnTo>
                    <a:lnTo>
                      <a:pt x="26" y="2862"/>
                    </a:lnTo>
                    <a:lnTo>
                      <a:pt x="19" y="2809"/>
                    </a:lnTo>
                    <a:lnTo>
                      <a:pt x="15" y="2756"/>
                    </a:lnTo>
                    <a:lnTo>
                      <a:pt x="10" y="2704"/>
                    </a:lnTo>
                    <a:lnTo>
                      <a:pt x="6" y="2650"/>
                    </a:lnTo>
                    <a:lnTo>
                      <a:pt x="4" y="2598"/>
                    </a:lnTo>
                    <a:lnTo>
                      <a:pt x="1" y="2544"/>
                    </a:lnTo>
                    <a:lnTo>
                      <a:pt x="0" y="2490"/>
                    </a:lnTo>
                    <a:lnTo>
                      <a:pt x="0" y="2437"/>
                    </a:lnTo>
                    <a:lnTo>
                      <a:pt x="0" y="2384"/>
                    </a:lnTo>
                    <a:lnTo>
                      <a:pt x="1" y="2331"/>
                    </a:lnTo>
                    <a:lnTo>
                      <a:pt x="4" y="2278"/>
                    </a:lnTo>
                    <a:lnTo>
                      <a:pt x="6" y="2226"/>
                    </a:lnTo>
                    <a:lnTo>
                      <a:pt x="10" y="2173"/>
                    </a:lnTo>
                    <a:lnTo>
                      <a:pt x="13" y="2122"/>
                    </a:lnTo>
                    <a:lnTo>
                      <a:pt x="18" y="2071"/>
                    </a:lnTo>
                    <a:lnTo>
                      <a:pt x="23" y="2020"/>
                    </a:lnTo>
                    <a:lnTo>
                      <a:pt x="29" y="1970"/>
                    </a:lnTo>
                    <a:lnTo>
                      <a:pt x="37" y="1920"/>
                    </a:lnTo>
                    <a:lnTo>
                      <a:pt x="44" y="1871"/>
                    </a:lnTo>
                    <a:lnTo>
                      <a:pt x="52" y="1824"/>
                    </a:lnTo>
                    <a:lnTo>
                      <a:pt x="61" y="1777"/>
                    </a:lnTo>
                    <a:lnTo>
                      <a:pt x="71" y="1731"/>
                    </a:lnTo>
                    <a:lnTo>
                      <a:pt x="81" y="1685"/>
                    </a:lnTo>
                    <a:lnTo>
                      <a:pt x="92" y="1640"/>
                    </a:lnTo>
                    <a:lnTo>
                      <a:pt x="103" y="1597"/>
                    </a:lnTo>
                    <a:lnTo>
                      <a:pt x="115" y="1554"/>
                    </a:lnTo>
                    <a:lnTo>
                      <a:pt x="127" y="1514"/>
                    </a:lnTo>
                    <a:lnTo>
                      <a:pt x="141" y="1474"/>
                    </a:lnTo>
                    <a:lnTo>
                      <a:pt x="154" y="1435"/>
                    </a:lnTo>
                    <a:lnTo>
                      <a:pt x="169" y="1398"/>
                    </a:lnTo>
                    <a:lnTo>
                      <a:pt x="183" y="1361"/>
                    </a:lnTo>
                    <a:lnTo>
                      <a:pt x="199" y="1327"/>
                    </a:lnTo>
                    <a:lnTo>
                      <a:pt x="215" y="1294"/>
                    </a:lnTo>
                    <a:lnTo>
                      <a:pt x="231" y="1263"/>
                    </a:lnTo>
                    <a:lnTo>
                      <a:pt x="248" y="1233"/>
                    </a:lnTo>
                    <a:lnTo>
                      <a:pt x="265" y="1206"/>
                    </a:lnTo>
                    <a:lnTo>
                      <a:pt x="284" y="1179"/>
                    </a:lnTo>
                    <a:lnTo>
                      <a:pt x="302" y="1155"/>
                    </a:lnTo>
                    <a:lnTo>
                      <a:pt x="320" y="1133"/>
                    </a:lnTo>
                    <a:lnTo>
                      <a:pt x="340" y="1112"/>
                    </a:lnTo>
                    <a:lnTo>
                      <a:pt x="359" y="1092"/>
                    </a:lnTo>
                    <a:lnTo>
                      <a:pt x="368" y="1087"/>
                    </a:lnTo>
                    <a:lnTo>
                      <a:pt x="376" y="1082"/>
                    </a:lnTo>
                    <a:lnTo>
                      <a:pt x="385" y="1079"/>
                    </a:lnTo>
                    <a:lnTo>
                      <a:pt x="394" y="1078"/>
                    </a:lnTo>
                    <a:lnTo>
                      <a:pt x="403" y="1076"/>
                    </a:lnTo>
                    <a:lnTo>
                      <a:pt x="413" y="1076"/>
                    </a:lnTo>
                    <a:lnTo>
                      <a:pt x="423" y="1076"/>
                    </a:lnTo>
                    <a:lnTo>
                      <a:pt x="433" y="1079"/>
                    </a:lnTo>
                    <a:lnTo>
                      <a:pt x="444" y="1082"/>
                    </a:lnTo>
                    <a:lnTo>
                      <a:pt x="455" y="1086"/>
                    </a:lnTo>
                    <a:lnTo>
                      <a:pt x="466" y="1091"/>
                    </a:lnTo>
                    <a:lnTo>
                      <a:pt x="478" y="1097"/>
                    </a:lnTo>
                    <a:lnTo>
                      <a:pt x="490" y="1105"/>
                    </a:lnTo>
                    <a:lnTo>
                      <a:pt x="504" y="1112"/>
                    </a:lnTo>
                    <a:lnTo>
                      <a:pt x="532" y="1131"/>
                    </a:lnTo>
                    <a:lnTo>
                      <a:pt x="562" y="1153"/>
                    </a:lnTo>
                    <a:lnTo>
                      <a:pt x="594" y="1180"/>
                    </a:lnTo>
                    <a:lnTo>
                      <a:pt x="629" y="1210"/>
                    </a:lnTo>
                    <a:lnTo>
                      <a:pt x="669" y="1243"/>
                    </a:lnTo>
                    <a:lnTo>
                      <a:pt x="754" y="1318"/>
                    </a:lnTo>
                    <a:lnTo>
                      <a:pt x="854" y="1408"/>
                    </a:lnTo>
                    <a:lnTo>
                      <a:pt x="841" y="1393"/>
                    </a:lnTo>
                    <a:lnTo>
                      <a:pt x="859" y="1411"/>
                    </a:lnTo>
                    <a:lnTo>
                      <a:pt x="911" y="1457"/>
                    </a:lnTo>
                    <a:lnTo>
                      <a:pt x="963" y="1504"/>
                    </a:lnTo>
                    <a:lnTo>
                      <a:pt x="973" y="1508"/>
                    </a:lnTo>
                    <a:lnTo>
                      <a:pt x="984" y="1512"/>
                    </a:lnTo>
                    <a:lnTo>
                      <a:pt x="995" y="1514"/>
                    </a:lnTo>
                    <a:lnTo>
                      <a:pt x="1006" y="1515"/>
                    </a:lnTo>
                    <a:lnTo>
                      <a:pt x="1017" y="1517"/>
                    </a:lnTo>
                    <a:lnTo>
                      <a:pt x="1029" y="1517"/>
                    </a:lnTo>
                    <a:lnTo>
                      <a:pt x="1040" y="1515"/>
                    </a:lnTo>
                    <a:lnTo>
                      <a:pt x="1051" y="1514"/>
                    </a:lnTo>
                    <a:lnTo>
                      <a:pt x="1062" y="1512"/>
                    </a:lnTo>
                    <a:lnTo>
                      <a:pt x="1073" y="1508"/>
                    </a:lnTo>
                    <a:lnTo>
                      <a:pt x="1083" y="1504"/>
                    </a:lnTo>
                    <a:lnTo>
                      <a:pt x="1094" y="1499"/>
                    </a:lnTo>
                    <a:lnTo>
                      <a:pt x="1104" y="1493"/>
                    </a:lnTo>
                    <a:lnTo>
                      <a:pt x="1114" y="1487"/>
                    </a:lnTo>
                    <a:lnTo>
                      <a:pt x="1123" y="1480"/>
                    </a:lnTo>
                    <a:lnTo>
                      <a:pt x="1132" y="1471"/>
                    </a:lnTo>
                    <a:lnTo>
                      <a:pt x="1143" y="1459"/>
                    </a:lnTo>
                    <a:lnTo>
                      <a:pt x="1148" y="1453"/>
                    </a:lnTo>
                    <a:lnTo>
                      <a:pt x="1151" y="1448"/>
                    </a:lnTo>
                    <a:lnTo>
                      <a:pt x="1159" y="1436"/>
                    </a:lnTo>
                    <a:lnTo>
                      <a:pt x="1162" y="1430"/>
                    </a:lnTo>
                    <a:lnTo>
                      <a:pt x="1165" y="1424"/>
                    </a:lnTo>
                    <a:lnTo>
                      <a:pt x="1170" y="1411"/>
                    </a:lnTo>
                    <a:lnTo>
                      <a:pt x="1172" y="1399"/>
                    </a:lnTo>
                    <a:lnTo>
                      <a:pt x="1175" y="1387"/>
                    </a:lnTo>
                    <a:lnTo>
                      <a:pt x="1176" y="1375"/>
                    </a:lnTo>
                    <a:lnTo>
                      <a:pt x="1176" y="1363"/>
                    </a:lnTo>
                    <a:lnTo>
                      <a:pt x="1176" y="1350"/>
                    </a:lnTo>
                    <a:lnTo>
                      <a:pt x="1173" y="1338"/>
                    </a:lnTo>
                    <a:lnTo>
                      <a:pt x="1172" y="1326"/>
                    </a:lnTo>
                    <a:lnTo>
                      <a:pt x="1167" y="1301"/>
                    </a:lnTo>
                    <a:lnTo>
                      <a:pt x="1161" y="1277"/>
                    </a:lnTo>
                    <a:lnTo>
                      <a:pt x="1155" y="1252"/>
                    </a:lnTo>
                    <a:lnTo>
                      <a:pt x="1150" y="1228"/>
                    </a:lnTo>
                    <a:lnTo>
                      <a:pt x="1149" y="1216"/>
                    </a:lnTo>
                    <a:lnTo>
                      <a:pt x="1148" y="1204"/>
                    </a:lnTo>
                    <a:lnTo>
                      <a:pt x="1148" y="1191"/>
                    </a:lnTo>
                    <a:lnTo>
                      <a:pt x="1148" y="1179"/>
                    </a:lnTo>
                    <a:lnTo>
                      <a:pt x="1148" y="1173"/>
                    </a:lnTo>
                    <a:lnTo>
                      <a:pt x="1149" y="1167"/>
                    </a:lnTo>
                    <a:lnTo>
                      <a:pt x="1151" y="1156"/>
                    </a:lnTo>
                    <a:lnTo>
                      <a:pt x="1153" y="1150"/>
                    </a:lnTo>
                    <a:lnTo>
                      <a:pt x="1155" y="1144"/>
                    </a:lnTo>
                    <a:lnTo>
                      <a:pt x="1160" y="1133"/>
                    </a:lnTo>
                    <a:lnTo>
                      <a:pt x="1166" y="1120"/>
                    </a:lnTo>
                    <a:lnTo>
                      <a:pt x="1170" y="1116"/>
                    </a:lnTo>
                    <a:lnTo>
                      <a:pt x="1175" y="1109"/>
                    </a:lnTo>
                    <a:lnTo>
                      <a:pt x="1184" y="1098"/>
                    </a:lnTo>
                    <a:lnTo>
                      <a:pt x="1195" y="1087"/>
                    </a:lnTo>
                    <a:lnTo>
                      <a:pt x="1204" y="1080"/>
                    </a:lnTo>
                    <a:lnTo>
                      <a:pt x="1211" y="1074"/>
                    </a:lnTo>
                    <a:lnTo>
                      <a:pt x="1230" y="1063"/>
                    </a:lnTo>
                    <a:lnTo>
                      <a:pt x="1238" y="1058"/>
                    </a:lnTo>
                    <a:lnTo>
                      <a:pt x="1247" y="1054"/>
                    </a:lnTo>
                    <a:lnTo>
                      <a:pt x="1255" y="1051"/>
                    </a:lnTo>
                    <a:lnTo>
                      <a:pt x="1265" y="1048"/>
                    </a:lnTo>
                    <a:lnTo>
                      <a:pt x="1274" y="1046"/>
                    </a:lnTo>
                    <a:lnTo>
                      <a:pt x="1283" y="1045"/>
                    </a:lnTo>
                    <a:lnTo>
                      <a:pt x="1302" y="1042"/>
                    </a:lnTo>
                    <a:lnTo>
                      <a:pt x="1320" y="1042"/>
                    </a:lnTo>
                    <a:lnTo>
                      <a:pt x="1338" y="1045"/>
                    </a:lnTo>
                    <a:lnTo>
                      <a:pt x="1358" y="1047"/>
                    </a:lnTo>
                    <a:lnTo>
                      <a:pt x="1376" y="1053"/>
                    </a:lnTo>
                    <a:lnTo>
                      <a:pt x="1395" y="1059"/>
                    </a:lnTo>
                    <a:lnTo>
                      <a:pt x="1414" y="1067"/>
                    </a:lnTo>
                    <a:lnTo>
                      <a:pt x="1433" y="1075"/>
                    </a:lnTo>
                    <a:lnTo>
                      <a:pt x="1451" y="1085"/>
                    </a:lnTo>
                    <a:lnTo>
                      <a:pt x="1468" y="1095"/>
                    </a:lnTo>
                    <a:lnTo>
                      <a:pt x="1486" y="1107"/>
                    </a:lnTo>
                    <a:lnTo>
                      <a:pt x="1503" y="1118"/>
                    </a:lnTo>
                    <a:lnTo>
                      <a:pt x="1511" y="1124"/>
                    </a:lnTo>
                    <a:lnTo>
                      <a:pt x="1519" y="1130"/>
                    </a:lnTo>
                    <a:lnTo>
                      <a:pt x="1535" y="1142"/>
                    </a:lnTo>
                    <a:lnTo>
                      <a:pt x="1551" y="1155"/>
                    </a:lnTo>
                    <a:lnTo>
                      <a:pt x="1566" y="1168"/>
                    </a:lnTo>
                    <a:lnTo>
                      <a:pt x="1581" y="1180"/>
                    </a:lnTo>
                    <a:lnTo>
                      <a:pt x="1606" y="1205"/>
                    </a:lnTo>
                    <a:lnTo>
                      <a:pt x="1628" y="1226"/>
                    </a:lnTo>
                    <a:lnTo>
                      <a:pt x="1647" y="1245"/>
                    </a:lnTo>
                    <a:lnTo>
                      <a:pt x="1669" y="1268"/>
                    </a:lnTo>
                    <a:lnTo>
                      <a:pt x="1687" y="1287"/>
                    </a:lnTo>
                    <a:lnTo>
                      <a:pt x="1704" y="1305"/>
                    </a:lnTo>
                    <a:lnTo>
                      <a:pt x="1721" y="1323"/>
                    </a:lnTo>
                    <a:lnTo>
                      <a:pt x="1736" y="1342"/>
                    </a:lnTo>
                    <a:lnTo>
                      <a:pt x="1749" y="1359"/>
                    </a:lnTo>
                    <a:lnTo>
                      <a:pt x="1763" y="1377"/>
                    </a:lnTo>
                    <a:lnTo>
                      <a:pt x="1775" y="1396"/>
                    </a:lnTo>
                    <a:lnTo>
                      <a:pt x="1785" y="1413"/>
                    </a:lnTo>
                    <a:lnTo>
                      <a:pt x="1796" y="1431"/>
                    </a:lnTo>
                    <a:lnTo>
                      <a:pt x="1804" y="1448"/>
                    </a:lnTo>
                    <a:lnTo>
                      <a:pt x="1812" y="1465"/>
                    </a:lnTo>
                    <a:lnTo>
                      <a:pt x="1819" y="1482"/>
                    </a:lnTo>
                    <a:lnTo>
                      <a:pt x="1825" y="1498"/>
                    </a:lnTo>
                    <a:lnTo>
                      <a:pt x="1831" y="1515"/>
                    </a:lnTo>
                    <a:lnTo>
                      <a:pt x="1836" y="1531"/>
                    </a:lnTo>
                    <a:lnTo>
                      <a:pt x="1840" y="1547"/>
                    </a:lnTo>
                    <a:lnTo>
                      <a:pt x="1842" y="1562"/>
                    </a:lnTo>
                    <a:lnTo>
                      <a:pt x="1845" y="1578"/>
                    </a:lnTo>
                    <a:lnTo>
                      <a:pt x="1846" y="1592"/>
                    </a:lnTo>
                    <a:lnTo>
                      <a:pt x="1846" y="1606"/>
                    </a:lnTo>
                    <a:lnTo>
                      <a:pt x="1846" y="1619"/>
                    </a:lnTo>
                    <a:lnTo>
                      <a:pt x="1845" y="1633"/>
                    </a:lnTo>
                    <a:lnTo>
                      <a:pt x="1843" y="1645"/>
                    </a:lnTo>
                    <a:lnTo>
                      <a:pt x="1841" y="1657"/>
                    </a:lnTo>
                    <a:lnTo>
                      <a:pt x="1838" y="1669"/>
                    </a:lnTo>
                    <a:lnTo>
                      <a:pt x="1835" y="1680"/>
                    </a:lnTo>
                    <a:lnTo>
                      <a:pt x="1831" y="1691"/>
                    </a:lnTo>
                    <a:lnTo>
                      <a:pt x="1826" y="1701"/>
                    </a:lnTo>
                    <a:lnTo>
                      <a:pt x="1821" y="1710"/>
                    </a:lnTo>
                    <a:lnTo>
                      <a:pt x="1816" y="1718"/>
                    </a:lnTo>
                    <a:lnTo>
                      <a:pt x="1810" y="1727"/>
                    </a:lnTo>
                    <a:lnTo>
                      <a:pt x="1803" y="1734"/>
                    </a:lnTo>
                    <a:lnTo>
                      <a:pt x="1793" y="1743"/>
                    </a:lnTo>
                    <a:lnTo>
                      <a:pt x="1782" y="1750"/>
                    </a:lnTo>
                    <a:lnTo>
                      <a:pt x="1772" y="1756"/>
                    </a:lnTo>
                    <a:lnTo>
                      <a:pt x="1761" y="1761"/>
                    </a:lnTo>
                    <a:lnTo>
                      <a:pt x="1749" y="1765"/>
                    </a:lnTo>
                    <a:lnTo>
                      <a:pt x="1738" y="1768"/>
                    </a:lnTo>
                    <a:lnTo>
                      <a:pt x="1726" y="1770"/>
                    </a:lnTo>
                    <a:lnTo>
                      <a:pt x="1714" y="1771"/>
                    </a:lnTo>
                    <a:lnTo>
                      <a:pt x="1702" y="1770"/>
                    </a:lnTo>
                    <a:lnTo>
                      <a:pt x="1689" y="1770"/>
                    </a:lnTo>
                    <a:lnTo>
                      <a:pt x="1677" y="1768"/>
                    </a:lnTo>
                    <a:lnTo>
                      <a:pt x="1665" y="1766"/>
                    </a:lnTo>
                    <a:lnTo>
                      <a:pt x="1639" y="1761"/>
                    </a:lnTo>
                    <a:lnTo>
                      <a:pt x="1614" y="1756"/>
                    </a:lnTo>
                    <a:lnTo>
                      <a:pt x="1588" y="1750"/>
                    </a:lnTo>
                    <a:lnTo>
                      <a:pt x="1562" y="1745"/>
                    </a:lnTo>
                    <a:lnTo>
                      <a:pt x="1550" y="1744"/>
                    </a:lnTo>
                    <a:lnTo>
                      <a:pt x="1537" y="1742"/>
                    </a:lnTo>
                    <a:lnTo>
                      <a:pt x="1512" y="1742"/>
                    </a:lnTo>
                    <a:lnTo>
                      <a:pt x="1500" y="1742"/>
                    </a:lnTo>
                    <a:lnTo>
                      <a:pt x="1489" y="1744"/>
                    </a:lnTo>
                    <a:lnTo>
                      <a:pt x="1477" y="1746"/>
                    </a:lnTo>
                    <a:lnTo>
                      <a:pt x="1466" y="1750"/>
                    </a:lnTo>
                    <a:lnTo>
                      <a:pt x="1455" y="1755"/>
                    </a:lnTo>
                    <a:lnTo>
                      <a:pt x="1444" y="1761"/>
                    </a:lnTo>
                    <a:lnTo>
                      <a:pt x="1439" y="1765"/>
                    </a:lnTo>
                    <a:lnTo>
                      <a:pt x="1434" y="1768"/>
                    </a:lnTo>
                    <a:lnTo>
                      <a:pt x="1424" y="1777"/>
                    </a:lnTo>
                    <a:lnTo>
                      <a:pt x="1417" y="1784"/>
                    </a:lnTo>
                    <a:lnTo>
                      <a:pt x="1411" y="1793"/>
                    </a:lnTo>
                    <a:lnTo>
                      <a:pt x="1406" y="1800"/>
                    </a:lnTo>
                    <a:lnTo>
                      <a:pt x="1401" y="1809"/>
                    </a:lnTo>
                    <a:lnTo>
                      <a:pt x="1396" y="1817"/>
                    </a:lnTo>
                    <a:lnTo>
                      <a:pt x="1392" y="1826"/>
                    </a:lnTo>
                    <a:lnTo>
                      <a:pt x="1390" y="1835"/>
                    </a:lnTo>
                    <a:lnTo>
                      <a:pt x="1387" y="1843"/>
                    </a:lnTo>
                    <a:lnTo>
                      <a:pt x="1386" y="1853"/>
                    </a:lnTo>
                    <a:lnTo>
                      <a:pt x="1385" y="1863"/>
                    </a:lnTo>
                    <a:lnTo>
                      <a:pt x="1385" y="1881"/>
                    </a:lnTo>
                    <a:lnTo>
                      <a:pt x="1386" y="1890"/>
                    </a:lnTo>
                    <a:lnTo>
                      <a:pt x="1387" y="1899"/>
                    </a:lnTo>
                    <a:lnTo>
                      <a:pt x="1392" y="1918"/>
                    </a:lnTo>
                    <a:lnTo>
                      <a:pt x="1514" y="2041"/>
                    </a:lnTo>
                    <a:lnTo>
                      <a:pt x="1628" y="2159"/>
                    </a:lnTo>
                    <a:lnTo>
                      <a:pt x="1732" y="2266"/>
                    </a:lnTo>
                    <a:lnTo>
                      <a:pt x="1823" y="2363"/>
                    </a:lnTo>
                    <a:lnTo>
                      <a:pt x="1958" y="2506"/>
                    </a:lnTo>
                    <a:lnTo>
                      <a:pt x="1997" y="2546"/>
                    </a:lnTo>
                    <a:lnTo>
                      <a:pt x="2013" y="2563"/>
                    </a:lnTo>
                    <a:lnTo>
                      <a:pt x="2008" y="2567"/>
                    </a:lnTo>
                    <a:lnTo>
                      <a:pt x="1999" y="2576"/>
                    </a:lnTo>
                    <a:lnTo>
                      <a:pt x="1967" y="2610"/>
                    </a:lnTo>
                    <a:lnTo>
                      <a:pt x="1852" y="2727"/>
                    </a:lnTo>
                    <a:lnTo>
                      <a:pt x="1842" y="2732"/>
                    </a:lnTo>
                    <a:lnTo>
                      <a:pt x="1831" y="2736"/>
                    </a:lnTo>
                    <a:lnTo>
                      <a:pt x="1820" y="2739"/>
                    </a:lnTo>
                    <a:lnTo>
                      <a:pt x="1809" y="2742"/>
                    </a:lnTo>
                    <a:lnTo>
                      <a:pt x="1798" y="2743"/>
                    </a:lnTo>
                    <a:lnTo>
                      <a:pt x="1788" y="2744"/>
                    </a:lnTo>
                    <a:lnTo>
                      <a:pt x="1777" y="2744"/>
                    </a:lnTo>
                    <a:lnTo>
                      <a:pt x="1766" y="2743"/>
                    </a:lnTo>
                    <a:lnTo>
                      <a:pt x="1755" y="2742"/>
                    </a:lnTo>
                    <a:lnTo>
                      <a:pt x="1746" y="2739"/>
                    </a:lnTo>
                    <a:lnTo>
                      <a:pt x="1735" y="2736"/>
                    </a:lnTo>
                    <a:lnTo>
                      <a:pt x="1725" y="2732"/>
                    </a:lnTo>
                    <a:lnTo>
                      <a:pt x="1715" y="2727"/>
                    </a:lnTo>
                    <a:lnTo>
                      <a:pt x="1705" y="2721"/>
                    </a:lnTo>
                    <a:lnTo>
                      <a:pt x="1697" y="2714"/>
                    </a:lnTo>
                    <a:lnTo>
                      <a:pt x="1688" y="2706"/>
                    </a:lnTo>
                    <a:lnTo>
                      <a:pt x="1680" y="2695"/>
                    </a:lnTo>
                    <a:lnTo>
                      <a:pt x="1671" y="2686"/>
                    </a:lnTo>
                    <a:lnTo>
                      <a:pt x="1665" y="2675"/>
                    </a:lnTo>
                    <a:lnTo>
                      <a:pt x="1660" y="2664"/>
                    </a:lnTo>
                    <a:lnTo>
                      <a:pt x="1656" y="2653"/>
                    </a:lnTo>
                    <a:lnTo>
                      <a:pt x="1654" y="2640"/>
                    </a:lnTo>
                    <a:lnTo>
                      <a:pt x="1653" y="2629"/>
                    </a:lnTo>
                    <a:lnTo>
                      <a:pt x="1651" y="2617"/>
                    </a:lnTo>
                    <a:lnTo>
                      <a:pt x="1651" y="2605"/>
                    </a:lnTo>
                    <a:lnTo>
                      <a:pt x="1653" y="2593"/>
                    </a:lnTo>
                    <a:lnTo>
                      <a:pt x="1654" y="2580"/>
                    </a:lnTo>
                    <a:lnTo>
                      <a:pt x="1656" y="2567"/>
                    </a:lnTo>
                    <a:lnTo>
                      <a:pt x="1661" y="2541"/>
                    </a:lnTo>
                    <a:lnTo>
                      <a:pt x="1666" y="2516"/>
                    </a:lnTo>
                    <a:lnTo>
                      <a:pt x="1672" y="2490"/>
                    </a:lnTo>
                    <a:lnTo>
                      <a:pt x="1677" y="2464"/>
                    </a:lnTo>
                    <a:lnTo>
                      <a:pt x="1678" y="2452"/>
                    </a:lnTo>
                    <a:lnTo>
                      <a:pt x="1680" y="2440"/>
                    </a:lnTo>
                    <a:lnTo>
                      <a:pt x="1681" y="2415"/>
                    </a:lnTo>
                    <a:lnTo>
                      <a:pt x="1680" y="2403"/>
                    </a:lnTo>
                    <a:lnTo>
                      <a:pt x="1678" y="2391"/>
                    </a:lnTo>
                    <a:lnTo>
                      <a:pt x="1676" y="2380"/>
                    </a:lnTo>
                    <a:lnTo>
                      <a:pt x="1672" y="2368"/>
                    </a:lnTo>
                    <a:lnTo>
                      <a:pt x="1667" y="2357"/>
                    </a:lnTo>
                    <a:lnTo>
                      <a:pt x="1661" y="2347"/>
                    </a:lnTo>
                    <a:lnTo>
                      <a:pt x="1658" y="2341"/>
                    </a:lnTo>
                    <a:lnTo>
                      <a:pt x="1654" y="2336"/>
                    </a:lnTo>
                    <a:lnTo>
                      <a:pt x="1644" y="2326"/>
                    </a:lnTo>
                    <a:lnTo>
                      <a:pt x="1637" y="2320"/>
                    </a:lnTo>
                    <a:lnTo>
                      <a:pt x="1629" y="2314"/>
                    </a:lnTo>
                    <a:lnTo>
                      <a:pt x="1625" y="2310"/>
                    </a:lnTo>
                    <a:lnTo>
                      <a:pt x="1621" y="2308"/>
                    </a:lnTo>
                    <a:lnTo>
                      <a:pt x="1611" y="2303"/>
                    </a:lnTo>
                    <a:lnTo>
                      <a:pt x="1601" y="2298"/>
                    </a:lnTo>
                    <a:lnTo>
                      <a:pt x="1592" y="2294"/>
                    </a:lnTo>
                    <a:lnTo>
                      <a:pt x="1581" y="2291"/>
                    </a:lnTo>
                    <a:lnTo>
                      <a:pt x="1568" y="2288"/>
                    </a:lnTo>
                    <a:lnTo>
                      <a:pt x="1556" y="2286"/>
                    </a:lnTo>
                    <a:lnTo>
                      <a:pt x="1544" y="2284"/>
                    </a:lnTo>
                    <a:lnTo>
                      <a:pt x="1530" y="2283"/>
                    </a:lnTo>
                    <a:lnTo>
                      <a:pt x="1517" y="2283"/>
                    </a:lnTo>
                    <a:lnTo>
                      <a:pt x="1488" y="2284"/>
                    </a:lnTo>
                    <a:lnTo>
                      <a:pt x="1473" y="2287"/>
                    </a:lnTo>
                    <a:lnTo>
                      <a:pt x="1457" y="2291"/>
                    </a:lnTo>
                    <a:lnTo>
                      <a:pt x="1442" y="2294"/>
                    </a:lnTo>
                    <a:lnTo>
                      <a:pt x="1425" y="2298"/>
                    </a:lnTo>
                    <a:lnTo>
                      <a:pt x="1409" y="2304"/>
                    </a:lnTo>
                    <a:lnTo>
                      <a:pt x="1392" y="2310"/>
                    </a:lnTo>
                    <a:lnTo>
                      <a:pt x="1376" y="2318"/>
                    </a:lnTo>
                    <a:lnTo>
                      <a:pt x="1359" y="2325"/>
                    </a:lnTo>
                    <a:lnTo>
                      <a:pt x="1341" y="2333"/>
                    </a:lnTo>
                    <a:lnTo>
                      <a:pt x="1324" y="2344"/>
                    </a:lnTo>
                    <a:lnTo>
                      <a:pt x="1305" y="2355"/>
                    </a:lnTo>
                    <a:lnTo>
                      <a:pt x="1288" y="2366"/>
                    </a:lnTo>
                    <a:lnTo>
                      <a:pt x="1270" y="2380"/>
                    </a:lnTo>
                    <a:lnTo>
                      <a:pt x="1252" y="2393"/>
                    </a:lnTo>
                    <a:lnTo>
                      <a:pt x="1233" y="2409"/>
                    </a:lnTo>
                    <a:lnTo>
                      <a:pt x="1215" y="2425"/>
                    </a:lnTo>
                    <a:lnTo>
                      <a:pt x="1197" y="2442"/>
                    </a:lnTo>
                    <a:lnTo>
                      <a:pt x="1178" y="2461"/>
                    </a:lnTo>
                    <a:lnTo>
                      <a:pt x="1155" y="2483"/>
                    </a:lnTo>
                    <a:lnTo>
                      <a:pt x="1137" y="2501"/>
                    </a:lnTo>
                    <a:lnTo>
                      <a:pt x="1115" y="2523"/>
                    </a:lnTo>
                    <a:lnTo>
                      <a:pt x="1103" y="2535"/>
                    </a:lnTo>
                    <a:lnTo>
                      <a:pt x="1092" y="2549"/>
                    </a:lnTo>
                    <a:lnTo>
                      <a:pt x="1066" y="2578"/>
                    </a:lnTo>
                    <a:lnTo>
                      <a:pt x="1041" y="2610"/>
                    </a:lnTo>
                    <a:lnTo>
                      <a:pt x="1029" y="2626"/>
                    </a:lnTo>
                    <a:lnTo>
                      <a:pt x="1017" y="2643"/>
                    </a:lnTo>
                    <a:lnTo>
                      <a:pt x="1006" y="2661"/>
                    </a:lnTo>
                    <a:lnTo>
                      <a:pt x="995" y="2678"/>
                    </a:lnTo>
                    <a:lnTo>
                      <a:pt x="986" y="2697"/>
                    </a:lnTo>
                    <a:lnTo>
                      <a:pt x="977" y="2715"/>
                    </a:lnTo>
                    <a:lnTo>
                      <a:pt x="969" y="2734"/>
                    </a:lnTo>
                    <a:lnTo>
                      <a:pt x="963" y="2753"/>
                    </a:lnTo>
                    <a:lnTo>
                      <a:pt x="961" y="2763"/>
                    </a:lnTo>
                    <a:lnTo>
                      <a:pt x="958" y="2771"/>
                    </a:lnTo>
                    <a:lnTo>
                      <a:pt x="956" y="2781"/>
                    </a:lnTo>
                    <a:lnTo>
                      <a:pt x="955" y="2791"/>
                    </a:lnTo>
                    <a:lnTo>
                      <a:pt x="953" y="2809"/>
                    </a:lnTo>
                    <a:lnTo>
                      <a:pt x="953" y="2827"/>
                    </a:lnTo>
                    <a:lnTo>
                      <a:pt x="955" y="2846"/>
                    </a:lnTo>
                    <a:lnTo>
                      <a:pt x="957" y="2856"/>
                    </a:lnTo>
                    <a:lnTo>
                      <a:pt x="958" y="2864"/>
                    </a:lnTo>
                    <a:lnTo>
                      <a:pt x="962" y="2874"/>
                    </a:lnTo>
                    <a:lnTo>
                      <a:pt x="964" y="2882"/>
                    </a:lnTo>
                    <a:lnTo>
                      <a:pt x="969" y="2891"/>
                    </a:lnTo>
                    <a:lnTo>
                      <a:pt x="973" y="2901"/>
                    </a:lnTo>
                    <a:lnTo>
                      <a:pt x="978" y="2909"/>
                    </a:lnTo>
                    <a:lnTo>
                      <a:pt x="984" y="2918"/>
                    </a:lnTo>
                    <a:lnTo>
                      <a:pt x="990" y="2925"/>
                    </a:lnTo>
                    <a:lnTo>
                      <a:pt x="997" y="2934"/>
                    </a:lnTo>
                    <a:lnTo>
                      <a:pt x="1008" y="2946"/>
                    </a:lnTo>
                    <a:lnTo>
                      <a:pt x="1015" y="2951"/>
                    </a:lnTo>
                    <a:lnTo>
                      <a:pt x="1019" y="2955"/>
                    </a:lnTo>
                    <a:lnTo>
                      <a:pt x="1026" y="2959"/>
                    </a:lnTo>
                    <a:lnTo>
                      <a:pt x="1032" y="2963"/>
                    </a:lnTo>
                    <a:lnTo>
                      <a:pt x="1037" y="2967"/>
                    </a:lnTo>
                    <a:lnTo>
                      <a:pt x="1043" y="2969"/>
                    </a:lnTo>
                    <a:lnTo>
                      <a:pt x="1049" y="2972"/>
                    </a:lnTo>
                    <a:lnTo>
                      <a:pt x="1055" y="2974"/>
                    </a:lnTo>
                    <a:lnTo>
                      <a:pt x="1066" y="2978"/>
                    </a:lnTo>
                    <a:lnTo>
                      <a:pt x="1078" y="2980"/>
                    </a:lnTo>
                    <a:lnTo>
                      <a:pt x="1090" y="2981"/>
                    </a:lnTo>
                    <a:lnTo>
                      <a:pt x="1101" y="2983"/>
                    </a:lnTo>
                    <a:lnTo>
                      <a:pt x="1114" y="2981"/>
                    </a:lnTo>
                    <a:lnTo>
                      <a:pt x="1138" y="2979"/>
                    </a:lnTo>
                    <a:lnTo>
                      <a:pt x="1150" y="2977"/>
                    </a:lnTo>
                    <a:lnTo>
                      <a:pt x="1162" y="2974"/>
                    </a:lnTo>
                    <a:lnTo>
                      <a:pt x="1187" y="2968"/>
                    </a:lnTo>
                    <a:lnTo>
                      <a:pt x="1211" y="2962"/>
                    </a:lnTo>
                    <a:lnTo>
                      <a:pt x="1225" y="2959"/>
                    </a:lnTo>
                    <a:lnTo>
                      <a:pt x="1237" y="2957"/>
                    </a:lnTo>
                    <a:lnTo>
                      <a:pt x="1249" y="2956"/>
                    </a:lnTo>
                    <a:lnTo>
                      <a:pt x="1261" y="2955"/>
                    </a:lnTo>
                    <a:lnTo>
                      <a:pt x="1274" y="2953"/>
                    </a:lnTo>
                    <a:lnTo>
                      <a:pt x="1286" y="2953"/>
                    </a:lnTo>
                    <a:lnTo>
                      <a:pt x="1298" y="2955"/>
                    </a:lnTo>
                    <a:lnTo>
                      <a:pt x="1310" y="2957"/>
                    </a:lnTo>
                    <a:lnTo>
                      <a:pt x="1323" y="2959"/>
                    </a:lnTo>
                    <a:lnTo>
                      <a:pt x="1335" y="2964"/>
                    </a:lnTo>
                    <a:lnTo>
                      <a:pt x="1346" y="2970"/>
                    </a:lnTo>
                    <a:lnTo>
                      <a:pt x="1358" y="2978"/>
                    </a:lnTo>
                    <a:lnTo>
                      <a:pt x="1370" y="2986"/>
                    </a:lnTo>
                    <a:lnTo>
                      <a:pt x="1376" y="2992"/>
                    </a:lnTo>
                    <a:lnTo>
                      <a:pt x="1381" y="2997"/>
                    </a:lnTo>
                    <a:lnTo>
                      <a:pt x="1390" y="3006"/>
                    </a:lnTo>
                    <a:lnTo>
                      <a:pt x="1393" y="3011"/>
                    </a:lnTo>
                    <a:lnTo>
                      <a:pt x="1397" y="3016"/>
                    </a:lnTo>
                    <a:lnTo>
                      <a:pt x="1404" y="3026"/>
                    </a:lnTo>
                    <a:lnTo>
                      <a:pt x="1409" y="3035"/>
                    </a:lnTo>
                    <a:lnTo>
                      <a:pt x="1414" y="3046"/>
                    </a:lnTo>
                    <a:lnTo>
                      <a:pt x="1419" y="3057"/>
                    </a:lnTo>
                    <a:lnTo>
                      <a:pt x="1422" y="3068"/>
                    </a:lnTo>
                    <a:lnTo>
                      <a:pt x="1424" y="3079"/>
                    </a:lnTo>
                    <a:lnTo>
                      <a:pt x="1426" y="3090"/>
                    </a:lnTo>
                    <a:lnTo>
                      <a:pt x="1426" y="3101"/>
                    </a:lnTo>
                    <a:lnTo>
                      <a:pt x="1426" y="3112"/>
                    </a:lnTo>
                    <a:lnTo>
                      <a:pt x="1426" y="3125"/>
                    </a:lnTo>
                    <a:lnTo>
                      <a:pt x="1424" y="3136"/>
                    </a:lnTo>
                    <a:lnTo>
                      <a:pt x="1422" y="3147"/>
                    </a:lnTo>
                    <a:lnTo>
                      <a:pt x="1419" y="3158"/>
                    </a:lnTo>
                    <a:lnTo>
                      <a:pt x="1414" y="3169"/>
                    </a:lnTo>
                    <a:lnTo>
                      <a:pt x="1343" y="3237"/>
                    </a:lnTo>
                    <a:lnTo>
                      <a:pt x="1270" y="3306"/>
                    </a:lnTo>
                    <a:lnTo>
                      <a:pt x="1197" y="3373"/>
                    </a:lnTo>
                    <a:lnTo>
                      <a:pt x="1125" y="3440"/>
                    </a:lnTo>
                    <a:lnTo>
                      <a:pt x="1051" y="3504"/>
                    </a:lnTo>
                    <a:lnTo>
                      <a:pt x="980" y="3565"/>
                    </a:lnTo>
                    <a:lnTo>
                      <a:pt x="945" y="3594"/>
                    </a:lnTo>
                    <a:lnTo>
                      <a:pt x="911" y="3622"/>
                    </a:lnTo>
                    <a:lnTo>
                      <a:pt x="842" y="3675"/>
                    </a:lnTo>
                    <a:close/>
                  </a:path>
                </a:pathLst>
              </a:custGeom>
              <a:solidFill>
                <a:srgbClr val="f686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656240" y="3930120"/>
                <a:ext cx="60120" cy="312480"/>
              </a:xfrm>
              <a:custGeom>
                <a:avLst/>
                <a:gdLst/>
                <a:ahLst/>
                <a:rect l="l" t="t" r="r" b="b"/>
                <a:pathLst>
                  <a:path w="74" h="394">
                    <a:moveTo>
                      <a:pt x="0" y="384"/>
                    </a:moveTo>
                    <a:lnTo>
                      <a:pt x="19" y="361"/>
                    </a:lnTo>
                    <a:lnTo>
                      <a:pt x="33" y="338"/>
                    </a:lnTo>
                    <a:lnTo>
                      <a:pt x="40" y="315"/>
                    </a:lnTo>
                    <a:lnTo>
                      <a:pt x="43" y="291"/>
                    </a:lnTo>
                    <a:lnTo>
                      <a:pt x="43" y="268"/>
                    </a:lnTo>
                    <a:lnTo>
                      <a:pt x="39" y="246"/>
                    </a:lnTo>
                    <a:lnTo>
                      <a:pt x="28" y="197"/>
                    </a:lnTo>
                    <a:lnTo>
                      <a:pt x="18" y="147"/>
                    </a:lnTo>
                    <a:lnTo>
                      <a:pt x="15" y="122"/>
                    </a:lnTo>
                    <a:lnTo>
                      <a:pt x="15" y="97"/>
                    </a:lnTo>
                    <a:lnTo>
                      <a:pt x="16" y="84"/>
                    </a:lnTo>
                    <a:lnTo>
                      <a:pt x="18" y="71"/>
                    </a:lnTo>
                    <a:lnTo>
                      <a:pt x="28" y="47"/>
                    </a:lnTo>
                    <a:lnTo>
                      <a:pt x="43" y="22"/>
                    </a:lnTo>
                    <a:lnTo>
                      <a:pt x="65" y="0"/>
                    </a:lnTo>
                    <a:lnTo>
                      <a:pt x="74" y="11"/>
                    </a:lnTo>
                    <a:lnTo>
                      <a:pt x="54" y="32"/>
                    </a:lnTo>
                    <a:lnTo>
                      <a:pt x="40" y="54"/>
                    </a:lnTo>
                    <a:lnTo>
                      <a:pt x="32" y="78"/>
                    </a:lnTo>
                    <a:lnTo>
                      <a:pt x="29" y="87"/>
                    </a:lnTo>
                    <a:lnTo>
                      <a:pt x="28" y="97"/>
                    </a:lnTo>
                    <a:lnTo>
                      <a:pt x="28" y="122"/>
                    </a:lnTo>
                    <a:lnTo>
                      <a:pt x="32" y="144"/>
                    </a:lnTo>
                    <a:lnTo>
                      <a:pt x="41" y="194"/>
                    </a:lnTo>
                    <a:lnTo>
                      <a:pt x="52" y="243"/>
                    </a:lnTo>
                    <a:lnTo>
                      <a:pt x="56" y="268"/>
                    </a:lnTo>
                    <a:lnTo>
                      <a:pt x="56" y="294"/>
                    </a:lnTo>
                    <a:lnTo>
                      <a:pt x="54" y="320"/>
                    </a:lnTo>
                    <a:lnTo>
                      <a:pt x="45" y="345"/>
                    </a:lnTo>
                    <a:lnTo>
                      <a:pt x="30" y="371"/>
                    </a:lnTo>
                    <a:lnTo>
                      <a:pt x="11" y="394"/>
                    </a:lnTo>
                    <a:lnTo>
                      <a:pt x="0" y="3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08440" y="3891960"/>
                <a:ext cx="384120" cy="190080"/>
              </a:xfrm>
              <a:custGeom>
                <a:avLst/>
                <a:gdLst/>
                <a:ahLst/>
                <a:rect l="l" t="t" r="r" b="b"/>
                <a:pathLst>
                  <a:path w="484" h="238">
                    <a:moveTo>
                      <a:pt x="0" y="47"/>
                    </a:moveTo>
                    <a:lnTo>
                      <a:pt x="17" y="33"/>
                    </a:lnTo>
                    <a:lnTo>
                      <a:pt x="35" y="22"/>
                    </a:lnTo>
                    <a:lnTo>
                      <a:pt x="72" y="7"/>
                    </a:lnTo>
                    <a:lnTo>
                      <a:pt x="93" y="2"/>
                    </a:lnTo>
                    <a:lnTo>
                      <a:pt x="111" y="0"/>
                    </a:lnTo>
                    <a:lnTo>
                      <a:pt x="129" y="0"/>
                    </a:lnTo>
                    <a:lnTo>
                      <a:pt x="150" y="2"/>
                    </a:lnTo>
                    <a:lnTo>
                      <a:pt x="168" y="5"/>
                    </a:lnTo>
                    <a:lnTo>
                      <a:pt x="188" y="11"/>
                    </a:lnTo>
                    <a:lnTo>
                      <a:pt x="226" y="25"/>
                    </a:lnTo>
                    <a:lnTo>
                      <a:pt x="262" y="44"/>
                    </a:lnTo>
                    <a:lnTo>
                      <a:pt x="282" y="54"/>
                    </a:lnTo>
                    <a:lnTo>
                      <a:pt x="299" y="66"/>
                    </a:lnTo>
                    <a:lnTo>
                      <a:pt x="333" y="89"/>
                    </a:lnTo>
                    <a:lnTo>
                      <a:pt x="365" y="115"/>
                    </a:lnTo>
                    <a:lnTo>
                      <a:pt x="420" y="165"/>
                    </a:lnTo>
                    <a:lnTo>
                      <a:pt x="484" y="228"/>
                    </a:lnTo>
                    <a:lnTo>
                      <a:pt x="473" y="238"/>
                    </a:lnTo>
                    <a:lnTo>
                      <a:pt x="410" y="176"/>
                    </a:lnTo>
                    <a:lnTo>
                      <a:pt x="355" y="126"/>
                    </a:lnTo>
                    <a:lnTo>
                      <a:pt x="325" y="101"/>
                    </a:lnTo>
                    <a:lnTo>
                      <a:pt x="291" y="78"/>
                    </a:lnTo>
                    <a:lnTo>
                      <a:pt x="273" y="66"/>
                    </a:lnTo>
                    <a:lnTo>
                      <a:pt x="256" y="57"/>
                    </a:lnTo>
                    <a:lnTo>
                      <a:pt x="220" y="39"/>
                    </a:lnTo>
                    <a:lnTo>
                      <a:pt x="182" y="24"/>
                    </a:lnTo>
                    <a:lnTo>
                      <a:pt x="166" y="19"/>
                    </a:lnTo>
                    <a:lnTo>
                      <a:pt x="148" y="17"/>
                    </a:lnTo>
                    <a:lnTo>
                      <a:pt x="128" y="14"/>
                    </a:lnTo>
                    <a:lnTo>
                      <a:pt x="111" y="14"/>
                    </a:lnTo>
                    <a:lnTo>
                      <a:pt x="94" y="17"/>
                    </a:lnTo>
                    <a:lnTo>
                      <a:pt x="77" y="21"/>
                    </a:lnTo>
                    <a:lnTo>
                      <a:pt x="41" y="35"/>
                    </a:lnTo>
                    <a:lnTo>
                      <a:pt x="25" y="45"/>
                    </a:lnTo>
                    <a:lnTo>
                      <a:pt x="9" y="58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08440" y="39301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0"/>
                    </a:moveTo>
                    <a:lnTo>
                      <a:pt x="9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083200" y="4074480"/>
                <a:ext cx="152280" cy="377640"/>
              </a:xfrm>
              <a:custGeom>
                <a:avLst/>
                <a:gdLst/>
                <a:ahLst/>
                <a:rect l="l" t="t" r="r" b="b"/>
                <a:pathLst>
                  <a:path w="190" h="476">
                    <a:moveTo>
                      <a:pt x="11" y="0"/>
                    </a:moveTo>
                    <a:lnTo>
                      <a:pt x="46" y="37"/>
                    </a:lnTo>
                    <a:lnTo>
                      <a:pt x="77" y="74"/>
                    </a:lnTo>
                    <a:lnTo>
                      <a:pt x="105" y="110"/>
                    </a:lnTo>
                    <a:lnTo>
                      <a:pt x="128" y="146"/>
                    </a:lnTo>
                    <a:lnTo>
                      <a:pt x="146" y="183"/>
                    </a:lnTo>
                    <a:lnTo>
                      <a:pt x="162" y="217"/>
                    </a:lnTo>
                    <a:lnTo>
                      <a:pt x="173" y="250"/>
                    </a:lnTo>
                    <a:lnTo>
                      <a:pt x="183" y="283"/>
                    </a:lnTo>
                    <a:lnTo>
                      <a:pt x="188" y="315"/>
                    </a:lnTo>
                    <a:lnTo>
                      <a:pt x="190" y="343"/>
                    </a:lnTo>
                    <a:lnTo>
                      <a:pt x="189" y="370"/>
                    </a:lnTo>
                    <a:lnTo>
                      <a:pt x="186" y="395"/>
                    </a:lnTo>
                    <a:lnTo>
                      <a:pt x="178" y="420"/>
                    </a:lnTo>
                    <a:lnTo>
                      <a:pt x="170" y="442"/>
                    </a:lnTo>
                    <a:lnTo>
                      <a:pt x="159" y="460"/>
                    </a:lnTo>
                    <a:lnTo>
                      <a:pt x="144" y="476"/>
                    </a:lnTo>
                    <a:lnTo>
                      <a:pt x="133" y="466"/>
                    </a:lnTo>
                    <a:lnTo>
                      <a:pt x="146" y="452"/>
                    </a:lnTo>
                    <a:lnTo>
                      <a:pt x="156" y="436"/>
                    </a:lnTo>
                    <a:lnTo>
                      <a:pt x="165" y="415"/>
                    </a:lnTo>
                    <a:lnTo>
                      <a:pt x="171" y="393"/>
                    </a:lnTo>
                    <a:lnTo>
                      <a:pt x="175" y="369"/>
                    </a:lnTo>
                    <a:lnTo>
                      <a:pt x="176" y="343"/>
                    </a:lnTo>
                    <a:lnTo>
                      <a:pt x="173" y="316"/>
                    </a:lnTo>
                    <a:lnTo>
                      <a:pt x="168" y="285"/>
                    </a:lnTo>
                    <a:lnTo>
                      <a:pt x="160" y="256"/>
                    </a:lnTo>
                    <a:lnTo>
                      <a:pt x="149" y="223"/>
                    </a:lnTo>
                    <a:lnTo>
                      <a:pt x="133" y="189"/>
                    </a:lnTo>
                    <a:lnTo>
                      <a:pt x="116" y="155"/>
                    </a:lnTo>
                    <a:lnTo>
                      <a:pt x="93" y="119"/>
                    </a:lnTo>
                    <a:lnTo>
                      <a:pt x="66" y="84"/>
                    </a:lnTo>
                    <a:lnTo>
                      <a:pt x="35" y="47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083200" y="407448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0"/>
                    </a:move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89520" y="4444560"/>
                <a:ext cx="307800" cy="42480"/>
              </a:xfrm>
              <a:custGeom>
                <a:avLst/>
                <a:gdLst/>
                <a:ahLst/>
                <a:rect l="l" t="t" r="r" b="b"/>
                <a:pathLst>
                  <a:path w="389" h="54">
                    <a:moveTo>
                      <a:pt x="389" y="11"/>
                    </a:moveTo>
                    <a:lnTo>
                      <a:pt x="368" y="27"/>
                    </a:lnTo>
                    <a:lnTo>
                      <a:pt x="345" y="39"/>
                    </a:lnTo>
                    <a:lnTo>
                      <a:pt x="320" y="47"/>
                    </a:lnTo>
                    <a:lnTo>
                      <a:pt x="296" y="48"/>
                    </a:lnTo>
                    <a:lnTo>
                      <a:pt x="245" y="44"/>
                    </a:lnTo>
                    <a:lnTo>
                      <a:pt x="192" y="35"/>
                    </a:lnTo>
                    <a:lnTo>
                      <a:pt x="141" y="24"/>
                    </a:lnTo>
                    <a:lnTo>
                      <a:pt x="119" y="20"/>
                    </a:lnTo>
                    <a:lnTo>
                      <a:pt x="94" y="20"/>
                    </a:lnTo>
                    <a:lnTo>
                      <a:pt x="71" y="22"/>
                    </a:lnTo>
                    <a:lnTo>
                      <a:pt x="49" y="28"/>
                    </a:lnTo>
                    <a:lnTo>
                      <a:pt x="30" y="38"/>
                    </a:lnTo>
                    <a:lnTo>
                      <a:pt x="10" y="54"/>
                    </a:lnTo>
                    <a:lnTo>
                      <a:pt x="0" y="43"/>
                    </a:lnTo>
                    <a:lnTo>
                      <a:pt x="21" y="26"/>
                    </a:lnTo>
                    <a:lnTo>
                      <a:pt x="43" y="15"/>
                    </a:lnTo>
                    <a:lnTo>
                      <a:pt x="67" y="9"/>
                    </a:lnTo>
                    <a:lnTo>
                      <a:pt x="94" y="6"/>
                    </a:lnTo>
                    <a:lnTo>
                      <a:pt x="119" y="6"/>
                    </a:lnTo>
                    <a:lnTo>
                      <a:pt x="144" y="10"/>
                    </a:lnTo>
                    <a:lnTo>
                      <a:pt x="196" y="21"/>
                    </a:lnTo>
                    <a:lnTo>
                      <a:pt x="247" y="31"/>
                    </a:lnTo>
                    <a:lnTo>
                      <a:pt x="296" y="35"/>
                    </a:lnTo>
                    <a:lnTo>
                      <a:pt x="317" y="33"/>
                    </a:lnTo>
                    <a:lnTo>
                      <a:pt x="339" y="26"/>
                    </a:lnTo>
                    <a:lnTo>
                      <a:pt x="360" y="15"/>
                    </a:lnTo>
                    <a:lnTo>
                      <a:pt x="379" y="0"/>
                    </a:lnTo>
                    <a:lnTo>
                      <a:pt x="38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89400" y="44445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0"/>
                    </a:moveTo>
                    <a:lnTo>
                      <a:pt x="11" y="1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861080" y="4477680"/>
                <a:ext cx="36360" cy="145800"/>
              </a:xfrm>
              <a:custGeom>
                <a:avLst/>
                <a:gdLst/>
                <a:ahLst/>
                <a:rect l="l" t="t" r="r" b="b"/>
                <a:pathLst>
                  <a:path w="45" h="185">
                    <a:moveTo>
                      <a:pt x="45" y="10"/>
                    </a:moveTo>
                    <a:lnTo>
                      <a:pt x="33" y="27"/>
                    </a:lnTo>
                    <a:lnTo>
                      <a:pt x="23" y="47"/>
                    </a:lnTo>
                    <a:lnTo>
                      <a:pt x="17" y="65"/>
                    </a:lnTo>
                    <a:lnTo>
                      <a:pt x="14" y="87"/>
                    </a:lnTo>
                    <a:lnTo>
                      <a:pt x="14" y="110"/>
                    </a:lnTo>
                    <a:lnTo>
                      <a:pt x="18" y="133"/>
                    </a:lnTo>
                    <a:lnTo>
                      <a:pt x="22" y="155"/>
                    </a:lnTo>
                    <a:lnTo>
                      <a:pt x="30" y="179"/>
                    </a:lnTo>
                    <a:lnTo>
                      <a:pt x="17" y="185"/>
                    </a:lnTo>
                    <a:lnTo>
                      <a:pt x="8" y="160"/>
                    </a:lnTo>
                    <a:lnTo>
                      <a:pt x="3" y="136"/>
                    </a:lnTo>
                    <a:lnTo>
                      <a:pt x="0" y="111"/>
                    </a:lnTo>
                    <a:lnTo>
                      <a:pt x="0" y="87"/>
                    </a:lnTo>
                    <a:lnTo>
                      <a:pt x="2" y="62"/>
                    </a:lnTo>
                    <a:lnTo>
                      <a:pt x="10" y="40"/>
                    </a:lnTo>
                    <a:lnTo>
                      <a:pt x="21" y="18"/>
                    </a:lnTo>
                    <a:lnTo>
                      <a:pt x="34" y="0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88080" y="44776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0"/>
                    </a:moveTo>
                    <a:lnTo>
                      <a:pt x="0" y="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876920" y="4617720"/>
                <a:ext cx="568080" cy="759960"/>
              </a:xfrm>
              <a:custGeom>
                <a:avLst/>
                <a:gdLst/>
                <a:ahLst/>
                <a:rect l="l" t="t" r="r" b="b"/>
                <a:pathLst>
                  <a:path w="716" h="958">
                    <a:moveTo>
                      <a:pt x="11" y="0"/>
                    </a:moveTo>
                    <a:lnTo>
                      <a:pt x="158" y="152"/>
                    </a:lnTo>
                    <a:lnTo>
                      <a:pt x="298" y="302"/>
                    </a:lnTo>
                    <a:lnTo>
                      <a:pt x="428" y="445"/>
                    </a:lnTo>
                    <a:lnTo>
                      <a:pt x="485" y="515"/>
                    </a:lnTo>
                    <a:lnTo>
                      <a:pt x="539" y="580"/>
                    </a:lnTo>
                    <a:lnTo>
                      <a:pt x="587" y="643"/>
                    </a:lnTo>
                    <a:lnTo>
                      <a:pt x="628" y="702"/>
                    </a:lnTo>
                    <a:lnTo>
                      <a:pt x="663" y="757"/>
                    </a:lnTo>
                    <a:lnTo>
                      <a:pt x="688" y="808"/>
                    </a:lnTo>
                    <a:lnTo>
                      <a:pt x="698" y="830"/>
                    </a:lnTo>
                    <a:lnTo>
                      <a:pt x="705" y="852"/>
                    </a:lnTo>
                    <a:lnTo>
                      <a:pt x="713" y="873"/>
                    </a:lnTo>
                    <a:lnTo>
                      <a:pt x="715" y="894"/>
                    </a:lnTo>
                    <a:lnTo>
                      <a:pt x="716" y="911"/>
                    </a:lnTo>
                    <a:lnTo>
                      <a:pt x="714" y="928"/>
                    </a:lnTo>
                    <a:lnTo>
                      <a:pt x="708" y="944"/>
                    </a:lnTo>
                    <a:lnTo>
                      <a:pt x="701" y="958"/>
                    </a:lnTo>
                    <a:lnTo>
                      <a:pt x="688" y="949"/>
                    </a:lnTo>
                    <a:lnTo>
                      <a:pt x="694" y="938"/>
                    </a:lnTo>
                    <a:lnTo>
                      <a:pt x="699" y="926"/>
                    </a:lnTo>
                    <a:lnTo>
                      <a:pt x="702" y="911"/>
                    </a:lnTo>
                    <a:lnTo>
                      <a:pt x="701" y="895"/>
                    </a:lnTo>
                    <a:lnTo>
                      <a:pt x="698" y="876"/>
                    </a:lnTo>
                    <a:lnTo>
                      <a:pt x="692" y="859"/>
                    </a:lnTo>
                    <a:lnTo>
                      <a:pt x="685" y="837"/>
                    </a:lnTo>
                    <a:lnTo>
                      <a:pt x="675" y="815"/>
                    </a:lnTo>
                    <a:lnTo>
                      <a:pt x="650" y="766"/>
                    </a:lnTo>
                    <a:lnTo>
                      <a:pt x="616" y="711"/>
                    </a:lnTo>
                    <a:lnTo>
                      <a:pt x="575" y="652"/>
                    </a:lnTo>
                    <a:lnTo>
                      <a:pt x="528" y="590"/>
                    </a:lnTo>
                    <a:lnTo>
                      <a:pt x="474" y="525"/>
                    </a:lnTo>
                    <a:lnTo>
                      <a:pt x="417" y="455"/>
                    </a:lnTo>
                    <a:lnTo>
                      <a:pt x="287" y="312"/>
                    </a:lnTo>
                    <a:lnTo>
                      <a:pt x="147" y="162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75120" y="461772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0" y="9"/>
                    </a:moveTo>
                    <a:lnTo>
                      <a:pt x="1" y="10"/>
                    </a:lnTo>
                    <a:lnTo>
                      <a:pt x="12" y="0"/>
                    </a:lnTo>
                    <a:lnTo>
                      <a:pt x="13" y="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263760" y="5260320"/>
                <a:ext cx="2167200" cy="433080"/>
              </a:xfrm>
              <a:custGeom>
                <a:avLst/>
                <a:gdLst/>
                <a:ahLst/>
                <a:rect l="l" t="t" r="r" b="b"/>
                <a:pathLst>
                  <a:path w="2729" h="545">
                    <a:moveTo>
                      <a:pt x="2729" y="149"/>
                    </a:moveTo>
                    <a:lnTo>
                      <a:pt x="2700" y="177"/>
                    </a:lnTo>
                    <a:lnTo>
                      <a:pt x="2669" y="205"/>
                    </a:lnTo>
                    <a:lnTo>
                      <a:pt x="2638" y="231"/>
                    </a:lnTo>
                    <a:lnTo>
                      <a:pt x="2605" y="256"/>
                    </a:lnTo>
                    <a:lnTo>
                      <a:pt x="2534" y="303"/>
                    </a:lnTo>
                    <a:lnTo>
                      <a:pt x="2459" y="345"/>
                    </a:lnTo>
                    <a:lnTo>
                      <a:pt x="2382" y="384"/>
                    </a:lnTo>
                    <a:lnTo>
                      <a:pt x="2299" y="418"/>
                    </a:lnTo>
                    <a:lnTo>
                      <a:pt x="2216" y="448"/>
                    </a:lnTo>
                    <a:lnTo>
                      <a:pt x="2172" y="462"/>
                    </a:lnTo>
                    <a:lnTo>
                      <a:pt x="2128" y="474"/>
                    </a:lnTo>
                    <a:lnTo>
                      <a:pt x="2039" y="495"/>
                    </a:lnTo>
                    <a:lnTo>
                      <a:pt x="1946" y="513"/>
                    </a:lnTo>
                    <a:lnTo>
                      <a:pt x="1852" y="527"/>
                    </a:lnTo>
                    <a:lnTo>
                      <a:pt x="1756" y="536"/>
                    </a:lnTo>
                    <a:lnTo>
                      <a:pt x="1658" y="543"/>
                    </a:lnTo>
                    <a:lnTo>
                      <a:pt x="1561" y="545"/>
                    </a:lnTo>
                    <a:lnTo>
                      <a:pt x="1462" y="543"/>
                    </a:lnTo>
                    <a:lnTo>
                      <a:pt x="1363" y="538"/>
                    </a:lnTo>
                    <a:lnTo>
                      <a:pt x="1264" y="529"/>
                    </a:lnTo>
                    <a:lnTo>
                      <a:pt x="1165" y="517"/>
                    </a:lnTo>
                    <a:lnTo>
                      <a:pt x="1067" y="502"/>
                    </a:lnTo>
                    <a:lnTo>
                      <a:pt x="969" y="483"/>
                    </a:lnTo>
                    <a:lnTo>
                      <a:pt x="874" y="461"/>
                    </a:lnTo>
                    <a:lnTo>
                      <a:pt x="781" y="435"/>
                    </a:lnTo>
                    <a:lnTo>
                      <a:pt x="689" y="406"/>
                    </a:lnTo>
                    <a:lnTo>
                      <a:pt x="597" y="374"/>
                    </a:lnTo>
                    <a:lnTo>
                      <a:pt x="511" y="340"/>
                    </a:lnTo>
                    <a:lnTo>
                      <a:pt x="428" y="299"/>
                    </a:lnTo>
                    <a:lnTo>
                      <a:pt x="346" y="259"/>
                    </a:lnTo>
                    <a:lnTo>
                      <a:pt x="267" y="215"/>
                    </a:lnTo>
                    <a:lnTo>
                      <a:pt x="194" y="168"/>
                    </a:lnTo>
                    <a:lnTo>
                      <a:pt x="124" y="118"/>
                    </a:lnTo>
                    <a:lnTo>
                      <a:pt x="60" y="66"/>
                    </a:lnTo>
                    <a:lnTo>
                      <a:pt x="0" y="11"/>
                    </a:lnTo>
                    <a:lnTo>
                      <a:pt x="9" y="0"/>
                    </a:lnTo>
                    <a:lnTo>
                      <a:pt x="69" y="55"/>
                    </a:lnTo>
                    <a:lnTo>
                      <a:pt x="134" y="107"/>
                    </a:lnTo>
                    <a:lnTo>
                      <a:pt x="203" y="157"/>
                    </a:lnTo>
                    <a:lnTo>
                      <a:pt x="276" y="203"/>
                    </a:lnTo>
                    <a:lnTo>
                      <a:pt x="353" y="247"/>
                    </a:lnTo>
                    <a:lnTo>
                      <a:pt x="435" y="287"/>
                    </a:lnTo>
                    <a:lnTo>
                      <a:pt x="517" y="326"/>
                    </a:lnTo>
                    <a:lnTo>
                      <a:pt x="604" y="360"/>
                    </a:lnTo>
                    <a:lnTo>
                      <a:pt x="694" y="392"/>
                    </a:lnTo>
                    <a:lnTo>
                      <a:pt x="786" y="422"/>
                    </a:lnTo>
                    <a:lnTo>
                      <a:pt x="877" y="447"/>
                    </a:lnTo>
                    <a:lnTo>
                      <a:pt x="973" y="469"/>
                    </a:lnTo>
                    <a:lnTo>
                      <a:pt x="1071" y="489"/>
                    </a:lnTo>
                    <a:lnTo>
                      <a:pt x="1167" y="503"/>
                    </a:lnTo>
                    <a:lnTo>
                      <a:pt x="1266" y="516"/>
                    </a:lnTo>
                    <a:lnTo>
                      <a:pt x="1363" y="524"/>
                    </a:lnTo>
                    <a:lnTo>
                      <a:pt x="1462" y="529"/>
                    </a:lnTo>
                    <a:lnTo>
                      <a:pt x="1561" y="530"/>
                    </a:lnTo>
                    <a:lnTo>
                      <a:pt x="1656" y="529"/>
                    </a:lnTo>
                    <a:lnTo>
                      <a:pt x="1754" y="523"/>
                    </a:lnTo>
                    <a:lnTo>
                      <a:pt x="1849" y="513"/>
                    </a:lnTo>
                    <a:lnTo>
                      <a:pt x="1942" y="500"/>
                    </a:lnTo>
                    <a:lnTo>
                      <a:pt x="2034" y="481"/>
                    </a:lnTo>
                    <a:lnTo>
                      <a:pt x="2123" y="461"/>
                    </a:lnTo>
                    <a:lnTo>
                      <a:pt x="2167" y="448"/>
                    </a:lnTo>
                    <a:lnTo>
                      <a:pt x="2210" y="435"/>
                    </a:lnTo>
                    <a:lnTo>
                      <a:pt x="2293" y="404"/>
                    </a:lnTo>
                    <a:lnTo>
                      <a:pt x="2375" y="371"/>
                    </a:lnTo>
                    <a:lnTo>
                      <a:pt x="2451" y="332"/>
                    </a:lnTo>
                    <a:lnTo>
                      <a:pt x="2525" y="291"/>
                    </a:lnTo>
                    <a:lnTo>
                      <a:pt x="2595" y="245"/>
                    </a:lnTo>
                    <a:lnTo>
                      <a:pt x="2628" y="220"/>
                    </a:lnTo>
                    <a:lnTo>
                      <a:pt x="2660" y="194"/>
                    </a:lnTo>
                    <a:lnTo>
                      <a:pt x="2690" y="166"/>
                    </a:lnTo>
                    <a:lnTo>
                      <a:pt x="2720" y="138"/>
                    </a:lnTo>
                    <a:lnTo>
                      <a:pt x="2729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423040" y="537012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3" y="10"/>
                    </a:moveTo>
                    <a:lnTo>
                      <a:pt x="11" y="1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51160" y="4517640"/>
                <a:ext cx="531720" cy="750600"/>
              </a:xfrm>
              <a:custGeom>
                <a:avLst/>
                <a:gdLst/>
                <a:ahLst/>
                <a:rect l="l" t="t" r="r" b="b"/>
                <a:pathLst>
                  <a:path w="669" h="946">
                    <a:moveTo>
                      <a:pt x="15" y="946"/>
                    </a:moveTo>
                    <a:lnTo>
                      <a:pt x="8" y="933"/>
                    </a:lnTo>
                    <a:lnTo>
                      <a:pt x="2" y="917"/>
                    </a:lnTo>
                    <a:lnTo>
                      <a:pt x="0" y="899"/>
                    </a:lnTo>
                    <a:lnTo>
                      <a:pt x="0" y="879"/>
                    </a:lnTo>
                    <a:lnTo>
                      <a:pt x="7" y="838"/>
                    </a:lnTo>
                    <a:lnTo>
                      <a:pt x="13" y="816"/>
                    </a:lnTo>
                    <a:lnTo>
                      <a:pt x="24" y="791"/>
                    </a:lnTo>
                    <a:lnTo>
                      <a:pt x="48" y="740"/>
                    </a:lnTo>
                    <a:lnTo>
                      <a:pt x="63" y="713"/>
                    </a:lnTo>
                    <a:lnTo>
                      <a:pt x="80" y="685"/>
                    </a:lnTo>
                    <a:lnTo>
                      <a:pt x="118" y="625"/>
                    </a:lnTo>
                    <a:lnTo>
                      <a:pt x="163" y="561"/>
                    </a:lnTo>
                    <a:lnTo>
                      <a:pt x="213" y="496"/>
                    </a:lnTo>
                    <a:lnTo>
                      <a:pt x="268" y="428"/>
                    </a:lnTo>
                    <a:lnTo>
                      <a:pt x="327" y="358"/>
                    </a:lnTo>
                    <a:lnTo>
                      <a:pt x="391" y="287"/>
                    </a:lnTo>
                    <a:lnTo>
                      <a:pt x="523" y="143"/>
                    </a:lnTo>
                    <a:lnTo>
                      <a:pt x="660" y="0"/>
                    </a:lnTo>
                    <a:lnTo>
                      <a:pt x="669" y="11"/>
                    </a:lnTo>
                    <a:lnTo>
                      <a:pt x="533" y="154"/>
                    </a:lnTo>
                    <a:lnTo>
                      <a:pt x="401" y="298"/>
                    </a:lnTo>
                    <a:lnTo>
                      <a:pt x="338" y="368"/>
                    </a:lnTo>
                    <a:lnTo>
                      <a:pt x="279" y="438"/>
                    </a:lnTo>
                    <a:lnTo>
                      <a:pt x="224" y="506"/>
                    </a:lnTo>
                    <a:lnTo>
                      <a:pt x="174" y="571"/>
                    </a:lnTo>
                    <a:lnTo>
                      <a:pt x="129" y="635"/>
                    </a:lnTo>
                    <a:lnTo>
                      <a:pt x="92" y="693"/>
                    </a:lnTo>
                    <a:lnTo>
                      <a:pt x="75" y="721"/>
                    </a:lnTo>
                    <a:lnTo>
                      <a:pt x="61" y="747"/>
                    </a:lnTo>
                    <a:lnTo>
                      <a:pt x="36" y="799"/>
                    </a:lnTo>
                    <a:lnTo>
                      <a:pt x="26" y="822"/>
                    </a:lnTo>
                    <a:lnTo>
                      <a:pt x="20" y="843"/>
                    </a:lnTo>
                    <a:lnTo>
                      <a:pt x="13" y="882"/>
                    </a:lnTo>
                    <a:lnTo>
                      <a:pt x="13" y="899"/>
                    </a:lnTo>
                    <a:lnTo>
                      <a:pt x="15" y="913"/>
                    </a:lnTo>
                    <a:lnTo>
                      <a:pt x="20" y="926"/>
                    </a:lnTo>
                    <a:lnTo>
                      <a:pt x="28" y="938"/>
                    </a:lnTo>
                    <a:lnTo>
                      <a:pt x="15" y="9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263760" y="5260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2" y="11"/>
                    </a:moveTo>
                    <a:lnTo>
                      <a:pt x="0" y="9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745080" y="4387320"/>
                <a:ext cx="45720" cy="134640"/>
              </a:xfrm>
              <a:custGeom>
                <a:avLst/>
                <a:gdLst/>
                <a:ahLst/>
                <a:rect l="l" t="t" r="r" b="b"/>
                <a:pathLst>
                  <a:path w="57" h="171">
                    <a:moveTo>
                      <a:pt x="34" y="166"/>
                    </a:moveTo>
                    <a:lnTo>
                      <a:pt x="40" y="146"/>
                    </a:lnTo>
                    <a:lnTo>
                      <a:pt x="44" y="126"/>
                    </a:lnTo>
                    <a:lnTo>
                      <a:pt x="44" y="105"/>
                    </a:lnTo>
                    <a:lnTo>
                      <a:pt x="42" y="86"/>
                    </a:lnTo>
                    <a:lnTo>
                      <a:pt x="35" y="66"/>
                    </a:lnTo>
                    <a:lnTo>
                      <a:pt x="28" y="45"/>
                    </a:lnTo>
                    <a:lnTo>
                      <a:pt x="16" y="28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27" y="19"/>
                    </a:lnTo>
                    <a:lnTo>
                      <a:pt x="40" y="38"/>
                    </a:lnTo>
                    <a:lnTo>
                      <a:pt x="49" y="60"/>
                    </a:lnTo>
                    <a:lnTo>
                      <a:pt x="55" y="82"/>
                    </a:lnTo>
                    <a:lnTo>
                      <a:pt x="57" y="105"/>
                    </a:lnTo>
                    <a:lnTo>
                      <a:pt x="57" y="129"/>
                    </a:lnTo>
                    <a:lnTo>
                      <a:pt x="54" y="151"/>
                    </a:lnTo>
                    <a:lnTo>
                      <a:pt x="48" y="171"/>
                    </a:lnTo>
                    <a:lnTo>
                      <a:pt x="34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773520" y="45176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2" y="11"/>
                    </a:moveTo>
                    <a:lnTo>
                      <a:pt x="14" y="7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441600" y="4336560"/>
                <a:ext cx="312840" cy="58320"/>
              </a:xfrm>
              <a:custGeom>
                <a:avLst/>
                <a:gdLst/>
                <a:ahLst/>
                <a:rect l="l" t="t" r="r" b="b"/>
                <a:pathLst>
                  <a:path w="394" h="74">
                    <a:moveTo>
                      <a:pt x="384" y="74"/>
                    </a:moveTo>
                    <a:lnTo>
                      <a:pt x="361" y="55"/>
                    </a:lnTo>
                    <a:lnTo>
                      <a:pt x="338" y="41"/>
                    </a:lnTo>
                    <a:lnTo>
                      <a:pt x="316" y="35"/>
                    </a:lnTo>
                    <a:lnTo>
                      <a:pt x="294" y="31"/>
                    </a:lnTo>
                    <a:lnTo>
                      <a:pt x="271" y="33"/>
                    </a:lnTo>
                    <a:lnTo>
                      <a:pt x="245" y="35"/>
                    </a:lnTo>
                    <a:lnTo>
                      <a:pt x="197" y="46"/>
                    </a:lnTo>
                    <a:lnTo>
                      <a:pt x="147" y="57"/>
                    </a:lnTo>
                    <a:lnTo>
                      <a:pt x="121" y="60"/>
                    </a:lnTo>
                    <a:lnTo>
                      <a:pt x="97" y="60"/>
                    </a:lnTo>
                    <a:lnTo>
                      <a:pt x="71" y="56"/>
                    </a:lnTo>
                    <a:lnTo>
                      <a:pt x="47" y="46"/>
                    </a:lnTo>
                    <a:lnTo>
                      <a:pt x="22" y="33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32" y="22"/>
                    </a:lnTo>
                    <a:lnTo>
                      <a:pt x="54" y="34"/>
                    </a:lnTo>
                    <a:lnTo>
                      <a:pt x="76" y="42"/>
                    </a:lnTo>
                    <a:lnTo>
                      <a:pt x="97" y="46"/>
                    </a:lnTo>
                    <a:lnTo>
                      <a:pt x="121" y="46"/>
                    </a:lnTo>
                    <a:lnTo>
                      <a:pt x="143" y="44"/>
                    </a:lnTo>
                    <a:lnTo>
                      <a:pt x="192" y="33"/>
                    </a:lnTo>
                    <a:lnTo>
                      <a:pt x="241" y="22"/>
                    </a:lnTo>
                    <a:lnTo>
                      <a:pt x="268" y="19"/>
                    </a:lnTo>
                    <a:lnTo>
                      <a:pt x="294" y="18"/>
                    </a:lnTo>
                    <a:lnTo>
                      <a:pt x="319" y="22"/>
                    </a:lnTo>
                    <a:lnTo>
                      <a:pt x="344" y="29"/>
                    </a:lnTo>
                    <a:lnTo>
                      <a:pt x="370" y="44"/>
                    </a:lnTo>
                    <a:lnTo>
                      <a:pt x="394" y="63"/>
                    </a:lnTo>
                    <a:lnTo>
                      <a:pt x="384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745080" y="438732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1" y="11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403440" y="3960360"/>
                <a:ext cx="190800" cy="383760"/>
              </a:xfrm>
              <a:custGeom>
                <a:avLst/>
                <a:gdLst/>
                <a:ahLst/>
                <a:rect l="l" t="t" r="r" b="b"/>
                <a:pathLst>
                  <a:path w="238" h="483">
                    <a:moveTo>
                      <a:pt x="46" y="483"/>
                    </a:moveTo>
                    <a:lnTo>
                      <a:pt x="33" y="467"/>
                    </a:lnTo>
                    <a:lnTo>
                      <a:pt x="22" y="449"/>
                    </a:lnTo>
                    <a:lnTo>
                      <a:pt x="6" y="412"/>
                    </a:lnTo>
                    <a:lnTo>
                      <a:pt x="2" y="393"/>
                    </a:lnTo>
                    <a:lnTo>
                      <a:pt x="0" y="372"/>
                    </a:lnTo>
                    <a:lnTo>
                      <a:pt x="0" y="353"/>
                    </a:lnTo>
                    <a:lnTo>
                      <a:pt x="2" y="334"/>
                    </a:lnTo>
                    <a:lnTo>
                      <a:pt x="6" y="313"/>
                    </a:lnTo>
                    <a:lnTo>
                      <a:pt x="11" y="295"/>
                    </a:lnTo>
                    <a:lnTo>
                      <a:pt x="24" y="258"/>
                    </a:lnTo>
                    <a:lnTo>
                      <a:pt x="44" y="220"/>
                    </a:lnTo>
                    <a:lnTo>
                      <a:pt x="55" y="202"/>
                    </a:lnTo>
                    <a:lnTo>
                      <a:pt x="66" y="184"/>
                    </a:lnTo>
                    <a:lnTo>
                      <a:pt x="89" y="150"/>
                    </a:lnTo>
                    <a:lnTo>
                      <a:pt x="115" y="118"/>
                    </a:lnTo>
                    <a:lnTo>
                      <a:pt x="165" y="63"/>
                    </a:lnTo>
                    <a:lnTo>
                      <a:pt x="228" y="0"/>
                    </a:lnTo>
                    <a:lnTo>
                      <a:pt x="238" y="11"/>
                    </a:lnTo>
                    <a:lnTo>
                      <a:pt x="175" y="74"/>
                    </a:lnTo>
                    <a:lnTo>
                      <a:pt x="126" y="128"/>
                    </a:lnTo>
                    <a:lnTo>
                      <a:pt x="100" y="159"/>
                    </a:lnTo>
                    <a:lnTo>
                      <a:pt x="77" y="194"/>
                    </a:lnTo>
                    <a:lnTo>
                      <a:pt x="67" y="211"/>
                    </a:lnTo>
                    <a:lnTo>
                      <a:pt x="56" y="229"/>
                    </a:lnTo>
                    <a:lnTo>
                      <a:pt x="38" y="265"/>
                    </a:lnTo>
                    <a:lnTo>
                      <a:pt x="24" y="301"/>
                    </a:lnTo>
                    <a:lnTo>
                      <a:pt x="19" y="318"/>
                    </a:lnTo>
                    <a:lnTo>
                      <a:pt x="16" y="338"/>
                    </a:lnTo>
                    <a:lnTo>
                      <a:pt x="13" y="355"/>
                    </a:lnTo>
                    <a:lnTo>
                      <a:pt x="13" y="372"/>
                    </a:lnTo>
                    <a:lnTo>
                      <a:pt x="16" y="390"/>
                    </a:lnTo>
                    <a:lnTo>
                      <a:pt x="19" y="408"/>
                    </a:lnTo>
                    <a:lnTo>
                      <a:pt x="34" y="442"/>
                    </a:lnTo>
                    <a:lnTo>
                      <a:pt x="44" y="459"/>
                    </a:lnTo>
                    <a:lnTo>
                      <a:pt x="57" y="474"/>
                    </a:lnTo>
                    <a:lnTo>
                      <a:pt x="46" y="4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441600" y="43365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11"/>
                    </a:moveTo>
                    <a:lnTo>
                      <a:pt x="0" y="9"/>
                    </a:lnTo>
                    <a:lnTo>
                      <a:pt x="11" y="0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586320" y="3817440"/>
                <a:ext cx="376200" cy="151920"/>
              </a:xfrm>
              <a:custGeom>
                <a:avLst/>
                <a:gdLst/>
                <a:ahLst/>
                <a:rect l="l" t="t" r="r" b="b"/>
                <a:pathLst>
                  <a:path w="476" h="190">
                    <a:moveTo>
                      <a:pt x="0" y="179"/>
                    </a:moveTo>
                    <a:lnTo>
                      <a:pt x="37" y="144"/>
                    </a:lnTo>
                    <a:lnTo>
                      <a:pt x="74" y="112"/>
                    </a:lnTo>
                    <a:lnTo>
                      <a:pt x="110" y="84"/>
                    </a:lnTo>
                    <a:lnTo>
                      <a:pt x="146" y="62"/>
                    </a:lnTo>
                    <a:lnTo>
                      <a:pt x="181" y="42"/>
                    </a:lnTo>
                    <a:lnTo>
                      <a:pt x="215" y="28"/>
                    </a:lnTo>
                    <a:lnTo>
                      <a:pt x="250" y="16"/>
                    </a:lnTo>
                    <a:lnTo>
                      <a:pt x="283" y="7"/>
                    </a:lnTo>
                    <a:lnTo>
                      <a:pt x="314" y="2"/>
                    </a:lnTo>
                    <a:lnTo>
                      <a:pt x="343" y="0"/>
                    </a:lnTo>
                    <a:lnTo>
                      <a:pt x="369" y="1"/>
                    </a:lnTo>
                    <a:lnTo>
                      <a:pt x="396" y="5"/>
                    </a:lnTo>
                    <a:lnTo>
                      <a:pt x="420" y="12"/>
                    </a:lnTo>
                    <a:lnTo>
                      <a:pt x="440" y="20"/>
                    </a:lnTo>
                    <a:lnTo>
                      <a:pt x="460" y="31"/>
                    </a:lnTo>
                    <a:lnTo>
                      <a:pt x="476" y="45"/>
                    </a:lnTo>
                    <a:lnTo>
                      <a:pt x="466" y="56"/>
                    </a:lnTo>
                    <a:lnTo>
                      <a:pt x="451" y="44"/>
                    </a:lnTo>
                    <a:lnTo>
                      <a:pt x="434" y="34"/>
                    </a:lnTo>
                    <a:lnTo>
                      <a:pt x="413" y="25"/>
                    </a:lnTo>
                    <a:lnTo>
                      <a:pt x="394" y="19"/>
                    </a:lnTo>
                    <a:lnTo>
                      <a:pt x="368" y="16"/>
                    </a:lnTo>
                    <a:lnTo>
                      <a:pt x="343" y="14"/>
                    </a:lnTo>
                    <a:lnTo>
                      <a:pt x="316" y="17"/>
                    </a:lnTo>
                    <a:lnTo>
                      <a:pt x="285" y="22"/>
                    </a:lnTo>
                    <a:lnTo>
                      <a:pt x="255" y="29"/>
                    </a:lnTo>
                    <a:lnTo>
                      <a:pt x="222" y="41"/>
                    </a:lnTo>
                    <a:lnTo>
                      <a:pt x="187" y="56"/>
                    </a:lnTo>
                    <a:lnTo>
                      <a:pt x="154" y="74"/>
                    </a:lnTo>
                    <a:lnTo>
                      <a:pt x="119" y="96"/>
                    </a:lnTo>
                    <a:lnTo>
                      <a:pt x="83" y="123"/>
                    </a:lnTo>
                    <a:lnTo>
                      <a:pt x="47" y="155"/>
                    </a:lnTo>
                    <a:lnTo>
                      <a:pt x="10" y="19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586320" y="396036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1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954600" y="3853800"/>
                <a:ext cx="42840" cy="309240"/>
              </a:xfrm>
              <a:custGeom>
                <a:avLst/>
                <a:gdLst/>
                <a:ahLst/>
                <a:rect l="l" t="t" r="r" b="b"/>
                <a:pathLst>
                  <a:path w="55" h="390">
                    <a:moveTo>
                      <a:pt x="11" y="0"/>
                    </a:moveTo>
                    <a:lnTo>
                      <a:pt x="29" y="22"/>
                    </a:lnTo>
                    <a:lnTo>
                      <a:pt x="40" y="45"/>
                    </a:lnTo>
                    <a:lnTo>
                      <a:pt x="47" y="68"/>
                    </a:lnTo>
                    <a:lnTo>
                      <a:pt x="50" y="94"/>
                    </a:lnTo>
                    <a:lnTo>
                      <a:pt x="46" y="143"/>
                    </a:lnTo>
                    <a:lnTo>
                      <a:pt x="35" y="196"/>
                    </a:lnTo>
                    <a:lnTo>
                      <a:pt x="24" y="247"/>
                    </a:lnTo>
                    <a:lnTo>
                      <a:pt x="22" y="271"/>
                    </a:lnTo>
                    <a:lnTo>
                      <a:pt x="21" y="296"/>
                    </a:lnTo>
                    <a:lnTo>
                      <a:pt x="23" y="318"/>
                    </a:lnTo>
                    <a:lnTo>
                      <a:pt x="28" y="340"/>
                    </a:lnTo>
                    <a:lnTo>
                      <a:pt x="39" y="361"/>
                    </a:lnTo>
                    <a:lnTo>
                      <a:pt x="55" y="380"/>
                    </a:lnTo>
                    <a:lnTo>
                      <a:pt x="44" y="390"/>
                    </a:lnTo>
                    <a:lnTo>
                      <a:pt x="27" y="369"/>
                    </a:lnTo>
                    <a:lnTo>
                      <a:pt x="14" y="346"/>
                    </a:lnTo>
                    <a:lnTo>
                      <a:pt x="8" y="320"/>
                    </a:lnTo>
                    <a:lnTo>
                      <a:pt x="6" y="296"/>
                    </a:lnTo>
                    <a:lnTo>
                      <a:pt x="7" y="271"/>
                    </a:lnTo>
                    <a:lnTo>
                      <a:pt x="10" y="244"/>
                    </a:lnTo>
                    <a:lnTo>
                      <a:pt x="21" y="193"/>
                    </a:lnTo>
                    <a:lnTo>
                      <a:pt x="32" y="142"/>
                    </a:lnTo>
                    <a:lnTo>
                      <a:pt x="35" y="94"/>
                    </a:lnTo>
                    <a:lnTo>
                      <a:pt x="33" y="71"/>
                    </a:lnTo>
                    <a:lnTo>
                      <a:pt x="27" y="51"/>
                    </a:lnTo>
                    <a:lnTo>
                      <a:pt x="17" y="30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954600" y="38538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0" y="10"/>
                    </a:lnTo>
                    <a:lnTo>
                      <a:pt x="1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990960" y="4155480"/>
                <a:ext cx="149400" cy="39600"/>
              </a:xfrm>
              <a:custGeom>
                <a:avLst/>
                <a:gdLst/>
                <a:ahLst/>
                <a:rect l="l" t="t" r="r" b="b"/>
                <a:pathLst>
                  <a:path w="188" h="50">
                    <a:moveTo>
                      <a:pt x="10" y="0"/>
                    </a:moveTo>
                    <a:lnTo>
                      <a:pt x="28" y="15"/>
                    </a:lnTo>
                    <a:lnTo>
                      <a:pt x="48" y="26"/>
                    </a:lnTo>
                    <a:lnTo>
                      <a:pt x="60" y="31"/>
                    </a:lnTo>
                    <a:lnTo>
                      <a:pt x="70" y="32"/>
                    </a:lnTo>
                    <a:lnTo>
                      <a:pt x="92" y="36"/>
                    </a:lnTo>
                    <a:lnTo>
                      <a:pt x="116" y="34"/>
                    </a:lnTo>
                    <a:lnTo>
                      <a:pt x="139" y="30"/>
                    </a:lnTo>
                    <a:lnTo>
                      <a:pt x="160" y="22"/>
                    </a:lnTo>
                    <a:lnTo>
                      <a:pt x="182" y="11"/>
                    </a:lnTo>
                    <a:lnTo>
                      <a:pt x="188" y="25"/>
                    </a:lnTo>
                    <a:lnTo>
                      <a:pt x="166" y="36"/>
                    </a:lnTo>
                    <a:lnTo>
                      <a:pt x="142" y="44"/>
                    </a:lnTo>
                    <a:lnTo>
                      <a:pt x="117" y="49"/>
                    </a:lnTo>
                    <a:lnTo>
                      <a:pt x="91" y="50"/>
                    </a:lnTo>
                    <a:lnTo>
                      <a:pt x="67" y="47"/>
                    </a:lnTo>
                    <a:lnTo>
                      <a:pt x="55" y="44"/>
                    </a:lnTo>
                    <a:lnTo>
                      <a:pt x="42" y="39"/>
                    </a:lnTo>
                    <a:lnTo>
                      <a:pt x="20" y="27"/>
                    </a:lnTo>
                    <a:lnTo>
                      <a:pt x="0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989520" y="41554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0"/>
                    </a:moveTo>
                    <a:lnTo>
                      <a:pt x="1" y="11"/>
                    </a:lnTo>
                    <a:lnTo>
                      <a:pt x="1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133880" y="4031640"/>
                <a:ext cx="149040" cy="142560"/>
              </a:xfrm>
              <a:custGeom>
                <a:avLst/>
                <a:gdLst/>
                <a:ahLst/>
                <a:rect l="l" t="t" r="r" b="b"/>
                <a:pathLst>
                  <a:path w="188" h="179">
                    <a:moveTo>
                      <a:pt x="0" y="168"/>
                    </a:moveTo>
                    <a:lnTo>
                      <a:pt x="178" y="0"/>
                    </a:lnTo>
                    <a:lnTo>
                      <a:pt x="188" y="11"/>
                    </a:lnTo>
                    <a:lnTo>
                      <a:pt x="10" y="179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133880" y="416520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7" y="14"/>
                    </a:moveTo>
                    <a:lnTo>
                      <a:pt x="10" y="1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275000" y="4031640"/>
                <a:ext cx="187560" cy="180720"/>
              </a:xfrm>
              <a:custGeom>
                <a:avLst/>
                <a:gdLst/>
                <a:ahLst/>
                <a:rect l="l" t="t" r="r" b="b"/>
                <a:pathLst>
                  <a:path w="237" h="227">
                    <a:moveTo>
                      <a:pt x="11" y="0"/>
                    </a:moveTo>
                    <a:lnTo>
                      <a:pt x="28" y="18"/>
                    </a:lnTo>
                    <a:lnTo>
                      <a:pt x="75" y="62"/>
                    </a:lnTo>
                    <a:lnTo>
                      <a:pt x="237" y="216"/>
                    </a:lnTo>
                    <a:lnTo>
                      <a:pt x="228" y="227"/>
                    </a:lnTo>
                    <a:lnTo>
                      <a:pt x="65" y="73"/>
                    </a:lnTo>
                    <a:lnTo>
                      <a:pt x="19" y="29"/>
                    </a:lnTo>
                    <a:lnTo>
                      <a:pt x="0" y="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275000" y="402696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" y="5"/>
                    </a:moveTo>
                    <a:lnTo>
                      <a:pt x="6" y="0"/>
                    </a:lnTo>
                    <a:lnTo>
                      <a:pt x="11" y="5"/>
                    </a:lnTo>
                    <a:lnTo>
                      <a:pt x="0" y="14"/>
                    </a:lnTo>
                    <a:lnTo>
                      <a:pt x="11" y="16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33760" y="417924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27" y="40"/>
                    </a:moveTo>
                    <a:lnTo>
                      <a:pt x="0" y="11"/>
                    </a:lnTo>
                    <a:lnTo>
                      <a:pt x="9" y="0"/>
                    </a:lnTo>
                    <a:lnTo>
                      <a:pt x="36" y="29"/>
                    </a:lnTo>
                    <a:lnTo>
                      <a:pt x="2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54640" y="420336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9" y="0"/>
                    </a:lnTo>
                    <a:lnTo>
                      <a:pt x="0" y="11"/>
                    </a:lnTo>
                    <a:lnTo>
                      <a:pt x="9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32320" y="417924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11" y="0"/>
                    </a:moveTo>
                    <a:lnTo>
                      <a:pt x="0" y="10"/>
                    </a:lnTo>
                    <a:lnTo>
                      <a:pt x="60" y="71"/>
                    </a:lnTo>
                    <a:lnTo>
                      <a:pt x="71" y="6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432320" y="41792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11"/>
                    </a:moveTo>
                    <a:lnTo>
                      <a:pt x="11" y="0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481640" y="422856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9" y="0"/>
                    </a:moveTo>
                    <a:lnTo>
                      <a:pt x="0" y="11"/>
                    </a:lnTo>
                    <a:lnTo>
                      <a:pt x="31" y="41"/>
                    </a:lnTo>
                    <a:lnTo>
                      <a:pt x="41" y="3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2265480" y="1584360"/>
              <a:ext cx="4152960" cy="3972600"/>
              <a:chOff x="2265480" y="1584360"/>
              <a:chExt cx="4152960" cy="3972600"/>
            </a:xfrm>
          </p:grpSpPr>
          <p:sp>
            <p:nvSpPr>
              <p:cNvPr id="481" name=""/>
              <p:cNvSpPr/>
              <p:nvPr/>
            </p:nvSpPr>
            <p:spPr>
              <a:xfrm>
                <a:off x="4479840" y="422856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0"/>
                    </a:moveTo>
                    <a:lnTo>
                      <a:pt x="2" y="11"/>
                    </a:lnTo>
                    <a:lnTo>
                      <a:pt x="1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506840" y="4235040"/>
                <a:ext cx="158760" cy="45720"/>
              </a:xfrm>
              <a:custGeom>
                <a:avLst/>
                <a:gdLst/>
                <a:ahLst/>
                <a:rect l="l" t="t" r="r" b="b"/>
                <a:pathLst>
                  <a:path w="199" h="58">
                    <a:moveTo>
                      <a:pt x="6" y="21"/>
                    </a:moveTo>
                    <a:lnTo>
                      <a:pt x="29" y="32"/>
                    </a:lnTo>
                    <a:lnTo>
                      <a:pt x="52" y="40"/>
                    </a:lnTo>
                    <a:lnTo>
                      <a:pt x="77" y="43"/>
                    </a:lnTo>
                    <a:lnTo>
                      <a:pt x="102" y="42"/>
                    </a:lnTo>
                    <a:lnTo>
                      <a:pt x="125" y="37"/>
                    </a:lnTo>
                    <a:lnTo>
                      <a:pt x="147" y="30"/>
                    </a:lnTo>
                    <a:lnTo>
                      <a:pt x="168" y="16"/>
                    </a:lnTo>
                    <a:lnTo>
                      <a:pt x="189" y="0"/>
                    </a:lnTo>
                    <a:lnTo>
                      <a:pt x="199" y="11"/>
                    </a:lnTo>
                    <a:lnTo>
                      <a:pt x="177" y="29"/>
                    </a:lnTo>
                    <a:lnTo>
                      <a:pt x="154" y="43"/>
                    </a:lnTo>
                    <a:lnTo>
                      <a:pt x="128" y="52"/>
                    </a:lnTo>
                    <a:lnTo>
                      <a:pt x="103" y="57"/>
                    </a:lnTo>
                    <a:lnTo>
                      <a:pt x="75" y="58"/>
                    </a:lnTo>
                    <a:lnTo>
                      <a:pt x="50" y="54"/>
                    </a:lnTo>
                    <a:lnTo>
                      <a:pt x="23" y="46"/>
                    </a:lnTo>
                    <a:lnTo>
                      <a:pt x="0" y="35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506840" y="42523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12"/>
                    </a:moveTo>
                    <a:lnTo>
                      <a:pt x="2" y="14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656240" y="42350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1"/>
                    </a:moveTo>
                    <a:lnTo>
                      <a:pt x="11" y="1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02320" y="3071160"/>
                <a:ext cx="312480" cy="56880"/>
              </a:xfrm>
              <a:custGeom>
                <a:avLst/>
                <a:gdLst/>
                <a:ahLst/>
                <a:rect l="l" t="t" r="r" b="b"/>
                <a:pathLst>
                  <a:path w="395" h="73">
                    <a:moveTo>
                      <a:pt x="385" y="73"/>
                    </a:moveTo>
                    <a:lnTo>
                      <a:pt x="361" y="54"/>
                    </a:lnTo>
                    <a:lnTo>
                      <a:pt x="339" y="40"/>
                    </a:lnTo>
                    <a:lnTo>
                      <a:pt x="315" y="34"/>
                    </a:lnTo>
                    <a:lnTo>
                      <a:pt x="293" y="31"/>
                    </a:lnTo>
                    <a:lnTo>
                      <a:pt x="270" y="32"/>
                    </a:lnTo>
                    <a:lnTo>
                      <a:pt x="246" y="36"/>
                    </a:lnTo>
                    <a:lnTo>
                      <a:pt x="197" y="45"/>
                    </a:lnTo>
                    <a:lnTo>
                      <a:pt x="147" y="56"/>
                    </a:lnTo>
                    <a:lnTo>
                      <a:pt x="121" y="60"/>
                    </a:lnTo>
                    <a:lnTo>
                      <a:pt x="98" y="59"/>
                    </a:lnTo>
                    <a:lnTo>
                      <a:pt x="71" y="55"/>
                    </a:lnTo>
                    <a:lnTo>
                      <a:pt x="47" y="45"/>
                    </a:lnTo>
                    <a:lnTo>
                      <a:pt x="23" y="32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33" y="21"/>
                    </a:lnTo>
                    <a:lnTo>
                      <a:pt x="54" y="33"/>
                    </a:lnTo>
                    <a:lnTo>
                      <a:pt x="76" y="42"/>
                    </a:lnTo>
                    <a:lnTo>
                      <a:pt x="98" y="45"/>
                    </a:lnTo>
                    <a:lnTo>
                      <a:pt x="121" y="47"/>
                    </a:lnTo>
                    <a:lnTo>
                      <a:pt x="143" y="43"/>
                    </a:lnTo>
                    <a:lnTo>
                      <a:pt x="192" y="32"/>
                    </a:lnTo>
                    <a:lnTo>
                      <a:pt x="242" y="22"/>
                    </a:lnTo>
                    <a:lnTo>
                      <a:pt x="268" y="18"/>
                    </a:lnTo>
                    <a:lnTo>
                      <a:pt x="293" y="17"/>
                    </a:lnTo>
                    <a:lnTo>
                      <a:pt x="319" y="21"/>
                    </a:lnTo>
                    <a:lnTo>
                      <a:pt x="345" y="28"/>
                    </a:lnTo>
                    <a:lnTo>
                      <a:pt x="369" y="43"/>
                    </a:lnTo>
                    <a:lnTo>
                      <a:pt x="395" y="62"/>
                    </a:lnTo>
                    <a:lnTo>
                      <a:pt x="385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664160" y="2693520"/>
                <a:ext cx="189000" cy="383760"/>
              </a:xfrm>
              <a:custGeom>
                <a:avLst/>
                <a:gdLst/>
                <a:ahLst/>
                <a:rect l="l" t="t" r="r" b="b"/>
                <a:pathLst>
                  <a:path w="237" h="484">
                    <a:moveTo>
                      <a:pt x="45" y="484"/>
                    </a:moveTo>
                    <a:lnTo>
                      <a:pt x="31" y="467"/>
                    </a:lnTo>
                    <a:lnTo>
                      <a:pt x="20" y="448"/>
                    </a:lnTo>
                    <a:lnTo>
                      <a:pt x="6" y="412"/>
                    </a:lnTo>
                    <a:lnTo>
                      <a:pt x="1" y="392"/>
                    </a:lnTo>
                    <a:lnTo>
                      <a:pt x="0" y="373"/>
                    </a:lnTo>
                    <a:lnTo>
                      <a:pt x="0" y="352"/>
                    </a:lnTo>
                    <a:lnTo>
                      <a:pt x="1" y="333"/>
                    </a:lnTo>
                    <a:lnTo>
                      <a:pt x="5" y="314"/>
                    </a:lnTo>
                    <a:lnTo>
                      <a:pt x="9" y="294"/>
                    </a:lnTo>
                    <a:lnTo>
                      <a:pt x="24" y="258"/>
                    </a:lnTo>
                    <a:lnTo>
                      <a:pt x="44" y="220"/>
                    </a:lnTo>
                    <a:lnTo>
                      <a:pt x="53" y="201"/>
                    </a:lnTo>
                    <a:lnTo>
                      <a:pt x="64" y="183"/>
                    </a:lnTo>
                    <a:lnTo>
                      <a:pt x="89" y="149"/>
                    </a:lnTo>
                    <a:lnTo>
                      <a:pt x="113" y="117"/>
                    </a:lnTo>
                    <a:lnTo>
                      <a:pt x="163" y="63"/>
                    </a:lnTo>
                    <a:lnTo>
                      <a:pt x="227" y="0"/>
                    </a:lnTo>
                    <a:lnTo>
                      <a:pt x="237" y="11"/>
                    </a:lnTo>
                    <a:lnTo>
                      <a:pt x="173" y="74"/>
                    </a:lnTo>
                    <a:lnTo>
                      <a:pt x="124" y="127"/>
                    </a:lnTo>
                    <a:lnTo>
                      <a:pt x="100" y="159"/>
                    </a:lnTo>
                    <a:lnTo>
                      <a:pt x="75" y="193"/>
                    </a:lnTo>
                    <a:lnTo>
                      <a:pt x="66" y="210"/>
                    </a:lnTo>
                    <a:lnTo>
                      <a:pt x="56" y="228"/>
                    </a:lnTo>
                    <a:lnTo>
                      <a:pt x="38" y="264"/>
                    </a:lnTo>
                    <a:lnTo>
                      <a:pt x="23" y="300"/>
                    </a:lnTo>
                    <a:lnTo>
                      <a:pt x="18" y="319"/>
                    </a:lnTo>
                    <a:lnTo>
                      <a:pt x="14" y="337"/>
                    </a:lnTo>
                    <a:lnTo>
                      <a:pt x="13" y="354"/>
                    </a:lnTo>
                    <a:lnTo>
                      <a:pt x="13" y="373"/>
                    </a:lnTo>
                    <a:lnTo>
                      <a:pt x="14" y="390"/>
                    </a:lnTo>
                    <a:lnTo>
                      <a:pt x="19" y="407"/>
                    </a:lnTo>
                    <a:lnTo>
                      <a:pt x="33" y="441"/>
                    </a:lnTo>
                    <a:lnTo>
                      <a:pt x="42" y="458"/>
                    </a:lnTo>
                    <a:lnTo>
                      <a:pt x="56" y="474"/>
                    </a:lnTo>
                    <a:lnTo>
                      <a:pt x="45" y="4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700520" y="3071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11"/>
                    </a:moveTo>
                    <a:lnTo>
                      <a:pt x="0" y="10"/>
                    </a:lnTo>
                    <a:lnTo>
                      <a:pt x="11" y="0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844880" y="2550600"/>
                <a:ext cx="378000" cy="151920"/>
              </a:xfrm>
              <a:custGeom>
                <a:avLst/>
                <a:gdLst/>
                <a:ahLst/>
                <a:rect l="l" t="t" r="r" b="b"/>
                <a:pathLst>
                  <a:path w="476" h="191">
                    <a:moveTo>
                      <a:pt x="0" y="180"/>
                    </a:moveTo>
                    <a:lnTo>
                      <a:pt x="37" y="144"/>
                    </a:lnTo>
                    <a:lnTo>
                      <a:pt x="73" y="114"/>
                    </a:lnTo>
                    <a:lnTo>
                      <a:pt x="110" y="85"/>
                    </a:lnTo>
                    <a:lnTo>
                      <a:pt x="145" y="62"/>
                    </a:lnTo>
                    <a:lnTo>
                      <a:pt x="182" y="43"/>
                    </a:lnTo>
                    <a:lnTo>
                      <a:pt x="216" y="28"/>
                    </a:lnTo>
                    <a:lnTo>
                      <a:pt x="251" y="17"/>
                    </a:lnTo>
                    <a:lnTo>
                      <a:pt x="284" y="7"/>
                    </a:lnTo>
                    <a:lnTo>
                      <a:pt x="314" y="2"/>
                    </a:lnTo>
                    <a:lnTo>
                      <a:pt x="343" y="0"/>
                    </a:lnTo>
                    <a:lnTo>
                      <a:pt x="370" y="1"/>
                    </a:lnTo>
                    <a:lnTo>
                      <a:pt x="396" y="5"/>
                    </a:lnTo>
                    <a:lnTo>
                      <a:pt x="420" y="12"/>
                    </a:lnTo>
                    <a:lnTo>
                      <a:pt x="440" y="21"/>
                    </a:lnTo>
                    <a:lnTo>
                      <a:pt x="460" y="32"/>
                    </a:lnTo>
                    <a:lnTo>
                      <a:pt x="476" y="45"/>
                    </a:lnTo>
                    <a:lnTo>
                      <a:pt x="466" y="56"/>
                    </a:lnTo>
                    <a:lnTo>
                      <a:pt x="451" y="44"/>
                    </a:lnTo>
                    <a:lnTo>
                      <a:pt x="434" y="34"/>
                    </a:lnTo>
                    <a:lnTo>
                      <a:pt x="414" y="26"/>
                    </a:lnTo>
                    <a:lnTo>
                      <a:pt x="394" y="19"/>
                    </a:lnTo>
                    <a:lnTo>
                      <a:pt x="369" y="16"/>
                    </a:lnTo>
                    <a:lnTo>
                      <a:pt x="343" y="15"/>
                    </a:lnTo>
                    <a:lnTo>
                      <a:pt x="315" y="17"/>
                    </a:lnTo>
                    <a:lnTo>
                      <a:pt x="286" y="22"/>
                    </a:lnTo>
                    <a:lnTo>
                      <a:pt x="255" y="30"/>
                    </a:lnTo>
                    <a:lnTo>
                      <a:pt x="222" y="41"/>
                    </a:lnTo>
                    <a:lnTo>
                      <a:pt x="188" y="56"/>
                    </a:lnTo>
                    <a:lnTo>
                      <a:pt x="154" y="74"/>
                    </a:lnTo>
                    <a:lnTo>
                      <a:pt x="119" y="98"/>
                    </a:lnTo>
                    <a:lnTo>
                      <a:pt x="83" y="125"/>
                    </a:lnTo>
                    <a:lnTo>
                      <a:pt x="46" y="155"/>
                    </a:lnTo>
                    <a:lnTo>
                      <a:pt x="10" y="191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844880" y="269352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1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213520" y="2587320"/>
                <a:ext cx="44280" cy="308880"/>
              </a:xfrm>
              <a:custGeom>
                <a:avLst/>
                <a:gdLst/>
                <a:ahLst/>
                <a:rect l="l" t="t" r="r" b="b"/>
                <a:pathLst>
                  <a:path w="55" h="390">
                    <a:moveTo>
                      <a:pt x="11" y="0"/>
                    </a:moveTo>
                    <a:lnTo>
                      <a:pt x="29" y="22"/>
                    </a:lnTo>
                    <a:lnTo>
                      <a:pt x="40" y="45"/>
                    </a:lnTo>
                    <a:lnTo>
                      <a:pt x="47" y="69"/>
                    </a:lnTo>
                    <a:lnTo>
                      <a:pt x="50" y="94"/>
                    </a:lnTo>
                    <a:lnTo>
                      <a:pt x="46" y="144"/>
                    </a:lnTo>
                    <a:lnTo>
                      <a:pt x="35" y="197"/>
                    </a:lnTo>
                    <a:lnTo>
                      <a:pt x="25" y="247"/>
                    </a:lnTo>
                    <a:lnTo>
                      <a:pt x="22" y="272"/>
                    </a:lnTo>
                    <a:lnTo>
                      <a:pt x="20" y="296"/>
                    </a:lnTo>
                    <a:lnTo>
                      <a:pt x="23" y="319"/>
                    </a:lnTo>
                    <a:lnTo>
                      <a:pt x="28" y="340"/>
                    </a:lnTo>
                    <a:lnTo>
                      <a:pt x="40" y="361"/>
                    </a:lnTo>
                    <a:lnTo>
                      <a:pt x="55" y="380"/>
                    </a:lnTo>
                    <a:lnTo>
                      <a:pt x="44" y="390"/>
                    </a:lnTo>
                    <a:lnTo>
                      <a:pt x="28" y="369"/>
                    </a:lnTo>
                    <a:lnTo>
                      <a:pt x="14" y="346"/>
                    </a:lnTo>
                    <a:lnTo>
                      <a:pt x="8" y="322"/>
                    </a:lnTo>
                    <a:lnTo>
                      <a:pt x="6" y="296"/>
                    </a:lnTo>
                    <a:lnTo>
                      <a:pt x="7" y="272"/>
                    </a:lnTo>
                    <a:lnTo>
                      <a:pt x="11" y="245"/>
                    </a:lnTo>
                    <a:lnTo>
                      <a:pt x="20" y="195"/>
                    </a:lnTo>
                    <a:lnTo>
                      <a:pt x="31" y="143"/>
                    </a:lnTo>
                    <a:lnTo>
                      <a:pt x="35" y="94"/>
                    </a:lnTo>
                    <a:lnTo>
                      <a:pt x="33" y="71"/>
                    </a:lnTo>
                    <a:lnTo>
                      <a:pt x="26" y="51"/>
                    </a:lnTo>
                    <a:lnTo>
                      <a:pt x="17" y="31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213520" y="258732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0" y="10"/>
                    </a:lnTo>
                    <a:lnTo>
                      <a:pt x="1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249880" y="2880720"/>
                <a:ext cx="177840" cy="44280"/>
              </a:xfrm>
              <a:custGeom>
                <a:avLst/>
                <a:gdLst/>
                <a:ahLst/>
                <a:rect l="l" t="t" r="r" b="b"/>
                <a:pathLst>
                  <a:path w="225" h="55">
                    <a:moveTo>
                      <a:pt x="10" y="9"/>
                    </a:moveTo>
                    <a:lnTo>
                      <a:pt x="19" y="17"/>
                    </a:lnTo>
                    <a:lnTo>
                      <a:pt x="29" y="24"/>
                    </a:lnTo>
                    <a:lnTo>
                      <a:pt x="55" y="35"/>
                    </a:lnTo>
                    <a:lnTo>
                      <a:pt x="67" y="38"/>
                    </a:lnTo>
                    <a:lnTo>
                      <a:pt x="80" y="39"/>
                    </a:lnTo>
                    <a:lnTo>
                      <a:pt x="110" y="40"/>
                    </a:lnTo>
                    <a:lnTo>
                      <a:pt x="139" y="35"/>
                    </a:lnTo>
                    <a:lnTo>
                      <a:pt x="166" y="28"/>
                    </a:lnTo>
                    <a:lnTo>
                      <a:pt x="193" y="16"/>
                    </a:lnTo>
                    <a:lnTo>
                      <a:pt x="216" y="0"/>
                    </a:lnTo>
                    <a:lnTo>
                      <a:pt x="225" y="12"/>
                    </a:lnTo>
                    <a:lnTo>
                      <a:pt x="199" y="29"/>
                    </a:lnTo>
                    <a:lnTo>
                      <a:pt x="172" y="41"/>
                    </a:lnTo>
                    <a:lnTo>
                      <a:pt x="142" y="50"/>
                    </a:lnTo>
                    <a:lnTo>
                      <a:pt x="110" y="55"/>
                    </a:lnTo>
                    <a:lnTo>
                      <a:pt x="79" y="53"/>
                    </a:lnTo>
                    <a:lnTo>
                      <a:pt x="65" y="52"/>
                    </a:lnTo>
                    <a:lnTo>
                      <a:pt x="49" y="49"/>
                    </a:lnTo>
                    <a:lnTo>
                      <a:pt x="23" y="38"/>
                    </a:lnTo>
                    <a:lnTo>
                      <a:pt x="11" y="29"/>
                    </a:lnTo>
                    <a:lnTo>
                      <a:pt x="0" y="20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248440" y="2888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0"/>
                    </a:moveTo>
                    <a:lnTo>
                      <a:pt x="1" y="11"/>
                    </a:lnTo>
                    <a:lnTo>
                      <a:pt x="1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21240" y="2474280"/>
                <a:ext cx="590760" cy="415800"/>
              </a:xfrm>
              <a:custGeom>
                <a:avLst/>
                <a:gdLst/>
                <a:ahLst/>
                <a:rect l="l" t="t" r="r" b="b"/>
                <a:pathLst>
                  <a:path w="743" h="525">
                    <a:moveTo>
                      <a:pt x="0" y="514"/>
                    </a:moveTo>
                    <a:lnTo>
                      <a:pt x="141" y="383"/>
                    </a:lnTo>
                    <a:lnTo>
                      <a:pt x="265" y="269"/>
                    </a:lnTo>
                    <a:lnTo>
                      <a:pt x="323" y="219"/>
                    </a:lnTo>
                    <a:lnTo>
                      <a:pt x="377" y="174"/>
                    </a:lnTo>
                    <a:lnTo>
                      <a:pt x="474" y="97"/>
                    </a:lnTo>
                    <a:lnTo>
                      <a:pt x="517" y="66"/>
                    </a:lnTo>
                    <a:lnTo>
                      <a:pt x="559" y="42"/>
                    </a:lnTo>
                    <a:lnTo>
                      <a:pt x="597" y="22"/>
                    </a:lnTo>
                    <a:lnTo>
                      <a:pt x="632" y="10"/>
                    </a:lnTo>
                    <a:lnTo>
                      <a:pt x="665" y="2"/>
                    </a:lnTo>
                    <a:lnTo>
                      <a:pt x="693" y="0"/>
                    </a:lnTo>
                    <a:lnTo>
                      <a:pt x="707" y="3"/>
                    </a:lnTo>
                    <a:lnTo>
                      <a:pt x="720" y="8"/>
                    </a:lnTo>
                    <a:lnTo>
                      <a:pt x="734" y="13"/>
                    </a:lnTo>
                    <a:lnTo>
                      <a:pt x="743" y="20"/>
                    </a:lnTo>
                    <a:lnTo>
                      <a:pt x="735" y="32"/>
                    </a:lnTo>
                    <a:lnTo>
                      <a:pt x="725" y="25"/>
                    </a:lnTo>
                    <a:lnTo>
                      <a:pt x="714" y="21"/>
                    </a:lnTo>
                    <a:lnTo>
                      <a:pt x="704" y="17"/>
                    </a:lnTo>
                    <a:lnTo>
                      <a:pt x="693" y="15"/>
                    </a:lnTo>
                    <a:lnTo>
                      <a:pt x="666" y="16"/>
                    </a:lnTo>
                    <a:lnTo>
                      <a:pt x="637" y="24"/>
                    </a:lnTo>
                    <a:lnTo>
                      <a:pt x="603" y="36"/>
                    </a:lnTo>
                    <a:lnTo>
                      <a:pt x="566" y="54"/>
                    </a:lnTo>
                    <a:lnTo>
                      <a:pt x="526" y="79"/>
                    </a:lnTo>
                    <a:lnTo>
                      <a:pt x="483" y="109"/>
                    </a:lnTo>
                    <a:lnTo>
                      <a:pt x="386" y="185"/>
                    </a:lnTo>
                    <a:lnTo>
                      <a:pt x="333" y="230"/>
                    </a:lnTo>
                    <a:lnTo>
                      <a:pt x="275" y="280"/>
                    </a:lnTo>
                    <a:lnTo>
                      <a:pt x="150" y="394"/>
                    </a:lnTo>
                    <a:lnTo>
                      <a:pt x="10" y="525"/>
                    </a:lnTo>
                    <a:lnTo>
                      <a:pt x="0" y="5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21240" y="28807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9" y="12"/>
                    </a:moveTo>
                    <a:lnTo>
                      <a:pt x="10" y="1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23080" y="2491920"/>
                <a:ext cx="495360" cy="2214000"/>
              </a:xfrm>
              <a:custGeom>
                <a:avLst/>
                <a:gdLst/>
                <a:ahLst/>
                <a:rect l="l" t="t" r="r" b="b"/>
                <a:pathLst>
                  <a:path w="625" h="2790">
                    <a:moveTo>
                      <a:pt x="113" y="0"/>
                    </a:moveTo>
                    <a:lnTo>
                      <a:pt x="170" y="60"/>
                    </a:lnTo>
                    <a:lnTo>
                      <a:pt x="224" y="122"/>
                    </a:lnTo>
                    <a:lnTo>
                      <a:pt x="275" y="188"/>
                    </a:lnTo>
                    <a:lnTo>
                      <a:pt x="323" y="257"/>
                    </a:lnTo>
                    <a:lnTo>
                      <a:pt x="368" y="329"/>
                    </a:lnTo>
                    <a:lnTo>
                      <a:pt x="410" y="404"/>
                    </a:lnTo>
                    <a:lnTo>
                      <a:pt x="447" y="481"/>
                    </a:lnTo>
                    <a:lnTo>
                      <a:pt x="482" y="559"/>
                    </a:lnTo>
                    <a:lnTo>
                      <a:pt x="513" y="640"/>
                    </a:lnTo>
                    <a:lnTo>
                      <a:pt x="540" y="723"/>
                    </a:lnTo>
                    <a:lnTo>
                      <a:pt x="566" y="808"/>
                    </a:lnTo>
                    <a:lnTo>
                      <a:pt x="586" y="895"/>
                    </a:lnTo>
                    <a:lnTo>
                      <a:pt x="602" y="983"/>
                    </a:lnTo>
                    <a:lnTo>
                      <a:pt x="614" y="1074"/>
                    </a:lnTo>
                    <a:lnTo>
                      <a:pt x="621" y="1165"/>
                    </a:lnTo>
                    <a:lnTo>
                      <a:pt x="625" y="1257"/>
                    </a:lnTo>
                    <a:lnTo>
                      <a:pt x="624" y="1350"/>
                    </a:lnTo>
                    <a:lnTo>
                      <a:pt x="619" y="1444"/>
                    </a:lnTo>
                    <a:lnTo>
                      <a:pt x="609" y="1540"/>
                    </a:lnTo>
                    <a:lnTo>
                      <a:pt x="594" y="1636"/>
                    </a:lnTo>
                    <a:lnTo>
                      <a:pt x="575" y="1733"/>
                    </a:lnTo>
                    <a:lnTo>
                      <a:pt x="550" y="1829"/>
                    </a:lnTo>
                    <a:lnTo>
                      <a:pt x="520" y="1927"/>
                    </a:lnTo>
                    <a:lnTo>
                      <a:pt x="484" y="2026"/>
                    </a:lnTo>
                    <a:lnTo>
                      <a:pt x="445" y="2123"/>
                    </a:lnTo>
                    <a:lnTo>
                      <a:pt x="400" y="2219"/>
                    </a:lnTo>
                    <a:lnTo>
                      <a:pt x="350" y="2316"/>
                    </a:lnTo>
                    <a:lnTo>
                      <a:pt x="293" y="2414"/>
                    </a:lnTo>
                    <a:lnTo>
                      <a:pt x="232" y="2509"/>
                    </a:lnTo>
                    <a:lnTo>
                      <a:pt x="165" y="2603"/>
                    </a:lnTo>
                    <a:lnTo>
                      <a:pt x="91" y="2698"/>
                    </a:lnTo>
                    <a:lnTo>
                      <a:pt x="51" y="2744"/>
                    </a:lnTo>
                    <a:lnTo>
                      <a:pt x="11" y="2790"/>
                    </a:lnTo>
                    <a:lnTo>
                      <a:pt x="0" y="2781"/>
                    </a:lnTo>
                    <a:lnTo>
                      <a:pt x="40" y="2734"/>
                    </a:lnTo>
                    <a:lnTo>
                      <a:pt x="80" y="2688"/>
                    </a:lnTo>
                    <a:lnTo>
                      <a:pt x="153" y="2595"/>
                    </a:lnTo>
                    <a:lnTo>
                      <a:pt x="220" y="2501"/>
                    </a:lnTo>
                    <a:lnTo>
                      <a:pt x="281" y="2405"/>
                    </a:lnTo>
                    <a:lnTo>
                      <a:pt x="336" y="2310"/>
                    </a:lnTo>
                    <a:lnTo>
                      <a:pt x="386" y="2213"/>
                    </a:lnTo>
                    <a:lnTo>
                      <a:pt x="432" y="2117"/>
                    </a:lnTo>
                    <a:lnTo>
                      <a:pt x="471" y="2020"/>
                    </a:lnTo>
                    <a:lnTo>
                      <a:pt x="506" y="1922"/>
                    </a:lnTo>
                    <a:lnTo>
                      <a:pt x="536" y="1827"/>
                    </a:lnTo>
                    <a:lnTo>
                      <a:pt x="560" y="1730"/>
                    </a:lnTo>
                    <a:lnTo>
                      <a:pt x="580" y="1634"/>
                    </a:lnTo>
                    <a:lnTo>
                      <a:pt x="594" y="1538"/>
                    </a:lnTo>
                    <a:lnTo>
                      <a:pt x="604" y="1444"/>
                    </a:lnTo>
                    <a:lnTo>
                      <a:pt x="609" y="1350"/>
                    </a:lnTo>
                    <a:lnTo>
                      <a:pt x="610" y="1257"/>
                    </a:lnTo>
                    <a:lnTo>
                      <a:pt x="606" y="1167"/>
                    </a:lnTo>
                    <a:lnTo>
                      <a:pt x="599" y="1075"/>
                    </a:lnTo>
                    <a:lnTo>
                      <a:pt x="587" y="986"/>
                    </a:lnTo>
                    <a:lnTo>
                      <a:pt x="571" y="898"/>
                    </a:lnTo>
                    <a:lnTo>
                      <a:pt x="551" y="811"/>
                    </a:lnTo>
                    <a:lnTo>
                      <a:pt x="527" y="729"/>
                    </a:lnTo>
                    <a:lnTo>
                      <a:pt x="500" y="646"/>
                    </a:lnTo>
                    <a:lnTo>
                      <a:pt x="468" y="565"/>
                    </a:lnTo>
                    <a:lnTo>
                      <a:pt x="434" y="487"/>
                    </a:lnTo>
                    <a:lnTo>
                      <a:pt x="396" y="410"/>
                    </a:lnTo>
                    <a:lnTo>
                      <a:pt x="356" y="338"/>
                    </a:lnTo>
                    <a:lnTo>
                      <a:pt x="311" y="265"/>
                    </a:lnTo>
                    <a:lnTo>
                      <a:pt x="263" y="197"/>
                    </a:lnTo>
                    <a:lnTo>
                      <a:pt x="213" y="132"/>
                    </a:lnTo>
                    <a:lnTo>
                      <a:pt x="159" y="70"/>
                    </a:lnTo>
                    <a:lnTo>
                      <a:pt x="102" y="1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004080" y="24904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9" y="0"/>
                    </a:moveTo>
                    <a:lnTo>
                      <a:pt x="11" y="1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278320" y="4204800"/>
                <a:ext cx="654120" cy="517320"/>
              </a:xfrm>
              <a:custGeom>
                <a:avLst/>
                <a:gdLst/>
                <a:ahLst/>
                <a:rect l="l" t="t" r="r" b="b"/>
                <a:pathLst>
                  <a:path w="824" h="652">
                    <a:moveTo>
                      <a:pt x="824" y="634"/>
                    </a:moveTo>
                    <a:lnTo>
                      <a:pt x="817" y="637"/>
                    </a:lnTo>
                    <a:lnTo>
                      <a:pt x="811" y="641"/>
                    </a:lnTo>
                    <a:lnTo>
                      <a:pt x="796" y="648"/>
                    </a:lnTo>
                    <a:lnTo>
                      <a:pt x="767" y="652"/>
                    </a:lnTo>
                    <a:lnTo>
                      <a:pt x="748" y="651"/>
                    </a:lnTo>
                    <a:lnTo>
                      <a:pt x="731" y="647"/>
                    </a:lnTo>
                    <a:lnTo>
                      <a:pt x="713" y="641"/>
                    </a:lnTo>
                    <a:lnTo>
                      <a:pt x="696" y="632"/>
                    </a:lnTo>
                    <a:lnTo>
                      <a:pt x="655" y="612"/>
                    </a:lnTo>
                    <a:lnTo>
                      <a:pt x="614" y="585"/>
                    </a:lnTo>
                    <a:lnTo>
                      <a:pt x="567" y="549"/>
                    </a:lnTo>
                    <a:lnTo>
                      <a:pt x="518" y="509"/>
                    </a:lnTo>
                    <a:lnTo>
                      <a:pt x="467" y="463"/>
                    </a:lnTo>
                    <a:lnTo>
                      <a:pt x="411" y="410"/>
                    </a:lnTo>
                    <a:lnTo>
                      <a:pt x="289" y="291"/>
                    </a:lnTo>
                    <a:lnTo>
                      <a:pt x="152" y="157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162" y="146"/>
                    </a:lnTo>
                    <a:lnTo>
                      <a:pt x="298" y="280"/>
                    </a:lnTo>
                    <a:lnTo>
                      <a:pt x="421" y="399"/>
                    </a:lnTo>
                    <a:lnTo>
                      <a:pt x="477" y="452"/>
                    </a:lnTo>
                    <a:lnTo>
                      <a:pt x="528" y="498"/>
                    </a:lnTo>
                    <a:lnTo>
                      <a:pt x="577" y="538"/>
                    </a:lnTo>
                    <a:lnTo>
                      <a:pt x="622" y="574"/>
                    </a:lnTo>
                    <a:lnTo>
                      <a:pt x="664" y="599"/>
                    </a:lnTo>
                    <a:lnTo>
                      <a:pt x="703" y="620"/>
                    </a:lnTo>
                    <a:lnTo>
                      <a:pt x="719" y="628"/>
                    </a:lnTo>
                    <a:lnTo>
                      <a:pt x="736" y="634"/>
                    </a:lnTo>
                    <a:lnTo>
                      <a:pt x="752" y="637"/>
                    </a:lnTo>
                    <a:lnTo>
                      <a:pt x="764" y="639"/>
                    </a:lnTo>
                    <a:lnTo>
                      <a:pt x="791" y="635"/>
                    </a:lnTo>
                    <a:lnTo>
                      <a:pt x="803" y="629"/>
                    </a:lnTo>
                    <a:lnTo>
                      <a:pt x="808" y="625"/>
                    </a:lnTo>
                    <a:lnTo>
                      <a:pt x="814" y="623"/>
                    </a:lnTo>
                    <a:lnTo>
                      <a:pt x="824" y="6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23080" y="469836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9"/>
                    </a:moveTo>
                    <a:lnTo>
                      <a:pt x="11" y="1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262480" y="4066560"/>
                <a:ext cx="36720" cy="142560"/>
              </a:xfrm>
              <a:custGeom>
                <a:avLst/>
                <a:gdLst/>
                <a:ahLst/>
                <a:rect l="l" t="t" r="r" b="b"/>
                <a:pathLst>
                  <a:path w="45" h="180">
                    <a:moveTo>
                      <a:pt x="16" y="180"/>
                    </a:moveTo>
                    <a:lnTo>
                      <a:pt x="7" y="156"/>
                    </a:lnTo>
                    <a:lnTo>
                      <a:pt x="2" y="133"/>
                    </a:lnTo>
                    <a:lnTo>
                      <a:pt x="0" y="107"/>
                    </a:lnTo>
                    <a:lnTo>
                      <a:pt x="0" y="83"/>
                    </a:lnTo>
                    <a:lnTo>
                      <a:pt x="2" y="60"/>
                    </a:lnTo>
                    <a:lnTo>
                      <a:pt x="8" y="38"/>
                    </a:lnTo>
                    <a:lnTo>
                      <a:pt x="21" y="18"/>
                    </a:lnTo>
                    <a:lnTo>
                      <a:pt x="34" y="0"/>
                    </a:lnTo>
                    <a:lnTo>
                      <a:pt x="45" y="10"/>
                    </a:lnTo>
                    <a:lnTo>
                      <a:pt x="33" y="27"/>
                    </a:lnTo>
                    <a:lnTo>
                      <a:pt x="22" y="44"/>
                    </a:lnTo>
                    <a:lnTo>
                      <a:pt x="16" y="65"/>
                    </a:lnTo>
                    <a:lnTo>
                      <a:pt x="13" y="85"/>
                    </a:lnTo>
                    <a:lnTo>
                      <a:pt x="13" y="107"/>
                    </a:lnTo>
                    <a:lnTo>
                      <a:pt x="16" y="130"/>
                    </a:lnTo>
                    <a:lnTo>
                      <a:pt x="21" y="152"/>
                    </a:lnTo>
                    <a:lnTo>
                      <a:pt x="29" y="175"/>
                    </a:lnTo>
                    <a:lnTo>
                      <a:pt x="16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275440" y="4204800"/>
                <a:ext cx="10800" cy="756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2" y="11"/>
                    </a:moveTo>
                    <a:lnTo>
                      <a:pt x="1" y="10"/>
                    </a:lnTo>
                    <a:lnTo>
                      <a:pt x="0" y="8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291280" y="4031640"/>
                <a:ext cx="309600" cy="44280"/>
              </a:xfrm>
              <a:custGeom>
                <a:avLst/>
                <a:gdLst/>
                <a:ahLst/>
                <a:rect l="l" t="t" r="r" b="b"/>
                <a:pathLst>
                  <a:path w="389" h="55">
                    <a:moveTo>
                      <a:pt x="0" y="44"/>
                    </a:moveTo>
                    <a:lnTo>
                      <a:pt x="20" y="26"/>
                    </a:lnTo>
                    <a:lnTo>
                      <a:pt x="43" y="15"/>
                    </a:lnTo>
                    <a:lnTo>
                      <a:pt x="69" y="7"/>
                    </a:lnTo>
                    <a:lnTo>
                      <a:pt x="93" y="5"/>
                    </a:lnTo>
                    <a:lnTo>
                      <a:pt x="145" y="8"/>
                    </a:lnTo>
                    <a:lnTo>
                      <a:pt x="196" y="19"/>
                    </a:lnTo>
                    <a:lnTo>
                      <a:pt x="247" y="30"/>
                    </a:lnTo>
                    <a:lnTo>
                      <a:pt x="270" y="33"/>
                    </a:lnTo>
                    <a:lnTo>
                      <a:pt x="295" y="34"/>
                    </a:lnTo>
                    <a:lnTo>
                      <a:pt x="318" y="32"/>
                    </a:lnTo>
                    <a:lnTo>
                      <a:pt x="339" y="27"/>
                    </a:lnTo>
                    <a:lnTo>
                      <a:pt x="358" y="16"/>
                    </a:lnTo>
                    <a:lnTo>
                      <a:pt x="379" y="0"/>
                    </a:lnTo>
                    <a:lnTo>
                      <a:pt x="389" y="11"/>
                    </a:lnTo>
                    <a:lnTo>
                      <a:pt x="367" y="28"/>
                    </a:lnTo>
                    <a:lnTo>
                      <a:pt x="345" y="40"/>
                    </a:lnTo>
                    <a:lnTo>
                      <a:pt x="321" y="46"/>
                    </a:lnTo>
                    <a:lnTo>
                      <a:pt x="295" y="49"/>
                    </a:lnTo>
                    <a:lnTo>
                      <a:pt x="269" y="48"/>
                    </a:lnTo>
                    <a:lnTo>
                      <a:pt x="245" y="45"/>
                    </a:lnTo>
                    <a:lnTo>
                      <a:pt x="193" y="34"/>
                    </a:lnTo>
                    <a:lnTo>
                      <a:pt x="142" y="23"/>
                    </a:lnTo>
                    <a:lnTo>
                      <a:pt x="93" y="19"/>
                    </a:lnTo>
                    <a:lnTo>
                      <a:pt x="71" y="22"/>
                    </a:lnTo>
                    <a:lnTo>
                      <a:pt x="49" y="28"/>
                    </a:lnTo>
                    <a:lnTo>
                      <a:pt x="28" y="38"/>
                    </a:lnTo>
                    <a:lnTo>
                      <a:pt x="10" y="5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291280" y="40665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0"/>
                    </a:moveTo>
                    <a:lnTo>
                      <a:pt x="1" y="0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484960" y="3661920"/>
                <a:ext cx="150840" cy="377280"/>
              </a:xfrm>
              <a:custGeom>
                <a:avLst/>
                <a:gdLst/>
                <a:ahLst/>
                <a:rect l="l" t="t" r="r" b="b"/>
                <a:pathLst>
                  <a:path w="188" h="476">
                    <a:moveTo>
                      <a:pt x="133" y="466"/>
                    </a:moveTo>
                    <a:lnTo>
                      <a:pt x="146" y="451"/>
                    </a:lnTo>
                    <a:lnTo>
                      <a:pt x="156" y="434"/>
                    </a:lnTo>
                    <a:lnTo>
                      <a:pt x="164" y="415"/>
                    </a:lnTo>
                    <a:lnTo>
                      <a:pt x="171" y="394"/>
                    </a:lnTo>
                    <a:lnTo>
                      <a:pt x="173" y="368"/>
                    </a:lnTo>
                    <a:lnTo>
                      <a:pt x="175" y="344"/>
                    </a:lnTo>
                    <a:lnTo>
                      <a:pt x="173" y="315"/>
                    </a:lnTo>
                    <a:lnTo>
                      <a:pt x="168" y="286"/>
                    </a:lnTo>
                    <a:lnTo>
                      <a:pt x="160" y="254"/>
                    </a:lnTo>
                    <a:lnTo>
                      <a:pt x="148" y="223"/>
                    </a:lnTo>
                    <a:lnTo>
                      <a:pt x="134" y="188"/>
                    </a:lnTo>
                    <a:lnTo>
                      <a:pt x="116" y="155"/>
                    </a:lnTo>
                    <a:lnTo>
                      <a:pt x="93" y="120"/>
                    </a:lnTo>
                    <a:lnTo>
                      <a:pt x="66" y="83"/>
                    </a:lnTo>
                    <a:lnTo>
                      <a:pt x="35" y="48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45" y="37"/>
                    </a:lnTo>
                    <a:lnTo>
                      <a:pt x="77" y="73"/>
                    </a:lnTo>
                    <a:lnTo>
                      <a:pt x="104" y="111"/>
                    </a:lnTo>
                    <a:lnTo>
                      <a:pt x="128" y="147"/>
                    </a:lnTo>
                    <a:lnTo>
                      <a:pt x="146" y="181"/>
                    </a:lnTo>
                    <a:lnTo>
                      <a:pt x="161" y="216"/>
                    </a:lnTo>
                    <a:lnTo>
                      <a:pt x="173" y="249"/>
                    </a:lnTo>
                    <a:lnTo>
                      <a:pt x="182" y="282"/>
                    </a:lnTo>
                    <a:lnTo>
                      <a:pt x="187" y="313"/>
                    </a:lnTo>
                    <a:lnTo>
                      <a:pt x="188" y="344"/>
                    </a:lnTo>
                    <a:lnTo>
                      <a:pt x="187" y="370"/>
                    </a:lnTo>
                    <a:lnTo>
                      <a:pt x="184" y="397"/>
                    </a:lnTo>
                    <a:lnTo>
                      <a:pt x="177" y="421"/>
                    </a:lnTo>
                    <a:lnTo>
                      <a:pt x="168" y="441"/>
                    </a:lnTo>
                    <a:lnTo>
                      <a:pt x="157" y="461"/>
                    </a:lnTo>
                    <a:lnTo>
                      <a:pt x="144" y="476"/>
                    </a:lnTo>
                    <a:lnTo>
                      <a:pt x="133" y="4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591160" y="4031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1"/>
                    </a:moveTo>
                    <a:lnTo>
                      <a:pt x="11" y="1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110200" y="3482640"/>
                <a:ext cx="382680" cy="188280"/>
              </a:xfrm>
              <a:custGeom>
                <a:avLst/>
                <a:gdLst/>
                <a:ahLst/>
                <a:rect l="l" t="t" r="r" b="b"/>
                <a:pathLst>
                  <a:path w="483" h="238">
                    <a:moveTo>
                      <a:pt x="473" y="238"/>
                    </a:moveTo>
                    <a:lnTo>
                      <a:pt x="410" y="174"/>
                    </a:lnTo>
                    <a:lnTo>
                      <a:pt x="355" y="125"/>
                    </a:lnTo>
                    <a:lnTo>
                      <a:pt x="291" y="77"/>
                    </a:lnTo>
                    <a:lnTo>
                      <a:pt x="256" y="55"/>
                    </a:lnTo>
                    <a:lnTo>
                      <a:pt x="220" y="37"/>
                    </a:lnTo>
                    <a:lnTo>
                      <a:pt x="183" y="24"/>
                    </a:lnTo>
                    <a:lnTo>
                      <a:pt x="146" y="15"/>
                    </a:lnTo>
                    <a:lnTo>
                      <a:pt x="111" y="14"/>
                    </a:lnTo>
                    <a:lnTo>
                      <a:pt x="94" y="15"/>
                    </a:lnTo>
                    <a:lnTo>
                      <a:pt x="77" y="19"/>
                    </a:lnTo>
                    <a:lnTo>
                      <a:pt x="58" y="25"/>
                    </a:lnTo>
                    <a:lnTo>
                      <a:pt x="42" y="33"/>
                    </a:lnTo>
                    <a:lnTo>
                      <a:pt x="27" y="44"/>
                    </a:lnTo>
                    <a:lnTo>
                      <a:pt x="9" y="57"/>
                    </a:lnTo>
                    <a:lnTo>
                      <a:pt x="0" y="46"/>
                    </a:lnTo>
                    <a:lnTo>
                      <a:pt x="17" y="33"/>
                    </a:lnTo>
                    <a:lnTo>
                      <a:pt x="34" y="20"/>
                    </a:lnTo>
                    <a:lnTo>
                      <a:pt x="52" y="12"/>
                    </a:lnTo>
                    <a:lnTo>
                      <a:pt x="72" y="6"/>
                    </a:lnTo>
                    <a:lnTo>
                      <a:pt x="90" y="2"/>
                    </a:lnTo>
                    <a:lnTo>
                      <a:pt x="111" y="0"/>
                    </a:lnTo>
                    <a:lnTo>
                      <a:pt x="149" y="2"/>
                    </a:lnTo>
                    <a:lnTo>
                      <a:pt x="188" y="11"/>
                    </a:lnTo>
                    <a:lnTo>
                      <a:pt x="226" y="24"/>
                    </a:lnTo>
                    <a:lnTo>
                      <a:pt x="264" y="42"/>
                    </a:lnTo>
                    <a:lnTo>
                      <a:pt x="299" y="66"/>
                    </a:lnTo>
                    <a:lnTo>
                      <a:pt x="365" y="114"/>
                    </a:lnTo>
                    <a:lnTo>
                      <a:pt x="420" y="163"/>
                    </a:lnTo>
                    <a:lnTo>
                      <a:pt x="483" y="227"/>
                    </a:lnTo>
                    <a:lnTo>
                      <a:pt x="473" y="2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484960" y="366192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0"/>
                    </a:moveTo>
                    <a:lnTo>
                      <a:pt x="0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057640" y="3519000"/>
                <a:ext cx="60480" cy="312480"/>
              </a:xfrm>
              <a:custGeom>
                <a:avLst/>
                <a:gdLst/>
                <a:ahLst/>
                <a:rect l="l" t="t" r="r" b="b"/>
                <a:pathLst>
                  <a:path w="74" h="394">
                    <a:moveTo>
                      <a:pt x="74" y="10"/>
                    </a:moveTo>
                    <a:lnTo>
                      <a:pt x="54" y="32"/>
                    </a:lnTo>
                    <a:lnTo>
                      <a:pt x="46" y="44"/>
                    </a:lnTo>
                    <a:lnTo>
                      <a:pt x="40" y="54"/>
                    </a:lnTo>
                    <a:lnTo>
                      <a:pt x="33" y="75"/>
                    </a:lnTo>
                    <a:lnTo>
                      <a:pt x="29" y="97"/>
                    </a:lnTo>
                    <a:lnTo>
                      <a:pt x="29" y="121"/>
                    </a:lnTo>
                    <a:lnTo>
                      <a:pt x="32" y="144"/>
                    </a:lnTo>
                    <a:lnTo>
                      <a:pt x="43" y="193"/>
                    </a:lnTo>
                    <a:lnTo>
                      <a:pt x="54" y="242"/>
                    </a:lnTo>
                    <a:lnTo>
                      <a:pt x="57" y="269"/>
                    </a:lnTo>
                    <a:lnTo>
                      <a:pt x="57" y="293"/>
                    </a:lnTo>
                    <a:lnTo>
                      <a:pt x="54" y="319"/>
                    </a:lnTo>
                    <a:lnTo>
                      <a:pt x="45" y="345"/>
                    </a:lnTo>
                    <a:lnTo>
                      <a:pt x="32" y="371"/>
                    </a:lnTo>
                    <a:lnTo>
                      <a:pt x="11" y="394"/>
                    </a:lnTo>
                    <a:lnTo>
                      <a:pt x="0" y="384"/>
                    </a:lnTo>
                    <a:lnTo>
                      <a:pt x="19" y="362"/>
                    </a:lnTo>
                    <a:lnTo>
                      <a:pt x="32" y="339"/>
                    </a:lnTo>
                    <a:lnTo>
                      <a:pt x="39" y="317"/>
                    </a:lnTo>
                    <a:lnTo>
                      <a:pt x="43" y="293"/>
                    </a:lnTo>
                    <a:lnTo>
                      <a:pt x="43" y="270"/>
                    </a:lnTo>
                    <a:lnTo>
                      <a:pt x="39" y="245"/>
                    </a:lnTo>
                    <a:lnTo>
                      <a:pt x="28" y="196"/>
                    </a:lnTo>
                    <a:lnTo>
                      <a:pt x="17" y="147"/>
                    </a:lnTo>
                    <a:lnTo>
                      <a:pt x="15" y="122"/>
                    </a:lnTo>
                    <a:lnTo>
                      <a:pt x="15" y="97"/>
                    </a:lnTo>
                    <a:lnTo>
                      <a:pt x="18" y="72"/>
                    </a:lnTo>
                    <a:lnTo>
                      <a:pt x="27" y="48"/>
                    </a:lnTo>
                    <a:lnTo>
                      <a:pt x="34" y="35"/>
                    </a:lnTo>
                    <a:lnTo>
                      <a:pt x="43" y="22"/>
                    </a:lnTo>
                    <a:lnTo>
                      <a:pt x="63" y="0"/>
                    </a:lnTo>
                    <a:lnTo>
                      <a:pt x="7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108400" y="3519000"/>
                <a:ext cx="9720" cy="9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0"/>
                    </a:moveTo>
                    <a:lnTo>
                      <a:pt x="0" y="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913280" y="3823920"/>
                <a:ext cx="154080" cy="45720"/>
              </a:xfrm>
              <a:custGeom>
                <a:avLst/>
                <a:gdLst/>
                <a:ahLst/>
                <a:rect l="l" t="t" r="r" b="b"/>
                <a:pathLst>
                  <a:path w="193" h="57">
                    <a:moveTo>
                      <a:pt x="193" y="11"/>
                    </a:moveTo>
                    <a:lnTo>
                      <a:pt x="173" y="28"/>
                    </a:lnTo>
                    <a:lnTo>
                      <a:pt x="150" y="42"/>
                    </a:lnTo>
                    <a:lnTo>
                      <a:pt x="126" y="51"/>
                    </a:lnTo>
                    <a:lnTo>
                      <a:pt x="100" y="56"/>
                    </a:lnTo>
                    <a:lnTo>
                      <a:pt x="74" y="57"/>
                    </a:lnTo>
                    <a:lnTo>
                      <a:pt x="49" y="55"/>
                    </a:lnTo>
                    <a:lnTo>
                      <a:pt x="23" y="49"/>
                    </a:lnTo>
                    <a:lnTo>
                      <a:pt x="0" y="37"/>
                    </a:lnTo>
                    <a:lnTo>
                      <a:pt x="6" y="24"/>
                    </a:lnTo>
                    <a:lnTo>
                      <a:pt x="29" y="35"/>
                    </a:lnTo>
                    <a:lnTo>
                      <a:pt x="52" y="42"/>
                    </a:lnTo>
                    <a:lnTo>
                      <a:pt x="74" y="44"/>
                    </a:lnTo>
                    <a:lnTo>
                      <a:pt x="96" y="43"/>
                    </a:lnTo>
                    <a:lnTo>
                      <a:pt x="121" y="38"/>
                    </a:lnTo>
                    <a:lnTo>
                      <a:pt x="143" y="29"/>
                    </a:lnTo>
                    <a:lnTo>
                      <a:pt x="164" y="17"/>
                    </a:lnTo>
                    <a:lnTo>
                      <a:pt x="183" y="0"/>
                    </a:lnTo>
                    <a:lnTo>
                      <a:pt x="19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057640" y="382392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0"/>
                    </a:moveTo>
                    <a:lnTo>
                      <a:pt x="11" y="1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89360" y="3615840"/>
                <a:ext cx="231840" cy="236160"/>
              </a:xfrm>
              <a:custGeom>
                <a:avLst/>
                <a:gdLst/>
                <a:ahLst/>
                <a:rect l="l" t="t" r="r" b="b"/>
                <a:pathLst>
                  <a:path w="291" h="299">
                    <a:moveTo>
                      <a:pt x="282" y="299"/>
                    </a:moveTo>
                    <a:lnTo>
                      <a:pt x="84" y="94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93" y="83"/>
                    </a:lnTo>
                    <a:lnTo>
                      <a:pt x="291" y="288"/>
                    </a:lnTo>
                    <a:lnTo>
                      <a:pt x="282" y="2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913280" y="384300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1" y="13"/>
                    </a:moveTo>
                    <a:lnTo>
                      <a:pt x="0" y="1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89360" y="3323880"/>
                <a:ext cx="292320" cy="300960"/>
              </a:xfrm>
              <a:custGeom>
                <a:avLst/>
                <a:gdLst/>
                <a:ahLst/>
                <a:rect l="l" t="t" r="r" b="b"/>
                <a:pathLst>
                  <a:path w="368" h="379">
                    <a:moveTo>
                      <a:pt x="0" y="368"/>
                    </a:moveTo>
                    <a:lnTo>
                      <a:pt x="107" y="262"/>
                    </a:lnTo>
                    <a:lnTo>
                      <a:pt x="359" y="0"/>
                    </a:lnTo>
                    <a:lnTo>
                      <a:pt x="368" y="11"/>
                    </a:lnTo>
                    <a:lnTo>
                      <a:pt x="117" y="273"/>
                    </a:lnTo>
                    <a:lnTo>
                      <a:pt x="10" y="379"/>
                    </a:lnTo>
                    <a:lnTo>
                      <a:pt x="0" y="3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86480" y="3615840"/>
                <a:ext cx="10800" cy="900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4" y="11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14" y="11"/>
                    </a:lnTo>
                    <a:lnTo>
                      <a:pt x="14" y="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51440" y="3323880"/>
                <a:ext cx="30240" cy="280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8" y="11"/>
                    </a:moveTo>
                    <a:lnTo>
                      <a:pt x="10" y="37"/>
                    </a:lnTo>
                    <a:lnTo>
                      <a:pt x="0" y="26"/>
                    </a:lnTo>
                    <a:lnTo>
                      <a:pt x="29" y="0"/>
                    </a:lnTo>
                    <a:lnTo>
                      <a:pt x="3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973760" y="33238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11"/>
                    </a:moveTo>
                    <a:lnTo>
                      <a:pt x="0" y="0"/>
                    </a:lnTo>
                    <a:lnTo>
                      <a:pt x="9" y="11"/>
                    </a:lnTo>
                    <a:lnTo>
                      <a:pt x="0" y="0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951440" y="3282480"/>
                <a:ext cx="71280" cy="69480"/>
              </a:xfrm>
              <a:custGeom>
                <a:avLst/>
                <a:gdLst/>
                <a:ahLst/>
                <a:rect l="l" t="t" r="r" b="b"/>
                <a:pathLst>
                  <a:path w="91" h="89">
                    <a:moveTo>
                      <a:pt x="0" y="78"/>
                    </a:moveTo>
                    <a:lnTo>
                      <a:pt x="10" y="89"/>
                    </a:lnTo>
                    <a:lnTo>
                      <a:pt x="91" y="11"/>
                    </a:lnTo>
                    <a:lnTo>
                      <a:pt x="8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951440" y="33444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11"/>
                    </a:moveTo>
                    <a:lnTo>
                      <a:pt x="0" y="0"/>
                    </a:lnTo>
                    <a:lnTo>
                      <a:pt x="10" y="11"/>
                    </a:lnTo>
                    <a:lnTo>
                      <a:pt x="0" y="0"/>
                    </a:lnTo>
                    <a:lnTo>
                      <a:pt x="1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016600" y="327600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8"/>
                    </a:moveTo>
                    <a:lnTo>
                      <a:pt x="10" y="19"/>
                    </a:lnTo>
                    <a:lnTo>
                      <a:pt x="17" y="11"/>
                    </a:lnTo>
                    <a:lnTo>
                      <a:pt x="7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016600" y="3282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11"/>
                    </a:moveTo>
                    <a:lnTo>
                      <a:pt x="0" y="0"/>
                    </a:lnTo>
                    <a:lnTo>
                      <a:pt x="1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006880" y="3120480"/>
                <a:ext cx="44640" cy="163080"/>
              </a:xfrm>
              <a:custGeom>
                <a:avLst/>
                <a:gdLst/>
                <a:ahLst/>
                <a:rect l="l" t="t" r="r" b="b"/>
                <a:pathLst>
                  <a:path w="55" h="207">
                    <a:moveTo>
                      <a:pt x="17" y="199"/>
                    </a:moveTo>
                    <a:lnTo>
                      <a:pt x="31" y="174"/>
                    </a:lnTo>
                    <a:lnTo>
                      <a:pt x="38" y="151"/>
                    </a:lnTo>
                    <a:lnTo>
                      <a:pt x="42" y="126"/>
                    </a:lnTo>
                    <a:lnTo>
                      <a:pt x="42" y="102"/>
                    </a:lnTo>
                    <a:lnTo>
                      <a:pt x="37" y="77"/>
                    </a:lnTo>
                    <a:lnTo>
                      <a:pt x="29" y="54"/>
                    </a:lnTo>
                    <a:lnTo>
                      <a:pt x="16" y="32"/>
                    </a:lnTo>
                    <a:lnTo>
                      <a:pt x="7" y="21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18" y="11"/>
                    </a:lnTo>
                    <a:lnTo>
                      <a:pt x="28" y="24"/>
                    </a:lnTo>
                    <a:lnTo>
                      <a:pt x="42" y="47"/>
                    </a:lnTo>
                    <a:lnTo>
                      <a:pt x="50" y="73"/>
                    </a:lnTo>
                    <a:lnTo>
                      <a:pt x="55" y="99"/>
                    </a:lnTo>
                    <a:lnTo>
                      <a:pt x="55" y="129"/>
                    </a:lnTo>
                    <a:lnTo>
                      <a:pt x="51" y="156"/>
                    </a:lnTo>
                    <a:lnTo>
                      <a:pt x="43" y="181"/>
                    </a:lnTo>
                    <a:lnTo>
                      <a:pt x="29" y="207"/>
                    </a:lnTo>
                    <a:lnTo>
                      <a:pt x="17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021280" y="32760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1" y="11"/>
                    </a:moveTo>
                    <a:lnTo>
                      <a:pt x="12" y="10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006880" y="312048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0"/>
                    </a:moveTo>
                    <a:lnTo>
                      <a:pt x="0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075120" y="1584360"/>
                <a:ext cx="2349360" cy="282240"/>
              </a:xfrm>
              <a:custGeom>
                <a:avLst/>
                <a:gdLst/>
                <a:ahLst/>
                <a:rect l="l" t="t" r="r" b="b"/>
                <a:pathLst>
                  <a:path w="2962" h="355">
                    <a:moveTo>
                      <a:pt x="0" y="223"/>
                    </a:moveTo>
                    <a:lnTo>
                      <a:pt x="38" y="194"/>
                    </a:lnTo>
                    <a:lnTo>
                      <a:pt x="84" y="168"/>
                    </a:lnTo>
                    <a:lnTo>
                      <a:pt x="139" y="144"/>
                    </a:lnTo>
                    <a:lnTo>
                      <a:pt x="169" y="132"/>
                    </a:lnTo>
                    <a:lnTo>
                      <a:pt x="202" y="121"/>
                    </a:lnTo>
                    <a:lnTo>
                      <a:pt x="273" y="99"/>
                    </a:lnTo>
                    <a:lnTo>
                      <a:pt x="348" y="81"/>
                    </a:lnTo>
                    <a:lnTo>
                      <a:pt x="430" y="64"/>
                    </a:lnTo>
                    <a:lnTo>
                      <a:pt x="518" y="49"/>
                    </a:lnTo>
                    <a:lnTo>
                      <a:pt x="611" y="35"/>
                    </a:lnTo>
                    <a:lnTo>
                      <a:pt x="708" y="24"/>
                    </a:lnTo>
                    <a:lnTo>
                      <a:pt x="809" y="16"/>
                    </a:lnTo>
                    <a:lnTo>
                      <a:pt x="914" y="9"/>
                    </a:lnTo>
                    <a:lnTo>
                      <a:pt x="1022" y="4"/>
                    </a:lnTo>
                    <a:lnTo>
                      <a:pt x="1132" y="1"/>
                    </a:lnTo>
                    <a:lnTo>
                      <a:pt x="1243" y="0"/>
                    </a:lnTo>
                    <a:lnTo>
                      <a:pt x="1357" y="1"/>
                    </a:lnTo>
                    <a:lnTo>
                      <a:pt x="1472" y="5"/>
                    </a:lnTo>
                    <a:lnTo>
                      <a:pt x="1587" y="11"/>
                    </a:lnTo>
                    <a:lnTo>
                      <a:pt x="1702" y="20"/>
                    </a:lnTo>
                    <a:lnTo>
                      <a:pt x="1817" y="29"/>
                    </a:lnTo>
                    <a:lnTo>
                      <a:pt x="1930" y="42"/>
                    </a:lnTo>
                    <a:lnTo>
                      <a:pt x="2043" y="57"/>
                    </a:lnTo>
                    <a:lnTo>
                      <a:pt x="2153" y="75"/>
                    </a:lnTo>
                    <a:lnTo>
                      <a:pt x="2259" y="94"/>
                    </a:lnTo>
                    <a:lnTo>
                      <a:pt x="2363" y="116"/>
                    </a:lnTo>
                    <a:lnTo>
                      <a:pt x="2464" y="141"/>
                    </a:lnTo>
                    <a:lnTo>
                      <a:pt x="2561" y="169"/>
                    </a:lnTo>
                    <a:lnTo>
                      <a:pt x="2653" y="198"/>
                    </a:lnTo>
                    <a:lnTo>
                      <a:pt x="2738" y="231"/>
                    </a:lnTo>
                    <a:lnTo>
                      <a:pt x="2819" y="265"/>
                    </a:lnTo>
                    <a:lnTo>
                      <a:pt x="2894" y="302"/>
                    </a:lnTo>
                    <a:lnTo>
                      <a:pt x="2930" y="322"/>
                    </a:lnTo>
                    <a:lnTo>
                      <a:pt x="2962" y="342"/>
                    </a:lnTo>
                    <a:lnTo>
                      <a:pt x="2953" y="355"/>
                    </a:lnTo>
                    <a:lnTo>
                      <a:pt x="2922" y="334"/>
                    </a:lnTo>
                    <a:lnTo>
                      <a:pt x="2887" y="315"/>
                    </a:lnTo>
                    <a:lnTo>
                      <a:pt x="2813" y="279"/>
                    </a:lnTo>
                    <a:lnTo>
                      <a:pt x="2732" y="245"/>
                    </a:lnTo>
                    <a:lnTo>
                      <a:pt x="2647" y="212"/>
                    </a:lnTo>
                    <a:lnTo>
                      <a:pt x="2556" y="182"/>
                    </a:lnTo>
                    <a:lnTo>
                      <a:pt x="2462" y="155"/>
                    </a:lnTo>
                    <a:lnTo>
                      <a:pt x="2361" y="131"/>
                    </a:lnTo>
                    <a:lnTo>
                      <a:pt x="2257" y="109"/>
                    </a:lnTo>
                    <a:lnTo>
                      <a:pt x="2150" y="89"/>
                    </a:lnTo>
                    <a:lnTo>
                      <a:pt x="2040" y="72"/>
                    </a:lnTo>
                    <a:lnTo>
                      <a:pt x="1929" y="56"/>
                    </a:lnTo>
                    <a:lnTo>
                      <a:pt x="1815" y="44"/>
                    </a:lnTo>
                    <a:lnTo>
                      <a:pt x="1700" y="34"/>
                    </a:lnTo>
                    <a:lnTo>
                      <a:pt x="1586" y="26"/>
                    </a:lnTo>
                    <a:lnTo>
                      <a:pt x="1472" y="20"/>
                    </a:lnTo>
                    <a:lnTo>
                      <a:pt x="1357" y="16"/>
                    </a:lnTo>
                    <a:lnTo>
                      <a:pt x="1243" y="15"/>
                    </a:lnTo>
                    <a:lnTo>
                      <a:pt x="1132" y="16"/>
                    </a:lnTo>
                    <a:lnTo>
                      <a:pt x="1022" y="18"/>
                    </a:lnTo>
                    <a:lnTo>
                      <a:pt x="914" y="23"/>
                    </a:lnTo>
                    <a:lnTo>
                      <a:pt x="809" y="31"/>
                    </a:lnTo>
                    <a:lnTo>
                      <a:pt x="709" y="39"/>
                    </a:lnTo>
                    <a:lnTo>
                      <a:pt x="613" y="50"/>
                    </a:lnTo>
                    <a:lnTo>
                      <a:pt x="520" y="64"/>
                    </a:lnTo>
                    <a:lnTo>
                      <a:pt x="433" y="78"/>
                    </a:lnTo>
                    <a:lnTo>
                      <a:pt x="351" y="95"/>
                    </a:lnTo>
                    <a:lnTo>
                      <a:pt x="275" y="114"/>
                    </a:lnTo>
                    <a:lnTo>
                      <a:pt x="207" y="134"/>
                    </a:lnTo>
                    <a:lnTo>
                      <a:pt x="175" y="146"/>
                    </a:lnTo>
                    <a:lnTo>
                      <a:pt x="146" y="158"/>
                    </a:lnTo>
                    <a:lnTo>
                      <a:pt x="91" y="181"/>
                    </a:lnTo>
                    <a:lnTo>
                      <a:pt x="47" y="207"/>
                    </a:lnTo>
                    <a:lnTo>
                      <a:pt x="9" y="235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971960" y="1858320"/>
                <a:ext cx="470160" cy="668160"/>
              </a:xfrm>
              <a:custGeom>
                <a:avLst/>
                <a:gdLst/>
                <a:ahLst/>
                <a:rect l="l" t="t" r="r" b="b"/>
                <a:pathLst>
                  <a:path w="593" h="842">
                    <a:moveTo>
                      <a:pt x="573" y="0"/>
                    </a:moveTo>
                    <a:lnTo>
                      <a:pt x="581" y="12"/>
                    </a:lnTo>
                    <a:lnTo>
                      <a:pt x="587" y="24"/>
                    </a:lnTo>
                    <a:lnTo>
                      <a:pt x="592" y="39"/>
                    </a:lnTo>
                    <a:lnTo>
                      <a:pt x="593" y="55"/>
                    </a:lnTo>
                    <a:lnTo>
                      <a:pt x="593" y="71"/>
                    </a:lnTo>
                    <a:lnTo>
                      <a:pt x="591" y="89"/>
                    </a:lnTo>
                    <a:lnTo>
                      <a:pt x="587" y="106"/>
                    </a:lnTo>
                    <a:lnTo>
                      <a:pt x="581" y="127"/>
                    </a:lnTo>
                    <a:lnTo>
                      <a:pt x="565" y="167"/>
                    </a:lnTo>
                    <a:lnTo>
                      <a:pt x="542" y="210"/>
                    </a:lnTo>
                    <a:lnTo>
                      <a:pt x="512" y="259"/>
                    </a:lnTo>
                    <a:lnTo>
                      <a:pt x="478" y="310"/>
                    </a:lnTo>
                    <a:lnTo>
                      <a:pt x="438" y="364"/>
                    </a:lnTo>
                    <a:lnTo>
                      <a:pt x="390" y="423"/>
                    </a:lnTo>
                    <a:lnTo>
                      <a:pt x="281" y="549"/>
                    </a:lnTo>
                    <a:lnTo>
                      <a:pt x="155" y="689"/>
                    </a:lnTo>
                    <a:lnTo>
                      <a:pt x="11" y="842"/>
                    </a:lnTo>
                    <a:lnTo>
                      <a:pt x="0" y="833"/>
                    </a:lnTo>
                    <a:lnTo>
                      <a:pt x="144" y="680"/>
                    </a:lnTo>
                    <a:lnTo>
                      <a:pt x="270" y="539"/>
                    </a:lnTo>
                    <a:lnTo>
                      <a:pt x="379" y="413"/>
                    </a:lnTo>
                    <a:lnTo>
                      <a:pt x="426" y="356"/>
                    </a:lnTo>
                    <a:lnTo>
                      <a:pt x="466" y="302"/>
                    </a:lnTo>
                    <a:lnTo>
                      <a:pt x="500" y="250"/>
                    </a:lnTo>
                    <a:lnTo>
                      <a:pt x="529" y="203"/>
                    </a:lnTo>
                    <a:lnTo>
                      <a:pt x="551" y="161"/>
                    </a:lnTo>
                    <a:lnTo>
                      <a:pt x="567" y="121"/>
                    </a:lnTo>
                    <a:lnTo>
                      <a:pt x="572" y="104"/>
                    </a:lnTo>
                    <a:lnTo>
                      <a:pt x="576" y="87"/>
                    </a:lnTo>
                    <a:lnTo>
                      <a:pt x="578" y="71"/>
                    </a:lnTo>
                    <a:lnTo>
                      <a:pt x="578" y="56"/>
                    </a:lnTo>
                    <a:lnTo>
                      <a:pt x="577" y="41"/>
                    </a:lnTo>
                    <a:lnTo>
                      <a:pt x="573" y="30"/>
                    </a:lnTo>
                    <a:lnTo>
                      <a:pt x="567" y="18"/>
                    </a:lnTo>
                    <a:lnTo>
                      <a:pt x="561" y="8"/>
                    </a:lnTo>
                    <a:lnTo>
                      <a:pt x="5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18568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0" y="0"/>
                    </a:moveTo>
                    <a:lnTo>
                      <a:pt x="11" y="2"/>
                    </a:lnTo>
                    <a:lnTo>
                      <a:pt x="12" y="3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836960" y="2504520"/>
                <a:ext cx="141480" cy="36360"/>
              </a:xfrm>
              <a:custGeom>
                <a:avLst/>
                <a:gdLst/>
                <a:ahLst/>
                <a:rect l="l" t="t" r="r" b="b"/>
                <a:pathLst>
                  <a:path w="179" h="45">
                    <a:moveTo>
                      <a:pt x="179" y="31"/>
                    </a:moveTo>
                    <a:lnTo>
                      <a:pt x="157" y="38"/>
                    </a:lnTo>
                    <a:lnTo>
                      <a:pt x="132" y="43"/>
                    </a:lnTo>
                    <a:lnTo>
                      <a:pt x="109" y="45"/>
                    </a:lnTo>
                    <a:lnTo>
                      <a:pt x="85" y="45"/>
                    </a:lnTo>
                    <a:lnTo>
                      <a:pt x="60" y="43"/>
                    </a:lnTo>
                    <a:lnTo>
                      <a:pt x="37" y="36"/>
                    </a:lnTo>
                    <a:lnTo>
                      <a:pt x="17" y="25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26" y="14"/>
                    </a:lnTo>
                    <a:lnTo>
                      <a:pt x="43" y="22"/>
                    </a:lnTo>
                    <a:lnTo>
                      <a:pt x="64" y="30"/>
                    </a:lnTo>
                    <a:lnTo>
                      <a:pt x="85" y="32"/>
                    </a:lnTo>
                    <a:lnTo>
                      <a:pt x="107" y="32"/>
                    </a:lnTo>
                    <a:lnTo>
                      <a:pt x="129" y="30"/>
                    </a:lnTo>
                    <a:lnTo>
                      <a:pt x="152" y="25"/>
                    </a:lnTo>
                    <a:lnTo>
                      <a:pt x="173" y="17"/>
                    </a:lnTo>
                    <a:lnTo>
                      <a:pt x="179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971960" y="2518920"/>
                <a:ext cx="9720" cy="900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11"/>
                    </a:moveTo>
                    <a:lnTo>
                      <a:pt x="9" y="14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800600" y="2204640"/>
                <a:ext cx="44280" cy="307440"/>
              </a:xfrm>
              <a:custGeom>
                <a:avLst/>
                <a:gdLst/>
                <a:ahLst/>
                <a:rect l="l" t="t" r="r" b="b"/>
                <a:pathLst>
                  <a:path w="55" h="389">
                    <a:moveTo>
                      <a:pt x="44" y="389"/>
                    </a:moveTo>
                    <a:lnTo>
                      <a:pt x="28" y="369"/>
                    </a:lnTo>
                    <a:lnTo>
                      <a:pt x="16" y="346"/>
                    </a:lnTo>
                    <a:lnTo>
                      <a:pt x="9" y="322"/>
                    </a:lnTo>
                    <a:lnTo>
                      <a:pt x="6" y="296"/>
                    </a:lnTo>
                    <a:lnTo>
                      <a:pt x="11" y="245"/>
                    </a:lnTo>
                    <a:lnTo>
                      <a:pt x="21" y="193"/>
                    </a:lnTo>
                    <a:lnTo>
                      <a:pt x="32" y="142"/>
                    </a:lnTo>
                    <a:lnTo>
                      <a:pt x="35" y="118"/>
                    </a:lnTo>
                    <a:lnTo>
                      <a:pt x="35" y="93"/>
                    </a:lnTo>
                    <a:lnTo>
                      <a:pt x="33" y="72"/>
                    </a:lnTo>
                    <a:lnTo>
                      <a:pt x="27" y="50"/>
                    </a:lnTo>
                    <a:lnTo>
                      <a:pt x="17" y="29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29" y="21"/>
                    </a:lnTo>
                    <a:lnTo>
                      <a:pt x="40" y="44"/>
                    </a:lnTo>
                    <a:lnTo>
                      <a:pt x="46" y="69"/>
                    </a:lnTo>
                    <a:lnTo>
                      <a:pt x="49" y="93"/>
                    </a:lnTo>
                    <a:lnTo>
                      <a:pt x="49" y="120"/>
                    </a:lnTo>
                    <a:lnTo>
                      <a:pt x="45" y="146"/>
                    </a:lnTo>
                    <a:lnTo>
                      <a:pt x="34" y="197"/>
                    </a:lnTo>
                    <a:lnTo>
                      <a:pt x="24" y="248"/>
                    </a:lnTo>
                    <a:lnTo>
                      <a:pt x="20" y="296"/>
                    </a:lnTo>
                    <a:lnTo>
                      <a:pt x="22" y="318"/>
                    </a:lnTo>
                    <a:lnTo>
                      <a:pt x="29" y="340"/>
                    </a:lnTo>
                    <a:lnTo>
                      <a:pt x="40" y="361"/>
                    </a:lnTo>
                    <a:lnTo>
                      <a:pt x="55" y="379"/>
                    </a:lnTo>
                    <a:lnTo>
                      <a:pt x="44" y="3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35520" y="25045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11"/>
                    </a:moveTo>
                    <a:lnTo>
                      <a:pt x="0" y="10"/>
                    </a:lnTo>
                    <a:lnTo>
                      <a:pt x="11" y="0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432320" y="2169720"/>
                <a:ext cx="377640" cy="148680"/>
              </a:xfrm>
              <a:custGeom>
                <a:avLst/>
                <a:gdLst/>
                <a:ahLst/>
                <a:rect l="l" t="t" r="r" b="b"/>
                <a:pathLst>
                  <a:path w="476" h="190">
                    <a:moveTo>
                      <a:pt x="466" y="55"/>
                    </a:moveTo>
                    <a:lnTo>
                      <a:pt x="452" y="42"/>
                    </a:lnTo>
                    <a:lnTo>
                      <a:pt x="434" y="32"/>
                    </a:lnTo>
                    <a:lnTo>
                      <a:pt x="416" y="25"/>
                    </a:lnTo>
                    <a:lnTo>
                      <a:pt x="393" y="17"/>
                    </a:lnTo>
                    <a:lnTo>
                      <a:pt x="370" y="14"/>
                    </a:lnTo>
                    <a:lnTo>
                      <a:pt x="344" y="14"/>
                    </a:lnTo>
                    <a:lnTo>
                      <a:pt x="316" y="15"/>
                    </a:lnTo>
                    <a:lnTo>
                      <a:pt x="287" y="20"/>
                    </a:lnTo>
                    <a:lnTo>
                      <a:pt x="256" y="28"/>
                    </a:lnTo>
                    <a:lnTo>
                      <a:pt x="223" y="40"/>
                    </a:lnTo>
                    <a:lnTo>
                      <a:pt x="190" y="54"/>
                    </a:lnTo>
                    <a:lnTo>
                      <a:pt x="154" y="72"/>
                    </a:lnTo>
                    <a:lnTo>
                      <a:pt x="120" y="95"/>
                    </a:lnTo>
                    <a:lnTo>
                      <a:pt x="84" y="122"/>
                    </a:lnTo>
                    <a:lnTo>
                      <a:pt x="47" y="154"/>
                    </a:lnTo>
                    <a:lnTo>
                      <a:pt x="10" y="190"/>
                    </a:lnTo>
                    <a:lnTo>
                      <a:pt x="0" y="179"/>
                    </a:lnTo>
                    <a:lnTo>
                      <a:pt x="37" y="143"/>
                    </a:lnTo>
                    <a:lnTo>
                      <a:pt x="74" y="111"/>
                    </a:lnTo>
                    <a:lnTo>
                      <a:pt x="110" y="84"/>
                    </a:lnTo>
                    <a:lnTo>
                      <a:pt x="146" y="60"/>
                    </a:lnTo>
                    <a:lnTo>
                      <a:pt x="183" y="42"/>
                    </a:lnTo>
                    <a:lnTo>
                      <a:pt x="217" y="27"/>
                    </a:lnTo>
                    <a:lnTo>
                      <a:pt x="250" y="15"/>
                    </a:lnTo>
                    <a:lnTo>
                      <a:pt x="283" y="6"/>
                    </a:lnTo>
                    <a:lnTo>
                      <a:pt x="313" y="1"/>
                    </a:lnTo>
                    <a:lnTo>
                      <a:pt x="344" y="0"/>
                    </a:lnTo>
                    <a:lnTo>
                      <a:pt x="372" y="0"/>
                    </a:lnTo>
                    <a:lnTo>
                      <a:pt x="397" y="4"/>
                    </a:lnTo>
                    <a:lnTo>
                      <a:pt x="421" y="11"/>
                    </a:lnTo>
                    <a:lnTo>
                      <a:pt x="442" y="20"/>
                    </a:lnTo>
                    <a:lnTo>
                      <a:pt x="460" y="31"/>
                    </a:lnTo>
                    <a:lnTo>
                      <a:pt x="476" y="44"/>
                    </a:lnTo>
                    <a:lnTo>
                      <a:pt x="466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800600" y="22046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1" y="11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253040" y="2310840"/>
                <a:ext cx="187200" cy="382320"/>
              </a:xfrm>
              <a:custGeom>
                <a:avLst/>
                <a:gdLst/>
                <a:ahLst/>
                <a:rect l="l" t="t" r="r" b="b"/>
                <a:pathLst>
                  <a:path w="237" h="483">
                    <a:moveTo>
                      <a:pt x="237" y="11"/>
                    </a:moveTo>
                    <a:lnTo>
                      <a:pt x="174" y="72"/>
                    </a:lnTo>
                    <a:lnTo>
                      <a:pt x="125" y="127"/>
                    </a:lnTo>
                    <a:lnTo>
                      <a:pt x="77" y="192"/>
                    </a:lnTo>
                    <a:lnTo>
                      <a:pt x="56" y="226"/>
                    </a:lnTo>
                    <a:lnTo>
                      <a:pt x="38" y="263"/>
                    </a:lnTo>
                    <a:lnTo>
                      <a:pt x="25" y="298"/>
                    </a:lnTo>
                    <a:lnTo>
                      <a:pt x="16" y="335"/>
                    </a:lnTo>
                    <a:lnTo>
                      <a:pt x="15" y="371"/>
                    </a:lnTo>
                    <a:lnTo>
                      <a:pt x="16" y="388"/>
                    </a:lnTo>
                    <a:lnTo>
                      <a:pt x="21" y="407"/>
                    </a:lnTo>
                    <a:lnTo>
                      <a:pt x="26" y="424"/>
                    </a:lnTo>
                    <a:lnTo>
                      <a:pt x="33" y="440"/>
                    </a:lnTo>
                    <a:lnTo>
                      <a:pt x="44" y="457"/>
                    </a:lnTo>
                    <a:lnTo>
                      <a:pt x="56" y="473"/>
                    </a:lnTo>
                    <a:lnTo>
                      <a:pt x="45" y="483"/>
                    </a:lnTo>
                    <a:lnTo>
                      <a:pt x="32" y="466"/>
                    </a:lnTo>
                    <a:lnTo>
                      <a:pt x="21" y="448"/>
                    </a:lnTo>
                    <a:lnTo>
                      <a:pt x="12" y="430"/>
                    </a:lnTo>
                    <a:lnTo>
                      <a:pt x="6" y="409"/>
                    </a:lnTo>
                    <a:lnTo>
                      <a:pt x="1" y="391"/>
                    </a:lnTo>
                    <a:lnTo>
                      <a:pt x="0" y="371"/>
                    </a:lnTo>
                    <a:lnTo>
                      <a:pt x="1" y="333"/>
                    </a:lnTo>
                    <a:lnTo>
                      <a:pt x="10" y="296"/>
                    </a:lnTo>
                    <a:lnTo>
                      <a:pt x="25" y="256"/>
                    </a:lnTo>
                    <a:lnTo>
                      <a:pt x="43" y="220"/>
                    </a:lnTo>
                    <a:lnTo>
                      <a:pt x="65" y="183"/>
                    </a:lnTo>
                    <a:lnTo>
                      <a:pt x="114" y="117"/>
                    </a:lnTo>
                    <a:lnTo>
                      <a:pt x="163" y="62"/>
                    </a:lnTo>
                    <a:lnTo>
                      <a:pt x="227" y="0"/>
                    </a:lnTo>
                    <a:lnTo>
                      <a:pt x="23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432320" y="231084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1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289400" y="2685600"/>
                <a:ext cx="312840" cy="59760"/>
              </a:xfrm>
              <a:custGeom>
                <a:avLst/>
                <a:gdLst/>
                <a:ahLst/>
                <a:rect l="l" t="t" r="r" b="b"/>
                <a:pathLst>
                  <a:path w="394" h="74">
                    <a:moveTo>
                      <a:pt x="9" y="0"/>
                    </a:moveTo>
                    <a:lnTo>
                      <a:pt x="33" y="21"/>
                    </a:lnTo>
                    <a:lnTo>
                      <a:pt x="42" y="28"/>
                    </a:lnTo>
                    <a:lnTo>
                      <a:pt x="52" y="34"/>
                    </a:lnTo>
                    <a:lnTo>
                      <a:pt x="74" y="41"/>
                    </a:lnTo>
                    <a:lnTo>
                      <a:pt x="97" y="45"/>
                    </a:lnTo>
                    <a:lnTo>
                      <a:pt x="121" y="45"/>
                    </a:lnTo>
                    <a:lnTo>
                      <a:pt x="144" y="43"/>
                    </a:lnTo>
                    <a:lnTo>
                      <a:pt x="193" y="32"/>
                    </a:lnTo>
                    <a:lnTo>
                      <a:pt x="243" y="21"/>
                    </a:lnTo>
                    <a:lnTo>
                      <a:pt x="268" y="17"/>
                    </a:lnTo>
                    <a:lnTo>
                      <a:pt x="293" y="17"/>
                    </a:lnTo>
                    <a:lnTo>
                      <a:pt x="319" y="21"/>
                    </a:lnTo>
                    <a:lnTo>
                      <a:pt x="344" y="29"/>
                    </a:lnTo>
                    <a:lnTo>
                      <a:pt x="369" y="43"/>
                    </a:lnTo>
                    <a:lnTo>
                      <a:pt x="394" y="63"/>
                    </a:lnTo>
                    <a:lnTo>
                      <a:pt x="385" y="74"/>
                    </a:lnTo>
                    <a:lnTo>
                      <a:pt x="360" y="55"/>
                    </a:lnTo>
                    <a:lnTo>
                      <a:pt x="338" y="43"/>
                    </a:lnTo>
                    <a:lnTo>
                      <a:pt x="316" y="35"/>
                    </a:lnTo>
                    <a:lnTo>
                      <a:pt x="292" y="32"/>
                    </a:lnTo>
                    <a:lnTo>
                      <a:pt x="268" y="32"/>
                    </a:lnTo>
                    <a:lnTo>
                      <a:pt x="245" y="35"/>
                    </a:lnTo>
                    <a:lnTo>
                      <a:pt x="195" y="46"/>
                    </a:lnTo>
                    <a:lnTo>
                      <a:pt x="146" y="57"/>
                    </a:lnTo>
                    <a:lnTo>
                      <a:pt x="121" y="60"/>
                    </a:lnTo>
                    <a:lnTo>
                      <a:pt x="96" y="60"/>
                    </a:lnTo>
                    <a:lnTo>
                      <a:pt x="72" y="56"/>
                    </a:lnTo>
                    <a:lnTo>
                      <a:pt x="46" y="48"/>
                    </a:lnTo>
                    <a:lnTo>
                      <a:pt x="34" y="40"/>
                    </a:lnTo>
                    <a:lnTo>
                      <a:pt x="23" y="32"/>
                    </a:lnTo>
                    <a:lnTo>
                      <a:pt x="0" y="1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287960" y="268560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0"/>
                    </a:moveTo>
                    <a:lnTo>
                      <a:pt x="2" y="11"/>
                    </a:lnTo>
                    <a:lnTo>
                      <a:pt x="1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594320" y="2736360"/>
                <a:ext cx="46080" cy="150480"/>
              </a:xfrm>
              <a:custGeom>
                <a:avLst/>
                <a:gdLst/>
                <a:ahLst/>
                <a:rect l="l" t="t" r="r" b="b"/>
                <a:pathLst>
                  <a:path w="59" h="190">
                    <a:moveTo>
                      <a:pt x="11" y="0"/>
                    </a:moveTo>
                    <a:lnTo>
                      <a:pt x="28" y="21"/>
                    </a:lnTo>
                    <a:lnTo>
                      <a:pt x="42" y="43"/>
                    </a:lnTo>
                    <a:lnTo>
                      <a:pt x="51" y="66"/>
                    </a:lnTo>
                    <a:lnTo>
                      <a:pt x="57" y="91"/>
                    </a:lnTo>
                    <a:lnTo>
                      <a:pt x="59" y="117"/>
                    </a:lnTo>
                    <a:lnTo>
                      <a:pt x="57" y="141"/>
                    </a:lnTo>
                    <a:lnTo>
                      <a:pt x="49" y="166"/>
                    </a:lnTo>
                    <a:lnTo>
                      <a:pt x="39" y="190"/>
                    </a:lnTo>
                    <a:lnTo>
                      <a:pt x="26" y="184"/>
                    </a:lnTo>
                    <a:lnTo>
                      <a:pt x="36" y="161"/>
                    </a:lnTo>
                    <a:lnTo>
                      <a:pt x="42" y="139"/>
                    </a:lnTo>
                    <a:lnTo>
                      <a:pt x="44" y="117"/>
                    </a:lnTo>
                    <a:lnTo>
                      <a:pt x="42" y="93"/>
                    </a:lnTo>
                    <a:lnTo>
                      <a:pt x="37" y="73"/>
                    </a:lnTo>
                    <a:lnTo>
                      <a:pt x="28" y="49"/>
                    </a:lnTo>
                    <a:lnTo>
                      <a:pt x="16" y="30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94320" y="273636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0" y="10"/>
                    </a:lnTo>
                    <a:lnTo>
                      <a:pt x="2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280040" y="2880720"/>
                <a:ext cx="344520" cy="333000"/>
              </a:xfrm>
              <a:custGeom>
                <a:avLst/>
                <a:gdLst/>
                <a:ahLst/>
                <a:rect l="l" t="t" r="r" b="b"/>
                <a:pathLst>
                  <a:path w="432" h="421">
                    <a:moveTo>
                      <a:pt x="432" y="11"/>
                    </a:moveTo>
                    <a:lnTo>
                      <a:pt x="134" y="300"/>
                    </a:lnTo>
                    <a:lnTo>
                      <a:pt x="9" y="421"/>
                    </a:lnTo>
                    <a:lnTo>
                      <a:pt x="0" y="410"/>
                    </a:lnTo>
                    <a:lnTo>
                      <a:pt x="124" y="289"/>
                    </a:lnTo>
                    <a:lnTo>
                      <a:pt x="422" y="0"/>
                    </a:lnTo>
                    <a:lnTo>
                      <a:pt x="43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614840" y="288072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3" y="9"/>
                    </a:moveTo>
                    <a:lnTo>
                      <a:pt x="12" y="11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817800" y="2745720"/>
                <a:ext cx="470160" cy="466560"/>
              </a:xfrm>
              <a:custGeom>
                <a:avLst/>
                <a:gdLst/>
                <a:ahLst/>
                <a:rect l="l" t="t" r="r" b="b"/>
                <a:pathLst>
                  <a:path w="593" h="588">
                    <a:moveTo>
                      <a:pt x="582" y="588"/>
                    </a:moveTo>
                    <a:lnTo>
                      <a:pt x="576" y="580"/>
                    </a:lnTo>
                    <a:lnTo>
                      <a:pt x="557" y="561"/>
                    </a:lnTo>
                    <a:lnTo>
                      <a:pt x="489" y="494"/>
                    </a:lnTo>
                    <a:lnTo>
                      <a:pt x="290" y="296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300" y="285"/>
                    </a:lnTo>
                    <a:lnTo>
                      <a:pt x="499" y="483"/>
                    </a:lnTo>
                    <a:lnTo>
                      <a:pt x="566" y="550"/>
                    </a:lnTo>
                    <a:lnTo>
                      <a:pt x="586" y="569"/>
                    </a:lnTo>
                    <a:lnTo>
                      <a:pt x="593" y="578"/>
                    </a:lnTo>
                    <a:lnTo>
                      <a:pt x="582" y="5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80040" y="320616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11"/>
                    </a:moveTo>
                    <a:lnTo>
                      <a:pt x="6" y="16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2" y="0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782880" y="2587320"/>
                <a:ext cx="42840" cy="166320"/>
              </a:xfrm>
              <a:custGeom>
                <a:avLst/>
                <a:gdLst/>
                <a:ahLst/>
                <a:rect l="l" t="t" r="r" b="b"/>
                <a:pathLst>
                  <a:path w="52" h="210">
                    <a:moveTo>
                      <a:pt x="41" y="210"/>
                    </a:moveTo>
                    <a:lnTo>
                      <a:pt x="25" y="187"/>
                    </a:lnTo>
                    <a:lnTo>
                      <a:pt x="11" y="160"/>
                    </a:lnTo>
                    <a:lnTo>
                      <a:pt x="3" y="133"/>
                    </a:lnTo>
                    <a:lnTo>
                      <a:pt x="0" y="104"/>
                    </a:lnTo>
                    <a:lnTo>
                      <a:pt x="2" y="76"/>
                    </a:lnTo>
                    <a:lnTo>
                      <a:pt x="8" y="49"/>
                    </a:lnTo>
                    <a:lnTo>
                      <a:pt x="22" y="23"/>
                    </a:lnTo>
                    <a:lnTo>
                      <a:pt x="40" y="0"/>
                    </a:lnTo>
                    <a:lnTo>
                      <a:pt x="51" y="10"/>
                    </a:lnTo>
                    <a:lnTo>
                      <a:pt x="34" y="32"/>
                    </a:lnTo>
                    <a:lnTo>
                      <a:pt x="22" y="55"/>
                    </a:lnTo>
                    <a:lnTo>
                      <a:pt x="16" y="80"/>
                    </a:lnTo>
                    <a:lnTo>
                      <a:pt x="13" y="104"/>
                    </a:lnTo>
                    <a:lnTo>
                      <a:pt x="17" y="130"/>
                    </a:lnTo>
                    <a:lnTo>
                      <a:pt x="24" y="154"/>
                    </a:lnTo>
                    <a:lnTo>
                      <a:pt x="38" y="179"/>
                    </a:lnTo>
                    <a:lnTo>
                      <a:pt x="52" y="201"/>
                    </a:lnTo>
                    <a:lnTo>
                      <a:pt x="41" y="2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816360" y="27457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11"/>
                    </a:moveTo>
                    <a:lnTo>
                      <a:pt x="0" y="9"/>
                    </a:lnTo>
                    <a:lnTo>
                      <a:pt x="11" y="0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816360" y="2552400"/>
                <a:ext cx="307800" cy="43920"/>
              </a:xfrm>
              <a:custGeom>
                <a:avLst/>
                <a:gdLst/>
                <a:ahLst/>
                <a:rect l="l" t="t" r="r" b="b"/>
                <a:pathLst>
                  <a:path w="389" h="55">
                    <a:moveTo>
                      <a:pt x="0" y="44"/>
                    </a:moveTo>
                    <a:lnTo>
                      <a:pt x="20" y="26"/>
                    </a:lnTo>
                    <a:lnTo>
                      <a:pt x="43" y="15"/>
                    </a:lnTo>
                    <a:lnTo>
                      <a:pt x="69" y="7"/>
                    </a:lnTo>
                    <a:lnTo>
                      <a:pt x="93" y="5"/>
                    </a:lnTo>
                    <a:lnTo>
                      <a:pt x="144" y="10"/>
                    </a:lnTo>
                    <a:lnTo>
                      <a:pt x="196" y="20"/>
                    </a:lnTo>
                    <a:lnTo>
                      <a:pt x="247" y="31"/>
                    </a:lnTo>
                    <a:lnTo>
                      <a:pt x="270" y="33"/>
                    </a:lnTo>
                    <a:lnTo>
                      <a:pt x="295" y="34"/>
                    </a:lnTo>
                    <a:lnTo>
                      <a:pt x="318" y="32"/>
                    </a:lnTo>
                    <a:lnTo>
                      <a:pt x="339" y="27"/>
                    </a:lnTo>
                    <a:lnTo>
                      <a:pt x="358" y="16"/>
                    </a:lnTo>
                    <a:lnTo>
                      <a:pt x="379" y="0"/>
                    </a:lnTo>
                    <a:lnTo>
                      <a:pt x="389" y="11"/>
                    </a:lnTo>
                    <a:lnTo>
                      <a:pt x="367" y="28"/>
                    </a:lnTo>
                    <a:lnTo>
                      <a:pt x="345" y="40"/>
                    </a:lnTo>
                    <a:lnTo>
                      <a:pt x="321" y="47"/>
                    </a:lnTo>
                    <a:lnTo>
                      <a:pt x="295" y="49"/>
                    </a:lnTo>
                    <a:lnTo>
                      <a:pt x="269" y="48"/>
                    </a:lnTo>
                    <a:lnTo>
                      <a:pt x="245" y="45"/>
                    </a:lnTo>
                    <a:lnTo>
                      <a:pt x="193" y="34"/>
                    </a:lnTo>
                    <a:lnTo>
                      <a:pt x="142" y="25"/>
                    </a:lnTo>
                    <a:lnTo>
                      <a:pt x="93" y="20"/>
                    </a:lnTo>
                    <a:lnTo>
                      <a:pt x="71" y="22"/>
                    </a:lnTo>
                    <a:lnTo>
                      <a:pt x="49" y="28"/>
                    </a:lnTo>
                    <a:lnTo>
                      <a:pt x="28" y="38"/>
                    </a:lnTo>
                    <a:lnTo>
                      <a:pt x="10" y="5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816360" y="258732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0"/>
                    </a:moveTo>
                    <a:lnTo>
                      <a:pt x="1" y="0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010040" y="2182320"/>
                <a:ext cx="149040" cy="377640"/>
              </a:xfrm>
              <a:custGeom>
                <a:avLst/>
                <a:gdLst/>
                <a:ahLst/>
                <a:rect l="l" t="t" r="r" b="b"/>
                <a:pathLst>
                  <a:path w="188" h="476">
                    <a:moveTo>
                      <a:pt x="133" y="466"/>
                    </a:moveTo>
                    <a:lnTo>
                      <a:pt x="146" y="451"/>
                    </a:lnTo>
                    <a:lnTo>
                      <a:pt x="156" y="434"/>
                    </a:lnTo>
                    <a:lnTo>
                      <a:pt x="164" y="416"/>
                    </a:lnTo>
                    <a:lnTo>
                      <a:pt x="170" y="394"/>
                    </a:lnTo>
                    <a:lnTo>
                      <a:pt x="173" y="370"/>
                    </a:lnTo>
                    <a:lnTo>
                      <a:pt x="175" y="344"/>
                    </a:lnTo>
                    <a:lnTo>
                      <a:pt x="173" y="316"/>
                    </a:lnTo>
                    <a:lnTo>
                      <a:pt x="168" y="286"/>
                    </a:lnTo>
                    <a:lnTo>
                      <a:pt x="160" y="255"/>
                    </a:lnTo>
                    <a:lnTo>
                      <a:pt x="148" y="223"/>
                    </a:lnTo>
                    <a:lnTo>
                      <a:pt x="134" y="190"/>
                    </a:lnTo>
                    <a:lnTo>
                      <a:pt x="115" y="156"/>
                    </a:lnTo>
                    <a:lnTo>
                      <a:pt x="93" y="120"/>
                    </a:lnTo>
                    <a:lnTo>
                      <a:pt x="66" y="83"/>
                    </a:lnTo>
                    <a:lnTo>
                      <a:pt x="35" y="48"/>
                    </a:lnTo>
                    <a:lnTo>
                      <a:pt x="0" y="11"/>
                    </a:lnTo>
                    <a:lnTo>
                      <a:pt x="9" y="0"/>
                    </a:lnTo>
                    <a:lnTo>
                      <a:pt x="45" y="37"/>
                    </a:lnTo>
                    <a:lnTo>
                      <a:pt x="77" y="74"/>
                    </a:lnTo>
                    <a:lnTo>
                      <a:pt x="104" y="112"/>
                    </a:lnTo>
                    <a:lnTo>
                      <a:pt x="127" y="147"/>
                    </a:lnTo>
                    <a:lnTo>
                      <a:pt x="146" y="182"/>
                    </a:lnTo>
                    <a:lnTo>
                      <a:pt x="161" y="217"/>
                    </a:lnTo>
                    <a:lnTo>
                      <a:pt x="173" y="250"/>
                    </a:lnTo>
                    <a:lnTo>
                      <a:pt x="182" y="283"/>
                    </a:lnTo>
                    <a:lnTo>
                      <a:pt x="187" y="313"/>
                    </a:lnTo>
                    <a:lnTo>
                      <a:pt x="188" y="344"/>
                    </a:lnTo>
                    <a:lnTo>
                      <a:pt x="187" y="372"/>
                    </a:lnTo>
                    <a:lnTo>
                      <a:pt x="183" y="398"/>
                    </a:lnTo>
                    <a:lnTo>
                      <a:pt x="177" y="422"/>
                    </a:lnTo>
                    <a:lnTo>
                      <a:pt x="168" y="442"/>
                    </a:lnTo>
                    <a:lnTo>
                      <a:pt x="157" y="461"/>
                    </a:lnTo>
                    <a:lnTo>
                      <a:pt x="144" y="476"/>
                    </a:lnTo>
                    <a:lnTo>
                      <a:pt x="133" y="4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116240" y="255240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1"/>
                    </a:moveTo>
                    <a:lnTo>
                      <a:pt x="11" y="1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635280" y="2001240"/>
                <a:ext cx="382680" cy="190080"/>
              </a:xfrm>
              <a:custGeom>
                <a:avLst/>
                <a:gdLst/>
                <a:ahLst/>
                <a:rect l="l" t="t" r="r" b="b"/>
                <a:pathLst>
                  <a:path w="482" h="238">
                    <a:moveTo>
                      <a:pt x="473" y="238"/>
                    </a:moveTo>
                    <a:lnTo>
                      <a:pt x="410" y="175"/>
                    </a:lnTo>
                    <a:lnTo>
                      <a:pt x="355" y="126"/>
                    </a:lnTo>
                    <a:lnTo>
                      <a:pt x="291" y="77"/>
                    </a:lnTo>
                    <a:lnTo>
                      <a:pt x="256" y="55"/>
                    </a:lnTo>
                    <a:lnTo>
                      <a:pt x="220" y="38"/>
                    </a:lnTo>
                    <a:lnTo>
                      <a:pt x="183" y="24"/>
                    </a:lnTo>
                    <a:lnTo>
                      <a:pt x="146" y="16"/>
                    </a:lnTo>
                    <a:lnTo>
                      <a:pt x="111" y="14"/>
                    </a:lnTo>
                    <a:lnTo>
                      <a:pt x="94" y="16"/>
                    </a:lnTo>
                    <a:lnTo>
                      <a:pt x="77" y="19"/>
                    </a:lnTo>
                    <a:lnTo>
                      <a:pt x="58" y="25"/>
                    </a:lnTo>
                    <a:lnTo>
                      <a:pt x="42" y="33"/>
                    </a:lnTo>
                    <a:lnTo>
                      <a:pt x="27" y="44"/>
                    </a:lnTo>
                    <a:lnTo>
                      <a:pt x="9" y="57"/>
                    </a:lnTo>
                    <a:lnTo>
                      <a:pt x="0" y="46"/>
                    </a:lnTo>
                    <a:lnTo>
                      <a:pt x="17" y="33"/>
                    </a:lnTo>
                    <a:lnTo>
                      <a:pt x="34" y="21"/>
                    </a:lnTo>
                    <a:lnTo>
                      <a:pt x="52" y="12"/>
                    </a:lnTo>
                    <a:lnTo>
                      <a:pt x="72" y="6"/>
                    </a:lnTo>
                    <a:lnTo>
                      <a:pt x="90" y="2"/>
                    </a:lnTo>
                    <a:lnTo>
                      <a:pt x="111" y="0"/>
                    </a:lnTo>
                    <a:lnTo>
                      <a:pt x="149" y="2"/>
                    </a:lnTo>
                    <a:lnTo>
                      <a:pt x="188" y="11"/>
                    </a:lnTo>
                    <a:lnTo>
                      <a:pt x="226" y="24"/>
                    </a:lnTo>
                    <a:lnTo>
                      <a:pt x="264" y="43"/>
                    </a:lnTo>
                    <a:lnTo>
                      <a:pt x="299" y="66"/>
                    </a:lnTo>
                    <a:lnTo>
                      <a:pt x="365" y="115"/>
                    </a:lnTo>
                    <a:lnTo>
                      <a:pt x="420" y="164"/>
                    </a:lnTo>
                    <a:lnTo>
                      <a:pt x="482" y="227"/>
                    </a:lnTo>
                    <a:lnTo>
                      <a:pt x="473" y="2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010040" y="218232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0"/>
                    </a:moveTo>
                    <a:lnTo>
                      <a:pt x="0" y="1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583080" y="2039400"/>
                <a:ext cx="60120" cy="310680"/>
              </a:xfrm>
              <a:custGeom>
                <a:avLst/>
                <a:gdLst/>
                <a:ahLst/>
                <a:rect l="l" t="t" r="r" b="b"/>
                <a:pathLst>
                  <a:path w="74" h="394">
                    <a:moveTo>
                      <a:pt x="74" y="10"/>
                    </a:moveTo>
                    <a:lnTo>
                      <a:pt x="54" y="32"/>
                    </a:lnTo>
                    <a:lnTo>
                      <a:pt x="46" y="44"/>
                    </a:lnTo>
                    <a:lnTo>
                      <a:pt x="40" y="54"/>
                    </a:lnTo>
                    <a:lnTo>
                      <a:pt x="33" y="75"/>
                    </a:lnTo>
                    <a:lnTo>
                      <a:pt x="29" y="98"/>
                    </a:lnTo>
                    <a:lnTo>
                      <a:pt x="29" y="121"/>
                    </a:lnTo>
                    <a:lnTo>
                      <a:pt x="32" y="145"/>
                    </a:lnTo>
                    <a:lnTo>
                      <a:pt x="43" y="193"/>
                    </a:lnTo>
                    <a:lnTo>
                      <a:pt x="54" y="244"/>
                    </a:lnTo>
                    <a:lnTo>
                      <a:pt x="57" y="269"/>
                    </a:lnTo>
                    <a:lnTo>
                      <a:pt x="57" y="294"/>
                    </a:lnTo>
                    <a:lnTo>
                      <a:pt x="54" y="319"/>
                    </a:lnTo>
                    <a:lnTo>
                      <a:pt x="45" y="346"/>
                    </a:lnTo>
                    <a:lnTo>
                      <a:pt x="32" y="371"/>
                    </a:lnTo>
                    <a:lnTo>
                      <a:pt x="11" y="394"/>
                    </a:lnTo>
                    <a:lnTo>
                      <a:pt x="0" y="384"/>
                    </a:lnTo>
                    <a:lnTo>
                      <a:pt x="19" y="362"/>
                    </a:lnTo>
                    <a:lnTo>
                      <a:pt x="32" y="340"/>
                    </a:lnTo>
                    <a:lnTo>
                      <a:pt x="39" y="317"/>
                    </a:lnTo>
                    <a:lnTo>
                      <a:pt x="43" y="294"/>
                    </a:lnTo>
                    <a:lnTo>
                      <a:pt x="43" y="270"/>
                    </a:lnTo>
                    <a:lnTo>
                      <a:pt x="39" y="246"/>
                    </a:lnTo>
                    <a:lnTo>
                      <a:pt x="28" y="196"/>
                    </a:lnTo>
                    <a:lnTo>
                      <a:pt x="17" y="147"/>
                    </a:lnTo>
                    <a:lnTo>
                      <a:pt x="15" y="123"/>
                    </a:lnTo>
                    <a:lnTo>
                      <a:pt x="15" y="98"/>
                    </a:lnTo>
                    <a:lnTo>
                      <a:pt x="18" y="72"/>
                    </a:lnTo>
                    <a:lnTo>
                      <a:pt x="27" y="48"/>
                    </a:lnTo>
                    <a:lnTo>
                      <a:pt x="34" y="36"/>
                    </a:lnTo>
                    <a:lnTo>
                      <a:pt x="43" y="22"/>
                    </a:lnTo>
                    <a:lnTo>
                      <a:pt x="63" y="0"/>
                    </a:lnTo>
                    <a:lnTo>
                      <a:pt x="7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633840" y="203940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0"/>
                    </a:moveTo>
                    <a:lnTo>
                      <a:pt x="0" y="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462480" y="2344320"/>
                <a:ext cx="129960" cy="43920"/>
              </a:xfrm>
              <a:custGeom>
                <a:avLst/>
                <a:gdLst/>
                <a:ahLst/>
                <a:rect l="l" t="t" r="r" b="b"/>
                <a:pathLst>
                  <a:path w="164" h="58">
                    <a:moveTo>
                      <a:pt x="164" y="11"/>
                    </a:moveTo>
                    <a:lnTo>
                      <a:pt x="147" y="26"/>
                    </a:lnTo>
                    <a:lnTo>
                      <a:pt x="127" y="38"/>
                    </a:lnTo>
                    <a:lnTo>
                      <a:pt x="108" y="48"/>
                    </a:lnTo>
                    <a:lnTo>
                      <a:pt x="87" y="54"/>
                    </a:lnTo>
                    <a:lnTo>
                      <a:pt x="65" y="58"/>
                    </a:lnTo>
                    <a:lnTo>
                      <a:pt x="44" y="58"/>
                    </a:lnTo>
                    <a:lnTo>
                      <a:pt x="21" y="56"/>
                    </a:lnTo>
                    <a:lnTo>
                      <a:pt x="0" y="50"/>
                    </a:lnTo>
                    <a:lnTo>
                      <a:pt x="4" y="37"/>
                    </a:lnTo>
                    <a:lnTo>
                      <a:pt x="24" y="43"/>
                    </a:lnTo>
                    <a:lnTo>
                      <a:pt x="44" y="44"/>
                    </a:lnTo>
                    <a:lnTo>
                      <a:pt x="62" y="44"/>
                    </a:lnTo>
                    <a:lnTo>
                      <a:pt x="82" y="41"/>
                    </a:lnTo>
                    <a:lnTo>
                      <a:pt x="102" y="34"/>
                    </a:lnTo>
                    <a:lnTo>
                      <a:pt x="119" y="26"/>
                    </a:lnTo>
                    <a:lnTo>
                      <a:pt x="137" y="15"/>
                    </a:lnTo>
                    <a:lnTo>
                      <a:pt x="154" y="0"/>
                    </a:lnTo>
                    <a:lnTo>
                      <a:pt x="16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583080" y="234432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0"/>
                    </a:moveTo>
                    <a:lnTo>
                      <a:pt x="11" y="1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062160" y="1763280"/>
                <a:ext cx="406440" cy="617040"/>
              </a:xfrm>
              <a:custGeom>
                <a:avLst/>
                <a:gdLst/>
                <a:ahLst/>
                <a:rect l="l" t="t" r="r" b="b"/>
                <a:pathLst>
                  <a:path w="512" h="779">
                    <a:moveTo>
                      <a:pt x="503" y="779"/>
                    </a:moveTo>
                    <a:lnTo>
                      <a:pt x="386" y="651"/>
                    </a:lnTo>
                    <a:lnTo>
                      <a:pt x="283" y="526"/>
                    </a:lnTo>
                    <a:lnTo>
                      <a:pt x="190" y="408"/>
                    </a:lnTo>
                    <a:lnTo>
                      <a:pt x="148" y="352"/>
                    </a:lnTo>
                    <a:lnTo>
                      <a:pt x="113" y="300"/>
                    </a:lnTo>
                    <a:lnTo>
                      <a:pt x="80" y="251"/>
                    </a:lnTo>
                    <a:lnTo>
                      <a:pt x="53" y="202"/>
                    </a:lnTo>
                    <a:lnTo>
                      <a:pt x="31" y="159"/>
                    </a:lnTo>
                    <a:lnTo>
                      <a:pt x="14" y="120"/>
                    </a:lnTo>
                    <a:lnTo>
                      <a:pt x="9" y="100"/>
                    </a:lnTo>
                    <a:lnTo>
                      <a:pt x="4" y="82"/>
                    </a:lnTo>
                    <a:lnTo>
                      <a:pt x="0" y="50"/>
                    </a:lnTo>
                    <a:lnTo>
                      <a:pt x="1" y="35"/>
                    </a:lnTo>
                    <a:lnTo>
                      <a:pt x="4" y="22"/>
                    </a:lnTo>
                    <a:lnTo>
                      <a:pt x="15" y="0"/>
                    </a:lnTo>
                    <a:lnTo>
                      <a:pt x="27" y="7"/>
                    </a:lnTo>
                    <a:lnTo>
                      <a:pt x="17" y="28"/>
                    </a:lnTo>
                    <a:lnTo>
                      <a:pt x="15" y="39"/>
                    </a:lnTo>
                    <a:lnTo>
                      <a:pt x="14" y="50"/>
                    </a:lnTo>
                    <a:lnTo>
                      <a:pt x="17" y="79"/>
                    </a:lnTo>
                    <a:lnTo>
                      <a:pt x="22" y="95"/>
                    </a:lnTo>
                    <a:lnTo>
                      <a:pt x="27" y="114"/>
                    </a:lnTo>
                    <a:lnTo>
                      <a:pt x="43" y="152"/>
                    </a:lnTo>
                    <a:lnTo>
                      <a:pt x="65" y="194"/>
                    </a:lnTo>
                    <a:lnTo>
                      <a:pt x="92" y="242"/>
                    </a:lnTo>
                    <a:lnTo>
                      <a:pt x="124" y="291"/>
                    </a:lnTo>
                    <a:lnTo>
                      <a:pt x="159" y="344"/>
                    </a:lnTo>
                    <a:lnTo>
                      <a:pt x="201" y="399"/>
                    </a:lnTo>
                    <a:lnTo>
                      <a:pt x="294" y="516"/>
                    </a:lnTo>
                    <a:lnTo>
                      <a:pt x="397" y="641"/>
                    </a:lnTo>
                    <a:lnTo>
                      <a:pt x="512" y="769"/>
                    </a:lnTo>
                    <a:lnTo>
                      <a:pt x="503" y="7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460680" y="237276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2" y="13"/>
                    </a:moveTo>
                    <a:lnTo>
                      <a:pt x="0" y="11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073320" y="1761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2"/>
                    </a:moveTo>
                    <a:lnTo>
                      <a:pt x="1" y="0"/>
                    </a:lnTo>
                    <a:lnTo>
                      <a:pt x="10" y="12"/>
                    </a:lnTo>
                    <a:lnTo>
                      <a:pt x="12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602080" y="4503240"/>
                <a:ext cx="341280" cy="163080"/>
              </a:xfrm>
              <a:custGeom>
                <a:avLst/>
                <a:gdLst/>
                <a:ahLst/>
                <a:rect l="l" t="t" r="r" b="b"/>
                <a:pathLst>
                  <a:path w="429" h="207">
                    <a:moveTo>
                      <a:pt x="429" y="11"/>
                    </a:moveTo>
                    <a:lnTo>
                      <a:pt x="359" y="64"/>
                    </a:lnTo>
                    <a:lnTo>
                      <a:pt x="291" y="109"/>
                    </a:lnTo>
                    <a:lnTo>
                      <a:pt x="229" y="145"/>
                    </a:lnTo>
                    <a:lnTo>
                      <a:pt x="172" y="175"/>
                    </a:lnTo>
                    <a:lnTo>
                      <a:pt x="144" y="188"/>
                    </a:lnTo>
                    <a:lnTo>
                      <a:pt x="120" y="197"/>
                    </a:lnTo>
                    <a:lnTo>
                      <a:pt x="97" y="203"/>
                    </a:lnTo>
                    <a:lnTo>
                      <a:pt x="73" y="207"/>
                    </a:lnTo>
                    <a:lnTo>
                      <a:pt x="53" y="207"/>
                    </a:lnTo>
                    <a:lnTo>
                      <a:pt x="32" y="205"/>
                    </a:lnTo>
                    <a:lnTo>
                      <a:pt x="15" y="199"/>
                    </a:lnTo>
                    <a:lnTo>
                      <a:pt x="0" y="191"/>
                    </a:lnTo>
                    <a:lnTo>
                      <a:pt x="9" y="178"/>
                    </a:lnTo>
                    <a:lnTo>
                      <a:pt x="21" y="187"/>
                    </a:lnTo>
                    <a:lnTo>
                      <a:pt x="35" y="192"/>
                    </a:lnTo>
                    <a:lnTo>
                      <a:pt x="53" y="193"/>
                    </a:lnTo>
                    <a:lnTo>
                      <a:pt x="71" y="193"/>
                    </a:lnTo>
                    <a:lnTo>
                      <a:pt x="92" y="189"/>
                    </a:lnTo>
                    <a:lnTo>
                      <a:pt x="114" y="183"/>
                    </a:lnTo>
                    <a:lnTo>
                      <a:pt x="138" y="175"/>
                    </a:lnTo>
                    <a:lnTo>
                      <a:pt x="165" y="163"/>
                    </a:lnTo>
                    <a:lnTo>
                      <a:pt x="220" y="133"/>
                    </a:lnTo>
                    <a:lnTo>
                      <a:pt x="282" y="97"/>
                    </a:lnTo>
                    <a:lnTo>
                      <a:pt x="350" y="52"/>
                    </a:lnTo>
                    <a:lnTo>
                      <a:pt x="419" y="0"/>
                    </a:lnTo>
                    <a:lnTo>
                      <a:pt x="42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265480" y="2453760"/>
                <a:ext cx="344520" cy="2199960"/>
              </a:xfrm>
              <a:custGeom>
                <a:avLst/>
                <a:gdLst/>
                <a:ahLst/>
                <a:rect l="l" t="t" r="r" b="b"/>
                <a:pathLst>
                  <a:path w="435" h="2774">
                    <a:moveTo>
                      <a:pt x="425" y="2774"/>
                    </a:moveTo>
                    <a:lnTo>
                      <a:pt x="397" y="2743"/>
                    </a:lnTo>
                    <a:lnTo>
                      <a:pt x="368" y="2711"/>
                    </a:lnTo>
                    <a:lnTo>
                      <a:pt x="342" y="2678"/>
                    </a:lnTo>
                    <a:lnTo>
                      <a:pt x="316" y="2644"/>
                    </a:lnTo>
                    <a:lnTo>
                      <a:pt x="270" y="2571"/>
                    </a:lnTo>
                    <a:lnTo>
                      <a:pt x="226" y="2491"/>
                    </a:lnTo>
                    <a:lnTo>
                      <a:pt x="187" y="2407"/>
                    </a:lnTo>
                    <a:lnTo>
                      <a:pt x="151" y="2320"/>
                    </a:lnTo>
                    <a:lnTo>
                      <a:pt x="119" y="2226"/>
                    </a:lnTo>
                    <a:lnTo>
                      <a:pt x="92" y="2132"/>
                    </a:lnTo>
                    <a:lnTo>
                      <a:pt x="68" y="2033"/>
                    </a:lnTo>
                    <a:lnTo>
                      <a:pt x="48" y="1932"/>
                    </a:lnTo>
                    <a:lnTo>
                      <a:pt x="33" y="1827"/>
                    </a:lnTo>
                    <a:lnTo>
                      <a:pt x="19" y="1723"/>
                    </a:lnTo>
                    <a:lnTo>
                      <a:pt x="9" y="1617"/>
                    </a:lnTo>
                    <a:lnTo>
                      <a:pt x="3" y="1509"/>
                    </a:lnTo>
                    <a:lnTo>
                      <a:pt x="0" y="1403"/>
                    </a:lnTo>
                    <a:lnTo>
                      <a:pt x="0" y="1297"/>
                    </a:lnTo>
                    <a:lnTo>
                      <a:pt x="3" y="1190"/>
                    </a:lnTo>
                    <a:lnTo>
                      <a:pt x="8" y="1085"/>
                    </a:lnTo>
                    <a:lnTo>
                      <a:pt x="18" y="982"/>
                    </a:lnTo>
                    <a:lnTo>
                      <a:pt x="29" y="882"/>
                    </a:lnTo>
                    <a:lnTo>
                      <a:pt x="44" y="783"/>
                    </a:lnTo>
                    <a:lnTo>
                      <a:pt x="61" y="688"/>
                    </a:lnTo>
                    <a:lnTo>
                      <a:pt x="80" y="595"/>
                    </a:lnTo>
                    <a:lnTo>
                      <a:pt x="102" y="508"/>
                    </a:lnTo>
                    <a:lnTo>
                      <a:pt x="127" y="423"/>
                    </a:lnTo>
                    <a:lnTo>
                      <a:pt x="154" y="345"/>
                    </a:lnTo>
                    <a:lnTo>
                      <a:pt x="184" y="271"/>
                    </a:lnTo>
                    <a:lnTo>
                      <a:pt x="216" y="203"/>
                    </a:lnTo>
                    <a:lnTo>
                      <a:pt x="249" y="142"/>
                    </a:lnTo>
                    <a:lnTo>
                      <a:pt x="266" y="114"/>
                    </a:lnTo>
                    <a:lnTo>
                      <a:pt x="284" y="87"/>
                    </a:lnTo>
                    <a:lnTo>
                      <a:pt x="321" y="40"/>
                    </a:lnTo>
                    <a:lnTo>
                      <a:pt x="342" y="19"/>
                    </a:lnTo>
                    <a:lnTo>
                      <a:pt x="361" y="0"/>
                    </a:lnTo>
                    <a:lnTo>
                      <a:pt x="371" y="11"/>
                    </a:lnTo>
                    <a:lnTo>
                      <a:pt x="352" y="30"/>
                    </a:lnTo>
                    <a:lnTo>
                      <a:pt x="332" y="49"/>
                    </a:lnTo>
                    <a:lnTo>
                      <a:pt x="295" y="97"/>
                    </a:lnTo>
                    <a:lnTo>
                      <a:pt x="278" y="123"/>
                    </a:lnTo>
                    <a:lnTo>
                      <a:pt x="261" y="151"/>
                    </a:lnTo>
                    <a:lnTo>
                      <a:pt x="228" y="211"/>
                    </a:lnTo>
                    <a:lnTo>
                      <a:pt x="196" y="278"/>
                    </a:lnTo>
                    <a:lnTo>
                      <a:pt x="167" y="351"/>
                    </a:lnTo>
                    <a:lnTo>
                      <a:pt x="140" y="430"/>
                    </a:lnTo>
                    <a:lnTo>
                      <a:pt x="116" y="513"/>
                    </a:lnTo>
                    <a:lnTo>
                      <a:pt x="94" y="600"/>
                    </a:lnTo>
                    <a:lnTo>
                      <a:pt x="74" y="691"/>
                    </a:lnTo>
                    <a:lnTo>
                      <a:pt x="57" y="787"/>
                    </a:lnTo>
                    <a:lnTo>
                      <a:pt x="42" y="886"/>
                    </a:lnTo>
                    <a:lnTo>
                      <a:pt x="31" y="985"/>
                    </a:lnTo>
                    <a:lnTo>
                      <a:pt x="22" y="1087"/>
                    </a:lnTo>
                    <a:lnTo>
                      <a:pt x="17" y="1193"/>
                    </a:lnTo>
                    <a:lnTo>
                      <a:pt x="13" y="1297"/>
                    </a:lnTo>
                    <a:lnTo>
                      <a:pt x="13" y="1403"/>
                    </a:lnTo>
                    <a:lnTo>
                      <a:pt x="17" y="1509"/>
                    </a:lnTo>
                    <a:lnTo>
                      <a:pt x="23" y="1617"/>
                    </a:lnTo>
                    <a:lnTo>
                      <a:pt x="33" y="1721"/>
                    </a:lnTo>
                    <a:lnTo>
                      <a:pt x="46" y="1825"/>
                    </a:lnTo>
                    <a:lnTo>
                      <a:pt x="62" y="1929"/>
                    </a:lnTo>
                    <a:lnTo>
                      <a:pt x="81" y="2029"/>
                    </a:lnTo>
                    <a:lnTo>
                      <a:pt x="106" y="2127"/>
                    </a:lnTo>
                    <a:lnTo>
                      <a:pt x="133" y="2221"/>
                    </a:lnTo>
                    <a:lnTo>
                      <a:pt x="165" y="2314"/>
                    </a:lnTo>
                    <a:lnTo>
                      <a:pt x="200" y="2401"/>
                    </a:lnTo>
                    <a:lnTo>
                      <a:pt x="238" y="2484"/>
                    </a:lnTo>
                    <a:lnTo>
                      <a:pt x="282" y="2562"/>
                    </a:lnTo>
                    <a:lnTo>
                      <a:pt x="327" y="2635"/>
                    </a:lnTo>
                    <a:lnTo>
                      <a:pt x="353" y="2669"/>
                    </a:lnTo>
                    <a:lnTo>
                      <a:pt x="379" y="2702"/>
                    </a:lnTo>
                    <a:lnTo>
                      <a:pt x="407" y="2732"/>
                    </a:lnTo>
                    <a:lnTo>
                      <a:pt x="435" y="2763"/>
                    </a:lnTo>
                    <a:lnTo>
                      <a:pt x="425" y="27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602080" y="464472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0" y="13"/>
                    </a:moveTo>
                    <a:lnTo>
                      <a:pt x="10" y="2"/>
                    </a:lnTo>
                    <a:lnTo>
                      <a:pt x="9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552760" y="2437920"/>
                <a:ext cx="399960" cy="274320"/>
              </a:xfrm>
              <a:custGeom>
                <a:avLst/>
                <a:gdLst/>
                <a:ahLst/>
                <a:rect l="l" t="t" r="r" b="b"/>
                <a:pathLst>
                  <a:path w="505" h="346">
                    <a:moveTo>
                      <a:pt x="0" y="18"/>
                    </a:moveTo>
                    <a:lnTo>
                      <a:pt x="19" y="8"/>
                    </a:lnTo>
                    <a:lnTo>
                      <a:pt x="38" y="1"/>
                    </a:lnTo>
                    <a:lnTo>
                      <a:pt x="58" y="0"/>
                    </a:lnTo>
                    <a:lnTo>
                      <a:pt x="80" y="3"/>
                    </a:lnTo>
                    <a:lnTo>
                      <a:pt x="103" y="12"/>
                    </a:lnTo>
                    <a:lnTo>
                      <a:pt x="126" y="23"/>
                    </a:lnTo>
                    <a:lnTo>
                      <a:pt x="153" y="38"/>
                    </a:lnTo>
                    <a:lnTo>
                      <a:pt x="181" y="57"/>
                    </a:lnTo>
                    <a:lnTo>
                      <a:pt x="212" y="81"/>
                    </a:lnTo>
                    <a:lnTo>
                      <a:pt x="245" y="107"/>
                    </a:lnTo>
                    <a:lnTo>
                      <a:pt x="319" y="170"/>
                    </a:lnTo>
                    <a:lnTo>
                      <a:pt x="505" y="335"/>
                    </a:lnTo>
                    <a:lnTo>
                      <a:pt x="496" y="346"/>
                    </a:lnTo>
                    <a:lnTo>
                      <a:pt x="310" y="181"/>
                    </a:lnTo>
                    <a:lnTo>
                      <a:pt x="235" y="118"/>
                    </a:lnTo>
                    <a:lnTo>
                      <a:pt x="202" y="92"/>
                    </a:lnTo>
                    <a:lnTo>
                      <a:pt x="173" y="70"/>
                    </a:lnTo>
                    <a:lnTo>
                      <a:pt x="145" y="50"/>
                    </a:lnTo>
                    <a:lnTo>
                      <a:pt x="120" y="37"/>
                    </a:lnTo>
                    <a:lnTo>
                      <a:pt x="97" y="26"/>
                    </a:lnTo>
                    <a:lnTo>
                      <a:pt x="77" y="18"/>
                    </a:lnTo>
                    <a:lnTo>
                      <a:pt x="57" y="14"/>
                    </a:lnTo>
                    <a:lnTo>
                      <a:pt x="41" y="16"/>
                    </a:lnTo>
                    <a:lnTo>
                      <a:pt x="25" y="22"/>
                    </a:lnTo>
                    <a:lnTo>
                      <a:pt x="9" y="3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552760" y="245232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1"/>
                    </a:moveTo>
                    <a:lnTo>
                      <a:pt x="0" y="0"/>
                    </a:lnTo>
                    <a:lnTo>
                      <a:pt x="9" y="12"/>
                    </a:lnTo>
                    <a:lnTo>
                      <a:pt x="10" y="1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935440" y="2692080"/>
                <a:ext cx="17280" cy="2016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14" y="26"/>
                    </a:moveTo>
                    <a:lnTo>
                      <a:pt x="0" y="11"/>
                    </a:lnTo>
                    <a:lnTo>
                      <a:pt x="10" y="0"/>
                    </a:lnTo>
                    <a:lnTo>
                      <a:pt x="23" y="15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944800" y="27028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9" y="0"/>
                    </a:lnTo>
                    <a:lnTo>
                      <a:pt x="0" y="11"/>
                    </a:lnTo>
                    <a:lnTo>
                      <a:pt x="9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935440" y="2692080"/>
                <a:ext cx="20520" cy="2340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10" y="0"/>
                    </a:moveTo>
                    <a:lnTo>
                      <a:pt x="0" y="11"/>
                    </a:lnTo>
                    <a:lnTo>
                      <a:pt x="17" y="30"/>
                    </a:lnTo>
                    <a:lnTo>
                      <a:pt x="27" y="1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935440" y="2692080"/>
                <a:ext cx="6120" cy="9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10" y="0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948040" y="2706120"/>
                <a:ext cx="90360" cy="82440"/>
              </a:xfrm>
              <a:custGeom>
                <a:avLst/>
                <a:gdLst/>
                <a:ahLst/>
                <a:rect l="l" t="t" r="r" b="b"/>
                <a:pathLst>
                  <a:path w="114" h="103">
                    <a:moveTo>
                      <a:pt x="10" y="0"/>
                    </a:moveTo>
                    <a:lnTo>
                      <a:pt x="114" y="92"/>
                    </a:lnTo>
                    <a:lnTo>
                      <a:pt x="104" y="103"/>
                    </a:lnTo>
                    <a:lnTo>
                      <a:pt x="0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948040" y="27061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1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32280" y="2754000"/>
                <a:ext cx="141120" cy="45360"/>
              </a:xfrm>
              <a:custGeom>
                <a:avLst/>
                <a:gdLst/>
                <a:ahLst/>
                <a:rect l="l" t="t" r="r" b="b"/>
                <a:pathLst>
                  <a:path w="179" h="58">
                    <a:moveTo>
                      <a:pt x="6" y="32"/>
                    </a:moveTo>
                    <a:lnTo>
                      <a:pt x="27" y="38"/>
                    </a:lnTo>
                    <a:lnTo>
                      <a:pt x="48" y="42"/>
                    </a:lnTo>
                    <a:lnTo>
                      <a:pt x="71" y="43"/>
                    </a:lnTo>
                    <a:lnTo>
                      <a:pt x="92" y="41"/>
                    </a:lnTo>
                    <a:lnTo>
                      <a:pt x="113" y="36"/>
                    </a:lnTo>
                    <a:lnTo>
                      <a:pt x="132" y="27"/>
                    </a:lnTo>
                    <a:lnTo>
                      <a:pt x="151" y="15"/>
                    </a:lnTo>
                    <a:lnTo>
                      <a:pt x="169" y="0"/>
                    </a:lnTo>
                    <a:lnTo>
                      <a:pt x="179" y="11"/>
                    </a:lnTo>
                    <a:lnTo>
                      <a:pt x="159" y="27"/>
                    </a:lnTo>
                    <a:lnTo>
                      <a:pt x="138" y="41"/>
                    </a:lnTo>
                    <a:lnTo>
                      <a:pt x="118" y="49"/>
                    </a:lnTo>
                    <a:lnTo>
                      <a:pt x="94" y="55"/>
                    </a:lnTo>
                    <a:lnTo>
                      <a:pt x="71" y="58"/>
                    </a:lnTo>
                    <a:lnTo>
                      <a:pt x="47" y="57"/>
                    </a:lnTo>
                    <a:lnTo>
                      <a:pt x="25" y="53"/>
                    </a:lnTo>
                    <a:lnTo>
                      <a:pt x="0" y="46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030480" y="277920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12"/>
                    </a:moveTo>
                    <a:lnTo>
                      <a:pt x="1" y="14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164040" y="2449080"/>
                <a:ext cx="60120" cy="312480"/>
              </a:xfrm>
              <a:custGeom>
                <a:avLst/>
                <a:gdLst/>
                <a:ahLst/>
                <a:rect l="l" t="t" r="r" b="b"/>
                <a:pathLst>
                  <a:path w="74" h="394">
                    <a:moveTo>
                      <a:pt x="0" y="384"/>
                    </a:moveTo>
                    <a:lnTo>
                      <a:pt x="19" y="360"/>
                    </a:lnTo>
                    <a:lnTo>
                      <a:pt x="33" y="338"/>
                    </a:lnTo>
                    <a:lnTo>
                      <a:pt x="39" y="315"/>
                    </a:lnTo>
                    <a:lnTo>
                      <a:pt x="43" y="292"/>
                    </a:lnTo>
                    <a:lnTo>
                      <a:pt x="41" y="268"/>
                    </a:lnTo>
                    <a:lnTo>
                      <a:pt x="39" y="246"/>
                    </a:lnTo>
                    <a:lnTo>
                      <a:pt x="28" y="197"/>
                    </a:lnTo>
                    <a:lnTo>
                      <a:pt x="17" y="147"/>
                    </a:lnTo>
                    <a:lnTo>
                      <a:pt x="14" y="122"/>
                    </a:lnTo>
                    <a:lnTo>
                      <a:pt x="14" y="97"/>
                    </a:lnTo>
                    <a:lnTo>
                      <a:pt x="16" y="84"/>
                    </a:lnTo>
                    <a:lnTo>
                      <a:pt x="18" y="71"/>
                    </a:lnTo>
                    <a:lnTo>
                      <a:pt x="28" y="46"/>
                    </a:lnTo>
                    <a:lnTo>
                      <a:pt x="43" y="23"/>
                    </a:lnTo>
                    <a:lnTo>
                      <a:pt x="65" y="0"/>
                    </a:lnTo>
                    <a:lnTo>
                      <a:pt x="74" y="12"/>
                    </a:lnTo>
                    <a:lnTo>
                      <a:pt x="54" y="32"/>
                    </a:lnTo>
                    <a:lnTo>
                      <a:pt x="40" y="53"/>
                    </a:lnTo>
                    <a:lnTo>
                      <a:pt x="32" y="78"/>
                    </a:lnTo>
                    <a:lnTo>
                      <a:pt x="29" y="87"/>
                    </a:lnTo>
                    <a:lnTo>
                      <a:pt x="28" y="97"/>
                    </a:lnTo>
                    <a:lnTo>
                      <a:pt x="28" y="122"/>
                    </a:lnTo>
                    <a:lnTo>
                      <a:pt x="30" y="144"/>
                    </a:lnTo>
                    <a:lnTo>
                      <a:pt x="41" y="194"/>
                    </a:lnTo>
                    <a:lnTo>
                      <a:pt x="52" y="243"/>
                    </a:lnTo>
                    <a:lnTo>
                      <a:pt x="55" y="268"/>
                    </a:lnTo>
                    <a:lnTo>
                      <a:pt x="56" y="294"/>
                    </a:lnTo>
                    <a:lnTo>
                      <a:pt x="52" y="320"/>
                    </a:lnTo>
                    <a:lnTo>
                      <a:pt x="45" y="345"/>
                    </a:lnTo>
                    <a:lnTo>
                      <a:pt x="30" y="370"/>
                    </a:lnTo>
                    <a:lnTo>
                      <a:pt x="11" y="394"/>
                    </a:lnTo>
                    <a:lnTo>
                      <a:pt x="0" y="3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164040" y="275400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1"/>
                    </a:moveTo>
                    <a:lnTo>
                      <a:pt x="11" y="1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216240" y="2410920"/>
                <a:ext cx="382680" cy="190080"/>
              </a:xfrm>
              <a:custGeom>
                <a:avLst/>
                <a:gdLst/>
                <a:ahLst/>
                <a:rect l="l" t="t" r="r" b="b"/>
                <a:pathLst>
                  <a:path w="482" h="238">
                    <a:moveTo>
                      <a:pt x="0" y="47"/>
                    </a:moveTo>
                    <a:lnTo>
                      <a:pt x="15" y="33"/>
                    </a:lnTo>
                    <a:lnTo>
                      <a:pt x="34" y="22"/>
                    </a:lnTo>
                    <a:lnTo>
                      <a:pt x="72" y="7"/>
                    </a:lnTo>
                    <a:lnTo>
                      <a:pt x="91" y="1"/>
                    </a:lnTo>
                    <a:lnTo>
                      <a:pt x="111" y="0"/>
                    </a:lnTo>
                    <a:lnTo>
                      <a:pt x="129" y="0"/>
                    </a:lnTo>
                    <a:lnTo>
                      <a:pt x="149" y="1"/>
                    </a:lnTo>
                    <a:lnTo>
                      <a:pt x="168" y="5"/>
                    </a:lnTo>
                    <a:lnTo>
                      <a:pt x="188" y="11"/>
                    </a:lnTo>
                    <a:lnTo>
                      <a:pt x="226" y="25"/>
                    </a:lnTo>
                    <a:lnTo>
                      <a:pt x="261" y="44"/>
                    </a:lnTo>
                    <a:lnTo>
                      <a:pt x="281" y="54"/>
                    </a:lnTo>
                    <a:lnTo>
                      <a:pt x="298" y="65"/>
                    </a:lnTo>
                    <a:lnTo>
                      <a:pt x="332" y="89"/>
                    </a:lnTo>
                    <a:lnTo>
                      <a:pt x="365" y="115"/>
                    </a:lnTo>
                    <a:lnTo>
                      <a:pt x="420" y="164"/>
                    </a:lnTo>
                    <a:lnTo>
                      <a:pt x="482" y="228"/>
                    </a:lnTo>
                    <a:lnTo>
                      <a:pt x="471" y="238"/>
                    </a:lnTo>
                    <a:lnTo>
                      <a:pt x="410" y="175"/>
                    </a:lnTo>
                    <a:lnTo>
                      <a:pt x="355" y="126"/>
                    </a:lnTo>
                    <a:lnTo>
                      <a:pt x="323" y="101"/>
                    </a:lnTo>
                    <a:lnTo>
                      <a:pt x="289" y="77"/>
                    </a:lnTo>
                    <a:lnTo>
                      <a:pt x="272" y="66"/>
                    </a:lnTo>
                    <a:lnTo>
                      <a:pt x="255" y="57"/>
                    </a:lnTo>
                    <a:lnTo>
                      <a:pt x="220" y="39"/>
                    </a:lnTo>
                    <a:lnTo>
                      <a:pt x="182" y="24"/>
                    </a:lnTo>
                    <a:lnTo>
                      <a:pt x="166" y="19"/>
                    </a:lnTo>
                    <a:lnTo>
                      <a:pt x="146" y="16"/>
                    </a:lnTo>
                    <a:lnTo>
                      <a:pt x="128" y="14"/>
                    </a:lnTo>
                    <a:lnTo>
                      <a:pt x="111" y="14"/>
                    </a:lnTo>
                    <a:lnTo>
                      <a:pt x="92" y="16"/>
                    </a:lnTo>
                    <a:lnTo>
                      <a:pt x="77" y="21"/>
                    </a:lnTo>
                    <a:lnTo>
                      <a:pt x="40" y="35"/>
                    </a:lnTo>
                    <a:lnTo>
                      <a:pt x="24" y="45"/>
                    </a:lnTo>
                    <a:lnTo>
                      <a:pt x="9" y="59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216240" y="24490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0" y="0"/>
                    </a:moveTo>
                    <a:lnTo>
                      <a:pt x="9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591000" y="2593440"/>
                <a:ext cx="150840" cy="377640"/>
              </a:xfrm>
              <a:custGeom>
                <a:avLst/>
                <a:gdLst/>
                <a:ahLst/>
                <a:rect l="l" t="t" r="r" b="b"/>
                <a:pathLst>
                  <a:path w="191" h="476">
                    <a:moveTo>
                      <a:pt x="11" y="0"/>
                    </a:moveTo>
                    <a:lnTo>
                      <a:pt x="47" y="37"/>
                    </a:lnTo>
                    <a:lnTo>
                      <a:pt x="79" y="74"/>
                    </a:lnTo>
                    <a:lnTo>
                      <a:pt x="107" y="111"/>
                    </a:lnTo>
                    <a:lnTo>
                      <a:pt x="129" y="146"/>
                    </a:lnTo>
                    <a:lnTo>
                      <a:pt x="148" y="183"/>
                    </a:lnTo>
                    <a:lnTo>
                      <a:pt x="163" y="217"/>
                    </a:lnTo>
                    <a:lnTo>
                      <a:pt x="175" y="250"/>
                    </a:lnTo>
                    <a:lnTo>
                      <a:pt x="184" y="283"/>
                    </a:lnTo>
                    <a:lnTo>
                      <a:pt x="189" y="314"/>
                    </a:lnTo>
                    <a:lnTo>
                      <a:pt x="191" y="343"/>
                    </a:lnTo>
                    <a:lnTo>
                      <a:pt x="190" y="370"/>
                    </a:lnTo>
                    <a:lnTo>
                      <a:pt x="186" y="395"/>
                    </a:lnTo>
                    <a:lnTo>
                      <a:pt x="179" y="420"/>
                    </a:lnTo>
                    <a:lnTo>
                      <a:pt x="170" y="442"/>
                    </a:lnTo>
                    <a:lnTo>
                      <a:pt x="159" y="460"/>
                    </a:lnTo>
                    <a:lnTo>
                      <a:pt x="146" y="476"/>
                    </a:lnTo>
                    <a:lnTo>
                      <a:pt x="135" y="466"/>
                    </a:lnTo>
                    <a:lnTo>
                      <a:pt x="147" y="452"/>
                    </a:lnTo>
                    <a:lnTo>
                      <a:pt x="157" y="436"/>
                    </a:lnTo>
                    <a:lnTo>
                      <a:pt x="165" y="415"/>
                    </a:lnTo>
                    <a:lnTo>
                      <a:pt x="172" y="393"/>
                    </a:lnTo>
                    <a:lnTo>
                      <a:pt x="175" y="369"/>
                    </a:lnTo>
                    <a:lnTo>
                      <a:pt x="176" y="343"/>
                    </a:lnTo>
                    <a:lnTo>
                      <a:pt x="174" y="315"/>
                    </a:lnTo>
                    <a:lnTo>
                      <a:pt x="169" y="285"/>
                    </a:lnTo>
                    <a:lnTo>
                      <a:pt x="162" y="256"/>
                    </a:lnTo>
                    <a:lnTo>
                      <a:pt x="150" y="223"/>
                    </a:lnTo>
                    <a:lnTo>
                      <a:pt x="135" y="189"/>
                    </a:lnTo>
                    <a:lnTo>
                      <a:pt x="117" y="155"/>
                    </a:lnTo>
                    <a:lnTo>
                      <a:pt x="95" y="119"/>
                    </a:lnTo>
                    <a:lnTo>
                      <a:pt x="68" y="84"/>
                    </a:lnTo>
                    <a:lnTo>
                      <a:pt x="36" y="47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591000" y="259344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0"/>
                    </a:move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395520" y="2963520"/>
                <a:ext cx="309600" cy="42480"/>
              </a:xfrm>
              <a:custGeom>
                <a:avLst/>
                <a:gdLst/>
                <a:ahLst/>
                <a:rect l="l" t="t" r="r" b="b"/>
                <a:pathLst>
                  <a:path w="390" h="54">
                    <a:moveTo>
                      <a:pt x="390" y="11"/>
                    </a:moveTo>
                    <a:lnTo>
                      <a:pt x="368" y="27"/>
                    </a:lnTo>
                    <a:lnTo>
                      <a:pt x="345" y="39"/>
                    </a:lnTo>
                    <a:lnTo>
                      <a:pt x="321" y="46"/>
                    </a:lnTo>
                    <a:lnTo>
                      <a:pt x="296" y="48"/>
                    </a:lnTo>
                    <a:lnTo>
                      <a:pt x="246" y="44"/>
                    </a:lnTo>
                    <a:lnTo>
                      <a:pt x="193" y="33"/>
                    </a:lnTo>
                    <a:lnTo>
                      <a:pt x="142" y="24"/>
                    </a:lnTo>
                    <a:lnTo>
                      <a:pt x="119" y="20"/>
                    </a:lnTo>
                    <a:lnTo>
                      <a:pt x="94" y="20"/>
                    </a:lnTo>
                    <a:lnTo>
                      <a:pt x="72" y="22"/>
                    </a:lnTo>
                    <a:lnTo>
                      <a:pt x="50" y="28"/>
                    </a:lnTo>
                    <a:lnTo>
                      <a:pt x="29" y="38"/>
                    </a:lnTo>
                    <a:lnTo>
                      <a:pt x="10" y="54"/>
                    </a:lnTo>
                    <a:lnTo>
                      <a:pt x="0" y="43"/>
                    </a:lnTo>
                    <a:lnTo>
                      <a:pt x="21" y="26"/>
                    </a:lnTo>
                    <a:lnTo>
                      <a:pt x="44" y="15"/>
                    </a:lnTo>
                    <a:lnTo>
                      <a:pt x="68" y="9"/>
                    </a:lnTo>
                    <a:lnTo>
                      <a:pt x="94" y="6"/>
                    </a:lnTo>
                    <a:lnTo>
                      <a:pt x="119" y="6"/>
                    </a:lnTo>
                    <a:lnTo>
                      <a:pt x="145" y="10"/>
                    </a:lnTo>
                    <a:lnTo>
                      <a:pt x="197" y="20"/>
                    </a:lnTo>
                    <a:lnTo>
                      <a:pt x="248" y="31"/>
                    </a:lnTo>
                    <a:lnTo>
                      <a:pt x="296" y="35"/>
                    </a:lnTo>
                    <a:lnTo>
                      <a:pt x="318" y="32"/>
                    </a:lnTo>
                    <a:lnTo>
                      <a:pt x="339" y="26"/>
                    </a:lnTo>
                    <a:lnTo>
                      <a:pt x="359" y="15"/>
                    </a:lnTo>
                    <a:lnTo>
                      <a:pt x="380" y="0"/>
                    </a:lnTo>
                    <a:lnTo>
                      <a:pt x="39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697200" y="29635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0"/>
                    </a:moveTo>
                    <a:lnTo>
                      <a:pt x="11" y="1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363840" y="2996640"/>
                <a:ext cx="39600" cy="115560"/>
              </a:xfrm>
              <a:custGeom>
                <a:avLst/>
                <a:gdLst/>
                <a:ahLst/>
                <a:rect l="l" t="t" r="r" b="b"/>
                <a:pathLst>
                  <a:path w="50" h="147">
                    <a:moveTo>
                      <a:pt x="50" y="10"/>
                    </a:moveTo>
                    <a:lnTo>
                      <a:pt x="39" y="26"/>
                    </a:lnTo>
                    <a:lnTo>
                      <a:pt x="29" y="41"/>
                    </a:lnTo>
                    <a:lnTo>
                      <a:pt x="20" y="58"/>
                    </a:lnTo>
                    <a:lnTo>
                      <a:pt x="17" y="72"/>
                    </a:lnTo>
                    <a:lnTo>
                      <a:pt x="14" y="89"/>
                    </a:lnTo>
                    <a:lnTo>
                      <a:pt x="14" y="109"/>
                    </a:lnTo>
                    <a:lnTo>
                      <a:pt x="22" y="144"/>
                    </a:lnTo>
                    <a:lnTo>
                      <a:pt x="7" y="147"/>
                    </a:lnTo>
                    <a:lnTo>
                      <a:pt x="0" y="110"/>
                    </a:lnTo>
                    <a:lnTo>
                      <a:pt x="0" y="89"/>
                    </a:lnTo>
                    <a:lnTo>
                      <a:pt x="2" y="70"/>
                    </a:lnTo>
                    <a:lnTo>
                      <a:pt x="7" y="52"/>
                    </a:lnTo>
                    <a:lnTo>
                      <a:pt x="15" y="34"/>
                    </a:lnTo>
                    <a:lnTo>
                      <a:pt x="26" y="17"/>
                    </a:lnTo>
                    <a:lnTo>
                      <a:pt x="39" y="0"/>
                    </a:lnTo>
                    <a:lnTo>
                      <a:pt x="5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395520" y="299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0"/>
                    </a:moveTo>
                    <a:lnTo>
                      <a:pt x="0" y="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371760" y="3107880"/>
                <a:ext cx="501840" cy="520200"/>
              </a:xfrm>
              <a:custGeom>
                <a:avLst/>
                <a:gdLst/>
                <a:ahLst/>
                <a:rect l="l" t="t" r="r" b="b"/>
                <a:pathLst>
                  <a:path w="632" h="655">
                    <a:moveTo>
                      <a:pt x="11" y="0"/>
                    </a:moveTo>
                    <a:lnTo>
                      <a:pt x="247" y="241"/>
                    </a:lnTo>
                    <a:lnTo>
                      <a:pt x="441" y="445"/>
                    </a:lnTo>
                    <a:lnTo>
                      <a:pt x="577" y="588"/>
                    </a:lnTo>
                    <a:lnTo>
                      <a:pt x="632" y="645"/>
                    </a:lnTo>
                    <a:lnTo>
                      <a:pt x="621" y="655"/>
                    </a:lnTo>
                    <a:lnTo>
                      <a:pt x="566" y="598"/>
                    </a:lnTo>
                    <a:lnTo>
                      <a:pt x="430" y="455"/>
                    </a:lnTo>
                    <a:lnTo>
                      <a:pt x="236" y="250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370320" y="310788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6"/>
                    </a:moveTo>
                    <a:lnTo>
                      <a:pt x="0" y="8"/>
                    </a:lnTo>
                    <a:lnTo>
                      <a:pt x="1" y="10"/>
                    </a:lnTo>
                    <a:lnTo>
                      <a:pt x="12" y="0"/>
                    </a:lnTo>
                    <a:lnTo>
                      <a:pt x="15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735360" y="3620520"/>
                <a:ext cx="138240" cy="137880"/>
              </a:xfrm>
              <a:custGeom>
                <a:avLst/>
                <a:gdLst/>
                <a:ahLst/>
                <a:rect l="l" t="t" r="r" b="b"/>
                <a:pathLst>
                  <a:path w="172" h="174">
                    <a:moveTo>
                      <a:pt x="172" y="11"/>
                    </a:moveTo>
                    <a:lnTo>
                      <a:pt x="157" y="24"/>
                    </a:lnTo>
                    <a:lnTo>
                      <a:pt x="124" y="57"/>
                    </a:lnTo>
                    <a:lnTo>
                      <a:pt x="11" y="174"/>
                    </a:lnTo>
                    <a:lnTo>
                      <a:pt x="0" y="164"/>
                    </a:lnTo>
                    <a:lnTo>
                      <a:pt x="113" y="47"/>
                    </a:lnTo>
                    <a:lnTo>
                      <a:pt x="148" y="13"/>
                    </a:lnTo>
                    <a:lnTo>
                      <a:pt x="162" y="0"/>
                    </a:lnTo>
                    <a:lnTo>
                      <a:pt x="17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863880" y="362052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1" y="0"/>
                    </a:moveTo>
                    <a:lnTo>
                      <a:pt x="17" y="7"/>
                    </a:lnTo>
                    <a:lnTo>
                      <a:pt x="11" y="11"/>
                    </a:lnTo>
                    <a:lnTo>
                      <a:pt x="1" y="0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606840" y="3733200"/>
                <a:ext cx="136440" cy="41040"/>
              </a:xfrm>
              <a:custGeom>
                <a:avLst/>
                <a:gdLst/>
                <a:ahLst/>
                <a:rect l="l" t="t" r="r" b="b"/>
                <a:pathLst>
                  <a:path w="171" h="52">
                    <a:moveTo>
                      <a:pt x="171" y="34"/>
                    </a:moveTo>
                    <a:lnTo>
                      <a:pt x="151" y="43"/>
                    </a:lnTo>
                    <a:lnTo>
                      <a:pt x="127" y="49"/>
                    </a:lnTo>
                    <a:lnTo>
                      <a:pt x="104" y="52"/>
                    </a:lnTo>
                    <a:lnTo>
                      <a:pt x="82" y="50"/>
                    </a:lnTo>
                    <a:lnTo>
                      <a:pt x="59" y="47"/>
                    </a:lnTo>
                    <a:lnTo>
                      <a:pt x="38" y="38"/>
                    </a:lnTo>
                    <a:lnTo>
                      <a:pt x="17" y="26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27" y="15"/>
                    </a:lnTo>
                    <a:lnTo>
                      <a:pt x="45" y="26"/>
                    </a:lnTo>
                    <a:lnTo>
                      <a:pt x="64" y="33"/>
                    </a:lnTo>
                    <a:lnTo>
                      <a:pt x="85" y="37"/>
                    </a:lnTo>
                    <a:lnTo>
                      <a:pt x="104" y="38"/>
                    </a:lnTo>
                    <a:lnTo>
                      <a:pt x="124" y="36"/>
                    </a:lnTo>
                    <a:lnTo>
                      <a:pt x="144" y="30"/>
                    </a:lnTo>
                    <a:lnTo>
                      <a:pt x="165" y="21"/>
                    </a:lnTo>
                    <a:lnTo>
                      <a:pt x="171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35360" y="3750840"/>
                <a:ext cx="9720" cy="90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1" y="11"/>
                    </a:moveTo>
                    <a:lnTo>
                      <a:pt x="8" y="13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570120" y="3433320"/>
                <a:ext cx="44640" cy="307440"/>
              </a:xfrm>
              <a:custGeom>
                <a:avLst/>
                <a:gdLst/>
                <a:ahLst/>
                <a:rect l="l" t="t" r="r" b="b"/>
                <a:pathLst>
                  <a:path w="55" h="389">
                    <a:moveTo>
                      <a:pt x="44" y="389"/>
                    </a:moveTo>
                    <a:lnTo>
                      <a:pt x="27" y="369"/>
                    </a:lnTo>
                    <a:lnTo>
                      <a:pt x="15" y="346"/>
                    </a:lnTo>
                    <a:lnTo>
                      <a:pt x="9" y="322"/>
                    </a:lnTo>
                    <a:lnTo>
                      <a:pt x="6" y="296"/>
                    </a:lnTo>
                    <a:lnTo>
                      <a:pt x="10" y="245"/>
                    </a:lnTo>
                    <a:lnTo>
                      <a:pt x="21" y="193"/>
                    </a:lnTo>
                    <a:lnTo>
                      <a:pt x="32" y="142"/>
                    </a:lnTo>
                    <a:lnTo>
                      <a:pt x="34" y="118"/>
                    </a:lnTo>
                    <a:lnTo>
                      <a:pt x="35" y="94"/>
                    </a:lnTo>
                    <a:lnTo>
                      <a:pt x="33" y="72"/>
                    </a:lnTo>
                    <a:lnTo>
                      <a:pt x="27" y="50"/>
                    </a:lnTo>
                    <a:lnTo>
                      <a:pt x="17" y="31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29" y="22"/>
                    </a:lnTo>
                    <a:lnTo>
                      <a:pt x="40" y="44"/>
                    </a:lnTo>
                    <a:lnTo>
                      <a:pt x="46" y="69"/>
                    </a:lnTo>
                    <a:lnTo>
                      <a:pt x="49" y="94"/>
                    </a:lnTo>
                    <a:lnTo>
                      <a:pt x="48" y="120"/>
                    </a:lnTo>
                    <a:lnTo>
                      <a:pt x="45" y="146"/>
                    </a:lnTo>
                    <a:lnTo>
                      <a:pt x="34" y="197"/>
                    </a:lnTo>
                    <a:lnTo>
                      <a:pt x="23" y="248"/>
                    </a:lnTo>
                    <a:lnTo>
                      <a:pt x="20" y="296"/>
                    </a:lnTo>
                    <a:lnTo>
                      <a:pt x="22" y="318"/>
                    </a:lnTo>
                    <a:lnTo>
                      <a:pt x="28" y="340"/>
                    </a:lnTo>
                    <a:lnTo>
                      <a:pt x="39" y="361"/>
                    </a:lnTo>
                    <a:lnTo>
                      <a:pt x="55" y="379"/>
                    </a:lnTo>
                    <a:lnTo>
                      <a:pt x="44" y="3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605040" y="37332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11"/>
                    </a:moveTo>
                    <a:lnTo>
                      <a:pt x="0" y="10"/>
                    </a:lnTo>
                    <a:lnTo>
                      <a:pt x="11" y="0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201840" y="3398400"/>
                <a:ext cx="378000" cy="148680"/>
              </a:xfrm>
              <a:custGeom>
                <a:avLst/>
                <a:gdLst/>
                <a:ahLst/>
                <a:rect l="l" t="t" r="r" b="b"/>
                <a:pathLst>
                  <a:path w="476" h="190">
                    <a:moveTo>
                      <a:pt x="466" y="55"/>
                    </a:moveTo>
                    <a:lnTo>
                      <a:pt x="452" y="42"/>
                    </a:lnTo>
                    <a:lnTo>
                      <a:pt x="434" y="32"/>
                    </a:lnTo>
                    <a:lnTo>
                      <a:pt x="415" y="25"/>
                    </a:lnTo>
                    <a:lnTo>
                      <a:pt x="393" y="19"/>
                    </a:lnTo>
                    <a:lnTo>
                      <a:pt x="370" y="15"/>
                    </a:lnTo>
                    <a:lnTo>
                      <a:pt x="344" y="14"/>
                    </a:lnTo>
                    <a:lnTo>
                      <a:pt x="316" y="15"/>
                    </a:lnTo>
                    <a:lnTo>
                      <a:pt x="285" y="20"/>
                    </a:lnTo>
                    <a:lnTo>
                      <a:pt x="255" y="28"/>
                    </a:lnTo>
                    <a:lnTo>
                      <a:pt x="222" y="41"/>
                    </a:lnTo>
                    <a:lnTo>
                      <a:pt x="189" y="54"/>
                    </a:lnTo>
                    <a:lnTo>
                      <a:pt x="154" y="72"/>
                    </a:lnTo>
                    <a:lnTo>
                      <a:pt x="120" y="96"/>
                    </a:lnTo>
                    <a:lnTo>
                      <a:pt x="84" y="122"/>
                    </a:lnTo>
                    <a:lnTo>
                      <a:pt x="47" y="154"/>
                    </a:lnTo>
                    <a:lnTo>
                      <a:pt x="10" y="190"/>
                    </a:lnTo>
                    <a:lnTo>
                      <a:pt x="0" y="179"/>
                    </a:lnTo>
                    <a:lnTo>
                      <a:pt x="37" y="143"/>
                    </a:lnTo>
                    <a:lnTo>
                      <a:pt x="74" y="111"/>
                    </a:lnTo>
                    <a:lnTo>
                      <a:pt x="110" y="85"/>
                    </a:lnTo>
                    <a:lnTo>
                      <a:pt x="146" y="60"/>
                    </a:lnTo>
                    <a:lnTo>
                      <a:pt x="181" y="42"/>
                    </a:lnTo>
                    <a:lnTo>
                      <a:pt x="216" y="27"/>
                    </a:lnTo>
                    <a:lnTo>
                      <a:pt x="249" y="15"/>
                    </a:lnTo>
                    <a:lnTo>
                      <a:pt x="282" y="6"/>
                    </a:lnTo>
                    <a:lnTo>
                      <a:pt x="313" y="1"/>
                    </a:lnTo>
                    <a:lnTo>
                      <a:pt x="344" y="0"/>
                    </a:lnTo>
                    <a:lnTo>
                      <a:pt x="372" y="1"/>
                    </a:lnTo>
                    <a:lnTo>
                      <a:pt x="397" y="5"/>
                    </a:lnTo>
                    <a:lnTo>
                      <a:pt x="420" y="11"/>
                    </a:lnTo>
                    <a:lnTo>
                      <a:pt x="442" y="20"/>
                    </a:lnTo>
                    <a:lnTo>
                      <a:pt x="460" y="31"/>
                    </a:lnTo>
                    <a:lnTo>
                      <a:pt x="476" y="44"/>
                    </a:lnTo>
                    <a:lnTo>
                      <a:pt x="466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570120" y="343332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1" y="11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022560" y="3539520"/>
                <a:ext cx="187200" cy="382320"/>
              </a:xfrm>
              <a:custGeom>
                <a:avLst/>
                <a:gdLst/>
                <a:ahLst/>
                <a:rect l="l" t="t" r="r" b="b"/>
                <a:pathLst>
                  <a:path w="237" h="483">
                    <a:moveTo>
                      <a:pt x="237" y="11"/>
                    </a:moveTo>
                    <a:lnTo>
                      <a:pt x="174" y="72"/>
                    </a:lnTo>
                    <a:lnTo>
                      <a:pt x="125" y="127"/>
                    </a:lnTo>
                    <a:lnTo>
                      <a:pt x="77" y="192"/>
                    </a:lnTo>
                    <a:lnTo>
                      <a:pt x="55" y="226"/>
                    </a:lnTo>
                    <a:lnTo>
                      <a:pt x="37" y="263"/>
                    </a:lnTo>
                    <a:lnTo>
                      <a:pt x="25" y="298"/>
                    </a:lnTo>
                    <a:lnTo>
                      <a:pt x="16" y="335"/>
                    </a:lnTo>
                    <a:lnTo>
                      <a:pt x="15" y="371"/>
                    </a:lnTo>
                    <a:lnTo>
                      <a:pt x="16" y="389"/>
                    </a:lnTo>
                    <a:lnTo>
                      <a:pt x="20" y="407"/>
                    </a:lnTo>
                    <a:lnTo>
                      <a:pt x="25" y="424"/>
                    </a:lnTo>
                    <a:lnTo>
                      <a:pt x="33" y="440"/>
                    </a:lnTo>
                    <a:lnTo>
                      <a:pt x="44" y="457"/>
                    </a:lnTo>
                    <a:lnTo>
                      <a:pt x="56" y="473"/>
                    </a:lnTo>
                    <a:lnTo>
                      <a:pt x="45" y="483"/>
                    </a:lnTo>
                    <a:lnTo>
                      <a:pt x="32" y="466"/>
                    </a:lnTo>
                    <a:lnTo>
                      <a:pt x="21" y="448"/>
                    </a:lnTo>
                    <a:lnTo>
                      <a:pt x="11" y="430"/>
                    </a:lnTo>
                    <a:lnTo>
                      <a:pt x="5" y="409"/>
                    </a:lnTo>
                    <a:lnTo>
                      <a:pt x="1" y="391"/>
                    </a:lnTo>
                    <a:lnTo>
                      <a:pt x="0" y="371"/>
                    </a:lnTo>
                    <a:lnTo>
                      <a:pt x="1" y="334"/>
                    </a:lnTo>
                    <a:lnTo>
                      <a:pt x="10" y="296"/>
                    </a:lnTo>
                    <a:lnTo>
                      <a:pt x="23" y="256"/>
                    </a:lnTo>
                    <a:lnTo>
                      <a:pt x="42" y="220"/>
                    </a:lnTo>
                    <a:lnTo>
                      <a:pt x="65" y="183"/>
                    </a:lnTo>
                    <a:lnTo>
                      <a:pt x="114" y="117"/>
                    </a:lnTo>
                    <a:lnTo>
                      <a:pt x="163" y="62"/>
                    </a:lnTo>
                    <a:lnTo>
                      <a:pt x="227" y="0"/>
                    </a:lnTo>
                    <a:lnTo>
                      <a:pt x="23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201840" y="35395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1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059280" y="3914280"/>
                <a:ext cx="312480" cy="60120"/>
              </a:xfrm>
              <a:custGeom>
                <a:avLst/>
                <a:gdLst/>
                <a:ahLst/>
                <a:rect l="l" t="t" r="r" b="b"/>
                <a:pathLst>
                  <a:path w="393" h="74">
                    <a:moveTo>
                      <a:pt x="9" y="0"/>
                    </a:moveTo>
                    <a:lnTo>
                      <a:pt x="31" y="21"/>
                    </a:lnTo>
                    <a:lnTo>
                      <a:pt x="42" y="28"/>
                    </a:lnTo>
                    <a:lnTo>
                      <a:pt x="52" y="34"/>
                    </a:lnTo>
                    <a:lnTo>
                      <a:pt x="74" y="41"/>
                    </a:lnTo>
                    <a:lnTo>
                      <a:pt x="96" y="45"/>
                    </a:lnTo>
                    <a:lnTo>
                      <a:pt x="121" y="45"/>
                    </a:lnTo>
                    <a:lnTo>
                      <a:pt x="144" y="43"/>
                    </a:lnTo>
                    <a:lnTo>
                      <a:pt x="193" y="32"/>
                    </a:lnTo>
                    <a:lnTo>
                      <a:pt x="242" y="21"/>
                    </a:lnTo>
                    <a:lnTo>
                      <a:pt x="268" y="17"/>
                    </a:lnTo>
                    <a:lnTo>
                      <a:pt x="293" y="17"/>
                    </a:lnTo>
                    <a:lnTo>
                      <a:pt x="319" y="21"/>
                    </a:lnTo>
                    <a:lnTo>
                      <a:pt x="343" y="29"/>
                    </a:lnTo>
                    <a:lnTo>
                      <a:pt x="369" y="43"/>
                    </a:lnTo>
                    <a:lnTo>
                      <a:pt x="393" y="63"/>
                    </a:lnTo>
                    <a:lnTo>
                      <a:pt x="383" y="74"/>
                    </a:lnTo>
                    <a:lnTo>
                      <a:pt x="360" y="55"/>
                    </a:lnTo>
                    <a:lnTo>
                      <a:pt x="337" y="43"/>
                    </a:lnTo>
                    <a:lnTo>
                      <a:pt x="316" y="35"/>
                    </a:lnTo>
                    <a:lnTo>
                      <a:pt x="292" y="32"/>
                    </a:lnTo>
                    <a:lnTo>
                      <a:pt x="268" y="32"/>
                    </a:lnTo>
                    <a:lnTo>
                      <a:pt x="244" y="35"/>
                    </a:lnTo>
                    <a:lnTo>
                      <a:pt x="195" y="46"/>
                    </a:lnTo>
                    <a:lnTo>
                      <a:pt x="146" y="57"/>
                    </a:lnTo>
                    <a:lnTo>
                      <a:pt x="121" y="60"/>
                    </a:lnTo>
                    <a:lnTo>
                      <a:pt x="95" y="60"/>
                    </a:lnTo>
                    <a:lnTo>
                      <a:pt x="72" y="56"/>
                    </a:lnTo>
                    <a:lnTo>
                      <a:pt x="46" y="48"/>
                    </a:lnTo>
                    <a:lnTo>
                      <a:pt x="34" y="40"/>
                    </a:lnTo>
                    <a:lnTo>
                      <a:pt x="22" y="32"/>
                    </a:lnTo>
                    <a:lnTo>
                      <a:pt x="0" y="1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057480" y="39142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0"/>
                    </a:moveTo>
                    <a:lnTo>
                      <a:pt x="2" y="11"/>
                    </a:lnTo>
                    <a:lnTo>
                      <a:pt x="1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362400" y="3965040"/>
                <a:ext cx="46080" cy="141120"/>
              </a:xfrm>
              <a:custGeom>
                <a:avLst/>
                <a:gdLst/>
                <a:ahLst/>
                <a:rect l="l" t="t" r="r" b="b"/>
                <a:pathLst>
                  <a:path w="59" h="178">
                    <a:moveTo>
                      <a:pt x="11" y="0"/>
                    </a:moveTo>
                    <a:lnTo>
                      <a:pt x="28" y="20"/>
                    </a:lnTo>
                    <a:lnTo>
                      <a:pt x="40" y="41"/>
                    </a:lnTo>
                    <a:lnTo>
                      <a:pt x="50" y="63"/>
                    </a:lnTo>
                    <a:lnTo>
                      <a:pt x="56" y="86"/>
                    </a:lnTo>
                    <a:lnTo>
                      <a:pt x="59" y="109"/>
                    </a:lnTo>
                    <a:lnTo>
                      <a:pt x="59" y="131"/>
                    </a:lnTo>
                    <a:lnTo>
                      <a:pt x="54" y="156"/>
                    </a:lnTo>
                    <a:lnTo>
                      <a:pt x="45" y="178"/>
                    </a:lnTo>
                    <a:lnTo>
                      <a:pt x="32" y="173"/>
                    </a:lnTo>
                    <a:lnTo>
                      <a:pt x="39" y="153"/>
                    </a:lnTo>
                    <a:lnTo>
                      <a:pt x="44" y="130"/>
                    </a:lnTo>
                    <a:lnTo>
                      <a:pt x="44" y="109"/>
                    </a:lnTo>
                    <a:lnTo>
                      <a:pt x="42" y="89"/>
                    </a:lnTo>
                    <a:lnTo>
                      <a:pt x="37" y="69"/>
                    </a:lnTo>
                    <a:lnTo>
                      <a:pt x="27" y="47"/>
                    </a:lnTo>
                    <a:lnTo>
                      <a:pt x="16" y="29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362400" y="39650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0" y="10"/>
                    </a:lnTo>
                    <a:lnTo>
                      <a:pt x="1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935440" y="4100040"/>
                <a:ext cx="461880" cy="410760"/>
              </a:xfrm>
              <a:custGeom>
                <a:avLst/>
                <a:gdLst/>
                <a:ahLst/>
                <a:rect l="l" t="t" r="r" b="b"/>
                <a:pathLst>
                  <a:path w="582" h="519">
                    <a:moveTo>
                      <a:pt x="582" y="11"/>
                    </a:moveTo>
                    <a:lnTo>
                      <a:pt x="438" y="150"/>
                    </a:lnTo>
                    <a:lnTo>
                      <a:pt x="291" y="284"/>
                    </a:lnTo>
                    <a:lnTo>
                      <a:pt x="219" y="348"/>
                    </a:lnTo>
                    <a:lnTo>
                      <a:pt x="148" y="409"/>
                    </a:lnTo>
                    <a:lnTo>
                      <a:pt x="77" y="466"/>
                    </a:lnTo>
                    <a:lnTo>
                      <a:pt x="10" y="519"/>
                    </a:lnTo>
                    <a:lnTo>
                      <a:pt x="0" y="508"/>
                    </a:lnTo>
                    <a:lnTo>
                      <a:pt x="68" y="455"/>
                    </a:lnTo>
                    <a:lnTo>
                      <a:pt x="138" y="398"/>
                    </a:lnTo>
                    <a:lnTo>
                      <a:pt x="209" y="337"/>
                    </a:lnTo>
                    <a:lnTo>
                      <a:pt x="281" y="273"/>
                    </a:lnTo>
                    <a:lnTo>
                      <a:pt x="428" y="139"/>
                    </a:lnTo>
                    <a:lnTo>
                      <a:pt x="572" y="0"/>
                    </a:lnTo>
                    <a:lnTo>
                      <a:pt x="58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387600" y="41000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3" y="8"/>
                    </a:moveTo>
                    <a:lnTo>
                      <a:pt x="12" y="11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935440" y="450324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1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935440" y="450324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11"/>
                    </a:moveTo>
                    <a:lnTo>
                      <a:pt x="0" y="0"/>
                    </a:lnTo>
                    <a:lnTo>
                      <a:pt x="10" y="11"/>
                    </a:lnTo>
                    <a:lnTo>
                      <a:pt x="0" y="0"/>
                    </a:lnTo>
                    <a:lnTo>
                      <a:pt x="1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935440" y="450324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11"/>
                    </a:moveTo>
                    <a:lnTo>
                      <a:pt x="0" y="0"/>
                    </a:lnTo>
                    <a:lnTo>
                      <a:pt x="10" y="11"/>
                    </a:lnTo>
                    <a:lnTo>
                      <a:pt x="0" y="0"/>
                    </a:lnTo>
                    <a:lnTo>
                      <a:pt x="1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583000" y="4393800"/>
                <a:ext cx="287280" cy="271080"/>
              </a:xfrm>
              <a:custGeom>
                <a:avLst/>
                <a:gdLst/>
                <a:ahLst/>
                <a:rect l="l" t="t" r="r" b="b"/>
                <a:pathLst>
                  <a:path w="363" h="342">
                    <a:moveTo>
                      <a:pt x="0" y="342"/>
                    </a:moveTo>
                    <a:lnTo>
                      <a:pt x="363" y="55"/>
                    </a:lnTo>
                    <a:lnTo>
                      <a:pt x="6" y="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577960" y="4433400"/>
                <a:ext cx="297000" cy="236160"/>
              </a:xfrm>
              <a:custGeom>
                <a:avLst/>
                <a:gdLst/>
                <a:ahLst/>
                <a:rect l="l" t="t" r="r" b="b"/>
                <a:pathLst>
                  <a:path w="373" h="298">
                    <a:moveTo>
                      <a:pt x="0" y="287"/>
                    </a:moveTo>
                    <a:lnTo>
                      <a:pt x="10" y="298"/>
                    </a:lnTo>
                    <a:lnTo>
                      <a:pt x="373" y="11"/>
                    </a:lnTo>
                    <a:lnTo>
                      <a:pt x="363" y="0"/>
                    </a:lnTo>
                    <a:lnTo>
                      <a:pt x="0" y="2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585880" y="4389120"/>
                <a:ext cx="285840" cy="53280"/>
              </a:xfrm>
              <a:custGeom>
                <a:avLst/>
                <a:gdLst/>
                <a:ahLst/>
                <a:rect l="l" t="t" r="r" b="b"/>
                <a:pathLst>
                  <a:path w="360" h="68">
                    <a:moveTo>
                      <a:pt x="357" y="68"/>
                    </a:moveTo>
                    <a:lnTo>
                      <a:pt x="360" y="55"/>
                    </a:lnTo>
                    <a:lnTo>
                      <a:pt x="3" y="0"/>
                    </a:lnTo>
                    <a:lnTo>
                      <a:pt x="0" y="13"/>
                    </a:lnTo>
                    <a:lnTo>
                      <a:pt x="35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67040" y="4431960"/>
                <a:ext cx="17280" cy="1044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10" y="12"/>
                    </a:moveTo>
                    <a:lnTo>
                      <a:pt x="22" y="2"/>
                    </a:lnTo>
                    <a:lnTo>
                      <a:pt x="7" y="0"/>
                    </a:lnTo>
                    <a:lnTo>
                      <a:pt x="4" y="13"/>
                    </a:lnTo>
                    <a:lnTo>
                      <a:pt x="0" y="1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576520" y="4393800"/>
                <a:ext cx="15840" cy="271080"/>
              </a:xfrm>
              <a:custGeom>
                <a:avLst/>
                <a:gdLst/>
                <a:ahLst/>
                <a:rect l="l" t="t" r="r" b="b"/>
                <a:pathLst>
                  <a:path w="21" h="342">
                    <a:moveTo>
                      <a:pt x="21" y="0"/>
                    </a:moveTo>
                    <a:lnTo>
                      <a:pt x="6" y="0"/>
                    </a:lnTo>
                    <a:lnTo>
                      <a:pt x="0" y="342"/>
                    </a:lnTo>
                    <a:lnTo>
                      <a:pt x="15" y="34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581200" y="438732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9" y="2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5" y="8"/>
                    </a:lnTo>
                    <a:lnTo>
                      <a:pt x="6" y="15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576520" y="46620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0" y="5"/>
                    </a:moveTo>
                    <a:lnTo>
                      <a:pt x="0" y="21"/>
                    </a:lnTo>
                    <a:lnTo>
                      <a:pt x="12" y="11"/>
                    </a:lnTo>
                    <a:lnTo>
                      <a:pt x="2" y="0"/>
                    </a:lnTo>
                    <a:lnTo>
                      <a:pt x="1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835360" y="2109240"/>
                <a:ext cx="2944800" cy="1041120"/>
              </a:xfrm>
              <a:custGeom>
                <a:avLst/>
                <a:gdLst/>
                <a:ahLst/>
                <a:rect l="l" t="t" r="r" b="b"/>
                <a:pathLst>
                  <a:path w="3709" h="1312">
                    <a:moveTo>
                      <a:pt x="86" y="792"/>
                    </a:moveTo>
                    <a:lnTo>
                      <a:pt x="96" y="819"/>
                    </a:lnTo>
                    <a:lnTo>
                      <a:pt x="101" y="831"/>
                    </a:lnTo>
                    <a:lnTo>
                      <a:pt x="107" y="844"/>
                    </a:lnTo>
                    <a:lnTo>
                      <a:pt x="118" y="870"/>
                    </a:lnTo>
                    <a:lnTo>
                      <a:pt x="131" y="897"/>
                    </a:lnTo>
                    <a:lnTo>
                      <a:pt x="145" y="923"/>
                    </a:lnTo>
                    <a:lnTo>
                      <a:pt x="153" y="936"/>
                    </a:lnTo>
                    <a:lnTo>
                      <a:pt x="161" y="948"/>
                    </a:lnTo>
                    <a:lnTo>
                      <a:pt x="176" y="974"/>
                    </a:lnTo>
                    <a:lnTo>
                      <a:pt x="194" y="1000"/>
                    </a:lnTo>
                    <a:lnTo>
                      <a:pt x="211" y="1024"/>
                    </a:lnTo>
                    <a:lnTo>
                      <a:pt x="229" y="1049"/>
                    </a:lnTo>
                    <a:lnTo>
                      <a:pt x="247" y="1072"/>
                    </a:lnTo>
                    <a:lnTo>
                      <a:pt x="267" y="1094"/>
                    </a:lnTo>
                    <a:lnTo>
                      <a:pt x="286" y="1116"/>
                    </a:lnTo>
                    <a:lnTo>
                      <a:pt x="306" y="1137"/>
                    </a:lnTo>
                    <a:lnTo>
                      <a:pt x="327" y="1158"/>
                    </a:lnTo>
                    <a:lnTo>
                      <a:pt x="346" y="1176"/>
                    </a:lnTo>
                    <a:lnTo>
                      <a:pt x="368" y="1194"/>
                    </a:lnTo>
                    <a:lnTo>
                      <a:pt x="389" y="1211"/>
                    </a:lnTo>
                    <a:lnTo>
                      <a:pt x="400" y="1220"/>
                    </a:lnTo>
                    <a:lnTo>
                      <a:pt x="411" y="1227"/>
                    </a:lnTo>
                    <a:lnTo>
                      <a:pt x="433" y="1242"/>
                    </a:lnTo>
                    <a:lnTo>
                      <a:pt x="455" y="1257"/>
                    </a:lnTo>
                    <a:lnTo>
                      <a:pt x="478" y="1269"/>
                    </a:lnTo>
                    <a:lnTo>
                      <a:pt x="489" y="1274"/>
                    </a:lnTo>
                    <a:lnTo>
                      <a:pt x="502" y="1279"/>
                    </a:lnTo>
                    <a:lnTo>
                      <a:pt x="525" y="1288"/>
                    </a:lnTo>
                    <a:lnTo>
                      <a:pt x="548" y="1297"/>
                    </a:lnTo>
                    <a:lnTo>
                      <a:pt x="572" y="1303"/>
                    </a:lnTo>
                    <a:lnTo>
                      <a:pt x="585" y="1305"/>
                    </a:lnTo>
                    <a:lnTo>
                      <a:pt x="596" y="1307"/>
                    </a:lnTo>
                    <a:lnTo>
                      <a:pt x="620" y="1310"/>
                    </a:lnTo>
                    <a:lnTo>
                      <a:pt x="645" y="1312"/>
                    </a:lnTo>
                    <a:lnTo>
                      <a:pt x="670" y="1310"/>
                    </a:lnTo>
                    <a:lnTo>
                      <a:pt x="695" y="1308"/>
                    </a:lnTo>
                    <a:lnTo>
                      <a:pt x="719" y="1303"/>
                    </a:lnTo>
                    <a:lnTo>
                      <a:pt x="733" y="1301"/>
                    </a:lnTo>
                    <a:lnTo>
                      <a:pt x="745" y="1297"/>
                    </a:lnTo>
                    <a:lnTo>
                      <a:pt x="757" y="1292"/>
                    </a:lnTo>
                    <a:lnTo>
                      <a:pt x="770" y="1288"/>
                    </a:lnTo>
                    <a:lnTo>
                      <a:pt x="796" y="1277"/>
                    </a:lnTo>
                    <a:lnTo>
                      <a:pt x="808" y="1271"/>
                    </a:lnTo>
                    <a:lnTo>
                      <a:pt x="821" y="1264"/>
                    </a:lnTo>
                    <a:lnTo>
                      <a:pt x="834" y="1257"/>
                    </a:lnTo>
                    <a:lnTo>
                      <a:pt x="846" y="1248"/>
                    </a:lnTo>
                    <a:lnTo>
                      <a:pt x="860" y="1239"/>
                    </a:lnTo>
                    <a:lnTo>
                      <a:pt x="872" y="1231"/>
                    </a:lnTo>
                    <a:lnTo>
                      <a:pt x="898" y="1210"/>
                    </a:lnTo>
                    <a:lnTo>
                      <a:pt x="911" y="1199"/>
                    </a:lnTo>
                    <a:lnTo>
                      <a:pt x="925" y="1188"/>
                    </a:lnTo>
                    <a:lnTo>
                      <a:pt x="932" y="1176"/>
                    </a:lnTo>
                    <a:lnTo>
                      <a:pt x="939" y="1165"/>
                    </a:lnTo>
                    <a:lnTo>
                      <a:pt x="945" y="1154"/>
                    </a:lnTo>
                    <a:lnTo>
                      <a:pt x="951" y="1142"/>
                    </a:lnTo>
                    <a:lnTo>
                      <a:pt x="956" y="1131"/>
                    </a:lnTo>
                    <a:lnTo>
                      <a:pt x="961" y="1118"/>
                    </a:lnTo>
                    <a:lnTo>
                      <a:pt x="965" y="1107"/>
                    </a:lnTo>
                    <a:lnTo>
                      <a:pt x="967" y="1095"/>
                    </a:lnTo>
                    <a:lnTo>
                      <a:pt x="970" y="1084"/>
                    </a:lnTo>
                    <a:lnTo>
                      <a:pt x="972" y="1072"/>
                    </a:lnTo>
                    <a:lnTo>
                      <a:pt x="973" y="1061"/>
                    </a:lnTo>
                    <a:lnTo>
                      <a:pt x="975" y="1049"/>
                    </a:lnTo>
                    <a:lnTo>
                      <a:pt x="975" y="1025"/>
                    </a:lnTo>
                    <a:lnTo>
                      <a:pt x="972" y="1002"/>
                    </a:lnTo>
                    <a:lnTo>
                      <a:pt x="971" y="990"/>
                    </a:lnTo>
                    <a:lnTo>
                      <a:pt x="970" y="979"/>
                    </a:lnTo>
                    <a:lnTo>
                      <a:pt x="965" y="956"/>
                    </a:lnTo>
                    <a:lnTo>
                      <a:pt x="959" y="933"/>
                    </a:lnTo>
                    <a:lnTo>
                      <a:pt x="953" y="909"/>
                    </a:lnTo>
                    <a:lnTo>
                      <a:pt x="944" y="886"/>
                    </a:lnTo>
                    <a:lnTo>
                      <a:pt x="937" y="863"/>
                    </a:lnTo>
                    <a:lnTo>
                      <a:pt x="920" y="816"/>
                    </a:lnTo>
                    <a:lnTo>
                      <a:pt x="903" y="770"/>
                    </a:lnTo>
                    <a:lnTo>
                      <a:pt x="889" y="725"/>
                    </a:lnTo>
                    <a:lnTo>
                      <a:pt x="883" y="701"/>
                    </a:lnTo>
                    <a:lnTo>
                      <a:pt x="878" y="679"/>
                    </a:lnTo>
                    <a:lnTo>
                      <a:pt x="876" y="667"/>
                    </a:lnTo>
                    <a:lnTo>
                      <a:pt x="874" y="656"/>
                    </a:lnTo>
                    <a:lnTo>
                      <a:pt x="872" y="634"/>
                    </a:lnTo>
                    <a:lnTo>
                      <a:pt x="872" y="612"/>
                    </a:lnTo>
                    <a:lnTo>
                      <a:pt x="874" y="590"/>
                    </a:lnTo>
                    <a:lnTo>
                      <a:pt x="876" y="579"/>
                    </a:lnTo>
                    <a:lnTo>
                      <a:pt x="878" y="568"/>
                    </a:lnTo>
                    <a:lnTo>
                      <a:pt x="884" y="546"/>
                    </a:lnTo>
                    <a:lnTo>
                      <a:pt x="889" y="535"/>
                    </a:lnTo>
                    <a:lnTo>
                      <a:pt x="894" y="525"/>
                    </a:lnTo>
                    <a:lnTo>
                      <a:pt x="899" y="514"/>
                    </a:lnTo>
                    <a:lnTo>
                      <a:pt x="905" y="503"/>
                    </a:lnTo>
                    <a:lnTo>
                      <a:pt x="912" y="492"/>
                    </a:lnTo>
                    <a:lnTo>
                      <a:pt x="921" y="483"/>
                    </a:lnTo>
                    <a:lnTo>
                      <a:pt x="929" y="472"/>
                    </a:lnTo>
                    <a:lnTo>
                      <a:pt x="939" y="462"/>
                    </a:lnTo>
                    <a:lnTo>
                      <a:pt x="958" y="447"/>
                    </a:lnTo>
                    <a:lnTo>
                      <a:pt x="966" y="440"/>
                    </a:lnTo>
                    <a:lnTo>
                      <a:pt x="976" y="434"/>
                    </a:lnTo>
                    <a:lnTo>
                      <a:pt x="986" y="429"/>
                    </a:lnTo>
                    <a:lnTo>
                      <a:pt x="995" y="423"/>
                    </a:lnTo>
                    <a:lnTo>
                      <a:pt x="1004" y="419"/>
                    </a:lnTo>
                    <a:lnTo>
                      <a:pt x="1014" y="414"/>
                    </a:lnTo>
                    <a:lnTo>
                      <a:pt x="1033" y="407"/>
                    </a:lnTo>
                    <a:lnTo>
                      <a:pt x="1053" y="402"/>
                    </a:lnTo>
                    <a:lnTo>
                      <a:pt x="1072" y="398"/>
                    </a:lnTo>
                    <a:lnTo>
                      <a:pt x="1091" y="396"/>
                    </a:lnTo>
                    <a:lnTo>
                      <a:pt x="1110" y="394"/>
                    </a:lnTo>
                    <a:lnTo>
                      <a:pt x="1130" y="394"/>
                    </a:lnTo>
                    <a:lnTo>
                      <a:pt x="1149" y="397"/>
                    </a:lnTo>
                    <a:lnTo>
                      <a:pt x="1169" y="401"/>
                    </a:lnTo>
                    <a:lnTo>
                      <a:pt x="1189" y="404"/>
                    </a:lnTo>
                    <a:lnTo>
                      <a:pt x="1208" y="410"/>
                    </a:lnTo>
                    <a:lnTo>
                      <a:pt x="1226" y="416"/>
                    </a:lnTo>
                    <a:lnTo>
                      <a:pt x="1246" y="424"/>
                    </a:lnTo>
                    <a:lnTo>
                      <a:pt x="1264" y="432"/>
                    </a:lnTo>
                    <a:lnTo>
                      <a:pt x="1284" y="441"/>
                    </a:lnTo>
                    <a:lnTo>
                      <a:pt x="1302" y="451"/>
                    </a:lnTo>
                    <a:lnTo>
                      <a:pt x="1321" y="462"/>
                    </a:lnTo>
                    <a:lnTo>
                      <a:pt x="1339" y="473"/>
                    </a:lnTo>
                    <a:lnTo>
                      <a:pt x="1357" y="485"/>
                    </a:lnTo>
                    <a:lnTo>
                      <a:pt x="1393" y="509"/>
                    </a:lnTo>
                    <a:lnTo>
                      <a:pt x="1427" y="535"/>
                    </a:lnTo>
                    <a:lnTo>
                      <a:pt x="1460" y="561"/>
                    </a:lnTo>
                    <a:lnTo>
                      <a:pt x="1492" y="588"/>
                    </a:lnTo>
                    <a:lnTo>
                      <a:pt x="1522" y="613"/>
                    </a:lnTo>
                    <a:lnTo>
                      <a:pt x="1581" y="663"/>
                    </a:lnTo>
                    <a:lnTo>
                      <a:pt x="1640" y="715"/>
                    </a:lnTo>
                    <a:lnTo>
                      <a:pt x="1697" y="766"/>
                    </a:lnTo>
                    <a:lnTo>
                      <a:pt x="1755" y="818"/>
                    </a:lnTo>
                    <a:lnTo>
                      <a:pt x="1808" y="765"/>
                    </a:lnTo>
                    <a:lnTo>
                      <a:pt x="1865" y="714"/>
                    </a:lnTo>
                    <a:lnTo>
                      <a:pt x="1921" y="663"/>
                    </a:lnTo>
                    <a:lnTo>
                      <a:pt x="1950" y="639"/>
                    </a:lnTo>
                    <a:lnTo>
                      <a:pt x="1978" y="615"/>
                    </a:lnTo>
                    <a:lnTo>
                      <a:pt x="2037" y="567"/>
                    </a:lnTo>
                    <a:lnTo>
                      <a:pt x="2096" y="520"/>
                    </a:lnTo>
                    <a:lnTo>
                      <a:pt x="2214" y="426"/>
                    </a:lnTo>
                    <a:lnTo>
                      <a:pt x="2245" y="402"/>
                    </a:lnTo>
                    <a:lnTo>
                      <a:pt x="2277" y="379"/>
                    </a:lnTo>
                    <a:lnTo>
                      <a:pt x="2311" y="354"/>
                    </a:lnTo>
                    <a:lnTo>
                      <a:pt x="2344" y="332"/>
                    </a:lnTo>
                    <a:lnTo>
                      <a:pt x="2379" y="310"/>
                    </a:lnTo>
                    <a:lnTo>
                      <a:pt x="2396" y="300"/>
                    </a:lnTo>
                    <a:lnTo>
                      <a:pt x="2415" y="291"/>
                    </a:lnTo>
                    <a:lnTo>
                      <a:pt x="2450" y="273"/>
                    </a:lnTo>
                    <a:lnTo>
                      <a:pt x="2487" y="259"/>
                    </a:lnTo>
                    <a:lnTo>
                      <a:pt x="2506" y="253"/>
                    </a:lnTo>
                    <a:lnTo>
                      <a:pt x="2525" y="248"/>
                    </a:lnTo>
                    <a:lnTo>
                      <a:pt x="2543" y="243"/>
                    </a:lnTo>
                    <a:lnTo>
                      <a:pt x="2563" y="239"/>
                    </a:lnTo>
                    <a:lnTo>
                      <a:pt x="2581" y="237"/>
                    </a:lnTo>
                    <a:lnTo>
                      <a:pt x="2599" y="236"/>
                    </a:lnTo>
                    <a:lnTo>
                      <a:pt x="2619" y="236"/>
                    </a:lnTo>
                    <a:lnTo>
                      <a:pt x="2637" y="237"/>
                    </a:lnTo>
                    <a:lnTo>
                      <a:pt x="2657" y="239"/>
                    </a:lnTo>
                    <a:lnTo>
                      <a:pt x="2675" y="242"/>
                    </a:lnTo>
                    <a:lnTo>
                      <a:pt x="2685" y="244"/>
                    </a:lnTo>
                    <a:lnTo>
                      <a:pt x="2695" y="247"/>
                    </a:lnTo>
                    <a:lnTo>
                      <a:pt x="2713" y="253"/>
                    </a:lnTo>
                    <a:lnTo>
                      <a:pt x="2732" y="261"/>
                    </a:lnTo>
                    <a:lnTo>
                      <a:pt x="2751" y="270"/>
                    </a:lnTo>
                    <a:lnTo>
                      <a:pt x="2761" y="275"/>
                    </a:lnTo>
                    <a:lnTo>
                      <a:pt x="2770" y="281"/>
                    </a:lnTo>
                    <a:lnTo>
                      <a:pt x="2789" y="293"/>
                    </a:lnTo>
                    <a:lnTo>
                      <a:pt x="2797" y="303"/>
                    </a:lnTo>
                    <a:lnTo>
                      <a:pt x="2806" y="313"/>
                    </a:lnTo>
                    <a:lnTo>
                      <a:pt x="2813" y="322"/>
                    </a:lnTo>
                    <a:lnTo>
                      <a:pt x="2819" y="332"/>
                    </a:lnTo>
                    <a:lnTo>
                      <a:pt x="2825" y="342"/>
                    </a:lnTo>
                    <a:lnTo>
                      <a:pt x="2830" y="352"/>
                    </a:lnTo>
                    <a:lnTo>
                      <a:pt x="2835" y="363"/>
                    </a:lnTo>
                    <a:lnTo>
                      <a:pt x="2839" y="372"/>
                    </a:lnTo>
                    <a:lnTo>
                      <a:pt x="2842" y="382"/>
                    </a:lnTo>
                    <a:lnTo>
                      <a:pt x="2845" y="392"/>
                    </a:lnTo>
                    <a:lnTo>
                      <a:pt x="2847" y="403"/>
                    </a:lnTo>
                    <a:lnTo>
                      <a:pt x="2849" y="413"/>
                    </a:lnTo>
                    <a:lnTo>
                      <a:pt x="2850" y="434"/>
                    </a:lnTo>
                    <a:lnTo>
                      <a:pt x="2850" y="454"/>
                    </a:lnTo>
                    <a:lnTo>
                      <a:pt x="2849" y="475"/>
                    </a:lnTo>
                    <a:lnTo>
                      <a:pt x="2845" y="496"/>
                    </a:lnTo>
                    <a:lnTo>
                      <a:pt x="2841" y="517"/>
                    </a:lnTo>
                    <a:lnTo>
                      <a:pt x="2835" y="538"/>
                    </a:lnTo>
                    <a:lnTo>
                      <a:pt x="2829" y="560"/>
                    </a:lnTo>
                    <a:lnTo>
                      <a:pt x="2822" y="580"/>
                    </a:lnTo>
                    <a:lnTo>
                      <a:pt x="2807" y="623"/>
                    </a:lnTo>
                    <a:lnTo>
                      <a:pt x="2792" y="666"/>
                    </a:lnTo>
                    <a:lnTo>
                      <a:pt x="2785" y="688"/>
                    </a:lnTo>
                    <a:lnTo>
                      <a:pt x="2778" y="710"/>
                    </a:lnTo>
                    <a:lnTo>
                      <a:pt x="2772" y="731"/>
                    </a:lnTo>
                    <a:lnTo>
                      <a:pt x="2767" y="753"/>
                    </a:lnTo>
                    <a:lnTo>
                      <a:pt x="2763" y="775"/>
                    </a:lnTo>
                    <a:lnTo>
                      <a:pt x="2761" y="796"/>
                    </a:lnTo>
                    <a:lnTo>
                      <a:pt x="2759" y="818"/>
                    </a:lnTo>
                    <a:lnTo>
                      <a:pt x="2759" y="829"/>
                    </a:lnTo>
                    <a:lnTo>
                      <a:pt x="2759" y="840"/>
                    </a:lnTo>
                    <a:lnTo>
                      <a:pt x="2761" y="851"/>
                    </a:lnTo>
                    <a:lnTo>
                      <a:pt x="2762" y="860"/>
                    </a:lnTo>
                    <a:lnTo>
                      <a:pt x="2767" y="882"/>
                    </a:lnTo>
                    <a:lnTo>
                      <a:pt x="2770" y="893"/>
                    </a:lnTo>
                    <a:lnTo>
                      <a:pt x="2774" y="904"/>
                    </a:lnTo>
                    <a:lnTo>
                      <a:pt x="2778" y="914"/>
                    </a:lnTo>
                    <a:lnTo>
                      <a:pt x="2783" y="925"/>
                    </a:lnTo>
                    <a:lnTo>
                      <a:pt x="2789" y="936"/>
                    </a:lnTo>
                    <a:lnTo>
                      <a:pt x="2795" y="947"/>
                    </a:lnTo>
                    <a:lnTo>
                      <a:pt x="2802" y="957"/>
                    </a:lnTo>
                    <a:lnTo>
                      <a:pt x="2809" y="968"/>
                    </a:lnTo>
                    <a:lnTo>
                      <a:pt x="2823" y="980"/>
                    </a:lnTo>
                    <a:lnTo>
                      <a:pt x="2836" y="991"/>
                    </a:lnTo>
                    <a:lnTo>
                      <a:pt x="2850" y="1001"/>
                    </a:lnTo>
                    <a:lnTo>
                      <a:pt x="2863" y="1011"/>
                    </a:lnTo>
                    <a:lnTo>
                      <a:pt x="2890" y="1028"/>
                    </a:lnTo>
                    <a:lnTo>
                      <a:pt x="2904" y="1036"/>
                    </a:lnTo>
                    <a:lnTo>
                      <a:pt x="2917" y="1044"/>
                    </a:lnTo>
                    <a:lnTo>
                      <a:pt x="2943" y="1056"/>
                    </a:lnTo>
                    <a:lnTo>
                      <a:pt x="2956" y="1062"/>
                    </a:lnTo>
                    <a:lnTo>
                      <a:pt x="2970" y="1067"/>
                    </a:lnTo>
                    <a:lnTo>
                      <a:pt x="2982" y="1072"/>
                    </a:lnTo>
                    <a:lnTo>
                      <a:pt x="2995" y="1076"/>
                    </a:lnTo>
                    <a:lnTo>
                      <a:pt x="3009" y="1079"/>
                    </a:lnTo>
                    <a:lnTo>
                      <a:pt x="3021" y="1083"/>
                    </a:lnTo>
                    <a:lnTo>
                      <a:pt x="3047" y="1088"/>
                    </a:lnTo>
                    <a:lnTo>
                      <a:pt x="3072" y="1090"/>
                    </a:lnTo>
                    <a:lnTo>
                      <a:pt x="3098" y="1090"/>
                    </a:lnTo>
                    <a:lnTo>
                      <a:pt x="3124" y="1090"/>
                    </a:lnTo>
                    <a:lnTo>
                      <a:pt x="3148" y="1087"/>
                    </a:lnTo>
                    <a:lnTo>
                      <a:pt x="3174" y="1083"/>
                    </a:lnTo>
                    <a:lnTo>
                      <a:pt x="3186" y="1079"/>
                    </a:lnTo>
                    <a:lnTo>
                      <a:pt x="3198" y="1077"/>
                    </a:lnTo>
                    <a:lnTo>
                      <a:pt x="3223" y="1068"/>
                    </a:lnTo>
                    <a:lnTo>
                      <a:pt x="3246" y="1060"/>
                    </a:lnTo>
                    <a:lnTo>
                      <a:pt x="3258" y="1055"/>
                    </a:lnTo>
                    <a:lnTo>
                      <a:pt x="3270" y="1049"/>
                    </a:lnTo>
                    <a:lnTo>
                      <a:pt x="3294" y="1036"/>
                    </a:lnTo>
                    <a:lnTo>
                      <a:pt x="3306" y="1030"/>
                    </a:lnTo>
                    <a:lnTo>
                      <a:pt x="3317" y="1023"/>
                    </a:lnTo>
                    <a:lnTo>
                      <a:pt x="3340" y="1008"/>
                    </a:lnTo>
                    <a:lnTo>
                      <a:pt x="3362" y="992"/>
                    </a:lnTo>
                    <a:lnTo>
                      <a:pt x="3374" y="985"/>
                    </a:lnTo>
                    <a:lnTo>
                      <a:pt x="3385" y="975"/>
                    </a:lnTo>
                    <a:lnTo>
                      <a:pt x="3407" y="958"/>
                    </a:lnTo>
                    <a:lnTo>
                      <a:pt x="3428" y="939"/>
                    </a:lnTo>
                    <a:lnTo>
                      <a:pt x="3450" y="919"/>
                    </a:lnTo>
                    <a:lnTo>
                      <a:pt x="3471" y="898"/>
                    </a:lnTo>
                    <a:lnTo>
                      <a:pt x="3490" y="876"/>
                    </a:lnTo>
                    <a:lnTo>
                      <a:pt x="3511" y="853"/>
                    </a:lnTo>
                    <a:lnTo>
                      <a:pt x="3531" y="830"/>
                    </a:lnTo>
                    <a:lnTo>
                      <a:pt x="3550" y="807"/>
                    </a:lnTo>
                    <a:lnTo>
                      <a:pt x="3569" y="782"/>
                    </a:lnTo>
                    <a:lnTo>
                      <a:pt x="3584" y="759"/>
                    </a:lnTo>
                    <a:lnTo>
                      <a:pt x="3599" y="736"/>
                    </a:lnTo>
                    <a:lnTo>
                      <a:pt x="3613" y="712"/>
                    </a:lnTo>
                    <a:lnTo>
                      <a:pt x="3625" y="690"/>
                    </a:lnTo>
                    <a:lnTo>
                      <a:pt x="3636" y="667"/>
                    </a:lnTo>
                    <a:lnTo>
                      <a:pt x="3641" y="655"/>
                    </a:lnTo>
                    <a:lnTo>
                      <a:pt x="3646" y="644"/>
                    </a:lnTo>
                    <a:lnTo>
                      <a:pt x="3654" y="621"/>
                    </a:lnTo>
                    <a:lnTo>
                      <a:pt x="3657" y="610"/>
                    </a:lnTo>
                    <a:lnTo>
                      <a:pt x="3660" y="599"/>
                    </a:lnTo>
                    <a:lnTo>
                      <a:pt x="3709" y="306"/>
                    </a:lnTo>
                    <a:lnTo>
                      <a:pt x="3707" y="322"/>
                    </a:lnTo>
                    <a:lnTo>
                      <a:pt x="3704" y="338"/>
                    </a:lnTo>
                    <a:lnTo>
                      <a:pt x="3702" y="354"/>
                    </a:lnTo>
                    <a:lnTo>
                      <a:pt x="3698" y="370"/>
                    </a:lnTo>
                    <a:lnTo>
                      <a:pt x="3693" y="386"/>
                    </a:lnTo>
                    <a:lnTo>
                      <a:pt x="3688" y="402"/>
                    </a:lnTo>
                    <a:lnTo>
                      <a:pt x="3682" y="418"/>
                    </a:lnTo>
                    <a:lnTo>
                      <a:pt x="3676" y="434"/>
                    </a:lnTo>
                    <a:lnTo>
                      <a:pt x="3661" y="464"/>
                    </a:lnTo>
                    <a:lnTo>
                      <a:pt x="3653" y="480"/>
                    </a:lnTo>
                    <a:lnTo>
                      <a:pt x="3644" y="496"/>
                    </a:lnTo>
                    <a:lnTo>
                      <a:pt x="3635" y="512"/>
                    </a:lnTo>
                    <a:lnTo>
                      <a:pt x="3625" y="528"/>
                    </a:lnTo>
                    <a:lnTo>
                      <a:pt x="3614" y="544"/>
                    </a:lnTo>
                    <a:lnTo>
                      <a:pt x="3603" y="561"/>
                    </a:lnTo>
                    <a:lnTo>
                      <a:pt x="3583" y="585"/>
                    </a:lnTo>
                    <a:lnTo>
                      <a:pt x="3564" y="610"/>
                    </a:lnTo>
                    <a:lnTo>
                      <a:pt x="3544" y="634"/>
                    </a:lnTo>
                    <a:lnTo>
                      <a:pt x="3523" y="657"/>
                    </a:lnTo>
                    <a:lnTo>
                      <a:pt x="3503" y="679"/>
                    </a:lnTo>
                    <a:lnTo>
                      <a:pt x="3481" y="700"/>
                    </a:lnTo>
                    <a:lnTo>
                      <a:pt x="3459" y="721"/>
                    </a:lnTo>
                    <a:lnTo>
                      <a:pt x="3437" y="741"/>
                    </a:lnTo>
                    <a:lnTo>
                      <a:pt x="3415" y="759"/>
                    </a:lnTo>
                    <a:lnTo>
                      <a:pt x="3391" y="777"/>
                    </a:lnTo>
                    <a:lnTo>
                      <a:pt x="3368" y="793"/>
                    </a:lnTo>
                    <a:lnTo>
                      <a:pt x="3345" y="808"/>
                    </a:lnTo>
                    <a:lnTo>
                      <a:pt x="3320" y="821"/>
                    </a:lnTo>
                    <a:lnTo>
                      <a:pt x="3297" y="835"/>
                    </a:lnTo>
                    <a:lnTo>
                      <a:pt x="3273" y="846"/>
                    </a:lnTo>
                    <a:lnTo>
                      <a:pt x="3247" y="854"/>
                    </a:lnTo>
                    <a:lnTo>
                      <a:pt x="3223" y="863"/>
                    </a:lnTo>
                    <a:lnTo>
                      <a:pt x="3210" y="865"/>
                    </a:lnTo>
                    <a:lnTo>
                      <a:pt x="3197" y="869"/>
                    </a:lnTo>
                    <a:lnTo>
                      <a:pt x="3171" y="874"/>
                    </a:lnTo>
                    <a:lnTo>
                      <a:pt x="3146" y="876"/>
                    </a:lnTo>
                    <a:lnTo>
                      <a:pt x="3120" y="877"/>
                    </a:lnTo>
                    <a:lnTo>
                      <a:pt x="3094" y="876"/>
                    </a:lnTo>
                    <a:lnTo>
                      <a:pt x="3067" y="874"/>
                    </a:lnTo>
                    <a:lnTo>
                      <a:pt x="3054" y="871"/>
                    </a:lnTo>
                    <a:lnTo>
                      <a:pt x="3041" y="869"/>
                    </a:lnTo>
                    <a:lnTo>
                      <a:pt x="3028" y="865"/>
                    </a:lnTo>
                    <a:lnTo>
                      <a:pt x="3015" y="862"/>
                    </a:lnTo>
                    <a:lnTo>
                      <a:pt x="2988" y="853"/>
                    </a:lnTo>
                    <a:lnTo>
                      <a:pt x="2961" y="842"/>
                    </a:lnTo>
                    <a:lnTo>
                      <a:pt x="2948" y="836"/>
                    </a:lnTo>
                    <a:lnTo>
                      <a:pt x="2933" y="829"/>
                    </a:lnTo>
                    <a:lnTo>
                      <a:pt x="2906" y="813"/>
                    </a:lnTo>
                    <a:lnTo>
                      <a:pt x="2893" y="804"/>
                    </a:lnTo>
                    <a:lnTo>
                      <a:pt x="2879" y="794"/>
                    </a:lnTo>
                    <a:lnTo>
                      <a:pt x="2866" y="785"/>
                    </a:lnTo>
                    <a:lnTo>
                      <a:pt x="2852" y="775"/>
                    </a:lnTo>
                    <a:lnTo>
                      <a:pt x="2824" y="752"/>
                    </a:lnTo>
                    <a:lnTo>
                      <a:pt x="2816" y="741"/>
                    </a:lnTo>
                    <a:lnTo>
                      <a:pt x="2808" y="730"/>
                    </a:lnTo>
                    <a:lnTo>
                      <a:pt x="2802" y="719"/>
                    </a:lnTo>
                    <a:lnTo>
                      <a:pt x="2796" y="708"/>
                    </a:lnTo>
                    <a:lnTo>
                      <a:pt x="2791" y="697"/>
                    </a:lnTo>
                    <a:lnTo>
                      <a:pt x="2786" y="686"/>
                    </a:lnTo>
                    <a:lnTo>
                      <a:pt x="2783" y="675"/>
                    </a:lnTo>
                    <a:lnTo>
                      <a:pt x="2780" y="663"/>
                    </a:lnTo>
                    <a:lnTo>
                      <a:pt x="2775" y="641"/>
                    </a:lnTo>
                    <a:lnTo>
                      <a:pt x="2774" y="630"/>
                    </a:lnTo>
                    <a:lnTo>
                      <a:pt x="2773" y="619"/>
                    </a:lnTo>
                    <a:lnTo>
                      <a:pt x="2772" y="608"/>
                    </a:lnTo>
                    <a:lnTo>
                      <a:pt x="2772" y="596"/>
                    </a:lnTo>
                    <a:lnTo>
                      <a:pt x="2773" y="585"/>
                    </a:lnTo>
                    <a:lnTo>
                      <a:pt x="2773" y="574"/>
                    </a:lnTo>
                    <a:lnTo>
                      <a:pt x="2775" y="552"/>
                    </a:lnTo>
                    <a:lnTo>
                      <a:pt x="2780" y="530"/>
                    </a:lnTo>
                    <a:lnTo>
                      <a:pt x="2785" y="508"/>
                    </a:lnTo>
                    <a:lnTo>
                      <a:pt x="2791" y="486"/>
                    </a:lnTo>
                    <a:lnTo>
                      <a:pt x="2798" y="463"/>
                    </a:lnTo>
                    <a:lnTo>
                      <a:pt x="2806" y="441"/>
                    </a:lnTo>
                    <a:lnTo>
                      <a:pt x="2822" y="397"/>
                    </a:lnTo>
                    <a:lnTo>
                      <a:pt x="2836" y="353"/>
                    </a:lnTo>
                    <a:lnTo>
                      <a:pt x="2844" y="331"/>
                    </a:lnTo>
                    <a:lnTo>
                      <a:pt x="2850" y="310"/>
                    </a:lnTo>
                    <a:lnTo>
                      <a:pt x="2856" y="288"/>
                    </a:lnTo>
                    <a:lnTo>
                      <a:pt x="2861" y="266"/>
                    </a:lnTo>
                    <a:lnTo>
                      <a:pt x="2863" y="245"/>
                    </a:lnTo>
                    <a:lnTo>
                      <a:pt x="2866" y="223"/>
                    </a:lnTo>
                    <a:lnTo>
                      <a:pt x="2866" y="203"/>
                    </a:lnTo>
                    <a:lnTo>
                      <a:pt x="2863" y="182"/>
                    </a:lnTo>
                    <a:lnTo>
                      <a:pt x="2862" y="171"/>
                    </a:lnTo>
                    <a:lnTo>
                      <a:pt x="2860" y="161"/>
                    </a:lnTo>
                    <a:lnTo>
                      <a:pt x="2857" y="150"/>
                    </a:lnTo>
                    <a:lnTo>
                      <a:pt x="2853" y="140"/>
                    </a:lnTo>
                    <a:lnTo>
                      <a:pt x="2850" y="129"/>
                    </a:lnTo>
                    <a:lnTo>
                      <a:pt x="2845" y="119"/>
                    </a:lnTo>
                    <a:lnTo>
                      <a:pt x="2840" y="108"/>
                    </a:lnTo>
                    <a:lnTo>
                      <a:pt x="2834" y="99"/>
                    </a:lnTo>
                    <a:lnTo>
                      <a:pt x="2827" y="89"/>
                    </a:lnTo>
                    <a:lnTo>
                      <a:pt x="2819" y="78"/>
                    </a:lnTo>
                    <a:lnTo>
                      <a:pt x="2811" y="68"/>
                    </a:lnTo>
                    <a:lnTo>
                      <a:pt x="2802" y="58"/>
                    </a:lnTo>
                    <a:lnTo>
                      <a:pt x="2792" y="52"/>
                    </a:lnTo>
                    <a:lnTo>
                      <a:pt x="2783" y="46"/>
                    </a:lnTo>
                    <a:lnTo>
                      <a:pt x="2764" y="35"/>
                    </a:lnTo>
                    <a:lnTo>
                      <a:pt x="2745" y="25"/>
                    </a:lnTo>
                    <a:lnTo>
                      <a:pt x="2725" y="18"/>
                    </a:lnTo>
                    <a:lnTo>
                      <a:pt x="2715" y="14"/>
                    </a:lnTo>
                    <a:lnTo>
                      <a:pt x="2706" y="11"/>
                    </a:lnTo>
                    <a:lnTo>
                      <a:pt x="2686" y="6"/>
                    </a:lnTo>
                    <a:lnTo>
                      <a:pt x="2666" y="2"/>
                    </a:lnTo>
                    <a:lnTo>
                      <a:pt x="2647" y="1"/>
                    </a:lnTo>
                    <a:lnTo>
                      <a:pt x="2627" y="0"/>
                    </a:lnTo>
                    <a:lnTo>
                      <a:pt x="2608" y="0"/>
                    </a:lnTo>
                    <a:lnTo>
                      <a:pt x="2589" y="1"/>
                    </a:lnTo>
                    <a:lnTo>
                      <a:pt x="2570" y="3"/>
                    </a:lnTo>
                    <a:lnTo>
                      <a:pt x="2550" y="7"/>
                    </a:lnTo>
                    <a:lnTo>
                      <a:pt x="2531" y="12"/>
                    </a:lnTo>
                    <a:lnTo>
                      <a:pt x="2512" y="17"/>
                    </a:lnTo>
                    <a:lnTo>
                      <a:pt x="2503" y="20"/>
                    </a:lnTo>
                    <a:lnTo>
                      <a:pt x="2493" y="24"/>
                    </a:lnTo>
                    <a:lnTo>
                      <a:pt x="2475" y="30"/>
                    </a:lnTo>
                    <a:lnTo>
                      <a:pt x="2455" y="39"/>
                    </a:lnTo>
                    <a:lnTo>
                      <a:pt x="2437" y="47"/>
                    </a:lnTo>
                    <a:lnTo>
                      <a:pt x="2418" y="56"/>
                    </a:lnTo>
                    <a:lnTo>
                      <a:pt x="2400" y="66"/>
                    </a:lnTo>
                    <a:lnTo>
                      <a:pt x="2382" y="77"/>
                    </a:lnTo>
                    <a:lnTo>
                      <a:pt x="2346" y="99"/>
                    </a:lnTo>
                    <a:lnTo>
                      <a:pt x="2311" y="122"/>
                    </a:lnTo>
                    <a:lnTo>
                      <a:pt x="2294" y="134"/>
                    </a:lnTo>
                    <a:lnTo>
                      <a:pt x="2278" y="146"/>
                    </a:lnTo>
                    <a:lnTo>
                      <a:pt x="2245" y="171"/>
                    </a:lnTo>
                    <a:lnTo>
                      <a:pt x="2213" y="195"/>
                    </a:lnTo>
                    <a:lnTo>
                      <a:pt x="2152" y="243"/>
                    </a:lnTo>
                    <a:lnTo>
                      <a:pt x="2091" y="292"/>
                    </a:lnTo>
                    <a:lnTo>
                      <a:pt x="2031" y="339"/>
                    </a:lnTo>
                    <a:lnTo>
                      <a:pt x="1971" y="388"/>
                    </a:lnTo>
                    <a:lnTo>
                      <a:pt x="1912" y="439"/>
                    </a:lnTo>
                    <a:lnTo>
                      <a:pt x="1854" y="490"/>
                    </a:lnTo>
                    <a:lnTo>
                      <a:pt x="1825" y="516"/>
                    </a:lnTo>
                    <a:lnTo>
                      <a:pt x="1796" y="542"/>
                    </a:lnTo>
                    <a:lnTo>
                      <a:pt x="1768" y="569"/>
                    </a:lnTo>
                    <a:lnTo>
                      <a:pt x="1741" y="596"/>
                    </a:lnTo>
                    <a:lnTo>
                      <a:pt x="1623" y="491"/>
                    </a:lnTo>
                    <a:lnTo>
                      <a:pt x="1503" y="387"/>
                    </a:lnTo>
                    <a:lnTo>
                      <a:pt x="1439" y="333"/>
                    </a:lnTo>
                    <a:lnTo>
                      <a:pt x="1422" y="320"/>
                    </a:lnTo>
                    <a:lnTo>
                      <a:pt x="1405" y="306"/>
                    </a:lnTo>
                    <a:lnTo>
                      <a:pt x="1387" y="293"/>
                    </a:lnTo>
                    <a:lnTo>
                      <a:pt x="1369" y="280"/>
                    </a:lnTo>
                    <a:lnTo>
                      <a:pt x="1351" y="267"/>
                    </a:lnTo>
                    <a:lnTo>
                      <a:pt x="1333" y="255"/>
                    </a:lnTo>
                    <a:lnTo>
                      <a:pt x="1314" y="243"/>
                    </a:lnTo>
                    <a:lnTo>
                      <a:pt x="1296" y="232"/>
                    </a:lnTo>
                    <a:lnTo>
                      <a:pt x="1277" y="221"/>
                    </a:lnTo>
                    <a:lnTo>
                      <a:pt x="1257" y="211"/>
                    </a:lnTo>
                    <a:lnTo>
                      <a:pt x="1237" y="201"/>
                    </a:lnTo>
                    <a:lnTo>
                      <a:pt x="1219" y="193"/>
                    </a:lnTo>
                    <a:lnTo>
                      <a:pt x="1198" y="185"/>
                    </a:lnTo>
                    <a:lnTo>
                      <a:pt x="1179" y="178"/>
                    </a:lnTo>
                    <a:lnTo>
                      <a:pt x="1159" y="173"/>
                    </a:lnTo>
                    <a:lnTo>
                      <a:pt x="1140" y="168"/>
                    </a:lnTo>
                    <a:lnTo>
                      <a:pt x="1120" y="165"/>
                    </a:lnTo>
                    <a:lnTo>
                      <a:pt x="1099" y="163"/>
                    </a:lnTo>
                    <a:lnTo>
                      <a:pt x="1080" y="162"/>
                    </a:lnTo>
                    <a:lnTo>
                      <a:pt x="1060" y="163"/>
                    </a:lnTo>
                    <a:lnTo>
                      <a:pt x="1050" y="165"/>
                    </a:lnTo>
                    <a:lnTo>
                      <a:pt x="1039" y="166"/>
                    </a:lnTo>
                    <a:lnTo>
                      <a:pt x="1030" y="167"/>
                    </a:lnTo>
                    <a:lnTo>
                      <a:pt x="1020" y="169"/>
                    </a:lnTo>
                    <a:lnTo>
                      <a:pt x="1000" y="176"/>
                    </a:lnTo>
                    <a:lnTo>
                      <a:pt x="991" y="179"/>
                    </a:lnTo>
                    <a:lnTo>
                      <a:pt x="981" y="183"/>
                    </a:lnTo>
                    <a:lnTo>
                      <a:pt x="961" y="191"/>
                    </a:lnTo>
                    <a:lnTo>
                      <a:pt x="942" y="203"/>
                    </a:lnTo>
                    <a:lnTo>
                      <a:pt x="932" y="209"/>
                    </a:lnTo>
                    <a:lnTo>
                      <a:pt x="922" y="216"/>
                    </a:lnTo>
                    <a:lnTo>
                      <a:pt x="903" y="231"/>
                    </a:lnTo>
                    <a:lnTo>
                      <a:pt x="893" y="242"/>
                    </a:lnTo>
                    <a:lnTo>
                      <a:pt x="884" y="253"/>
                    </a:lnTo>
                    <a:lnTo>
                      <a:pt x="877" y="264"/>
                    </a:lnTo>
                    <a:lnTo>
                      <a:pt x="870" y="275"/>
                    </a:lnTo>
                    <a:lnTo>
                      <a:pt x="862" y="286"/>
                    </a:lnTo>
                    <a:lnTo>
                      <a:pt x="857" y="297"/>
                    </a:lnTo>
                    <a:lnTo>
                      <a:pt x="852" y="308"/>
                    </a:lnTo>
                    <a:lnTo>
                      <a:pt x="848" y="319"/>
                    </a:lnTo>
                    <a:lnTo>
                      <a:pt x="844" y="330"/>
                    </a:lnTo>
                    <a:lnTo>
                      <a:pt x="841" y="341"/>
                    </a:lnTo>
                    <a:lnTo>
                      <a:pt x="839" y="352"/>
                    </a:lnTo>
                    <a:lnTo>
                      <a:pt x="837" y="363"/>
                    </a:lnTo>
                    <a:lnTo>
                      <a:pt x="835" y="386"/>
                    </a:lnTo>
                    <a:lnTo>
                      <a:pt x="835" y="408"/>
                    </a:lnTo>
                    <a:lnTo>
                      <a:pt x="837" y="431"/>
                    </a:lnTo>
                    <a:lnTo>
                      <a:pt x="840" y="454"/>
                    </a:lnTo>
                    <a:lnTo>
                      <a:pt x="845" y="478"/>
                    </a:lnTo>
                    <a:lnTo>
                      <a:pt x="851" y="501"/>
                    </a:lnTo>
                    <a:lnTo>
                      <a:pt x="859" y="524"/>
                    </a:lnTo>
                    <a:lnTo>
                      <a:pt x="867" y="547"/>
                    </a:lnTo>
                    <a:lnTo>
                      <a:pt x="884" y="595"/>
                    </a:lnTo>
                    <a:lnTo>
                      <a:pt x="901" y="643"/>
                    </a:lnTo>
                    <a:lnTo>
                      <a:pt x="910" y="666"/>
                    </a:lnTo>
                    <a:lnTo>
                      <a:pt x="917" y="690"/>
                    </a:lnTo>
                    <a:lnTo>
                      <a:pt x="925" y="715"/>
                    </a:lnTo>
                    <a:lnTo>
                      <a:pt x="929" y="738"/>
                    </a:lnTo>
                    <a:lnTo>
                      <a:pt x="934" y="763"/>
                    </a:lnTo>
                    <a:lnTo>
                      <a:pt x="938" y="786"/>
                    </a:lnTo>
                    <a:lnTo>
                      <a:pt x="940" y="810"/>
                    </a:lnTo>
                    <a:lnTo>
                      <a:pt x="939" y="833"/>
                    </a:lnTo>
                    <a:lnTo>
                      <a:pt x="939" y="846"/>
                    </a:lnTo>
                    <a:lnTo>
                      <a:pt x="938" y="858"/>
                    </a:lnTo>
                    <a:lnTo>
                      <a:pt x="936" y="870"/>
                    </a:lnTo>
                    <a:lnTo>
                      <a:pt x="933" y="882"/>
                    </a:lnTo>
                    <a:lnTo>
                      <a:pt x="929" y="893"/>
                    </a:lnTo>
                    <a:lnTo>
                      <a:pt x="926" y="906"/>
                    </a:lnTo>
                    <a:lnTo>
                      <a:pt x="922" y="918"/>
                    </a:lnTo>
                    <a:lnTo>
                      <a:pt x="916" y="930"/>
                    </a:lnTo>
                    <a:lnTo>
                      <a:pt x="911" y="941"/>
                    </a:lnTo>
                    <a:lnTo>
                      <a:pt x="904" y="953"/>
                    </a:lnTo>
                    <a:lnTo>
                      <a:pt x="896" y="966"/>
                    </a:lnTo>
                    <a:lnTo>
                      <a:pt x="888" y="977"/>
                    </a:lnTo>
                    <a:lnTo>
                      <a:pt x="874" y="989"/>
                    </a:lnTo>
                    <a:lnTo>
                      <a:pt x="862" y="1000"/>
                    </a:lnTo>
                    <a:lnTo>
                      <a:pt x="835" y="1021"/>
                    </a:lnTo>
                    <a:lnTo>
                      <a:pt x="808" y="1039"/>
                    </a:lnTo>
                    <a:lnTo>
                      <a:pt x="796" y="1047"/>
                    </a:lnTo>
                    <a:lnTo>
                      <a:pt x="783" y="1055"/>
                    </a:lnTo>
                    <a:lnTo>
                      <a:pt x="769" y="1062"/>
                    </a:lnTo>
                    <a:lnTo>
                      <a:pt x="756" y="1068"/>
                    </a:lnTo>
                    <a:lnTo>
                      <a:pt x="730" y="1079"/>
                    </a:lnTo>
                    <a:lnTo>
                      <a:pt x="717" y="1084"/>
                    </a:lnTo>
                    <a:lnTo>
                      <a:pt x="704" y="1089"/>
                    </a:lnTo>
                    <a:lnTo>
                      <a:pt x="691" y="1093"/>
                    </a:lnTo>
                    <a:lnTo>
                      <a:pt x="679" y="1095"/>
                    </a:lnTo>
                    <a:lnTo>
                      <a:pt x="653" y="1100"/>
                    </a:lnTo>
                    <a:lnTo>
                      <a:pt x="627" y="1102"/>
                    </a:lnTo>
                    <a:lnTo>
                      <a:pt x="614" y="1104"/>
                    </a:lnTo>
                    <a:lnTo>
                      <a:pt x="602" y="1104"/>
                    </a:lnTo>
                    <a:lnTo>
                      <a:pt x="590" y="1104"/>
                    </a:lnTo>
                    <a:lnTo>
                      <a:pt x="576" y="1102"/>
                    </a:lnTo>
                    <a:lnTo>
                      <a:pt x="564" y="1101"/>
                    </a:lnTo>
                    <a:lnTo>
                      <a:pt x="552" y="1099"/>
                    </a:lnTo>
                    <a:lnTo>
                      <a:pt x="539" y="1098"/>
                    </a:lnTo>
                    <a:lnTo>
                      <a:pt x="527" y="1095"/>
                    </a:lnTo>
                    <a:lnTo>
                      <a:pt x="515" y="1091"/>
                    </a:lnTo>
                    <a:lnTo>
                      <a:pt x="503" y="1088"/>
                    </a:lnTo>
                    <a:lnTo>
                      <a:pt x="478" y="1080"/>
                    </a:lnTo>
                    <a:lnTo>
                      <a:pt x="454" y="1071"/>
                    </a:lnTo>
                    <a:lnTo>
                      <a:pt x="443" y="1065"/>
                    </a:lnTo>
                    <a:lnTo>
                      <a:pt x="431" y="1060"/>
                    </a:lnTo>
                    <a:lnTo>
                      <a:pt x="407" y="1046"/>
                    </a:lnTo>
                    <a:lnTo>
                      <a:pt x="384" y="1033"/>
                    </a:lnTo>
                    <a:lnTo>
                      <a:pt x="373" y="1025"/>
                    </a:lnTo>
                    <a:lnTo>
                      <a:pt x="362" y="1018"/>
                    </a:lnTo>
                    <a:lnTo>
                      <a:pt x="350" y="1010"/>
                    </a:lnTo>
                    <a:lnTo>
                      <a:pt x="339" y="1001"/>
                    </a:lnTo>
                    <a:lnTo>
                      <a:pt x="317" y="984"/>
                    </a:lnTo>
                    <a:lnTo>
                      <a:pt x="296" y="966"/>
                    </a:lnTo>
                    <a:lnTo>
                      <a:pt x="274" y="946"/>
                    </a:lnTo>
                    <a:lnTo>
                      <a:pt x="253" y="925"/>
                    </a:lnTo>
                    <a:lnTo>
                      <a:pt x="234" y="903"/>
                    </a:lnTo>
                    <a:lnTo>
                      <a:pt x="213" y="881"/>
                    </a:lnTo>
                    <a:lnTo>
                      <a:pt x="194" y="858"/>
                    </a:lnTo>
                    <a:lnTo>
                      <a:pt x="175" y="833"/>
                    </a:lnTo>
                    <a:lnTo>
                      <a:pt x="157" y="809"/>
                    </a:lnTo>
                    <a:lnTo>
                      <a:pt x="139" y="785"/>
                    </a:lnTo>
                    <a:lnTo>
                      <a:pt x="123" y="760"/>
                    </a:lnTo>
                    <a:lnTo>
                      <a:pt x="108" y="737"/>
                    </a:lnTo>
                    <a:lnTo>
                      <a:pt x="93" y="714"/>
                    </a:lnTo>
                    <a:lnTo>
                      <a:pt x="80" y="689"/>
                    </a:lnTo>
                    <a:lnTo>
                      <a:pt x="68" y="666"/>
                    </a:lnTo>
                    <a:lnTo>
                      <a:pt x="57" y="641"/>
                    </a:lnTo>
                    <a:lnTo>
                      <a:pt x="46" y="618"/>
                    </a:lnTo>
                    <a:lnTo>
                      <a:pt x="36" y="594"/>
                    </a:lnTo>
                    <a:lnTo>
                      <a:pt x="27" y="571"/>
                    </a:lnTo>
                    <a:lnTo>
                      <a:pt x="20" y="546"/>
                    </a:lnTo>
                    <a:lnTo>
                      <a:pt x="14" y="523"/>
                    </a:lnTo>
                    <a:lnTo>
                      <a:pt x="9" y="498"/>
                    </a:lnTo>
                    <a:lnTo>
                      <a:pt x="5" y="474"/>
                    </a:lnTo>
                    <a:lnTo>
                      <a:pt x="3" y="451"/>
                    </a:lnTo>
                    <a:lnTo>
                      <a:pt x="0" y="426"/>
                    </a:lnTo>
                    <a:lnTo>
                      <a:pt x="0" y="403"/>
                    </a:lnTo>
                    <a:lnTo>
                      <a:pt x="86" y="792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897280" y="2736360"/>
                <a:ext cx="96840" cy="171000"/>
              </a:xfrm>
              <a:custGeom>
                <a:avLst/>
                <a:gdLst/>
                <a:ahLst/>
                <a:rect l="l" t="t" r="r" b="b"/>
                <a:pathLst>
                  <a:path w="121" h="216">
                    <a:moveTo>
                      <a:pt x="13" y="0"/>
                    </a:moveTo>
                    <a:lnTo>
                      <a:pt x="34" y="53"/>
                    </a:lnTo>
                    <a:lnTo>
                      <a:pt x="58" y="104"/>
                    </a:lnTo>
                    <a:lnTo>
                      <a:pt x="88" y="156"/>
                    </a:lnTo>
                    <a:lnTo>
                      <a:pt x="121" y="207"/>
                    </a:lnTo>
                    <a:lnTo>
                      <a:pt x="108" y="216"/>
                    </a:lnTo>
                    <a:lnTo>
                      <a:pt x="75" y="164"/>
                    </a:lnTo>
                    <a:lnTo>
                      <a:pt x="45" y="110"/>
                    </a:lnTo>
                    <a:lnTo>
                      <a:pt x="20" y="59"/>
                    </a:lnTo>
                    <a:lnTo>
                      <a:pt x="0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984400" y="2901600"/>
                <a:ext cx="587520" cy="253440"/>
              </a:xfrm>
              <a:custGeom>
                <a:avLst/>
                <a:gdLst/>
                <a:ahLst/>
                <a:rect l="l" t="t" r="r" b="b"/>
                <a:pathLst>
                  <a:path w="741" h="322">
                    <a:moveTo>
                      <a:pt x="13" y="0"/>
                    </a:moveTo>
                    <a:lnTo>
                      <a:pt x="47" y="48"/>
                    </a:lnTo>
                    <a:lnTo>
                      <a:pt x="85" y="93"/>
                    </a:lnTo>
                    <a:lnTo>
                      <a:pt x="124" y="136"/>
                    </a:lnTo>
                    <a:lnTo>
                      <a:pt x="164" y="175"/>
                    </a:lnTo>
                    <a:lnTo>
                      <a:pt x="206" y="209"/>
                    </a:lnTo>
                    <a:lnTo>
                      <a:pt x="250" y="240"/>
                    </a:lnTo>
                    <a:lnTo>
                      <a:pt x="272" y="253"/>
                    </a:lnTo>
                    <a:lnTo>
                      <a:pt x="294" y="265"/>
                    </a:lnTo>
                    <a:lnTo>
                      <a:pt x="340" y="286"/>
                    </a:lnTo>
                    <a:lnTo>
                      <a:pt x="387" y="300"/>
                    </a:lnTo>
                    <a:lnTo>
                      <a:pt x="410" y="303"/>
                    </a:lnTo>
                    <a:lnTo>
                      <a:pt x="433" y="307"/>
                    </a:lnTo>
                    <a:lnTo>
                      <a:pt x="482" y="307"/>
                    </a:lnTo>
                    <a:lnTo>
                      <a:pt x="531" y="300"/>
                    </a:lnTo>
                    <a:lnTo>
                      <a:pt x="555" y="295"/>
                    </a:lnTo>
                    <a:lnTo>
                      <a:pt x="580" y="286"/>
                    </a:lnTo>
                    <a:lnTo>
                      <a:pt x="604" y="275"/>
                    </a:lnTo>
                    <a:lnTo>
                      <a:pt x="629" y="262"/>
                    </a:lnTo>
                    <a:lnTo>
                      <a:pt x="680" y="229"/>
                    </a:lnTo>
                    <a:lnTo>
                      <a:pt x="706" y="209"/>
                    </a:lnTo>
                    <a:lnTo>
                      <a:pt x="731" y="187"/>
                    </a:lnTo>
                    <a:lnTo>
                      <a:pt x="741" y="198"/>
                    </a:lnTo>
                    <a:lnTo>
                      <a:pt x="716" y="220"/>
                    </a:lnTo>
                    <a:lnTo>
                      <a:pt x="689" y="241"/>
                    </a:lnTo>
                    <a:lnTo>
                      <a:pt x="637" y="274"/>
                    </a:lnTo>
                    <a:lnTo>
                      <a:pt x="610" y="289"/>
                    </a:lnTo>
                    <a:lnTo>
                      <a:pt x="586" y="300"/>
                    </a:lnTo>
                    <a:lnTo>
                      <a:pt x="560" y="308"/>
                    </a:lnTo>
                    <a:lnTo>
                      <a:pt x="533" y="314"/>
                    </a:lnTo>
                    <a:lnTo>
                      <a:pt x="482" y="322"/>
                    </a:lnTo>
                    <a:lnTo>
                      <a:pt x="432" y="322"/>
                    </a:lnTo>
                    <a:lnTo>
                      <a:pt x="407" y="318"/>
                    </a:lnTo>
                    <a:lnTo>
                      <a:pt x="384" y="314"/>
                    </a:lnTo>
                    <a:lnTo>
                      <a:pt x="334" y="300"/>
                    </a:lnTo>
                    <a:lnTo>
                      <a:pt x="288" y="279"/>
                    </a:lnTo>
                    <a:lnTo>
                      <a:pt x="263" y="265"/>
                    </a:lnTo>
                    <a:lnTo>
                      <a:pt x="241" y="252"/>
                    </a:lnTo>
                    <a:lnTo>
                      <a:pt x="197" y="221"/>
                    </a:lnTo>
                    <a:lnTo>
                      <a:pt x="154" y="186"/>
                    </a:lnTo>
                    <a:lnTo>
                      <a:pt x="113" y="146"/>
                    </a:lnTo>
                    <a:lnTo>
                      <a:pt x="74" y="103"/>
                    </a:lnTo>
                    <a:lnTo>
                      <a:pt x="36" y="58"/>
                    </a:lnTo>
                    <a:lnTo>
                      <a:pt x="0" y="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984400" y="2901600"/>
                <a:ext cx="9720" cy="57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9"/>
                    </a:moveTo>
                    <a:lnTo>
                      <a:pt x="13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521160" y="2472840"/>
                <a:ext cx="92160" cy="583920"/>
              </a:xfrm>
              <a:custGeom>
                <a:avLst/>
                <a:gdLst/>
                <a:ahLst/>
                <a:rect l="l" t="t" r="r" b="b"/>
                <a:pathLst>
                  <a:path w="116" h="736">
                    <a:moveTo>
                      <a:pt x="52" y="726"/>
                    </a:moveTo>
                    <a:lnTo>
                      <a:pt x="68" y="704"/>
                    </a:lnTo>
                    <a:lnTo>
                      <a:pt x="80" y="681"/>
                    </a:lnTo>
                    <a:lnTo>
                      <a:pt x="89" y="659"/>
                    </a:lnTo>
                    <a:lnTo>
                      <a:pt x="95" y="636"/>
                    </a:lnTo>
                    <a:lnTo>
                      <a:pt x="100" y="614"/>
                    </a:lnTo>
                    <a:lnTo>
                      <a:pt x="102" y="590"/>
                    </a:lnTo>
                    <a:lnTo>
                      <a:pt x="102" y="568"/>
                    </a:lnTo>
                    <a:lnTo>
                      <a:pt x="100" y="546"/>
                    </a:lnTo>
                    <a:lnTo>
                      <a:pt x="93" y="501"/>
                    </a:lnTo>
                    <a:lnTo>
                      <a:pt x="80" y="453"/>
                    </a:lnTo>
                    <a:lnTo>
                      <a:pt x="47" y="363"/>
                    </a:lnTo>
                    <a:lnTo>
                      <a:pt x="30" y="315"/>
                    </a:lnTo>
                    <a:lnTo>
                      <a:pt x="16" y="270"/>
                    </a:lnTo>
                    <a:lnTo>
                      <a:pt x="6" y="225"/>
                    </a:lnTo>
                    <a:lnTo>
                      <a:pt x="2" y="200"/>
                    </a:lnTo>
                    <a:lnTo>
                      <a:pt x="0" y="177"/>
                    </a:lnTo>
                    <a:lnTo>
                      <a:pt x="0" y="155"/>
                    </a:lnTo>
                    <a:lnTo>
                      <a:pt x="2" y="132"/>
                    </a:lnTo>
                    <a:lnTo>
                      <a:pt x="6" y="109"/>
                    </a:lnTo>
                    <a:lnTo>
                      <a:pt x="12" y="87"/>
                    </a:lnTo>
                    <a:lnTo>
                      <a:pt x="23" y="63"/>
                    </a:lnTo>
                    <a:lnTo>
                      <a:pt x="34" y="43"/>
                    </a:lnTo>
                    <a:lnTo>
                      <a:pt x="50" y="21"/>
                    </a:lnTo>
                    <a:lnTo>
                      <a:pt x="67" y="0"/>
                    </a:lnTo>
                    <a:lnTo>
                      <a:pt x="78" y="10"/>
                    </a:lnTo>
                    <a:lnTo>
                      <a:pt x="61" y="30"/>
                    </a:lnTo>
                    <a:lnTo>
                      <a:pt x="46" y="51"/>
                    </a:lnTo>
                    <a:lnTo>
                      <a:pt x="35" y="71"/>
                    </a:lnTo>
                    <a:lnTo>
                      <a:pt x="25" y="93"/>
                    </a:lnTo>
                    <a:lnTo>
                      <a:pt x="19" y="114"/>
                    </a:lnTo>
                    <a:lnTo>
                      <a:pt x="16" y="136"/>
                    </a:lnTo>
                    <a:lnTo>
                      <a:pt x="13" y="155"/>
                    </a:lnTo>
                    <a:lnTo>
                      <a:pt x="13" y="177"/>
                    </a:lnTo>
                    <a:lnTo>
                      <a:pt x="16" y="198"/>
                    </a:lnTo>
                    <a:lnTo>
                      <a:pt x="19" y="221"/>
                    </a:lnTo>
                    <a:lnTo>
                      <a:pt x="29" y="265"/>
                    </a:lnTo>
                    <a:lnTo>
                      <a:pt x="44" y="310"/>
                    </a:lnTo>
                    <a:lnTo>
                      <a:pt x="61" y="357"/>
                    </a:lnTo>
                    <a:lnTo>
                      <a:pt x="94" y="449"/>
                    </a:lnTo>
                    <a:lnTo>
                      <a:pt x="106" y="498"/>
                    </a:lnTo>
                    <a:lnTo>
                      <a:pt x="113" y="544"/>
                    </a:lnTo>
                    <a:lnTo>
                      <a:pt x="116" y="568"/>
                    </a:lnTo>
                    <a:lnTo>
                      <a:pt x="116" y="593"/>
                    </a:lnTo>
                    <a:lnTo>
                      <a:pt x="113" y="617"/>
                    </a:lnTo>
                    <a:lnTo>
                      <a:pt x="108" y="641"/>
                    </a:lnTo>
                    <a:lnTo>
                      <a:pt x="102" y="665"/>
                    </a:lnTo>
                    <a:lnTo>
                      <a:pt x="93" y="688"/>
                    </a:lnTo>
                    <a:lnTo>
                      <a:pt x="80" y="713"/>
                    </a:lnTo>
                    <a:lnTo>
                      <a:pt x="63" y="736"/>
                    </a:lnTo>
                    <a:lnTo>
                      <a:pt x="52" y="7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564000" y="304920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1"/>
                    </a:moveTo>
                    <a:lnTo>
                      <a:pt x="11" y="1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576600" y="2417400"/>
                <a:ext cx="471600" cy="183600"/>
              </a:xfrm>
              <a:custGeom>
                <a:avLst/>
                <a:gdLst/>
                <a:ahLst/>
                <a:rect l="l" t="t" r="r" b="b"/>
                <a:pathLst>
                  <a:path w="594" h="232">
                    <a:moveTo>
                      <a:pt x="0" y="70"/>
                    </a:moveTo>
                    <a:lnTo>
                      <a:pt x="20" y="54"/>
                    </a:lnTo>
                    <a:lnTo>
                      <a:pt x="39" y="40"/>
                    </a:lnTo>
                    <a:lnTo>
                      <a:pt x="77" y="21"/>
                    </a:lnTo>
                    <a:lnTo>
                      <a:pt x="98" y="14"/>
                    </a:lnTo>
                    <a:lnTo>
                      <a:pt x="119" y="7"/>
                    </a:lnTo>
                    <a:lnTo>
                      <a:pt x="138" y="3"/>
                    </a:lnTo>
                    <a:lnTo>
                      <a:pt x="158" y="1"/>
                    </a:lnTo>
                    <a:lnTo>
                      <a:pt x="197" y="0"/>
                    </a:lnTo>
                    <a:lnTo>
                      <a:pt x="237" y="5"/>
                    </a:lnTo>
                    <a:lnTo>
                      <a:pt x="276" y="16"/>
                    </a:lnTo>
                    <a:lnTo>
                      <a:pt x="315" y="31"/>
                    </a:lnTo>
                    <a:lnTo>
                      <a:pt x="353" y="48"/>
                    </a:lnTo>
                    <a:lnTo>
                      <a:pt x="391" y="69"/>
                    </a:lnTo>
                    <a:lnTo>
                      <a:pt x="428" y="91"/>
                    </a:lnTo>
                    <a:lnTo>
                      <a:pt x="463" y="116"/>
                    </a:lnTo>
                    <a:lnTo>
                      <a:pt x="498" y="142"/>
                    </a:lnTo>
                    <a:lnTo>
                      <a:pt x="532" y="169"/>
                    </a:lnTo>
                    <a:lnTo>
                      <a:pt x="594" y="221"/>
                    </a:lnTo>
                    <a:lnTo>
                      <a:pt x="584" y="232"/>
                    </a:lnTo>
                    <a:lnTo>
                      <a:pt x="522" y="180"/>
                    </a:lnTo>
                    <a:lnTo>
                      <a:pt x="489" y="154"/>
                    </a:lnTo>
                    <a:lnTo>
                      <a:pt x="455" y="129"/>
                    </a:lnTo>
                    <a:lnTo>
                      <a:pt x="419" y="103"/>
                    </a:lnTo>
                    <a:lnTo>
                      <a:pt x="383" y="81"/>
                    </a:lnTo>
                    <a:lnTo>
                      <a:pt x="347" y="61"/>
                    </a:lnTo>
                    <a:lnTo>
                      <a:pt x="309" y="44"/>
                    </a:lnTo>
                    <a:lnTo>
                      <a:pt x="270" y="29"/>
                    </a:lnTo>
                    <a:lnTo>
                      <a:pt x="235" y="20"/>
                    </a:lnTo>
                    <a:lnTo>
                      <a:pt x="196" y="15"/>
                    </a:lnTo>
                    <a:lnTo>
                      <a:pt x="158" y="16"/>
                    </a:lnTo>
                    <a:lnTo>
                      <a:pt x="139" y="17"/>
                    </a:lnTo>
                    <a:lnTo>
                      <a:pt x="121" y="22"/>
                    </a:lnTo>
                    <a:lnTo>
                      <a:pt x="103" y="27"/>
                    </a:lnTo>
                    <a:lnTo>
                      <a:pt x="83" y="34"/>
                    </a:lnTo>
                    <a:lnTo>
                      <a:pt x="47" y="53"/>
                    </a:lnTo>
                    <a:lnTo>
                      <a:pt x="28" y="66"/>
                    </a:lnTo>
                    <a:lnTo>
                      <a:pt x="10" y="81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575160" y="247284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0"/>
                    </a:moveTo>
                    <a:lnTo>
                      <a:pt x="1" y="0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040280" y="2593440"/>
                <a:ext cx="191880" cy="169560"/>
              </a:xfrm>
              <a:custGeom>
                <a:avLst/>
                <a:gdLst/>
                <a:ahLst/>
                <a:rect l="l" t="t" r="r" b="b"/>
                <a:pathLst>
                  <a:path w="242" h="214">
                    <a:moveTo>
                      <a:pt x="10" y="0"/>
                    </a:moveTo>
                    <a:lnTo>
                      <a:pt x="242" y="203"/>
                    </a:lnTo>
                    <a:lnTo>
                      <a:pt x="233" y="214"/>
                    </a:lnTo>
                    <a:lnTo>
                      <a:pt x="0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040280" y="259344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0"/>
                    </a:moveTo>
                    <a:lnTo>
                      <a:pt x="0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224240" y="2444400"/>
                <a:ext cx="373320" cy="318600"/>
              </a:xfrm>
              <a:custGeom>
                <a:avLst/>
                <a:gdLst/>
                <a:ahLst/>
                <a:rect l="l" t="t" r="r" b="b"/>
                <a:pathLst>
                  <a:path w="469" h="401">
                    <a:moveTo>
                      <a:pt x="0" y="390"/>
                    </a:moveTo>
                    <a:lnTo>
                      <a:pt x="53" y="339"/>
                    </a:lnTo>
                    <a:lnTo>
                      <a:pt x="110" y="288"/>
                    </a:lnTo>
                    <a:lnTo>
                      <a:pt x="223" y="189"/>
                    </a:lnTo>
                    <a:lnTo>
                      <a:pt x="341" y="93"/>
                    </a:lnTo>
                    <a:lnTo>
                      <a:pt x="459" y="0"/>
                    </a:lnTo>
                    <a:lnTo>
                      <a:pt x="469" y="11"/>
                    </a:lnTo>
                    <a:lnTo>
                      <a:pt x="350" y="104"/>
                    </a:lnTo>
                    <a:lnTo>
                      <a:pt x="233" y="200"/>
                    </a:lnTo>
                    <a:lnTo>
                      <a:pt x="119" y="299"/>
                    </a:lnTo>
                    <a:lnTo>
                      <a:pt x="63" y="350"/>
                    </a:lnTo>
                    <a:lnTo>
                      <a:pt x="9" y="401"/>
                    </a:lnTo>
                    <a:lnTo>
                      <a:pt x="0" y="3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224240" y="275400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1"/>
                    </a:moveTo>
                    <a:lnTo>
                      <a:pt x="5" y="16"/>
                    </a:lnTo>
                    <a:lnTo>
                      <a:pt x="9" y="11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589640" y="2291760"/>
                <a:ext cx="461880" cy="161640"/>
              </a:xfrm>
              <a:custGeom>
                <a:avLst/>
                <a:gdLst/>
                <a:ahLst/>
                <a:rect l="l" t="t" r="r" b="b"/>
                <a:pathLst>
                  <a:path w="583" h="204">
                    <a:moveTo>
                      <a:pt x="0" y="192"/>
                    </a:moveTo>
                    <a:lnTo>
                      <a:pt x="63" y="144"/>
                    </a:lnTo>
                    <a:lnTo>
                      <a:pt x="130" y="98"/>
                    </a:lnTo>
                    <a:lnTo>
                      <a:pt x="167" y="76"/>
                    </a:lnTo>
                    <a:lnTo>
                      <a:pt x="202" y="56"/>
                    </a:lnTo>
                    <a:lnTo>
                      <a:pt x="237" y="39"/>
                    </a:lnTo>
                    <a:lnTo>
                      <a:pt x="275" y="25"/>
                    </a:lnTo>
                    <a:lnTo>
                      <a:pt x="314" y="12"/>
                    </a:lnTo>
                    <a:lnTo>
                      <a:pt x="333" y="8"/>
                    </a:lnTo>
                    <a:lnTo>
                      <a:pt x="352" y="4"/>
                    </a:lnTo>
                    <a:lnTo>
                      <a:pt x="390" y="0"/>
                    </a:lnTo>
                    <a:lnTo>
                      <a:pt x="428" y="1"/>
                    </a:lnTo>
                    <a:lnTo>
                      <a:pt x="449" y="4"/>
                    </a:lnTo>
                    <a:lnTo>
                      <a:pt x="467" y="6"/>
                    </a:lnTo>
                    <a:lnTo>
                      <a:pt x="506" y="19"/>
                    </a:lnTo>
                    <a:lnTo>
                      <a:pt x="526" y="26"/>
                    </a:lnTo>
                    <a:lnTo>
                      <a:pt x="545" y="36"/>
                    </a:lnTo>
                    <a:lnTo>
                      <a:pt x="583" y="59"/>
                    </a:lnTo>
                    <a:lnTo>
                      <a:pt x="575" y="71"/>
                    </a:lnTo>
                    <a:lnTo>
                      <a:pt x="537" y="48"/>
                    </a:lnTo>
                    <a:lnTo>
                      <a:pt x="520" y="39"/>
                    </a:lnTo>
                    <a:lnTo>
                      <a:pt x="500" y="32"/>
                    </a:lnTo>
                    <a:lnTo>
                      <a:pt x="465" y="21"/>
                    </a:lnTo>
                    <a:lnTo>
                      <a:pt x="446" y="19"/>
                    </a:lnTo>
                    <a:lnTo>
                      <a:pt x="427" y="16"/>
                    </a:lnTo>
                    <a:lnTo>
                      <a:pt x="390" y="15"/>
                    </a:lnTo>
                    <a:lnTo>
                      <a:pt x="354" y="19"/>
                    </a:lnTo>
                    <a:lnTo>
                      <a:pt x="335" y="22"/>
                    </a:lnTo>
                    <a:lnTo>
                      <a:pt x="317" y="27"/>
                    </a:lnTo>
                    <a:lnTo>
                      <a:pt x="280" y="38"/>
                    </a:lnTo>
                    <a:lnTo>
                      <a:pt x="244" y="53"/>
                    </a:lnTo>
                    <a:lnTo>
                      <a:pt x="208" y="70"/>
                    </a:lnTo>
                    <a:lnTo>
                      <a:pt x="174" y="88"/>
                    </a:lnTo>
                    <a:lnTo>
                      <a:pt x="138" y="110"/>
                    </a:lnTo>
                    <a:lnTo>
                      <a:pt x="71" y="157"/>
                    </a:lnTo>
                    <a:lnTo>
                      <a:pt x="9" y="204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589640" y="244440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1"/>
                    </a:moveTo>
                    <a:lnTo>
                      <a:pt x="0" y="0"/>
                    </a:lnTo>
                    <a:lnTo>
                      <a:pt x="9" y="12"/>
                    </a:lnTo>
                    <a:lnTo>
                      <a:pt x="10" y="1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019840" y="2339640"/>
                <a:ext cx="83880" cy="542520"/>
              </a:xfrm>
              <a:custGeom>
                <a:avLst/>
                <a:gdLst/>
                <a:ahLst/>
                <a:rect l="l" t="t" r="r" b="b"/>
                <a:pathLst>
                  <a:path w="105" h="685">
                    <a:moveTo>
                      <a:pt x="42" y="0"/>
                    </a:moveTo>
                    <a:lnTo>
                      <a:pt x="57" y="20"/>
                    </a:lnTo>
                    <a:lnTo>
                      <a:pt x="73" y="40"/>
                    </a:lnTo>
                    <a:lnTo>
                      <a:pt x="84" y="61"/>
                    </a:lnTo>
                    <a:lnTo>
                      <a:pt x="93" y="82"/>
                    </a:lnTo>
                    <a:lnTo>
                      <a:pt x="100" y="103"/>
                    </a:lnTo>
                    <a:lnTo>
                      <a:pt x="104" y="124"/>
                    </a:lnTo>
                    <a:lnTo>
                      <a:pt x="105" y="146"/>
                    </a:lnTo>
                    <a:lnTo>
                      <a:pt x="105" y="166"/>
                    </a:lnTo>
                    <a:lnTo>
                      <a:pt x="100" y="209"/>
                    </a:lnTo>
                    <a:lnTo>
                      <a:pt x="90" y="251"/>
                    </a:lnTo>
                    <a:lnTo>
                      <a:pt x="76" y="295"/>
                    </a:lnTo>
                    <a:lnTo>
                      <a:pt x="61" y="338"/>
                    </a:lnTo>
                    <a:lnTo>
                      <a:pt x="32" y="423"/>
                    </a:lnTo>
                    <a:lnTo>
                      <a:pt x="22" y="466"/>
                    </a:lnTo>
                    <a:lnTo>
                      <a:pt x="16" y="508"/>
                    </a:lnTo>
                    <a:lnTo>
                      <a:pt x="15" y="552"/>
                    </a:lnTo>
                    <a:lnTo>
                      <a:pt x="17" y="571"/>
                    </a:lnTo>
                    <a:lnTo>
                      <a:pt x="22" y="593"/>
                    </a:lnTo>
                    <a:lnTo>
                      <a:pt x="27" y="613"/>
                    </a:lnTo>
                    <a:lnTo>
                      <a:pt x="37" y="635"/>
                    </a:lnTo>
                    <a:lnTo>
                      <a:pt x="49" y="656"/>
                    </a:lnTo>
                    <a:lnTo>
                      <a:pt x="64" y="676"/>
                    </a:lnTo>
                    <a:lnTo>
                      <a:pt x="51" y="685"/>
                    </a:lnTo>
                    <a:lnTo>
                      <a:pt x="37" y="664"/>
                    </a:lnTo>
                    <a:lnTo>
                      <a:pt x="23" y="641"/>
                    </a:lnTo>
                    <a:lnTo>
                      <a:pt x="13" y="619"/>
                    </a:lnTo>
                    <a:lnTo>
                      <a:pt x="7" y="596"/>
                    </a:lnTo>
                    <a:lnTo>
                      <a:pt x="2" y="574"/>
                    </a:lnTo>
                    <a:lnTo>
                      <a:pt x="0" y="552"/>
                    </a:lnTo>
                    <a:lnTo>
                      <a:pt x="1" y="508"/>
                    </a:lnTo>
                    <a:lnTo>
                      <a:pt x="7" y="464"/>
                    </a:lnTo>
                    <a:lnTo>
                      <a:pt x="18" y="418"/>
                    </a:lnTo>
                    <a:lnTo>
                      <a:pt x="48" y="333"/>
                    </a:lnTo>
                    <a:lnTo>
                      <a:pt x="62" y="290"/>
                    </a:lnTo>
                    <a:lnTo>
                      <a:pt x="76" y="248"/>
                    </a:lnTo>
                    <a:lnTo>
                      <a:pt x="86" y="207"/>
                    </a:lnTo>
                    <a:lnTo>
                      <a:pt x="90" y="166"/>
                    </a:lnTo>
                    <a:lnTo>
                      <a:pt x="90" y="146"/>
                    </a:lnTo>
                    <a:lnTo>
                      <a:pt x="89" y="126"/>
                    </a:lnTo>
                    <a:lnTo>
                      <a:pt x="86" y="105"/>
                    </a:lnTo>
                    <a:lnTo>
                      <a:pt x="79" y="88"/>
                    </a:lnTo>
                    <a:lnTo>
                      <a:pt x="71" y="67"/>
                    </a:lnTo>
                    <a:lnTo>
                      <a:pt x="61" y="49"/>
                    </a:lnTo>
                    <a:lnTo>
                      <a:pt x="46" y="29"/>
                    </a:lnTo>
                    <a:lnTo>
                      <a:pt x="31" y="1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043600" y="23378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9" y="0"/>
                    </a:moveTo>
                    <a:lnTo>
                      <a:pt x="11" y="1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060880" y="2727000"/>
                <a:ext cx="611280" cy="253440"/>
              </a:xfrm>
              <a:custGeom>
                <a:avLst/>
                <a:gdLst/>
                <a:ahLst/>
                <a:rect l="l" t="t" r="r" b="b"/>
                <a:pathLst>
                  <a:path w="768" h="321">
                    <a:moveTo>
                      <a:pt x="9" y="186"/>
                    </a:moveTo>
                    <a:lnTo>
                      <a:pt x="62" y="228"/>
                    </a:lnTo>
                    <a:lnTo>
                      <a:pt x="114" y="261"/>
                    </a:lnTo>
                    <a:lnTo>
                      <a:pt x="140" y="273"/>
                    </a:lnTo>
                    <a:lnTo>
                      <a:pt x="166" y="284"/>
                    </a:lnTo>
                    <a:lnTo>
                      <a:pt x="217" y="299"/>
                    </a:lnTo>
                    <a:lnTo>
                      <a:pt x="267" y="306"/>
                    </a:lnTo>
                    <a:lnTo>
                      <a:pt x="319" y="305"/>
                    </a:lnTo>
                    <a:lnTo>
                      <a:pt x="368" y="299"/>
                    </a:lnTo>
                    <a:lnTo>
                      <a:pt x="415" y="285"/>
                    </a:lnTo>
                    <a:lnTo>
                      <a:pt x="462" y="266"/>
                    </a:lnTo>
                    <a:lnTo>
                      <a:pt x="485" y="253"/>
                    </a:lnTo>
                    <a:lnTo>
                      <a:pt x="507" y="240"/>
                    </a:lnTo>
                    <a:lnTo>
                      <a:pt x="552" y="209"/>
                    </a:lnTo>
                    <a:lnTo>
                      <a:pt x="597" y="176"/>
                    </a:lnTo>
                    <a:lnTo>
                      <a:pt x="640" y="137"/>
                    </a:lnTo>
                    <a:lnTo>
                      <a:pt x="680" y="94"/>
                    </a:lnTo>
                    <a:lnTo>
                      <a:pt x="720" y="48"/>
                    </a:lnTo>
                    <a:lnTo>
                      <a:pt x="757" y="0"/>
                    </a:lnTo>
                    <a:lnTo>
                      <a:pt x="768" y="10"/>
                    </a:lnTo>
                    <a:lnTo>
                      <a:pt x="731" y="58"/>
                    </a:lnTo>
                    <a:lnTo>
                      <a:pt x="690" y="105"/>
                    </a:lnTo>
                    <a:lnTo>
                      <a:pt x="650" y="148"/>
                    </a:lnTo>
                    <a:lnTo>
                      <a:pt x="607" y="187"/>
                    </a:lnTo>
                    <a:lnTo>
                      <a:pt x="561" y="222"/>
                    </a:lnTo>
                    <a:lnTo>
                      <a:pt x="515" y="252"/>
                    </a:lnTo>
                    <a:lnTo>
                      <a:pt x="492" y="266"/>
                    </a:lnTo>
                    <a:lnTo>
                      <a:pt x="468" y="279"/>
                    </a:lnTo>
                    <a:lnTo>
                      <a:pt x="420" y="299"/>
                    </a:lnTo>
                    <a:lnTo>
                      <a:pt x="370" y="313"/>
                    </a:lnTo>
                    <a:lnTo>
                      <a:pt x="319" y="319"/>
                    </a:lnTo>
                    <a:lnTo>
                      <a:pt x="266" y="321"/>
                    </a:lnTo>
                    <a:lnTo>
                      <a:pt x="215" y="313"/>
                    </a:lnTo>
                    <a:lnTo>
                      <a:pt x="160" y="297"/>
                    </a:lnTo>
                    <a:lnTo>
                      <a:pt x="134" y="286"/>
                    </a:lnTo>
                    <a:lnTo>
                      <a:pt x="106" y="273"/>
                    </a:lnTo>
                    <a:lnTo>
                      <a:pt x="53" y="240"/>
                    </a:lnTo>
                    <a:lnTo>
                      <a:pt x="0" y="197"/>
                    </a:lnTo>
                    <a:lnTo>
                      <a:pt x="9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060880" y="2874600"/>
                <a:ext cx="9720" cy="900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0" y="10"/>
                    </a:moveTo>
                    <a:lnTo>
                      <a:pt x="2" y="11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662440" y="2584080"/>
                <a:ext cx="82800" cy="150480"/>
              </a:xfrm>
              <a:custGeom>
                <a:avLst/>
                <a:gdLst/>
                <a:ahLst/>
                <a:rect l="l" t="t" r="r" b="b"/>
                <a:pathLst>
                  <a:path w="104" h="191">
                    <a:moveTo>
                      <a:pt x="0" y="181"/>
                    </a:moveTo>
                    <a:lnTo>
                      <a:pt x="16" y="158"/>
                    </a:lnTo>
                    <a:lnTo>
                      <a:pt x="31" y="136"/>
                    </a:lnTo>
                    <a:lnTo>
                      <a:pt x="57" y="90"/>
                    </a:lnTo>
                    <a:lnTo>
                      <a:pt x="76" y="45"/>
                    </a:lnTo>
                    <a:lnTo>
                      <a:pt x="91" y="0"/>
                    </a:lnTo>
                    <a:lnTo>
                      <a:pt x="104" y="6"/>
                    </a:lnTo>
                    <a:lnTo>
                      <a:pt x="90" y="52"/>
                    </a:lnTo>
                    <a:lnTo>
                      <a:pt x="69" y="97"/>
                    </a:lnTo>
                    <a:lnTo>
                      <a:pt x="43" y="145"/>
                    </a:lnTo>
                    <a:lnTo>
                      <a:pt x="27" y="168"/>
                    </a:lnTo>
                    <a:lnTo>
                      <a:pt x="11" y="191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662440" y="272700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10"/>
                    </a:moveTo>
                    <a:lnTo>
                      <a:pt x="0" y="0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734080" y="2352240"/>
                <a:ext cx="50760" cy="234720"/>
              </a:xfrm>
              <a:custGeom>
                <a:avLst/>
                <a:gdLst/>
                <a:ahLst/>
                <a:rect l="l" t="t" r="r" b="b"/>
                <a:pathLst>
                  <a:path w="62" h="296">
                    <a:moveTo>
                      <a:pt x="0" y="292"/>
                    </a:moveTo>
                    <a:lnTo>
                      <a:pt x="13" y="296"/>
                    </a:lnTo>
                    <a:lnTo>
                      <a:pt x="62" y="4"/>
                    </a:lnTo>
                    <a:lnTo>
                      <a:pt x="49" y="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734080" y="258408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6"/>
                    </a:moveTo>
                    <a:lnTo>
                      <a:pt x="13" y="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89440" y="2352240"/>
                <a:ext cx="95400" cy="205920"/>
              </a:xfrm>
              <a:custGeom>
                <a:avLst/>
                <a:gdLst/>
                <a:ahLst/>
                <a:rect l="l" t="t" r="r" b="b"/>
                <a:pathLst>
                  <a:path w="120" h="259">
                    <a:moveTo>
                      <a:pt x="120" y="3"/>
                    </a:moveTo>
                    <a:lnTo>
                      <a:pt x="109" y="66"/>
                    </a:lnTo>
                    <a:lnTo>
                      <a:pt x="97" y="100"/>
                    </a:lnTo>
                    <a:lnTo>
                      <a:pt x="85" y="131"/>
                    </a:lnTo>
                    <a:lnTo>
                      <a:pt x="71" y="163"/>
                    </a:lnTo>
                    <a:lnTo>
                      <a:pt x="53" y="195"/>
                    </a:lnTo>
                    <a:lnTo>
                      <a:pt x="34" y="228"/>
                    </a:lnTo>
                    <a:lnTo>
                      <a:pt x="12" y="259"/>
                    </a:lnTo>
                    <a:lnTo>
                      <a:pt x="0" y="251"/>
                    </a:lnTo>
                    <a:lnTo>
                      <a:pt x="22" y="219"/>
                    </a:lnTo>
                    <a:lnTo>
                      <a:pt x="41" y="187"/>
                    </a:lnTo>
                    <a:lnTo>
                      <a:pt x="57" y="157"/>
                    </a:lnTo>
                    <a:lnTo>
                      <a:pt x="72" y="125"/>
                    </a:lnTo>
                    <a:lnTo>
                      <a:pt x="84" y="94"/>
                    </a:lnTo>
                    <a:lnTo>
                      <a:pt x="94" y="64"/>
                    </a:lnTo>
                    <a:lnTo>
                      <a:pt x="105" y="0"/>
                    </a:lnTo>
                    <a:lnTo>
                      <a:pt x="1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773680" y="235224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13" y="4"/>
                    </a:moveTo>
                    <a:lnTo>
                      <a:pt x="0" y="0"/>
                    </a:lnTo>
                    <a:lnTo>
                      <a:pt x="15" y="3"/>
                    </a:lnTo>
                    <a:lnTo>
                      <a:pt x="0" y="0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073480" y="2550600"/>
                <a:ext cx="625680" cy="259920"/>
              </a:xfrm>
              <a:custGeom>
                <a:avLst/>
                <a:gdLst/>
                <a:ahLst/>
                <a:rect l="l" t="t" r="r" b="b"/>
                <a:pathLst>
                  <a:path w="789" h="329">
                    <a:moveTo>
                      <a:pt x="789" y="9"/>
                    </a:moveTo>
                    <a:lnTo>
                      <a:pt x="750" y="60"/>
                    </a:lnTo>
                    <a:lnTo>
                      <a:pt x="709" y="106"/>
                    </a:lnTo>
                    <a:lnTo>
                      <a:pt x="666" y="151"/>
                    </a:lnTo>
                    <a:lnTo>
                      <a:pt x="622" y="192"/>
                    </a:lnTo>
                    <a:lnTo>
                      <a:pt x="577" y="227"/>
                    </a:lnTo>
                    <a:lnTo>
                      <a:pt x="530" y="259"/>
                    </a:lnTo>
                    <a:lnTo>
                      <a:pt x="481" y="285"/>
                    </a:lnTo>
                    <a:lnTo>
                      <a:pt x="431" y="307"/>
                    </a:lnTo>
                    <a:lnTo>
                      <a:pt x="380" y="321"/>
                    </a:lnTo>
                    <a:lnTo>
                      <a:pt x="328" y="329"/>
                    </a:lnTo>
                    <a:lnTo>
                      <a:pt x="275" y="329"/>
                    </a:lnTo>
                    <a:lnTo>
                      <a:pt x="219" y="321"/>
                    </a:lnTo>
                    <a:lnTo>
                      <a:pt x="193" y="314"/>
                    </a:lnTo>
                    <a:lnTo>
                      <a:pt x="165" y="305"/>
                    </a:lnTo>
                    <a:lnTo>
                      <a:pt x="138" y="293"/>
                    </a:lnTo>
                    <a:lnTo>
                      <a:pt x="110" y="280"/>
                    </a:lnTo>
                    <a:lnTo>
                      <a:pt x="82" y="264"/>
                    </a:lnTo>
                    <a:lnTo>
                      <a:pt x="55" y="245"/>
                    </a:lnTo>
                    <a:lnTo>
                      <a:pt x="27" y="226"/>
                    </a:lnTo>
                    <a:lnTo>
                      <a:pt x="0" y="203"/>
                    </a:lnTo>
                    <a:lnTo>
                      <a:pt x="10" y="192"/>
                    </a:lnTo>
                    <a:lnTo>
                      <a:pt x="37" y="215"/>
                    </a:lnTo>
                    <a:lnTo>
                      <a:pt x="64" y="234"/>
                    </a:lnTo>
                    <a:lnTo>
                      <a:pt x="91" y="252"/>
                    </a:lnTo>
                    <a:lnTo>
                      <a:pt x="118" y="267"/>
                    </a:lnTo>
                    <a:lnTo>
                      <a:pt x="144" y="281"/>
                    </a:lnTo>
                    <a:lnTo>
                      <a:pt x="171" y="292"/>
                    </a:lnTo>
                    <a:lnTo>
                      <a:pt x="198" y="300"/>
                    </a:lnTo>
                    <a:lnTo>
                      <a:pt x="223" y="308"/>
                    </a:lnTo>
                    <a:lnTo>
                      <a:pt x="275" y="315"/>
                    </a:lnTo>
                    <a:lnTo>
                      <a:pt x="325" y="315"/>
                    </a:lnTo>
                    <a:lnTo>
                      <a:pt x="376" y="308"/>
                    </a:lnTo>
                    <a:lnTo>
                      <a:pt x="424" y="293"/>
                    </a:lnTo>
                    <a:lnTo>
                      <a:pt x="473" y="272"/>
                    </a:lnTo>
                    <a:lnTo>
                      <a:pt x="521" y="247"/>
                    </a:lnTo>
                    <a:lnTo>
                      <a:pt x="567" y="216"/>
                    </a:lnTo>
                    <a:lnTo>
                      <a:pt x="613" y="181"/>
                    </a:lnTo>
                    <a:lnTo>
                      <a:pt x="657" y="140"/>
                    </a:lnTo>
                    <a:lnTo>
                      <a:pt x="698" y="96"/>
                    </a:lnTo>
                    <a:lnTo>
                      <a:pt x="739" y="50"/>
                    </a:lnTo>
                    <a:lnTo>
                      <a:pt x="778" y="0"/>
                    </a:lnTo>
                    <a:lnTo>
                      <a:pt x="78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689440" y="255060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9"/>
                    </a:moveTo>
                    <a:lnTo>
                      <a:pt x="11" y="9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030640" y="2152080"/>
                <a:ext cx="84240" cy="558360"/>
              </a:xfrm>
              <a:custGeom>
                <a:avLst/>
                <a:gdLst/>
                <a:ahLst/>
                <a:rect l="l" t="t" r="r" b="b"/>
                <a:pathLst>
                  <a:path w="107" h="703">
                    <a:moveTo>
                      <a:pt x="53" y="703"/>
                    </a:moveTo>
                    <a:lnTo>
                      <a:pt x="37" y="681"/>
                    </a:lnTo>
                    <a:lnTo>
                      <a:pt x="25" y="658"/>
                    </a:lnTo>
                    <a:lnTo>
                      <a:pt x="14" y="636"/>
                    </a:lnTo>
                    <a:lnTo>
                      <a:pt x="8" y="613"/>
                    </a:lnTo>
                    <a:lnTo>
                      <a:pt x="0" y="565"/>
                    </a:lnTo>
                    <a:lnTo>
                      <a:pt x="0" y="520"/>
                    </a:lnTo>
                    <a:lnTo>
                      <a:pt x="8" y="476"/>
                    </a:lnTo>
                    <a:lnTo>
                      <a:pt x="19" y="430"/>
                    </a:lnTo>
                    <a:lnTo>
                      <a:pt x="33" y="386"/>
                    </a:lnTo>
                    <a:lnTo>
                      <a:pt x="49" y="341"/>
                    </a:lnTo>
                    <a:lnTo>
                      <a:pt x="77" y="255"/>
                    </a:lnTo>
                    <a:lnTo>
                      <a:pt x="88" y="212"/>
                    </a:lnTo>
                    <a:lnTo>
                      <a:pt x="91" y="191"/>
                    </a:lnTo>
                    <a:lnTo>
                      <a:pt x="93" y="169"/>
                    </a:lnTo>
                    <a:lnTo>
                      <a:pt x="93" y="150"/>
                    </a:lnTo>
                    <a:lnTo>
                      <a:pt x="91" y="130"/>
                    </a:lnTo>
                    <a:lnTo>
                      <a:pt x="87" y="109"/>
                    </a:lnTo>
                    <a:lnTo>
                      <a:pt x="81" y="90"/>
                    </a:lnTo>
                    <a:lnTo>
                      <a:pt x="74" y="70"/>
                    </a:lnTo>
                    <a:lnTo>
                      <a:pt x="63" y="50"/>
                    </a:lnTo>
                    <a:lnTo>
                      <a:pt x="48" y="30"/>
                    </a:lnTo>
                    <a:lnTo>
                      <a:pt x="31" y="10"/>
                    </a:lnTo>
                    <a:lnTo>
                      <a:pt x="42" y="0"/>
                    </a:lnTo>
                    <a:lnTo>
                      <a:pt x="59" y="20"/>
                    </a:lnTo>
                    <a:lnTo>
                      <a:pt x="75" y="42"/>
                    </a:lnTo>
                    <a:lnTo>
                      <a:pt x="86" y="63"/>
                    </a:lnTo>
                    <a:lnTo>
                      <a:pt x="95" y="83"/>
                    </a:lnTo>
                    <a:lnTo>
                      <a:pt x="101" y="105"/>
                    </a:lnTo>
                    <a:lnTo>
                      <a:pt x="104" y="127"/>
                    </a:lnTo>
                    <a:lnTo>
                      <a:pt x="107" y="150"/>
                    </a:lnTo>
                    <a:lnTo>
                      <a:pt x="107" y="172"/>
                    </a:lnTo>
                    <a:lnTo>
                      <a:pt x="104" y="194"/>
                    </a:lnTo>
                    <a:lnTo>
                      <a:pt x="102" y="216"/>
                    </a:lnTo>
                    <a:lnTo>
                      <a:pt x="91" y="260"/>
                    </a:lnTo>
                    <a:lnTo>
                      <a:pt x="63" y="348"/>
                    </a:lnTo>
                    <a:lnTo>
                      <a:pt x="47" y="392"/>
                    </a:lnTo>
                    <a:lnTo>
                      <a:pt x="32" y="434"/>
                    </a:lnTo>
                    <a:lnTo>
                      <a:pt x="21" y="480"/>
                    </a:lnTo>
                    <a:lnTo>
                      <a:pt x="14" y="522"/>
                    </a:lnTo>
                    <a:lnTo>
                      <a:pt x="14" y="565"/>
                    </a:lnTo>
                    <a:lnTo>
                      <a:pt x="21" y="609"/>
                    </a:lnTo>
                    <a:lnTo>
                      <a:pt x="27" y="630"/>
                    </a:lnTo>
                    <a:lnTo>
                      <a:pt x="37" y="651"/>
                    </a:lnTo>
                    <a:lnTo>
                      <a:pt x="49" y="673"/>
                    </a:lnTo>
                    <a:lnTo>
                      <a:pt x="64" y="695"/>
                    </a:lnTo>
                    <a:lnTo>
                      <a:pt x="53" y="7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270288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11"/>
                    </a:moveTo>
                    <a:lnTo>
                      <a:pt x="0" y="9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587840" y="2104560"/>
                <a:ext cx="474840" cy="164880"/>
              </a:xfrm>
              <a:custGeom>
                <a:avLst/>
                <a:gdLst/>
                <a:ahLst/>
                <a:rect l="l" t="t" r="r" b="b"/>
                <a:pathLst>
                  <a:path w="598" h="208">
                    <a:moveTo>
                      <a:pt x="589" y="71"/>
                    </a:moveTo>
                    <a:lnTo>
                      <a:pt x="551" y="48"/>
                    </a:lnTo>
                    <a:lnTo>
                      <a:pt x="513" y="31"/>
                    </a:lnTo>
                    <a:lnTo>
                      <a:pt x="476" y="20"/>
                    </a:lnTo>
                    <a:lnTo>
                      <a:pt x="439" y="15"/>
                    </a:lnTo>
                    <a:lnTo>
                      <a:pt x="401" y="14"/>
                    </a:lnTo>
                    <a:lnTo>
                      <a:pt x="363" y="18"/>
                    </a:lnTo>
                    <a:lnTo>
                      <a:pt x="325" y="26"/>
                    </a:lnTo>
                    <a:lnTo>
                      <a:pt x="287" y="37"/>
                    </a:lnTo>
                    <a:lnTo>
                      <a:pt x="251" y="52"/>
                    </a:lnTo>
                    <a:lnTo>
                      <a:pt x="214" y="69"/>
                    </a:lnTo>
                    <a:lnTo>
                      <a:pt x="177" y="90"/>
                    </a:lnTo>
                    <a:lnTo>
                      <a:pt x="142" y="112"/>
                    </a:lnTo>
                    <a:lnTo>
                      <a:pt x="108" y="135"/>
                    </a:lnTo>
                    <a:lnTo>
                      <a:pt x="73" y="158"/>
                    </a:lnTo>
                    <a:lnTo>
                      <a:pt x="10" y="208"/>
                    </a:lnTo>
                    <a:lnTo>
                      <a:pt x="0" y="197"/>
                    </a:lnTo>
                    <a:lnTo>
                      <a:pt x="64" y="147"/>
                    </a:lnTo>
                    <a:lnTo>
                      <a:pt x="98" y="124"/>
                    </a:lnTo>
                    <a:lnTo>
                      <a:pt x="133" y="99"/>
                    </a:lnTo>
                    <a:lnTo>
                      <a:pt x="169" y="77"/>
                    </a:lnTo>
                    <a:lnTo>
                      <a:pt x="207" y="57"/>
                    </a:lnTo>
                    <a:lnTo>
                      <a:pt x="243" y="40"/>
                    </a:lnTo>
                    <a:lnTo>
                      <a:pt x="281" y="24"/>
                    </a:lnTo>
                    <a:lnTo>
                      <a:pt x="320" y="13"/>
                    </a:lnTo>
                    <a:lnTo>
                      <a:pt x="359" y="4"/>
                    </a:lnTo>
                    <a:lnTo>
                      <a:pt x="399" y="0"/>
                    </a:lnTo>
                    <a:lnTo>
                      <a:pt x="439" y="2"/>
                    </a:lnTo>
                    <a:lnTo>
                      <a:pt x="479" y="7"/>
                    </a:lnTo>
                    <a:lnTo>
                      <a:pt x="520" y="18"/>
                    </a:lnTo>
                    <a:lnTo>
                      <a:pt x="559" y="36"/>
                    </a:lnTo>
                    <a:lnTo>
                      <a:pt x="598" y="59"/>
                    </a:lnTo>
                    <a:lnTo>
                      <a:pt x="589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054760" y="2152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1"/>
                    </a:moveTo>
                    <a:lnTo>
                      <a:pt x="10" y="0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213080" y="2261880"/>
                <a:ext cx="382680" cy="326520"/>
              </a:xfrm>
              <a:custGeom>
                <a:avLst/>
                <a:gdLst/>
                <a:ahLst/>
                <a:rect l="l" t="t" r="r" b="b"/>
                <a:pathLst>
                  <a:path w="482" h="412">
                    <a:moveTo>
                      <a:pt x="482" y="11"/>
                    </a:moveTo>
                    <a:lnTo>
                      <a:pt x="360" y="107"/>
                    </a:lnTo>
                    <a:lnTo>
                      <a:pt x="240" y="204"/>
                    </a:lnTo>
                    <a:lnTo>
                      <a:pt x="122" y="306"/>
                    </a:lnTo>
                    <a:lnTo>
                      <a:pt x="65" y="359"/>
                    </a:lnTo>
                    <a:lnTo>
                      <a:pt x="10" y="412"/>
                    </a:lnTo>
                    <a:lnTo>
                      <a:pt x="0" y="401"/>
                    </a:lnTo>
                    <a:lnTo>
                      <a:pt x="55" y="348"/>
                    </a:lnTo>
                    <a:lnTo>
                      <a:pt x="113" y="295"/>
                    </a:lnTo>
                    <a:lnTo>
                      <a:pt x="230" y="193"/>
                    </a:lnTo>
                    <a:lnTo>
                      <a:pt x="350" y="96"/>
                    </a:lnTo>
                    <a:lnTo>
                      <a:pt x="472" y="0"/>
                    </a:lnTo>
                    <a:lnTo>
                      <a:pt x="48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587840" y="226188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1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024440" y="2414160"/>
                <a:ext cx="196560" cy="172800"/>
              </a:xfrm>
              <a:custGeom>
                <a:avLst/>
                <a:gdLst/>
                <a:ahLst/>
                <a:rect l="l" t="t" r="r" b="b"/>
                <a:pathLst>
                  <a:path w="248" h="219">
                    <a:moveTo>
                      <a:pt x="238" y="219"/>
                    </a:moveTo>
                    <a:lnTo>
                      <a:pt x="120" y="115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129" y="104"/>
                    </a:lnTo>
                    <a:lnTo>
                      <a:pt x="248" y="209"/>
                    </a:lnTo>
                    <a:lnTo>
                      <a:pt x="238" y="2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213080" y="25790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11"/>
                    </a:moveTo>
                    <a:lnTo>
                      <a:pt x="6" y="15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548160" y="2234880"/>
                <a:ext cx="484200" cy="186840"/>
              </a:xfrm>
              <a:custGeom>
                <a:avLst/>
                <a:gdLst/>
                <a:ahLst/>
                <a:rect l="l" t="t" r="r" b="b"/>
                <a:pathLst>
                  <a:path w="610" h="236">
                    <a:moveTo>
                      <a:pt x="600" y="236"/>
                    </a:moveTo>
                    <a:lnTo>
                      <a:pt x="536" y="182"/>
                    </a:lnTo>
                    <a:lnTo>
                      <a:pt x="502" y="156"/>
                    </a:lnTo>
                    <a:lnTo>
                      <a:pt x="467" y="129"/>
                    </a:lnTo>
                    <a:lnTo>
                      <a:pt x="392" y="81"/>
                    </a:lnTo>
                    <a:lnTo>
                      <a:pt x="355" y="59"/>
                    </a:lnTo>
                    <a:lnTo>
                      <a:pt x="316" y="43"/>
                    </a:lnTo>
                    <a:lnTo>
                      <a:pt x="278" y="28"/>
                    </a:lnTo>
                    <a:lnTo>
                      <a:pt x="239" y="19"/>
                    </a:lnTo>
                    <a:lnTo>
                      <a:pt x="220" y="15"/>
                    </a:lnTo>
                    <a:lnTo>
                      <a:pt x="201" y="14"/>
                    </a:lnTo>
                    <a:lnTo>
                      <a:pt x="163" y="14"/>
                    </a:lnTo>
                    <a:lnTo>
                      <a:pt x="123" y="20"/>
                    </a:lnTo>
                    <a:lnTo>
                      <a:pt x="105" y="26"/>
                    </a:lnTo>
                    <a:lnTo>
                      <a:pt x="86" y="32"/>
                    </a:lnTo>
                    <a:lnTo>
                      <a:pt x="47" y="52"/>
                    </a:lnTo>
                    <a:lnTo>
                      <a:pt x="29" y="65"/>
                    </a:lnTo>
                    <a:lnTo>
                      <a:pt x="9" y="80"/>
                    </a:lnTo>
                    <a:lnTo>
                      <a:pt x="0" y="69"/>
                    </a:lnTo>
                    <a:lnTo>
                      <a:pt x="19" y="54"/>
                    </a:lnTo>
                    <a:lnTo>
                      <a:pt x="39" y="39"/>
                    </a:lnTo>
                    <a:lnTo>
                      <a:pt x="79" y="20"/>
                    </a:lnTo>
                    <a:lnTo>
                      <a:pt x="99" y="12"/>
                    </a:lnTo>
                    <a:lnTo>
                      <a:pt x="119" y="6"/>
                    </a:lnTo>
                    <a:lnTo>
                      <a:pt x="161" y="0"/>
                    </a:lnTo>
                    <a:lnTo>
                      <a:pt x="201" y="0"/>
                    </a:lnTo>
                    <a:lnTo>
                      <a:pt x="222" y="1"/>
                    </a:lnTo>
                    <a:lnTo>
                      <a:pt x="243" y="5"/>
                    </a:lnTo>
                    <a:lnTo>
                      <a:pt x="283" y="15"/>
                    </a:lnTo>
                    <a:lnTo>
                      <a:pt x="322" y="30"/>
                    </a:lnTo>
                    <a:lnTo>
                      <a:pt x="363" y="47"/>
                    </a:lnTo>
                    <a:lnTo>
                      <a:pt x="401" y="69"/>
                    </a:lnTo>
                    <a:lnTo>
                      <a:pt x="475" y="118"/>
                    </a:lnTo>
                    <a:lnTo>
                      <a:pt x="512" y="145"/>
                    </a:lnTo>
                    <a:lnTo>
                      <a:pt x="546" y="171"/>
                    </a:lnTo>
                    <a:lnTo>
                      <a:pt x="610" y="225"/>
                    </a:lnTo>
                    <a:lnTo>
                      <a:pt x="600" y="2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24440" y="24141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0"/>
                    </a:moveTo>
                    <a:lnTo>
                      <a:pt x="0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492360" y="2288520"/>
                <a:ext cx="93960" cy="599760"/>
              </a:xfrm>
              <a:custGeom>
                <a:avLst/>
                <a:gdLst/>
                <a:ahLst/>
                <a:rect l="l" t="t" r="r" b="b"/>
                <a:pathLst>
                  <a:path w="119" h="755">
                    <a:moveTo>
                      <a:pt x="79" y="10"/>
                    </a:moveTo>
                    <a:lnTo>
                      <a:pt x="61" y="32"/>
                    </a:lnTo>
                    <a:lnTo>
                      <a:pt x="48" y="52"/>
                    </a:lnTo>
                    <a:lnTo>
                      <a:pt x="26" y="96"/>
                    </a:lnTo>
                    <a:lnTo>
                      <a:pt x="21" y="116"/>
                    </a:lnTo>
                    <a:lnTo>
                      <a:pt x="16" y="137"/>
                    </a:lnTo>
                    <a:lnTo>
                      <a:pt x="15" y="160"/>
                    </a:lnTo>
                    <a:lnTo>
                      <a:pt x="15" y="182"/>
                    </a:lnTo>
                    <a:lnTo>
                      <a:pt x="16" y="205"/>
                    </a:lnTo>
                    <a:lnTo>
                      <a:pt x="20" y="227"/>
                    </a:lnTo>
                    <a:lnTo>
                      <a:pt x="31" y="274"/>
                    </a:lnTo>
                    <a:lnTo>
                      <a:pt x="45" y="319"/>
                    </a:lnTo>
                    <a:lnTo>
                      <a:pt x="61" y="367"/>
                    </a:lnTo>
                    <a:lnTo>
                      <a:pt x="95" y="462"/>
                    </a:lnTo>
                    <a:lnTo>
                      <a:pt x="109" y="511"/>
                    </a:lnTo>
                    <a:lnTo>
                      <a:pt x="117" y="559"/>
                    </a:lnTo>
                    <a:lnTo>
                      <a:pt x="119" y="584"/>
                    </a:lnTo>
                    <a:lnTo>
                      <a:pt x="119" y="607"/>
                    </a:lnTo>
                    <a:lnTo>
                      <a:pt x="117" y="632"/>
                    </a:lnTo>
                    <a:lnTo>
                      <a:pt x="112" y="656"/>
                    </a:lnTo>
                    <a:lnTo>
                      <a:pt x="104" y="682"/>
                    </a:lnTo>
                    <a:lnTo>
                      <a:pt x="94" y="707"/>
                    </a:lnTo>
                    <a:lnTo>
                      <a:pt x="82" y="732"/>
                    </a:lnTo>
                    <a:lnTo>
                      <a:pt x="66" y="755"/>
                    </a:lnTo>
                    <a:lnTo>
                      <a:pt x="54" y="747"/>
                    </a:lnTo>
                    <a:lnTo>
                      <a:pt x="70" y="724"/>
                    </a:lnTo>
                    <a:lnTo>
                      <a:pt x="81" y="700"/>
                    </a:lnTo>
                    <a:lnTo>
                      <a:pt x="90" y="677"/>
                    </a:lnTo>
                    <a:lnTo>
                      <a:pt x="98" y="654"/>
                    </a:lnTo>
                    <a:lnTo>
                      <a:pt x="103" y="631"/>
                    </a:lnTo>
                    <a:lnTo>
                      <a:pt x="104" y="607"/>
                    </a:lnTo>
                    <a:lnTo>
                      <a:pt x="104" y="584"/>
                    </a:lnTo>
                    <a:lnTo>
                      <a:pt x="103" y="561"/>
                    </a:lnTo>
                    <a:lnTo>
                      <a:pt x="94" y="513"/>
                    </a:lnTo>
                    <a:lnTo>
                      <a:pt x="82" y="468"/>
                    </a:lnTo>
                    <a:lnTo>
                      <a:pt x="48" y="373"/>
                    </a:lnTo>
                    <a:lnTo>
                      <a:pt x="32" y="325"/>
                    </a:lnTo>
                    <a:lnTo>
                      <a:pt x="16" y="276"/>
                    </a:lnTo>
                    <a:lnTo>
                      <a:pt x="5" y="230"/>
                    </a:lnTo>
                    <a:lnTo>
                      <a:pt x="1" y="206"/>
                    </a:lnTo>
                    <a:lnTo>
                      <a:pt x="0" y="183"/>
                    </a:lnTo>
                    <a:lnTo>
                      <a:pt x="0" y="160"/>
                    </a:lnTo>
                    <a:lnTo>
                      <a:pt x="1" y="135"/>
                    </a:lnTo>
                    <a:lnTo>
                      <a:pt x="6" y="113"/>
                    </a:lnTo>
                    <a:lnTo>
                      <a:pt x="12" y="90"/>
                    </a:lnTo>
                    <a:lnTo>
                      <a:pt x="35" y="45"/>
                    </a:lnTo>
                    <a:lnTo>
                      <a:pt x="50" y="22"/>
                    </a:lnTo>
                    <a:lnTo>
                      <a:pt x="68" y="0"/>
                    </a:lnTo>
                    <a:lnTo>
                      <a:pt x="7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546360" y="2288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0"/>
                    </a:moveTo>
                    <a:lnTo>
                      <a:pt x="0" y="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940120" y="2728440"/>
                <a:ext cx="603360" cy="261720"/>
              </a:xfrm>
              <a:custGeom>
                <a:avLst/>
                <a:gdLst/>
                <a:ahLst/>
                <a:rect l="l" t="t" r="r" b="b"/>
                <a:pathLst>
                  <a:path w="761" h="330">
                    <a:moveTo>
                      <a:pt x="761" y="203"/>
                    </a:moveTo>
                    <a:lnTo>
                      <a:pt x="708" y="247"/>
                    </a:lnTo>
                    <a:lnTo>
                      <a:pt x="680" y="265"/>
                    </a:lnTo>
                    <a:lnTo>
                      <a:pt x="654" y="281"/>
                    </a:lnTo>
                    <a:lnTo>
                      <a:pt x="627" y="294"/>
                    </a:lnTo>
                    <a:lnTo>
                      <a:pt x="601" y="307"/>
                    </a:lnTo>
                    <a:lnTo>
                      <a:pt x="575" y="316"/>
                    </a:lnTo>
                    <a:lnTo>
                      <a:pt x="547" y="322"/>
                    </a:lnTo>
                    <a:lnTo>
                      <a:pt x="497" y="330"/>
                    </a:lnTo>
                    <a:lnTo>
                      <a:pt x="444" y="330"/>
                    </a:lnTo>
                    <a:lnTo>
                      <a:pt x="393" y="321"/>
                    </a:lnTo>
                    <a:lnTo>
                      <a:pt x="343" y="308"/>
                    </a:lnTo>
                    <a:lnTo>
                      <a:pt x="295" y="286"/>
                    </a:lnTo>
                    <a:lnTo>
                      <a:pt x="271" y="272"/>
                    </a:lnTo>
                    <a:lnTo>
                      <a:pt x="247" y="259"/>
                    </a:lnTo>
                    <a:lnTo>
                      <a:pt x="202" y="227"/>
                    </a:lnTo>
                    <a:lnTo>
                      <a:pt x="158" y="190"/>
                    </a:lnTo>
                    <a:lnTo>
                      <a:pt x="137" y="171"/>
                    </a:lnTo>
                    <a:lnTo>
                      <a:pt x="117" y="150"/>
                    </a:lnTo>
                    <a:lnTo>
                      <a:pt x="75" y="106"/>
                    </a:lnTo>
                    <a:lnTo>
                      <a:pt x="37" y="58"/>
                    </a:lnTo>
                    <a:lnTo>
                      <a:pt x="0" y="9"/>
                    </a:lnTo>
                    <a:lnTo>
                      <a:pt x="11" y="0"/>
                    </a:lnTo>
                    <a:lnTo>
                      <a:pt x="48" y="49"/>
                    </a:lnTo>
                    <a:lnTo>
                      <a:pt x="86" y="96"/>
                    </a:lnTo>
                    <a:lnTo>
                      <a:pt x="126" y="139"/>
                    </a:lnTo>
                    <a:lnTo>
                      <a:pt x="147" y="160"/>
                    </a:lnTo>
                    <a:lnTo>
                      <a:pt x="168" y="179"/>
                    </a:lnTo>
                    <a:lnTo>
                      <a:pt x="212" y="216"/>
                    </a:lnTo>
                    <a:lnTo>
                      <a:pt x="256" y="248"/>
                    </a:lnTo>
                    <a:lnTo>
                      <a:pt x="279" y="260"/>
                    </a:lnTo>
                    <a:lnTo>
                      <a:pt x="302" y="274"/>
                    </a:lnTo>
                    <a:lnTo>
                      <a:pt x="349" y="294"/>
                    </a:lnTo>
                    <a:lnTo>
                      <a:pt x="396" y="308"/>
                    </a:lnTo>
                    <a:lnTo>
                      <a:pt x="444" y="316"/>
                    </a:lnTo>
                    <a:lnTo>
                      <a:pt x="494" y="316"/>
                    </a:lnTo>
                    <a:lnTo>
                      <a:pt x="543" y="309"/>
                    </a:lnTo>
                    <a:lnTo>
                      <a:pt x="570" y="303"/>
                    </a:lnTo>
                    <a:lnTo>
                      <a:pt x="594" y="293"/>
                    </a:lnTo>
                    <a:lnTo>
                      <a:pt x="620" y="282"/>
                    </a:lnTo>
                    <a:lnTo>
                      <a:pt x="646" y="269"/>
                    </a:lnTo>
                    <a:lnTo>
                      <a:pt x="671" y="253"/>
                    </a:lnTo>
                    <a:lnTo>
                      <a:pt x="698" y="236"/>
                    </a:lnTo>
                    <a:lnTo>
                      <a:pt x="751" y="192"/>
                    </a:lnTo>
                    <a:lnTo>
                      <a:pt x="761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535200" y="28807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9"/>
                    </a:moveTo>
                    <a:lnTo>
                      <a:pt x="11" y="1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830680" y="2430000"/>
                <a:ext cx="118800" cy="306000"/>
              </a:xfrm>
              <a:custGeom>
                <a:avLst/>
                <a:gdLst/>
                <a:ahLst/>
                <a:rect l="l" t="t" r="r" b="b"/>
                <a:pathLst>
                  <a:path w="152" h="386">
                    <a:moveTo>
                      <a:pt x="139" y="386"/>
                    </a:moveTo>
                    <a:lnTo>
                      <a:pt x="109" y="339"/>
                    </a:lnTo>
                    <a:lnTo>
                      <a:pt x="81" y="290"/>
                    </a:lnTo>
                    <a:lnTo>
                      <a:pt x="57" y="242"/>
                    </a:lnTo>
                    <a:lnTo>
                      <a:pt x="35" y="194"/>
                    </a:lnTo>
                    <a:lnTo>
                      <a:pt x="20" y="146"/>
                    </a:lnTo>
                    <a:lnTo>
                      <a:pt x="9" y="98"/>
                    </a:lnTo>
                    <a:lnTo>
                      <a:pt x="2" y="4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3" y="23"/>
                    </a:lnTo>
                    <a:lnTo>
                      <a:pt x="16" y="47"/>
                    </a:lnTo>
                    <a:lnTo>
                      <a:pt x="22" y="94"/>
                    </a:lnTo>
                    <a:lnTo>
                      <a:pt x="33" y="141"/>
                    </a:lnTo>
                    <a:lnTo>
                      <a:pt x="49" y="188"/>
                    </a:lnTo>
                    <a:lnTo>
                      <a:pt x="70" y="235"/>
                    </a:lnTo>
                    <a:lnTo>
                      <a:pt x="93" y="283"/>
                    </a:lnTo>
                    <a:lnTo>
                      <a:pt x="121" y="330"/>
                    </a:lnTo>
                    <a:lnTo>
                      <a:pt x="152" y="378"/>
                    </a:lnTo>
                    <a:lnTo>
                      <a:pt x="139" y="3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940120" y="272844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9"/>
                    </a:moveTo>
                    <a:lnTo>
                      <a:pt x="13" y="1"/>
                    </a:lnTo>
                    <a:lnTo>
                      <a:pt x="1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830680" y="2428560"/>
                <a:ext cx="79200" cy="310680"/>
              </a:xfrm>
              <a:custGeom>
                <a:avLst/>
                <a:gdLst/>
                <a:ahLst/>
                <a:rect l="l" t="t" r="r" b="b"/>
                <a:pathLst>
                  <a:path w="100" h="391">
                    <a:moveTo>
                      <a:pt x="15" y="0"/>
                    </a:moveTo>
                    <a:lnTo>
                      <a:pt x="0" y="2"/>
                    </a:lnTo>
                    <a:lnTo>
                      <a:pt x="86" y="391"/>
                    </a:lnTo>
                    <a:lnTo>
                      <a:pt x="100" y="389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830680" y="2428560"/>
                <a:ext cx="10800" cy="252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1"/>
                    </a:moveTo>
                    <a:lnTo>
                      <a:pt x="15" y="0"/>
                    </a:lnTo>
                    <a:lnTo>
                      <a:pt x="0" y="2"/>
                    </a:lnTo>
                    <a:lnTo>
                      <a:pt x="15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897280" y="2736360"/>
                <a:ext cx="12600" cy="75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4"/>
                    </a:moveTo>
                    <a:lnTo>
                      <a:pt x="1" y="10"/>
                    </a:lnTo>
                    <a:lnTo>
                      <a:pt x="0" y="7"/>
                    </a:lnTo>
                    <a:lnTo>
                      <a:pt x="13" y="0"/>
                    </a:lnTo>
                    <a:lnTo>
                      <a:pt x="14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606920" y="5069880"/>
                <a:ext cx="1006560" cy="480600"/>
              </a:xfrm>
              <a:custGeom>
                <a:avLst/>
                <a:gdLst/>
                <a:ahLst/>
                <a:rect l="l" t="t" r="r" b="b"/>
                <a:pathLst>
                  <a:path w="1268" h="607">
                    <a:moveTo>
                      <a:pt x="1070" y="21"/>
                    </a:moveTo>
                    <a:lnTo>
                      <a:pt x="1046" y="15"/>
                    </a:lnTo>
                    <a:lnTo>
                      <a:pt x="1021" y="9"/>
                    </a:lnTo>
                    <a:lnTo>
                      <a:pt x="1005" y="4"/>
                    </a:lnTo>
                    <a:lnTo>
                      <a:pt x="988" y="1"/>
                    </a:lnTo>
                    <a:lnTo>
                      <a:pt x="971" y="0"/>
                    </a:lnTo>
                    <a:lnTo>
                      <a:pt x="954" y="0"/>
                    </a:lnTo>
                    <a:lnTo>
                      <a:pt x="938" y="1"/>
                    </a:lnTo>
                    <a:lnTo>
                      <a:pt x="921" y="2"/>
                    </a:lnTo>
                    <a:lnTo>
                      <a:pt x="904" y="5"/>
                    </a:lnTo>
                    <a:lnTo>
                      <a:pt x="888" y="9"/>
                    </a:lnTo>
                    <a:lnTo>
                      <a:pt x="872" y="13"/>
                    </a:lnTo>
                    <a:lnTo>
                      <a:pt x="856" y="18"/>
                    </a:lnTo>
                    <a:lnTo>
                      <a:pt x="840" y="24"/>
                    </a:lnTo>
                    <a:lnTo>
                      <a:pt x="824" y="31"/>
                    </a:lnTo>
                    <a:lnTo>
                      <a:pt x="817" y="34"/>
                    </a:lnTo>
                    <a:lnTo>
                      <a:pt x="809" y="38"/>
                    </a:lnTo>
                    <a:lnTo>
                      <a:pt x="794" y="46"/>
                    </a:lnTo>
                    <a:lnTo>
                      <a:pt x="779" y="54"/>
                    </a:lnTo>
                    <a:lnTo>
                      <a:pt x="765" y="62"/>
                    </a:lnTo>
                    <a:lnTo>
                      <a:pt x="758" y="67"/>
                    </a:lnTo>
                    <a:lnTo>
                      <a:pt x="752" y="73"/>
                    </a:lnTo>
                    <a:lnTo>
                      <a:pt x="747" y="78"/>
                    </a:lnTo>
                    <a:lnTo>
                      <a:pt x="742" y="83"/>
                    </a:lnTo>
                    <a:lnTo>
                      <a:pt x="735" y="94"/>
                    </a:lnTo>
                    <a:lnTo>
                      <a:pt x="729" y="106"/>
                    </a:lnTo>
                    <a:lnTo>
                      <a:pt x="724" y="117"/>
                    </a:lnTo>
                    <a:lnTo>
                      <a:pt x="720" y="130"/>
                    </a:lnTo>
                    <a:lnTo>
                      <a:pt x="717" y="142"/>
                    </a:lnTo>
                    <a:lnTo>
                      <a:pt x="714" y="154"/>
                    </a:lnTo>
                    <a:lnTo>
                      <a:pt x="707" y="179"/>
                    </a:lnTo>
                    <a:lnTo>
                      <a:pt x="703" y="190"/>
                    </a:lnTo>
                    <a:lnTo>
                      <a:pt x="697" y="202"/>
                    </a:lnTo>
                    <a:lnTo>
                      <a:pt x="695" y="207"/>
                    </a:lnTo>
                    <a:lnTo>
                      <a:pt x="691" y="212"/>
                    </a:lnTo>
                    <a:lnTo>
                      <a:pt x="687" y="218"/>
                    </a:lnTo>
                    <a:lnTo>
                      <a:pt x="683" y="223"/>
                    </a:lnTo>
                    <a:lnTo>
                      <a:pt x="678" y="227"/>
                    </a:lnTo>
                    <a:lnTo>
                      <a:pt x="673" y="232"/>
                    </a:lnTo>
                    <a:lnTo>
                      <a:pt x="667" y="236"/>
                    </a:lnTo>
                    <a:lnTo>
                      <a:pt x="661" y="241"/>
                    </a:lnTo>
                    <a:lnTo>
                      <a:pt x="631" y="254"/>
                    </a:lnTo>
                    <a:lnTo>
                      <a:pt x="603" y="268"/>
                    </a:lnTo>
                    <a:lnTo>
                      <a:pt x="588" y="274"/>
                    </a:lnTo>
                    <a:lnTo>
                      <a:pt x="574" y="279"/>
                    </a:lnTo>
                    <a:lnTo>
                      <a:pt x="546" y="289"/>
                    </a:lnTo>
                    <a:lnTo>
                      <a:pt x="516" y="298"/>
                    </a:lnTo>
                    <a:lnTo>
                      <a:pt x="486" y="306"/>
                    </a:lnTo>
                    <a:lnTo>
                      <a:pt x="471" y="309"/>
                    </a:lnTo>
                    <a:lnTo>
                      <a:pt x="456" y="312"/>
                    </a:lnTo>
                    <a:lnTo>
                      <a:pt x="426" y="317"/>
                    </a:lnTo>
                    <a:lnTo>
                      <a:pt x="397" y="320"/>
                    </a:lnTo>
                    <a:lnTo>
                      <a:pt x="366" y="323"/>
                    </a:lnTo>
                    <a:lnTo>
                      <a:pt x="335" y="324"/>
                    </a:lnTo>
                    <a:lnTo>
                      <a:pt x="305" y="324"/>
                    </a:lnTo>
                    <a:lnTo>
                      <a:pt x="274" y="323"/>
                    </a:lnTo>
                    <a:lnTo>
                      <a:pt x="243" y="320"/>
                    </a:lnTo>
                    <a:lnTo>
                      <a:pt x="212" y="317"/>
                    </a:lnTo>
                    <a:lnTo>
                      <a:pt x="180" y="312"/>
                    </a:lnTo>
                    <a:lnTo>
                      <a:pt x="93" y="320"/>
                    </a:lnTo>
                    <a:lnTo>
                      <a:pt x="74" y="333"/>
                    </a:lnTo>
                    <a:lnTo>
                      <a:pt x="56" y="345"/>
                    </a:lnTo>
                    <a:lnTo>
                      <a:pt x="41" y="357"/>
                    </a:lnTo>
                    <a:lnTo>
                      <a:pt x="35" y="363"/>
                    </a:lnTo>
                    <a:lnTo>
                      <a:pt x="29" y="369"/>
                    </a:lnTo>
                    <a:lnTo>
                      <a:pt x="19" y="382"/>
                    </a:lnTo>
                    <a:lnTo>
                      <a:pt x="15" y="388"/>
                    </a:lnTo>
                    <a:lnTo>
                      <a:pt x="11" y="393"/>
                    </a:lnTo>
                    <a:lnTo>
                      <a:pt x="5" y="405"/>
                    </a:lnTo>
                    <a:lnTo>
                      <a:pt x="2" y="416"/>
                    </a:lnTo>
                    <a:lnTo>
                      <a:pt x="0" y="421"/>
                    </a:lnTo>
                    <a:lnTo>
                      <a:pt x="0" y="427"/>
                    </a:lnTo>
                    <a:lnTo>
                      <a:pt x="0" y="432"/>
                    </a:lnTo>
                    <a:lnTo>
                      <a:pt x="0" y="437"/>
                    </a:lnTo>
                    <a:lnTo>
                      <a:pt x="3" y="448"/>
                    </a:lnTo>
                    <a:lnTo>
                      <a:pt x="7" y="457"/>
                    </a:lnTo>
                    <a:lnTo>
                      <a:pt x="9" y="462"/>
                    </a:lnTo>
                    <a:lnTo>
                      <a:pt x="11" y="467"/>
                    </a:lnTo>
                    <a:lnTo>
                      <a:pt x="15" y="472"/>
                    </a:lnTo>
                    <a:lnTo>
                      <a:pt x="18" y="477"/>
                    </a:lnTo>
                    <a:lnTo>
                      <a:pt x="26" y="485"/>
                    </a:lnTo>
                    <a:lnTo>
                      <a:pt x="31" y="490"/>
                    </a:lnTo>
                    <a:lnTo>
                      <a:pt x="35" y="495"/>
                    </a:lnTo>
                    <a:lnTo>
                      <a:pt x="46" y="504"/>
                    </a:lnTo>
                    <a:lnTo>
                      <a:pt x="57" y="512"/>
                    </a:lnTo>
                    <a:lnTo>
                      <a:pt x="69" y="520"/>
                    </a:lnTo>
                    <a:lnTo>
                      <a:pt x="82" y="528"/>
                    </a:lnTo>
                    <a:lnTo>
                      <a:pt x="96" y="536"/>
                    </a:lnTo>
                    <a:lnTo>
                      <a:pt x="111" y="542"/>
                    </a:lnTo>
                    <a:lnTo>
                      <a:pt x="126" y="549"/>
                    </a:lnTo>
                    <a:lnTo>
                      <a:pt x="141" y="555"/>
                    </a:lnTo>
                    <a:lnTo>
                      <a:pt x="173" y="567"/>
                    </a:lnTo>
                    <a:lnTo>
                      <a:pt x="206" y="577"/>
                    </a:lnTo>
                    <a:lnTo>
                      <a:pt x="238" y="586"/>
                    </a:lnTo>
                    <a:lnTo>
                      <a:pt x="268" y="592"/>
                    </a:lnTo>
                    <a:lnTo>
                      <a:pt x="304" y="598"/>
                    </a:lnTo>
                    <a:lnTo>
                      <a:pt x="339" y="602"/>
                    </a:lnTo>
                    <a:lnTo>
                      <a:pt x="373" y="605"/>
                    </a:lnTo>
                    <a:lnTo>
                      <a:pt x="390" y="605"/>
                    </a:lnTo>
                    <a:lnTo>
                      <a:pt x="408" y="607"/>
                    </a:lnTo>
                    <a:lnTo>
                      <a:pt x="443" y="607"/>
                    </a:lnTo>
                    <a:lnTo>
                      <a:pt x="460" y="605"/>
                    </a:lnTo>
                    <a:lnTo>
                      <a:pt x="477" y="605"/>
                    </a:lnTo>
                    <a:lnTo>
                      <a:pt x="510" y="602"/>
                    </a:lnTo>
                    <a:lnTo>
                      <a:pt x="544" y="598"/>
                    </a:lnTo>
                    <a:lnTo>
                      <a:pt x="562" y="594"/>
                    </a:lnTo>
                    <a:lnTo>
                      <a:pt x="579" y="592"/>
                    </a:lnTo>
                    <a:lnTo>
                      <a:pt x="612" y="585"/>
                    </a:lnTo>
                    <a:lnTo>
                      <a:pt x="645" y="576"/>
                    </a:lnTo>
                    <a:lnTo>
                      <a:pt x="678" y="566"/>
                    </a:lnTo>
                    <a:lnTo>
                      <a:pt x="711" y="555"/>
                    </a:lnTo>
                    <a:lnTo>
                      <a:pt x="727" y="549"/>
                    </a:lnTo>
                    <a:lnTo>
                      <a:pt x="744" y="542"/>
                    </a:lnTo>
                    <a:lnTo>
                      <a:pt x="760" y="536"/>
                    </a:lnTo>
                    <a:lnTo>
                      <a:pt x="776" y="528"/>
                    </a:lnTo>
                    <a:lnTo>
                      <a:pt x="791" y="520"/>
                    </a:lnTo>
                    <a:lnTo>
                      <a:pt x="807" y="512"/>
                    </a:lnTo>
                    <a:lnTo>
                      <a:pt x="815" y="507"/>
                    </a:lnTo>
                    <a:lnTo>
                      <a:pt x="821" y="503"/>
                    </a:lnTo>
                    <a:lnTo>
                      <a:pt x="827" y="496"/>
                    </a:lnTo>
                    <a:lnTo>
                      <a:pt x="833" y="492"/>
                    </a:lnTo>
                    <a:lnTo>
                      <a:pt x="838" y="485"/>
                    </a:lnTo>
                    <a:lnTo>
                      <a:pt x="842" y="479"/>
                    </a:lnTo>
                    <a:lnTo>
                      <a:pt x="845" y="474"/>
                    </a:lnTo>
                    <a:lnTo>
                      <a:pt x="849" y="467"/>
                    </a:lnTo>
                    <a:lnTo>
                      <a:pt x="853" y="461"/>
                    </a:lnTo>
                    <a:lnTo>
                      <a:pt x="855" y="455"/>
                    </a:lnTo>
                    <a:lnTo>
                      <a:pt x="860" y="441"/>
                    </a:lnTo>
                    <a:lnTo>
                      <a:pt x="867" y="415"/>
                    </a:lnTo>
                    <a:lnTo>
                      <a:pt x="871" y="401"/>
                    </a:lnTo>
                    <a:lnTo>
                      <a:pt x="875" y="388"/>
                    </a:lnTo>
                    <a:lnTo>
                      <a:pt x="877" y="380"/>
                    </a:lnTo>
                    <a:lnTo>
                      <a:pt x="879" y="374"/>
                    </a:lnTo>
                    <a:lnTo>
                      <a:pt x="882" y="367"/>
                    </a:lnTo>
                    <a:lnTo>
                      <a:pt x="884" y="361"/>
                    </a:lnTo>
                    <a:lnTo>
                      <a:pt x="892" y="349"/>
                    </a:lnTo>
                    <a:lnTo>
                      <a:pt x="895" y="341"/>
                    </a:lnTo>
                    <a:lnTo>
                      <a:pt x="900" y="335"/>
                    </a:lnTo>
                    <a:lnTo>
                      <a:pt x="905" y="329"/>
                    </a:lnTo>
                    <a:lnTo>
                      <a:pt x="911" y="324"/>
                    </a:lnTo>
                    <a:lnTo>
                      <a:pt x="917" y="318"/>
                    </a:lnTo>
                    <a:lnTo>
                      <a:pt x="923" y="313"/>
                    </a:lnTo>
                    <a:lnTo>
                      <a:pt x="941" y="303"/>
                    </a:lnTo>
                    <a:lnTo>
                      <a:pt x="956" y="293"/>
                    </a:lnTo>
                    <a:lnTo>
                      <a:pt x="974" y="285"/>
                    </a:lnTo>
                    <a:lnTo>
                      <a:pt x="991" y="276"/>
                    </a:lnTo>
                    <a:lnTo>
                      <a:pt x="1009" y="269"/>
                    </a:lnTo>
                    <a:lnTo>
                      <a:pt x="1026" y="263"/>
                    </a:lnTo>
                    <a:lnTo>
                      <a:pt x="1044" y="257"/>
                    </a:lnTo>
                    <a:lnTo>
                      <a:pt x="1063" y="252"/>
                    </a:lnTo>
                    <a:lnTo>
                      <a:pt x="1081" y="248"/>
                    </a:lnTo>
                    <a:lnTo>
                      <a:pt x="1099" y="245"/>
                    </a:lnTo>
                    <a:lnTo>
                      <a:pt x="1119" y="243"/>
                    </a:lnTo>
                    <a:lnTo>
                      <a:pt x="1137" y="242"/>
                    </a:lnTo>
                    <a:lnTo>
                      <a:pt x="1156" y="242"/>
                    </a:lnTo>
                    <a:lnTo>
                      <a:pt x="1175" y="243"/>
                    </a:lnTo>
                    <a:lnTo>
                      <a:pt x="1194" y="247"/>
                    </a:lnTo>
                    <a:lnTo>
                      <a:pt x="1203" y="248"/>
                    </a:lnTo>
                    <a:lnTo>
                      <a:pt x="1213" y="251"/>
                    </a:lnTo>
                    <a:lnTo>
                      <a:pt x="1227" y="254"/>
                    </a:lnTo>
                    <a:lnTo>
                      <a:pt x="1240" y="258"/>
                    </a:lnTo>
                    <a:lnTo>
                      <a:pt x="1268" y="265"/>
                    </a:lnTo>
                    <a:lnTo>
                      <a:pt x="1070" y="21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415120" y="5071680"/>
                <a:ext cx="42840" cy="20160"/>
              </a:xfrm>
              <a:custGeom>
                <a:avLst/>
                <a:gdLst/>
                <a:ahLst/>
                <a:rect l="l" t="t" r="r" b="b"/>
                <a:pathLst>
                  <a:path w="54" h="27">
                    <a:moveTo>
                      <a:pt x="49" y="27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54" y="14"/>
                    </a:lnTo>
                    <a:lnTo>
                      <a:pt x="49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210280" y="5065200"/>
                <a:ext cx="207720" cy="58320"/>
              </a:xfrm>
              <a:custGeom>
                <a:avLst/>
                <a:gdLst/>
                <a:ahLst/>
                <a:rect l="l" t="t" r="r" b="b"/>
                <a:pathLst>
                  <a:path w="262" h="75">
                    <a:moveTo>
                      <a:pt x="259" y="21"/>
                    </a:moveTo>
                    <a:lnTo>
                      <a:pt x="227" y="15"/>
                    </a:lnTo>
                    <a:lnTo>
                      <a:pt x="194" y="13"/>
                    </a:lnTo>
                    <a:lnTo>
                      <a:pt x="162" y="16"/>
                    </a:lnTo>
                    <a:lnTo>
                      <a:pt x="130" y="22"/>
                    </a:lnTo>
                    <a:lnTo>
                      <a:pt x="97" y="32"/>
                    </a:lnTo>
                    <a:lnTo>
                      <a:pt x="68" y="43"/>
                    </a:lnTo>
                    <a:lnTo>
                      <a:pt x="38" y="59"/>
                    </a:lnTo>
                    <a:lnTo>
                      <a:pt x="8" y="75"/>
                    </a:lnTo>
                    <a:lnTo>
                      <a:pt x="0" y="62"/>
                    </a:lnTo>
                    <a:lnTo>
                      <a:pt x="29" y="46"/>
                    </a:lnTo>
                    <a:lnTo>
                      <a:pt x="61" y="30"/>
                    </a:lnTo>
                    <a:lnTo>
                      <a:pt x="91" y="18"/>
                    </a:lnTo>
                    <a:lnTo>
                      <a:pt x="126" y="8"/>
                    </a:lnTo>
                    <a:lnTo>
                      <a:pt x="159" y="2"/>
                    </a:lnTo>
                    <a:lnTo>
                      <a:pt x="194" y="0"/>
                    </a:lnTo>
                    <a:lnTo>
                      <a:pt x="229" y="1"/>
                    </a:lnTo>
                    <a:lnTo>
                      <a:pt x="262" y="7"/>
                    </a:lnTo>
                    <a:lnTo>
                      <a:pt x="2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415120" y="507168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5" y="0"/>
                    </a:moveTo>
                    <a:lnTo>
                      <a:pt x="3" y="0"/>
                    </a:lnTo>
                    <a:lnTo>
                      <a:pt x="0" y="1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27480" y="5115960"/>
                <a:ext cx="90720" cy="150480"/>
              </a:xfrm>
              <a:custGeom>
                <a:avLst/>
                <a:gdLst/>
                <a:ahLst/>
                <a:rect l="l" t="t" r="r" b="b"/>
                <a:pathLst>
                  <a:path w="113" h="190">
                    <a:moveTo>
                      <a:pt x="113" y="12"/>
                    </a:moveTo>
                    <a:lnTo>
                      <a:pt x="101" y="21"/>
                    </a:lnTo>
                    <a:lnTo>
                      <a:pt x="91" y="31"/>
                    </a:lnTo>
                    <a:lnTo>
                      <a:pt x="85" y="42"/>
                    </a:lnTo>
                    <a:lnTo>
                      <a:pt x="79" y="53"/>
                    </a:lnTo>
                    <a:lnTo>
                      <a:pt x="71" y="75"/>
                    </a:lnTo>
                    <a:lnTo>
                      <a:pt x="66" y="98"/>
                    </a:lnTo>
                    <a:lnTo>
                      <a:pt x="57" y="124"/>
                    </a:lnTo>
                    <a:lnTo>
                      <a:pt x="47" y="147"/>
                    </a:lnTo>
                    <a:lnTo>
                      <a:pt x="41" y="159"/>
                    </a:lnTo>
                    <a:lnTo>
                      <a:pt x="31" y="170"/>
                    </a:lnTo>
                    <a:lnTo>
                      <a:pt x="22" y="181"/>
                    </a:lnTo>
                    <a:lnTo>
                      <a:pt x="9" y="190"/>
                    </a:lnTo>
                    <a:lnTo>
                      <a:pt x="0" y="179"/>
                    </a:lnTo>
                    <a:lnTo>
                      <a:pt x="12" y="170"/>
                    </a:lnTo>
                    <a:lnTo>
                      <a:pt x="20" y="161"/>
                    </a:lnTo>
                    <a:lnTo>
                      <a:pt x="29" y="151"/>
                    </a:lnTo>
                    <a:lnTo>
                      <a:pt x="34" y="141"/>
                    </a:lnTo>
                    <a:lnTo>
                      <a:pt x="44" y="119"/>
                    </a:lnTo>
                    <a:lnTo>
                      <a:pt x="51" y="96"/>
                    </a:lnTo>
                    <a:lnTo>
                      <a:pt x="57" y="70"/>
                    </a:lnTo>
                    <a:lnTo>
                      <a:pt x="66" y="47"/>
                    </a:lnTo>
                    <a:lnTo>
                      <a:pt x="73" y="34"/>
                    </a:lnTo>
                    <a:lnTo>
                      <a:pt x="80" y="21"/>
                    </a:lnTo>
                    <a:lnTo>
                      <a:pt x="91" y="10"/>
                    </a:lnTo>
                    <a:lnTo>
                      <a:pt x="104" y="0"/>
                    </a:lnTo>
                    <a:lnTo>
                      <a:pt x="113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210280" y="511452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0"/>
                    </a:moveTo>
                    <a:lnTo>
                      <a:pt x="0" y="1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748040" y="5255640"/>
                <a:ext cx="385920" cy="77400"/>
              </a:xfrm>
              <a:custGeom>
                <a:avLst/>
                <a:gdLst/>
                <a:ahLst/>
                <a:rect l="l" t="t" r="r" b="b"/>
                <a:pathLst>
                  <a:path w="485" h="96">
                    <a:moveTo>
                      <a:pt x="485" y="12"/>
                    </a:moveTo>
                    <a:lnTo>
                      <a:pt x="427" y="40"/>
                    </a:lnTo>
                    <a:lnTo>
                      <a:pt x="368" y="61"/>
                    </a:lnTo>
                    <a:lnTo>
                      <a:pt x="339" y="71"/>
                    </a:lnTo>
                    <a:lnTo>
                      <a:pt x="308" y="78"/>
                    </a:lnTo>
                    <a:lnTo>
                      <a:pt x="248" y="89"/>
                    </a:lnTo>
                    <a:lnTo>
                      <a:pt x="188" y="95"/>
                    </a:lnTo>
                    <a:lnTo>
                      <a:pt x="126" y="96"/>
                    </a:lnTo>
                    <a:lnTo>
                      <a:pt x="62" y="93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65" y="79"/>
                    </a:lnTo>
                    <a:lnTo>
                      <a:pt x="126" y="83"/>
                    </a:lnTo>
                    <a:lnTo>
                      <a:pt x="186" y="82"/>
                    </a:lnTo>
                    <a:lnTo>
                      <a:pt x="244" y="76"/>
                    </a:lnTo>
                    <a:lnTo>
                      <a:pt x="304" y="65"/>
                    </a:lnTo>
                    <a:lnTo>
                      <a:pt x="334" y="57"/>
                    </a:lnTo>
                    <a:lnTo>
                      <a:pt x="362" y="47"/>
                    </a:lnTo>
                    <a:lnTo>
                      <a:pt x="420" y="27"/>
                    </a:lnTo>
                    <a:lnTo>
                      <a:pt x="478" y="0"/>
                    </a:lnTo>
                    <a:lnTo>
                      <a:pt x="48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127480" y="525564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9" y="12"/>
                    </a:moveTo>
                    <a:lnTo>
                      <a:pt x="8" y="12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80000" y="5312880"/>
                <a:ext cx="71280" cy="17280"/>
              </a:xfrm>
              <a:custGeom>
                <a:avLst/>
                <a:gdLst/>
                <a:ahLst/>
                <a:rect l="l" t="t" r="r" b="b"/>
                <a:pathLst>
                  <a:path w="89" h="22">
                    <a:moveTo>
                      <a:pt x="89" y="13"/>
                    </a:moveTo>
                    <a:lnTo>
                      <a:pt x="87" y="0"/>
                    </a:lnTo>
                    <a:lnTo>
                      <a:pt x="0" y="8"/>
                    </a:lnTo>
                    <a:lnTo>
                      <a:pt x="3" y="22"/>
                    </a:lnTo>
                    <a:lnTo>
                      <a:pt x="8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748040" y="5312880"/>
                <a:ext cx="3240" cy="1080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602240" y="5319360"/>
                <a:ext cx="218880" cy="226440"/>
              </a:xfrm>
              <a:custGeom>
                <a:avLst/>
                <a:gdLst/>
                <a:ahLst/>
                <a:rect l="l" t="t" r="r" b="b"/>
                <a:pathLst>
                  <a:path w="276" h="285">
                    <a:moveTo>
                      <a:pt x="104" y="13"/>
                    </a:moveTo>
                    <a:lnTo>
                      <a:pt x="85" y="25"/>
                    </a:lnTo>
                    <a:lnTo>
                      <a:pt x="67" y="37"/>
                    </a:lnTo>
                    <a:lnTo>
                      <a:pt x="53" y="49"/>
                    </a:lnTo>
                    <a:lnTo>
                      <a:pt x="41" y="60"/>
                    </a:lnTo>
                    <a:lnTo>
                      <a:pt x="32" y="72"/>
                    </a:lnTo>
                    <a:lnTo>
                      <a:pt x="25" y="83"/>
                    </a:lnTo>
                    <a:lnTo>
                      <a:pt x="18" y="94"/>
                    </a:lnTo>
                    <a:lnTo>
                      <a:pt x="16" y="103"/>
                    </a:lnTo>
                    <a:lnTo>
                      <a:pt x="15" y="113"/>
                    </a:lnTo>
                    <a:lnTo>
                      <a:pt x="15" y="123"/>
                    </a:lnTo>
                    <a:lnTo>
                      <a:pt x="17" y="132"/>
                    </a:lnTo>
                    <a:lnTo>
                      <a:pt x="20" y="141"/>
                    </a:lnTo>
                    <a:lnTo>
                      <a:pt x="31" y="159"/>
                    </a:lnTo>
                    <a:lnTo>
                      <a:pt x="47" y="176"/>
                    </a:lnTo>
                    <a:lnTo>
                      <a:pt x="67" y="192"/>
                    </a:lnTo>
                    <a:lnTo>
                      <a:pt x="93" y="207"/>
                    </a:lnTo>
                    <a:lnTo>
                      <a:pt x="120" y="222"/>
                    </a:lnTo>
                    <a:lnTo>
                      <a:pt x="151" y="235"/>
                    </a:lnTo>
                    <a:lnTo>
                      <a:pt x="182" y="246"/>
                    </a:lnTo>
                    <a:lnTo>
                      <a:pt x="214" y="256"/>
                    </a:lnTo>
                    <a:lnTo>
                      <a:pt x="276" y="271"/>
                    </a:lnTo>
                    <a:lnTo>
                      <a:pt x="274" y="285"/>
                    </a:lnTo>
                    <a:lnTo>
                      <a:pt x="212" y="271"/>
                    </a:lnTo>
                    <a:lnTo>
                      <a:pt x="176" y="260"/>
                    </a:lnTo>
                    <a:lnTo>
                      <a:pt x="144" y="249"/>
                    </a:lnTo>
                    <a:lnTo>
                      <a:pt x="114" y="235"/>
                    </a:lnTo>
                    <a:lnTo>
                      <a:pt x="85" y="219"/>
                    </a:lnTo>
                    <a:lnTo>
                      <a:pt x="59" y="204"/>
                    </a:lnTo>
                    <a:lnTo>
                      <a:pt x="37" y="187"/>
                    </a:lnTo>
                    <a:lnTo>
                      <a:pt x="18" y="168"/>
                    </a:lnTo>
                    <a:lnTo>
                      <a:pt x="6" y="147"/>
                    </a:lnTo>
                    <a:lnTo>
                      <a:pt x="3" y="135"/>
                    </a:lnTo>
                    <a:lnTo>
                      <a:pt x="0" y="124"/>
                    </a:lnTo>
                    <a:lnTo>
                      <a:pt x="0" y="113"/>
                    </a:lnTo>
                    <a:lnTo>
                      <a:pt x="1" y="101"/>
                    </a:lnTo>
                    <a:lnTo>
                      <a:pt x="5" y="88"/>
                    </a:lnTo>
                    <a:lnTo>
                      <a:pt x="12" y="75"/>
                    </a:lnTo>
                    <a:lnTo>
                      <a:pt x="20" y="64"/>
                    </a:lnTo>
                    <a:lnTo>
                      <a:pt x="29" y="50"/>
                    </a:lnTo>
                    <a:lnTo>
                      <a:pt x="43" y="38"/>
                    </a:lnTo>
                    <a:lnTo>
                      <a:pt x="58" y="26"/>
                    </a:lnTo>
                    <a:lnTo>
                      <a:pt x="75" y="14"/>
                    </a:lnTo>
                    <a:lnTo>
                      <a:pt x="96" y="0"/>
                    </a:lnTo>
                    <a:lnTo>
                      <a:pt x="10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676760" y="531936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10" y="13"/>
                    </a:lnTo>
                    <a:lnTo>
                      <a:pt x="8" y="1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818240" y="5471640"/>
                <a:ext cx="431640" cy="85320"/>
              </a:xfrm>
              <a:custGeom>
                <a:avLst/>
                <a:gdLst/>
                <a:ahLst/>
                <a:rect l="l" t="t" r="r" b="b"/>
                <a:pathLst>
                  <a:path w="543" h="108">
                    <a:moveTo>
                      <a:pt x="2" y="79"/>
                    </a:moveTo>
                    <a:lnTo>
                      <a:pt x="71" y="88"/>
                    </a:lnTo>
                    <a:lnTo>
                      <a:pt x="141" y="93"/>
                    </a:lnTo>
                    <a:lnTo>
                      <a:pt x="209" y="91"/>
                    </a:lnTo>
                    <a:lnTo>
                      <a:pt x="277" y="85"/>
                    </a:lnTo>
                    <a:lnTo>
                      <a:pt x="343" y="71"/>
                    </a:lnTo>
                    <a:lnTo>
                      <a:pt x="408" y="54"/>
                    </a:lnTo>
                    <a:lnTo>
                      <a:pt x="440" y="43"/>
                    </a:lnTo>
                    <a:lnTo>
                      <a:pt x="472" y="30"/>
                    </a:lnTo>
                    <a:lnTo>
                      <a:pt x="505" y="16"/>
                    </a:lnTo>
                    <a:lnTo>
                      <a:pt x="537" y="0"/>
                    </a:lnTo>
                    <a:lnTo>
                      <a:pt x="543" y="14"/>
                    </a:lnTo>
                    <a:lnTo>
                      <a:pt x="511" y="30"/>
                    </a:lnTo>
                    <a:lnTo>
                      <a:pt x="478" y="43"/>
                    </a:lnTo>
                    <a:lnTo>
                      <a:pt x="446" y="57"/>
                    </a:lnTo>
                    <a:lnTo>
                      <a:pt x="413" y="68"/>
                    </a:lnTo>
                    <a:lnTo>
                      <a:pt x="346" y="86"/>
                    </a:lnTo>
                    <a:lnTo>
                      <a:pt x="279" y="99"/>
                    </a:lnTo>
                    <a:lnTo>
                      <a:pt x="209" y="105"/>
                    </a:lnTo>
                    <a:lnTo>
                      <a:pt x="141" y="108"/>
                    </a:lnTo>
                    <a:lnTo>
                      <a:pt x="70" y="103"/>
                    </a:lnTo>
                    <a:lnTo>
                      <a:pt x="0" y="93"/>
                    </a:lnTo>
                    <a:lnTo>
                      <a:pt x="2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818240" y="5533560"/>
                <a:ext cx="2880" cy="1224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0" y="14"/>
                    </a:moveTo>
                    <a:lnTo>
                      <a:pt x="2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243400" y="5312880"/>
                <a:ext cx="100080" cy="167760"/>
              </a:xfrm>
              <a:custGeom>
                <a:avLst/>
                <a:gdLst/>
                <a:ahLst/>
                <a:rect l="l" t="t" r="r" b="b"/>
                <a:pathLst>
                  <a:path w="126" h="211">
                    <a:moveTo>
                      <a:pt x="0" y="199"/>
                    </a:moveTo>
                    <a:lnTo>
                      <a:pt x="14" y="191"/>
                    </a:lnTo>
                    <a:lnTo>
                      <a:pt x="26" y="180"/>
                    </a:lnTo>
                    <a:lnTo>
                      <a:pt x="33" y="167"/>
                    </a:lnTo>
                    <a:lnTo>
                      <a:pt x="41" y="156"/>
                    </a:lnTo>
                    <a:lnTo>
                      <a:pt x="51" y="132"/>
                    </a:lnTo>
                    <a:lnTo>
                      <a:pt x="58" y="105"/>
                    </a:lnTo>
                    <a:lnTo>
                      <a:pt x="65" y="78"/>
                    </a:lnTo>
                    <a:lnTo>
                      <a:pt x="75" y="51"/>
                    </a:lnTo>
                    <a:lnTo>
                      <a:pt x="84" y="37"/>
                    </a:lnTo>
                    <a:lnTo>
                      <a:pt x="92" y="23"/>
                    </a:lnTo>
                    <a:lnTo>
                      <a:pt x="104" y="12"/>
                    </a:lnTo>
                    <a:lnTo>
                      <a:pt x="117" y="0"/>
                    </a:lnTo>
                    <a:lnTo>
                      <a:pt x="126" y="11"/>
                    </a:lnTo>
                    <a:lnTo>
                      <a:pt x="114" y="23"/>
                    </a:lnTo>
                    <a:lnTo>
                      <a:pt x="103" y="33"/>
                    </a:lnTo>
                    <a:lnTo>
                      <a:pt x="96" y="45"/>
                    </a:lnTo>
                    <a:lnTo>
                      <a:pt x="88" y="57"/>
                    </a:lnTo>
                    <a:lnTo>
                      <a:pt x="79" y="84"/>
                    </a:lnTo>
                    <a:lnTo>
                      <a:pt x="71" y="110"/>
                    </a:lnTo>
                    <a:lnTo>
                      <a:pt x="64" y="138"/>
                    </a:lnTo>
                    <a:lnTo>
                      <a:pt x="53" y="164"/>
                    </a:lnTo>
                    <a:lnTo>
                      <a:pt x="44" y="177"/>
                    </a:lnTo>
                    <a:lnTo>
                      <a:pt x="36" y="191"/>
                    </a:lnTo>
                    <a:lnTo>
                      <a:pt x="24" y="202"/>
                    </a:lnTo>
                    <a:lnTo>
                      <a:pt x="9" y="211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243400" y="54716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8" y="14"/>
                    </a:moveTo>
                    <a:lnTo>
                      <a:pt x="9" y="1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8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337000" y="5255640"/>
                <a:ext cx="233640" cy="66240"/>
              </a:xfrm>
              <a:custGeom>
                <a:avLst/>
                <a:gdLst/>
                <a:ahLst/>
                <a:rect l="l" t="t" r="r" b="b"/>
                <a:pathLst>
                  <a:path w="294" h="83">
                    <a:moveTo>
                      <a:pt x="0" y="71"/>
                    </a:moveTo>
                    <a:lnTo>
                      <a:pt x="33" y="52"/>
                    </a:lnTo>
                    <a:lnTo>
                      <a:pt x="67" y="35"/>
                    </a:lnTo>
                    <a:lnTo>
                      <a:pt x="104" y="22"/>
                    </a:lnTo>
                    <a:lnTo>
                      <a:pt x="142" y="10"/>
                    </a:lnTo>
                    <a:lnTo>
                      <a:pt x="179" y="2"/>
                    </a:lnTo>
                    <a:lnTo>
                      <a:pt x="217" y="0"/>
                    </a:lnTo>
                    <a:lnTo>
                      <a:pt x="236" y="0"/>
                    </a:lnTo>
                    <a:lnTo>
                      <a:pt x="256" y="1"/>
                    </a:lnTo>
                    <a:lnTo>
                      <a:pt x="294" y="8"/>
                    </a:lnTo>
                    <a:lnTo>
                      <a:pt x="292" y="23"/>
                    </a:lnTo>
                    <a:lnTo>
                      <a:pt x="254" y="16"/>
                    </a:lnTo>
                    <a:lnTo>
                      <a:pt x="234" y="14"/>
                    </a:lnTo>
                    <a:lnTo>
                      <a:pt x="217" y="14"/>
                    </a:lnTo>
                    <a:lnTo>
                      <a:pt x="181" y="17"/>
                    </a:lnTo>
                    <a:lnTo>
                      <a:pt x="144" y="24"/>
                    </a:lnTo>
                    <a:lnTo>
                      <a:pt x="109" y="35"/>
                    </a:lnTo>
                    <a:lnTo>
                      <a:pt x="73" y="49"/>
                    </a:lnTo>
                    <a:lnTo>
                      <a:pt x="39" y="66"/>
                    </a:lnTo>
                    <a:lnTo>
                      <a:pt x="7" y="83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335560" y="53128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0" y="1"/>
                    </a:moveTo>
                    <a:lnTo>
                      <a:pt x="1" y="0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68840" y="5263560"/>
                <a:ext cx="46080" cy="21960"/>
              </a:xfrm>
              <a:custGeom>
                <a:avLst/>
                <a:gdLst/>
                <a:ahLst/>
                <a:rect l="l" t="t" r="r" b="b"/>
                <a:pathLst>
                  <a:path w="57" h="30">
                    <a:moveTo>
                      <a:pt x="2" y="0"/>
                    </a:moveTo>
                    <a:lnTo>
                      <a:pt x="57" y="15"/>
                    </a:lnTo>
                    <a:lnTo>
                      <a:pt x="55" y="30"/>
                    </a:lnTo>
                    <a:lnTo>
                      <a:pt x="0" y="1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68840" y="5263560"/>
                <a:ext cx="1800" cy="1080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2" y="0"/>
                    </a:moveTo>
                    <a:lnTo>
                      <a:pt x="0" y="1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451480" y="5082840"/>
                <a:ext cx="166680" cy="201240"/>
              </a:xfrm>
              <a:custGeom>
                <a:avLst/>
                <a:gdLst/>
                <a:ahLst/>
                <a:rect l="l" t="t" r="r" b="b"/>
                <a:pathLst>
                  <a:path w="209" h="254">
                    <a:moveTo>
                      <a:pt x="198" y="254"/>
                    </a:moveTo>
                    <a:lnTo>
                      <a:pt x="209" y="244"/>
                    </a:lnTo>
                    <a:lnTo>
                      <a:pt x="11" y="0"/>
                    </a:lnTo>
                    <a:lnTo>
                      <a:pt x="0" y="10"/>
                    </a:lnTo>
                    <a:lnTo>
                      <a:pt x="198" y="2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608800" y="5274720"/>
                <a:ext cx="20520" cy="1548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5" y="15"/>
                    </a:moveTo>
                    <a:lnTo>
                      <a:pt x="26" y="20"/>
                    </a:lnTo>
                    <a:lnTo>
                      <a:pt x="11" y="2"/>
                    </a:lnTo>
                    <a:lnTo>
                      <a:pt x="0" y="12"/>
                    </a:lnTo>
                    <a:lnTo>
                      <a:pt x="7" y="0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451480" y="508104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1" y="1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4" y="13"/>
                    </a:lnTo>
                    <a:lnTo>
                      <a:pt x="0" y="11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915080" y="33332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5"/>
                    </a:moveTo>
                    <a:lnTo>
                      <a:pt x="6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686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911840" y="333000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4"/>
                    </a:moveTo>
                    <a:lnTo>
                      <a:pt x="10" y="15"/>
                    </a:lnTo>
                    <a:lnTo>
                      <a:pt x="16" y="11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911840" y="333000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6" y="11"/>
                    </a:moveTo>
                    <a:lnTo>
                      <a:pt x="6" y="0"/>
                    </a:lnTo>
                    <a:lnTo>
                      <a:pt x="0" y="4"/>
                    </a:lnTo>
                    <a:lnTo>
                      <a:pt x="10" y="15"/>
                    </a:lnTo>
                    <a:lnTo>
                      <a:pt x="1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2082960" y="1716120"/>
              <a:ext cx="4260600" cy="3777480"/>
              <a:chOff x="2082960" y="1716120"/>
              <a:chExt cx="4260600" cy="3777480"/>
            </a:xfrm>
          </p:grpSpPr>
          <p:sp>
            <p:nvSpPr>
              <p:cNvPr id="682" name=""/>
              <p:cNvSpPr/>
              <p:nvPr/>
            </p:nvSpPr>
            <p:spPr>
              <a:xfrm>
                <a:off x="4916520" y="33300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11"/>
                    </a:moveTo>
                    <a:lnTo>
                      <a:pt x="0" y="0"/>
                    </a:lnTo>
                    <a:lnTo>
                      <a:pt x="10" y="11"/>
                    </a:lnTo>
                    <a:lnTo>
                      <a:pt x="0" y="0"/>
                    </a:lnTo>
                    <a:lnTo>
                      <a:pt x="1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911840" y="33332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11"/>
                    </a:moveTo>
                    <a:lnTo>
                      <a:pt x="0" y="0"/>
                    </a:lnTo>
                    <a:lnTo>
                      <a:pt x="10" y="11"/>
                    </a:lnTo>
                    <a:lnTo>
                      <a:pt x="0" y="0"/>
                    </a:lnTo>
                    <a:lnTo>
                      <a:pt x="1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357280" y="2210760"/>
                <a:ext cx="506520" cy="1618920"/>
              </a:xfrm>
              <a:custGeom>
                <a:avLst/>
                <a:gdLst/>
                <a:ahLst/>
                <a:rect l="l" t="t" r="r" b="b"/>
                <a:pathLst>
                  <a:path w="637" h="2040">
                    <a:moveTo>
                      <a:pt x="461" y="177"/>
                    </a:moveTo>
                    <a:lnTo>
                      <a:pt x="489" y="258"/>
                    </a:lnTo>
                    <a:lnTo>
                      <a:pt x="504" y="298"/>
                    </a:lnTo>
                    <a:lnTo>
                      <a:pt x="518" y="339"/>
                    </a:lnTo>
                    <a:lnTo>
                      <a:pt x="533" y="379"/>
                    </a:lnTo>
                    <a:lnTo>
                      <a:pt x="550" y="418"/>
                    </a:lnTo>
                    <a:lnTo>
                      <a:pt x="567" y="457"/>
                    </a:lnTo>
                    <a:lnTo>
                      <a:pt x="584" y="496"/>
                    </a:lnTo>
                    <a:lnTo>
                      <a:pt x="595" y="520"/>
                    </a:lnTo>
                    <a:lnTo>
                      <a:pt x="605" y="544"/>
                    </a:lnTo>
                    <a:lnTo>
                      <a:pt x="614" y="569"/>
                    </a:lnTo>
                    <a:lnTo>
                      <a:pt x="617" y="581"/>
                    </a:lnTo>
                    <a:lnTo>
                      <a:pt x="621" y="593"/>
                    </a:lnTo>
                    <a:lnTo>
                      <a:pt x="627" y="617"/>
                    </a:lnTo>
                    <a:lnTo>
                      <a:pt x="632" y="642"/>
                    </a:lnTo>
                    <a:lnTo>
                      <a:pt x="636" y="666"/>
                    </a:lnTo>
                    <a:lnTo>
                      <a:pt x="637" y="691"/>
                    </a:lnTo>
                    <a:lnTo>
                      <a:pt x="637" y="716"/>
                    </a:lnTo>
                    <a:lnTo>
                      <a:pt x="637" y="729"/>
                    </a:lnTo>
                    <a:lnTo>
                      <a:pt x="636" y="741"/>
                    </a:lnTo>
                    <a:lnTo>
                      <a:pt x="634" y="753"/>
                    </a:lnTo>
                    <a:lnTo>
                      <a:pt x="632" y="765"/>
                    </a:lnTo>
                    <a:lnTo>
                      <a:pt x="629" y="778"/>
                    </a:lnTo>
                    <a:lnTo>
                      <a:pt x="627" y="790"/>
                    </a:lnTo>
                    <a:lnTo>
                      <a:pt x="625" y="802"/>
                    </a:lnTo>
                    <a:lnTo>
                      <a:pt x="621" y="813"/>
                    </a:lnTo>
                    <a:lnTo>
                      <a:pt x="616" y="825"/>
                    </a:lnTo>
                    <a:lnTo>
                      <a:pt x="612" y="838"/>
                    </a:lnTo>
                    <a:lnTo>
                      <a:pt x="607" y="850"/>
                    </a:lnTo>
                    <a:lnTo>
                      <a:pt x="601" y="862"/>
                    </a:lnTo>
                    <a:lnTo>
                      <a:pt x="595" y="873"/>
                    </a:lnTo>
                    <a:lnTo>
                      <a:pt x="589" y="885"/>
                    </a:lnTo>
                    <a:lnTo>
                      <a:pt x="581" y="895"/>
                    </a:lnTo>
                    <a:lnTo>
                      <a:pt x="572" y="904"/>
                    </a:lnTo>
                    <a:lnTo>
                      <a:pt x="567" y="907"/>
                    </a:lnTo>
                    <a:lnTo>
                      <a:pt x="562" y="910"/>
                    </a:lnTo>
                    <a:lnTo>
                      <a:pt x="554" y="916"/>
                    </a:lnTo>
                    <a:lnTo>
                      <a:pt x="545" y="919"/>
                    </a:lnTo>
                    <a:lnTo>
                      <a:pt x="535" y="922"/>
                    </a:lnTo>
                    <a:lnTo>
                      <a:pt x="527" y="924"/>
                    </a:lnTo>
                    <a:lnTo>
                      <a:pt x="517" y="924"/>
                    </a:lnTo>
                    <a:lnTo>
                      <a:pt x="508" y="924"/>
                    </a:lnTo>
                    <a:lnTo>
                      <a:pt x="499" y="924"/>
                    </a:lnTo>
                    <a:lnTo>
                      <a:pt x="480" y="921"/>
                    </a:lnTo>
                    <a:lnTo>
                      <a:pt x="462" y="915"/>
                    </a:lnTo>
                    <a:lnTo>
                      <a:pt x="444" y="910"/>
                    </a:lnTo>
                    <a:lnTo>
                      <a:pt x="425" y="904"/>
                    </a:lnTo>
                    <a:lnTo>
                      <a:pt x="407" y="897"/>
                    </a:lnTo>
                    <a:lnTo>
                      <a:pt x="398" y="896"/>
                    </a:lnTo>
                    <a:lnTo>
                      <a:pt x="390" y="895"/>
                    </a:lnTo>
                    <a:lnTo>
                      <a:pt x="381" y="894"/>
                    </a:lnTo>
                    <a:lnTo>
                      <a:pt x="373" y="894"/>
                    </a:lnTo>
                    <a:lnTo>
                      <a:pt x="364" y="895"/>
                    </a:lnTo>
                    <a:lnTo>
                      <a:pt x="356" y="897"/>
                    </a:lnTo>
                    <a:lnTo>
                      <a:pt x="348" y="901"/>
                    </a:lnTo>
                    <a:lnTo>
                      <a:pt x="340" y="905"/>
                    </a:lnTo>
                    <a:lnTo>
                      <a:pt x="332" y="911"/>
                    </a:lnTo>
                    <a:lnTo>
                      <a:pt x="325" y="918"/>
                    </a:lnTo>
                    <a:lnTo>
                      <a:pt x="318" y="927"/>
                    </a:lnTo>
                    <a:lnTo>
                      <a:pt x="310" y="938"/>
                    </a:lnTo>
                    <a:lnTo>
                      <a:pt x="301" y="960"/>
                    </a:lnTo>
                    <a:lnTo>
                      <a:pt x="292" y="981"/>
                    </a:lnTo>
                    <a:lnTo>
                      <a:pt x="284" y="1003"/>
                    </a:lnTo>
                    <a:lnTo>
                      <a:pt x="276" y="1025"/>
                    </a:lnTo>
                    <a:lnTo>
                      <a:pt x="270" y="1047"/>
                    </a:lnTo>
                    <a:lnTo>
                      <a:pt x="265" y="1069"/>
                    </a:lnTo>
                    <a:lnTo>
                      <a:pt x="262" y="1091"/>
                    </a:lnTo>
                    <a:lnTo>
                      <a:pt x="258" y="1113"/>
                    </a:lnTo>
                    <a:lnTo>
                      <a:pt x="254" y="1135"/>
                    </a:lnTo>
                    <a:lnTo>
                      <a:pt x="253" y="1157"/>
                    </a:lnTo>
                    <a:lnTo>
                      <a:pt x="252" y="1177"/>
                    </a:lnTo>
                    <a:lnTo>
                      <a:pt x="251" y="1199"/>
                    </a:lnTo>
                    <a:lnTo>
                      <a:pt x="251" y="1221"/>
                    </a:lnTo>
                    <a:lnTo>
                      <a:pt x="252" y="1243"/>
                    </a:lnTo>
                    <a:lnTo>
                      <a:pt x="253" y="1266"/>
                    </a:lnTo>
                    <a:lnTo>
                      <a:pt x="254" y="1288"/>
                    </a:lnTo>
                    <a:lnTo>
                      <a:pt x="255" y="1299"/>
                    </a:lnTo>
                    <a:lnTo>
                      <a:pt x="258" y="1310"/>
                    </a:lnTo>
                    <a:lnTo>
                      <a:pt x="260" y="1332"/>
                    </a:lnTo>
                    <a:lnTo>
                      <a:pt x="269" y="1374"/>
                    </a:lnTo>
                    <a:lnTo>
                      <a:pt x="279" y="1418"/>
                    </a:lnTo>
                    <a:lnTo>
                      <a:pt x="285" y="1439"/>
                    </a:lnTo>
                    <a:lnTo>
                      <a:pt x="291" y="1461"/>
                    </a:lnTo>
                    <a:lnTo>
                      <a:pt x="304" y="1504"/>
                    </a:lnTo>
                    <a:lnTo>
                      <a:pt x="320" y="1547"/>
                    </a:lnTo>
                    <a:lnTo>
                      <a:pt x="337" y="1590"/>
                    </a:lnTo>
                    <a:lnTo>
                      <a:pt x="356" y="1631"/>
                    </a:lnTo>
                    <a:lnTo>
                      <a:pt x="374" y="1673"/>
                    </a:lnTo>
                    <a:lnTo>
                      <a:pt x="397" y="1719"/>
                    </a:lnTo>
                    <a:lnTo>
                      <a:pt x="411" y="1744"/>
                    </a:lnTo>
                    <a:lnTo>
                      <a:pt x="424" y="1768"/>
                    </a:lnTo>
                    <a:lnTo>
                      <a:pt x="439" y="1793"/>
                    </a:lnTo>
                    <a:lnTo>
                      <a:pt x="455" y="1818"/>
                    </a:lnTo>
                    <a:lnTo>
                      <a:pt x="471" y="1843"/>
                    </a:lnTo>
                    <a:lnTo>
                      <a:pt x="488" y="1866"/>
                    </a:lnTo>
                    <a:lnTo>
                      <a:pt x="506" y="1888"/>
                    </a:lnTo>
                    <a:lnTo>
                      <a:pt x="523" y="1909"/>
                    </a:lnTo>
                    <a:lnTo>
                      <a:pt x="543" y="1928"/>
                    </a:lnTo>
                    <a:lnTo>
                      <a:pt x="562" y="1947"/>
                    </a:lnTo>
                    <a:lnTo>
                      <a:pt x="572" y="1954"/>
                    </a:lnTo>
                    <a:lnTo>
                      <a:pt x="582" y="1961"/>
                    </a:lnTo>
                    <a:lnTo>
                      <a:pt x="601" y="1973"/>
                    </a:lnTo>
                    <a:lnTo>
                      <a:pt x="626" y="1950"/>
                    </a:lnTo>
                    <a:lnTo>
                      <a:pt x="625" y="1950"/>
                    </a:lnTo>
                    <a:lnTo>
                      <a:pt x="615" y="1962"/>
                    </a:lnTo>
                    <a:lnTo>
                      <a:pt x="605" y="1973"/>
                    </a:lnTo>
                    <a:lnTo>
                      <a:pt x="595" y="1983"/>
                    </a:lnTo>
                    <a:lnTo>
                      <a:pt x="585" y="1993"/>
                    </a:lnTo>
                    <a:lnTo>
                      <a:pt x="576" y="2002"/>
                    </a:lnTo>
                    <a:lnTo>
                      <a:pt x="565" y="2009"/>
                    </a:lnTo>
                    <a:lnTo>
                      <a:pt x="555" y="2015"/>
                    </a:lnTo>
                    <a:lnTo>
                      <a:pt x="545" y="2021"/>
                    </a:lnTo>
                    <a:lnTo>
                      <a:pt x="535" y="2026"/>
                    </a:lnTo>
                    <a:lnTo>
                      <a:pt x="526" y="2031"/>
                    </a:lnTo>
                    <a:lnTo>
                      <a:pt x="516" y="2033"/>
                    </a:lnTo>
                    <a:lnTo>
                      <a:pt x="506" y="2037"/>
                    </a:lnTo>
                    <a:lnTo>
                      <a:pt x="496" y="2038"/>
                    </a:lnTo>
                    <a:lnTo>
                      <a:pt x="486" y="2040"/>
                    </a:lnTo>
                    <a:lnTo>
                      <a:pt x="477" y="2040"/>
                    </a:lnTo>
                    <a:lnTo>
                      <a:pt x="467" y="2040"/>
                    </a:lnTo>
                    <a:lnTo>
                      <a:pt x="457" y="2038"/>
                    </a:lnTo>
                    <a:lnTo>
                      <a:pt x="449" y="2037"/>
                    </a:lnTo>
                    <a:lnTo>
                      <a:pt x="439" y="2035"/>
                    </a:lnTo>
                    <a:lnTo>
                      <a:pt x="429" y="2032"/>
                    </a:lnTo>
                    <a:lnTo>
                      <a:pt x="411" y="2025"/>
                    </a:lnTo>
                    <a:lnTo>
                      <a:pt x="402" y="2021"/>
                    </a:lnTo>
                    <a:lnTo>
                      <a:pt x="392" y="2016"/>
                    </a:lnTo>
                    <a:lnTo>
                      <a:pt x="384" y="2010"/>
                    </a:lnTo>
                    <a:lnTo>
                      <a:pt x="374" y="2004"/>
                    </a:lnTo>
                    <a:lnTo>
                      <a:pt x="365" y="1998"/>
                    </a:lnTo>
                    <a:lnTo>
                      <a:pt x="357" y="1992"/>
                    </a:lnTo>
                    <a:lnTo>
                      <a:pt x="340" y="1976"/>
                    </a:lnTo>
                    <a:lnTo>
                      <a:pt x="323" y="1960"/>
                    </a:lnTo>
                    <a:lnTo>
                      <a:pt x="314" y="1951"/>
                    </a:lnTo>
                    <a:lnTo>
                      <a:pt x="306" y="1943"/>
                    </a:lnTo>
                    <a:lnTo>
                      <a:pt x="290" y="1923"/>
                    </a:lnTo>
                    <a:lnTo>
                      <a:pt x="274" y="1904"/>
                    </a:lnTo>
                    <a:lnTo>
                      <a:pt x="258" y="1883"/>
                    </a:lnTo>
                    <a:lnTo>
                      <a:pt x="243" y="1862"/>
                    </a:lnTo>
                    <a:lnTo>
                      <a:pt x="229" y="1840"/>
                    </a:lnTo>
                    <a:lnTo>
                      <a:pt x="215" y="1818"/>
                    </a:lnTo>
                    <a:lnTo>
                      <a:pt x="202" y="1796"/>
                    </a:lnTo>
                    <a:lnTo>
                      <a:pt x="177" y="1752"/>
                    </a:lnTo>
                    <a:lnTo>
                      <a:pt x="154" y="1709"/>
                    </a:lnTo>
                    <a:lnTo>
                      <a:pt x="134" y="1669"/>
                    </a:lnTo>
                    <a:lnTo>
                      <a:pt x="119" y="1632"/>
                    </a:lnTo>
                    <a:lnTo>
                      <a:pt x="98" y="1585"/>
                    </a:lnTo>
                    <a:lnTo>
                      <a:pt x="79" y="1537"/>
                    </a:lnTo>
                    <a:lnTo>
                      <a:pt x="61" y="1489"/>
                    </a:lnTo>
                    <a:lnTo>
                      <a:pt x="54" y="1465"/>
                    </a:lnTo>
                    <a:lnTo>
                      <a:pt x="46" y="1440"/>
                    </a:lnTo>
                    <a:lnTo>
                      <a:pt x="33" y="1393"/>
                    </a:lnTo>
                    <a:lnTo>
                      <a:pt x="27" y="1368"/>
                    </a:lnTo>
                    <a:lnTo>
                      <a:pt x="21" y="1344"/>
                    </a:lnTo>
                    <a:lnTo>
                      <a:pt x="16" y="1319"/>
                    </a:lnTo>
                    <a:lnTo>
                      <a:pt x="12" y="1295"/>
                    </a:lnTo>
                    <a:lnTo>
                      <a:pt x="9" y="1270"/>
                    </a:lnTo>
                    <a:lnTo>
                      <a:pt x="5" y="1246"/>
                    </a:lnTo>
                    <a:lnTo>
                      <a:pt x="4" y="1221"/>
                    </a:lnTo>
                    <a:lnTo>
                      <a:pt x="1" y="1197"/>
                    </a:lnTo>
                    <a:lnTo>
                      <a:pt x="1" y="1173"/>
                    </a:lnTo>
                    <a:lnTo>
                      <a:pt x="0" y="1148"/>
                    </a:lnTo>
                    <a:lnTo>
                      <a:pt x="1" y="1124"/>
                    </a:lnTo>
                    <a:lnTo>
                      <a:pt x="2" y="1099"/>
                    </a:lnTo>
                    <a:lnTo>
                      <a:pt x="5" y="1075"/>
                    </a:lnTo>
                    <a:lnTo>
                      <a:pt x="9" y="1049"/>
                    </a:lnTo>
                    <a:lnTo>
                      <a:pt x="12" y="1025"/>
                    </a:lnTo>
                    <a:lnTo>
                      <a:pt x="17" y="1000"/>
                    </a:lnTo>
                    <a:lnTo>
                      <a:pt x="23" y="976"/>
                    </a:lnTo>
                    <a:lnTo>
                      <a:pt x="31" y="951"/>
                    </a:lnTo>
                    <a:lnTo>
                      <a:pt x="34" y="939"/>
                    </a:lnTo>
                    <a:lnTo>
                      <a:pt x="38" y="927"/>
                    </a:lnTo>
                    <a:lnTo>
                      <a:pt x="46" y="902"/>
                    </a:lnTo>
                    <a:lnTo>
                      <a:pt x="56" y="878"/>
                    </a:lnTo>
                    <a:lnTo>
                      <a:pt x="67" y="853"/>
                    </a:lnTo>
                    <a:lnTo>
                      <a:pt x="76" y="841"/>
                    </a:lnTo>
                    <a:lnTo>
                      <a:pt x="84" y="831"/>
                    </a:lnTo>
                    <a:lnTo>
                      <a:pt x="93" y="824"/>
                    </a:lnTo>
                    <a:lnTo>
                      <a:pt x="97" y="820"/>
                    </a:lnTo>
                    <a:lnTo>
                      <a:pt x="101" y="817"/>
                    </a:lnTo>
                    <a:lnTo>
                      <a:pt x="105" y="814"/>
                    </a:lnTo>
                    <a:lnTo>
                      <a:pt x="110" y="812"/>
                    </a:lnTo>
                    <a:lnTo>
                      <a:pt x="120" y="808"/>
                    </a:lnTo>
                    <a:lnTo>
                      <a:pt x="128" y="806"/>
                    </a:lnTo>
                    <a:lnTo>
                      <a:pt x="138" y="805"/>
                    </a:lnTo>
                    <a:lnTo>
                      <a:pt x="148" y="805"/>
                    </a:lnTo>
                    <a:lnTo>
                      <a:pt x="158" y="806"/>
                    </a:lnTo>
                    <a:lnTo>
                      <a:pt x="167" y="807"/>
                    </a:lnTo>
                    <a:lnTo>
                      <a:pt x="177" y="809"/>
                    </a:lnTo>
                    <a:lnTo>
                      <a:pt x="187" y="812"/>
                    </a:lnTo>
                    <a:lnTo>
                      <a:pt x="197" y="814"/>
                    </a:lnTo>
                    <a:lnTo>
                      <a:pt x="218" y="822"/>
                    </a:lnTo>
                    <a:lnTo>
                      <a:pt x="238" y="828"/>
                    </a:lnTo>
                    <a:lnTo>
                      <a:pt x="248" y="831"/>
                    </a:lnTo>
                    <a:lnTo>
                      <a:pt x="259" y="834"/>
                    </a:lnTo>
                    <a:lnTo>
                      <a:pt x="269" y="836"/>
                    </a:lnTo>
                    <a:lnTo>
                      <a:pt x="280" y="839"/>
                    </a:lnTo>
                    <a:lnTo>
                      <a:pt x="290" y="839"/>
                    </a:lnTo>
                    <a:lnTo>
                      <a:pt x="299" y="839"/>
                    </a:lnTo>
                    <a:lnTo>
                      <a:pt x="310" y="839"/>
                    </a:lnTo>
                    <a:lnTo>
                      <a:pt x="320" y="836"/>
                    </a:lnTo>
                    <a:lnTo>
                      <a:pt x="331" y="834"/>
                    </a:lnTo>
                    <a:lnTo>
                      <a:pt x="341" y="829"/>
                    </a:lnTo>
                    <a:lnTo>
                      <a:pt x="346" y="827"/>
                    </a:lnTo>
                    <a:lnTo>
                      <a:pt x="351" y="823"/>
                    </a:lnTo>
                    <a:lnTo>
                      <a:pt x="361" y="816"/>
                    </a:lnTo>
                    <a:lnTo>
                      <a:pt x="365" y="811"/>
                    </a:lnTo>
                    <a:lnTo>
                      <a:pt x="370" y="806"/>
                    </a:lnTo>
                    <a:lnTo>
                      <a:pt x="375" y="801"/>
                    </a:lnTo>
                    <a:lnTo>
                      <a:pt x="380" y="795"/>
                    </a:lnTo>
                    <a:lnTo>
                      <a:pt x="387" y="781"/>
                    </a:lnTo>
                    <a:lnTo>
                      <a:pt x="395" y="768"/>
                    </a:lnTo>
                    <a:lnTo>
                      <a:pt x="401" y="754"/>
                    </a:lnTo>
                    <a:lnTo>
                      <a:pt x="406" y="741"/>
                    </a:lnTo>
                    <a:lnTo>
                      <a:pt x="412" y="727"/>
                    </a:lnTo>
                    <a:lnTo>
                      <a:pt x="416" y="714"/>
                    </a:lnTo>
                    <a:lnTo>
                      <a:pt x="420" y="701"/>
                    </a:lnTo>
                    <a:lnTo>
                      <a:pt x="424" y="687"/>
                    </a:lnTo>
                    <a:lnTo>
                      <a:pt x="429" y="660"/>
                    </a:lnTo>
                    <a:lnTo>
                      <a:pt x="433" y="632"/>
                    </a:lnTo>
                    <a:lnTo>
                      <a:pt x="434" y="619"/>
                    </a:lnTo>
                    <a:lnTo>
                      <a:pt x="434" y="605"/>
                    </a:lnTo>
                    <a:lnTo>
                      <a:pt x="434" y="591"/>
                    </a:lnTo>
                    <a:lnTo>
                      <a:pt x="434" y="577"/>
                    </a:lnTo>
                    <a:lnTo>
                      <a:pt x="433" y="549"/>
                    </a:lnTo>
                    <a:lnTo>
                      <a:pt x="429" y="522"/>
                    </a:lnTo>
                    <a:lnTo>
                      <a:pt x="423" y="494"/>
                    </a:lnTo>
                    <a:lnTo>
                      <a:pt x="417" y="467"/>
                    </a:lnTo>
                    <a:lnTo>
                      <a:pt x="413" y="452"/>
                    </a:lnTo>
                    <a:lnTo>
                      <a:pt x="408" y="439"/>
                    </a:lnTo>
                    <a:lnTo>
                      <a:pt x="398" y="412"/>
                    </a:lnTo>
                    <a:lnTo>
                      <a:pt x="394" y="399"/>
                    </a:lnTo>
                    <a:lnTo>
                      <a:pt x="387" y="385"/>
                    </a:lnTo>
                    <a:lnTo>
                      <a:pt x="375" y="358"/>
                    </a:lnTo>
                    <a:lnTo>
                      <a:pt x="356" y="314"/>
                    </a:lnTo>
                    <a:lnTo>
                      <a:pt x="336" y="270"/>
                    </a:lnTo>
                    <a:lnTo>
                      <a:pt x="318" y="226"/>
                    </a:lnTo>
                    <a:lnTo>
                      <a:pt x="301" y="181"/>
                    </a:lnTo>
                    <a:lnTo>
                      <a:pt x="292" y="159"/>
                    </a:lnTo>
                    <a:lnTo>
                      <a:pt x="285" y="136"/>
                    </a:lnTo>
                    <a:lnTo>
                      <a:pt x="268" y="90"/>
                    </a:lnTo>
                    <a:lnTo>
                      <a:pt x="237" y="0"/>
                    </a:lnTo>
                    <a:lnTo>
                      <a:pt x="461" y="177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17640" y="2350440"/>
                <a:ext cx="109800" cy="258480"/>
              </a:xfrm>
              <a:custGeom>
                <a:avLst/>
                <a:gdLst/>
                <a:ahLst/>
                <a:rect l="l" t="t" r="r" b="b"/>
                <a:pathLst>
                  <a:path w="137" h="325">
                    <a:moveTo>
                      <a:pt x="14" y="0"/>
                    </a:moveTo>
                    <a:lnTo>
                      <a:pt x="71" y="161"/>
                    </a:lnTo>
                    <a:lnTo>
                      <a:pt x="103" y="241"/>
                    </a:lnTo>
                    <a:lnTo>
                      <a:pt x="137" y="319"/>
                    </a:lnTo>
                    <a:lnTo>
                      <a:pt x="124" y="325"/>
                    </a:lnTo>
                    <a:lnTo>
                      <a:pt x="90" y="247"/>
                    </a:lnTo>
                    <a:lnTo>
                      <a:pt x="58" y="167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816280" y="2603160"/>
                <a:ext cx="54000" cy="313920"/>
              </a:xfrm>
              <a:custGeom>
                <a:avLst/>
                <a:gdLst/>
                <a:ahLst/>
                <a:rect l="l" t="t" r="r" b="b"/>
                <a:pathLst>
                  <a:path w="67" h="395">
                    <a:moveTo>
                      <a:pt x="13" y="0"/>
                    </a:moveTo>
                    <a:lnTo>
                      <a:pt x="34" y="48"/>
                    </a:lnTo>
                    <a:lnTo>
                      <a:pt x="51" y="98"/>
                    </a:lnTo>
                    <a:lnTo>
                      <a:pt x="62" y="147"/>
                    </a:lnTo>
                    <a:lnTo>
                      <a:pt x="65" y="172"/>
                    </a:lnTo>
                    <a:lnTo>
                      <a:pt x="67" y="197"/>
                    </a:lnTo>
                    <a:lnTo>
                      <a:pt x="67" y="221"/>
                    </a:lnTo>
                    <a:lnTo>
                      <a:pt x="66" y="247"/>
                    </a:lnTo>
                    <a:lnTo>
                      <a:pt x="62" y="271"/>
                    </a:lnTo>
                    <a:lnTo>
                      <a:pt x="57" y="297"/>
                    </a:lnTo>
                    <a:lnTo>
                      <a:pt x="50" y="322"/>
                    </a:lnTo>
                    <a:lnTo>
                      <a:pt x="41" y="347"/>
                    </a:lnTo>
                    <a:lnTo>
                      <a:pt x="30" y="372"/>
                    </a:lnTo>
                    <a:lnTo>
                      <a:pt x="18" y="395"/>
                    </a:lnTo>
                    <a:lnTo>
                      <a:pt x="5" y="389"/>
                    </a:lnTo>
                    <a:lnTo>
                      <a:pt x="17" y="366"/>
                    </a:lnTo>
                    <a:lnTo>
                      <a:pt x="28" y="341"/>
                    </a:lnTo>
                    <a:lnTo>
                      <a:pt x="37" y="317"/>
                    </a:lnTo>
                    <a:lnTo>
                      <a:pt x="43" y="295"/>
                    </a:lnTo>
                    <a:lnTo>
                      <a:pt x="48" y="270"/>
                    </a:lnTo>
                    <a:lnTo>
                      <a:pt x="51" y="246"/>
                    </a:lnTo>
                    <a:lnTo>
                      <a:pt x="52" y="221"/>
                    </a:lnTo>
                    <a:lnTo>
                      <a:pt x="52" y="197"/>
                    </a:lnTo>
                    <a:lnTo>
                      <a:pt x="50" y="174"/>
                    </a:lnTo>
                    <a:lnTo>
                      <a:pt x="48" y="149"/>
                    </a:lnTo>
                    <a:lnTo>
                      <a:pt x="37" y="100"/>
                    </a:lnTo>
                    <a:lnTo>
                      <a:pt x="21" y="54"/>
                    </a:lnTo>
                    <a:lnTo>
                      <a:pt x="0" y="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816280" y="2603160"/>
                <a:ext cx="11160" cy="57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0" y="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600280" y="2910960"/>
                <a:ext cx="230400" cy="48960"/>
              </a:xfrm>
              <a:custGeom>
                <a:avLst/>
                <a:gdLst/>
                <a:ahLst/>
                <a:rect l="l" t="t" r="r" b="b"/>
                <a:pathLst>
                  <a:path w="290" h="63">
                    <a:moveTo>
                      <a:pt x="290" y="10"/>
                    </a:moveTo>
                    <a:lnTo>
                      <a:pt x="272" y="30"/>
                    </a:lnTo>
                    <a:lnTo>
                      <a:pt x="253" y="42"/>
                    </a:lnTo>
                    <a:lnTo>
                      <a:pt x="234" y="49"/>
                    </a:lnTo>
                    <a:lnTo>
                      <a:pt x="214" y="52"/>
                    </a:lnTo>
                    <a:lnTo>
                      <a:pt x="193" y="52"/>
                    </a:lnTo>
                    <a:lnTo>
                      <a:pt x="174" y="48"/>
                    </a:lnTo>
                    <a:lnTo>
                      <a:pt x="137" y="36"/>
                    </a:lnTo>
                    <a:lnTo>
                      <a:pt x="101" y="25"/>
                    </a:lnTo>
                    <a:lnTo>
                      <a:pt x="86" y="22"/>
                    </a:lnTo>
                    <a:lnTo>
                      <a:pt x="70" y="21"/>
                    </a:lnTo>
                    <a:lnTo>
                      <a:pt x="54" y="25"/>
                    </a:lnTo>
                    <a:lnTo>
                      <a:pt x="39" y="31"/>
                    </a:lnTo>
                    <a:lnTo>
                      <a:pt x="33" y="37"/>
                    </a:lnTo>
                    <a:lnTo>
                      <a:pt x="26" y="43"/>
                    </a:lnTo>
                    <a:lnTo>
                      <a:pt x="13" y="63"/>
                    </a:lnTo>
                    <a:lnTo>
                      <a:pt x="0" y="54"/>
                    </a:lnTo>
                    <a:lnTo>
                      <a:pt x="15" y="33"/>
                    </a:lnTo>
                    <a:lnTo>
                      <a:pt x="24" y="26"/>
                    </a:lnTo>
                    <a:lnTo>
                      <a:pt x="31" y="19"/>
                    </a:lnTo>
                    <a:lnTo>
                      <a:pt x="48" y="11"/>
                    </a:lnTo>
                    <a:lnTo>
                      <a:pt x="68" y="8"/>
                    </a:lnTo>
                    <a:lnTo>
                      <a:pt x="86" y="9"/>
                    </a:lnTo>
                    <a:lnTo>
                      <a:pt x="105" y="11"/>
                    </a:lnTo>
                    <a:lnTo>
                      <a:pt x="142" y="22"/>
                    </a:lnTo>
                    <a:lnTo>
                      <a:pt x="179" y="35"/>
                    </a:lnTo>
                    <a:lnTo>
                      <a:pt x="196" y="38"/>
                    </a:lnTo>
                    <a:lnTo>
                      <a:pt x="212" y="38"/>
                    </a:lnTo>
                    <a:lnTo>
                      <a:pt x="229" y="36"/>
                    </a:lnTo>
                    <a:lnTo>
                      <a:pt x="245" y="30"/>
                    </a:lnTo>
                    <a:lnTo>
                      <a:pt x="262" y="19"/>
                    </a:lnTo>
                    <a:lnTo>
                      <a:pt x="279" y="0"/>
                    </a:lnTo>
                    <a:lnTo>
                      <a:pt x="29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819520" y="291096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3" y="9"/>
                    </a:moveTo>
                    <a:lnTo>
                      <a:pt x="12" y="10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550960" y="2953800"/>
                <a:ext cx="93960" cy="555480"/>
              </a:xfrm>
              <a:custGeom>
                <a:avLst/>
                <a:gdLst/>
                <a:ahLst/>
                <a:rect l="l" t="t" r="r" b="b"/>
                <a:pathLst>
                  <a:path w="119" h="700">
                    <a:moveTo>
                      <a:pt x="74" y="6"/>
                    </a:moveTo>
                    <a:lnTo>
                      <a:pt x="54" y="49"/>
                    </a:lnTo>
                    <a:lnTo>
                      <a:pt x="39" y="92"/>
                    </a:lnTo>
                    <a:lnTo>
                      <a:pt x="30" y="135"/>
                    </a:lnTo>
                    <a:lnTo>
                      <a:pt x="21" y="178"/>
                    </a:lnTo>
                    <a:lnTo>
                      <a:pt x="16" y="220"/>
                    </a:lnTo>
                    <a:lnTo>
                      <a:pt x="15" y="264"/>
                    </a:lnTo>
                    <a:lnTo>
                      <a:pt x="16" y="308"/>
                    </a:lnTo>
                    <a:lnTo>
                      <a:pt x="19" y="353"/>
                    </a:lnTo>
                    <a:lnTo>
                      <a:pt x="25" y="394"/>
                    </a:lnTo>
                    <a:lnTo>
                      <a:pt x="33" y="438"/>
                    </a:lnTo>
                    <a:lnTo>
                      <a:pt x="54" y="524"/>
                    </a:lnTo>
                    <a:lnTo>
                      <a:pt x="83" y="609"/>
                    </a:lnTo>
                    <a:lnTo>
                      <a:pt x="100" y="652"/>
                    </a:lnTo>
                    <a:lnTo>
                      <a:pt x="119" y="694"/>
                    </a:lnTo>
                    <a:lnTo>
                      <a:pt x="105" y="700"/>
                    </a:lnTo>
                    <a:lnTo>
                      <a:pt x="87" y="658"/>
                    </a:lnTo>
                    <a:lnTo>
                      <a:pt x="70" y="615"/>
                    </a:lnTo>
                    <a:lnTo>
                      <a:pt x="41" y="529"/>
                    </a:lnTo>
                    <a:lnTo>
                      <a:pt x="19" y="441"/>
                    </a:lnTo>
                    <a:lnTo>
                      <a:pt x="10" y="397"/>
                    </a:lnTo>
                    <a:lnTo>
                      <a:pt x="4" y="354"/>
                    </a:lnTo>
                    <a:lnTo>
                      <a:pt x="1" y="310"/>
                    </a:lnTo>
                    <a:lnTo>
                      <a:pt x="0" y="264"/>
                    </a:lnTo>
                    <a:lnTo>
                      <a:pt x="1" y="220"/>
                    </a:lnTo>
                    <a:lnTo>
                      <a:pt x="6" y="176"/>
                    </a:lnTo>
                    <a:lnTo>
                      <a:pt x="15" y="132"/>
                    </a:lnTo>
                    <a:lnTo>
                      <a:pt x="26" y="87"/>
                    </a:lnTo>
                    <a:lnTo>
                      <a:pt x="41" y="43"/>
                    </a:lnTo>
                    <a:lnTo>
                      <a:pt x="60" y="0"/>
                    </a:lnTo>
                    <a:lnTo>
                      <a:pt x="7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598840" y="295380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" y="0"/>
                    </a:moveTo>
                    <a:lnTo>
                      <a:pt x="0" y="1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635200" y="3504600"/>
                <a:ext cx="203400" cy="277560"/>
              </a:xfrm>
              <a:custGeom>
                <a:avLst/>
                <a:gdLst/>
                <a:ahLst/>
                <a:rect l="l" t="t" r="r" b="b"/>
                <a:pathLst>
                  <a:path w="257" h="351">
                    <a:moveTo>
                      <a:pt x="14" y="0"/>
                    </a:moveTo>
                    <a:lnTo>
                      <a:pt x="55" y="88"/>
                    </a:lnTo>
                    <a:lnTo>
                      <a:pt x="82" y="135"/>
                    </a:lnTo>
                    <a:lnTo>
                      <a:pt x="113" y="186"/>
                    </a:lnTo>
                    <a:lnTo>
                      <a:pt x="146" y="233"/>
                    </a:lnTo>
                    <a:lnTo>
                      <a:pt x="162" y="254"/>
                    </a:lnTo>
                    <a:lnTo>
                      <a:pt x="180" y="275"/>
                    </a:lnTo>
                    <a:lnTo>
                      <a:pt x="200" y="294"/>
                    </a:lnTo>
                    <a:lnTo>
                      <a:pt x="218" y="311"/>
                    </a:lnTo>
                    <a:lnTo>
                      <a:pt x="237" y="326"/>
                    </a:lnTo>
                    <a:lnTo>
                      <a:pt x="257" y="338"/>
                    </a:lnTo>
                    <a:lnTo>
                      <a:pt x="248" y="351"/>
                    </a:lnTo>
                    <a:lnTo>
                      <a:pt x="229" y="338"/>
                    </a:lnTo>
                    <a:lnTo>
                      <a:pt x="208" y="322"/>
                    </a:lnTo>
                    <a:lnTo>
                      <a:pt x="190" y="305"/>
                    </a:lnTo>
                    <a:lnTo>
                      <a:pt x="169" y="285"/>
                    </a:lnTo>
                    <a:lnTo>
                      <a:pt x="151" y="264"/>
                    </a:lnTo>
                    <a:lnTo>
                      <a:pt x="134" y="242"/>
                    </a:lnTo>
                    <a:lnTo>
                      <a:pt x="101" y="194"/>
                    </a:lnTo>
                    <a:lnTo>
                      <a:pt x="70" y="144"/>
                    </a:lnTo>
                    <a:lnTo>
                      <a:pt x="42" y="94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635200" y="3504600"/>
                <a:ext cx="9720" cy="46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1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32120" y="3755520"/>
                <a:ext cx="25560" cy="2664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0" y="25"/>
                    </a:moveTo>
                    <a:lnTo>
                      <a:pt x="10" y="36"/>
                    </a:lnTo>
                    <a:lnTo>
                      <a:pt x="33" y="11"/>
                    </a:lnTo>
                    <a:lnTo>
                      <a:pt x="24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832120" y="377316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13"/>
                    </a:moveTo>
                    <a:lnTo>
                      <a:pt x="7" y="16"/>
                    </a:lnTo>
                    <a:lnTo>
                      <a:pt x="10" y="13"/>
                    </a:lnTo>
                    <a:lnTo>
                      <a:pt x="0" y="2"/>
                    </a:lnTo>
                    <a:lnTo>
                      <a:pt x="9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849400" y="375552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9" y="11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9" y="12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849400" y="375552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11"/>
                    </a:moveTo>
                    <a:lnTo>
                      <a:pt x="0" y="0"/>
                    </a:lnTo>
                    <a:lnTo>
                      <a:pt x="9" y="11"/>
                    </a:lnTo>
                    <a:lnTo>
                      <a:pt x="0" y="0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46200" y="3504600"/>
                <a:ext cx="411480" cy="331560"/>
              </a:xfrm>
              <a:custGeom>
                <a:avLst/>
                <a:gdLst/>
                <a:ahLst/>
                <a:rect l="l" t="t" r="r" b="b"/>
                <a:pathLst>
                  <a:path w="518" h="418">
                    <a:moveTo>
                      <a:pt x="518" y="326"/>
                    </a:moveTo>
                    <a:lnTo>
                      <a:pt x="499" y="349"/>
                    </a:lnTo>
                    <a:lnTo>
                      <a:pt x="479" y="370"/>
                    </a:lnTo>
                    <a:lnTo>
                      <a:pt x="459" y="386"/>
                    </a:lnTo>
                    <a:lnTo>
                      <a:pt x="438" y="398"/>
                    </a:lnTo>
                    <a:lnTo>
                      <a:pt x="417" y="408"/>
                    </a:lnTo>
                    <a:lnTo>
                      <a:pt x="396" y="414"/>
                    </a:lnTo>
                    <a:lnTo>
                      <a:pt x="356" y="418"/>
                    </a:lnTo>
                    <a:lnTo>
                      <a:pt x="316" y="411"/>
                    </a:lnTo>
                    <a:lnTo>
                      <a:pt x="296" y="402"/>
                    </a:lnTo>
                    <a:lnTo>
                      <a:pt x="278" y="393"/>
                    </a:lnTo>
                    <a:lnTo>
                      <a:pt x="258" y="381"/>
                    </a:lnTo>
                    <a:lnTo>
                      <a:pt x="241" y="368"/>
                    </a:lnTo>
                    <a:lnTo>
                      <a:pt x="206" y="337"/>
                    </a:lnTo>
                    <a:lnTo>
                      <a:pt x="173" y="299"/>
                    </a:lnTo>
                    <a:lnTo>
                      <a:pt x="141" y="259"/>
                    </a:lnTo>
                    <a:lnTo>
                      <a:pt x="111" y="216"/>
                    </a:lnTo>
                    <a:lnTo>
                      <a:pt x="85" y="171"/>
                    </a:lnTo>
                    <a:lnTo>
                      <a:pt x="37" y="83"/>
                    </a:lnTo>
                    <a:lnTo>
                      <a:pt x="0" y="7"/>
                    </a:lnTo>
                    <a:lnTo>
                      <a:pt x="12" y="0"/>
                    </a:lnTo>
                    <a:lnTo>
                      <a:pt x="49" y="75"/>
                    </a:lnTo>
                    <a:lnTo>
                      <a:pt x="97" y="164"/>
                    </a:lnTo>
                    <a:lnTo>
                      <a:pt x="124" y="208"/>
                    </a:lnTo>
                    <a:lnTo>
                      <a:pt x="152" y="249"/>
                    </a:lnTo>
                    <a:lnTo>
                      <a:pt x="184" y="289"/>
                    </a:lnTo>
                    <a:lnTo>
                      <a:pt x="215" y="326"/>
                    </a:lnTo>
                    <a:lnTo>
                      <a:pt x="251" y="357"/>
                    </a:lnTo>
                    <a:lnTo>
                      <a:pt x="267" y="370"/>
                    </a:lnTo>
                    <a:lnTo>
                      <a:pt x="285" y="381"/>
                    </a:lnTo>
                    <a:lnTo>
                      <a:pt x="303" y="390"/>
                    </a:lnTo>
                    <a:lnTo>
                      <a:pt x="320" y="397"/>
                    </a:lnTo>
                    <a:lnTo>
                      <a:pt x="356" y="404"/>
                    </a:lnTo>
                    <a:lnTo>
                      <a:pt x="393" y="401"/>
                    </a:lnTo>
                    <a:lnTo>
                      <a:pt x="411" y="395"/>
                    </a:lnTo>
                    <a:lnTo>
                      <a:pt x="429" y="386"/>
                    </a:lnTo>
                    <a:lnTo>
                      <a:pt x="449" y="375"/>
                    </a:lnTo>
                    <a:lnTo>
                      <a:pt x="470" y="359"/>
                    </a:lnTo>
                    <a:lnTo>
                      <a:pt x="488" y="340"/>
                    </a:lnTo>
                    <a:lnTo>
                      <a:pt x="507" y="316"/>
                    </a:lnTo>
                    <a:lnTo>
                      <a:pt x="518" y="3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849400" y="375552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0"/>
                    </a:moveTo>
                    <a:lnTo>
                      <a:pt x="0" y="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352600" y="2887200"/>
                <a:ext cx="103320" cy="623520"/>
              </a:xfrm>
              <a:custGeom>
                <a:avLst/>
                <a:gdLst/>
                <a:ahLst/>
                <a:rect l="l" t="t" r="r" b="b"/>
                <a:pathLst>
                  <a:path w="130" h="785">
                    <a:moveTo>
                      <a:pt x="117" y="785"/>
                    </a:moveTo>
                    <a:lnTo>
                      <a:pt x="78" y="690"/>
                    </a:lnTo>
                    <a:lnTo>
                      <a:pt x="61" y="641"/>
                    </a:lnTo>
                    <a:lnTo>
                      <a:pt x="46" y="592"/>
                    </a:lnTo>
                    <a:lnTo>
                      <a:pt x="31" y="544"/>
                    </a:lnTo>
                    <a:lnTo>
                      <a:pt x="27" y="520"/>
                    </a:lnTo>
                    <a:lnTo>
                      <a:pt x="20" y="495"/>
                    </a:lnTo>
                    <a:lnTo>
                      <a:pt x="12" y="445"/>
                    </a:lnTo>
                    <a:lnTo>
                      <a:pt x="5" y="396"/>
                    </a:lnTo>
                    <a:lnTo>
                      <a:pt x="1" y="346"/>
                    </a:lnTo>
                    <a:lnTo>
                      <a:pt x="0" y="297"/>
                    </a:lnTo>
                    <a:lnTo>
                      <a:pt x="2" y="247"/>
                    </a:lnTo>
                    <a:lnTo>
                      <a:pt x="8" y="197"/>
                    </a:lnTo>
                    <a:lnTo>
                      <a:pt x="17" y="147"/>
                    </a:lnTo>
                    <a:lnTo>
                      <a:pt x="29" y="98"/>
                    </a:lnTo>
                    <a:lnTo>
                      <a:pt x="46" y="49"/>
                    </a:lnTo>
                    <a:lnTo>
                      <a:pt x="67" y="0"/>
                    </a:lnTo>
                    <a:lnTo>
                      <a:pt x="80" y="6"/>
                    </a:lnTo>
                    <a:lnTo>
                      <a:pt x="60" y="55"/>
                    </a:lnTo>
                    <a:lnTo>
                      <a:pt x="42" y="103"/>
                    </a:lnTo>
                    <a:lnTo>
                      <a:pt x="30" y="152"/>
                    </a:lnTo>
                    <a:lnTo>
                      <a:pt x="22" y="201"/>
                    </a:lnTo>
                    <a:lnTo>
                      <a:pt x="16" y="249"/>
                    </a:lnTo>
                    <a:lnTo>
                      <a:pt x="14" y="297"/>
                    </a:lnTo>
                    <a:lnTo>
                      <a:pt x="14" y="346"/>
                    </a:lnTo>
                    <a:lnTo>
                      <a:pt x="18" y="394"/>
                    </a:lnTo>
                    <a:lnTo>
                      <a:pt x="25" y="443"/>
                    </a:lnTo>
                    <a:lnTo>
                      <a:pt x="34" y="492"/>
                    </a:lnTo>
                    <a:lnTo>
                      <a:pt x="40" y="516"/>
                    </a:lnTo>
                    <a:lnTo>
                      <a:pt x="45" y="539"/>
                    </a:lnTo>
                    <a:lnTo>
                      <a:pt x="60" y="587"/>
                    </a:lnTo>
                    <a:lnTo>
                      <a:pt x="74" y="636"/>
                    </a:lnTo>
                    <a:lnTo>
                      <a:pt x="91" y="684"/>
                    </a:lnTo>
                    <a:lnTo>
                      <a:pt x="130" y="779"/>
                    </a:lnTo>
                    <a:lnTo>
                      <a:pt x="117" y="7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444760" y="350460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" y="7"/>
                    </a:moveTo>
                    <a:lnTo>
                      <a:pt x="0" y="7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406600" y="2837880"/>
                <a:ext cx="257400" cy="55440"/>
              </a:xfrm>
              <a:custGeom>
                <a:avLst/>
                <a:gdLst/>
                <a:ahLst/>
                <a:rect l="l" t="t" r="r" b="b"/>
                <a:pathLst>
                  <a:path w="324" h="68">
                    <a:moveTo>
                      <a:pt x="0" y="59"/>
                    </a:moveTo>
                    <a:lnTo>
                      <a:pt x="9" y="46"/>
                    </a:lnTo>
                    <a:lnTo>
                      <a:pt x="17" y="37"/>
                    </a:lnTo>
                    <a:lnTo>
                      <a:pt x="36" y="21"/>
                    </a:lnTo>
                    <a:lnTo>
                      <a:pt x="55" y="12"/>
                    </a:lnTo>
                    <a:lnTo>
                      <a:pt x="77" y="7"/>
                    </a:lnTo>
                    <a:lnTo>
                      <a:pt x="95" y="8"/>
                    </a:lnTo>
                    <a:lnTo>
                      <a:pt x="117" y="12"/>
                    </a:lnTo>
                    <a:lnTo>
                      <a:pt x="159" y="26"/>
                    </a:lnTo>
                    <a:lnTo>
                      <a:pt x="179" y="32"/>
                    </a:lnTo>
                    <a:lnTo>
                      <a:pt x="198" y="37"/>
                    </a:lnTo>
                    <a:lnTo>
                      <a:pt x="218" y="40"/>
                    </a:lnTo>
                    <a:lnTo>
                      <a:pt x="238" y="41"/>
                    </a:lnTo>
                    <a:lnTo>
                      <a:pt x="258" y="39"/>
                    </a:lnTo>
                    <a:lnTo>
                      <a:pt x="276" y="33"/>
                    </a:lnTo>
                    <a:lnTo>
                      <a:pt x="295" y="19"/>
                    </a:lnTo>
                    <a:lnTo>
                      <a:pt x="304" y="11"/>
                    </a:lnTo>
                    <a:lnTo>
                      <a:pt x="313" y="0"/>
                    </a:lnTo>
                    <a:lnTo>
                      <a:pt x="324" y="10"/>
                    </a:lnTo>
                    <a:lnTo>
                      <a:pt x="314" y="22"/>
                    </a:lnTo>
                    <a:lnTo>
                      <a:pt x="303" y="32"/>
                    </a:lnTo>
                    <a:lnTo>
                      <a:pt x="282" y="46"/>
                    </a:lnTo>
                    <a:lnTo>
                      <a:pt x="260" y="54"/>
                    </a:lnTo>
                    <a:lnTo>
                      <a:pt x="238" y="56"/>
                    </a:lnTo>
                    <a:lnTo>
                      <a:pt x="216" y="55"/>
                    </a:lnTo>
                    <a:lnTo>
                      <a:pt x="196" y="51"/>
                    </a:lnTo>
                    <a:lnTo>
                      <a:pt x="174" y="45"/>
                    </a:lnTo>
                    <a:lnTo>
                      <a:pt x="153" y="39"/>
                    </a:lnTo>
                    <a:lnTo>
                      <a:pt x="115" y="27"/>
                    </a:lnTo>
                    <a:lnTo>
                      <a:pt x="94" y="23"/>
                    </a:lnTo>
                    <a:lnTo>
                      <a:pt x="77" y="22"/>
                    </a:lnTo>
                    <a:lnTo>
                      <a:pt x="60" y="26"/>
                    </a:lnTo>
                    <a:lnTo>
                      <a:pt x="44" y="33"/>
                    </a:lnTo>
                    <a:lnTo>
                      <a:pt x="27" y="48"/>
                    </a:lnTo>
                    <a:lnTo>
                      <a:pt x="20" y="56"/>
                    </a:lnTo>
                    <a:lnTo>
                      <a:pt x="11" y="68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405160" y="288576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2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649600" y="2493360"/>
                <a:ext cx="58680" cy="352080"/>
              </a:xfrm>
              <a:custGeom>
                <a:avLst/>
                <a:gdLst/>
                <a:ahLst/>
                <a:rect l="l" t="t" r="r" b="b"/>
                <a:pathLst>
                  <a:path w="72" h="444">
                    <a:moveTo>
                      <a:pt x="6" y="435"/>
                    </a:moveTo>
                    <a:lnTo>
                      <a:pt x="21" y="408"/>
                    </a:lnTo>
                    <a:lnTo>
                      <a:pt x="30" y="382"/>
                    </a:lnTo>
                    <a:lnTo>
                      <a:pt x="40" y="356"/>
                    </a:lnTo>
                    <a:lnTo>
                      <a:pt x="48" y="329"/>
                    </a:lnTo>
                    <a:lnTo>
                      <a:pt x="54" y="303"/>
                    </a:lnTo>
                    <a:lnTo>
                      <a:pt x="57" y="275"/>
                    </a:lnTo>
                    <a:lnTo>
                      <a:pt x="59" y="248"/>
                    </a:lnTo>
                    <a:lnTo>
                      <a:pt x="59" y="221"/>
                    </a:lnTo>
                    <a:lnTo>
                      <a:pt x="56" y="194"/>
                    </a:lnTo>
                    <a:lnTo>
                      <a:pt x="52" y="166"/>
                    </a:lnTo>
                    <a:lnTo>
                      <a:pt x="48" y="140"/>
                    </a:lnTo>
                    <a:lnTo>
                      <a:pt x="41" y="112"/>
                    </a:lnTo>
                    <a:lnTo>
                      <a:pt x="23" y="60"/>
                    </a:lnTo>
                    <a:lnTo>
                      <a:pt x="0" y="6"/>
                    </a:lnTo>
                    <a:lnTo>
                      <a:pt x="13" y="0"/>
                    </a:lnTo>
                    <a:lnTo>
                      <a:pt x="37" y="54"/>
                    </a:lnTo>
                    <a:lnTo>
                      <a:pt x="55" y="107"/>
                    </a:lnTo>
                    <a:lnTo>
                      <a:pt x="61" y="137"/>
                    </a:lnTo>
                    <a:lnTo>
                      <a:pt x="66" y="164"/>
                    </a:lnTo>
                    <a:lnTo>
                      <a:pt x="70" y="192"/>
                    </a:lnTo>
                    <a:lnTo>
                      <a:pt x="72" y="221"/>
                    </a:lnTo>
                    <a:lnTo>
                      <a:pt x="72" y="248"/>
                    </a:lnTo>
                    <a:lnTo>
                      <a:pt x="71" y="277"/>
                    </a:lnTo>
                    <a:lnTo>
                      <a:pt x="67" y="307"/>
                    </a:lnTo>
                    <a:lnTo>
                      <a:pt x="61" y="334"/>
                    </a:lnTo>
                    <a:lnTo>
                      <a:pt x="54" y="362"/>
                    </a:lnTo>
                    <a:lnTo>
                      <a:pt x="44" y="389"/>
                    </a:lnTo>
                    <a:lnTo>
                      <a:pt x="33" y="415"/>
                    </a:lnTo>
                    <a:lnTo>
                      <a:pt x="18" y="444"/>
                    </a:lnTo>
                    <a:lnTo>
                      <a:pt x="6" y="4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655720" y="283788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1" y="10"/>
                    </a:moveTo>
                    <a:lnTo>
                      <a:pt x="12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540160" y="2209320"/>
                <a:ext cx="120600" cy="288720"/>
              </a:xfrm>
              <a:custGeom>
                <a:avLst/>
                <a:gdLst/>
                <a:ahLst/>
                <a:rect l="l" t="t" r="r" b="b"/>
                <a:pathLst>
                  <a:path w="151" h="365">
                    <a:moveTo>
                      <a:pt x="139" y="365"/>
                    </a:moveTo>
                    <a:lnTo>
                      <a:pt x="99" y="277"/>
                    </a:lnTo>
                    <a:lnTo>
                      <a:pt x="63" y="188"/>
                    </a:lnTo>
                    <a:lnTo>
                      <a:pt x="0" y="5"/>
                    </a:lnTo>
                    <a:lnTo>
                      <a:pt x="13" y="0"/>
                    </a:lnTo>
                    <a:lnTo>
                      <a:pt x="77" y="181"/>
                    </a:lnTo>
                    <a:lnTo>
                      <a:pt x="112" y="271"/>
                    </a:lnTo>
                    <a:lnTo>
                      <a:pt x="151" y="359"/>
                    </a:lnTo>
                    <a:lnTo>
                      <a:pt x="139" y="3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649600" y="249336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" y="6"/>
                    </a:lnTo>
                    <a:lnTo>
                      <a:pt x="0" y="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543040" y="2207880"/>
                <a:ext cx="184320" cy="148680"/>
              </a:xfrm>
              <a:custGeom>
                <a:avLst/>
                <a:gdLst/>
                <a:ahLst/>
                <a:rect l="l" t="t" r="r" b="b"/>
                <a:pathLst>
                  <a:path w="234" h="188">
                    <a:moveTo>
                      <a:pt x="10" y="0"/>
                    </a:moveTo>
                    <a:lnTo>
                      <a:pt x="0" y="11"/>
                    </a:lnTo>
                    <a:lnTo>
                      <a:pt x="224" y="188"/>
                    </a:lnTo>
                    <a:lnTo>
                      <a:pt x="234" y="17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533680" y="2194920"/>
                <a:ext cx="17280" cy="2196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9" y="23"/>
                    </a:moveTo>
                    <a:lnTo>
                      <a:pt x="0" y="0"/>
                    </a:lnTo>
                    <a:lnTo>
                      <a:pt x="21" y="16"/>
                    </a:lnTo>
                    <a:lnTo>
                      <a:pt x="11" y="27"/>
                    </a:lnTo>
                    <a:lnTo>
                      <a:pt x="22" y="18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17640" y="234900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3" y="0"/>
                    </a:moveTo>
                    <a:lnTo>
                      <a:pt x="14" y="3"/>
                    </a:lnTo>
                    <a:lnTo>
                      <a:pt x="0" y="9"/>
                    </a:lnTo>
                    <a:lnTo>
                      <a:pt x="3" y="1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927520" y="3068280"/>
                <a:ext cx="750600" cy="1682280"/>
              </a:xfrm>
              <a:custGeom>
                <a:avLst/>
                <a:gdLst/>
                <a:ahLst/>
                <a:rect l="l" t="t" r="r" b="b"/>
                <a:pathLst>
                  <a:path w="946" h="2121">
                    <a:moveTo>
                      <a:pt x="825" y="2121"/>
                    </a:moveTo>
                    <a:lnTo>
                      <a:pt x="838" y="2091"/>
                    </a:lnTo>
                    <a:lnTo>
                      <a:pt x="844" y="2078"/>
                    </a:lnTo>
                    <a:lnTo>
                      <a:pt x="849" y="2063"/>
                    </a:lnTo>
                    <a:lnTo>
                      <a:pt x="854" y="2049"/>
                    </a:lnTo>
                    <a:lnTo>
                      <a:pt x="857" y="2034"/>
                    </a:lnTo>
                    <a:lnTo>
                      <a:pt x="861" y="2019"/>
                    </a:lnTo>
                    <a:lnTo>
                      <a:pt x="863" y="2005"/>
                    </a:lnTo>
                    <a:lnTo>
                      <a:pt x="866" y="1990"/>
                    </a:lnTo>
                    <a:lnTo>
                      <a:pt x="867" y="1975"/>
                    </a:lnTo>
                    <a:lnTo>
                      <a:pt x="868" y="1961"/>
                    </a:lnTo>
                    <a:lnTo>
                      <a:pt x="868" y="1945"/>
                    </a:lnTo>
                    <a:lnTo>
                      <a:pt x="868" y="1930"/>
                    </a:lnTo>
                    <a:lnTo>
                      <a:pt x="868" y="1915"/>
                    </a:lnTo>
                    <a:lnTo>
                      <a:pt x="863" y="1885"/>
                    </a:lnTo>
                    <a:lnTo>
                      <a:pt x="861" y="1869"/>
                    </a:lnTo>
                    <a:lnTo>
                      <a:pt x="857" y="1854"/>
                    </a:lnTo>
                    <a:lnTo>
                      <a:pt x="854" y="1838"/>
                    </a:lnTo>
                    <a:lnTo>
                      <a:pt x="849" y="1824"/>
                    </a:lnTo>
                    <a:lnTo>
                      <a:pt x="843" y="1808"/>
                    </a:lnTo>
                    <a:lnTo>
                      <a:pt x="836" y="1793"/>
                    </a:lnTo>
                    <a:lnTo>
                      <a:pt x="830" y="1777"/>
                    </a:lnTo>
                    <a:lnTo>
                      <a:pt x="822" y="1761"/>
                    </a:lnTo>
                    <a:lnTo>
                      <a:pt x="814" y="1747"/>
                    </a:lnTo>
                    <a:lnTo>
                      <a:pt x="805" y="1731"/>
                    </a:lnTo>
                    <a:lnTo>
                      <a:pt x="795" y="1715"/>
                    </a:lnTo>
                    <a:lnTo>
                      <a:pt x="785" y="1700"/>
                    </a:lnTo>
                    <a:lnTo>
                      <a:pt x="773" y="1684"/>
                    </a:lnTo>
                    <a:lnTo>
                      <a:pt x="762" y="1668"/>
                    </a:lnTo>
                    <a:lnTo>
                      <a:pt x="748" y="1654"/>
                    </a:lnTo>
                    <a:lnTo>
                      <a:pt x="735" y="1638"/>
                    </a:lnTo>
                    <a:lnTo>
                      <a:pt x="724" y="1629"/>
                    </a:lnTo>
                    <a:lnTo>
                      <a:pt x="714" y="1622"/>
                    </a:lnTo>
                    <a:lnTo>
                      <a:pt x="703" y="1616"/>
                    </a:lnTo>
                    <a:lnTo>
                      <a:pt x="692" y="1610"/>
                    </a:lnTo>
                    <a:lnTo>
                      <a:pt x="682" y="1605"/>
                    </a:lnTo>
                    <a:lnTo>
                      <a:pt x="671" y="1600"/>
                    </a:lnTo>
                    <a:lnTo>
                      <a:pt x="660" y="1596"/>
                    </a:lnTo>
                    <a:lnTo>
                      <a:pt x="649" y="1592"/>
                    </a:lnTo>
                    <a:lnTo>
                      <a:pt x="640" y="1590"/>
                    </a:lnTo>
                    <a:lnTo>
                      <a:pt x="629" y="1588"/>
                    </a:lnTo>
                    <a:lnTo>
                      <a:pt x="618" y="1585"/>
                    </a:lnTo>
                    <a:lnTo>
                      <a:pt x="607" y="1584"/>
                    </a:lnTo>
                    <a:lnTo>
                      <a:pt x="586" y="1583"/>
                    </a:lnTo>
                    <a:lnTo>
                      <a:pt x="575" y="1583"/>
                    </a:lnTo>
                    <a:lnTo>
                      <a:pt x="564" y="1583"/>
                    </a:lnTo>
                    <a:lnTo>
                      <a:pt x="542" y="1585"/>
                    </a:lnTo>
                    <a:lnTo>
                      <a:pt x="521" y="1588"/>
                    </a:lnTo>
                    <a:lnTo>
                      <a:pt x="499" y="1591"/>
                    </a:lnTo>
                    <a:lnTo>
                      <a:pt x="477" y="1596"/>
                    </a:lnTo>
                    <a:lnTo>
                      <a:pt x="434" y="1608"/>
                    </a:lnTo>
                    <a:lnTo>
                      <a:pt x="391" y="1622"/>
                    </a:lnTo>
                    <a:lnTo>
                      <a:pt x="349" y="1634"/>
                    </a:lnTo>
                    <a:lnTo>
                      <a:pt x="328" y="1640"/>
                    </a:lnTo>
                    <a:lnTo>
                      <a:pt x="306" y="1645"/>
                    </a:lnTo>
                    <a:lnTo>
                      <a:pt x="285" y="1650"/>
                    </a:lnTo>
                    <a:lnTo>
                      <a:pt x="264" y="1654"/>
                    </a:lnTo>
                    <a:lnTo>
                      <a:pt x="255" y="1655"/>
                    </a:lnTo>
                    <a:lnTo>
                      <a:pt x="244" y="1655"/>
                    </a:lnTo>
                    <a:lnTo>
                      <a:pt x="223" y="1656"/>
                    </a:lnTo>
                    <a:lnTo>
                      <a:pt x="202" y="1655"/>
                    </a:lnTo>
                    <a:lnTo>
                      <a:pt x="192" y="1655"/>
                    </a:lnTo>
                    <a:lnTo>
                      <a:pt x="182" y="1652"/>
                    </a:lnTo>
                    <a:lnTo>
                      <a:pt x="162" y="1649"/>
                    </a:lnTo>
                    <a:lnTo>
                      <a:pt x="152" y="1645"/>
                    </a:lnTo>
                    <a:lnTo>
                      <a:pt x="142" y="1641"/>
                    </a:lnTo>
                    <a:lnTo>
                      <a:pt x="131" y="1638"/>
                    </a:lnTo>
                    <a:lnTo>
                      <a:pt x="121" y="1633"/>
                    </a:lnTo>
                    <a:lnTo>
                      <a:pt x="112" y="1627"/>
                    </a:lnTo>
                    <a:lnTo>
                      <a:pt x="102" y="1622"/>
                    </a:lnTo>
                    <a:lnTo>
                      <a:pt x="92" y="1614"/>
                    </a:lnTo>
                    <a:lnTo>
                      <a:pt x="82" y="1607"/>
                    </a:lnTo>
                    <a:lnTo>
                      <a:pt x="72" y="1599"/>
                    </a:lnTo>
                    <a:lnTo>
                      <a:pt x="63" y="1590"/>
                    </a:lnTo>
                    <a:lnTo>
                      <a:pt x="57" y="1580"/>
                    </a:lnTo>
                    <a:lnTo>
                      <a:pt x="50" y="1572"/>
                    </a:lnTo>
                    <a:lnTo>
                      <a:pt x="39" y="1552"/>
                    </a:lnTo>
                    <a:lnTo>
                      <a:pt x="30" y="1534"/>
                    </a:lnTo>
                    <a:lnTo>
                      <a:pt x="21" y="1514"/>
                    </a:lnTo>
                    <a:lnTo>
                      <a:pt x="17" y="1506"/>
                    </a:lnTo>
                    <a:lnTo>
                      <a:pt x="15" y="1496"/>
                    </a:lnTo>
                    <a:lnTo>
                      <a:pt x="9" y="1478"/>
                    </a:lnTo>
                    <a:lnTo>
                      <a:pt x="5" y="1458"/>
                    </a:lnTo>
                    <a:lnTo>
                      <a:pt x="3" y="1440"/>
                    </a:lnTo>
                    <a:lnTo>
                      <a:pt x="0" y="1420"/>
                    </a:lnTo>
                    <a:lnTo>
                      <a:pt x="0" y="1402"/>
                    </a:lnTo>
                    <a:lnTo>
                      <a:pt x="0" y="1383"/>
                    </a:lnTo>
                    <a:lnTo>
                      <a:pt x="2" y="1364"/>
                    </a:lnTo>
                    <a:lnTo>
                      <a:pt x="4" y="1345"/>
                    </a:lnTo>
                    <a:lnTo>
                      <a:pt x="8" y="1327"/>
                    </a:lnTo>
                    <a:lnTo>
                      <a:pt x="11" y="1309"/>
                    </a:lnTo>
                    <a:lnTo>
                      <a:pt x="17" y="1290"/>
                    </a:lnTo>
                    <a:lnTo>
                      <a:pt x="24" y="1272"/>
                    </a:lnTo>
                    <a:lnTo>
                      <a:pt x="30" y="1254"/>
                    </a:lnTo>
                    <a:lnTo>
                      <a:pt x="37" y="1235"/>
                    </a:lnTo>
                    <a:lnTo>
                      <a:pt x="46" y="1217"/>
                    </a:lnTo>
                    <a:lnTo>
                      <a:pt x="54" y="1200"/>
                    </a:lnTo>
                    <a:lnTo>
                      <a:pt x="63" y="1182"/>
                    </a:lnTo>
                    <a:lnTo>
                      <a:pt x="72" y="1165"/>
                    </a:lnTo>
                    <a:lnTo>
                      <a:pt x="82" y="1146"/>
                    </a:lnTo>
                    <a:lnTo>
                      <a:pt x="104" y="1112"/>
                    </a:lnTo>
                    <a:lnTo>
                      <a:pt x="126" y="1079"/>
                    </a:lnTo>
                    <a:lnTo>
                      <a:pt x="151" y="1046"/>
                    </a:lnTo>
                    <a:lnTo>
                      <a:pt x="174" y="1013"/>
                    </a:lnTo>
                    <a:lnTo>
                      <a:pt x="220" y="953"/>
                    </a:lnTo>
                    <a:lnTo>
                      <a:pt x="267" y="894"/>
                    </a:lnTo>
                    <a:lnTo>
                      <a:pt x="361" y="776"/>
                    </a:lnTo>
                    <a:lnTo>
                      <a:pt x="409" y="717"/>
                    </a:lnTo>
                    <a:lnTo>
                      <a:pt x="456" y="659"/>
                    </a:lnTo>
                    <a:lnTo>
                      <a:pt x="505" y="602"/>
                    </a:lnTo>
                    <a:lnTo>
                      <a:pt x="554" y="545"/>
                    </a:lnTo>
                    <a:lnTo>
                      <a:pt x="500" y="481"/>
                    </a:lnTo>
                    <a:lnTo>
                      <a:pt x="446" y="417"/>
                    </a:lnTo>
                    <a:lnTo>
                      <a:pt x="394" y="354"/>
                    </a:lnTo>
                    <a:lnTo>
                      <a:pt x="341" y="289"/>
                    </a:lnTo>
                    <a:lnTo>
                      <a:pt x="312" y="252"/>
                    </a:lnTo>
                    <a:lnTo>
                      <a:pt x="279" y="210"/>
                    </a:lnTo>
                    <a:lnTo>
                      <a:pt x="261" y="188"/>
                    </a:lnTo>
                    <a:lnTo>
                      <a:pt x="242" y="165"/>
                    </a:lnTo>
                    <a:lnTo>
                      <a:pt x="223" y="142"/>
                    </a:lnTo>
                    <a:lnTo>
                      <a:pt x="203" y="121"/>
                    </a:lnTo>
                    <a:lnTo>
                      <a:pt x="192" y="110"/>
                    </a:lnTo>
                    <a:lnTo>
                      <a:pt x="182" y="99"/>
                    </a:lnTo>
                    <a:lnTo>
                      <a:pt x="171" y="90"/>
                    </a:lnTo>
                    <a:lnTo>
                      <a:pt x="160" y="80"/>
                    </a:lnTo>
                    <a:lnTo>
                      <a:pt x="149" y="70"/>
                    </a:lnTo>
                    <a:lnTo>
                      <a:pt x="138" y="62"/>
                    </a:lnTo>
                    <a:lnTo>
                      <a:pt x="127" y="52"/>
                    </a:lnTo>
                    <a:lnTo>
                      <a:pt x="116" y="44"/>
                    </a:lnTo>
                    <a:lnTo>
                      <a:pt x="105" y="36"/>
                    </a:lnTo>
                    <a:lnTo>
                      <a:pt x="94" y="30"/>
                    </a:lnTo>
                    <a:lnTo>
                      <a:pt x="82" y="22"/>
                    </a:lnTo>
                    <a:lnTo>
                      <a:pt x="71" y="16"/>
                    </a:lnTo>
                    <a:lnTo>
                      <a:pt x="60" y="11"/>
                    </a:lnTo>
                    <a:lnTo>
                      <a:pt x="48" y="7"/>
                    </a:lnTo>
                    <a:lnTo>
                      <a:pt x="37" y="3"/>
                    </a:lnTo>
                    <a:lnTo>
                      <a:pt x="25" y="0"/>
                    </a:lnTo>
                    <a:lnTo>
                      <a:pt x="230" y="73"/>
                    </a:lnTo>
                    <a:lnTo>
                      <a:pt x="248" y="81"/>
                    </a:lnTo>
                    <a:lnTo>
                      <a:pt x="267" y="92"/>
                    </a:lnTo>
                    <a:lnTo>
                      <a:pt x="284" y="104"/>
                    </a:lnTo>
                    <a:lnTo>
                      <a:pt x="302" y="119"/>
                    </a:lnTo>
                    <a:lnTo>
                      <a:pt x="311" y="126"/>
                    </a:lnTo>
                    <a:lnTo>
                      <a:pt x="319" y="134"/>
                    </a:lnTo>
                    <a:lnTo>
                      <a:pt x="335" y="150"/>
                    </a:lnTo>
                    <a:lnTo>
                      <a:pt x="352" y="167"/>
                    </a:lnTo>
                    <a:lnTo>
                      <a:pt x="368" y="184"/>
                    </a:lnTo>
                    <a:lnTo>
                      <a:pt x="384" y="202"/>
                    </a:lnTo>
                    <a:lnTo>
                      <a:pt x="399" y="219"/>
                    </a:lnTo>
                    <a:lnTo>
                      <a:pt x="427" y="255"/>
                    </a:lnTo>
                    <a:lnTo>
                      <a:pt x="476" y="317"/>
                    </a:lnTo>
                    <a:lnTo>
                      <a:pt x="522" y="375"/>
                    </a:lnTo>
                    <a:lnTo>
                      <a:pt x="570" y="431"/>
                    </a:lnTo>
                    <a:lnTo>
                      <a:pt x="618" y="488"/>
                    </a:lnTo>
                    <a:lnTo>
                      <a:pt x="666" y="545"/>
                    </a:lnTo>
                    <a:lnTo>
                      <a:pt x="622" y="596"/>
                    </a:lnTo>
                    <a:lnTo>
                      <a:pt x="578" y="647"/>
                    </a:lnTo>
                    <a:lnTo>
                      <a:pt x="493" y="751"/>
                    </a:lnTo>
                    <a:lnTo>
                      <a:pt x="410" y="856"/>
                    </a:lnTo>
                    <a:lnTo>
                      <a:pt x="368" y="909"/>
                    </a:lnTo>
                    <a:lnTo>
                      <a:pt x="327" y="963"/>
                    </a:lnTo>
                    <a:lnTo>
                      <a:pt x="306" y="991"/>
                    </a:lnTo>
                    <a:lnTo>
                      <a:pt x="285" y="1020"/>
                    </a:lnTo>
                    <a:lnTo>
                      <a:pt x="264" y="1051"/>
                    </a:lnTo>
                    <a:lnTo>
                      <a:pt x="246" y="1081"/>
                    </a:lnTo>
                    <a:lnTo>
                      <a:pt x="228" y="1112"/>
                    </a:lnTo>
                    <a:lnTo>
                      <a:pt x="220" y="1128"/>
                    </a:lnTo>
                    <a:lnTo>
                      <a:pt x="212" y="1144"/>
                    </a:lnTo>
                    <a:lnTo>
                      <a:pt x="198" y="1177"/>
                    </a:lnTo>
                    <a:lnTo>
                      <a:pt x="192" y="1193"/>
                    </a:lnTo>
                    <a:lnTo>
                      <a:pt x="187" y="1209"/>
                    </a:lnTo>
                    <a:lnTo>
                      <a:pt x="182" y="1226"/>
                    </a:lnTo>
                    <a:lnTo>
                      <a:pt x="179" y="1242"/>
                    </a:lnTo>
                    <a:lnTo>
                      <a:pt x="175" y="1259"/>
                    </a:lnTo>
                    <a:lnTo>
                      <a:pt x="174" y="1276"/>
                    </a:lnTo>
                    <a:lnTo>
                      <a:pt x="173" y="1292"/>
                    </a:lnTo>
                    <a:lnTo>
                      <a:pt x="171" y="1309"/>
                    </a:lnTo>
                    <a:lnTo>
                      <a:pt x="173" y="1326"/>
                    </a:lnTo>
                    <a:lnTo>
                      <a:pt x="174" y="1342"/>
                    </a:lnTo>
                    <a:lnTo>
                      <a:pt x="176" y="1359"/>
                    </a:lnTo>
                    <a:lnTo>
                      <a:pt x="180" y="1376"/>
                    </a:lnTo>
                    <a:lnTo>
                      <a:pt x="185" y="1392"/>
                    </a:lnTo>
                    <a:lnTo>
                      <a:pt x="191" y="1409"/>
                    </a:lnTo>
                    <a:lnTo>
                      <a:pt x="198" y="1426"/>
                    </a:lnTo>
                    <a:lnTo>
                      <a:pt x="207" y="1443"/>
                    </a:lnTo>
                    <a:lnTo>
                      <a:pt x="217" y="1459"/>
                    </a:lnTo>
                    <a:lnTo>
                      <a:pt x="228" y="1476"/>
                    </a:lnTo>
                    <a:lnTo>
                      <a:pt x="236" y="1484"/>
                    </a:lnTo>
                    <a:lnTo>
                      <a:pt x="246" y="1491"/>
                    </a:lnTo>
                    <a:lnTo>
                      <a:pt x="255" y="1498"/>
                    </a:lnTo>
                    <a:lnTo>
                      <a:pt x="263" y="1504"/>
                    </a:lnTo>
                    <a:lnTo>
                      <a:pt x="272" y="1509"/>
                    </a:lnTo>
                    <a:lnTo>
                      <a:pt x="280" y="1514"/>
                    </a:lnTo>
                    <a:lnTo>
                      <a:pt x="289" y="1519"/>
                    </a:lnTo>
                    <a:lnTo>
                      <a:pt x="299" y="1523"/>
                    </a:lnTo>
                    <a:lnTo>
                      <a:pt x="307" y="1525"/>
                    </a:lnTo>
                    <a:lnTo>
                      <a:pt x="316" y="1528"/>
                    </a:lnTo>
                    <a:lnTo>
                      <a:pt x="325" y="1530"/>
                    </a:lnTo>
                    <a:lnTo>
                      <a:pt x="334" y="1533"/>
                    </a:lnTo>
                    <a:lnTo>
                      <a:pt x="343" y="1534"/>
                    </a:lnTo>
                    <a:lnTo>
                      <a:pt x="352" y="1535"/>
                    </a:lnTo>
                    <a:lnTo>
                      <a:pt x="361" y="1535"/>
                    </a:lnTo>
                    <a:lnTo>
                      <a:pt x="371" y="1535"/>
                    </a:lnTo>
                    <a:lnTo>
                      <a:pt x="389" y="1535"/>
                    </a:lnTo>
                    <a:lnTo>
                      <a:pt x="407" y="1533"/>
                    </a:lnTo>
                    <a:lnTo>
                      <a:pt x="426" y="1529"/>
                    </a:lnTo>
                    <a:lnTo>
                      <a:pt x="445" y="1525"/>
                    </a:lnTo>
                    <a:lnTo>
                      <a:pt x="464" y="1520"/>
                    </a:lnTo>
                    <a:lnTo>
                      <a:pt x="483" y="1515"/>
                    </a:lnTo>
                    <a:lnTo>
                      <a:pt x="521" y="1504"/>
                    </a:lnTo>
                    <a:lnTo>
                      <a:pt x="559" y="1492"/>
                    </a:lnTo>
                    <a:lnTo>
                      <a:pt x="578" y="1487"/>
                    </a:lnTo>
                    <a:lnTo>
                      <a:pt x="597" y="1482"/>
                    </a:lnTo>
                    <a:lnTo>
                      <a:pt x="616" y="1478"/>
                    </a:lnTo>
                    <a:lnTo>
                      <a:pt x="636" y="1474"/>
                    </a:lnTo>
                    <a:lnTo>
                      <a:pt x="655" y="1471"/>
                    </a:lnTo>
                    <a:lnTo>
                      <a:pt x="674" y="1470"/>
                    </a:lnTo>
                    <a:lnTo>
                      <a:pt x="693" y="1470"/>
                    </a:lnTo>
                    <a:lnTo>
                      <a:pt x="713" y="1471"/>
                    </a:lnTo>
                    <a:lnTo>
                      <a:pt x="731" y="1474"/>
                    </a:lnTo>
                    <a:lnTo>
                      <a:pt x="751" y="1479"/>
                    </a:lnTo>
                    <a:lnTo>
                      <a:pt x="761" y="1481"/>
                    </a:lnTo>
                    <a:lnTo>
                      <a:pt x="770" y="1485"/>
                    </a:lnTo>
                    <a:lnTo>
                      <a:pt x="779" y="1490"/>
                    </a:lnTo>
                    <a:lnTo>
                      <a:pt x="789" y="1493"/>
                    </a:lnTo>
                    <a:lnTo>
                      <a:pt x="808" y="1506"/>
                    </a:lnTo>
                    <a:lnTo>
                      <a:pt x="817" y="1512"/>
                    </a:lnTo>
                    <a:lnTo>
                      <a:pt x="827" y="1519"/>
                    </a:lnTo>
                    <a:lnTo>
                      <a:pt x="843" y="1537"/>
                    </a:lnTo>
                    <a:lnTo>
                      <a:pt x="851" y="1547"/>
                    </a:lnTo>
                    <a:lnTo>
                      <a:pt x="858" y="1557"/>
                    </a:lnTo>
                    <a:lnTo>
                      <a:pt x="872" y="1575"/>
                    </a:lnTo>
                    <a:lnTo>
                      <a:pt x="884" y="1594"/>
                    </a:lnTo>
                    <a:lnTo>
                      <a:pt x="896" y="1613"/>
                    </a:lnTo>
                    <a:lnTo>
                      <a:pt x="906" y="1632"/>
                    </a:lnTo>
                    <a:lnTo>
                      <a:pt x="915" y="1650"/>
                    </a:lnTo>
                    <a:lnTo>
                      <a:pt x="923" y="1670"/>
                    </a:lnTo>
                    <a:lnTo>
                      <a:pt x="929" y="1688"/>
                    </a:lnTo>
                    <a:lnTo>
                      <a:pt x="935" y="1706"/>
                    </a:lnTo>
                    <a:lnTo>
                      <a:pt x="939" y="1726"/>
                    </a:lnTo>
                    <a:lnTo>
                      <a:pt x="943" y="1744"/>
                    </a:lnTo>
                    <a:lnTo>
                      <a:pt x="945" y="1762"/>
                    </a:lnTo>
                    <a:lnTo>
                      <a:pt x="946" y="1781"/>
                    </a:lnTo>
                    <a:lnTo>
                      <a:pt x="946" y="1799"/>
                    </a:lnTo>
                    <a:lnTo>
                      <a:pt x="945" y="1817"/>
                    </a:lnTo>
                    <a:lnTo>
                      <a:pt x="825" y="2121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505320" y="4363560"/>
                <a:ext cx="115920" cy="388440"/>
              </a:xfrm>
              <a:custGeom>
                <a:avLst/>
                <a:gdLst/>
                <a:ahLst/>
                <a:rect l="l" t="t" r="r" b="b"/>
                <a:pathLst>
                  <a:path w="147" h="490">
                    <a:moveTo>
                      <a:pt x="90" y="483"/>
                    </a:moveTo>
                    <a:lnTo>
                      <a:pt x="101" y="456"/>
                    </a:lnTo>
                    <a:lnTo>
                      <a:pt x="112" y="428"/>
                    </a:lnTo>
                    <a:lnTo>
                      <a:pt x="127" y="370"/>
                    </a:lnTo>
                    <a:lnTo>
                      <a:pt x="131" y="341"/>
                    </a:lnTo>
                    <a:lnTo>
                      <a:pt x="132" y="312"/>
                    </a:lnTo>
                    <a:lnTo>
                      <a:pt x="131" y="282"/>
                    </a:lnTo>
                    <a:lnTo>
                      <a:pt x="127" y="253"/>
                    </a:lnTo>
                    <a:lnTo>
                      <a:pt x="121" y="224"/>
                    </a:lnTo>
                    <a:lnTo>
                      <a:pt x="112" y="193"/>
                    </a:lnTo>
                    <a:lnTo>
                      <a:pt x="100" y="162"/>
                    </a:lnTo>
                    <a:lnTo>
                      <a:pt x="87" y="132"/>
                    </a:lnTo>
                    <a:lnTo>
                      <a:pt x="70" y="103"/>
                    </a:lnTo>
                    <a:lnTo>
                      <a:pt x="49" y="72"/>
                    </a:lnTo>
                    <a:lnTo>
                      <a:pt x="26" y="40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37" y="30"/>
                    </a:lnTo>
                    <a:lnTo>
                      <a:pt x="60" y="63"/>
                    </a:lnTo>
                    <a:lnTo>
                      <a:pt x="82" y="94"/>
                    </a:lnTo>
                    <a:lnTo>
                      <a:pt x="99" y="125"/>
                    </a:lnTo>
                    <a:lnTo>
                      <a:pt x="114" y="156"/>
                    </a:lnTo>
                    <a:lnTo>
                      <a:pt x="126" y="188"/>
                    </a:lnTo>
                    <a:lnTo>
                      <a:pt x="134" y="220"/>
                    </a:lnTo>
                    <a:lnTo>
                      <a:pt x="140" y="251"/>
                    </a:lnTo>
                    <a:lnTo>
                      <a:pt x="144" y="282"/>
                    </a:lnTo>
                    <a:lnTo>
                      <a:pt x="147" y="312"/>
                    </a:lnTo>
                    <a:lnTo>
                      <a:pt x="144" y="343"/>
                    </a:lnTo>
                    <a:lnTo>
                      <a:pt x="140" y="374"/>
                    </a:lnTo>
                    <a:lnTo>
                      <a:pt x="126" y="433"/>
                    </a:lnTo>
                    <a:lnTo>
                      <a:pt x="115" y="462"/>
                    </a:lnTo>
                    <a:lnTo>
                      <a:pt x="103" y="490"/>
                    </a:lnTo>
                    <a:lnTo>
                      <a:pt x="90" y="4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971800" y="4319280"/>
                <a:ext cx="541440" cy="67680"/>
              </a:xfrm>
              <a:custGeom>
                <a:avLst/>
                <a:gdLst/>
                <a:ahLst/>
                <a:rect l="l" t="t" r="r" b="b"/>
                <a:pathLst>
                  <a:path w="682" h="86">
                    <a:moveTo>
                      <a:pt x="672" y="67"/>
                    </a:moveTo>
                    <a:lnTo>
                      <a:pt x="651" y="51"/>
                    </a:lnTo>
                    <a:lnTo>
                      <a:pt x="630" y="39"/>
                    </a:lnTo>
                    <a:lnTo>
                      <a:pt x="610" y="30"/>
                    </a:lnTo>
                    <a:lnTo>
                      <a:pt x="589" y="23"/>
                    </a:lnTo>
                    <a:lnTo>
                      <a:pt x="568" y="18"/>
                    </a:lnTo>
                    <a:lnTo>
                      <a:pt x="549" y="14"/>
                    </a:lnTo>
                    <a:lnTo>
                      <a:pt x="506" y="13"/>
                    </a:lnTo>
                    <a:lnTo>
                      <a:pt x="464" y="18"/>
                    </a:lnTo>
                    <a:lnTo>
                      <a:pt x="421" y="26"/>
                    </a:lnTo>
                    <a:lnTo>
                      <a:pt x="336" y="52"/>
                    </a:lnTo>
                    <a:lnTo>
                      <a:pt x="250" y="75"/>
                    </a:lnTo>
                    <a:lnTo>
                      <a:pt x="208" y="83"/>
                    </a:lnTo>
                    <a:lnTo>
                      <a:pt x="187" y="85"/>
                    </a:lnTo>
                    <a:lnTo>
                      <a:pt x="165" y="86"/>
                    </a:lnTo>
                    <a:lnTo>
                      <a:pt x="121" y="83"/>
                    </a:lnTo>
                    <a:lnTo>
                      <a:pt x="80" y="72"/>
                    </a:lnTo>
                    <a:lnTo>
                      <a:pt x="60" y="62"/>
                    </a:lnTo>
                    <a:lnTo>
                      <a:pt x="39" y="50"/>
                    </a:lnTo>
                    <a:lnTo>
                      <a:pt x="19" y="36"/>
                    </a:lnTo>
                    <a:lnTo>
                      <a:pt x="0" y="18"/>
                    </a:lnTo>
                    <a:lnTo>
                      <a:pt x="10" y="8"/>
                    </a:lnTo>
                    <a:lnTo>
                      <a:pt x="29" y="25"/>
                    </a:lnTo>
                    <a:lnTo>
                      <a:pt x="47" y="37"/>
                    </a:lnTo>
                    <a:lnTo>
                      <a:pt x="67" y="50"/>
                    </a:lnTo>
                    <a:lnTo>
                      <a:pt x="85" y="58"/>
                    </a:lnTo>
                    <a:lnTo>
                      <a:pt x="124" y="69"/>
                    </a:lnTo>
                    <a:lnTo>
                      <a:pt x="165" y="73"/>
                    </a:lnTo>
                    <a:lnTo>
                      <a:pt x="184" y="72"/>
                    </a:lnTo>
                    <a:lnTo>
                      <a:pt x="204" y="69"/>
                    </a:lnTo>
                    <a:lnTo>
                      <a:pt x="245" y="62"/>
                    </a:lnTo>
                    <a:lnTo>
                      <a:pt x="331" y="39"/>
                    </a:lnTo>
                    <a:lnTo>
                      <a:pt x="417" y="13"/>
                    </a:lnTo>
                    <a:lnTo>
                      <a:pt x="461" y="4"/>
                    </a:lnTo>
                    <a:lnTo>
                      <a:pt x="506" y="0"/>
                    </a:lnTo>
                    <a:lnTo>
                      <a:pt x="549" y="1"/>
                    </a:lnTo>
                    <a:lnTo>
                      <a:pt x="572" y="4"/>
                    </a:lnTo>
                    <a:lnTo>
                      <a:pt x="594" y="9"/>
                    </a:lnTo>
                    <a:lnTo>
                      <a:pt x="616" y="17"/>
                    </a:lnTo>
                    <a:lnTo>
                      <a:pt x="638" y="26"/>
                    </a:lnTo>
                    <a:lnTo>
                      <a:pt x="660" y="39"/>
                    </a:lnTo>
                    <a:lnTo>
                      <a:pt x="682" y="56"/>
                    </a:lnTo>
                    <a:lnTo>
                      <a:pt x="672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505320" y="43635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1" y="11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919240" y="3866760"/>
                <a:ext cx="149400" cy="466200"/>
              </a:xfrm>
              <a:custGeom>
                <a:avLst/>
                <a:gdLst/>
                <a:ahLst/>
                <a:rect l="l" t="t" r="r" b="b"/>
                <a:pathLst>
                  <a:path w="187" h="587">
                    <a:moveTo>
                      <a:pt x="65" y="587"/>
                    </a:moveTo>
                    <a:lnTo>
                      <a:pt x="52" y="567"/>
                    </a:lnTo>
                    <a:lnTo>
                      <a:pt x="41" y="548"/>
                    </a:lnTo>
                    <a:lnTo>
                      <a:pt x="22" y="510"/>
                    </a:lnTo>
                    <a:lnTo>
                      <a:pt x="10" y="472"/>
                    </a:lnTo>
                    <a:lnTo>
                      <a:pt x="2" y="433"/>
                    </a:lnTo>
                    <a:lnTo>
                      <a:pt x="0" y="394"/>
                    </a:lnTo>
                    <a:lnTo>
                      <a:pt x="2" y="355"/>
                    </a:lnTo>
                    <a:lnTo>
                      <a:pt x="8" y="318"/>
                    </a:lnTo>
                    <a:lnTo>
                      <a:pt x="18" y="280"/>
                    </a:lnTo>
                    <a:lnTo>
                      <a:pt x="30" y="243"/>
                    </a:lnTo>
                    <a:lnTo>
                      <a:pt x="47" y="205"/>
                    </a:lnTo>
                    <a:lnTo>
                      <a:pt x="56" y="187"/>
                    </a:lnTo>
                    <a:lnTo>
                      <a:pt x="65" y="170"/>
                    </a:lnTo>
                    <a:lnTo>
                      <a:pt x="84" y="134"/>
                    </a:lnTo>
                    <a:lnTo>
                      <a:pt x="106" y="100"/>
                    </a:lnTo>
                    <a:lnTo>
                      <a:pt x="128" y="65"/>
                    </a:lnTo>
                    <a:lnTo>
                      <a:pt x="176" y="0"/>
                    </a:lnTo>
                    <a:lnTo>
                      <a:pt x="187" y="10"/>
                    </a:lnTo>
                    <a:lnTo>
                      <a:pt x="139" y="75"/>
                    </a:lnTo>
                    <a:lnTo>
                      <a:pt x="118" y="109"/>
                    </a:lnTo>
                    <a:lnTo>
                      <a:pt x="96" y="143"/>
                    </a:lnTo>
                    <a:lnTo>
                      <a:pt x="77" y="179"/>
                    </a:lnTo>
                    <a:lnTo>
                      <a:pt x="68" y="194"/>
                    </a:lnTo>
                    <a:lnTo>
                      <a:pt x="60" y="213"/>
                    </a:lnTo>
                    <a:lnTo>
                      <a:pt x="44" y="249"/>
                    </a:lnTo>
                    <a:lnTo>
                      <a:pt x="32" y="285"/>
                    </a:lnTo>
                    <a:lnTo>
                      <a:pt x="22" y="322"/>
                    </a:lnTo>
                    <a:lnTo>
                      <a:pt x="16" y="357"/>
                    </a:lnTo>
                    <a:lnTo>
                      <a:pt x="14" y="394"/>
                    </a:lnTo>
                    <a:lnTo>
                      <a:pt x="16" y="430"/>
                    </a:lnTo>
                    <a:lnTo>
                      <a:pt x="23" y="468"/>
                    </a:lnTo>
                    <a:lnTo>
                      <a:pt x="35" y="504"/>
                    </a:lnTo>
                    <a:lnTo>
                      <a:pt x="54" y="540"/>
                    </a:lnTo>
                    <a:lnTo>
                      <a:pt x="65" y="559"/>
                    </a:lnTo>
                    <a:lnTo>
                      <a:pt x="76" y="578"/>
                    </a:lnTo>
                    <a:lnTo>
                      <a:pt x="65" y="5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971800" y="43254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10"/>
                    </a:moveTo>
                    <a:lnTo>
                      <a:pt x="0" y="10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059280" y="3495240"/>
                <a:ext cx="311040" cy="379080"/>
              </a:xfrm>
              <a:custGeom>
                <a:avLst/>
                <a:gdLst/>
                <a:ahLst/>
                <a:rect l="l" t="t" r="r" b="b"/>
                <a:pathLst>
                  <a:path w="391" h="480">
                    <a:moveTo>
                      <a:pt x="0" y="470"/>
                    </a:moveTo>
                    <a:lnTo>
                      <a:pt x="93" y="351"/>
                    </a:lnTo>
                    <a:lnTo>
                      <a:pt x="187" y="233"/>
                    </a:lnTo>
                    <a:lnTo>
                      <a:pt x="380" y="0"/>
                    </a:lnTo>
                    <a:lnTo>
                      <a:pt x="391" y="10"/>
                    </a:lnTo>
                    <a:lnTo>
                      <a:pt x="198" y="243"/>
                    </a:lnTo>
                    <a:lnTo>
                      <a:pt x="104" y="361"/>
                    </a:lnTo>
                    <a:lnTo>
                      <a:pt x="11" y="480"/>
                    </a:lnTo>
                    <a:lnTo>
                      <a:pt x="0" y="4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059280" y="386676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0"/>
                    </a:moveTo>
                    <a:lnTo>
                      <a:pt x="11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192480" y="3293640"/>
                <a:ext cx="177840" cy="209160"/>
              </a:xfrm>
              <a:custGeom>
                <a:avLst/>
                <a:gdLst/>
                <a:ahLst/>
                <a:rect l="l" t="t" r="r" b="b"/>
                <a:pathLst>
                  <a:path w="224" h="264">
                    <a:moveTo>
                      <a:pt x="213" y="264"/>
                    </a:moveTo>
                    <a:lnTo>
                      <a:pt x="105" y="138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116" y="128"/>
                    </a:lnTo>
                    <a:lnTo>
                      <a:pt x="224" y="254"/>
                    </a:lnTo>
                    <a:lnTo>
                      <a:pt x="213" y="2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360600" y="3495240"/>
                <a:ext cx="12960" cy="756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1" y="10"/>
                    </a:moveTo>
                    <a:lnTo>
                      <a:pt x="15" y="5"/>
                    </a:lnTo>
                    <a:lnTo>
                      <a:pt x="11" y="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944800" y="3063240"/>
                <a:ext cx="257040" cy="236160"/>
              </a:xfrm>
              <a:custGeom>
                <a:avLst/>
                <a:gdLst/>
                <a:ahLst/>
                <a:rect l="l" t="t" r="r" b="b"/>
                <a:pathLst>
                  <a:path w="324" h="300">
                    <a:moveTo>
                      <a:pt x="313" y="300"/>
                    </a:moveTo>
                    <a:lnTo>
                      <a:pt x="251" y="220"/>
                    </a:lnTo>
                    <a:lnTo>
                      <a:pt x="214" y="176"/>
                    </a:lnTo>
                    <a:lnTo>
                      <a:pt x="175" y="132"/>
                    </a:lnTo>
                    <a:lnTo>
                      <a:pt x="134" y="91"/>
                    </a:lnTo>
                    <a:lnTo>
                      <a:pt x="90" y="57"/>
                    </a:lnTo>
                    <a:lnTo>
                      <a:pt x="68" y="41"/>
                    </a:lnTo>
                    <a:lnTo>
                      <a:pt x="46" y="28"/>
                    </a:lnTo>
                    <a:lnTo>
                      <a:pt x="24" y="20"/>
                    </a:lnTo>
                    <a:lnTo>
                      <a:pt x="0" y="14"/>
                    </a:lnTo>
                    <a:lnTo>
                      <a:pt x="5" y="0"/>
                    </a:lnTo>
                    <a:lnTo>
                      <a:pt x="28" y="6"/>
                    </a:lnTo>
                    <a:lnTo>
                      <a:pt x="53" y="16"/>
                    </a:lnTo>
                    <a:lnTo>
                      <a:pt x="76" y="28"/>
                    </a:lnTo>
                    <a:lnTo>
                      <a:pt x="99" y="46"/>
                    </a:lnTo>
                    <a:lnTo>
                      <a:pt x="143" y="81"/>
                    </a:lnTo>
                    <a:lnTo>
                      <a:pt x="185" y="121"/>
                    </a:lnTo>
                    <a:lnTo>
                      <a:pt x="225" y="167"/>
                    </a:lnTo>
                    <a:lnTo>
                      <a:pt x="262" y="211"/>
                    </a:lnTo>
                    <a:lnTo>
                      <a:pt x="324" y="290"/>
                    </a:lnTo>
                    <a:lnTo>
                      <a:pt x="313" y="3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192480" y="3293640"/>
                <a:ext cx="9360" cy="57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10"/>
                    </a:moveTo>
                    <a:lnTo>
                      <a:pt x="1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943360" y="3063240"/>
                <a:ext cx="168120" cy="66600"/>
              </a:xfrm>
              <a:custGeom>
                <a:avLst/>
                <a:gdLst/>
                <a:ahLst/>
                <a:rect l="l" t="t" r="r" b="b"/>
                <a:pathLst>
                  <a:path w="212" h="85">
                    <a:moveTo>
                      <a:pt x="6" y="0"/>
                    </a:moveTo>
                    <a:lnTo>
                      <a:pt x="0" y="14"/>
                    </a:lnTo>
                    <a:lnTo>
                      <a:pt x="205" y="85"/>
                    </a:lnTo>
                    <a:lnTo>
                      <a:pt x="212" y="7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943360" y="306324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0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1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106800" y="3119040"/>
                <a:ext cx="201600" cy="204480"/>
              </a:xfrm>
              <a:custGeom>
                <a:avLst/>
                <a:gdLst/>
                <a:ahLst/>
                <a:rect l="l" t="t" r="r" b="b"/>
                <a:pathLst>
                  <a:path w="255" h="257">
                    <a:moveTo>
                      <a:pt x="7" y="0"/>
                    </a:moveTo>
                    <a:lnTo>
                      <a:pt x="26" y="10"/>
                    </a:lnTo>
                    <a:lnTo>
                      <a:pt x="43" y="21"/>
                    </a:lnTo>
                    <a:lnTo>
                      <a:pt x="62" y="33"/>
                    </a:lnTo>
                    <a:lnTo>
                      <a:pt x="80" y="49"/>
                    </a:lnTo>
                    <a:lnTo>
                      <a:pt x="114" y="80"/>
                    </a:lnTo>
                    <a:lnTo>
                      <a:pt x="147" y="114"/>
                    </a:lnTo>
                    <a:lnTo>
                      <a:pt x="206" y="185"/>
                    </a:lnTo>
                    <a:lnTo>
                      <a:pt x="255" y="247"/>
                    </a:lnTo>
                    <a:lnTo>
                      <a:pt x="244" y="257"/>
                    </a:lnTo>
                    <a:lnTo>
                      <a:pt x="195" y="195"/>
                    </a:lnTo>
                    <a:lnTo>
                      <a:pt x="136" y="124"/>
                    </a:lnTo>
                    <a:lnTo>
                      <a:pt x="104" y="91"/>
                    </a:lnTo>
                    <a:lnTo>
                      <a:pt x="70" y="60"/>
                    </a:lnTo>
                    <a:lnTo>
                      <a:pt x="53" y="45"/>
                    </a:lnTo>
                    <a:lnTo>
                      <a:pt x="35" y="33"/>
                    </a:lnTo>
                    <a:lnTo>
                      <a:pt x="18" y="22"/>
                    </a:lnTo>
                    <a:lnTo>
                      <a:pt x="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106800" y="311904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298680" y="3315960"/>
                <a:ext cx="160560" cy="186840"/>
              </a:xfrm>
              <a:custGeom>
                <a:avLst/>
                <a:gdLst/>
                <a:ahLst/>
                <a:rect l="l" t="t" r="r" b="b"/>
                <a:pathLst>
                  <a:path w="200" h="237">
                    <a:moveTo>
                      <a:pt x="11" y="0"/>
                    </a:moveTo>
                    <a:lnTo>
                      <a:pt x="105" y="114"/>
                    </a:lnTo>
                    <a:lnTo>
                      <a:pt x="200" y="228"/>
                    </a:lnTo>
                    <a:lnTo>
                      <a:pt x="189" y="237"/>
                    </a:lnTo>
                    <a:lnTo>
                      <a:pt x="94" y="124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298680" y="331596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10"/>
                    </a:moveTo>
                    <a:lnTo>
                      <a:pt x="1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181320" y="3495240"/>
                <a:ext cx="277920" cy="339480"/>
              </a:xfrm>
              <a:custGeom>
                <a:avLst/>
                <a:gdLst/>
                <a:ahLst/>
                <a:rect l="l" t="t" r="r" b="b"/>
                <a:pathLst>
                  <a:path w="349" h="428">
                    <a:moveTo>
                      <a:pt x="349" y="9"/>
                    </a:moveTo>
                    <a:lnTo>
                      <a:pt x="262" y="112"/>
                    </a:lnTo>
                    <a:lnTo>
                      <a:pt x="177" y="216"/>
                    </a:lnTo>
                    <a:lnTo>
                      <a:pt x="94" y="321"/>
                    </a:lnTo>
                    <a:lnTo>
                      <a:pt x="11" y="428"/>
                    </a:lnTo>
                    <a:lnTo>
                      <a:pt x="0" y="418"/>
                    </a:lnTo>
                    <a:lnTo>
                      <a:pt x="83" y="311"/>
                    </a:lnTo>
                    <a:lnTo>
                      <a:pt x="166" y="206"/>
                    </a:lnTo>
                    <a:lnTo>
                      <a:pt x="251" y="102"/>
                    </a:lnTo>
                    <a:lnTo>
                      <a:pt x="338" y="0"/>
                    </a:lnTo>
                    <a:lnTo>
                      <a:pt x="34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449520" y="349524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1" y="0"/>
                    </a:moveTo>
                    <a:lnTo>
                      <a:pt x="15" y="5"/>
                    </a:lnTo>
                    <a:lnTo>
                      <a:pt x="11" y="9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057480" y="3828600"/>
                <a:ext cx="133560" cy="414000"/>
              </a:xfrm>
              <a:custGeom>
                <a:avLst/>
                <a:gdLst/>
                <a:ahLst/>
                <a:rect l="l" t="t" r="r" b="b"/>
                <a:pathLst>
                  <a:path w="169" h="522">
                    <a:moveTo>
                      <a:pt x="169" y="9"/>
                    </a:moveTo>
                    <a:lnTo>
                      <a:pt x="127" y="66"/>
                    </a:lnTo>
                    <a:lnTo>
                      <a:pt x="88" y="127"/>
                    </a:lnTo>
                    <a:lnTo>
                      <a:pt x="70" y="157"/>
                    </a:lnTo>
                    <a:lnTo>
                      <a:pt x="54" y="188"/>
                    </a:lnTo>
                    <a:lnTo>
                      <a:pt x="40" y="221"/>
                    </a:lnTo>
                    <a:lnTo>
                      <a:pt x="29" y="252"/>
                    </a:lnTo>
                    <a:lnTo>
                      <a:pt x="22" y="284"/>
                    </a:lnTo>
                    <a:lnTo>
                      <a:pt x="17" y="316"/>
                    </a:lnTo>
                    <a:lnTo>
                      <a:pt x="15" y="350"/>
                    </a:lnTo>
                    <a:lnTo>
                      <a:pt x="17" y="382"/>
                    </a:lnTo>
                    <a:lnTo>
                      <a:pt x="23" y="416"/>
                    </a:lnTo>
                    <a:lnTo>
                      <a:pt x="33" y="448"/>
                    </a:lnTo>
                    <a:lnTo>
                      <a:pt x="49" y="479"/>
                    </a:lnTo>
                    <a:lnTo>
                      <a:pt x="70" y="514"/>
                    </a:lnTo>
                    <a:lnTo>
                      <a:pt x="58" y="522"/>
                    </a:lnTo>
                    <a:lnTo>
                      <a:pt x="37" y="488"/>
                    </a:lnTo>
                    <a:lnTo>
                      <a:pt x="20" y="454"/>
                    </a:lnTo>
                    <a:lnTo>
                      <a:pt x="9" y="418"/>
                    </a:lnTo>
                    <a:lnTo>
                      <a:pt x="3" y="384"/>
                    </a:lnTo>
                    <a:lnTo>
                      <a:pt x="0" y="350"/>
                    </a:lnTo>
                    <a:lnTo>
                      <a:pt x="3" y="314"/>
                    </a:lnTo>
                    <a:lnTo>
                      <a:pt x="7" y="281"/>
                    </a:lnTo>
                    <a:lnTo>
                      <a:pt x="16" y="247"/>
                    </a:lnTo>
                    <a:lnTo>
                      <a:pt x="27" y="215"/>
                    </a:lnTo>
                    <a:lnTo>
                      <a:pt x="40" y="182"/>
                    </a:lnTo>
                    <a:lnTo>
                      <a:pt x="56" y="150"/>
                    </a:lnTo>
                    <a:lnTo>
                      <a:pt x="76" y="119"/>
                    </a:lnTo>
                    <a:lnTo>
                      <a:pt x="115" y="58"/>
                    </a:lnTo>
                    <a:lnTo>
                      <a:pt x="157" y="0"/>
                    </a:lnTo>
                    <a:lnTo>
                      <a:pt x="16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181320" y="382716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0"/>
                    </a:moveTo>
                    <a:lnTo>
                      <a:pt x="0" y="1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103560" y="4228560"/>
                <a:ext cx="482760" cy="63360"/>
              </a:xfrm>
              <a:custGeom>
                <a:avLst/>
                <a:gdLst/>
                <a:ahLst/>
                <a:rect l="l" t="t" r="r" b="b"/>
                <a:pathLst>
                  <a:path w="607" h="79">
                    <a:moveTo>
                      <a:pt x="10" y="8"/>
                    </a:moveTo>
                    <a:lnTo>
                      <a:pt x="27" y="23"/>
                    </a:lnTo>
                    <a:lnTo>
                      <a:pt x="44" y="35"/>
                    </a:lnTo>
                    <a:lnTo>
                      <a:pt x="78" y="54"/>
                    </a:lnTo>
                    <a:lnTo>
                      <a:pt x="94" y="57"/>
                    </a:lnTo>
                    <a:lnTo>
                      <a:pt x="112" y="62"/>
                    </a:lnTo>
                    <a:lnTo>
                      <a:pt x="129" y="63"/>
                    </a:lnTo>
                    <a:lnTo>
                      <a:pt x="148" y="65"/>
                    </a:lnTo>
                    <a:lnTo>
                      <a:pt x="184" y="62"/>
                    </a:lnTo>
                    <a:lnTo>
                      <a:pt x="221" y="55"/>
                    </a:lnTo>
                    <a:lnTo>
                      <a:pt x="297" y="34"/>
                    </a:lnTo>
                    <a:lnTo>
                      <a:pt x="373" y="12"/>
                    </a:lnTo>
                    <a:lnTo>
                      <a:pt x="413" y="4"/>
                    </a:lnTo>
                    <a:lnTo>
                      <a:pt x="451" y="0"/>
                    </a:lnTo>
                    <a:lnTo>
                      <a:pt x="490" y="1"/>
                    </a:lnTo>
                    <a:lnTo>
                      <a:pt x="529" y="8"/>
                    </a:lnTo>
                    <a:lnTo>
                      <a:pt x="550" y="16"/>
                    </a:lnTo>
                    <a:lnTo>
                      <a:pt x="568" y="24"/>
                    </a:lnTo>
                    <a:lnTo>
                      <a:pt x="589" y="35"/>
                    </a:lnTo>
                    <a:lnTo>
                      <a:pt x="607" y="50"/>
                    </a:lnTo>
                    <a:lnTo>
                      <a:pt x="599" y="62"/>
                    </a:lnTo>
                    <a:lnTo>
                      <a:pt x="580" y="48"/>
                    </a:lnTo>
                    <a:lnTo>
                      <a:pt x="562" y="38"/>
                    </a:lnTo>
                    <a:lnTo>
                      <a:pt x="544" y="29"/>
                    </a:lnTo>
                    <a:lnTo>
                      <a:pt x="527" y="23"/>
                    </a:lnTo>
                    <a:lnTo>
                      <a:pt x="489" y="16"/>
                    </a:lnTo>
                    <a:lnTo>
                      <a:pt x="451" y="15"/>
                    </a:lnTo>
                    <a:lnTo>
                      <a:pt x="414" y="18"/>
                    </a:lnTo>
                    <a:lnTo>
                      <a:pt x="375" y="27"/>
                    </a:lnTo>
                    <a:lnTo>
                      <a:pt x="299" y="49"/>
                    </a:lnTo>
                    <a:lnTo>
                      <a:pt x="223" y="70"/>
                    </a:lnTo>
                    <a:lnTo>
                      <a:pt x="186" y="77"/>
                    </a:lnTo>
                    <a:lnTo>
                      <a:pt x="148" y="79"/>
                    </a:lnTo>
                    <a:lnTo>
                      <a:pt x="128" y="78"/>
                    </a:lnTo>
                    <a:lnTo>
                      <a:pt x="110" y="77"/>
                    </a:lnTo>
                    <a:lnTo>
                      <a:pt x="91" y="72"/>
                    </a:lnTo>
                    <a:lnTo>
                      <a:pt x="72" y="67"/>
                    </a:lnTo>
                    <a:lnTo>
                      <a:pt x="35" y="48"/>
                    </a:lnTo>
                    <a:lnTo>
                      <a:pt x="17" y="34"/>
                    </a:lnTo>
                    <a:lnTo>
                      <a:pt x="0" y="19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102120" y="42350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10"/>
                    </a:moveTo>
                    <a:lnTo>
                      <a:pt x="1" y="11"/>
                    </a:lnTo>
                    <a:lnTo>
                      <a:pt x="11" y="0"/>
                    </a:lnTo>
                    <a:lnTo>
                      <a:pt x="12" y="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578400" y="4269960"/>
                <a:ext cx="104760" cy="239400"/>
              </a:xfrm>
              <a:custGeom>
                <a:avLst/>
                <a:gdLst/>
                <a:ahLst/>
                <a:rect l="l" t="t" r="r" b="b"/>
                <a:pathLst>
                  <a:path w="133" h="303">
                    <a:moveTo>
                      <a:pt x="11" y="0"/>
                    </a:moveTo>
                    <a:lnTo>
                      <a:pt x="44" y="38"/>
                    </a:lnTo>
                    <a:lnTo>
                      <a:pt x="69" y="76"/>
                    </a:lnTo>
                    <a:lnTo>
                      <a:pt x="91" y="115"/>
                    </a:lnTo>
                    <a:lnTo>
                      <a:pt x="108" y="153"/>
                    </a:lnTo>
                    <a:lnTo>
                      <a:pt x="122" y="191"/>
                    </a:lnTo>
                    <a:lnTo>
                      <a:pt x="129" y="229"/>
                    </a:lnTo>
                    <a:lnTo>
                      <a:pt x="133" y="267"/>
                    </a:lnTo>
                    <a:lnTo>
                      <a:pt x="132" y="303"/>
                    </a:lnTo>
                    <a:lnTo>
                      <a:pt x="117" y="303"/>
                    </a:lnTo>
                    <a:lnTo>
                      <a:pt x="118" y="267"/>
                    </a:lnTo>
                    <a:lnTo>
                      <a:pt x="114" y="231"/>
                    </a:lnTo>
                    <a:lnTo>
                      <a:pt x="107" y="193"/>
                    </a:lnTo>
                    <a:lnTo>
                      <a:pt x="95" y="159"/>
                    </a:lnTo>
                    <a:lnTo>
                      <a:pt x="78" y="121"/>
                    </a:lnTo>
                    <a:lnTo>
                      <a:pt x="57" y="85"/>
                    </a:lnTo>
                    <a:lnTo>
                      <a:pt x="31" y="47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3578400" y="42681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9" y="0"/>
                    </a:moveTo>
                    <a:lnTo>
                      <a:pt x="11" y="1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576600" y="4507920"/>
                <a:ext cx="104760" cy="244080"/>
              </a:xfrm>
              <a:custGeom>
                <a:avLst/>
                <a:gdLst/>
                <a:ahLst/>
                <a:rect l="l" t="t" r="r" b="b"/>
                <a:pathLst>
                  <a:path w="133" h="308">
                    <a:moveTo>
                      <a:pt x="133" y="6"/>
                    </a:moveTo>
                    <a:lnTo>
                      <a:pt x="120" y="0"/>
                    </a:lnTo>
                    <a:lnTo>
                      <a:pt x="0" y="302"/>
                    </a:lnTo>
                    <a:lnTo>
                      <a:pt x="14" y="308"/>
                    </a:lnTo>
                    <a:lnTo>
                      <a:pt x="13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670200" y="4507920"/>
                <a:ext cx="12960" cy="46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5" y="2"/>
                    </a:moveTo>
                    <a:lnTo>
                      <a:pt x="15" y="4"/>
                    </a:lnTo>
                    <a:lnTo>
                      <a:pt x="13" y="6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576600" y="4746240"/>
                <a:ext cx="9720" cy="57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1"/>
                    </a:moveTo>
                    <a:lnTo>
                      <a:pt x="14" y="7"/>
                    </a:lnTo>
                    <a:lnTo>
                      <a:pt x="1" y="0"/>
                    </a:lnTo>
                    <a:lnTo>
                      <a:pt x="14" y="7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232240" y="1725120"/>
                <a:ext cx="217800" cy="264600"/>
              </a:xfrm>
              <a:custGeom>
                <a:avLst/>
                <a:gdLst/>
                <a:ahLst/>
                <a:rect l="l" t="t" r="r" b="b"/>
                <a:pathLst>
                  <a:path w="274" h="335">
                    <a:moveTo>
                      <a:pt x="274" y="0"/>
                    </a:moveTo>
                    <a:lnTo>
                      <a:pt x="233" y="16"/>
                    </a:lnTo>
                    <a:lnTo>
                      <a:pt x="193" y="33"/>
                    </a:lnTo>
                    <a:lnTo>
                      <a:pt x="153" y="51"/>
                    </a:lnTo>
                    <a:lnTo>
                      <a:pt x="112" y="70"/>
                    </a:lnTo>
                    <a:lnTo>
                      <a:pt x="101" y="76"/>
                    </a:lnTo>
                    <a:lnTo>
                      <a:pt x="91" y="82"/>
                    </a:lnTo>
                    <a:lnTo>
                      <a:pt x="72" y="95"/>
                    </a:lnTo>
                    <a:lnTo>
                      <a:pt x="63" y="103"/>
                    </a:lnTo>
                    <a:lnTo>
                      <a:pt x="55" y="109"/>
                    </a:lnTo>
                    <a:lnTo>
                      <a:pt x="46" y="116"/>
                    </a:lnTo>
                    <a:lnTo>
                      <a:pt x="39" y="124"/>
                    </a:lnTo>
                    <a:lnTo>
                      <a:pt x="27" y="139"/>
                    </a:lnTo>
                    <a:lnTo>
                      <a:pt x="22" y="148"/>
                    </a:lnTo>
                    <a:lnTo>
                      <a:pt x="17" y="157"/>
                    </a:lnTo>
                    <a:lnTo>
                      <a:pt x="12" y="164"/>
                    </a:lnTo>
                    <a:lnTo>
                      <a:pt x="8" y="172"/>
                    </a:lnTo>
                    <a:lnTo>
                      <a:pt x="3" y="191"/>
                    </a:lnTo>
                    <a:lnTo>
                      <a:pt x="1" y="199"/>
                    </a:lnTo>
                    <a:lnTo>
                      <a:pt x="0" y="208"/>
                    </a:lnTo>
                    <a:lnTo>
                      <a:pt x="0" y="217"/>
                    </a:lnTo>
                    <a:lnTo>
                      <a:pt x="0" y="226"/>
                    </a:lnTo>
                    <a:lnTo>
                      <a:pt x="1" y="235"/>
                    </a:lnTo>
                    <a:lnTo>
                      <a:pt x="2" y="245"/>
                    </a:lnTo>
                    <a:lnTo>
                      <a:pt x="5" y="253"/>
                    </a:lnTo>
                    <a:lnTo>
                      <a:pt x="8" y="263"/>
                    </a:lnTo>
                    <a:lnTo>
                      <a:pt x="12" y="272"/>
                    </a:lnTo>
                    <a:lnTo>
                      <a:pt x="17" y="281"/>
                    </a:lnTo>
                    <a:lnTo>
                      <a:pt x="22" y="290"/>
                    </a:lnTo>
                    <a:lnTo>
                      <a:pt x="28" y="300"/>
                    </a:lnTo>
                    <a:lnTo>
                      <a:pt x="34" y="308"/>
                    </a:lnTo>
                    <a:lnTo>
                      <a:pt x="43" y="317"/>
                    </a:lnTo>
                    <a:lnTo>
                      <a:pt x="50" y="327"/>
                    </a:lnTo>
                    <a:lnTo>
                      <a:pt x="60" y="335"/>
                    </a:lnTo>
                    <a:lnTo>
                      <a:pt x="74" y="325"/>
                    </a:lnTo>
                    <a:lnTo>
                      <a:pt x="90" y="317"/>
                    </a:lnTo>
                    <a:lnTo>
                      <a:pt x="129" y="298"/>
                    </a:lnTo>
                    <a:lnTo>
                      <a:pt x="149" y="290"/>
                    </a:lnTo>
                    <a:lnTo>
                      <a:pt x="168" y="281"/>
                    </a:lnTo>
                    <a:lnTo>
                      <a:pt x="208" y="264"/>
                    </a:lnTo>
                    <a:lnTo>
                      <a:pt x="248" y="248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318280" y="1718640"/>
                <a:ext cx="133200" cy="66600"/>
              </a:xfrm>
              <a:custGeom>
                <a:avLst/>
                <a:gdLst/>
                <a:ahLst/>
                <a:rect l="l" t="t" r="r" b="b"/>
                <a:pathLst>
                  <a:path w="167" h="83">
                    <a:moveTo>
                      <a:pt x="167" y="13"/>
                    </a:moveTo>
                    <a:lnTo>
                      <a:pt x="85" y="46"/>
                    </a:lnTo>
                    <a:lnTo>
                      <a:pt x="6" y="83"/>
                    </a:lnTo>
                    <a:lnTo>
                      <a:pt x="0" y="70"/>
                    </a:lnTo>
                    <a:lnTo>
                      <a:pt x="79" y="33"/>
                    </a:lnTo>
                    <a:lnTo>
                      <a:pt x="161" y="0"/>
                    </a:lnTo>
                    <a:lnTo>
                      <a:pt x="16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226120" y="1774440"/>
                <a:ext cx="98280" cy="220320"/>
              </a:xfrm>
              <a:custGeom>
                <a:avLst/>
                <a:gdLst/>
                <a:ahLst/>
                <a:rect l="l" t="t" r="r" b="b"/>
                <a:pathLst>
                  <a:path w="124" h="276">
                    <a:moveTo>
                      <a:pt x="124" y="12"/>
                    </a:moveTo>
                    <a:lnTo>
                      <a:pt x="103" y="24"/>
                    </a:lnTo>
                    <a:lnTo>
                      <a:pt x="85" y="38"/>
                    </a:lnTo>
                    <a:lnTo>
                      <a:pt x="68" y="51"/>
                    </a:lnTo>
                    <a:lnTo>
                      <a:pt x="52" y="64"/>
                    </a:lnTo>
                    <a:lnTo>
                      <a:pt x="41" y="80"/>
                    </a:lnTo>
                    <a:lnTo>
                      <a:pt x="30" y="95"/>
                    </a:lnTo>
                    <a:lnTo>
                      <a:pt x="22" y="112"/>
                    </a:lnTo>
                    <a:lnTo>
                      <a:pt x="18" y="127"/>
                    </a:lnTo>
                    <a:lnTo>
                      <a:pt x="15" y="144"/>
                    </a:lnTo>
                    <a:lnTo>
                      <a:pt x="15" y="162"/>
                    </a:lnTo>
                    <a:lnTo>
                      <a:pt x="18" y="178"/>
                    </a:lnTo>
                    <a:lnTo>
                      <a:pt x="22" y="195"/>
                    </a:lnTo>
                    <a:lnTo>
                      <a:pt x="30" y="214"/>
                    </a:lnTo>
                    <a:lnTo>
                      <a:pt x="42" y="231"/>
                    </a:lnTo>
                    <a:lnTo>
                      <a:pt x="54" y="248"/>
                    </a:lnTo>
                    <a:lnTo>
                      <a:pt x="73" y="266"/>
                    </a:lnTo>
                    <a:lnTo>
                      <a:pt x="62" y="276"/>
                    </a:lnTo>
                    <a:lnTo>
                      <a:pt x="43" y="258"/>
                    </a:lnTo>
                    <a:lnTo>
                      <a:pt x="30" y="239"/>
                    </a:lnTo>
                    <a:lnTo>
                      <a:pt x="16" y="220"/>
                    </a:lnTo>
                    <a:lnTo>
                      <a:pt x="9" y="201"/>
                    </a:lnTo>
                    <a:lnTo>
                      <a:pt x="3" y="181"/>
                    </a:lnTo>
                    <a:lnTo>
                      <a:pt x="0" y="164"/>
                    </a:lnTo>
                    <a:lnTo>
                      <a:pt x="0" y="144"/>
                    </a:lnTo>
                    <a:lnTo>
                      <a:pt x="3" y="124"/>
                    </a:lnTo>
                    <a:lnTo>
                      <a:pt x="9" y="106"/>
                    </a:lnTo>
                    <a:lnTo>
                      <a:pt x="16" y="89"/>
                    </a:lnTo>
                    <a:lnTo>
                      <a:pt x="29" y="72"/>
                    </a:lnTo>
                    <a:lnTo>
                      <a:pt x="41" y="55"/>
                    </a:lnTo>
                    <a:lnTo>
                      <a:pt x="58" y="40"/>
                    </a:lnTo>
                    <a:lnTo>
                      <a:pt x="75" y="27"/>
                    </a:lnTo>
                    <a:lnTo>
                      <a:pt x="95" y="12"/>
                    </a:lnTo>
                    <a:lnTo>
                      <a:pt x="115" y="0"/>
                    </a:lnTo>
                    <a:lnTo>
                      <a:pt x="12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318280" y="177444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2" y="0"/>
                    </a:moveTo>
                    <a:lnTo>
                      <a:pt x="0" y="0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275440" y="1971360"/>
                <a:ext cx="31680" cy="23400"/>
              </a:xfrm>
              <a:custGeom>
                <a:avLst/>
                <a:gdLst/>
                <a:ahLst/>
                <a:rect l="l" t="t" r="r" b="b"/>
                <a:pathLst>
                  <a:path w="39" h="30">
                    <a:moveTo>
                      <a:pt x="0" y="18"/>
                    </a:moveTo>
                    <a:lnTo>
                      <a:pt x="30" y="0"/>
                    </a:lnTo>
                    <a:lnTo>
                      <a:pt x="39" y="12"/>
                    </a:lnTo>
                    <a:lnTo>
                      <a:pt x="8" y="3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275440" y="1985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11"/>
                    </a:moveTo>
                    <a:lnTo>
                      <a:pt x="4" y="16"/>
                    </a:lnTo>
                    <a:lnTo>
                      <a:pt x="9" y="12"/>
                    </a:lnTo>
                    <a:lnTo>
                      <a:pt x="1" y="0"/>
                    </a:lnTo>
                    <a:lnTo>
                      <a:pt x="11" y="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300640" y="1917360"/>
                <a:ext cx="130320" cy="64440"/>
              </a:xfrm>
              <a:custGeom>
                <a:avLst/>
                <a:gdLst/>
                <a:ahLst/>
                <a:rect l="l" t="t" r="r" b="b"/>
                <a:pathLst>
                  <a:path w="162" h="82">
                    <a:moveTo>
                      <a:pt x="0" y="69"/>
                    </a:moveTo>
                    <a:lnTo>
                      <a:pt x="78" y="33"/>
                    </a:lnTo>
                    <a:lnTo>
                      <a:pt x="156" y="0"/>
                    </a:lnTo>
                    <a:lnTo>
                      <a:pt x="162" y="14"/>
                    </a:lnTo>
                    <a:lnTo>
                      <a:pt x="84" y="47"/>
                    </a:lnTo>
                    <a:lnTo>
                      <a:pt x="6" y="82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300640" y="1971360"/>
                <a:ext cx="6480" cy="104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0"/>
                    </a:moveTo>
                    <a:lnTo>
                      <a:pt x="2" y="0"/>
                    </a:lnTo>
                    <a:lnTo>
                      <a:pt x="8" y="13"/>
                    </a:lnTo>
                    <a:lnTo>
                      <a:pt x="9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423040" y="1723680"/>
                <a:ext cx="31680" cy="198000"/>
              </a:xfrm>
              <a:custGeom>
                <a:avLst/>
                <a:gdLst/>
                <a:ahLst/>
                <a:rect l="l" t="t" r="r" b="b"/>
                <a:pathLst>
                  <a:path w="41" h="251">
                    <a:moveTo>
                      <a:pt x="0" y="248"/>
                    </a:moveTo>
                    <a:lnTo>
                      <a:pt x="14" y="251"/>
                    </a:lnTo>
                    <a:lnTo>
                      <a:pt x="41" y="2"/>
                    </a:lnTo>
                    <a:lnTo>
                      <a:pt x="27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423040" y="191736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0" y="14"/>
                    </a:moveTo>
                    <a:lnTo>
                      <a:pt x="14" y="12"/>
                    </a:lnTo>
                    <a:lnTo>
                      <a:pt x="14" y="8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443560" y="1716120"/>
                <a:ext cx="11160" cy="1368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14" y="12"/>
                    </a:moveTo>
                    <a:lnTo>
                      <a:pt x="15" y="0"/>
                    </a:lnTo>
                    <a:lnTo>
                      <a:pt x="4" y="5"/>
                    </a:lnTo>
                    <a:lnTo>
                      <a:pt x="10" y="18"/>
                    </a:lnTo>
                    <a:lnTo>
                      <a:pt x="0" y="10"/>
                    </a:lnTo>
                    <a:lnTo>
                      <a:pt x="1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041640" y="1739520"/>
                <a:ext cx="331920" cy="312120"/>
              </a:xfrm>
              <a:custGeom>
                <a:avLst/>
                <a:gdLst/>
                <a:ahLst/>
                <a:rect l="l" t="t" r="r" b="b"/>
                <a:pathLst>
                  <a:path w="417" h="392">
                    <a:moveTo>
                      <a:pt x="52" y="248"/>
                    </a:moveTo>
                    <a:lnTo>
                      <a:pt x="94" y="260"/>
                    </a:lnTo>
                    <a:lnTo>
                      <a:pt x="138" y="275"/>
                    </a:lnTo>
                    <a:lnTo>
                      <a:pt x="182" y="292"/>
                    </a:lnTo>
                    <a:lnTo>
                      <a:pt x="204" y="300"/>
                    </a:lnTo>
                    <a:lnTo>
                      <a:pt x="226" y="309"/>
                    </a:lnTo>
                    <a:lnTo>
                      <a:pt x="248" y="319"/>
                    </a:lnTo>
                    <a:lnTo>
                      <a:pt x="269" y="329"/>
                    </a:lnTo>
                    <a:lnTo>
                      <a:pt x="311" y="349"/>
                    </a:lnTo>
                    <a:lnTo>
                      <a:pt x="352" y="370"/>
                    </a:lnTo>
                    <a:lnTo>
                      <a:pt x="390" y="392"/>
                    </a:lnTo>
                    <a:lnTo>
                      <a:pt x="398" y="375"/>
                    </a:lnTo>
                    <a:lnTo>
                      <a:pt x="406" y="359"/>
                    </a:lnTo>
                    <a:lnTo>
                      <a:pt x="409" y="351"/>
                    </a:lnTo>
                    <a:lnTo>
                      <a:pt x="412" y="342"/>
                    </a:lnTo>
                    <a:lnTo>
                      <a:pt x="413" y="335"/>
                    </a:lnTo>
                    <a:lnTo>
                      <a:pt x="414" y="326"/>
                    </a:lnTo>
                    <a:lnTo>
                      <a:pt x="415" y="319"/>
                    </a:lnTo>
                    <a:lnTo>
                      <a:pt x="417" y="310"/>
                    </a:lnTo>
                    <a:lnTo>
                      <a:pt x="417" y="303"/>
                    </a:lnTo>
                    <a:lnTo>
                      <a:pt x="415" y="294"/>
                    </a:lnTo>
                    <a:lnTo>
                      <a:pt x="414" y="287"/>
                    </a:lnTo>
                    <a:lnTo>
                      <a:pt x="413" y="280"/>
                    </a:lnTo>
                    <a:lnTo>
                      <a:pt x="412" y="272"/>
                    </a:lnTo>
                    <a:lnTo>
                      <a:pt x="409" y="264"/>
                    </a:lnTo>
                    <a:lnTo>
                      <a:pt x="406" y="256"/>
                    </a:lnTo>
                    <a:lnTo>
                      <a:pt x="403" y="249"/>
                    </a:lnTo>
                    <a:lnTo>
                      <a:pt x="399" y="243"/>
                    </a:lnTo>
                    <a:lnTo>
                      <a:pt x="395" y="236"/>
                    </a:lnTo>
                    <a:lnTo>
                      <a:pt x="386" y="221"/>
                    </a:lnTo>
                    <a:lnTo>
                      <a:pt x="374" y="208"/>
                    </a:lnTo>
                    <a:lnTo>
                      <a:pt x="368" y="200"/>
                    </a:lnTo>
                    <a:lnTo>
                      <a:pt x="362" y="194"/>
                    </a:lnTo>
                    <a:lnTo>
                      <a:pt x="347" y="181"/>
                    </a:lnTo>
                    <a:lnTo>
                      <a:pt x="338" y="174"/>
                    </a:lnTo>
                    <a:lnTo>
                      <a:pt x="330" y="168"/>
                    </a:lnTo>
                    <a:lnTo>
                      <a:pt x="311" y="156"/>
                    </a:lnTo>
                    <a:lnTo>
                      <a:pt x="237" y="111"/>
                    </a:lnTo>
                    <a:lnTo>
                      <a:pt x="199" y="89"/>
                    </a:lnTo>
                    <a:lnTo>
                      <a:pt x="161" y="67"/>
                    </a:lnTo>
                    <a:lnTo>
                      <a:pt x="142" y="57"/>
                    </a:lnTo>
                    <a:lnTo>
                      <a:pt x="122" y="47"/>
                    </a:lnTo>
                    <a:lnTo>
                      <a:pt x="102" y="38"/>
                    </a:lnTo>
                    <a:lnTo>
                      <a:pt x="82" y="29"/>
                    </a:lnTo>
                    <a:lnTo>
                      <a:pt x="62" y="20"/>
                    </a:lnTo>
                    <a:lnTo>
                      <a:pt x="41" y="13"/>
                    </a:lnTo>
                    <a:lnTo>
                      <a:pt x="21" y="6"/>
                    </a:lnTo>
                    <a:lnTo>
                      <a:pt x="0" y="0"/>
                    </a:lnTo>
                    <a:lnTo>
                      <a:pt x="52" y="248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081240" y="1931400"/>
                <a:ext cx="273240" cy="125280"/>
              </a:xfrm>
              <a:custGeom>
                <a:avLst/>
                <a:gdLst/>
                <a:ahLst/>
                <a:rect l="l" t="t" r="r" b="b"/>
                <a:pathLst>
                  <a:path w="344" h="156">
                    <a:moveTo>
                      <a:pt x="5" y="0"/>
                    </a:moveTo>
                    <a:lnTo>
                      <a:pt x="47" y="12"/>
                    </a:lnTo>
                    <a:lnTo>
                      <a:pt x="91" y="27"/>
                    </a:lnTo>
                    <a:lnTo>
                      <a:pt x="135" y="44"/>
                    </a:lnTo>
                    <a:lnTo>
                      <a:pt x="179" y="61"/>
                    </a:lnTo>
                    <a:lnTo>
                      <a:pt x="265" y="101"/>
                    </a:lnTo>
                    <a:lnTo>
                      <a:pt x="306" y="122"/>
                    </a:lnTo>
                    <a:lnTo>
                      <a:pt x="344" y="144"/>
                    </a:lnTo>
                    <a:lnTo>
                      <a:pt x="336" y="156"/>
                    </a:lnTo>
                    <a:lnTo>
                      <a:pt x="298" y="134"/>
                    </a:lnTo>
                    <a:lnTo>
                      <a:pt x="259" y="115"/>
                    </a:lnTo>
                    <a:lnTo>
                      <a:pt x="173" y="74"/>
                    </a:lnTo>
                    <a:lnTo>
                      <a:pt x="129" y="57"/>
                    </a:lnTo>
                    <a:lnTo>
                      <a:pt x="85" y="40"/>
                    </a:lnTo>
                    <a:lnTo>
                      <a:pt x="41" y="25"/>
                    </a:lnTo>
                    <a:lnTo>
                      <a:pt x="0" y="1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286080" y="1860120"/>
                <a:ext cx="90360" cy="194760"/>
              </a:xfrm>
              <a:custGeom>
                <a:avLst/>
                <a:gdLst/>
                <a:ahLst/>
                <a:rect l="l" t="t" r="r" b="b"/>
                <a:pathLst>
                  <a:path w="114" h="246">
                    <a:moveTo>
                      <a:pt x="77" y="237"/>
                    </a:moveTo>
                    <a:lnTo>
                      <a:pt x="85" y="220"/>
                    </a:lnTo>
                    <a:lnTo>
                      <a:pt x="91" y="206"/>
                    </a:lnTo>
                    <a:lnTo>
                      <a:pt x="97" y="189"/>
                    </a:lnTo>
                    <a:lnTo>
                      <a:pt x="100" y="174"/>
                    </a:lnTo>
                    <a:lnTo>
                      <a:pt x="101" y="159"/>
                    </a:lnTo>
                    <a:lnTo>
                      <a:pt x="101" y="145"/>
                    </a:lnTo>
                    <a:lnTo>
                      <a:pt x="95" y="115"/>
                    </a:lnTo>
                    <a:lnTo>
                      <a:pt x="81" y="90"/>
                    </a:lnTo>
                    <a:lnTo>
                      <a:pt x="61" y="61"/>
                    </a:lnTo>
                    <a:lnTo>
                      <a:pt x="48" y="49"/>
                    </a:lnTo>
                    <a:lnTo>
                      <a:pt x="34" y="36"/>
                    </a:lnTo>
                    <a:lnTo>
                      <a:pt x="0" y="11"/>
                    </a:lnTo>
                    <a:lnTo>
                      <a:pt x="9" y="0"/>
                    </a:lnTo>
                    <a:lnTo>
                      <a:pt x="44" y="25"/>
                    </a:lnTo>
                    <a:lnTo>
                      <a:pt x="58" y="38"/>
                    </a:lnTo>
                    <a:lnTo>
                      <a:pt x="72" y="52"/>
                    </a:lnTo>
                    <a:lnTo>
                      <a:pt x="94" y="81"/>
                    </a:lnTo>
                    <a:lnTo>
                      <a:pt x="108" y="110"/>
                    </a:lnTo>
                    <a:lnTo>
                      <a:pt x="114" y="142"/>
                    </a:lnTo>
                    <a:lnTo>
                      <a:pt x="114" y="159"/>
                    </a:lnTo>
                    <a:lnTo>
                      <a:pt x="113" y="178"/>
                    </a:lnTo>
                    <a:lnTo>
                      <a:pt x="111" y="193"/>
                    </a:lnTo>
                    <a:lnTo>
                      <a:pt x="105" y="212"/>
                    </a:lnTo>
                    <a:lnTo>
                      <a:pt x="97" y="228"/>
                    </a:lnTo>
                    <a:lnTo>
                      <a:pt x="89" y="246"/>
                    </a:lnTo>
                    <a:lnTo>
                      <a:pt x="77" y="2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46560" y="204732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" y="12"/>
                    </a:moveTo>
                    <a:lnTo>
                      <a:pt x="8" y="17"/>
                    </a:lnTo>
                    <a:lnTo>
                      <a:pt x="12" y="11"/>
                    </a:lnTo>
                    <a:lnTo>
                      <a:pt x="0" y="2"/>
                    </a:lnTo>
                    <a:lnTo>
                      <a:pt x="9" y="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040200" y="1734480"/>
                <a:ext cx="252360" cy="134640"/>
              </a:xfrm>
              <a:custGeom>
                <a:avLst/>
                <a:gdLst/>
                <a:ahLst/>
                <a:rect l="l" t="t" r="r" b="b"/>
                <a:pathLst>
                  <a:path w="318" h="168">
                    <a:moveTo>
                      <a:pt x="310" y="168"/>
                    </a:moveTo>
                    <a:lnTo>
                      <a:pt x="235" y="123"/>
                    </a:lnTo>
                    <a:lnTo>
                      <a:pt x="160" y="79"/>
                    </a:lnTo>
                    <a:lnTo>
                      <a:pt x="121" y="59"/>
                    </a:lnTo>
                    <a:lnTo>
                      <a:pt x="81" y="42"/>
                    </a:lnTo>
                    <a:lnTo>
                      <a:pt x="41" y="26"/>
                    </a:lnTo>
                    <a:lnTo>
                      <a:pt x="0" y="13"/>
                    </a:lnTo>
                    <a:lnTo>
                      <a:pt x="5" y="0"/>
                    </a:lnTo>
                    <a:lnTo>
                      <a:pt x="47" y="13"/>
                    </a:lnTo>
                    <a:lnTo>
                      <a:pt x="87" y="29"/>
                    </a:lnTo>
                    <a:lnTo>
                      <a:pt x="129" y="47"/>
                    </a:lnTo>
                    <a:lnTo>
                      <a:pt x="168" y="67"/>
                    </a:lnTo>
                    <a:lnTo>
                      <a:pt x="244" y="111"/>
                    </a:lnTo>
                    <a:lnTo>
                      <a:pt x="318" y="156"/>
                    </a:lnTo>
                    <a:lnTo>
                      <a:pt x="310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286080" y="186012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9" y="1"/>
                    </a:moveTo>
                    <a:lnTo>
                      <a:pt x="8" y="0"/>
                    </a:lnTo>
                    <a:lnTo>
                      <a:pt x="0" y="12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036960" y="1739520"/>
                <a:ext cx="52200" cy="198000"/>
              </a:xfrm>
              <a:custGeom>
                <a:avLst/>
                <a:gdLst/>
                <a:ahLst/>
                <a:rect l="l" t="t" r="r" b="b"/>
                <a:pathLst>
                  <a:path w="66" h="251">
                    <a:moveTo>
                      <a:pt x="15" y="0"/>
                    </a:moveTo>
                    <a:lnTo>
                      <a:pt x="0" y="3"/>
                    </a:lnTo>
                    <a:lnTo>
                      <a:pt x="52" y="251"/>
                    </a:lnTo>
                    <a:lnTo>
                      <a:pt x="66" y="249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033720" y="1731600"/>
                <a:ext cx="14400" cy="136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2" y="4"/>
                    </a:moveTo>
                    <a:lnTo>
                      <a:pt x="0" y="0"/>
                    </a:lnTo>
                    <a:lnTo>
                      <a:pt x="2" y="11"/>
                    </a:lnTo>
                    <a:lnTo>
                      <a:pt x="17" y="8"/>
                    </a:lnTo>
                    <a:lnTo>
                      <a:pt x="7" y="17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76560" y="1931400"/>
                <a:ext cx="12600" cy="10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7"/>
                    </a:moveTo>
                    <a:lnTo>
                      <a:pt x="1" y="12"/>
                    </a:lnTo>
                    <a:lnTo>
                      <a:pt x="5" y="13"/>
                    </a:lnTo>
                    <a:lnTo>
                      <a:pt x="10" y="0"/>
                    </a:lnTo>
                    <a:lnTo>
                      <a:pt x="14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743280" y="4335120"/>
                <a:ext cx="1471680" cy="806040"/>
              </a:xfrm>
              <a:custGeom>
                <a:avLst/>
                <a:gdLst/>
                <a:ahLst/>
                <a:rect l="l" t="t" r="r" b="b"/>
                <a:pathLst>
                  <a:path w="1855" h="1017">
                    <a:moveTo>
                      <a:pt x="1855" y="1017"/>
                    </a:moveTo>
                    <a:lnTo>
                      <a:pt x="1850" y="1008"/>
                    </a:lnTo>
                    <a:lnTo>
                      <a:pt x="1844" y="1001"/>
                    </a:lnTo>
                    <a:lnTo>
                      <a:pt x="1831" y="985"/>
                    </a:lnTo>
                    <a:lnTo>
                      <a:pt x="1824" y="977"/>
                    </a:lnTo>
                    <a:lnTo>
                      <a:pt x="1816" y="969"/>
                    </a:lnTo>
                    <a:lnTo>
                      <a:pt x="1800" y="954"/>
                    </a:lnTo>
                    <a:lnTo>
                      <a:pt x="1783" y="941"/>
                    </a:lnTo>
                    <a:lnTo>
                      <a:pt x="1764" y="927"/>
                    </a:lnTo>
                    <a:lnTo>
                      <a:pt x="1745" y="914"/>
                    </a:lnTo>
                    <a:lnTo>
                      <a:pt x="1726" y="902"/>
                    </a:lnTo>
                    <a:lnTo>
                      <a:pt x="1658" y="859"/>
                    </a:lnTo>
                    <a:lnTo>
                      <a:pt x="1591" y="815"/>
                    </a:lnTo>
                    <a:lnTo>
                      <a:pt x="1525" y="770"/>
                    </a:lnTo>
                    <a:lnTo>
                      <a:pt x="1459" y="723"/>
                    </a:lnTo>
                    <a:lnTo>
                      <a:pt x="1394" y="677"/>
                    </a:lnTo>
                    <a:lnTo>
                      <a:pt x="1329" y="629"/>
                    </a:lnTo>
                    <a:lnTo>
                      <a:pt x="1266" y="581"/>
                    </a:lnTo>
                    <a:lnTo>
                      <a:pt x="1202" y="532"/>
                    </a:lnTo>
                    <a:lnTo>
                      <a:pt x="1138" y="483"/>
                    </a:lnTo>
                    <a:lnTo>
                      <a:pt x="1075" y="433"/>
                    </a:lnTo>
                    <a:lnTo>
                      <a:pt x="950" y="333"/>
                    </a:lnTo>
                    <a:lnTo>
                      <a:pt x="825" y="231"/>
                    </a:lnTo>
                    <a:lnTo>
                      <a:pt x="702" y="130"/>
                    </a:lnTo>
                    <a:lnTo>
                      <a:pt x="587" y="228"/>
                    </a:lnTo>
                    <a:lnTo>
                      <a:pt x="530" y="277"/>
                    </a:lnTo>
                    <a:lnTo>
                      <a:pt x="472" y="326"/>
                    </a:lnTo>
                    <a:lnTo>
                      <a:pt x="414" y="373"/>
                    </a:lnTo>
                    <a:lnTo>
                      <a:pt x="355" y="421"/>
                    </a:lnTo>
                    <a:lnTo>
                      <a:pt x="295" y="467"/>
                    </a:lnTo>
                    <a:lnTo>
                      <a:pt x="236" y="515"/>
                    </a:lnTo>
                    <a:lnTo>
                      <a:pt x="171" y="565"/>
                    </a:lnTo>
                    <a:lnTo>
                      <a:pt x="136" y="593"/>
                    </a:lnTo>
                    <a:lnTo>
                      <a:pt x="119" y="608"/>
                    </a:lnTo>
                    <a:lnTo>
                      <a:pt x="102" y="623"/>
                    </a:lnTo>
                    <a:lnTo>
                      <a:pt x="86" y="639"/>
                    </a:lnTo>
                    <a:lnTo>
                      <a:pt x="70" y="656"/>
                    </a:lnTo>
                    <a:lnTo>
                      <a:pt x="55" y="672"/>
                    </a:lnTo>
                    <a:lnTo>
                      <a:pt x="41" y="689"/>
                    </a:lnTo>
                    <a:lnTo>
                      <a:pt x="28" y="706"/>
                    </a:lnTo>
                    <a:lnTo>
                      <a:pt x="17" y="723"/>
                    </a:lnTo>
                    <a:lnTo>
                      <a:pt x="13" y="732"/>
                    </a:lnTo>
                    <a:lnTo>
                      <a:pt x="8" y="741"/>
                    </a:lnTo>
                    <a:lnTo>
                      <a:pt x="0" y="759"/>
                    </a:lnTo>
                    <a:lnTo>
                      <a:pt x="63" y="554"/>
                    </a:lnTo>
                    <a:lnTo>
                      <a:pt x="66" y="547"/>
                    </a:lnTo>
                    <a:lnTo>
                      <a:pt x="70" y="538"/>
                    </a:lnTo>
                    <a:lnTo>
                      <a:pt x="79" y="524"/>
                    </a:lnTo>
                    <a:lnTo>
                      <a:pt x="90" y="509"/>
                    </a:lnTo>
                    <a:lnTo>
                      <a:pt x="101" y="494"/>
                    </a:lnTo>
                    <a:lnTo>
                      <a:pt x="113" y="480"/>
                    </a:lnTo>
                    <a:lnTo>
                      <a:pt x="126" y="465"/>
                    </a:lnTo>
                    <a:lnTo>
                      <a:pt x="140" y="452"/>
                    </a:lnTo>
                    <a:lnTo>
                      <a:pt x="154" y="438"/>
                    </a:lnTo>
                    <a:lnTo>
                      <a:pt x="169" y="425"/>
                    </a:lnTo>
                    <a:lnTo>
                      <a:pt x="184" y="411"/>
                    </a:lnTo>
                    <a:lnTo>
                      <a:pt x="214" y="387"/>
                    </a:lnTo>
                    <a:lnTo>
                      <a:pt x="270" y="344"/>
                    </a:lnTo>
                    <a:lnTo>
                      <a:pt x="323" y="302"/>
                    </a:lnTo>
                    <a:lnTo>
                      <a:pt x="376" y="261"/>
                    </a:lnTo>
                    <a:lnTo>
                      <a:pt x="428" y="218"/>
                    </a:lnTo>
                    <a:lnTo>
                      <a:pt x="481" y="175"/>
                    </a:lnTo>
                    <a:lnTo>
                      <a:pt x="583" y="88"/>
                    </a:lnTo>
                    <a:lnTo>
                      <a:pt x="635" y="44"/>
                    </a:lnTo>
                    <a:lnTo>
                      <a:pt x="686" y="0"/>
                    </a:lnTo>
                    <a:lnTo>
                      <a:pt x="796" y="92"/>
                    </a:lnTo>
                    <a:lnTo>
                      <a:pt x="906" y="183"/>
                    </a:lnTo>
                    <a:lnTo>
                      <a:pt x="1017" y="272"/>
                    </a:lnTo>
                    <a:lnTo>
                      <a:pt x="1074" y="316"/>
                    </a:lnTo>
                    <a:lnTo>
                      <a:pt x="1131" y="360"/>
                    </a:lnTo>
                    <a:lnTo>
                      <a:pt x="1187" y="404"/>
                    </a:lnTo>
                    <a:lnTo>
                      <a:pt x="1245" y="447"/>
                    </a:lnTo>
                    <a:lnTo>
                      <a:pt x="1302" y="488"/>
                    </a:lnTo>
                    <a:lnTo>
                      <a:pt x="1360" y="530"/>
                    </a:lnTo>
                    <a:lnTo>
                      <a:pt x="1389" y="551"/>
                    </a:lnTo>
                    <a:lnTo>
                      <a:pt x="1418" y="571"/>
                    </a:lnTo>
                    <a:lnTo>
                      <a:pt x="1477" y="612"/>
                    </a:lnTo>
                    <a:lnTo>
                      <a:pt x="1537" y="651"/>
                    </a:lnTo>
                    <a:lnTo>
                      <a:pt x="1598" y="689"/>
                    </a:lnTo>
                    <a:lnTo>
                      <a:pt x="1619" y="702"/>
                    </a:lnTo>
                    <a:lnTo>
                      <a:pt x="1640" y="717"/>
                    </a:lnTo>
                    <a:lnTo>
                      <a:pt x="1649" y="725"/>
                    </a:lnTo>
                    <a:lnTo>
                      <a:pt x="1659" y="733"/>
                    </a:lnTo>
                    <a:lnTo>
                      <a:pt x="1669" y="741"/>
                    </a:lnTo>
                    <a:lnTo>
                      <a:pt x="1679" y="749"/>
                    </a:lnTo>
                    <a:lnTo>
                      <a:pt x="1686" y="757"/>
                    </a:lnTo>
                    <a:lnTo>
                      <a:pt x="1695" y="766"/>
                    </a:lnTo>
                    <a:lnTo>
                      <a:pt x="1702" y="776"/>
                    </a:lnTo>
                    <a:lnTo>
                      <a:pt x="1708" y="784"/>
                    </a:lnTo>
                    <a:lnTo>
                      <a:pt x="1714" y="793"/>
                    </a:lnTo>
                    <a:lnTo>
                      <a:pt x="1718" y="803"/>
                    </a:lnTo>
                    <a:lnTo>
                      <a:pt x="1720" y="807"/>
                    </a:lnTo>
                    <a:lnTo>
                      <a:pt x="1721" y="812"/>
                    </a:lnTo>
                    <a:lnTo>
                      <a:pt x="1724" y="821"/>
                    </a:lnTo>
                    <a:lnTo>
                      <a:pt x="1855" y="1017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108400" y="5046120"/>
                <a:ext cx="111240" cy="99720"/>
              </a:xfrm>
              <a:custGeom>
                <a:avLst/>
                <a:gdLst/>
                <a:ahLst/>
                <a:rect l="l" t="t" r="r" b="b"/>
                <a:pathLst>
                  <a:path w="141" h="126">
                    <a:moveTo>
                      <a:pt x="129" y="126"/>
                    </a:moveTo>
                    <a:lnTo>
                      <a:pt x="118" y="111"/>
                    </a:lnTo>
                    <a:lnTo>
                      <a:pt x="105" y="96"/>
                    </a:lnTo>
                    <a:lnTo>
                      <a:pt x="91" y="80"/>
                    </a:lnTo>
                    <a:lnTo>
                      <a:pt x="75" y="65"/>
                    </a:lnTo>
                    <a:lnTo>
                      <a:pt x="39" y="38"/>
                    </a:lnTo>
                    <a:lnTo>
                      <a:pt x="0" y="13"/>
                    </a:lnTo>
                    <a:lnTo>
                      <a:pt x="9" y="0"/>
                    </a:lnTo>
                    <a:lnTo>
                      <a:pt x="48" y="27"/>
                    </a:lnTo>
                    <a:lnTo>
                      <a:pt x="85" y="54"/>
                    </a:lnTo>
                    <a:lnTo>
                      <a:pt x="100" y="69"/>
                    </a:lnTo>
                    <a:lnTo>
                      <a:pt x="115" y="85"/>
                    </a:lnTo>
                    <a:lnTo>
                      <a:pt x="129" y="101"/>
                    </a:lnTo>
                    <a:lnTo>
                      <a:pt x="141" y="118"/>
                    </a:lnTo>
                    <a:lnTo>
                      <a:pt x="129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295880" y="4433400"/>
                <a:ext cx="819000" cy="622080"/>
              </a:xfrm>
              <a:custGeom>
                <a:avLst/>
                <a:gdLst/>
                <a:ahLst/>
                <a:rect l="l" t="t" r="r" b="b"/>
                <a:pathLst>
                  <a:path w="1032" h="784">
                    <a:moveTo>
                      <a:pt x="1023" y="784"/>
                    </a:moveTo>
                    <a:lnTo>
                      <a:pt x="889" y="697"/>
                    </a:lnTo>
                    <a:lnTo>
                      <a:pt x="757" y="605"/>
                    </a:lnTo>
                    <a:lnTo>
                      <a:pt x="627" y="511"/>
                    </a:lnTo>
                    <a:lnTo>
                      <a:pt x="500" y="414"/>
                    </a:lnTo>
                    <a:lnTo>
                      <a:pt x="373" y="315"/>
                    </a:lnTo>
                    <a:lnTo>
                      <a:pt x="248" y="215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258" y="204"/>
                    </a:lnTo>
                    <a:lnTo>
                      <a:pt x="383" y="304"/>
                    </a:lnTo>
                    <a:lnTo>
                      <a:pt x="510" y="403"/>
                    </a:lnTo>
                    <a:lnTo>
                      <a:pt x="637" y="500"/>
                    </a:lnTo>
                    <a:lnTo>
                      <a:pt x="765" y="594"/>
                    </a:lnTo>
                    <a:lnTo>
                      <a:pt x="897" y="686"/>
                    </a:lnTo>
                    <a:lnTo>
                      <a:pt x="1032" y="771"/>
                    </a:lnTo>
                    <a:lnTo>
                      <a:pt x="1023" y="7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108400" y="504612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0"/>
                    </a:moveTo>
                    <a:lnTo>
                      <a:pt x="0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925800" y="4433400"/>
                <a:ext cx="378000" cy="315720"/>
              </a:xfrm>
              <a:custGeom>
                <a:avLst/>
                <a:gdLst/>
                <a:ahLst/>
                <a:rect l="l" t="t" r="r" b="b"/>
                <a:pathLst>
                  <a:path w="476" h="397">
                    <a:moveTo>
                      <a:pt x="476" y="11"/>
                    </a:moveTo>
                    <a:lnTo>
                      <a:pt x="361" y="110"/>
                    </a:lnTo>
                    <a:lnTo>
                      <a:pt x="245" y="208"/>
                    </a:lnTo>
                    <a:lnTo>
                      <a:pt x="129" y="303"/>
                    </a:lnTo>
                    <a:lnTo>
                      <a:pt x="10" y="397"/>
                    </a:lnTo>
                    <a:lnTo>
                      <a:pt x="0" y="386"/>
                    </a:lnTo>
                    <a:lnTo>
                      <a:pt x="119" y="292"/>
                    </a:lnTo>
                    <a:lnTo>
                      <a:pt x="235" y="197"/>
                    </a:lnTo>
                    <a:lnTo>
                      <a:pt x="351" y="99"/>
                    </a:lnTo>
                    <a:lnTo>
                      <a:pt x="466" y="0"/>
                    </a:lnTo>
                    <a:lnTo>
                      <a:pt x="47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295880" y="443016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4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10" y="15"/>
                    </a:lnTo>
                    <a:lnTo>
                      <a:pt x="0" y="15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736800" y="4739760"/>
                <a:ext cx="196920" cy="199800"/>
              </a:xfrm>
              <a:custGeom>
                <a:avLst/>
                <a:gdLst/>
                <a:ahLst/>
                <a:rect l="l" t="t" r="r" b="b"/>
                <a:pathLst>
                  <a:path w="248" h="252">
                    <a:moveTo>
                      <a:pt x="248" y="11"/>
                    </a:moveTo>
                    <a:lnTo>
                      <a:pt x="183" y="60"/>
                    </a:lnTo>
                    <a:lnTo>
                      <a:pt x="148" y="90"/>
                    </a:lnTo>
                    <a:lnTo>
                      <a:pt x="114" y="119"/>
                    </a:lnTo>
                    <a:lnTo>
                      <a:pt x="82" y="149"/>
                    </a:lnTo>
                    <a:lnTo>
                      <a:pt x="54" y="184"/>
                    </a:lnTo>
                    <a:lnTo>
                      <a:pt x="31" y="218"/>
                    </a:lnTo>
                    <a:lnTo>
                      <a:pt x="13" y="252"/>
                    </a:lnTo>
                    <a:lnTo>
                      <a:pt x="0" y="246"/>
                    </a:lnTo>
                    <a:lnTo>
                      <a:pt x="18" y="209"/>
                    </a:lnTo>
                    <a:lnTo>
                      <a:pt x="42" y="175"/>
                    </a:lnTo>
                    <a:lnTo>
                      <a:pt x="71" y="140"/>
                    </a:lnTo>
                    <a:lnTo>
                      <a:pt x="104" y="108"/>
                    </a:lnTo>
                    <a:lnTo>
                      <a:pt x="138" y="79"/>
                    </a:lnTo>
                    <a:lnTo>
                      <a:pt x="174" y="49"/>
                    </a:lnTo>
                    <a:lnTo>
                      <a:pt x="238" y="0"/>
                    </a:lnTo>
                    <a:lnTo>
                      <a:pt x="24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925800" y="47397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11"/>
                    </a:moveTo>
                    <a:lnTo>
                      <a:pt x="0" y="0"/>
                    </a:lnTo>
                    <a:lnTo>
                      <a:pt x="1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736800" y="4773240"/>
                <a:ext cx="60480" cy="166320"/>
              </a:xfrm>
              <a:custGeom>
                <a:avLst/>
                <a:gdLst/>
                <a:ahLst/>
                <a:rect l="l" t="t" r="r" b="b"/>
                <a:pathLst>
                  <a:path w="76" h="210">
                    <a:moveTo>
                      <a:pt x="0" y="204"/>
                    </a:moveTo>
                    <a:lnTo>
                      <a:pt x="13" y="210"/>
                    </a:lnTo>
                    <a:lnTo>
                      <a:pt x="76" y="6"/>
                    </a:lnTo>
                    <a:lnTo>
                      <a:pt x="62" y="0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736800" y="493488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6"/>
                    </a:moveTo>
                    <a:lnTo>
                      <a:pt x="0" y="0"/>
                    </a:lnTo>
                    <a:lnTo>
                      <a:pt x="13" y="6"/>
                    </a:lnTo>
                    <a:lnTo>
                      <a:pt x="0" y="0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787920" y="4603320"/>
                <a:ext cx="171360" cy="175680"/>
              </a:xfrm>
              <a:custGeom>
                <a:avLst/>
                <a:gdLst/>
                <a:ahLst/>
                <a:rect l="l" t="t" r="r" b="b"/>
                <a:pathLst>
                  <a:path w="216" h="221">
                    <a:moveTo>
                      <a:pt x="0" y="213"/>
                    </a:moveTo>
                    <a:lnTo>
                      <a:pt x="15" y="182"/>
                    </a:lnTo>
                    <a:lnTo>
                      <a:pt x="37" y="151"/>
                    </a:lnTo>
                    <a:lnTo>
                      <a:pt x="64" y="122"/>
                    </a:lnTo>
                    <a:lnTo>
                      <a:pt x="92" y="95"/>
                    </a:lnTo>
                    <a:lnTo>
                      <a:pt x="122" y="68"/>
                    </a:lnTo>
                    <a:lnTo>
                      <a:pt x="152" y="44"/>
                    </a:lnTo>
                    <a:lnTo>
                      <a:pt x="207" y="0"/>
                    </a:lnTo>
                    <a:lnTo>
                      <a:pt x="216" y="12"/>
                    </a:lnTo>
                    <a:lnTo>
                      <a:pt x="162" y="55"/>
                    </a:lnTo>
                    <a:lnTo>
                      <a:pt x="132" y="79"/>
                    </a:lnTo>
                    <a:lnTo>
                      <a:pt x="102" y="106"/>
                    </a:lnTo>
                    <a:lnTo>
                      <a:pt x="74" y="133"/>
                    </a:lnTo>
                    <a:lnTo>
                      <a:pt x="48" y="161"/>
                    </a:lnTo>
                    <a:lnTo>
                      <a:pt x="28" y="191"/>
                    </a:lnTo>
                    <a:lnTo>
                      <a:pt x="12" y="221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786120" y="477144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1"/>
                    </a:moveTo>
                    <a:lnTo>
                      <a:pt x="2" y="0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52800" y="4331880"/>
                <a:ext cx="336600" cy="280440"/>
              </a:xfrm>
              <a:custGeom>
                <a:avLst/>
                <a:gdLst/>
                <a:ahLst/>
                <a:rect l="l" t="t" r="r" b="b"/>
                <a:pathLst>
                  <a:path w="426" h="355">
                    <a:moveTo>
                      <a:pt x="0" y="344"/>
                    </a:moveTo>
                    <a:lnTo>
                      <a:pt x="107" y="261"/>
                    </a:lnTo>
                    <a:lnTo>
                      <a:pt x="211" y="175"/>
                    </a:lnTo>
                    <a:lnTo>
                      <a:pt x="315" y="89"/>
                    </a:lnTo>
                    <a:lnTo>
                      <a:pt x="416" y="0"/>
                    </a:lnTo>
                    <a:lnTo>
                      <a:pt x="426" y="11"/>
                    </a:lnTo>
                    <a:lnTo>
                      <a:pt x="324" y="100"/>
                    </a:lnTo>
                    <a:lnTo>
                      <a:pt x="220" y="186"/>
                    </a:lnTo>
                    <a:lnTo>
                      <a:pt x="116" y="272"/>
                    </a:lnTo>
                    <a:lnTo>
                      <a:pt x="10" y="355"/>
                    </a:lnTo>
                    <a:lnTo>
                      <a:pt x="0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52800" y="460332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9" y="12"/>
                    </a:moveTo>
                    <a:lnTo>
                      <a:pt x="10" y="1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281480" y="4331880"/>
                <a:ext cx="731880" cy="553680"/>
              </a:xfrm>
              <a:custGeom>
                <a:avLst/>
                <a:gdLst/>
                <a:ahLst/>
                <a:rect l="l" t="t" r="r" b="b"/>
                <a:pathLst>
                  <a:path w="920" h="700">
                    <a:moveTo>
                      <a:pt x="10" y="0"/>
                    </a:moveTo>
                    <a:lnTo>
                      <a:pt x="231" y="183"/>
                    </a:lnTo>
                    <a:lnTo>
                      <a:pt x="455" y="360"/>
                    </a:lnTo>
                    <a:lnTo>
                      <a:pt x="568" y="444"/>
                    </a:lnTo>
                    <a:lnTo>
                      <a:pt x="683" y="529"/>
                    </a:lnTo>
                    <a:lnTo>
                      <a:pt x="801" y="609"/>
                    </a:lnTo>
                    <a:lnTo>
                      <a:pt x="920" y="688"/>
                    </a:lnTo>
                    <a:lnTo>
                      <a:pt x="912" y="700"/>
                    </a:lnTo>
                    <a:lnTo>
                      <a:pt x="792" y="622"/>
                    </a:lnTo>
                    <a:lnTo>
                      <a:pt x="675" y="541"/>
                    </a:lnTo>
                    <a:lnTo>
                      <a:pt x="560" y="457"/>
                    </a:lnTo>
                    <a:lnTo>
                      <a:pt x="445" y="371"/>
                    </a:lnTo>
                    <a:lnTo>
                      <a:pt x="221" y="194"/>
                    </a:lnTo>
                    <a:lnTo>
                      <a:pt x="0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281480" y="432864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3"/>
                    </a:moveTo>
                    <a:lnTo>
                      <a:pt x="5" y="0"/>
                    </a:lnTo>
                    <a:lnTo>
                      <a:pt x="10" y="3"/>
                    </a:lnTo>
                    <a:lnTo>
                      <a:pt x="0" y="14"/>
                    </a:lnTo>
                    <a:lnTo>
                      <a:pt x="10" y="1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005440" y="4876200"/>
                <a:ext cx="111240" cy="112320"/>
              </a:xfrm>
              <a:custGeom>
                <a:avLst/>
                <a:gdLst/>
                <a:ahLst/>
                <a:rect l="l" t="t" r="r" b="b"/>
                <a:pathLst>
                  <a:path w="138" h="142">
                    <a:moveTo>
                      <a:pt x="8" y="0"/>
                    </a:moveTo>
                    <a:lnTo>
                      <a:pt x="51" y="28"/>
                    </a:lnTo>
                    <a:lnTo>
                      <a:pt x="72" y="45"/>
                    </a:lnTo>
                    <a:lnTo>
                      <a:pt x="90" y="61"/>
                    </a:lnTo>
                    <a:lnTo>
                      <a:pt x="107" y="78"/>
                    </a:lnTo>
                    <a:lnTo>
                      <a:pt x="122" y="98"/>
                    </a:lnTo>
                    <a:lnTo>
                      <a:pt x="132" y="117"/>
                    </a:lnTo>
                    <a:lnTo>
                      <a:pt x="138" y="135"/>
                    </a:lnTo>
                    <a:lnTo>
                      <a:pt x="125" y="142"/>
                    </a:lnTo>
                    <a:lnTo>
                      <a:pt x="118" y="123"/>
                    </a:lnTo>
                    <a:lnTo>
                      <a:pt x="110" y="106"/>
                    </a:lnTo>
                    <a:lnTo>
                      <a:pt x="96" y="88"/>
                    </a:lnTo>
                    <a:lnTo>
                      <a:pt x="81" y="72"/>
                    </a:lnTo>
                    <a:lnTo>
                      <a:pt x="62" y="56"/>
                    </a:lnTo>
                    <a:lnTo>
                      <a:pt x="43" y="40"/>
                    </a:lnTo>
                    <a:lnTo>
                      <a:pt x="0" y="1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005440" y="48762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0"/>
                    </a:moveTo>
                    <a:lnTo>
                      <a:pt x="0" y="1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105520" y="4984200"/>
                <a:ext cx="114120" cy="161640"/>
              </a:xfrm>
              <a:custGeom>
                <a:avLst/>
                <a:gdLst/>
                <a:ahLst/>
                <a:rect l="l" t="t" r="r" b="b"/>
                <a:pathLst>
                  <a:path w="143" h="204">
                    <a:moveTo>
                      <a:pt x="12" y="0"/>
                    </a:moveTo>
                    <a:lnTo>
                      <a:pt x="0" y="9"/>
                    </a:lnTo>
                    <a:lnTo>
                      <a:pt x="131" y="204"/>
                    </a:lnTo>
                    <a:lnTo>
                      <a:pt x="143" y="196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105520" y="498420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8"/>
                    </a:moveTo>
                    <a:lnTo>
                      <a:pt x="1" y="9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210280" y="513828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8"/>
                    </a:moveTo>
                    <a:lnTo>
                      <a:pt x="12" y="0"/>
                    </a:lnTo>
                    <a:lnTo>
                      <a:pt x="0" y="8"/>
                    </a:lnTo>
                    <a:lnTo>
                      <a:pt x="1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133800" y="4976280"/>
                <a:ext cx="1339920" cy="512280"/>
              </a:xfrm>
              <a:custGeom>
                <a:avLst/>
                <a:gdLst/>
                <a:ahLst/>
                <a:rect l="l" t="t" r="r" b="b"/>
                <a:pathLst>
                  <a:path w="1687" h="646">
                    <a:moveTo>
                      <a:pt x="144" y="90"/>
                    </a:moveTo>
                    <a:lnTo>
                      <a:pt x="159" y="82"/>
                    </a:lnTo>
                    <a:lnTo>
                      <a:pt x="175" y="74"/>
                    </a:lnTo>
                    <a:lnTo>
                      <a:pt x="192" y="68"/>
                    </a:lnTo>
                    <a:lnTo>
                      <a:pt x="208" y="60"/>
                    </a:lnTo>
                    <a:lnTo>
                      <a:pt x="241" y="48"/>
                    </a:lnTo>
                    <a:lnTo>
                      <a:pt x="257" y="41"/>
                    </a:lnTo>
                    <a:lnTo>
                      <a:pt x="272" y="35"/>
                    </a:lnTo>
                    <a:lnTo>
                      <a:pt x="294" y="25"/>
                    </a:lnTo>
                    <a:lnTo>
                      <a:pt x="315" y="18"/>
                    </a:lnTo>
                    <a:lnTo>
                      <a:pt x="326" y="15"/>
                    </a:lnTo>
                    <a:lnTo>
                      <a:pt x="337" y="11"/>
                    </a:lnTo>
                    <a:lnTo>
                      <a:pt x="358" y="7"/>
                    </a:lnTo>
                    <a:lnTo>
                      <a:pt x="380" y="3"/>
                    </a:lnTo>
                    <a:lnTo>
                      <a:pt x="391" y="2"/>
                    </a:lnTo>
                    <a:lnTo>
                      <a:pt x="402" y="0"/>
                    </a:lnTo>
                    <a:lnTo>
                      <a:pt x="424" y="0"/>
                    </a:lnTo>
                    <a:lnTo>
                      <a:pt x="446" y="0"/>
                    </a:lnTo>
                    <a:lnTo>
                      <a:pt x="467" y="2"/>
                    </a:lnTo>
                    <a:lnTo>
                      <a:pt x="489" y="5"/>
                    </a:lnTo>
                    <a:lnTo>
                      <a:pt x="510" y="10"/>
                    </a:lnTo>
                    <a:lnTo>
                      <a:pt x="532" y="16"/>
                    </a:lnTo>
                    <a:lnTo>
                      <a:pt x="552" y="22"/>
                    </a:lnTo>
                    <a:lnTo>
                      <a:pt x="573" y="32"/>
                    </a:lnTo>
                    <a:lnTo>
                      <a:pt x="593" y="42"/>
                    </a:lnTo>
                    <a:lnTo>
                      <a:pt x="614" y="53"/>
                    </a:lnTo>
                    <a:lnTo>
                      <a:pt x="618" y="57"/>
                    </a:lnTo>
                    <a:lnTo>
                      <a:pt x="622" y="60"/>
                    </a:lnTo>
                    <a:lnTo>
                      <a:pt x="629" y="68"/>
                    </a:lnTo>
                    <a:lnTo>
                      <a:pt x="636" y="76"/>
                    </a:lnTo>
                    <a:lnTo>
                      <a:pt x="640" y="84"/>
                    </a:lnTo>
                    <a:lnTo>
                      <a:pt x="645" y="92"/>
                    </a:lnTo>
                    <a:lnTo>
                      <a:pt x="649" y="99"/>
                    </a:lnTo>
                    <a:lnTo>
                      <a:pt x="651" y="108"/>
                    </a:lnTo>
                    <a:lnTo>
                      <a:pt x="653" y="117"/>
                    </a:lnTo>
                    <a:lnTo>
                      <a:pt x="654" y="125"/>
                    </a:lnTo>
                    <a:lnTo>
                      <a:pt x="654" y="132"/>
                    </a:lnTo>
                    <a:lnTo>
                      <a:pt x="654" y="141"/>
                    </a:lnTo>
                    <a:lnTo>
                      <a:pt x="654" y="150"/>
                    </a:lnTo>
                    <a:lnTo>
                      <a:pt x="653" y="167"/>
                    </a:lnTo>
                    <a:lnTo>
                      <a:pt x="650" y="184"/>
                    </a:lnTo>
                    <a:lnTo>
                      <a:pt x="648" y="200"/>
                    </a:lnTo>
                    <a:lnTo>
                      <a:pt x="647" y="217"/>
                    </a:lnTo>
                    <a:lnTo>
                      <a:pt x="647" y="233"/>
                    </a:lnTo>
                    <a:lnTo>
                      <a:pt x="648" y="240"/>
                    </a:lnTo>
                    <a:lnTo>
                      <a:pt x="649" y="247"/>
                    </a:lnTo>
                    <a:lnTo>
                      <a:pt x="651" y="256"/>
                    </a:lnTo>
                    <a:lnTo>
                      <a:pt x="654" y="263"/>
                    </a:lnTo>
                    <a:lnTo>
                      <a:pt x="658" y="271"/>
                    </a:lnTo>
                    <a:lnTo>
                      <a:pt x="662" y="278"/>
                    </a:lnTo>
                    <a:lnTo>
                      <a:pt x="667" y="284"/>
                    </a:lnTo>
                    <a:lnTo>
                      <a:pt x="675" y="291"/>
                    </a:lnTo>
                    <a:lnTo>
                      <a:pt x="682" y="298"/>
                    </a:lnTo>
                    <a:lnTo>
                      <a:pt x="692" y="305"/>
                    </a:lnTo>
                    <a:lnTo>
                      <a:pt x="711" y="313"/>
                    </a:lnTo>
                    <a:lnTo>
                      <a:pt x="731" y="322"/>
                    </a:lnTo>
                    <a:lnTo>
                      <a:pt x="750" y="331"/>
                    </a:lnTo>
                    <a:lnTo>
                      <a:pt x="770" y="338"/>
                    </a:lnTo>
                    <a:lnTo>
                      <a:pt x="790" y="344"/>
                    </a:lnTo>
                    <a:lnTo>
                      <a:pt x="810" y="349"/>
                    </a:lnTo>
                    <a:lnTo>
                      <a:pt x="830" y="355"/>
                    </a:lnTo>
                    <a:lnTo>
                      <a:pt x="849" y="359"/>
                    </a:lnTo>
                    <a:lnTo>
                      <a:pt x="869" y="362"/>
                    </a:lnTo>
                    <a:lnTo>
                      <a:pt x="889" y="366"/>
                    </a:lnTo>
                    <a:lnTo>
                      <a:pt x="929" y="371"/>
                    </a:lnTo>
                    <a:lnTo>
                      <a:pt x="948" y="372"/>
                    </a:lnTo>
                    <a:lnTo>
                      <a:pt x="969" y="372"/>
                    </a:lnTo>
                    <a:lnTo>
                      <a:pt x="1008" y="372"/>
                    </a:lnTo>
                    <a:lnTo>
                      <a:pt x="1029" y="371"/>
                    </a:lnTo>
                    <a:lnTo>
                      <a:pt x="1049" y="370"/>
                    </a:lnTo>
                    <a:lnTo>
                      <a:pt x="1068" y="368"/>
                    </a:lnTo>
                    <a:lnTo>
                      <a:pt x="1089" y="366"/>
                    </a:lnTo>
                    <a:lnTo>
                      <a:pt x="1129" y="360"/>
                    </a:lnTo>
                    <a:lnTo>
                      <a:pt x="1169" y="351"/>
                    </a:lnTo>
                    <a:lnTo>
                      <a:pt x="1189" y="346"/>
                    </a:lnTo>
                    <a:lnTo>
                      <a:pt x="1209" y="342"/>
                    </a:lnTo>
                    <a:lnTo>
                      <a:pt x="1228" y="337"/>
                    </a:lnTo>
                    <a:lnTo>
                      <a:pt x="1249" y="331"/>
                    </a:lnTo>
                    <a:lnTo>
                      <a:pt x="1269" y="324"/>
                    </a:lnTo>
                    <a:lnTo>
                      <a:pt x="1288" y="318"/>
                    </a:lnTo>
                    <a:lnTo>
                      <a:pt x="1329" y="304"/>
                    </a:lnTo>
                    <a:lnTo>
                      <a:pt x="1343" y="298"/>
                    </a:lnTo>
                    <a:lnTo>
                      <a:pt x="1359" y="290"/>
                    </a:lnTo>
                    <a:lnTo>
                      <a:pt x="1376" y="282"/>
                    </a:lnTo>
                    <a:lnTo>
                      <a:pt x="1393" y="273"/>
                    </a:lnTo>
                    <a:lnTo>
                      <a:pt x="1428" y="252"/>
                    </a:lnTo>
                    <a:lnTo>
                      <a:pt x="1464" y="229"/>
                    </a:lnTo>
                    <a:lnTo>
                      <a:pt x="1499" y="205"/>
                    </a:lnTo>
                    <a:lnTo>
                      <a:pt x="1516" y="192"/>
                    </a:lnTo>
                    <a:lnTo>
                      <a:pt x="1533" y="180"/>
                    </a:lnTo>
                    <a:lnTo>
                      <a:pt x="1549" y="167"/>
                    </a:lnTo>
                    <a:lnTo>
                      <a:pt x="1565" y="153"/>
                    </a:lnTo>
                    <a:lnTo>
                      <a:pt x="1591" y="129"/>
                    </a:lnTo>
                    <a:lnTo>
                      <a:pt x="1615" y="146"/>
                    </a:lnTo>
                    <a:lnTo>
                      <a:pt x="1624" y="156"/>
                    </a:lnTo>
                    <a:lnTo>
                      <a:pt x="1634" y="164"/>
                    </a:lnTo>
                    <a:lnTo>
                      <a:pt x="1643" y="173"/>
                    </a:lnTo>
                    <a:lnTo>
                      <a:pt x="1650" y="181"/>
                    </a:lnTo>
                    <a:lnTo>
                      <a:pt x="1657" y="191"/>
                    </a:lnTo>
                    <a:lnTo>
                      <a:pt x="1664" y="200"/>
                    </a:lnTo>
                    <a:lnTo>
                      <a:pt x="1668" y="208"/>
                    </a:lnTo>
                    <a:lnTo>
                      <a:pt x="1673" y="217"/>
                    </a:lnTo>
                    <a:lnTo>
                      <a:pt x="1681" y="234"/>
                    </a:lnTo>
                    <a:lnTo>
                      <a:pt x="1686" y="251"/>
                    </a:lnTo>
                    <a:lnTo>
                      <a:pt x="1687" y="260"/>
                    </a:lnTo>
                    <a:lnTo>
                      <a:pt x="1687" y="268"/>
                    </a:lnTo>
                    <a:lnTo>
                      <a:pt x="1687" y="277"/>
                    </a:lnTo>
                    <a:lnTo>
                      <a:pt x="1687" y="284"/>
                    </a:lnTo>
                    <a:lnTo>
                      <a:pt x="1684" y="301"/>
                    </a:lnTo>
                    <a:lnTo>
                      <a:pt x="1682" y="309"/>
                    </a:lnTo>
                    <a:lnTo>
                      <a:pt x="1679" y="317"/>
                    </a:lnTo>
                    <a:lnTo>
                      <a:pt x="1676" y="326"/>
                    </a:lnTo>
                    <a:lnTo>
                      <a:pt x="1672" y="333"/>
                    </a:lnTo>
                    <a:lnTo>
                      <a:pt x="1668" y="342"/>
                    </a:lnTo>
                    <a:lnTo>
                      <a:pt x="1664" y="349"/>
                    </a:lnTo>
                    <a:lnTo>
                      <a:pt x="1653" y="364"/>
                    </a:lnTo>
                    <a:lnTo>
                      <a:pt x="1646" y="372"/>
                    </a:lnTo>
                    <a:lnTo>
                      <a:pt x="1640" y="379"/>
                    </a:lnTo>
                    <a:lnTo>
                      <a:pt x="1627" y="394"/>
                    </a:lnTo>
                    <a:lnTo>
                      <a:pt x="1612" y="408"/>
                    </a:lnTo>
                    <a:lnTo>
                      <a:pt x="1596" y="422"/>
                    </a:lnTo>
                    <a:lnTo>
                      <a:pt x="1579" y="436"/>
                    </a:lnTo>
                    <a:lnTo>
                      <a:pt x="1561" y="449"/>
                    </a:lnTo>
                    <a:lnTo>
                      <a:pt x="1543" y="461"/>
                    </a:lnTo>
                    <a:lnTo>
                      <a:pt x="1524" y="474"/>
                    </a:lnTo>
                    <a:lnTo>
                      <a:pt x="1503" y="486"/>
                    </a:lnTo>
                    <a:lnTo>
                      <a:pt x="1484" y="497"/>
                    </a:lnTo>
                    <a:lnTo>
                      <a:pt x="1444" y="518"/>
                    </a:lnTo>
                    <a:lnTo>
                      <a:pt x="1404" y="537"/>
                    </a:lnTo>
                    <a:lnTo>
                      <a:pt x="1365" y="553"/>
                    </a:lnTo>
                    <a:lnTo>
                      <a:pt x="1330" y="568"/>
                    </a:lnTo>
                    <a:lnTo>
                      <a:pt x="1286" y="584"/>
                    </a:lnTo>
                    <a:lnTo>
                      <a:pt x="1241" y="598"/>
                    </a:lnTo>
                    <a:lnTo>
                      <a:pt x="1219" y="604"/>
                    </a:lnTo>
                    <a:lnTo>
                      <a:pt x="1195" y="611"/>
                    </a:lnTo>
                    <a:lnTo>
                      <a:pt x="1151" y="622"/>
                    </a:lnTo>
                    <a:lnTo>
                      <a:pt x="1128" y="626"/>
                    </a:lnTo>
                    <a:lnTo>
                      <a:pt x="1106" y="631"/>
                    </a:lnTo>
                    <a:lnTo>
                      <a:pt x="1084" y="635"/>
                    </a:lnTo>
                    <a:lnTo>
                      <a:pt x="1061" y="637"/>
                    </a:lnTo>
                    <a:lnTo>
                      <a:pt x="1039" y="640"/>
                    </a:lnTo>
                    <a:lnTo>
                      <a:pt x="1016" y="642"/>
                    </a:lnTo>
                    <a:lnTo>
                      <a:pt x="994" y="644"/>
                    </a:lnTo>
                    <a:lnTo>
                      <a:pt x="972" y="645"/>
                    </a:lnTo>
                    <a:lnTo>
                      <a:pt x="948" y="646"/>
                    </a:lnTo>
                    <a:lnTo>
                      <a:pt x="926" y="645"/>
                    </a:lnTo>
                    <a:lnTo>
                      <a:pt x="904" y="645"/>
                    </a:lnTo>
                    <a:lnTo>
                      <a:pt x="881" y="642"/>
                    </a:lnTo>
                    <a:lnTo>
                      <a:pt x="859" y="641"/>
                    </a:lnTo>
                    <a:lnTo>
                      <a:pt x="837" y="637"/>
                    </a:lnTo>
                    <a:lnTo>
                      <a:pt x="815" y="635"/>
                    </a:lnTo>
                    <a:lnTo>
                      <a:pt x="792" y="630"/>
                    </a:lnTo>
                    <a:lnTo>
                      <a:pt x="770" y="625"/>
                    </a:lnTo>
                    <a:lnTo>
                      <a:pt x="748" y="619"/>
                    </a:lnTo>
                    <a:lnTo>
                      <a:pt x="726" y="613"/>
                    </a:lnTo>
                    <a:lnTo>
                      <a:pt x="704" y="606"/>
                    </a:lnTo>
                    <a:lnTo>
                      <a:pt x="682" y="598"/>
                    </a:lnTo>
                    <a:lnTo>
                      <a:pt x="660" y="589"/>
                    </a:lnTo>
                    <a:lnTo>
                      <a:pt x="638" y="580"/>
                    </a:lnTo>
                    <a:lnTo>
                      <a:pt x="616" y="569"/>
                    </a:lnTo>
                    <a:lnTo>
                      <a:pt x="605" y="562"/>
                    </a:lnTo>
                    <a:lnTo>
                      <a:pt x="596" y="554"/>
                    </a:lnTo>
                    <a:lnTo>
                      <a:pt x="589" y="547"/>
                    </a:lnTo>
                    <a:lnTo>
                      <a:pt x="585" y="543"/>
                    </a:lnTo>
                    <a:lnTo>
                      <a:pt x="582" y="538"/>
                    </a:lnTo>
                    <a:lnTo>
                      <a:pt x="577" y="531"/>
                    </a:lnTo>
                    <a:lnTo>
                      <a:pt x="573" y="523"/>
                    </a:lnTo>
                    <a:lnTo>
                      <a:pt x="570" y="514"/>
                    </a:lnTo>
                    <a:lnTo>
                      <a:pt x="567" y="505"/>
                    </a:lnTo>
                    <a:lnTo>
                      <a:pt x="566" y="497"/>
                    </a:lnTo>
                    <a:lnTo>
                      <a:pt x="565" y="488"/>
                    </a:lnTo>
                    <a:lnTo>
                      <a:pt x="565" y="470"/>
                    </a:lnTo>
                    <a:lnTo>
                      <a:pt x="567" y="452"/>
                    </a:lnTo>
                    <a:lnTo>
                      <a:pt x="570" y="433"/>
                    </a:lnTo>
                    <a:lnTo>
                      <a:pt x="572" y="414"/>
                    </a:lnTo>
                    <a:lnTo>
                      <a:pt x="573" y="395"/>
                    </a:lnTo>
                    <a:lnTo>
                      <a:pt x="573" y="386"/>
                    </a:lnTo>
                    <a:lnTo>
                      <a:pt x="573" y="377"/>
                    </a:lnTo>
                    <a:lnTo>
                      <a:pt x="572" y="357"/>
                    </a:lnTo>
                    <a:lnTo>
                      <a:pt x="570" y="349"/>
                    </a:lnTo>
                    <a:lnTo>
                      <a:pt x="567" y="339"/>
                    </a:lnTo>
                    <a:lnTo>
                      <a:pt x="563" y="331"/>
                    </a:lnTo>
                    <a:lnTo>
                      <a:pt x="559" y="321"/>
                    </a:lnTo>
                    <a:lnTo>
                      <a:pt x="552" y="312"/>
                    </a:lnTo>
                    <a:lnTo>
                      <a:pt x="545" y="304"/>
                    </a:lnTo>
                    <a:lnTo>
                      <a:pt x="538" y="295"/>
                    </a:lnTo>
                    <a:lnTo>
                      <a:pt x="528" y="287"/>
                    </a:lnTo>
                    <a:lnTo>
                      <a:pt x="516" y="280"/>
                    </a:lnTo>
                    <a:lnTo>
                      <a:pt x="505" y="274"/>
                    </a:lnTo>
                    <a:lnTo>
                      <a:pt x="482" y="263"/>
                    </a:lnTo>
                    <a:lnTo>
                      <a:pt x="458" y="254"/>
                    </a:lnTo>
                    <a:lnTo>
                      <a:pt x="435" y="245"/>
                    </a:lnTo>
                    <a:lnTo>
                      <a:pt x="412" y="239"/>
                    </a:lnTo>
                    <a:lnTo>
                      <a:pt x="387" y="233"/>
                    </a:lnTo>
                    <a:lnTo>
                      <a:pt x="363" y="230"/>
                    </a:lnTo>
                    <a:lnTo>
                      <a:pt x="338" y="228"/>
                    </a:lnTo>
                    <a:lnTo>
                      <a:pt x="315" y="228"/>
                    </a:lnTo>
                    <a:lnTo>
                      <a:pt x="291" y="228"/>
                    </a:lnTo>
                    <a:lnTo>
                      <a:pt x="266" y="230"/>
                    </a:lnTo>
                    <a:lnTo>
                      <a:pt x="242" y="235"/>
                    </a:lnTo>
                    <a:lnTo>
                      <a:pt x="217" y="240"/>
                    </a:lnTo>
                    <a:lnTo>
                      <a:pt x="205" y="244"/>
                    </a:lnTo>
                    <a:lnTo>
                      <a:pt x="193" y="247"/>
                    </a:lnTo>
                    <a:lnTo>
                      <a:pt x="181" y="251"/>
                    </a:lnTo>
                    <a:lnTo>
                      <a:pt x="169" y="256"/>
                    </a:lnTo>
                    <a:lnTo>
                      <a:pt x="145" y="266"/>
                    </a:lnTo>
                    <a:lnTo>
                      <a:pt x="127" y="274"/>
                    </a:lnTo>
                    <a:lnTo>
                      <a:pt x="109" y="282"/>
                    </a:lnTo>
                    <a:lnTo>
                      <a:pt x="72" y="295"/>
                    </a:lnTo>
                    <a:lnTo>
                      <a:pt x="54" y="302"/>
                    </a:lnTo>
                    <a:lnTo>
                      <a:pt x="35" y="311"/>
                    </a:lnTo>
                    <a:lnTo>
                      <a:pt x="18" y="320"/>
                    </a:lnTo>
                    <a:lnTo>
                      <a:pt x="0" y="328"/>
                    </a:lnTo>
                    <a:lnTo>
                      <a:pt x="144" y="9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246480" y="4998600"/>
                <a:ext cx="106200" cy="53640"/>
              </a:xfrm>
              <a:custGeom>
                <a:avLst/>
                <a:gdLst/>
                <a:ahLst/>
                <a:rect l="l" t="t" r="r" b="b"/>
                <a:pathLst>
                  <a:path w="135" h="68">
                    <a:moveTo>
                      <a:pt x="0" y="55"/>
                    </a:moveTo>
                    <a:lnTo>
                      <a:pt x="31" y="39"/>
                    </a:lnTo>
                    <a:lnTo>
                      <a:pt x="64" y="25"/>
                    </a:lnTo>
                    <a:lnTo>
                      <a:pt x="129" y="0"/>
                    </a:lnTo>
                    <a:lnTo>
                      <a:pt x="135" y="13"/>
                    </a:lnTo>
                    <a:lnTo>
                      <a:pt x="70" y="39"/>
                    </a:lnTo>
                    <a:lnTo>
                      <a:pt x="37" y="52"/>
                    </a:lnTo>
                    <a:lnTo>
                      <a:pt x="7" y="68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48000" y="4970160"/>
                <a:ext cx="274680" cy="53280"/>
              </a:xfrm>
              <a:custGeom>
                <a:avLst/>
                <a:gdLst/>
                <a:ahLst/>
                <a:rect l="l" t="t" r="r" b="b"/>
                <a:pathLst>
                  <a:path w="347" h="67">
                    <a:moveTo>
                      <a:pt x="0" y="36"/>
                    </a:moveTo>
                    <a:lnTo>
                      <a:pt x="21" y="26"/>
                    </a:lnTo>
                    <a:lnTo>
                      <a:pt x="45" y="17"/>
                    </a:lnTo>
                    <a:lnTo>
                      <a:pt x="88" y="6"/>
                    </a:lnTo>
                    <a:lnTo>
                      <a:pt x="133" y="0"/>
                    </a:lnTo>
                    <a:lnTo>
                      <a:pt x="176" y="0"/>
                    </a:lnTo>
                    <a:lnTo>
                      <a:pt x="221" y="5"/>
                    </a:lnTo>
                    <a:lnTo>
                      <a:pt x="264" y="16"/>
                    </a:lnTo>
                    <a:lnTo>
                      <a:pt x="307" y="32"/>
                    </a:lnTo>
                    <a:lnTo>
                      <a:pt x="347" y="54"/>
                    </a:lnTo>
                    <a:lnTo>
                      <a:pt x="341" y="67"/>
                    </a:lnTo>
                    <a:lnTo>
                      <a:pt x="301" y="45"/>
                    </a:lnTo>
                    <a:lnTo>
                      <a:pt x="258" y="29"/>
                    </a:lnTo>
                    <a:lnTo>
                      <a:pt x="219" y="20"/>
                    </a:lnTo>
                    <a:lnTo>
                      <a:pt x="175" y="15"/>
                    </a:lnTo>
                    <a:lnTo>
                      <a:pt x="133" y="15"/>
                    </a:lnTo>
                    <a:lnTo>
                      <a:pt x="90" y="21"/>
                    </a:lnTo>
                    <a:lnTo>
                      <a:pt x="47" y="32"/>
                    </a:lnTo>
                    <a:lnTo>
                      <a:pt x="27" y="39"/>
                    </a:lnTo>
                    <a:lnTo>
                      <a:pt x="6" y="49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348000" y="499860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3"/>
                    </a:moveTo>
                    <a:lnTo>
                      <a:pt x="0" y="0"/>
                    </a:lnTo>
                    <a:lnTo>
                      <a:pt x="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618000" y="5014440"/>
                <a:ext cx="68040" cy="207720"/>
              </a:xfrm>
              <a:custGeom>
                <a:avLst/>
                <a:gdLst/>
                <a:ahLst/>
                <a:rect l="l" t="t" r="r" b="b"/>
                <a:pathLst>
                  <a:path w="86" h="263">
                    <a:moveTo>
                      <a:pt x="9" y="0"/>
                    </a:moveTo>
                    <a:lnTo>
                      <a:pt x="25" y="15"/>
                    </a:lnTo>
                    <a:lnTo>
                      <a:pt x="33" y="25"/>
                    </a:lnTo>
                    <a:lnTo>
                      <a:pt x="38" y="33"/>
                    </a:lnTo>
                    <a:lnTo>
                      <a:pt x="45" y="49"/>
                    </a:lnTo>
                    <a:lnTo>
                      <a:pt x="51" y="67"/>
                    </a:lnTo>
                    <a:lnTo>
                      <a:pt x="52" y="84"/>
                    </a:lnTo>
                    <a:lnTo>
                      <a:pt x="52" y="102"/>
                    </a:lnTo>
                    <a:lnTo>
                      <a:pt x="49" y="135"/>
                    </a:lnTo>
                    <a:lnTo>
                      <a:pt x="45" y="168"/>
                    </a:lnTo>
                    <a:lnTo>
                      <a:pt x="45" y="185"/>
                    </a:lnTo>
                    <a:lnTo>
                      <a:pt x="47" y="198"/>
                    </a:lnTo>
                    <a:lnTo>
                      <a:pt x="51" y="213"/>
                    </a:lnTo>
                    <a:lnTo>
                      <a:pt x="60" y="226"/>
                    </a:lnTo>
                    <a:lnTo>
                      <a:pt x="71" y="239"/>
                    </a:lnTo>
                    <a:lnTo>
                      <a:pt x="86" y="251"/>
                    </a:lnTo>
                    <a:lnTo>
                      <a:pt x="78" y="263"/>
                    </a:lnTo>
                    <a:lnTo>
                      <a:pt x="61" y="250"/>
                    </a:lnTo>
                    <a:lnTo>
                      <a:pt x="47" y="235"/>
                    </a:lnTo>
                    <a:lnTo>
                      <a:pt x="38" y="219"/>
                    </a:lnTo>
                    <a:lnTo>
                      <a:pt x="33" y="201"/>
                    </a:lnTo>
                    <a:lnTo>
                      <a:pt x="30" y="186"/>
                    </a:lnTo>
                    <a:lnTo>
                      <a:pt x="30" y="168"/>
                    </a:lnTo>
                    <a:lnTo>
                      <a:pt x="34" y="133"/>
                    </a:lnTo>
                    <a:lnTo>
                      <a:pt x="38" y="102"/>
                    </a:lnTo>
                    <a:lnTo>
                      <a:pt x="38" y="84"/>
                    </a:lnTo>
                    <a:lnTo>
                      <a:pt x="36" y="70"/>
                    </a:lnTo>
                    <a:lnTo>
                      <a:pt x="31" y="55"/>
                    </a:lnTo>
                    <a:lnTo>
                      <a:pt x="24" y="39"/>
                    </a:lnTo>
                    <a:lnTo>
                      <a:pt x="20" y="33"/>
                    </a:lnTo>
                    <a:lnTo>
                      <a:pt x="14" y="25"/>
                    </a:lnTo>
                    <a:lnTo>
                      <a:pt x="0" y="1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618000" y="5013000"/>
                <a:ext cx="7920" cy="104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7" y="0"/>
                    </a:moveTo>
                    <a:lnTo>
                      <a:pt x="9" y="1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681360" y="5211360"/>
                <a:ext cx="509760" cy="64800"/>
              </a:xfrm>
              <a:custGeom>
                <a:avLst/>
                <a:gdLst/>
                <a:ahLst/>
                <a:rect l="l" t="t" r="r" b="b"/>
                <a:pathLst>
                  <a:path w="643" h="81">
                    <a:moveTo>
                      <a:pt x="6" y="1"/>
                    </a:moveTo>
                    <a:lnTo>
                      <a:pt x="45" y="18"/>
                    </a:lnTo>
                    <a:lnTo>
                      <a:pt x="84" y="33"/>
                    </a:lnTo>
                    <a:lnTo>
                      <a:pt x="163" y="53"/>
                    </a:lnTo>
                    <a:lnTo>
                      <a:pt x="202" y="61"/>
                    </a:lnTo>
                    <a:lnTo>
                      <a:pt x="241" y="64"/>
                    </a:lnTo>
                    <a:lnTo>
                      <a:pt x="281" y="67"/>
                    </a:lnTo>
                    <a:lnTo>
                      <a:pt x="320" y="67"/>
                    </a:lnTo>
                    <a:lnTo>
                      <a:pt x="361" y="64"/>
                    </a:lnTo>
                    <a:lnTo>
                      <a:pt x="401" y="61"/>
                    </a:lnTo>
                    <a:lnTo>
                      <a:pt x="439" y="55"/>
                    </a:lnTo>
                    <a:lnTo>
                      <a:pt x="479" y="46"/>
                    </a:lnTo>
                    <a:lnTo>
                      <a:pt x="559" y="26"/>
                    </a:lnTo>
                    <a:lnTo>
                      <a:pt x="638" y="0"/>
                    </a:lnTo>
                    <a:lnTo>
                      <a:pt x="643" y="13"/>
                    </a:lnTo>
                    <a:lnTo>
                      <a:pt x="564" y="40"/>
                    </a:lnTo>
                    <a:lnTo>
                      <a:pt x="482" y="61"/>
                    </a:lnTo>
                    <a:lnTo>
                      <a:pt x="441" y="69"/>
                    </a:lnTo>
                    <a:lnTo>
                      <a:pt x="402" y="75"/>
                    </a:lnTo>
                    <a:lnTo>
                      <a:pt x="361" y="79"/>
                    </a:lnTo>
                    <a:lnTo>
                      <a:pt x="320" y="81"/>
                    </a:lnTo>
                    <a:lnTo>
                      <a:pt x="281" y="81"/>
                    </a:lnTo>
                    <a:lnTo>
                      <a:pt x="240" y="79"/>
                    </a:lnTo>
                    <a:lnTo>
                      <a:pt x="199" y="75"/>
                    </a:lnTo>
                    <a:lnTo>
                      <a:pt x="160" y="68"/>
                    </a:lnTo>
                    <a:lnTo>
                      <a:pt x="78" y="46"/>
                    </a:lnTo>
                    <a:lnTo>
                      <a:pt x="39" y="31"/>
                    </a:lnTo>
                    <a:lnTo>
                      <a:pt x="0" y="14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679920" y="521280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0" y="12"/>
                    </a:moveTo>
                    <a:lnTo>
                      <a:pt x="1" y="13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186080" y="50731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271" h="187">
                    <a:moveTo>
                      <a:pt x="0" y="174"/>
                    </a:moveTo>
                    <a:lnTo>
                      <a:pt x="31" y="160"/>
                    </a:lnTo>
                    <a:lnTo>
                      <a:pt x="65" y="143"/>
                    </a:lnTo>
                    <a:lnTo>
                      <a:pt x="98" y="122"/>
                    </a:lnTo>
                    <a:lnTo>
                      <a:pt x="134" y="99"/>
                    </a:lnTo>
                    <a:lnTo>
                      <a:pt x="169" y="75"/>
                    </a:lnTo>
                    <a:lnTo>
                      <a:pt x="203" y="50"/>
                    </a:lnTo>
                    <a:lnTo>
                      <a:pt x="233" y="24"/>
                    </a:lnTo>
                    <a:lnTo>
                      <a:pt x="262" y="0"/>
                    </a:lnTo>
                    <a:lnTo>
                      <a:pt x="271" y="11"/>
                    </a:lnTo>
                    <a:lnTo>
                      <a:pt x="243" y="35"/>
                    </a:lnTo>
                    <a:lnTo>
                      <a:pt x="213" y="61"/>
                    </a:lnTo>
                    <a:lnTo>
                      <a:pt x="177" y="87"/>
                    </a:lnTo>
                    <a:lnTo>
                      <a:pt x="143" y="111"/>
                    </a:lnTo>
                    <a:lnTo>
                      <a:pt x="106" y="134"/>
                    </a:lnTo>
                    <a:lnTo>
                      <a:pt x="71" y="156"/>
                    </a:lnTo>
                    <a:lnTo>
                      <a:pt x="37" y="174"/>
                    </a:lnTo>
                    <a:lnTo>
                      <a:pt x="6" y="187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186080" y="5211360"/>
                <a:ext cx="5040" cy="108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3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187880" y="5073120"/>
                <a:ext cx="291960" cy="358560"/>
              </a:xfrm>
              <a:custGeom>
                <a:avLst/>
                <a:gdLst/>
                <a:ahLst/>
                <a:rect l="l" t="t" r="r" b="b"/>
                <a:pathLst>
                  <a:path w="368" h="451">
                    <a:moveTo>
                      <a:pt x="270" y="0"/>
                    </a:moveTo>
                    <a:lnTo>
                      <a:pt x="294" y="17"/>
                    </a:lnTo>
                    <a:lnTo>
                      <a:pt x="313" y="35"/>
                    </a:lnTo>
                    <a:lnTo>
                      <a:pt x="329" y="52"/>
                    </a:lnTo>
                    <a:lnTo>
                      <a:pt x="344" y="72"/>
                    </a:lnTo>
                    <a:lnTo>
                      <a:pt x="353" y="90"/>
                    </a:lnTo>
                    <a:lnTo>
                      <a:pt x="361" y="108"/>
                    </a:lnTo>
                    <a:lnTo>
                      <a:pt x="367" y="126"/>
                    </a:lnTo>
                    <a:lnTo>
                      <a:pt x="368" y="144"/>
                    </a:lnTo>
                    <a:lnTo>
                      <a:pt x="366" y="177"/>
                    </a:lnTo>
                    <a:lnTo>
                      <a:pt x="360" y="197"/>
                    </a:lnTo>
                    <a:lnTo>
                      <a:pt x="352" y="213"/>
                    </a:lnTo>
                    <a:lnTo>
                      <a:pt x="344" y="230"/>
                    </a:lnTo>
                    <a:lnTo>
                      <a:pt x="331" y="244"/>
                    </a:lnTo>
                    <a:lnTo>
                      <a:pt x="306" y="275"/>
                    </a:lnTo>
                    <a:lnTo>
                      <a:pt x="275" y="304"/>
                    </a:lnTo>
                    <a:lnTo>
                      <a:pt x="240" y="330"/>
                    </a:lnTo>
                    <a:lnTo>
                      <a:pt x="201" y="356"/>
                    </a:lnTo>
                    <a:lnTo>
                      <a:pt x="162" y="379"/>
                    </a:lnTo>
                    <a:lnTo>
                      <a:pt x="81" y="419"/>
                    </a:lnTo>
                    <a:lnTo>
                      <a:pt x="42" y="436"/>
                    </a:lnTo>
                    <a:lnTo>
                      <a:pt x="6" y="451"/>
                    </a:lnTo>
                    <a:lnTo>
                      <a:pt x="0" y="438"/>
                    </a:lnTo>
                    <a:lnTo>
                      <a:pt x="36" y="423"/>
                    </a:lnTo>
                    <a:lnTo>
                      <a:pt x="74" y="407"/>
                    </a:lnTo>
                    <a:lnTo>
                      <a:pt x="153" y="367"/>
                    </a:lnTo>
                    <a:lnTo>
                      <a:pt x="192" y="344"/>
                    </a:lnTo>
                    <a:lnTo>
                      <a:pt x="230" y="319"/>
                    </a:lnTo>
                    <a:lnTo>
                      <a:pt x="265" y="293"/>
                    </a:lnTo>
                    <a:lnTo>
                      <a:pt x="295" y="265"/>
                    </a:lnTo>
                    <a:lnTo>
                      <a:pt x="320" y="235"/>
                    </a:lnTo>
                    <a:lnTo>
                      <a:pt x="331" y="221"/>
                    </a:lnTo>
                    <a:lnTo>
                      <a:pt x="339" y="207"/>
                    </a:lnTo>
                    <a:lnTo>
                      <a:pt x="346" y="191"/>
                    </a:lnTo>
                    <a:lnTo>
                      <a:pt x="351" y="176"/>
                    </a:lnTo>
                    <a:lnTo>
                      <a:pt x="353" y="144"/>
                    </a:lnTo>
                    <a:lnTo>
                      <a:pt x="352" y="128"/>
                    </a:lnTo>
                    <a:lnTo>
                      <a:pt x="347" y="114"/>
                    </a:lnTo>
                    <a:lnTo>
                      <a:pt x="340" y="97"/>
                    </a:lnTo>
                    <a:lnTo>
                      <a:pt x="331" y="81"/>
                    </a:lnTo>
                    <a:lnTo>
                      <a:pt x="318" y="62"/>
                    </a:lnTo>
                    <a:lnTo>
                      <a:pt x="303" y="46"/>
                    </a:lnTo>
                    <a:lnTo>
                      <a:pt x="284" y="28"/>
                    </a:lnTo>
                    <a:lnTo>
                      <a:pt x="261" y="11"/>
                    </a:lnTo>
                    <a:lnTo>
                      <a:pt x="2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394160" y="50716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4"/>
                    </a:moveTo>
                    <a:lnTo>
                      <a:pt x="4" y="0"/>
                    </a:lnTo>
                    <a:lnTo>
                      <a:pt x="9" y="4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19440" y="5420880"/>
                <a:ext cx="573120" cy="72720"/>
              </a:xfrm>
              <a:custGeom>
                <a:avLst/>
                <a:gdLst/>
                <a:ahLst/>
                <a:rect l="l" t="t" r="r" b="b"/>
                <a:pathLst>
                  <a:path w="721" h="90">
                    <a:moveTo>
                      <a:pt x="721" y="13"/>
                    </a:moveTo>
                    <a:lnTo>
                      <a:pt x="632" y="44"/>
                    </a:lnTo>
                    <a:lnTo>
                      <a:pt x="587" y="56"/>
                    </a:lnTo>
                    <a:lnTo>
                      <a:pt x="543" y="67"/>
                    </a:lnTo>
                    <a:lnTo>
                      <a:pt x="496" y="75"/>
                    </a:lnTo>
                    <a:lnTo>
                      <a:pt x="451" y="83"/>
                    </a:lnTo>
                    <a:lnTo>
                      <a:pt x="362" y="90"/>
                    </a:lnTo>
                    <a:lnTo>
                      <a:pt x="315" y="90"/>
                    </a:lnTo>
                    <a:lnTo>
                      <a:pt x="270" y="88"/>
                    </a:lnTo>
                    <a:lnTo>
                      <a:pt x="225" y="83"/>
                    </a:lnTo>
                    <a:lnTo>
                      <a:pt x="179" y="75"/>
                    </a:lnTo>
                    <a:lnTo>
                      <a:pt x="135" y="64"/>
                    </a:lnTo>
                    <a:lnTo>
                      <a:pt x="91" y="51"/>
                    </a:lnTo>
                    <a:lnTo>
                      <a:pt x="44" y="34"/>
                    </a:lnTo>
                    <a:lnTo>
                      <a:pt x="0" y="13"/>
                    </a:lnTo>
                    <a:lnTo>
                      <a:pt x="6" y="1"/>
                    </a:lnTo>
                    <a:lnTo>
                      <a:pt x="50" y="20"/>
                    </a:lnTo>
                    <a:lnTo>
                      <a:pt x="95" y="38"/>
                    </a:lnTo>
                    <a:lnTo>
                      <a:pt x="139" y="51"/>
                    </a:lnTo>
                    <a:lnTo>
                      <a:pt x="182" y="62"/>
                    </a:lnTo>
                    <a:lnTo>
                      <a:pt x="227" y="69"/>
                    </a:lnTo>
                    <a:lnTo>
                      <a:pt x="270" y="74"/>
                    </a:lnTo>
                    <a:lnTo>
                      <a:pt x="315" y="77"/>
                    </a:lnTo>
                    <a:lnTo>
                      <a:pt x="359" y="77"/>
                    </a:lnTo>
                    <a:lnTo>
                      <a:pt x="449" y="69"/>
                    </a:lnTo>
                    <a:lnTo>
                      <a:pt x="493" y="62"/>
                    </a:lnTo>
                    <a:lnTo>
                      <a:pt x="538" y="53"/>
                    </a:lnTo>
                    <a:lnTo>
                      <a:pt x="582" y="42"/>
                    </a:lnTo>
                    <a:lnTo>
                      <a:pt x="626" y="30"/>
                    </a:lnTo>
                    <a:lnTo>
                      <a:pt x="715" y="0"/>
                    </a:lnTo>
                    <a:lnTo>
                      <a:pt x="72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187880" y="542088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3"/>
                    </a:moveTo>
                    <a:lnTo>
                      <a:pt x="0" y="0"/>
                    </a:lnTo>
                    <a:lnTo>
                      <a:pt x="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548160" y="5198760"/>
                <a:ext cx="77760" cy="23292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88" y="293"/>
                    </a:moveTo>
                    <a:lnTo>
                      <a:pt x="70" y="278"/>
                    </a:lnTo>
                    <a:lnTo>
                      <a:pt x="54" y="261"/>
                    </a:lnTo>
                    <a:lnTo>
                      <a:pt x="45" y="244"/>
                    </a:lnTo>
                    <a:lnTo>
                      <a:pt x="38" y="226"/>
                    </a:lnTo>
                    <a:lnTo>
                      <a:pt x="35" y="206"/>
                    </a:lnTo>
                    <a:lnTo>
                      <a:pt x="35" y="187"/>
                    </a:lnTo>
                    <a:lnTo>
                      <a:pt x="39" y="150"/>
                    </a:lnTo>
                    <a:lnTo>
                      <a:pt x="44" y="112"/>
                    </a:lnTo>
                    <a:lnTo>
                      <a:pt x="44" y="94"/>
                    </a:lnTo>
                    <a:lnTo>
                      <a:pt x="43" y="78"/>
                    </a:lnTo>
                    <a:lnTo>
                      <a:pt x="38" y="61"/>
                    </a:lnTo>
                    <a:lnTo>
                      <a:pt x="30" y="42"/>
                    </a:lnTo>
                    <a:lnTo>
                      <a:pt x="24" y="35"/>
                    </a:lnTo>
                    <a:lnTo>
                      <a:pt x="18" y="28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28" y="17"/>
                    </a:lnTo>
                    <a:lnTo>
                      <a:pt x="35" y="25"/>
                    </a:lnTo>
                    <a:lnTo>
                      <a:pt x="43" y="35"/>
                    </a:lnTo>
                    <a:lnTo>
                      <a:pt x="51" y="55"/>
                    </a:lnTo>
                    <a:lnTo>
                      <a:pt x="56" y="74"/>
                    </a:lnTo>
                    <a:lnTo>
                      <a:pt x="57" y="94"/>
                    </a:lnTo>
                    <a:lnTo>
                      <a:pt x="57" y="115"/>
                    </a:lnTo>
                    <a:lnTo>
                      <a:pt x="52" y="153"/>
                    </a:lnTo>
                    <a:lnTo>
                      <a:pt x="49" y="189"/>
                    </a:lnTo>
                    <a:lnTo>
                      <a:pt x="49" y="206"/>
                    </a:lnTo>
                    <a:lnTo>
                      <a:pt x="51" y="222"/>
                    </a:lnTo>
                    <a:lnTo>
                      <a:pt x="57" y="238"/>
                    </a:lnTo>
                    <a:lnTo>
                      <a:pt x="65" y="253"/>
                    </a:lnTo>
                    <a:lnTo>
                      <a:pt x="79" y="267"/>
                    </a:lnTo>
                    <a:lnTo>
                      <a:pt x="98" y="282"/>
                    </a:lnTo>
                    <a:lnTo>
                      <a:pt x="88" y="2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18000" y="54223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" y="12"/>
                    </a:moveTo>
                    <a:lnTo>
                      <a:pt x="0" y="12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246480" y="5150880"/>
                <a:ext cx="309600" cy="56880"/>
              </a:xfrm>
              <a:custGeom>
                <a:avLst/>
                <a:gdLst/>
                <a:ahLst/>
                <a:rect l="l" t="t" r="r" b="b"/>
                <a:pathLst>
                  <a:path w="388" h="71">
                    <a:moveTo>
                      <a:pt x="381" y="71"/>
                    </a:moveTo>
                    <a:lnTo>
                      <a:pt x="336" y="46"/>
                    </a:lnTo>
                    <a:lnTo>
                      <a:pt x="291" y="30"/>
                    </a:lnTo>
                    <a:lnTo>
                      <a:pt x="243" y="18"/>
                    </a:lnTo>
                    <a:lnTo>
                      <a:pt x="196" y="13"/>
                    </a:lnTo>
                    <a:lnTo>
                      <a:pt x="149" y="13"/>
                    </a:lnTo>
                    <a:lnTo>
                      <a:pt x="101" y="21"/>
                    </a:lnTo>
                    <a:lnTo>
                      <a:pt x="53" y="33"/>
                    </a:lnTo>
                    <a:lnTo>
                      <a:pt x="6" y="51"/>
                    </a:lnTo>
                    <a:lnTo>
                      <a:pt x="0" y="38"/>
                    </a:lnTo>
                    <a:lnTo>
                      <a:pt x="47" y="19"/>
                    </a:lnTo>
                    <a:lnTo>
                      <a:pt x="97" y="7"/>
                    </a:lnTo>
                    <a:lnTo>
                      <a:pt x="146" y="0"/>
                    </a:lnTo>
                    <a:lnTo>
                      <a:pt x="196" y="0"/>
                    </a:lnTo>
                    <a:lnTo>
                      <a:pt x="247" y="5"/>
                    </a:lnTo>
                    <a:lnTo>
                      <a:pt x="295" y="17"/>
                    </a:lnTo>
                    <a:lnTo>
                      <a:pt x="342" y="34"/>
                    </a:lnTo>
                    <a:lnTo>
                      <a:pt x="388" y="58"/>
                    </a:lnTo>
                    <a:lnTo>
                      <a:pt x="381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548160" y="519876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10" y="2"/>
                    </a:moveTo>
                    <a:lnTo>
                      <a:pt x="8" y="0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132000" y="5181120"/>
                <a:ext cx="119160" cy="60120"/>
              </a:xfrm>
              <a:custGeom>
                <a:avLst/>
                <a:gdLst/>
                <a:ahLst/>
                <a:rect l="l" t="t" r="r" b="b"/>
                <a:pathLst>
                  <a:path w="152" h="74">
                    <a:moveTo>
                      <a:pt x="152" y="13"/>
                    </a:moveTo>
                    <a:lnTo>
                      <a:pt x="78" y="42"/>
                    </a:lnTo>
                    <a:lnTo>
                      <a:pt x="43" y="57"/>
                    </a:lnTo>
                    <a:lnTo>
                      <a:pt x="8" y="74"/>
                    </a:lnTo>
                    <a:lnTo>
                      <a:pt x="0" y="62"/>
                    </a:lnTo>
                    <a:lnTo>
                      <a:pt x="36" y="45"/>
                    </a:lnTo>
                    <a:lnTo>
                      <a:pt x="72" y="29"/>
                    </a:lnTo>
                    <a:lnTo>
                      <a:pt x="146" y="0"/>
                    </a:lnTo>
                    <a:lnTo>
                      <a:pt x="15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246480" y="518112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6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129120" y="5044680"/>
                <a:ext cx="125280" cy="194760"/>
              </a:xfrm>
              <a:custGeom>
                <a:avLst/>
                <a:gdLst/>
                <a:ahLst/>
                <a:rect l="l" t="t" r="r" b="b"/>
                <a:pathLst>
                  <a:path w="156" h="247">
                    <a:moveTo>
                      <a:pt x="0" y="238"/>
                    </a:moveTo>
                    <a:lnTo>
                      <a:pt x="12" y="247"/>
                    </a:lnTo>
                    <a:lnTo>
                      <a:pt x="156" y="9"/>
                    </a:lnTo>
                    <a:lnTo>
                      <a:pt x="144" y="0"/>
                    </a:lnTo>
                    <a:lnTo>
                      <a:pt x="0" y="2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119400" y="523188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2" y="12"/>
                    </a:moveTo>
                    <a:lnTo>
                      <a:pt x="0" y="23"/>
                    </a:lnTo>
                    <a:lnTo>
                      <a:pt x="12" y="2"/>
                    </a:lnTo>
                    <a:lnTo>
                      <a:pt x="24" y="11"/>
                    </a:lnTo>
                    <a:lnTo>
                      <a:pt x="14" y="0"/>
                    </a:lnTo>
                    <a:lnTo>
                      <a:pt x="2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244680" y="5041440"/>
                <a:ext cx="9720" cy="108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0" y="2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9" y="13"/>
                    </a:lnTo>
                    <a:lnTo>
                      <a:pt x="12" y="1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068800" y="2968200"/>
                <a:ext cx="819360" cy="2138040"/>
              </a:xfrm>
              <a:custGeom>
                <a:avLst/>
                <a:gdLst/>
                <a:ahLst/>
                <a:rect l="l" t="t" r="r" b="b"/>
                <a:pathLst>
                  <a:path w="1032" h="2694">
                    <a:moveTo>
                      <a:pt x="664" y="74"/>
                    </a:moveTo>
                    <a:lnTo>
                      <a:pt x="653" y="76"/>
                    </a:lnTo>
                    <a:lnTo>
                      <a:pt x="643" y="79"/>
                    </a:lnTo>
                    <a:lnTo>
                      <a:pt x="632" y="81"/>
                    </a:lnTo>
                    <a:lnTo>
                      <a:pt x="623" y="85"/>
                    </a:lnTo>
                    <a:lnTo>
                      <a:pt x="612" y="90"/>
                    </a:lnTo>
                    <a:lnTo>
                      <a:pt x="602" y="95"/>
                    </a:lnTo>
                    <a:lnTo>
                      <a:pt x="592" y="100"/>
                    </a:lnTo>
                    <a:lnTo>
                      <a:pt x="581" y="106"/>
                    </a:lnTo>
                    <a:lnTo>
                      <a:pt x="571" y="113"/>
                    </a:lnTo>
                    <a:lnTo>
                      <a:pt x="561" y="119"/>
                    </a:lnTo>
                    <a:lnTo>
                      <a:pt x="542" y="135"/>
                    </a:lnTo>
                    <a:lnTo>
                      <a:pt x="522" y="152"/>
                    </a:lnTo>
                    <a:lnTo>
                      <a:pt x="504" y="169"/>
                    </a:lnTo>
                    <a:lnTo>
                      <a:pt x="486" y="188"/>
                    </a:lnTo>
                    <a:lnTo>
                      <a:pt x="469" y="207"/>
                    </a:lnTo>
                    <a:lnTo>
                      <a:pt x="451" y="227"/>
                    </a:lnTo>
                    <a:lnTo>
                      <a:pt x="434" y="246"/>
                    </a:lnTo>
                    <a:lnTo>
                      <a:pt x="405" y="283"/>
                    </a:lnTo>
                    <a:lnTo>
                      <a:pt x="378" y="316"/>
                    </a:lnTo>
                    <a:lnTo>
                      <a:pt x="332" y="371"/>
                    </a:lnTo>
                    <a:lnTo>
                      <a:pt x="285" y="426"/>
                    </a:lnTo>
                    <a:lnTo>
                      <a:pt x="190" y="535"/>
                    </a:lnTo>
                    <a:lnTo>
                      <a:pt x="142" y="590"/>
                    </a:lnTo>
                    <a:lnTo>
                      <a:pt x="94" y="645"/>
                    </a:lnTo>
                    <a:lnTo>
                      <a:pt x="47" y="700"/>
                    </a:lnTo>
                    <a:lnTo>
                      <a:pt x="0" y="755"/>
                    </a:lnTo>
                    <a:lnTo>
                      <a:pt x="50" y="808"/>
                    </a:lnTo>
                    <a:lnTo>
                      <a:pt x="99" y="860"/>
                    </a:lnTo>
                    <a:lnTo>
                      <a:pt x="147" y="914"/>
                    </a:lnTo>
                    <a:lnTo>
                      <a:pt x="195" y="968"/>
                    </a:lnTo>
                    <a:lnTo>
                      <a:pt x="242" y="1023"/>
                    </a:lnTo>
                    <a:lnTo>
                      <a:pt x="289" y="1077"/>
                    </a:lnTo>
                    <a:lnTo>
                      <a:pt x="335" y="1133"/>
                    </a:lnTo>
                    <a:lnTo>
                      <a:pt x="381" y="1188"/>
                    </a:lnTo>
                    <a:lnTo>
                      <a:pt x="426" y="1244"/>
                    </a:lnTo>
                    <a:lnTo>
                      <a:pt x="470" y="1300"/>
                    </a:lnTo>
                    <a:lnTo>
                      <a:pt x="514" y="1358"/>
                    </a:lnTo>
                    <a:lnTo>
                      <a:pt x="558" y="1415"/>
                    </a:lnTo>
                    <a:lnTo>
                      <a:pt x="601" y="1473"/>
                    </a:lnTo>
                    <a:lnTo>
                      <a:pt x="643" y="1530"/>
                    </a:lnTo>
                    <a:lnTo>
                      <a:pt x="664" y="1560"/>
                    </a:lnTo>
                    <a:lnTo>
                      <a:pt x="685" y="1589"/>
                    </a:lnTo>
                    <a:lnTo>
                      <a:pt x="706" y="1618"/>
                    </a:lnTo>
                    <a:lnTo>
                      <a:pt x="726" y="1648"/>
                    </a:lnTo>
                    <a:lnTo>
                      <a:pt x="740" y="1671"/>
                    </a:lnTo>
                    <a:lnTo>
                      <a:pt x="753" y="1693"/>
                    </a:lnTo>
                    <a:lnTo>
                      <a:pt x="759" y="1704"/>
                    </a:lnTo>
                    <a:lnTo>
                      <a:pt x="764" y="1715"/>
                    </a:lnTo>
                    <a:lnTo>
                      <a:pt x="769" y="1727"/>
                    </a:lnTo>
                    <a:lnTo>
                      <a:pt x="774" y="1738"/>
                    </a:lnTo>
                    <a:lnTo>
                      <a:pt x="783" y="1761"/>
                    </a:lnTo>
                    <a:lnTo>
                      <a:pt x="790" y="1785"/>
                    </a:lnTo>
                    <a:lnTo>
                      <a:pt x="792" y="1796"/>
                    </a:lnTo>
                    <a:lnTo>
                      <a:pt x="794" y="1808"/>
                    </a:lnTo>
                    <a:lnTo>
                      <a:pt x="796" y="1819"/>
                    </a:lnTo>
                    <a:lnTo>
                      <a:pt x="797" y="1831"/>
                    </a:lnTo>
                    <a:lnTo>
                      <a:pt x="797" y="1842"/>
                    </a:lnTo>
                    <a:lnTo>
                      <a:pt x="797" y="1853"/>
                    </a:lnTo>
                    <a:lnTo>
                      <a:pt x="797" y="1865"/>
                    </a:lnTo>
                    <a:lnTo>
                      <a:pt x="796" y="1876"/>
                    </a:lnTo>
                    <a:lnTo>
                      <a:pt x="792" y="1899"/>
                    </a:lnTo>
                    <a:lnTo>
                      <a:pt x="790" y="1912"/>
                    </a:lnTo>
                    <a:lnTo>
                      <a:pt x="786" y="1923"/>
                    </a:lnTo>
                    <a:lnTo>
                      <a:pt x="779" y="1946"/>
                    </a:lnTo>
                    <a:lnTo>
                      <a:pt x="773" y="1957"/>
                    </a:lnTo>
                    <a:lnTo>
                      <a:pt x="768" y="1968"/>
                    </a:lnTo>
                    <a:lnTo>
                      <a:pt x="762" y="1979"/>
                    </a:lnTo>
                    <a:lnTo>
                      <a:pt x="755" y="1991"/>
                    </a:lnTo>
                    <a:lnTo>
                      <a:pt x="746" y="2002"/>
                    </a:lnTo>
                    <a:lnTo>
                      <a:pt x="739" y="2013"/>
                    </a:lnTo>
                    <a:lnTo>
                      <a:pt x="725" y="2024"/>
                    </a:lnTo>
                    <a:lnTo>
                      <a:pt x="713" y="2034"/>
                    </a:lnTo>
                    <a:lnTo>
                      <a:pt x="700" y="2043"/>
                    </a:lnTo>
                    <a:lnTo>
                      <a:pt x="686" y="2050"/>
                    </a:lnTo>
                    <a:lnTo>
                      <a:pt x="673" y="2056"/>
                    </a:lnTo>
                    <a:lnTo>
                      <a:pt x="658" y="2062"/>
                    </a:lnTo>
                    <a:lnTo>
                      <a:pt x="645" y="2066"/>
                    </a:lnTo>
                    <a:lnTo>
                      <a:pt x="630" y="2069"/>
                    </a:lnTo>
                    <a:lnTo>
                      <a:pt x="615" y="2072"/>
                    </a:lnTo>
                    <a:lnTo>
                      <a:pt x="601" y="2074"/>
                    </a:lnTo>
                    <a:lnTo>
                      <a:pt x="586" y="2076"/>
                    </a:lnTo>
                    <a:lnTo>
                      <a:pt x="571" y="2076"/>
                    </a:lnTo>
                    <a:lnTo>
                      <a:pt x="542" y="2077"/>
                    </a:lnTo>
                    <a:lnTo>
                      <a:pt x="511" y="2076"/>
                    </a:lnTo>
                    <a:lnTo>
                      <a:pt x="481" y="2076"/>
                    </a:lnTo>
                    <a:lnTo>
                      <a:pt x="451" y="2076"/>
                    </a:lnTo>
                    <a:lnTo>
                      <a:pt x="436" y="2076"/>
                    </a:lnTo>
                    <a:lnTo>
                      <a:pt x="421" y="2077"/>
                    </a:lnTo>
                    <a:lnTo>
                      <a:pt x="406" y="2078"/>
                    </a:lnTo>
                    <a:lnTo>
                      <a:pt x="392" y="2080"/>
                    </a:lnTo>
                    <a:lnTo>
                      <a:pt x="376" y="2083"/>
                    </a:lnTo>
                    <a:lnTo>
                      <a:pt x="361" y="2085"/>
                    </a:lnTo>
                    <a:lnTo>
                      <a:pt x="346" y="2090"/>
                    </a:lnTo>
                    <a:lnTo>
                      <a:pt x="333" y="2095"/>
                    </a:lnTo>
                    <a:lnTo>
                      <a:pt x="318" y="2101"/>
                    </a:lnTo>
                    <a:lnTo>
                      <a:pt x="304" y="2109"/>
                    </a:lnTo>
                    <a:lnTo>
                      <a:pt x="290" y="2117"/>
                    </a:lnTo>
                    <a:lnTo>
                      <a:pt x="277" y="2127"/>
                    </a:lnTo>
                    <a:lnTo>
                      <a:pt x="266" y="2138"/>
                    </a:lnTo>
                    <a:lnTo>
                      <a:pt x="255" y="2150"/>
                    </a:lnTo>
                    <a:lnTo>
                      <a:pt x="234" y="2175"/>
                    </a:lnTo>
                    <a:lnTo>
                      <a:pt x="224" y="2187"/>
                    </a:lnTo>
                    <a:lnTo>
                      <a:pt x="216" y="2199"/>
                    </a:lnTo>
                    <a:lnTo>
                      <a:pt x="207" y="2211"/>
                    </a:lnTo>
                    <a:lnTo>
                      <a:pt x="200" y="2223"/>
                    </a:lnTo>
                    <a:lnTo>
                      <a:pt x="192" y="2236"/>
                    </a:lnTo>
                    <a:lnTo>
                      <a:pt x="186" y="2248"/>
                    </a:lnTo>
                    <a:lnTo>
                      <a:pt x="175" y="2272"/>
                    </a:lnTo>
                    <a:lnTo>
                      <a:pt x="168" y="2297"/>
                    </a:lnTo>
                    <a:lnTo>
                      <a:pt x="162" y="2323"/>
                    </a:lnTo>
                    <a:lnTo>
                      <a:pt x="160" y="2335"/>
                    </a:lnTo>
                    <a:lnTo>
                      <a:pt x="159" y="2347"/>
                    </a:lnTo>
                    <a:lnTo>
                      <a:pt x="159" y="2359"/>
                    </a:lnTo>
                    <a:lnTo>
                      <a:pt x="159" y="2370"/>
                    </a:lnTo>
                    <a:lnTo>
                      <a:pt x="160" y="2382"/>
                    </a:lnTo>
                    <a:lnTo>
                      <a:pt x="163" y="2395"/>
                    </a:lnTo>
                    <a:lnTo>
                      <a:pt x="167" y="2406"/>
                    </a:lnTo>
                    <a:lnTo>
                      <a:pt x="170" y="2418"/>
                    </a:lnTo>
                    <a:lnTo>
                      <a:pt x="174" y="2429"/>
                    </a:lnTo>
                    <a:lnTo>
                      <a:pt x="180" y="2440"/>
                    </a:lnTo>
                    <a:lnTo>
                      <a:pt x="186" y="2451"/>
                    </a:lnTo>
                    <a:lnTo>
                      <a:pt x="194" y="2462"/>
                    </a:lnTo>
                    <a:lnTo>
                      <a:pt x="201" y="2473"/>
                    </a:lnTo>
                    <a:lnTo>
                      <a:pt x="211" y="2483"/>
                    </a:lnTo>
                    <a:lnTo>
                      <a:pt x="220" y="2494"/>
                    </a:lnTo>
                    <a:lnTo>
                      <a:pt x="231" y="2504"/>
                    </a:lnTo>
                    <a:lnTo>
                      <a:pt x="365" y="2694"/>
                    </a:lnTo>
                    <a:lnTo>
                      <a:pt x="356" y="2683"/>
                    </a:lnTo>
                    <a:lnTo>
                      <a:pt x="349" y="2672"/>
                    </a:lnTo>
                    <a:lnTo>
                      <a:pt x="341" y="2661"/>
                    </a:lnTo>
                    <a:lnTo>
                      <a:pt x="335" y="2650"/>
                    </a:lnTo>
                    <a:lnTo>
                      <a:pt x="330" y="2638"/>
                    </a:lnTo>
                    <a:lnTo>
                      <a:pt x="327" y="2627"/>
                    </a:lnTo>
                    <a:lnTo>
                      <a:pt x="323" y="2615"/>
                    </a:lnTo>
                    <a:lnTo>
                      <a:pt x="321" y="2603"/>
                    </a:lnTo>
                    <a:lnTo>
                      <a:pt x="318" y="2590"/>
                    </a:lnTo>
                    <a:lnTo>
                      <a:pt x="317" y="2579"/>
                    </a:lnTo>
                    <a:lnTo>
                      <a:pt x="316" y="2566"/>
                    </a:lnTo>
                    <a:lnTo>
                      <a:pt x="316" y="2554"/>
                    </a:lnTo>
                    <a:lnTo>
                      <a:pt x="317" y="2541"/>
                    </a:lnTo>
                    <a:lnTo>
                      <a:pt x="318" y="2529"/>
                    </a:lnTo>
                    <a:lnTo>
                      <a:pt x="321" y="2517"/>
                    </a:lnTo>
                    <a:lnTo>
                      <a:pt x="323" y="2504"/>
                    </a:lnTo>
                    <a:lnTo>
                      <a:pt x="327" y="2491"/>
                    </a:lnTo>
                    <a:lnTo>
                      <a:pt x="330" y="2479"/>
                    </a:lnTo>
                    <a:lnTo>
                      <a:pt x="335" y="2466"/>
                    </a:lnTo>
                    <a:lnTo>
                      <a:pt x="340" y="2453"/>
                    </a:lnTo>
                    <a:lnTo>
                      <a:pt x="346" y="2441"/>
                    </a:lnTo>
                    <a:lnTo>
                      <a:pt x="352" y="2428"/>
                    </a:lnTo>
                    <a:lnTo>
                      <a:pt x="368" y="2403"/>
                    </a:lnTo>
                    <a:lnTo>
                      <a:pt x="384" y="2378"/>
                    </a:lnTo>
                    <a:lnTo>
                      <a:pt x="404" y="2353"/>
                    </a:lnTo>
                    <a:lnTo>
                      <a:pt x="414" y="2341"/>
                    </a:lnTo>
                    <a:lnTo>
                      <a:pt x="425" y="2329"/>
                    </a:lnTo>
                    <a:lnTo>
                      <a:pt x="448" y="2304"/>
                    </a:lnTo>
                    <a:lnTo>
                      <a:pt x="462" y="2293"/>
                    </a:lnTo>
                    <a:lnTo>
                      <a:pt x="471" y="2288"/>
                    </a:lnTo>
                    <a:lnTo>
                      <a:pt x="478" y="2285"/>
                    </a:lnTo>
                    <a:lnTo>
                      <a:pt x="487" y="2280"/>
                    </a:lnTo>
                    <a:lnTo>
                      <a:pt x="494" y="2276"/>
                    </a:lnTo>
                    <a:lnTo>
                      <a:pt x="510" y="2269"/>
                    </a:lnTo>
                    <a:lnTo>
                      <a:pt x="527" y="2264"/>
                    </a:lnTo>
                    <a:lnTo>
                      <a:pt x="543" y="2259"/>
                    </a:lnTo>
                    <a:lnTo>
                      <a:pt x="559" y="2255"/>
                    </a:lnTo>
                    <a:lnTo>
                      <a:pt x="576" y="2252"/>
                    </a:lnTo>
                    <a:lnTo>
                      <a:pt x="593" y="2250"/>
                    </a:lnTo>
                    <a:lnTo>
                      <a:pt x="609" y="2248"/>
                    </a:lnTo>
                    <a:lnTo>
                      <a:pt x="626" y="2248"/>
                    </a:lnTo>
                    <a:lnTo>
                      <a:pt x="643" y="2247"/>
                    </a:lnTo>
                    <a:lnTo>
                      <a:pt x="678" y="2247"/>
                    </a:lnTo>
                    <a:lnTo>
                      <a:pt x="712" y="2248"/>
                    </a:lnTo>
                    <a:lnTo>
                      <a:pt x="745" y="2248"/>
                    </a:lnTo>
                    <a:lnTo>
                      <a:pt x="762" y="2248"/>
                    </a:lnTo>
                    <a:lnTo>
                      <a:pt x="779" y="2248"/>
                    </a:lnTo>
                    <a:lnTo>
                      <a:pt x="795" y="2247"/>
                    </a:lnTo>
                    <a:lnTo>
                      <a:pt x="812" y="2246"/>
                    </a:lnTo>
                    <a:lnTo>
                      <a:pt x="828" y="2243"/>
                    </a:lnTo>
                    <a:lnTo>
                      <a:pt x="844" y="2241"/>
                    </a:lnTo>
                    <a:lnTo>
                      <a:pt x="860" y="2237"/>
                    </a:lnTo>
                    <a:lnTo>
                      <a:pt x="876" y="2232"/>
                    </a:lnTo>
                    <a:lnTo>
                      <a:pt x="892" y="2226"/>
                    </a:lnTo>
                    <a:lnTo>
                      <a:pt x="907" y="2219"/>
                    </a:lnTo>
                    <a:lnTo>
                      <a:pt x="915" y="2215"/>
                    </a:lnTo>
                    <a:lnTo>
                      <a:pt x="922" y="2210"/>
                    </a:lnTo>
                    <a:lnTo>
                      <a:pt x="929" y="2206"/>
                    </a:lnTo>
                    <a:lnTo>
                      <a:pt x="937" y="2200"/>
                    </a:lnTo>
                    <a:lnTo>
                      <a:pt x="951" y="2189"/>
                    </a:lnTo>
                    <a:lnTo>
                      <a:pt x="966" y="2177"/>
                    </a:lnTo>
                    <a:lnTo>
                      <a:pt x="975" y="2165"/>
                    </a:lnTo>
                    <a:lnTo>
                      <a:pt x="984" y="2151"/>
                    </a:lnTo>
                    <a:lnTo>
                      <a:pt x="992" y="2139"/>
                    </a:lnTo>
                    <a:lnTo>
                      <a:pt x="999" y="2127"/>
                    </a:lnTo>
                    <a:lnTo>
                      <a:pt x="1005" y="2113"/>
                    </a:lnTo>
                    <a:lnTo>
                      <a:pt x="1011" y="2101"/>
                    </a:lnTo>
                    <a:lnTo>
                      <a:pt x="1016" y="2089"/>
                    </a:lnTo>
                    <a:lnTo>
                      <a:pt x="1021" y="2076"/>
                    </a:lnTo>
                    <a:lnTo>
                      <a:pt x="1025" y="2063"/>
                    </a:lnTo>
                    <a:lnTo>
                      <a:pt x="1027" y="2050"/>
                    </a:lnTo>
                    <a:lnTo>
                      <a:pt x="1030" y="2036"/>
                    </a:lnTo>
                    <a:lnTo>
                      <a:pt x="1031" y="2024"/>
                    </a:lnTo>
                    <a:lnTo>
                      <a:pt x="1032" y="2011"/>
                    </a:lnTo>
                    <a:lnTo>
                      <a:pt x="1032" y="1999"/>
                    </a:lnTo>
                    <a:lnTo>
                      <a:pt x="1032" y="1972"/>
                    </a:lnTo>
                    <a:lnTo>
                      <a:pt x="1031" y="1959"/>
                    </a:lnTo>
                    <a:lnTo>
                      <a:pt x="1028" y="1946"/>
                    </a:lnTo>
                    <a:lnTo>
                      <a:pt x="1026" y="1934"/>
                    </a:lnTo>
                    <a:lnTo>
                      <a:pt x="1024" y="1920"/>
                    </a:lnTo>
                    <a:lnTo>
                      <a:pt x="1016" y="1895"/>
                    </a:lnTo>
                    <a:lnTo>
                      <a:pt x="1006" y="1869"/>
                    </a:lnTo>
                    <a:lnTo>
                      <a:pt x="995" y="1843"/>
                    </a:lnTo>
                    <a:lnTo>
                      <a:pt x="989" y="1830"/>
                    </a:lnTo>
                    <a:lnTo>
                      <a:pt x="983" y="1818"/>
                    </a:lnTo>
                    <a:lnTo>
                      <a:pt x="969" y="1792"/>
                    </a:lnTo>
                    <a:lnTo>
                      <a:pt x="953" y="1767"/>
                    </a:lnTo>
                    <a:lnTo>
                      <a:pt x="906" y="1701"/>
                    </a:lnTo>
                    <a:lnTo>
                      <a:pt x="858" y="1635"/>
                    </a:lnTo>
                    <a:lnTo>
                      <a:pt x="811" y="1571"/>
                    </a:lnTo>
                    <a:lnTo>
                      <a:pt x="763" y="1506"/>
                    </a:lnTo>
                    <a:lnTo>
                      <a:pt x="714" y="1441"/>
                    </a:lnTo>
                    <a:lnTo>
                      <a:pt x="690" y="1409"/>
                    </a:lnTo>
                    <a:lnTo>
                      <a:pt x="665" y="1377"/>
                    </a:lnTo>
                    <a:lnTo>
                      <a:pt x="615" y="1314"/>
                    </a:lnTo>
                    <a:lnTo>
                      <a:pt x="564" y="1251"/>
                    </a:lnTo>
                    <a:lnTo>
                      <a:pt x="513" y="1189"/>
                    </a:lnTo>
                    <a:lnTo>
                      <a:pt x="461" y="1127"/>
                    </a:lnTo>
                    <a:lnTo>
                      <a:pt x="409" y="1066"/>
                    </a:lnTo>
                    <a:lnTo>
                      <a:pt x="356" y="1004"/>
                    </a:lnTo>
                    <a:lnTo>
                      <a:pt x="302" y="943"/>
                    </a:lnTo>
                    <a:lnTo>
                      <a:pt x="249" y="883"/>
                    </a:lnTo>
                    <a:lnTo>
                      <a:pt x="194" y="823"/>
                    </a:lnTo>
                    <a:lnTo>
                      <a:pt x="138" y="765"/>
                    </a:lnTo>
                    <a:lnTo>
                      <a:pt x="164" y="734"/>
                    </a:lnTo>
                    <a:lnTo>
                      <a:pt x="190" y="702"/>
                    </a:lnTo>
                    <a:lnTo>
                      <a:pt x="242" y="641"/>
                    </a:lnTo>
                    <a:lnTo>
                      <a:pt x="350" y="519"/>
                    </a:lnTo>
                    <a:lnTo>
                      <a:pt x="456" y="397"/>
                    </a:lnTo>
                    <a:lnTo>
                      <a:pt x="510" y="334"/>
                    </a:lnTo>
                    <a:lnTo>
                      <a:pt x="561" y="272"/>
                    </a:lnTo>
                    <a:lnTo>
                      <a:pt x="594" y="232"/>
                    </a:lnTo>
                    <a:lnTo>
                      <a:pt x="631" y="186"/>
                    </a:lnTo>
                    <a:lnTo>
                      <a:pt x="651" y="163"/>
                    </a:lnTo>
                    <a:lnTo>
                      <a:pt x="662" y="152"/>
                    </a:lnTo>
                    <a:lnTo>
                      <a:pt x="673" y="140"/>
                    </a:lnTo>
                    <a:lnTo>
                      <a:pt x="693" y="117"/>
                    </a:lnTo>
                    <a:lnTo>
                      <a:pt x="706" y="106"/>
                    </a:lnTo>
                    <a:lnTo>
                      <a:pt x="717" y="95"/>
                    </a:lnTo>
                    <a:lnTo>
                      <a:pt x="740" y="74"/>
                    </a:lnTo>
                    <a:lnTo>
                      <a:pt x="751" y="64"/>
                    </a:lnTo>
                    <a:lnTo>
                      <a:pt x="763" y="55"/>
                    </a:lnTo>
                    <a:lnTo>
                      <a:pt x="775" y="47"/>
                    </a:lnTo>
                    <a:lnTo>
                      <a:pt x="788" y="38"/>
                    </a:lnTo>
                    <a:lnTo>
                      <a:pt x="800" y="31"/>
                    </a:lnTo>
                    <a:lnTo>
                      <a:pt x="812" y="24"/>
                    </a:lnTo>
                    <a:lnTo>
                      <a:pt x="824" y="18"/>
                    </a:lnTo>
                    <a:lnTo>
                      <a:pt x="836" y="13"/>
                    </a:lnTo>
                    <a:lnTo>
                      <a:pt x="850" y="8"/>
                    </a:lnTo>
                    <a:lnTo>
                      <a:pt x="862" y="5"/>
                    </a:lnTo>
                    <a:lnTo>
                      <a:pt x="874" y="2"/>
                    </a:lnTo>
                    <a:lnTo>
                      <a:pt x="887" y="0"/>
                    </a:lnTo>
                    <a:lnTo>
                      <a:pt x="894" y="0"/>
                    </a:lnTo>
                    <a:lnTo>
                      <a:pt x="900" y="0"/>
                    </a:lnTo>
                    <a:lnTo>
                      <a:pt x="912" y="0"/>
                    </a:lnTo>
                    <a:lnTo>
                      <a:pt x="664" y="74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364000" y="3020400"/>
                <a:ext cx="231840" cy="201240"/>
              </a:xfrm>
              <a:custGeom>
                <a:avLst/>
                <a:gdLst/>
                <a:ahLst/>
                <a:rect l="l" t="t" r="r" b="b"/>
                <a:pathLst>
                  <a:path w="292" h="253">
                    <a:moveTo>
                      <a:pt x="292" y="13"/>
                    </a:moveTo>
                    <a:lnTo>
                      <a:pt x="273" y="18"/>
                    </a:lnTo>
                    <a:lnTo>
                      <a:pt x="253" y="24"/>
                    </a:lnTo>
                    <a:lnTo>
                      <a:pt x="233" y="33"/>
                    </a:lnTo>
                    <a:lnTo>
                      <a:pt x="213" y="44"/>
                    </a:lnTo>
                    <a:lnTo>
                      <a:pt x="194" y="57"/>
                    </a:lnTo>
                    <a:lnTo>
                      <a:pt x="175" y="73"/>
                    </a:lnTo>
                    <a:lnTo>
                      <a:pt x="137" y="107"/>
                    </a:lnTo>
                    <a:lnTo>
                      <a:pt x="101" y="144"/>
                    </a:lnTo>
                    <a:lnTo>
                      <a:pt x="67" y="183"/>
                    </a:lnTo>
                    <a:lnTo>
                      <a:pt x="11" y="253"/>
                    </a:lnTo>
                    <a:lnTo>
                      <a:pt x="0" y="243"/>
                    </a:lnTo>
                    <a:lnTo>
                      <a:pt x="56" y="173"/>
                    </a:lnTo>
                    <a:lnTo>
                      <a:pt x="90" y="134"/>
                    </a:lnTo>
                    <a:lnTo>
                      <a:pt x="127" y="96"/>
                    </a:lnTo>
                    <a:lnTo>
                      <a:pt x="165" y="62"/>
                    </a:lnTo>
                    <a:lnTo>
                      <a:pt x="185" y="46"/>
                    </a:lnTo>
                    <a:lnTo>
                      <a:pt x="204" y="32"/>
                    </a:lnTo>
                    <a:lnTo>
                      <a:pt x="226" y="21"/>
                    </a:lnTo>
                    <a:lnTo>
                      <a:pt x="247" y="11"/>
                    </a:lnTo>
                    <a:lnTo>
                      <a:pt x="268" y="5"/>
                    </a:lnTo>
                    <a:lnTo>
                      <a:pt x="288" y="0"/>
                    </a:lnTo>
                    <a:lnTo>
                      <a:pt x="29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064120" y="3214080"/>
                <a:ext cx="308160" cy="355320"/>
              </a:xfrm>
              <a:custGeom>
                <a:avLst/>
                <a:gdLst/>
                <a:ahLst/>
                <a:rect l="l" t="t" r="r" b="b"/>
                <a:pathLst>
                  <a:path w="389" h="449">
                    <a:moveTo>
                      <a:pt x="389" y="10"/>
                    </a:moveTo>
                    <a:lnTo>
                      <a:pt x="295" y="120"/>
                    </a:lnTo>
                    <a:lnTo>
                      <a:pt x="200" y="229"/>
                    </a:lnTo>
                    <a:lnTo>
                      <a:pt x="105" y="338"/>
                    </a:lnTo>
                    <a:lnTo>
                      <a:pt x="11" y="449"/>
                    </a:lnTo>
                    <a:lnTo>
                      <a:pt x="0" y="439"/>
                    </a:lnTo>
                    <a:lnTo>
                      <a:pt x="94" y="328"/>
                    </a:lnTo>
                    <a:lnTo>
                      <a:pt x="189" y="219"/>
                    </a:lnTo>
                    <a:lnTo>
                      <a:pt x="284" y="110"/>
                    </a:lnTo>
                    <a:lnTo>
                      <a:pt x="378" y="0"/>
                    </a:lnTo>
                    <a:lnTo>
                      <a:pt x="3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364000" y="321408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10"/>
                    </a:moveTo>
                    <a:lnTo>
                      <a:pt x="0" y="0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064120" y="3563280"/>
                <a:ext cx="585720" cy="715680"/>
              </a:xfrm>
              <a:custGeom>
                <a:avLst/>
                <a:gdLst/>
                <a:ahLst/>
                <a:rect l="l" t="t" r="r" b="b"/>
                <a:pathLst>
                  <a:path w="739" h="902">
                    <a:moveTo>
                      <a:pt x="11" y="0"/>
                    </a:moveTo>
                    <a:lnTo>
                      <a:pt x="110" y="105"/>
                    </a:lnTo>
                    <a:lnTo>
                      <a:pt x="158" y="159"/>
                    </a:lnTo>
                    <a:lnTo>
                      <a:pt x="206" y="213"/>
                    </a:lnTo>
                    <a:lnTo>
                      <a:pt x="300" y="322"/>
                    </a:lnTo>
                    <a:lnTo>
                      <a:pt x="391" y="433"/>
                    </a:lnTo>
                    <a:lnTo>
                      <a:pt x="481" y="545"/>
                    </a:lnTo>
                    <a:lnTo>
                      <a:pt x="570" y="660"/>
                    </a:lnTo>
                    <a:lnTo>
                      <a:pt x="654" y="777"/>
                    </a:lnTo>
                    <a:lnTo>
                      <a:pt x="739" y="894"/>
                    </a:lnTo>
                    <a:lnTo>
                      <a:pt x="726" y="902"/>
                    </a:lnTo>
                    <a:lnTo>
                      <a:pt x="642" y="785"/>
                    </a:lnTo>
                    <a:lnTo>
                      <a:pt x="558" y="669"/>
                    </a:lnTo>
                    <a:lnTo>
                      <a:pt x="470" y="555"/>
                    </a:lnTo>
                    <a:lnTo>
                      <a:pt x="380" y="443"/>
                    </a:lnTo>
                    <a:lnTo>
                      <a:pt x="289" y="331"/>
                    </a:lnTo>
                    <a:lnTo>
                      <a:pt x="195" y="223"/>
                    </a:lnTo>
                    <a:lnTo>
                      <a:pt x="147" y="169"/>
                    </a:lnTo>
                    <a:lnTo>
                      <a:pt x="99" y="115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060880" y="3563280"/>
                <a:ext cx="12600" cy="61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5" y="0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16" y="0"/>
                    </a:lnTo>
                    <a:lnTo>
                      <a:pt x="16" y="1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640480" y="4271400"/>
                <a:ext cx="66600" cy="298080"/>
              </a:xfrm>
              <a:custGeom>
                <a:avLst/>
                <a:gdLst/>
                <a:ahLst/>
                <a:rect l="l" t="t" r="r" b="b"/>
                <a:pathLst>
                  <a:path w="85" h="374">
                    <a:moveTo>
                      <a:pt x="13" y="0"/>
                    </a:moveTo>
                    <a:lnTo>
                      <a:pt x="26" y="22"/>
                    </a:lnTo>
                    <a:lnTo>
                      <a:pt x="39" y="46"/>
                    </a:lnTo>
                    <a:lnTo>
                      <a:pt x="50" y="68"/>
                    </a:lnTo>
                    <a:lnTo>
                      <a:pt x="60" y="92"/>
                    </a:lnTo>
                    <a:lnTo>
                      <a:pt x="69" y="115"/>
                    </a:lnTo>
                    <a:lnTo>
                      <a:pt x="76" y="139"/>
                    </a:lnTo>
                    <a:lnTo>
                      <a:pt x="85" y="186"/>
                    </a:lnTo>
                    <a:lnTo>
                      <a:pt x="83" y="232"/>
                    </a:lnTo>
                    <a:lnTo>
                      <a:pt x="80" y="257"/>
                    </a:lnTo>
                    <a:lnTo>
                      <a:pt x="72" y="281"/>
                    </a:lnTo>
                    <a:lnTo>
                      <a:pt x="65" y="306"/>
                    </a:lnTo>
                    <a:lnTo>
                      <a:pt x="54" y="329"/>
                    </a:lnTo>
                    <a:lnTo>
                      <a:pt x="24" y="374"/>
                    </a:lnTo>
                    <a:lnTo>
                      <a:pt x="11" y="366"/>
                    </a:lnTo>
                    <a:lnTo>
                      <a:pt x="42" y="320"/>
                    </a:lnTo>
                    <a:lnTo>
                      <a:pt x="52" y="299"/>
                    </a:lnTo>
                    <a:lnTo>
                      <a:pt x="59" y="276"/>
                    </a:lnTo>
                    <a:lnTo>
                      <a:pt x="65" y="254"/>
                    </a:lnTo>
                    <a:lnTo>
                      <a:pt x="69" y="232"/>
                    </a:lnTo>
                    <a:lnTo>
                      <a:pt x="70" y="187"/>
                    </a:lnTo>
                    <a:lnTo>
                      <a:pt x="61" y="142"/>
                    </a:lnTo>
                    <a:lnTo>
                      <a:pt x="55" y="121"/>
                    </a:lnTo>
                    <a:lnTo>
                      <a:pt x="47" y="98"/>
                    </a:lnTo>
                    <a:lnTo>
                      <a:pt x="37" y="74"/>
                    </a:lnTo>
                    <a:lnTo>
                      <a:pt x="26" y="52"/>
                    </a:lnTo>
                    <a:lnTo>
                      <a:pt x="14" y="30"/>
                    </a:lnTo>
                    <a:lnTo>
                      <a:pt x="0" y="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640480" y="427140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0"/>
                    </a:moveTo>
                    <a:lnTo>
                      <a:pt x="0" y="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284800" y="4561920"/>
                <a:ext cx="372960" cy="98280"/>
              </a:xfrm>
              <a:custGeom>
                <a:avLst/>
                <a:gdLst/>
                <a:ahLst/>
                <a:rect l="l" t="t" r="r" b="b"/>
                <a:pathLst>
                  <a:path w="470" h="125">
                    <a:moveTo>
                      <a:pt x="470" y="11"/>
                    </a:moveTo>
                    <a:lnTo>
                      <a:pt x="445" y="32"/>
                    </a:lnTo>
                    <a:lnTo>
                      <a:pt x="418" y="48"/>
                    </a:lnTo>
                    <a:lnTo>
                      <a:pt x="402" y="55"/>
                    </a:lnTo>
                    <a:lnTo>
                      <a:pt x="388" y="60"/>
                    </a:lnTo>
                    <a:lnTo>
                      <a:pt x="359" y="69"/>
                    </a:lnTo>
                    <a:lnTo>
                      <a:pt x="300" y="75"/>
                    </a:lnTo>
                    <a:lnTo>
                      <a:pt x="239" y="75"/>
                    </a:lnTo>
                    <a:lnTo>
                      <a:pt x="179" y="75"/>
                    </a:lnTo>
                    <a:lnTo>
                      <a:pt x="150" y="76"/>
                    </a:lnTo>
                    <a:lnTo>
                      <a:pt x="120" y="79"/>
                    </a:lnTo>
                    <a:lnTo>
                      <a:pt x="91" y="85"/>
                    </a:lnTo>
                    <a:lnTo>
                      <a:pt x="63" y="94"/>
                    </a:lnTo>
                    <a:lnTo>
                      <a:pt x="35" y="107"/>
                    </a:lnTo>
                    <a:lnTo>
                      <a:pt x="8" y="125"/>
                    </a:lnTo>
                    <a:lnTo>
                      <a:pt x="0" y="113"/>
                    </a:lnTo>
                    <a:lnTo>
                      <a:pt x="27" y="94"/>
                    </a:lnTo>
                    <a:lnTo>
                      <a:pt x="57" y="81"/>
                    </a:lnTo>
                    <a:lnTo>
                      <a:pt x="87" y="71"/>
                    </a:lnTo>
                    <a:lnTo>
                      <a:pt x="116" y="65"/>
                    </a:lnTo>
                    <a:lnTo>
                      <a:pt x="148" y="63"/>
                    </a:lnTo>
                    <a:lnTo>
                      <a:pt x="179" y="60"/>
                    </a:lnTo>
                    <a:lnTo>
                      <a:pt x="239" y="60"/>
                    </a:lnTo>
                    <a:lnTo>
                      <a:pt x="298" y="61"/>
                    </a:lnTo>
                    <a:lnTo>
                      <a:pt x="355" y="55"/>
                    </a:lnTo>
                    <a:lnTo>
                      <a:pt x="384" y="47"/>
                    </a:lnTo>
                    <a:lnTo>
                      <a:pt x="396" y="42"/>
                    </a:lnTo>
                    <a:lnTo>
                      <a:pt x="409" y="36"/>
                    </a:lnTo>
                    <a:lnTo>
                      <a:pt x="435" y="21"/>
                    </a:lnTo>
                    <a:lnTo>
                      <a:pt x="461" y="0"/>
                    </a:lnTo>
                    <a:lnTo>
                      <a:pt x="47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49840" y="456192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3" y="10"/>
                    </a:moveTo>
                    <a:lnTo>
                      <a:pt x="11" y="1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189400" y="4652640"/>
                <a:ext cx="103320" cy="306000"/>
              </a:xfrm>
              <a:custGeom>
                <a:avLst/>
                <a:gdLst/>
                <a:ahLst/>
                <a:rect l="l" t="t" r="r" b="b"/>
                <a:pathLst>
                  <a:path w="130" h="388">
                    <a:moveTo>
                      <a:pt x="130" y="10"/>
                    </a:moveTo>
                    <a:lnTo>
                      <a:pt x="87" y="57"/>
                    </a:lnTo>
                    <a:lnTo>
                      <a:pt x="54" y="106"/>
                    </a:lnTo>
                    <a:lnTo>
                      <a:pt x="40" y="130"/>
                    </a:lnTo>
                    <a:lnTo>
                      <a:pt x="29" y="154"/>
                    </a:lnTo>
                    <a:lnTo>
                      <a:pt x="23" y="176"/>
                    </a:lnTo>
                    <a:lnTo>
                      <a:pt x="17" y="199"/>
                    </a:lnTo>
                    <a:lnTo>
                      <a:pt x="15" y="224"/>
                    </a:lnTo>
                    <a:lnTo>
                      <a:pt x="15" y="248"/>
                    </a:lnTo>
                    <a:lnTo>
                      <a:pt x="18" y="271"/>
                    </a:lnTo>
                    <a:lnTo>
                      <a:pt x="24" y="293"/>
                    </a:lnTo>
                    <a:lnTo>
                      <a:pt x="34" y="315"/>
                    </a:lnTo>
                    <a:lnTo>
                      <a:pt x="48" y="336"/>
                    </a:lnTo>
                    <a:lnTo>
                      <a:pt x="64" y="356"/>
                    </a:lnTo>
                    <a:lnTo>
                      <a:pt x="83" y="377"/>
                    </a:lnTo>
                    <a:lnTo>
                      <a:pt x="73" y="388"/>
                    </a:lnTo>
                    <a:lnTo>
                      <a:pt x="53" y="366"/>
                    </a:lnTo>
                    <a:lnTo>
                      <a:pt x="35" y="345"/>
                    </a:lnTo>
                    <a:lnTo>
                      <a:pt x="21" y="322"/>
                    </a:lnTo>
                    <a:lnTo>
                      <a:pt x="11" y="300"/>
                    </a:lnTo>
                    <a:lnTo>
                      <a:pt x="4" y="274"/>
                    </a:lnTo>
                    <a:lnTo>
                      <a:pt x="0" y="249"/>
                    </a:lnTo>
                    <a:lnTo>
                      <a:pt x="0" y="224"/>
                    </a:lnTo>
                    <a:lnTo>
                      <a:pt x="2" y="198"/>
                    </a:lnTo>
                    <a:lnTo>
                      <a:pt x="8" y="174"/>
                    </a:lnTo>
                    <a:lnTo>
                      <a:pt x="16" y="148"/>
                    </a:lnTo>
                    <a:lnTo>
                      <a:pt x="27" y="124"/>
                    </a:lnTo>
                    <a:lnTo>
                      <a:pt x="42" y="98"/>
                    </a:lnTo>
                    <a:lnTo>
                      <a:pt x="76" y="48"/>
                    </a:lnTo>
                    <a:lnTo>
                      <a:pt x="119" y="0"/>
                    </a:lnTo>
                    <a:lnTo>
                      <a:pt x="1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283360" y="46508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" y="0"/>
                    </a:moveTo>
                    <a:lnTo>
                      <a:pt x="0" y="1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246640" y="4951080"/>
                <a:ext cx="115920" cy="158400"/>
              </a:xfrm>
              <a:custGeom>
                <a:avLst/>
                <a:gdLst/>
                <a:ahLst/>
                <a:rect l="l" t="t" r="r" b="b"/>
                <a:pathLst>
                  <a:path w="147" h="199">
                    <a:moveTo>
                      <a:pt x="12" y="0"/>
                    </a:moveTo>
                    <a:lnTo>
                      <a:pt x="0" y="8"/>
                    </a:lnTo>
                    <a:lnTo>
                      <a:pt x="135" y="199"/>
                    </a:lnTo>
                    <a:lnTo>
                      <a:pt x="147" y="19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246640" y="495108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1" y="0"/>
                    </a:moveTo>
                    <a:lnTo>
                      <a:pt x="12" y="1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313240" y="4792320"/>
                <a:ext cx="114480" cy="317160"/>
              </a:xfrm>
              <a:custGeom>
                <a:avLst/>
                <a:gdLst/>
                <a:ahLst/>
                <a:rect l="l" t="t" r="r" b="b"/>
                <a:pathLst>
                  <a:path w="145" h="400">
                    <a:moveTo>
                      <a:pt x="51" y="400"/>
                    </a:moveTo>
                    <a:lnTo>
                      <a:pt x="35" y="378"/>
                    </a:lnTo>
                    <a:lnTo>
                      <a:pt x="21" y="355"/>
                    </a:lnTo>
                    <a:lnTo>
                      <a:pt x="11" y="330"/>
                    </a:lnTo>
                    <a:lnTo>
                      <a:pt x="4" y="306"/>
                    </a:lnTo>
                    <a:lnTo>
                      <a:pt x="2" y="279"/>
                    </a:lnTo>
                    <a:lnTo>
                      <a:pt x="0" y="255"/>
                    </a:lnTo>
                    <a:lnTo>
                      <a:pt x="3" y="229"/>
                    </a:lnTo>
                    <a:lnTo>
                      <a:pt x="8" y="202"/>
                    </a:lnTo>
                    <a:lnTo>
                      <a:pt x="15" y="178"/>
                    </a:lnTo>
                    <a:lnTo>
                      <a:pt x="26" y="151"/>
                    </a:lnTo>
                    <a:lnTo>
                      <a:pt x="38" y="125"/>
                    </a:lnTo>
                    <a:lnTo>
                      <a:pt x="53" y="99"/>
                    </a:lnTo>
                    <a:lnTo>
                      <a:pt x="90" y="49"/>
                    </a:lnTo>
                    <a:lnTo>
                      <a:pt x="135" y="0"/>
                    </a:lnTo>
                    <a:lnTo>
                      <a:pt x="145" y="11"/>
                    </a:lnTo>
                    <a:lnTo>
                      <a:pt x="101" y="59"/>
                    </a:lnTo>
                    <a:lnTo>
                      <a:pt x="64" y="109"/>
                    </a:lnTo>
                    <a:lnTo>
                      <a:pt x="51" y="134"/>
                    </a:lnTo>
                    <a:lnTo>
                      <a:pt x="38" y="158"/>
                    </a:lnTo>
                    <a:lnTo>
                      <a:pt x="29" y="184"/>
                    </a:lnTo>
                    <a:lnTo>
                      <a:pt x="21" y="207"/>
                    </a:lnTo>
                    <a:lnTo>
                      <a:pt x="16" y="233"/>
                    </a:lnTo>
                    <a:lnTo>
                      <a:pt x="14" y="255"/>
                    </a:lnTo>
                    <a:lnTo>
                      <a:pt x="15" y="279"/>
                    </a:lnTo>
                    <a:lnTo>
                      <a:pt x="18" y="302"/>
                    </a:lnTo>
                    <a:lnTo>
                      <a:pt x="25" y="326"/>
                    </a:lnTo>
                    <a:lnTo>
                      <a:pt x="33" y="348"/>
                    </a:lnTo>
                    <a:lnTo>
                      <a:pt x="47" y="370"/>
                    </a:lnTo>
                    <a:lnTo>
                      <a:pt x="62" y="390"/>
                    </a:lnTo>
                    <a:lnTo>
                      <a:pt x="51" y="4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353200" y="510192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2"/>
                    </a:moveTo>
                    <a:lnTo>
                      <a:pt x="0" y="10"/>
                    </a:lnTo>
                    <a:lnTo>
                      <a:pt x="11" y="0"/>
                    </a:lnTo>
                    <a:lnTo>
                      <a:pt x="0" y="10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419800" y="4692240"/>
                <a:ext cx="419040" cy="109080"/>
              </a:xfrm>
              <a:custGeom>
                <a:avLst/>
                <a:gdLst/>
                <a:ahLst/>
                <a:rect l="l" t="t" r="r" b="b"/>
                <a:pathLst>
                  <a:path w="528" h="138">
                    <a:moveTo>
                      <a:pt x="0" y="126"/>
                    </a:moveTo>
                    <a:lnTo>
                      <a:pt x="32" y="105"/>
                    </a:lnTo>
                    <a:lnTo>
                      <a:pt x="63" y="91"/>
                    </a:lnTo>
                    <a:lnTo>
                      <a:pt x="99" y="80"/>
                    </a:lnTo>
                    <a:lnTo>
                      <a:pt x="133" y="72"/>
                    </a:lnTo>
                    <a:lnTo>
                      <a:pt x="166" y="69"/>
                    </a:lnTo>
                    <a:lnTo>
                      <a:pt x="200" y="67"/>
                    </a:lnTo>
                    <a:lnTo>
                      <a:pt x="269" y="69"/>
                    </a:lnTo>
                    <a:lnTo>
                      <a:pt x="336" y="69"/>
                    </a:lnTo>
                    <a:lnTo>
                      <a:pt x="401" y="61"/>
                    </a:lnTo>
                    <a:lnTo>
                      <a:pt x="430" y="54"/>
                    </a:lnTo>
                    <a:lnTo>
                      <a:pt x="445" y="48"/>
                    </a:lnTo>
                    <a:lnTo>
                      <a:pt x="461" y="40"/>
                    </a:lnTo>
                    <a:lnTo>
                      <a:pt x="489" y="22"/>
                    </a:lnTo>
                    <a:lnTo>
                      <a:pt x="518" y="0"/>
                    </a:lnTo>
                    <a:lnTo>
                      <a:pt x="528" y="11"/>
                    </a:lnTo>
                    <a:lnTo>
                      <a:pt x="497" y="34"/>
                    </a:lnTo>
                    <a:lnTo>
                      <a:pt x="467" y="54"/>
                    </a:lnTo>
                    <a:lnTo>
                      <a:pt x="451" y="61"/>
                    </a:lnTo>
                    <a:lnTo>
                      <a:pt x="435" y="67"/>
                    </a:lnTo>
                    <a:lnTo>
                      <a:pt x="402" y="76"/>
                    </a:lnTo>
                    <a:lnTo>
                      <a:pt x="336" y="83"/>
                    </a:lnTo>
                    <a:lnTo>
                      <a:pt x="269" y="83"/>
                    </a:lnTo>
                    <a:lnTo>
                      <a:pt x="200" y="82"/>
                    </a:lnTo>
                    <a:lnTo>
                      <a:pt x="166" y="83"/>
                    </a:lnTo>
                    <a:lnTo>
                      <a:pt x="134" y="87"/>
                    </a:lnTo>
                    <a:lnTo>
                      <a:pt x="101" y="94"/>
                    </a:lnTo>
                    <a:lnTo>
                      <a:pt x="70" y="104"/>
                    </a:lnTo>
                    <a:lnTo>
                      <a:pt x="39" y="118"/>
                    </a:lnTo>
                    <a:lnTo>
                      <a:pt x="8" y="138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419800" y="479232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1"/>
                    </a:moveTo>
                    <a:lnTo>
                      <a:pt x="0" y="0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819760" y="4366800"/>
                <a:ext cx="74520" cy="331200"/>
              </a:xfrm>
              <a:custGeom>
                <a:avLst/>
                <a:gdLst/>
                <a:ahLst/>
                <a:rect l="l" t="t" r="r" b="b"/>
                <a:pathLst>
                  <a:path w="92" h="418">
                    <a:moveTo>
                      <a:pt x="13" y="408"/>
                    </a:moveTo>
                    <a:lnTo>
                      <a:pt x="30" y="384"/>
                    </a:lnTo>
                    <a:lnTo>
                      <a:pt x="46" y="359"/>
                    </a:lnTo>
                    <a:lnTo>
                      <a:pt x="66" y="309"/>
                    </a:lnTo>
                    <a:lnTo>
                      <a:pt x="77" y="259"/>
                    </a:lnTo>
                    <a:lnTo>
                      <a:pt x="78" y="235"/>
                    </a:lnTo>
                    <a:lnTo>
                      <a:pt x="78" y="208"/>
                    </a:lnTo>
                    <a:lnTo>
                      <a:pt x="74" y="183"/>
                    </a:lnTo>
                    <a:lnTo>
                      <a:pt x="69" y="159"/>
                    </a:lnTo>
                    <a:lnTo>
                      <a:pt x="62" y="133"/>
                    </a:lnTo>
                    <a:lnTo>
                      <a:pt x="52" y="109"/>
                    </a:lnTo>
                    <a:lnTo>
                      <a:pt x="42" y="83"/>
                    </a:lnTo>
                    <a:lnTo>
                      <a:pt x="30" y="57"/>
                    </a:lnTo>
                    <a:lnTo>
                      <a:pt x="15" y="33"/>
                    </a:lnTo>
                    <a:lnTo>
                      <a:pt x="0" y="8"/>
                    </a:lnTo>
                    <a:lnTo>
                      <a:pt x="12" y="0"/>
                    </a:lnTo>
                    <a:lnTo>
                      <a:pt x="28" y="24"/>
                    </a:lnTo>
                    <a:lnTo>
                      <a:pt x="42" y="50"/>
                    </a:lnTo>
                    <a:lnTo>
                      <a:pt x="55" y="76"/>
                    </a:lnTo>
                    <a:lnTo>
                      <a:pt x="66" y="102"/>
                    </a:lnTo>
                    <a:lnTo>
                      <a:pt x="75" y="128"/>
                    </a:lnTo>
                    <a:lnTo>
                      <a:pt x="83" y="155"/>
                    </a:lnTo>
                    <a:lnTo>
                      <a:pt x="88" y="181"/>
                    </a:lnTo>
                    <a:lnTo>
                      <a:pt x="91" y="208"/>
                    </a:lnTo>
                    <a:lnTo>
                      <a:pt x="92" y="235"/>
                    </a:lnTo>
                    <a:lnTo>
                      <a:pt x="90" y="263"/>
                    </a:lnTo>
                    <a:lnTo>
                      <a:pt x="79" y="315"/>
                    </a:lnTo>
                    <a:lnTo>
                      <a:pt x="58" y="367"/>
                    </a:lnTo>
                    <a:lnTo>
                      <a:pt x="42" y="392"/>
                    </a:lnTo>
                    <a:lnTo>
                      <a:pt x="24" y="418"/>
                    </a:lnTo>
                    <a:lnTo>
                      <a:pt x="13" y="4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830920" y="469224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1"/>
                    </a:moveTo>
                    <a:lnTo>
                      <a:pt x="11" y="1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175360" y="3569760"/>
                <a:ext cx="654120" cy="804600"/>
              </a:xfrm>
              <a:custGeom>
                <a:avLst/>
                <a:gdLst/>
                <a:ahLst/>
                <a:rect l="l" t="t" r="r" b="b"/>
                <a:pathLst>
                  <a:path w="824" h="1012">
                    <a:moveTo>
                      <a:pt x="813" y="1012"/>
                    </a:moveTo>
                    <a:lnTo>
                      <a:pt x="718" y="880"/>
                    </a:lnTo>
                    <a:lnTo>
                      <a:pt x="623" y="751"/>
                    </a:lnTo>
                    <a:lnTo>
                      <a:pt x="524" y="622"/>
                    </a:lnTo>
                    <a:lnTo>
                      <a:pt x="424" y="495"/>
                    </a:lnTo>
                    <a:lnTo>
                      <a:pt x="321" y="372"/>
                    </a:lnTo>
                    <a:lnTo>
                      <a:pt x="216" y="249"/>
                    </a:lnTo>
                    <a:lnTo>
                      <a:pt x="110" y="129"/>
                    </a:lnTo>
                    <a:lnTo>
                      <a:pt x="0" y="11"/>
                    </a:lnTo>
                    <a:lnTo>
                      <a:pt x="9" y="0"/>
                    </a:lnTo>
                    <a:lnTo>
                      <a:pt x="119" y="118"/>
                    </a:lnTo>
                    <a:lnTo>
                      <a:pt x="227" y="239"/>
                    </a:lnTo>
                    <a:lnTo>
                      <a:pt x="332" y="362"/>
                    </a:lnTo>
                    <a:lnTo>
                      <a:pt x="435" y="485"/>
                    </a:lnTo>
                    <a:lnTo>
                      <a:pt x="535" y="612"/>
                    </a:lnTo>
                    <a:lnTo>
                      <a:pt x="634" y="741"/>
                    </a:lnTo>
                    <a:lnTo>
                      <a:pt x="729" y="870"/>
                    </a:lnTo>
                    <a:lnTo>
                      <a:pt x="824" y="1004"/>
                    </a:lnTo>
                    <a:lnTo>
                      <a:pt x="813" y="10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819760" y="436680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0"/>
                    </a:moveTo>
                    <a:lnTo>
                      <a:pt x="11" y="0"/>
                    </a:lnTo>
                    <a:lnTo>
                      <a:pt x="0" y="8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173560" y="3179160"/>
                <a:ext cx="344520" cy="398160"/>
              </a:xfrm>
              <a:custGeom>
                <a:avLst/>
                <a:gdLst/>
                <a:ahLst/>
                <a:rect l="l" t="t" r="r" b="b"/>
                <a:pathLst>
                  <a:path w="434" h="503">
                    <a:moveTo>
                      <a:pt x="0" y="493"/>
                    </a:moveTo>
                    <a:lnTo>
                      <a:pt x="104" y="369"/>
                    </a:lnTo>
                    <a:lnTo>
                      <a:pt x="212" y="247"/>
                    </a:lnTo>
                    <a:lnTo>
                      <a:pt x="318" y="125"/>
                    </a:lnTo>
                    <a:lnTo>
                      <a:pt x="423" y="0"/>
                    </a:lnTo>
                    <a:lnTo>
                      <a:pt x="434" y="10"/>
                    </a:lnTo>
                    <a:lnTo>
                      <a:pt x="329" y="135"/>
                    </a:lnTo>
                    <a:lnTo>
                      <a:pt x="223" y="257"/>
                    </a:lnTo>
                    <a:lnTo>
                      <a:pt x="115" y="379"/>
                    </a:lnTo>
                    <a:lnTo>
                      <a:pt x="11" y="503"/>
                    </a:lnTo>
                    <a:lnTo>
                      <a:pt x="0" y="4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170320" y="356976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7" y="11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6" y="10"/>
                    </a:lnTo>
                    <a:lnTo>
                      <a:pt x="16" y="0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510160" y="2961720"/>
                <a:ext cx="282600" cy="225000"/>
              </a:xfrm>
              <a:custGeom>
                <a:avLst/>
                <a:gdLst/>
                <a:ahLst/>
                <a:rect l="l" t="t" r="r" b="b"/>
                <a:pathLst>
                  <a:path w="357" h="284">
                    <a:moveTo>
                      <a:pt x="0" y="274"/>
                    </a:moveTo>
                    <a:lnTo>
                      <a:pt x="33" y="234"/>
                    </a:lnTo>
                    <a:lnTo>
                      <a:pt x="70" y="188"/>
                    </a:lnTo>
                    <a:lnTo>
                      <a:pt x="112" y="142"/>
                    </a:lnTo>
                    <a:lnTo>
                      <a:pt x="157" y="97"/>
                    </a:lnTo>
                    <a:lnTo>
                      <a:pt x="180" y="76"/>
                    </a:lnTo>
                    <a:lnTo>
                      <a:pt x="203" y="56"/>
                    </a:lnTo>
                    <a:lnTo>
                      <a:pt x="228" y="39"/>
                    </a:lnTo>
                    <a:lnTo>
                      <a:pt x="253" y="25"/>
                    </a:lnTo>
                    <a:lnTo>
                      <a:pt x="278" y="14"/>
                    </a:lnTo>
                    <a:lnTo>
                      <a:pt x="306" y="4"/>
                    </a:lnTo>
                    <a:lnTo>
                      <a:pt x="332" y="0"/>
                    </a:lnTo>
                    <a:lnTo>
                      <a:pt x="357" y="0"/>
                    </a:lnTo>
                    <a:lnTo>
                      <a:pt x="357" y="15"/>
                    </a:lnTo>
                    <a:lnTo>
                      <a:pt x="332" y="15"/>
                    </a:lnTo>
                    <a:lnTo>
                      <a:pt x="308" y="18"/>
                    </a:lnTo>
                    <a:lnTo>
                      <a:pt x="284" y="27"/>
                    </a:lnTo>
                    <a:lnTo>
                      <a:pt x="259" y="38"/>
                    </a:lnTo>
                    <a:lnTo>
                      <a:pt x="236" y="51"/>
                    </a:lnTo>
                    <a:lnTo>
                      <a:pt x="212" y="69"/>
                    </a:lnTo>
                    <a:lnTo>
                      <a:pt x="190" y="87"/>
                    </a:lnTo>
                    <a:lnTo>
                      <a:pt x="167" y="108"/>
                    </a:lnTo>
                    <a:lnTo>
                      <a:pt x="121" y="153"/>
                    </a:lnTo>
                    <a:lnTo>
                      <a:pt x="81" y="198"/>
                    </a:lnTo>
                    <a:lnTo>
                      <a:pt x="44" y="243"/>
                    </a:lnTo>
                    <a:lnTo>
                      <a:pt x="11" y="284"/>
                    </a:lnTo>
                    <a:lnTo>
                      <a:pt x="0" y="2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510160" y="31791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10"/>
                    </a:moveTo>
                    <a:lnTo>
                      <a:pt x="0" y="0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592600" y="2963520"/>
                <a:ext cx="201600" cy="67680"/>
              </a:xfrm>
              <a:custGeom>
                <a:avLst/>
                <a:gdLst/>
                <a:ahLst/>
                <a:rect l="l" t="t" r="r" b="b"/>
                <a:pathLst>
                  <a:path w="255" h="87">
                    <a:moveTo>
                      <a:pt x="255" y="14"/>
                    </a:moveTo>
                    <a:lnTo>
                      <a:pt x="250" y="0"/>
                    </a:lnTo>
                    <a:lnTo>
                      <a:pt x="0" y="74"/>
                    </a:lnTo>
                    <a:lnTo>
                      <a:pt x="5" y="87"/>
                    </a:lnTo>
                    <a:lnTo>
                      <a:pt x="25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791320" y="296172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2" y="0"/>
                    </a:moveTo>
                    <a:lnTo>
                      <a:pt x="5" y="15"/>
                    </a:lnTo>
                    <a:lnTo>
                      <a:pt x="0" y="1"/>
                    </a:lnTo>
                    <a:lnTo>
                      <a:pt x="2" y="1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592600" y="3020400"/>
                <a:ext cx="5040" cy="1080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3"/>
                    </a:moveTo>
                    <a:lnTo>
                      <a:pt x="4" y="13"/>
                    </a:lnTo>
                    <a:lnTo>
                      <a:pt x="0" y="0"/>
                    </a:lnTo>
                    <a:lnTo>
                      <a:pt x="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791320" y="2301480"/>
                <a:ext cx="547560" cy="1441080"/>
              </a:xfrm>
              <a:custGeom>
                <a:avLst/>
                <a:gdLst/>
                <a:ahLst/>
                <a:rect l="l" t="t" r="r" b="b"/>
                <a:pathLst>
                  <a:path w="689" h="1816">
                    <a:moveTo>
                      <a:pt x="116" y="165"/>
                    </a:moveTo>
                    <a:lnTo>
                      <a:pt x="100" y="202"/>
                    </a:lnTo>
                    <a:lnTo>
                      <a:pt x="83" y="239"/>
                    </a:lnTo>
                    <a:lnTo>
                      <a:pt x="66" y="274"/>
                    </a:lnTo>
                    <a:lnTo>
                      <a:pt x="48" y="311"/>
                    </a:lnTo>
                    <a:lnTo>
                      <a:pt x="37" y="334"/>
                    </a:lnTo>
                    <a:lnTo>
                      <a:pt x="27" y="356"/>
                    </a:lnTo>
                    <a:lnTo>
                      <a:pt x="19" y="379"/>
                    </a:lnTo>
                    <a:lnTo>
                      <a:pt x="16" y="392"/>
                    </a:lnTo>
                    <a:lnTo>
                      <a:pt x="12" y="403"/>
                    </a:lnTo>
                    <a:lnTo>
                      <a:pt x="7" y="426"/>
                    </a:lnTo>
                    <a:lnTo>
                      <a:pt x="4" y="449"/>
                    </a:lnTo>
                    <a:lnTo>
                      <a:pt x="1" y="474"/>
                    </a:lnTo>
                    <a:lnTo>
                      <a:pt x="0" y="497"/>
                    </a:lnTo>
                    <a:lnTo>
                      <a:pt x="0" y="520"/>
                    </a:lnTo>
                    <a:lnTo>
                      <a:pt x="2" y="543"/>
                    </a:lnTo>
                    <a:lnTo>
                      <a:pt x="5" y="554"/>
                    </a:lnTo>
                    <a:lnTo>
                      <a:pt x="6" y="567"/>
                    </a:lnTo>
                    <a:lnTo>
                      <a:pt x="12" y="590"/>
                    </a:lnTo>
                    <a:lnTo>
                      <a:pt x="19" y="612"/>
                    </a:lnTo>
                    <a:lnTo>
                      <a:pt x="28" y="635"/>
                    </a:lnTo>
                    <a:lnTo>
                      <a:pt x="39" y="657"/>
                    </a:lnTo>
                    <a:lnTo>
                      <a:pt x="45" y="669"/>
                    </a:lnTo>
                    <a:lnTo>
                      <a:pt x="51" y="680"/>
                    </a:lnTo>
                    <a:lnTo>
                      <a:pt x="60" y="690"/>
                    </a:lnTo>
                    <a:lnTo>
                      <a:pt x="68" y="697"/>
                    </a:lnTo>
                    <a:lnTo>
                      <a:pt x="77" y="705"/>
                    </a:lnTo>
                    <a:lnTo>
                      <a:pt x="87" y="710"/>
                    </a:lnTo>
                    <a:lnTo>
                      <a:pt x="95" y="715"/>
                    </a:lnTo>
                    <a:lnTo>
                      <a:pt x="104" y="717"/>
                    </a:lnTo>
                    <a:lnTo>
                      <a:pt x="114" y="719"/>
                    </a:lnTo>
                    <a:lnTo>
                      <a:pt x="122" y="721"/>
                    </a:lnTo>
                    <a:lnTo>
                      <a:pt x="131" y="721"/>
                    </a:lnTo>
                    <a:lnTo>
                      <a:pt x="140" y="721"/>
                    </a:lnTo>
                    <a:lnTo>
                      <a:pt x="149" y="719"/>
                    </a:lnTo>
                    <a:lnTo>
                      <a:pt x="159" y="718"/>
                    </a:lnTo>
                    <a:lnTo>
                      <a:pt x="177" y="715"/>
                    </a:lnTo>
                    <a:lnTo>
                      <a:pt x="194" y="710"/>
                    </a:lnTo>
                    <a:lnTo>
                      <a:pt x="213" y="706"/>
                    </a:lnTo>
                    <a:lnTo>
                      <a:pt x="231" y="702"/>
                    </a:lnTo>
                    <a:lnTo>
                      <a:pt x="248" y="700"/>
                    </a:lnTo>
                    <a:lnTo>
                      <a:pt x="257" y="700"/>
                    </a:lnTo>
                    <a:lnTo>
                      <a:pt x="265" y="701"/>
                    </a:lnTo>
                    <a:lnTo>
                      <a:pt x="274" y="702"/>
                    </a:lnTo>
                    <a:lnTo>
                      <a:pt x="281" y="705"/>
                    </a:lnTo>
                    <a:lnTo>
                      <a:pt x="286" y="707"/>
                    </a:lnTo>
                    <a:lnTo>
                      <a:pt x="290" y="708"/>
                    </a:lnTo>
                    <a:lnTo>
                      <a:pt x="297" y="713"/>
                    </a:lnTo>
                    <a:lnTo>
                      <a:pt x="305" y="719"/>
                    </a:lnTo>
                    <a:lnTo>
                      <a:pt x="313" y="727"/>
                    </a:lnTo>
                    <a:lnTo>
                      <a:pt x="320" y="735"/>
                    </a:lnTo>
                    <a:lnTo>
                      <a:pt x="327" y="746"/>
                    </a:lnTo>
                    <a:lnTo>
                      <a:pt x="336" y="766"/>
                    </a:lnTo>
                    <a:lnTo>
                      <a:pt x="345" y="785"/>
                    </a:lnTo>
                    <a:lnTo>
                      <a:pt x="353" y="805"/>
                    </a:lnTo>
                    <a:lnTo>
                      <a:pt x="359" y="825"/>
                    </a:lnTo>
                    <a:lnTo>
                      <a:pt x="365" y="844"/>
                    </a:lnTo>
                    <a:lnTo>
                      <a:pt x="371" y="865"/>
                    </a:lnTo>
                    <a:lnTo>
                      <a:pt x="381" y="904"/>
                    </a:lnTo>
                    <a:lnTo>
                      <a:pt x="384" y="925"/>
                    </a:lnTo>
                    <a:lnTo>
                      <a:pt x="387" y="944"/>
                    </a:lnTo>
                    <a:lnTo>
                      <a:pt x="390" y="964"/>
                    </a:lnTo>
                    <a:lnTo>
                      <a:pt x="391" y="985"/>
                    </a:lnTo>
                    <a:lnTo>
                      <a:pt x="392" y="1004"/>
                    </a:lnTo>
                    <a:lnTo>
                      <a:pt x="392" y="1024"/>
                    </a:lnTo>
                    <a:lnTo>
                      <a:pt x="392" y="1045"/>
                    </a:lnTo>
                    <a:lnTo>
                      <a:pt x="392" y="1064"/>
                    </a:lnTo>
                    <a:lnTo>
                      <a:pt x="391" y="1085"/>
                    </a:lnTo>
                    <a:lnTo>
                      <a:pt x="389" y="1105"/>
                    </a:lnTo>
                    <a:lnTo>
                      <a:pt x="386" y="1124"/>
                    </a:lnTo>
                    <a:lnTo>
                      <a:pt x="384" y="1145"/>
                    </a:lnTo>
                    <a:lnTo>
                      <a:pt x="380" y="1165"/>
                    </a:lnTo>
                    <a:lnTo>
                      <a:pt x="376" y="1184"/>
                    </a:lnTo>
                    <a:lnTo>
                      <a:pt x="373" y="1205"/>
                    </a:lnTo>
                    <a:lnTo>
                      <a:pt x="368" y="1224"/>
                    </a:lnTo>
                    <a:lnTo>
                      <a:pt x="363" y="1244"/>
                    </a:lnTo>
                    <a:lnTo>
                      <a:pt x="357" y="1265"/>
                    </a:lnTo>
                    <a:lnTo>
                      <a:pt x="345" y="1304"/>
                    </a:lnTo>
                    <a:lnTo>
                      <a:pt x="331" y="1344"/>
                    </a:lnTo>
                    <a:lnTo>
                      <a:pt x="316" y="1383"/>
                    </a:lnTo>
                    <a:lnTo>
                      <a:pt x="299" y="1423"/>
                    </a:lnTo>
                    <a:lnTo>
                      <a:pt x="279" y="1465"/>
                    </a:lnTo>
                    <a:lnTo>
                      <a:pt x="255" y="1513"/>
                    </a:lnTo>
                    <a:lnTo>
                      <a:pt x="243" y="1536"/>
                    </a:lnTo>
                    <a:lnTo>
                      <a:pt x="230" y="1561"/>
                    </a:lnTo>
                    <a:lnTo>
                      <a:pt x="216" y="1584"/>
                    </a:lnTo>
                    <a:lnTo>
                      <a:pt x="202" y="1607"/>
                    </a:lnTo>
                    <a:lnTo>
                      <a:pt x="186" y="1630"/>
                    </a:lnTo>
                    <a:lnTo>
                      <a:pt x="170" y="1651"/>
                    </a:lnTo>
                    <a:lnTo>
                      <a:pt x="154" y="1672"/>
                    </a:lnTo>
                    <a:lnTo>
                      <a:pt x="137" y="1692"/>
                    </a:lnTo>
                    <a:lnTo>
                      <a:pt x="118" y="1709"/>
                    </a:lnTo>
                    <a:lnTo>
                      <a:pt x="101" y="1725"/>
                    </a:lnTo>
                    <a:lnTo>
                      <a:pt x="111" y="1738"/>
                    </a:lnTo>
                    <a:lnTo>
                      <a:pt x="122" y="1749"/>
                    </a:lnTo>
                    <a:lnTo>
                      <a:pt x="132" y="1760"/>
                    </a:lnTo>
                    <a:lnTo>
                      <a:pt x="143" y="1770"/>
                    </a:lnTo>
                    <a:lnTo>
                      <a:pt x="153" y="1778"/>
                    </a:lnTo>
                    <a:lnTo>
                      <a:pt x="164" y="1786"/>
                    </a:lnTo>
                    <a:lnTo>
                      <a:pt x="173" y="1793"/>
                    </a:lnTo>
                    <a:lnTo>
                      <a:pt x="183" y="1799"/>
                    </a:lnTo>
                    <a:lnTo>
                      <a:pt x="193" y="1804"/>
                    </a:lnTo>
                    <a:lnTo>
                      <a:pt x="204" y="1808"/>
                    </a:lnTo>
                    <a:lnTo>
                      <a:pt x="214" y="1811"/>
                    </a:lnTo>
                    <a:lnTo>
                      <a:pt x="224" y="1814"/>
                    </a:lnTo>
                    <a:lnTo>
                      <a:pt x="233" y="1815"/>
                    </a:lnTo>
                    <a:lnTo>
                      <a:pt x="243" y="1816"/>
                    </a:lnTo>
                    <a:lnTo>
                      <a:pt x="253" y="1816"/>
                    </a:lnTo>
                    <a:lnTo>
                      <a:pt x="263" y="1815"/>
                    </a:lnTo>
                    <a:lnTo>
                      <a:pt x="272" y="1814"/>
                    </a:lnTo>
                    <a:lnTo>
                      <a:pt x="282" y="1811"/>
                    </a:lnTo>
                    <a:lnTo>
                      <a:pt x="291" y="1809"/>
                    </a:lnTo>
                    <a:lnTo>
                      <a:pt x="301" y="1805"/>
                    </a:lnTo>
                    <a:lnTo>
                      <a:pt x="319" y="1797"/>
                    </a:lnTo>
                    <a:lnTo>
                      <a:pt x="337" y="1786"/>
                    </a:lnTo>
                    <a:lnTo>
                      <a:pt x="346" y="1780"/>
                    </a:lnTo>
                    <a:lnTo>
                      <a:pt x="356" y="1773"/>
                    </a:lnTo>
                    <a:lnTo>
                      <a:pt x="373" y="1758"/>
                    </a:lnTo>
                    <a:lnTo>
                      <a:pt x="381" y="1750"/>
                    </a:lnTo>
                    <a:lnTo>
                      <a:pt x="390" y="1742"/>
                    </a:lnTo>
                    <a:lnTo>
                      <a:pt x="407" y="1723"/>
                    </a:lnTo>
                    <a:lnTo>
                      <a:pt x="423" y="1704"/>
                    </a:lnTo>
                    <a:lnTo>
                      <a:pt x="439" y="1683"/>
                    </a:lnTo>
                    <a:lnTo>
                      <a:pt x="446" y="1672"/>
                    </a:lnTo>
                    <a:lnTo>
                      <a:pt x="453" y="1661"/>
                    </a:lnTo>
                    <a:lnTo>
                      <a:pt x="469" y="1638"/>
                    </a:lnTo>
                    <a:lnTo>
                      <a:pt x="483" y="1614"/>
                    </a:lnTo>
                    <a:lnTo>
                      <a:pt x="497" y="1590"/>
                    </a:lnTo>
                    <a:lnTo>
                      <a:pt x="511" y="1567"/>
                    </a:lnTo>
                    <a:lnTo>
                      <a:pt x="523" y="1542"/>
                    </a:lnTo>
                    <a:lnTo>
                      <a:pt x="547" y="1495"/>
                    </a:lnTo>
                    <a:lnTo>
                      <a:pt x="568" y="1448"/>
                    </a:lnTo>
                    <a:lnTo>
                      <a:pt x="587" y="1405"/>
                    </a:lnTo>
                    <a:lnTo>
                      <a:pt x="604" y="1367"/>
                    </a:lnTo>
                    <a:lnTo>
                      <a:pt x="621" y="1323"/>
                    </a:lnTo>
                    <a:lnTo>
                      <a:pt x="628" y="1301"/>
                    </a:lnTo>
                    <a:lnTo>
                      <a:pt x="635" y="1278"/>
                    </a:lnTo>
                    <a:lnTo>
                      <a:pt x="650" y="1234"/>
                    </a:lnTo>
                    <a:lnTo>
                      <a:pt x="661" y="1189"/>
                    </a:lnTo>
                    <a:lnTo>
                      <a:pt x="671" y="1145"/>
                    </a:lnTo>
                    <a:lnTo>
                      <a:pt x="676" y="1122"/>
                    </a:lnTo>
                    <a:lnTo>
                      <a:pt x="679" y="1100"/>
                    </a:lnTo>
                    <a:lnTo>
                      <a:pt x="683" y="1076"/>
                    </a:lnTo>
                    <a:lnTo>
                      <a:pt x="686" y="1054"/>
                    </a:lnTo>
                    <a:lnTo>
                      <a:pt x="687" y="1032"/>
                    </a:lnTo>
                    <a:lnTo>
                      <a:pt x="688" y="1009"/>
                    </a:lnTo>
                    <a:lnTo>
                      <a:pt x="689" y="964"/>
                    </a:lnTo>
                    <a:lnTo>
                      <a:pt x="689" y="942"/>
                    </a:lnTo>
                    <a:lnTo>
                      <a:pt x="688" y="920"/>
                    </a:lnTo>
                    <a:lnTo>
                      <a:pt x="686" y="897"/>
                    </a:lnTo>
                    <a:lnTo>
                      <a:pt x="683" y="875"/>
                    </a:lnTo>
                    <a:lnTo>
                      <a:pt x="679" y="853"/>
                    </a:lnTo>
                    <a:lnTo>
                      <a:pt x="676" y="829"/>
                    </a:lnTo>
                    <a:lnTo>
                      <a:pt x="671" y="807"/>
                    </a:lnTo>
                    <a:lnTo>
                      <a:pt x="666" y="785"/>
                    </a:lnTo>
                    <a:lnTo>
                      <a:pt x="660" y="763"/>
                    </a:lnTo>
                    <a:lnTo>
                      <a:pt x="653" y="740"/>
                    </a:lnTo>
                    <a:lnTo>
                      <a:pt x="644" y="718"/>
                    </a:lnTo>
                    <a:lnTo>
                      <a:pt x="635" y="696"/>
                    </a:lnTo>
                    <a:lnTo>
                      <a:pt x="626" y="674"/>
                    </a:lnTo>
                    <a:lnTo>
                      <a:pt x="616" y="652"/>
                    </a:lnTo>
                    <a:lnTo>
                      <a:pt x="607" y="640"/>
                    </a:lnTo>
                    <a:lnTo>
                      <a:pt x="600" y="630"/>
                    </a:lnTo>
                    <a:lnTo>
                      <a:pt x="595" y="626"/>
                    </a:lnTo>
                    <a:lnTo>
                      <a:pt x="591" y="623"/>
                    </a:lnTo>
                    <a:lnTo>
                      <a:pt x="582" y="615"/>
                    </a:lnTo>
                    <a:lnTo>
                      <a:pt x="573" y="611"/>
                    </a:lnTo>
                    <a:lnTo>
                      <a:pt x="565" y="607"/>
                    </a:lnTo>
                    <a:lnTo>
                      <a:pt x="555" y="603"/>
                    </a:lnTo>
                    <a:lnTo>
                      <a:pt x="546" y="602"/>
                    </a:lnTo>
                    <a:lnTo>
                      <a:pt x="536" y="601"/>
                    </a:lnTo>
                    <a:lnTo>
                      <a:pt x="527" y="601"/>
                    </a:lnTo>
                    <a:lnTo>
                      <a:pt x="517" y="602"/>
                    </a:lnTo>
                    <a:lnTo>
                      <a:pt x="507" y="603"/>
                    </a:lnTo>
                    <a:lnTo>
                      <a:pt x="497" y="604"/>
                    </a:lnTo>
                    <a:lnTo>
                      <a:pt x="488" y="607"/>
                    </a:lnTo>
                    <a:lnTo>
                      <a:pt x="467" y="612"/>
                    </a:lnTo>
                    <a:lnTo>
                      <a:pt x="447" y="617"/>
                    </a:lnTo>
                    <a:lnTo>
                      <a:pt x="426" y="622"/>
                    </a:lnTo>
                    <a:lnTo>
                      <a:pt x="417" y="623"/>
                    </a:lnTo>
                    <a:lnTo>
                      <a:pt x="406" y="624"/>
                    </a:lnTo>
                    <a:lnTo>
                      <a:pt x="386" y="624"/>
                    </a:lnTo>
                    <a:lnTo>
                      <a:pt x="375" y="623"/>
                    </a:lnTo>
                    <a:lnTo>
                      <a:pt x="365" y="620"/>
                    </a:lnTo>
                    <a:lnTo>
                      <a:pt x="356" y="617"/>
                    </a:lnTo>
                    <a:lnTo>
                      <a:pt x="351" y="614"/>
                    </a:lnTo>
                    <a:lnTo>
                      <a:pt x="346" y="612"/>
                    </a:lnTo>
                    <a:lnTo>
                      <a:pt x="336" y="606"/>
                    </a:lnTo>
                    <a:lnTo>
                      <a:pt x="331" y="602"/>
                    </a:lnTo>
                    <a:lnTo>
                      <a:pt x="326" y="598"/>
                    </a:lnTo>
                    <a:lnTo>
                      <a:pt x="316" y="589"/>
                    </a:lnTo>
                    <a:lnTo>
                      <a:pt x="307" y="578"/>
                    </a:lnTo>
                    <a:lnTo>
                      <a:pt x="299" y="565"/>
                    </a:lnTo>
                    <a:lnTo>
                      <a:pt x="292" y="553"/>
                    </a:lnTo>
                    <a:lnTo>
                      <a:pt x="286" y="541"/>
                    </a:lnTo>
                    <a:lnTo>
                      <a:pt x="280" y="527"/>
                    </a:lnTo>
                    <a:lnTo>
                      <a:pt x="270" y="502"/>
                    </a:lnTo>
                    <a:lnTo>
                      <a:pt x="263" y="476"/>
                    </a:lnTo>
                    <a:lnTo>
                      <a:pt x="259" y="464"/>
                    </a:lnTo>
                    <a:lnTo>
                      <a:pt x="255" y="450"/>
                    </a:lnTo>
                    <a:lnTo>
                      <a:pt x="253" y="437"/>
                    </a:lnTo>
                    <a:lnTo>
                      <a:pt x="252" y="425"/>
                    </a:lnTo>
                    <a:lnTo>
                      <a:pt x="250" y="411"/>
                    </a:lnTo>
                    <a:lnTo>
                      <a:pt x="249" y="398"/>
                    </a:lnTo>
                    <a:lnTo>
                      <a:pt x="248" y="386"/>
                    </a:lnTo>
                    <a:lnTo>
                      <a:pt x="248" y="372"/>
                    </a:lnTo>
                    <a:lnTo>
                      <a:pt x="249" y="346"/>
                    </a:lnTo>
                    <a:lnTo>
                      <a:pt x="252" y="320"/>
                    </a:lnTo>
                    <a:lnTo>
                      <a:pt x="257" y="294"/>
                    </a:lnTo>
                    <a:lnTo>
                      <a:pt x="259" y="280"/>
                    </a:lnTo>
                    <a:lnTo>
                      <a:pt x="263" y="267"/>
                    </a:lnTo>
                    <a:lnTo>
                      <a:pt x="266" y="255"/>
                    </a:lnTo>
                    <a:lnTo>
                      <a:pt x="270" y="241"/>
                    </a:lnTo>
                    <a:lnTo>
                      <a:pt x="280" y="216"/>
                    </a:lnTo>
                    <a:lnTo>
                      <a:pt x="290" y="190"/>
                    </a:lnTo>
                    <a:lnTo>
                      <a:pt x="302" y="164"/>
                    </a:lnTo>
                    <a:lnTo>
                      <a:pt x="323" y="124"/>
                    </a:lnTo>
                    <a:lnTo>
                      <a:pt x="342" y="82"/>
                    </a:lnTo>
                    <a:lnTo>
                      <a:pt x="360" y="42"/>
                    </a:lnTo>
                    <a:lnTo>
                      <a:pt x="379" y="0"/>
                    </a:lnTo>
                    <a:lnTo>
                      <a:pt x="116" y="165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823000" y="2430000"/>
                <a:ext cx="65160" cy="120240"/>
              </a:xfrm>
              <a:custGeom>
                <a:avLst/>
                <a:gdLst/>
                <a:ahLst/>
                <a:rect l="l" t="t" r="r" b="b"/>
                <a:pathLst>
                  <a:path w="82" h="152">
                    <a:moveTo>
                      <a:pt x="82" y="6"/>
                    </a:moveTo>
                    <a:lnTo>
                      <a:pt x="49" y="80"/>
                    </a:lnTo>
                    <a:lnTo>
                      <a:pt x="14" y="152"/>
                    </a:lnTo>
                    <a:lnTo>
                      <a:pt x="0" y="146"/>
                    </a:lnTo>
                    <a:lnTo>
                      <a:pt x="36" y="73"/>
                    </a:lnTo>
                    <a:lnTo>
                      <a:pt x="69" y="0"/>
                    </a:lnTo>
                    <a:lnTo>
                      <a:pt x="8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784840" y="2545920"/>
                <a:ext cx="52560" cy="296280"/>
              </a:xfrm>
              <a:custGeom>
                <a:avLst/>
                <a:gdLst/>
                <a:ahLst/>
                <a:rect l="l" t="t" r="r" b="b"/>
                <a:pathLst>
                  <a:path w="64" h="375">
                    <a:moveTo>
                      <a:pt x="61" y="6"/>
                    </a:moveTo>
                    <a:lnTo>
                      <a:pt x="40" y="51"/>
                    </a:lnTo>
                    <a:lnTo>
                      <a:pt x="26" y="95"/>
                    </a:lnTo>
                    <a:lnTo>
                      <a:pt x="18" y="140"/>
                    </a:lnTo>
                    <a:lnTo>
                      <a:pt x="14" y="188"/>
                    </a:lnTo>
                    <a:lnTo>
                      <a:pt x="17" y="234"/>
                    </a:lnTo>
                    <a:lnTo>
                      <a:pt x="20" y="256"/>
                    </a:lnTo>
                    <a:lnTo>
                      <a:pt x="26" y="280"/>
                    </a:lnTo>
                    <a:lnTo>
                      <a:pt x="33" y="300"/>
                    </a:lnTo>
                    <a:lnTo>
                      <a:pt x="41" y="324"/>
                    </a:lnTo>
                    <a:lnTo>
                      <a:pt x="64" y="369"/>
                    </a:lnTo>
                    <a:lnTo>
                      <a:pt x="51" y="375"/>
                    </a:lnTo>
                    <a:lnTo>
                      <a:pt x="28" y="330"/>
                    </a:lnTo>
                    <a:lnTo>
                      <a:pt x="19" y="306"/>
                    </a:lnTo>
                    <a:lnTo>
                      <a:pt x="12" y="282"/>
                    </a:lnTo>
                    <a:lnTo>
                      <a:pt x="6" y="259"/>
                    </a:lnTo>
                    <a:lnTo>
                      <a:pt x="2" y="236"/>
                    </a:lnTo>
                    <a:lnTo>
                      <a:pt x="0" y="188"/>
                    </a:lnTo>
                    <a:lnTo>
                      <a:pt x="3" y="139"/>
                    </a:lnTo>
                    <a:lnTo>
                      <a:pt x="12" y="92"/>
                    </a:lnTo>
                    <a:lnTo>
                      <a:pt x="26" y="45"/>
                    </a:lnTo>
                    <a:lnTo>
                      <a:pt x="47" y="0"/>
                    </a:lnTo>
                    <a:lnTo>
                      <a:pt x="6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823000" y="254592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14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827680" y="2836440"/>
                <a:ext cx="228600" cy="58320"/>
              </a:xfrm>
              <a:custGeom>
                <a:avLst/>
                <a:gdLst/>
                <a:ahLst/>
                <a:rect l="l" t="t" r="r" b="b"/>
                <a:pathLst>
                  <a:path w="289" h="75">
                    <a:moveTo>
                      <a:pt x="11" y="0"/>
                    </a:moveTo>
                    <a:lnTo>
                      <a:pt x="28" y="18"/>
                    </a:lnTo>
                    <a:lnTo>
                      <a:pt x="43" y="29"/>
                    </a:lnTo>
                    <a:lnTo>
                      <a:pt x="60" y="35"/>
                    </a:lnTo>
                    <a:lnTo>
                      <a:pt x="77" y="38"/>
                    </a:lnTo>
                    <a:lnTo>
                      <a:pt x="95" y="38"/>
                    </a:lnTo>
                    <a:lnTo>
                      <a:pt x="113" y="36"/>
                    </a:lnTo>
                    <a:lnTo>
                      <a:pt x="148" y="27"/>
                    </a:lnTo>
                    <a:lnTo>
                      <a:pt x="185" y="20"/>
                    </a:lnTo>
                    <a:lnTo>
                      <a:pt x="203" y="18"/>
                    </a:lnTo>
                    <a:lnTo>
                      <a:pt x="221" y="19"/>
                    </a:lnTo>
                    <a:lnTo>
                      <a:pt x="238" y="24"/>
                    </a:lnTo>
                    <a:lnTo>
                      <a:pt x="256" y="32"/>
                    </a:lnTo>
                    <a:lnTo>
                      <a:pt x="273" y="47"/>
                    </a:lnTo>
                    <a:lnTo>
                      <a:pt x="289" y="66"/>
                    </a:lnTo>
                    <a:lnTo>
                      <a:pt x="276" y="75"/>
                    </a:lnTo>
                    <a:lnTo>
                      <a:pt x="262" y="57"/>
                    </a:lnTo>
                    <a:lnTo>
                      <a:pt x="247" y="44"/>
                    </a:lnTo>
                    <a:lnTo>
                      <a:pt x="232" y="37"/>
                    </a:lnTo>
                    <a:lnTo>
                      <a:pt x="219" y="33"/>
                    </a:lnTo>
                    <a:lnTo>
                      <a:pt x="203" y="32"/>
                    </a:lnTo>
                    <a:lnTo>
                      <a:pt x="187" y="35"/>
                    </a:lnTo>
                    <a:lnTo>
                      <a:pt x="150" y="42"/>
                    </a:lnTo>
                    <a:lnTo>
                      <a:pt x="115" y="51"/>
                    </a:lnTo>
                    <a:lnTo>
                      <a:pt x="95" y="53"/>
                    </a:lnTo>
                    <a:lnTo>
                      <a:pt x="76" y="53"/>
                    </a:lnTo>
                    <a:lnTo>
                      <a:pt x="58" y="49"/>
                    </a:lnTo>
                    <a:lnTo>
                      <a:pt x="37" y="42"/>
                    </a:lnTo>
                    <a:lnTo>
                      <a:pt x="18" y="29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826240" y="283644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0" y="9"/>
                    </a:moveTo>
                    <a:lnTo>
                      <a:pt x="1" y="10"/>
                    </a:lnTo>
                    <a:lnTo>
                      <a:pt x="12" y="0"/>
                    </a:lnTo>
                    <a:lnTo>
                      <a:pt x="13" y="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035760" y="2890440"/>
                <a:ext cx="73080" cy="510840"/>
              </a:xfrm>
              <a:custGeom>
                <a:avLst/>
                <a:gdLst/>
                <a:ahLst/>
                <a:rect l="l" t="t" r="r" b="b"/>
                <a:pathLst>
                  <a:path w="92" h="644">
                    <a:moveTo>
                      <a:pt x="26" y="0"/>
                    </a:moveTo>
                    <a:lnTo>
                      <a:pt x="43" y="40"/>
                    </a:lnTo>
                    <a:lnTo>
                      <a:pt x="57" y="79"/>
                    </a:lnTo>
                    <a:lnTo>
                      <a:pt x="71" y="121"/>
                    </a:lnTo>
                    <a:lnTo>
                      <a:pt x="79" y="160"/>
                    </a:lnTo>
                    <a:lnTo>
                      <a:pt x="90" y="241"/>
                    </a:lnTo>
                    <a:lnTo>
                      <a:pt x="92" y="281"/>
                    </a:lnTo>
                    <a:lnTo>
                      <a:pt x="92" y="321"/>
                    </a:lnTo>
                    <a:lnTo>
                      <a:pt x="88" y="362"/>
                    </a:lnTo>
                    <a:lnTo>
                      <a:pt x="83" y="402"/>
                    </a:lnTo>
                    <a:lnTo>
                      <a:pt x="76" y="442"/>
                    </a:lnTo>
                    <a:lnTo>
                      <a:pt x="67" y="483"/>
                    </a:lnTo>
                    <a:lnTo>
                      <a:pt x="56" y="523"/>
                    </a:lnTo>
                    <a:lnTo>
                      <a:pt x="43" y="563"/>
                    </a:lnTo>
                    <a:lnTo>
                      <a:pt x="13" y="644"/>
                    </a:lnTo>
                    <a:lnTo>
                      <a:pt x="0" y="638"/>
                    </a:lnTo>
                    <a:lnTo>
                      <a:pt x="29" y="558"/>
                    </a:lnTo>
                    <a:lnTo>
                      <a:pt x="41" y="521"/>
                    </a:lnTo>
                    <a:lnTo>
                      <a:pt x="52" y="480"/>
                    </a:lnTo>
                    <a:lnTo>
                      <a:pt x="61" y="440"/>
                    </a:lnTo>
                    <a:lnTo>
                      <a:pt x="68" y="401"/>
                    </a:lnTo>
                    <a:lnTo>
                      <a:pt x="73" y="360"/>
                    </a:lnTo>
                    <a:lnTo>
                      <a:pt x="77" y="321"/>
                    </a:lnTo>
                    <a:lnTo>
                      <a:pt x="77" y="281"/>
                    </a:lnTo>
                    <a:lnTo>
                      <a:pt x="76" y="242"/>
                    </a:lnTo>
                    <a:lnTo>
                      <a:pt x="65" y="162"/>
                    </a:lnTo>
                    <a:lnTo>
                      <a:pt x="56" y="123"/>
                    </a:lnTo>
                    <a:lnTo>
                      <a:pt x="44" y="85"/>
                    </a:lnTo>
                    <a:lnTo>
                      <a:pt x="29" y="46"/>
                    </a:lnTo>
                    <a:lnTo>
                      <a:pt x="12" y="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045120" y="288864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0"/>
                    </a:moveTo>
                    <a:lnTo>
                      <a:pt x="14" y="2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867280" y="3396600"/>
                <a:ext cx="179640" cy="277560"/>
              </a:xfrm>
              <a:custGeom>
                <a:avLst/>
                <a:gdLst/>
                <a:ahLst/>
                <a:rect l="l" t="t" r="r" b="b"/>
                <a:pathLst>
                  <a:path w="225" h="350">
                    <a:moveTo>
                      <a:pt x="225" y="6"/>
                    </a:moveTo>
                    <a:lnTo>
                      <a:pt x="209" y="45"/>
                    </a:lnTo>
                    <a:lnTo>
                      <a:pt x="189" y="88"/>
                    </a:lnTo>
                    <a:lnTo>
                      <a:pt x="165" y="134"/>
                    </a:lnTo>
                    <a:lnTo>
                      <a:pt x="140" y="183"/>
                    </a:lnTo>
                    <a:lnTo>
                      <a:pt x="126" y="208"/>
                    </a:lnTo>
                    <a:lnTo>
                      <a:pt x="110" y="231"/>
                    </a:lnTo>
                    <a:lnTo>
                      <a:pt x="96" y="254"/>
                    </a:lnTo>
                    <a:lnTo>
                      <a:pt x="79" y="275"/>
                    </a:lnTo>
                    <a:lnTo>
                      <a:pt x="46" y="315"/>
                    </a:lnTo>
                    <a:lnTo>
                      <a:pt x="27" y="334"/>
                    </a:lnTo>
                    <a:lnTo>
                      <a:pt x="10" y="350"/>
                    </a:lnTo>
                    <a:lnTo>
                      <a:pt x="0" y="339"/>
                    </a:lnTo>
                    <a:lnTo>
                      <a:pt x="18" y="323"/>
                    </a:lnTo>
                    <a:lnTo>
                      <a:pt x="35" y="306"/>
                    </a:lnTo>
                    <a:lnTo>
                      <a:pt x="68" y="265"/>
                    </a:lnTo>
                    <a:lnTo>
                      <a:pt x="84" y="246"/>
                    </a:lnTo>
                    <a:lnTo>
                      <a:pt x="98" y="222"/>
                    </a:lnTo>
                    <a:lnTo>
                      <a:pt x="114" y="199"/>
                    </a:lnTo>
                    <a:lnTo>
                      <a:pt x="128" y="176"/>
                    </a:lnTo>
                    <a:lnTo>
                      <a:pt x="152" y="128"/>
                    </a:lnTo>
                    <a:lnTo>
                      <a:pt x="175" y="82"/>
                    </a:lnTo>
                    <a:lnTo>
                      <a:pt x="196" y="39"/>
                    </a:lnTo>
                    <a:lnTo>
                      <a:pt x="212" y="0"/>
                    </a:lnTo>
                    <a:lnTo>
                      <a:pt x="22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035760" y="339660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6"/>
                    </a:moveTo>
                    <a:lnTo>
                      <a:pt x="0" y="0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867280" y="3384000"/>
                <a:ext cx="406440" cy="363240"/>
              </a:xfrm>
              <a:custGeom>
                <a:avLst/>
                <a:gdLst/>
                <a:ahLst/>
                <a:rect l="l" t="t" r="r" b="b"/>
                <a:pathLst>
                  <a:path w="514" h="459">
                    <a:moveTo>
                      <a:pt x="11" y="355"/>
                    </a:moveTo>
                    <a:lnTo>
                      <a:pt x="32" y="379"/>
                    </a:lnTo>
                    <a:lnTo>
                      <a:pt x="53" y="400"/>
                    </a:lnTo>
                    <a:lnTo>
                      <a:pt x="71" y="415"/>
                    </a:lnTo>
                    <a:lnTo>
                      <a:pt x="91" y="428"/>
                    </a:lnTo>
                    <a:lnTo>
                      <a:pt x="111" y="437"/>
                    </a:lnTo>
                    <a:lnTo>
                      <a:pt x="130" y="441"/>
                    </a:lnTo>
                    <a:lnTo>
                      <a:pt x="148" y="444"/>
                    </a:lnTo>
                    <a:lnTo>
                      <a:pt x="168" y="443"/>
                    </a:lnTo>
                    <a:lnTo>
                      <a:pt x="185" y="439"/>
                    </a:lnTo>
                    <a:lnTo>
                      <a:pt x="202" y="434"/>
                    </a:lnTo>
                    <a:lnTo>
                      <a:pt x="220" y="426"/>
                    </a:lnTo>
                    <a:lnTo>
                      <a:pt x="237" y="415"/>
                    </a:lnTo>
                    <a:lnTo>
                      <a:pt x="273" y="388"/>
                    </a:lnTo>
                    <a:lnTo>
                      <a:pt x="290" y="372"/>
                    </a:lnTo>
                    <a:lnTo>
                      <a:pt x="305" y="353"/>
                    </a:lnTo>
                    <a:lnTo>
                      <a:pt x="338" y="312"/>
                    </a:lnTo>
                    <a:lnTo>
                      <a:pt x="367" y="269"/>
                    </a:lnTo>
                    <a:lnTo>
                      <a:pt x="396" y="221"/>
                    </a:lnTo>
                    <a:lnTo>
                      <a:pt x="408" y="198"/>
                    </a:lnTo>
                    <a:lnTo>
                      <a:pt x="422" y="174"/>
                    </a:lnTo>
                    <a:lnTo>
                      <a:pt x="445" y="126"/>
                    </a:lnTo>
                    <a:lnTo>
                      <a:pt x="467" y="80"/>
                    </a:lnTo>
                    <a:lnTo>
                      <a:pt x="500" y="0"/>
                    </a:lnTo>
                    <a:lnTo>
                      <a:pt x="514" y="6"/>
                    </a:lnTo>
                    <a:lnTo>
                      <a:pt x="479" y="87"/>
                    </a:lnTo>
                    <a:lnTo>
                      <a:pt x="457" y="133"/>
                    </a:lnTo>
                    <a:lnTo>
                      <a:pt x="434" y="181"/>
                    </a:lnTo>
                    <a:lnTo>
                      <a:pt x="421" y="207"/>
                    </a:lnTo>
                    <a:lnTo>
                      <a:pt x="408" y="230"/>
                    </a:lnTo>
                    <a:lnTo>
                      <a:pt x="379" y="278"/>
                    </a:lnTo>
                    <a:lnTo>
                      <a:pt x="349" y="322"/>
                    </a:lnTo>
                    <a:lnTo>
                      <a:pt x="316" y="363"/>
                    </a:lnTo>
                    <a:lnTo>
                      <a:pt x="300" y="383"/>
                    </a:lnTo>
                    <a:lnTo>
                      <a:pt x="283" y="399"/>
                    </a:lnTo>
                    <a:lnTo>
                      <a:pt x="246" y="427"/>
                    </a:lnTo>
                    <a:lnTo>
                      <a:pt x="226" y="439"/>
                    </a:lnTo>
                    <a:lnTo>
                      <a:pt x="208" y="448"/>
                    </a:lnTo>
                    <a:lnTo>
                      <a:pt x="187" y="454"/>
                    </a:lnTo>
                    <a:lnTo>
                      <a:pt x="169" y="457"/>
                    </a:lnTo>
                    <a:lnTo>
                      <a:pt x="147" y="459"/>
                    </a:lnTo>
                    <a:lnTo>
                      <a:pt x="127" y="456"/>
                    </a:lnTo>
                    <a:lnTo>
                      <a:pt x="105" y="450"/>
                    </a:lnTo>
                    <a:lnTo>
                      <a:pt x="85" y="441"/>
                    </a:lnTo>
                    <a:lnTo>
                      <a:pt x="63" y="427"/>
                    </a:lnTo>
                    <a:lnTo>
                      <a:pt x="43" y="411"/>
                    </a:lnTo>
                    <a:lnTo>
                      <a:pt x="21" y="389"/>
                    </a:lnTo>
                    <a:lnTo>
                      <a:pt x="0" y="364"/>
                    </a:lnTo>
                    <a:lnTo>
                      <a:pt x="11" y="3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864400" y="3665160"/>
                <a:ext cx="10800" cy="900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4" y="0"/>
                    </a:moveTo>
                    <a:lnTo>
                      <a:pt x="0" y="5"/>
                    </a:lnTo>
                    <a:lnTo>
                      <a:pt x="3" y="9"/>
                    </a:lnTo>
                    <a:lnTo>
                      <a:pt x="14" y="0"/>
                    </a:lnTo>
                    <a:lnTo>
                      <a:pt x="14" y="1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264360" y="2815920"/>
                <a:ext cx="79200" cy="572400"/>
              </a:xfrm>
              <a:custGeom>
                <a:avLst/>
                <a:gdLst/>
                <a:ahLst/>
                <a:rect l="l" t="t" r="r" b="b"/>
                <a:pathLst>
                  <a:path w="102" h="721">
                    <a:moveTo>
                      <a:pt x="0" y="715"/>
                    </a:moveTo>
                    <a:lnTo>
                      <a:pt x="17" y="671"/>
                    </a:lnTo>
                    <a:lnTo>
                      <a:pt x="33" y="626"/>
                    </a:lnTo>
                    <a:lnTo>
                      <a:pt x="59" y="537"/>
                    </a:lnTo>
                    <a:lnTo>
                      <a:pt x="77" y="448"/>
                    </a:lnTo>
                    <a:lnTo>
                      <a:pt x="82" y="403"/>
                    </a:lnTo>
                    <a:lnTo>
                      <a:pt x="86" y="358"/>
                    </a:lnTo>
                    <a:lnTo>
                      <a:pt x="87" y="314"/>
                    </a:lnTo>
                    <a:lnTo>
                      <a:pt x="86" y="270"/>
                    </a:lnTo>
                    <a:lnTo>
                      <a:pt x="81" y="226"/>
                    </a:lnTo>
                    <a:lnTo>
                      <a:pt x="73" y="182"/>
                    </a:lnTo>
                    <a:lnTo>
                      <a:pt x="64" y="138"/>
                    </a:lnTo>
                    <a:lnTo>
                      <a:pt x="50" y="93"/>
                    </a:lnTo>
                    <a:lnTo>
                      <a:pt x="33" y="50"/>
                    </a:lnTo>
                    <a:lnTo>
                      <a:pt x="15" y="6"/>
                    </a:lnTo>
                    <a:lnTo>
                      <a:pt x="27" y="0"/>
                    </a:lnTo>
                    <a:lnTo>
                      <a:pt x="47" y="44"/>
                    </a:lnTo>
                    <a:lnTo>
                      <a:pt x="64" y="88"/>
                    </a:lnTo>
                    <a:lnTo>
                      <a:pt x="77" y="133"/>
                    </a:lnTo>
                    <a:lnTo>
                      <a:pt x="87" y="178"/>
                    </a:lnTo>
                    <a:lnTo>
                      <a:pt x="94" y="223"/>
                    </a:lnTo>
                    <a:lnTo>
                      <a:pt x="99" y="270"/>
                    </a:lnTo>
                    <a:lnTo>
                      <a:pt x="102" y="314"/>
                    </a:lnTo>
                    <a:lnTo>
                      <a:pt x="99" y="360"/>
                    </a:lnTo>
                    <a:lnTo>
                      <a:pt x="95" y="406"/>
                    </a:lnTo>
                    <a:lnTo>
                      <a:pt x="91" y="452"/>
                    </a:lnTo>
                    <a:lnTo>
                      <a:pt x="72" y="541"/>
                    </a:lnTo>
                    <a:lnTo>
                      <a:pt x="47" y="632"/>
                    </a:lnTo>
                    <a:lnTo>
                      <a:pt x="31" y="677"/>
                    </a:lnTo>
                    <a:lnTo>
                      <a:pt x="14" y="721"/>
                    </a:lnTo>
                    <a:lnTo>
                      <a:pt x="0" y="7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264360" y="3384000"/>
                <a:ext cx="9360" cy="43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4" y="6"/>
                    </a:moveTo>
                    <a:lnTo>
                      <a:pt x="0" y="0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031080" y="2755440"/>
                <a:ext cx="252360" cy="66240"/>
              </a:xfrm>
              <a:custGeom>
                <a:avLst/>
                <a:gdLst/>
                <a:ahLst/>
                <a:rect l="l" t="t" r="r" b="b"/>
                <a:pathLst>
                  <a:path w="319" h="84">
                    <a:moveTo>
                      <a:pt x="308" y="84"/>
                    </a:moveTo>
                    <a:lnTo>
                      <a:pt x="292" y="63"/>
                    </a:lnTo>
                    <a:lnTo>
                      <a:pt x="275" y="49"/>
                    </a:lnTo>
                    <a:lnTo>
                      <a:pt x="259" y="40"/>
                    </a:lnTo>
                    <a:lnTo>
                      <a:pt x="243" y="36"/>
                    </a:lnTo>
                    <a:lnTo>
                      <a:pt x="225" y="35"/>
                    </a:lnTo>
                    <a:lnTo>
                      <a:pt x="206" y="38"/>
                    </a:lnTo>
                    <a:lnTo>
                      <a:pt x="167" y="46"/>
                    </a:lnTo>
                    <a:lnTo>
                      <a:pt x="126" y="56"/>
                    </a:lnTo>
                    <a:lnTo>
                      <a:pt x="104" y="58"/>
                    </a:lnTo>
                    <a:lnTo>
                      <a:pt x="82" y="58"/>
                    </a:lnTo>
                    <a:lnTo>
                      <a:pt x="61" y="55"/>
                    </a:lnTo>
                    <a:lnTo>
                      <a:pt x="39" y="45"/>
                    </a:lnTo>
                    <a:lnTo>
                      <a:pt x="18" y="31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28" y="20"/>
                    </a:lnTo>
                    <a:lnTo>
                      <a:pt x="46" y="33"/>
                    </a:lnTo>
                    <a:lnTo>
                      <a:pt x="66" y="41"/>
                    </a:lnTo>
                    <a:lnTo>
                      <a:pt x="84" y="45"/>
                    </a:lnTo>
                    <a:lnTo>
                      <a:pt x="104" y="45"/>
                    </a:lnTo>
                    <a:lnTo>
                      <a:pt x="122" y="42"/>
                    </a:lnTo>
                    <a:lnTo>
                      <a:pt x="162" y="33"/>
                    </a:lnTo>
                    <a:lnTo>
                      <a:pt x="203" y="24"/>
                    </a:lnTo>
                    <a:lnTo>
                      <a:pt x="225" y="22"/>
                    </a:lnTo>
                    <a:lnTo>
                      <a:pt x="245" y="23"/>
                    </a:lnTo>
                    <a:lnTo>
                      <a:pt x="265" y="27"/>
                    </a:lnTo>
                    <a:lnTo>
                      <a:pt x="283" y="36"/>
                    </a:lnTo>
                    <a:lnTo>
                      <a:pt x="302" y="52"/>
                    </a:lnTo>
                    <a:lnTo>
                      <a:pt x="319" y="74"/>
                    </a:lnTo>
                    <a:lnTo>
                      <a:pt x="30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275520" y="281412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1" y="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981760" y="2426760"/>
                <a:ext cx="57240" cy="334800"/>
              </a:xfrm>
              <a:custGeom>
                <a:avLst/>
                <a:gdLst/>
                <a:ahLst/>
                <a:rect l="l" t="t" r="r" b="b"/>
                <a:pathLst>
                  <a:path w="72" h="422">
                    <a:moveTo>
                      <a:pt x="60" y="422"/>
                    </a:moveTo>
                    <a:lnTo>
                      <a:pt x="31" y="372"/>
                    </a:lnTo>
                    <a:lnTo>
                      <a:pt x="13" y="320"/>
                    </a:lnTo>
                    <a:lnTo>
                      <a:pt x="3" y="267"/>
                    </a:lnTo>
                    <a:lnTo>
                      <a:pt x="1" y="239"/>
                    </a:lnTo>
                    <a:lnTo>
                      <a:pt x="0" y="213"/>
                    </a:lnTo>
                    <a:lnTo>
                      <a:pt x="3" y="159"/>
                    </a:lnTo>
                    <a:lnTo>
                      <a:pt x="14" y="106"/>
                    </a:lnTo>
                    <a:lnTo>
                      <a:pt x="30" y="54"/>
                    </a:lnTo>
                    <a:lnTo>
                      <a:pt x="42" y="26"/>
                    </a:lnTo>
                    <a:lnTo>
                      <a:pt x="55" y="0"/>
                    </a:lnTo>
                    <a:lnTo>
                      <a:pt x="67" y="8"/>
                    </a:lnTo>
                    <a:lnTo>
                      <a:pt x="55" y="33"/>
                    </a:lnTo>
                    <a:lnTo>
                      <a:pt x="44" y="60"/>
                    </a:lnTo>
                    <a:lnTo>
                      <a:pt x="28" y="110"/>
                    </a:lnTo>
                    <a:lnTo>
                      <a:pt x="17" y="163"/>
                    </a:lnTo>
                    <a:lnTo>
                      <a:pt x="13" y="213"/>
                    </a:lnTo>
                    <a:lnTo>
                      <a:pt x="14" y="239"/>
                    </a:lnTo>
                    <a:lnTo>
                      <a:pt x="17" y="264"/>
                    </a:lnTo>
                    <a:lnTo>
                      <a:pt x="27" y="315"/>
                    </a:lnTo>
                    <a:lnTo>
                      <a:pt x="45" y="366"/>
                    </a:lnTo>
                    <a:lnTo>
                      <a:pt x="72" y="415"/>
                    </a:lnTo>
                    <a:lnTo>
                      <a:pt x="60" y="4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029280" y="275544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" y="11"/>
                    </a:moveTo>
                    <a:lnTo>
                      <a:pt x="0" y="8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026040" y="2298240"/>
                <a:ext cx="69840" cy="134640"/>
              </a:xfrm>
              <a:custGeom>
                <a:avLst/>
                <a:gdLst/>
                <a:ahLst/>
                <a:rect l="l" t="t" r="r" b="b"/>
                <a:pathLst>
                  <a:path w="89" h="169">
                    <a:moveTo>
                      <a:pt x="0" y="161"/>
                    </a:moveTo>
                    <a:lnTo>
                      <a:pt x="40" y="81"/>
                    </a:lnTo>
                    <a:lnTo>
                      <a:pt x="58" y="39"/>
                    </a:lnTo>
                    <a:lnTo>
                      <a:pt x="75" y="0"/>
                    </a:lnTo>
                    <a:lnTo>
                      <a:pt x="89" y="6"/>
                    </a:lnTo>
                    <a:lnTo>
                      <a:pt x="71" y="46"/>
                    </a:lnTo>
                    <a:lnTo>
                      <a:pt x="52" y="88"/>
                    </a:lnTo>
                    <a:lnTo>
                      <a:pt x="12" y="169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26040" y="2426760"/>
                <a:ext cx="9720" cy="612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0"/>
                    </a:moveTo>
                    <a:lnTo>
                      <a:pt x="1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880240" y="2296800"/>
                <a:ext cx="214200" cy="139320"/>
              </a:xfrm>
              <a:custGeom>
                <a:avLst/>
                <a:gdLst/>
                <a:ahLst/>
                <a:rect l="l" t="t" r="r" b="b"/>
                <a:pathLst>
                  <a:path w="271" h="178">
                    <a:moveTo>
                      <a:pt x="271" y="13"/>
                    </a:moveTo>
                    <a:lnTo>
                      <a:pt x="263" y="0"/>
                    </a:lnTo>
                    <a:lnTo>
                      <a:pt x="0" y="165"/>
                    </a:lnTo>
                    <a:lnTo>
                      <a:pt x="9" y="178"/>
                    </a:lnTo>
                    <a:lnTo>
                      <a:pt x="27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086520" y="2285640"/>
                <a:ext cx="17280" cy="2016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14" y="23"/>
                    </a:moveTo>
                    <a:lnTo>
                      <a:pt x="24" y="0"/>
                    </a:lnTo>
                    <a:lnTo>
                      <a:pt x="3" y="13"/>
                    </a:lnTo>
                    <a:lnTo>
                      <a:pt x="11" y="26"/>
                    </a:lnTo>
                    <a:lnTo>
                      <a:pt x="0" y="17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877000" y="242676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2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3" y="10"/>
                    </a:lnTo>
                    <a:lnTo>
                      <a:pt x="11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089080" y="2980800"/>
                <a:ext cx="201600" cy="455400"/>
              </a:xfrm>
              <a:custGeom>
                <a:avLst/>
                <a:gdLst/>
                <a:ahLst/>
                <a:rect l="l" t="t" r="r" b="b"/>
                <a:pathLst>
                  <a:path w="253" h="575">
                    <a:moveTo>
                      <a:pt x="85" y="0"/>
                    </a:moveTo>
                    <a:lnTo>
                      <a:pt x="253" y="85"/>
                    </a:lnTo>
                    <a:lnTo>
                      <a:pt x="168" y="575"/>
                    </a:lnTo>
                    <a:lnTo>
                      <a:pt x="0" y="533"/>
                    </a:lnTo>
                    <a:lnTo>
                      <a:pt x="42" y="2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154240" y="2976120"/>
                <a:ext cx="138240" cy="77400"/>
              </a:xfrm>
              <a:custGeom>
                <a:avLst/>
                <a:gdLst/>
                <a:ahLst/>
                <a:rect l="l" t="t" r="r" b="b"/>
                <a:pathLst>
                  <a:path w="175" h="98">
                    <a:moveTo>
                      <a:pt x="6" y="0"/>
                    </a:moveTo>
                    <a:lnTo>
                      <a:pt x="0" y="14"/>
                    </a:lnTo>
                    <a:lnTo>
                      <a:pt x="169" y="98"/>
                    </a:lnTo>
                    <a:lnTo>
                      <a:pt x="175" y="8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216160" y="3045960"/>
                <a:ext cx="79200" cy="391680"/>
              </a:xfrm>
              <a:custGeom>
                <a:avLst/>
                <a:gdLst/>
                <a:ahLst/>
                <a:rect l="l" t="t" r="r" b="b"/>
                <a:pathLst>
                  <a:path w="101" h="492">
                    <a:moveTo>
                      <a:pt x="101" y="2"/>
                    </a:moveTo>
                    <a:lnTo>
                      <a:pt x="86" y="0"/>
                    </a:lnTo>
                    <a:lnTo>
                      <a:pt x="0" y="490"/>
                    </a:lnTo>
                    <a:lnTo>
                      <a:pt x="15" y="492"/>
                    </a:lnTo>
                    <a:lnTo>
                      <a:pt x="10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284560" y="3042720"/>
                <a:ext cx="12600" cy="1080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0" y="0"/>
                    </a:moveTo>
                    <a:lnTo>
                      <a:pt x="16" y="2"/>
                    </a:lnTo>
                    <a:lnTo>
                      <a:pt x="15" y="7"/>
                    </a:lnTo>
                    <a:lnTo>
                      <a:pt x="0" y="5"/>
                    </a:lnTo>
                    <a:lnTo>
                      <a:pt x="4" y="1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087640" y="3398400"/>
                <a:ext cx="136440" cy="43920"/>
              </a:xfrm>
              <a:custGeom>
                <a:avLst/>
                <a:gdLst/>
                <a:ahLst/>
                <a:rect l="l" t="t" r="r" b="b"/>
                <a:pathLst>
                  <a:path w="171" h="55">
                    <a:moveTo>
                      <a:pt x="167" y="55"/>
                    </a:moveTo>
                    <a:lnTo>
                      <a:pt x="171" y="42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167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216160" y="343152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7"/>
                    </a:moveTo>
                    <a:lnTo>
                      <a:pt x="14" y="16"/>
                    </a:lnTo>
                    <a:lnTo>
                      <a:pt x="5" y="13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084400" y="3168000"/>
                <a:ext cx="42840" cy="236520"/>
              </a:xfrm>
              <a:custGeom>
                <a:avLst/>
                <a:gdLst/>
                <a:ahLst/>
                <a:rect l="l" t="t" r="r" b="b"/>
                <a:pathLst>
                  <a:path w="55" h="298">
                    <a:moveTo>
                      <a:pt x="0" y="294"/>
                    </a:moveTo>
                    <a:lnTo>
                      <a:pt x="13" y="298"/>
                    </a:lnTo>
                    <a:lnTo>
                      <a:pt x="55" y="3"/>
                    </a:lnTo>
                    <a:lnTo>
                      <a:pt x="42" y="0"/>
                    </a:lnTo>
                    <a:lnTo>
                      <a:pt x="0" y="2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082960" y="33984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6" y="14"/>
                    </a:moveTo>
                    <a:lnTo>
                      <a:pt x="0" y="13"/>
                    </a:lnTo>
                    <a:lnTo>
                      <a:pt x="1" y="5"/>
                    </a:lnTo>
                    <a:lnTo>
                      <a:pt x="14" y="9"/>
                    </a:lnTo>
                    <a:lnTo>
                      <a:pt x="10" y="0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116080" y="2979360"/>
                <a:ext cx="44640" cy="191520"/>
              </a:xfrm>
              <a:custGeom>
                <a:avLst/>
                <a:gdLst/>
                <a:ahLst/>
                <a:rect l="l" t="t" r="r" b="b"/>
                <a:pathLst>
                  <a:path w="56" h="242">
                    <a:moveTo>
                      <a:pt x="0" y="239"/>
                    </a:moveTo>
                    <a:lnTo>
                      <a:pt x="13" y="242"/>
                    </a:lnTo>
                    <a:lnTo>
                      <a:pt x="56" y="4"/>
                    </a:lnTo>
                    <a:lnTo>
                      <a:pt x="42" y="0"/>
                    </a:lnTo>
                    <a:lnTo>
                      <a:pt x="0" y="2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116080" y="316800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0" y="0"/>
                    </a:moveTo>
                    <a:lnTo>
                      <a:pt x="1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151000" y="2972880"/>
                <a:ext cx="9720" cy="1224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8"/>
                    </a:moveTo>
                    <a:lnTo>
                      <a:pt x="2" y="0"/>
                    </a:lnTo>
                    <a:lnTo>
                      <a:pt x="10" y="3"/>
                    </a:lnTo>
                    <a:lnTo>
                      <a:pt x="4" y="17"/>
                    </a:lnTo>
                    <a:lnTo>
                      <a:pt x="14" y="1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268360" y="2530080"/>
                <a:ext cx="204840" cy="277200"/>
              </a:xfrm>
              <a:custGeom>
                <a:avLst/>
                <a:gdLst/>
                <a:ahLst/>
                <a:rect l="l" t="t" r="r" b="b"/>
                <a:pathLst>
                  <a:path w="259" h="351">
                    <a:moveTo>
                      <a:pt x="0" y="273"/>
                    </a:moveTo>
                    <a:lnTo>
                      <a:pt x="147" y="351"/>
                    </a:lnTo>
                    <a:lnTo>
                      <a:pt x="259" y="71"/>
                    </a:lnTo>
                    <a:lnTo>
                      <a:pt x="132" y="0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265480" y="2741040"/>
                <a:ext cx="120600" cy="72720"/>
              </a:xfrm>
              <a:custGeom>
                <a:avLst/>
                <a:gdLst/>
                <a:ahLst/>
                <a:rect l="l" t="t" r="r" b="b"/>
                <a:pathLst>
                  <a:path w="152" h="91">
                    <a:moveTo>
                      <a:pt x="6" y="0"/>
                    </a:moveTo>
                    <a:lnTo>
                      <a:pt x="0" y="13"/>
                    </a:lnTo>
                    <a:lnTo>
                      <a:pt x="146" y="91"/>
                    </a:lnTo>
                    <a:lnTo>
                      <a:pt x="152" y="7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378160" y="2584080"/>
                <a:ext cx="100080" cy="226440"/>
              </a:xfrm>
              <a:custGeom>
                <a:avLst/>
                <a:gdLst/>
                <a:ahLst/>
                <a:rect l="l" t="t" r="r" b="b"/>
                <a:pathLst>
                  <a:path w="126" h="287">
                    <a:moveTo>
                      <a:pt x="0" y="280"/>
                    </a:moveTo>
                    <a:lnTo>
                      <a:pt x="13" y="287"/>
                    </a:lnTo>
                    <a:lnTo>
                      <a:pt x="126" y="7"/>
                    </a:lnTo>
                    <a:lnTo>
                      <a:pt x="112" y="0"/>
                    </a:lnTo>
                    <a:lnTo>
                      <a:pt x="0" y="2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378160" y="28029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3" y="13"/>
                    </a:moveTo>
                    <a:lnTo>
                      <a:pt x="11" y="17"/>
                    </a:lnTo>
                    <a:lnTo>
                      <a:pt x="13" y="10"/>
                    </a:lnTo>
                    <a:lnTo>
                      <a:pt x="0" y="3"/>
                    </a:lnTo>
                    <a:lnTo>
                      <a:pt x="9" y="0"/>
                    </a:lnTo>
                    <a:lnTo>
                      <a:pt x="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370240" y="2525400"/>
                <a:ext cx="106200" cy="66240"/>
              </a:xfrm>
              <a:custGeom>
                <a:avLst/>
                <a:gdLst/>
                <a:ahLst/>
                <a:rect l="l" t="t" r="r" b="b"/>
                <a:pathLst>
                  <a:path w="134" h="83">
                    <a:moveTo>
                      <a:pt x="127" y="83"/>
                    </a:moveTo>
                    <a:lnTo>
                      <a:pt x="134" y="71"/>
                    </a:lnTo>
                    <a:lnTo>
                      <a:pt x="7" y="0"/>
                    </a:lnTo>
                    <a:lnTo>
                      <a:pt x="0" y="12"/>
                    </a:lnTo>
                    <a:lnTo>
                      <a:pt x="127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468520" y="258084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4" y="10"/>
                    </a:moveTo>
                    <a:lnTo>
                      <a:pt x="16" y="2"/>
                    </a:lnTo>
                    <a:lnTo>
                      <a:pt x="11" y="0"/>
                    </a:lnTo>
                    <a:lnTo>
                      <a:pt x="4" y="12"/>
                    </a:lnTo>
                    <a:lnTo>
                      <a:pt x="0" y="3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262240" y="2528280"/>
                <a:ext cx="115920" cy="220320"/>
              </a:xfrm>
              <a:custGeom>
                <a:avLst/>
                <a:gdLst/>
                <a:ahLst/>
                <a:rect l="l" t="t" r="r" b="b"/>
                <a:pathLst>
                  <a:path w="145" h="278">
                    <a:moveTo>
                      <a:pt x="145" y="6"/>
                    </a:moveTo>
                    <a:lnTo>
                      <a:pt x="132" y="0"/>
                    </a:lnTo>
                    <a:lnTo>
                      <a:pt x="0" y="272"/>
                    </a:lnTo>
                    <a:lnTo>
                      <a:pt x="13" y="278"/>
                    </a:lnTo>
                    <a:lnTo>
                      <a:pt x="14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367000" y="252216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1" y="4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13" y="14"/>
                    </a:lnTo>
                    <a:lnTo>
                      <a:pt x="4" y="16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260440" y="2741040"/>
                <a:ext cx="12960" cy="1080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3" y="3"/>
                    </a:moveTo>
                    <a:lnTo>
                      <a:pt x="0" y="9"/>
                    </a:lnTo>
                    <a:lnTo>
                      <a:pt x="7" y="13"/>
                    </a:lnTo>
                    <a:lnTo>
                      <a:pt x="13" y="0"/>
                    </a:lnTo>
                    <a:lnTo>
                      <a:pt x="16" y="9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133720" y="3942720"/>
                <a:ext cx="161640" cy="171360"/>
              </a:xfrm>
              <a:custGeom>
                <a:avLst/>
                <a:gdLst/>
                <a:ahLst/>
                <a:rect l="l" t="t" r="r" b="b"/>
                <a:pathLst>
                  <a:path w="202" h="217">
                    <a:moveTo>
                      <a:pt x="0" y="63"/>
                    </a:moveTo>
                    <a:lnTo>
                      <a:pt x="132" y="0"/>
                    </a:lnTo>
                    <a:lnTo>
                      <a:pt x="202" y="167"/>
                    </a:lnTo>
                    <a:lnTo>
                      <a:pt x="125" y="217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130480" y="3938040"/>
                <a:ext cx="111240" cy="60120"/>
              </a:xfrm>
              <a:custGeom>
                <a:avLst/>
                <a:gdLst/>
                <a:ahLst/>
                <a:rect l="l" t="t" r="r" b="b"/>
                <a:pathLst>
                  <a:path w="138" h="76">
                    <a:moveTo>
                      <a:pt x="0" y="63"/>
                    </a:moveTo>
                    <a:lnTo>
                      <a:pt x="6" y="76"/>
                    </a:lnTo>
                    <a:lnTo>
                      <a:pt x="138" y="14"/>
                    </a:lnTo>
                    <a:lnTo>
                      <a:pt x="132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233440" y="3941280"/>
                <a:ext cx="66960" cy="136080"/>
              </a:xfrm>
              <a:custGeom>
                <a:avLst/>
                <a:gdLst/>
                <a:ahLst/>
                <a:rect l="l" t="t" r="r" b="b"/>
                <a:pathLst>
                  <a:path w="85" h="172">
                    <a:moveTo>
                      <a:pt x="14" y="0"/>
                    </a:moveTo>
                    <a:lnTo>
                      <a:pt x="0" y="6"/>
                    </a:lnTo>
                    <a:lnTo>
                      <a:pt x="71" y="172"/>
                    </a:lnTo>
                    <a:lnTo>
                      <a:pt x="85" y="16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233440" y="3934800"/>
                <a:ext cx="9720" cy="1404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4" y="3"/>
                    </a:moveTo>
                    <a:lnTo>
                      <a:pt x="11" y="0"/>
                    </a:lnTo>
                    <a:lnTo>
                      <a:pt x="14" y="7"/>
                    </a:lnTo>
                    <a:lnTo>
                      <a:pt x="0" y="13"/>
                    </a:lnTo>
                    <a:lnTo>
                      <a:pt x="10" y="17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230560" y="4069800"/>
                <a:ext cx="68040" cy="48960"/>
              </a:xfrm>
              <a:custGeom>
                <a:avLst/>
                <a:gdLst/>
                <a:ahLst/>
                <a:rect l="l" t="t" r="r" b="b"/>
                <a:pathLst>
                  <a:path w="85" h="62">
                    <a:moveTo>
                      <a:pt x="85" y="12"/>
                    </a:moveTo>
                    <a:lnTo>
                      <a:pt x="77" y="0"/>
                    </a:lnTo>
                    <a:lnTo>
                      <a:pt x="0" y="50"/>
                    </a:lnTo>
                    <a:lnTo>
                      <a:pt x="8" y="62"/>
                    </a:lnTo>
                    <a:lnTo>
                      <a:pt x="8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9240" y="406980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4" y="3"/>
                    </a:moveTo>
                    <a:lnTo>
                      <a:pt x="16" y="9"/>
                    </a:lnTo>
                    <a:lnTo>
                      <a:pt x="11" y="12"/>
                    </a:lnTo>
                    <a:lnTo>
                      <a:pt x="3" y="0"/>
                    </a:lnTo>
                    <a:lnTo>
                      <a:pt x="0" y="9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2057400" y="1225440"/>
              <a:ext cx="4535640" cy="4558680"/>
              <a:chOff x="2057400" y="1225440"/>
              <a:chExt cx="4535640" cy="4558680"/>
            </a:xfrm>
          </p:grpSpPr>
          <p:sp>
            <p:nvSpPr>
              <p:cNvPr id="883" name=""/>
              <p:cNvSpPr/>
              <p:nvPr/>
            </p:nvSpPr>
            <p:spPr>
              <a:xfrm>
                <a:off x="2128680" y="3988800"/>
                <a:ext cx="109800" cy="129960"/>
              </a:xfrm>
              <a:custGeom>
                <a:avLst/>
                <a:gdLst/>
                <a:ahLst/>
                <a:rect l="l" t="t" r="r" b="b"/>
                <a:pathLst>
                  <a:path w="137" h="164">
                    <a:moveTo>
                      <a:pt x="126" y="164"/>
                    </a:moveTo>
                    <a:lnTo>
                      <a:pt x="137" y="154"/>
                    </a:lnTo>
                    <a:lnTo>
                      <a:pt x="11" y="0"/>
                    </a:lnTo>
                    <a:lnTo>
                      <a:pt x="0" y="10"/>
                    </a:lnTo>
                    <a:lnTo>
                      <a:pt x="126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228760" y="4109400"/>
                <a:ext cx="9720" cy="126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0" y="12"/>
                    </a:moveTo>
                    <a:lnTo>
                      <a:pt x="4" y="16"/>
                    </a:lnTo>
                    <a:lnTo>
                      <a:pt x="0" y="11"/>
                    </a:lnTo>
                    <a:lnTo>
                      <a:pt x="11" y="1"/>
                    </a:lnTo>
                    <a:lnTo>
                      <a:pt x="2" y="0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124000" y="3987360"/>
                <a:ext cx="14400" cy="1080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6" y="11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15" y="13"/>
                    </a:lnTo>
                    <a:lnTo>
                      <a:pt x="17" y="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95360" y="4309560"/>
                <a:ext cx="266760" cy="355320"/>
              </a:xfrm>
              <a:custGeom>
                <a:avLst/>
                <a:gdLst/>
                <a:ahLst/>
                <a:rect l="l" t="t" r="r" b="b"/>
                <a:pathLst>
                  <a:path w="335" h="449">
                    <a:moveTo>
                      <a:pt x="209" y="449"/>
                    </a:moveTo>
                    <a:lnTo>
                      <a:pt x="335" y="337"/>
                    </a:lnTo>
                    <a:lnTo>
                      <a:pt x="126" y="0"/>
                    </a:lnTo>
                    <a:lnTo>
                      <a:pt x="0" y="43"/>
                    </a:lnTo>
                    <a:lnTo>
                      <a:pt x="195" y="421"/>
                    </a:lnTo>
                    <a:lnTo>
                      <a:pt x="209" y="449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457360" y="4571640"/>
                <a:ext cx="108000" cy="97920"/>
              </a:xfrm>
              <a:custGeom>
                <a:avLst/>
                <a:gdLst/>
                <a:ahLst/>
                <a:rect l="l" t="t" r="r" b="b"/>
                <a:pathLst>
                  <a:path w="136" h="123">
                    <a:moveTo>
                      <a:pt x="0" y="112"/>
                    </a:moveTo>
                    <a:lnTo>
                      <a:pt x="10" y="123"/>
                    </a:lnTo>
                    <a:lnTo>
                      <a:pt x="136" y="11"/>
                    </a:lnTo>
                    <a:lnTo>
                      <a:pt x="126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390760" y="4306320"/>
                <a:ext cx="176400" cy="272880"/>
              </a:xfrm>
              <a:custGeom>
                <a:avLst/>
                <a:gdLst/>
                <a:ahLst/>
                <a:rect l="l" t="t" r="r" b="b"/>
                <a:pathLst>
                  <a:path w="221" h="345">
                    <a:moveTo>
                      <a:pt x="209" y="345"/>
                    </a:moveTo>
                    <a:lnTo>
                      <a:pt x="221" y="336"/>
                    </a:lnTo>
                    <a:lnTo>
                      <a:pt x="12" y="0"/>
                    </a:lnTo>
                    <a:lnTo>
                      <a:pt x="0" y="8"/>
                    </a:lnTo>
                    <a:lnTo>
                      <a:pt x="209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557440" y="4571640"/>
                <a:ext cx="12600" cy="90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1" y="11"/>
                    </a:moveTo>
                    <a:lnTo>
                      <a:pt x="15" y="7"/>
                    </a:lnTo>
                    <a:lnTo>
                      <a:pt x="12" y="1"/>
                    </a:lnTo>
                    <a:lnTo>
                      <a:pt x="0" y="10"/>
                    </a:lnTo>
                    <a:lnTo>
                      <a:pt x="1" y="0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293920" y="4304880"/>
                <a:ext cx="104760" cy="43920"/>
              </a:xfrm>
              <a:custGeom>
                <a:avLst/>
                <a:gdLst/>
                <a:ahLst/>
                <a:rect l="l" t="t" r="r" b="b"/>
                <a:pathLst>
                  <a:path w="132" h="56">
                    <a:moveTo>
                      <a:pt x="132" y="14"/>
                    </a:moveTo>
                    <a:lnTo>
                      <a:pt x="126" y="0"/>
                    </a:lnTo>
                    <a:lnTo>
                      <a:pt x="0" y="43"/>
                    </a:lnTo>
                    <a:lnTo>
                      <a:pt x="6" y="56"/>
                    </a:lnTo>
                    <a:lnTo>
                      <a:pt x="13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390760" y="4301640"/>
                <a:ext cx="9720" cy="1224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5"/>
                    </a:moveTo>
                    <a:lnTo>
                      <a:pt x="9" y="0"/>
                    </a:lnTo>
                    <a:lnTo>
                      <a:pt x="2" y="2"/>
                    </a:lnTo>
                    <a:lnTo>
                      <a:pt x="8" y="16"/>
                    </a:lnTo>
                    <a:lnTo>
                      <a:pt x="0" y="13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290680" y="4341240"/>
                <a:ext cx="165240" cy="304560"/>
              </a:xfrm>
              <a:custGeom>
                <a:avLst/>
                <a:gdLst/>
                <a:ahLst/>
                <a:rect l="l" t="t" r="r" b="b"/>
                <a:pathLst>
                  <a:path w="209" h="384">
                    <a:moveTo>
                      <a:pt x="14" y="0"/>
                    </a:moveTo>
                    <a:lnTo>
                      <a:pt x="0" y="6"/>
                    </a:lnTo>
                    <a:lnTo>
                      <a:pt x="196" y="384"/>
                    </a:lnTo>
                    <a:lnTo>
                      <a:pt x="209" y="37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287440" y="4338000"/>
                <a:ext cx="12960" cy="1080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7" y="0"/>
                    </a:moveTo>
                    <a:lnTo>
                      <a:pt x="0" y="2"/>
                    </a:lnTo>
                    <a:lnTo>
                      <a:pt x="3" y="10"/>
                    </a:lnTo>
                    <a:lnTo>
                      <a:pt x="17" y="4"/>
                    </a:lnTo>
                    <a:lnTo>
                      <a:pt x="13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444760" y="4641480"/>
                <a:ext cx="22320" cy="2664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13" y="0"/>
                    </a:moveTo>
                    <a:lnTo>
                      <a:pt x="0" y="6"/>
                    </a:lnTo>
                    <a:lnTo>
                      <a:pt x="13" y="34"/>
                    </a:lnTo>
                    <a:lnTo>
                      <a:pt x="27" y="2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444760" y="464148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0" y="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455920" y="466200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9"/>
                    </a:moveTo>
                    <a:lnTo>
                      <a:pt x="5" y="19"/>
                    </a:lnTo>
                    <a:lnTo>
                      <a:pt x="13" y="11"/>
                    </a:lnTo>
                    <a:lnTo>
                      <a:pt x="3" y="0"/>
                    </a:lnTo>
                    <a:lnTo>
                      <a:pt x="14" y="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613320" y="5515920"/>
                <a:ext cx="388800" cy="188640"/>
              </a:xfrm>
              <a:custGeom>
                <a:avLst/>
                <a:gdLst/>
                <a:ahLst/>
                <a:rect l="l" t="t" r="r" b="b"/>
                <a:pathLst>
                  <a:path w="490" h="237">
                    <a:moveTo>
                      <a:pt x="0" y="112"/>
                    </a:moveTo>
                    <a:lnTo>
                      <a:pt x="28" y="0"/>
                    </a:lnTo>
                    <a:lnTo>
                      <a:pt x="484" y="119"/>
                    </a:lnTo>
                    <a:lnTo>
                      <a:pt x="490" y="237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606840" y="5514480"/>
                <a:ext cx="33120" cy="93240"/>
              </a:xfrm>
              <a:custGeom>
                <a:avLst/>
                <a:gdLst/>
                <a:ahLst/>
                <a:rect l="l" t="t" r="r" b="b"/>
                <a:pathLst>
                  <a:path w="42" h="117">
                    <a:moveTo>
                      <a:pt x="0" y="113"/>
                    </a:moveTo>
                    <a:lnTo>
                      <a:pt x="14" y="117"/>
                    </a:lnTo>
                    <a:lnTo>
                      <a:pt x="42" y="5"/>
                    </a:lnTo>
                    <a:lnTo>
                      <a:pt x="28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633840" y="5511240"/>
                <a:ext cx="363600" cy="106200"/>
              </a:xfrm>
              <a:custGeom>
                <a:avLst/>
                <a:gdLst/>
                <a:ahLst/>
                <a:rect l="l" t="t" r="r" b="b"/>
                <a:pathLst>
                  <a:path w="459" h="135">
                    <a:moveTo>
                      <a:pt x="3" y="0"/>
                    </a:moveTo>
                    <a:lnTo>
                      <a:pt x="0" y="15"/>
                    </a:lnTo>
                    <a:lnTo>
                      <a:pt x="456" y="135"/>
                    </a:lnTo>
                    <a:lnTo>
                      <a:pt x="459" y="1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629160" y="550980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6"/>
                    </a:moveTo>
                    <a:lnTo>
                      <a:pt x="2" y="0"/>
                    </a:lnTo>
                    <a:lnTo>
                      <a:pt x="9" y="1"/>
                    </a:lnTo>
                    <a:lnTo>
                      <a:pt x="6" y="16"/>
                    </a:lnTo>
                    <a:lnTo>
                      <a:pt x="14" y="1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990960" y="5611320"/>
                <a:ext cx="17640" cy="93240"/>
              </a:xfrm>
              <a:custGeom>
                <a:avLst/>
                <a:gdLst/>
                <a:ahLst/>
                <a:rect l="l" t="t" r="r" b="b"/>
                <a:pathLst>
                  <a:path w="21" h="119">
                    <a:moveTo>
                      <a:pt x="15" y="0"/>
                    </a:moveTo>
                    <a:lnTo>
                      <a:pt x="0" y="2"/>
                    </a:lnTo>
                    <a:lnTo>
                      <a:pt x="6" y="119"/>
                    </a:lnTo>
                    <a:lnTo>
                      <a:pt x="21" y="11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990960" y="560664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9" y="0"/>
                    </a:moveTo>
                    <a:lnTo>
                      <a:pt x="15" y="1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6" y="1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611520" y="5600160"/>
                <a:ext cx="390600" cy="110880"/>
              </a:xfrm>
              <a:custGeom>
                <a:avLst/>
                <a:gdLst/>
                <a:ahLst/>
                <a:rect l="l" t="t" r="r" b="b"/>
                <a:pathLst>
                  <a:path w="494" h="138">
                    <a:moveTo>
                      <a:pt x="490" y="138"/>
                    </a:moveTo>
                    <a:lnTo>
                      <a:pt x="494" y="125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49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995640" y="570024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6"/>
                    </a:moveTo>
                    <a:lnTo>
                      <a:pt x="15" y="16"/>
                    </a:lnTo>
                    <a:lnTo>
                      <a:pt x="5" y="13"/>
                    </a:lnTo>
                    <a:lnTo>
                      <a:pt x="9" y="0"/>
                    </a:lnTo>
                    <a:lnTo>
                      <a:pt x="0" y="7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605040" y="5600160"/>
                <a:ext cx="12960" cy="1080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7" y="13"/>
                    </a:moveTo>
                    <a:lnTo>
                      <a:pt x="0" y="12"/>
                    </a:lnTo>
                    <a:lnTo>
                      <a:pt x="2" y="4"/>
                    </a:lnTo>
                    <a:lnTo>
                      <a:pt x="16" y="8"/>
                    </a:lnTo>
                    <a:lnTo>
                      <a:pt x="1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119480" y="5693760"/>
                <a:ext cx="100080" cy="83880"/>
              </a:xfrm>
              <a:custGeom>
                <a:avLst/>
                <a:gdLst/>
                <a:ahLst/>
                <a:rect l="l" t="t" r="r" b="b"/>
                <a:pathLst>
                  <a:path w="126" h="105">
                    <a:moveTo>
                      <a:pt x="126" y="105"/>
                    </a:moveTo>
                    <a:lnTo>
                      <a:pt x="118" y="0"/>
                    </a:lnTo>
                    <a:lnTo>
                      <a:pt x="13" y="6"/>
                    </a:lnTo>
                    <a:lnTo>
                      <a:pt x="0" y="92"/>
                    </a:lnTo>
                    <a:lnTo>
                      <a:pt x="126" y="105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06960" y="5693760"/>
                <a:ext cx="17280" cy="83880"/>
              </a:xfrm>
              <a:custGeom>
                <a:avLst/>
                <a:gdLst/>
                <a:ahLst/>
                <a:rect l="l" t="t" r="r" b="b"/>
                <a:pathLst>
                  <a:path w="21" h="105">
                    <a:moveTo>
                      <a:pt x="7" y="105"/>
                    </a:moveTo>
                    <a:lnTo>
                      <a:pt x="21" y="10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7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129200" y="5689080"/>
                <a:ext cx="85680" cy="15480"/>
              </a:xfrm>
              <a:custGeom>
                <a:avLst/>
                <a:gdLst/>
                <a:ahLst/>
                <a:rect l="l" t="t" r="r" b="b"/>
                <a:pathLst>
                  <a:path w="107" h="20">
                    <a:moveTo>
                      <a:pt x="107" y="14"/>
                    </a:moveTo>
                    <a:lnTo>
                      <a:pt x="105" y="0"/>
                    </a:lnTo>
                    <a:lnTo>
                      <a:pt x="0" y="6"/>
                    </a:lnTo>
                    <a:lnTo>
                      <a:pt x="2" y="20"/>
                    </a:lnTo>
                    <a:lnTo>
                      <a:pt x="10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206960" y="568908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6"/>
                    </a:moveTo>
                    <a:lnTo>
                      <a:pt x="13" y="0"/>
                    </a:lnTo>
                    <a:lnTo>
                      <a:pt x="6" y="0"/>
                    </a:lnTo>
                    <a:lnTo>
                      <a:pt x="8" y="14"/>
                    </a:lnTo>
                    <a:lnTo>
                      <a:pt x="0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113360" y="5698800"/>
                <a:ext cx="21960" cy="67680"/>
              </a:xfrm>
              <a:custGeom>
                <a:avLst/>
                <a:gdLst/>
                <a:ahLst/>
                <a:rect l="l" t="t" r="r" b="b"/>
                <a:pathLst>
                  <a:path w="28" h="87">
                    <a:moveTo>
                      <a:pt x="28" y="1"/>
                    </a:moveTo>
                    <a:lnTo>
                      <a:pt x="14" y="0"/>
                    </a:lnTo>
                    <a:lnTo>
                      <a:pt x="0" y="86"/>
                    </a:lnTo>
                    <a:lnTo>
                      <a:pt x="15" y="87"/>
                    </a:lnTo>
                    <a:lnTo>
                      <a:pt x="2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124160" y="569376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6" y="0"/>
                    </a:moveTo>
                    <a:lnTo>
                      <a:pt x="1" y="0"/>
                    </a:lnTo>
                    <a:lnTo>
                      <a:pt x="0" y="5"/>
                    </a:lnTo>
                    <a:lnTo>
                      <a:pt x="14" y="6"/>
                    </a:lnTo>
                    <a:lnTo>
                      <a:pt x="8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118040" y="5760720"/>
                <a:ext cx="101520" cy="21600"/>
              </a:xfrm>
              <a:custGeom>
                <a:avLst/>
                <a:gdLst/>
                <a:ahLst/>
                <a:rect l="l" t="t" r="r" b="b"/>
                <a:pathLst>
                  <a:path w="128" h="28">
                    <a:moveTo>
                      <a:pt x="2" y="0"/>
                    </a:moveTo>
                    <a:lnTo>
                      <a:pt x="0" y="14"/>
                    </a:lnTo>
                    <a:lnTo>
                      <a:pt x="126" y="28"/>
                    </a:lnTo>
                    <a:lnTo>
                      <a:pt x="128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113360" y="576072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" y="6"/>
                    </a:moveTo>
                    <a:lnTo>
                      <a:pt x="0" y="13"/>
                    </a:lnTo>
                    <a:lnTo>
                      <a:pt x="7" y="14"/>
                    </a:lnTo>
                    <a:lnTo>
                      <a:pt x="9" y="0"/>
                    </a:lnTo>
                    <a:lnTo>
                      <a:pt x="16" y="7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213080" y="577152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6" y="15"/>
                    </a:moveTo>
                    <a:lnTo>
                      <a:pt x="15" y="16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8" y="0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842000" y="5638320"/>
                <a:ext cx="128520" cy="83880"/>
              </a:xfrm>
              <a:custGeom>
                <a:avLst/>
                <a:gdLst/>
                <a:ahLst/>
                <a:rect l="l" t="t" r="r" b="b"/>
                <a:pathLst>
                  <a:path w="163" h="105">
                    <a:moveTo>
                      <a:pt x="28" y="105"/>
                    </a:moveTo>
                    <a:lnTo>
                      <a:pt x="0" y="34"/>
                    </a:lnTo>
                    <a:lnTo>
                      <a:pt x="147" y="0"/>
                    </a:lnTo>
                    <a:lnTo>
                      <a:pt x="163" y="69"/>
                    </a:lnTo>
                    <a:lnTo>
                      <a:pt x="28" y="105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35520" y="5663880"/>
                <a:ext cx="33480" cy="61560"/>
              </a:xfrm>
              <a:custGeom>
                <a:avLst/>
                <a:gdLst/>
                <a:ahLst/>
                <a:rect l="l" t="t" r="r" b="b"/>
                <a:pathLst>
                  <a:path w="41" h="77">
                    <a:moveTo>
                      <a:pt x="28" y="77"/>
                    </a:moveTo>
                    <a:lnTo>
                      <a:pt x="41" y="71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28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40200" y="5633640"/>
                <a:ext cx="119160" cy="37800"/>
              </a:xfrm>
              <a:custGeom>
                <a:avLst/>
                <a:gdLst/>
                <a:ahLst/>
                <a:rect l="l" t="t" r="r" b="b"/>
                <a:pathLst>
                  <a:path w="149" h="49">
                    <a:moveTo>
                      <a:pt x="0" y="34"/>
                    </a:moveTo>
                    <a:lnTo>
                      <a:pt x="2" y="49"/>
                    </a:lnTo>
                    <a:lnTo>
                      <a:pt x="149" y="15"/>
                    </a:lnTo>
                    <a:lnTo>
                      <a:pt x="147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832280" y="5660640"/>
                <a:ext cx="14400" cy="1080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4" y="11"/>
                    </a:moveTo>
                    <a:lnTo>
                      <a:pt x="0" y="3"/>
                    </a:lnTo>
                    <a:lnTo>
                      <a:pt x="10" y="0"/>
                    </a:lnTo>
                    <a:lnTo>
                      <a:pt x="12" y="15"/>
                    </a:lnTo>
                    <a:lnTo>
                      <a:pt x="17" y="5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51440" y="5638320"/>
                <a:ext cx="25200" cy="56880"/>
              </a:xfrm>
              <a:custGeom>
                <a:avLst/>
                <a:gdLst/>
                <a:ahLst/>
                <a:rect l="l" t="t" r="r" b="b"/>
                <a:pathLst>
                  <a:path w="31" h="73">
                    <a:moveTo>
                      <a:pt x="15" y="0"/>
                    </a:moveTo>
                    <a:lnTo>
                      <a:pt x="0" y="3"/>
                    </a:lnTo>
                    <a:lnTo>
                      <a:pt x="16" y="73"/>
                    </a:lnTo>
                    <a:lnTo>
                      <a:pt x="31" y="7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951440" y="563184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7" y="1"/>
                    </a:moveTo>
                    <a:lnTo>
                      <a:pt x="14" y="0"/>
                    </a:lnTo>
                    <a:lnTo>
                      <a:pt x="15" y="7"/>
                    </a:lnTo>
                    <a:lnTo>
                      <a:pt x="0" y="10"/>
                    </a:lnTo>
                    <a:lnTo>
                      <a:pt x="9" y="16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861080" y="5689080"/>
                <a:ext cx="110880" cy="39240"/>
              </a:xfrm>
              <a:custGeom>
                <a:avLst/>
                <a:gdLst/>
                <a:ahLst/>
                <a:rect l="l" t="t" r="r" b="b"/>
                <a:pathLst>
                  <a:path w="139" h="49">
                    <a:moveTo>
                      <a:pt x="139" y="14"/>
                    </a:moveTo>
                    <a:lnTo>
                      <a:pt x="134" y="0"/>
                    </a:lnTo>
                    <a:lnTo>
                      <a:pt x="0" y="36"/>
                    </a:lnTo>
                    <a:lnTo>
                      <a:pt x="5" y="49"/>
                    </a:lnTo>
                    <a:lnTo>
                      <a:pt x="13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964040" y="5689080"/>
                <a:ext cx="12600" cy="1080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5"/>
                    </a:moveTo>
                    <a:lnTo>
                      <a:pt x="16" y="12"/>
                    </a:lnTo>
                    <a:lnTo>
                      <a:pt x="10" y="14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857840" y="571752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0" y="13"/>
                    </a:moveTo>
                    <a:lnTo>
                      <a:pt x="2" y="16"/>
                    </a:lnTo>
                    <a:lnTo>
                      <a:pt x="0" y="9"/>
                    </a:lnTo>
                    <a:lnTo>
                      <a:pt x="13" y="3"/>
                    </a:lnTo>
                    <a:lnTo>
                      <a:pt x="5" y="0"/>
                    </a:lnTo>
                    <a:lnTo>
                      <a:pt x="1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153040" y="5376240"/>
                <a:ext cx="334800" cy="212400"/>
              </a:xfrm>
              <a:custGeom>
                <a:avLst/>
                <a:gdLst/>
                <a:ahLst/>
                <a:rect l="l" t="t" r="r" b="b"/>
                <a:pathLst>
                  <a:path w="422" h="268">
                    <a:moveTo>
                      <a:pt x="422" y="85"/>
                    </a:moveTo>
                    <a:lnTo>
                      <a:pt x="366" y="0"/>
                    </a:lnTo>
                    <a:lnTo>
                      <a:pt x="0" y="212"/>
                    </a:lnTo>
                    <a:lnTo>
                      <a:pt x="57" y="268"/>
                    </a:lnTo>
                    <a:lnTo>
                      <a:pt x="422" y="85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437080" y="5373360"/>
                <a:ext cx="54000" cy="74160"/>
              </a:xfrm>
              <a:custGeom>
                <a:avLst/>
                <a:gdLst/>
                <a:ahLst/>
                <a:rect l="l" t="t" r="r" b="b"/>
                <a:pathLst>
                  <a:path w="67" h="93">
                    <a:moveTo>
                      <a:pt x="56" y="93"/>
                    </a:moveTo>
                    <a:lnTo>
                      <a:pt x="67" y="84"/>
                    </a:lnTo>
                    <a:lnTo>
                      <a:pt x="11" y="0"/>
                    </a:lnTo>
                    <a:lnTo>
                      <a:pt x="0" y="8"/>
                    </a:lnTo>
                    <a:lnTo>
                      <a:pt x="56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148360" y="5371560"/>
                <a:ext cx="296640" cy="177480"/>
              </a:xfrm>
              <a:custGeom>
                <a:avLst/>
                <a:gdLst/>
                <a:ahLst/>
                <a:rect l="l" t="t" r="r" b="b"/>
                <a:pathLst>
                  <a:path w="374" h="224">
                    <a:moveTo>
                      <a:pt x="374" y="13"/>
                    </a:moveTo>
                    <a:lnTo>
                      <a:pt x="365" y="0"/>
                    </a:lnTo>
                    <a:lnTo>
                      <a:pt x="0" y="212"/>
                    </a:lnTo>
                    <a:lnTo>
                      <a:pt x="8" y="224"/>
                    </a:lnTo>
                    <a:lnTo>
                      <a:pt x="37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437080" y="5368320"/>
                <a:ext cx="9720" cy="126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6"/>
                    </a:moveTo>
                    <a:lnTo>
                      <a:pt x="7" y="0"/>
                    </a:lnTo>
                    <a:lnTo>
                      <a:pt x="1" y="3"/>
                    </a:lnTo>
                    <a:lnTo>
                      <a:pt x="10" y="16"/>
                    </a:lnTo>
                    <a:lnTo>
                      <a:pt x="0" y="14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148360" y="554148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66" h="67">
                    <a:moveTo>
                      <a:pt x="9" y="0"/>
                    </a:moveTo>
                    <a:lnTo>
                      <a:pt x="0" y="11"/>
                    </a:lnTo>
                    <a:lnTo>
                      <a:pt x="56" y="67"/>
                    </a:lnTo>
                    <a:lnTo>
                      <a:pt x="66" y="5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143680" y="5540040"/>
                <a:ext cx="12600" cy="900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8" y="0"/>
                    </a:moveTo>
                    <a:lnTo>
                      <a:pt x="0" y="5"/>
                    </a:lnTo>
                    <a:lnTo>
                      <a:pt x="8" y="12"/>
                    </a:lnTo>
                    <a:lnTo>
                      <a:pt x="17" y="1"/>
                    </a:lnTo>
                    <a:lnTo>
                      <a:pt x="16" y="1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194440" y="5438160"/>
                <a:ext cx="295200" cy="156960"/>
              </a:xfrm>
              <a:custGeom>
                <a:avLst/>
                <a:gdLst/>
                <a:ahLst/>
                <a:rect l="l" t="t" r="r" b="b"/>
                <a:pathLst>
                  <a:path w="372" h="197">
                    <a:moveTo>
                      <a:pt x="0" y="183"/>
                    </a:moveTo>
                    <a:lnTo>
                      <a:pt x="6" y="197"/>
                    </a:lnTo>
                    <a:lnTo>
                      <a:pt x="372" y="13"/>
                    </a:lnTo>
                    <a:lnTo>
                      <a:pt x="36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192640" y="558432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12"/>
                    </a:moveTo>
                    <a:lnTo>
                      <a:pt x="3" y="16"/>
                    </a:lnTo>
                    <a:lnTo>
                      <a:pt x="7" y="14"/>
                    </a:lnTo>
                    <a:lnTo>
                      <a:pt x="1" y="0"/>
                    </a:lnTo>
                    <a:lnTo>
                      <a:pt x="10" y="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483160" y="5438160"/>
                <a:ext cx="12600" cy="1080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9" y="13"/>
                    </a:moveTo>
                    <a:lnTo>
                      <a:pt x="16" y="9"/>
                    </a:lnTo>
                    <a:lnTo>
                      <a:pt x="11" y="2"/>
                    </a:lnTo>
                    <a:lnTo>
                      <a:pt x="0" y="11"/>
                    </a:lnTo>
                    <a:lnTo>
                      <a:pt x="3" y="0"/>
                    </a:lnTo>
                    <a:lnTo>
                      <a:pt x="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165720" y="3507840"/>
                <a:ext cx="422280" cy="1179360"/>
              </a:xfrm>
              <a:custGeom>
                <a:avLst/>
                <a:gdLst/>
                <a:ahLst/>
                <a:rect l="l" t="t" r="r" b="b"/>
                <a:pathLst>
                  <a:path w="531" h="1485">
                    <a:moveTo>
                      <a:pt x="124" y="1485"/>
                    </a:moveTo>
                    <a:lnTo>
                      <a:pt x="0" y="1401"/>
                    </a:lnTo>
                    <a:lnTo>
                      <a:pt x="244" y="1016"/>
                    </a:lnTo>
                    <a:lnTo>
                      <a:pt x="357" y="609"/>
                    </a:lnTo>
                    <a:lnTo>
                      <a:pt x="286" y="273"/>
                    </a:lnTo>
                    <a:lnTo>
                      <a:pt x="307" y="28"/>
                    </a:lnTo>
                    <a:lnTo>
                      <a:pt x="530" y="0"/>
                    </a:lnTo>
                    <a:lnTo>
                      <a:pt x="531" y="462"/>
                    </a:lnTo>
                    <a:lnTo>
                      <a:pt x="426" y="679"/>
                    </a:lnTo>
                    <a:lnTo>
                      <a:pt x="496" y="708"/>
                    </a:lnTo>
                    <a:lnTo>
                      <a:pt x="341" y="1128"/>
                    </a:lnTo>
                    <a:lnTo>
                      <a:pt x="124" y="1485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161040" y="4615920"/>
                <a:ext cx="106560" cy="75960"/>
              </a:xfrm>
              <a:custGeom>
                <a:avLst/>
                <a:gdLst/>
                <a:ahLst/>
                <a:rect l="l" t="t" r="r" b="b"/>
                <a:pathLst>
                  <a:path w="133" h="95">
                    <a:moveTo>
                      <a:pt x="124" y="95"/>
                    </a:moveTo>
                    <a:lnTo>
                      <a:pt x="133" y="84"/>
                    </a:lnTo>
                    <a:lnTo>
                      <a:pt x="8" y="0"/>
                    </a:lnTo>
                    <a:lnTo>
                      <a:pt x="0" y="11"/>
                    </a:lnTo>
                    <a:lnTo>
                      <a:pt x="124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161040" y="4312800"/>
                <a:ext cx="203400" cy="310680"/>
              </a:xfrm>
              <a:custGeom>
                <a:avLst/>
                <a:gdLst/>
                <a:ahLst/>
                <a:rect l="l" t="t" r="r" b="b"/>
                <a:pathLst>
                  <a:path w="256" h="394">
                    <a:moveTo>
                      <a:pt x="0" y="385"/>
                    </a:moveTo>
                    <a:lnTo>
                      <a:pt x="12" y="394"/>
                    </a:lnTo>
                    <a:lnTo>
                      <a:pt x="256" y="9"/>
                    </a:lnTo>
                    <a:lnTo>
                      <a:pt x="244" y="0"/>
                    </a:lnTo>
                    <a:lnTo>
                      <a:pt x="0" y="3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157800" y="4615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5" y="11"/>
                    </a:moveTo>
                    <a:lnTo>
                      <a:pt x="0" y="7"/>
                    </a:lnTo>
                    <a:lnTo>
                      <a:pt x="4" y="1"/>
                    </a:lnTo>
                    <a:lnTo>
                      <a:pt x="16" y="10"/>
                    </a:lnTo>
                    <a:lnTo>
                      <a:pt x="13" y="0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353280" y="3990600"/>
                <a:ext cx="100080" cy="326520"/>
              </a:xfrm>
              <a:custGeom>
                <a:avLst/>
                <a:gdLst/>
                <a:ahLst/>
                <a:rect l="l" t="t" r="r" b="b"/>
                <a:pathLst>
                  <a:path w="126" h="412">
                    <a:moveTo>
                      <a:pt x="0" y="407"/>
                    </a:moveTo>
                    <a:lnTo>
                      <a:pt x="13" y="412"/>
                    </a:lnTo>
                    <a:lnTo>
                      <a:pt x="126" y="5"/>
                    </a:lnTo>
                    <a:lnTo>
                      <a:pt x="112" y="0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353280" y="431280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3" y="9"/>
                    </a:moveTo>
                    <a:lnTo>
                      <a:pt x="12" y="11"/>
                    </a:lnTo>
                    <a:lnTo>
                      <a:pt x="13" y="6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386400" y="3725280"/>
                <a:ext cx="66960" cy="268200"/>
              </a:xfrm>
              <a:custGeom>
                <a:avLst/>
                <a:gdLst/>
                <a:ahLst/>
                <a:rect l="l" t="t" r="r" b="b"/>
                <a:pathLst>
                  <a:path w="85" h="339">
                    <a:moveTo>
                      <a:pt x="71" y="339"/>
                    </a:moveTo>
                    <a:lnTo>
                      <a:pt x="85" y="335"/>
                    </a:lnTo>
                    <a:lnTo>
                      <a:pt x="14" y="0"/>
                    </a:lnTo>
                    <a:lnTo>
                      <a:pt x="0" y="4"/>
                    </a:lnTo>
                    <a:lnTo>
                      <a:pt x="71" y="3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443640" y="3990600"/>
                <a:ext cx="9720" cy="288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4" y="5"/>
                    </a:moveTo>
                    <a:lnTo>
                      <a:pt x="14" y="4"/>
                    </a:lnTo>
                    <a:lnTo>
                      <a:pt x="14" y="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386400" y="3530160"/>
                <a:ext cx="27000" cy="196560"/>
              </a:xfrm>
              <a:custGeom>
                <a:avLst/>
                <a:gdLst/>
                <a:ahLst/>
                <a:rect l="l" t="t" r="r" b="b"/>
                <a:pathLst>
                  <a:path w="35" h="249">
                    <a:moveTo>
                      <a:pt x="0" y="246"/>
                    </a:moveTo>
                    <a:lnTo>
                      <a:pt x="14" y="249"/>
                    </a:lnTo>
                    <a:lnTo>
                      <a:pt x="35" y="3"/>
                    </a:lnTo>
                    <a:lnTo>
                      <a:pt x="21" y="0"/>
                    </a:lnTo>
                    <a:lnTo>
                      <a:pt x="0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386400" y="37252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0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408720" y="3503160"/>
                <a:ext cx="179280" cy="33120"/>
              </a:xfrm>
              <a:custGeom>
                <a:avLst/>
                <a:gdLst/>
                <a:ahLst/>
                <a:rect l="l" t="t" r="r" b="b"/>
                <a:pathLst>
                  <a:path w="224" h="43">
                    <a:moveTo>
                      <a:pt x="0" y="28"/>
                    </a:moveTo>
                    <a:lnTo>
                      <a:pt x="1" y="43"/>
                    </a:lnTo>
                    <a:lnTo>
                      <a:pt x="224" y="15"/>
                    </a:lnTo>
                    <a:lnTo>
                      <a:pt x="22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404040" y="352548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6"/>
                    </a:moveTo>
                    <a:lnTo>
                      <a:pt x="0" y="2"/>
                    </a:lnTo>
                    <a:lnTo>
                      <a:pt x="8" y="0"/>
                    </a:lnTo>
                    <a:lnTo>
                      <a:pt x="9" y="15"/>
                    </a:lnTo>
                    <a:lnTo>
                      <a:pt x="14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580080" y="3507840"/>
                <a:ext cx="12960" cy="366480"/>
              </a:xfrm>
              <a:custGeom>
                <a:avLst/>
                <a:gdLst/>
                <a:ahLst/>
                <a:rect l="l" t="t" r="r" b="b"/>
                <a:pathLst>
                  <a:path w="16" h="462">
                    <a:moveTo>
                      <a:pt x="15" y="0"/>
                    </a:moveTo>
                    <a:lnTo>
                      <a:pt x="0" y="0"/>
                    </a:lnTo>
                    <a:lnTo>
                      <a:pt x="1" y="462"/>
                    </a:lnTo>
                    <a:lnTo>
                      <a:pt x="16" y="46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580080" y="350172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7" y="1"/>
                    </a:moveTo>
                    <a:lnTo>
                      <a:pt x="15" y="0"/>
                    </a:lnTo>
                    <a:lnTo>
                      <a:pt x="15" y="9"/>
                    </a:lnTo>
                    <a:lnTo>
                      <a:pt x="0" y="9"/>
                    </a:lnTo>
                    <a:lnTo>
                      <a:pt x="8" y="16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497640" y="3872880"/>
                <a:ext cx="95400" cy="177480"/>
              </a:xfrm>
              <a:custGeom>
                <a:avLst/>
                <a:gdLst/>
                <a:ahLst/>
                <a:rect l="l" t="t" r="r" b="b"/>
                <a:pathLst>
                  <a:path w="119" h="224">
                    <a:moveTo>
                      <a:pt x="119" y="6"/>
                    </a:moveTo>
                    <a:lnTo>
                      <a:pt x="105" y="0"/>
                    </a:lnTo>
                    <a:lnTo>
                      <a:pt x="0" y="218"/>
                    </a:lnTo>
                    <a:lnTo>
                      <a:pt x="13" y="224"/>
                    </a:lnTo>
                    <a:lnTo>
                      <a:pt x="1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581880" y="387288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5" y="3"/>
                    </a:moveTo>
                    <a:lnTo>
                      <a:pt x="15" y="4"/>
                    </a:lnTo>
                    <a:lnTo>
                      <a:pt x="14" y="6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500880" y="4042800"/>
                <a:ext cx="60120" cy="33120"/>
              </a:xfrm>
              <a:custGeom>
                <a:avLst/>
                <a:gdLst/>
                <a:ahLst/>
                <a:rect l="l" t="t" r="r" b="b"/>
                <a:pathLst>
                  <a:path w="75" h="42">
                    <a:moveTo>
                      <a:pt x="6" y="0"/>
                    </a:moveTo>
                    <a:lnTo>
                      <a:pt x="0" y="14"/>
                    </a:lnTo>
                    <a:lnTo>
                      <a:pt x="69" y="42"/>
                    </a:lnTo>
                    <a:lnTo>
                      <a:pt x="75" y="2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496200" y="4042800"/>
                <a:ext cx="12600" cy="1080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4" y="4"/>
                    </a:moveTo>
                    <a:lnTo>
                      <a:pt x="0" y="11"/>
                    </a:lnTo>
                    <a:lnTo>
                      <a:pt x="8" y="14"/>
                    </a:lnTo>
                    <a:lnTo>
                      <a:pt x="14" y="0"/>
                    </a:lnTo>
                    <a:lnTo>
                      <a:pt x="17" y="1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431040" y="4068360"/>
                <a:ext cx="133200" cy="337680"/>
              </a:xfrm>
              <a:custGeom>
                <a:avLst/>
                <a:gdLst/>
                <a:ahLst/>
                <a:rect l="l" t="t" r="r" b="b"/>
                <a:pathLst>
                  <a:path w="169" h="427">
                    <a:moveTo>
                      <a:pt x="169" y="6"/>
                    </a:moveTo>
                    <a:lnTo>
                      <a:pt x="156" y="0"/>
                    </a:lnTo>
                    <a:lnTo>
                      <a:pt x="0" y="421"/>
                    </a:lnTo>
                    <a:lnTo>
                      <a:pt x="14" y="427"/>
                    </a:lnTo>
                    <a:lnTo>
                      <a:pt x="16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553080" y="4065120"/>
                <a:ext cx="12960" cy="1080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9" y="0"/>
                    </a:moveTo>
                    <a:lnTo>
                      <a:pt x="16" y="3"/>
                    </a:lnTo>
                    <a:lnTo>
                      <a:pt x="13" y="10"/>
                    </a:lnTo>
                    <a:lnTo>
                      <a:pt x="0" y="4"/>
                    </a:lnTo>
                    <a:lnTo>
                      <a:pt x="3" y="1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259680" y="4401720"/>
                <a:ext cx="180720" cy="290160"/>
              </a:xfrm>
              <a:custGeom>
                <a:avLst/>
                <a:gdLst/>
                <a:ahLst/>
                <a:rect l="l" t="t" r="r" b="b"/>
                <a:pathLst>
                  <a:path w="229" h="365">
                    <a:moveTo>
                      <a:pt x="229" y="8"/>
                    </a:moveTo>
                    <a:lnTo>
                      <a:pt x="217" y="0"/>
                    </a:lnTo>
                    <a:lnTo>
                      <a:pt x="0" y="357"/>
                    </a:lnTo>
                    <a:lnTo>
                      <a:pt x="12" y="365"/>
                    </a:lnTo>
                    <a:lnTo>
                      <a:pt x="22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431040" y="4401720"/>
                <a:ext cx="9360" cy="57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4" y="7"/>
                    </a:moveTo>
                    <a:lnTo>
                      <a:pt x="14" y="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259680" y="468432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10"/>
                    </a:moveTo>
                    <a:lnTo>
                      <a:pt x="9" y="16"/>
                    </a:lnTo>
                    <a:lnTo>
                      <a:pt x="1" y="11"/>
                    </a:lnTo>
                    <a:lnTo>
                      <a:pt x="10" y="0"/>
                    </a:lnTo>
                    <a:lnTo>
                      <a:pt x="0" y="2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357720" y="1456920"/>
                <a:ext cx="249120" cy="217080"/>
              </a:xfrm>
              <a:custGeom>
                <a:avLst/>
                <a:gdLst/>
                <a:ahLst/>
                <a:rect l="l" t="t" r="r" b="b"/>
                <a:pathLst>
                  <a:path w="314" h="273">
                    <a:moveTo>
                      <a:pt x="252" y="0"/>
                    </a:moveTo>
                    <a:lnTo>
                      <a:pt x="314" y="189"/>
                    </a:lnTo>
                    <a:lnTo>
                      <a:pt x="49" y="273"/>
                    </a:lnTo>
                    <a:lnTo>
                      <a:pt x="0" y="140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551400" y="1455120"/>
                <a:ext cx="60120" cy="153720"/>
              </a:xfrm>
              <a:custGeom>
                <a:avLst/>
                <a:gdLst/>
                <a:ahLst/>
                <a:rect l="l" t="t" r="r" b="b"/>
                <a:pathLst>
                  <a:path w="75" h="196">
                    <a:moveTo>
                      <a:pt x="13" y="0"/>
                    </a:moveTo>
                    <a:lnTo>
                      <a:pt x="0" y="6"/>
                    </a:lnTo>
                    <a:lnTo>
                      <a:pt x="62" y="196"/>
                    </a:lnTo>
                    <a:lnTo>
                      <a:pt x="75" y="19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394080" y="1602720"/>
                <a:ext cx="214200" cy="75960"/>
              </a:xfrm>
              <a:custGeom>
                <a:avLst/>
                <a:gdLst/>
                <a:ahLst/>
                <a:rect l="l" t="t" r="r" b="b"/>
                <a:pathLst>
                  <a:path w="272" h="98">
                    <a:moveTo>
                      <a:pt x="272" y="13"/>
                    </a:moveTo>
                    <a:lnTo>
                      <a:pt x="266" y="0"/>
                    </a:lnTo>
                    <a:lnTo>
                      <a:pt x="0" y="84"/>
                    </a:lnTo>
                    <a:lnTo>
                      <a:pt x="6" y="98"/>
                    </a:lnTo>
                    <a:lnTo>
                      <a:pt x="27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600360" y="16027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3" y="4"/>
                    </a:moveTo>
                    <a:lnTo>
                      <a:pt x="16" y="11"/>
                    </a:lnTo>
                    <a:lnTo>
                      <a:pt x="10" y="13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351240" y="1566360"/>
                <a:ext cx="50760" cy="110880"/>
              </a:xfrm>
              <a:custGeom>
                <a:avLst/>
                <a:gdLst/>
                <a:ahLst/>
                <a:rect l="l" t="t" r="r" b="b"/>
                <a:pathLst>
                  <a:path w="62" h="139">
                    <a:moveTo>
                      <a:pt x="49" y="139"/>
                    </a:moveTo>
                    <a:lnTo>
                      <a:pt x="62" y="133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49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390840" y="166968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9" y="14"/>
                    </a:moveTo>
                    <a:lnTo>
                      <a:pt x="2" y="16"/>
                    </a:lnTo>
                    <a:lnTo>
                      <a:pt x="0" y="10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354480" y="1452240"/>
                <a:ext cx="206280" cy="120240"/>
              </a:xfrm>
              <a:custGeom>
                <a:avLst/>
                <a:gdLst/>
                <a:ahLst/>
                <a:rect l="l" t="t" r="r" b="b"/>
                <a:pathLst>
                  <a:path w="260" h="153">
                    <a:moveTo>
                      <a:pt x="0" y="141"/>
                    </a:moveTo>
                    <a:lnTo>
                      <a:pt x="8" y="153"/>
                    </a:lnTo>
                    <a:lnTo>
                      <a:pt x="260" y="13"/>
                    </a:lnTo>
                    <a:lnTo>
                      <a:pt x="252" y="0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349800" y="15631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3" y="10"/>
                    </a:moveTo>
                    <a:lnTo>
                      <a:pt x="0" y="4"/>
                    </a:lnTo>
                    <a:lnTo>
                      <a:pt x="6" y="0"/>
                    </a:lnTo>
                    <a:lnTo>
                      <a:pt x="14" y="12"/>
                    </a:lnTo>
                    <a:lnTo>
                      <a:pt x="16" y="4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551400" y="144900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3" y="3"/>
                    </a:moveTo>
                    <a:lnTo>
                      <a:pt x="11" y="0"/>
                    </a:lnTo>
                    <a:lnTo>
                      <a:pt x="13" y="7"/>
                    </a:lnTo>
                    <a:lnTo>
                      <a:pt x="0" y="13"/>
                    </a:lnTo>
                    <a:lnTo>
                      <a:pt x="11" y="16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786120" y="1250640"/>
                <a:ext cx="951120" cy="377280"/>
              </a:xfrm>
              <a:custGeom>
                <a:avLst/>
                <a:gdLst/>
                <a:ahLst/>
                <a:rect l="l" t="t" r="r" b="b"/>
                <a:pathLst>
                  <a:path w="1198" h="476">
                    <a:moveTo>
                      <a:pt x="0" y="98"/>
                    </a:moveTo>
                    <a:lnTo>
                      <a:pt x="84" y="323"/>
                    </a:lnTo>
                    <a:lnTo>
                      <a:pt x="1022" y="476"/>
                    </a:lnTo>
                    <a:lnTo>
                      <a:pt x="1198" y="148"/>
                    </a:lnTo>
                    <a:lnTo>
                      <a:pt x="575" y="0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780000" y="1326600"/>
                <a:ext cx="77760" cy="182160"/>
              </a:xfrm>
              <a:custGeom>
                <a:avLst/>
                <a:gdLst/>
                <a:ahLst/>
                <a:rect l="l" t="t" r="r" b="b"/>
                <a:pathLst>
                  <a:path w="98" h="231">
                    <a:moveTo>
                      <a:pt x="13" y="0"/>
                    </a:moveTo>
                    <a:lnTo>
                      <a:pt x="0" y="6"/>
                    </a:lnTo>
                    <a:lnTo>
                      <a:pt x="84" y="231"/>
                    </a:lnTo>
                    <a:lnTo>
                      <a:pt x="98" y="22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851280" y="1501200"/>
                <a:ext cx="746280" cy="133200"/>
              </a:xfrm>
              <a:custGeom>
                <a:avLst/>
                <a:gdLst/>
                <a:ahLst/>
                <a:rect l="l" t="t" r="r" b="b"/>
                <a:pathLst>
                  <a:path w="940" h="167">
                    <a:moveTo>
                      <a:pt x="3" y="0"/>
                    </a:moveTo>
                    <a:lnTo>
                      <a:pt x="0" y="15"/>
                    </a:lnTo>
                    <a:lnTo>
                      <a:pt x="938" y="167"/>
                    </a:lnTo>
                    <a:lnTo>
                      <a:pt x="940" y="15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846600" y="150120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11"/>
                    </a:moveTo>
                    <a:lnTo>
                      <a:pt x="1" y="13"/>
                    </a:lnTo>
                    <a:lnTo>
                      <a:pt x="6" y="15"/>
                    </a:lnTo>
                    <a:lnTo>
                      <a:pt x="9" y="0"/>
                    </a:lnTo>
                    <a:lnTo>
                      <a:pt x="14" y="5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591080" y="1364760"/>
                <a:ext cx="150840" cy="266400"/>
              </a:xfrm>
              <a:custGeom>
                <a:avLst/>
                <a:gdLst/>
                <a:ahLst/>
                <a:rect l="l" t="t" r="r" b="b"/>
                <a:pathLst>
                  <a:path w="188" h="336">
                    <a:moveTo>
                      <a:pt x="0" y="327"/>
                    </a:moveTo>
                    <a:lnTo>
                      <a:pt x="12" y="336"/>
                    </a:lnTo>
                    <a:lnTo>
                      <a:pt x="188" y="8"/>
                    </a:lnTo>
                    <a:lnTo>
                      <a:pt x="176" y="0"/>
                    </a:lnTo>
                    <a:lnTo>
                      <a:pt x="0" y="3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591080" y="162180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5" y="14"/>
                    </a:moveTo>
                    <a:lnTo>
                      <a:pt x="11" y="16"/>
                    </a:lnTo>
                    <a:lnTo>
                      <a:pt x="12" y="12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240080" y="1245600"/>
                <a:ext cx="497160" cy="128160"/>
              </a:xfrm>
              <a:custGeom>
                <a:avLst/>
                <a:gdLst/>
                <a:ahLst/>
                <a:rect l="l" t="t" r="r" b="b"/>
                <a:pathLst>
                  <a:path w="627" h="162">
                    <a:moveTo>
                      <a:pt x="624" y="162"/>
                    </a:moveTo>
                    <a:lnTo>
                      <a:pt x="627" y="148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624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730760" y="1363320"/>
                <a:ext cx="14400" cy="1044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12" y="11"/>
                    </a:moveTo>
                    <a:lnTo>
                      <a:pt x="17" y="3"/>
                    </a:lnTo>
                    <a:lnTo>
                      <a:pt x="7" y="0"/>
                    </a:lnTo>
                    <a:lnTo>
                      <a:pt x="4" y="14"/>
                    </a:lnTo>
                    <a:lnTo>
                      <a:pt x="0" y="3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782880" y="1245600"/>
                <a:ext cx="459000" cy="88560"/>
              </a:xfrm>
              <a:custGeom>
                <a:avLst/>
                <a:gdLst/>
                <a:ahLst/>
                <a:rect l="l" t="t" r="r" b="b"/>
                <a:pathLst>
                  <a:path w="578" h="112">
                    <a:moveTo>
                      <a:pt x="578" y="14"/>
                    </a:moveTo>
                    <a:lnTo>
                      <a:pt x="574" y="0"/>
                    </a:lnTo>
                    <a:lnTo>
                      <a:pt x="0" y="98"/>
                    </a:lnTo>
                    <a:lnTo>
                      <a:pt x="3" y="112"/>
                    </a:lnTo>
                    <a:lnTo>
                      <a:pt x="578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240080" y="1245600"/>
                <a:ext cx="1800" cy="10800"/>
              </a:xfrm>
              <a:custGeom>
                <a:avLst/>
                <a:gdLst/>
                <a:ahLst/>
                <a:rect l="l" t="t" r="r" b="b"/>
                <a:pathLst>
                  <a:path w="4" h="14">
                    <a:moveTo>
                      <a:pt x="4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4" y="14"/>
                    </a:lnTo>
                    <a:lnTo>
                      <a:pt x="0" y="1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776760" y="1323360"/>
                <a:ext cx="14040" cy="1080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9" y="0"/>
                    </a:moveTo>
                    <a:lnTo>
                      <a:pt x="0" y="1"/>
                    </a:lnTo>
                    <a:lnTo>
                      <a:pt x="4" y="10"/>
                    </a:lnTo>
                    <a:lnTo>
                      <a:pt x="17" y="4"/>
                    </a:lnTo>
                    <a:lnTo>
                      <a:pt x="12" y="1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897440" y="1490040"/>
                <a:ext cx="352440" cy="295200"/>
              </a:xfrm>
              <a:custGeom>
                <a:avLst/>
                <a:gdLst/>
                <a:ahLst/>
                <a:rect l="l" t="t" r="r" b="b"/>
                <a:pathLst>
                  <a:path w="444" h="372">
                    <a:moveTo>
                      <a:pt x="90" y="0"/>
                    </a:moveTo>
                    <a:lnTo>
                      <a:pt x="0" y="301"/>
                    </a:lnTo>
                    <a:lnTo>
                      <a:pt x="280" y="372"/>
                    </a:lnTo>
                    <a:lnTo>
                      <a:pt x="308" y="359"/>
                    </a:lnTo>
                    <a:lnTo>
                      <a:pt x="337" y="344"/>
                    </a:lnTo>
                    <a:lnTo>
                      <a:pt x="369" y="327"/>
                    </a:lnTo>
                    <a:lnTo>
                      <a:pt x="400" y="309"/>
                    </a:lnTo>
                    <a:lnTo>
                      <a:pt x="413" y="300"/>
                    </a:lnTo>
                    <a:lnTo>
                      <a:pt x="425" y="291"/>
                    </a:lnTo>
                    <a:lnTo>
                      <a:pt x="430" y="288"/>
                    </a:lnTo>
                    <a:lnTo>
                      <a:pt x="434" y="284"/>
                    </a:lnTo>
                    <a:lnTo>
                      <a:pt x="438" y="280"/>
                    </a:lnTo>
                    <a:lnTo>
                      <a:pt x="440" y="277"/>
                    </a:lnTo>
                    <a:lnTo>
                      <a:pt x="443" y="273"/>
                    </a:lnTo>
                    <a:lnTo>
                      <a:pt x="444" y="271"/>
                    </a:lnTo>
                    <a:lnTo>
                      <a:pt x="443" y="268"/>
                    </a:lnTo>
                    <a:lnTo>
                      <a:pt x="441" y="266"/>
                    </a:lnTo>
                    <a:lnTo>
                      <a:pt x="421" y="249"/>
                    </a:lnTo>
                    <a:lnTo>
                      <a:pt x="378" y="216"/>
                    </a:lnTo>
                    <a:lnTo>
                      <a:pt x="258" y="125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890960" y="1488600"/>
                <a:ext cx="82800" cy="240840"/>
              </a:xfrm>
              <a:custGeom>
                <a:avLst/>
                <a:gdLst/>
                <a:ahLst/>
                <a:rect l="l" t="t" r="r" b="b"/>
                <a:pathLst>
                  <a:path w="106" h="304">
                    <a:moveTo>
                      <a:pt x="106" y="5"/>
                    </a:moveTo>
                    <a:lnTo>
                      <a:pt x="92" y="0"/>
                    </a:lnTo>
                    <a:lnTo>
                      <a:pt x="0" y="300"/>
                    </a:lnTo>
                    <a:lnTo>
                      <a:pt x="14" y="304"/>
                    </a:lnTo>
                    <a:lnTo>
                      <a:pt x="10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896000" y="1721880"/>
                <a:ext cx="225360" cy="69480"/>
              </a:xfrm>
              <a:custGeom>
                <a:avLst/>
                <a:gdLst/>
                <a:ahLst/>
                <a:rect l="l" t="t" r="r" b="b"/>
                <a:pathLst>
                  <a:path w="283" h="86">
                    <a:moveTo>
                      <a:pt x="2" y="0"/>
                    </a:moveTo>
                    <a:lnTo>
                      <a:pt x="0" y="14"/>
                    </a:lnTo>
                    <a:lnTo>
                      <a:pt x="281" y="86"/>
                    </a:lnTo>
                    <a:lnTo>
                      <a:pt x="283" y="7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888080" y="1721880"/>
                <a:ext cx="12600" cy="1224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2" y="5"/>
                    </a:moveTo>
                    <a:lnTo>
                      <a:pt x="0" y="12"/>
                    </a:lnTo>
                    <a:lnTo>
                      <a:pt x="9" y="14"/>
                    </a:lnTo>
                    <a:lnTo>
                      <a:pt x="11" y="0"/>
                    </a:lnTo>
                    <a:lnTo>
                      <a:pt x="16" y="9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116680" y="1699560"/>
                <a:ext cx="136440" cy="91800"/>
              </a:xfrm>
              <a:custGeom>
                <a:avLst/>
                <a:gdLst/>
                <a:ahLst/>
                <a:rect l="l" t="t" r="r" b="b"/>
                <a:pathLst>
                  <a:path w="173" h="116">
                    <a:moveTo>
                      <a:pt x="0" y="103"/>
                    </a:moveTo>
                    <a:lnTo>
                      <a:pt x="28" y="90"/>
                    </a:lnTo>
                    <a:lnTo>
                      <a:pt x="89" y="58"/>
                    </a:lnTo>
                    <a:lnTo>
                      <a:pt x="119" y="39"/>
                    </a:lnTo>
                    <a:lnTo>
                      <a:pt x="145" y="22"/>
                    </a:lnTo>
                    <a:lnTo>
                      <a:pt x="153" y="15"/>
                    </a:lnTo>
                    <a:lnTo>
                      <a:pt x="158" y="9"/>
                    </a:lnTo>
                    <a:lnTo>
                      <a:pt x="159" y="6"/>
                    </a:lnTo>
                    <a:lnTo>
                      <a:pt x="158" y="5"/>
                    </a:lnTo>
                    <a:lnTo>
                      <a:pt x="171" y="0"/>
                    </a:lnTo>
                    <a:lnTo>
                      <a:pt x="173" y="9"/>
                    </a:lnTo>
                    <a:lnTo>
                      <a:pt x="169" y="19"/>
                    </a:lnTo>
                    <a:lnTo>
                      <a:pt x="163" y="26"/>
                    </a:lnTo>
                    <a:lnTo>
                      <a:pt x="153" y="35"/>
                    </a:lnTo>
                    <a:lnTo>
                      <a:pt x="127" y="52"/>
                    </a:lnTo>
                    <a:lnTo>
                      <a:pt x="96" y="71"/>
                    </a:lnTo>
                    <a:lnTo>
                      <a:pt x="34" y="103"/>
                    </a:lnTo>
                    <a:lnTo>
                      <a:pt x="6" y="116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116680" y="177912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3" y="14"/>
                    </a:moveTo>
                    <a:lnTo>
                      <a:pt x="5" y="16"/>
                    </a:lnTo>
                    <a:lnTo>
                      <a:pt x="6" y="14"/>
                    </a:lnTo>
                    <a:lnTo>
                      <a:pt x="0" y="1"/>
                    </a:lnTo>
                    <a:lnTo>
                      <a:pt x="5" y="0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965840" y="1487160"/>
                <a:ext cx="285480" cy="218520"/>
              </a:xfrm>
              <a:custGeom>
                <a:avLst/>
                <a:gdLst/>
                <a:ahLst/>
                <a:rect l="l" t="t" r="r" b="b"/>
                <a:pathLst>
                  <a:path w="360" h="277">
                    <a:moveTo>
                      <a:pt x="350" y="277"/>
                    </a:moveTo>
                    <a:lnTo>
                      <a:pt x="287" y="227"/>
                    </a:lnTo>
                    <a:lnTo>
                      <a:pt x="167" y="136"/>
                    </a:lnTo>
                    <a:lnTo>
                      <a:pt x="0" y="11"/>
                    </a:lnTo>
                    <a:lnTo>
                      <a:pt x="9" y="0"/>
                    </a:lnTo>
                    <a:lnTo>
                      <a:pt x="177" y="125"/>
                    </a:lnTo>
                    <a:lnTo>
                      <a:pt x="297" y="216"/>
                    </a:lnTo>
                    <a:lnTo>
                      <a:pt x="360" y="266"/>
                    </a:lnTo>
                    <a:lnTo>
                      <a:pt x="350" y="2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241960" y="169668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3" y="2"/>
                    </a:moveTo>
                    <a:lnTo>
                      <a:pt x="12" y="0"/>
                    </a:lnTo>
                    <a:lnTo>
                      <a:pt x="2" y="11"/>
                    </a:lnTo>
                    <a:lnTo>
                      <a:pt x="0" y="7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964040" y="1480680"/>
                <a:ext cx="9720" cy="1404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12" y="7"/>
                    </a:moveTo>
                    <a:lnTo>
                      <a:pt x="3" y="0"/>
                    </a:lnTo>
                    <a:lnTo>
                      <a:pt x="0" y="10"/>
                    </a:lnTo>
                    <a:lnTo>
                      <a:pt x="14" y="15"/>
                    </a:lnTo>
                    <a:lnTo>
                      <a:pt x="3" y="18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388200" y="3163320"/>
                <a:ext cx="133200" cy="188640"/>
              </a:xfrm>
              <a:custGeom>
                <a:avLst/>
                <a:gdLst/>
                <a:ahLst/>
                <a:rect l="l" t="t" r="r" b="b"/>
                <a:pathLst>
                  <a:path w="167" h="239">
                    <a:moveTo>
                      <a:pt x="167" y="197"/>
                    </a:moveTo>
                    <a:lnTo>
                      <a:pt x="0" y="239"/>
                    </a:lnTo>
                    <a:lnTo>
                      <a:pt x="5" y="21"/>
                    </a:lnTo>
                    <a:lnTo>
                      <a:pt x="139" y="0"/>
                    </a:lnTo>
                    <a:lnTo>
                      <a:pt x="167" y="197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386400" y="3315960"/>
                <a:ext cx="136800" cy="42480"/>
              </a:xfrm>
              <a:custGeom>
                <a:avLst/>
                <a:gdLst/>
                <a:ahLst/>
                <a:rect l="l" t="t" r="r" b="b"/>
                <a:pathLst>
                  <a:path w="173" h="55">
                    <a:moveTo>
                      <a:pt x="173" y="14"/>
                    </a:moveTo>
                    <a:lnTo>
                      <a:pt x="168" y="0"/>
                    </a:lnTo>
                    <a:lnTo>
                      <a:pt x="0" y="42"/>
                    </a:lnTo>
                    <a:lnTo>
                      <a:pt x="5" y="55"/>
                    </a:lnTo>
                    <a:lnTo>
                      <a:pt x="17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381720" y="3180960"/>
                <a:ext cx="14400" cy="171000"/>
              </a:xfrm>
              <a:custGeom>
                <a:avLst/>
                <a:gdLst/>
                <a:ahLst/>
                <a:rect l="l" t="t" r="r" b="b"/>
                <a:pathLst>
                  <a:path w="19" h="218">
                    <a:moveTo>
                      <a:pt x="0" y="218"/>
                    </a:moveTo>
                    <a:lnTo>
                      <a:pt x="14" y="218"/>
                    </a:lnTo>
                    <a:lnTo>
                      <a:pt x="19" y="0"/>
                    </a:lnTo>
                    <a:lnTo>
                      <a:pt x="5" y="0"/>
                    </a:lnTo>
                    <a:lnTo>
                      <a:pt x="0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381720" y="334764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10" y="13"/>
                    </a:moveTo>
                    <a:lnTo>
                      <a:pt x="0" y="16"/>
                    </a:lnTo>
                    <a:lnTo>
                      <a:pt x="0" y="6"/>
                    </a:lnTo>
                    <a:lnTo>
                      <a:pt x="14" y="6"/>
                    </a:lnTo>
                    <a:lnTo>
                      <a:pt x="5" y="0"/>
                    </a:lnTo>
                    <a:lnTo>
                      <a:pt x="1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391440" y="3158640"/>
                <a:ext cx="107640" cy="26640"/>
              </a:xfrm>
              <a:custGeom>
                <a:avLst/>
                <a:gdLst/>
                <a:ahLst/>
                <a:rect l="l" t="t" r="r" b="b"/>
                <a:pathLst>
                  <a:path w="135" h="36">
                    <a:moveTo>
                      <a:pt x="0" y="21"/>
                    </a:moveTo>
                    <a:lnTo>
                      <a:pt x="1" y="36"/>
                    </a:lnTo>
                    <a:lnTo>
                      <a:pt x="135" y="15"/>
                    </a:lnTo>
                    <a:lnTo>
                      <a:pt x="13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386400" y="3174480"/>
                <a:ext cx="9720" cy="1080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7"/>
                    </a:moveTo>
                    <a:lnTo>
                      <a:pt x="0" y="1"/>
                    </a:lnTo>
                    <a:lnTo>
                      <a:pt x="8" y="0"/>
                    </a:lnTo>
                    <a:lnTo>
                      <a:pt x="9" y="15"/>
                    </a:lnTo>
                    <a:lnTo>
                      <a:pt x="14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492960" y="3163320"/>
                <a:ext cx="33120" cy="156960"/>
              </a:xfrm>
              <a:custGeom>
                <a:avLst/>
                <a:gdLst/>
                <a:ahLst/>
                <a:rect l="l" t="t" r="r" b="b"/>
                <a:pathLst>
                  <a:path w="42" h="200">
                    <a:moveTo>
                      <a:pt x="14" y="0"/>
                    </a:moveTo>
                    <a:lnTo>
                      <a:pt x="0" y="3"/>
                    </a:lnTo>
                    <a:lnTo>
                      <a:pt x="28" y="200"/>
                    </a:lnTo>
                    <a:lnTo>
                      <a:pt x="42" y="197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492960" y="31572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7" y="1"/>
                    </a:moveTo>
                    <a:lnTo>
                      <a:pt x="13" y="0"/>
                    </a:lnTo>
                    <a:lnTo>
                      <a:pt x="14" y="7"/>
                    </a:lnTo>
                    <a:lnTo>
                      <a:pt x="0" y="10"/>
                    </a:lnTo>
                    <a:lnTo>
                      <a:pt x="8" y="16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515280" y="3315960"/>
                <a:ext cx="12600" cy="900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4" y="5"/>
                    </a:moveTo>
                    <a:lnTo>
                      <a:pt x="16" y="12"/>
                    </a:lnTo>
                    <a:lnTo>
                      <a:pt x="10" y="14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063880" y="2210760"/>
                <a:ext cx="1552320" cy="2814480"/>
              </a:xfrm>
              <a:custGeom>
                <a:avLst/>
                <a:gdLst/>
                <a:ahLst/>
                <a:rect l="l" t="t" r="r" b="b"/>
                <a:pathLst>
                  <a:path w="1956" h="3545">
                    <a:moveTo>
                      <a:pt x="1642" y="1623"/>
                    </a:moveTo>
                    <a:lnTo>
                      <a:pt x="1588" y="1559"/>
                    </a:lnTo>
                    <a:lnTo>
                      <a:pt x="1534" y="1495"/>
                    </a:lnTo>
                    <a:lnTo>
                      <a:pt x="1482" y="1432"/>
                    </a:lnTo>
                    <a:lnTo>
                      <a:pt x="1429" y="1367"/>
                    </a:lnTo>
                    <a:lnTo>
                      <a:pt x="1387" y="1312"/>
                    </a:lnTo>
                    <a:lnTo>
                      <a:pt x="1362" y="1281"/>
                    </a:lnTo>
                    <a:lnTo>
                      <a:pt x="1336" y="1250"/>
                    </a:lnTo>
                    <a:lnTo>
                      <a:pt x="1322" y="1234"/>
                    </a:lnTo>
                    <a:lnTo>
                      <a:pt x="1308" y="1218"/>
                    </a:lnTo>
                    <a:lnTo>
                      <a:pt x="1279" y="1187"/>
                    </a:lnTo>
                    <a:lnTo>
                      <a:pt x="1264" y="1173"/>
                    </a:lnTo>
                    <a:lnTo>
                      <a:pt x="1250" y="1158"/>
                    </a:lnTo>
                    <a:lnTo>
                      <a:pt x="1234" y="1144"/>
                    </a:lnTo>
                    <a:lnTo>
                      <a:pt x="1218" y="1132"/>
                    </a:lnTo>
                    <a:lnTo>
                      <a:pt x="1202" y="1120"/>
                    </a:lnTo>
                    <a:lnTo>
                      <a:pt x="1186" y="1109"/>
                    </a:lnTo>
                    <a:lnTo>
                      <a:pt x="1170" y="1100"/>
                    </a:lnTo>
                    <a:lnTo>
                      <a:pt x="1162" y="1096"/>
                    </a:lnTo>
                    <a:lnTo>
                      <a:pt x="1153" y="1092"/>
                    </a:lnTo>
                    <a:lnTo>
                      <a:pt x="1137" y="1086"/>
                    </a:lnTo>
                    <a:lnTo>
                      <a:pt x="1120" y="1080"/>
                    </a:lnTo>
                    <a:lnTo>
                      <a:pt x="1112" y="1078"/>
                    </a:lnTo>
                    <a:lnTo>
                      <a:pt x="1104" y="1077"/>
                    </a:lnTo>
                    <a:lnTo>
                      <a:pt x="1096" y="1076"/>
                    </a:lnTo>
                    <a:lnTo>
                      <a:pt x="1087" y="1075"/>
                    </a:lnTo>
                    <a:lnTo>
                      <a:pt x="1079" y="1075"/>
                    </a:lnTo>
                    <a:lnTo>
                      <a:pt x="1070" y="1076"/>
                    </a:lnTo>
                    <a:lnTo>
                      <a:pt x="1061" y="1077"/>
                    </a:lnTo>
                    <a:lnTo>
                      <a:pt x="1054" y="1078"/>
                    </a:lnTo>
                    <a:lnTo>
                      <a:pt x="1037" y="1083"/>
                    </a:lnTo>
                    <a:lnTo>
                      <a:pt x="1028" y="1086"/>
                    </a:lnTo>
                    <a:lnTo>
                      <a:pt x="1021" y="1089"/>
                    </a:lnTo>
                    <a:lnTo>
                      <a:pt x="1012" y="1094"/>
                    </a:lnTo>
                    <a:lnTo>
                      <a:pt x="1004" y="1099"/>
                    </a:lnTo>
                    <a:lnTo>
                      <a:pt x="995" y="1104"/>
                    </a:lnTo>
                    <a:lnTo>
                      <a:pt x="988" y="1111"/>
                    </a:lnTo>
                    <a:lnTo>
                      <a:pt x="979" y="1118"/>
                    </a:lnTo>
                    <a:lnTo>
                      <a:pt x="971" y="1126"/>
                    </a:lnTo>
                    <a:lnTo>
                      <a:pt x="964" y="1133"/>
                    </a:lnTo>
                    <a:lnTo>
                      <a:pt x="955" y="1143"/>
                    </a:lnTo>
                    <a:lnTo>
                      <a:pt x="949" y="1155"/>
                    </a:lnTo>
                    <a:lnTo>
                      <a:pt x="943" y="1169"/>
                    </a:lnTo>
                    <a:lnTo>
                      <a:pt x="938" y="1181"/>
                    </a:lnTo>
                    <a:lnTo>
                      <a:pt x="933" y="1195"/>
                    </a:lnTo>
                    <a:lnTo>
                      <a:pt x="926" y="1219"/>
                    </a:lnTo>
                    <a:lnTo>
                      <a:pt x="922" y="1232"/>
                    </a:lnTo>
                    <a:lnTo>
                      <a:pt x="921" y="1245"/>
                    </a:lnTo>
                    <a:lnTo>
                      <a:pt x="918" y="1258"/>
                    </a:lnTo>
                    <a:lnTo>
                      <a:pt x="917" y="1270"/>
                    </a:lnTo>
                    <a:lnTo>
                      <a:pt x="916" y="1283"/>
                    </a:lnTo>
                    <a:lnTo>
                      <a:pt x="916" y="1296"/>
                    </a:lnTo>
                    <a:lnTo>
                      <a:pt x="916" y="1321"/>
                    </a:lnTo>
                    <a:lnTo>
                      <a:pt x="917" y="1334"/>
                    </a:lnTo>
                    <a:lnTo>
                      <a:pt x="918" y="1346"/>
                    </a:lnTo>
                    <a:lnTo>
                      <a:pt x="922" y="1372"/>
                    </a:lnTo>
                    <a:lnTo>
                      <a:pt x="926" y="1396"/>
                    </a:lnTo>
                    <a:lnTo>
                      <a:pt x="932" y="1422"/>
                    </a:lnTo>
                    <a:lnTo>
                      <a:pt x="938" y="1446"/>
                    </a:lnTo>
                    <a:lnTo>
                      <a:pt x="945" y="1472"/>
                    </a:lnTo>
                    <a:lnTo>
                      <a:pt x="954" y="1497"/>
                    </a:lnTo>
                    <a:lnTo>
                      <a:pt x="970" y="1547"/>
                    </a:lnTo>
                    <a:lnTo>
                      <a:pt x="987" y="1597"/>
                    </a:lnTo>
                    <a:lnTo>
                      <a:pt x="1003" y="1647"/>
                    </a:lnTo>
                    <a:lnTo>
                      <a:pt x="1010" y="1671"/>
                    </a:lnTo>
                    <a:lnTo>
                      <a:pt x="1016" y="1697"/>
                    </a:lnTo>
                    <a:lnTo>
                      <a:pt x="1021" y="1722"/>
                    </a:lnTo>
                    <a:lnTo>
                      <a:pt x="1023" y="1735"/>
                    </a:lnTo>
                    <a:lnTo>
                      <a:pt x="1025" y="1747"/>
                    </a:lnTo>
                    <a:lnTo>
                      <a:pt x="1028" y="1773"/>
                    </a:lnTo>
                    <a:lnTo>
                      <a:pt x="1028" y="1785"/>
                    </a:lnTo>
                    <a:lnTo>
                      <a:pt x="1030" y="1797"/>
                    </a:lnTo>
                    <a:lnTo>
                      <a:pt x="1030" y="1810"/>
                    </a:lnTo>
                    <a:lnTo>
                      <a:pt x="1030" y="1823"/>
                    </a:lnTo>
                    <a:lnTo>
                      <a:pt x="1028" y="1835"/>
                    </a:lnTo>
                    <a:lnTo>
                      <a:pt x="1027" y="1848"/>
                    </a:lnTo>
                    <a:lnTo>
                      <a:pt x="1025" y="1861"/>
                    </a:lnTo>
                    <a:lnTo>
                      <a:pt x="1023" y="1873"/>
                    </a:lnTo>
                    <a:lnTo>
                      <a:pt x="1020" y="1887"/>
                    </a:lnTo>
                    <a:lnTo>
                      <a:pt x="1016" y="1899"/>
                    </a:lnTo>
                    <a:lnTo>
                      <a:pt x="1012" y="1911"/>
                    </a:lnTo>
                    <a:lnTo>
                      <a:pt x="1009" y="1925"/>
                    </a:lnTo>
                    <a:lnTo>
                      <a:pt x="1003" y="1937"/>
                    </a:lnTo>
                    <a:lnTo>
                      <a:pt x="998" y="1950"/>
                    </a:lnTo>
                    <a:lnTo>
                      <a:pt x="987" y="1962"/>
                    </a:lnTo>
                    <a:lnTo>
                      <a:pt x="977" y="1973"/>
                    </a:lnTo>
                    <a:lnTo>
                      <a:pt x="967" y="1983"/>
                    </a:lnTo>
                    <a:lnTo>
                      <a:pt x="957" y="1993"/>
                    </a:lnTo>
                    <a:lnTo>
                      <a:pt x="948" y="2002"/>
                    </a:lnTo>
                    <a:lnTo>
                      <a:pt x="937" y="2009"/>
                    </a:lnTo>
                    <a:lnTo>
                      <a:pt x="927" y="2015"/>
                    </a:lnTo>
                    <a:lnTo>
                      <a:pt x="917" y="2021"/>
                    </a:lnTo>
                    <a:lnTo>
                      <a:pt x="907" y="2026"/>
                    </a:lnTo>
                    <a:lnTo>
                      <a:pt x="898" y="2031"/>
                    </a:lnTo>
                    <a:lnTo>
                      <a:pt x="888" y="2033"/>
                    </a:lnTo>
                    <a:lnTo>
                      <a:pt x="878" y="2036"/>
                    </a:lnTo>
                    <a:lnTo>
                      <a:pt x="868" y="2038"/>
                    </a:lnTo>
                    <a:lnTo>
                      <a:pt x="858" y="2040"/>
                    </a:lnTo>
                    <a:lnTo>
                      <a:pt x="849" y="2040"/>
                    </a:lnTo>
                    <a:lnTo>
                      <a:pt x="839" y="2040"/>
                    </a:lnTo>
                    <a:lnTo>
                      <a:pt x="830" y="2038"/>
                    </a:lnTo>
                    <a:lnTo>
                      <a:pt x="821" y="2037"/>
                    </a:lnTo>
                    <a:lnTo>
                      <a:pt x="811" y="2035"/>
                    </a:lnTo>
                    <a:lnTo>
                      <a:pt x="801" y="2032"/>
                    </a:lnTo>
                    <a:lnTo>
                      <a:pt x="783" y="2025"/>
                    </a:lnTo>
                    <a:lnTo>
                      <a:pt x="774" y="2021"/>
                    </a:lnTo>
                    <a:lnTo>
                      <a:pt x="764" y="2016"/>
                    </a:lnTo>
                    <a:lnTo>
                      <a:pt x="756" y="2010"/>
                    </a:lnTo>
                    <a:lnTo>
                      <a:pt x="746" y="2004"/>
                    </a:lnTo>
                    <a:lnTo>
                      <a:pt x="737" y="1998"/>
                    </a:lnTo>
                    <a:lnTo>
                      <a:pt x="729" y="1992"/>
                    </a:lnTo>
                    <a:lnTo>
                      <a:pt x="712" y="1976"/>
                    </a:lnTo>
                    <a:lnTo>
                      <a:pt x="695" y="1960"/>
                    </a:lnTo>
                    <a:lnTo>
                      <a:pt x="686" y="1951"/>
                    </a:lnTo>
                    <a:lnTo>
                      <a:pt x="678" y="1943"/>
                    </a:lnTo>
                    <a:lnTo>
                      <a:pt x="662" y="1923"/>
                    </a:lnTo>
                    <a:lnTo>
                      <a:pt x="646" y="1904"/>
                    </a:lnTo>
                    <a:lnTo>
                      <a:pt x="630" y="1883"/>
                    </a:lnTo>
                    <a:lnTo>
                      <a:pt x="615" y="1862"/>
                    </a:lnTo>
                    <a:lnTo>
                      <a:pt x="601" y="1840"/>
                    </a:lnTo>
                    <a:lnTo>
                      <a:pt x="587" y="1818"/>
                    </a:lnTo>
                    <a:lnTo>
                      <a:pt x="574" y="1796"/>
                    </a:lnTo>
                    <a:lnTo>
                      <a:pt x="549" y="1752"/>
                    </a:lnTo>
                    <a:lnTo>
                      <a:pt x="527" y="1709"/>
                    </a:lnTo>
                    <a:lnTo>
                      <a:pt x="506" y="1669"/>
                    </a:lnTo>
                    <a:lnTo>
                      <a:pt x="491" y="1632"/>
                    </a:lnTo>
                    <a:lnTo>
                      <a:pt x="470" y="1585"/>
                    </a:lnTo>
                    <a:lnTo>
                      <a:pt x="451" y="1537"/>
                    </a:lnTo>
                    <a:lnTo>
                      <a:pt x="434" y="1489"/>
                    </a:lnTo>
                    <a:lnTo>
                      <a:pt x="426" y="1465"/>
                    </a:lnTo>
                    <a:lnTo>
                      <a:pt x="418" y="1440"/>
                    </a:lnTo>
                    <a:lnTo>
                      <a:pt x="405" y="1393"/>
                    </a:lnTo>
                    <a:lnTo>
                      <a:pt x="399" y="1368"/>
                    </a:lnTo>
                    <a:lnTo>
                      <a:pt x="393" y="1344"/>
                    </a:lnTo>
                    <a:lnTo>
                      <a:pt x="388" y="1319"/>
                    </a:lnTo>
                    <a:lnTo>
                      <a:pt x="384" y="1295"/>
                    </a:lnTo>
                    <a:lnTo>
                      <a:pt x="381" y="1270"/>
                    </a:lnTo>
                    <a:lnTo>
                      <a:pt x="377" y="1246"/>
                    </a:lnTo>
                    <a:lnTo>
                      <a:pt x="376" y="1221"/>
                    </a:lnTo>
                    <a:lnTo>
                      <a:pt x="373" y="1197"/>
                    </a:lnTo>
                    <a:lnTo>
                      <a:pt x="373" y="1173"/>
                    </a:lnTo>
                    <a:lnTo>
                      <a:pt x="373" y="1148"/>
                    </a:lnTo>
                    <a:lnTo>
                      <a:pt x="373" y="1124"/>
                    </a:lnTo>
                    <a:lnTo>
                      <a:pt x="374" y="1099"/>
                    </a:lnTo>
                    <a:lnTo>
                      <a:pt x="377" y="1074"/>
                    </a:lnTo>
                    <a:lnTo>
                      <a:pt x="381" y="1049"/>
                    </a:lnTo>
                    <a:lnTo>
                      <a:pt x="384" y="1025"/>
                    </a:lnTo>
                    <a:lnTo>
                      <a:pt x="389" y="1000"/>
                    </a:lnTo>
                    <a:lnTo>
                      <a:pt x="395" y="976"/>
                    </a:lnTo>
                    <a:lnTo>
                      <a:pt x="403" y="951"/>
                    </a:lnTo>
                    <a:lnTo>
                      <a:pt x="406" y="939"/>
                    </a:lnTo>
                    <a:lnTo>
                      <a:pt x="410" y="927"/>
                    </a:lnTo>
                    <a:lnTo>
                      <a:pt x="418" y="902"/>
                    </a:lnTo>
                    <a:lnTo>
                      <a:pt x="428" y="878"/>
                    </a:lnTo>
                    <a:lnTo>
                      <a:pt x="439" y="853"/>
                    </a:lnTo>
                    <a:lnTo>
                      <a:pt x="448" y="841"/>
                    </a:lnTo>
                    <a:lnTo>
                      <a:pt x="456" y="831"/>
                    </a:lnTo>
                    <a:lnTo>
                      <a:pt x="465" y="823"/>
                    </a:lnTo>
                    <a:lnTo>
                      <a:pt x="469" y="820"/>
                    </a:lnTo>
                    <a:lnTo>
                      <a:pt x="473" y="817"/>
                    </a:lnTo>
                    <a:lnTo>
                      <a:pt x="478" y="814"/>
                    </a:lnTo>
                    <a:lnTo>
                      <a:pt x="482" y="812"/>
                    </a:lnTo>
                    <a:lnTo>
                      <a:pt x="492" y="808"/>
                    </a:lnTo>
                    <a:lnTo>
                      <a:pt x="500" y="806"/>
                    </a:lnTo>
                    <a:lnTo>
                      <a:pt x="510" y="805"/>
                    </a:lnTo>
                    <a:lnTo>
                      <a:pt x="520" y="805"/>
                    </a:lnTo>
                    <a:lnTo>
                      <a:pt x="530" y="806"/>
                    </a:lnTo>
                    <a:lnTo>
                      <a:pt x="539" y="807"/>
                    </a:lnTo>
                    <a:lnTo>
                      <a:pt x="549" y="809"/>
                    </a:lnTo>
                    <a:lnTo>
                      <a:pt x="559" y="812"/>
                    </a:lnTo>
                    <a:lnTo>
                      <a:pt x="569" y="814"/>
                    </a:lnTo>
                    <a:lnTo>
                      <a:pt x="590" y="822"/>
                    </a:lnTo>
                    <a:lnTo>
                      <a:pt x="610" y="828"/>
                    </a:lnTo>
                    <a:lnTo>
                      <a:pt x="620" y="831"/>
                    </a:lnTo>
                    <a:lnTo>
                      <a:pt x="631" y="834"/>
                    </a:lnTo>
                    <a:lnTo>
                      <a:pt x="641" y="836"/>
                    </a:lnTo>
                    <a:lnTo>
                      <a:pt x="652" y="839"/>
                    </a:lnTo>
                    <a:lnTo>
                      <a:pt x="662" y="839"/>
                    </a:lnTo>
                    <a:lnTo>
                      <a:pt x="673" y="839"/>
                    </a:lnTo>
                    <a:lnTo>
                      <a:pt x="682" y="839"/>
                    </a:lnTo>
                    <a:lnTo>
                      <a:pt x="692" y="836"/>
                    </a:lnTo>
                    <a:lnTo>
                      <a:pt x="703" y="833"/>
                    </a:lnTo>
                    <a:lnTo>
                      <a:pt x="713" y="829"/>
                    </a:lnTo>
                    <a:lnTo>
                      <a:pt x="718" y="825"/>
                    </a:lnTo>
                    <a:lnTo>
                      <a:pt x="723" y="823"/>
                    </a:lnTo>
                    <a:lnTo>
                      <a:pt x="733" y="816"/>
                    </a:lnTo>
                    <a:lnTo>
                      <a:pt x="737" y="811"/>
                    </a:lnTo>
                    <a:lnTo>
                      <a:pt x="742" y="806"/>
                    </a:lnTo>
                    <a:lnTo>
                      <a:pt x="747" y="801"/>
                    </a:lnTo>
                    <a:lnTo>
                      <a:pt x="752" y="795"/>
                    </a:lnTo>
                    <a:lnTo>
                      <a:pt x="759" y="781"/>
                    </a:lnTo>
                    <a:lnTo>
                      <a:pt x="767" y="768"/>
                    </a:lnTo>
                    <a:lnTo>
                      <a:pt x="773" y="754"/>
                    </a:lnTo>
                    <a:lnTo>
                      <a:pt x="779" y="741"/>
                    </a:lnTo>
                    <a:lnTo>
                      <a:pt x="784" y="727"/>
                    </a:lnTo>
                    <a:lnTo>
                      <a:pt x="788" y="714"/>
                    </a:lnTo>
                    <a:lnTo>
                      <a:pt x="792" y="701"/>
                    </a:lnTo>
                    <a:lnTo>
                      <a:pt x="796" y="687"/>
                    </a:lnTo>
                    <a:lnTo>
                      <a:pt x="801" y="660"/>
                    </a:lnTo>
                    <a:lnTo>
                      <a:pt x="805" y="632"/>
                    </a:lnTo>
                    <a:lnTo>
                      <a:pt x="806" y="619"/>
                    </a:lnTo>
                    <a:lnTo>
                      <a:pt x="806" y="604"/>
                    </a:lnTo>
                    <a:lnTo>
                      <a:pt x="806" y="591"/>
                    </a:lnTo>
                    <a:lnTo>
                      <a:pt x="806" y="577"/>
                    </a:lnTo>
                    <a:lnTo>
                      <a:pt x="805" y="549"/>
                    </a:lnTo>
                    <a:lnTo>
                      <a:pt x="801" y="522"/>
                    </a:lnTo>
                    <a:lnTo>
                      <a:pt x="795" y="494"/>
                    </a:lnTo>
                    <a:lnTo>
                      <a:pt x="789" y="466"/>
                    </a:lnTo>
                    <a:lnTo>
                      <a:pt x="785" y="452"/>
                    </a:lnTo>
                    <a:lnTo>
                      <a:pt x="780" y="439"/>
                    </a:lnTo>
                    <a:lnTo>
                      <a:pt x="770" y="412"/>
                    </a:lnTo>
                    <a:lnTo>
                      <a:pt x="766" y="399"/>
                    </a:lnTo>
                    <a:lnTo>
                      <a:pt x="759" y="385"/>
                    </a:lnTo>
                    <a:lnTo>
                      <a:pt x="748" y="358"/>
                    </a:lnTo>
                    <a:lnTo>
                      <a:pt x="728" y="314"/>
                    </a:lnTo>
                    <a:lnTo>
                      <a:pt x="708" y="270"/>
                    </a:lnTo>
                    <a:lnTo>
                      <a:pt x="690" y="226"/>
                    </a:lnTo>
                    <a:lnTo>
                      <a:pt x="673" y="181"/>
                    </a:lnTo>
                    <a:lnTo>
                      <a:pt x="664" y="159"/>
                    </a:lnTo>
                    <a:lnTo>
                      <a:pt x="657" y="136"/>
                    </a:lnTo>
                    <a:lnTo>
                      <a:pt x="641" y="90"/>
                    </a:lnTo>
                    <a:lnTo>
                      <a:pt x="609" y="0"/>
                    </a:lnTo>
                    <a:lnTo>
                      <a:pt x="582" y="37"/>
                    </a:lnTo>
                    <a:lnTo>
                      <a:pt x="555" y="73"/>
                    </a:lnTo>
                    <a:lnTo>
                      <a:pt x="528" y="111"/>
                    </a:lnTo>
                    <a:lnTo>
                      <a:pt x="516" y="130"/>
                    </a:lnTo>
                    <a:lnTo>
                      <a:pt x="503" y="149"/>
                    </a:lnTo>
                    <a:lnTo>
                      <a:pt x="478" y="187"/>
                    </a:lnTo>
                    <a:lnTo>
                      <a:pt x="453" y="225"/>
                    </a:lnTo>
                    <a:lnTo>
                      <a:pt x="428" y="264"/>
                    </a:lnTo>
                    <a:lnTo>
                      <a:pt x="405" y="303"/>
                    </a:lnTo>
                    <a:lnTo>
                      <a:pt x="352" y="390"/>
                    </a:lnTo>
                    <a:lnTo>
                      <a:pt x="327" y="435"/>
                    </a:lnTo>
                    <a:lnTo>
                      <a:pt x="313" y="457"/>
                    </a:lnTo>
                    <a:lnTo>
                      <a:pt x="302" y="480"/>
                    </a:lnTo>
                    <a:lnTo>
                      <a:pt x="291" y="504"/>
                    </a:lnTo>
                    <a:lnTo>
                      <a:pt x="280" y="528"/>
                    </a:lnTo>
                    <a:lnTo>
                      <a:pt x="272" y="551"/>
                    </a:lnTo>
                    <a:lnTo>
                      <a:pt x="263" y="576"/>
                    </a:lnTo>
                    <a:lnTo>
                      <a:pt x="257" y="600"/>
                    </a:lnTo>
                    <a:lnTo>
                      <a:pt x="255" y="613"/>
                    </a:lnTo>
                    <a:lnTo>
                      <a:pt x="252" y="625"/>
                    </a:lnTo>
                    <a:lnTo>
                      <a:pt x="248" y="650"/>
                    </a:lnTo>
                    <a:lnTo>
                      <a:pt x="246" y="676"/>
                    </a:lnTo>
                    <a:lnTo>
                      <a:pt x="247" y="679"/>
                    </a:lnTo>
                    <a:lnTo>
                      <a:pt x="248" y="680"/>
                    </a:lnTo>
                    <a:lnTo>
                      <a:pt x="250" y="681"/>
                    </a:lnTo>
                    <a:lnTo>
                      <a:pt x="251" y="681"/>
                    </a:lnTo>
                    <a:lnTo>
                      <a:pt x="252" y="681"/>
                    </a:lnTo>
                    <a:lnTo>
                      <a:pt x="256" y="679"/>
                    </a:lnTo>
                    <a:lnTo>
                      <a:pt x="259" y="676"/>
                    </a:lnTo>
                    <a:lnTo>
                      <a:pt x="264" y="671"/>
                    </a:lnTo>
                    <a:lnTo>
                      <a:pt x="269" y="665"/>
                    </a:lnTo>
                    <a:lnTo>
                      <a:pt x="274" y="659"/>
                    </a:lnTo>
                    <a:lnTo>
                      <a:pt x="286" y="642"/>
                    </a:lnTo>
                    <a:lnTo>
                      <a:pt x="301" y="622"/>
                    </a:lnTo>
                    <a:lnTo>
                      <a:pt x="330" y="580"/>
                    </a:lnTo>
                    <a:lnTo>
                      <a:pt x="361" y="538"/>
                    </a:lnTo>
                    <a:lnTo>
                      <a:pt x="368" y="528"/>
                    </a:lnTo>
                    <a:lnTo>
                      <a:pt x="376" y="520"/>
                    </a:lnTo>
                    <a:lnTo>
                      <a:pt x="389" y="504"/>
                    </a:lnTo>
                    <a:lnTo>
                      <a:pt x="396" y="498"/>
                    </a:lnTo>
                    <a:lnTo>
                      <a:pt x="399" y="495"/>
                    </a:lnTo>
                    <a:lnTo>
                      <a:pt x="403" y="493"/>
                    </a:lnTo>
                    <a:lnTo>
                      <a:pt x="407" y="489"/>
                    </a:lnTo>
                    <a:lnTo>
                      <a:pt x="410" y="488"/>
                    </a:lnTo>
                    <a:lnTo>
                      <a:pt x="412" y="487"/>
                    </a:lnTo>
                    <a:lnTo>
                      <a:pt x="415" y="487"/>
                    </a:lnTo>
                    <a:lnTo>
                      <a:pt x="417" y="487"/>
                    </a:lnTo>
                    <a:lnTo>
                      <a:pt x="421" y="488"/>
                    </a:lnTo>
                    <a:lnTo>
                      <a:pt x="423" y="488"/>
                    </a:lnTo>
                    <a:lnTo>
                      <a:pt x="425" y="490"/>
                    </a:lnTo>
                    <a:lnTo>
                      <a:pt x="428" y="495"/>
                    </a:lnTo>
                    <a:lnTo>
                      <a:pt x="429" y="516"/>
                    </a:lnTo>
                    <a:lnTo>
                      <a:pt x="429" y="538"/>
                    </a:lnTo>
                    <a:lnTo>
                      <a:pt x="429" y="559"/>
                    </a:lnTo>
                    <a:lnTo>
                      <a:pt x="428" y="581"/>
                    </a:lnTo>
                    <a:lnTo>
                      <a:pt x="427" y="602"/>
                    </a:lnTo>
                    <a:lnTo>
                      <a:pt x="425" y="622"/>
                    </a:lnTo>
                    <a:lnTo>
                      <a:pt x="421" y="643"/>
                    </a:lnTo>
                    <a:lnTo>
                      <a:pt x="416" y="665"/>
                    </a:lnTo>
                    <a:lnTo>
                      <a:pt x="412" y="686"/>
                    </a:lnTo>
                    <a:lnTo>
                      <a:pt x="406" y="707"/>
                    </a:lnTo>
                    <a:lnTo>
                      <a:pt x="400" y="727"/>
                    </a:lnTo>
                    <a:lnTo>
                      <a:pt x="394" y="748"/>
                    </a:lnTo>
                    <a:lnTo>
                      <a:pt x="388" y="769"/>
                    </a:lnTo>
                    <a:lnTo>
                      <a:pt x="381" y="790"/>
                    </a:lnTo>
                    <a:lnTo>
                      <a:pt x="365" y="831"/>
                    </a:lnTo>
                    <a:lnTo>
                      <a:pt x="347" y="872"/>
                    </a:lnTo>
                    <a:lnTo>
                      <a:pt x="330" y="912"/>
                    </a:lnTo>
                    <a:lnTo>
                      <a:pt x="294" y="993"/>
                    </a:lnTo>
                    <a:lnTo>
                      <a:pt x="258" y="1072"/>
                    </a:lnTo>
                    <a:lnTo>
                      <a:pt x="241" y="1111"/>
                    </a:lnTo>
                    <a:lnTo>
                      <a:pt x="234" y="1131"/>
                    </a:lnTo>
                    <a:lnTo>
                      <a:pt x="225" y="1151"/>
                    </a:lnTo>
                    <a:lnTo>
                      <a:pt x="217" y="1180"/>
                    </a:lnTo>
                    <a:lnTo>
                      <a:pt x="200" y="1234"/>
                    </a:lnTo>
                    <a:lnTo>
                      <a:pt x="190" y="1267"/>
                    </a:lnTo>
                    <a:lnTo>
                      <a:pt x="179" y="1301"/>
                    </a:lnTo>
                    <a:lnTo>
                      <a:pt x="167" y="1335"/>
                    </a:lnTo>
                    <a:lnTo>
                      <a:pt x="154" y="1368"/>
                    </a:lnTo>
                    <a:lnTo>
                      <a:pt x="141" y="1400"/>
                    </a:lnTo>
                    <a:lnTo>
                      <a:pt x="135" y="1413"/>
                    </a:lnTo>
                    <a:lnTo>
                      <a:pt x="129" y="1427"/>
                    </a:lnTo>
                    <a:lnTo>
                      <a:pt x="123" y="1438"/>
                    </a:lnTo>
                    <a:lnTo>
                      <a:pt x="116" y="1449"/>
                    </a:lnTo>
                    <a:lnTo>
                      <a:pt x="110" y="1457"/>
                    </a:lnTo>
                    <a:lnTo>
                      <a:pt x="104" y="1464"/>
                    </a:lnTo>
                    <a:lnTo>
                      <a:pt x="98" y="1468"/>
                    </a:lnTo>
                    <a:lnTo>
                      <a:pt x="96" y="1470"/>
                    </a:lnTo>
                    <a:lnTo>
                      <a:pt x="93" y="1471"/>
                    </a:lnTo>
                    <a:lnTo>
                      <a:pt x="91" y="1471"/>
                    </a:lnTo>
                    <a:lnTo>
                      <a:pt x="88" y="1471"/>
                    </a:lnTo>
                    <a:lnTo>
                      <a:pt x="86" y="1470"/>
                    </a:lnTo>
                    <a:lnTo>
                      <a:pt x="83" y="1468"/>
                    </a:lnTo>
                    <a:lnTo>
                      <a:pt x="81" y="1466"/>
                    </a:lnTo>
                    <a:lnTo>
                      <a:pt x="79" y="1464"/>
                    </a:lnTo>
                    <a:lnTo>
                      <a:pt x="77" y="1460"/>
                    </a:lnTo>
                    <a:lnTo>
                      <a:pt x="75" y="1455"/>
                    </a:lnTo>
                    <a:lnTo>
                      <a:pt x="71" y="1444"/>
                    </a:lnTo>
                    <a:lnTo>
                      <a:pt x="69" y="1429"/>
                    </a:lnTo>
                    <a:lnTo>
                      <a:pt x="68" y="1415"/>
                    </a:lnTo>
                    <a:lnTo>
                      <a:pt x="68" y="1400"/>
                    </a:lnTo>
                    <a:lnTo>
                      <a:pt x="68" y="1372"/>
                    </a:lnTo>
                    <a:lnTo>
                      <a:pt x="70" y="1343"/>
                    </a:lnTo>
                    <a:lnTo>
                      <a:pt x="72" y="1314"/>
                    </a:lnTo>
                    <a:lnTo>
                      <a:pt x="76" y="1286"/>
                    </a:lnTo>
                    <a:lnTo>
                      <a:pt x="82" y="1257"/>
                    </a:lnTo>
                    <a:lnTo>
                      <a:pt x="93" y="1201"/>
                    </a:lnTo>
                    <a:lnTo>
                      <a:pt x="105" y="1144"/>
                    </a:lnTo>
                    <a:lnTo>
                      <a:pt x="112" y="1116"/>
                    </a:lnTo>
                    <a:lnTo>
                      <a:pt x="116" y="1088"/>
                    </a:lnTo>
                    <a:lnTo>
                      <a:pt x="121" y="1059"/>
                    </a:lnTo>
                    <a:lnTo>
                      <a:pt x="125" y="1031"/>
                    </a:lnTo>
                    <a:lnTo>
                      <a:pt x="127" y="1003"/>
                    </a:lnTo>
                    <a:lnTo>
                      <a:pt x="130" y="973"/>
                    </a:lnTo>
                    <a:lnTo>
                      <a:pt x="129" y="971"/>
                    </a:lnTo>
                    <a:lnTo>
                      <a:pt x="127" y="970"/>
                    </a:lnTo>
                    <a:lnTo>
                      <a:pt x="126" y="971"/>
                    </a:lnTo>
                    <a:lnTo>
                      <a:pt x="125" y="971"/>
                    </a:lnTo>
                    <a:lnTo>
                      <a:pt x="121" y="977"/>
                    </a:lnTo>
                    <a:lnTo>
                      <a:pt x="116" y="985"/>
                    </a:lnTo>
                    <a:lnTo>
                      <a:pt x="105" y="1010"/>
                    </a:lnTo>
                    <a:lnTo>
                      <a:pt x="92" y="1043"/>
                    </a:lnTo>
                    <a:lnTo>
                      <a:pt x="77" y="1077"/>
                    </a:lnTo>
                    <a:lnTo>
                      <a:pt x="65" y="1111"/>
                    </a:lnTo>
                    <a:lnTo>
                      <a:pt x="60" y="1127"/>
                    </a:lnTo>
                    <a:lnTo>
                      <a:pt x="55" y="1141"/>
                    </a:lnTo>
                    <a:lnTo>
                      <a:pt x="49" y="1160"/>
                    </a:lnTo>
                    <a:lnTo>
                      <a:pt x="36" y="1220"/>
                    </a:lnTo>
                    <a:lnTo>
                      <a:pt x="28" y="1250"/>
                    </a:lnTo>
                    <a:lnTo>
                      <a:pt x="22" y="1280"/>
                    </a:lnTo>
                    <a:lnTo>
                      <a:pt x="11" y="1340"/>
                    </a:lnTo>
                    <a:lnTo>
                      <a:pt x="5" y="1371"/>
                    </a:lnTo>
                    <a:lnTo>
                      <a:pt x="0" y="1401"/>
                    </a:lnTo>
                    <a:lnTo>
                      <a:pt x="4" y="1439"/>
                    </a:lnTo>
                    <a:lnTo>
                      <a:pt x="6" y="1476"/>
                    </a:lnTo>
                    <a:lnTo>
                      <a:pt x="10" y="1514"/>
                    </a:lnTo>
                    <a:lnTo>
                      <a:pt x="14" y="1552"/>
                    </a:lnTo>
                    <a:lnTo>
                      <a:pt x="16" y="1570"/>
                    </a:lnTo>
                    <a:lnTo>
                      <a:pt x="19" y="1588"/>
                    </a:lnTo>
                    <a:lnTo>
                      <a:pt x="24" y="1626"/>
                    </a:lnTo>
                    <a:lnTo>
                      <a:pt x="28" y="1663"/>
                    </a:lnTo>
                    <a:lnTo>
                      <a:pt x="35" y="1701"/>
                    </a:lnTo>
                    <a:lnTo>
                      <a:pt x="41" y="1737"/>
                    </a:lnTo>
                    <a:lnTo>
                      <a:pt x="48" y="1774"/>
                    </a:lnTo>
                    <a:lnTo>
                      <a:pt x="55" y="1811"/>
                    </a:lnTo>
                    <a:lnTo>
                      <a:pt x="63" y="1848"/>
                    </a:lnTo>
                    <a:lnTo>
                      <a:pt x="70" y="1885"/>
                    </a:lnTo>
                    <a:lnTo>
                      <a:pt x="80" y="1921"/>
                    </a:lnTo>
                    <a:lnTo>
                      <a:pt x="88" y="1958"/>
                    </a:lnTo>
                    <a:lnTo>
                      <a:pt x="98" y="1994"/>
                    </a:lnTo>
                    <a:lnTo>
                      <a:pt x="104" y="2018"/>
                    </a:lnTo>
                    <a:lnTo>
                      <a:pt x="112" y="2041"/>
                    </a:lnTo>
                    <a:lnTo>
                      <a:pt x="126" y="2087"/>
                    </a:lnTo>
                    <a:lnTo>
                      <a:pt x="142" y="2135"/>
                    </a:lnTo>
                    <a:lnTo>
                      <a:pt x="156" y="2181"/>
                    </a:lnTo>
                    <a:lnTo>
                      <a:pt x="163" y="2205"/>
                    </a:lnTo>
                    <a:lnTo>
                      <a:pt x="169" y="2229"/>
                    </a:lnTo>
                    <a:lnTo>
                      <a:pt x="175" y="2252"/>
                    </a:lnTo>
                    <a:lnTo>
                      <a:pt x="180" y="2277"/>
                    </a:lnTo>
                    <a:lnTo>
                      <a:pt x="184" y="2300"/>
                    </a:lnTo>
                    <a:lnTo>
                      <a:pt x="187" y="2324"/>
                    </a:lnTo>
                    <a:lnTo>
                      <a:pt x="190" y="2349"/>
                    </a:lnTo>
                    <a:lnTo>
                      <a:pt x="191" y="2373"/>
                    </a:lnTo>
                    <a:lnTo>
                      <a:pt x="190" y="2377"/>
                    </a:lnTo>
                    <a:lnTo>
                      <a:pt x="189" y="2378"/>
                    </a:lnTo>
                    <a:lnTo>
                      <a:pt x="187" y="2379"/>
                    </a:lnTo>
                    <a:lnTo>
                      <a:pt x="185" y="2378"/>
                    </a:lnTo>
                    <a:lnTo>
                      <a:pt x="182" y="2377"/>
                    </a:lnTo>
                    <a:lnTo>
                      <a:pt x="180" y="2375"/>
                    </a:lnTo>
                    <a:lnTo>
                      <a:pt x="176" y="2371"/>
                    </a:lnTo>
                    <a:lnTo>
                      <a:pt x="173" y="2366"/>
                    </a:lnTo>
                    <a:lnTo>
                      <a:pt x="165" y="2356"/>
                    </a:lnTo>
                    <a:lnTo>
                      <a:pt x="157" y="2343"/>
                    </a:lnTo>
                    <a:lnTo>
                      <a:pt x="140" y="2312"/>
                    </a:lnTo>
                    <a:lnTo>
                      <a:pt x="123" y="2282"/>
                    </a:lnTo>
                    <a:lnTo>
                      <a:pt x="108" y="2256"/>
                    </a:lnTo>
                    <a:lnTo>
                      <a:pt x="102" y="2247"/>
                    </a:lnTo>
                    <a:lnTo>
                      <a:pt x="97" y="2243"/>
                    </a:lnTo>
                    <a:lnTo>
                      <a:pt x="94" y="2241"/>
                    </a:lnTo>
                    <a:lnTo>
                      <a:pt x="93" y="2241"/>
                    </a:lnTo>
                    <a:lnTo>
                      <a:pt x="92" y="2244"/>
                    </a:lnTo>
                    <a:lnTo>
                      <a:pt x="93" y="2262"/>
                    </a:lnTo>
                    <a:lnTo>
                      <a:pt x="96" y="2279"/>
                    </a:lnTo>
                    <a:lnTo>
                      <a:pt x="98" y="2298"/>
                    </a:lnTo>
                    <a:lnTo>
                      <a:pt x="101" y="2315"/>
                    </a:lnTo>
                    <a:lnTo>
                      <a:pt x="107" y="2349"/>
                    </a:lnTo>
                    <a:lnTo>
                      <a:pt x="114" y="2383"/>
                    </a:lnTo>
                    <a:lnTo>
                      <a:pt x="123" y="2417"/>
                    </a:lnTo>
                    <a:lnTo>
                      <a:pt x="132" y="2450"/>
                    </a:lnTo>
                    <a:lnTo>
                      <a:pt x="143" y="2485"/>
                    </a:lnTo>
                    <a:lnTo>
                      <a:pt x="156" y="2518"/>
                    </a:lnTo>
                    <a:lnTo>
                      <a:pt x="162" y="2534"/>
                    </a:lnTo>
                    <a:lnTo>
                      <a:pt x="168" y="2549"/>
                    </a:lnTo>
                    <a:lnTo>
                      <a:pt x="181" y="2582"/>
                    </a:lnTo>
                    <a:lnTo>
                      <a:pt x="196" y="2614"/>
                    </a:lnTo>
                    <a:lnTo>
                      <a:pt x="211" y="2647"/>
                    </a:lnTo>
                    <a:lnTo>
                      <a:pt x="225" y="2679"/>
                    </a:lnTo>
                    <a:lnTo>
                      <a:pt x="241" y="2710"/>
                    </a:lnTo>
                    <a:lnTo>
                      <a:pt x="273" y="2773"/>
                    </a:lnTo>
                    <a:lnTo>
                      <a:pt x="279" y="2785"/>
                    </a:lnTo>
                    <a:lnTo>
                      <a:pt x="290" y="2804"/>
                    </a:lnTo>
                    <a:lnTo>
                      <a:pt x="319" y="2853"/>
                    </a:lnTo>
                    <a:lnTo>
                      <a:pt x="356" y="2911"/>
                    </a:lnTo>
                    <a:lnTo>
                      <a:pt x="396" y="2973"/>
                    </a:lnTo>
                    <a:lnTo>
                      <a:pt x="417" y="3001"/>
                    </a:lnTo>
                    <a:lnTo>
                      <a:pt x="437" y="3028"/>
                    </a:lnTo>
                    <a:lnTo>
                      <a:pt x="455" y="3052"/>
                    </a:lnTo>
                    <a:lnTo>
                      <a:pt x="472" y="3073"/>
                    </a:lnTo>
                    <a:lnTo>
                      <a:pt x="480" y="3081"/>
                    </a:lnTo>
                    <a:lnTo>
                      <a:pt x="487" y="3087"/>
                    </a:lnTo>
                    <a:lnTo>
                      <a:pt x="493" y="3094"/>
                    </a:lnTo>
                    <a:lnTo>
                      <a:pt x="498" y="3097"/>
                    </a:lnTo>
                    <a:lnTo>
                      <a:pt x="503" y="3100"/>
                    </a:lnTo>
                    <a:lnTo>
                      <a:pt x="505" y="3101"/>
                    </a:lnTo>
                    <a:lnTo>
                      <a:pt x="506" y="3101"/>
                    </a:lnTo>
                    <a:lnTo>
                      <a:pt x="508" y="3100"/>
                    </a:lnTo>
                    <a:lnTo>
                      <a:pt x="510" y="3100"/>
                    </a:lnTo>
                    <a:lnTo>
                      <a:pt x="510" y="3098"/>
                    </a:lnTo>
                    <a:lnTo>
                      <a:pt x="511" y="3096"/>
                    </a:lnTo>
                    <a:lnTo>
                      <a:pt x="510" y="3081"/>
                    </a:lnTo>
                    <a:lnTo>
                      <a:pt x="508" y="3068"/>
                    </a:lnTo>
                    <a:lnTo>
                      <a:pt x="504" y="3054"/>
                    </a:lnTo>
                    <a:lnTo>
                      <a:pt x="500" y="3041"/>
                    </a:lnTo>
                    <a:lnTo>
                      <a:pt x="495" y="3028"/>
                    </a:lnTo>
                    <a:lnTo>
                      <a:pt x="491" y="3014"/>
                    </a:lnTo>
                    <a:lnTo>
                      <a:pt x="486" y="3002"/>
                    </a:lnTo>
                    <a:lnTo>
                      <a:pt x="480" y="2988"/>
                    </a:lnTo>
                    <a:lnTo>
                      <a:pt x="466" y="2964"/>
                    </a:lnTo>
                    <a:lnTo>
                      <a:pt x="451" y="2938"/>
                    </a:lnTo>
                    <a:lnTo>
                      <a:pt x="421" y="2891"/>
                    </a:lnTo>
                    <a:lnTo>
                      <a:pt x="405" y="2866"/>
                    </a:lnTo>
                    <a:lnTo>
                      <a:pt x="390" y="2842"/>
                    </a:lnTo>
                    <a:lnTo>
                      <a:pt x="383" y="2828"/>
                    </a:lnTo>
                    <a:lnTo>
                      <a:pt x="376" y="2816"/>
                    </a:lnTo>
                    <a:lnTo>
                      <a:pt x="370" y="2804"/>
                    </a:lnTo>
                    <a:lnTo>
                      <a:pt x="363" y="2792"/>
                    </a:lnTo>
                    <a:lnTo>
                      <a:pt x="351" y="2765"/>
                    </a:lnTo>
                    <a:lnTo>
                      <a:pt x="346" y="2751"/>
                    </a:lnTo>
                    <a:lnTo>
                      <a:pt x="343" y="2738"/>
                    </a:lnTo>
                    <a:lnTo>
                      <a:pt x="339" y="2724"/>
                    </a:lnTo>
                    <a:lnTo>
                      <a:pt x="338" y="2717"/>
                    </a:lnTo>
                    <a:lnTo>
                      <a:pt x="336" y="2711"/>
                    </a:lnTo>
                    <a:lnTo>
                      <a:pt x="334" y="2696"/>
                    </a:lnTo>
                    <a:lnTo>
                      <a:pt x="333" y="2681"/>
                    </a:lnTo>
                    <a:lnTo>
                      <a:pt x="334" y="2679"/>
                    </a:lnTo>
                    <a:lnTo>
                      <a:pt x="335" y="2679"/>
                    </a:lnTo>
                    <a:lnTo>
                      <a:pt x="339" y="2680"/>
                    </a:lnTo>
                    <a:lnTo>
                      <a:pt x="343" y="2683"/>
                    </a:lnTo>
                    <a:lnTo>
                      <a:pt x="351" y="2691"/>
                    </a:lnTo>
                    <a:lnTo>
                      <a:pt x="363" y="2704"/>
                    </a:lnTo>
                    <a:lnTo>
                      <a:pt x="377" y="2721"/>
                    </a:lnTo>
                    <a:lnTo>
                      <a:pt x="393" y="2739"/>
                    </a:lnTo>
                    <a:lnTo>
                      <a:pt x="426" y="2784"/>
                    </a:lnTo>
                    <a:lnTo>
                      <a:pt x="460" y="2833"/>
                    </a:lnTo>
                    <a:lnTo>
                      <a:pt x="493" y="2878"/>
                    </a:lnTo>
                    <a:lnTo>
                      <a:pt x="519" y="2916"/>
                    </a:lnTo>
                    <a:lnTo>
                      <a:pt x="535" y="2942"/>
                    </a:lnTo>
                    <a:lnTo>
                      <a:pt x="564" y="2985"/>
                    </a:lnTo>
                    <a:lnTo>
                      <a:pt x="594" y="3028"/>
                    </a:lnTo>
                    <a:lnTo>
                      <a:pt x="625" y="3070"/>
                    </a:lnTo>
                    <a:lnTo>
                      <a:pt x="657" y="3113"/>
                    </a:lnTo>
                    <a:lnTo>
                      <a:pt x="662" y="3092"/>
                    </a:lnTo>
                    <a:lnTo>
                      <a:pt x="667" y="3074"/>
                    </a:lnTo>
                    <a:lnTo>
                      <a:pt x="674" y="3054"/>
                    </a:lnTo>
                    <a:lnTo>
                      <a:pt x="681" y="3036"/>
                    </a:lnTo>
                    <a:lnTo>
                      <a:pt x="698" y="2999"/>
                    </a:lnTo>
                    <a:lnTo>
                      <a:pt x="715" y="2963"/>
                    </a:lnTo>
                    <a:lnTo>
                      <a:pt x="720" y="2952"/>
                    </a:lnTo>
                    <a:lnTo>
                      <a:pt x="726" y="2942"/>
                    </a:lnTo>
                    <a:lnTo>
                      <a:pt x="733" y="2933"/>
                    </a:lnTo>
                    <a:lnTo>
                      <a:pt x="739" y="2924"/>
                    </a:lnTo>
                    <a:lnTo>
                      <a:pt x="745" y="2916"/>
                    </a:lnTo>
                    <a:lnTo>
                      <a:pt x="752" y="2909"/>
                    </a:lnTo>
                    <a:lnTo>
                      <a:pt x="758" y="2903"/>
                    </a:lnTo>
                    <a:lnTo>
                      <a:pt x="766" y="2897"/>
                    </a:lnTo>
                    <a:lnTo>
                      <a:pt x="773" y="2891"/>
                    </a:lnTo>
                    <a:lnTo>
                      <a:pt x="780" y="2886"/>
                    </a:lnTo>
                    <a:lnTo>
                      <a:pt x="788" y="2882"/>
                    </a:lnTo>
                    <a:lnTo>
                      <a:pt x="796" y="2878"/>
                    </a:lnTo>
                    <a:lnTo>
                      <a:pt x="803" y="2876"/>
                    </a:lnTo>
                    <a:lnTo>
                      <a:pt x="812" y="2873"/>
                    </a:lnTo>
                    <a:lnTo>
                      <a:pt x="819" y="2871"/>
                    </a:lnTo>
                    <a:lnTo>
                      <a:pt x="828" y="2871"/>
                    </a:lnTo>
                    <a:lnTo>
                      <a:pt x="836" y="2870"/>
                    </a:lnTo>
                    <a:lnTo>
                      <a:pt x="844" y="2870"/>
                    </a:lnTo>
                    <a:lnTo>
                      <a:pt x="852" y="2871"/>
                    </a:lnTo>
                    <a:lnTo>
                      <a:pt x="861" y="2872"/>
                    </a:lnTo>
                    <a:lnTo>
                      <a:pt x="869" y="2875"/>
                    </a:lnTo>
                    <a:lnTo>
                      <a:pt x="878" y="2877"/>
                    </a:lnTo>
                    <a:lnTo>
                      <a:pt x="895" y="2883"/>
                    </a:lnTo>
                    <a:lnTo>
                      <a:pt x="911" y="2893"/>
                    </a:lnTo>
                    <a:lnTo>
                      <a:pt x="928" y="2904"/>
                    </a:lnTo>
                    <a:lnTo>
                      <a:pt x="937" y="2910"/>
                    </a:lnTo>
                    <a:lnTo>
                      <a:pt x="944" y="2917"/>
                    </a:lnTo>
                    <a:lnTo>
                      <a:pt x="953" y="2926"/>
                    </a:lnTo>
                    <a:lnTo>
                      <a:pt x="960" y="2933"/>
                    </a:lnTo>
                    <a:lnTo>
                      <a:pt x="970" y="2948"/>
                    </a:lnTo>
                    <a:lnTo>
                      <a:pt x="978" y="2962"/>
                    </a:lnTo>
                    <a:lnTo>
                      <a:pt x="986" y="2976"/>
                    </a:lnTo>
                    <a:lnTo>
                      <a:pt x="992" y="2991"/>
                    </a:lnTo>
                    <a:lnTo>
                      <a:pt x="998" y="3007"/>
                    </a:lnTo>
                    <a:lnTo>
                      <a:pt x="1003" y="3021"/>
                    </a:lnTo>
                    <a:lnTo>
                      <a:pt x="1011" y="3052"/>
                    </a:lnTo>
                    <a:lnTo>
                      <a:pt x="1015" y="3068"/>
                    </a:lnTo>
                    <a:lnTo>
                      <a:pt x="1017" y="3084"/>
                    </a:lnTo>
                    <a:lnTo>
                      <a:pt x="1022" y="3114"/>
                    </a:lnTo>
                    <a:lnTo>
                      <a:pt x="1026" y="3146"/>
                    </a:lnTo>
                    <a:lnTo>
                      <a:pt x="1030" y="3178"/>
                    </a:lnTo>
                    <a:lnTo>
                      <a:pt x="1032" y="3210"/>
                    </a:lnTo>
                    <a:lnTo>
                      <a:pt x="1037" y="3242"/>
                    </a:lnTo>
                    <a:lnTo>
                      <a:pt x="1039" y="3256"/>
                    </a:lnTo>
                    <a:lnTo>
                      <a:pt x="1042" y="3272"/>
                    </a:lnTo>
                    <a:lnTo>
                      <a:pt x="1045" y="3287"/>
                    </a:lnTo>
                    <a:lnTo>
                      <a:pt x="1050" y="3303"/>
                    </a:lnTo>
                    <a:lnTo>
                      <a:pt x="1054" y="3317"/>
                    </a:lnTo>
                    <a:lnTo>
                      <a:pt x="1060" y="3332"/>
                    </a:lnTo>
                    <a:lnTo>
                      <a:pt x="1066" y="3347"/>
                    </a:lnTo>
                    <a:lnTo>
                      <a:pt x="1072" y="3361"/>
                    </a:lnTo>
                    <a:lnTo>
                      <a:pt x="1081" y="3375"/>
                    </a:lnTo>
                    <a:lnTo>
                      <a:pt x="1090" y="3388"/>
                    </a:lnTo>
                    <a:lnTo>
                      <a:pt x="1099" y="3402"/>
                    </a:lnTo>
                    <a:lnTo>
                      <a:pt x="1105" y="3409"/>
                    </a:lnTo>
                    <a:lnTo>
                      <a:pt x="1110" y="3415"/>
                    </a:lnTo>
                    <a:lnTo>
                      <a:pt x="1129" y="3431"/>
                    </a:lnTo>
                    <a:lnTo>
                      <a:pt x="1146" y="3446"/>
                    </a:lnTo>
                    <a:lnTo>
                      <a:pt x="1164" y="3459"/>
                    </a:lnTo>
                    <a:lnTo>
                      <a:pt x="1182" y="3471"/>
                    </a:lnTo>
                    <a:lnTo>
                      <a:pt x="1200" y="3484"/>
                    </a:lnTo>
                    <a:lnTo>
                      <a:pt x="1218" y="3493"/>
                    </a:lnTo>
                    <a:lnTo>
                      <a:pt x="1236" y="3503"/>
                    </a:lnTo>
                    <a:lnTo>
                      <a:pt x="1253" y="3512"/>
                    </a:lnTo>
                    <a:lnTo>
                      <a:pt x="1272" y="3519"/>
                    </a:lnTo>
                    <a:lnTo>
                      <a:pt x="1290" y="3525"/>
                    </a:lnTo>
                    <a:lnTo>
                      <a:pt x="1308" y="3531"/>
                    </a:lnTo>
                    <a:lnTo>
                      <a:pt x="1327" y="3536"/>
                    </a:lnTo>
                    <a:lnTo>
                      <a:pt x="1345" y="3540"/>
                    </a:lnTo>
                    <a:lnTo>
                      <a:pt x="1363" y="3542"/>
                    </a:lnTo>
                    <a:lnTo>
                      <a:pt x="1382" y="3544"/>
                    </a:lnTo>
                    <a:lnTo>
                      <a:pt x="1400" y="3545"/>
                    </a:lnTo>
                    <a:lnTo>
                      <a:pt x="1418" y="3545"/>
                    </a:lnTo>
                    <a:lnTo>
                      <a:pt x="1437" y="3544"/>
                    </a:lnTo>
                    <a:lnTo>
                      <a:pt x="1455" y="3542"/>
                    </a:lnTo>
                    <a:lnTo>
                      <a:pt x="1473" y="3539"/>
                    </a:lnTo>
                    <a:lnTo>
                      <a:pt x="1492" y="3535"/>
                    </a:lnTo>
                    <a:lnTo>
                      <a:pt x="1511" y="3530"/>
                    </a:lnTo>
                    <a:lnTo>
                      <a:pt x="1530" y="3525"/>
                    </a:lnTo>
                    <a:lnTo>
                      <a:pt x="1548" y="3519"/>
                    </a:lnTo>
                    <a:lnTo>
                      <a:pt x="1567" y="3512"/>
                    </a:lnTo>
                    <a:lnTo>
                      <a:pt x="1586" y="3503"/>
                    </a:lnTo>
                    <a:lnTo>
                      <a:pt x="1604" y="3495"/>
                    </a:lnTo>
                    <a:lnTo>
                      <a:pt x="1624" y="3485"/>
                    </a:lnTo>
                    <a:lnTo>
                      <a:pt x="1642" y="3474"/>
                    </a:lnTo>
                    <a:lnTo>
                      <a:pt x="1662" y="3463"/>
                    </a:lnTo>
                    <a:lnTo>
                      <a:pt x="1699" y="3437"/>
                    </a:lnTo>
                    <a:lnTo>
                      <a:pt x="1724" y="3419"/>
                    </a:lnTo>
                    <a:lnTo>
                      <a:pt x="1747" y="3399"/>
                    </a:lnTo>
                    <a:lnTo>
                      <a:pt x="1769" y="3381"/>
                    </a:lnTo>
                    <a:lnTo>
                      <a:pt x="1790" y="3361"/>
                    </a:lnTo>
                    <a:lnTo>
                      <a:pt x="1810" y="3341"/>
                    </a:lnTo>
                    <a:lnTo>
                      <a:pt x="1829" y="3321"/>
                    </a:lnTo>
                    <a:lnTo>
                      <a:pt x="1846" y="3300"/>
                    </a:lnTo>
                    <a:lnTo>
                      <a:pt x="1863" y="3279"/>
                    </a:lnTo>
                    <a:lnTo>
                      <a:pt x="1878" y="3257"/>
                    </a:lnTo>
                    <a:lnTo>
                      <a:pt x="1891" y="3237"/>
                    </a:lnTo>
                    <a:lnTo>
                      <a:pt x="1905" y="3215"/>
                    </a:lnTo>
                    <a:lnTo>
                      <a:pt x="1911" y="3204"/>
                    </a:lnTo>
                    <a:lnTo>
                      <a:pt x="1916" y="3193"/>
                    </a:lnTo>
                    <a:lnTo>
                      <a:pt x="1926" y="3169"/>
                    </a:lnTo>
                    <a:lnTo>
                      <a:pt x="1931" y="3158"/>
                    </a:lnTo>
                    <a:lnTo>
                      <a:pt x="1934" y="3147"/>
                    </a:lnTo>
                    <a:lnTo>
                      <a:pt x="1942" y="3124"/>
                    </a:lnTo>
                    <a:lnTo>
                      <a:pt x="1945" y="3113"/>
                    </a:lnTo>
                    <a:lnTo>
                      <a:pt x="1948" y="3101"/>
                    </a:lnTo>
                    <a:lnTo>
                      <a:pt x="1950" y="3090"/>
                    </a:lnTo>
                    <a:lnTo>
                      <a:pt x="1953" y="3078"/>
                    </a:lnTo>
                    <a:lnTo>
                      <a:pt x="1955" y="3054"/>
                    </a:lnTo>
                    <a:lnTo>
                      <a:pt x="1956" y="3031"/>
                    </a:lnTo>
                    <a:lnTo>
                      <a:pt x="1956" y="3019"/>
                    </a:lnTo>
                    <a:lnTo>
                      <a:pt x="1956" y="3007"/>
                    </a:lnTo>
                    <a:lnTo>
                      <a:pt x="1955" y="2984"/>
                    </a:lnTo>
                    <a:lnTo>
                      <a:pt x="1954" y="2971"/>
                    </a:lnTo>
                    <a:lnTo>
                      <a:pt x="1951" y="2959"/>
                    </a:lnTo>
                    <a:lnTo>
                      <a:pt x="1946" y="2936"/>
                    </a:lnTo>
                    <a:lnTo>
                      <a:pt x="1943" y="2924"/>
                    </a:lnTo>
                    <a:lnTo>
                      <a:pt x="1940" y="2911"/>
                    </a:lnTo>
                    <a:lnTo>
                      <a:pt x="1932" y="2887"/>
                    </a:lnTo>
                    <a:lnTo>
                      <a:pt x="1921" y="2862"/>
                    </a:lnTo>
                    <a:lnTo>
                      <a:pt x="1910" y="2838"/>
                    </a:lnTo>
                    <a:lnTo>
                      <a:pt x="1896" y="2814"/>
                    </a:lnTo>
                    <a:lnTo>
                      <a:pt x="1880" y="2789"/>
                    </a:lnTo>
                    <a:lnTo>
                      <a:pt x="1863" y="2765"/>
                    </a:lnTo>
                    <a:lnTo>
                      <a:pt x="1844" y="2740"/>
                    </a:lnTo>
                    <a:lnTo>
                      <a:pt x="1823" y="2716"/>
                    </a:lnTo>
                    <a:lnTo>
                      <a:pt x="1812" y="2707"/>
                    </a:lnTo>
                    <a:lnTo>
                      <a:pt x="1802" y="2700"/>
                    </a:lnTo>
                    <a:lnTo>
                      <a:pt x="1791" y="2694"/>
                    </a:lnTo>
                    <a:lnTo>
                      <a:pt x="1780" y="2688"/>
                    </a:lnTo>
                    <a:lnTo>
                      <a:pt x="1770" y="2683"/>
                    </a:lnTo>
                    <a:lnTo>
                      <a:pt x="1759" y="2678"/>
                    </a:lnTo>
                    <a:lnTo>
                      <a:pt x="1748" y="2674"/>
                    </a:lnTo>
                    <a:lnTo>
                      <a:pt x="1737" y="2670"/>
                    </a:lnTo>
                    <a:lnTo>
                      <a:pt x="1728" y="2668"/>
                    </a:lnTo>
                    <a:lnTo>
                      <a:pt x="1717" y="2666"/>
                    </a:lnTo>
                    <a:lnTo>
                      <a:pt x="1706" y="2663"/>
                    </a:lnTo>
                    <a:lnTo>
                      <a:pt x="1695" y="2662"/>
                    </a:lnTo>
                    <a:lnTo>
                      <a:pt x="1674" y="2661"/>
                    </a:lnTo>
                    <a:lnTo>
                      <a:pt x="1663" y="2661"/>
                    </a:lnTo>
                    <a:lnTo>
                      <a:pt x="1652" y="2661"/>
                    </a:lnTo>
                    <a:lnTo>
                      <a:pt x="1630" y="2663"/>
                    </a:lnTo>
                    <a:lnTo>
                      <a:pt x="1609" y="2666"/>
                    </a:lnTo>
                    <a:lnTo>
                      <a:pt x="1587" y="2669"/>
                    </a:lnTo>
                    <a:lnTo>
                      <a:pt x="1565" y="2674"/>
                    </a:lnTo>
                    <a:lnTo>
                      <a:pt x="1522" y="2686"/>
                    </a:lnTo>
                    <a:lnTo>
                      <a:pt x="1479" y="2700"/>
                    </a:lnTo>
                    <a:lnTo>
                      <a:pt x="1437" y="2712"/>
                    </a:lnTo>
                    <a:lnTo>
                      <a:pt x="1416" y="2718"/>
                    </a:lnTo>
                    <a:lnTo>
                      <a:pt x="1394" y="2723"/>
                    </a:lnTo>
                    <a:lnTo>
                      <a:pt x="1373" y="2728"/>
                    </a:lnTo>
                    <a:lnTo>
                      <a:pt x="1352" y="2732"/>
                    </a:lnTo>
                    <a:lnTo>
                      <a:pt x="1343" y="2733"/>
                    </a:lnTo>
                    <a:lnTo>
                      <a:pt x="1332" y="2733"/>
                    </a:lnTo>
                    <a:lnTo>
                      <a:pt x="1311" y="2734"/>
                    </a:lnTo>
                    <a:lnTo>
                      <a:pt x="1290" y="2733"/>
                    </a:lnTo>
                    <a:lnTo>
                      <a:pt x="1280" y="2733"/>
                    </a:lnTo>
                    <a:lnTo>
                      <a:pt x="1270" y="2730"/>
                    </a:lnTo>
                    <a:lnTo>
                      <a:pt x="1250" y="2727"/>
                    </a:lnTo>
                    <a:lnTo>
                      <a:pt x="1240" y="2723"/>
                    </a:lnTo>
                    <a:lnTo>
                      <a:pt x="1230" y="2719"/>
                    </a:lnTo>
                    <a:lnTo>
                      <a:pt x="1220" y="2716"/>
                    </a:lnTo>
                    <a:lnTo>
                      <a:pt x="1209" y="2711"/>
                    </a:lnTo>
                    <a:lnTo>
                      <a:pt x="1200" y="2705"/>
                    </a:lnTo>
                    <a:lnTo>
                      <a:pt x="1190" y="2699"/>
                    </a:lnTo>
                    <a:lnTo>
                      <a:pt x="1180" y="2692"/>
                    </a:lnTo>
                    <a:lnTo>
                      <a:pt x="1170" y="2685"/>
                    </a:lnTo>
                    <a:lnTo>
                      <a:pt x="1160" y="2677"/>
                    </a:lnTo>
                    <a:lnTo>
                      <a:pt x="1151" y="2668"/>
                    </a:lnTo>
                    <a:lnTo>
                      <a:pt x="1145" y="2658"/>
                    </a:lnTo>
                    <a:lnTo>
                      <a:pt x="1138" y="2650"/>
                    </a:lnTo>
                    <a:lnTo>
                      <a:pt x="1127" y="2630"/>
                    </a:lnTo>
                    <a:lnTo>
                      <a:pt x="1118" y="2612"/>
                    </a:lnTo>
                    <a:lnTo>
                      <a:pt x="1109" y="2592"/>
                    </a:lnTo>
                    <a:lnTo>
                      <a:pt x="1107" y="2584"/>
                    </a:lnTo>
                    <a:lnTo>
                      <a:pt x="1103" y="2574"/>
                    </a:lnTo>
                    <a:lnTo>
                      <a:pt x="1097" y="2556"/>
                    </a:lnTo>
                    <a:lnTo>
                      <a:pt x="1093" y="2536"/>
                    </a:lnTo>
                    <a:lnTo>
                      <a:pt x="1091" y="2518"/>
                    </a:lnTo>
                    <a:lnTo>
                      <a:pt x="1088" y="2498"/>
                    </a:lnTo>
                    <a:lnTo>
                      <a:pt x="1088" y="2480"/>
                    </a:lnTo>
                    <a:lnTo>
                      <a:pt x="1088" y="2461"/>
                    </a:lnTo>
                    <a:lnTo>
                      <a:pt x="1090" y="2442"/>
                    </a:lnTo>
                    <a:lnTo>
                      <a:pt x="1092" y="2423"/>
                    </a:lnTo>
                    <a:lnTo>
                      <a:pt x="1096" y="2405"/>
                    </a:lnTo>
                    <a:lnTo>
                      <a:pt x="1101" y="2387"/>
                    </a:lnTo>
                    <a:lnTo>
                      <a:pt x="1105" y="2368"/>
                    </a:lnTo>
                    <a:lnTo>
                      <a:pt x="1112" y="2350"/>
                    </a:lnTo>
                    <a:lnTo>
                      <a:pt x="1118" y="2332"/>
                    </a:lnTo>
                    <a:lnTo>
                      <a:pt x="1125" y="2313"/>
                    </a:lnTo>
                    <a:lnTo>
                      <a:pt x="1134" y="2295"/>
                    </a:lnTo>
                    <a:lnTo>
                      <a:pt x="1142" y="2278"/>
                    </a:lnTo>
                    <a:lnTo>
                      <a:pt x="1151" y="2260"/>
                    </a:lnTo>
                    <a:lnTo>
                      <a:pt x="1160" y="2243"/>
                    </a:lnTo>
                    <a:lnTo>
                      <a:pt x="1171" y="2224"/>
                    </a:lnTo>
                    <a:lnTo>
                      <a:pt x="1192" y="2190"/>
                    </a:lnTo>
                    <a:lnTo>
                      <a:pt x="1215" y="2156"/>
                    </a:lnTo>
                    <a:lnTo>
                      <a:pt x="1239" y="2124"/>
                    </a:lnTo>
                    <a:lnTo>
                      <a:pt x="1262" y="2091"/>
                    </a:lnTo>
                    <a:lnTo>
                      <a:pt x="1308" y="2031"/>
                    </a:lnTo>
                    <a:lnTo>
                      <a:pt x="1355" y="1972"/>
                    </a:lnTo>
                    <a:lnTo>
                      <a:pt x="1449" y="1854"/>
                    </a:lnTo>
                    <a:lnTo>
                      <a:pt x="1497" y="1795"/>
                    </a:lnTo>
                    <a:lnTo>
                      <a:pt x="1545" y="1737"/>
                    </a:lnTo>
                    <a:lnTo>
                      <a:pt x="1593" y="1680"/>
                    </a:lnTo>
                    <a:lnTo>
                      <a:pt x="1642" y="1623"/>
                    </a:lnTo>
                    <a:close/>
                  </a:path>
                </a:pathLst>
              </a:custGeom>
              <a:solidFill>
                <a:srgbClr val="8cc0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192480" y="3293640"/>
                <a:ext cx="177840" cy="209160"/>
              </a:xfrm>
              <a:custGeom>
                <a:avLst/>
                <a:gdLst/>
                <a:ahLst/>
                <a:rect l="l" t="t" r="r" b="b"/>
                <a:pathLst>
                  <a:path w="224" h="264">
                    <a:moveTo>
                      <a:pt x="213" y="264"/>
                    </a:moveTo>
                    <a:lnTo>
                      <a:pt x="105" y="138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116" y="128"/>
                    </a:lnTo>
                    <a:lnTo>
                      <a:pt x="224" y="254"/>
                    </a:lnTo>
                    <a:lnTo>
                      <a:pt x="213" y="2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816280" y="3060360"/>
                <a:ext cx="385560" cy="239040"/>
              </a:xfrm>
              <a:custGeom>
                <a:avLst/>
                <a:gdLst/>
                <a:ahLst/>
                <a:rect l="l" t="t" r="r" b="b"/>
                <a:pathLst>
                  <a:path w="485" h="303">
                    <a:moveTo>
                      <a:pt x="474" y="303"/>
                    </a:moveTo>
                    <a:lnTo>
                      <a:pt x="381" y="185"/>
                    </a:lnTo>
                    <a:lnTo>
                      <a:pt x="354" y="155"/>
                    </a:lnTo>
                    <a:lnTo>
                      <a:pt x="325" y="124"/>
                    </a:lnTo>
                    <a:lnTo>
                      <a:pt x="295" y="95"/>
                    </a:lnTo>
                    <a:lnTo>
                      <a:pt x="280" y="82"/>
                    </a:lnTo>
                    <a:lnTo>
                      <a:pt x="264" y="68"/>
                    </a:lnTo>
                    <a:lnTo>
                      <a:pt x="232" y="46"/>
                    </a:lnTo>
                    <a:lnTo>
                      <a:pt x="200" y="29"/>
                    </a:lnTo>
                    <a:lnTo>
                      <a:pt x="169" y="18"/>
                    </a:lnTo>
                    <a:lnTo>
                      <a:pt x="153" y="16"/>
                    </a:lnTo>
                    <a:lnTo>
                      <a:pt x="138" y="13"/>
                    </a:lnTo>
                    <a:lnTo>
                      <a:pt x="122" y="14"/>
                    </a:lnTo>
                    <a:lnTo>
                      <a:pt x="107" y="17"/>
                    </a:lnTo>
                    <a:lnTo>
                      <a:pt x="73" y="28"/>
                    </a:lnTo>
                    <a:lnTo>
                      <a:pt x="60" y="36"/>
                    </a:lnTo>
                    <a:lnTo>
                      <a:pt x="44" y="49"/>
                    </a:lnTo>
                    <a:lnTo>
                      <a:pt x="27" y="62"/>
                    </a:lnTo>
                    <a:lnTo>
                      <a:pt x="11" y="79"/>
                    </a:lnTo>
                    <a:lnTo>
                      <a:pt x="0" y="69"/>
                    </a:lnTo>
                    <a:lnTo>
                      <a:pt x="17" y="51"/>
                    </a:lnTo>
                    <a:lnTo>
                      <a:pt x="34" y="38"/>
                    </a:lnTo>
                    <a:lnTo>
                      <a:pt x="50" y="25"/>
                    </a:lnTo>
                    <a:lnTo>
                      <a:pt x="67" y="14"/>
                    </a:lnTo>
                    <a:lnTo>
                      <a:pt x="103" y="3"/>
                    </a:lnTo>
                    <a:lnTo>
                      <a:pt x="120" y="1"/>
                    </a:lnTo>
                    <a:lnTo>
                      <a:pt x="138" y="0"/>
                    </a:lnTo>
                    <a:lnTo>
                      <a:pt x="155" y="2"/>
                    </a:lnTo>
                    <a:lnTo>
                      <a:pt x="174" y="5"/>
                    </a:lnTo>
                    <a:lnTo>
                      <a:pt x="207" y="17"/>
                    </a:lnTo>
                    <a:lnTo>
                      <a:pt x="241" y="34"/>
                    </a:lnTo>
                    <a:lnTo>
                      <a:pt x="274" y="57"/>
                    </a:lnTo>
                    <a:lnTo>
                      <a:pt x="290" y="71"/>
                    </a:lnTo>
                    <a:lnTo>
                      <a:pt x="304" y="84"/>
                    </a:lnTo>
                    <a:lnTo>
                      <a:pt x="335" y="113"/>
                    </a:lnTo>
                    <a:lnTo>
                      <a:pt x="364" y="144"/>
                    </a:lnTo>
                    <a:lnTo>
                      <a:pt x="392" y="176"/>
                    </a:lnTo>
                    <a:lnTo>
                      <a:pt x="485" y="293"/>
                    </a:lnTo>
                    <a:lnTo>
                      <a:pt x="474" y="3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192480" y="3293640"/>
                <a:ext cx="9360" cy="57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10"/>
                    </a:moveTo>
                    <a:lnTo>
                      <a:pt x="1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784600" y="3117240"/>
                <a:ext cx="101520" cy="644400"/>
              </a:xfrm>
              <a:custGeom>
                <a:avLst/>
                <a:gdLst/>
                <a:ahLst/>
                <a:rect l="l" t="t" r="r" b="b"/>
                <a:pathLst>
                  <a:path w="128" h="812">
                    <a:moveTo>
                      <a:pt x="52" y="6"/>
                    </a:moveTo>
                    <a:lnTo>
                      <a:pt x="40" y="32"/>
                    </a:lnTo>
                    <a:lnTo>
                      <a:pt x="30" y="56"/>
                    </a:lnTo>
                    <a:lnTo>
                      <a:pt x="24" y="79"/>
                    </a:lnTo>
                    <a:lnTo>
                      <a:pt x="18" y="104"/>
                    </a:lnTo>
                    <a:lnTo>
                      <a:pt x="14" y="155"/>
                    </a:lnTo>
                    <a:lnTo>
                      <a:pt x="14" y="180"/>
                    </a:lnTo>
                    <a:lnTo>
                      <a:pt x="17" y="205"/>
                    </a:lnTo>
                    <a:lnTo>
                      <a:pt x="19" y="228"/>
                    </a:lnTo>
                    <a:lnTo>
                      <a:pt x="24" y="254"/>
                    </a:lnTo>
                    <a:lnTo>
                      <a:pt x="36" y="304"/>
                    </a:lnTo>
                    <a:lnTo>
                      <a:pt x="67" y="403"/>
                    </a:lnTo>
                    <a:lnTo>
                      <a:pt x="100" y="504"/>
                    </a:lnTo>
                    <a:lnTo>
                      <a:pt x="114" y="555"/>
                    </a:lnTo>
                    <a:lnTo>
                      <a:pt x="123" y="605"/>
                    </a:lnTo>
                    <a:lnTo>
                      <a:pt x="128" y="656"/>
                    </a:lnTo>
                    <a:lnTo>
                      <a:pt x="127" y="682"/>
                    </a:lnTo>
                    <a:lnTo>
                      <a:pt x="125" y="707"/>
                    </a:lnTo>
                    <a:lnTo>
                      <a:pt x="121" y="733"/>
                    </a:lnTo>
                    <a:lnTo>
                      <a:pt x="114" y="759"/>
                    </a:lnTo>
                    <a:lnTo>
                      <a:pt x="105" y="787"/>
                    </a:lnTo>
                    <a:lnTo>
                      <a:pt x="94" y="812"/>
                    </a:lnTo>
                    <a:lnTo>
                      <a:pt x="80" y="806"/>
                    </a:lnTo>
                    <a:lnTo>
                      <a:pt x="91" y="781"/>
                    </a:lnTo>
                    <a:lnTo>
                      <a:pt x="100" y="757"/>
                    </a:lnTo>
                    <a:lnTo>
                      <a:pt x="106" y="731"/>
                    </a:lnTo>
                    <a:lnTo>
                      <a:pt x="111" y="705"/>
                    </a:lnTo>
                    <a:lnTo>
                      <a:pt x="112" y="682"/>
                    </a:lnTo>
                    <a:lnTo>
                      <a:pt x="113" y="658"/>
                    </a:lnTo>
                    <a:lnTo>
                      <a:pt x="108" y="608"/>
                    </a:lnTo>
                    <a:lnTo>
                      <a:pt x="100" y="557"/>
                    </a:lnTo>
                    <a:lnTo>
                      <a:pt x="86" y="508"/>
                    </a:lnTo>
                    <a:lnTo>
                      <a:pt x="53" y="409"/>
                    </a:lnTo>
                    <a:lnTo>
                      <a:pt x="22" y="307"/>
                    </a:lnTo>
                    <a:lnTo>
                      <a:pt x="9" y="257"/>
                    </a:lnTo>
                    <a:lnTo>
                      <a:pt x="4" y="231"/>
                    </a:lnTo>
                    <a:lnTo>
                      <a:pt x="2" y="206"/>
                    </a:lnTo>
                    <a:lnTo>
                      <a:pt x="0" y="181"/>
                    </a:lnTo>
                    <a:lnTo>
                      <a:pt x="0" y="155"/>
                    </a:lnTo>
                    <a:lnTo>
                      <a:pt x="3" y="102"/>
                    </a:lnTo>
                    <a:lnTo>
                      <a:pt x="9" y="77"/>
                    </a:lnTo>
                    <a:lnTo>
                      <a:pt x="17" y="51"/>
                    </a:lnTo>
                    <a:lnTo>
                      <a:pt x="26" y="25"/>
                    </a:lnTo>
                    <a:lnTo>
                      <a:pt x="39" y="0"/>
                    </a:lnTo>
                    <a:lnTo>
                      <a:pt x="5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814480" y="311580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" y="0"/>
                    </a:moveTo>
                    <a:lnTo>
                      <a:pt x="0" y="3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448000" y="3504600"/>
                <a:ext cx="409680" cy="331560"/>
              </a:xfrm>
              <a:custGeom>
                <a:avLst/>
                <a:gdLst/>
                <a:ahLst/>
                <a:rect l="l" t="t" r="r" b="b"/>
                <a:pathLst>
                  <a:path w="517" h="418">
                    <a:moveTo>
                      <a:pt x="517" y="325"/>
                    </a:moveTo>
                    <a:lnTo>
                      <a:pt x="498" y="349"/>
                    </a:lnTo>
                    <a:lnTo>
                      <a:pt x="478" y="370"/>
                    </a:lnTo>
                    <a:lnTo>
                      <a:pt x="458" y="386"/>
                    </a:lnTo>
                    <a:lnTo>
                      <a:pt x="437" y="398"/>
                    </a:lnTo>
                    <a:lnTo>
                      <a:pt x="416" y="408"/>
                    </a:lnTo>
                    <a:lnTo>
                      <a:pt x="395" y="414"/>
                    </a:lnTo>
                    <a:lnTo>
                      <a:pt x="355" y="418"/>
                    </a:lnTo>
                    <a:lnTo>
                      <a:pt x="315" y="411"/>
                    </a:lnTo>
                    <a:lnTo>
                      <a:pt x="295" y="402"/>
                    </a:lnTo>
                    <a:lnTo>
                      <a:pt x="277" y="392"/>
                    </a:lnTo>
                    <a:lnTo>
                      <a:pt x="257" y="381"/>
                    </a:lnTo>
                    <a:lnTo>
                      <a:pt x="240" y="368"/>
                    </a:lnTo>
                    <a:lnTo>
                      <a:pt x="206" y="337"/>
                    </a:lnTo>
                    <a:lnTo>
                      <a:pt x="172" y="299"/>
                    </a:lnTo>
                    <a:lnTo>
                      <a:pt x="140" y="259"/>
                    </a:lnTo>
                    <a:lnTo>
                      <a:pt x="110" y="216"/>
                    </a:lnTo>
                    <a:lnTo>
                      <a:pt x="84" y="171"/>
                    </a:lnTo>
                    <a:lnTo>
                      <a:pt x="36" y="83"/>
                    </a:lnTo>
                    <a:lnTo>
                      <a:pt x="0" y="7"/>
                    </a:lnTo>
                    <a:lnTo>
                      <a:pt x="13" y="0"/>
                    </a:lnTo>
                    <a:lnTo>
                      <a:pt x="48" y="75"/>
                    </a:lnTo>
                    <a:lnTo>
                      <a:pt x="96" y="164"/>
                    </a:lnTo>
                    <a:lnTo>
                      <a:pt x="123" y="208"/>
                    </a:lnTo>
                    <a:lnTo>
                      <a:pt x="151" y="249"/>
                    </a:lnTo>
                    <a:lnTo>
                      <a:pt x="183" y="289"/>
                    </a:lnTo>
                    <a:lnTo>
                      <a:pt x="216" y="326"/>
                    </a:lnTo>
                    <a:lnTo>
                      <a:pt x="250" y="357"/>
                    </a:lnTo>
                    <a:lnTo>
                      <a:pt x="266" y="370"/>
                    </a:lnTo>
                    <a:lnTo>
                      <a:pt x="284" y="380"/>
                    </a:lnTo>
                    <a:lnTo>
                      <a:pt x="302" y="390"/>
                    </a:lnTo>
                    <a:lnTo>
                      <a:pt x="319" y="397"/>
                    </a:lnTo>
                    <a:lnTo>
                      <a:pt x="355" y="404"/>
                    </a:lnTo>
                    <a:lnTo>
                      <a:pt x="392" y="401"/>
                    </a:lnTo>
                    <a:lnTo>
                      <a:pt x="410" y="395"/>
                    </a:lnTo>
                    <a:lnTo>
                      <a:pt x="428" y="386"/>
                    </a:lnTo>
                    <a:lnTo>
                      <a:pt x="448" y="375"/>
                    </a:lnTo>
                    <a:lnTo>
                      <a:pt x="469" y="359"/>
                    </a:lnTo>
                    <a:lnTo>
                      <a:pt x="487" y="340"/>
                    </a:lnTo>
                    <a:lnTo>
                      <a:pt x="506" y="315"/>
                    </a:lnTo>
                    <a:lnTo>
                      <a:pt x="517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847960" y="375552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9"/>
                    </a:moveTo>
                    <a:lnTo>
                      <a:pt x="12" y="10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352600" y="2887200"/>
                <a:ext cx="104760" cy="623520"/>
              </a:xfrm>
              <a:custGeom>
                <a:avLst/>
                <a:gdLst/>
                <a:ahLst/>
                <a:rect l="l" t="t" r="r" b="b"/>
                <a:pathLst>
                  <a:path w="132" h="785">
                    <a:moveTo>
                      <a:pt x="118" y="785"/>
                    </a:moveTo>
                    <a:lnTo>
                      <a:pt x="79" y="690"/>
                    </a:lnTo>
                    <a:lnTo>
                      <a:pt x="61" y="641"/>
                    </a:lnTo>
                    <a:lnTo>
                      <a:pt x="46" y="592"/>
                    </a:lnTo>
                    <a:lnTo>
                      <a:pt x="33" y="544"/>
                    </a:lnTo>
                    <a:lnTo>
                      <a:pt x="27" y="520"/>
                    </a:lnTo>
                    <a:lnTo>
                      <a:pt x="20" y="495"/>
                    </a:lnTo>
                    <a:lnTo>
                      <a:pt x="12" y="445"/>
                    </a:lnTo>
                    <a:lnTo>
                      <a:pt x="5" y="396"/>
                    </a:lnTo>
                    <a:lnTo>
                      <a:pt x="1" y="346"/>
                    </a:lnTo>
                    <a:lnTo>
                      <a:pt x="0" y="297"/>
                    </a:lnTo>
                    <a:lnTo>
                      <a:pt x="2" y="246"/>
                    </a:lnTo>
                    <a:lnTo>
                      <a:pt x="8" y="197"/>
                    </a:lnTo>
                    <a:lnTo>
                      <a:pt x="17" y="147"/>
                    </a:lnTo>
                    <a:lnTo>
                      <a:pt x="30" y="98"/>
                    </a:lnTo>
                    <a:lnTo>
                      <a:pt x="46" y="49"/>
                    </a:lnTo>
                    <a:lnTo>
                      <a:pt x="67" y="0"/>
                    </a:lnTo>
                    <a:lnTo>
                      <a:pt x="80" y="6"/>
                    </a:lnTo>
                    <a:lnTo>
                      <a:pt x="60" y="55"/>
                    </a:lnTo>
                    <a:lnTo>
                      <a:pt x="44" y="103"/>
                    </a:lnTo>
                    <a:lnTo>
                      <a:pt x="30" y="152"/>
                    </a:lnTo>
                    <a:lnTo>
                      <a:pt x="22" y="201"/>
                    </a:lnTo>
                    <a:lnTo>
                      <a:pt x="16" y="248"/>
                    </a:lnTo>
                    <a:lnTo>
                      <a:pt x="14" y="297"/>
                    </a:lnTo>
                    <a:lnTo>
                      <a:pt x="14" y="346"/>
                    </a:lnTo>
                    <a:lnTo>
                      <a:pt x="18" y="394"/>
                    </a:lnTo>
                    <a:lnTo>
                      <a:pt x="25" y="443"/>
                    </a:lnTo>
                    <a:lnTo>
                      <a:pt x="34" y="492"/>
                    </a:lnTo>
                    <a:lnTo>
                      <a:pt x="40" y="516"/>
                    </a:lnTo>
                    <a:lnTo>
                      <a:pt x="46" y="539"/>
                    </a:lnTo>
                    <a:lnTo>
                      <a:pt x="60" y="587"/>
                    </a:lnTo>
                    <a:lnTo>
                      <a:pt x="74" y="636"/>
                    </a:lnTo>
                    <a:lnTo>
                      <a:pt x="93" y="684"/>
                    </a:lnTo>
                    <a:lnTo>
                      <a:pt x="132" y="779"/>
                    </a:lnTo>
                    <a:lnTo>
                      <a:pt x="118" y="7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446200" y="350460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7"/>
                    </a:moveTo>
                    <a:lnTo>
                      <a:pt x="0" y="7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406600" y="2837880"/>
                <a:ext cx="257400" cy="55440"/>
              </a:xfrm>
              <a:custGeom>
                <a:avLst/>
                <a:gdLst/>
                <a:ahLst/>
                <a:rect l="l" t="t" r="r" b="b"/>
                <a:pathLst>
                  <a:path w="324" h="68">
                    <a:moveTo>
                      <a:pt x="0" y="59"/>
                    </a:moveTo>
                    <a:lnTo>
                      <a:pt x="9" y="46"/>
                    </a:lnTo>
                    <a:lnTo>
                      <a:pt x="18" y="37"/>
                    </a:lnTo>
                    <a:lnTo>
                      <a:pt x="36" y="21"/>
                    </a:lnTo>
                    <a:lnTo>
                      <a:pt x="56" y="12"/>
                    </a:lnTo>
                    <a:lnTo>
                      <a:pt x="77" y="7"/>
                    </a:lnTo>
                    <a:lnTo>
                      <a:pt x="97" y="8"/>
                    </a:lnTo>
                    <a:lnTo>
                      <a:pt x="117" y="12"/>
                    </a:lnTo>
                    <a:lnTo>
                      <a:pt x="159" y="26"/>
                    </a:lnTo>
                    <a:lnTo>
                      <a:pt x="180" y="32"/>
                    </a:lnTo>
                    <a:lnTo>
                      <a:pt x="199" y="37"/>
                    </a:lnTo>
                    <a:lnTo>
                      <a:pt x="218" y="40"/>
                    </a:lnTo>
                    <a:lnTo>
                      <a:pt x="238" y="41"/>
                    </a:lnTo>
                    <a:lnTo>
                      <a:pt x="258" y="39"/>
                    </a:lnTo>
                    <a:lnTo>
                      <a:pt x="276" y="33"/>
                    </a:lnTo>
                    <a:lnTo>
                      <a:pt x="295" y="18"/>
                    </a:lnTo>
                    <a:lnTo>
                      <a:pt x="304" y="11"/>
                    </a:lnTo>
                    <a:lnTo>
                      <a:pt x="313" y="0"/>
                    </a:lnTo>
                    <a:lnTo>
                      <a:pt x="324" y="10"/>
                    </a:lnTo>
                    <a:lnTo>
                      <a:pt x="314" y="22"/>
                    </a:lnTo>
                    <a:lnTo>
                      <a:pt x="303" y="30"/>
                    </a:lnTo>
                    <a:lnTo>
                      <a:pt x="282" y="46"/>
                    </a:lnTo>
                    <a:lnTo>
                      <a:pt x="260" y="54"/>
                    </a:lnTo>
                    <a:lnTo>
                      <a:pt x="238" y="56"/>
                    </a:lnTo>
                    <a:lnTo>
                      <a:pt x="216" y="55"/>
                    </a:lnTo>
                    <a:lnTo>
                      <a:pt x="197" y="51"/>
                    </a:lnTo>
                    <a:lnTo>
                      <a:pt x="175" y="45"/>
                    </a:lnTo>
                    <a:lnTo>
                      <a:pt x="153" y="39"/>
                    </a:lnTo>
                    <a:lnTo>
                      <a:pt x="115" y="27"/>
                    </a:lnTo>
                    <a:lnTo>
                      <a:pt x="95" y="23"/>
                    </a:lnTo>
                    <a:lnTo>
                      <a:pt x="77" y="22"/>
                    </a:lnTo>
                    <a:lnTo>
                      <a:pt x="61" y="26"/>
                    </a:lnTo>
                    <a:lnTo>
                      <a:pt x="44" y="33"/>
                    </a:lnTo>
                    <a:lnTo>
                      <a:pt x="28" y="48"/>
                    </a:lnTo>
                    <a:lnTo>
                      <a:pt x="20" y="56"/>
                    </a:lnTo>
                    <a:lnTo>
                      <a:pt x="11" y="68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405160" y="288576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2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649600" y="2493360"/>
                <a:ext cx="58680" cy="352080"/>
              </a:xfrm>
              <a:custGeom>
                <a:avLst/>
                <a:gdLst/>
                <a:ahLst/>
                <a:rect l="l" t="t" r="r" b="b"/>
                <a:pathLst>
                  <a:path w="72" h="444">
                    <a:moveTo>
                      <a:pt x="6" y="435"/>
                    </a:moveTo>
                    <a:lnTo>
                      <a:pt x="21" y="408"/>
                    </a:lnTo>
                    <a:lnTo>
                      <a:pt x="30" y="382"/>
                    </a:lnTo>
                    <a:lnTo>
                      <a:pt x="40" y="356"/>
                    </a:lnTo>
                    <a:lnTo>
                      <a:pt x="48" y="329"/>
                    </a:lnTo>
                    <a:lnTo>
                      <a:pt x="54" y="302"/>
                    </a:lnTo>
                    <a:lnTo>
                      <a:pt x="57" y="275"/>
                    </a:lnTo>
                    <a:lnTo>
                      <a:pt x="59" y="248"/>
                    </a:lnTo>
                    <a:lnTo>
                      <a:pt x="59" y="221"/>
                    </a:lnTo>
                    <a:lnTo>
                      <a:pt x="56" y="194"/>
                    </a:lnTo>
                    <a:lnTo>
                      <a:pt x="54" y="166"/>
                    </a:lnTo>
                    <a:lnTo>
                      <a:pt x="48" y="140"/>
                    </a:lnTo>
                    <a:lnTo>
                      <a:pt x="41" y="112"/>
                    </a:lnTo>
                    <a:lnTo>
                      <a:pt x="23" y="60"/>
                    </a:lnTo>
                    <a:lnTo>
                      <a:pt x="0" y="6"/>
                    </a:lnTo>
                    <a:lnTo>
                      <a:pt x="13" y="0"/>
                    </a:lnTo>
                    <a:lnTo>
                      <a:pt x="37" y="54"/>
                    </a:lnTo>
                    <a:lnTo>
                      <a:pt x="55" y="107"/>
                    </a:lnTo>
                    <a:lnTo>
                      <a:pt x="61" y="137"/>
                    </a:lnTo>
                    <a:lnTo>
                      <a:pt x="67" y="164"/>
                    </a:lnTo>
                    <a:lnTo>
                      <a:pt x="70" y="192"/>
                    </a:lnTo>
                    <a:lnTo>
                      <a:pt x="72" y="221"/>
                    </a:lnTo>
                    <a:lnTo>
                      <a:pt x="72" y="248"/>
                    </a:lnTo>
                    <a:lnTo>
                      <a:pt x="71" y="277"/>
                    </a:lnTo>
                    <a:lnTo>
                      <a:pt x="67" y="305"/>
                    </a:lnTo>
                    <a:lnTo>
                      <a:pt x="61" y="334"/>
                    </a:lnTo>
                    <a:lnTo>
                      <a:pt x="54" y="362"/>
                    </a:lnTo>
                    <a:lnTo>
                      <a:pt x="44" y="389"/>
                    </a:lnTo>
                    <a:lnTo>
                      <a:pt x="33" y="415"/>
                    </a:lnTo>
                    <a:lnTo>
                      <a:pt x="18" y="444"/>
                    </a:lnTo>
                    <a:lnTo>
                      <a:pt x="6" y="4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655720" y="283788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1" y="10"/>
                    </a:moveTo>
                    <a:lnTo>
                      <a:pt x="12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540160" y="2209320"/>
                <a:ext cx="120600" cy="288720"/>
              </a:xfrm>
              <a:custGeom>
                <a:avLst/>
                <a:gdLst/>
                <a:ahLst/>
                <a:rect l="l" t="t" r="r" b="b"/>
                <a:pathLst>
                  <a:path w="151" h="365">
                    <a:moveTo>
                      <a:pt x="139" y="365"/>
                    </a:moveTo>
                    <a:lnTo>
                      <a:pt x="99" y="277"/>
                    </a:lnTo>
                    <a:lnTo>
                      <a:pt x="63" y="188"/>
                    </a:lnTo>
                    <a:lnTo>
                      <a:pt x="0" y="5"/>
                    </a:lnTo>
                    <a:lnTo>
                      <a:pt x="13" y="0"/>
                    </a:lnTo>
                    <a:lnTo>
                      <a:pt x="77" y="181"/>
                    </a:lnTo>
                    <a:lnTo>
                      <a:pt x="112" y="271"/>
                    </a:lnTo>
                    <a:lnTo>
                      <a:pt x="151" y="359"/>
                    </a:lnTo>
                    <a:lnTo>
                      <a:pt x="139" y="3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649600" y="249336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" y="6"/>
                    </a:lnTo>
                    <a:lnTo>
                      <a:pt x="0" y="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379600" y="2209320"/>
                <a:ext cx="171360" cy="247320"/>
              </a:xfrm>
              <a:custGeom>
                <a:avLst/>
                <a:gdLst/>
                <a:ahLst/>
                <a:rect l="l" t="t" r="r" b="b"/>
                <a:pathLst>
                  <a:path w="216" h="312">
                    <a:moveTo>
                      <a:pt x="216" y="9"/>
                    </a:moveTo>
                    <a:lnTo>
                      <a:pt x="162" y="82"/>
                    </a:lnTo>
                    <a:lnTo>
                      <a:pt x="110" y="158"/>
                    </a:lnTo>
                    <a:lnTo>
                      <a:pt x="60" y="234"/>
                    </a:lnTo>
                    <a:lnTo>
                      <a:pt x="35" y="273"/>
                    </a:lnTo>
                    <a:lnTo>
                      <a:pt x="12" y="312"/>
                    </a:lnTo>
                    <a:lnTo>
                      <a:pt x="0" y="303"/>
                    </a:lnTo>
                    <a:lnTo>
                      <a:pt x="23" y="264"/>
                    </a:lnTo>
                    <a:lnTo>
                      <a:pt x="48" y="225"/>
                    </a:lnTo>
                    <a:lnTo>
                      <a:pt x="98" y="149"/>
                    </a:lnTo>
                    <a:lnTo>
                      <a:pt x="150" y="74"/>
                    </a:lnTo>
                    <a:lnTo>
                      <a:pt x="204" y="0"/>
                    </a:lnTo>
                    <a:lnTo>
                      <a:pt x="21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540160" y="219996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2"/>
                    </a:moveTo>
                    <a:lnTo>
                      <a:pt x="10" y="0"/>
                    </a:lnTo>
                    <a:lnTo>
                      <a:pt x="1" y="11"/>
                    </a:lnTo>
                    <a:lnTo>
                      <a:pt x="13" y="20"/>
                    </a:lnTo>
                    <a:lnTo>
                      <a:pt x="0" y="17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52520" y="2449080"/>
                <a:ext cx="136800" cy="299520"/>
              </a:xfrm>
              <a:custGeom>
                <a:avLst/>
                <a:gdLst/>
                <a:ahLst/>
                <a:rect l="l" t="t" r="r" b="b"/>
                <a:pathLst>
                  <a:path w="172" h="377">
                    <a:moveTo>
                      <a:pt x="172" y="9"/>
                    </a:moveTo>
                    <a:lnTo>
                      <a:pt x="120" y="96"/>
                    </a:lnTo>
                    <a:lnTo>
                      <a:pt x="93" y="140"/>
                    </a:lnTo>
                    <a:lnTo>
                      <a:pt x="69" y="185"/>
                    </a:lnTo>
                    <a:lnTo>
                      <a:pt x="47" y="233"/>
                    </a:lnTo>
                    <a:lnTo>
                      <a:pt x="30" y="279"/>
                    </a:lnTo>
                    <a:lnTo>
                      <a:pt x="19" y="327"/>
                    </a:lnTo>
                    <a:lnTo>
                      <a:pt x="14" y="377"/>
                    </a:lnTo>
                    <a:lnTo>
                      <a:pt x="0" y="376"/>
                    </a:lnTo>
                    <a:lnTo>
                      <a:pt x="5" y="325"/>
                    </a:lnTo>
                    <a:lnTo>
                      <a:pt x="17" y="274"/>
                    </a:lnTo>
                    <a:lnTo>
                      <a:pt x="34" y="227"/>
                    </a:lnTo>
                    <a:lnTo>
                      <a:pt x="56" y="179"/>
                    </a:lnTo>
                    <a:lnTo>
                      <a:pt x="79" y="134"/>
                    </a:lnTo>
                    <a:lnTo>
                      <a:pt x="107" y="87"/>
                    </a:lnTo>
                    <a:lnTo>
                      <a:pt x="160" y="0"/>
                    </a:lnTo>
                    <a:lnTo>
                      <a:pt x="17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379600" y="244908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0"/>
                    </a:moveTo>
                    <a:lnTo>
                      <a:pt x="12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52520" y="2592000"/>
                <a:ext cx="154080" cy="166320"/>
              </a:xfrm>
              <a:custGeom>
                <a:avLst/>
                <a:gdLst/>
                <a:ahLst/>
                <a:rect l="l" t="t" r="r" b="b"/>
                <a:pathLst>
                  <a:path w="194" h="209">
                    <a:moveTo>
                      <a:pt x="13" y="195"/>
                    </a:moveTo>
                    <a:lnTo>
                      <a:pt x="14" y="196"/>
                    </a:lnTo>
                    <a:lnTo>
                      <a:pt x="11" y="195"/>
                    </a:lnTo>
                    <a:lnTo>
                      <a:pt x="12" y="195"/>
                    </a:lnTo>
                    <a:lnTo>
                      <a:pt x="29" y="174"/>
                    </a:lnTo>
                    <a:lnTo>
                      <a:pt x="56" y="138"/>
                    </a:lnTo>
                    <a:lnTo>
                      <a:pt x="85" y="96"/>
                    </a:lnTo>
                    <a:lnTo>
                      <a:pt x="116" y="54"/>
                    </a:lnTo>
                    <a:lnTo>
                      <a:pt x="145" y="20"/>
                    </a:lnTo>
                    <a:lnTo>
                      <a:pt x="159" y="8"/>
                    </a:lnTo>
                    <a:lnTo>
                      <a:pt x="172" y="0"/>
                    </a:lnTo>
                    <a:lnTo>
                      <a:pt x="184" y="1"/>
                    </a:lnTo>
                    <a:lnTo>
                      <a:pt x="192" y="8"/>
                    </a:lnTo>
                    <a:lnTo>
                      <a:pt x="194" y="11"/>
                    </a:lnTo>
                    <a:lnTo>
                      <a:pt x="182" y="20"/>
                    </a:lnTo>
                    <a:lnTo>
                      <a:pt x="179" y="16"/>
                    </a:lnTo>
                    <a:lnTo>
                      <a:pt x="178" y="15"/>
                    </a:lnTo>
                    <a:lnTo>
                      <a:pt x="175" y="15"/>
                    </a:lnTo>
                    <a:lnTo>
                      <a:pt x="167" y="20"/>
                    </a:lnTo>
                    <a:lnTo>
                      <a:pt x="155" y="31"/>
                    </a:lnTo>
                    <a:lnTo>
                      <a:pt x="127" y="64"/>
                    </a:lnTo>
                    <a:lnTo>
                      <a:pt x="96" y="105"/>
                    </a:lnTo>
                    <a:lnTo>
                      <a:pt x="67" y="148"/>
                    </a:lnTo>
                    <a:lnTo>
                      <a:pt x="40" y="184"/>
                    </a:lnTo>
                    <a:lnTo>
                      <a:pt x="22" y="206"/>
                    </a:lnTo>
                    <a:lnTo>
                      <a:pt x="12" y="209"/>
                    </a:lnTo>
                    <a:lnTo>
                      <a:pt x="2" y="204"/>
                    </a:lnTo>
                    <a:lnTo>
                      <a:pt x="0" y="201"/>
                    </a:lnTo>
                    <a:lnTo>
                      <a:pt x="13" y="1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252520" y="274572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1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3" y="0"/>
                    </a:lnTo>
                    <a:lnTo>
                      <a:pt x="14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235240" y="2603160"/>
                <a:ext cx="174600" cy="524880"/>
              </a:xfrm>
              <a:custGeom>
                <a:avLst/>
                <a:gdLst/>
                <a:ahLst/>
                <a:rect l="l" t="t" r="r" b="b"/>
                <a:pathLst>
                  <a:path w="219" h="660">
                    <a:moveTo>
                      <a:pt x="216" y="0"/>
                    </a:moveTo>
                    <a:lnTo>
                      <a:pt x="219" y="44"/>
                    </a:lnTo>
                    <a:lnTo>
                      <a:pt x="218" y="86"/>
                    </a:lnTo>
                    <a:lnTo>
                      <a:pt x="213" y="128"/>
                    </a:lnTo>
                    <a:lnTo>
                      <a:pt x="205" y="172"/>
                    </a:lnTo>
                    <a:lnTo>
                      <a:pt x="196" y="214"/>
                    </a:lnTo>
                    <a:lnTo>
                      <a:pt x="182" y="257"/>
                    </a:lnTo>
                    <a:lnTo>
                      <a:pt x="167" y="300"/>
                    </a:lnTo>
                    <a:lnTo>
                      <a:pt x="153" y="340"/>
                    </a:lnTo>
                    <a:lnTo>
                      <a:pt x="117" y="422"/>
                    </a:lnTo>
                    <a:lnTo>
                      <a:pt x="82" y="502"/>
                    </a:lnTo>
                    <a:lnTo>
                      <a:pt x="45" y="582"/>
                    </a:lnTo>
                    <a:lnTo>
                      <a:pt x="13" y="660"/>
                    </a:lnTo>
                    <a:lnTo>
                      <a:pt x="0" y="654"/>
                    </a:lnTo>
                    <a:lnTo>
                      <a:pt x="32" y="576"/>
                    </a:lnTo>
                    <a:lnTo>
                      <a:pt x="68" y="496"/>
                    </a:lnTo>
                    <a:lnTo>
                      <a:pt x="104" y="416"/>
                    </a:lnTo>
                    <a:lnTo>
                      <a:pt x="139" y="334"/>
                    </a:lnTo>
                    <a:lnTo>
                      <a:pt x="154" y="293"/>
                    </a:lnTo>
                    <a:lnTo>
                      <a:pt x="169" y="252"/>
                    </a:lnTo>
                    <a:lnTo>
                      <a:pt x="181" y="211"/>
                    </a:lnTo>
                    <a:lnTo>
                      <a:pt x="191" y="170"/>
                    </a:lnTo>
                    <a:lnTo>
                      <a:pt x="198" y="127"/>
                    </a:lnTo>
                    <a:lnTo>
                      <a:pt x="203" y="86"/>
                    </a:lnTo>
                    <a:lnTo>
                      <a:pt x="204" y="44"/>
                    </a:lnTo>
                    <a:lnTo>
                      <a:pt x="202" y="1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395440" y="2601360"/>
                <a:ext cx="12960" cy="61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3" y="0"/>
                    </a:moveTo>
                    <a:lnTo>
                      <a:pt x="14" y="3"/>
                    </a:lnTo>
                    <a:lnTo>
                      <a:pt x="14" y="4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111400" y="3123720"/>
                <a:ext cx="135000" cy="261720"/>
              </a:xfrm>
              <a:custGeom>
                <a:avLst/>
                <a:gdLst/>
                <a:ahLst/>
                <a:rect l="l" t="t" r="r" b="b"/>
                <a:pathLst>
                  <a:path w="170" h="330">
                    <a:moveTo>
                      <a:pt x="170" y="5"/>
                    </a:moveTo>
                    <a:lnTo>
                      <a:pt x="145" y="88"/>
                    </a:lnTo>
                    <a:lnTo>
                      <a:pt x="124" y="155"/>
                    </a:lnTo>
                    <a:lnTo>
                      <a:pt x="98" y="224"/>
                    </a:lnTo>
                    <a:lnTo>
                      <a:pt x="74" y="283"/>
                    </a:lnTo>
                    <a:lnTo>
                      <a:pt x="60" y="306"/>
                    </a:lnTo>
                    <a:lnTo>
                      <a:pt x="48" y="322"/>
                    </a:lnTo>
                    <a:lnTo>
                      <a:pt x="36" y="329"/>
                    </a:lnTo>
                    <a:lnTo>
                      <a:pt x="25" y="330"/>
                    </a:lnTo>
                    <a:lnTo>
                      <a:pt x="16" y="325"/>
                    </a:lnTo>
                    <a:lnTo>
                      <a:pt x="8" y="311"/>
                    </a:lnTo>
                    <a:lnTo>
                      <a:pt x="3" y="298"/>
                    </a:lnTo>
                    <a:lnTo>
                      <a:pt x="0" y="284"/>
                    </a:lnTo>
                    <a:lnTo>
                      <a:pt x="14" y="280"/>
                    </a:lnTo>
                    <a:lnTo>
                      <a:pt x="16" y="294"/>
                    </a:lnTo>
                    <a:lnTo>
                      <a:pt x="20" y="303"/>
                    </a:lnTo>
                    <a:lnTo>
                      <a:pt x="27" y="316"/>
                    </a:lnTo>
                    <a:lnTo>
                      <a:pt x="30" y="317"/>
                    </a:lnTo>
                    <a:lnTo>
                      <a:pt x="29" y="317"/>
                    </a:lnTo>
                    <a:lnTo>
                      <a:pt x="38" y="311"/>
                    </a:lnTo>
                    <a:lnTo>
                      <a:pt x="48" y="297"/>
                    </a:lnTo>
                    <a:lnTo>
                      <a:pt x="60" y="276"/>
                    </a:lnTo>
                    <a:lnTo>
                      <a:pt x="85" y="218"/>
                    </a:lnTo>
                    <a:lnTo>
                      <a:pt x="110" y="151"/>
                    </a:lnTo>
                    <a:lnTo>
                      <a:pt x="131" y="83"/>
                    </a:lnTo>
                    <a:lnTo>
                      <a:pt x="157" y="0"/>
                    </a:lnTo>
                    <a:lnTo>
                      <a:pt x="17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235240" y="312372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0"/>
                    </a:moveTo>
                    <a:lnTo>
                      <a:pt x="13" y="5"/>
                    </a:lnTo>
                    <a:lnTo>
                      <a:pt x="13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111400" y="2984040"/>
                <a:ext cx="58680" cy="361440"/>
              </a:xfrm>
              <a:custGeom>
                <a:avLst/>
                <a:gdLst/>
                <a:ahLst/>
                <a:rect l="l" t="t" r="r" b="b"/>
                <a:pathLst>
                  <a:path w="75" h="457">
                    <a:moveTo>
                      <a:pt x="1" y="457"/>
                    </a:moveTo>
                    <a:lnTo>
                      <a:pt x="0" y="400"/>
                    </a:lnTo>
                    <a:lnTo>
                      <a:pt x="5" y="341"/>
                    </a:lnTo>
                    <a:lnTo>
                      <a:pt x="14" y="284"/>
                    </a:lnTo>
                    <a:lnTo>
                      <a:pt x="26" y="227"/>
                    </a:lnTo>
                    <a:lnTo>
                      <a:pt x="38" y="171"/>
                    </a:lnTo>
                    <a:lnTo>
                      <a:pt x="49" y="115"/>
                    </a:lnTo>
                    <a:lnTo>
                      <a:pt x="58" y="58"/>
                    </a:lnTo>
                    <a:lnTo>
                      <a:pt x="61" y="0"/>
                    </a:lnTo>
                    <a:lnTo>
                      <a:pt x="75" y="2"/>
                    </a:lnTo>
                    <a:lnTo>
                      <a:pt x="71" y="60"/>
                    </a:lnTo>
                    <a:lnTo>
                      <a:pt x="63" y="119"/>
                    </a:lnTo>
                    <a:lnTo>
                      <a:pt x="52" y="175"/>
                    </a:lnTo>
                    <a:lnTo>
                      <a:pt x="39" y="231"/>
                    </a:lnTo>
                    <a:lnTo>
                      <a:pt x="27" y="287"/>
                    </a:lnTo>
                    <a:lnTo>
                      <a:pt x="19" y="344"/>
                    </a:lnTo>
                    <a:lnTo>
                      <a:pt x="14" y="400"/>
                    </a:lnTo>
                    <a:lnTo>
                      <a:pt x="15" y="457"/>
                    </a:lnTo>
                    <a:lnTo>
                      <a:pt x="1" y="4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111400" y="334584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0" y="4"/>
                    </a:moveTo>
                    <a:lnTo>
                      <a:pt x="0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095560" y="2976120"/>
                <a:ext cx="74520" cy="158400"/>
              </a:xfrm>
              <a:custGeom>
                <a:avLst/>
                <a:gdLst/>
                <a:ahLst/>
                <a:rect l="l" t="t" r="r" b="b"/>
                <a:pathLst>
                  <a:path w="93" h="200">
                    <a:moveTo>
                      <a:pt x="81" y="14"/>
                    </a:moveTo>
                    <a:lnTo>
                      <a:pt x="82" y="13"/>
                    </a:lnTo>
                    <a:lnTo>
                      <a:pt x="89" y="13"/>
                    </a:lnTo>
                    <a:lnTo>
                      <a:pt x="81" y="26"/>
                    </a:lnTo>
                    <a:lnTo>
                      <a:pt x="55" y="82"/>
                    </a:lnTo>
                    <a:lnTo>
                      <a:pt x="29" y="152"/>
                    </a:lnTo>
                    <a:lnTo>
                      <a:pt x="13" y="200"/>
                    </a:lnTo>
                    <a:lnTo>
                      <a:pt x="0" y="195"/>
                    </a:lnTo>
                    <a:lnTo>
                      <a:pt x="16" y="146"/>
                    </a:lnTo>
                    <a:lnTo>
                      <a:pt x="41" y="76"/>
                    </a:lnTo>
                    <a:lnTo>
                      <a:pt x="67" y="20"/>
                    </a:lnTo>
                    <a:lnTo>
                      <a:pt x="77" y="4"/>
                    </a:lnTo>
                    <a:lnTo>
                      <a:pt x="88" y="0"/>
                    </a:lnTo>
                    <a:lnTo>
                      <a:pt x="93" y="8"/>
                    </a:lnTo>
                    <a:lnTo>
                      <a:pt x="8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158920" y="298260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4" y="3"/>
                    </a:moveTo>
                    <a:lnTo>
                      <a:pt x="14" y="0"/>
                    </a:lnTo>
                    <a:lnTo>
                      <a:pt x="2" y="6"/>
                    </a:lnTo>
                    <a:lnTo>
                      <a:pt x="0" y="1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057400" y="3131640"/>
                <a:ext cx="50760" cy="193320"/>
              </a:xfrm>
              <a:custGeom>
                <a:avLst/>
                <a:gdLst/>
                <a:ahLst/>
                <a:rect l="l" t="t" r="r" b="b"/>
                <a:pathLst>
                  <a:path w="64" h="243">
                    <a:moveTo>
                      <a:pt x="64" y="3"/>
                    </a:moveTo>
                    <a:lnTo>
                      <a:pt x="37" y="122"/>
                    </a:lnTo>
                    <a:lnTo>
                      <a:pt x="15" y="243"/>
                    </a:lnTo>
                    <a:lnTo>
                      <a:pt x="0" y="241"/>
                    </a:lnTo>
                    <a:lnTo>
                      <a:pt x="22" y="120"/>
                    </a:lnTo>
                    <a:lnTo>
                      <a:pt x="49" y="0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095560" y="3130200"/>
                <a:ext cx="12600" cy="43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0"/>
                    </a:moveTo>
                    <a:lnTo>
                      <a:pt x="0" y="1"/>
                    </a:lnTo>
                    <a:lnTo>
                      <a:pt x="15" y="4"/>
                    </a:lnTo>
                    <a:lnTo>
                      <a:pt x="13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057400" y="3323880"/>
                <a:ext cx="88920" cy="470880"/>
              </a:xfrm>
              <a:custGeom>
                <a:avLst/>
                <a:gdLst/>
                <a:ahLst/>
                <a:rect l="l" t="t" r="r" b="b"/>
                <a:pathLst>
                  <a:path w="112" h="595">
                    <a:moveTo>
                      <a:pt x="15" y="0"/>
                    </a:moveTo>
                    <a:lnTo>
                      <a:pt x="21" y="75"/>
                    </a:lnTo>
                    <a:lnTo>
                      <a:pt x="28" y="149"/>
                    </a:lnTo>
                    <a:lnTo>
                      <a:pt x="38" y="224"/>
                    </a:lnTo>
                    <a:lnTo>
                      <a:pt x="49" y="297"/>
                    </a:lnTo>
                    <a:lnTo>
                      <a:pt x="62" y="372"/>
                    </a:lnTo>
                    <a:lnTo>
                      <a:pt x="77" y="445"/>
                    </a:lnTo>
                    <a:lnTo>
                      <a:pt x="93" y="519"/>
                    </a:lnTo>
                    <a:lnTo>
                      <a:pt x="112" y="592"/>
                    </a:lnTo>
                    <a:lnTo>
                      <a:pt x="98" y="595"/>
                    </a:lnTo>
                    <a:lnTo>
                      <a:pt x="78" y="521"/>
                    </a:lnTo>
                    <a:lnTo>
                      <a:pt x="62" y="448"/>
                    </a:lnTo>
                    <a:lnTo>
                      <a:pt x="48" y="374"/>
                    </a:lnTo>
                    <a:lnTo>
                      <a:pt x="34" y="300"/>
                    </a:lnTo>
                    <a:lnTo>
                      <a:pt x="23" y="226"/>
                    </a:lnTo>
                    <a:lnTo>
                      <a:pt x="13" y="151"/>
                    </a:lnTo>
                    <a:lnTo>
                      <a:pt x="6" y="76"/>
                    </a:lnTo>
                    <a:lnTo>
                      <a:pt x="0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057400" y="332388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135160" y="3791880"/>
                <a:ext cx="85680" cy="304560"/>
              </a:xfrm>
              <a:custGeom>
                <a:avLst/>
                <a:gdLst/>
                <a:ahLst/>
                <a:rect l="l" t="t" r="r" b="b"/>
                <a:pathLst>
                  <a:path w="107" h="383">
                    <a:moveTo>
                      <a:pt x="13" y="0"/>
                    </a:moveTo>
                    <a:lnTo>
                      <a:pt x="41" y="93"/>
                    </a:lnTo>
                    <a:lnTo>
                      <a:pt x="71" y="187"/>
                    </a:lnTo>
                    <a:lnTo>
                      <a:pt x="85" y="236"/>
                    </a:lnTo>
                    <a:lnTo>
                      <a:pt x="96" y="284"/>
                    </a:lnTo>
                    <a:lnTo>
                      <a:pt x="104" y="331"/>
                    </a:lnTo>
                    <a:lnTo>
                      <a:pt x="106" y="357"/>
                    </a:lnTo>
                    <a:lnTo>
                      <a:pt x="107" y="381"/>
                    </a:lnTo>
                    <a:lnTo>
                      <a:pt x="93" y="383"/>
                    </a:lnTo>
                    <a:lnTo>
                      <a:pt x="91" y="358"/>
                    </a:lnTo>
                    <a:lnTo>
                      <a:pt x="89" y="334"/>
                    </a:lnTo>
                    <a:lnTo>
                      <a:pt x="82" y="286"/>
                    </a:lnTo>
                    <a:lnTo>
                      <a:pt x="71" y="238"/>
                    </a:lnTo>
                    <a:lnTo>
                      <a:pt x="57" y="192"/>
                    </a:lnTo>
                    <a:lnTo>
                      <a:pt x="28" y="99"/>
                    </a:lnTo>
                    <a:lnTo>
                      <a:pt x="0" y="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135160" y="379188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4"/>
                    </a:moveTo>
                    <a:lnTo>
                      <a:pt x="3" y="17"/>
                    </a:lnTo>
                    <a:lnTo>
                      <a:pt x="0" y="6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130480" y="3987360"/>
                <a:ext cx="88920" cy="117000"/>
              </a:xfrm>
              <a:custGeom>
                <a:avLst/>
                <a:gdLst/>
                <a:ahLst/>
                <a:rect l="l" t="t" r="r" b="b"/>
                <a:pathLst>
                  <a:path w="112" h="148">
                    <a:moveTo>
                      <a:pt x="112" y="141"/>
                    </a:moveTo>
                    <a:lnTo>
                      <a:pt x="108" y="148"/>
                    </a:lnTo>
                    <a:lnTo>
                      <a:pt x="96" y="148"/>
                    </a:lnTo>
                    <a:lnTo>
                      <a:pt x="89" y="145"/>
                    </a:lnTo>
                    <a:lnTo>
                      <a:pt x="82" y="135"/>
                    </a:lnTo>
                    <a:lnTo>
                      <a:pt x="66" y="112"/>
                    </a:lnTo>
                    <a:lnTo>
                      <a:pt x="49" y="80"/>
                    </a:lnTo>
                    <a:lnTo>
                      <a:pt x="17" y="25"/>
                    </a:lnTo>
                    <a:lnTo>
                      <a:pt x="7" y="11"/>
                    </a:lnTo>
                    <a:lnTo>
                      <a:pt x="14" y="9"/>
                    </a:lnTo>
                    <a:lnTo>
                      <a:pt x="13" y="11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29" y="16"/>
                    </a:lnTo>
                    <a:lnTo>
                      <a:pt x="61" y="73"/>
                    </a:lnTo>
                    <a:lnTo>
                      <a:pt x="78" y="103"/>
                    </a:lnTo>
                    <a:lnTo>
                      <a:pt x="93" y="126"/>
                    </a:lnTo>
                    <a:lnTo>
                      <a:pt x="99" y="134"/>
                    </a:lnTo>
                    <a:lnTo>
                      <a:pt x="104" y="136"/>
                    </a:lnTo>
                    <a:lnTo>
                      <a:pt x="99" y="137"/>
                    </a:lnTo>
                    <a:lnTo>
                      <a:pt x="99" y="135"/>
                    </a:lnTo>
                    <a:lnTo>
                      <a:pt x="112" y="1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208240" y="409356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4" y="2"/>
                    </a:moveTo>
                    <a:lnTo>
                      <a:pt x="13" y="6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130480" y="3992040"/>
                <a:ext cx="154080" cy="423720"/>
              </a:xfrm>
              <a:custGeom>
                <a:avLst/>
                <a:gdLst/>
                <a:ahLst/>
                <a:rect l="l" t="t" r="r" b="b"/>
                <a:pathLst>
                  <a:path w="194" h="533">
                    <a:moveTo>
                      <a:pt x="14" y="0"/>
                    </a:moveTo>
                    <a:lnTo>
                      <a:pt x="18" y="35"/>
                    </a:lnTo>
                    <a:lnTo>
                      <a:pt x="23" y="69"/>
                    </a:lnTo>
                    <a:lnTo>
                      <a:pt x="36" y="138"/>
                    </a:lnTo>
                    <a:lnTo>
                      <a:pt x="45" y="172"/>
                    </a:lnTo>
                    <a:lnTo>
                      <a:pt x="53" y="204"/>
                    </a:lnTo>
                    <a:lnTo>
                      <a:pt x="77" y="270"/>
                    </a:lnTo>
                    <a:lnTo>
                      <a:pt x="102" y="336"/>
                    </a:lnTo>
                    <a:lnTo>
                      <a:pt x="132" y="400"/>
                    </a:lnTo>
                    <a:lnTo>
                      <a:pt x="162" y="463"/>
                    </a:lnTo>
                    <a:lnTo>
                      <a:pt x="194" y="527"/>
                    </a:lnTo>
                    <a:lnTo>
                      <a:pt x="181" y="533"/>
                    </a:lnTo>
                    <a:lnTo>
                      <a:pt x="149" y="469"/>
                    </a:lnTo>
                    <a:lnTo>
                      <a:pt x="118" y="406"/>
                    </a:lnTo>
                    <a:lnTo>
                      <a:pt x="89" y="342"/>
                    </a:lnTo>
                    <a:lnTo>
                      <a:pt x="63" y="276"/>
                    </a:lnTo>
                    <a:lnTo>
                      <a:pt x="40" y="210"/>
                    </a:lnTo>
                    <a:lnTo>
                      <a:pt x="30" y="175"/>
                    </a:lnTo>
                    <a:lnTo>
                      <a:pt x="22" y="140"/>
                    </a:lnTo>
                    <a:lnTo>
                      <a:pt x="8" y="72"/>
                    </a:lnTo>
                    <a:lnTo>
                      <a:pt x="3" y="36"/>
                    </a:lnTo>
                    <a:lnTo>
                      <a:pt x="0" y="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130480" y="399060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14" y="3"/>
                    </a:lnTo>
                    <a:lnTo>
                      <a:pt x="13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274840" y="4409640"/>
                <a:ext cx="198360" cy="269640"/>
              </a:xfrm>
              <a:custGeom>
                <a:avLst/>
                <a:gdLst/>
                <a:ahLst/>
                <a:rect l="l" t="t" r="r" b="b"/>
                <a:pathLst>
                  <a:path w="250" h="338">
                    <a:moveTo>
                      <a:pt x="12" y="0"/>
                    </a:moveTo>
                    <a:lnTo>
                      <a:pt x="58" y="79"/>
                    </a:lnTo>
                    <a:lnTo>
                      <a:pt x="95" y="138"/>
                    </a:lnTo>
                    <a:lnTo>
                      <a:pt x="136" y="198"/>
                    </a:lnTo>
                    <a:lnTo>
                      <a:pt x="176" y="254"/>
                    </a:lnTo>
                    <a:lnTo>
                      <a:pt x="210" y="298"/>
                    </a:lnTo>
                    <a:lnTo>
                      <a:pt x="224" y="313"/>
                    </a:lnTo>
                    <a:lnTo>
                      <a:pt x="235" y="321"/>
                    </a:lnTo>
                    <a:lnTo>
                      <a:pt x="239" y="324"/>
                    </a:lnTo>
                    <a:lnTo>
                      <a:pt x="236" y="325"/>
                    </a:lnTo>
                    <a:lnTo>
                      <a:pt x="238" y="322"/>
                    </a:lnTo>
                    <a:lnTo>
                      <a:pt x="250" y="331"/>
                    </a:lnTo>
                    <a:lnTo>
                      <a:pt x="247" y="335"/>
                    </a:lnTo>
                    <a:lnTo>
                      <a:pt x="239" y="338"/>
                    </a:lnTo>
                    <a:lnTo>
                      <a:pt x="226" y="333"/>
                    </a:lnTo>
                    <a:lnTo>
                      <a:pt x="214" y="324"/>
                    </a:lnTo>
                    <a:lnTo>
                      <a:pt x="199" y="308"/>
                    </a:lnTo>
                    <a:lnTo>
                      <a:pt x="164" y="262"/>
                    </a:lnTo>
                    <a:lnTo>
                      <a:pt x="123" y="206"/>
                    </a:lnTo>
                    <a:lnTo>
                      <a:pt x="83" y="146"/>
                    </a:lnTo>
                    <a:lnTo>
                      <a:pt x="46" y="88"/>
                    </a:lnTo>
                    <a:lnTo>
                      <a:pt x="0" y="8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273400" y="440964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7"/>
                    </a:moveTo>
                    <a:lnTo>
                      <a:pt x="1" y="8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320920" y="4339800"/>
                <a:ext cx="152280" cy="329760"/>
              </a:xfrm>
              <a:custGeom>
                <a:avLst/>
                <a:gdLst/>
                <a:ahLst/>
                <a:rect l="l" t="t" r="r" b="b"/>
                <a:pathLst>
                  <a:path w="192" h="417">
                    <a:moveTo>
                      <a:pt x="179" y="417"/>
                    </a:moveTo>
                    <a:lnTo>
                      <a:pt x="175" y="390"/>
                    </a:lnTo>
                    <a:lnTo>
                      <a:pt x="168" y="363"/>
                    </a:lnTo>
                    <a:lnTo>
                      <a:pt x="158" y="338"/>
                    </a:lnTo>
                    <a:lnTo>
                      <a:pt x="147" y="312"/>
                    </a:lnTo>
                    <a:lnTo>
                      <a:pt x="120" y="263"/>
                    </a:lnTo>
                    <a:lnTo>
                      <a:pt x="90" y="214"/>
                    </a:lnTo>
                    <a:lnTo>
                      <a:pt x="59" y="165"/>
                    </a:lnTo>
                    <a:lnTo>
                      <a:pt x="45" y="140"/>
                    </a:lnTo>
                    <a:lnTo>
                      <a:pt x="31" y="114"/>
                    </a:lnTo>
                    <a:lnTo>
                      <a:pt x="19" y="88"/>
                    </a:lnTo>
                    <a:lnTo>
                      <a:pt x="10" y="60"/>
                    </a:lnTo>
                    <a:lnTo>
                      <a:pt x="4" y="32"/>
                    </a:lnTo>
                    <a:lnTo>
                      <a:pt x="0" y="3"/>
                    </a:lnTo>
                    <a:lnTo>
                      <a:pt x="14" y="0"/>
                    </a:lnTo>
                    <a:lnTo>
                      <a:pt x="18" y="28"/>
                    </a:lnTo>
                    <a:lnTo>
                      <a:pt x="24" y="55"/>
                    </a:lnTo>
                    <a:lnTo>
                      <a:pt x="32" y="82"/>
                    </a:lnTo>
                    <a:lnTo>
                      <a:pt x="43" y="107"/>
                    </a:lnTo>
                    <a:lnTo>
                      <a:pt x="57" y="132"/>
                    </a:lnTo>
                    <a:lnTo>
                      <a:pt x="71" y="157"/>
                    </a:lnTo>
                    <a:lnTo>
                      <a:pt x="102" y="206"/>
                    </a:lnTo>
                    <a:lnTo>
                      <a:pt x="133" y="255"/>
                    </a:lnTo>
                    <a:lnTo>
                      <a:pt x="159" y="305"/>
                    </a:lnTo>
                    <a:lnTo>
                      <a:pt x="172" y="332"/>
                    </a:lnTo>
                    <a:lnTo>
                      <a:pt x="181" y="359"/>
                    </a:lnTo>
                    <a:lnTo>
                      <a:pt x="189" y="387"/>
                    </a:lnTo>
                    <a:lnTo>
                      <a:pt x="192" y="415"/>
                    </a:lnTo>
                    <a:lnTo>
                      <a:pt x="179" y="4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462040" y="4666680"/>
                <a:ext cx="12960" cy="612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9"/>
                    </a:moveTo>
                    <a:lnTo>
                      <a:pt x="15" y="8"/>
                    </a:lnTo>
                    <a:lnTo>
                      <a:pt x="13" y="3"/>
                    </a:lnTo>
                    <a:lnTo>
                      <a:pt x="0" y="5"/>
                    </a:lnTo>
                    <a:lnTo>
                      <a:pt x="1" y="0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322360" y="4331880"/>
                <a:ext cx="169920" cy="217080"/>
              </a:xfrm>
              <a:custGeom>
                <a:avLst/>
                <a:gdLst/>
                <a:ahLst/>
                <a:rect l="l" t="t" r="r" b="b"/>
                <a:pathLst>
                  <a:path w="213" h="274">
                    <a:moveTo>
                      <a:pt x="0" y="3"/>
                    </a:moveTo>
                    <a:lnTo>
                      <a:pt x="7" y="0"/>
                    </a:lnTo>
                    <a:lnTo>
                      <a:pt x="19" y="6"/>
                    </a:lnTo>
                    <a:lnTo>
                      <a:pt x="40" y="27"/>
                    </a:lnTo>
                    <a:lnTo>
                      <a:pt x="70" y="62"/>
                    </a:lnTo>
                    <a:lnTo>
                      <a:pt x="104" y="109"/>
                    </a:lnTo>
                    <a:lnTo>
                      <a:pt x="170" y="203"/>
                    </a:lnTo>
                    <a:lnTo>
                      <a:pt x="213" y="265"/>
                    </a:lnTo>
                    <a:lnTo>
                      <a:pt x="200" y="274"/>
                    </a:lnTo>
                    <a:lnTo>
                      <a:pt x="158" y="211"/>
                    </a:lnTo>
                    <a:lnTo>
                      <a:pt x="92" y="117"/>
                    </a:lnTo>
                    <a:lnTo>
                      <a:pt x="59" y="72"/>
                    </a:lnTo>
                    <a:lnTo>
                      <a:pt x="29" y="36"/>
                    </a:lnTo>
                    <a:lnTo>
                      <a:pt x="10" y="17"/>
                    </a:lnTo>
                    <a:lnTo>
                      <a:pt x="6" y="14"/>
                    </a:lnTo>
                    <a:lnTo>
                      <a:pt x="8" y="1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320920" y="4335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" y="8"/>
                    </a:moveTo>
                    <a:lnTo>
                      <a:pt x="0" y="3"/>
                    </a:lnTo>
                    <a:lnTo>
                      <a:pt x="4" y="0"/>
                    </a:lnTo>
                    <a:lnTo>
                      <a:pt x="12" y="13"/>
                    </a:lnTo>
                    <a:lnTo>
                      <a:pt x="15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482920" y="4542840"/>
                <a:ext cx="104760" cy="142560"/>
              </a:xfrm>
              <a:custGeom>
                <a:avLst/>
                <a:gdLst/>
                <a:ahLst/>
                <a:rect l="l" t="t" r="r" b="b"/>
                <a:pathLst>
                  <a:path w="134" h="180">
                    <a:moveTo>
                      <a:pt x="13" y="0"/>
                    </a:moveTo>
                    <a:lnTo>
                      <a:pt x="73" y="87"/>
                    </a:lnTo>
                    <a:lnTo>
                      <a:pt x="134" y="171"/>
                    </a:lnTo>
                    <a:lnTo>
                      <a:pt x="121" y="180"/>
                    </a:lnTo>
                    <a:lnTo>
                      <a:pt x="60" y="95"/>
                    </a:lnTo>
                    <a:lnTo>
                      <a:pt x="0" y="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482920" y="454284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9"/>
                    </a:moveTo>
                    <a:lnTo>
                      <a:pt x="13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577960" y="4560480"/>
                <a:ext cx="57240" cy="12348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0" y="150"/>
                    </a:moveTo>
                    <a:lnTo>
                      <a:pt x="11" y="113"/>
                    </a:lnTo>
                    <a:lnTo>
                      <a:pt x="27" y="73"/>
                    </a:lnTo>
                    <a:lnTo>
                      <a:pt x="61" y="0"/>
                    </a:lnTo>
                    <a:lnTo>
                      <a:pt x="74" y="7"/>
                    </a:lnTo>
                    <a:lnTo>
                      <a:pt x="39" y="81"/>
                    </a:lnTo>
                    <a:lnTo>
                      <a:pt x="25" y="119"/>
                    </a:lnTo>
                    <a:lnTo>
                      <a:pt x="14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577960" y="4679640"/>
                <a:ext cx="9720" cy="15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" y="9"/>
                    </a:moveTo>
                    <a:lnTo>
                      <a:pt x="10" y="21"/>
                    </a:lnTo>
                    <a:lnTo>
                      <a:pt x="14" y="6"/>
                    </a:lnTo>
                    <a:lnTo>
                      <a:pt x="0" y="1"/>
                    </a:lnTo>
                    <a:lnTo>
                      <a:pt x="14" y="0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625840" y="4484160"/>
                <a:ext cx="203040" cy="82080"/>
              </a:xfrm>
              <a:custGeom>
                <a:avLst/>
                <a:gdLst/>
                <a:ahLst/>
                <a:rect l="l" t="t" r="r" b="b"/>
                <a:pathLst>
                  <a:path w="256" h="106">
                    <a:moveTo>
                      <a:pt x="0" y="97"/>
                    </a:moveTo>
                    <a:lnTo>
                      <a:pt x="11" y="76"/>
                    </a:lnTo>
                    <a:lnTo>
                      <a:pt x="24" y="57"/>
                    </a:lnTo>
                    <a:lnTo>
                      <a:pt x="30" y="49"/>
                    </a:lnTo>
                    <a:lnTo>
                      <a:pt x="38" y="42"/>
                    </a:lnTo>
                    <a:lnTo>
                      <a:pt x="52" y="27"/>
                    </a:lnTo>
                    <a:lnTo>
                      <a:pt x="83" y="10"/>
                    </a:lnTo>
                    <a:lnTo>
                      <a:pt x="101" y="4"/>
                    </a:lnTo>
                    <a:lnTo>
                      <a:pt x="119" y="0"/>
                    </a:lnTo>
                    <a:lnTo>
                      <a:pt x="135" y="0"/>
                    </a:lnTo>
                    <a:lnTo>
                      <a:pt x="153" y="3"/>
                    </a:lnTo>
                    <a:lnTo>
                      <a:pt x="187" y="15"/>
                    </a:lnTo>
                    <a:lnTo>
                      <a:pt x="206" y="25"/>
                    </a:lnTo>
                    <a:lnTo>
                      <a:pt x="223" y="36"/>
                    </a:lnTo>
                    <a:lnTo>
                      <a:pt x="240" y="51"/>
                    </a:lnTo>
                    <a:lnTo>
                      <a:pt x="256" y="66"/>
                    </a:lnTo>
                    <a:lnTo>
                      <a:pt x="246" y="77"/>
                    </a:lnTo>
                    <a:lnTo>
                      <a:pt x="230" y="62"/>
                    </a:lnTo>
                    <a:lnTo>
                      <a:pt x="214" y="48"/>
                    </a:lnTo>
                    <a:lnTo>
                      <a:pt x="197" y="37"/>
                    </a:lnTo>
                    <a:lnTo>
                      <a:pt x="181" y="29"/>
                    </a:lnTo>
                    <a:lnTo>
                      <a:pt x="151" y="18"/>
                    </a:lnTo>
                    <a:lnTo>
                      <a:pt x="134" y="15"/>
                    </a:lnTo>
                    <a:lnTo>
                      <a:pt x="120" y="15"/>
                    </a:lnTo>
                    <a:lnTo>
                      <a:pt x="103" y="19"/>
                    </a:lnTo>
                    <a:lnTo>
                      <a:pt x="90" y="24"/>
                    </a:lnTo>
                    <a:lnTo>
                      <a:pt x="60" y="40"/>
                    </a:lnTo>
                    <a:lnTo>
                      <a:pt x="48" y="53"/>
                    </a:lnTo>
                    <a:lnTo>
                      <a:pt x="41" y="59"/>
                    </a:lnTo>
                    <a:lnTo>
                      <a:pt x="35" y="66"/>
                    </a:lnTo>
                    <a:lnTo>
                      <a:pt x="24" y="85"/>
                    </a:lnTo>
                    <a:lnTo>
                      <a:pt x="13" y="106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25840" y="4560480"/>
                <a:ext cx="9360" cy="57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0"/>
                    </a:moveTo>
                    <a:lnTo>
                      <a:pt x="13" y="9"/>
                    </a:lnTo>
                    <a:lnTo>
                      <a:pt x="13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819520" y="4536720"/>
                <a:ext cx="128520" cy="389880"/>
              </a:xfrm>
              <a:custGeom>
                <a:avLst/>
                <a:gdLst/>
                <a:ahLst/>
                <a:rect l="l" t="t" r="r" b="b"/>
                <a:pathLst>
                  <a:path w="161" h="490">
                    <a:moveTo>
                      <a:pt x="12" y="0"/>
                    </a:moveTo>
                    <a:lnTo>
                      <a:pt x="30" y="28"/>
                    </a:lnTo>
                    <a:lnTo>
                      <a:pt x="44" y="58"/>
                    </a:lnTo>
                    <a:lnTo>
                      <a:pt x="55" y="89"/>
                    </a:lnTo>
                    <a:lnTo>
                      <a:pt x="65" y="121"/>
                    </a:lnTo>
                    <a:lnTo>
                      <a:pt x="76" y="183"/>
                    </a:lnTo>
                    <a:lnTo>
                      <a:pt x="82" y="248"/>
                    </a:lnTo>
                    <a:lnTo>
                      <a:pt x="90" y="310"/>
                    </a:lnTo>
                    <a:lnTo>
                      <a:pt x="95" y="341"/>
                    </a:lnTo>
                    <a:lnTo>
                      <a:pt x="102" y="371"/>
                    </a:lnTo>
                    <a:lnTo>
                      <a:pt x="112" y="400"/>
                    </a:lnTo>
                    <a:lnTo>
                      <a:pt x="125" y="429"/>
                    </a:lnTo>
                    <a:lnTo>
                      <a:pt x="142" y="455"/>
                    </a:lnTo>
                    <a:lnTo>
                      <a:pt x="161" y="480"/>
                    </a:lnTo>
                    <a:lnTo>
                      <a:pt x="150" y="490"/>
                    </a:lnTo>
                    <a:lnTo>
                      <a:pt x="129" y="463"/>
                    </a:lnTo>
                    <a:lnTo>
                      <a:pt x="111" y="435"/>
                    </a:lnTo>
                    <a:lnTo>
                      <a:pt x="99" y="406"/>
                    </a:lnTo>
                    <a:lnTo>
                      <a:pt x="88" y="374"/>
                    </a:lnTo>
                    <a:lnTo>
                      <a:pt x="80" y="343"/>
                    </a:lnTo>
                    <a:lnTo>
                      <a:pt x="76" y="313"/>
                    </a:lnTo>
                    <a:lnTo>
                      <a:pt x="67" y="249"/>
                    </a:lnTo>
                    <a:lnTo>
                      <a:pt x="61" y="186"/>
                    </a:lnTo>
                    <a:lnTo>
                      <a:pt x="50" y="123"/>
                    </a:lnTo>
                    <a:lnTo>
                      <a:pt x="41" y="95"/>
                    </a:lnTo>
                    <a:lnTo>
                      <a:pt x="30" y="65"/>
                    </a:lnTo>
                    <a:lnTo>
                      <a:pt x="18" y="36"/>
                    </a:lnTo>
                    <a:lnTo>
                      <a:pt x="0" y="8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819520" y="453672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1" y="0"/>
                    </a:moveTo>
                    <a:lnTo>
                      <a:pt x="12" y="2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940120" y="4919040"/>
                <a:ext cx="474480" cy="112320"/>
              </a:xfrm>
              <a:custGeom>
                <a:avLst/>
                <a:gdLst/>
                <a:ahLst/>
                <a:rect l="l" t="t" r="r" b="b"/>
                <a:pathLst>
                  <a:path w="598" h="142">
                    <a:moveTo>
                      <a:pt x="10" y="0"/>
                    </a:moveTo>
                    <a:lnTo>
                      <a:pt x="46" y="31"/>
                    </a:lnTo>
                    <a:lnTo>
                      <a:pt x="81" y="55"/>
                    </a:lnTo>
                    <a:lnTo>
                      <a:pt x="117" y="77"/>
                    </a:lnTo>
                    <a:lnTo>
                      <a:pt x="151" y="96"/>
                    </a:lnTo>
                    <a:lnTo>
                      <a:pt x="187" y="109"/>
                    </a:lnTo>
                    <a:lnTo>
                      <a:pt x="223" y="119"/>
                    </a:lnTo>
                    <a:lnTo>
                      <a:pt x="258" y="125"/>
                    </a:lnTo>
                    <a:lnTo>
                      <a:pt x="295" y="127"/>
                    </a:lnTo>
                    <a:lnTo>
                      <a:pt x="332" y="126"/>
                    </a:lnTo>
                    <a:lnTo>
                      <a:pt x="367" y="121"/>
                    </a:lnTo>
                    <a:lnTo>
                      <a:pt x="405" y="113"/>
                    </a:lnTo>
                    <a:lnTo>
                      <a:pt x="439" y="103"/>
                    </a:lnTo>
                    <a:lnTo>
                      <a:pt x="477" y="87"/>
                    </a:lnTo>
                    <a:lnTo>
                      <a:pt x="515" y="69"/>
                    </a:lnTo>
                    <a:lnTo>
                      <a:pt x="552" y="47"/>
                    </a:lnTo>
                    <a:lnTo>
                      <a:pt x="590" y="21"/>
                    </a:lnTo>
                    <a:lnTo>
                      <a:pt x="598" y="33"/>
                    </a:lnTo>
                    <a:lnTo>
                      <a:pt x="560" y="59"/>
                    </a:lnTo>
                    <a:lnTo>
                      <a:pt x="521" y="82"/>
                    </a:lnTo>
                    <a:lnTo>
                      <a:pt x="483" y="101"/>
                    </a:lnTo>
                    <a:lnTo>
                      <a:pt x="445" y="116"/>
                    </a:lnTo>
                    <a:lnTo>
                      <a:pt x="407" y="127"/>
                    </a:lnTo>
                    <a:lnTo>
                      <a:pt x="370" y="136"/>
                    </a:lnTo>
                    <a:lnTo>
                      <a:pt x="332" y="141"/>
                    </a:lnTo>
                    <a:lnTo>
                      <a:pt x="295" y="142"/>
                    </a:lnTo>
                    <a:lnTo>
                      <a:pt x="257" y="140"/>
                    </a:lnTo>
                    <a:lnTo>
                      <a:pt x="220" y="134"/>
                    </a:lnTo>
                    <a:lnTo>
                      <a:pt x="181" y="123"/>
                    </a:lnTo>
                    <a:lnTo>
                      <a:pt x="145" y="109"/>
                    </a:lnTo>
                    <a:lnTo>
                      <a:pt x="108" y="90"/>
                    </a:lnTo>
                    <a:lnTo>
                      <a:pt x="73" y="68"/>
                    </a:lnTo>
                    <a:lnTo>
                      <a:pt x="36" y="42"/>
                    </a:lnTo>
                    <a:lnTo>
                      <a:pt x="0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2940120" y="491904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0"/>
                    </a:moveTo>
                    <a:lnTo>
                      <a:pt x="1" y="11"/>
                    </a:lnTo>
                    <a:lnTo>
                      <a:pt x="1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408480" y="4363560"/>
                <a:ext cx="212760" cy="580680"/>
              </a:xfrm>
              <a:custGeom>
                <a:avLst/>
                <a:gdLst/>
                <a:ahLst/>
                <a:rect l="l" t="t" r="r" b="b"/>
                <a:pathLst>
                  <a:path w="269" h="732">
                    <a:moveTo>
                      <a:pt x="0" y="721"/>
                    </a:moveTo>
                    <a:lnTo>
                      <a:pt x="47" y="683"/>
                    </a:lnTo>
                    <a:lnTo>
                      <a:pt x="90" y="645"/>
                    </a:lnTo>
                    <a:lnTo>
                      <a:pt x="129" y="605"/>
                    </a:lnTo>
                    <a:lnTo>
                      <a:pt x="161" y="564"/>
                    </a:lnTo>
                    <a:lnTo>
                      <a:pt x="190" y="522"/>
                    </a:lnTo>
                    <a:lnTo>
                      <a:pt x="215" y="478"/>
                    </a:lnTo>
                    <a:lnTo>
                      <a:pt x="223" y="456"/>
                    </a:lnTo>
                    <a:lnTo>
                      <a:pt x="232" y="434"/>
                    </a:lnTo>
                    <a:lnTo>
                      <a:pt x="245" y="387"/>
                    </a:lnTo>
                    <a:lnTo>
                      <a:pt x="253" y="342"/>
                    </a:lnTo>
                    <a:lnTo>
                      <a:pt x="254" y="320"/>
                    </a:lnTo>
                    <a:lnTo>
                      <a:pt x="254" y="296"/>
                    </a:lnTo>
                    <a:lnTo>
                      <a:pt x="249" y="249"/>
                    </a:lnTo>
                    <a:lnTo>
                      <a:pt x="244" y="226"/>
                    </a:lnTo>
                    <a:lnTo>
                      <a:pt x="237" y="203"/>
                    </a:lnTo>
                    <a:lnTo>
                      <a:pt x="220" y="155"/>
                    </a:lnTo>
                    <a:lnTo>
                      <a:pt x="195" y="107"/>
                    </a:lnTo>
                    <a:lnTo>
                      <a:pt x="162" y="59"/>
                    </a:lnTo>
                    <a:lnTo>
                      <a:pt x="122" y="10"/>
                    </a:lnTo>
                    <a:lnTo>
                      <a:pt x="133" y="0"/>
                    </a:lnTo>
                    <a:lnTo>
                      <a:pt x="173" y="49"/>
                    </a:lnTo>
                    <a:lnTo>
                      <a:pt x="207" y="99"/>
                    </a:lnTo>
                    <a:lnTo>
                      <a:pt x="232" y="149"/>
                    </a:lnTo>
                    <a:lnTo>
                      <a:pt x="250" y="198"/>
                    </a:lnTo>
                    <a:lnTo>
                      <a:pt x="258" y="222"/>
                    </a:lnTo>
                    <a:lnTo>
                      <a:pt x="262" y="247"/>
                    </a:lnTo>
                    <a:lnTo>
                      <a:pt x="267" y="296"/>
                    </a:lnTo>
                    <a:lnTo>
                      <a:pt x="269" y="320"/>
                    </a:lnTo>
                    <a:lnTo>
                      <a:pt x="266" y="345"/>
                    </a:lnTo>
                    <a:lnTo>
                      <a:pt x="259" y="392"/>
                    </a:lnTo>
                    <a:lnTo>
                      <a:pt x="245" y="440"/>
                    </a:lnTo>
                    <a:lnTo>
                      <a:pt x="237" y="462"/>
                    </a:lnTo>
                    <a:lnTo>
                      <a:pt x="227" y="485"/>
                    </a:lnTo>
                    <a:lnTo>
                      <a:pt x="203" y="531"/>
                    </a:lnTo>
                    <a:lnTo>
                      <a:pt x="172" y="573"/>
                    </a:lnTo>
                    <a:lnTo>
                      <a:pt x="139" y="616"/>
                    </a:lnTo>
                    <a:lnTo>
                      <a:pt x="100" y="656"/>
                    </a:lnTo>
                    <a:lnTo>
                      <a:pt x="57" y="694"/>
                    </a:lnTo>
                    <a:lnTo>
                      <a:pt x="9" y="732"/>
                    </a:lnTo>
                    <a:lnTo>
                      <a:pt x="0" y="7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408480" y="49348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8" y="12"/>
                    </a:moveTo>
                    <a:lnTo>
                      <a:pt x="9" y="1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971800" y="4319280"/>
                <a:ext cx="541440" cy="67680"/>
              </a:xfrm>
              <a:custGeom>
                <a:avLst/>
                <a:gdLst/>
                <a:ahLst/>
                <a:rect l="l" t="t" r="r" b="b"/>
                <a:pathLst>
                  <a:path w="682" h="86">
                    <a:moveTo>
                      <a:pt x="672" y="67"/>
                    </a:moveTo>
                    <a:lnTo>
                      <a:pt x="651" y="51"/>
                    </a:lnTo>
                    <a:lnTo>
                      <a:pt x="630" y="39"/>
                    </a:lnTo>
                    <a:lnTo>
                      <a:pt x="610" y="30"/>
                    </a:lnTo>
                    <a:lnTo>
                      <a:pt x="589" y="23"/>
                    </a:lnTo>
                    <a:lnTo>
                      <a:pt x="568" y="18"/>
                    </a:lnTo>
                    <a:lnTo>
                      <a:pt x="549" y="14"/>
                    </a:lnTo>
                    <a:lnTo>
                      <a:pt x="506" y="13"/>
                    </a:lnTo>
                    <a:lnTo>
                      <a:pt x="464" y="18"/>
                    </a:lnTo>
                    <a:lnTo>
                      <a:pt x="421" y="26"/>
                    </a:lnTo>
                    <a:lnTo>
                      <a:pt x="336" y="52"/>
                    </a:lnTo>
                    <a:lnTo>
                      <a:pt x="250" y="75"/>
                    </a:lnTo>
                    <a:lnTo>
                      <a:pt x="208" y="83"/>
                    </a:lnTo>
                    <a:lnTo>
                      <a:pt x="187" y="85"/>
                    </a:lnTo>
                    <a:lnTo>
                      <a:pt x="165" y="86"/>
                    </a:lnTo>
                    <a:lnTo>
                      <a:pt x="122" y="83"/>
                    </a:lnTo>
                    <a:lnTo>
                      <a:pt x="82" y="72"/>
                    </a:lnTo>
                    <a:lnTo>
                      <a:pt x="60" y="62"/>
                    </a:lnTo>
                    <a:lnTo>
                      <a:pt x="39" y="50"/>
                    </a:lnTo>
                    <a:lnTo>
                      <a:pt x="19" y="36"/>
                    </a:lnTo>
                    <a:lnTo>
                      <a:pt x="0" y="18"/>
                    </a:lnTo>
                    <a:lnTo>
                      <a:pt x="10" y="8"/>
                    </a:lnTo>
                    <a:lnTo>
                      <a:pt x="29" y="25"/>
                    </a:lnTo>
                    <a:lnTo>
                      <a:pt x="47" y="37"/>
                    </a:lnTo>
                    <a:lnTo>
                      <a:pt x="67" y="50"/>
                    </a:lnTo>
                    <a:lnTo>
                      <a:pt x="87" y="58"/>
                    </a:lnTo>
                    <a:lnTo>
                      <a:pt x="126" y="69"/>
                    </a:lnTo>
                    <a:lnTo>
                      <a:pt x="165" y="73"/>
                    </a:lnTo>
                    <a:lnTo>
                      <a:pt x="184" y="72"/>
                    </a:lnTo>
                    <a:lnTo>
                      <a:pt x="204" y="69"/>
                    </a:lnTo>
                    <a:lnTo>
                      <a:pt x="245" y="62"/>
                    </a:lnTo>
                    <a:lnTo>
                      <a:pt x="331" y="39"/>
                    </a:lnTo>
                    <a:lnTo>
                      <a:pt x="417" y="13"/>
                    </a:lnTo>
                    <a:lnTo>
                      <a:pt x="461" y="4"/>
                    </a:lnTo>
                    <a:lnTo>
                      <a:pt x="506" y="0"/>
                    </a:lnTo>
                    <a:lnTo>
                      <a:pt x="549" y="1"/>
                    </a:lnTo>
                    <a:lnTo>
                      <a:pt x="572" y="4"/>
                    </a:lnTo>
                    <a:lnTo>
                      <a:pt x="594" y="9"/>
                    </a:lnTo>
                    <a:lnTo>
                      <a:pt x="616" y="17"/>
                    </a:lnTo>
                    <a:lnTo>
                      <a:pt x="638" y="26"/>
                    </a:lnTo>
                    <a:lnTo>
                      <a:pt x="660" y="39"/>
                    </a:lnTo>
                    <a:lnTo>
                      <a:pt x="682" y="56"/>
                    </a:lnTo>
                    <a:lnTo>
                      <a:pt x="672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505320" y="43635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1" y="11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919240" y="3866760"/>
                <a:ext cx="149400" cy="466200"/>
              </a:xfrm>
              <a:custGeom>
                <a:avLst/>
                <a:gdLst/>
                <a:ahLst/>
                <a:rect l="l" t="t" r="r" b="b"/>
                <a:pathLst>
                  <a:path w="187" h="587">
                    <a:moveTo>
                      <a:pt x="65" y="587"/>
                    </a:moveTo>
                    <a:lnTo>
                      <a:pt x="52" y="567"/>
                    </a:lnTo>
                    <a:lnTo>
                      <a:pt x="41" y="548"/>
                    </a:lnTo>
                    <a:lnTo>
                      <a:pt x="22" y="510"/>
                    </a:lnTo>
                    <a:lnTo>
                      <a:pt x="10" y="471"/>
                    </a:lnTo>
                    <a:lnTo>
                      <a:pt x="2" y="433"/>
                    </a:lnTo>
                    <a:lnTo>
                      <a:pt x="0" y="394"/>
                    </a:lnTo>
                    <a:lnTo>
                      <a:pt x="2" y="355"/>
                    </a:lnTo>
                    <a:lnTo>
                      <a:pt x="8" y="318"/>
                    </a:lnTo>
                    <a:lnTo>
                      <a:pt x="18" y="280"/>
                    </a:lnTo>
                    <a:lnTo>
                      <a:pt x="30" y="243"/>
                    </a:lnTo>
                    <a:lnTo>
                      <a:pt x="47" y="205"/>
                    </a:lnTo>
                    <a:lnTo>
                      <a:pt x="56" y="187"/>
                    </a:lnTo>
                    <a:lnTo>
                      <a:pt x="65" y="170"/>
                    </a:lnTo>
                    <a:lnTo>
                      <a:pt x="84" y="134"/>
                    </a:lnTo>
                    <a:lnTo>
                      <a:pt x="106" y="100"/>
                    </a:lnTo>
                    <a:lnTo>
                      <a:pt x="128" y="65"/>
                    </a:lnTo>
                    <a:lnTo>
                      <a:pt x="176" y="0"/>
                    </a:lnTo>
                    <a:lnTo>
                      <a:pt x="187" y="10"/>
                    </a:lnTo>
                    <a:lnTo>
                      <a:pt x="139" y="75"/>
                    </a:lnTo>
                    <a:lnTo>
                      <a:pt x="118" y="109"/>
                    </a:lnTo>
                    <a:lnTo>
                      <a:pt x="96" y="143"/>
                    </a:lnTo>
                    <a:lnTo>
                      <a:pt x="77" y="179"/>
                    </a:lnTo>
                    <a:lnTo>
                      <a:pt x="68" y="194"/>
                    </a:lnTo>
                    <a:lnTo>
                      <a:pt x="60" y="213"/>
                    </a:lnTo>
                    <a:lnTo>
                      <a:pt x="44" y="249"/>
                    </a:lnTo>
                    <a:lnTo>
                      <a:pt x="32" y="285"/>
                    </a:lnTo>
                    <a:lnTo>
                      <a:pt x="22" y="322"/>
                    </a:lnTo>
                    <a:lnTo>
                      <a:pt x="16" y="357"/>
                    </a:lnTo>
                    <a:lnTo>
                      <a:pt x="14" y="394"/>
                    </a:lnTo>
                    <a:lnTo>
                      <a:pt x="16" y="430"/>
                    </a:lnTo>
                    <a:lnTo>
                      <a:pt x="23" y="467"/>
                    </a:lnTo>
                    <a:lnTo>
                      <a:pt x="35" y="504"/>
                    </a:lnTo>
                    <a:lnTo>
                      <a:pt x="54" y="540"/>
                    </a:lnTo>
                    <a:lnTo>
                      <a:pt x="65" y="559"/>
                    </a:lnTo>
                    <a:lnTo>
                      <a:pt x="76" y="578"/>
                    </a:lnTo>
                    <a:lnTo>
                      <a:pt x="65" y="5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971800" y="43254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10"/>
                    </a:moveTo>
                    <a:lnTo>
                      <a:pt x="0" y="10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059280" y="3495240"/>
                <a:ext cx="311040" cy="379080"/>
              </a:xfrm>
              <a:custGeom>
                <a:avLst/>
                <a:gdLst/>
                <a:ahLst/>
                <a:rect l="l" t="t" r="r" b="b"/>
                <a:pathLst>
                  <a:path w="391" h="480">
                    <a:moveTo>
                      <a:pt x="0" y="470"/>
                    </a:moveTo>
                    <a:lnTo>
                      <a:pt x="93" y="351"/>
                    </a:lnTo>
                    <a:lnTo>
                      <a:pt x="187" y="233"/>
                    </a:lnTo>
                    <a:lnTo>
                      <a:pt x="380" y="0"/>
                    </a:lnTo>
                    <a:lnTo>
                      <a:pt x="391" y="10"/>
                    </a:lnTo>
                    <a:lnTo>
                      <a:pt x="198" y="243"/>
                    </a:lnTo>
                    <a:lnTo>
                      <a:pt x="104" y="361"/>
                    </a:lnTo>
                    <a:lnTo>
                      <a:pt x="11" y="480"/>
                    </a:lnTo>
                    <a:lnTo>
                      <a:pt x="0" y="4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059280" y="386676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0"/>
                    </a:moveTo>
                    <a:lnTo>
                      <a:pt x="11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360600" y="3495240"/>
                <a:ext cx="12960" cy="756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1" y="10"/>
                    </a:moveTo>
                    <a:lnTo>
                      <a:pt x="15" y="5"/>
                    </a:lnTo>
                    <a:lnTo>
                      <a:pt x="11" y="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835360" y="1225440"/>
                <a:ext cx="2946240" cy="1760040"/>
              </a:xfrm>
              <a:custGeom>
                <a:avLst/>
                <a:gdLst/>
                <a:ahLst/>
                <a:rect l="l" t="t" r="r" b="b"/>
                <a:pathLst>
                  <a:path w="3712" h="2220">
                    <a:moveTo>
                      <a:pt x="1741" y="1712"/>
                    </a:moveTo>
                    <a:lnTo>
                      <a:pt x="1769" y="1685"/>
                    </a:lnTo>
                    <a:lnTo>
                      <a:pt x="1796" y="1658"/>
                    </a:lnTo>
                    <a:lnTo>
                      <a:pt x="1825" y="1632"/>
                    </a:lnTo>
                    <a:lnTo>
                      <a:pt x="1854" y="1606"/>
                    </a:lnTo>
                    <a:lnTo>
                      <a:pt x="1912" y="1555"/>
                    </a:lnTo>
                    <a:lnTo>
                      <a:pt x="1971" y="1504"/>
                    </a:lnTo>
                    <a:lnTo>
                      <a:pt x="2031" y="1455"/>
                    </a:lnTo>
                    <a:lnTo>
                      <a:pt x="2091" y="1407"/>
                    </a:lnTo>
                    <a:lnTo>
                      <a:pt x="2213" y="1311"/>
                    </a:lnTo>
                    <a:lnTo>
                      <a:pt x="2245" y="1287"/>
                    </a:lnTo>
                    <a:lnTo>
                      <a:pt x="2278" y="1261"/>
                    </a:lnTo>
                    <a:lnTo>
                      <a:pt x="2294" y="1249"/>
                    </a:lnTo>
                    <a:lnTo>
                      <a:pt x="2311" y="1238"/>
                    </a:lnTo>
                    <a:lnTo>
                      <a:pt x="2346" y="1215"/>
                    </a:lnTo>
                    <a:lnTo>
                      <a:pt x="2382" y="1193"/>
                    </a:lnTo>
                    <a:lnTo>
                      <a:pt x="2400" y="1182"/>
                    </a:lnTo>
                    <a:lnTo>
                      <a:pt x="2418" y="1172"/>
                    </a:lnTo>
                    <a:lnTo>
                      <a:pt x="2437" y="1163"/>
                    </a:lnTo>
                    <a:lnTo>
                      <a:pt x="2455" y="1155"/>
                    </a:lnTo>
                    <a:lnTo>
                      <a:pt x="2475" y="1146"/>
                    </a:lnTo>
                    <a:lnTo>
                      <a:pt x="2493" y="1140"/>
                    </a:lnTo>
                    <a:lnTo>
                      <a:pt x="2512" y="1133"/>
                    </a:lnTo>
                    <a:lnTo>
                      <a:pt x="2531" y="1128"/>
                    </a:lnTo>
                    <a:lnTo>
                      <a:pt x="2550" y="1123"/>
                    </a:lnTo>
                    <a:lnTo>
                      <a:pt x="2570" y="1119"/>
                    </a:lnTo>
                    <a:lnTo>
                      <a:pt x="2589" y="1117"/>
                    </a:lnTo>
                    <a:lnTo>
                      <a:pt x="2609" y="1116"/>
                    </a:lnTo>
                    <a:lnTo>
                      <a:pt x="2627" y="1116"/>
                    </a:lnTo>
                    <a:lnTo>
                      <a:pt x="2647" y="1117"/>
                    </a:lnTo>
                    <a:lnTo>
                      <a:pt x="2666" y="1118"/>
                    </a:lnTo>
                    <a:lnTo>
                      <a:pt x="2686" y="1122"/>
                    </a:lnTo>
                    <a:lnTo>
                      <a:pt x="2706" y="1127"/>
                    </a:lnTo>
                    <a:lnTo>
                      <a:pt x="2725" y="1133"/>
                    </a:lnTo>
                    <a:lnTo>
                      <a:pt x="2735" y="1138"/>
                    </a:lnTo>
                    <a:lnTo>
                      <a:pt x="2745" y="1141"/>
                    </a:lnTo>
                    <a:lnTo>
                      <a:pt x="2754" y="1146"/>
                    </a:lnTo>
                    <a:lnTo>
                      <a:pt x="2764" y="1151"/>
                    </a:lnTo>
                    <a:lnTo>
                      <a:pt x="2783" y="1162"/>
                    </a:lnTo>
                    <a:lnTo>
                      <a:pt x="2802" y="1174"/>
                    </a:lnTo>
                    <a:lnTo>
                      <a:pt x="2811" y="1184"/>
                    </a:lnTo>
                    <a:lnTo>
                      <a:pt x="2819" y="1194"/>
                    </a:lnTo>
                    <a:lnTo>
                      <a:pt x="2827" y="1205"/>
                    </a:lnTo>
                    <a:lnTo>
                      <a:pt x="2834" y="1215"/>
                    </a:lnTo>
                    <a:lnTo>
                      <a:pt x="2840" y="1224"/>
                    </a:lnTo>
                    <a:lnTo>
                      <a:pt x="2845" y="1235"/>
                    </a:lnTo>
                    <a:lnTo>
                      <a:pt x="2850" y="1245"/>
                    </a:lnTo>
                    <a:lnTo>
                      <a:pt x="2853" y="1256"/>
                    </a:lnTo>
                    <a:lnTo>
                      <a:pt x="2857" y="1266"/>
                    </a:lnTo>
                    <a:lnTo>
                      <a:pt x="2860" y="1277"/>
                    </a:lnTo>
                    <a:lnTo>
                      <a:pt x="2862" y="1287"/>
                    </a:lnTo>
                    <a:lnTo>
                      <a:pt x="2863" y="1298"/>
                    </a:lnTo>
                    <a:lnTo>
                      <a:pt x="2866" y="1319"/>
                    </a:lnTo>
                    <a:lnTo>
                      <a:pt x="2866" y="1339"/>
                    </a:lnTo>
                    <a:lnTo>
                      <a:pt x="2863" y="1361"/>
                    </a:lnTo>
                    <a:lnTo>
                      <a:pt x="2862" y="1371"/>
                    </a:lnTo>
                    <a:lnTo>
                      <a:pt x="2861" y="1382"/>
                    </a:lnTo>
                    <a:lnTo>
                      <a:pt x="2856" y="1404"/>
                    </a:lnTo>
                    <a:lnTo>
                      <a:pt x="2851" y="1426"/>
                    </a:lnTo>
                    <a:lnTo>
                      <a:pt x="2844" y="1447"/>
                    </a:lnTo>
                    <a:lnTo>
                      <a:pt x="2836" y="1469"/>
                    </a:lnTo>
                    <a:lnTo>
                      <a:pt x="2822" y="1513"/>
                    </a:lnTo>
                    <a:lnTo>
                      <a:pt x="2806" y="1557"/>
                    </a:lnTo>
                    <a:lnTo>
                      <a:pt x="2798" y="1579"/>
                    </a:lnTo>
                    <a:lnTo>
                      <a:pt x="2791" y="1602"/>
                    </a:lnTo>
                    <a:lnTo>
                      <a:pt x="2785" y="1624"/>
                    </a:lnTo>
                    <a:lnTo>
                      <a:pt x="2780" y="1646"/>
                    </a:lnTo>
                    <a:lnTo>
                      <a:pt x="2778" y="1657"/>
                    </a:lnTo>
                    <a:lnTo>
                      <a:pt x="2776" y="1668"/>
                    </a:lnTo>
                    <a:lnTo>
                      <a:pt x="2774" y="1679"/>
                    </a:lnTo>
                    <a:lnTo>
                      <a:pt x="2773" y="1690"/>
                    </a:lnTo>
                    <a:lnTo>
                      <a:pt x="2772" y="1712"/>
                    </a:lnTo>
                    <a:lnTo>
                      <a:pt x="2772" y="1723"/>
                    </a:lnTo>
                    <a:lnTo>
                      <a:pt x="2773" y="1735"/>
                    </a:lnTo>
                    <a:lnTo>
                      <a:pt x="2774" y="1746"/>
                    </a:lnTo>
                    <a:lnTo>
                      <a:pt x="2775" y="1757"/>
                    </a:lnTo>
                    <a:lnTo>
                      <a:pt x="2780" y="1779"/>
                    </a:lnTo>
                    <a:lnTo>
                      <a:pt x="2783" y="1791"/>
                    </a:lnTo>
                    <a:lnTo>
                      <a:pt x="2787" y="1802"/>
                    </a:lnTo>
                    <a:lnTo>
                      <a:pt x="2791" y="1813"/>
                    </a:lnTo>
                    <a:lnTo>
                      <a:pt x="2796" y="1824"/>
                    </a:lnTo>
                    <a:lnTo>
                      <a:pt x="2802" y="1835"/>
                    </a:lnTo>
                    <a:lnTo>
                      <a:pt x="2809" y="1846"/>
                    </a:lnTo>
                    <a:lnTo>
                      <a:pt x="2817" y="1857"/>
                    </a:lnTo>
                    <a:lnTo>
                      <a:pt x="2824" y="1868"/>
                    </a:lnTo>
                    <a:lnTo>
                      <a:pt x="2838" y="1879"/>
                    </a:lnTo>
                    <a:lnTo>
                      <a:pt x="2852" y="1891"/>
                    </a:lnTo>
                    <a:lnTo>
                      <a:pt x="2866" y="1901"/>
                    </a:lnTo>
                    <a:lnTo>
                      <a:pt x="2879" y="1910"/>
                    </a:lnTo>
                    <a:lnTo>
                      <a:pt x="2906" y="1929"/>
                    </a:lnTo>
                    <a:lnTo>
                      <a:pt x="2919" y="1937"/>
                    </a:lnTo>
                    <a:lnTo>
                      <a:pt x="2934" y="1945"/>
                    </a:lnTo>
                    <a:lnTo>
                      <a:pt x="2961" y="1958"/>
                    </a:lnTo>
                    <a:lnTo>
                      <a:pt x="2988" y="1969"/>
                    </a:lnTo>
                    <a:lnTo>
                      <a:pt x="3001" y="1974"/>
                    </a:lnTo>
                    <a:lnTo>
                      <a:pt x="3015" y="1978"/>
                    </a:lnTo>
                    <a:lnTo>
                      <a:pt x="3028" y="1981"/>
                    </a:lnTo>
                    <a:lnTo>
                      <a:pt x="3042" y="1985"/>
                    </a:lnTo>
                    <a:lnTo>
                      <a:pt x="3067" y="1990"/>
                    </a:lnTo>
                    <a:lnTo>
                      <a:pt x="3094" y="1992"/>
                    </a:lnTo>
                    <a:lnTo>
                      <a:pt x="3120" y="1993"/>
                    </a:lnTo>
                    <a:lnTo>
                      <a:pt x="3146" y="1992"/>
                    </a:lnTo>
                    <a:lnTo>
                      <a:pt x="3171" y="1990"/>
                    </a:lnTo>
                    <a:lnTo>
                      <a:pt x="3185" y="1987"/>
                    </a:lnTo>
                    <a:lnTo>
                      <a:pt x="3197" y="1985"/>
                    </a:lnTo>
                    <a:lnTo>
                      <a:pt x="3223" y="1979"/>
                    </a:lnTo>
                    <a:lnTo>
                      <a:pt x="3235" y="1975"/>
                    </a:lnTo>
                    <a:lnTo>
                      <a:pt x="3247" y="1970"/>
                    </a:lnTo>
                    <a:lnTo>
                      <a:pt x="3261" y="1965"/>
                    </a:lnTo>
                    <a:lnTo>
                      <a:pt x="3273" y="1960"/>
                    </a:lnTo>
                    <a:lnTo>
                      <a:pt x="3285" y="1956"/>
                    </a:lnTo>
                    <a:lnTo>
                      <a:pt x="3297" y="1949"/>
                    </a:lnTo>
                    <a:lnTo>
                      <a:pt x="3320" y="1937"/>
                    </a:lnTo>
                    <a:lnTo>
                      <a:pt x="3345" y="1924"/>
                    </a:lnTo>
                    <a:lnTo>
                      <a:pt x="3368" y="1909"/>
                    </a:lnTo>
                    <a:lnTo>
                      <a:pt x="3391" y="1893"/>
                    </a:lnTo>
                    <a:lnTo>
                      <a:pt x="3415" y="1875"/>
                    </a:lnTo>
                    <a:lnTo>
                      <a:pt x="3437" y="1857"/>
                    </a:lnTo>
                    <a:lnTo>
                      <a:pt x="3460" y="1837"/>
                    </a:lnTo>
                    <a:lnTo>
                      <a:pt x="3481" y="1816"/>
                    </a:lnTo>
                    <a:lnTo>
                      <a:pt x="3503" y="1795"/>
                    </a:lnTo>
                    <a:lnTo>
                      <a:pt x="3523" y="1772"/>
                    </a:lnTo>
                    <a:lnTo>
                      <a:pt x="3544" y="1749"/>
                    </a:lnTo>
                    <a:lnTo>
                      <a:pt x="3564" y="1726"/>
                    </a:lnTo>
                    <a:lnTo>
                      <a:pt x="3583" y="1701"/>
                    </a:lnTo>
                    <a:lnTo>
                      <a:pt x="3603" y="1676"/>
                    </a:lnTo>
                    <a:lnTo>
                      <a:pt x="3616" y="1657"/>
                    </a:lnTo>
                    <a:lnTo>
                      <a:pt x="3628" y="1639"/>
                    </a:lnTo>
                    <a:lnTo>
                      <a:pt x="3639" y="1621"/>
                    </a:lnTo>
                    <a:lnTo>
                      <a:pt x="3650" y="1602"/>
                    </a:lnTo>
                    <a:lnTo>
                      <a:pt x="3660" y="1583"/>
                    </a:lnTo>
                    <a:lnTo>
                      <a:pt x="3669" y="1564"/>
                    </a:lnTo>
                    <a:lnTo>
                      <a:pt x="3677" y="1546"/>
                    </a:lnTo>
                    <a:lnTo>
                      <a:pt x="3685" y="1528"/>
                    </a:lnTo>
                    <a:lnTo>
                      <a:pt x="3691" y="1509"/>
                    </a:lnTo>
                    <a:lnTo>
                      <a:pt x="3697" y="1491"/>
                    </a:lnTo>
                    <a:lnTo>
                      <a:pt x="3701" y="1473"/>
                    </a:lnTo>
                    <a:lnTo>
                      <a:pt x="3706" y="1454"/>
                    </a:lnTo>
                    <a:lnTo>
                      <a:pt x="3708" y="1436"/>
                    </a:lnTo>
                    <a:lnTo>
                      <a:pt x="3710" y="1418"/>
                    </a:lnTo>
                    <a:lnTo>
                      <a:pt x="3710" y="1399"/>
                    </a:lnTo>
                    <a:lnTo>
                      <a:pt x="3712" y="1381"/>
                    </a:lnTo>
                    <a:lnTo>
                      <a:pt x="3710" y="1363"/>
                    </a:lnTo>
                    <a:lnTo>
                      <a:pt x="3709" y="1344"/>
                    </a:lnTo>
                    <a:lnTo>
                      <a:pt x="3707" y="1326"/>
                    </a:lnTo>
                    <a:lnTo>
                      <a:pt x="3704" y="1317"/>
                    </a:lnTo>
                    <a:lnTo>
                      <a:pt x="3703" y="1307"/>
                    </a:lnTo>
                    <a:lnTo>
                      <a:pt x="3698" y="1289"/>
                    </a:lnTo>
                    <a:lnTo>
                      <a:pt x="3693" y="1272"/>
                    </a:lnTo>
                    <a:lnTo>
                      <a:pt x="3686" y="1254"/>
                    </a:lnTo>
                    <a:lnTo>
                      <a:pt x="3679" y="1235"/>
                    </a:lnTo>
                    <a:lnTo>
                      <a:pt x="3671" y="1218"/>
                    </a:lnTo>
                    <a:lnTo>
                      <a:pt x="3661" y="1200"/>
                    </a:lnTo>
                    <a:lnTo>
                      <a:pt x="3652" y="1183"/>
                    </a:lnTo>
                    <a:lnTo>
                      <a:pt x="3639" y="1164"/>
                    </a:lnTo>
                    <a:lnTo>
                      <a:pt x="3627" y="1147"/>
                    </a:lnTo>
                    <a:lnTo>
                      <a:pt x="3614" y="1129"/>
                    </a:lnTo>
                    <a:lnTo>
                      <a:pt x="3600" y="1112"/>
                    </a:lnTo>
                    <a:lnTo>
                      <a:pt x="3584" y="1095"/>
                    </a:lnTo>
                    <a:lnTo>
                      <a:pt x="3571" y="1083"/>
                    </a:lnTo>
                    <a:lnTo>
                      <a:pt x="3558" y="1073"/>
                    </a:lnTo>
                    <a:lnTo>
                      <a:pt x="3543" y="1064"/>
                    </a:lnTo>
                    <a:lnTo>
                      <a:pt x="3536" y="1059"/>
                    </a:lnTo>
                    <a:lnTo>
                      <a:pt x="3528" y="1056"/>
                    </a:lnTo>
                    <a:lnTo>
                      <a:pt x="3514" y="1049"/>
                    </a:lnTo>
                    <a:lnTo>
                      <a:pt x="3498" y="1043"/>
                    </a:lnTo>
                    <a:lnTo>
                      <a:pt x="3483" y="1038"/>
                    </a:lnTo>
                    <a:lnTo>
                      <a:pt x="3467" y="1035"/>
                    </a:lnTo>
                    <a:lnTo>
                      <a:pt x="3452" y="1031"/>
                    </a:lnTo>
                    <a:lnTo>
                      <a:pt x="3437" y="1029"/>
                    </a:lnTo>
                    <a:lnTo>
                      <a:pt x="3421" y="1026"/>
                    </a:lnTo>
                    <a:lnTo>
                      <a:pt x="3405" y="1025"/>
                    </a:lnTo>
                    <a:lnTo>
                      <a:pt x="3372" y="1023"/>
                    </a:lnTo>
                    <a:lnTo>
                      <a:pt x="3340" y="1020"/>
                    </a:lnTo>
                    <a:lnTo>
                      <a:pt x="3307" y="1019"/>
                    </a:lnTo>
                    <a:lnTo>
                      <a:pt x="3275" y="1018"/>
                    </a:lnTo>
                    <a:lnTo>
                      <a:pt x="3242" y="1015"/>
                    </a:lnTo>
                    <a:lnTo>
                      <a:pt x="3210" y="1010"/>
                    </a:lnTo>
                    <a:lnTo>
                      <a:pt x="3195" y="1007"/>
                    </a:lnTo>
                    <a:lnTo>
                      <a:pt x="3179" y="1003"/>
                    </a:lnTo>
                    <a:lnTo>
                      <a:pt x="3163" y="998"/>
                    </a:lnTo>
                    <a:lnTo>
                      <a:pt x="3148" y="993"/>
                    </a:lnTo>
                    <a:lnTo>
                      <a:pt x="3140" y="990"/>
                    </a:lnTo>
                    <a:lnTo>
                      <a:pt x="3132" y="986"/>
                    </a:lnTo>
                    <a:lnTo>
                      <a:pt x="3118" y="979"/>
                    </a:lnTo>
                    <a:lnTo>
                      <a:pt x="3102" y="970"/>
                    </a:lnTo>
                    <a:lnTo>
                      <a:pt x="3087" y="960"/>
                    </a:lnTo>
                    <a:lnTo>
                      <a:pt x="3078" y="952"/>
                    </a:lnTo>
                    <a:lnTo>
                      <a:pt x="3070" y="943"/>
                    </a:lnTo>
                    <a:lnTo>
                      <a:pt x="3063" y="933"/>
                    </a:lnTo>
                    <a:lnTo>
                      <a:pt x="3055" y="925"/>
                    </a:lnTo>
                    <a:lnTo>
                      <a:pt x="3049" y="916"/>
                    </a:lnTo>
                    <a:lnTo>
                      <a:pt x="3044" y="906"/>
                    </a:lnTo>
                    <a:lnTo>
                      <a:pt x="3039" y="898"/>
                    </a:lnTo>
                    <a:lnTo>
                      <a:pt x="3034" y="889"/>
                    </a:lnTo>
                    <a:lnTo>
                      <a:pt x="3032" y="880"/>
                    </a:lnTo>
                    <a:lnTo>
                      <a:pt x="3028" y="871"/>
                    </a:lnTo>
                    <a:lnTo>
                      <a:pt x="3027" y="862"/>
                    </a:lnTo>
                    <a:lnTo>
                      <a:pt x="3026" y="853"/>
                    </a:lnTo>
                    <a:lnTo>
                      <a:pt x="3025" y="844"/>
                    </a:lnTo>
                    <a:lnTo>
                      <a:pt x="3025" y="836"/>
                    </a:lnTo>
                    <a:lnTo>
                      <a:pt x="3026" y="827"/>
                    </a:lnTo>
                    <a:lnTo>
                      <a:pt x="3027" y="818"/>
                    </a:lnTo>
                    <a:lnTo>
                      <a:pt x="3030" y="810"/>
                    </a:lnTo>
                    <a:lnTo>
                      <a:pt x="3032" y="801"/>
                    </a:lnTo>
                    <a:lnTo>
                      <a:pt x="3034" y="793"/>
                    </a:lnTo>
                    <a:lnTo>
                      <a:pt x="3039" y="784"/>
                    </a:lnTo>
                    <a:lnTo>
                      <a:pt x="3043" y="777"/>
                    </a:lnTo>
                    <a:lnTo>
                      <a:pt x="3049" y="768"/>
                    </a:lnTo>
                    <a:lnTo>
                      <a:pt x="3054" y="761"/>
                    </a:lnTo>
                    <a:lnTo>
                      <a:pt x="3061" y="754"/>
                    </a:lnTo>
                    <a:lnTo>
                      <a:pt x="3067" y="746"/>
                    </a:lnTo>
                    <a:lnTo>
                      <a:pt x="3075" y="739"/>
                    </a:lnTo>
                    <a:lnTo>
                      <a:pt x="3083" y="732"/>
                    </a:lnTo>
                    <a:lnTo>
                      <a:pt x="3092" y="725"/>
                    </a:lnTo>
                    <a:lnTo>
                      <a:pt x="3102" y="718"/>
                    </a:lnTo>
                    <a:lnTo>
                      <a:pt x="3111" y="712"/>
                    </a:lnTo>
                    <a:lnTo>
                      <a:pt x="3121" y="706"/>
                    </a:lnTo>
                    <a:lnTo>
                      <a:pt x="3132" y="700"/>
                    </a:lnTo>
                    <a:lnTo>
                      <a:pt x="3173" y="681"/>
                    </a:lnTo>
                    <a:lnTo>
                      <a:pt x="3213" y="663"/>
                    </a:lnTo>
                    <a:lnTo>
                      <a:pt x="3253" y="646"/>
                    </a:lnTo>
                    <a:lnTo>
                      <a:pt x="3294" y="630"/>
                    </a:lnTo>
                    <a:lnTo>
                      <a:pt x="3251" y="598"/>
                    </a:lnTo>
                    <a:lnTo>
                      <a:pt x="3208" y="568"/>
                    </a:lnTo>
                    <a:lnTo>
                      <a:pt x="3164" y="537"/>
                    </a:lnTo>
                    <a:lnTo>
                      <a:pt x="3120" y="508"/>
                    </a:lnTo>
                    <a:lnTo>
                      <a:pt x="3074" y="476"/>
                    </a:lnTo>
                    <a:lnTo>
                      <a:pt x="3026" y="444"/>
                    </a:lnTo>
                    <a:lnTo>
                      <a:pt x="3001" y="428"/>
                    </a:lnTo>
                    <a:lnTo>
                      <a:pt x="2976" y="412"/>
                    </a:lnTo>
                    <a:lnTo>
                      <a:pt x="2950" y="398"/>
                    </a:lnTo>
                    <a:lnTo>
                      <a:pt x="2924" y="383"/>
                    </a:lnTo>
                    <a:lnTo>
                      <a:pt x="2897" y="370"/>
                    </a:lnTo>
                    <a:lnTo>
                      <a:pt x="2884" y="364"/>
                    </a:lnTo>
                    <a:lnTo>
                      <a:pt x="2871" y="359"/>
                    </a:lnTo>
                    <a:lnTo>
                      <a:pt x="2857" y="353"/>
                    </a:lnTo>
                    <a:lnTo>
                      <a:pt x="2844" y="348"/>
                    </a:lnTo>
                    <a:lnTo>
                      <a:pt x="2816" y="340"/>
                    </a:lnTo>
                    <a:lnTo>
                      <a:pt x="2802" y="337"/>
                    </a:lnTo>
                    <a:lnTo>
                      <a:pt x="2795" y="335"/>
                    </a:lnTo>
                    <a:lnTo>
                      <a:pt x="2789" y="333"/>
                    </a:lnTo>
                    <a:lnTo>
                      <a:pt x="2774" y="332"/>
                    </a:lnTo>
                    <a:lnTo>
                      <a:pt x="2761" y="329"/>
                    </a:lnTo>
                    <a:lnTo>
                      <a:pt x="2746" y="328"/>
                    </a:lnTo>
                    <a:lnTo>
                      <a:pt x="2732" y="328"/>
                    </a:lnTo>
                    <a:lnTo>
                      <a:pt x="2718" y="328"/>
                    </a:lnTo>
                    <a:lnTo>
                      <a:pt x="2703" y="329"/>
                    </a:lnTo>
                    <a:lnTo>
                      <a:pt x="2696" y="333"/>
                    </a:lnTo>
                    <a:lnTo>
                      <a:pt x="2693" y="335"/>
                    </a:lnTo>
                    <a:lnTo>
                      <a:pt x="2691" y="337"/>
                    </a:lnTo>
                    <a:lnTo>
                      <a:pt x="2690" y="339"/>
                    </a:lnTo>
                    <a:lnTo>
                      <a:pt x="2688" y="341"/>
                    </a:lnTo>
                    <a:lnTo>
                      <a:pt x="2688" y="345"/>
                    </a:lnTo>
                    <a:lnTo>
                      <a:pt x="2688" y="348"/>
                    </a:lnTo>
                    <a:lnTo>
                      <a:pt x="2690" y="354"/>
                    </a:lnTo>
                    <a:lnTo>
                      <a:pt x="2693" y="360"/>
                    </a:lnTo>
                    <a:lnTo>
                      <a:pt x="2699" y="367"/>
                    </a:lnTo>
                    <a:lnTo>
                      <a:pt x="2706" y="375"/>
                    </a:lnTo>
                    <a:lnTo>
                      <a:pt x="2714" y="382"/>
                    </a:lnTo>
                    <a:lnTo>
                      <a:pt x="2724" y="390"/>
                    </a:lnTo>
                    <a:lnTo>
                      <a:pt x="2746" y="408"/>
                    </a:lnTo>
                    <a:lnTo>
                      <a:pt x="2795" y="445"/>
                    </a:lnTo>
                    <a:lnTo>
                      <a:pt x="2820" y="464"/>
                    </a:lnTo>
                    <a:lnTo>
                      <a:pt x="2845" y="483"/>
                    </a:lnTo>
                    <a:lnTo>
                      <a:pt x="2856" y="493"/>
                    </a:lnTo>
                    <a:lnTo>
                      <a:pt x="2866" y="503"/>
                    </a:lnTo>
                    <a:lnTo>
                      <a:pt x="2875" y="513"/>
                    </a:lnTo>
                    <a:lnTo>
                      <a:pt x="2883" y="522"/>
                    </a:lnTo>
                    <a:lnTo>
                      <a:pt x="2890" y="531"/>
                    </a:lnTo>
                    <a:lnTo>
                      <a:pt x="2895" y="540"/>
                    </a:lnTo>
                    <a:lnTo>
                      <a:pt x="2896" y="544"/>
                    </a:lnTo>
                    <a:lnTo>
                      <a:pt x="2897" y="548"/>
                    </a:lnTo>
                    <a:lnTo>
                      <a:pt x="2899" y="553"/>
                    </a:lnTo>
                    <a:lnTo>
                      <a:pt x="2899" y="557"/>
                    </a:lnTo>
                    <a:lnTo>
                      <a:pt x="2899" y="562"/>
                    </a:lnTo>
                    <a:lnTo>
                      <a:pt x="2899" y="565"/>
                    </a:lnTo>
                    <a:lnTo>
                      <a:pt x="2897" y="569"/>
                    </a:lnTo>
                    <a:lnTo>
                      <a:pt x="2895" y="573"/>
                    </a:lnTo>
                    <a:lnTo>
                      <a:pt x="2890" y="580"/>
                    </a:lnTo>
                    <a:lnTo>
                      <a:pt x="2886" y="584"/>
                    </a:lnTo>
                    <a:lnTo>
                      <a:pt x="2882" y="587"/>
                    </a:lnTo>
                    <a:lnTo>
                      <a:pt x="2869" y="590"/>
                    </a:lnTo>
                    <a:lnTo>
                      <a:pt x="2857" y="593"/>
                    </a:lnTo>
                    <a:lnTo>
                      <a:pt x="2846" y="596"/>
                    </a:lnTo>
                    <a:lnTo>
                      <a:pt x="2834" y="598"/>
                    </a:lnTo>
                    <a:lnTo>
                      <a:pt x="2809" y="601"/>
                    </a:lnTo>
                    <a:lnTo>
                      <a:pt x="2785" y="603"/>
                    </a:lnTo>
                    <a:lnTo>
                      <a:pt x="2762" y="603"/>
                    </a:lnTo>
                    <a:lnTo>
                      <a:pt x="2737" y="603"/>
                    </a:lnTo>
                    <a:lnTo>
                      <a:pt x="2713" y="601"/>
                    </a:lnTo>
                    <a:lnTo>
                      <a:pt x="2690" y="598"/>
                    </a:lnTo>
                    <a:lnTo>
                      <a:pt x="2665" y="595"/>
                    </a:lnTo>
                    <a:lnTo>
                      <a:pt x="2641" y="590"/>
                    </a:lnTo>
                    <a:lnTo>
                      <a:pt x="2618" y="584"/>
                    </a:lnTo>
                    <a:lnTo>
                      <a:pt x="2593" y="577"/>
                    </a:lnTo>
                    <a:lnTo>
                      <a:pt x="2570" y="570"/>
                    </a:lnTo>
                    <a:lnTo>
                      <a:pt x="2545" y="562"/>
                    </a:lnTo>
                    <a:lnTo>
                      <a:pt x="2522" y="553"/>
                    </a:lnTo>
                    <a:lnTo>
                      <a:pt x="2498" y="543"/>
                    </a:lnTo>
                    <a:lnTo>
                      <a:pt x="2451" y="524"/>
                    </a:lnTo>
                    <a:lnTo>
                      <a:pt x="2428" y="513"/>
                    </a:lnTo>
                    <a:lnTo>
                      <a:pt x="2405" y="502"/>
                    </a:lnTo>
                    <a:lnTo>
                      <a:pt x="2358" y="480"/>
                    </a:lnTo>
                    <a:lnTo>
                      <a:pt x="2313" y="456"/>
                    </a:lnTo>
                    <a:lnTo>
                      <a:pt x="2225" y="411"/>
                    </a:lnTo>
                    <a:lnTo>
                      <a:pt x="2181" y="389"/>
                    </a:lnTo>
                    <a:lnTo>
                      <a:pt x="2140" y="370"/>
                    </a:lnTo>
                    <a:lnTo>
                      <a:pt x="2124" y="364"/>
                    </a:lnTo>
                    <a:lnTo>
                      <a:pt x="2100" y="355"/>
                    </a:lnTo>
                    <a:lnTo>
                      <a:pt x="2039" y="333"/>
                    </a:lnTo>
                    <a:lnTo>
                      <a:pt x="2004" y="319"/>
                    </a:lnTo>
                    <a:lnTo>
                      <a:pt x="1967" y="305"/>
                    </a:lnTo>
                    <a:lnTo>
                      <a:pt x="1949" y="297"/>
                    </a:lnTo>
                    <a:lnTo>
                      <a:pt x="1932" y="289"/>
                    </a:lnTo>
                    <a:lnTo>
                      <a:pt x="1898" y="272"/>
                    </a:lnTo>
                    <a:lnTo>
                      <a:pt x="1880" y="263"/>
                    </a:lnTo>
                    <a:lnTo>
                      <a:pt x="1866" y="255"/>
                    </a:lnTo>
                    <a:lnTo>
                      <a:pt x="1852" y="246"/>
                    </a:lnTo>
                    <a:lnTo>
                      <a:pt x="1840" y="238"/>
                    </a:lnTo>
                    <a:lnTo>
                      <a:pt x="1829" y="229"/>
                    </a:lnTo>
                    <a:lnTo>
                      <a:pt x="1824" y="225"/>
                    </a:lnTo>
                    <a:lnTo>
                      <a:pt x="1821" y="220"/>
                    </a:lnTo>
                    <a:lnTo>
                      <a:pt x="1817" y="217"/>
                    </a:lnTo>
                    <a:lnTo>
                      <a:pt x="1813" y="212"/>
                    </a:lnTo>
                    <a:lnTo>
                      <a:pt x="1808" y="203"/>
                    </a:lnTo>
                    <a:lnTo>
                      <a:pt x="1807" y="200"/>
                    </a:lnTo>
                    <a:lnTo>
                      <a:pt x="1806" y="195"/>
                    </a:lnTo>
                    <a:lnTo>
                      <a:pt x="1806" y="187"/>
                    </a:lnTo>
                    <a:lnTo>
                      <a:pt x="1807" y="183"/>
                    </a:lnTo>
                    <a:lnTo>
                      <a:pt x="1808" y="179"/>
                    </a:lnTo>
                    <a:lnTo>
                      <a:pt x="1814" y="172"/>
                    </a:lnTo>
                    <a:lnTo>
                      <a:pt x="1818" y="167"/>
                    </a:lnTo>
                    <a:lnTo>
                      <a:pt x="1823" y="163"/>
                    </a:lnTo>
                    <a:lnTo>
                      <a:pt x="1835" y="156"/>
                    </a:lnTo>
                    <a:lnTo>
                      <a:pt x="1851" y="150"/>
                    </a:lnTo>
                    <a:lnTo>
                      <a:pt x="1869" y="142"/>
                    </a:lnTo>
                    <a:lnTo>
                      <a:pt x="1887" y="140"/>
                    </a:lnTo>
                    <a:lnTo>
                      <a:pt x="1902" y="139"/>
                    </a:lnTo>
                    <a:lnTo>
                      <a:pt x="1934" y="136"/>
                    </a:lnTo>
                    <a:lnTo>
                      <a:pt x="1950" y="136"/>
                    </a:lnTo>
                    <a:lnTo>
                      <a:pt x="1966" y="136"/>
                    </a:lnTo>
                    <a:lnTo>
                      <a:pt x="1982" y="137"/>
                    </a:lnTo>
                    <a:lnTo>
                      <a:pt x="1998" y="139"/>
                    </a:lnTo>
                    <a:lnTo>
                      <a:pt x="2030" y="142"/>
                    </a:lnTo>
                    <a:lnTo>
                      <a:pt x="2061" y="147"/>
                    </a:lnTo>
                    <a:lnTo>
                      <a:pt x="2093" y="153"/>
                    </a:lnTo>
                    <a:lnTo>
                      <a:pt x="2125" y="159"/>
                    </a:lnTo>
                    <a:lnTo>
                      <a:pt x="2187" y="173"/>
                    </a:lnTo>
                    <a:lnTo>
                      <a:pt x="2219" y="178"/>
                    </a:lnTo>
                    <a:lnTo>
                      <a:pt x="2251" y="184"/>
                    </a:lnTo>
                    <a:lnTo>
                      <a:pt x="2283" y="187"/>
                    </a:lnTo>
                    <a:lnTo>
                      <a:pt x="2299" y="189"/>
                    </a:lnTo>
                    <a:lnTo>
                      <a:pt x="2314" y="190"/>
                    </a:lnTo>
                    <a:lnTo>
                      <a:pt x="2330" y="190"/>
                    </a:lnTo>
                    <a:lnTo>
                      <a:pt x="2347" y="190"/>
                    </a:lnTo>
                    <a:lnTo>
                      <a:pt x="2363" y="190"/>
                    </a:lnTo>
                    <a:lnTo>
                      <a:pt x="2379" y="189"/>
                    </a:lnTo>
                    <a:lnTo>
                      <a:pt x="2385" y="187"/>
                    </a:lnTo>
                    <a:lnTo>
                      <a:pt x="2389" y="185"/>
                    </a:lnTo>
                    <a:lnTo>
                      <a:pt x="2391" y="183"/>
                    </a:lnTo>
                    <a:lnTo>
                      <a:pt x="2393" y="180"/>
                    </a:lnTo>
                    <a:lnTo>
                      <a:pt x="2393" y="176"/>
                    </a:lnTo>
                    <a:lnTo>
                      <a:pt x="2390" y="173"/>
                    </a:lnTo>
                    <a:lnTo>
                      <a:pt x="2388" y="169"/>
                    </a:lnTo>
                    <a:lnTo>
                      <a:pt x="2384" y="165"/>
                    </a:lnTo>
                    <a:lnTo>
                      <a:pt x="2379" y="162"/>
                    </a:lnTo>
                    <a:lnTo>
                      <a:pt x="2373" y="158"/>
                    </a:lnTo>
                    <a:lnTo>
                      <a:pt x="2358" y="150"/>
                    </a:lnTo>
                    <a:lnTo>
                      <a:pt x="2341" y="142"/>
                    </a:lnTo>
                    <a:lnTo>
                      <a:pt x="2322" y="134"/>
                    </a:lnTo>
                    <a:lnTo>
                      <a:pt x="2302" y="125"/>
                    </a:lnTo>
                    <a:lnTo>
                      <a:pt x="2281" y="117"/>
                    </a:lnTo>
                    <a:lnTo>
                      <a:pt x="2241" y="102"/>
                    </a:lnTo>
                    <a:lnTo>
                      <a:pt x="2208" y="91"/>
                    </a:lnTo>
                    <a:lnTo>
                      <a:pt x="2188" y="85"/>
                    </a:lnTo>
                    <a:lnTo>
                      <a:pt x="2154" y="76"/>
                    </a:lnTo>
                    <a:lnTo>
                      <a:pt x="2119" y="68"/>
                    </a:lnTo>
                    <a:lnTo>
                      <a:pt x="2085" y="60"/>
                    </a:lnTo>
                    <a:lnTo>
                      <a:pt x="2049" y="53"/>
                    </a:lnTo>
                    <a:lnTo>
                      <a:pt x="1978" y="39"/>
                    </a:lnTo>
                    <a:lnTo>
                      <a:pt x="1943" y="33"/>
                    </a:lnTo>
                    <a:lnTo>
                      <a:pt x="1907" y="27"/>
                    </a:lnTo>
                    <a:lnTo>
                      <a:pt x="1872" y="22"/>
                    </a:lnTo>
                    <a:lnTo>
                      <a:pt x="1836" y="17"/>
                    </a:lnTo>
                    <a:lnTo>
                      <a:pt x="1801" y="13"/>
                    </a:lnTo>
                    <a:lnTo>
                      <a:pt x="1766" y="9"/>
                    </a:lnTo>
                    <a:lnTo>
                      <a:pt x="1729" y="6"/>
                    </a:lnTo>
                    <a:lnTo>
                      <a:pt x="1693" y="4"/>
                    </a:lnTo>
                    <a:lnTo>
                      <a:pt x="1621" y="0"/>
                    </a:lnTo>
                    <a:lnTo>
                      <a:pt x="1561" y="13"/>
                    </a:lnTo>
                    <a:lnTo>
                      <a:pt x="1501" y="26"/>
                    </a:lnTo>
                    <a:lnTo>
                      <a:pt x="1442" y="41"/>
                    </a:lnTo>
                    <a:lnTo>
                      <a:pt x="1382" y="57"/>
                    </a:lnTo>
                    <a:lnTo>
                      <a:pt x="1363" y="63"/>
                    </a:lnTo>
                    <a:lnTo>
                      <a:pt x="1334" y="74"/>
                    </a:lnTo>
                    <a:lnTo>
                      <a:pt x="1299" y="88"/>
                    </a:lnTo>
                    <a:lnTo>
                      <a:pt x="1263" y="103"/>
                    </a:lnTo>
                    <a:lnTo>
                      <a:pt x="1246" y="110"/>
                    </a:lnTo>
                    <a:lnTo>
                      <a:pt x="1230" y="118"/>
                    </a:lnTo>
                    <a:lnTo>
                      <a:pt x="1206" y="131"/>
                    </a:lnTo>
                    <a:lnTo>
                      <a:pt x="1197" y="136"/>
                    </a:lnTo>
                    <a:lnTo>
                      <a:pt x="1193" y="139"/>
                    </a:lnTo>
                    <a:lnTo>
                      <a:pt x="1191" y="141"/>
                    </a:lnTo>
                    <a:lnTo>
                      <a:pt x="1190" y="142"/>
                    </a:lnTo>
                    <a:lnTo>
                      <a:pt x="1190" y="143"/>
                    </a:lnTo>
                    <a:lnTo>
                      <a:pt x="1191" y="145"/>
                    </a:lnTo>
                    <a:lnTo>
                      <a:pt x="1193" y="145"/>
                    </a:lnTo>
                    <a:lnTo>
                      <a:pt x="1207" y="145"/>
                    </a:lnTo>
                    <a:lnTo>
                      <a:pt x="1222" y="143"/>
                    </a:lnTo>
                    <a:lnTo>
                      <a:pt x="1235" y="142"/>
                    </a:lnTo>
                    <a:lnTo>
                      <a:pt x="1250" y="140"/>
                    </a:lnTo>
                    <a:lnTo>
                      <a:pt x="1278" y="135"/>
                    </a:lnTo>
                    <a:lnTo>
                      <a:pt x="1305" y="130"/>
                    </a:lnTo>
                    <a:lnTo>
                      <a:pt x="1360" y="117"/>
                    </a:lnTo>
                    <a:lnTo>
                      <a:pt x="1415" y="103"/>
                    </a:lnTo>
                    <a:lnTo>
                      <a:pt x="1468" y="90"/>
                    </a:lnTo>
                    <a:lnTo>
                      <a:pt x="1497" y="83"/>
                    </a:lnTo>
                    <a:lnTo>
                      <a:pt x="1510" y="81"/>
                    </a:lnTo>
                    <a:lnTo>
                      <a:pt x="1525" y="79"/>
                    </a:lnTo>
                    <a:lnTo>
                      <a:pt x="1552" y="75"/>
                    </a:lnTo>
                    <a:lnTo>
                      <a:pt x="1566" y="72"/>
                    </a:lnTo>
                    <a:lnTo>
                      <a:pt x="1580" y="72"/>
                    </a:lnTo>
                    <a:lnTo>
                      <a:pt x="1608" y="71"/>
                    </a:lnTo>
                    <a:lnTo>
                      <a:pt x="1637" y="71"/>
                    </a:lnTo>
                    <a:lnTo>
                      <a:pt x="1651" y="75"/>
                    </a:lnTo>
                    <a:lnTo>
                      <a:pt x="1657" y="76"/>
                    </a:lnTo>
                    <a:lnTo>
                      <a:pt x="1662" y="77"/>
                    </a:lnTo>
                    <a:lnTo>
                      <a:pt x="1667" y="80"/>
                    </a:lnTo>
                    <a:lnTo>
                      <a:pt x="1670" y="82"/>
                    </a:lnTo>
                    <a:lnTo>
                      <a:pt x="1673" y="83"/>
                    </a:lnTo>
                    <a:lnTo>
                      <a:pt x="1675" y="86"/>
                    </a:lnTo>
                    <a:lnTo>
                      <a:pt x="1678" y="91"/>
                    </a:lnTo>
                    <a:lnTo>
                      <a:pt x="1679" y="93"/>
                    </a:lnTo>
                    <a:lnTo>
                      <a:pt x="1679" y="96"/>
                    </a:lnTo>
                    <a:lnTo>
                      <a:pt x="1676" y="101"/>
                    </a:lnTo>
                    <a:lnTo>
                      <a:pt x="1675" y="104"/>
                    </a:lnTo>
                    <a:lnTo>
                      <a:pt x="1673" y="107"/>
                    </a:lnTo>
                    <a:lnTo>
                      <a:pt x="1667" y="113"/>
                    </a:lnTo>
                    <a:lnTo>
                      <a:pt x="1659" y="119"/>
                    </a:lnTo>
                    <a:lnTo>
                      <a:pt x="1651" y="125"/>
                    </a:lnTo>
                    <a:lnTo>
                      <a:pt x="1640" y="131"/>
                    </a:lnTo>
                    <a:lnTo>
                      <a:pt x="1629" y="137"/>
                    </a:lnTo>
                    <a:lnTo>
                      <a:pt x="1615" y="143"/>
                    </a:lnTo>
                    <a:lnTo>
                      <a:pt x="1587" y="157"/>
                    </a:lnTo>
                    <a:lnTo>
                      <a:pt x="1557" y="169"/>
                    </a:lnTo>
                    <a:lnTo>
                      <a:pt x="1525" y="181"/>
                    </a:lnTo>
                    <a:lnTo>
                      <a:pt x="1464" y="205"/>
                    </a:lnTo>
                    <a:lnTo>
                      <a:pt x="1415" y="222"/>
                    </a:lnTo>
                    <a:lnTo>
                      <a:pt x="1387" y="230"/>
                    </a:lnTo>
                    <a:lnTo>
                      <a:pt x="1367" y="239"/>
                    </a:lnTo>
                    <a:lnTo>
                      <a:pt x="1347" y="247"/>
                    </a:lnTo>
                    <a:lnTo>
                      <a:pt x="1307" y="267"/>
                    </a:lnTo>
                    <a:lnTo>
                      <a:pt x="1268" y="286"/>
                    </a:lnTo>
                    <a:lnTo>
                      <a:pt x="1228" y="307"/>
                    </a:lnTo>
                    <a:lnTo>
                      <a:pt x="1145" y="350"/>
                    </a:lnTo>
                    <a:lnTo>
                      <a:pt x="1103" y="371"/>
                    </a:lnTo>
                    <a:lnTo>
                      <a:pt x="1061" y="392"/>
                    </a:lnTo>
                    <a:lnTo>
                      <a:pt x="1041" y="400"/>
                    </a:lnTo>
                    <a:lnTo>
                      <a:pt x="1020" y="410"/>
                    </a:lnTo>
                    <a:lnTo>
                      <a:pt x="977" y="427"/>
                    </a:lnTo>
                    <a:lnTo>
                      <a:pt x="934" y="442"/>
                    </a:lnTo>
                    <a:lnTo>
                      <a:pt x="912" y="448"/>
                    </a:lnTo>
                    <a:lnTo>
                      <a:pt x="892" y="454"/>
                    </a:lnTo>
                    <a:lnTo>
                      <a:pt x="870" y="459"/>
                    </a:lnTo>
                    <a:lnTo>
                      <a:pt x="848" y="463"/>
                    </a:lnTo>
                    <a:lnTo>
                      <a:pt x="827" y="466"/>
                    </a:lnTo>
                    <a:lnTo>
                      <a:pt x="805" y="469"/>
                    </a:lnTo>
                    <a:lnTo>
                      <a:pt x="783" y="470"/>
                    </a:lnTo>
                    <a:lnTo>
                      <a:pt x="761" y="470"/>
                    </a:lnTo>
                    <a:lnTo>
                      <a:pt x="739" y="469"/>
                    </a:lnTo>
                    <a:lnTo>
                      <a:pt x="717" y="466"/>
                    </a:lnTo>
                    <a:lnTo>
                      <a:pt x="714" y="465"/>
                    </a:lnTo>
                    <a:lnTo>
                      <a:pt x="713" y="464"/>
                    </a:lnTo>
                    <a:lnTo>
                      <a:pt x="712" y="461"/>
                    </a:lnTo>
                    <a:lnTo>
                      <a:pt x="711" y="460"/>
                    </a:lnTo>
                    <a:lnTo>
                      <a:pt x="711" y="455"/>
                    </a:lnTo>
                    <a:lnTo>
                      <a:pt x="711" y="453"/>
                    </a:lnTo>
                    <a:lnTo>
                      <a:pt x="712" y="450"/>
                    </a:lnTo>
                    <a:lnTo>
                      <a:pt x="714" y="444"/>
                    </a:lnTo>
                    <a:lnTo>
                      <a:pt x="718" y="438"/>
                    </a:lnTo>
                    <a:lnTo>
                      <a:pt x="723" y="432"/>
                    </a:lnTo>
                    <a:lnTo>
                      <a:pt x="729" y="425"/>
                    </a:lnTo>
                    <a:lnTo>
                      <a:pt x="745" y="410"/>
                    </a:lnTo>
                    <a:lnTo>
                      <a:pt x="763" y="394"/>
                    </a:lnTo>
                    <a:lnTo>
                      <a:pt x="784" y="378"/>
                    </a:lnTo>
                    <a:lnTo>
                      <a:pt x="805" y="362"/>
                    </a:lnTo>
                    <a:lnTo>
                      <a:pt x="848" y="330"/>
                    </a:lnTo>
                    <a:lnTo>
                      <a:pt x="866" y="316"/>
                    </a:lnTo>
                    <a:lnTo>
                      <a:pt x="883" y="302"/>
                    </a:lnTo>
                    <a:lnTo>
                      <a:pt x="895" y="291"/>
                    </a:lnTo>
                    <a:lnTo>
                      <a:pt x="900" y="286"/>
                    </a:lnTo>
                    <a:lnTo>
                      <a:pt x="904" y="282"/>
                    </a:lnTo>
                    <a:lnTo>
                      <a:pt x="906" y="278"/>
                    </a:lnTo>
                    <a:lnTo>
                      <a:pt x="906" y="275"/>
                    </a:lnTo>
                    <a:lnTo>
                      <a:pt x="906" y="274"/>
                    </a:lnTo>
                    <a:lnTo>
                      <a:pt x="905" y="273"/>
                    </a:lnTo>
                    <a:lnTo>
                      <a:pt x="903" y="272"/>
                    </a:lnTo>
                    <a:lnTo>
                      <a:pt x="890" y="273"/>
                    </a:lnTo>
                    <a:lnTo>
                      <a:pt x="878" y="274"/>
                    </a:lnTo>
                    <a:lnTo>
                      <a:pt x="866" y="275"/>
                    </a:lnTo>
                    <a:lnTo>
                      <a:pt x="854" y="278"/>
                    </a:lnTo>
                    <a:lnTo>
                      <a:pt x="830" y="284"/>
                    </a:lnTo>
                    <a:lnTo>
                      <a:pt x="806" y="291"/>
                    </a:lnTo>
                    <a:lnTo>
                      <a:pt x="783" y="300"/>
                    </a:lnTo>
                    <a:lnTo>
                      <a:pt x="761" y="310"/>
                    </a:lnTo>
                    <a:lnTo>
                      <a:pt x="737" y="319"/>
                    </a:lnTo>
                    <a:lnTo>
                      <a:pt x="715" y="332"/>
                    </a:lnTo>
                    <a:lnTo>
                      <a:pt x="693" y="344"/>
                    </a:lnTo>
                    <a:lnTo>
                      <a:pt x="671" y="357"/>
                    </a:lnTo>
                    <a:lnTo>
                      <a:pt x="630" y="384"/>
                    </a:lnTo>
                    <a:lnTo>
                      <a:pt x="548" y="439"/>
                    </a:lnTo>
                    <a:lnTo>
                      <a:pt x="511" y="464"/>
                    </a:lnTo>
                    <a:lnTo>
                      <a:pt x="473" y="488"/>
                    </a:lnTo>
                    <a:lnTo>
                      <a:pt x="438" y="514"/>
                    </a:lnTo>
                    <a:lnTo>
                      <a:pt x="401" y="540"/>
                    </a:lnTo>
                    <a:lnTo>
                      <a:pt x="366" y="566"/>
                    </a:lnTo>
                    <a:lnTo>
                      <a:pt x="330" y="593"/>
                    </a:lnTo>
                    <a:lnTo>
                      <a:pt x="295" y="622"/>
                    </a:lnTo>
                    <a:lnTo>
                      <a:pt x="261" y="650"/>
                    </a:lnTo>
                    <a:lnTo>
                      <a:pt x="282" y="656"/>
                    </a:lnTo>
                    <a:lnTo>
                      <a:pt x="302" y="663"/>
                    </a:lnTo>
                    <a:lnTo>
                      <a:pt x="323" y="670"/>
                    </a:lnTo>
                    <a:lnTo>
                      <a:pt x="343" y="679"/>
                    </a:lnTo>
                    <a:lnTo>
                      <a:pt x="383" y="697"/>
                    </a:lnTo>
                    <a:lnTo>
                      <a:pt x="422" y="717"/>
                    </a:lnTo>
                    <a:lnTo>
                      <a:pt x="460" y="739"/>
                    </a:lnTo>
                    <a:lnTo>
                      <a:pt x="498" y="761"/>
                    </a:lnTo>
                    <a:lnTo>
                      <a:pt x="574" y="806"/>
                    </a:lnTo>
                    <a:lnTo>
                      <a:pt x="583" y="813"/>
                    </a:lnTo>
                    <a:lnTo>
                      <a:pt x="594" y="821"/>
                    </a:lnTo>
                    <a:lnTo>
                      <a:pt x="604" y="828"/>
                    </a:lnTo>
                    <a:lnTo>
                      <a:pt x="613" y="837"/>
                    </a:lnTo>
                    <a:lnTo>
                      <a:pt x="621" y="844"/>
                    </a:lnTo>
                    <a:lnTo>
                      <a:pt x="630" y="853"/>
                    </a:lnTo>
                    <a:lnTo>
                      <a:pt x="637" y="861"/>
                    </a:lnTo>
                    <a:lnTo>
                      <a:pt x="643" y="870"/>
                    </a:lnTo>
                    <a:lnTo>
                      <a:pt x="656" y="888"/>
                    </a:lnTo>
                    <a:lnTo>
                      <a:pt x="660" y="897"/>
                    </a:lnTo>
                    <a:lnTo>
                      <a:pt x="665" y="906"/>
                    </a:lnTo>
                    <a:lnTo>
                      <a:pt x="667" y="911"/>
                    </a:lnTo>
                    <a:lnTo>
                      <a:pt x="669" y="915"/>
                    </a:lnTo>
                    <a:lnTo>
                      <a:pt x="671" y="925"/>
                    </a:lnTo>
                    <a:lnTo>
                      <a:pt x="676" y="944"/>
                    </a:lnTo>
                    <a:lnTo>
                      <a:pt x="678" y="954"/>
                    </a:lnTo>
                    <a:lnTo>
                      <a:pt x="679" y="964"/>
                    </a:lnTo>
                    <a:lnTo>
                      <a:pt x="678" y="974"/>
                    </a:lnTo>
                    <a:lnTo>
                      <a:pt x="678" y="983"/>
                    </a:lnTo>
                    <a:lnTo>
                      <a:pt x="676" y="993"/>
                    </a:lnTo>
                    <a:lnTo>
                      <a:pt x="674" y="1004"/>
                    </a:lnTo>
                    <a:lnTo>
                      <a:pt x="671" y="1014"/>
                    </a:lnTo>
                    <a:lnTo>
                      <a:pt x="668" y="1024"/>
                    </a:lnTo>
                    <a:lnTo>
                      <a:pt x="664" y="1034"/>
                    </a:lnTo>
                    <a:lnTo>
                      <a:pt x="659" y="1043"/>
                    </a:lnTo>
                    <a:lnTo>
                      <a:pt x="654" y="1054"/>
                    </a:lnTo>
                    <a:lnTo>
                      <a:pt x="647" y="1064"/>
                    </a:lnTo>
                    <a:lnTo>
                      <a:pt x="641" y="1074"/>
                    </a:lnTo>
                    <a:lnTo>
                      <a:pt x="634" y="1084"/>
                    </a:lnTo>
                    <a:lnTo>
                      <a:pt x="625" y="1094"/>
                    </a:lnTo>
                    <a:lnTo>
                      <a:pt x="615" y="1103"/>
                    </a:lnTo>
                    <a:lnTo>
                      <a:pt x="601" y="1113"/>
                    </a:lnTo>
                    <a:lnTo>
                      <a:pt x="586" y="1122"/>
                    </a:lnTo>
                    <a:lnTo>
                      <a:pt x="571" y="1130"/>
                    </a:lnTo>
                    <a:lnTo>
                      <a:pt x="555" y="1136"/>
                    </a:lnTo>
                    <a:lnTo>
                      <a:pt x="541" y="1141"/>
                    </a:lnTo>
                    <a:lnTo>
                      <a:pt x="525" y="1146"/>
                    </a:lnTo>
                    <a:lnTo>
                      <a:pt x="509" y="1150"/>
                    </a:lnTo>
                    <a:lnTo>
                      <a:pt x="493" y="1152"/>
                    </a:lnTo>
                    <a:lnTo>
                      <a:pt x="461" y="1156"/>
                    </a:lnTo>
                    <a:lnTo>
                      <a:pt x="445" y="1157"/>
                    </a:lnTo>
                    <a:lnTo>
                      <a:pt x="428" y="1157"/>
                    </a:lnTo>
                    <a:lnTo>
                      <a:pt x="396" y="1157"/>
                    </a:lnTo>
                    <a:lnTo>
                      <a:pt x="363" y="1157"/>
                    </a:lnTo>
                    <a:lnTo>
                      <a:pt x="332" y="1157"/>
                    </a:lnTo>
                    <a:lnTo>
                      <a:pt x="315" y="1157"/>
                    </a:lnTo>
                    <a:lnTo>
                      <a:pt x="299" y="1158"/>
                    </a:lnTo>
                    <a:lnTo>
                      <a:pt x="283" y="1160"/>
                    </a:lnTo>
                    <a:lnTo>
                      <a:pt x="268" y="1161"/>
                    </a:lnTo>
                    <a:lnTo>
                      <a:pt x="252" y="1163"/>
                    </a:lnTo>
                    <a:lnTo>
                      <a:pt x="236" y="1167"/>
                    </a:lnTo>
                    <a:lnTo>
                      <a:pt x="222" y="1171"/>
                    </a:lnTo>
                    <a:lnTo>
                      <a:pt x="207" y="1175"/>
                    </a:lnTo>
                    <a:lnTo>
                      <a:pt x="191" y="1182"/>
                    </a:lnTo>
                    <a:lnTo>
                      <a:pt x="178" y="1189"/>
                    </a:lnTo>
                    <a:lnTo>
                      <a:pt x="163" y="1196"/>
                    </a:lnTo>
                    <a:lnTo>
                      <a:pt x="150" y="1206"/>
                    </a:lnTo>
                    <a:lnTo>
                      <a:pt x="135" y="1217"/>
                    </a:lnTo>
                    <a:lnTo>
                      <a:pt x="123" y="1229"/>
                    </a:lnTo>
                    <a:lnTo>
                      <a:pt x="106" y="1250"/>
                    </a:lnTo>
                    <a:lnTo>
                      <a:pt x="90" y="1271"/>
                    </a:lnTo>
                    <a:lnTo>
                      <a:pt x="75" y="1290"/>
                    </a:lnTo>
                    <a:lnTo>
                      <a:pt x="61" y="1311"/>
                    </a:lnTo>
                    <a:lnTo>
                      <a:pt x="50" y="1332"/>
                    </a:lnTo>
                    <a:lnTo>
                      <a:pt x="39" y="1353"/>
                    </a:lnTo>
                    <a:lnTo>
                      <a:pt x="31" y="1374"/>
                    </a:lnTo>
                    <a:lnTo>
                      <a:pt x="24" y="1394"/>
                    </a:lnTo>
                    <a:lnTo>
                      <a:pt x="16" y="1416"/>
                    </a:lnTo>
                    <a:lnTo>
                      <a:pt x="11" y="1437"/>
                    </a:lnTo>
                    <a:lnTo>
                      <a:pt x="6" y="1458"/>
                    </a:lnTo>
                    <a:lnTo>
                      <a:pt x="4" y="1479"/>
                    </a:lnTo>
                    <a:lnTo>
                      <a:pt x="2" y="1499"/>
                    </a:lnTo>
                    <a:lnTo>
                      <a:pt x="0" y="1521"/>
                    </a:lnTo>
                    <a:lnTo>
                      <a:pt x="0" y="1542"/>
                    </a:lnTo>
                    <a:lnTo>
                      <a:pt x="2" y="1563"/>
                    </a:lnTo>
                    <a:lnTo>
                      <a:pt x="4" y="1584"/>
                    </a:lnTo>
                    <a:lnTo>
                      <a:pt x="8" y="1606"/>
                    </a:lnTo>
                    <a:lnTo>
                      <a:pt x="11" y="1627"/>
                    </a:lnTo>
                    <a:lnTo>
                      <a:pt x="16" y="1647"/>
                    </a:lnTo>
                    <a:lnTo>
                      <a:pt x="22" y="1669"/>
                    </a:lnTo>
                    <a:lnTo>
                      <a:pt x="30" y="1690"/>
                    </a:lnTo>
                    <a:lnTo>
                      <a:pt x="37" y="1711"/>
                    </a:lnTo>
                    <a:lnTo>
                      <a:pt x="46" y="1732"/>
                    </a:lnTo>
                    <a:lnTo>
                      <a:pt x="54" y="1754"/>
                    </a:lnTo>
                    <a:lnTo>
                      <a:pt x="64" y="1775"/>
                    </a:lnTo>
                    <a:lnTo>
                      <a:pt x="86" y="1816"/>
                    </a:lnTo>
                    <a:lnTo>
                      <a:pt x="98" y="1837"/>
                    </a:lnTo>
                    <a:lnTo>
                      <a:pt x="112" y="1859"/>
                    </a:lnTo>
                    <a:lnTo>
                      <a:pt x="125" y="1880"/>
                    </a:lnTo>
                    <a:lnTo>
                      <a:pt x="139" y="1901"/>
                    </a:lnTo>
                    <a:lnTo>
                      <a:pt x="157" y="1925"/>
                    </a:lnTo>
                    <a:lnTo>
                      <a:pt x="175" y="1949"/>
                    </a:lnTo>
                    <a:lnTo>
                      <a:pt x="194" y="1974"/>
                    </a:lnTo>
                    <a:lnTo>
                      <a:pt x="213" y="1997"/>
                    </a:lnTo>
                    <a:lnTo>
                      <a:pt x="234" y="2019"/>
                    </a:lnTo>
                    <a:lnTo>
                      <a:pt x="253" y="2041"/>
                    </a:lnTo>
                    <a:lnTo>
                      <a:pt x="274" y="2061"/>
                    </a:lnTo>
                    <a:lnTo>
                      <a:pt x="296" y="2082"/>
                    </a:lnTo>
                    <a:lnTo>
                      <a:pt x="317" y="2100"/>
                    </a:lnTo>
                    <a:lnTo>
                      <a:pt x="339" y="2117"/>
                    </a:lnTo>
                    <a:lnTo>
                      <a:pt x="362" y="2134"/>
                    </a:lnTo>
                    <a:lnTo>
                      <a:pt x="384" y="2149"/>
                    </a:lnTo>
                    <a:lnTo>
                      <a:pt x="407" y="2162"/>
                    </a:lnTo>
                    <a:lnTo>
                      <a:pt x="431" y="2176"/>
                    </a:lnTo>
                    <a:lnTo>
                      <a:pt x="454" y="2187"/>
                    </a:lnTo>
                    <a:lnTo>
                      <a:pt x="466" y="2192"/>
                    </a:lnTo>
                    <a:lnTo>
                      <a:pt x="478" y="2196"/>
                    </a:lnTo>
                    <a:lnTo>
                      <a:pt x="491" y="2200"/>
                    </a:lnTo>
                    <a:lnTo>
                      <a:pt x="503" y="2204"/>
                    </a:lnTo>
                    <a:lnTo>
                      <a:pt x="527" y="2211"/>
                    </a:lnTo>
                    <a:lnTo>
                      <a:pt x="552" y="2215"/>
                    </a:lnTo>
                    <a:lnTo>
                      <a:pt x="564" y="2217"/>
                    </a:lnTo>
                    <a:lnTo>
                      <a:pt x="576" y="2218"/>
                    </a:lnTo>
                    <a:lnTo>
                      <a:pt x="590" y="2220"/>
                    </a:lnTo>
                    <a:lnTo>
                      <a:pt x="602" y="2220"/>
                    </a:lnTo>
                    <a:lnTo>
                      <a:pt x="627" y="2218"/>
                    </a:lnTo>
                    <a:lnTo>
                      <a:pt x="653" y="2216"/>
                    </a:lnTo>
                    <a:lnTo>
                      <a:pt x="679" y="2211"/>
                    </a:lnTo>
                    <a:lnTo>
                      <a:pt x="691" y="2209"/>
                    </a:lnTo>
                    <a:lnTo>
                      <a:pt x="704" y="2205"/>
                    </a:lnTo>
                    <a:lnTo>
                      <a:pt x="717" y="2200"/>
                    </a:lnTo>
                    <a:lnTo>
                      <a:pt x="730" y="2195"/>
                    </a:lnTo>
                    <a:lnTo>
                      <a:pt x="744" y="2190"/>
                    </a:lnTo>
                    <a:lnTo>
                      <a:pt x="756" y="2184"/>
                    </a:lnTo>
                    <a:lnTo>
                      <a:pt x="769" y="2178"/>
                    </a:lnTo>
                    <a:lnTo>
                      <a:pt x="783" y="2171"/>
                    </a:lnTo>
                    <a:lnTo>
                      <a:pt x="796" y="2163"/>
                    </a:lnTo>
                    <a:lnTo>
                      <a:pt x="808" y="2155"/>
                    </a:lnTo>
                    <a:lnTo>
                      <a:pt x="822" y="2146"/>
                    </a:lnTo>
                    <a:lnTo>
                      <a:pt x="835" y="2137"/>
                    </a:lnTo>
                    <a:lnTo>
                      <a:pt x="849" y="2127"/>
                    </a:lnTo>
                    <a:lnTo>
                      <a:pt x="862" y="2116"/>
                    </a:lnTo>
                    <a:lnTo>
                      <a:pt x="874" y="2105"/>
                    </a:lnTo>
                    <a:lnTo>
                      <a:pt x="888" y="2093"/>
                    </a:lnTo>
                    <a:lnTo>
                      <a:pt x="896" y="2082"/>
                    </a:lnTo>
                    <a:lnTo>
                      <a:pt x="904" y="2069"/>
                    </a:lnTo>
                    <a:lnTo>
                      <a:pt x="911" y="2057"/>
                    </a:lnTo>
                    <a:lnTo>
                      <a:pt x="916" y="2045"/>
                    </a:lnTo>
                    <a:lnTo>
                      <a:pt x="922" y="2034"/>
                    </a:lnTo>
                    <a:lnTo>
                      <a:pt x="926" y="2022"/>
                    </a:lnTo>
                    <a:lnTo>
                      <a:pt x="931" y="2009"/>
                    </a:lnTo>
                    <a:lnTo>
                      <a:pt x="933" y="1998"/>
                    </a:lnTo>
                    <a:lnTo>
                      <a:pt x="938" y="1974"/>
                    </a:lnTo>
                    <a:lnTo>
                      <a:pt x="939" y="1962"/>
                    </a:lnTo>
                    <a:lnTo>
                      <a:pt x="940" y="1949"/>
                    </a:lnTo>
                    <a:lnTo>
                      <a:pt x="940" y="1926"/>
                    </a:lnTo>
                    <a:lnTo>
                      <a:pt x="938" y="1902"/>
                    </a:lnTo>
                    <a:lnTo>
                      <a:pt x="934" y="1879"/>
                    </a:lnTo>
                    <a:lnTo>
                      <a:pt x="933" y="1866"/>
                    </a:lnTo>
                    <a:lnTo>
                      <a:pt x="931" y="1854"/>
                    </a:lnTo>
                    <a:lnTo>
                      <a:pt x="927" y="1842"/>
                    </a:lnTo>
                    <a:lnTo>
                      <a:pt x="925" y="1830"/>
                    </a:lnTo>
                    <a:lnTo>
                      <a:pt x="917" y="1806"/>
                    </a:lnTo>
                    <a:lnTo>
                      <a:pt x="910" y="1782"/>
                    </a:lnTo>
                    <a:lnTo>
                      <a:pt x="901" y="1759"/>
                    </a:lnTo>
                    <a:lnTo>
                      <a:pt x="884" y="1711"/>
                    </a:lnTo>
                    <a:lnTo>
                      <a:pt x="867" y="1663"/>
                    </a:lnTo>
                    <a:lnTo>
                      <a:pt x="859" y="1640"/>
                    </a:lnTo>
                    <a:lnTo>
                      <a:pt x="852" y="1617"/>
                    </a:lnTo>
                    <a:lnTo>
                      <a:pt x="846" y="1594"/>
                    </a:lnTo>
                    <a:lnTo>
                      <a:pt x="843" y="1581"/>
                    </a:lnTo>
                    <a:lnTo>
                      <a:pt x="840" y="1570"/>
                    </a:lnTo>
                    <a:lnTo>
                      <a:pt x="838" y="1547"/>
                    </a:lnTo>
                    <a:lnTo>
                      <a:pt x="835" y="1524"/>
                    </a:lnTo>
                    <a:lnTo>
                      <a:pt x="835" y="1502"/>
                    </a:lnTo>
                    <a:lnTo>
                      <a:pt x="837" y="1479"/>
                    </a:lnTo>
                    <a:lnTo>
                      <a:pt x="839" y="1468"/>
                    </a:lnTo>
                    <a:lnTo>
                      <a:pt x="841" y="1457"/>
                    </a:lnTo>
                    <a:lnTo>
                      <a:pt x="844" y="1446"/>
                    </a:lnTo>
                    <a:lnTo>
                      <a:pt x="848" y="1435"/>
                    </a:lnTo>
                    <a:lnTo>
                      <a:pt x="857" y="1413"/>
                    </a:lnTo>
                    <a:lnTo>
                      <a:pt x="863" y="1402"/>
                    </a:lnTo>
                    <a:lnTo>
                      <a:pt x="870" y="1391"/>
                    </a:lnTo>
                    <a:lnTo>
                      <a:pt x="877" y="1380"/>
                    </a:lnTo>
                    <a:lnTo>
                      <a:pt x="884" y="1369"/>
                    </a:lnTo>
                    <a:lnTo>
                      <a:pt x="894" y="1358"/>
                    </a:lnTo>
                    <a:lnTo>
                      <a:pt x="904" y="1347"/>
                    </a:lnTo>
                    <a:lnTo>
                      <a:pt x="922" y="1332"/>
                    </a:lnTo>
                    <a:lnTo>
                      <a:pt x="942" y="1319"/>
                    </a:lnTo>
                    <a:lnTo>
                      <a:pt x="951" y="1314"/>
                    </a:lnTo>
                    <a:lnTo>
                      <a:pt x="961" y="1307"/>
                    </a:lnTo>
                    <a:lnTo>
                      <a:pt x="981" y="1299"/>
                    </a:lnTo>
                    <a:lnTo>
                      <a:pt x="1000" y="1292"/>
                    </a:lnTo>
                    <a:lnTo>
                      <a:pt x="1020" y="1285"/>
                    </a:lnTo>
                    <a:lnTo>
                      <a:pt x="1030" y="1283"/>
                    </a:lnTo>
                    <a:lnTo>
                      <a:pt x="1041" y="1282"/>
                    </a:lnTo>
                    <a:lnTo>
                      <a:pt x="1060" y="1279"/>
                    </a:lnTo>
                    <a:lnTo>
                      <a:pt x="1080" y="1278"/>
                    </a:lnTo>
                    <a:lnTo>
                      <a:pt x="1099" y="1279"/>
                    </a:lnTo>
                    <a:lnTo>
                      <a:pt x="1120" y="1281"/>
                    </a:lnTo>
                    <a:lnTo>
                      <a:pt x="1130" y="1282"/>
                    </a:lnTo>
                    <a:lnTo>
                      <a:pt x="1140" y="1284"/>
                    </a:lnTo>
                    <a:lnTo>
                      <a:pt x="1159" y="1288"/>
                    </a:lnTo>
                    <a:lnTo>
                      <a:pt x="1179" y="1294"/>
                    </a:lnTo>
                    <a:lnTo>
                      <a:pt x="1200" y="1301"/>
                    </a:lnTo>
                    <a:lnTo>
                      <a:pt x="1219" y="1309"/>
                    </a:lnTo>
                    <a:lnTo>
                      <a:pt x="1239" y="1317"/>
                    </a:lnTo>
                    <a:lnTo>
                      <a:pt x="1257" y="1326"/>
                    </a:lnTo>
                    <a:lnTo>
                      <a:pt x="1277" y="1337"/>
                    </a:lnTo>
                    <a:lnTo>
                      <a:pt x="1296" y="1348"/>
                    </a:lnTo>
                    <a:lnTo>
                      <a:pt x="1314" y="1359"/>
                    </a:lnTo>
                    <a:lnTo>
                      <a:pt x="1333" y="1371"/>
                    </a:lnTo>
                    <a:lnTo>
                      <a:pt x="1369" y="1396"/>
                    </a:lnTo>
                    <a:lnTo>
                      <a:pt x="1405" y="1422"/>
                    </a:lnTo>
                    <a:lnTo>
                      <a:pt x="1439" y="1449"/>
                    </a:lnTo>
                    <a:lnTo>
                      <a:pt x="1471" y="1476"/>
                    </a:lnTo>
                    <a:lnTo>
                      <a:pt x="1503" y="1503"/>
                    </a:lnTo>
                    <a:lnTo>
                      <a:pt x="1563" y="1555"/>
                    </a:lnTo>
                    <a:lnTo>
                      <a:pt x="1623" y="1607"/>
                    </a:lnTo>
                    <a:lnTo>
                      <a:pt x="1681" y="1660"/>
                    </a:lnTo>
                    <a:lnTo>
                      <a:pt x="1741" y="1712"/>
                    </a:lnTo>
                    <a:close/>
                  </a:path>
                </a:pathLst>
              </a:custGeom>
              <a:solidFill>
                <a:srgbClr val="8cc0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213080" y="2261880"/>
                <a:ext cx="382680" cy="326520"/>
              </a:xfrm>
              <a:custGeom>
                <a:avLst/>
                <a:gdLst/>
                <a:ahLst/>
                <a:rect l="l" t="t" r="r" b="b"/>
                <a:pathLst>
                  <a:path w="482" h="412">
                    <a:moveTo>
                      <a:pt x="0" y="401"/>
                    </a:moveTo>
                    <a:lnTo>
                      <a:pt x="55" y="348"/>
                    </a:lnTo>
                    <a:lnTo>
                      <a:pt x="113" y="295"/>
                    </a:lnTo>
                    <a:lnTo>
                      <a:pt x="171" y="244"/>
                    </a:lnTo>
                    <a:lnTo>
                      <a:pt x="230" y="193"/>
                    </a:lnTo>
                    <a:lnTo>
                      <a:pt x="350" y="96"/>
                    </a:lnTo>
                    <a:lnTo>
                      <a:pt x="472" y="0"/>
                    </a:lnTo>
                    <a:lnTo>
                      <a:pt x="482" y="11"/>
                    </a:lnTo>
                    <a:lnTo>
                      <a:pt x="360" y="107"/>
                    </a:lnTo>
                    <a:lnTo>
                      <a:pt x="240" y="204"/>
                    </a:lnTo>
                    <a:lnTo>
                      <a:pt x="181" y="255"/>
                    </a:lnTo>
                    <a:lnTo>
                      <a:pt x="122" y="306"/>
                    </a:lnTo>
                    <a:lnTo>
                      <a:pt x="65" y="359"/>
                    </a:lnTo>
                    <a:lnTo>
                      <a:pt x="10" y="412"/>
                    </a:lnTo>
                    <a:lnTo>
                      <a:pt x="0" y="4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87840" y="2104560"/>
                <a:ext cx="474840" cy="164880"/>
              </a:xfrm>
              <a:custGeom>
                <a:avLst/>
                <a:gdLst/>
                <a:ahLst/>
                <a:rect l="l" t="t" r="r" b="b"/>
                <a:pathLst>
                  <a:path w="598" h="209">
                    <a:moveTo>
                      <a:pt x="0" y="197"/>
                    </a:moveTo>
                    <a:lnTo>
                      <a:pt x="65" y="147"/>
                    </a:lnTo>
                    <a:lnTo>
                      <a:pt x="133" y="99"/>
                    </a:lnTo>
                    <a:lnTo>
                      <a:pt x="170" y="78"/>
                    </a:lnTo>
                    <a:lnTo>
                      <a:pt x="207" y="58"/>
                    </a:lnTo>
                    <a:lnTo>
                      <a:pt x="281" y="25"/>
                    </a:lnTo>
                    <a:lnTo>
                      <a:pt x="322" y="12"/>
                    </a:lnTo>
                    <a:lnTo>
                      <a:pt x="362" y="4"/>
                    </a:lnTo>
                    <a:lnTo>
                      <a:pt x="400" y="0"/>
                    </a:lnTo>
                    <a:lnTo>
                      <a:pt x="439" y="0"/>
                    </a:lnTo>
                    <a:lnTo>
                      <a:pt x="460" y="3"/>
                    </a:lnTo>
                    <a:lnTo>
                      <a:pt x="479" y="6"/>
                    </a:lnTo>
                    <a:lnTo>
                      <a:pt x="520" y="19"/>
                    </a:lnTo>
                    <a:lnTo>
                      <a:pt x="557" y="36"/>
                    </a:lnTo>
                    <a:lnTo>
                      <a:pt x="598" y="60"/>
                    </a:lnTo>
                    <a:lnTo>
                      <a:pt x="589" y="72"/>
                    </a:lnTo>
                    <a:lnTo>
                      <a:pt x="551" y="49"/>
                    </a:lnTo>
                    <a:lnTo>
                      <a:pt x="513" y="32"/>
                    </a:lnTo>
                    <a:lnTo>
                      <a:pt x="477" y="21"/>
                    </a:lnTo>
                    <a:lnTo>
                      <a:pt x="457" y="17"/>
                    </a:lnTo>
                    <a:lnTo>
                      <a:pt x="438" y="15"/>
                    </a:lnTo>
                    <a:lnTo>
                      <a:pt x="400" y="15"/>
                    </a:lnTo>
                    <a:lnTo>
                      <a:pt x="363" y="19"/>
                    </a:lnTo>
                    <a:lnTo>
                      <a:pt x="324" y="27"/>
                    </a:lnTo>
                    <a:lnTo>
                      <a:pt x="287" y="38"/>
                    </a:lnTo>
                    <a:lnTo>
                      <a:pt x="213" y="71"/>
                    </a:lnTo>
                    <a:lnTo>
                      <a:pt x="177" y="91"/>
                    </a:lnTo>
                    <a:lnTo>
                      <a:pt x="142" y="111"/>
                    </a:lnTo>
                    <a:lnTo>
                      <a:pt x="73" y="159"/>
                    </a:lnTo>
                    <a:lnTo>
                      <a:pt x="9" y="209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587840" y="2260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1"/>
                    </a:moveTo>
                    <a:lnTo>
                      <a:pt x="0" y="0"/>
                    </a:lnTo>
                    <a:lnTo>
                      <a:pt x="9" y="12"/>
                    </a:lnTo>
                    <a:lnTo>
                      <a:pt x="10" y="1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030640" y="2152080"/>
                <a:ext cx="86040" cy="558360"/>
              </a:xfrm>
              <a:custGeom>
                <a:avLst/>
                <a:gdLst/>
                <a:ahLst/>
                <a:rect l="l" t="t" r="r" b="b"/>
                <a:pathLst>
                  <a:path w="108" h="703">
                    <a:moveTo>
                      <a:pt x="42" y="0"/>
                    </a:moveTo>
                    <a:lnTo>
                      <a:pt x="59" y="20"/>
                    </a:lnTo>
                    <a:lnTo>
                      <a:pt x="75" y="42"/>
                    </a:lnTo>
                    <a:lnTo>
                      <a:pt x="86" y="64"/>
                    </a:lnTo>
                    <a:lnTo>
                      <a:pt x="95" y="83"/>
                    </a:lnTo>
                    <a:lnTo>
                      <a:pt x="102" y="105"/>
                    </a:lnTo>
                    <a:lnTo>
                      <a:pt x="106" y="127"/>
                    </a:lnTo>
                    <a:lnTo>
                      <a:pt x="108" y="150"/>
                    </a:lnTo>
                    <a:lnTo>
                      <a:pt x="108" y="170"/>
                    </a:lnTo>
                    <a:lnTo>
                      <a:pt x="103" y="214"/>
                    </a:lnTo>
                    <a:lnTo>
                      <a:pt x="91" y="258"/>
                    </a:lnTo>
                    <a:lnTo>
                      <a:pt x="63" y="346"/>
                    </a:lnTo>
                    <a:lnTo>
                      <a:pt x="32" y="434"/>
                    </a:lnTo>
                    <a:lnTo>
                      <a:pt x="22" y="478"/>
                    </a:lnTo>
                    <a:lnTo>
                      <a:pt x="15" y="521"/>
                    </a:lnTo>
                    <a:lnTo>
                      <a:pt x="15" y="565"/>
                    </a:lnTo>
                    <a:lnTo>
                      <a:pt x="22" y="609"/>
                    </a:lnTo>
                    <a:lnTo>
                      <a:pt x="27" y="630"/>
                    </a:lnTo>
                    <a:lnTo>
                      <a:pt x="37" y="652"/>
                    </a:lnTo>
                    <a:lnTo>
                      <a:pt x="49" y="673"/>
                    </a:lnTo>
                    <a:lnTo>
                      <a:pt x="65" y="695"/>
                    </a:lnTo>
                    <a:lnTo>
                      <a:pt x="53" y="703"/>
                    </a:lnTo>
                    <a:lnTo>
                      <a:pt x="37" y="681"/>
                    </a:lnTo>
                    <a:lnTo>
                      <a:pt x="24" y="658"/>
                    </a:lnTo>
                    <a:lnTo>
                      <a:pt x="14" y="636"/>
                    </a:lnTo>
                    <a:lnTo>
                      <a:pt x="8" y="612"/>
                    </a:lnTo>
                    <a:lnTo>
                      <a:pt x="0" y="566"/>
                    </a:lnTo>
                    <a:lnTo>
                      <a:pt x="0" y="521"/>
                    </a:lnTo>
                    <a:lnTo>
                      <a:pt x="8" y="476"/>
                    </a:lnTo>
                    <a:lnTo>
                      <a:pt x="19" y="430"/>
                    </a:lnTo>
                    <a:lnTo>
                      <a:pt x="49" y="341"/>
                    </a:lnTo>
                    <a:lnTo>
                      <a:pt x="77" y="253"/>
                    </a:lnTo>
                    <a:lnTo>
                      <a:pt x="88" y="212"/>
                    </a:lnTo>
                    <a:lnTo>
                      <a:pt x="93" y="170"/>
                    </a:lnTo>
                    <a:lnTo>
                      <a:pt x="93" y="150"/>
                    </a:lnTo>
                    <a:lnTo>
                      <a:pt x="91" y="130"/>
                    </a:lnTo>
                    <a:lnTo>
                      <a:pt x="87" y="108"/>
                    </a:lnTo>
                    <a:lnTo>
                      <a:pt x="81" y="90"/>
                    </a:lnTo>
                    <a:lnTo>
                      <a:pt x="73" y="70"/>
                    </a:lnTo>
                    <a:lnTo>
                      <a:pt x="63" y="50"/>
                    </a:lnTo>
                    <a:lnTo>
                      <a:pt x="48" y="30"/>
                    </a:lnTo>
                    <a:lnTo>
                      <a:pt x="31" y="1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054760" y="2152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0" y="0"/>
                    </a:moveTo>
                    <a:lnTo>
                      <a:pt x="11" y="1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73480" y="2550600"/>
                <a:ext cx="625680" cy="259920"/>
              </a:xfrm>
              <a:custGeom>
                <a:avLst/>
                <a:gdLst/>
                <a:ahLst/>
                <a:rect l="l" t="t" r="r" b="b"/>
                <a:pathLst>
                  <a:path w="789" h="329">
                    <a:moveTo>
                      <a:pt x="10" y="192"/>
                    </a:moveTo>
                    <a:lnTo>
                      <a:pt x="64" y="233"/>
                    </a:lnTo>
                    <a:lnTo>
                      <a:pt x="91" y="252"/>
                    </a:lnTo>
                    <a:lnTo>
                      <a:pt x="116" y="267"/>
                    </a:lnTo>
                    <a:lnTo>
                      <a:pt x="144" y="281"/>
                    </a:lnTo>
                    <a:lnTo>
                      <a:pt x="171" y="292"/>
                    </a:lnTo>
                    <a:lnTo>
                      <a:pt x="197" y="299"/>
                    </a:lnTo>
                    <a:lnTo>
                      <a:pt x="223" y="307"/>
                    </a:lnTo>
                    <a:lnTo>
                      <a:pt x="275" y="314"/>
                    </a:lnTo>
                    <a:lnTo>
                      <a:pt x="327" y="314"/>
                    </a:lnTo>
                    <a:lnTo>
                      <a:pt x="377" y="307"/>
                    </a:lnTo>
                    <a:lnTo>
                      <a:pt x="402" y="299"/>
                    </a:lnTo>
                    <a:lnTo>
                      <a:pt x="426" y="293"/>
                    </a:lnTo>
                    <a:lnTo>
                      <a:pt x="450" y="283"/>
                    </a:lnTo>
                    <a:lnTo>
                      <a:pt x="475" y="272"/>
                    </a:lnTo>
                    <a:lnTo>
                      <a:pt x="522" y="247"/>
                    </a:lnTo>
                    <a:lnTo>
                      <a:pt x="544" y="232"/>
                    </a:lnTo>
                    <a:lnTo>
                      <a:pt x="567" y="215"/>
                    </a:lnTo>
                    <a:lnTo>
                      <a:pt x="613" y="181"/>
                    </a:lnTo>
                    <a:lnTo>
                      <a:pt x="657" y="140"/>
                    </a:lnTo>
                    <a:lnTo>
                      <a:pt x="699" y="96"/>
                    </a:lnTo>
                    <a:lnTo>
                      <a:pt x="739" y="50"/>
                    </a:lnTo>
                    <a:lnTo>
                      <a:pt x="778" y="0"/>
                    </a:lnTo>
                    <a:lnTo>
                      <a:pt x="789" y="9"/>
                    </a:lnTo>
                    <a:lnTo>
                      <a:pt x="750" y="60"/>
                    </a:lnTo>
                    <a:lnTo>
                      <a:pt x="709" y="107"/>
                    </a:lnTo>
                    <a:lnTo>
                      <a:pt x="666" y="151"/>
                    </a:lnTo>
                    <a:lnTo>
                      <a:pt x="622" y="192"/>
                    </a:lnTo>
                    <a:lnTo>
                      <a:pt x="576" y="227"/>
                    </a:lnTo>
                    <a:lnTo>
                      <a:pt x="553" y="244"/>
                    </a:lnTo>
                    <a:lnTo>
                      <a:pt x="530" y="259"/>
                    </a:lnTo>
                    <a:lnTo>
                      <a:pt x="481" y="286"/>
                    </a:lnTo>
                    <a:lnTo>
                      <a:pt x="456" y="297"/>
                    </a:lnTo>
                    <a:lnTo>
                      <a:pt x="431" y="307"/>
                    </a:lnTo>
                    <a:lnTo>
                      <a:pt x="405" y="314"/>
                    </a:lnTo>
                    <a:lnTo>
                      <a:pt x="379" y="321"/>
                    </a:lnTo>
                    <a:lnTo>
                      <a:pt x="327" y="329"/>
                    </a:lnTo>
                    <a:lnTo>
                      <a:pt x="274" y="329"/>
                    </a:lnTo>
                    <a:lnTo>
                      <a:pt x="220" y="321"/>
                    </a:lnTo>
                    <a:lnTo>
                      <a:pt x="195" y="314"/>
                    </a:lnTo>
                    <a:lnTo>
                      <a:pt x="165" y="305"/>
                    </a:lnTo>
                    <a:lnTo>
                      <a:pt x="138" y="294"/>
                    </a:lnTo>
                    <a:lnTo>
                      <a:pt x="110" y="281"/>
                    </a:lnTo>
                    <a:lnTo>
                      <a:pt x="82" y="264"/>
                    </a:lnTo>
                    <a:lnTo>
                      <a:pt x="55" y="245"/>
                    </a:lnTo>
                    <a:lnTo>
                      <a:pt x="0" y="203"/>
                    </a:lnTo>
                    <a:lnTo>
                      <a:pt x="1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072040" y="270288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9"/>
                    </a:moveTo>
                    <a:lnTo>
                      <a:pt x="1" y="11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675400" y="2088720"/>
                <a:ext cx="110880" cy="469440"/>
              </a:xfrm>
              <a:custGeom>
                <a:avLst/>
                <a:gdLst/>
                <a:ahLst/>
                <a:rect l="l" t="t" r="r" b="b"/>
                <a:pathLst>
                  <a:path w="140" h="591">
                    <a:moveTo>
                      <a:pt x="19" y="582"/>
                    </a:moveTo>
                    <a:lnTo>
                      <a:pt x="44" y="546"/>
                    </a:lnTo>
                    <a:lnTo>
                      <a:pt x="66" y="508"/>
                    </a:lnTo>
                    <a:lnTo>
                      <a:pt x="85" y="472"/>
                    </a:lnTo>
                    <a:lnTo>
                      <a:pt x="99" y="436"/>
                    </a:lnTo>
                    <a:lnTo>
                      <a:pt x="112" y="399"/>
                    </a:lnTo>
                    <a:lnTo>
                      <a:pt x="119" y="363"/>
                    </a:lnTo>
                    <a:lnTo>
                      <a:pt x="124" y="326"/>
                    </a:lnTo>
                    <a:lnTo>
                      <a:pt x="126" y="291"/>
                    </a:lnTo>
                    <a:lnTo>
                      <a:pt x="124" y="256"/>
                    </a:lnTo>
                    <a:lnTo>
                      <a:pt x="118" y="221"/>
                    </a:lnTo>
                    <a:lnTo>
                      <a:pt x="107" y="185"/>
                    </a:lnTo>
                    <a:lnTo>
                      <a:pt x="94" y="150"/>
                    </a:lnTo>
                    <a:lnTo>
                      <a:pt x="77" y="115"/>
                    </a:lnTo>
                    <a:lnTo>
                      <a:pt x="55" y="80"/>
                    </a:lnTo>
                    <a:lnTo>
                      <a:pt x="30" y="45"/>
                    </a:lnTo>
                    <a:lnTo>
                      <a:pt x="0" y="9"/>
                    </a:lnTo>
                    <a:lnTo>
                      <a:pt x="11" y="0"/>
                    </a:lnTo>
                    <a:lnTo>
                      <a:pt x="41" y="35"/>
                    </a:lnTo>
                    <a:lnTo>
                      <a:pt x="66" y="72"/>
                    </a:lnTo>
                    <a:lnTo>
                      <a:pt x="90" y="107"/>
                    </a:lnTo>
                    <a:lnTo>
                      <a:pt x="107" y="144"/>
                    </a:lnTo>
                    <a:lnTo>
                      <a:pt x="120" y="181"/>
                    </a:lnTo>
                    <a:lnTo>
                      <a:pt x="131" y="217"/>
                    </a:lnTo>
                    <a:lnTo>
                      <a:pt x="137" y="254"/>
                    </a:lnTo>
                    <a:lnTo>
                      <a:pt x="140" y="291"/>
                    </a:lnTo>
                    <a:lnTo>
                      <a:pt x="137" y="329"/>
                    </a:lnTo>
                    <a:lnTo>
                      <a:pt x="132" y="366"/>
                    </a:lnTo>
                    <a:lnTo>
                      <a:pt x="125" y="404"/>
                    </a:lnTo>
                    <a:lnTo>
                      <a:pt x="113" y="442"/>
                    </a:lnTo>
                    <a:lnTo>
                      <a:pt x="97" y="479"/>
                    </a:lnTo>
                    <a:lnTo>
                      <a:pt x="79" y="517"/>
                    </a:lnTo>
                    <a:lnTo>
                      <a:pt x="57" y="555"/>
                    </a:lnTo>
                    <a:lnTo>
                      <a:pt x="30" y="591"/>
                    </a:lnTo>
                    <a:lnTo>
                      <a:pt x="19" y="5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689440" y="255060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9"/>
                    </a:moveTo>
                    <a:lnTo>
                      <a:pt x="0" y="0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281560" y="1982160"/>
                <a:ext cx="403200" cy="114120"/>
              </a:xfrm>
              <a:custGeom>
                <a:avLst/>
                <a:gdLst/>
                <a:ahLst/>
                <a:rect l="l" t="t" r="r" b="b"/>
                <a:pathLst>
                  <a:path w="507" h="146">
                    <a:moveTo>
                      <a:pt x="498" y="146"/>
                    </a:moveTo>
                    <a:lnTo>
                      <a:pt x="484" y="135"/>
                    </a:lnTo>
                    <a:lnTo>
                      <a:pt x="469" y="125"/>
                    </a:lnTo>
                    <a:lnTo>
                      <a:pt x="443" y="108"/>
                    </a:lnTo>
                    <a:lnTo>
                      <a:pt x="412" y="97"/>
                    </a:lnTo>
                    <a:lnTo>
                      <a:pt x="383" y="88"/>
                    </a:lnTo>
                    <a:lnTo>
                      <a:pt x="353" y="82"/>
                    </a:lnTo>
                    <a:lnTo>
                      <a:pt x="323" y="78"/>
                    </a:lnTo>
                    <a:lnTo>
                      <a:pt x="258" y="73"/>
                    </a:lnTo>
                    <a:lnTo>
                      <a:pt x="193" y="71"/>
                    </a:lnTo>
                    <a:lnTo>
                      <a:pt x="127" y="64"/>
                    </a:lnTo>
                    <a:lnTo>
                      <a:pt x="94" y="56"/>
                    </a:lnTo>
                    <a:lnTo>
                      <a:pt x="61" y="47"/>
                    </a:lnTo>
                    <a:lnTo>
                      <a:pt x="32" y="31"/>
                    </a:lnTo>
                    <a:lnTo>
                      <a:pt x="0" y="12"/>
                    </a:lnTo>
                    <a:lnTo>
                      <a:pt x="9" y="0"/>
                    </a:lnTo>
                    <a:lnTo>
                      <a:pt x="39" y="18"/>
                    </a:lnTo>
                    <a:lnTo>
                      <a:pt x="67" y="33"/>
                    </a:lnTo>
                    <a:lnTo>
                      <a:pt x="99" y="43"/>
                    </a:lnTo>
                    <a:lnTo>
                      <a:pt x="130" y="50"/>
                    </a:lnTo>
                    <a:lnTo>
                      <a:pt x="193" y="58"/>
                    </a:lnTo>
                    <a:lnTo>
                      <a:pt x="258" y="60"/>
                    </a:lnTo>
                    <a:lnTo>
                      <a:pt x="323" y="65"/>
                    </a:lnTo>
                    <a:lnTo>
                      <a:pt x="356" y="69"/>
                    </a:lnTo>
                    <a:lnTo>
                      <a:pt x="386" y="75"/>
                    </a:lnTo>
                    <a:lnTo>
                      <a:pt x="418" y="83"/>
                    </a:lnTo>
                    <a:lnTo>
                      <a:pt x="450" y="95"/>
                    </a:lnTo>
                    <a:lnTo>
                      <a:pt x="478" y="113"/>
                    </a:lnTo>
                    <a:lnTo>
                      <a:pt x="494" y="124"/>
                    </a:lnTo>
                    <a:lnTo>
                      <a:pt x="507" y="135"/>
                    </a:lnTo>
                    <a:lnTo>
                      <a:pt x="498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675400" y="208872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2" y="11"/>
                    </a:lnTo>
                    <a:lnTo>
                      <a:pt x="0" y="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230800" y="1774440"/>
                <a:ext cx="93600" cy="217080"/>
              </a:xfrm>
              <a:custGeom>
                <a:avLst/>
                <a:gdLst/>
                <a:ahLst/>
                <a:rect l="l" t="t" r="r" b="b"/>
                <a:pathLst>
                  <a:path w="119" h="272">
                    <a:moveTo>
                      <a:pt x="65" y="272"/>
                    </a:moveTo>
                    <a:lnTo>
                      <a:pt x="48" y="255"/>
                    </a:lnTo>
                    <a:lnTo>
                      <a:pt x="32" y="236"/>
                    </a:lnTo>
                    <a:lnTo>
                      <a:pt x="20" y="216"/>
                    </a:lnTo>
                    <a:lnTo>
                      <a:pt x="10" y="198"/>
                    </a:lnTo>
                    <a:lnTo>
                      <a:pt x="4" y="179"/>
                    </a:lnTo>
                    <a:lnTo>
                      <a:pt x="2" y="160"/>
                    </a:lnTo>
                    <a:lnTo>
                      <a:pt x="0" y="140"/>
                    </a:lnTo>
                    <a:lnTo>
                      <a:pt x="3" y="123"/>
                    </a:lnTo>
                    <a:lnTo>
                      <a:pt x="8" y="105"/>
                    </a:lnTo>
                    <a:lnTo>
                      <a:pt x="16" y="86"/>
                    </a:lnTo>
                    <a:lnTo>
                      <a:pt x="37" y="55"/>
                    </a:lnTo>
                    <a:lnTo>
                      <a:pt x="53" y="40"/>
                    </a:lnTo>
                    <a:lnTo>
                      <a:pt x="70" y="24"/>
                    </a:lnTo>
                    <a:lnTo>
                      <a:pt x="110" y="0"/>
                    </a:lnTo>
                    <a:lnTo>
                      <a:pt x="119" y="12"/>
                    </a:lnTo>
                    <a:lnTo>
                      <a:pt x="79" y="36"/>
                    </a:lnTo>
                    <a:lnTo>
                      <a:pt x="63" y="51"/>
                    </a:lnTo>
                    <a:lnTo>
                      <a:pt x="48" y="64"/>
                    </a:lnTo>
                    <a:lnTo>
                      <a:pt x="28" y="95"/>
                    </a:lnTo>
                    <a:lnTo>
                      <a:pt x="21" y="111"/>
                    </a:lnTo>
                    <a:lnTo>
                      <a:pt x="16" y="127"/>
                    </a:lnTo>
                    <a:lnTo>
                      <a:pt x="14" y="143"/>
                    </a:lnTo>
                    <a:lnTo>
                      <a:pt x="15" y="157"/>
                    </a:lnTo>
                    <a:lnTo>
                      <a:pt x="17" y="175"/>
                    </a:lnTo>
                    <a:lnTo>
                      <a:pt x="24" y="192"/>
                    </a:lnTo>
                    <a:lnTo>
                      <a:pt x="32" y="209"/>
                    </a:lnTo>
                    <a:lnTo>
                      <a:pt x="43" y="226"/>
                    </a:lnTo>
                    <a:lnTo>
                      <a:pt x="58" y="244"/>
                    </a:lnTo>
                    <a:lnTo>
                      <a:pt x="75" y="261"/>
                    </a:lnTo>
                    <a:lnTo>
                      <a:pt x="65" y="2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281560" y="19821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12"/>
                    </a:moveTo>
                    <a:lnTo>
                      <a:pt x="10" y="1"/>
                    </a:lnTo>
                    <a:lnTo>
                      <a:pt x="9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318280" y="1718640"/>
                <a:ext cx="133200" cy="66600"/>
              </a:xfrm>
              <a:custGeom>
                <a:avLst/>
                <a:gdLst/>
                <a:ahLst/>
                <a:rect l="l" t="t" r="r" b="b"/>
                <a:pathLst>
                  <a:path w="167" h="83">
                    <a:moveTo>
                      <a:pt x="0" y="70"/>
                    </a:moveTo>
                    <a:lnTo>
                      <a:pt x="80" y="33"/>
                    </a:lnTo>
                    <a:lnTo>
                      <a:pt x="121" y="16"/>
                    </a:lnTo>
                    <a:lnTo>
                      <a:pt x="161" y="0"/>
                    </a:lnTo>
                    <a:lnTo>
                      <a:pt x="167" y="13"/>
                    </a:lnTo>
                    <a:lnTo>
                      <a:pt x="127" y="29"/>
                    </a:lnTo>
                    <a:lnTo>
                      <a:pt x="86" y="46"/>
                    </a:lnTo>
                    <a:lnTo>
                      <a:pt x="6" y="83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318280" y="177444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0"/>
                    </a:moveTo>
                    <a:lnTo>
                      <a:pt x="2" y="0"/>
                    </a:lnTo>
                    <a:lnTo>
                      <a:pt x="8" y="13"/>
                    </a:lnTo>
                    <a:lnTo>
                      <a:pt x="9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308560" y="1623600"/>
                <a:ext cx="144360" cy="105840"/>
              </a:xfrm>
              <a:custGeom>
                <a:avLst/>
                <a:gdLst/>
                <a:ahLst/>
                <a:rect l="l" t="t" r="r" b="b"/>
                <a:pathLst>
                  <a:path w="183" h="133">
                    <a:moveTo>
                      <a:pt x="174" y="133"/>
                    </a:moveTo>
                    <a:lnTo>
                      <a:pt x="88" y="71"/>
                    </a:lnTo>
                    <a:lnTo>
                      <a:pt x="0" y="11"/>
                    </a:lnTo>
                    <a:lnTo>
                      <a:pt x="9" y="0"/>
                    </a:lnTo>
                    <a:lnTo>
                      <a:pt x="97" y="60"/>
                    </a:lnTo>
                    <a:lnTo>
                      <a:pt x="183" y="122"/>
                    </a:lnTo>
                    <a:lnTo>
                      <a:pt x="174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45000" y="1718640"/>
                <a:ext cx="15840" cy="108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7" y="13"/>
                    </a:moveTo>
                    <a:lnTo>
                      <a:pt x="19" y="9"/>
                    </a:lnTo>
                    <a:lnTo>
                      <a:pt x="9" y="1"/>
                    </a:lnTo>
                    <a:lnTo>
                      <a:pt x="0" y="12"/>
                    </a:lnTo>
                    <a:lnTo>
                      <a:pt x="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981680" y="1479240"/>
                <a:ext cx="333360" cy="151920"/>
              </a:xfrm>
              <a:custGeom>
                <a:avLst/>
                <a:gdLst/>
                <a:ahLst/>
                <a:rect l="l" t="t" r="r" b="b"/>
                <a:pathLst>
                  <a:path w="421" h="193">
                    <a:moveTo>
                      <a:pt x="412" y="193"/>
                    </a:moveTo>
                    <a:lnTo>
                      <a:pt x="318" y="129"/>
                    </a:lnTo>
                    <a:lnTo>
                      <a:pt x="268" y="98"/>
                    </a:lnTo>
                    <a:lnTo>
                      <a:pt x="218" y="68"/>
                    </a:lnTo>
                    <a:lnTo>
                      <a:pt x="164" y="45"/>
                    </a:lnTo>
                    <a:lnTo>
                      <a:pt x="110" y="27"/>
                    </a:lnTo>
                    <a:lnTo>
                      <a:pt x="83" y="19"/>
                    </a:lnTo>
                    <a:lnTo>
                      <a:pt x="56" y="16"/>
                    </a:lnTo>
                    <a:lnTo>
                      <a:pt x="28" y="14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28" y="0"/>
                    </a:lnTo>
                    <a:lnTo>
                      <a:pt x="59" y="2"/>
                    </a:lnTo>
                    <a:lnTo>
                      <a:pt x="87" y="6"/>
                    </a:lnTo>
                    <a:lnTo>
                      <a:pt x="115" y="13"/>
                    </a:lnTo>
                    <a:lnTo>
                      <a:pt x="170" y="32"/>
                    </a:lnTo>
                    <a:lnTo>
                      <a:pt x="225" y="56"/>
                    </a:lnTo>
                    <a:lnTo>
                      <a:pt x="276" y="85"/>
                    </a:lnTo>
                    <a:lnTo>
                      <a:pt x="327" y="117"/>
                    </a:lnTo>
                    <a:lnTo>
                      <a:pt x="421" y="182"/>
                    </a:lnTo>
                    <a:lnTo>
                      <a:pt x="412" y="1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308560" y="16236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0"/>
                    </a:moveTo>
                    <a:lnTo>
                      <a:pt x="0" y="1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4964040" y="1480680"/>
                <a:ext cx="177840" cy="213840"/>
              </a:xfrm>
              <a:custGeom>
                <a:avLst/>
                <a:gdLst/>
                <a:ahLst/>
                <a:rect l="l" t="t" r="r" b="b"/>
                <a:pathLst>
                  <a:path w="225" h="269">
                    <a:moveTo>
                      <a:pt x="26" y="12"/>
                    </a:moveTo>
                    <a:lnTo>
                      <a:pt x="18" y="16"/>
                    </a:lnTo>
                    <a:lnTo>
                      <a:pt x="15" y="18"/>
                    </a:lnTo>
                    <a:lnTo>
                      <a:pt x="15" y="20"/>
                    </a:lnTo>
                    <a:lnTo>
                      <a:pt x="15" y="23"/>
                    </a:lnTo>
                    <a:lnTo>
                      <a:pt x="18" y="33"/>
                    </a:lnTo>
                    <a:lnTo>
                      <a:pt x="29" y="47"/>
                    </a:lnTo>
                    <a:lnTo>
                      <a:pt x="69" y="80"/>
                    </a:lnTo>
                    <a:lnTo>
                      <a:pt x="117" y="115"/>
                    </a:lnTo>
                    <a:lnTo>
                      <a:pt x="169" y="155"/>
                    </a:lnTo>
                    <a:lnTo>
                      <a:pt x="190" y="175"/>
                    </a:lnTo>
                    <a:lnTo>
                      <a:pt x="208" y="195"/>
                    </a:lnTo>
                    <a:lnTo>
                      <a:pt x="220" y="214"/>
                    </a:lnTo>
                    <a:lnTo>
                      <a:pt x="224" y="224"/>
                    </a:lnTo>
                    <a:lnTo>
                      <a:pt x="225" y="234"/>
                    </a:lnTo>
                    <a:lnTo>
                      <a:pt x="220" y="253"/>
                    </a:lnTo>
                    <a:lnTo>
                      <a:pt x="214" y="263"/>
                    </a:lnTo>
                    <a:lnTo>
                      <a:pt x="205" y="269"/>
                    </a:lnTo>
                    <a:lnTo>
                      <a:pt x="196" y="258"/>
                    </a:lnTo>
                    <a:lnTo>
                      <a:pt x="204" y="252"/>
                    </a:lnTo>
                    <a:lnTo>
                      <a:pt x="207" y="247"/>
                    </a:lnTo>
                    <a:lnTo>
                      <a:pt x="210" y="232"/>
                    </a:lnTo>
                    <a:lnTo>
                      <a:pt x="209" y="226"/>
                    </a:lnTo>
                    <a:lnTo>
                      <a:pt x="207" y="220"/>
                    </a:lnTo>
                    <a:lnTo>
                      <a:pt x="196" y="203"/>
                    </a:lnTo>
                    <a:lnTo>
                      <a:pt x="179" y="185"/>
                    </a:lnTo>
                    <a:lnTo>
                      <a:pt x="159" y="166"/>
                    </a:lnTo>
                    <a:lnTo>
                      <a:pt x="109" y="127"/>
                    </a:lnTo>
                    <a:lnTo>
                      <a:pt x="59" y="91"/>
                    </a:lnTo>
                    <a:lnTo>
                      <a:pt x="20" y="58"/>
                    </a:lnTo>
                    <a:lnTo>
                      <a:pt x="6" y="42"/>
                    </a:lnTo>
                    <a:lnTo>
                      <a:pt x="0" y="26"/>
                    </a:lnTo>
                    <a:lnTo>
                      <a:pt x="0" y="17"/>
                    </a:lnTo>
                    <a:lnTo>
                      <a:pt x="4" y="9"/>
                    </a:lnTo>
                    <a:lnTo>
                      <a:pt x="10" y="4"/>
                    </a:lnTo>
                    <a:lnTo>
                      <a:pt x="18" y="0"/>
                    </a:lnTo>
                    <a:lnTo>
                      <a:pt x="2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4978440" y="148068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4" y="0"/>
                    </a:moveTo>
                    <a:lnTo>
                      <a:pt x="0" y="0"/>
                    </a:lnTo>
                    <a:lnTo>
                      <a:pt x="8" y="12"/>
                    </a:lnTo>
                    <a:lnTo>
                      <a:pt x="4" y="1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530600" y="1512360"/>
                <a:ext cx="594000" cy="196560"/>
              </a:xfrm>
              <a:custGeom>
                <a:avLst/>
                <a:gdLst/>
                <a:ahLst/>
                <a:rect l="l" t="t" r="r" b="b"/>
                <a:pathLst>
                  <a:path w="748" h="247">
                    <a:moveTo>
                      <a:pt x="748" y="229"/>
                    </a:moveTo>
                    <a:lnTo>
                      <a:pt x="699" y="240"/>
                    </a:lnTo>
                    <a:lnTo>
                      <a:pt x="675" y="244"/>
                    </a:lnTo>
                    <a:lnTo>
                      <a:pt x="649" y="247"/>
                    </a:lnTo>
                    <a:lnTo>
                      <a:pt x="601" y="247"/>
                    </a:lnTo>
                    <a:lnTo>
                      <a:pt x="551" y="242"/>
                    </a:lnTo>
                    <a:lnTo>
                      <a:pt x="502" y="233"/>
                    </a:lnTo>
                    <a:lnTo>
                      <a:pt x="455" y="220"/>
                    </a:lnTo>
                    <a:lnTo>
                      <a:pt x="358" y="187"/>
                    </a:lnTo>
                    <a:lnTo>
                      <a:pt x="312" y="166"/>
                    </a:lnTo>
                    <a:lnTo>
                      <a:pt x="265" y="144"/>
                    </a:lnTo>
                    <a:lnTo>
                      <a:pt x="174" y="99"/>
                    </a:lnTo>
                    <a:lnTo>
                      <a:pt x="85" y="52"/>
                    </a:lnTo>
                    <a:lnTo>
                      <a:pt x="0" y="12"/>
                    </a:lnTo>
                    <a:lnTo>
                      <a:pt x="7" y="0"/>
                    </a:lnTo>
                    <a:lnTo>
                      <a:pt x="93" y="40"/>
                    </a:lnTo>
                    <a:lnTo>
                      <a:pt x="181" y="86"/>
                    </a:lnTo>
                    <a:lnTo>
                      <a:pt x="273" y="132"/>
                    </a:lnTo>
                    <a:lnTo>
                      <a:pt x="318" y="154"/>
                    </a:lnTo>
                    <a:lnTo>
                      <a:pt x="364" y="173"/>
                    </a:lnTo>
                    <a:lnTo>
                      <a:pt x="460" y="206"/>
                    </a:lnTo>
                    <a:lnTo>
                      <a:pt x="506" y="220"/>
                    </a:lnTo>
                    <a:lnTo>
                      <a:pt x="554" y="228"/>
                    </a:lnTo>
                    <a:lnTo>
                      <a:pt x="601" y="233"/>
                    </a:lnTo>
                    <a:lnTo>
                      <a:pt x="649" y="233"/>
                    </a:lnTo>
                    <a:lnTo>
                      <a:pt x="672" y="231"/>
                    </a:lnTo>
                    <a:lnTo>
                      <a:pt x="695" y="227"/>
                    </a:lnTo>
                    <a:lnTo>
                      <a:pt x="743" y="216"/>
                    </a:lnTo>
                    <a:lnTo>
                      <a:pt x="748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118120" y="168372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12"/>
                    </a:moveTo>
                    <a:lnTo>
                      <a:pt x="8" y="13"/>
                    </a:lnTo>
                    <a:lnTo>
                      <a:pt x="7" y="13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3" name=""/>
            <p:cNvGrpSpPr/>
            <p:nvPr/>
          </p:nvGrpSpPr>
          <p:grpSpPr>
            <a:xfrm>
              <a:off x="2819520" y="1219320"/>
              <a:ext cx="3795480" cy="4560120"/>
              <a:chOff x="2819520" y="1219320"/>
              <a:chExt cx="3795480" cy="4560120"/>
            </a:xfrm>
          </p:grpSpPr>
          <p:sp>
            <p:nvSpPr>
              <p:cNvPr id="1084" name=""/>
              <p:cNvSpPr/>
              <p:nvPr/>
            </p:nvSpPr>
            <p:spPr>
              <a:xfrm>
                <a:off x="4251240" y="1331640"/>
                <a:ext cx="273240" cy="190440"/>
              </a:xfrm>
              <a:custGeom>
                <a:avLst/>
                <a:gdLst/>
                <a:ahLst/>
                <a:rect l="l" t="t" r="r" b="b"/>
                <a:pathLst>
                  <a:path w="343" h="241">
                    <a:moveTo>
                      <a:pt x="337" y="241"/>
                    </a:moveTo>
                    <a:lnTo>
                      <a:pt x="237" y="204"/>
                    </a:lnTo>
                    <a:lnTo>
                      <a:pt x="165" y="175"/>
                    </a:lnTo>
                    <a:lnTo>
                      <a:pt x="94" y="142"/>
                    </a:lnTo>
                    <a:lnTo>
                      <a:pt x="62" y="125"/>
                    </a:lnTo>
                    <a:lnTo>
                      <a:pt x="36" y="108"/>
                    </a:lnTo>
                    <a:lnTo>
                      <a:pt x="25" y="99"/>
                    </a:lnTo>
                    <a:lnTo>
                      <a:pt x="17" y="89"/>
                    </a:lnTo>
                    <a:lnTo>
                      <a:pt x="8" y="81"/>
                    </a:lnTo>
                    <a:lnTo>
                      <a:pt x="2" y="71"/>
                    </a:lnTo>
                    <a:lnTo>
                      <a:pt x="0" y="60"/>
                    </a:lnTo>
                    <a:lnTo>
                      <a:pt x="0" y="49"/>
                    </a:lnTo>
                    <a:lnTo>
                      <a:pt x="3" y="39"/>
                    </a:lnTo>
                    <a:lnTo>
                      <a:pt x="11" y="29"/>
                    </a:lnTo>
                    <a:lnTo>
                      <a:pt x="19" y="21"/>
                    </a:lnTo>
                    <a:lnTo>
                      <a:pt x="33" y="14"/>
                    </a:lnTo>
                    <a:lnTo>
                      <a:pt x="48" y="6"/>
                    </a:lnTo>
                    <a:lnTo>
                      <a:pt x="68" y="0"/>
                    </a:lnTo>
                    <a:lnTo>
                      <a:pt x="73" y="14"/>
                    </a:lnTo>
                    <a:lnTo>
                      <a:pt x="55" y="20"/>
                    </a:lnTo>
                    <a:lnTo>
                      <a:pt x="39" y="27"/>
                    </a:lnTo>
                    <a:lnTo>
                      <a:pt x="28" y="33"/>
                    </a:lnTo>
                    <a:lnTo>
                      <a:pt x="20" y="40"/>
                    </a:lnTo>
                    <a:lnTo>
                      <a:pt x="15" y="48"/>
                    </a:lnTo>
                    <a:lnTo>
                      <a:pt x="13" y="53"/>
                    </a:lnTo>
                    <a:lnTo>
                      <a:pt x="13" y="58"/>
                    </a:lnTo>
                    <a:lnTo>
                      <a:pt x="15" y="65"/>
                    </a:lnTo>
                    <a:lnTo>
                      <a:pt x="19" y="72"/>
                    </a:lnTo>
                    <a:lnTo>
                      <a:pt x="26" y="80"/>
                    </a:lnTo>
                    <a:lnTo>
                      <a:pt x="35" y="88"/>
                    </a:lnTo>
                    <a:lnTo>
                      <a:pt x="45" y="97"/>
                    </a:lnTo>
                    <a:lnTo>
                      <a:pt x="70" y="113"/>
                    </a:lnTo>
                    <a:lnTo>
                      <a:pt x="101" y="130"/>
                    </a:lnTo>
                    <a:lnTo>
                      <a:pt x="171" y="163"/>
                    </a:lnTo>
                    <a:lnTo>
                      <a:pt x="243" y="191"/>
                    </a:lnTo>
                    <a:lnTo>
                      <a:pt x="343" y="228"/>
                    </a:lnTo>
                    <a:lnTo>
                      <a:pt x="337" y="2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4519440" y="1511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6" y="0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4308480" y="1325520"/>
                <a:ext cx="404640" cy="53640"/>
              </a:xfrm>
              <a:custGeom>
                <a:avLst/>
                <a:gdLst/>
                <a:ahLst/>
                <a:rect l="l" t="t" r="r" b="b"/>
                <a:pathLst>
                  <a:path w="510" h="68">
                    <a:moveTo>
                      <a:pt x="0" y="6"/>
                    </a:moveTo>
                    <a:lnTo>
                      <a:pt x="33" y="1"/>
                    </a:lnTo>
                    <a:lnTo>
                      <a:pt x="65" y="0"/>
                    </a:lnTo>
                    <a:lnTo>
                      <a:pt x="97" y="0"/>
                    </a:lnTo>
                    <a:lnTo>
                      <a:pt x="129" y="2"/>
                    </a:lnTo>
                    <a:lnTo>
                      <a:pt x="194" y="11"/>
                    </a:lnTo>
                    <a:lnTo>
                      <a:pt x="257" y="23"/>
                    </a:lnTo>
                    <a:lnTo>
                      <a:pt x="319" y="35"/>
                    </a:lnTo>
                    <a:lnTo>
                      <a:pt x="351" y="41"/>
                    </a:lnTo>
                    <a:lnTo>
                      <a:pt x="383" y="46"/>
                    </a:lnTo>
                    <a:lnTo>
                      <a:pt x="414" y="51"/>
                    </a:lnTo>
                    <a:lnTo>
                      <a:pt x="445" y="54"/>
                    </a:lnTo>
                    <a:lnTo>
                      <a:pt x="477" y="54"/>
                    </a:lnTo>
                    <a:lnTo>
                      <a:pt x="510" y="52"/>
                    </a:lnTo>
                    <a:lnTo>
                      <a:pt x="510" y="67"/>
                    </a:lnTo>
                    <a:lnTo>
                      <a:pt x="477" y="68"/>
                    </a:lnTo>
                    <a:lnTo>
                      <a:pt x="444" y="68"/>
                    </a:lnTo>
                    <a:lnTo>
                      <a:pt x="412" y="66"/>
                    </a:lnTo>
                    <a:lnTo>
                      <a:pt x="381" y="61"/>
                    </a:lnTo>
                    <a:lnTo>
                      <a:pt x="349" y="56"/>
                    </a:lnTo>
                    <a:lnTo>
                      <a:pt x="317" y="50"/>
                    </a:lnTo>
                    <a:lnTo>
                      <a:pt x="255" y="38"/>
                    </a:lnTo>
                    <a:lnTo>
                      <a:pt x="191" y="25"/>
                    </a:lnTo>
                    <a:lnTo>
                      <a:pt x="128" y="17"/>
                    </a:lnTo>
                    <a:lnTo>
                      <a:pt x="97" y="14"/>
                    </a:lnTo>
                    <a:lnTo>
                      <a:pt x="65" y="14"/>
                    </a:lnTo>
                    <a:lnTo>
                      <a:pt x="35" y="16"/>
                    </a:lnTo>
                    <a:lnTo>
                      <a:pt x="2" y="2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305240" y="133020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1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4559400" y="1285920"/>
                <a:ext cx="168120" cy="91440"/>
              </a:xfrm>
              <a:custGeom>
                <a:avLst/>
                <a:gdLst/>
                <a:ahLst/>
                <a:rect l="l" t="t" r="r" b="b"/>
                <a:pathLst>
                  <a:path w="213" h="117">
                    <a:moveTo>
                      <a:pt x="190" y="104"/>
                    </a:moveTo>
                    <a:lnTo>
                      <a:pt x="198" y="100"/>
                    </a:lnTo>
                    <a:lnTo>
                      <a:pt x="199" y="100"/>
                    </a:lnTo>
                    <a:lnTo>
                      <a:pt x="198" y="99"/>
                    </a:lnTo>
                    <a:lnTo>
                      <a:pt x="193" y="93"/>
                    </a:lnTo>
                    <a:lnTo>
                      <a:pt x="169" y="77"/>
                    </a:lnTo>
                    <a:lnTo>
                      <a:pt x="132" y="61"/>
                    </a:lnTo>
                    <a:lnTo>
                      <a:pt x="51" y="30"/>
                    </a:lnTo>
                    <a:lnTo>
                      <a:pt x="0" y="13"/>
                    </a:lnTo>
                    <a:lnTo>
                      <a:pt x="5" y="0"/>
                    </a:lnTo>
                    <a:lnTo>
                      <a:pt x="57" y="17"/>
                    </a:lnTo>
                    <a:lnTo>
                      <a:pt x="138" y="47"/>
                    </a:lnTo>
                    <a:lnTo>
                      <a:pt x="176" y="64"/>
                    </a:lnTo>
                    <a:lnTo>
                      <a:pt x="202" y="82"/>
                    </a:lnTo>
                    <a:lnTo>
                      <a:pt x="209" y="90"/>
                    </a:lnTo>
                    <a:lnTo>
                      <a:pt x="213" y="100"/>
                    </a:lnTo>
                    <a:lnTo>
                      <a:pt x="207" y="112"/>
                    </a:lnTo>
                    <a:lnTo>
                      <a:pt x="196" y="117"/>
                    </a:lnTo>
                    <a:lnTo>
                      <a:pt x="19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710240" y="136656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3" y="15"/>
                    </a:moveTo>
                    <a:lnTo>
                      <a:pt x="6" y="15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111560" y="1219320"/>
                <a:ext cx="451080" cy="77400"/>
              </a:xfrm>
              <a:custGeom>
                <a:avLst/>
                <a:gdLst/>
                <a:ahLst/>
                <a:rect l="l" t="t" r="r" b="b"/>
                <a:pathLst>
                  <a:path w="569" h="98">
                    <a:moveTo>
                      <a:pt x="565" y="98"/>
                    </a:moveTo>
                    <a:lnTo>
                      <a:pt x="495" y="81"/>
                    </a:lnTo>
                    <a:lnTo>
                      <a:pt x="426" y="66"/>
                    </a:lnTo>
                    <a:lnTo>
                      <a:pt x="355" y="53"/>
                    </a:lnTo>
                    <a:lnTo>
                      <a:pt x="285" y="41"/>
                    </a:lnTo>
                    <a:lnTo>
                      <a:pt x="143" y="22"/>
                    </a:lnTo>
                    <a:lnTo>
                      <a:pt x="72" y="17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72" y="4"/>
                    </a:lnTo>
                    <a:lnTo>
                      <a:pt x="146" y="9"/>
                    </a:lnTo>
                    <a:lnTo>
                      <a:pt x="288" y="27"/>
                    </a:lnTo>
                    <a:lnTo>
                      <a:pt x="358" y="39"/>
                    </a:lnTo>
                    <a:lnTo>
                      <a:pt x="429" y="53"/>
                    </a:lnTo>
                    <a:lnTo>
                      <a:pt x="499" y="67"/>
                    </a:lnTo>
                    <a:lnTo>
                      <a:pt x="569" y="85"/>
                    </a:lnTo>
                    <a:lnTo>
                      <a:pt x="56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559400" y="1285920"/>
                <a:ext cx="3240" cy="104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0"/>
                    </a:moveTo>
                    <a:lnTo>
                      <a:pt x="4" y="0"/>
                    </a:lnTo>
                    <a:lnTo>
                      <a:pt x="0" y="1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919680" y="1219320"/>
                <a:ext cx="191880" cy="53640"/>
              </a:xfrm>
              <a:custGeom>
                <a:avLst/>
                <a:gdLst/>
                <a:ahLst/>
                <a:rect l="l" t="t" r="r" b="b"/>
                <a:pathLst>
                  <a:path w="244" h="70">
                    <a:moveTo>
                      <a:pt x="244" y="14"/>
                    </a:moveTo>
                    <a:lnTo>
                      <a:pt x="185" y="26"/>
                    </a:lnTo>
                    <a:lnTo>
                      <a:pt x="125" y="39"/>
                    </a:lnTo>
                    <a:lnTo>
                      <a:pt x="5" y="70"/>
                    </a:lnTo>
                    <a:lnTo>
                      <a:pt x="0" y="56"/>
                    </a:lnTo>
                    <a:lnTo>
                      <a:pt x="120" y="26"/>
                    </a:lnTo>
                    <a:lnTo>
                      <a:pt x="180" y="12"/>
                    </a:lnTo>
                    <a:lnTo>
                      <a:pt x="240" y="0"/>
                    </a:lnTo>
                    <a:lnTo>
                      <a:pt x="24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108320" y="121932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4" h="14">
                    <a:moveTo>
                      <a:pt x="2" y="0"/>
                    </a:moveTo>
                    <a:lnTo>
                      <a:pt x="0" y="0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763800" y="1263600"/>
                <a:ext cx="158760" cy="78840"/>
              </a:xfrm>
              <a:custGeom>
                <a:avLst/>
                <a:gdLst/>
                <a:ahLst/>
                <a:rect l="l" t="t" r="r" b="b"/>
                <a:pathLst>
                  <a:path w="199" h="102">
                    <a:moveTo>
                      <a:pt x="199" y="14"/>
                    </a:moveTo>
                    <a:lnTo>
                      <a:pt x="151" y="31"/>
                    </a:lnTo>
                    <a:lnTo>
                      <a:pt x="82" y="59"/>
                    </a:lnTo>
                    <a:lnTo>
                      <a:pt x="23" y="87"/>
                    </a:lnTo>
                    <a:lnTo>
                      <a:pt x="11" y="9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5" y="102"/>
                    </a:lnTo>
                    <a:lnTo>
                      <a:pt x="0" y="100"/>
                    </a:lnTo>
                    <a:lnTo>
                      <a:pt x="0" y="85"/>
                    </a:lnTo>
                    <a:lnTo>
                      <a:pt x="15" y="75"/>
                    </a:lnTo>
                    <a:lnTo>
                      <a:pt x="74" y="47"/>
                    </a:lnTo>
                    <a:lnTo>
                      <a:pt x="145" y="18"/>
                    </a:lnTo>
                    <a:lnTo>
                      <a:pt x="193" y="0"/>
                    </a:lnTo>
                    <a:lnTo>
                      <a:pt x="19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917880" y="126360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1" y="0"/>
                    </a:moveTo>
                    <a:lnTo>
                      <a:pt x="0" y="0"/>
                    </a:lnTo>
                    <a:lnTo>
                      <a:pt x="6" y="1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772080" y="1272960"/>
                <a:ext cx="350640" cy="69480"/>
              </a:xfrm>
              <a:custGeom>
                <a:avLst/>
                <a:gdLst/>
                <a:ahLst/>
                <a:rect l="l" t="t" r="r" b="b"/>
                <a:pathLst>
                  <a:path w="443" h="88">
                    <a:moveTo>
                      <a:pt x="0" y="73"/>
                    </a:moveTo>
                    <a:lnTo>
                      <a:pt x="57" y="68"/>
                    </a:lnTo>
                    <a:lnTo>
                      <a:pt x="110" y="59"/>
                    </a:lnTo>
                    <a:lnTo>
                      <a:pt x="165" y="45"/>
                    </a:lnTo>
                    <a:lnTo>
                      <a:pt x="220" y="32"/>
                    </a:lnTo>
                    <a:lnTo>
                      <a:pt x="274" y="18"/>
                    </a:lnTo>
                    <a:lnTo>
                      <a:pt x="330" y="7"/>
                    </a:lnTo>
                    <a:lnTo>
                      <a:pt x="387" y="0"/>
                    </a:lnTo>
                    <a:lnTo>
                      <a:pt x="443" y="0"/>
                    </a:lnTo>
                    <a:lnTo>
                      <a:pt x="443" y="15"/>
                    </a:lnTo>
                    <a:lnTo>
                      <a:pt x="387" y="15"/>
                    </a:lnTo>
                    <a:lnTo>
                      <a:pt x="332" y="22"/>
                    </a:lnTo>
                    <a:lnTo>
                      <a:pt x="277" y="33"/>
                    </a:lnTo>
                    <a:lnTo>
                      <a:pt x="223" y="46"/>
                    </a:lnTo>
                    <a:lnTo>
                      <a:pt x="168" y="60"/>
                    </a:lnTo>
                    <a:lnTo>
                      <a:pt x="113" y="73"/>
                    </a:lnTo>
                    <a:lnTo>
                      <a:pt x="58" y="83"/>
                    </a:lnTo>
                    <a:lnTo>
                      <a:pt x="2" y="88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768840" y="133164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15"/>
                    </a:moveTo>
                    <a:lnTo>
                      <a:pt x="1" y="15"/>
                    </a:lnTo>
                    <a:lnTo>
                      <a:pt x="5" y="15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921120" y="1272960"/>
                <a:ext cx="239760" cy="137880"/>
              </a:xfrm>
              <a:custGeom>
                <a:avLst/>
                <a:gdLst/>
                <a:ahLst/>
                <a:rect l="l" t="t" r="r" b="b"/>
                <a:pathLst>
                  <a:path w="303" h="174">
                    <a:moveTo>
                      <a:pt x="255" y="0"/>
                    </a:moveTo>
                    <a:lnTo>
                      <a:pt x="282" y="7"/>
                    </a:lnTo>
                    <a:lnTo>
                      <a:pt x="291" y="12"/>
                    </a:lnTo>
                    <a:lnTo>
                      <a:pt x="298" y="17"/>
                    </a:lnTo>
                    <a:lnTo>
                      <a:pt x="303" y="26"/>
                    </a:lnTo>
                    <a:lnTo>
                      <a:pt x="303" y="32"/>
                    </a:lnTo>
                    <a:lnTo>
                      <a:pt x="300" y="40"/>
                    </a:lnTo>
                    <a:lnTo>
                      <a:pt x="296" y="48"/>
                    </a:lnTo>
                    <a:lnTo>
                      <a:pt x="282" y="60"/>
                    </a:lnTo>
                    <a:lnTo>
                      <a:pt x="261" y="73"/>
                    </a:lnTo>
                    <a:lnTo>
                      <a:pt x="209" y="99"/>
                    </a:lnTo>
                    <a:lnTo>
                      <a:pt x="145" y="125"/>
                    </a:lnTo>
                    <a:lnTo>
                      <a:pt x="84" y="148"/>
                    </a:lnTo>
                    <a:lnTo>
                      <a:pt x="6" y="174"/>
                    </a:lnTo>
                    <a:lnTo>
                      <a:pt x="0" y="160"/>
                    </a:lnTo>
                    <a:lnTo>
                      <a:pt x="78" y="134"/>
                    </a:lnTo>
                    <a:lnTo>
                      <a:pt x="139" y="111"/>
                    </a:lnTo>
                    <a:lnTo>
                      <a:pt x="201" y="87"/>
                    </a:lnTo>
                    <a:lnTo>
                      <a:pt x="253" y="61"/>
                    </a:lnTo>
                    <a:lnTo>
                      <a:pt x="272" y="49"/>
                    </a:lnTo>
                    <a:lnTo>
                      <a:pt x="285" y="38"/>
                    </a:lnTo>
                    <a:lnTo>
                      <a:pt x="287" y="34"/>
                    </a:lnTo>
                    <a:lnTo>
                      <a:pt x="288" y="30"/>
                    </a:lnTo>
                    <a:lnTo>
                      <a:pt x="288" y="28"/>
                    </a:lnTo>
                    <a:lnTo>
                      <a:pt x="287" y="27"/>
                    </a:lnTo>
                    <a:lnTo>
                      <a:pt x="282" y="24"/>
                    </a:lnTo>
                    <a:lnTo>
                      <a:pt x="276" y="21"/>
                    </a:lnTo>
                    <a:lnTo>
                      <a:pt x="253" y="15"/>
                    </a:lnTo>
                    <a:lnTo>
                      <a:pt x="2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121280" y="12729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1" y="0"/>
                    </a:moveTo>
                    <a:lnTo>
                      <a:pt x="2" y="0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392640" y="1401480"/>
                <a:ext cx="534960" cy="199800"/>
              </a:xfrm>
              <a:custGeom>
                <a:avLst/>
                <a:gdLst/>
                <a:ahLst/>
                <a:rect l="l" t="t" r="r" b="b"/>
                <a:pathLst>
                  <a:path w="672" h="253">
                    <a:moveTo>
                      <a:pt x="672" y="12"/>
                    </a:moveTo>
                    <a:lnTo>
                      <a:pt x="594" y="49"/>
                    </a:lnTo>
                    <a:lnTo>
                      <a:pt x="513" y="89"/>
                    </a:lnTo>
                    <a:lnTo>
                      <a:pt x="431" y="132"/>
                    </a:lnTo>
                    <a:lnTo>
                      <a:pt x="348" y="174"/>
                    </a:lnTo>
                    <a:lnTo>
                      <a:pt x="305" y="193"/>
                    </a:lnTo>
                    <a:lnTo>
                      <a:pt x="263" y="210"/>
                    </a:lnTo>
                    <a:lnTo>
                      <a:pt x="220" y="225"/>
                    </a:lnTo>
                    <a:lnTo>
                      <a:pt x="177" y="237"/>
                    </a:lnTo>
                    <a:lnTo>
                      <a:pt x="132" y="246"/>
                    </a:lnTo>
                    <a:lnTo>
                      <a:pt x="110" y="250"/>
                    </a:lnTo>
                    <a:lnTo>
                      <a:pt x="89" y="251"/>
                    </a:lnTo>
                    <a:lnTo>
                      <a:pt x="44" y="253"/>
                    </a:lnTo>
                    <a:lnTo>
                      <a:pt x="0" y="250"/>
                    </a:lnTo>
                    <a:lnTo>
                      <a:pt x="0" y="236"/>
                    </a:lnTo>
                    <a:lnTo>
                      <a:pt x="44" y="240"/>
                    </a:lnTo>
                    <a:lnTo>
                      <a:pt x="86" y="237"/>
                    </a:lnTo>
                    <a:lnTo>
                      <a:pt x="107" y="236"/>
                    </a:lnTo>
                    <a:lnTo>
                      <a:pt x="128" y="232"/>
                    </a:lnTo>
                    <a:lnTo>
                      <a:pt x="172" y="224"/>
                    </a:lnTo>
                    <a:lnTo>
                      <a:pt x="214" y="212"/>
                    </a:lnTo>
                    <a:lnTo>
                      <a:pt x="256" y="197"/>
                    </a:lnTo>
                    <a:lnTo>
                      <a:pt x="299" y="180"/>
                    </a:lnTo>
                    <a:lnTo>
                      <a:pt x="341" y="162"/>
                    </a:lnTo>
                    <a:lnTo>
                      <a:pt x="424" y="120"/>
                    </a:lnTo>
                    <a:lnTo>
                      <a:pt x="506" y="77"/>
                    </a:lnTo>
                    <a:lnTo>
                      <a:pt x="586" y="37"/>
                    </a:lnTo>
                    <a:lnTo>
                      <a:pt x="665" y="0"/>
                    </a:lnTo>
                    <a:lnTo>
                      <a:pt x="67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921120" y="140148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0"/>
                    </a:moveTo>
                    <a:lnTo>
                      <a:pt x="7" y="12"/>
                    </a:lnTo>
                    <a:lnTo>
                      <a:pt x="6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382920" y="1434960"/>
                <a:ext cx="165240" cy="163080"/>
              </a:xfrm>
              <a:custGeom>
                <a:avLst/>
                <a:gdLst/>
                <a:ahLst/>
                <a:rect l="l" t="t" r="r" b="b"/>
                <a:pathLst>
                  <a:path w="209" h="205">
                    <a:moveTo>
                      <a:pt x="9" y="205"/>
                    </a:moveTo>
                    <a:lnTo>
                      <a:pt x="5" y="202"/>
                    </a:lnTo>
                    <a:lnTo>
                      <a:pt x="0" y="196"/>
                    </a:lnTo>
                    <a:lnTo>
                      <a:pt x="0" y="187"/>
                    </a:lnTo>
                    <a:lnTo>
                      <a:pt x="3" y="180"/>
                    </a:lnTo>
                    <a:lnTo>
                      <a:pt x="9" y="166"/>
                    </a:lnTo>
                    <a:lnTo>
                      <a:pt x="21" y="153"/>
                    </a:lnTo>
                    <a:lnTo>
                      <a:pt x="37" y="138"/>
                    </a:lnTo>
                    <a:lnTo>
                      <a:pt x="55" y="122"/>
                    </a:lnTo>
                    <a:lnTo>
                      <a:pt x="97" y="89"/>
                    </a:lnTo>
                    <a:lnTo>
                      <a:pt x="140" y="57"/>
                    </a:lnTo>
                    <a:lnTo>
                      <a:pt x="175" y="30"/>
                    </a:lnTo>
                    <a:lnTo>
                      <a:pt x="187" y="19"/>
                    </a:lnTo>
                    <a:lnTo>
                      <a:pt x="195" y="11"/>
                    </a:lnTo>
                    <a:lnTo>
                      <a:pt x="196" y="10"/>
                    </a:lnTo>
                    <a:lnTo>
                      <a:pt x="195" y="11"/>
                    </a:lnTo>
                    <a:lnTo>
                      <a:pt x="204" y="0"/>
                    </a:lnTo>
                    <a:lnTo>
                      <a:pt x="209" y="7"/>
                    </a:lnTo>
                    <a:lnTo>
                      <a:pt x="207" y="19"/>
                    </a:lnTo>
                    <a:lnTo>
                      <a:pt x="197" y="30"/>
                    </a:lnTo>
                    <a:lnTo>
                      <a:pt x="185" y="41"/>
                    </a:lnTo>
                    <a:lnTo>
                      <a:pt x="148" y="70"/>
                    </a:lnTo>
                    <a:lnTo>
                      <a:pt x="105" y="101"/>
                    </a:lnTo>
                    <a:lnTo>
                      <a:pt x="65" y="133"/>
                    </a:lnTo>
                    <a:lnTo>
                      <a:pt x="47" y="149"/>
                    </a:lnTo>
                    <a:lnTo>
                      <a:pt x="31" y="164"/>
                    </a:lnTo>
                    <a:lnTo>
                      <a:pt x="20" y="176"/>
                    </a:lnTo>
                    <a:lnTo>
                      <a:pt x="15" y="187"/>
                    </a:lnTo>
                    <a:lnTo>
                      <a:pt x="14" y="189"/>
                    </a:lnTo>
                    <a:lnTo>
                      <a:pt x="14" y="191"/>
                    </a:lnTo>
                    <a:lnTo>
                      <a:pt x="15" y="192"/>
                    </a:lnTo>
                    <a:lnTo>
                      <a:pt x="19" y="194"/>
                    </a:lnTo>
                    <a:lnTo>
                      <a:pt x="9" y="2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389400" y="158904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4"/>
                    </a:moveTo>
                    <a:lnTo>
                      <a:pt x="1" y="14"/>
                    </a:lnTo>
                    <a:lnTo>
                      <a:pt x="0" y="12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255840" y="1433520"/>
                <a:ext cx="285840" cy="142560"/>
              </a:xfrm>
              <a:custGeom>
                <a:avLst/>
                <a:gdLst/>
                <a:ahLst/>
                <a:rect l="l" t="t" r="r" b="b"/>
                <a:pathLst>
                  <a:path w="361" h="179">
                    <a:moveTo>
                      <a:pt x="361" y="13"/>
                    </a:moveTo>
                    <a:lnTo>
                      <a:pt x="336" y="16"/>
                    </a:lnTo>
                    <a:lnTo>
                      <a:pt x="313" y="19"/>
                    </a:lnTo>
                    <a:lnTo>
                      <a:pt x="265" y="33"/>
                    </a:lnTo>
                    <a:lnTo>
                      <a:pt x="221" y="49"/>
                    </a:lnTo>
                    <a:lnTo>
                      <a:pt x="176" y="72"/>
                    </a:lnTo>
                    <a:lnTo>
                      <a:pt x="132" y="98"/>
                    </a:lnTo>
                    <a:lnTo>
                      <a:pt x="91" y="124"/>
                    </a:lnTo>
                    <a:lnTo>
                      <a:pt x="10" y="179"/>
                    </a:lnTo>
                    <a:lnTo>
                      <a:pt x="0" y="168"/>
                    </a:lnTo>
                    <a:lnTo>
                      <a:pt x="82" y="112"/>
                    </a:lnTo>
                    <a:lnTo>
                      <a:pt x="124" y="85"/>
                    </a:lnTo>
                    <a:lnTo>
                      <a:pt x="168" y="60"/>
                    </a:lnTo>
                    <a:lnTo>
                      <a:pt x="214" y="36"/>
                    </a:lnTo>
                    <a:lnTo>
                      <a:pt x="259" y="19"/>
                    </a:lnTo>
                    <a:lnTo>
                      <a:pt x="308" y="6"/>
                    </a:lnTo>
                    <a:lnTo>
                      <a:pt x="334" y="2"/>
                    </a:lnTo>
                    <a:lnTo>
                      <a:pt x="358" y="0"/>
                    </a:lnTo>
                    <a:lnTo>
                      <a:pt x="36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537000" y="143352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1"/>
                    </a:moveTo>
                    <a:lnTo>
                      <a:pt x="8" y="0"/>
                    </a:lnTo>
                    <a:lnTo>
                      <a:pt x="3" y="0"/>
                    </a:lnTo>
                    <a:lnTo>
                      <a:pt x="6" y="13"/>
                    </a:lnTo>
                    <a:lnTo>
                      <a:pt x="0" y="12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027240" y="1568160"/>
                <a:ext cx="235080" cy="174600"/>
              </a:xfrm>
              <a:custGeom>
                <a:avLst/>
                <a:gdLst/>
                <a:ahLst/>
                <a:rect l="l" t="t" r="r" b="b"/>
                <a:pathLst>
                  <a:path w="297" h="222">
                    <a:moveTo>
                      <a:pt x="297" y="11"/>
                    </a:moveTo>
                    <a:lnTo>
                      <a:pt x="222" y="60"/>
                    </a:lnTo>
                    <a:lnTo>
                      <a:pt x="150" y="112"/>
                    </a:lnTo>
                    <a:lnTo>
                      <a:pt x="79" y="166"/>
                    </a:lnTo>
                    <a:lnTo>
                      <a:pt x="10" y="222"/>
                    </a:lnTo>
                    <a:lnTo>
                      <a:pt x="0" y="211"/>
                    </a:lnTo>
                    <a:lnTo>
                      <a:pt x="70" y="154"/>
                    </a:lnTo>
                    <a:lnTo>
                      <a:pt x="140" y="101"/>
                    </a:lnTo>
                    <a:lnTo>
                      <a:pt x="213" y="49"/>
                    </a:lnTo>
                    <a:lnTo>
                      <a:pt x="287" y="0"/>
                    </a:lnTo>
                    <a:lnTo>
                      <a:pt x="29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255840" y="1568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1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029040" y="1733400"/>
                <a:ext cx="252360" cy="134640"/>
              </a:xfrm>
              <a:custGeom>
                <a:avLst/>
                <a:gdLst/>
                <a:ahLst/>
                <a:rect l="l" t="t" r="r" b="b"/>
                <a:pathLst>
                  <a:path w="319" h="168">
                    <a:moveTo>
                      <a:pt x="6" y="0"/>
                    </a:moveTo>
                    <a:lnTo>
                      <a:pt x="48" y="13"/>
                    </a:lnTo>
                    <a:lnTo>
                      <a:pt x="88" y="29"/>
                    </a:lnTo>
                    <a:lnTo>
                      <a:pt x="128" y="47"/>
                    </a:lnTo>
                    <a:lnTo>
                      <a:pt x="168" y="67"/>
                    </a:lnTo>
                    <a:lnTo>
                      <a:pt x="207" y="88"/>
                    </a:lnTo>
                    <a:lnTo>
                      <a:pt x="245" y="111"/>
                    </a:lnTo>
                    <a:lnTo>
                      <a:pt x="319" y="156"/>
                    </a:lnTo>
                    <a:lnTo>
                      <a:pt x="311" y="168"/>
                    </a:lnTo>
                    <a:lnTo>
                      <a:pt x="236" y="123"/>
                    </a:lnTo>
                    <a:lnTo>
                      <a:pt x="198" y="100"/>
                    </a:lnTo>
                    <a:lnTo>
                      <a:pt x="161" y="80"/>
                    </a:lnTo>
                    <a:lnTo>
                      <a:pt x="122" y="61"/>
                    </a:lnTo>
                    <a:lnTo>
                      <a:pt x="82" y="42"/>
                    </a:lnTo>
                    <a:lnTo>
                      <a:pt x="42" y="26"/>
                    </a:lnTo>
                    <a:lnTo>
                      <a:pt x="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017880" y="1733400"/>
                <a:ext cx="17280" cy="1080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11" y="1"/>
                    </a:moveTo>
                    <a:lnTo>
                      <a:pt x="0" y="9"/>
                    </a:lnTo>
                    <a:lnTo>
                      <a:pt x="12" y="13"/>
                    </a:lnTo>
                    <a:lnTo>
                      <a:pt x="18" y="0"/>
                    </a:lnTo>
                    <a:lnTo>
                      <a:pt x="21" y="12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274920" y="1858680"/>
                <a:ext cx="92160" cy="244440"/>
              </a:xfrm>
              <a:custGeom>
                <a:avLst/>
                <a:gdLst/>
                <a:ahLst/>
                <a:rect l="l" t="t" r="r" b="b"/>
                <a:pathLst>
                  <a:path w="117" h="308">
                    <a:moveTo>
                      <a:pt x="8" y="0"/>
                    </a:moveTo>
                    <a:lnTo>
                      <a:pt x="30" y="15"/>
                    </a:lnTo>
                    <a:lnTo>
                      <a:pt x="40" y="23"/>
                    </a:lnTo>
                    <a:lnTo>
                      <a:pt x="50" y="31"/>
                    </a:lnTo>
                    <a:lnTo>
                      <a:pt x="66" y="48"/>
                    </a:lnTo>
                    <a:lnTo>
                      <a:pt x="81" y="66"/>
                    </a:lnTo>
                    <a:lnTo>
                      <a:pt x="94" y="84"/>
                    </a:lnTo>
                    <a:lnTo>
                      <a:pt x="102" y="104"/>
                    </a:lnTo>
                    <a:lnTo>
                      <a:pt x="110" y="122"/>
                    </a:lnTo>
                    <a:lnTo>
                      <a:pt x="116" y="143"/>
                    </a:lnTo>
                    <a:lnTo>
                      <a:pt x="117" y="164"/>
                    </a:lnTo>
                    <a:lnTo>
                      <a:pt x="117" y="183"/>
                    </a:lnTo>
                    <a:lnTo>
                      <a:pt x="113" y="204"/>
                    </a:lnTo>
                    <a:lnTo>
                      <a:pt x="106" y="227"/>
                    </a:lnTo>
                    <a:lnTo>
                      <a:pt x="97" y="247"/>
                    </a:lnTo>
                    <a:lnTo>
                      <a:pt x="85" y="269"/>
                    </a:lnTo>
                    <a:lnTo>
                      <a:pt x="69" y="289"/>
                    </a:lnTo>
                    <a:lnTo>
                      <a:pt x="52" y="308"/>
                    </a:lnTo>
                    <a:lnTo>
                      <a:pt x="41" y="298"/>
                    </a:lnTo>
                    <a:lnTo>
                      <a:pt x="58" y="279"/>
                    </a:lnTo>
                    <a:lnTo>
                      <a:pt x="73" y="260"/>
                    </a:lnTo>
                    <a:lnTo>
                      <a:pt x="84" y="241"/>
                    </a:lnTo>
                    <a:lnTo>
                      <a:pt x="92" y="221"/>
                    </a:lnTo>
                    <a:lnTo>
                      <a:pt x="99" y="202"/>
                    </a:lnTo>
                    <a:lnTo>
                      <a:pt x="102" y="182"/>
                    </a:lnTo>
                    <a:lnTo>
                      <a:pt x="102" y="164"/>
                    </a:lnTo>
                    <a:lnTo>
                      <a:pt x="101" y="146"/>
                    </a:lnTo>
                    <a:lnTo>
                      <a:pt x="96" y="127"/>
                    </a:lnTo>
                    <a:lnTo>
                      <a:pt x="89" y="110"/>
                    </a:lnTo>
                    <a:lnTo>
                      <a:pt x="81" y="93"/>
                    </a:lnTo>
                    <a:lnTo>
                      <a:pt x="69" y="75"/>
                    </a:lnTo>
                    <a:lnTo>
                      <a:pt x="55" y="58"/>
                    </a:lnTo>
                    <a:lnTo>
                      <a:pt x="40" y="42"/>
                    </a:lnTo>
                    <a:lnTo>
                      <a:pt x="30" y="34"/>
                    </a:lnTo>
                    <a:lnTo>
                      <a:pt x="22" y="27"/>
                    </a:lnTo>
                    <a:lnTo>
                      <a:pt x="0" y="1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3274920" y="185868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0"/>
                    </a:moveTo>
                    <a:lnTo>
                      <a:pt x="0" y="1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2916360" y="2093760"/>
                <a:ext cx="398520" cy="109080"/>
              </a:xfrm>
              <a:custGeom>
                <a:avLst/>
                <a:gdLst/>
                <a:ahLst/>
                <a:rect l="l" t="t" r="r" b="b"/>
                <a:pathLst>
                  <a:path w="502" h="138">
                    <a:moveTo>
                      <a:pt x="502" y="12"/>
                    </a:moveTo>
                    <a:lnTo>
                      <a:pt x="473" y="31"/>
                    </a:lnTo>
                    <a:lnTo>
                      <a:pt x="441" y="47"/>
                    </a:lnTo>
                    <a:lnTo>
                      <a:pt x="410" y="56"/>
                    </a:lnTo>
                    <a:lnTo>
                      <a:pt x="377" y="63"/>
                    </a:lnTo>
                    <a:lnTo>
                      <a:pt x="345" y="66"/>
                    </a:lnTo>
                    <a:lnTo>
                      <a:pt x="311" y="67"/>
                    </a:lnTo>
                    <a:lnTo>
                      <a:pt x="246" y="67"/>
                    </a:lnTo>
                    <a:lnTo>
                      <a:pt x="183" y="69"/>
                    </a:lnTo>
                    <a:lnTo>
                      <a:pt x="151" y="71"/>
                    </a:lnTo>
                    <a:lnTo>
                      <a:pt x="122" y="77"/>
                    </a:lnTo>
                    <a:lnTo>
                      <a:pt x="91" y="86"/>
                    </a:lnTo>
                    <a:lnTo>
                      <a:pt x="64" y="97"/>
                    </a:lnTo>
                    <a:lnTo>
                      <a:pt x="36" y="115"/>
                    </a:lnTo>
                    <a:lnTo>
                      <a:pt x="9" y="138"/>
                    </a:lnTo>
                    <a:lnTo>
                      <a:pt x="0" y="127"/>
                    </a:lnTo>
                    <a:lnTo>
                      <a:pt x="26" y="104"/>
                    </a:lnTo>
                    <a:lnTo>
                      <a:pt x="56" y="85"/>
                    </a:lnTo>
                    <a:lnTo>
                      <a:pt x="85" y="72"/>
                    </a:lnTo>
                    <a:lnTo>
                      <a:pt x="117" y="64"/>
                    </a:lnTo>
                    <a:lnTo>
                      <a:pt x="147" y="58"/>
                    </a:lnTo>
                    <a:lnTo>
                      <a:pt x="180" y="55"/>
                    </a:lnTo>
                    <a:lnTo>
                      <a:pt x="246" y="53"/>
                    </a:lnTo>
                    <a:lnTo>
                      <a:pt x="311" y="54"/>
                    </a:lnTo>
                    <a:lnTo>
                      <a:pt x="343" y="53"/>
                    </a:lnTo>
                    <a:lnTo>
                      <a:pt x="374" y="49"/>
                    </a:lnTo>
                    <a:lnTo>
                      <a:pt x="405" y="43"/>
                    </a:lnTo>
                    <a:lnTo>
                      <a:pt x="435" y="33"/>
                    </a:lnTo>
                    <a:lnTo>
                      <a:pt x="464" y="19"/>
                    </a:lnTo>
                    <a:lnTo>
                      <a:pt x="493" y="0"/>
                    </a:lnTo>
                    <a:lnTo>
                      <a:pt x="50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308400" y="20937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11"/>
                    </a:moveTo>
                    <a:lnTo>
                      <a:pt x="10" y="12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819520" y="2195280"/>
                <a:ext cx="118800" cy="539640"/>
              </a:xfrm>
              <a:custGeom>
                <a:avLst/>
                <a:gdLst/>
                <a:ahLst/>
                <a:rect l="l" t="t" r="r" b="b"/>
                <a:pathLst>
                  <a:path w="152" h="681">
                    <a:moveTo>
                      <a:pt x="133" y="10"/>
                    </a:moveTo>
                    <a:lnTo>
                      <a:pt x="116" y="31"/>
                    </a:lnTo>
                    <a:lnTo>
                      <a:pt x="103" y="50"/>
                    </a:lnTo>
                    <a:lnTo>
                      <a:pt x="75" y="92"/>
                    </a:lnTo>
                    <a:lnTo>
                      <a:pt x="53" y="132"/>
                    </a:lnTo>
                    <a:lnTo>
                      <a:pt x="35" y="173"/>
                    </a:lnTo>
                    <a:lnTo>
                      <a:pt x="26" y="214"/>
                    </a:lnTo>
                    <a:lnTo>
                      <a:pt x="18" y="255"/>
                    </a:lnTo>
                    <a:lnTo>
                      <a:pt x="15" y="296"/>
                    </a:lnTo>
                    <a:lnTo>
                      <a:pt x="16" y="339"/>
                    </a:lnTo>
                    <a:lnTo>
                      <a:pt x="22" y="381"/>
                    </a:lnTo>
                    <a:lnTo>
                      <a:pt x="31" y="422"/>
                    </a:lnTo>
                    <a:lnTo>
                      <a:pt x="42" y="464"/>
                    </a:lnTo>
                    <a:lnTo>
                      <a:pt x="57" y="505"/>
                    </a:lnTo>
                    <a:lnTo>
                      <a:pt x="77" y="548"/>
                    </a:lnTo>
                    <a:lnTo>
                      <a:pt x="99" y="589"/>
                    </a:lnTo>
                    <a:lnTo>
                      <a:pt x="125" y="630"/>
                    </a:lnTo>
                    <a:lnTo>
                      <a:pt x="152" y="673"/>
                    </a:lnTo>
                    <a:lnTo>
                      <a:pt x="139" y="681"/>
                    </a:lnTo>
                    <a:lnTo>
                      <a:pt x="113" y="639"/>
                    </a:lnTo>
                    <a:lnTo>
                      <a:pt x="87" y="597"/>
                    </a:lnTo>
                    <a:lnTo>
                      <a:pt x="64" y="554"/>
                    </a:lnTo>
                    <a:lnTo>
                      <a:pt x="44" y="511"/>
                    </a:lnTo>
                    <a:lnTo>
                      <a:pt x="28" y="470"/>
                    </a:lnTo>
                    <a:lnTo>
                      <a:pt x="16" y="425"/>
                    </a:lnTo>
                    <a:lnTo>
                      <a:pt x="7" y="383"/>
                    </a:lnTo>
                    <a:lnTo>
                      <a:pt x="1" y="340"/>
                    </a:lnTo>
                    <a:lnTo>
                      <a:pt x="0" y="296"/>
                    </a:lnTo>
                    <a:lnTo>
                      <a:pt x="4" y="253"/>
                    </a:lnTo>
                    <a:lnTo>
                      <a:pt x="11" y="212"/>
                    </a:lnTo>
                    <a:lnTo>
                      <a:pt x="22" y="168"/>
                    </a:lnTo>
                    <a:lnTo>
                      <a:pt x="39" y="126"/>
                    </a:lnTo>
                    <a:lnTo>
                      <a:pt x="62" y="83"/>
                    </a:lnTo>
                    <a:lnTo>
                      <a:pt x="90" y="42"/>
                    </a:lnTo>
                    <a:lnTo>
                      <a:pt x="105" y="21"/>
                    </a:lnTo>
                    <a:lnTo>
                      <a:pt x="122" y="0"/>
                    </a:lnTo>
                    <a:lnTo>
                      <a:pt x="13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916360" y="219528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0"/>
                    </a:moveTo>
                    <a:lnTo>
                      <a:pt x="0" y="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928960" y="2728800"/>
                <a:ext cx="603360" cy="259920"/>
              </a:xfrm>
              <a:custGeom>
                <a:avLst/>
                <a:gdLst/>
                <a:ahLst/>
                <a:rect l="l" t="t" r="r" b="b"/>
                <a:pathLst>
                  <a:path w="761" h="329">
                    <a:moveTo>
                      <a:pt x="13" y="0"/>
                    </a:moveTo>
                    <a:lnTo>
                      <a:pt x="48" y="48"/>
                    </a:lnTo>
                    <a:lnTo>
                      <a:pt x="86" y="94"/>
                    </a:lnTo>
                    <a:lnTo>
                      <a:pt x="126" y="138"/>
                    </a:lnTo>
                    <a:lnTo>
                      <a:pt x="169" y="178"/>
                    </a:lnTo>
                    <a:lnTo>
                      <a:pt x="211" y="214"/>
                    </a:lnTo>
                    <a:lnTo>
                      <a:pt x="256" y="246"/>
                    </a:lnTo>
                    <a:lnTo>
                      <a:pt x="301" y="273"/>
                    </a:lnTo>
                    <a:lnTo>
                      <a:pt x="349" y="293"/>
                    </a:lnTo>
                    <a:lnTo>
                      <a:pt x="372" y="299"/>
                    </a:lnTo>
                    <a:lnTo>
                      <a:pt x="396" y="306"/>
                    </a:lnTo>
                    <a:lnTo>
                      <a:pt x="421" y="310"/>
                    </a:lnTo>
                    <a:lnTo>
                      <a:pt x="444" y="314"/>
                    </a:lnTo>
                    <a:lnTo>
                      <a:pt x="495" y="314"/>
                    </a:lnTo>
                    <a:lnTo>
                      <a:pt x="546" y="307"/>
                    </a:lnTo>
                    <a:lnTo>
                      <a:pt x="570" y="301"/>
                    </a:lnTo>
                    <a:lnTo>
                      <a:pt x="594" y="292"/>
                    </a:lnTo>
                    <a:lnTo>
                      <a:pt x="620" y="281"/>
                    </a:lnTo>
                    <a:lnTo>
                      <a:pt x="647" y="268"/>
                    </a:lnTo>
                    <a:lnTo>
                      <a:pt x="671" y="252"/>
                    </a:lnTo>
                    <a:lnTo>
                      <a:pt x="698" y="235"/>
                    </a:lnTo>
                    <a:lnTo>
                      <a:pt x="751" y="191"/>
                    </a:lnTo>
                    <a:lnTo>
                      <a:pt x="761" y="202"/>
                    </a:lnTo>
                    <a:lnTo>
                      <a:pt x="708" y="246"/>
                    </a:lnTo>
                    <a:lnTo>
                      <a:pt x="680" y="264"/>
                    </a:lnTo>
                    <a:lnTo>
                      <a:pt x="654" y="280"/>
                    </a:lnTo>
                    <a:lnTo>
                      <a:pt x="626" y="295"/>
                    </a:lnTo>
                    <a:lnTo>
                      <a:pt x="601" y="306"/>
                    </a:lnTo>
                    <a:lnTo>
                      <a:pt x="575" y="314"/>
                    </a:lnTo>
                    <a:lnTo>
                      <a:pt x="548" y="321"/>
                    </a:lnTo>
                    <a:lnTo>
                      <a:pt x="495" y="329"/>
                    </a:lnTo>
                    <a:lnTo>
                      <a:pt x="443" y="329"/>
                    </a:lnTo>
                    <a:lnTo>
                      <a:pt x="418" y="325"/>
                    </a:lnTo>
                    <a:lnTo>
                      <a:pt x="394" y="320"/>
                    </a:lnTo>
                    <a:lnTo>
                      <a:pt x="370" y="314"/>
                    </a:lnTo>
                    <a:lnTo>
                      <a:pt x="343" y="307"/>
                    </a:lnTo>
                    <a:lnTo>
                      <a:pt x="295" y="286"/>
                    </a:lnTo>
                    <a:lnTo>
                      <a:pt x="247" y="258"/>
                    </a:lnTo>
                    <a:lnTo>
                      <a:pt x="202" y="226"/>
                    </a:lnTo>
                    <a:lnTo>
                      <a:pt x="159" y="189"/>
                    </a:lnTo>
                    <a:lnTo>
                      <a:pt x="115" y="148"/>
                    </a:lnTo>
                    <a:lnTo>
                      <a:pt x="75" y="104"/>
                    </a:lnTo>
                    <a:lnTo>
                      <a:pt x="37" y="57"/>
                    </a:lnTo>
                    <a:lnTo>
                      <a:pt x="0" y="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928960" y="272880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8"/>
                    </a:moveTo>
                    <a:lnTo>
                      <a:pt x="1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481560" y="2287440"/>
                <a:ext cx="93600" cy="599760"/>
              </a:xfrm>
              <a:custGeom>
                <a:avLst/>
                <a:gdLst/>
                <a:ahLst/>
                <a:rect l="l" t="t" r="r" b="b"/>
                <a:pathLst>
                  <a:path w="119" h="755">
                    <a:moveTo>
                      <a:pt x="54" y="746"/>
                    </a:moveTo>
                    <a:lnTo>
                      <a:pt x="70" y="724"/>
                    </a:lnTo>
                    <a:lnTo>
                      <a:pt x="82" y="699"/>
                    </a:lnTo>
                    <a:lnTo>
                      <a:pt x="90" y="677"/>
                    </a:lnTo>
                    <a:lnTo>
                      <a:pt x="98" y="653"/>
                    </a:lnTo>
                    <a:lnTo>
                      <a:pt x="103" y="631"/>
                    </a:lnTo>
                    <a:lnTo>
                      <a:pt x="104" y="606"/>
                    </a:lnTo>
                    <a:lnTo>
                      <a:pt x="105" y="584"/>
                    </a:lnTo>
                    <a:lnTo>
                      <a:pt x="103" y="561"/>
                    </a:lnTo>
                    <a:lnTo>
                      <a:pt x="99" y="539"/>
                    </a:lnTo>
                    <a:lnTo>
                      <a:pt x="94" y="515"/>
                    </a:lnTo>
                    <a:lnTo>
                      <a:pt x="82" y="467"/>
                    </a:lnTo>
                    <a:lnTo>
                      <a:pt x="49" y="373"/>
                    </a:lnTo>
                    <a:lnTo>
                      <a:pt x="32" y="324"/>
                    </a:lnTo>
                    <a:lnTo>
                      <a:pt x="16" y="277"/>
                    </a:lnTo>
                    <a:lnTo>
                      <a:pt x="5" y="231"/>
                    </a:lnTo>
                    <a:lnTo>
                      <a:pt x="0" y="182"/>
                    </a:lnTo>
                    <a:lnTo>
                      <a:pt x="0" y="159"/>
                    </a:lnTo>
                    <a:lnTo>
                      <a:pt x="1" y="135"/>
                    </a:lnTo>
                    <a:lnTo>
                      <a:pt x="6" y="112"/>
                    </a:lnTo>
                    <a:lnTo>
                      <a:pt x="12" y="90"/>
                    </a:lnTo>
                    <a:lnTo>
                      <a:pt x="23" y="66"/>
                    </a:lnTo>
                    <a:lnTo>
                      <a:pt x="35" y="45"/>
                    </a:lnTo>
                    <a:lnTo>
                      <a:pt x="50" y="22"/>
                    </a:lnTo>
                    <a:lnTo>
                      <a:pt x="68" y="0"/>
                    </a:lnTo>
                    <a:lnTo>
                      <a:pt x="79" y="10"/>
                    </a:lnTo>
                    <a:lnTo>
                      <a:pt x="61" y="32"/>
                    </a:lnTo>
                    <a:lnTo>
                      <a:pt x="48" y="54"/>
                    </a:lnTo>
                    <a:lnTo>
                      <a:pt x="35" y="73"/>
                    </a:lnTo>
                    <a:lnTo>
                      <a:pt x="26" y="96"/>
                    </a:lnTo>
                    <a:lnTo>
                      <a:pt x="20" y="117"/>
                    </a:lnTo>
                    <a:lnTo>
                      <a:pt x="15" y="139"/>
                    </a:lnTo>
                    <a:lnTo>
                      <a:pt x="13" y="161"/>
                    </a:lnTo>
                    <a:lnTo>
                      <a:pt x="13" y="182"/>
                    </a:lnTo>
                    <a:lnTo>
                      <a:pt x="18" y="227"/>
                    </a:lnTo>
                    <a:lnTo>
                      <a:pt x="29" y="272"/>
                    </a:lnTo>
                    <a:lnTo>
                      <a:pt x="45" y="319"/>
                    </a:lnTo>
                    <a:lnTo>
                      <a:pt x="62" y="367"/>
                    </a:lnTo>
                    <a:lnTo>
                      <a:pt x="95" y="462"/>
                    </a:lnTo>
                    <a:lnTo>
                      <a:pt x="108" y="511"/>
                    </a:lnTo>
                    <a:lnTo>
                      <a:pt x="112" y="535"/>
                    </a:lnTo>
                    <a:lnTo>
                      <a:pt x="116" y="559"/>
                    </a:lnTo>
                    <a:lnTo>
                      <a:pt x="119" y="584"/>
                    </a:lnTo>
                    <a:lnTo>
                      <a:pt x="117" y="609"/>
                    </a:lnTo>
                    <a:lnTo>
                      <a:pt x="116" y="634"/>
                    </a:lnTo>
                    <a:lnTo>
                      <a:pt x="111" y="658"/>
                    </a:lnTo>
                    <a:lnTo>
                      <a:pt x="104" y="683"/>
                    </a:lnTo>
                    <a:lnTo>
                      <a:pt x="94" y="707"/>
                    </a:lnTo>
                    <a:lnTo>
                      <a:pt x="82" y="732"/>
                    </a:lnTo>
                    <a:lnTo>
                      <a:pt x="65" y="755"/>
                    </a:lnTo>
                    <a:lnTo>
                      <a:pt x="54" y="7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3524400" y="287964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1"/>
                    </a:moveTo>
                    <a:lnTo>
                      <a:pt x="11" y="9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3537000" y="2232000"/>
                <a:ext cx="484200" cy="188280"/>
              </a:xfrm>
              <a:custGeom>
                <a:avLst/>
                <a:gdLst/>
                <a:ahLst/>
                <a:rect l="l" t="t" r="r" b="b"/>
                <a:pathLst>
                  <a:path w="610" h="237">
                    <a:moveTo>
                      <a:pt x="0" y="71"/>
                    </a:moveTo>
                    <a:lnTo>
                      <a:pt x="9" y="63"/>
                    </a:lnTo>
                    <a:lnTo>
                      <a:pt x="19" y="55"/>
                    </a:lnTo>
                    <a:lnTo>
                      <a:pt x="40" y="41"/>
                    </a:lnTo>
                    <a:lnTo>
                      <a:pt x="79" y="22"/>
                    </a:lnTo>
                    <a:lnTo>
                      <a:pt x="100" y="13"/>
                    </a:lnTo>
                    <a:lnTo>
                      <a:pt x="121" y="7"/>
                    </a:lnTo>
                    <a:lnTo>
                      <a:pt x="141" y="3"/>
                    </a:lnTo>
                    <a:lnTo>
                      <a:pt x="162" y="1"/>
                    </a:lnTo>
                    <a:lnTo>
                      <a:pt x="201" y="0"/>
                    </a:lnTo>
                    <a:lnTo>
                      <a:pt x="243" y="6"/>
                    </a:lnTo>
                    <a:lnTo>
                      <a:pt x="282" y="16"/>
                    </a:lnTo>
                    <a:lnTo>
                      <a:pt x="303" y="23"/>
                    </a:lnTo>
                    <a:lnTo>
                      <a:pt x="324" y="32"/>
                    </a:lnTo>
                    <a:lnTo>
                      <a:pt x="361" y="49"/>
                    </a:lnTo>
                    <a:lnTo>
                      <a:pt x="402" y="70"/>
                    </a:lnTo>
                    <a:lnTo>
                      <a:pt x="438" y="94"/>
                    </a:lnTo>
                    <a:lnTo>
                      <a:pt x="475" y="118"/>
                    </a:lnTo>
                    <a:lnTo>
                      <a:pt x="511" y="145"/>
                    </a:lnTo>
                    <a:lnTo>
                      <a:pt x="546" y="173"/>
                    </a:lnTo>
                    <a:lnTo>
                      <a:pt x="610" y="226"/>
                    </a:lnTo>
                    <a:lnTo>
                      <a:pt x="600" y="237"/>
                    </a:lnTo>
                    <a:lnTo>
                      <a:pt x="536" y="184"/>
                    </a:lnTo>
                    <a:lnTo>
                      <a:pt x="502" y="158"/>
                    </a:lnTo>
                    <a:lnTo>
                      <a:pt x="467" y="131"/>
                    </a:lnTo>
                    <a:lnTo>
                      <a:pt x="430" y="106"/>
                    </a:lnTo>
                    <a:lnTo>
                      <a:pt x="393" y="82"/>
                    </a:lnTo>
                    <a:lnTo>
                      <a:pt x="355" y="62"/>
                    </a:lnTo>
                    <a:lnTo>
                      <a:pt x="317" y="45"/>
                    </a:lnTo>
                    <a:lnTo>
                      <a:pt x="297" y="36"/>
                    </a:lnTo>
                    <a:lnTo>
                      <a:pt x="280" y="30"/>
                    </a:lnTo>
                    <a:lnTo>
                      <a:pt x="240" y="21"/>
                    </a:lnTo>
                    <a:lnTo>
                      <a:pt x="200" y="14"/>
                    </a:lnTo>
                    <a:lnTo>
                      <a:pt x="162" y="16"/>
                    </a:lnTo>
                    <a:lnTo>
                      <a:pt x="143" y="18"/>
                    </a:lnTo>
                    <a:lnTo>
                      <a:pt x="123" y="22"/>
                    </a:lnTo>
                    <a:lnTo>
                      <a:pt x="105" y="27"/>
                    </a:lnTo>
                    <a:lnTo>
                      <a:pt x="85" y="35"/>
                    </a:lnTo>
                    <a:lnTo>
                      <a:pt x="47" y="54"/>
                    </a:lnTo>
                    <a:lnTo>
                      <a:pt x="28" y="67"/>
                    </a:lnTo>
                    <a:lnTo>
                      <a:pt x="19" y="74"/>
                    </a:lnTo>
                    <a:lnTo>
                      <a:pt x="9" y="82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535200" y="2287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0"/>
                    </a:moveTo>
                    <a:lnTo>
                      <a:pt x="2" y="0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013280" y="2411280"/>
                <a:ext cx="196920" cy="176040"/>
              </a:xfrm>
              <a:custGeom>
                <a:avLst/>
                <a:gdLst/>
                <a:ahLst/>
                <a:rect l="l" t="t" r="r" b="b"/>
                <a:pathLst>
                  <a:path w="248" h="221">
                    <a:moveTo>
                      <a:pt x="10" y="0"/>
                    </a:moveTo>
                    <a:lnTo>
                      <a:pt x="248" y="210"/>
                    </a:lnTo>
                    <a:lnTo>
                      <a:pt x="238" y="221"/>
                    </a:lnTo>
                    <a:lnTo>
                      <a:pt x="0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013280" y="24112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0"/>
                    </a:moveTo>
                    <a:lnTo>
                      <a:pt x="0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202280" y="257796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11"/>
                    </a:moveTo>
                    <a:lnTo>
                      <a:pt x="5" y="16"/>
                    </a:lnTo>
                    <a:lnTo>
                      <a:pt x="10" y="11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167440" y="2300040"/>
                <a:ext cx="1442880" cy="2896920"/>
              </a:xfrm>
              <a:custGeom>
                <a:avLst/>
                <a:gdLst/>
                <a:ahLst/>
                <a:rect l="l" t="t" r="r" b="b"/>
                <a:pathLst>
                  <a:path w="1818" h="3650">
                    <a:moveTo>
                      <a:pt x="1818" y="1762"/>
                    </a:moveTo>
                    <a:lnTo>
                      <a:pt x="1816" y="1709"/>
                    </a:lnTo>
                    <a:lnTo>
                      <a:pt x="1812" y="1655"/>
                    </a:lnTo>
                    <a:lnTo>
                      <a:pt x="1811" y="1640"/>
                    </a:lnTo>
                    <a:lnTo>
                      <a:pt x="1807" y="1614"/>
                    </a:lnTo>
                    <a:lnTo>
                      <a:pt x="1802" y="1584"/>
                    </a:lnTo>
                    <a:lnTo>
                      <a:pt x="1796" y="1552"/>
                    </a:lnTo>
                    <a:lnTo>
                      <a:pt x="1793" y="1539"/>
                    </a:lnTo>
                    <a:lnTo>
                      <a:pt x="1789" y="1526"/>
                    </a:lnTo>
                    <a:lnTo>
                      <a:pt x="1785" y="1517"/>
                    </a:lnTo>
                    <a:lnTo>
                      <a:pt x="1782" y="1509"/>
                    </a:lnTo>
                    <a:lnTo>
                      <a:pt x="1780" y="1507"/>
                    </a:lnTo>
                    <a:lnTo>
                      <a:pt x="1778" y="1507"/>
                    </a:lnTo>
                    <a:lnTo>
                      <a:pt x="1777" y="1507"/>
                    </a:lnTo>
                    <a:lnTo>
                      <a:pt x="1774" y="1508"/>
                    </a:lnTo>
                    <a:lnTo>
                      <a:pt x="1773" y="1511"/>
                    </a:lnTo>
                    <a:lnTo>
                      <a:pt x="1771" y="1514"/>
                    </a:lnTo>
                    <a:lnTo>
                      <a:pt x="1767" y="1528"/>
                    </a:lnTo>
                    <a:lnTo>
                      <a:pt x="1763" y="1556"/>
                    </a:lnTo>
                    <a:lnTo>
                      <a:pt x="1761" y="1584"/>
                    </a:lnTo>
                    <a:lnTo>
                      <a:pt x="1760" y="1612"/>
                    </a:lnTo>
                    <a:lnTo>
                      <a:pt x="1758" y="1640"/>
                    </a:lnTo>
                    <a:lnTo>
                      <a:pt x="1758" y="1696"/>
                    </a:lnTo>
                    <a:lnTo>
                      <a:pt x="1758" y="1754"/>
                    </a:lnTo>
                    <a:lnTo>
                      <a:pt x="1758" y="1810"/>
                    </a:lnTo>
                    <a:lnTo>
                      <a:pt x="1757" y="1838"/>
                    </a:lnTo>
                    <a:lnTo>
                      <a:pt x="1756" y="1853"/>
                    </a:lnTo>
                    <a:lnTo>
                      <a:pt x="1755" y="1866"/>
                    </a:lnTo>
                    <a:lnTo>
                      <a:pt x="1752" y="1895"/>
                    </a:lnTo>
                    <a:lnTo>
                      <a:pt x="1749" y="1923"/>
                    </a:lnTo>
                    <a:lnTo>
                      <a:pt x="1744" y="1951"/>
                    </a:lnTo>
                    <a:lnTo>
                      <a:pt x="1738" y="1979"/>
                    </a:lnTo>
                    <a:lnTo>
                      <a:pt x="1733" y="1994"/>
                    </a:lnTo>
                    <a:lnTo>
                      <a:pt x="1728" y="2007"/>
                    </a:lnTo>
                    <a:lnTo>
                      <a:pt x="1723" y="2018"/>
                    </a:lnTo>
                    <a:lnTo>
                      <a:pt x="1718" y="2027"/>
                    </a:lnTo>
                    <a:lnTo>
                      <a:pt x="1713" y="2034"/>
                    </a:lnTo>
                    <a:lnTo>
                      <a:pt x="1708" y="2039"/>
                    </a:lnTo>
                    <a:lnTo>
                      <a:pt x="1705" y="2044"/>
                    </a:lnTo>
                    <a:lnTo>
                      <a:pt x="1700" y="2046"/>
                    </a:lnTo>
                    <a:lnTo>
                      <a:pt x="1696" y="2046"/>
                    </a:lnTo>
                    <a:lnTo>
                      <a:pt x="1694" y="2046"/>
                    </a:lnTo>
                    <a:lnTo>
                      <a:pt x="1691" y="2046"/>
                    </a:lnTo>
                    <a:lnTo>
                      <a:pt x="1687" y="2044"/>
                    </a:lnTo>
                    <a:lnTo>
                      <a:pt x="1684" y="2041"/>
                    </a:lnTo>
                    <a:lnTo>
                      <a:pt x="1680" y="2038"/>
                    </a:lnTo>
                    <a:lnTo>
                      <a:pt x="1676" y="2031"/>
                    </a:lnTo>
                    <a:lnTo>
                      <a:pt x="1673" y="2025"/>
                    </a:lnTo>
                    <a:lnTo>
                      <a:pt x="1670" y="2019"/>
                    </a:lnTo>
                    <a:lnTo>
                      <a:pt x="1664" y="2003"/>
                    </a:lnTo>
                    <a:lnTo>
                      <a:pt x="1658" y="1985"/>
                    </a:lnTo>
                    <a:lnTo>
                      <a:pt x="1652" y="1964"/>
                    </a:lnTo>
                    <a:lnTo>
                      <a:pt x="1647" y="1943"/>
                    </a:lnTo>
                    <a:lnTo>
                      <a:pt x="1640" y="1902"/>
                    </a:lnTo>
                    <a:lnTo>
                      <a:pt x="1632" y="1864"/>
                    </a:lnTo>
                    <a:lnTo>
                      <a:pt x="1615" y="1777"/>
                    </a:lnTo>
                    <a:lnTo>
                      <a:pt x="1598" y="1690"/>
                    </a:lnTo>
                    <a:lnTo>
                      <a:pt x="1590" y="1646"/>
                    </a:lnTo>
                    <a:lnTo>
                      <a:pt x="1581" y="1603"/>
                    </a:lnTo>
                    <a:lnTo>
                      <a:pt x="1574" y="1559"/>
                    </a:lnTo>
                    <a:lnTo>
                      <a:pt x="1566" y="1515"/>
                    </a:lnTo>
                    <a:lnTo>
                      <a:pt x="1562" y="1471"/>
                    </a:lnTo>
                    <a:lnTo>
                      <a:pt x="1557" y="1427"/>
                    </a:lnTo>
                    <a:lnTo>
                      <a:pt x="1554" y="1385"/>
                    </a:lnTo>
                    <a:lnTo>
                      <a:pt x="1553" y="1341"/>
                    </a:lnTo>
                    <a:lnTo>
                      <a:pt x="1554" y="1295"/>
                    </a:lnTo>
                    <a:lnTo>
                      <a:pt x="1557" y="1251"/>
                    </a:lnTo>
                    <a:lnTo>
                      <a:pt x="1559" y="1229"/>
                    </a:lnTo>
                    <a:lnTo>
                      <a:pt x="1562" y="1207"/>
                    </a:lnTo>
                    <a:lnTo>
                      <a:pt x="1565" y="1185"/>
                    </a:lnTo>
                    <a:lnTo>
                      <a:pt x="1569" y="1163"/>
                    </a:lnTo>
                    <a:lnTo>
                      <a:pt x="1573" y="1155"/>
                    </a:lnTo>
                    <a:lnTo>
                      <a:pt x="1577" y="1149"/>
                    </a:lnTo>
                    <a:lnTo>
                      <a:pt x="1579" y="1146"/>
                    </a:lnTo>
                    <a:lnTo>
                      <a:pt x="1581" y="1144"/>
                    </a:lnTo>
                    <a:lnTo>
                      <a:pt x="1586" y="1141"/>
                    </a:lnTo>
                    <a:lnTo>
                      <a:pt x="1587" y="1141"/>
                    </a:lnTo>
                    <a:lnTo>
                      <a:pt x="1590" y="1141"/>
                    </a:lnTo>
                    <a:lnTo>
                      <a:pt x="1595" y="1141"/>
                    </a:lnTo>
                    <a:lnTo>
                      <a:pt x="1599" y="1144"/>
                    </a:lnTo>
                    <a:lnTo>
                      <a:pt x="1604" y="1147"/>
                    </a:lnTo>
                    <a:lnTo>
                      <a:pt x="1609" y="1152"/>
                    </a:lnTo>
                    <a:lnTo>
                      <a:pt x="1614" y="1158"/>
                    </a:lnTo>
                    <a:lnTo>
                      <a:pt x="1620" y="1165"/>
                    </a:lnTo>
                    <a:lnTo>
                      <a:pt x="1625" y="1172"/>
                    </a:lnTo>
                    <a:lnTo>
                      <a:pt x="1636" y="1189"/>
                    </a:lnTo>
                    <a:lnTo>
                      <a:pt x="1646" y="1206"/>
                    </a:lnTo>
                    <a:lnTo>
                      <a:pt x="1667" y="1240"/>
                    </a:lnTo>
                    <a:lnTo>
                      <a:pt x="1676" y="1255"/>
                    </a:lnTo>
                    <a:lnTo>
                      <a:pt x="1685" y="1266"/>
                    </a:lnTo>
                    <a:lnTo>
                      <a:pt x="1689" y="1271"/>
                    </a:lnTo>
                    <a:lnTo>
                      <a:pt x="1694" y="1273"/>
                    </a:lnTo>
                    <a:lnTo>
                      <a:pt x="1697" y="1275"/>
                    </a:lnTo>
                    <a:lnTo>
                      <a:pt x="1700" y="1275"/>
                    </a:lnTo>
                    <a:lnTo>
                      <a:pt x="1703" y="1273"/>
                    </a:lnTo>
                    <a:lnTo>
                      <a:pt x="1706" y="1270"/>
                    </a:lnTo>
                    <a:lnTo>
                      <a:pt x="1709" y="1264"/>
                    </a:lnTo>
                    <a:lnTo>
                      <a:pt x="1712" y="1256"/>
                    </a:lnTo>
                    <a:lnTo>
                      <a:pt x="1713" y="1229"/>
                    </a:lnTo>
                    <a:lnTo>
                      <a:pt x="1714" y="1204"/>
                    </a:lnTo>
                    <a:lnTo>
                      <a:pt x="1713" y="1177"/>
                    </a:lnTo>
                    <a:lnTo>
                      <a:pt x="1712" y="1151"/>
                    </a:lnTo>
                    <a:lnTo>
                      <a:pt x="1708" y="1124"/>
                    </a:lnTo>
                    <a:lnTo>
                      <a:pt x="1707" y="1112"/>
                    </a:lnTo>
                    <a:lnTo>
                      <a:pt x="1705" y="1098"/>
                    </a:lnTo>
                    <a:lnTo>
                      <a:pt x="1700" y="1073"/>
                    </a:lnTo>
                    <a:lnTo>
                      <a:pt x="1694" y="1047"/>
                    </a:lnTo>
                    <a:lnTo>
                      <a:pt x="1686" y="1021"/>
                    </a:lnTo>
                    <a:lnTo>
                      <a:pt x="1679" y="997"/>
                    </a:lnTo>
                    <a:lnTo>
                      <a:pt x="1663" y="946"/>
                    </a:lnTo>
                    <a:lnTo>
                      <a:pt x="1645" y="897"/>
                    </a:lnTo>
                    <a:lnTo>
                      <a:pt x="1626" y="848"/>
                    </a:lnTo>
                    <a:lnTo>
                      <a:pt x="1615" y="818"/>
                    </a:lnTo>
                    <a:lnTo>
                      <a:pt x="1603" y="790"/>
                    </a:lnTo>
                    <a:lnTo>
                      <a:pt x="1592" y="762"/>
                    </a:lnTo>
                    <a:lnTo>
                      <a:pt x="1580" y="734"/>
                    </a:lnTo>
                    <a:lnTo>
                      <a:pt x="1568" y="707"/>
                    </a:lnTo>
                    <a:lnTo>
                      <a:pt x="1555" y="679"/>
                    </a:lnTo>
                    <a:lnTo>
                      <a:pt x="1542" y="651"/>
                    </a:lnTo>
                    <a:lnTo>
                      <a:pt x="1530" y="624"/>
                    </a:lnTo>
                    <a:lnTo>
                      <a:pt x="1516" y="596"/>
                    </a:lnTo>
                    <a:lnTo>
                      <a:pt x="1503" y="569"/>
                    </a:lnTo>
                    <a:lnTo>
                      <a:pt x="1476" y="514"/>
                    </a:lnTo>
                    <a:lnTo>
                      <a:pt x="1461" y="487"/>
                    </a:lnTo>
                    <a:lnTo>
                      <a:pt x="1447" y="460"/>
                    </a:lnTo>
                    <a:lnTo>
                      <a:pt x="1418" y="408"/>
                    </a:lnTo>
                    <a:lnTo>
                      <a:pt x="1388" y="355"/>
                    </a:lnTo>
                    <a:lnTo>
                      <a:pt x="1356" y="302"/>
                    </a:lnTo>
                    <a:lnTo>
                      <a:pt x="1340" y="277"/>
                    </a:lnTo>
                    <a:lnTo>
                      <a:pt x="1324" y="251"/>
                    </a:lnTo>
                    <a:lnTo>
                      <a:pt x="1308" y="225"/>
                    </a:lnTo>
                    <a:lnTo>
                      <a:pt x="1291" y="200"/>
                    </a:lnTo>
                    <a:lnTo>
                      <a:pt x="1274" y="174"/>
                    </a:lnTo>
                    <a:lnTo>
                      <a:pt x="1257" y="148"/>
                    </a:lnTo>
                    <a:lnTo>
                      <a:pt x="1240" y="124"/>
                    </a:lnTo>
                    <a:lnTo>
                      <a:pt x="1223" y="98"/>
                    </a:lnTo>
                    <a:lnTo>
                      <a:pt x="1187" y="49"/>
                    </a:lnTo>
                    <a:lnTo>
                      <a:pt x="1151" y="0"/>
                    </a:lnTo>
                    <a:lnTo>
                      <a:pt x="1132" y="42"/>
                    </a:lnTo>
                    <a:lnTo>
                      <a:pt x="1114" y="82"/>
                    </a:lnTo>
                    <a:lnTo>
                      <a:pt x="1095" y="123"/>
                    </a:lnTo>
                    <a:lnTo>
                      <a:pt x="1074" y="163"/>
                    </a:lnTo>
                    <a:lnTo>
                      <a:pt x="1062" y="189"/>
                    </a:lnTo>
                    <a:lnTo>
                      <a:pt x="1052" y="216"/>
                    </a:lnTo>
                    <a:lnTo>
                      <a:pt x="1042" y="241"/>
                    </a:lnTo>
                    <a:lnTo>
                      <a:pt x="1035" y="267"/>
                    </a:lnTo>
                    <a:lnTo>
                      <a:pt x="1029" y="294"/>
                    </a:lnTo>
                    <a:lnTo>
                      <a:pt x="1026" y="306"/>
                    </a:lnTo>
                    <a:lnTo>
                      <a:pt x="1024" y="320"/>
                    </a:lnTo>
                    <a:lnTo>
                      <a:pt x="1021" y="345"/>
                    </a:lnTo>
                    <a:lnTo>
                      <a:pt x="1020" y="372"/>
                    </a:lnTo>
                    <a:lnTo>
                      <a:pt x="1021" y="398"/>
                    </a:lnTo>
                    <a:lnTo>
                      <a:pt x="1022" y="411"/>
                    </a:lnTo>
                    <a:lnTo>
                      <a:pt x="1024" y="425"/>
                    </a:lnTo>
                    <a:lnTo>
                      <a:pt x="1026" y="437"/>
                    </a:lnTo>
                    <a:lnTo>
                      <a:pt x="1029" y="450"/>
                    </a:lnTo>
                    <a:lnTo>
                      <a:pt x="1031" y="464"/>
                    </a:lnTo>
                    <a:lnTo>
                      <a:pt x="1035" y="476"/>
                    </a:lnTo>
                    <a:lnTo>
                      <a:pt x="1042" y="502"/>
                    </a:lnTo>
                    <a:lnTo>
                      <a:pt x="1052" y="527"/>
                    </a:lnTo>
                    <a:lnTo>
                      <a:pt x="1064" y="553"/>
                    </a:lnTo>
                    <a:lnTo>
                      <a:pt x="1079" y="578"/>
                    </a:lnTo>
                    <a:lnTo>
                      <a:pt x="1084" y="584"/>
                    </a:lnTo>
                    <a:lnTo>
                      <a:pt x="1088" y="589"/>
                    </a:lnTo>
                    <a:lnTo>
                      <a:pt x="1098" y="598"/>
                    </a:lnTo>
                    <a:lnTo>
                      <a:pt x="1108" y="606"/>
                    </a:lnTo>
                    <a:lnTo>
                      <a:pt x="1118" y="612"/>
                    </a:lnTo>
                    <a:lnTo>
                      <a:pt x="1128" y="617"/>
                    </a:lnTo>
                    <a:lnTo>
                      <a:pt x="1137" y="620"/>
                    </a:lnTo>
                    <a:lnTo>
                      <a:pt x="1147" y="623"/>
                    </a:lnTo>
                    <a:lnTo>
                      <a:pt x="1158" y="624"/>
                    </a:lnTo>
                    <a:lnTo>
                      <a:pt x="1168" y="624"/>
                    </a:lnTo>
                    <a:lnTo>
                      <a:pt x="1178" y="624"/>
                    </a:lnTo>
                    <a:lnTo>
                      <a:pt x="1189" y="623"/>
                    </a:lnTo>
                    <a:lnTo>
                      <a:pt x="1198" y="622"/>
                    </a:lnTo>
                    <a:lnTo>
                      <a:pt x="1219" y="617"/>
                    </a:lnTo>
                    <a:lnTo>
                      <a:pt x="1239" y="612"/>
                    </a:lnTo>
                    <a:lnTo>
                      <a:pt x="1260" y="607"/>
                    </a:lnTo>
                    <a:lnTo>
                      <a:pt x="1269" y="604"/>
                    </a:lnTo>
                    <a:lnTo>
                      <a:pt x="1279" y="603"/>
                    </a:lnTo>
                    <a:lnTo>
                      <a:pt x="1289" y="602"/>
                    </a:lnTo>
                    <a:lnTo>
                      <a:pt x="1299" y="601"/>
                    </a:lnTo>
                    <a:lnTo>
                      <a:pt x="1308" y="601"/>
                    </a:lnTo>
                    <a:lnTo>
                      <a:pt x="1318" y="602"/>
                    </a:lnTo>
                    <a:lnTo>
                      <a:pt x="1327" y="603"/>
                    </a:lnTo>
                    <a:lnTo>
                      <a:pt x="1337" y="606"/>
                    </a:lnTo>
                    <a:lnTo>
                      <a:pt x="1345" y="611"/>
                    </a:lnTo>
                    <a:lnTo>
                      <a:pt x="1355" y="615"/>
                    </a:lnTo>
                    <a:lnTo>
                      <a:pt x="1359" y="619"/>
                    </a:lnTo>
                    <a:lnTo>
                      <a:pt x="1363" y="622"/>
                    </a:lnTo>
                    <a:lnTo>
                      <a:pt x="1372" y="630"/>
                    </a:lnTo>
                    <a:lnTo>
                      <a:pt x="1379" y="640"/>
                    </a:lnTo>
                    <a:lnTo>
                      <a:pt x="1384" y="646"/>
                    </a:lnTo>
                    <a:lnTo>
                      <a:pt x="1388" y="652"/>
                    </a:lnTo>
                    <a:lnTo>
                      <a:pt x="1399" y="674"/>
                    </a:lnTo>
                    <a:lnTo>
                      <a:pt x="1407" y="696"/>
                    </a:lnTo>
                    <a:lnTo>
                      <a:pt x="1416" y="718"/>
                    </a:lnTo>
                    <a:lnTo>
                      <a:pt x="1425" y="740"/>
                    </a:lnTo>
                    <a:lnTo>
                      <a:pt x="1432" y="762"/>
                    </a:lnTo>
                    <a:lnTo>
                      <a:pt x="1438" y="785"/>
                    </a:lnTo>
                    <a:lnTo>
                      <a:pt x="1443" y="807"/>
                    </a:lnTo>
                    <a:lnTo>
                      <a:pt x="1448" y="829"/>
                    </a:lnTo>
                    <a:lnTo>
                      <a:pt x="1451" y="853"/>
                    </a:lnTo>
                    <a:lnTo>
                      <a:pt x="1455" y="875"/>
                    </a:lnTo>
                    <a:lnTo>
                      <a:pt x="1460" y="920"/>
                    </a:lnTo>
                    <a:lnTo>
                      <a:pt x="1461" y="964"/>
                    </a:lnTo>
                    <a:lnTo>
                      <a:pt x="1460" y="1009"/>
                    </a:lnTo>
                    <a:lnTo>
                      <a:pt x="1459" y="1032"/>
                    </a:lnTo>
                    <a:lnTo>
                      <a:pt x="1458" y="1054"/>
                    </a:lnTo>
                    <a:lnTo>
                      <a:pt x="1455" y="1076"/>
                    </a:lnTo>
                    <a:lnTo>
                      <a:pt x="1451" y="1100"/>
                    </a:lnTo>
                    <a:lnTo>
                      <a:pt x="1448" y="1122"/>
                    </a:lnTo>
                    <a:lnTo>
                      <a:pt x="1444" y="1144"/>
                    </a:lnTo>
                    <a:lnTo>
                      <a:pt x="1433" y="1189"/>
                    </a:lnTo>
                    <a:lnTo>
                      <a:pt x="1428" y="1211"/>
                    </a:lnTo>
                    <a:lnTo>
                      <a:pt x="1422" y="1234"/>
                    </a:lnTo>
                    <a:lnTo>
                      <a:pt x="1407" y="1278"/>
                    </a:lnTo>
                    <a:lnTo>
                      <a:pt x="1393" y="1323"/>
                    </a:lnTo>
                    <a:lnTo>
                      <a:pt x="1384" y="1345"/>
                    </a:lnTo>
                    <a:lnTo>
                      <a:pt x="1376" y="1367"/>
                    </a:lnTo>
                    <a:lnTo>
                      <a:pt x="1359" y="1405"/>
                    </a:lnTo>
                    <a:lnTo>
                      <a:pt x="1340" y="1447"/>
                    </a:lnTo>
                    <a:lnTo>
                      <a:pt x="1318" y="1492"/>
                    </a:lnTo>
                    <a:lnTo>
                      <a:pt x="1306" y="1515"/>
                    </a:lnTo>
                    <a:lnTo>
                      <a:pt x="1294" y="1539"/>
                    </a:lnTo>
                    <a:lnTo>
                      <a:pt x="1280" y="1563"/>
                    </a:lnTo>
                    <a:lnTo>
                      <a:pt x="1267" y="1586"/>
                    </a:lnTo>
                    <a:lnTo>
                      <a:pt x="1252" y="1610"/>
                    </a:lnTo>
                    <a:lnTo>
                      <a:pt x="1238" y="1632"/>
                    </a:lnTo>
                    <a:lnTo>
                      <a:pt x="1223" y="1654"/>
                    </a:lnTo>
                    <a:lnTo>
                      <a:pt x="1207" y="1674"/>
                    </a:lnTo>
                    <a:lnTo>
                      <a:pt x="1191" y="1694"/>
                    </a:lnTo>
                    <a:lnTo>
                      <a:pt x="1183" y="1704"/>
                    </a:lnTo>
                    <a:lnTo>
                      <a:pt x="1174" y="1714"/>
                    </a:lnTo>
                    <a:lnTo>
                      <a:pt x="1165" y="1722"/>
                    </a:lnTo>
                    <a:lnTo>
                      <a:pt x="1157" y="1731"/>
                    </a:lnTo>
                    <a:lnTo>
                      <a:pt x="1140" y="1747"/>
                    </a:lnTo>
                    <a:lnTo>
                      <a:pt x="1130" y="1754"/>
                    </a:lnTo>
                    <a:lnTo>
                      <a:pt x="1121" y="1761"/>
                    </a:lnTo>
                    <a:lnTo>
                      <a:pt x="1103" y="1773"/>
                    </a:lnTo>
                    <a:lnTo>
                      <a:pt x="1093" y="1778"/>
                    </a:lnTo>
                    <a:lnTo>
                      <a:pt x="1085" y="1783"/>
                    </a:lnTo>
                    <a:lnTo>
                      <a:pt x="1075" y="1787"/>
                    </a:lnTo>
                    <a:lnTo>
                      <a:pt x="1065" y="1791"/>
                    </a:lnTo>
                    <a:lnTo>
                      <a:pt x="1047" y="1797"/>
                    </a:lnTo>
                    <a:lnTo>
                      <a:pt x="1037" y="1798"/>
                    </a:lnTo>
                    <a:lnTo>
                      <a:pt x="1027" y="1799"/>
                    </a:lnTo>
                    <a:lnTo>
                      <a:pt x="1018" y="1799"/>
                    </a:lnTo>
                    <a:lnTo>
                      <a:pt x="1008" y="1799"/>
                    </a:lnTo>
                    <a:lnTo>
                      <a:pt x="997" y="1798"/>
                    </a:lnTo>
                    <a:lnTo>
                      <a:pt x="987" y="1795"/>
                    </a:lnTo>
                    <a:lnTo>
                      <a:pt x="977" y="1793"/>
                    </a:lnTo>
                    <a:lnTo>
                      <a:pt x="967" y="1789"/>
                    </a:lnTo>
                    <a:lnTo>
                      <a:pt x="956" y="1786"/>
                    </a:lnTo>
                    <a:lnTo>
                      <a:pt x="947" y="1781"/>
                    </a:lnTo>
                    <a:lnTo>
                      <a:pt x="937" y="1775"/>
                    </a:lnTo>
                    <a:lnTo>
                      <a:pt x="926" y="1767"/>
                    </a:lnTo>
                    <a:lnTo>
                      <a:pt x="916" y="1760"/>
                    </a:lnTo>
                    <a:lnTo>
                      <a:pt x="906" y="1750"/>
                    </a:lnTo>
                    <a:lnTo>
                      <a:pt x="895" y="1740"/>
                    </a:lnTo>
                    <a:lnTo>
                      <a:pt x="886" y="1731"/>
                    </a:lnTo>
                    <a:lnTo>
                      <a:pt x="875" y="1718"/>
                    </a:lnTo>
                    <a:lnTo>
                      <a:pt x="864" y="1706"/>
                    </a:lnTo>
                    <a:lnTo>
                      <a:pt x="859" y="1693"/>
                    </a:lnTo>
                    <a:lnTo>
                      <a:pt x="854" y="1681"/>
                    </a:lnTo>
                    <a:lnTo>
                      <a:pt x="849" y="1668"/>
                    </a:lnTo>
                    <a:lnTo>
                      <a:pt x="845" y="1656"/>
                    </a:lnTo>
                    <a:lnTo>
                      <a:pt x="839" y="1630"/>
                    </a:lnTo>
                    <a:lnTo>
                      <a:pt x="837" y="1618"/>
                    </a:lnTo>
                    <a:lnTo>
                      <a:pt x="834" y="1606"/>
                    </a:lnTo>
                    <a:lnTo>
                      <a:pt x="833" y="1592"/>
                    </a:lnTo>
                    <a:lnTo>
                      <a:pt x="832" y="1580"/>
                    </a:lnTo>
                    <a:lnTo>
                      <a:pt x="832" y="1568"/>
                    </a:lnTo>
                    <a:lnTo>
                      <a:pt x="832" y="1556"/>
                    </a:lnTo>
                    <a:lnTo>
                      <a:pt x="832" y="1530"/>
                    </a:lnTo>
                    <a:lnTo>
                      <a:pt x="834" y="1506"/>
                    </a:lnTo>
                    <a:lnTo>
                      <a:pt x="838" y="1480"/>
                    </a:lnTo>
                    <a:lnTo>
                      <a:pt x="843" y="1456"/>
                    </a:lnTo>
                    <a:lnTo>
                      <a:pt x="848" y="1431"/>
                    </a:lnTo>
                    <a:lnTo>
                      <a:pt x="854" y="1405"/>
                    </a:lnTo>
                    <a:lnTo>
                      <a:pt x="861" y="1381"/>
                    </a:lnTo>
                    <a:lnTo>
                      <a:pt x="868" y="1355"/>
                    </a:lnTo>
                    <a:lnTo>
                      <a:pt x="883" y="1306"/>
                    </a:lnTo>
                    <a:lnTo>
                      <a:pt x="898" y="1256"/>
                    </a:lnTo>
                    <a:lnTo>
                      <a:pt x="905" y="1232"/>
                    </a:lnTo>
                    <a:lnTo>
                      <a:pt x="911" y="1206"/>
                    </a:lnTo>
                    <a:lnTo>
                      <a:pt x="917" y="1182"/>
                    </a:lnTo>
                    <a:lnTo>
                      <a:pt x="922" y="1156"/>
                    </a:lnTo>
                    <a:lnTo>
                      <a:pt x="923" y="1144"/>
                    </a:lnTo>
                    <a:lnTo>
                      <a:pt x="926" y="1131"/>
                    </a:lnTo>
                    <a:lnTo>
                      <a:pt x="928" y="1107"/>
                    </a:lnTo>
                    <a:lnTo>
                      <a:pt x="928" y="1094"/>
                    </a:lnTo>
                    <a:lnTo>
                      <a:pt x="930" y="1081"/>
                    </a:lnTo>
                    <a:lnTo>
                      <a:pt x="930" y="1069"/>
                    </a:lnTo>
                    <a:lnTo>
                      <a:pt x="930" y="1057"/>
                    </a:lnTo>
                    <a:lnTo>
                      <a:pt x="927" y="1031"/>
                    </a:lnTo>
                    <a:lnTo>
                      <a:pt x="923" y="1007"/>
                    </a:lnTo>
                    <a:lnTo>
                      <a:pt x="921" y="995"/>
                    </a:lnTo>
                    <a:lnTo>
                      <a:pt x="917" y="982"/>
                    </a:lnTo>
                    <a:lnTo>
                      <a:pt x="914" y="969"/>
                    </a:lnTo>
                    <a:lnTo>
                      <a:pt x="910" y="957"/>
                    </a:lnTo>
                    <a:lnTo>
                      <a:pt x="899" y="932"/>
                    </a:lnTo>
                    <a:lnTo>
                      <a:pt x="894" y="919"/>
                    </a:lnTo>
                    <a:lnTo>
                      <a:pt x="887" y="906"/>
                    </a:lnTo>
                    <a:lnTo>
                      <a:pt x="879" y="898"/>
                    </a:lnTo>
                    <a:lnTo>
                      <a:pt x="871" y="891"/>
                    </a:lnTo>
                    <a:lnTo>
                      <a:pt x="864" y="883"/>
                    </a:lnTo>
                    <a:lnTo>
                      <a:pt x="855" y="876"/>
                    </a:lnTo>
                    <a:lnTo>
                      <a:pt x="848" y="870"/>
                    </a:lnTo>
                    <a:lnTo>
                      <a:pt x="839" y="865"/>
                    </a:lnTo>
                    <a:lnTo>
                      <a:pt x="823" y="855"/>
                    </a:lnTo>
                    <a:lnTo>
                      <a:pt x="816" y="851"/>
                    </a:lnTo>
                    <a:lnTo>
                      <a:pt x="807" y="849"/>
                    </a:lnTo>
                    <a:lnTo>
                      <a:pt x="791" y="844"/>
                    </a:lnTo>
                    <a:lnTo>
                      <a:pt x="776" y="842"/>
                    </a:lnTo>
                    <a:lnTo>
                      <a:pt x="767" y="840"/>
                    </a:lnTo>
                    <a:lnTo>
                      <a:pt x="760" y="840"/>
                    </a:lnTo>
                    <a:lnTo>
                      <a:pt x="742" y="842"/>
                    </a:lnTo>
                    <a:lnTo>
                      <a:pt x="727" y="844"/>
                    </a:lnTo>
                    <a:lnTo>
                      <a:pt x="711" y="849"/>
                    </a:lnTo>
                    <a:lnTo>
                      <a:pt x="695" y="855"/>
                    </a:lnTo>
                    <a:lnTo>
                      <a:pt x="679" y="861"/>
                    </a:lnTo>
                    <a:lnTo>
                      <a:pt x="663" y="870"/>
                    </a:lnTo>
                    <a:lnTo>
                      <a:pt x="654" y="875"/>
                    </a:lnTo>
                    <a:lnTo>
                      <a:pt x="647" y="880"/>
                    </a:lnTo>
                    <a:lnTo>
                      <a:pt x="631" y="891"/>
                    </a:lnTo>
                    <a:lnTo>
                      <a:pt x="617" y="902"/>
                    </a:lnTo>
                    <a:lnTo>
                      <a:pt x="601" y="915"/>
                    </a:lnTo>
                    <a:lnTo>
                      <a:pt x="586" y="927"/>
                    </a:lnTo>
                    <a:lnTo>
                      <a:pt x="571" y="942"/>
                    </a:lnTo>
                    <a:lnTo>
                      <a:pt x="557" y="955"/>
                    </a:lnTo>
                    <a:lnTo>
                      <a:pt x="543" y="970"/>
                    </a:lnTo>
                    <a:lnTo>
                      <a:pt x="516" y="1001"/>
                    </a:lnTo>
                    <a:lnTo>
                      <a:pt x="491" y="1030"/>
                    </a:lnTo>
                    <a:lnTo>
                      <a:pt x="466" y="1059"/>
                    </a:lnTo>
                    <a:lnTo>
                      <a:pt x="423" y="1112"/>
                    </a:lnTo>
                    <a:lnTo>
                      <a:pt x="372" y="1174"/>
                    </a:lnTo>
                    <a:lnTo>
                      <a:pt x="318" y="1237"/>
                    </a:lnTo>
                    <a:lnTo>
                      <a:pt x="212" y="1359"/>
                    </a:lnTo>
                    <a:lnTo>
                      <a:pt x="106" y="1481"/>
                    </a:lnTo>
                    <a:lnTo>
                      <a:pt x="52" y="1542"/>
                    </a:lnTo>
                    <a:lnTo>
                      <a:pt x="0" y="1605"/>
                    </a:lnTo>
                    <a:lnTo>
                      <a:pt x="56" y="1663"/>
                    </a:lnTo>
                    <a:lnTo>
                      <a:pt x="84" y="1694"/>
                    </a:lnTo>
                    <a:lnTo>
                      <a:pt x="111" y="1723"/>
                    </a:lnTo>
                    <a:lnTo>
                      <a:pt x="164" y="1783"/>
                    </a:lnTo>
                    <a:lnTo>
                      <a:pt x="218" y="1844"/>
                    </a:lnTo>
                    <a:lnTo>
                      <a:pt x="271" y="1904"/>
                    </a:lnTo>
                    <a:lnTo>
                      <a:pt x="323" y="1967"/>
                    </a:lnTo>
                    <a:lnTo>
                      <a:pt x="375" y="2028"/>
                    </a:lnTo>
                    <a:lnTo>
                      <a:pt x="426" y="2091"/>
                    </a:lnTo>
                    <a:lnTo>
                      <a:pt x="477" y="2154"/>
                    </a:lnTo>
                    <a:lnTo>
                      <a:pt x="527" y="2217"/>
                    </a:lnTo>
                    <a:lnTo>
                      <a:pt x="576" y="2281"/>
                    </a:lnTo>
                    <a:lnTo>
                      <a:pt x="625" y="2346"/>
                    </a:lnTo>
                    <a:lnTo>
                      <a:pt x="673" y="2411"/>
                    </a:lnTo>
                    <a:lnTo>
                      <a:pt x="720" y="2475"/>
                    </a:lnTo>
                    <a:lnTo>
                      <a:pt x="768" y="2541"/>
                    </a:lnTo>
                    <a:lnTo>
                      <a:pt x="815" y="2607"/>
                    </a:lnTo>
                    <a:lnTo>
                      <a:pt x="823" y="2620"/>
                    </a:lnTo>
                    <a:lnTo>
                      <a:pt x="831" y="2632"/>
                    </a:lnTo>
                    <a:lnTo>
                      <a:pt x="838" y="2645"/>
                    </a:lnTo>
                    <a:lnTo>
                      <a:pt x="845" y="2658"/>
                    </a:lnTo>
                    <a:lnTo>
                      <a:pt x="857" y="2683"/>
                    </a:lnTo>
                    <a:lnTo>
                      <a:pt x="868" y="2709"/>
                    </a:lnTo>
                    <a:lnTo>
                      <a:pt x="878" y="2735"/>
                    </a:lnTo>
                    <a:lnTo>
                      <a:pt x="882" y="2747"/>
                    </a:lnTo>
                    <a:lnTo>
                      <a:pt x="886" y="2760"/>
                    </a:lnTo>
                    <a:lnTo>
                      <a:pt x="888" y="2772"/>
                    </a:lnTo>
                    <a:lnTo>
                      <a:pt x="890" y="2786"/>
                    </a:lnTo>
                    <a:lnTo>
                      <a:pt x="893" y="2799"/>
                    </a:lnTo>
                    <a:lnTo>
                      <a:pt x="894" y="2812"/>
                    </a:lnTo>
                    <a:lnTo>
                      <a:pt x="895" y="2839"/>
                    </a:lnTo>
                    <a:lnTo>
                      <a:pt x="894" y="2851"/>
                    </a:lnTo>
                    <a:lnTo>
                      <a:pt x="893" y="2864"/>
                    </a:lnTo>
                    <a:lnTo>
                      <a:pt x="892" y="2876"/>
                    </a:lnTo>
                    <a:lnTo>
                      <a:pt x="889" y="2890"/>
                    </a:lnTo>
                    <a:lnTo>
                      <a:pt x="887" y="2902"/>
                    </a:lnTo>
                    <a:lnTo>
                      <a:pt x="883" y="2916"/>
                    </a:lnTo>
                    <a:lnTo>
                      <a:pt x="878" y="2928"/>
                    </a:lnTo>
                    <a:lnTo>
                      <a:pt x="873" y="2941"/>
                    </a:lnTo>
                    <a:lnTo>
                      <a:pt x="867" y="2953"/>
                    </a:lnTo>
                    <a:lnTo>
                      <a:pt x="861" y="2967"/>
                    </a:lnTo>
                    <a:lnTo>
                      <a:pt x="857" y="2973"/>
                    </a:lnTo>
                    <a:lnTo>
                      <a:pt x="854" y="2979"/>
                    </a:lnTo>
                    <a:lnTo>
                      <a:pt x="846" y="2991"/>
                    </a:lnTo>
                    <a:lnTo>
                      <a:pt x="838" y="3005"/>
                    </a:lnTo>
                    <a:lnTo>
                      <a:pt x="828" y="3017"/>
                    </a:lnTo>
                    <a:lnTo>
                      <a:pt x="821" y="3023"/>
                    </a:lnTo>
                    <a:lnTo>
                      <a:pt x="813" y="3029"/>
                    </a:lnTo>
                    <a:lnTo>
                      <a:pt x="799" y="3040"/>
                    </a:lnTo>
                    <a:lnTo>
                      <a:pt x="784" y="3050"/>
                    </a:lnTo>
                    <a:lnTo>
                      <a:pt x="769" y="3059"/>
                    </a:lnTo>
                    <a:lnTo>
                      <a:pt x="754" y="3066"/>
                    </a:lnTo>
                    <a:lnTo>
                      <a:pt x="738" y="3072"/>
                    </a:lnTo>
                    <a:lnTo>
                      <a:pt x="723" y="3076"/>
                    </a:lnTo>
                    <a:lnTo>
                      <a:pt x="706" y="3081"/>
                    </a:lnTo>
                    <a:lnTo>
                      <a:pt x="690" y="3083"/>
                    </a:lnTo>
                    <a:lnTo>
                      <a:pt x="674" y="3086"/>
                    </a:lnTo>
                    <a:lnTo>
                      <a:pt x="657" y="3087"/>
                    </a:lnTo>
                    <a:lnTo>
                      <a:pt x="641" y="3088"/>
                    </a:lnTo>
                    <a:lnTo>
                      <a:pt x="624" y="3088"/>
                    </a:lnTo>
                    <a:lnTo>
                      <a:pt x="607" y="3088"/>
                    </a:lnTo>
                    <a:lnTo>
                      <a:pt x="574" y="3088"/>
                    </a:lnTo>
                    <a:lnTo>
                      <a:pt x="540" y="3087"/>
                    </a:lnTo>
                    <a:lnTo>
                      <a:pt x="505" y="3087"/>
                    </a:lnTo>
                    <a:lnTo>
                      <a:pt x="472" y="3088"/>
                    </a:lnTo>
                    <a:lnTo>
                      <a:pt x="455" y="3090"/>
                    </a:lnTo>
                    <a:lnTo>
                      <a:pt x="438" y="3092"/>
                    </a:lnTo>
                    <a:lnTo>
                      <a:pt x="421" y="3095"/>
                    </a:lnTo>
                    <a:lnTo>
                      <a:pt x="405" y="3099"/>
                    </a:lnTo>
                    <a:lnTo>
                      <a:pt x="389" y="3103"/>
                    </a:lnTo>
                    <a:lnTo>
                      <a:pt x="372" y="3109"/>
                    </a:lnTo>
                    <a:lnTo>
                      <a:pt x="365" y="3112"/>
                    </a:lnTo>
                    <a:lnTo>
                      <a:pt x="356" y="3116"/>
                    </a:lnTo>
                    <a:lnTo>
                      <a:pt x="340" y="3123"/>
                    </a:lnTo>
                    <a:lnTo>
                      <a:pt x="326" y="3133"/>
                    </a:lnTo>
                    <a:lnTo>
                      <a:pt x="317" y="3139"/>
                    </a:lnTo>
                    <a:lnTo>
                      <a:pt x="310" y="3144"/>
                    </a:lnTo>
                    <a:lnTo>
                      <a:pt x="295" y="3160"/>
                    </a:lnTo>
                    <a:lnTo>
                      <a:pt x="280" y="3175"/>
                    </a:lnTo>
                    <a:lnTo>
                      <a:pt x="267" y="3191"/>
                    </a:lnTo>
                    <a:lnTo>
                      <a:pt x="255" y="3207"/>
                    </a:lnTo>
                    <a:lnTo>
                      <a:pt x="243" y="3222"/>
                    </a:lnTo>
                    <a:lnTo>
                      <a:pt x="233" y="3238"/>
                    </a:lnTo>
                    <a:lnTo>
                      <a:pt x="223" y="3255"/>
                    </a:lnTo>
                    <a:lnTo>
                      <a:pt x="213" y="3271"/>
                    </a:lnTo>
                    <a:lnTo>
                      <a:pt x="206" y="3287"/>
                    </a:lnTo>
                    <a:lnTo>
                      <a:pt x="199" y="3303"/>
                    </a:lnTo>
                    <a:lnTo>
                      <a:pt x="192" y="3320"/>
                    </a:lnTo>
                    <a:lnTo>
                      <a:pt x="190" y="3328"/>
                    </a:lnTo>
                    <a:lnTo>
                      <a:pt x="188" y="3336"/>
                    </a:lnTo>
                    <a:lnTo>
                      <a:pt x="184" y="3352"/>
                    </a:lnTo>
                    <a:lnTo>
                      <a:pt x="180" y="3368"/>
                    </a:lnTo>
                    <a:lnTo>
                      <a:pt x="179" y="3384"/>
                    </a:lnTo>
                    <a:lnTo>
                      <a:pt x="178" y="3400"/>
                    </a:lnTo>
                    <a:lnTo>
                      <a:pt x="178" y="3408"/>
                    </a:lnTo>
                    <a:lnTo>
                      <a:pt x="179" y="3416"/>
                    </a:lnTo>
                    <a:lnTo>
                      <a:pt x="180" y="3432"/>
                    </a:lnTo>
                    <a:lnTo>
                      <a:pt x="183" y="3447"/>
                    </a:lnTo>
                    <a:lnTo>
                      <a:pt x="188" y="3462"/>
                    </a:lnTo>
                    <a:lnTo>
                      <a:pt x="192" y="3477"/>
                    </a:lnTo>
                    <a:lnTo>
                      <a:pt x="199" y="3491"/>
                    </a:lnTo>
                    <a:lnTo>
                      <a:pt x="207" y="3506"/>
                    </a:lnTo>
                    <a:lnTo>
                      <a:pt x="216" y="3521"/>
                    </a:lnTo>
                    <a:lnTo>
                      <a:pt x="222" y="3528"/>
                    </a:lnTo>
                    <a:lnTo>
                      <a:pt x="227" y="3534"/>
                    </a:lnTo>
                    <a:lnTo>
                      <a:pt x="239" y="3548"/>
                    </a:lnTo>
                    <a:lnTo>
                      <a:pt x="245" y="3555"/>
                    </a:lnTo>
                    <a:lnTo>
                      <a:pt x="252" y="3561"/>
                    </a:lnTo>
                    <a:lnTo>
                      <a:pt x="267" y="3575"/>
                    </a:lnTo>
                    <a:lnTo>
                      <a:pt x="283" y="3587"/>
                    </a:lnTo>
                    <a:lnTo>
                      <a:pt x="301" y="3599"/>
                    </a:lnTo>
                    <a:lnTo>
                      <a:pt x="320" y="3611"/>
                    </a:lnTo>
                    <a:lnTo>
                      <a:pt x="340" y="3622"/>
                    </a:lnTo>
                    <a:lnTo>
                      <a:pt x="355" y="3628"/>
                    </a:lnTo>
                    <a:lnTo>
                      <a:pt x="370" y="3633"/>
                    </a:lnTo>
                    <a:lnTo>
                      <a:pt x="384" y="3638"/>
                    </a:lnTo>
                    <a:lnTo>
                      <a:pt x="399" y="3642"/>
                    </a:lnTo>
                    <a:lnTo>
                      <a:pt x="414" y="3646"/>
                    </a:lnTo>
                    <a:lnTo>
                      <a:pt x="428" y="3648"/>
                    </a:lnTo>
                    <a:lnTo>
                      <a:pt x="443" y="3649"/>
                    </a:lnTo>
                    <a:lnTo>
                      <a:pt x="458" y="3650"/>
                    </a:lnTo>
                    <a:lnTo>
                      <a:pt x="471" y="3650"/>
                    </a:lnTo>
                    <a:lnTo>
                      <a:pt x="486" y="3649"/>
                    </a:lnTo>
                    <a:lnTo>
                      <a:pt x="499" y="3648"/>
                    </a:lnTo>
                    <a:lnTo>
                      <a:pt x="514" y="3647"/>
                    </a:lnTo>
                    <a:lnTo>
                      <a:pt x="527" y="3644"/>
                    </a:lnTo>
                    <a:lnTo>
                      <a:pt x="542" y="3642"/>
                    </a:lnTo>
                    <a:lnTo>
                      <a:pt x="555" y="3638"/>
                    </a:lnTo>
                    <a:lnTo>
                      <a:pt x="569" y="3633"/>
                    </a:lnTo>
                    <a:lnTo>
                      <a:pt x="582" y="3630"/>
                    </a:lnTo>
                    <a:lnTo>
                      <a:pt x="596" y="3624"/>
                    </a:lnTo>
                    <a:lnTo>
                      <a:pt x="609" y="3619"/>
                    </a:lnTo>
                    <a:lnTo>
                      <a:pt x="621" y="3613"/>
                    </a:lnTo>
                    <a:lnTo>
                      <a:pt x="635" y="3606"/>
                    </a:lnTo>
                    <a:lnTo>
                      <a:pt x="647" y="3599"/>
                    </a:lnTo>
                    <a:lnTo>
                      <a:pt x="661" y="3592"/>
                    </a:lnTo>
                    <a:lnTo>
                      <a:pt x="673" y="3584"/>
                    </a:lnTo>
                    <a:lnTo>
                      <a:pt x="698" y="3567"/>
                    </a:lnTo>
                    <a:lnTo>
                      <a:pt x="722" y="3550"/>
                    </a:lnTo>
                    <a:lnTo>
                      <a:pt x="746" y="3532"/>
                    </a:lnTo>
                    <a:lnTo>
                      <a:pt x="769" y="3512"/>
                    </a:lnTo>
                    <a:lnTo>
                      <a:pt x="778" y="3502"/>
                    </a:lnTo>
                    <a:lnTo>
                      <a:pt x="785" y="3494"/>
                    </a:lnTo>
                    <a:lnTo>
                      <a:pt x="794" y="3484"/>
                    </a:lnTo>
                    <a:lnTo>
                      <a:pt x="800" y="3473"/>
                    </a:lnTo>
                    <a:lnTo>
                      <a:pt x="807" y="3463"/>
                    </a:lnTo>
                    <a:lnTo>
                      <a:pt x="813" y="3454"/>
                    </a:lnTo>
                    <a:lnTo>
                      <a:pt x="824" y="3432"/>
                    </a:lnTo>
                    <a:lnTo>
                      <a:pt x="834" y="3411"/>
                    </a:lnTo>
                    <a:lnTo>
                      <a:pt x="843" y="3388"/>
                    </a:lnTo>
                    <a:lnTo>
                      <a:pt x="859" y="3342"/>
                    </a:lnTo>
                    <a:lnTo>
                      <a:pt x="873" y="3297"/>
                    </a:lnTo>
                    <a:lnTo>
                      <a:pt x="882" y="3274"/>
                    </a:lnTo>
                    <a:lnTo>
                      <a:pt x="890" y="3252"/>
                    </a:lnTo>
                    <a:lnTo>
                      <a:pt x="900" y="3230"/>
                    </a:lnTo>
                    <a:lnTo>
                      <a:pt x="905" y="3219"/>
                    </a:lnTo>
                    <a:lnTo>
                      <a:pt x="911" y="3208"/>
                    </a:lnTo>
                    <a:lnTo>
                      <a:pt x="917" y="3198"/>
                    </a:lnTo>
                    <a:lnTo>
                      <a:pt x="925" y="3187"/>
                    </a:lnTo>
                    <a:lnTo>
                      <a:pt x="931" y="3177"/>
                    </a:lnTo>
                    <a:lnTo>
                      <a:pt x="939" y="3167"/>
                    </a:lnTo>
                    <a:lnTo>
                      <a:pt x="948" y="3158"/>
                    </a:lnTo>
                    <a:lnTo>
                      <a:pt x="958" y="3149"/>
                    </a:lnTo>
                    <a:lnTo>
                      <a:pt x="969" y="3139"/>
                    </a:lnTo>
                    <a:lnTo>
                      <a:pt x="981" y="3130"/>
                    </a:lnTo>
                    <a:lnTo>
                      <a:pt x="993" y="3121"/>
                    </a:lnTo>
                    <a:lnTo>
                      <a:pt x="1005" y="3114"/>
                    </a:lnTo>
                    <a:lnTo>
                      <a:pt x="1013" y="3110"/>
                    </a:lnTo>
                    <a:lnTo>
                      <a:pt x="1019" y="3106"/>
                    </a:lnTo>
                    <a:lnTo>
                      <a:pt x="1031" y="3101"/>
                    </a:lnTo>
                    <a:lnTo>
                      <a:pt x="1044" y="3097"/>
                    </a:lnTo>
                    <a:lnTo>
                      <a:pt x="1051" y="3095"/>
                    </a:lnTo>
                    <a:lnTo>
                      <a:pt x="1057" y="3095"/>
                    </a:lnTo>
                    <a:lnTo>
                      <a:pt x="1070" y="3095"/>
                    </a:lnTo>
                    <a:lnTo>
                      <a:pt x="1076" y="3097"/>
                    </a:lnTo>
                    <a:lnTo>
                      <a:pt x="1081" y="3098"/>
                    </a:lnTo>
                    <a:lnTo>
                      <a:pt x="1087" y="3100"/>
                    </a:lnTo>
                    <a:lnTo>
                      <a:pt x="1093" y="3103"/>
                    </a:lnTo>
                    <a:lnTo>
                      <a:pt x="1098" y="3106"/>
                    </a:lnTo>
                    <a:lnTo>
                      <a:pt x="1103" y="3111"/>
                    </a:lnTo>
                    <a:lnTo>
                      <a:pt x="1108" y="3116"/>
                    </a:lnTo>
                    <a:lnTo>
                      <a:pt x="1113" y="3122"/>
                    </a:lnTo>
                    <a:lnTo>
                      <a:pt x="1118" y="3130"/>
                    </a:lnTo>
                    <a:lnTo>
                      <a:pt x="1121" y="3137"/>
                    </a:lnTo>
                    <a:lnTo>
                      <a:pt x="1131" y="3161"/>
                    </a:lnTo>
                    <a:lnTo>
                      <a:pt x="1140" y="3185"/>
                    </a:lnTo>
                    <a:lnTo>
                      <a:pt x="1197" y="3111"/>
                    </a:lnTo>
                    <a:lnTo>
                      <a:pt x="1253" y="3037"/>
                    </a:lnTo>
                    <a:lnTo>
                      <a:pt x="1282" y="2999"/>
                    </a:lnTo>
                    <a:lnTo>
                      <a:pt x="1308" y="2961"/>
                    </a:lnTo>
                    <a:lnTo>
                      <a:pt x="1334" y="2923"/>
                    </a:lnTo>
                    <a:lnTo>
                      <a:pt x="1361" y="2884"/>
                    </a:lnTo>
                    <a:lnTo>
                      <a:pt x="1371" y="2865"/>
                    </a:lnTo>
                    <a:lnTo>
                      <a:pt x="1383" y="2845"/>
                    </a:lnTo>
                    <a:lnTo>
                      <a:pt x="1407" y="2797"/>
                    </a:lnTo>
                    <a:lnTo>
                      <a:pt x="1434" y="2744"/>
                    </a:lnTo>
                    <a:lnTo>
                      <a:pt x="1461" y="2694"/>
                    </a:lnTo>
                    <a:lnTo>
                      <a:pt x="1474" y="2672"/>
                    </a:lnTo>
                    <a:lnTo>
                      <a:pt x="1486" y="2653"/>
                    </a:lnTo>
                    <a:lnTo>
                      <a:pt x="1497" y="2637"/>
                    </a:lnTo>
                    <a:lnTo>
                      <a:pt x="1503" y="2631"/>
                    </a:lnTo>
                    <a:lnTo>
                      <a:pt x="1508" y="2626"/>
                    </a:lnTo>
                    <a:lnTo>
                      <a:pt x="1513" y="2622"/>
                    </a:lnTo>
                    <a:lnTo>
                      <a:pt x="1516" y="2620"/>
                    </a:lnTo>
                    <a:lnTo>
                      <a:pt x="1521" y="2618"/>
                    </a:lnTo>
                    <a:lnTo>
                      <a:pt x="1525" y="2620"/>
                    </a:lnTo>
                    <a:lnTo>
                      <a:pt x="1526" y="2621"/>
                    </a:lnTo>
                    <a:lnTo>
                      <a:pt x="1527" y="2622"/>
                    </a:lnTo>
                    <a:lnTo>
                      <a:pt x="1531" y="2626"/>
                    </a:lnTo>
                    <a:lnTo>
                      <a:pt x="1533" y="2632"/>
                    </a:lnTo>
                    <a:lnTo>
                      <a:pt x="1535" y="2640"/>
                    </a:lnTo>
                    <a:lnTo>
                      <a:pt x="1533" y="2654"/>
                    </a:lnTo>
                    <a:lnTo>
                      <a:pt x="1530" y="2666"/>
                    </a:lnTo>
                    <a:lnTo>
                      <a:pt x="1527" y="2678"/>
                    </a:lnTo>
                    <a:lnTo>
                      <a:pt x="1524" y="2691"/>
                    </a:lnTo>
                    <a:lnTo>
                      <a:pt x="1514" y="2715"/>
                    </a:lnTo>
                    <a:lnTo>
                      <a:pt x="1504" y="2738"/>
                    </a:lnTo>
                    <a:lnTo>
                      <a:pt x="1498" y="2749"/>
                    </a:lnTo>
                    <a:lnTo>
                      <a:pt x="1492" y="2760"/>
                    </a:lnTo>
                    <a:lnTo>
                      <a:pt x="1480" y="2782"/>
                    </a:lnTo>
                    <a:lnTo>
                      <a:pt x="1451" y="2826"/>
                    </a:lnTo>
                    <a:lnTo>
                      <a:pt x="1425" y="2870"/>
                    </a:lnTo>
                    <a:lnTo>
                      <a:pt x="1411" y="2892"/>
                    </a:lnTo>
                    <a:lnTo>
                      <a:pt x="1399" y="2914"/>
                    </a:lnTo>
                    <a:lnTo>
                      <a:pt x="1388" y="2938"/>
                    </a:lnTo>
                    <a:lnTo>
                      <a:pt x="1378" y="2961"/>
                    </a:lnTo>
                    <a:lnTo>
                      <a:pt x="1373" y="2973"/>
                    </a:lnTo>
                    <a:lnTo>
                      <a:pt x="1370" y="2985"/>
                    </a:lnTo>
                    <a:lnTo>
                      <a:pt x="1367" y="2997"/>
                    </a:lnTo>
                    <a:lnTo>
                      <a:pt x="1365" y="3010"/>
                    </a:lnTo>
                    <a:lnTo>
                      <a:pt x="1373" y="2999"/>
                    </a:lnTo>
                    <a:lnTo>
                      <a:pt x="1395" y="2968"/>
                    </a:lnTo>
                    <a:lnTo>
                      <a:pt x="1465" y="2869"/>
                    </a:lnTo>
                    <a:lnTo>
                      <a:pt x="1504" y="2812"/>
                    </a:lnTo>
                    <a:lnTo>
                      <a:pt x="1541" y="2758"/>
                    </a:lnTo>
                    <a:lnTo>
                      <a:pt x="1570" y="2711"/>
                    </a:lnTo>
                    <a:lnTo>
                      <a:pt x="1581" y="2693"/>
                    </a:lnTo>
                    <a:lnTo>
                      <a:pt x="1590" y="2678"/>
                    </a:lnTo>
                    <a:lnTo>
                      <a:pt x="1615" y="2625"/>
                    </a:lnTo>
                    <a:lnTo>
                      <a:pt x="1641" y="2569"/>
                    </a:lnTo>
                    <a:lnTo>
                      <a:pt x="1665" y="2514"/>
                    </a:lnTo>
                    <a:lnTo>
                      <a:pt x="1678" y="2486"/>
                    </a:lnTo>
                    <a:lnTo>
                      <a:pt x="1689" y="2458"/>
                    </a:lnTo>
                    <a:lnTo>
                      <a:pt x="1698" y="2430"/>
                    </a:lnTo>
                    <a:lnTo>
                      <a:pt x="1708" y="2402"/>
                    </a:lnTo>
                    <a:lnTo>
                      <a:pt x="1718" y="2374"/>
                    </a:lnTo>
                    <a:lnTo>
                      <a:pt x="1725" y="2344"/>
                    </a:lnTo>
                    <a:lnTo>
                      <a:pt x="1733" y="2315"/>
                    </a:lnTo>
                    <a:lnTo>
                      <a:pt x="1740" y="2286"/>
                    </a:lnTo>
                    <a:lnTo>
                      <a:pt x="1745" y="2256"/>
                    </a:lnTo>
                    <a:lnTo>
                      <a:pt x="1750" y="2226"/>
                    </a:lnTo>
                    <a:lnTo>
                      <a:pt x="1749" y="2226"/>
                    </a:lnTo>
                    <a:lnTo>
                      <a:pt x="1746" y="2228"/>
                    </a:lnTo>
                    <a:lnTo>
                      <a:pt x="1736" y="2243"/>
                    </a:lnTo>
                    <a:lnTo>
                      <a:pt x="1708" y="2294"/>
                    </a:lnTo>
                    <a:lnTo>
                      <a:pt x="1692" y="2321"/>
                    </a:lnTo>
                    <a:lnTo>
                      <a:pt x="1679" y="2344"/>
                    </a:lnTo>
                    <a:lnTo>
                      <a:pt x="1674" y="2352"/>
                    </a:lnTo>
                    <a:lnTo>
                      <a:pt x="1669" y="2358"/>
                    </a:lnTo>
                    <a:lnTo>
                      <a:pt x="1667" y="2359"/>
                    </a:lnTo>
                    <a:lnTo>
                      <a:pt x="1665" y="2359"/>
                    </a:lnTo>
                    <a:lnTo>
                      <a:pt x="1665" y="2357"/>
                    </a:lnTo>
                    <a:lnTo>
                      <a:pt x="1668" y="2335"/>
                    </a:lnTo>
                    <a:lnTo>
                      <a:pt x="1672" y="2313"/>
                    </a:lnTo>
                    <a:lnTo>
                      <a:pt x="1675" y="2291"/>
                    </a:lnTo>
                    <a:lnTo>
                      <a:pt x="1680" y="2269"/>
                    </a:lnTo>
                    <a:lnTo>
                      <a:pt x="1686" y="2247"/>
                    </a:lnTo>
                    <a:lnTo>
                      <a:pt x="1691" y="2226"/>
                    </a:lnTo>
                    <a:lnTo>
                      <a:pt x="1705" y="2183"/>
                    </a:lnTo>
                    <a:lnTo>
                      <a:pt x="1718" y="2140"/>
                    </a:lnTo>
                    <a:lnTo>
                      <a:pt x="1733" y="2097"/>
                    </a:lnTo>
                    <a:lnTo>
                      <a:pt x="1746" y="2055"/>
                    </a:lnTo>
                    <a:lnTo>
                      <a:pt x="1760" y="2012"/>
                    </a:lnTo>
                    <a:lnTo>
                      <a:pt x="1777" y="1950"/>
                    </a:lnTo>
                    <a:lnTo>
                      <a:pt x="1791" y="1888"/>
                    </a:lnTo>
                    <a:lnTo>
                      <a:pt x="1806" y="1826"/>
                    </a:lnTo>
                    <a:lnTo>
                      <a:pt x="1818" y="1762"/>
                    </a:lnTo>
                    <a:close/>
                  </a:path>
                </a:pathLst>
              </a:custGeom>
              <a:solidFill>
                <a:srgbClr val="8cc0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599160" y="3611520"/>
                <a:ext cx="15840" cy="86760"/>
              </a:xfrm>
              <a:custGeom>
                <a:avLst/>
                <a:gdLst/>
                <a:ahLst/>
                <a:rect l="l" t="t" r="r" b="b"/>
                <a:pathLst>
                  <a:path w="19" h="108">
                    <a:moveTo>
                      <a:pt x="6" y="108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19" y="108"/>
                    </a:lnTo>
                    <a:lnTo>
                      <a:pt x="6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564240" y="3490920"/>
                <a:ext cx="46080" cy="121680"/>
              </a:xfrm>
              <a:custGeom>
                <a:avLst/>
                <a:gdLst/>
                <a:ahLst/>
                <a:rect l="l" t="t" r="r" b="b"/>
                <a:pathLst>
                  <a:path w="58" h="154">
                    <a:moveTo>
                      <a:pt x="45" y="154"/>
                    </a:moveTo>
                    <a:lnTo>
                      <a:pt x="40" y="115"/>
                    </a:lnTo>
                    <a:lnTo>
                      <a:pt x="29" y="54"/>
                    </a:lnTo>
                    <a:lnTo>
                      <a:pt x="22" y="29"/>
                    </a:lnTo>
                    <a:lnTo>
                      <a:pt x="15" y="13"/>
                    </a:lnTo>
                    <a:lnTo>
                      <a:pt x="19" y="13"/>
                    </a:lnTo>
                    <a:lnTo>
                      <a:pt x="19" y="12"/>
                    </a:lnTo>
                    <a:lnTo>
                      <a:pt x="17" y="17"/>
                    </a:lnTo>
                    <a:lnTo>
                      <a:pt x="14" y="27"/>
                    </a:lnTo>
                    <a:lnTo>
                      <a:pt x="0" y="24"/>
                    </a:lnTo>
                    <a:lnTo>
                      <a:pt x="3" y="11"/>
                    </a:lnTo>
                    <a:lnTo>
                      <a:pt x="8" y="2"/>
                    </a:lnTo>
                    <a:lnTo>
                      <a:pt x="15" y="0"/>
                    </a:lnTo>
                    <a:lnTo>
                      <a:pt x="28" y="5"/>
                    </a:lnTo>
                    <a:lnTo>
                      <a:pt x="35" y="23"/>
                    </a:lnTo>
                    <a:lnTo>
                      <a:pt x="42" y="50"/>
                    </a:lnTo>
                    <a:lnTo>
                      <a:pt x="53" y="112"/>
                    </a:lnTo>
                    <a:lnTo>
                      <a:pt x="58" y="151"/>
                    </a:lnTo>
                    <a:lnTo>
                      <a:pt x="45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599160" y="361152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3" y="2"/>
                    </a:moveTo>
                    <a:lnTo>
                      <a:pt x="13" y="0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540480" y="3510000"/>
                <a:ext cx="34920" cy="361440"/>
              </a:xfrm>
              <a:custGeom>
                <a:avLst/>
                <a:gdLst/>
                <a:ahLst/>
                <a:rect l="l" t="t" r="r" b="b"/>
                <a:pathLst>
                  <a:path w="44" h="455">
                    <a:moveTo>
                      <a:pt x="44" y="1"/>
                    </a:moveTo>
                    <a:lnTo>
                      <a:pt x="38" y="59"/>
                    </a:lnTo>
                    <a:lnTo>
                      <a:pt x="36" y="115"/>
                    </a:lnTo>
                    <a:lnTo>
                      <a:pt x="36" y="229"/>
                    </a:lnTo>
                    <a:lnTo>
                      <a:pt x="34" y="285"/>
                    </a:lnTo>
                    <a:lnTo>
                      <a:pt x="32" y="341"/>
                    </a:lnTo>
                    <a:lnTo>
                      <a:pt x="26" y="398"/>
                    </a:lnTo>
                    <a:lnTo>
                      <a:pt x="15" y="455"/>
                    </a:lnTo>
                    <a:lnTo>
                      <a:pt x="0" y="453"/>
                    </a:lnTo>
                    <a:lnTo>
                      <a:pt x="11" y="396"/>
                    </a:lnTo>
                    <a:lnTo>
                      <a:pt x="17" y="341"/>
                    </a:lnTo>
                    <a:lnTo>
                      <a:pt x="20" y="285"/>
                    </a:lnTo>
                    <a:lnTo>
                      <a:pt x="21" y="229"/>
                    </a:lnTo>
                    <a:lnTo>
                      <a:pt x="21" y="115"/>
                    </a:lnTo>
                    <a:lnTo>
                      <a:pt x="23" y="59"/>
                    </a:lnTo>
                    <a:lnTo>
                      <a:pt x="30" y="0"/>
                    </a:lnTo>
                    <a:lnTo>
                      <a:pt x="4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564240" y="35100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14" y="1"/>
                    </a:lnTo>
                    <a:lnTo>
                      <a:pt x="14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458040" y="3778200"/>
                <a:ext cx="93600" cy="150480"/>
              </a:xfrm>
              <a:custGeom>
                <a:avLst/>
                <a:gdLst/>
                <a:ahLst/>
                <a:rect l="l" t="t" r="r" b="b"/>
                <a:pathLst>
                  <a:path w="119" h="190">
                    <a:moveTo>
                      <a:pt x="119" y="120"/>
                    </a:moveTo>
                    <a:lnTo>
                      <a:pt x="108" y="148"/>
                    </a:lnTo>
                    <a:lnTo>
                      <a:pt x="99" y="167"/>
                    </a:lnTo>
                    <a:lnTo>
                      <a:pt x="88" y="181"/>
                    </a:lnTo>
                    <a:lnTo>
                      <a:pt x="82" y="187"/>
                    </a:lnTo>
                    <a:lnTo>
                      <a:pt x="77" y="189"/>
                    </a:lnTo>
                    <a:lnTo>
                      <a:pt x="64" y="190"/>
                    </a:lnTo>
                    <a:lnTo>
                      <a:pt x="54" y="184"/>
                    </a:lnTo>
                    <a:lnTo>
                      <a:pt x="45" y="173"/>
                    </a:lnTo>
                    <a:lnTo>
                      <a:pt x="38" y="160"/>
                    </a:lnTo>
                    <a:lnTo>
                      <a:pt x="26" y="123"/>
                    </a:lnTo>
                    <a:lnTo>
                      <a:pt x="15" y="83"/>
                    </a:lnTo>
                    <a:lnTo>
                      <a:pt x="0" y="3"/>
                    </a:lnTo>
                    <a:lnTo>
                      <a:pt x="14" y="0"/>
                    </a:lnTo>
                    <a:lnTo>
                      <a:pt x="28" y="79"/>
                    </a:lnTo>
                    <a:lnTo>
                      <a:pt x="39" y="118"/>
                    </a:lnTo>
                    <a:lnTo>
                      <a:pt x="51" y="154"/>
                    </a:lnTo>
                    <a:lnTo>
                      <a:pt x="58" y="165"/>
                    </a:lnTo>
                    <a:lnTo>
                      <a:pt x="64" y="173"/>
                    </a:lnTo>
                    <a:lnTo>
                      <a:pt x="69" y="177"/>
                    </a:lnTo>
                    <a:lnTo>
                      <a:pt x="72" y="176"/>
                    </a:lnTo>
                    <a:lnTo>
                      <a:pt x="73" y="175"/>
                    </a:lnTo>
                    <a:lnTo>
                      <a:pt x="77" y="171"/>
                    </a:lnTo>
                    <a:lnTo>
                      <a:pt x="87" y="160"/>
                    </a:lnTo>
                    <a:lnTo>
                      <a:pt x="94" y="142"/>
                    </a:lnTo>
                    <a:lnTo>
                      <a:pt x="105" y="113"/>
                    </a:lnTo>
                    <a:lnTo>
                      <a:pt x="119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540480" y="386856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5" y="4"/>
                    </a:moveTo>
                    <a:lnTo>
                      <a:pt x="15" y="2"/>
                    </a:lnTo>
                    <a:lnTo>
                      <a:pt x="14" y="7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394320" y="3222360"/>
                <a:ext cx="73080" cy="558720"/>
              </a:xfrm>
              <a:custGeom>
                <a:avLst/>
                <a:gdLst/>
                <a:ahLst/>
                <a:rect l="l" t="t" r="r" b="b"/>
                <a:pathLst>
                  <a:path w="93" h="704">
                    <a:moveTo>
                      <a:pt x="79" y="704"/>
                    </a:moveTo>
                    <a:lnTo>
                      <a:pt x="45" y="531"/>
                    </a:lnTo>
                    <a:lnTo>
                      <a:pt x="28" y="444"/>
                    </a:lnTo>
                    <a:lnTo>
                      <a:pt x="13" y="355"/>
                    </a:lnTo>
                    <a:lnTo>
                      <a:pt x="3" y="265"/>
                    </a:lnTo>
                    <a:lnTo>
                      <a:pt x="0" y="177"/>
                    </a:lnTo>
                    <a:lnTo>
                      <a:pt x="3" y="88"/>
                    </a:lnTo>
                    <a:lnTo>
                      <a:pt x="8" y="44"/>
                    </a:lnTo>
                    <a:lnTo>
                      <a:pt x="16" y="0"/>
                    </a:lnTo>
                    <a:lnTo>
                      <a:pt x="29" y="4"/>
                    </a:lnTo>
                    <a:lnTo>
                      <a:pt x="22" y="48"/>
                    </a:lnTo>
                    <a:lnTo>
                      <a:pt x="17" y="91"/>
                    </a:lnTo>
                    <a:lnTo>
                      <a:pt x="14" y="177"/>
                    </a:lnTo>
                    <a:lnTo>
                      <a:pt x="17" y="265"/>
                    </a:lnTo>
                    <a:lnTo>
                      <a:pt x="27" y="352"/>
                    </a:lnTo>
                    <a:lnTo>
                      <a:pt x="41" y="440"/>
                    </a:lnTo>
                    <a:lnTo>
                      <a:pt x="58" y="527"/>
                    </a:lnTo>
                    <a:lnTo>
                      <a:pt x="93" y="701"/>
                    </a:lnTo>
                    <a:lnTo>
                      <a:pt x="79" y="7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458040" y="3778200"/>
                <a:ext cx="9360" cy="28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0"/>
                    </a:moveTo>
                    <a:lnTo>
                      <a:pt x="0" y="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407280" y="3198600"/>
                <a:ext cx="122040" cy="117360"/>
              </a:xfrm>
              <a:custGeom>
                <a:avLst/>
                <a:gdLst/>
                <a:ahLst/>
                <a:rect l="l" t="t" r="r" b="b"/>
                <a:pathLst>
                  <a:path w="154" h="148">
                    <a:moveTo>
                      <a:pt x="0" y="26"/>
                    </a:moveTo>
                    <a:lnTo>
                      <a:pt x="8" y="10"/>
                    </a:lnTo>
                    <a:lnTo>
                      <a:pt x="22" y="0"/>
                    </a:lnTo>
                    <a:lnTo>
                      <a:pt x="34" y="1"/>
                    </a:lnTo>
                    <a:lnTo>
                      <a:pt x="46" y="8"/>
                    </a:lnTo>
                    <a:lnTo>
                      <a:pt x="68" y="34"/>
                    </a:lnTo>
                    <a:lnTo>
                      <a:pt x="89" y="68"/>
                    </a:lnTo>
                    <a:lnTo>
                      <a:pt x="110" y="103"/>
                    </a:lnTo>
                    <a:lnTo>
                      <a:pt x="118" y="117"/>
                    </a:lnTo>
                    <a:lnTo>
                      <a:pt x="127" y="127"/>
                    </a:lnTo>
                    <a:lnTo>
                      <a:pt x="133" y="133"/>
                    </a:lnTo>
                    <a:lnTo>
                      <a:pt x="133" y="133"/>
                    </a:lnTo>
                    <a:lnTo>
                      <a:pt x="132" y="134"/>
                    </a:lnTo>
                    <a:lnTo>
                      <a:pt x="137" y="131"/>
                    </a:lnTo>
                    <a:lnTo>
                      <a:pt x="140" y="120"/>
                    </a:lnTo>
                    <a:lnTo>
                      <a:pt x="154" y="126"/>
                    </a:lnTo>
                    <a:lnTo>
                      <a:pt x="149" y="139"/>
                    </a:lnTo>
                    <a:lnTo>
                      <a:pt x="140" y="147"/>
                    </a:lnTo>
                    <a:lnTo>
                      <a:pt x="132" y="148"/>
                    </a:lnTo>
                    <a:lnTo>
                      <a:pt x="124" y="145"/>
                    </a:lnTo>
                    <a:lnTo>
                      <a:pt x="116" y="137"/>
                    </a:lnTo>
                    <a:lnTo>
                      <a:pt x="106" y="126"/>
                    </a:lnTo>
                    <a:lnTo>
                      <a:pt x="98" y="111"/>
                    </a:lnTo>
                    <a:lnTo>
                      <a:pt x="77" y="77"/>
                    </a:lnTo>
                    <a:lnTo>
                      <a:pt x="56" y="43"/>
                    </a:lnTo>
                    <a:lnTo>
                      <a:pt x="35" y="18"/>
                    </a:lnTo>
                    <a:lnTo>
                      <a:pt x="28" y="15"/>
                    </a:lnTo>
                    <a:lnTo>
                      <a:pt x="24" y="15"/>
                    </a:lnTo>
                    <a:lnTo>
                      <a:pt x="19" y="20"/>
                    </a:lnTo>
                    <a:lnTo>
                      <a:pt x="12" y="34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407280" y="321948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2"/>
                    </a:moveTo>
                    <a:lnTo>
                      <a:pt x="1" y="0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451560" y="2970000"/>
                <a:ext cx="81000" cy="326880"/>
              </a:xfrm>
              <a:custGeom>
                <a:avLst/>
                <a:gdLst/>
                <a:ahLst/>
                <a:rect l="l" t="t" r="r" b="b"/>
                <a:pathLst>
                  <a:path w="101" h="412">
                    <a:moveTo>
                      <a:pt x="84" y="410"/>
                    </a:moveTo>
                    <a:lnTo>
                      <a:pt x="87" y="383"/>
                    </a:lnTo>
                    <a:lnTo>
                      <a:pt x="88" y="357"/>
                    </a:lnTo>
                    <a:lnTo>
                      <a:pt x="86" y="307"/>
                    </a:lnTo>
                    <a:lnTo>
                      <a:pt x="78" y="256"/>
                    </a:lnTo>
                    <a:lnTo>
                      <a:pt x="67" y="205"/>
                    </a:lnTo>
                    <a:lnTo>
                      <a:pt x="53" y="153"/>
                    </a:lnTo>
                    <a:lnTo>
                      <a:pt x="37" y="103"/>
                    </a:lnTo>
                    <a:lnTo>
                      <a:pt x="0" y="6"/>
                    </a:lnTo>
                    <a:lnTo>
                      <a:pt x="13" y="0"/>
                    </a:lnTo>
                    <a:lnTo>
                      <a:pt x="50" y="98"/>
                    </a:lnTo>
                    <a:lnTo>
                      <a:pt x="66" y="148"/>
                    </a:lnTo>
                    <a:lnTo>
                      <a:pt x="81" y="201"/>
                    </a:lnTo>
                    <a:lnTo>
                      <a:pt x="92" y="252"/>
                    </a:lnTo>
                    <a:lnTo>
                      <a:pt x="99" y="305"/>
                    </a:lnTo>
                    <a:lnTo>
                      <a:pt x="101" y="357"/>
                    </a:lnTo>
                    <a:lnTo>
                      <a:pt x="100" y="386"/>
                    </a:lnTo>
                    <a:lnTo>
                      <a:pt x="98" y="412"/>
                    </a:lnTo>
                    <a:lnTo>
                      <a:pt x="84" y="4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519960" y="3294000"/>
                <a:ext cx="9360" cy="57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6"/>
                    </a:moveTo>
                    <a:lnTo>
                      <a:pt x="14" y="7"/>
                    </a:lnTo>
                    <a:lnTo>
                      <a:pt x="14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075360" y="2295360"/>
                <a:ext cx="387360" cy="678960"/>
              </a:xfrm>
              <a:custGeom>
                <a:avLst/>
                <a:gdLst/>
                <a:ahLst/>
                <a:rect l="l" t="t" r="r" b="b"/>
                <a:pathLst>
                  <a:path w="487" h="855">
                    <a:moveTo>
                      <a:pt x="474" y="855"/>
                    </a:moveTo>
                    <a:lnTo>
                      <a:pt x="428" y="742"/>
                    </a:lnTo>
                    <a:lnTo>
                      <a:pt x="379" y="630"/>
                    </a:lnTo>
                    <a:lnTo>
                      <a:pt x="325" y="522"/>
                    </a:lnTo>
                    <a:lnTo>
                      <a:pt x="266" y="415"/>
                    </a:lnTo>
                    <a:lnTo>
                      <a:pt x="205" y="311"/>
                    </a:lnTo>
                    <a:lnTo>
                      <a:pt x="140" y="209"/>
                    </a:lnTo>
                    <a:lnTo>
                      <a:pt x="72" y="107"/>
                    </a:lnTo>
                    <a:lnTo>
                      <a:pt x="0" y="9"/>
                    </a:lnTo>
                    <a:lnTo>
                      <a:pt x="11" y="0"/>
                    </a:lnTo>
                    <a:lnTo>
                      <a:pt x="83" y="99"/>
                    </a:lnTo>
                    <a:lnTo>
                      <a:pt x="152" y="200"/>
                    </a:lnTo>
                    <a:lnTo>
                      <a:pt x="217" y="303"/>
                    </a:lnTo>
                    <a:lnTo>
                      <a:pt x="278" y="408"/>
                    </a:lnTo>
                    <a:lnTo>
                      <a:pt x="337" y="514"/>
                    </a:lnTo>
                    <a:lnTo>
                      <a:pt x="391" y="623"/>
                    </a:lnTo>
                    <a:lnTo>
                      <a:pt x="441" y="736"/>
                    </a:lnTo>
                    <a:lnTo>
                      <a:pt x="487" y="849"/>
                    </a:lnTo>
                    <a:lnTo>
                      <a:pt x="474" y="8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451560" y="297000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0" y="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013440" y="2297160"/>
                <a:ext cx="71280" cy="134280"/>
              </a:xfrm>
              <a:custGeom>
                <a:avLst/>
                <a:gdLst/>
                <a:ahLst/>
                <a:rect l="l" t="t" r="r" b="b"/>
                <a:pathLst>
                  <a:path w="91" h="169">
                    <a:moveTo>
                      <a:pt x="91" y="6"/>
                    </a:moveTo>
                    <a:lnTo>
                      <a:pt x="54" y="88"/>
                    </a:lnTo>
                    <a:lnTo>
                      <a:pt x="14" y="169"/>
                    </a:lnTo>
                    <a:lnTo>
                      <a:pt x="0" y="163"/>
                    </a:lnTo>
                    <a:lnTo>
                      <a:pt x="41" y="82"/>
                    </a:lnTo>
                    <a:lnTo>
                      <a:pt x="77" y="0"/>
                    </a:lnTo>
                    <a:lnTo>
                      <a:pt x="9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075360" y="228744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13" y="10"/>
                    </a:moveTo>
                    <a:lnTo>
                      <a:pt x="5" y="0"/>
                    </a:lnTo>
                    <a:lnTo>
                      <a:pt x="0" y="12"/>
                    </a:lnTo>
                    <a:lnTo>
                      <a:pt x="14" y="18"/>
                    </a:lnTo>
                    <a:lnTo>
                      <a:pt x="2" y="19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970600" y="2427120"/>
                <a:ext cx="57240" cy="334800"/>
              </a:xfrm>
              <a:custGeom>
                <a:avLst/>
                <a:gdLst/>
                <a:ahLst/>
                <a:rect l="l" t="t" r="r" b="b"/>
                <a:pathLst>
                  <a:path w="72" h="421">
                    <a:moveTo>
                      <a:pt x="67" y="6"/>
                    </a:moveTo>
                    <a:lnTo>
                      <a:pt x="45" y="57"/>
                    </a:lnTo>
                    <a:lnTo>
                      <a:pt x="29" y="107"/>
                    </a:lnTo>
                    <a:lnTo>
                      <a:pt x="18" y="159"/>
                    </a:lnTo>
                    <a:lnTo>
                      <a:pt x="14" y="211"/>
                    </a:lnTo>
                    <a:lnTo>
                      <a:pt x="18" y="262"/>
                    </a:lnTo>
                    <a:lnTo>
                      <a:pt x="28" y="314"/>
                    </a:lnTo>
                    <a:lnTo>
                      <a:pt x="45" y="364"/>
                    </a:lnTo>
                    <a:lnTo>
                      <a:pt x="57" y="390"/>
                    </a:lnTo>
                    <a:lnTo>
                      <a:pt x="72" y="413"/>
                    </a:lnTo>
                    <a:lnTo>
                      <a:pt x="60" y="421"/>
                    </a:lnTo>
                    <a:lnTo>
                      <a:pt x="44" y="396"/>
                    </a:lnTo>
                    <a:lnTo>
                      <a:pt x="31" y="370"/>
                    </a:lnTo>
                    <a:lnTo>
                      <a:pt x="13" y="316"/>
                    </a:lnTo>
                    <a:lnTo>
                      <a:pt x="3" y="265"/>
                    </a:lnTo>
                    <a:lnTo>
                      <a:pt x="0" y="211"/>
                    </a:lnTo>
                    <a:lnTo>
                      <a:pt x="3" y="157"/>
                    </a:lnTo>
                    <a:lnTo>
                      <a:pt x="14" y="105"/>
                    </a:lnTo>
                    <a:lnTo>
                      <a:pt x="31" y="51"/>
                    </a:lnTo>
                    <a:lnTo>
                      <a:pt x="53" y="0"/>
                    </a:lnTo>
                    <a:lnTo>
                      <a:pt x="6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013440" y="242712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14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018120" y="2754360"/>
                <a:ext cx="255600" cy="66240"/>
              </a:xfrm>
              <a:custGeom>
                <a:avLst/>
                <a:gdLst/>
                <a:ahLst/>
                <a:rect l="l" t="t" r="r" b="b"/>
                <a:pathLst>
                  <a:path w="321" h="84">
                    <a:moveTo>
                      <a:pt x="11" y="0"/>
                    </a:moveTo>
                    <a:lnTo>
                      <a:pt x="20" y="11"/>
                    </a:lnTo>
                    <a:lnTo>
                      <a:pt x="29" y="20"/>
                    </a:lnTo>
                    <a:lnTo>
                      <a:pt x="39" y="27"/>
                    </a:lnTo>
                    <a:lnTo>
                      <a:pt x="47" y="33"/>
                    </a:lnTo>
                    <a:lnTo>
                      <a:pt x="66" y="39"/>
                    </a:lnTo>
                    <a:lnTo>
                      <a:pt x="85" y="44"/>
                    </a:lnTo>
                    <a:lnTo>
                      <a:pt x="105" y="44"/>
                    </a:lnTo>
                    <a:lnTo>
                      <a:pt x="124" y="41"/>
                    </a:lnTo>
                    <a:lnTo>
                      <a:pt x="165" y="31"/>
                    </a:lnTo>
                    <a:lnTo>
                      <a:pt x="185" y="27"/>
                    </a:lnTo>
                    <a:lnTo>
                      <a:pt x="206" y="23"/>
                    </a:lnTo>
                    <a:lnTo>
                      <a:pt x="226" y="20"/>
                    </a:lnTo>
                    <a:lnTo>
                      <a:pt x="246" y="22"/>
                    </a:lnTo>
                    <a:lnTo>
                      <a:pt x="266" y="27"/>
                    </a:lnTo>
                    <a:lnTo>
                      <a:pt x="275" y="31"/>
                    </a:lnTo>
                    <a:lnTo>
                      <a:pt x="286" y="38"/>
                    </a:lnTo>
                    <a:lnTo>
                      <a:pt x="303" y="52"/>
                    </a:lnTo>
                    <a:lnTo>
                      <a:pt x="321" y="75"/>
                    </a:lnTo>
                    <a:lnTo>
                      <a:pt x="309" y="84"/>
                    </a:lnTo>
                    <a:lnTo>
                      <a:pt x="292" y="62"/>
                    </a:lnTo>
                    <a:lnTo>
                      <a:pt x="276" y="49"/>
                    </a:lnTo>
                    <a:lnTo>
                      <a:pt x="268" y="45"/>
                    </a:lnTo>
                    <a:lnTo>
                      <a:pt x="260" y="40"/>
                    </a:lnTo>
                    <a:lnTo>
                      <a:pt x="244" y="36"/>
                    </a:lnTo>
                    <a:lnTo>
                      <a:pt x="226" y="35"/>
                    </a:lnTo>
                    <a:lnTo>
                      <a:pt x="207" y="38"/>
                    </a:lnTo>
                    <a:lnTo>
                      <a:pt x="188" y="41"/>
                    </a:lnTo>
                    <a:lnTo>
                      <a:pt x="167" y="46"/>
                    </a:lnTo>
                    <a:lnTo>
                      <a:pt x="127" y="56"/>
                    </a:lnTo>
                    <a:lnTo>
                      <a:pt x="105" y="58"/>
                    </a:lnTo>
                    <a:lnTo>
                      <a:pt x="84" y="58"/>
                    </a:lnTo>
                    <a:lnTo>
                      <a:pt x="63" y="53"/>
                    </a:lnTo>
                    <a:lnTo>
                      <a:pt x="41" y="46"/>
                    </a:lnTo>
                    <a:lnTo>
                      <a:pt x="30" y="39"/>
                    </a:lnTo>
                    <a:lnTo>
                      <a:pt x="19" y="31"/>
                    </a:lnTo>
                    <a:lnTo>
                      <a:pt x="9" y="20"/>
                    </a:lnTo>
                    <a:lnTo>
                      <a:pt x="0" y="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018120" y="275436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9"/>
                    </a:moveTo>
                    <a:lnTo>
                      <a:pt x="11" y="0"/>
                    </a:lnTo>
                    <a:lnTo>
                      <a:pt x="12" y="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253200" y="2814480"/>
                <a:ext cx="79200" cy="572760"/>
              </a:xfrm>
              <a:custGeom>
                <a:avLst/>
                <a:gdLst/>
                <a:ahLst/>
                <a:rect l="l" t="t" r="r" b="b"/>
                <a:pathLst>
                  <a:path w="101" h="721">
                    <a:moveTo>
                      <a:pt x="26" y="0"/>
                    </a:moveTo>
                    <a:lnTo>
                      <a:pt x="46" y="44"/>
                    </a:lnTo>
                    <a:lnTo>
                      <a:pt x="63" y="88"/>
                    </a:lnTo>
                    <a:lnTo>
                      <a:pt x="77" y="134"/>
                    </a:lnTo>
                    <a:lnTo>
                      <a:pt x="87" y="178"/>
                    </a:lnTo>
                    <a:lnTo>
                      <a:pt x="94" y="223"/>
                    </a:lnTo>
                    <a:lnTo>
                      <a:pt x="99" y="269"/>
                    </a:lnTo>
                    <a:lnTo>
                      <a:pt x="101" y="314"/>
                    </a:lnTo>
                    <a:lnTo>
                      <a:pt x="99" y="359"/>
                    </a:lnTo>
                    <a:lnTo>
                      <a:pt x="97" y="404"/>
                    </a:lnTo>
                    <a:lnTo>
                      <a:pt x="91" y="450"/>
                    </a:lnTo>
                    <a:lnTo>
                      <a:pt x="82" y="495"/>
                    </a:lnTo>
                    <a:lnTo>
                      <a:pt x="72" y="540"/>
                    </a:lnTo>
                    <a:lnTo>
                      <a:pt x="46" y="631"/>
                    </a:lnTo>
                    <a:lnTo>
                      <a:pt x="14" y="721"/>
                    </a:lnTo>
                    <a:lnTo>
                      <a:pt x="0" y="715"/>
                    </a:lnTo>
                    <a:lnTo>
                      <a:pt x="32" y="626"/>
                    </a:lnTo>
                    <a:lnTo>
                      <a:pt x="58" y="538"/>
                    </a:lnTo>
                    <a:lnTo>
                      <a:pt x="68" y="492"/>
                    </a:lnTo>
                    <a:lnTo>
                      <a:pt x="76" y="448"/>
                    </a:lnTo>
                    <a:lnTo>
                      <a:pt x="82" y="403"/>
                    </a:lnTo>
                    <a:lnTo>
                      <a:pt x="85" y="359"/>
                    </a:lnTo>
                    <a:lnTo>
                      <a:pt x="86" y="314"/>
                    </a:lnTo>
                    <a:lnTo>
                      <a:pt x="85" y="270"/>
                    </a:lnTo>
                    <a:lnTo>
                      <a:pt x="80" y="226"/>
                    </a:lnTo>
                    <a:lnTo>
                      <a:pt x="72" y="181"/>
                    </a:lnTo>
                    <a:lnTo>
                      <a:pt x="63" y="137"/>
                    </a:lnTo>
                    <a:lnTo>
                      <a:pt x="49" y="94"/>
                    </a:lnTo>
                    <a:lnTo>
                      <a:pt x="32" y="50"/>
                    </a:lnTo>
                    <a:lnTo>
                      <a:pt x="13" y="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262560" y="281448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0"/>
                    </a:moveTo>
                    <a:lnTo>
                      <a:pt x="13" y="2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848200" y="3382920"/>
                <a:ext cx="416160" cy="350280"/>
              </a:xfrm>
              <a:custGeom>
                <a:avLst/>
                <a:gdLst/>
                <a:ahLst/>
                <a:rect l="l" t="t" r="r" b="b"/>
                <a:pathLst>
                  <a:path w="525" h="441">
                    <a:moveTo>
                      <a:pt x="525" y="6"/>
                    </a:moveTo>
                    <a:lnTo>
                      <a:pt x="489" y="86"/>
                    </a:lnTo>
                    <a:lnTo>
                      <a:pt x="443" y="177"/>
                    </a:lnTo>
                    <a:lnTo>
                      <a:pt x="416" y="226"/>
                    </a:lnTo>
                    <a:lnTo>
                      <a:pt x="387" y="272"/>
                    </a:lnTo>
                    <a:lnTo>
                      <a:pt x="355" y="314"/>
                    </a:lnTo>
                    <a:lnTo>
                      <a:pt x="322" y="353"/>
                    </a:lnTo>
                    <a:lnTo>
                      <a:pt x="286" y="388"/>
                    </a:lnTo>
                    <a:lnTo>
                      <a:pt x="251" y="413"/>
                    </a:lnTo>
                    <a:lnTo>
                      <a:pt x="231" y="424"/>
                    </a:lnTo>
                    <a:lnTo>
                      <a:pt x="211" y="433"/>
                    </a:lnTo>
                    <a:lnTo>
                      <a:pt x="191" y="439"/>
                    </a:lnTo>
                    <a:lnTo>
                      <a:pt x="172" y="441"/>
                    </a:lnTo>
                    <a:lnTo>
                      <a:pt x="150" y="441"/>
                    </a:lnTo>
                    <a:lnTo>
                      <a:pt x="128" y="438"/>
                    </a:lnTo>
                    <a:lnTo>
                      <a:pt x="107" y="432"/>
                    </a:lnTo>
                    <a:lnTo>
                      <a:pt x="86" y="422"/>
                    </a:lnTo>
                    <a:lnTo>
                      <a:pt x="64" y="408"/>
                    </a:lnTo>
                    <a:lnTo>
                      <a:pt x="43" y="391"/>
                    </a:lnTo>
                    <a:lnTo>
                      <a:pt x="22" y="372"/>
                    </a:lnTo>
                    <a:lnTo>
                      <a:pt x="0" y="345"/>
                    </a:lnTo>
                    <a:lnTo>
                      <a:pt x="11" y="335"/>
                    </a:lnTo>
                    <a:lnTo>
                      <a:pt x="32" y="361"/>
                    </a:lnTo>
                    <a:lnTo>
                      <a:pt x="53" y="380"/>
                    </a:lnTo>
                    <a:lnTo>
                      <a:pt x="74" y="397"/>
                    </a:lnTo>
                    <a:lnTo>
                      <a:pt x="93" y="410"/>
                    </a:lnTo>
                    <a:lnTo>
                      <a:pt x="113" y="418"/>
                    </a:lnTo>
                    <a:lnTo>
                      <a:pt x="131" y="424"/>
                    </a:lnTo>
                    <a:lnTo>
                      <a:pt x="150" y="428"/>
                    </a:lnTo>
                    <a:lnTo>
                      <a:pt x="169" y="428"/>
                    </a:lnTo>
                    <a:lnTo>
                      <a:pt x="187" y="426"/>
                    </a:lnTo>
                    <a:lnTo>
                      <a:pt x="205" y="419"/>
                    </a:lnTo>
                    <a:lnTo>
                      <a:pt x="224" y="412"/>
                    </a:lnTo>
                    <a:lnTo>
                      <a:pt x="241" y="402"/>
                    </a:lnTo>
                    <a:lnTo>
                      <a:pt x="277" y="377"/>
                    </a:lnTo>
                    <a:lnTo>
                      <a:pt x="311" y="344"/>
                    </a:lnTo>
                    <a:lnTo>
                      <a:pt x="344" y="305"/>
                    </a:lnTo>
                    <a:lnTo>
                      <a:pt x="374" y="263"/>
                    </a:lnTo>
                    <a:lnTo>
                      <a:pt x="404" y="218"/>
                    </a:lnTo>
                    <a:lnTo>
                      <a:pt x="429" y="171"/>
                    </a:lnTo>
                    <a:lnTo>
                      <a:pt x="476" y="80"/>
                    </a:lnTo>
                    <a:lnTo>
                      <a:pt x="511" y="0"/>
                    </a:lnTo>
                    <a:lnTo>
                      <a:pt x="52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253200" y="338292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4" y="6"/>
                    </a:moveTo>
                    <a:lnTo>
                      <a:pt x="0" y="0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821200" y="3016080"/>
                <a:ext cx="88920" cy="639360"/>
              </a:xfrm>
              <a:custGeom>
                <a:avLst/>
                <a:gdLst/>
                <a:ahLst/>
                <a:rect l="l" t="t" r="r" b="b"/>
                <a:pathLst>
                  <a:path w="113" h="806">
                    <a:moveTo>
                      <a:pt x="33" y="806"/>
                    </a:moveTo>
                    <a:lnTo>
                      <a:pt x="22" y="781"/>
                    </a:lnTo>
                    <a:lnTo>
                      <a:pt x="15" y="754"/>
                    </a:lnTo>
                    <a:lnTo>
                      <a:pt x="4" y="703"/>
                    </a:lnTo>
                    <a:lnTo>
                      <a:pt x="0" y="653"/>
                    </a:lnTo>
                    <a:lnTo>
                      <a:pt x="4" y="601"/>
                    </a:lnTo>
                    <a:lnTo>
                      <a:pt x="12" y="551"/>
                    </a:lnTo>
                    <a:lnTo>
                      <a:pt x="23" y="500"/>
                    </a:lnTo>
                    <a:lnTo>
                      <a:pt x="53" y="401"/>
                    </a:lnTo>
                    <a:lnTo>
                      <a:pt x="81" y="301"/>
                    </a:lnTo>
                    <a:lnTo>
                      <a:pt x="91" y="252"/>
                    </a:lnTo>
                    <a:lnTo>
                      <a:pt x="98" y="203"/>
                    </a:lnTo>
                    <a:lnTo>
                      <a:pt x="98" y="154"/>
                    </a:lnTo>
                    <a:lnTo>
                      <a:pt x="97" y="129"/>
                    </a:lnTo>
                    <a:lnTo>
                      <a:pt x="93" y="106"/>
                    </a:lnTo>
                    <a:lnTo>
                      <a:pt x="87" y="81"/>
                    </a:lnTo>
                    <a:lnTo>
                      <a:pt x="80" y="57"/>
                    </a:lnTo>
                    <a:lnTo>
                      <a:pt x="70" y="33"/>
                    </a:lnTo>
                    <a:lnTo>
                      <a:pt x="58" y="7"/>
                    </a:lnTo>
                    <a:lnTo>
                      <a:pt x="70" y="0"/>
                    </a:lnTo>
                    <a:lnTo>
                      <a:pt x="82" y="27"/>
                    </a:lnTo>
                    <a:lnTo>
                      <a:pt x="93" y="51"/>
                    </a:lnTo>
                    <a:lnTo>
                      <a:pt x="100" y="76"/>
                    </a:lnTo>
                    <a:lnTo>
                      <a:pt x="107" y="103"/>
                    </a:lnTo>
                    <a:lnTo>
                      <a:pt x="110" y="127"/>
                    </a:lnTo>
                    <a:lnTo>
                      <a:pt x="113" y="154"/>
                    </a:lnTo>
                    <a:lnTo>
                      <a:pt x="111" y="205"/>
                    </a:lnTo>
                    <a:lnTo>
                      <a:pt x="104" y="255"/>
                    </a:lnTo>
                    <a:lnTo>
                      <a:pt x="94" y="306"/>
                    </a:lnTo>
                    <a:lnTo>
                      <a:pt x="66" y="406"/>
                    </a:lnTo>
                    <a:lnTo>
                      <a:pt x="37" y="505"/>
                    </a:lnTo>
                    <a:lnTo>
                      <a:pt x="26" y="555"/>
                    </a:lnTo>
                    <a:lnTo>
                      <a:pt x="17" y="604"/>
                    </a:lnTo>
                    <a:lnTo>
                      <a:pt x="15" y="653"/>
                    </a:lnTo>
                    <a:lnTo>
                      <a:pt x="17" y="700"/>
                    </a:lnTo>
                    <a:lnTo>
                      <a:pt x="28" y="751"/>
                    </a:lnTo>
                    <a:lnTo>
                      <a:pt x="36" y="775"/>
                    </a:lnTo>
                    <a:lnTo>
                      <a:pt x="47" y="800"/>
                    </a:lnTo>
                    <a:lnTo>
                      <a:pt x="33" y="8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846760" y="3649680"/>
                <a:ext cx="11160" cy="57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" y="10"/>
                    </a:moveTo>
                    <a:lnTo>
                      <a:pt x="0" y="9"/>
                    </a:lnTo>
                    <a:lnTo>
                      <a:pt x="14" y="3"/>
                    </a:lnTo>
                    <a:lnTo>
                      <a:pt x="12" y="0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499000" y="2960640"/>
                <a:ext cx="376200" cy="225000"/>
              </a:xfrm>
              <a:custGeom>
                <a:avLst/>
                <a:gdLst/>
                <a:ahLst/>
                <a:rect l="l" t="t" r="r" b="b"/>
                <a:pathLst>
                  <a:path w="475" h="284">
                    <a:moveTo>
                      <a:pt x="465" y="80"/>
                    </a:moveTo>
                    <a:lnTo>
                      <a:pt x="449" y="64"/>
                    </a:lnTo>
                    <a:lnTo>
                      <a:pt x="433" y="49"/>
                    </a:lnTo>
                    <a:lnTo>
                      <a:pt x="417" y="38"/>
                    </a:lnTo>
                    <a:lnTo>
                      <a:pt x="403" y="29"/>
                    </a:lnTo>
                    <a:lnTo>
                      <a:pt x="372" y="18"/>
                    </a:lnTo>
                    <a:lnTo>
                      <a:pt x="341" y="15"/>
                    </a:lnTo>
                    <a:lnTo>
                      <a:pt x="312" y="18"/>
                    </a:lnTo>
                    <a:lnTo>
                      <a:pt x="280" y="28"/>
                    </a:lnTo>
                    <a:lnTo>
                      <a:pt x="250" y="43"/>
                    </a:lnTo>
                    <a:lnTo>
                      <a:pt x="219" y="64"/>
                    </a:lnTo>
                    <a:lnTo>
                      <a:pt x="189" y="87"/>
                    </a:lnTo>
                    <a:lnTo>
                      <a:pt x="159" y="114"/>
                    </a:lnTo>
                    <a:lnTo>
                      <a:pt x="131" y="142"/>
                    </a:lnTo>
                    <a:lnTo>
                      <a:pt x="104" y="171"/>
                    </a:lnTo>
                    <a:lnTo>
                      <a:pt x="54" y="231"/>
                    </a:lnTo>
                    <a:lnTo>
                      <a:pt x="11" y="284"/>
                    </a:lnTo>
                    <a:lnTo>
                      <a:pt x="0" y="274"/>
                    </a:lnTo>
                    <a:lnTo>
                      <a:pt x="43" y="221"/>
                    </a:lnTo>
                    <a:lnTo>
                      <a:pt x="93" y="162"/>
                    </a:lnTo>
                    <a:lnTo>
                      <a:pt x="120" y="132"/>
                    </a:lnTo>
                    <a:lnTo>
                      <a:pt x="149" y="103"/>
                    </a:lnTo>
                    <a:lnTo>
                      <a:pt x="179" y="76"/>
                    </a:lnTo>
                    <a:lnTo>
                      <a:pt x="209" y="53"/>
                    </a:lnTo>
                    <a:lnTo>
                      <a:pt x="241" y="31"/>
                    </a:lnTo>
                    <a:lnTo>
                      <a:pt x="274" y="15"/>
                    </a:lnTo>
                    <a:lnTo>
                      <a:pt x="307" y="5"/>
                    </a:lnTo>
                    <a:lnTo>
                      <a:pt x="341" y="0"/>
                    </a:lnTo>
                    <a:lnTo>
                      <a:pt x="376" y="5"/>
                    </a:lnTo>
                    <a:lnTo>
                      <a:pt x="409" y="16"/>
                    </a:lnTo>
                    <a:lnTo>
                      <a:pt x="426" y="26"/>
                    </a:lnTo>
                    <a:lnTo>
                      <a:pt x="443" y="38"/>
                    </a:lnTo>
                    <a:lnTo>
                      <a:pt x="459" y="53"/>
                    </a:lnTo>
                    <a:lnTo>
                      <a:pt x="475" y="69"/>
                    </a:lnTo>
                    <a:lnTo>
                      <a:pt x="465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865840" y="30146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1"/>
                    </a:moveTo>
                    <a:lnTo>
                      <a:pt x="11" y="0"/>
                    </a:lnTo>
                    <a:lnTo>
                      <a:pt x="1" y="11"/>
                    </a:lnTo>
                    <a:lnTo>
                      <a:pt x="0" y="8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162400" y="3178080"/>
                <a:ext cx="344520" cy="398160"/>
              </a:xfrm>
              <a:custGeom>
                <a:avLst/>
                <a:gdLst/>
                <a:ahLst/>
                <a:rect l="l" t="t" r="r" b="b"/>
                <a:pathLst>
                  <a:path w="434" h="503">
                    <a:moveTo>
                      <a:pt x="434" y="10"/>
                    </a:moveTo>
                    <a:lnTo>
                      <a:pt x="329" y="133"/>
                    </a:lnTo>
                    <a:lnTo>
                      <a:pt x="223" y="256"/>
                    </a:lnTo>
                    <a:lnTo>
                      <a:pt x="115" y="378"/>
                    </a:lnTo>
                    <a:lnTo>
                      <a:pt x="63" y="440"/>
                    </a:lnTo>
                    <a:lnTo>
                      <a:pt x="11" y="503"/>
                    </a:lnTo>
                    <a:lnTo>
                      <a:pt x="0" y="493"/>
                    </a:lnTo>
                    <a:lnTo>
                      <a:pt x="52" y="430"/>
                    </a:lnTo>
                    <a:lnTo>
                      <a:pt x="104" y="368"/>
                    </a:lnTo>
                    <a:lnTo>
                      <a:pt x="212" y="246"/>
                    </a:lnTo>
                    <a:lnTo>
                      <a:pt x="318" y="124"/>
                    </a:lnTo>
                    <a:lnTo>
                      <a:pt x="423" y="0"/>
                    </a:lnTo>
                    <a:lnTo>
                      <a:pt x="43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499000" y="317808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10"/>
                    </a:moveTo>
                    <a:lnTo>
                      <a:pt x="0" y="0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162400" y="3568680"/>
                <a:ext cx="655920" cy="804240"/>
              </a:xfrm>
              <a:custGeom>
                <a:avLst/>
                <a:gdLst/>
                <a:ahLst/>
                <a:rect l="l" t="t" r="r" b="b"/>
                <a:pathLst>
                  <a:path w="827" h="1012">
                    <a:moveTo>
                      <a:pt x="11" y="0"/>
                    </a:moveTo>
                    <a:lnTo>
                      <a:pt x="121" y="118"/>
                    </a:lnTo>
                    <a:lnTo>
                      <a:pt x="229" y="238"/>
                    </a:lnTo>
                    <a:lnTo>
                      <a:pt x="334" y="362"/>
                    </a:lnTo>
                    <a:lnTo>
                      <a:pt x="437" y="485"/>
                    </a:lnTo>
                    <a:lnTo>
                      <a:pt x="537" y="612"/>
                    </a:lnTo>
                    <a:lnTo>
                      <a:pt x="637" y="742"/>
                    </a:lnTo>
                    <a:lnTo>
                      <a:pt x="733" y="872"/>
                    </a:lnTo>
                    <a:lnTo>
                      <a:pt x="827" y="1004"/>
                    </a:lnTo>
                    <a:lnTo>
                      <a:pt x="815" y="1012"/>
                    </a:lnTo>
                    <a:lnTo>
                      <a:pt x="720" y="880"/>
                    </a:lnTo>
                    <a:lnTo>
                      <a:pt x="625" y="751"/>
                    </a:lnTo>
                    <a:lnTo>
                      <a:pt x="526" y="622"/>
                    </a:lnTo>
                    <a:lnTo>
                      <a:pt x="426" y="495"/>
                    </a:lnTo>
                    <a:lnTo>
                      <a:pt x="323" y="372"/>
                    </a:lnTo>
                    <a:lnTo>
                      <a:pt x="218" y="248"/>
                    </a:lnTo>
                    <a:lnTo>
                      <a:pt x="110" y="128"/>
                    </a:lnTo>
                    <a:lnTo>
                      <a:pt x="0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159520" y="3568680"/>
                <a:ext cx="12600" cy="7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5" y="0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16" y="0"/>
                    </a:lnTo>
                    <a:lnTo>
                      <a:pt x="16" y="1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808600" y="4365360"/>
                <a:ext cx="74520" cy="331560"/>
              </a:xfrm>
              <a:custGeom>
                <a:avLst/>
                <a:gdLst/>
                <a:ahLst/>
                <a:rect l="l" t="t" r="r" b="b"/>
                <a:pathLst>
                  <a:path w="92" h="418">
                    <a:moveTo>
                      <a:pt x="12" y="0"/>
                    </a:moveTo>
                    <a:lnTo>
                      <a:pt x="42" y="51"/>
                    </a:lnTo>
                    <a:lnTo>
                      <a:pt x="66" y="102"/>
                    </a:lnTo>
                    <a:lnTo>
                      <a:pt x="75" y="128"/>
                    </a:lnTo>
                    <a:lnTo>
                      <a:pt x="84" y="155"/>
                    </a:lnTo>
                    <a:lnTo>
                      <a:pt x="89" y="181"/>
                    </a:lnTo>
                    <a:lnTo>
                      <a:pt x="92" y="208"/>
                    </a:lnTo>
                    <a:lnTo>
                      <a:pt x="92" y="233"/>
                    </a:lnTo>
                    <a:lnTo>
                      <a:pt x="91" y="260"/>
                    </a:lnTo>
                    <a:lnTo>
                      <a:pt x="88" y="287"/>
                    </a:lnTo>
                    <a:lnTo>
                      <a:pt x="80" y="314"/>
                    </a:lnTo>
                    <a:lnTo>
                      <a:pt x="70" y="341"/>
                    </a:lnTo>
                    <a:lnTo>
                      <a:pt x="58" y="367"/>
                    </a:lnTo>
                    <a:lnTo>
                      <a:pt x="44" y="392"/>
                    </a:lnTo>
                    <a:lnTo>
                      <a:pt x="34" y="404"/>
                    </a:lnTo>
                    <a:lnTo>
                      <a:pt x="25" y="418"/>
                    </a:lnTo>
                    <a:lnTo>
                      <a:pt x="13" y="409"/>
                    </a:lnTo>
                    <a:lnTo>
                      <a:pt x="22" y="396"/>
                    </a:lnTo>
                    <a:lnTo>
                      <a:pt x="31" y="384"/>
                    </a:lnTo>
                    <a:lnTo>
                      <a:pt x="45" y="360"/>
                    </a:lnTo>
                    <a:lnTo>
                      <a:pt x="57" y="335"/>
                    </a:lnTo>
                    <a:lnTo>
                      <a:pt x="67" y="309"/>
                    </a:lnTo>
                    <a:lnTo>
                      <a:pt x="73" y="285"/>
                    </a:lnTo>
                    <a:lnTo>
                      <a:pt x="77" y="259"/>
                    </a:lnTo>
                    <a:lnTo>
                      <a:pt x="78" y="233"/>
                    </a:lnTo>
                    <a:lnTo>
                      <a:pt x="78" y="209"/>
                    </a:lnTo>
                    <a:lnTo>
                      <a:pt x="74" y="183"/>
                    </a:lnTo>
                    <a:lnTo>
                      <a:pt x="69" y="157"/>
                    </a:lnTo>
                    <a:lnTo>
                      <a:pt x="62" y="134"/>
                    </a:lnTo>
                    <a:lnTo>
                      <a:pt x="52" y="109"/>
                    </a:lnTo>
                    <a:lnTo>
                      <a:pt x="29" y="57"/>
                    </a:lnTo>
                    <a:lnTo>
                      <a:pt x="0" y="8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808600" y="436536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0"/>
                    </a:moveTo>
                    <a:lnTo>
                      <a:pt x="0" y="8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408640" y="4690800"/>
                <a:ext cx="419040" cy="109440"/>
              </a:xfrm>
              <a:custGeom>
                <a:avLst/>
                <a:gdLst/>
                <a:ahLst/>
                <a:rect l="l" t="t" r="r" b="b"/>
                <a:pathLst>
                  <a:path w="528" h="138">
                    <a:moveTo>
                      <a:pt x="528" y="11"/>
                    </a:moveTo>
                    <a:lnTo>
                      <a:pt x="499" y="34"/>
                    </a:lnTo>
                    <a:lnTo>
                      <a:pt x="468" y="53"/>
                    </a:lnTo>
                    <a:lnTo>
                      <a:pt x="435" y="66"/>
                    </a:lnTo>
                    <a:lnTo>
                      <a:pt x="402" y="75"/>
                    </a:lnTo>
                    <a:lnTo>
                      <a:pt x="370" y="81"/>
                    </a:lnTo>
                    <a:lnTo>
                      <a:pt x="336" y="83"/>
                    </a:lnTo>
                    <a:lnTo>
                      <a:pt x="269" y="83"/>
                    </a:lnTo>
                    <a:lnTo>
                      <a:pt x="200" y="82"/>
                    </a:lnTo>
                    <a:lnTo>
                      <a:pt x="167" y="83"/>
                    </a:lnTo>
                    <a:lnTo>
                      <a:pt x="134" y="87"/>
                    </a:lnTo>
                    <a:lnTo>
                      <a:pt x="103" y="94"/>
                    </a:lnTo>
                    <a:lnTo>
                      <a:pt x="70" y="104"/>
                    </a:lnTo>
                    <a:lnTo>
                      <a:pt x="39" y="118"/>
                    </a:lnTo>
                    <a:lnTo>
                      <a:pt x="24" y="127"/>
                    </a:lnTo>
                    <a:lnTo>
                      <a:pt x="10" y="138"/>
                    </a:lnTo>
                    <a:lnTo>
                      <a:pt x="0" y="127"/>
                    </a:lnTo>
                    <a:lnTo>
                      <a:pt x="15" y="116"/>
                    </a:lnTo>
                    <a:lnTo>
                      <a:pt x="30" y="105"/>
                    </a:lnTo>
                    <a:lnTo>
                      <a:pt x="63" y="91"/>
                    </a:lnTo>
                    <a:lnTo>
                      <a:pt x="98" y="81"/>
                    </a:lnTo>
                    <a:lnTo>
                      <a:pt x="131" y="74"/>
                    </a:lnTo>
                    <a:lnTo>
                      <a:pt x="165" y="70"/>
                    </a:lnTo>
                    <a:lnTo>
                      <a:pt x="200" y="67"/>
                    </a:lnTo>
                    <a:lnTo>
                      <a:pt x="269" y="69"/>
                    </a:lnTo>
                    <a:lnTo>
                      <a:pt x="336" y="70"/>
                    </a:lnTo>
                    <a:lnTo>
                      <a:pt x="368" y="67"/>
                    </a:lnTo>
                    <a:lnTo>
                      <a:pt x="398" y="61"/>
                    </a:lnTo>
                    <a:lnTo>
                      <a:pt x="429" y="53"/>
                    </a:lnTo>
                    <a:lnTo>
                      <a:pt x="461" y="40"/>
                    </a:lnTo>
                    <a:lnTo>
                      <a:pt x="489" y="23"/>
                    </a:lnTo>
                    <a:lnTo>
                      <a:pt x="518" y="0"/>
                    </a:lnTo>
                    <a:lnTo>
                      <a:pt x="52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819760" y="469080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10"/>
                    </a:moveTo>
                    <a:lnTo>
                      <a:pt x="11" y="1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302080" y="4790880"/>
                <a:ext cx="138240" cy="388800"/>
              </a:xfrm>
              <a:custGeom>
                <a:avLst/>
                <a:gdLst/>
                <a:ahLst/>
                <a:rect l="l" t="t" r="r" b="b"/>
                <a:pathLst>
                  <a:path w="174" h="489">
                    <a:moveTo>
                      <a:pt x="145" y="10"/>
                    </a:moveTo>
                    <a:lnTo>
                      <a:pt x="115" y="41"/>
                    </a:lnTo>
                    <a:lnTo>
                      <a:pt x="91" y="72"/>
                    </a:lnTo>
                    <a:lnTo>
                      <a:pt x="69" y="104"/>
                    </a:lnTo>
                    <a:lnTo>
                      <a:pt x="49" y="136"/>
                    </a:lnTo>
                    <a:lnTo>
                      <a:pt x="35" y="168"/>
                    </a:lnTo>
                    <a:lnTo>
                      <a:pt x="25" y="198"/>
                    </a:lnTo>
                    <a:lnTo>
                      <a:pt x="18" y="229"/>
                    </a:lnTo>
                    <a:lnTo>
                      <a:pt x="15" y="261"/>
                    </a:lnTo>
                    <a:lnTo>
                      <a:pt x="18" y="291"/>
                    </a:lnTo>
                    <a:lnTo>
                      <a:pt x="22" y="321"/>
                    </a:lnTo>
                    <a:lnTo>
                      <a:pt x="35" y="350"/>
                    </a:lnTo>
                    <a:lnTo>
                      <a:pt x="52" y="378"/>
                    </a:lnTo>
                    <a:lnTo>
                      <a:pt x="74" y="404"/>
                    </a:lnTo>
                    <a:lnTo>
                      <a:pt x="102" y="431"/>
                    </a:lnTo>
                    <a:lnTo>
                      <a:pt x="134" y="454"/>
                    </a:lnTo>
                    <a:lnTo>
                      <a:pt x="174" y="477"/>
                    </a:lnTo>
                    <a:lnTo>
                      <a:pt x="165" y="489"/>
                    </a:lnTo>
                    <a:lnTo>
                      <a:pt x="125" y="466"/>
                    </a:lnTo>
                    <a:lnTo>
                      <a:pt x="92" y="442"/>
                    </a:lnTo>
                    <a:lnTo>
                      <a:pt x="63" y="414"/>
                    </a:lnTo>
                    <a:lnTo>
                      <a:pt x="40" y="387"/>
                    </a:lnTo>
                    <a:lnTo>
                      <a:pt x="21" y="356"/>
                    </a:lnTo>
                    <a:lnTo>
                      <a:pt x="9" y="327"/>
                    </a:lnTo>
                    <a:lnTo>
                      <a:pt x="3" y="294"/>
                    </a:lnTo>
                    <a:lnTo>
                      <a:pt x="0" y="261"/>
                    </a:lnTo>
                    <a:lnTo>
                      <a:pt x="3" y="228"/>
                    </a:lnTo>
                    <a:lnTo>
                      <a:pt x="10" y="196"/>
                    </a:lnTo>
                    <a:lnTo>
                      <a:pt x="21" y="162"/>
                    </a:lnTo>
                    <a:lnTo>
                      <a:pt x="36" y="130"/>
                    </a:lnTo>
                    <a:lnTo>
                      <a:pt x="57" y="96"/>
                    </a:lnTo>
                    <a:lnTo>
                      <a:pt x="79" y="64"/>
                    </a:lnTo>
                    <a:lnTo>
                      <a:pt x="104" y="31"/>
                    </a:lnTo>
                    <a:lnTo>
                      <a:pt x="134" y="0"/>
                    </a:lnTo>
                    <a:lnTo>
                      <a:pt x="1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408640" y="47908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0"/>
                    </a:moveTo>
                    <a:lnTo>
                      <a:pt x="0" y="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433840" y="5083200"/>
                <a:ext cx="347760" cy="118440"/>
              </a:xfrm>
              <a:custGeom>
                <a:avLst/>
                <a:gdLst/>
                <a:ahLst/>
                <a:rect l="l" t="t" r="r" b="b"/>
                <a:pathLst>
                  <a:path w="437" h="151">
                    <a:moveTo>
                      <a:pt x="6" y="109"/>
                    </a:moveTo>
                    <a:lnTo>
                      <a:pt x="35" y="120"/>
                    </a:lnTo>
                    <a:lnTo>
                      <a:pt x="63" y="128"/>
                    </a:lnTo>
                    <a:lnTo>
                      <a:pt x="93" y="134"/>
                    </a:lnTo>
                    <a:lnTo>
                      <a:pt x="121" y="136"/>
                    </a:lnTo>
                    <a:lnTo>
                      <a:pt x="149" y="135"/>
                    </a:lnTo>
                    <a:lnTo>
                      <a:pt x="177" y="132"/>
                    </a:lnTo>
                    <a:lnTo>
                      <a:pt x="203" y="126"/>
                    </a:lnTo>
                    <a:lnTo>
                      <a:pt x="228" y="120"/>
                    </a:lnTo>
                    <a:lnTo>
                      <a:pt x="281" y="99"/>
                    </a:lnTo>
                    <a:lnTo>
                      <a:pt x="331" y="71"/>
                    </a:lnTo>
                    <a:lnTo>
                      <a:pt x="380" y="37"/>
                    </a:lnTo>
                    <a:lnTo>
                      <a:pt x="428" y="0"/>
                    </a:lnTo>
                    <a:lnTo>
                      <a:pt x="437" y="11"/>
                    </a:lnTo>
                    <a:lnTo>
                      <a:pt x="388" y="49"/>
                    </a:lnTo>
                    <a:lnTo>
                      <a:pt x="339" y="84"/>
                    </a:lnTo>
                    <a:lnTo>
                      <a:pt x="287" y="113"/>
                    </a:lnTo>
                    <a:lnTo>
                      <a:pt x="234" y="134"/>
                    </a:lnTo>
                    <a:lnTo>
                      <a:pt x="205" y="141"/>
                    </a:lnTo>
                    <a:lnTo>
                      <a:pt x="178" y="147"/>
                    </a:lnTo>
                    <a:lnTo>
                      <a:pt x="149" y="150"/>
                    </a:lnTo>
                    <a:lnTo>
                      <a:pt x="121" y="151"/>
                    </a:lnTo>
                    <a:lnTo>
                      <a:pt x="90" y="148"/>
                    </a:lnTo>
                    <a:lnTo>
                      <a:pt x="61" y="142"/>
                    </a:lnTo>
                    <a:lnTo>
                      <a:pt x="29" y="134"/>
                    </a:lnTo>
                    <a:lnTo>
                      <a:pt x="0" y="123"/>
                    </a:lnTo>
                    <a:lnTo>
                      <a:pt x="6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433840" y="517032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12"/>
                    </a:moveTo>
                    <a:lnTo>
                      <a:pt x="2" y="14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773680" y="4809960"/>
                <a:ext cx="141480" cy="282240"/>
              </a:xfrm>
              <a:custGeom>
                <a:avLst/>
                <a:gdLst/>
                <a:ahLst/>
                <a:rect l="l" t="t" r="r" b="b"/>
                <a:pathLst>
                  <a:path w="178" h="355">
                    <a:moveTo>
                      <a:pt x="0" y="344"/>
                    </a:moveTo>
                    <a:lnTo>
                      <a:pt x="14" y="325"/>
                    </a:lnTo>
                    <a:lnTo>
                      <a:pt x="29" y="305"/>
                    </a:lnTo>
                    <a:lnTo>
                      <a:pt x="42" y="287"/>
                    </a:lnTo>
                    <a:lnTo>
                      <a:pt x="53" y="265"/>
                    </a:lnTo>
                    <a:lnTo>
                      <a:pt x="70" y="222"/>
                    </a:lnTo>
                    <a:lnTo>
                      <a:pt x="86" y="177"/>
                    </a:lnTo>
                    <a:lnTo>
                      <a:pt x="101" y="132"/>
                    </a:lnTo>
                    <a:lnTo>
                      <a:pt x="118" y="86"/>
                    </a:lnTo>
                    <a:lnTo>
                      <a:pt x="140" y="41"/>
                    </a:lnTo>
                    <a:lnTo>
                      <a:pt x="152" y="19"/>
                    </a:lnTo>
                    <a:lnTo>
                      <a:pt x="167" y="0"/>
                    </a:lnTo>
                    <a:lnTo>
                      <a:pt x="178" y="9"/>
                    </a:lnTo>
                    <a:lnTo>
                      <a:pt x="163" y="29"/>
                    </a:lnTo>
                    <a:lnTo>
                      <a:pt x="152" y="50"/>
                    </a:lnTo>
                    <a:lnTo>
                      <a:pt x="132" y="92"/>
                    </a:lnTo>
                    <a:lnTo>
                      <a:pt x="114" y="138"/>
                    </a:lnTo>
                    <a:lnTo>
                      <a:pt x="100" y="183"/>
                    </a:lnTo>
                    <a:lnTo>
                      <a:pt x="84" y="228"/>
                    </a:lnTo>
                    <a:lnTo>
                      <a:pt x="66" y="272"/>
                    </a:lnTo>
                    <a:lnTo>
                      <a:pt x="55" y="295"/>
                    </a:lnTo>
                    <a:lnTo>
                      <a:pt x="40" y="315"/>
                    </a:lnTo>
                    <a:lnTo>
                      <a:pt x="25" y="335"/>
                    </a:lnTo>
                    <a:lnTo>
                      <a:pt x="9" y="355"/>
                    </a:lnTo>
                    <a:lnTo>
                      <a:pt x="0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773680" y="508320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11"/>
                    </a:moveTo>
                    <a:lnTo>
                      <a:pt x="0" y="0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908680" y="4749840"/>
                <a:ext cx="154080" cy="67680"/>
              </a:xfrm>
              <a:custGeom>
                <a:avLst/>
                <a:gdLst/>
                <a:ahLst/>
                <a:rect l="l" t="t" r="r" b="b"/>
                <a:pathLst>
                  <a:path w="195" h="86">
                    <a:moveTo>
                      <a:pt x="0" y="75"/>
                    </a:moveTo>
                    <a:lnTo>
                      <a:pt x="20" y="56"/>
                    </a:lnTo>
                    <a:lnTo>
                      <a:pt x="43" y="35"/>
                    </a:lnTo>
                    <a:lnTo>
                      <a:pt x="67" y="20"/>
                    </a:lnTo>
                    <a:lnTo>
                      <a:pt x="82" y="12"/>
                    </a:lnTo>
                    <a:lnTo>
                      <a:pt x="94" y="6"/>
                    </a:lnTo>
                    <a:lnTo>
                      <a:pt x="110" y="1"/>
                    </a:lnTo>
                    <a:lnTo>
                      <a:pt x="124" y="0"/>
                    </a:lnTo>
                    <a:lnTo>
                      <a:pt x="136" y="0"/>
                    </a:lnTo>
                    <a:lnTo>
                      <a:pt x="151" y="4"/>
                    </a:lnTo>
                    <a:lnTo>
                      <a:pt x="164" y="9"/>
                    </a:lnTo>
                    <a:lnTo>
                      <a:pt x="175" y="18"/>
                    </a:lnTo>
                    <a:lnTo>
                      <a:pt x="186" y="31"/>
                    </a:lnTo>
                    <a:lnTo>
                      <a:pt x="195" y="45"/>
                    </a:lnTo>
                    <a:lnTo>
                      <a:pt x="182" y="54"/>
                    </a:lnTo>
                    <a:lnTo>
                      <a:pt x="174" y="39"/>
                    </a:lnTo>
                    <a:lnTo>
                      <a:pt x="165" y="29"/>
                    </a:lnTo>
                    <a:lnTo>
                      <a:pt x="155" y="21"/>
                    </a:lnTo>
                    <a:lnTo>
                      <a:pt x="144" y="17"/>
                    </a:lnTo>
                    <a:lnTo>
                      <a:pt x="135" y="15"/>
                    </a:lnTo>
                    <a:lnTo>
                      <a:pt x="124" y="15"/>
                    </a:lnTo>
                    <a:lnTo>
                      <a:pt x="113" y="16"/>
                    </a:lnTo>
                    <a:lnTo>
                      <a:pt x="100" y="20"/>
                    </a:lnTo>
                    <a:lnTo>
                      <a:pt x="88" y="26"/>
                    </a:lnTo>
                    <a:lnTo>
                      <a:pt x="76" y="32"/>
                    </a:lnTo>
                    <a:lnTo>
                      <a:pt x="52" y="48"/>
                    </a:lnTo>
                    <a:lnTo>
                      <a:pt x="30" y="67"/>
                    </a:lnTo>
                    <a:lnTo>
                      <a:pt x="10" y="86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907240" y="48099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0"/>
                    </a:moveTo>
                    <a:lnTo>
                      <a:pt x="1" y="0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051600" y="4787640"/>
                <a:ext cx="25200" cy="4248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14" y="0"/>
                    </a:moveTo>
                    <a:lnTo>
                      <a:pt x="32" y="48"/>
                    </a:lnTo>
                    <a:lnTo>
                      <a:pt x="18" y="54"/>
                    </a:lnTo>
                    <a:lnTo>
                      <a:pt x="0" y="7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051600" y="478620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0"/>
                    </a:moveTo>
                    <a:lnTo>
                      <a:pt x="14" y="1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067440" y="4584600"/>
                <a:ext cx="183960" cy="245520"/>
              </a:xfrm>
              <a:custGeom>
                <a:avLst/>
                <a:gdLst/>
                <a:ahLst/>
                <a:rect l="l" t="t" r="r" b="b"/>
                <a:pathLst>
                  <a:path w="232" h="310">
                    <a:moveTo>
                      <a:pt x="0" y="301"/>
                    </a:moveTo>
                    <a:lnTo>
                      <a:pt x="57" y="227"/>
                    </a:lnTo>
                    <a:lnTo>
                      <a:pt x="113" y="153"/>
                    </a:lnTo>
                    <a:lnTo>
                      <a:pt x="168" y="77"/>
                    </a:lnTo>
                    <a:lnTo>
                      <a:pt x="221" y="0"/>
                    </a:lnTo>
                    <a:lnTo>
                      <a:pt x="232" y="10"/>
                    </a:lnTo>
                    <a:lnTo>
                      <a:pt x="179" y="87"/>
                    </a:lnTo>
                    <a:lnTo>
                      <a:pt x="124" y="162"/>
                    </a:lnTo>
                    <a:lnTo>
                      <a:pt x="68" y="237"/>
                    </a:lnTo>
                    <a:lnTo>
                      <a:pt x="11" y="310"/>
                    </a:lnTo>
                    <a:lnTo>
                      <a:pt x="0" y="3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066000" y="482256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8"/>
                    </a:moveTo>
                    <a:lnTo>
                      <a:pt x="5" y="19"/>
                    </a:lnTo>
                    <a:lnTo>
                      <a:pt x="13" y="9"/>
                    </a:lnTo>
                    <a:lnTo>
                      <a:pt x="2" y="0"/>
                    </a:lnTo>
                    <a:lnTo>
                      <a:pt x="14" y="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242040" y="4373280"/>
                <a:ext cx="147600" cy="218880"/>
              </a:xfrm>
              <a:custGeom>
                <a:avLst/>
                <a:gdLst/>
                <a:ahLst/>
                <a:rect l="l" t="t" r="r" b="b"/>
                <a:pathLst>
                  <a:path w="186" h="277">
                    <a:moveTo>
                      <a:pt x="0" y="268"/>
                    </a:moveTo>
                    <a:lnTo>
                      <a:pt x="10" y="250"/>
                    </a:lnTo>
                    <a:lnTo>
                      <a:pt x="22" y="229"/>
                    </a:lnTo>
                    <a:lnTo>
                      <a:pt x="46" y="180"/>
                    </a:lnTo>
                    <a:lnTo>
                      <a:pt x="100" y="79"/>
                    </a:lnTo>
                    <a:lnTo>
                      <a:pt x="125" y="37"/>
                    </a:lnTo>
                    <a:lnTo>
                      <a:pt x="136" y="20"/>
                    </a:lnTo>
                    <a:lnTo>
                      <a:pt x="148" y="9"/>
                    </a:lnTo>
                    <a:lnTo>
                      <a:pt x="160" y="0"/>
                    </a:lnTo>
                    <a:lnTo>
                      <a:pt x="170" y="0"/>
                    </a:lnTo>
                    <a:lnTo>
                      <a:pt x="177" y="5"/>
                    </a:lnTo>
                    <a:lnTo>
                      <a:pt x="182" y="11"/>
                    </a:lnTo>
                    <a:lnTo>
                      <a:pt x="186" y="26"/>
                    </a:lnTo>
                    <a:lnTo>
                      <a:pt x="172" y="32"/>
                    </a:lnTo>
                    <a:lnTo>
                      <a:pt x="169" y="17"/>
                    </a:lnTo>
                    <a:lnTo>
                      <a:pt x="166" y="15"/>
                    </a:lnTo>
                    <a:lnTo>
                      <a:pt x="167" y="15"/>
                    </a:lnTo>
                    <a:lnTo>
                      <a:pt x="163" y="15"/>
                    </a:lnTo>
                    <a:lnTo>
                      <a:pt x="158" y="20"/>
                    </a:lnTo>
                    <a:lnTo>
                      <a:pt x="147" y="30"/>
                    </a:lnTo>
                    <a:lnTo>
                      <a:pt x="137" y="46"/>
                    </a:lnTo>
                    <a:lnTo>
                      <a:pt x="112" y="87"/>
                    </a:lnTo>
                    <a:lnTo>
                      <a:pt x="59" y="189"/>
                    </a:lnTo>
                    <a:lnTo>
                      <a:pt x="34" y="238"/>
                    </a:lnTo>
                    <a:lnTo>
                      <a:pt x="22" y="258"/>
                    </a:lnTo>
                    <a:lnTo>
                      <a:pt x="12" y="277"/>
                    </a:lnTo>
                    <a:lnTo>
                      <a:pt x="0" y="2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242040" y="458460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1" y="10"/>
                    </a:moveTo>
                    <a:lnTo>
                      <a:pt x="12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243480" y="4394160"/>
                <a:ext cx="147960" cy="294840"/>
              </a:xfrm>
              <a:custGeom>
                <a:avLst/>
                <a:gdLst/>
                <a:ahLst/>
                <a:rect l="l" t="t" r="r" b="b"/>
                <a:pathLst>
                  <a:path w="186" h="372">
                    <a:moveTo>
                      <a:pt x="186" y="3"/>
                    </a:moveTo>
                    <a:lnTo>
                      <a:pt x="181" y="28"/>
                    </a:lnTo>
                    <a:lnTo>
                      <a:pt x="173" y="54"/>
                    </a:lnTo>
                    <a:lnTo>
                      <a:pt x="164" y="78"/>
                    </a:lnTo>
                    <a:lnTo>
                      <a:pt x="154" y="102"/>
                    </a:lnTo>
                    <a:lnTo>
                      <a:pt x="129" y="148"/>
                    </a:lnTo>
                    <a:lnTo>
                      <a:pt x="102" y="192"/>
                    </a:lnTo>
                    <a:lnTo>
                      <a:pt x="75" y="236"/>
                    </a:lnTo>
                    <a:lnTo>
                      <a:pt x="49" y="279"/>
                    </a:lnTo>
                    <a:lnTo>
                      <a:pt x="28" y="325"/>
                    </a:lnTo>
                    <a:lnTo>
                      <a:pt x="21" y="347"/>
                    </a:lnTo>
                    <a:lnTo>
                      <a:pt x="15" y="372"/>
                    </a:lnTo>
                    <a:lnTo>
                      <a:pt x="0" y="369"/>
                    </a:lnTo>
                    <a:lnTo>
                      <a:pt x="6" y="345"/>
                    </a:lnTo>
                    <a:lnTo>
                      <a:pt x="15" y="319"/>
                    </a:lnTo>
                    <a:lnTo>
                      <a:pt x="36" y="273"/>
                    </a:lnTo>
                    <a:lnTo>
                      <a:pt x="62" y="228"/>
                    </a:lnTo>
                    <a:lnTo>
                      <a:pt x="89" y="184"/>
                    </a:lnTo>
                    <a:lnTo>
                      <a:pt x="116" y="140"/>
                    </a:lnTo>
                    <a:lnTo>
                      <a:pt x="141" y="96"/>
                    </a:lnTo>
                    <a:lnTo>
                      <a:pt x="151" y="72"/>
                    </a:lnTo>
                    <a:lnTo>
                      <a:pt x="159" y="49"/>
                    </a:lnTo>
                    <a:lnTo>
                      <a:pt x="166" y="26"/>
                    </a:lnTo>
                    <a:lnTo>
                      <a:pt x="171" y="0"/>
                    </a:lnTo>
                    <a:lnTo>
                      <a:pt x="18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380280" y="439236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4" y="0"/>
                    </a:moveTo>
                    <a:lnTo>
                      <a:pt x="15" y="4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245280" y="4422600"/>
                <a:ext cx="189000" cy="269640"/>
              </a:xfrm>
              <a:custGeom>
                <a:avLst/>
                <a:gdLst/>
                <a:ahLst/>
                <a:rect l="l" t="t" r="r" b="b"/>
                <a:pathLst>
                  <a:path w="239" h="340">
                    <a:moveTo>
                      <a:pt x="0" y="330"/>
                    </a:moveTo>
                    <a:lnTo>
                      <a:pt x="102" y="189"/>
                    </a:lnTo>
                    <a:lnTo>
                      <a:pt x="178" y="78"/>
                    </a:lnTo>
                    <a:lnTo>
                      <a:pt x="227" y="0"/>
                    </a:lnTo>
                    <a:lnTo>
                      <a:pt x="239" y="8"/>
                    </a:lnTo>
                    <a:lnTo>
                      <a:pt x="190" y="86"/>
                    </a:lnTo>
                    <a:lnTo>
                      <a:pt x="113" y="199"/>
                    </a:lnTo>
                    <a:lnTo>
                      <a:pt x="11" y="340"/>
                    </a:lnTo>
                    <a:lnTo>
                      <a:pt x="0" y="3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243480" y="468468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3"/>
                    </a:moveTo>
                    <a:lnTo>
                      <a:pt x="12" y="10"/>
                    </a:lnTo>
                    <a:lnTo>
                      <a:pt x="1" y="0"/>
                    </a:lnTo>
                    <a:lnTo>
                      <a:pt x="15" y="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424560" y="4065480"/>
                <a:ext cx="135000" cy="361440"/>
              </a:xfrm>
              <a:custGeom>
                <a:avLst/>
                <a:gdLst/>
                <a:ahLst/>
                <a:rect l="l" t="t" r="r" b="b"/>
                <a:pathLst>
                  <a:path w="171" h="457">
                    <a:moveTo>
                      <a:pt x="0" y="450"/>
                    </a:moveTo>
                    <a:lnTo>
                      <a:pt x="51" y="341"/>
                    </a:lnTo>
                    <a:lnTo>
                      <a:pt x="74" y="287"/>
                    </a:lnTo>
                    <a:lnTo>
                      <a:pt x="86" y="259"/>
                    </a:lnTo>
                    <a:lnTo>
                      <a:pt x="97" y="231"/>
                    </a:lnTo>
                    <a:lnTo>
                      <a:pt x="117" y="175"/>
                    </a:lnTo>
                    <a:lnTo>
                      <a:pt x="134" y="117"/>
                    </a:lnTo>
                    <a:lnTo>
                      <a:pt x="147" y="60"/>
                    </a:lnTo>
                    <a:lnTo>
                      <a:pt x="157" y="0"/>
                    </a:lnTo>
                    <a:lnTo>
                      <a:pt x="171" y="3"/>
                    </a:lnTo>
                    <a:lnTo>
                      <a:pt x="161" y="63"/>
                    </a:lnTo>
                    <a:lnTo>
                      <a:pt x="147" y="122"/>
                    </a:lnTo>
                    <a:lnTo>
                      <a:pt x="130" y="181"/>
                    </a:lnTo>
                    <a:lnTo>
                      <a:pt x="111" y="237"/>
                    </a:lnTo>
                    <a:lnTo>
                      <a:pt x="100" y="265"/>
                    </a:lnTo>
                    <a:lnTo>
                      <a:pt x="88" y="293"/>
                    </a:lnTo>
                    <a:lnTo>
                      <a:pt x="63" y="348"/>
                    </a:lnTo>
                    <a:lnTo>
                      <a:pt x="12" y="457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424560" y="4422600"/>
                <a:ext cx="9720" cy="612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8"/>
                    </a:moveTo>
                    <a:lnTo>
                      <a:pt x="12" y="7"/>
                    </a:lnTo>
                    <a:lnTo>
                      <a:pt x="0" y="0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485040" y="4060800"/>
                <a:ext cx="74520" cy="115560"/>
              </a:xfrm>
              <a:custGeom>
                <a:avLst/>
                <a:gdLst/>
                <a:ahLst/>
                <a:rect l="l" t="t" r="r" b="b"/>
                <a:pathLst>
                  <a:path w="94" h="145">
                    <a:moveTo>
                      <a:pt x="83" y="12"/>
                    </a:moveTo>
                    <a:lnTo>
                      <a:pt x="93" y="12"/>
                    </a:lnTo>
                    <a:lnTo>
                      <a:pt x="93" y="14"/>
                    </a:lnTo>
                    <a:lnTo>
                      <a:pt x="83" y="28"/>
                    </a:lnTo>
                    <a:lnTo>
                      <a:pt x="55" y="79"/>
                    </a:lnTo>
                    <a:lnTo>
                      <a:pt x="26" y="130"/>
                    </a:lnTo>
                    <a:lnTo>
                      <a:pt x="15" y="145"/>
                    </a:lnTo>
                    <a:lnTo>
                      <a:pt x="3" y="145"/>
                    </a:lnTo>
                    <a:lnTo>
                      <a:pt x="0" y="141"/>
                    </a:lnTo>
                    <a:lnTo>
                      <a:pt x="13" y="134"/>
                    </a:lnTo>
                    <a:lnTo>
                      <a:pt x="13" y="135"/>
                    </a:lnTo>
                    <a:lnTo>
                      <a:pt x="5" y="134"/>
                    </a:lnTo>
                    <a:lnTo>
                      <a:pt x="14" y="122"/>
                    </a:lnTo>
                    <a:lnTo>
                      <a:pt x="43" y="72"/>
                    </a:lnTo>
                    <a:lnTo>
                      <a:pt x="71" y="20"/>
                    </a:lnTo>
                    <a:lnTo>
                      <a:pt x="81" y="6"/>
                    </a:lnTo>
                    <a:lnTo>
                      <a:pt x="86" y="0"/>
                    </a:lnTo>
                    <a:lnTo>
                      <a:pt x="94" y="2"/>
                    </a:lnTo>
                    <a:lnTo>
                      <a:pt x="83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550200" y="4062240"/>
                <a:ext cx="10800" cy="756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7"/>
                    </a:moveTo>
                    <a:lnTo>
                      <a:pt x="15" y="2"/>
                    </a:lnTo>
                    <a:lnTo>
                      <a:pt x="12" y="0"/>
                    </a:lnTo>
                    <a:lnTo>
                      <a:pt x="1" y="10"/>
                    </a:lnTo>
                    <a:lnTo>
                      <a:pt x="0" y="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83240" y="3894120"/>
                <a:ext cx="85680" cy="277200"/>
              </a:xfrm>
              <a:custGeom>
                <a:avLst/>
                <a:gdLst/>
                <a:ahLst/>
                <a:rect l="l" t="t" r="r" b="b"/>
                <a:pathLst>
                  <a:path w="108" h="350">
                    <a:moveTo>
                      <a:pt x="0" y="347"/>
                    </a:moveTo>
                    <a:lnTo>
                      <a:pt x="6" y="302"/>
                    </a:lnTo>
                    <a:lnTo>
                      <a:pt x="15" y="257"/>
                    </a:lnTo>
                    <a:lnTo>
                      <a:pt x="26" y="214"/>
                    </a:lnTo>
                    <a:lnTo>
                      <a:pt x="39" y="172"/>
                    </a:lnTo>
                    <a:lnTo>
                      <a:pt x="67" y="86"/>
                    </a:lnTo>
                    <a:lnTo>
                      <a:pt x="94" y="0"/>
                    </a:lnTo>
                    <a:lnTo>
                      <a:pt x="108" y="7"/>
                    </a:lnTo>
                    <a:lnTo>
                      <a:pt x="81" y="92"/>
                    </a:lnTo>
                    <a:lnTo>
                      <a:pt x="53" y="178"/>
                    </a:lnTo>
                    <a:lnTo>
                      <a:pt x="39" y="219"/>
                    </a:lnTo>
                    <a:lnTo>
                      <a:pt x="28" y="262"/>
                    </a:lnTo>
                    <a:lnTo>
                      <a:pt x="20" y="306"/>
                    </a:lnTo>
                    <a:lnTo>
                      <a:pt x="14" y="350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83240" y="416700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7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8120" y="3697200"/>
                <a:ext cx="56880" cy="201240"/>
              </a:xfrm>
              <a:custGeom>
                <a:avLst/>
                <a:gdLst/>
                <a:ahLst/>
                <a:rect l="l" t="t" r="r" b="b"/>
                <a:pathLst>
                  <a:path w="72" h="254">
                    <a:moveTo>
                      <a:pt x="0" y="249"/>
                    </a:moveTo>
                    <a:lnTo>
                      <a:pt x="32" y="126"/>
                    </a:lnTo>
                    <a:lnTo>
                      <a:pt x="59" y="0"/>
                    </a:lnTo>
                    <a:lnTo>
                      <a:pt x="72" y="5"/>
                    </a:lnTo>
                    <a:lnTo>
                      <a:pt x="45" y="131"/>
                    </a:lnTo>
                    <a:lnTo>
                      <a:pt x="14" y="254"/>
                    </a:lnTo>
                    <a:lnTo>
                      <a:pt x="0" y="2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8120" y="389412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5"/>
                    </a:lnTo>
                    <a:lnTo>
                      <a:pt x="0" y="0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603840" y="369720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3" y="5"/>
                    </a:moveTo>
                    <a:lnTo>
                      <a:pt x="1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122640" y="4437000"/>
                <a:ext cx="2479680" cy="1336320"/>
              </a:xfrm>
              <a:custGeom>
                <a:avLst/>
                <a:gdLst/>
                <a:ahLst/>
                <a:rect l="l" t="t" r="r" b="b"/>
                <a:pathLst>
                  <a:path w="3123" h="1685">
                    <a:moveTo>
                      <a:pt x="1725" y="1669"/>
                    </a:moveTo>
                    <a:lnTo>
                      <a:pt x="1785" y="1658"/>
                    </a:lnTo>
                    <a:lnTo>
                      <a:pt x="1844" y="1647"/>
                    </a:lnTo>
                    <a:lnTo>
                      <a:pt x="1904" y="1634"/>
                    </a:lnTo>
                    <a:lnTo>
                      <a:pt x="1963" y="1620"/>
                    </a:lnTo>
                    <a:lnTo>
                      <a:pt x="2006" y="1609"/>
                    </a:lnTo>
                    <a:lnTo>
                      <a:pt x="2047" y="1597"/>
                    </a:lnTo>
                    <a:lnTo>
                      <a:pt x="2090" y="1585"/>
                    </a:lnTo>
                    <a:lnTo>
                      <a:pt x="2132" y="1572"/>
                    </a:lnTo>
                    <a:lnTo>
                      <a:pt x="2175" y="1561"/>
                    </a:lnTo>
                    <a:lnTo>
                      <a:pt x="2217" y="1552"/>
                    </a:lnTo>
                    <a:lnTo>
                      <a:pt x="2238" y="1548"/>
                    </a:lnTo>
                    <a:lnTo>
                      <a:pt x="2260" y="1544"/>
                    </a:lnTo>
                    <a:lnTo>
                      <a:pt x="2282" y="1542"/>
                    </a:lnTo>
                    <a:lnTo>
                      <a:pt x="2303" y="1539"/>
                    </a:lnTo>
                    <a:lnTo>
                      <a:pt x="2305" y="1539"/>
                    </a:lnTo>
                    <a:lnTo>
                      <a:pt x="2305" y="1541"/>
                    </a:lnTo>
                    <a:lnTo>
                      <a:pt x="2305" y="1542"/>
                    </a:lnTo>
                    <a:lnTo>
                      <a:pt x="2304" y="1543"/>
                    </a:lnTo>
                    <a:lnTo>
                      <a:pt x="2300" y="1547"/>
                    </a:lnTo>
                    <a:lnTo>
                      <a:pt x="2293" y="1552"/>
                    </a:lnTo>
                    <a:lnTo>
                      <a:pt x="2272" y="1563"/>
                    </a:lnTo>
                    <a:lnTo>
                      <a:pt x="2247" y="1576"/>
                    </a:lnTo>
                    <a:lnTo>
                      <a:pt x="2199" y="1602"/>
                    </a:lnTo>
                    <a:lnTo>
                      <a:pt x="2190" y="1606"/>
                    </a:lnTo>
                    <a:lnTo>
                      <a:pt x="2184" y="1609"/>
                    </a:lnTo>
                    <a:lnTo>
                      <a:pt x="2182" y="1612"/>
                    </a:lnTo>
                    <a:lnTo>
                      <a:pt x="2182" y="1613"/>
                    </a:lnTo>
                    <a:lnTo>
                      <a:pt x="2183" y="1613"/>
                    </a:lnTo>
                    <a:lnTo>
                      <a:pt x="2199" y="1610"/>
                    </a:lnTo>
                    <a:lnTo>
                      <a:pt x="2215" y="1608"/>
                    </a:lnTo>
                    <a:lnTo>
                      <a:pt x="2231" y="1606"/>
                    </a:lnTo>
                    <a:lnTo>
                      <a:pt x="2247" y="1604"/>
                    </a:lnTo>
                    <a:lnTo>
                      <a:pt x="2265" y="1602"/>
                    </a:lnTo>
                    <a:lnTo>
                      <a:pt x="2282" y="1599"/>
                    </a:lnTo>
                    <a:lnTo>
                      <a:pt x="2299" y="1597"/>
                    </a:lnTo>
                    <a:lnTo>
                      <a:pt x="2316" y="1593"/>
                    </a:lnTo>
                    <a:lnTo>
                      <a:pt x="2351" y="1585"/>
                    </a:lnTo>
                    <a:lnTo>
                      <a:pt x="2366" y="1580"/>
                    </a:lnTo>
                    <a:lnTo>
                      <a:pt x="2384" y="1575"/>
                    </a:lnTo>
                    <a:lnTo>
                      <a:pt x="2401" y="1570"/>
                    </a:lnTo>
                    <a:lnTo>
                      <a:pt x="2417" y="1564"/>
                    </a:lnTo>
                    <a:lnTo>
                      <a:pt x="2432" y="1558"/>
                    </a:lnTo>
                    <a:lnTo>
                      <a:pt x="2450" y="1550"/>
                    </a:lnTo>
                    <a:lnTo>
                      <a:pt x="2481" y="1537"/>
                    </a:lnTo>
                    <a:lnTo>
                      <a:pt x="2513" y="1522"/>
                    </a:lnTo>
                    <a:lnTo>
                      <a:pt x="2550" y="1505"/>
                    </a:lnTo>
                    <a:lnTo>
                      <a:pt x="2588" y="1488"/>
                    </a:lnTo>
                    <a:lnTo>
                      <a:pt x="2624" y="1472"/>
                    </a:lnTo>
                    <a:lnTo>
                      <a:pt x="2662" y="1455"/>
                    </a:lnTo>
                    <a:lnTo>
                      <a:pt x="2676" y="1448"/>
                    </a:lnTo>
                    <a:lnTo>
                      <a:pt x="2693" y="1439"/>
                    </a:lnTo>
                    <a:lnTo>
                      <a:pt x="2734" y="1414"/>
                    </a:lnTo>
                    <a:lnTo>
                      <a:pt x="2783" y="1382"/>
                    </a:lnTo>
                    <a:lnTo>
                      <a:pt x="2833" y="1349"/>
                    </a:lnTo>
                    <a:lnTo>
                      <a:pt x="2881" y="1317"/>
                    </a:lnTo>
                    <a:lnTo>
                      <a:pt x="2921" y="1290"/>
                    </a:lnTo>
                    <a:lnTo>
                      <a:pt x="2948" y="1272"/>
                    </a:lnTo>
                    <a:lnTo>
                      <a:pt x="2958" y="1264"/>
                    </a:lnTo>
                    <a:lnTo>
                      <a:pt x="2945" y="1267"/>
                    </a:lnTo>
                    <a:lnTo>
                      <a:pt x="2932" y="1270"/>
                    </a:lnTo>
                    <a:lnTo>
                      <a:pt x="2920" y="1274"/>
                    </a:lnTo>
                    <a:lnTo>
                      <a:pt x="2908" y="1278"/>
                    </a:lnTo>
                    <a:lnTo>
                      <a:pt x="2885" y="1286"/>
                    </a:lnTo>
                    <a:lnTo>
                      <a:pt x="2862" y="1297"/>
                    </a:lnTo>
                    <a:lnTo>
                      <a:pt x="2838" y="1308"/>
                    </a:lnTo>
                    <a:lnTo>
                      <a:pt x="2815" y="1321"/>
                    </a:lnTo>
                    <a:lnTo>
                      <a:pt x="2771" y="1346"/>
                    </a:lnTo>
                    <a:lnTo>
                      <a:pt x="2748" y="1359"/>
                    </a:lnTo>
                    <a:lnTo>
                      <a:pt x="2726" y="1372"/>
                    </a:lnTo>
                    <a:lnTo>
                      <a:pt x="2703" y="1383"/>
                    </a:lnTo>
                    <a:lnTo>
                      <a:pt x="2679" y="1394"/>
                    </a:lnTo>
                    <a:lnTo>
                      <a:pt x="2656" y="1404"/>
                    </a:lnTo>
                    <a:lnTo>
                      <a:pt x="2644" y="1409"/>
                    </a:lnTo>
                    <a:lnTo>
                      <a:pt x="2632" y="1412"/>
                    </a:lnTo>
                    <a:lnTo>
                      <a:pt x="2607" y="1418"/>
                    </a:lnTo>
                    <a:lnTo>
                      <a:pt x="2594" y="1421"/>
                    </a:lnTo>
                    <a:lnTo>
                      <a:pt x="2582" y="1423"/>
                    </a:lnTo>
                    <a:lnTo>
                      <a:pt x="2573" y="1422"/>
                    </a:lnTo>
                    <a:lnTo>
                      <a:pt x="2568" y="1420"/>
                    </a:lnTo>
                    <a:lnTo>
                      <a:pt x="2563" y="1417"/>
                    </a:lnTo>
                    <a:lnTo>
                      <a:pt x="2561" y="1415"/>
                    </a:lnTo>
                    <a:lnTo>
                      <a:pt x="2561" y="1414"/>
                    </a:lnTo>
                    <a:lnTo>
                      <a:pt x="2561" y="1412"/>
                    </a:lnTo>
                    <a:lnTo>
                      <a:pt x="2561" y="1409"/>
                    </a:lnTo>
                    <a:lnTo>
                      <a:pt x="2563" y="1405"/>
                    </a:lnTo>
                    <a:lnTo>
                      <a:pt x="2567" y="1400"/>
                    </a:lnTo>
                    <a:lnTo>
                      <a:pt x="2572" y="1396"/>
                    </a:lnTo>
                    <a:lnTo>
                      <a:pt x="2578" y="1392"/>
                    </a:lnTo>
                    <a:lnTo>
                      <a:pt x="2585" y="1387"/>
                    </a:lnTo>
                    <a:lnTo>
                      <a:pt x="2594" y="1381"/>
                    </a:lnTo>
                    <a:lnTo>
                      <a:pt x="2602" y="1376"/>
                    </a:lnTo>
                    <a:lnTo>
                      <a:pt x="2612" y="1370"/>
                    </a:lnTo>
                    <a:lnTo>
                      <a:pt x="2634" y="1359"/>
                    </a:lnTo>
                    <a:lnTo>
                      <a:pt x="2683" y="1334"/>
                    </a:lnTo>
                    <a:lnTo>
                      <a:pt x="2733" y="1310"/>
                    </a:lnTo>
                    <a:lnTo>
                      <a:pt x="2781" y="1286"/>
                    </a:lnTo>
                    <a:lnTo>
                      <a:pt x="2802" y="1275"/>
                    </a:lnTo>
                    <a:lnTo>
                      <a:pt x="2819" y="1266"/>
                    </a:lnTo>
                    <a:lnTo>
                      <a:pt x="2858" y="1242"/>
                    </a:lnTo>
                    <a:lnTo>
                      <a:pt x="2897" y="1218"/>
                    </a:lnTo>
                    <a:lnTo>
                      <a:pt x="2935" y="1193"/>
                    </a:lnTo>
                    <a:lnTo>
                      <a:pt x="2973" y="1168"/>
                    </a:lnTo>
                    <a:lnTo>
                      <a:pt x="3011" y="1142"/>
                    </a:lnTo>
                    <a:lnTo>
                      <a:pt x="3049" y="1115"/>
                    </a:lnTo>
                    <a:lnTo>
                      <a:pt x="3085" y="1088"/>
                    </a:lnTo>
                    <a:lnTo>
                      <a:pt x="3123" y="1061"/>
                    </a:lnTo>
                    <a:lnTo>
                      <a:pt x="3095" y="1054"/>
                    </a:lnTo>
                    <a:lnTo>
                      <a:pt x="3068" y="1047"/>
                    </a:lnTo>
                    <a:lnTo>
                      <a:pt x="3049" y="1043"/>
                    </a:lnTo>
                    <a:lnTo>
                      <a:pt x="3030" y="1039"/>
                    </a:lnTo>
                    <a:lnTo>
                      <a:pt x="3011" y="1038"/>
                    </a:lnTo>
                    <a:lnTo>
                      <a:pt x="2992" y="1038"/>
                    </a:lnTo>
                    <a:lnTo>
                      <a:pt x="2974" y="1038"/>
                    </a:lnTo>
                    <a:lnTo>
                      <a:pt x="2954" y="1041"/>
                    </a:lnTo>
                    <a:lnTo>
                      <a:pt x="2936" y="1044"/>
                    </a:lnTo>
                    <a:lnTo>
                      <a:pt x="2918" y="1048"/>
                    </a:lnTo>
                    <a:lnTo>
                      <a:pt x="2899" y="1053"/>
                    </a:lnTo>
                    <a:lnTo>
                      <a:pt x="2881" y="1059"/>
                    </a:lnTo>
                    <a:lnTo>
                      <a:pt x="2864" y="1065"/>
                    </a:lnTo>
                    <a:lnTo>
                      <a:pt x="2846" y="1072"/>
                    </a:lnTo>
                    <a:lnTo>
                      <a:pt x="2829" y="1081"/>
                    </a:lnTo>
                    <a:lnTo>
                      <a:pt x="2811" y="1089"/>
                    </a:lnTo>
                    <a:lnTo>
                      <a:pt x="2796" y="1099"/>
                    </a:lnTo>
                    <a:lnTo>
                      <a:pt x="2778" y="1109"/>
                    </a:lnTo>
                    <a:lnTo>
                      <a:pt x="2766" y="1120"/>
                    </a:lnTo>
                    <a:lnTo>
                      <a:pt x="2760" y="1125"/>
                    </a:lnTo>
                    <a:lnTo>
                      <a:pt x="2755" y="1131"/>
                    </a:lnTo>
                    <a:lnTo>
                      <a:pt x="2750" y="1137"/>
                    </a:lnTo>
                    <a:lnTo>
                      <a:pt x="2747" y="1143"/>
                    </a:lnTo>
                    <a:lnTo>
                      <a:pt x="2743" y="1151"/>
                    </a:lnTo>
                    <a:lnTo>
                      <a:pt x="2739" y="1157"/>
                    </a:lnTo>
                    <a:lnTo>
                      <a:pt x="2734" y="1170"/>
                    </a:lnTo>
                    <a:lnTo>
                      <a:pt x="2730" y="1184"/>
                    </a:lnTo>
                    <a:lnTo>
                      <a:pt x="2722" y="1211"/>
                    </a:lnTo>
                    <a:lnTo>
                      <a:pt x="2719" y="1224"/>
                    </a:lnTo>
                    <a:lnTo>
                      <a:pt x="2715" y="1237"/>
                    </a:lnTo>
                    <a:lnTo>
                      <a:pt x="2710" y="1251"/>
                    </a:lnTo>
                    <a:lnTo>
                      <a:pt x="2704" y="1263"/>
                    </a:lnTo>
                    <a:lnTo>
                      <a:pt x="2701" y="1269"/>
                    </a:lnTo>
                    <a:lnTo>
                      <a:pt x="2697" y="1275"/>
                    </a:lnTo>
                    <a:lnTo>
                      <a:pt x="2693" y="1281"/>
                    </a:lnTo>
                    <a:lnTo>
                      <a:pt x="2688" y="1288"/>
                    </a:lnTo>
                    <a:lnTo>
                      <a:pt x="2682" y="1292"/>
                    </a:lnTo>
                    <a:lnTo>
                      <a:pt x="2676" y="1299"/>
                    </a:lnTo>
                    <a:lnTo>
                      <a:pt x="2662" y="1308"/>
                    </a:lnTo>
                    <a:lnTo>
                      <a:pt x="2631" y="1324"/>
                    </a:lnTo>
                    <a:lnTo>
                      <a:pt x="2599" y="1338"/>
                    </a:lnTo>
                    <a:lnTo>
                      <a:pt x="2566" y="1351"/>
                    </a:lnTo>
                    <a:lnTo>
                      <a:pt x="2550" y="1357"/>
                    </a:lnTo>
                    <a:lnTo>
                      <a:pt x="2533" y="1362"/>
                    </a:lnTo>
                    <a:lnTo>
                      <a:pt x="2500" y="1372"/>
                    </a:lnTo>
                    <a:lnTo>
                      <a:pt x="2467" y="1381"/>
                    </a:lnTo>
                    <a:lnTo>
                      <a:pt x="2450" y="1384"/>
                    </a:lnTo>
                    <a:lnTo>
                      <a:pt x="2434" y="1388"/>
                    </a:lnTo>
                    <a:lnTo>
                      <a:pt x="2399" y="1394"/>
                    </a:lnTo>
                    <a:lnTo>
                      <a:pt x="2366" y="1398"/>
                    </a:lnTo>
                    <a:lnTo>
                      <a:pt x="2349" y="1399"/>
                    </a:lnTo>
                    <a:lnTo>
                      <a:pt x="2332" y="1400"/>
                    </a:lnTo>
                    <a:lnTo>
                      <a:pt x="2298" y="1403"/>
                    </a:lnTo>
                    <a:lnTo>
                      <a:pt x="2263" y="1403"/>
                    </a:lnTo>
                    <a:lnTo>
                      <a:pt x="2228" y="1401"/>
                    </a:lnTo>
                    <a:lnTo>
                      <a:pt x="2194" y="1398"/>
                    </a:lnTo>
                    <a:lnTo>
                      <a:pt x="2176" y="1396"/>
                    </a:lnTo>
                    <a:lnTo>
                      <a:pt x="2159" y="1394"/>
                    </a:lnTo>
                    <a:lnTo>
                      <a:pt x="2123" y="1388"/>
                    </a:lnTo>
                    <a:lnTo>
                      <a:pt x="2093" y="1382"/>
                    </a:lnTo>
                    <a:lnTo>
                      <a:pt x="2077" y="1377"/>
                    </a:lnTo>
                    <a:lnTo>
                      <a:pt x="2061" y="1373"/>
                    </a:lnTo>
                    <a:lnTo>
                      <a:pt x="2028" y="1362"/>
                    </a:lnTo>
                    <a:lnTo>
                      <a:pt x="2012" y="1357"/>
                    </a:lnTo>
                    <a:lnTo>
                      <a:pt x="1996" y="1351"/>
                    </a:lnTo>
                    <a:lnTo>
                      <a:pt x="1981" y="1345"/>
                    </a:lnTo>
                    <a:lnTo>
                      <a:pt x="1966" y="1338"/>
                    </a:lnTo>
                    <a:lnTo>
                      <a:pt x="1937" y="1323"/>
                    </a:lnTo>
                    <a:lnTo>
                      <a:pt x="1924" y="1316"/>
                    </a:lnTo>
                    <a:lnTo>
                      <a:pt x="1912" y="1308"/>
                    </a:lnTo>
                    <a:lnTo>
                      <a:pt x="1901" y="1300"/>
                    </a:lnTo>
                    <a:lnTo>
                      <a:pt x="1891" y="1291"/>
                    </a:lnTo>
                    <a:lnTo>
                      <a:pt x="1881" y="1281"/>
                    </a:lnTo>
                    <a:lnTo>
                      <a:pt x="1874" y="1273"/>
                    </a:lnTo>
                    <a:lnTo>
                      <a:pt x="1866" y="1263"/>
                    </a:lnTo>
                    <a:lnTo>
                      <a:pt x="1862" y="1253"/>
                    </a:lnTo>
                    <a:lnTo>
                      <a:pt x="1858" y="1244"/>
                    </a:lnTo>
                    <a:lnTo>
                      <a:pt x="1857" y="1239"/>
                    </a:lnTo>
                    <a:lnTo>
                      <a:pt x="1855" y="1233"/>
                    </a:lnTo>
                    <a:lnTo>
                      <a:pt x="1855" y="1228"/>
                    </a:lnTo>
                    <a:lnTo>
                      <a:pt x="1855" y="1223"/>
                    </a:lnTo>
                    <a:lnTo>
                      <a:pt x="1857" y="1217"/>
                    </a:lnTo>
                    <a:lnTo>
                      <a:pt x="1857" y="1212"/>
                    </a:lnTo>
                    <a:lnTo>
                      <a:pt x="1860" y="1201"/>
                    </a:lnTo>
                    <a:lnTo>
                      <a:pt x="1866" y="1189"/>
                    </a:lnTo>
                    <a:lnTo>
                      <a:pt x="1870" y="1184"/>
                    </a:lnTo>
                    <a:lnTo>
                      <a:pt x="1874" y="1178"/>
                    </a:lnTo>
                    <a:lnTo>
                      <a:pt x="1879" y="1171"/>
                    </a:lnTo>
                    <a:lnTo>
                      <a:pt x="1884" y="1165"/>
                    </a:lnTo>
                    <a:lnTo>
                      <a:pt x="1896" y="1153"/>
                    </a:lnTo>
                    <a:lnTo>
                      <a:pt x="1911" y="1141"/>
                    </a:lnTo>
                    <a:lnTo>
                      <a:pt x="1929" y="1129"/>
                    </a:lnTo>
                    <a:lnTo>
                      <a:pt x="1939" y="1123"/>
                    </a:lnTo>
                    <a:lnTo>
                      <a:pt x="1948" y="1116"/>
                    </a:lnTo>
                    <a:lnTo>
                      <a:pt x="1968" y="1109"/>
                    </a:lnTo>
                    <a:lnTo>
                      <a:pt x="1986" y="1102"/>
                    </a:lnTo>
                    <a:lnTo>
                      <a:pt x="2006" y="1097"/>
                    </a:lnTo>
                    <a:lnTo>
                      <a:pt x="2025" y="1092"/>
                    </a:lnTo>
                    <a:lnTo>
                      <a:pt x="2045" y="1088"/>
                    </a:lnTo>
                    <a:lnTo>
                      <a:pt x="2065" y="1086"/>
                    </a:lnTo>
                    <a:lnTo>
                      <a:pt x="2084" y="1083"/>
                    </a:lnTo>
                    <a:lnTo>
                      <a:pt x="2105" y="1082"/>
                    </a:lnTo>
                    <a:lnTo>
                      <a:pt x="2124" y="1081"/>
                    </a:lnTo>
                    <a:lnTo>
                      <a:pt x="2144" y="1081"/>
                    </a:lnTo>
                    <a:lnTo>
                      <a:pt x="2184" y="1081"/>
                    </a:lnTo>
                    <a:lnTo>
                      <a:pt x="2223" y="1082"/>
                    </a:lnTo>
                    <a:lnTo>
                      <a:pt x="2264" y="1085"/>
                    </a:lnTo>
                    <a:lnTo>
                      <a:pt x="2304" y="1086"/>
                    </a:lnTo>
                    <a:lnTo>
                      <a:pt x="2343" y="1087"/>
                    </a:lnTo>
                    <a:lnTo>
                      <a:pt x="2384" y="1086"/>
                    </a:lnTo>
                    <a:lnTo>
                      <a:pt x="2403" y="1085"/>
                    </a:lnTo>
                    <a:lnTo>
                      <a:pt x="2423" y="1082"/>
                    </a:lnTo>
                    <a:lnTo>
                      <a:pt x="2442" y="1080"/>
                    </a:lnTo>
                    <a:lnTo>
                      <a:pt x="2462" y="1076"/>
                    </a:lnTo>
                    <a:lnTo>
                      <a:pt x="2480" y="1072"/>
                    </a:lnTo>
                    <a:lnTo>
                      <a:pt x="2500" y="1067"/>
                    </a:lnTo>
                    <a:lnTo>
                      <a:pt x="2519" y="1061"/>
                    </a:lnTo>
                    <a:lnTo>
                      <a:pt x="2538" y="1054"/>
                    </a:lnTo>
                    <a:lnTo>
                      <a:pt x="2557" y="1045"/>
                    </a:lnTo>
                    <a:lnTo>
                      <a:pt x="2566" y="1041"/>
                    </a:lnTo>
                    <a:lnTo>
                      <a:pt x="2575" y="1036"/>
                    </a:lnTo>
                    <a:lnTo>
                      <a:pt x="2586" y="1026"/>
                    </a:lnTo>
                    <a:lnTo>
                      <a:pt x="2597" y="1017"/>
                    </a:lnTo>
                    <a:lnTo>
                      <a:pt x="2606" y="1008"/>
                    </a:lnTo>
                    <a:lnTo>
                      <a:pt x="2611" y="1003"/>
                    </a:lnTo>
                    <a:lnTo>
                      <a:pt x="2615" y="998"/>
                    </a:lnTo>
                    <a:lnTo>
                      <a:pt x="2621" y="989"/>
                    </a:lnTo>
                    <a:lnTo>
                      <a:pt x="2626" y="979"/>
                    </a:lnTo>
                    <a:lnTo>
                      <a:pt x="2631" y="971"/>
                    </a:lnTo>
                    <a:lnTo>
                      <a:pt x="2633" y="961"/>
                    </a:lnTo>
                    <a:lnTo>
                      <a:pt x="2635" y="953"/>
                    </a:lnTo>
                    <a:lnTo>
                      <a:pt x="2637" y="943"/>
                    </a:lnTo>
                    <a:lnTo>
                      <a:pt x="2637" y="934"/>
                    </a:lnTo>
                    <a:lnTo>
                      <a:pt x="2635" y="926"/>
                    </a:lnTo>
                    <a:lnTo>
                      <a:pt x="2633" y="917"/>
                    </a:lnTo>
                    <a:lnTo>
                      <a:pt x="2631" y="907"/>
                    </a:lnTo>
                    <a:lnTo>
                      <a:pt x="2627" y="899"/>
                    </a:lnTo>
                    <a:lnTo>
                      <a:pt x="2623" y="890"/>
                    </a:lnTo>
                    <a:lnTo>
                      <a:pt x="2618" y="882"/>
                    </a:lnTo>
                    <a:lnTo>
                      <a:pt x="2612" y="874"/>
                    </a:lnTo>
                    <a:lnTo>
                      <a:pt x="2606" y="866"/>
                    </a:lnTo>
                    <a:lnTo>
                      <a:pt x="2600" y="857"/>
                    </a:lnTo>
                    <a:lnTo>
                      <a:pt x="2593" y="850"/>
                    </a:lnTo>
                    <a:lnTo>
                      <a:pt x="2584" y="841"/>
                    </a:lnTo>
                    <a:lnTo>
                      <a:pt x="2568" y="827"/>
                    </a:lnTo>
                    <a:lnTo>
                      <a:pt x="2550" y="812"/>
                    </a:lnTo>
                    <a:lnTo>
                      <a:pt x="2531" y="797"/>
                    </a:lnTo>
                    <a:lnTo>
                      <a:pt x="2512" y="784"/>
                    </a:lnTo>
                    <a:lnTo>
                      <a:pt x="2492" y="772"/>
                    </a:lnTo>
                    <a:lnTo>
                      <a:pt x="2424" y="729"/>
                    </a:lnTo>
                    <a:lnTo>
                      <a:pt x="2358" y="685"/>
                    </a:lnTo>
                    <a:lnTo>
                      <a:pt x="2291" y="640"/>
                    </a:lnTo>
                    <a:lnTo>
                      <a:pt x="2226" y="593"/>
                    </a:lnTo>
                    <a:lnTo>
                      <a:pt x="2160" y="547"/>
                    </a:lnTo>
                    <a:lnTo>
                      <a:pt x="2095" y="499"/>
                    </a:lnTo>
                    <a:lnTo>
                      <a:pt x="2032" y="451"/>
                    </a:lnTo>
                    <a:lnTo>
                      <a:pt x="1968" y="402"/>
                    </a:lnTo>
                    <a:lnTo>
                      <a:pt x="1904" y="353"/>
                    </a:lnTo>
                    <a:lnTo>
                      <a:pt x="1841" y="303"/>
                    </a:lnTo>
                    <a:lnTo>
                      <a:pt x="1716" y="203"/>
                    </a:lnTo>
                    <a:lnTo>
                      <a:pt x="1593" y="101"/>
                    </a:lnTo>
                    <a:lnTo>
                      <a:pt x="1468" y="0"/>
                    </a:lnTo>
                    <a:lnTo>
                      <a:pt x="1354" y="98"/>
                    </a:lnTo>
                    <a:lnTo>
                      <a:pt x="1296" y="147"/>
                    </a:lnTo>
                    <a:lnTo>
                      <a:pt x="1238" y="196"/>
                    </a:lnTo>
                    <a:lnTo>
                      <a:pt x="1180" y="243"/>
                    </a:lnTo>
                    <a:lnTo>
                      <a:pt x="1121" y="291"/>
                    </a:lnTo>
                    <a:lnTo>
                      <a:pt x="1061" y="337"/>
                    </a:lnTo>
                    <a:lnTo>
                      <a:pt x="1002" y="385"/>
                    </a:lnTo>
                    <a:lnTo>
                      <a:pt x="951" y="424"/>
                    </a:lnTo>
                    <a:lnTo>
                      <a:pt x="924" y="445"/>
                    </a:lnTo>
                    <a:lnTo>
                      <a:pt x="896" y="468"/>
                    </a:lnTo>
                    <a:lnTo>
                      <a:pt x="869" y="493"/>
                    </a:lnTo>
                    <a:lnTo>
                      <a:pt x="856" y="505"/>
                    </a:lnTo>
                    <a:lnTo>
                      <a:pt x="842" y="518"/>
                    </a:lnTo>
                    <a:lnTo>
                      <a:pt x="830" y="532"/>
                    </a:lnTo>
                    <a:lnTo>
                      <a:pt x="819" y="544"/>
                    </a:lnTo>
                    <a:lnTo>
                      <a:pt x="808" y="558"/>
                    </a:lnTo>
                    <a:lnTo>
                      <a:pt x="797" y="572"/>
                    </a:lnTo>
                    <a:lnTo>
                      <a:pt x="788" y="586"/>
                    </a:lnTo>
                    <a:lnTo>
                      <a:pt x="783" y="593"/>
                    </a:lnTo>
                    <a:lnTo>
                      <a:pt x="780" y="599"/>
                    </a:lnTo>
                    <a:lnTo>
                      <a:pt x="772" y="614"/>
                    </a:lnTo>
                    <a:lnTo>
                      <a:pt x="770" y="621"/>
                    </a:lnTo>
                    <a:lnTo>
                      <a:pt x="766" y="629"/>
                    </a:lnTo>
                    <a:lnTo>
                      <a:pt x="763" y="642"/>
                    </a:lnTo>
                    <a:lnTo>
                      <a:pt x="759" y="657"/>
                    </a:lnTo>
                    <a:lnTo>
                      <a:pt x="758" y="671"/>
                    </a:lnTo>
                    <a:lnTo>
                      <a:pt x="757" y="686"/>
                    </a:lnTo>
                    <a:lnTo>
                      <a:pt x="758" y="693"/>
                    </a:lnTo>
                    <a:lnTo>
                      <a:pt x="759" y="701"/>
                    </a:lnTo>
                    <a:lnTo>
                      <a:pt x="760" y="708"/>
                    </a:lnTo>
                    <a:lnTo>
                      <a:pt x="763" y="715"/>
                    </a:lnTo>
                    <a:lnTo>
                      <a:pt x="764" y="723"/>
                    </a:lnTo>
                    <a:lnTo>
                      <a:pt x="768" y="730"/>
                    </a:lnTo>
                    <a:lnTo>
                      <a:pt x="775" y="745"/>
                    </a:lnTo>
                    <a:lnTo>
                      <a:pt x="783" y="759"/>
                    </a:lnTo>
                    <a:lnTo>
                      <a:pt x="790" y="767"/>
                    </a:lnTo>
                    <a:lnTo>
                      <a:pt x="796" y="774"/>
                    </a:lnTo>
                    <a:lnTo>
                      <a:pt x="802" y="780"/>
                    </a:lnTo>
                    <a:lnTo>
                      <a:pt x="809" y="787"/>
                    </a:lnTo>
                    <a:lnTo>
                      <a:pt x="816" y="795"/>
                    </a:lnTo>
                    <a:lnTo>
                      <a:pt x="825" y="802"/>
                    </a:lnTo>
                    <a:lnTo>
                      <a:pt x="837" y="808"/>
                    </a:lnTo>
                    <a:lnTo>
                      <a:pt x="849" y="814"/>
                    </a:lnTo>
                    <a:lnTo>
                      <a:pt x="860" y="819"/>
                    </a:lnTo>
                    <a:lnTo>
                      <a:pt x="873" y="824"/>
                    </a:lnTo>
                    <a:lnTo>
                      <a:pt x="885" y="829"/>
                    </a:lnTo>
                    <a:lnTo>
                      <a:pt x="897" y="833"/>
                    </a:lnTo>
                    <a:lnTo>
                      <a:pt x="908" y="835"/>
                    </a:lnTo>
                    <a:lnTo>
                      <a:pt x="920" y="838"/>
                    </a:lnTo>
                    <a:lnTo>
                      <a:pt x="945" y="842"/>
                    </a:lnTo>
                    <a:lnTo>
                      <a:pt x="956" y="844"/>
                    </a:lnTo>
                    <a:lnTo>
                      <a:pt x="968" y="845"/>
                    </a:lnTo>
                    <a:lnTo>
                      <a:pt x="992" y="846"/>
                    </a:lnTo>
                    <a:lnTo>
                      <a:pt x="1016" y="845"/>
                    </a:lnTo>
                    <a:lnTo>
                      <a:pt x="1040" y="844"/>
                    </a:lnTo>
                    <a:lnTo>
                      <a:pt x="1063" y="841"/>
                    </a:lnTo>
                    <a:lnTo>
                      <a:pt x="1088" y="838"/>
                    </a:lnTo>
                    <a:lnTo>
                      <a:pt x="1111" y="834"/>
                    </a:lnTo>
                    <a:lnTo>
                      <a:pt x="1160" y="823"/>
                    </a:lnTo>
                    <a:lnTo>
                      <a:pt x="1208" y="812"/>
                    </a:lnTo>
                    <a:lnTo>
                      <a:pt x="1255" y="800"/>
                    </a:lnTo>
                    <a:lnTo>
                      <a:pt x="1303" y="789"/>
                    </a:lnTo>
                    <a:lnTo>
                      <a:pt x="1327" y="784"/>
                    </a:lnTo>
                    <a:lnTo>
                      <a:pt x="1352" y="780"/>
                    </a:lnTo>
                    <a:lnTo>
                      <a:pt x="1375" y="776"/>
                    </a:lnTo>
                    <a:lnTo>
                      <a:pt x="1400" y="774"/>
                    </a:lnTo>
                    <a:lnTo>
                      <a:pt x="1412" y="774"/>
                    </a:lnTo>
                    <a:lnTo>
                      <a:pt x="1424" y="773"/>
                    </a:lnTo>
                    <a:lnTo>
                      <a:pt x="1447" y="773"/>
                    </a:lnTo>
                    <a:lnTo>
                      <a:pt x="1472" y="774"/>
                    </a:lnTo>
                    <a:lnTo>
                      <a:pt x="1496" y="776"/>
                    </a:lnTo>
                    <a:lnTo>
                      <a:pt x="1519" y="781"/>
                    </a:lnTo>
                    <a:lnTo>
                      <a:pt x="1532" y="784"/>
                    </a:lnTo>
                    <a:lnTo>
                      <a:pt x="1544" y="787"/>
                    </a:lnTo>
                    <a:lnTo>
                      <a:pt x="1567" y="796"/>
                    </a:lnTo>
                    <a:lnTo>
                      <a:pt x="1591" y="806"/>
                    </a:lnTo>
                    <a:lnTo>
                      <a:pt x="1615" y="824"/>
                    </a:lnTo>
                    <a:lnTo>
                      <a:pt x="1624" y="833"/>
                    </a:lnTo>
                    <a:lnTo>
                      <a:pt x="1634" y="841"/>
                    </a:lnTo>
                    <a:lnTo>
                      <a:pt x="1643" y="850"/>
                    </a:lnTo>
                    <a:lnTo>
                      <a:pt x="1650" y="860"/>
                    </a:lnTo>
                    <a:lnTo>
                      <a:pt x="1657" y="868"/>
                    </a:lnTo>
                    <a:lnTo>
                      <a:pt x="1664" y="877"/>
                    </a:lnTo>
                    <a:lnTo>
                      <a:pt x="1668" y="885"/>
                    </a:lnTo>
                    <a:lnTo>
                      <a:pt x="1673" y="894"/>
                    </a:lnTo>
                    <a:lnTo>
                      <a:pt x="1681" y="911"/>
                    </a:lnTo>
                    <a:lnTo>
                      <a:pt x="1686" y="928"/>
                    </a:lnTo>
                    <a:lnTo>
                      <a:pt x="1687" y="937"/>
                    </a:lnTo>
                    <a:lnTo>
                      <a:pt x="1687" y="945"/>
                    </a:lnTo>
                    <a:lnTo>
                      <a:pt x="1687" y="954"/>
                    </a:lnTo>
                    <a:lnTo>
                      <a:pt x="1687" y="962"/>
                    </a:lnTo>
                    <a:lnTo>
                      <a:pt x="1684" y="978"/>
                    </a:lnTo>
                    <a:lnTo>
                      <a:pt x="1682" y="987"/>
                    </a:lnTo>
                    <a:lnTo>
                      <a:pt x="1679" y="994"/>
                    </a:lnTo>
                    <a:lnTo>
                      <a:pt x="1676" y="1003"/>
                    </a:lnTo>
                    <a:lnTo>
                      <a:pt x="1672" y="1010"/>
                    </a:lnTo>
                    <a:lnTo>
                      <a:pt x="1668" y="1019"/>
                    </a:lnTo>
                    <a:lnTo>
                      <a:pt x="1664" y="1026"/>
                    </a:lnTo>
                    <a:lnTo>
                      <a:pt x="1653" y="1041"/>
                    </a:lnTo>
                    <a:lnTo>
                      <a:pt x="1646" y="1049"/>
                    </a:lnTo>
                    <a:lnTo>
                      <a:pt x="1640" y="1056"/>
                    </a:lnTo>
                    <a:lnTo>
                      <a:pt x="1627" y="1071"/>
                    </a:lnTo>
                    <a:lnTo>
                      <a:pt x="1620" y="1078"/>
                    </a:lnTo>
                    <a:lnTo>
                      <a:pt x="1612" y="1085"/>
                    </a:lnTo>
                    <a:lnTo>
                      <a:pt x="1596" y="1099"/>
                    </a:lnTo>
                    <a:lnTo>
                      <a:pt x="1579" y="1113"/>
                    </a:lnTo>
                    <a:lnTo>
                      <a:pt x="1561" y="1126"/>
                    </a:lnTo>
                    <a:lnTo>
                      <a:pt x="1543" y="1138"/>
                    </a:lnTo>
                    <a:lnTo>
                      <a:pt x="1524" y="1151"/>
                    </a:lnTo>
                    <a:lnTo>
                      <a:pt x="1503" y="1163"/>
                    </a:lnTo>
                    <a:lnTo>
                      <a:pt x="1484" y="1174"/>
                    </a:lnTo>
                    <a:lnTo>
                      <a:pt x="1444" y="1195"/>
                    </a:lnTo>
                    <a:lnTo>
                      <a:pt x="1404" y="1214"/>
                    </a:lnTo>
                    <a:lnTo>
                      <a:pt x="1365" y="1230"/>
                    </a:lnTo>
                    <a:lnTo>
                      <a:pt x="1330" y="1245"/>
                    </a:lnTo>
                    <a:lnTo>
                      <a:pt x="1286" y="1261"/>
                    </a:lnTo>
                    <a:lnTo>
                      <a:pt x="1241" y="1275"/>
                    </a:lnTo>
                    <a:lnTo>
                      <a:pt x="1219" y="1281"/>
                    </a:lnTo>
                    <a:lnTo>
                      <a:pt x="1195" y="1288"/>
                    </a:lnTo>
                    <a:lnTo>
                      <a:pt x="1151" y="1299"/>
                    </a:lnTo>
                    <a:lnTo>
                      <a:pt x="1128" y="1303"/>
                    </a:lnTo>
                    <a:lnTo>
                      <a:pt x="1106" y="1307"/>
                    </a:lnTo>
                    <a:lnTo>
                      <a:pt x="1084" y="1312"/>
                    </a:lnTo>
                    <a:lnTo>
                      <a:pt x="1061" y="1314"/>
                    </a:lnTo>
                    <a:lnTo>
                      <a:pt x="1039" y="1317"/>
                    </a:lnTo>
                    <a:lnTo>
                      <a:pt x="1016" y="1319"/>
                    </a:lnTo>
                    <a:lnTo>
                      <a:pt x="994" y="1321"/>
                    </a:lnTo>
                    <a:lnTo>
                      <a:pt x="972" y="1322"/>
                    </a:lnTo>
                    <a:lnTo>
                      <a:pt x="948" y="1323"/>
                    </a:lnTo>
                    <a:lnTo>
                      <a:pt x="926" y="1322"/>
                    </a:lnTo>
                    <a:lnTo>
                      <a:pt x="904" y="1322"/>
                    </a:lnTo>
                    <a:lnTo>
                      <a:pt x="881" y="1319"/>
                    </a:lnTo>
                    <a:lnTo>
                      <a:pt x="859" y="1318"/>
                    </a:lnTo>
                    <a:lnTo>
                      <a:pt x="837" y="1314"/>
                    </a:lnTo>
                    <a:lnTo>
                      <a:pt x="815" y="1311"/>
                    </a:lnTo>
                    <a:lnTo>
                      <a:pt x="792" y="1307"/>
                    </a:lnTo>
                    <a:lnTo>
                      <a:pt x="770" y="1302"/>
                    </a:lnTo>
                    <a:lnTo>
                      <a:pt x="748" y="1296"/>
                    </a:lnTo>
                    <a:lnTo>
                      <a:pt x="726" y="1290"/>
                    </a:lnTo>
                    <a:lnTo>
                      <a:pt x="704" y="1283"/>
                    </a:lnTo>
                    <a:lnTo>
                      <a:pt x="682" y="1275"/>
                    </a:lnTo>
                    <a:lnTo>
                      <a:pt x="660" y="1266"/>
                    </a:lnTo>
                    <a:lnTo>
                      <a:pt x="638" y="1257"/>
                    </a:lnTo>
                    <a:lnTo>
                      <a:pt x="616" y="1246"/>
                    </a:lnTo>
                    <a:lnTo>
                      <a:pt x="605" y="1239"/>
                    </a:lnTo>
                    <a:lnTo>
                      <a:pt x="596" y="1231"/>
                    </a:lnTo>
                    <a:lnTo>
                      <a:pt x="589" y="1224"/>
                    </a:lnTo>
                    <a:lnTo>
                      <a:pt x="585" y="1220"/>
                    </a:lnTo>
                    <a:lnTo>
                      <a:pt x="582" y="1215"/>
                    </a:lnTo>
                    <a:lnTo>
                      <a:pt x="577" y="1208"/>
                    </a:lnTo>
                    <a:lnTo>
                      <a:pt x="573" y="1200"/>
                    </a:lnTo>
                    <a:lnTo>
                      <a:pt x="570" y="1191"/>
                    </a:lnTo>
                    <a:lnTo>
                      <a:pt x="567" y="1182"/>
                    </a:lnTo>
                    <a:lnTo>
                      <a:pt x="566" y="1174"/>
                    </a:lnTo>
                    <a:lnTo>
                      <a:pt x="565" y="1165"/>
                    </a:lnTo>
                    <a:lnTo>
                      <a:pt x="565" y="1147"/>
                    </a:lnTo>
                    <a:lnTo>
                      <a:pt x="567" y="1129"/>
                    </a:lnTo>
                    <a:lnTo>
                      <a:pt x="570" y="1110"/>
                    </a:lnTo>
                    <a:lnTo>
                      <a:pt x="572" y="1091"/>
                    </a:lnTo>
                    <a:lnTo>
                      <a:pt x="573" y="1072"/>
                    </a:lnTo>
                    <a:lnTo>
                      <a:pt x="573" y="1063"/>
                    </a:lnTo>
                    <a:lnTo>
                      <a:pt x="573" y="1053"/>
                    </a:lnTo>
                    <a:lnTo>
                      <a:pt x="572" y="1034"/>
                    </a:lnTo>
                    <a:lnTo>
                      <a:pt x="570" y="1026"/>
                    </a:lnTo>
                    <a:lnTo>
                      <a:pt x="567" y="1016"/>
                    </a:lnTo>
                    <a:lnTo>
                      <a:pt x="563" y="1008"/>
                    </a:lnTo>
                    <a:lnTo>
                      <a:pt x="559" y="998"/>
                    </a:lnTo>
                    <a:lnTo>
                      <a:pt x="552" y="989"/>
                    </a:lnTo>
                    <a:lnTo>
                      <a:pt x="545" y="981"/>
                    </a:lnTo>
                    <a:lnTo>
                      <a:pt x="538" y="972"/>
                    </a:lnTo>
                    <a:lnTo>
                      <a:pt x="528" y="964"/>
                    </a:lnTo>
                    <a:lnTo>
                      <a:pt x="516" y="957"/>
                    </a:lnTo>
                    <a:lnTo>
                      <a:pt x="505" y="951"/>
                    </a:lnTo>
                    <a:lnTo>
                      <a:pt x="482" y="940"/>
                    </a:lnTo>
                    <a:lnTo>
                      <a:pt x="458" y="931"/>
                    </a:lnTo>
                    <a:lnTo>
                      <a:pt x="435" y="922"/>
                    </a:lnTo>
                    <a:lnTo>
                      <a:pt x="412" y="916"/>
                    </a:lnTo>
                    <a:lnTo>
                      <a:pt x="387" y="910"/>
                    </a:lnTo>
                    <a:lnTo>
                      <a:pt x="363" y="907"/>
                    </a:lnTo>
                    <a:lnTo>
                      <a:pt x="340" y="905"/>
                    </a:lnTo>
                    <a:lnTo>
                      <a:pt x="315" y="904"/>
                    </a:lnTo>
                    <a:lnTo>
                      <a:pt x="291" y="905"/>
                    </a:lnTo>
                    <a:lnTo>
                      <a:pt x="266" y="907"/>
                    </a:lnTo>
                    <a:lnTo>
                      <a:pt x="242" y="912"/>
                    </a:lnTo>
                    <a:lnTo>
                      <a:pt x="217" y="917"/>
                    </a:lnTo>
                    <a:lnTo>
                      <a:pt x="205" y="921"/>
                    </a:lnTo>
                    <a:lnTo>
                      <a:pt x="193" y="924"/>
                    </a:lnTo>
                    <a:lnTo>
                      <a:pt x="181" y="928"/>
                    </a:lnTo>
                    <a:lnTo>
                      <a:pt x="169" y="933"/>
                    </a:lnTo>
                    <a:lnTo>
                      <a:pt x="145" y="943"/>
                    </a:lnTo>
                    <a:lnTo>
                      <a:pt x="127" y="950"/>
                    </a:lnTo>
                    <a:lnTo>
                      <a:pt x="109" y="959"/>
                    </a:lnTo>
                    <a:lnTo>
                      <a:pt x="72" y="972"/>
                    </a:lnTo>
                    <a:lnTo>
                      <a:pt x="54" y="979"/>
                    </a:lnTo>
                    <a:lnTo>
                      <a:pt x="35" y="988"/>
                    </a:lnTo>
                    <a:lnTo>
                      <a:pt x="18" y="997"/>
                    </a:lnTo>
                    <a:lnTo>
                      <a:pt x="0" y="1005"/>
                    </a:lnTo>
                    <a:lnTo>
                      <a:pt x="24" y="1023"/>
                    </a:lnTo>
                    <a:lnTo>
                      <a:pt x="49" y="1041"/>
                    </a:lnTo>
                    <a:lnTo>
                      <a:pt x="96" y="1075"/>
                    </a:lnTo>
                    <a:lnTo>
                      <a:pt x="145" y="1108"/>
                    </a:lnTo>
                    <a:lnTo>
                      <a:pt x="194" y="1141"/>
                    </a:lnTo>
                    <a:lnTo>
                      <a:pt x="244" y="1173"/>
                    </a:lnTo>
                    <a:lnTo>
                      <a:pt x="269" y="1189"/>
                    </a:lnTo>
                    <a:lnTo>
                      <a:pt x="294" y="1204"/>
                    </a:lnTo>
                    <a:lnTo>
                      <a:pt x="345" y="1235"/>
                    </a:lnTo>
                    <a:lnTo>
                      <a:pt x="396" y="1264"/>
                    </a:lnTo>
                    <a:lnTo>
                      <a:pt x="447" y="1292"/>
                    </a:lnTo>
                    <a:lnTo>
                      <a:pt x="500" y="1321"/>
                    </a:lnTo>
                    <a:lnTo>
                      <a:pt x="552" y="1349"/>
                    </a:lnTo>
                    <a:lnTo>
                      <a:pt x="605" y="1374"/>
                    </a:lnTo>
                    <a:lnTo>
                      <a:pt x="659" y="1400"/>
                    </a:lnTo>
                    <a:lnTo>
                      <a:pt x="713" y="1425"/>
                    </a:lnTo>
                    <a:lnTo>
                      <a:pt x="766" y="1448"/>
                    </a:lnTo>
                    <a:lnTo>
                      <a:pt x="821" y="1470"/>
                    </a:lnTo>
                    <a:lnTo>
                      <a:pt x="874" y="1492"/>
                    </a:lnTo>
                    <a:lnTo>
                      <a:pt x="912" y="1508"/>
                    </a:lnTo>
                    <a:lnTo>
                      <a:pt x="951" y="1526"/>
                    </a:lnTo>
                    <a:lnTo>
                      <a:pt x="988" y="1543"/>
                    </a:lnTo>
                    <a:lnTo>
                      <a:pt x="1003" y="1552"/>
                    </a:lnTo>
                    <a:lnTo>
                      <a:pt x="1016" y="1559"/>
                    </a:lnTo>
                    <a:lnTo>
                      <a:pt x="1025" y="1565"/>
                    </a:lnTo>
                    <a:lnTo>
                      <a:pt x="1030" y="1570"/>
                    </a:lnTo>
                    <a:lnTo>
                      <a:pt x="1032" y="1571"/>
                    </a:lnTo>
                    <a:lnTo>
                      <a:pt x="1032" y="1572"/>
                    </a:lnTo>
                    <a:lnTo>
                      <a:pt x="1030" y="1574"/>
                    </a:lnTo>
                    <a:lnTo>
                      <a:pt x="1028" y="1575"/>
                    </a:lnTo>
                    <a:lnTo>
                      <a:pt x="1013" y="1575"/>
                    </a:lnTo>
                    <a:lnTo>
                      <a:pt x="1000" y="1574"/>
                    </a:lnTo>
                    <a:lnTo>
                      <a:pt x="986" y="1572"/>
                    </a:lnTo>
                    <a:lnTo>
                      <a:pt x="973" y="1570"/>
                    </a:lnTo>
                    <a:lnTo>
                      <a:pt x="945" y="1566"/>
                    </a:lnTo>
                    <a:lnTo>
                      <a:pt x="918" y="1560"/>
                    </a:lnTo>
                    <a:lnTo>
                      <a:pt x="892" y="1554"/>
                    </a:lnTo>
                    <a:lnTo>
                      <a:pt x="865" y="1546"/>
                    </a:lnTo>
                    <a:lnTo>
                      <a:pt x="838" y="1538"/>
                    </a:lnTo>
                    <a:lnTo>
                      <a:pt x="813" y="1530"/>
                    </a:lnTo>
                    <a:lnTo>
                      <a:pt x="760" y="1513"/>
                    </a:lnTo>
                    <a:lnTo>
                      <a:pt x="733" y="1504"/>
                    </a:lnTo>
                    <a:lnTo>
                      <a:pt x="708" y="1495"/>
                    </a:lnTo>
                    <a:lnTo>
                      <a:pt x="681" y="1489"/>
                    </a:lnTo>
                    <a:lnTo>
                      <a:pt x="654" y="1482"/>
                    </a:lnTo>
                    <a:lnTo>
                      <a:pt x="627" y="1477"/>
                    </a:lnTo>
                    <a:lnTo>
                      <a:pt x="599" y="1473"/>
                    </a:lnTo>
                    <a:lnTo>
                      <a:pt x="596" y="1475"/>
                    </a:lnTo>
                    <a:lnTo>
                      <a:pt x="594" y="1476"/>
                    </a:lnTo>
                    <a:lnTo>
                      <a:pt x="595" y="1477"/>
                    </a:lnTo>
                    <a:lnTo>
                      <a:pt x="596" y="1480"/>
                    </a:lnTo>
                    <a:lnTo>
                      <a:pt x="600" y="1482"/>
                    </a:lnTo>
                    <a:lnTo>
                      <a:pt x="605" y="1486"/>
                    </a:lnTo>
                    <a:lnTo>
                      <a:pt x="618" y="1494"/>
                    </a:lnTo>
                    <a:lnTo>
                      <a:pt x="636" y="1503"/>
                    </a:lnTo>
                    <a:lnTo>
                      <a:pt x="658" y="1514"/>
                    </a:lnTo>
                    <a:lnTo>
                      <a:pt x="708" y="1537"/>
                    </a:lnTo>
                    <a:lnTo>
                      <a:pt x="763" y="1561"/>
                    </a:lnTo>
                    <a:lnTo>
                      <a:pt x="816" y="1584"/>
                    </a:lnTo>
                    <a:lnTo>
                      <a:pt x="862" y="1601"/>
                    </a:lnTo>
                    <a:lnTo>
                      <a:pt x="892" y="1612"/>
                    </a:lnTo>
                    <a:lnTo>
                      <a:pt x="948" y="1628"/>
                    </a:lnTo>
                    <a:lnTo>
                      <a:pt x="1006" y="1642"/>
                    </a:lnTo>
                    <a:lnTo>
                      <a:pt x="1063" y="1654"/>
                    </a:lnTo>
                    <a:lnTo>
                      <a:pt x="1121" y="1665"/>
                    </a:lnTo>
                    <a:lnTo>
                      <a:pt x="1149" y="1670"/>
                    </a:lnTo>
                    <a:lnTo>
                      <a:pt x="1178" y="1674"/>
                    </a:lnTo>
                    <a:lnTo>
                      <a:pt x="1237" y="1681"/>
                    </a:lnTo>
                    <a:lnTo>
                      <a:pt x="1294" y="1684"/>
                    </a:lnTo>
                    <a:lnTo>
                      <a:pt x="1324" y="1685"/>
                    </a:lnTo>
                    <a:lnTo>
                      <a:pt x="1354" y="1685"/>
                    </a:lnTo>
                    <a:lnTo>
                      <a:pt x="1362" y="1684"/>
                    </a:lnTo>
                    <a:lnTo>
                      <a:pt x="1363" y="1683"/>
                    </a:lnTo>
                    <a:lnTo>
                      <a:pt x="1364" y="1681"/>
                    </a:lnTo>
                    <a:lnTo>
                      <a:pt x="1363" y="1679"/>
                    </a:lnTo>
                    <a:lnTo>
                      <a:pt x="1358" y="1676"/>
                    </a:lnTo>
                    <a:lnTo>
                      <a:pt x="1351" y="1674"/>
                    </a:lnTo>
                    <a:lnTo>
                      <a:pt x="1342" y="1670"/>
                    </a:lnTo>
                    <a:lnTo>
                      <a:pt x="1320" y="1663"/>
                    </a:lnTo>
                    <a:lnTo>
                      <a:pt x="1298" y="1654"/>
                    </a:lnTo>
                    <a:lnTo>
                      <a:pt x="1290" y="1651"/>
                    </a:lnTo>
                    <a:lnTo>
                      <a:pt x="1282" y="1648"/>
                    </a:lnTo>
                    <a:lnTo>
                      <a:pt x="1280" y="1646"/>
                    </a:lnTo>
                    <a:lnTo>
                      <a:pt x="1279" y="1645"/>
                    </a:lnTo>
                    <a:lnTo>
                      <a:pt x="1277" y="1643"/>
                    </a:lnTo>
                    <a:lnTo>
                      <a:pt x="1277" y="1642"/>
                    </a:lnTo>
                    <a:lnTo>
                      <a:pt x="1279" y="1641"/>
                    </a:lnTo>
                    <a:lnTo>
                      <a:pt x="1281" y="1640"/>
                    </a:lnTo>
                    <a:lnTo>
                      <a:pt x="1285" y="1639"/>
                    </a:lnTo>
                    <a:lnTo>
                      <a:pt x="1290" y="1639"/>
                    </a:lnTo>
                    <a:lnTo>
                      <a:pt x="1331" y="1637"/>
                    </a:lnTo>
                    <a:lnTo>
                      <a:pt x="1371" y="1639"/>
                    </a:lnTo>
                    <a:lnTo>
                      <a:pt x="1413" y="1641"/>
                    </a:lnTo>
                    <a:lnTo>
                      <a:pt x="1453" y="1645"/>
                    </a:lnTo>
                    <a:lnTo>
                      <a:pt x="1495" y="1648"/>
                    </a:lnTo>
                    <a:lnTo>
                      <a:pt x="1535" y="1653"/>
                    </a:lnTo>
                    <a:lnTo>
                      <a:pt x="1577" y="1657"/>
                    </a:lnTo>
                    <a:lnTo>
                      <a:pt x="1617" y="1662"/>
                    </a:lnTo>
                    <a:lnTo>
                      <a:pt x="1671" y="1665"/>
                    </a:lnTo>
                    <a:lnTo>
                      <a:pt x="1698" y="1668"/>
                    </a:lnTo>
                    <a:lnTo>
                      <a:pt x="1725" y="1669"/>
                    </a:lnTo>
                    <a:close/>
                  </a:path>
                </a:pathLst>
              </a:custGeom>
              <a:solidFill>
                <a:srgbClr val="8cc0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491000" y="5716440"/>
                <a:ext cx="192240" cy="50400"/>
              </a:xfrm>
              <a:custGeom>
                <a:avLst/>
                <a:gdLst/>
                <a:ahLst/>
                <a:rect l="l" t="t" r="r" b="b"/>
                <a:pathLst>
                  <a:path w="241" h="63">
                    <a:moveTo>
                      <a:pt x="0" y="49"/>
                    </a:moveTo>
                    <a:lnTo>
                      <a:pt x="120" y="27"/>
                    </a:lnTo>
                    <a:lnTo>
                      <a:pt x="239" y="0"/>
                    </a:lnTo>
                    <a:lnTo>
                      <a:pt x="241" y="15"/>
                    </a:lnTo>
                    <a:lnTo>
                      <a:pt x="123" y="41"/>
                    </a:lnTo>
                    <a:lnTo>
                      <a:pt x="3" y="63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680000" y="5653080"/>
                <a:ext cx="272880" cy="75600"/>
              </a:xfrm>
              <a:custGeom>
                <a:avLst/>
                <a:gdLst/>
                <a:ahLst/>
                <a:rect l="l" t="t" r="r" b="b"/>
                <a:pathLst>
                  <a:path w="342" h="96">
                    <a:moveTo>
                      <a:pt x="0" y="81"/>
                    </a:moveTo>
                    <a:lnTo>
                      <a:pt x="169" y="33"/>
                    </a:lnTo>
                    <a:lnTo>
                      <a:pt x="254" y="12"/>
                    </a:lnTo>
                    <a:lnTo>
                      <a:pt x="298" y="5"/>
                    </a:lnTo>
                    <a:lnTo>
                      <a:pt x="341" y="0"/>
                    </a:lnTo>
                    <a:lnTo>
                      <a:pt x="342" y="15"/>
                    </a:lnTo>
                    <a:lnTo>
                      <a:pt x="299" y="20"/>
                    </a:lnTo>
                    <a:lnTo>
                      <a:pt x="257" y="27"/>
                    </a:lnTo>
                    <a:lnTo>
                      <a:pt x="171" y="48"/>
                    </a:lnTo>
                    <a:lnTo>
                      <a:pt x="2" y="96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680000" y="5716440"/>
                <a:ext cx="3240" cy="1224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2" y="15"/>
                    </a:moveTo>
                    <a:lnTo>
                      <a:pt x="0" y="0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849920" y="5654520"/>
                <a:ext cx="108000" cy="66240"/>
              </a:xfrm>
              <a:custGeom>
                <a:avLst/>
                <a:gdLst/>
                <a:ahLst/>
                <a:rect l="l" t="t" r="r" b="b"/>
                <a:pathLst>
                  <a:path w="136" h="86">
                    <a:moveTo>
                      <a:pt x="130" y="0"/>
                    </a:moveTo>
                    <a:lnTo>
                      <a:pt x="136" y="5"/>
                    </a:lnTo>
                    <a:lnTo>
                      <a:pt x="134" y="16"/>
                    </a:lnTo>
                    <a:lnTo>
                      <a:pt x="121" y="24"/>
                    </a:lnTo>
                    <a:lnTo>
                      <a:pt x="75" y="49"/>
                    </a:lnTo>
                    <a:lnTo>
                      <a:pt x="28" y="74"/>
                    </a:lnTo>
                    <a:lnTo>
                      <a:pt x="14" y="82"/>
                    </a:lnTo>
                    <a:lnTo>
                      <a:pt x="13" y="76"/>
                    </a:lnTo>
                    <a:lnTo>
                      <a:pt x="12" y="74"/>
                    </a:lnTo>
                    <a:lnTo>
                      <a:pt x="3" y="86"/>
                    </a:lnTo>
                    <a:lnTo>
                      <a:pt x="0" y="82"/>
                    </a:lnTo>
                    <a:lnTo>
                      <a:pt x="4" y="71"/>
                    </a:lnTo>
                    <a:lnTo>
                      <a:pt x="19" y="62"/>
                    </a:lnTo>
                    <a:lnTo>
                      <a:pt x="67" y="37"/>
                    </a:lnTo>
                    <a:lnTo>
                      <a:pt x="112" y="11"/>
                    </a:lnTo>
                    <a:lnTo>
                      <a:pt x="124" y="5"/>
                    </a:lnTo>
                    <a:lnTo>
                      <a:pt x="123" y="11"/>
                    </a:lnTo>
                    <a:lnTo>
                      <a:pt x="124" y="14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948200" y="565308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0"/>
                    </a:moveTo>
                    <a:lnTo>
                      <a:pt x="6" y="1"/>
                    </a:lnTo>
                    <a:lnTo>
                      <a:pt x="0" y="15"/>
                    </a:lnTo>
                    <a:lnTo>
                      <a:pt x="5" y="1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856040" y="5703840"/>
                <a:ext cx="50760" cy="18720"/>
              </a:xfrm>
              <a:custGeom>
                <a:avLst/>
                <a:gdLst/>
                <a:ahLst/>
                <a:rect l="l" t="t" r="r" b="b"/>
                <a:pathLst>
                  <a:path w="65" h="23">
                    <a:moveTo>
                      <a:pt x="0" y="9"/>
                    </a:moveTo>
                    <a:lnTo>
                      <a:pt x="32" y="4"/>
                    </a:lnTo>
                    <a:lnTo>
                      <a:pt x="64" y="0"/>
                    </a:lnTo>
                    <a:lnTo>
                      <a:pt x="65" y="15"/>
                    </a:lnTo>
                    <a:lnTo>
                      <a:pt x="33" y="18"/>
                    </a:lnTo>
                    <a:lnTo>
                      <a:pt x="1" y="2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853160" y="571176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13"/>
                    </a:moveTo>
                    <a:lnTo>
                      <a:pt x="3" y="14"/>
                    </a:lnTo>
                    <a:lnTo>
                      <a:pt x="6" y="14"/>
                    </a:lnTo>
                    <a:lnTo>
                      <a:pt x="5" y="0"/>
                    </a:lnTo>
                    <a:lnTo>
                      <a:pt x="9" y="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906800" y="5640120"/>
                <a:ext cx="212760" cy="75960"/>
              </a:xfrm>
              <a:custGeom>
                <a:avLst/>
                <a:gdLst/>
                <a:ahLst/>
                <a:rect l="l" t="t" r="r" b="b"/>
                <a:pathLst>
                  <a:path w="269" h="96">
                    <a:moveTo>
                      <a:pt x="0" y="81"/>
                    </a:moveTo>
                    <a:lnTo>
                      <a:pt x="68" y="70"/>
                    </a:lnTo>
                    <a:lnTo>
                      <a:pt x="102" y="61"/>
                    </a:lnTo>
                    <a:lnTo>
                      <a:pt x="134" y="53"/>
                    </a:lnTo>
                    <a:lnTo>
                      <a:pt x="198" y="28"/>
                    </a:lnTo>
                    <a:lnTo>
                      <a:pt x="262" y="0"/>
                    </a:lnTo>
                    <a:lnTo>
                      <a:pt x="269" y="14"/>
                    </a:lnTo>
                    <a:lnTo>
                      <a:pt x="204" y="42"/>
                    </a:lnTo>
                    <a:lnTo>
                      <a:pt x="139" y="66"/>
                    </a:lnTo>
                    <a:lnTo>
                      <a:pt x="105" y="76"/>
                    </a:lnTo>
                    <a:lnTo>
                      <a:pt x="71" y="85"/>
                    </a:lnTo>
                    <a:lnTo>
                      <a:pt x="1" y="96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906800" y="5703840"/>
                <a:ext cx="1800" cy="1224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1" y="15"/>
                    </a:moveTo>
                    <a:lnTo>
                      <a:pt x="0" y="0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114880" y="5586120"/>
                <a:ext cx="123840" cy="64800"/>
              </a:xfrm>
              <a:custGeom>
                <a:avLst/>
                <a:gdLst/>
                <a:ahLst/>
                <a:rect l="l" t="t" r="r" b="b"/>
                <a:pathLst>
                  <a:path w="156" h="81">
                    <a:moveTo>
                      <a:pt x="0" y="67"/>
                    </a:moveTo>
                    <a:lnTo>
                      <a:pt x="150" y="0"/>
                    </a:lnTo>
                    <a:lnTo>
                      <a:pt x="156" y="13"/>
                    </a:lnTo>
                    <a:lnTo>
                      <a:pt x="7" y="81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114880" y="564012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0"/>
                    </a:moveTo>
                    <a:lnTo>
                      <a:pt x="7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234040" y="5435640"/>
                <a:ext cx="239760" cy="161280"/>
              </a:xfrm>
              <a:custGeom>
                <a:avLst/>
                <a:gdLst/>
                <a:ahLst/>
                <a:rect l="l" t="t" r="r" b="b"/>
                <a:pathLst>
                  <a:path w="303" h="204">
                    <a:moveTo>
                      <a:pt x="0" y="191"/>
                    </a:moveTo>
                    <a:lnTo>
                      <a:pt x="29" y="174"/>
                    </a:lnTo>
                    <a:lnTo>
                      <a:pt x="71" y="149"/>
                    </a:lnTo>
                    <a:lnTo>
                      <a:pt x="170" y="85"/>
                    </a:lnTo>
                    <a:lnTo>
                      <a:pt x="294" y="0"/>
                    </a:lnTo>
                    <a:lnTo>
                      <a:pt x="303" y="12"/>
                    </a:lnTo>
                    <a:lnTo>
                      <a:pt x="178" y="97"/>
                    </a:lnTo>
                    <a:lnTo>
                      <a:pt x="79" y="162"/>
                    </a:lnTo>
                    <a:lnTo>
                      <a:pt x="38" y="186"/>
                    </a:lnTo>
                    <a:lnTo>
                      <a:pt x="6" y="204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234040" y="558612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3"/>
                    </a:moveTo>
                    <a:lnTo>
                      <a:pt x="0" y="0"/>
                    </a:lnTo>
                    <a:lnTo>
                      <a:pt x="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170320" y="5435640"/>
                <a:ext cx="303480" cy="136080"/>
              </a:xfrm>
              <a:custGeom>
                <a:avLst/>
                <a:gdLst/>
                <a:ahLst/>
                <a:rect l="l" t="t" r="r" b="b"/>
                <a:pathLst>
                  <a:path w="382" h="173">
                    <a:moveTo>
                      <a:pt x="382" y="14"/>
                    </a:moveTo>
                    <a:lnTo>
                      <a:pt x="356" y="19"/>
                    </a:lnTo>
                    <a:lnTo>
                      <a:pt x="331" y="27"/>
                    </a:lnTo>
                    <a:lnTo>
                      <a:pt x="286" y="45"/>
                    </a:lnTo>
                    <a:lnTo>
                      <a:pt x="240" y="69"/>
                    </a:lnTo>
                    <a:lnTo>
                      <a:pt x="196" y="94"/>
                    </a:lnTo>
                    <a:lnTo>
                      <a:pt x="151" y="119"/>
                    </a:lnTo>
                    <a:lnTo>
                      <a:pt x="127" y="131"/>
                    </a:lnTo>
                    <a:lnTo>
                      <a:pt x="103" y="143"/>
                    </a:lnTo>
                    <a:lnTo>
                      <a:pt x="55" y="162"/>
                    </a:lnTo>
                    <a:lnTo>
                      <a:pt x="30" y="168"/>
                    </a:lnTo>
                    <a:lnTo>
                      <a:pt x="4" y="173"/>
                    </a:lnTo>
                    <a:lnTo>
                      <a:pt x="0" y="159"/>
                    </a:lnTo>
                    <a:lnTo>
                      <a:pt x="26" y="154"/>
                    </a:lnTo>
                    <a:lnTo>
                      <a:pt x="49" y="148"/>
                    </a:lnTo>
                    <a:lnTo>
                      <a:pt x="97" y="130"/>
                    </a:lnTo>
                    <a:lnTo>
                      <a:pt x="120" y="119"/>
                    </a:lnTo>
                    <a:lnTo>
                      <a:pt x="142" y="107"/>
                    </a:lnTo>
                    <a:lnTo>
                      <a:pt x="187" y="82"/>
                    </a:lnTo>
                    <a:lnTo>
                      <a:pt x="231" y="56"/>
                    </a:lnTo>
                    <a:lnTo>
                      <a:pt x="279" y="33"/>
                    </a:lnTo>
                    <a:lnTo>
                      <a:pt x="325" y="14"/>
                    </a:lnTo>
                    <a:lnTo>
                      <a:pt x="351" y="5"/>
                    </a:lnTo>
                    <a:lnTo>
                      <a:pt x="377" y="0"/>
                    </a:lnTo>
                    <a:lnTo>
                      <a:pt x="38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467320" y="5435640"/>
                <a:ext cx="6480" cy="104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12"/>
                    </a:moveTo>
                    <a:lnTo>
                      <a:pt x="3" y="0"/>
                    </a:lnTo>
                    <a:lnTo>
                      <a:pt x="8" y="14"/>
                    </a:lnTo>
                    <a:lnTo>
                      <a:pt x="0" y="0"/>
                    </a:lnTo>
                    <a:lnTo>
                      <a:pt x="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149800" y="5437080"/>
                <a:ext cx="212760" cy="134640"/>
              </a:xfrm>
              <a:custGeom>
                <a:avLst/>
                <a:gdLst/>
                <a:ahLst/>
                <a:rect l="l" t="t" r="r" b="b"/>
                <a:pathLst>
                  <a:path w="268" h="172">
                    <a:moveTo>
                      <a:pt x="26" y="172"/>
                    </a:moveTo>
                    <a:lnTo>
                      <a:pt x="18" y="170"/>
                    </a:lnTo>
                    <a:lnTo>
                      <a:pt x="11" y="167"/>
                    </a:lnTo>
                    <a:lnTo>
                      <a:pt x="2" y="159"/>
                    </a:lnTo>
                    <a:lnTo>
                      <a:pt x="0" y="147"/>
                    </a:lnTo>
                    <a:lnTo>
                      <a:pt x="9" y="136"/>
                    </a:lnTo>
                    <a:lnTo>
                      <a:pt x="36" y="115"/>
                    </a:lnTo>
                    <a:lnTo>
                      <a:pt x="78" y="93"/>
                    </a:lnTo>
                    <a:lnTo>
                      <a:pt x="177" y="43"/>
                    </a:lnTo>
                    <a:lnTo>
                      <a:pt x="224" y="21"/>
                    </a:lnTo>
                    <a:lnTo>
                      <a:pt x="262" y="0"/>
                    </a:lnTo>
                    <a:lnTo>
                      <a:pt x="268" y="14"/>
                    </a:lnTo>
                    <a:lnTo>
                      <a:pt x="230" y="35"/>
                    </a:lnTo>
                    <a:lnTo>
                      <a:pt x="183" y="57"/>
                    </a:lnTo>
                    <a:lnTo>
                      <a:pt x="84" y="107"/>
                    </a:lnTo>
                    <a:lnTo>
                      <a:pt x="44" y="128"/>
                    </a:lnTo>
                    <a:lnTo>
                      <a:pt x="19" y="147"/>
                    </a:lnTo>
                    <a:lnTo>
                      <a:pt x="14" y="153"/>
                    </a:lnTo>
                    <a:lnTo>
                      <a:pt x="14" y="152"/>
                    </a:lnTo>
                    <a:lnTo>
                      <a:pt x="19" y="155"/>
                    </a:lnTo>
                    <a:lnTo>
                      <a:pt x="21" y="157"/>
                    </a:lnTo>
                    <a:lnTo>
                      <a:pt x="30" y="158"/>
                    </a:lnTo>
                    <a:lnTo>
                      <a:pt x="26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170320" y="556236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4" h="14">
                    <a:moveTo>
                      <a:pt x="4" y="14"/>
                    </a:moveTo>
                    <a:lnTo>
                      <a:pt x="3" y="14"/>
                    </a:lnTo>
                    <a:lnTo>
                      <a:pt x="0" y="1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356080" y="5275080"/>
                <a:ext cx="247680" cy="171000"/>
              </a:xfrm>
              <a:custGeom>
                <a:avLst/>
                <a:gdLst/>
                <a:ahLst/>
                <a:rect l="l" t="t" r="r" b="b"/>
                <a:pathLst>
                  <a:path w="312" h="217">
                    <a:moveTo>
                      <a:pt x="0" y="204"/>
                    </a:moveTo>
                    <a:lnTo>
                      <a:pt x="77" y="157"/>
                    </a:lnTo>
                    <a:lnTo>
                      <a:pt x="154" y="107"/>
                    </a:lnTo>
                    <a:lnTo>
                      <a:pt x="230" y="54"/>
                    </a:lnTo>
                    <a:lnTo>
                      <a:pt x="303" y="0"/>
                    </a:lnTo>
                    <a:lnTo>
                      <a:pt x="312" y="12"/>
                    </a:lnTo>
                    <a:lnTo>
                      <a:pt x="238" y="66"/>
                    </a:lnTo>
                    <a:lnTo>
                      <a:pt x="162" y="119"/>
                    </a:lnTo>
                    <a:lnTo>
                      <a:pt x="85" y="169"/>
                    </a:lnTo>
                    <a:lnTo>
                      <a:pt x="8" y="217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356080" y="54370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7" y="14"/>
                    </a:moveTo>
                    <a:lnTo>
                      <a:pt x="8" y="1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556240" y="5262480"/>
                <a:ext cx="47520" cy="21960"/>
              </a:xfrm>
              <a:custGeom>
                <a:avLst/>
                <a:gdLst/>
                <a:ahLst/>
                <a:rect l="l" t="t" r="r" b="b"/>
                <a:pathLst>
                  <a:path w="58" h="28">
                    <a:moveTo>
                      <a:pt x="53" y="28"/>
                    </a:moveTo>
                    <a:lnTo>
                      <a:pt x="0" y="13"/>
                    </a:lnTo>
                    <a:lnTo>
                      <a:pt x="5" y="0"/>
                    </a:lnTo>
                    <a:lnTo>
                      <a:pt x="58" y="14"/>
                    </a:lnTo>
                    <a:lnTo>
                      <a:pt x="5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597640" y="527508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9" y="12"/>
                    </a:moveTo>
                    <a:lnTo>
                      <a:pt x="21" y="4"/>
                    </a:lnTo>
                    <a:lnTo>
                      <a:pt x="7" y="0"/>
                    </a:lnTo>
                    <a:lnTo>
                      <a:pt x="2" y="14"/>
                    </a:lnTo>
                    <a:lnTo>
                      <a:pt x="0" y="0"/>
                    </a:lnTo>
                    <a:lnTo>
                      <a:pt x="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324400" y="5256000"/>
                <a:ext cx="235080" cy="64800"/>
              </a:xfrm>
              <a:custGeom>
                <a:avLst/>
                <a:gdLst/>
                <a:ahLst/>
                <a:rect l="l" t="t" r="r" b="b"/>
                <a:pathLst>
                  <a:path w="295" h="82">
                    <a:moveTo>
                      <a:pt x="292" y="22"/>
                    </a:moveTo>
                    <a:lnTo>
                      <a:pt x="255" y="15"/>
                    </a:lnTo>
                    <a:lnTo>
                      <a:pt x="218" y="13"/>
                    </a:lnTo>
                    <a:lnTo>
                      <a:pt x="182" y="16"/>
                    </a:lnTo>
                    <a:lnTo>
                      <a:pt x="146" y="23"/>
                    </a:lnTo>
                    <a:lnTo>
                      <a:pt x="110" y="34"/>
                    </a:lnTo>
                    <a:lnTo>
                      <a:pt x="75" y="46"/>
                    </a:lnTo>
                    <a:lnTo>
                      <a:pt x="41" y="64"/>
                    </a:lnTo>
                    <a:lnTo>
                      <a:pt x="8" y="82"/>
                    </a:lnTo>
                    <a:lnTo>
                      <a:pt x="0" y="70"/>
                    </a:lnTo>
                    <a:lnTo>
                      <a:pt x="33" y="51"/>
                    </a:lnTo>
                    <a:lnTo>
                      <a:pt x="68" y="34"/>
                    </a:lnTo>
                    <a:lnTo>
                      <a:pt x="103" y="21"/>
                    </a:lnTo>
                    <a:lnTo>
                      <a:pt x="141" y="10"/>
                    </a:lnTo>
                    <a:lnTo>
                      <a:pt x="178" y="2"/>
                    </a:lnTo>
                    <a:lnTo>
                      <a:pt x="218" y="0"/>
                    </a:lnTo>
                    <a:lnTo>
                      <a:pt x="257" y="1"/>
                    </a:lnTo>
                    <a:lnTo>
                      <a:pt x="295" y="9"/>
                    </a:lnTo>
                    <a:lnTo>
                      <a:pt x="29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556240" y="526248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0"/>
                    </a:moveTo>
                    <a:lnTo>
                      <a:pt x="3" y="0"/>
                    </a:lnTo>
                    <a:lnTo>
                      <a:pt x="0" y="1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232240" y="5311800"/>
                <a:ext cx="100080" cy="167760"/>
              </a:xfrm>
              <a:custGeom>
                <a:avLst/>
                <a:gdLst/>
                <a:ahLst/>
                <a:rect l="l" t="t" r="r" b="b"/>
                <a:pathLst>
                  <a:path w="126" h="211">
                    <a:moveTo>
                      <a:pt x="126" y="11"/>
                    </a:moveTo>
                    <a:lnTo>
                      <a:pt x="114" y="22"/>
                    </a:lnTo>
                    <a:lnTo>
                      <a:pt x="104" y="33"/>
                    </a:lnTo>
                    <a:lnTo>
                      <a:pt x="88" y="57"/>
                    </a:lnTo>
                    <a:lnTo>
                      <a:pt x="79" y="83"/>
                    </a:lnTo>
                    <a:lnTo>
                      <a:pt x="73" y="109"/>
                    </a:lnTo>
                    <a:lnTo>
                      <a:pt x="64" y="137"/>
                    </a:lnTo>
                    <a:lnTo>
                      <a:pt x="53" y="164"/>
                    </a:lnTo>
                    <a:lnTo>
                      <a:pt x="46" y="177"/>
                    </a:lnTo>
                    <a:lnTo>
                      <a:pt x="36" y="189"/>
                    </a:lnTo>
                    <a:lnTo>
                      <a:pt x="24" y="200"/>
                    </a:lnTo>
                    <a:lnTo>
                      <a:pt x="10" y="211"/>
                    </a:lnTo>
                    <a:lnTo>
                      <a:pt x="0" y="200"/>
                    </a:lnTo>
                    <a:lnTo>
                      <a:pt x="14" y="189"/>
                    </a:lnTo>
                    <a:lnTo>
                      <a:pt x="25" y="180"/>
                    </a:lnTo>
                    <a:lnTo>
                      <a:pt x="33" y="169"/>
                    </a:lnTo>
                    <a:lnTo>
                      <a:pt x="40" y="158"/>
                    </a:lnTo>
                    <a:lnTo>
                      <a:pt x="51" y="132"/>
                    </a:lnTo>
                    <a:lnTo>
                      <a:pt x="58" y="106"/>
                    </a:lnTo>
                    <a:lnTo>
                      <a:pt x="65" y="78"/>
                    </a:lnTo>
                    <a:lnTo>
                      <a:pt x="75" y="51"/>
                    </a:lnTo>
                    <a:lnTo>
                      <a:pt x="92" y="24"/>
                    </a:lnTo>
                    <a:lnTo>
                      <a:pt x="104" y="11"/>
                    </a:lnTo>
                    <a:lnTo>
                      <a:pt x="117" y="0"/>
                    </a:lnTo>
                    <a:lnTo>
                      <a:pt x="1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324400" y="531180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0" y="0"/>
                    </a:moveTo>
                    <a:lnTo>
                      <a:pt x="0" y="1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807080" y="5470560"/>
                <a:ext cx="431640" cy="85320"/>
              </a:xfrm>
              <a:custGeom>
                <a:avLst/>
                <a:gdLst/>
                <a:ahLst/>
                <a:rect l="l" t="t" r="r" b="b"/>
                <a:pathLst>
                  <a:path w="544" h="108">
                    <a:moveTo>
                      <a:pt x="544" y="12"/>
                    </a:moveTo>
                    <a:lnTo>
                      <a:pt x="478" y="43"/>
                    </a:lnTo>
                    <a:lnTo>
                      <a:pt x="413" y="68"/>
                    </a:lnTo>
                    <a:lnTo>
                      <a:pt x="347" y="86"/>
                    </a:lnTo>
                    <a:lnTo>
                      <a:pt x="313" y="93"/>
                    </a:lnTo>
                    <a:lnTo>
                      <a:pt x="279" y="98"/>
                    </a:lnTo>
                    <a:lnTo>
                      <a:pt x="244" y="103"/>
                    </a:lnTo>
                    <a:lnTo>
                      <a:pt x="210" y="105"/>
                    </a:lnTo>
                    <a:lnTo>
                      <a:pt x="175" y="107"/>
                    </a:lnTo>
                    <a:lnTo>
                      <a:pt x="141" y="108"/>
                    </a:lnTo>
                    <a:lnTo>
                      <a:pt x="71" y="103"/>
                    </a:lnTo>
                    <a:lnTo>
                      <a:pt x="0" y="93"/>
                    </a:lnTo>
                    <a:lnTo>
                      <a:pt x="2" y="80"/>
                    </a:lnTo>
                    <a:lnTo>
                      <a:pt x="73" y="90"/>
                    </a:lnTo>
                    <a:lnTo>
                      <a:pt x="141" y="94"/>
                    </a:lnTo>
                    <a:lnTo>
                      <a:pt x="175" y="93"/>
                    </a:lnTo>
                    <a:lnTo>
                      <a:pt x="208" y="92"/>
                    </a:lnTo>
                    <a:lnTo>
                      <a:pt x="242" y="90"/>
                    </a:lnTo>
                    <a:lnTo>
                      <a:pt x="275" y="85"/>
                    </a:lnTo>
                    <a:lnTo>
                      <a:pt x="309" y="80"/>
                    </a:lnTo>
                    <a:lnTo>
                      <a:pt x="342" y="72"/>
                    </a:lnTo>
                    <a:lnTo>
                      <a:pt x="407" y="54"/>
                    </a:lnTo>
                    <a:lnTo>
                      <a:pt x="472" y="30"/>
                    </a:lnTo>
                    <a:lnTo>
                      <a:pt x="537" y="0"/>
                    </a:lnTo>
                    <a:lnTo>
                      <a:pt x="54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232240" y="547056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12"/>
                    </a:moveTo>
                    <a:lnTo>
                      <a:pt x="9" y="1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591080" y="5317920"/>
                <a:ext cx="218880" cy="226800"/>
              </a:xfrm>
              <a:custGeom>
                <a:avLst/>
                <a:gdLst/>
                <a:ahLst/>
                <a:rect l="l" t="t" r="r" b="b"/>
                <a:pathLst>
                  <a:path w="276" h="285">
                    <a:moveTo>
                      <a:pt x="273" y="285"/>
                    </a:moveTo>
                    <a:lnTo>
                      <a:pt x="210" y="271"/>
                    </a:lnTo>
                    <a:lnTo>
                      <a:pt x="144" y="249"/>
                    </a:lnTo>
                    <a:lnTo>
                      <a:pt x="86" y="219"/>
                    </a:lnTo>
                    <a:lnTo>
                      <a:pt x="59" y="204"/>
                    </a:lnTo>
                    <a:lnTo>
                      <a:pt x="37" y="187"/>
                    </a:lnTo>
                    <a:lnTo>
                      <a:pt x="18" y="168"/>
                    </a:lnTo>
                    <a:lnTo>
                      <a:pt x="7" y="147"/>
                    </a:lnTo>
                    <a:lnTo>
                      <a:pt x="0" y="125"/>
                    </a:lnTo>
                    <a:lnTo>
                      <a:pt x="0" y="110"/>
                    </a:lnTo>
                    <a:lnTo>
                      <a:pt x="1" y="99"/>
                    </a:lnTo>
                    <a:lnTo>
                      <a:pt x="5" y="87"/>
                    </a:lnTo>
                    <a:lnTo>
                      <a:pt x="12" y="75"/>
                    </a:lnTo>
                    <a:lnTo>
                      <a:pt x="20" y="63"/>
                    </a:lnTo>
                    <a:lnTo>
                      <a:pt x="31" y="50"/>
                    </a:lnTo>
                    <a:lnTo>
                      <a:pt x="58" y="25"/>
                    </a:lnTo>
                    <a:lnTo>
                      <a:pt x="96" y="0"/>
                    </a:lnTo>
                    <a:lnTo>
                      <a:pt x="104" y="13"/>
                    </a:lnTo>
                    <a:lnTo>
                      <a:pt x="66" y="37"/>
                    </a:lnTo>
                    <a:lnTo>
                      <a:pt x="41" y="61"/>
                    </a:lnTo>
                    <a:lnTo>
                      <a:pt x="31" y="72"/>
                    </a:lnTo>
                    <a:lnTo>
                      <a:pt x="25" y="83"/>
                    </a:lnTo>
                    <a:lnTo>
                      <a:pt x="18" y="93"/>
                    </a:lnTo>
                    <a:lnTo>
                      <a:pt x="15" y="104"/>
                    </a:lnTo>
                    <a:lnTo>
                      <a:pt x="14" y="113"/>
                    </a:lnTo>
                    <a:lnTo>
                      <a:pt x="14" y="121"/>
                    </a:lnTo>
                    <a:lnTo>
                      <a:pt x="20" y="141"/>
                    </a:lnTo>
                    <a:lnTo>
                      <a:pt x="29" y="159"/>
                    </a:lnTo>
                    <a:lnTo>
                      <a:pt x="47" y="176"/>
                    </a:lnTo>
                    <a:lnTo>
                      <a:pt x="69" y="193"/>
                    </a:lnTo>
                    <a:lnTo>
                      <a:pt x="93" y="207"/>
                    </a:lnTo>
                    <a:lnTo>
                      <a:pt x="151" y="235"/>
                    </a:lnTo>
                    <a:lnTo>
                      <a:pt x="215" y="257"/>
                    </a:lnTo>
                    <a:lnTo>
                      <a:pt x="276" y="272"/>
                    </a:lnTo>
                    <a:lnTo>
                      <a:pt x="273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807080" y="553392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3" h="13">
                    <a:moveTo>
                      <a:pt x="1" y="13"/>
                    </a:moveTo>
                    <a:lnTo>
                      <a:pt x="0" y="13"/>
                    </a:lnTo>
                    <a:lnTo>
                      <a:pt x="3" y="0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667400" y="5254560"/>
                <a:ext cx="501480" cy="74160"/>
              </a:xfrm>
              <a:custGeom>
                <a:avLst/>
                <a:gdLst/>
                <a:ahLst/>
                <a:rect l="l" t="t" r="r" b="b"/>
                <a:pathLst>
                  <a:path w="633" h="94">
                    <a:moveTo>
                      <a:pt x="0" y="80"/>
                    </a:moveTo>
                    <a:lnTo>
                      <a:pt x="39" y="66"/>
                    </a:lnTo>
                    <a:lnTo>
                      <a:pt x="79" y="55"/>
                    </a:lnTo>
                    <a:lnTo>
                      <a:pt x="120" y="48"/>
                    </a:lnTo>
                    <a:lnTo>
                      <a:pt x="160" y="45"/>
                    </a:lnTo>
                    <a:lnTo>
                      <a:pt x="239" y="44"/>
                    </a:lnTo>
                    <a:lnTo>
                      <a:pt x="319" y="47"/>
                    </a:lnTo>
                    <a:lnTo>
                      <a:pt x="398" y="48"/>
                    </a:lnTo>
                    <a:lnTo>
                      <a:pt x="478" y="45"/>
                    </a:lnTo>
                    <a:lnTo>
                      <a:pt x="516" y="39"/>
                    </a:lnTo>
                    <a:lnTo>
                      <a:pt x="553" y="30"/>
                    </a:lnTo>
                    <a:lnTo>
                      <a:pt x="589" y="18"/>
                    </a:lnTo>
                    <a:lnTo>
                      <a:pt x="627" y="0"/>
                    </a:lnTo>
                    <a:lnTo>
                      <a:pt x="633" y="13"/>
                    </a:lnTo>
                    <a:lnTo>
                      <a:pt x="595" y="31"/>
                    </a:lnTo>
                    <a:lnTo>
                      <a:pt x="556" y="45"/>
                    </a:lnTo>
                    <a:lnTo>
                      <a:pt x="518" y="53"/>
                    </a:lnTo>
                    <a:lnTo>
                      <a:pt x="479" y="59"/>
                    </a:lnTo>
                    <a:lnTo>
                      <a:pt x="398" y="63"/>
                    </a:lnTo>
                    <a:lnTo>
                      <a:pt x="319" y="62"/>
                    </a:lnTo>
                    <a:lnTo>
                      <a:pt x="239" y="58"/>
                    </a:lnTo>
                    <a:lnTo>
                      <a:pt x="160" y="59"/>
                    </a:lnTo>
                    <a:lnTo>
                      <a:pt x="121" y="63"/>
                    </a:lnTo>
                    <a:lnTo>
                      <a:pt x="82" y="69"/>
                    </a:lnTo>
                    <a:lnTo>
                      <a:pt x="44" y="79"/>
                    </a:lnTo>
                    <a:lnTo>
                      <a:pt x="6" y="94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665600" y="531792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0" y="0"/>
                    </a:moveTo>
                    <a:lnTo>
                      <a:pt x="1" y="0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097600" y="5045040"/>
                <a:ext cx="122040" cy="218520"/>
              </a:xfrm>
              <a:custGeom>
                <a:avLst/>
                <a:gdLst/>
                <a:ahLst/>
                <a:rect l="l" t="t" r="r" b="b"/>
                <a:pathLst>
                  <a:path w="156" h="277">
                    <a:moveTo>
                      <a:pt x="85" y="266"/>
                    </a:moveTo>
                    <a:lnTo>
                      <a:pt x="107" y="247"/>
                    </a:lnTo>
                    <a:lnTo>
                      <a:pt x="123" y="228"/>
                    </a:lnTo>
                    <a:lnTo>
                      <a:pt x="134" y="211"/>
                    </a:lnTo>
                    <a:lnTo>
                      <a:pt x="140" y="194"/>
                    </a:lnTo>
                    <a:lnTo>
                      <a:pt x="142" y="177"/>
                    </a:lnTo>
                    <a:lnTo>
                      <a:pt x="142" y="162"/>
                    </a:lnTo>
                    <a:lnTo>
                      <a:pt x="137" y="145"/>
                    </a:lnTo>
                    <a:lnTo>
                      <a:pt x="131" y="130"/>
                    </a:lnTo>
                    <a:lnTo>
                      <a:pt x="107" y="97"/>
                    </a:lnTo>
                    <a:lnTo>
                      <a:pt x="93" y="82"/>
                    </a:lnTo>
                    <a:lnTo>
                      <a:pt x="77" y="68"/>
                    </a:lnTo>
                    <a:lnTo>
                      <a:pt x="39" y="38"/>
                    </a:lnTo>
                    <a:lnTo>
                      <a:pt x="0" y="13"/>
                    </a:lnTo>
                    <a:lnTo>
                      <a:pt x="9" y="0"/>
                    </a:lnTo>
                    <a:lnTo>
                      <a:pt x="49" y="27"/>
                    </a:lnTo>
                    <a:lnTo>
                      <a:pt x="87" y="57"/>
                    </a:lnTo>
                    <a:lnTo>
                      <a:pt x="103" y="71"/>
                    </a:lnTo>
                    <a:lnTo>
                      <a:pt x="118" y="87"/>
                    </a:lnTo>
                    <a:lnTo>
                      <a:pt x="143" y="122"/>
                    </a:lnTo>
                    <a:lnTo>
                      <a:pt x="151" y="140"/>
                    </a:lnTo>
                    <a:lnTo>
                      <a:pt x="156" y="159"/>
                    </a:lnTo>
                    <a:lnTo>
                      <a:pt x="156" y="179"/>
                    </a:lnTo>
                    <a:lnTo>
                      <a:pt x="153" y="199"/>
                    </a:lnTo>
                    <a:lnTo>
                      <a:pt x="146" y="218"/>
                    </a:lnTo>
                    <a:lnTo>
                      <a:pt x="134" y="238"/>
                    </a:lnTo>
                    <a:lnTo>
                      <a:pt x="116" y="258"/>
                    </a:lnTo>
                    <a:lnTo>
                      <a:pt x="94" y="277"/>
                    </a:lnTo>
                    <a:lnTo>
                      <a:pt x="85" y="2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164200" y="525456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7" y="13"/>
                    </a:moveTo>
                    <a:lnTo>
                      <a:pt x="9" y="1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284720" y="4432320"/>
                <a:ext cx="819000" cy="621720"/>
              </a:xfrm>
              <a:custGeom>
                <a:avLst/>
                <a:gdLst/>
                <a:ahLst/>
                <a:rect l="l" t="t" r="r" b="b"/>
                <a:pathLst>
                  <a:path w="1032" h="784">
                    <a:moveTo>
                      <a:pt x="1023" y="784"/>
                    </a:moveTo>
                    <a:lnTo>
                      <a:pt x="889" y="697"/>
                    </a:lnTo>
                    <a:lnTo>
                      <a:pt x="757" y="605"/>
                    </a:lnTo>
                    <a:lnTo>
                      <a:pt x="627" y="511"/>
                    </a:lnTo>
                    <a:lnTo>
                      <a:pt x="500" y="414"/>
                    </a:lnTo>
                    <a:lnTo>
                      <a:pt x="373" y="315"/>
                    </a:lnTo>
                    <a:lnTo>
                      <a:pt x="248" y="215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258" y="204"/>
                    </a:lnTo>
                    <a:lnTo>
                      <a:pt x="383" y="304"/>
                    </a:lnTo>
                    <a:lnTo>
                      <a:pt x="510" y="403"/>
                    </a:lnTo>
                    <a:lnTo>
                      <a:pt x="637" y="500"/>
                    </a:lnTo>
                    <a:lnTo>
                      <a:pt x="765" y="594"/>
                    </a:lnTo>
                    <a:lnTo>
                      <a:pt x="897" y="686"/>
                    </a:lnTo>
                    <a:lnTo>
                      <a:pt x="1032" y="771"/>
                    </a:lnTo>
                    <a:lnTo>
                      <a:pt x="1023" y="7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097600" y="5045040"/>
                <a:ext cx="6120" cy="90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0"/>
                    </a:moveTo>
                    <a:lnTo>
                      <a:pt x="0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3914640" y="4432320"/>
                <a:ext cx="378000" cy="315360"/>
              </a:xfrm>
              <a:custGeom>
                <a:avLst/>
                <a:gdLst/>
                <a:ahLst/>
                <a:rect l="l" t="t" r="r" b="b"/>
                <a:pathLst>
                  <a:path w="476" h="397">
                    <a:moveTo>
                      <a:pt x="476" y="11"/>
                    </a:moveTo>
                    <a:lnTo>
                      <a:pt x="361" y="110"/>
                    </a:lnTo>
                    <a:lnTo>
                      <a:pt x="246" y="208"/>
                    </a:lnTo>
                    <a:lnTo>
                      <a:pt x="129" y="303"/>
                    </a:lnTo>
                    <a:lnTo>
                      <a:pt x="10" y="397"/>
                    </a:lnTo>
                    <a:lnTo>
                      <a:pt x="0" y="386"/>
                    </a:lnTo>
                    <a:lnTo>
                      <a:pt x="119" y="292"/>
                    </a:lnTo>
                    <a:lnTo>
                      <a:pt x="236" y="197"/>
                    </a:lnTo>
                    <a:lnTo>
                      <a:pt x="351" y="99"/>
                    </a:lnTo>
                    <a:lnTo>
                      <a:pt x="466" y="0"/>
                    </a:lnTo>
                    <a:lnTo>
                      <a:pt x="47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4284720" y="44290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4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10" y="15"/>
                    </a:lnTo>
                    <a:lnTo>
                      <a:pt x="0" y="15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718080" y="4738680"/>
                <a:ext cx="204480" cy="339120"/>
              </a:xfrm>
              <a:custGeom>
                <a:avLst/>
                <a:gdLst/>
                <a:ahLst/>
                <a:rect l="l" t="t" r="r" b="b"/>
                <a:pathLst>
                  <a:path w="258" h="428">
                    <a:moveTo>
                      <a:pt x="258" y="11"/>
                    </a:moveTo>
                    <a:lnTo>
                      <a:pt x="207" y="49"/>
                    </a:lnTo>
                    <a:lnTo>
                      <a:pt x="152" y="94"/>
                    </a:lnTo>
                    <a:lnTo>
                      <a:pt x="98" y="145"/>
                    </a:lnTo>
                    <a:lnTo>
                      <a:pt x="75" y="169"/>
                    </a:lnTo>
                    <a:lnTo>
                      <a:pt x="54" y="196"/>
                    </a:lnTo>
                    <a:lnTo>
                      <a:pt x="37" y="223"/>
                    </a:lnTo>
                    <a:lnTo>
                      <a:pt x="23" y="251"/>
                    </a:lnTo>
                    <a:lnTo>
                      <a:pt x="17" y="277"/>
                    </a:lnTo>
                    <a:lnTo>
                      <a:pt x="15" y="306"/>
                    </a:lnTo>
                    <a:lnTo>
                      <a:pt x="17" y="319"/>
                    </a:lnTo>
                    <a:lnTo>
                      <a:pt x="20" y="334"/>
                    </a:lnTo>
                    <a:lnTo>
                      <a:pt x="25" y="348"/>
                    </a:lnTo>
                    <a:lnTo>
                      <a:pt x="32" y="361"/>
                    </a:lnTo>
                    <a:lnTo>
                      <a:pt x="52" y="388"/>
                    </a:lnTo>
                    <a:lnTo>
                      <a:pt x="65" y="403"/>
                    </a:lnTo>
                    <a:lnTo>
                      <a:pt x="81" y="417"/>
                    </a:lnTo>
                    <a:lnTo>
                      <a:pt x="71" y="428"/>
                    </a:lnTo>
                    <a:lnTo>
                      <a:pt x="55" y="414"/>
                    </a:lnTo>
                    <a:lnTo>
                      <a:pt x="41" y="398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5" y="337"/>
                    </a:lnTo>
                    <a:lnTo>
                      <a:pt x="3" y="322"/>
                    </a:lnTo>
                    <a:lnTo>
                      <a:pt x="0" y="306"/>
                    </a:lnTo>
                    <a:lnTo>
                      <a:pt x="3" y="275"/>
                    </a:lnTo>
                    <a:lnTo>
                      <a:pt x="10" y="245"/>
                    </a:lnTo>
                    <a:lnTo>
                      <a:pt x="23" y="217"/>
                    </a:lnTo>
                    <a:lnTo>
                      <a:pt x="42" y="187"/>
                    </a:lnTo>
                    <a:lnTo>
                      <a:pt x="64" y="159"/>
                    </a:lnTo>
                    <a:lnTo>
                      <a:pt x="88" y="134"/>
                    </a:lnTo>
                    <a:lnTo>
                      <a:pt x="142" y="83"/>
                    </a:lnTo>
                    <a:lnTo>
                      <a:pt x="197" y="38"/>
                    </a:lnTo>
                    <a:lnTo>
                      <a:pt x="248" y="0"/>
                    </a:lnTo>
                    <a:lnTo>
                      <a:pt x="25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914640" y="47386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11"/>
                    </a:moveTo>
                    <a:lnTo>
                      <a:pt x="0" y="0"/>
                    </a:lnTo>
                    <a:lnTo>
                      <a:pt x="1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774960" y="5045040"/>
                <a:ext cx="612720" cy="67680"/>
              </a:xfrm>
              <a:custGeom>
                <a:avLst/>
                <a:gdLst/>
                <a:ahLst/>
                <a:rect l="l" t="t" r="r" b="b"/>
                <a:pathLst>
                  <a:path w="773" h="87">
                    <a:moveTo>
                      <a:pt x="6" y="31"/>
                    </a:moveTo>
                    <a:lnTo>
                      <a:pt x="54" y="53"/>
                    </a:lnTo>
                    <a:lnTo>
                      <a:pt x="76" y="59"/>
                    </a:lnTo>
                    <a:lnTo>
                      <a:pt x="101" y="65"/>
                    </a:lnTo>
                    <a:lnTo>
                      <a:pt x="124" y="70"/>
                    </a:lnTo>
                    <a:lnTo>
                      <a:pt x="147" y="73"/>
                    </a:lnTo>
                    <a:lnTo>
                      <a:pt x="195" y="73"/>
                    </a:lnTo>
                    <a:lnTo>
                      <a:pt x="242" y="69"/>
                    </a:lnTo>
                    <a:lnTo>
                      <a:pt x="289" y="62"/>
                    </a:lnTo>
                    <a:lnTo>
                      <a:pt x="385" y="40"/>
                    </a:lnTo>
                    <a:lnTo>
                      <a:pt x="481" y="16"/>
                    </a:lnTo>
                    <a:lnTo>
                      <a:pt x="531" y="8"/>
                    </a:lnTo>
                    <a:lnTo>
                      <a:pt x="579" y="2"/>
                    </a:lnTo>
                    <a:lnTo>
                      <a:pt x="626" y="0"/>
                    </a:lnTo>
                    <a:lnTo>
                      <a:pt x="675" y="4"/>
                    </a:lnTo>
                    <a:lnTo>
                      <a:pt x="725" y="16"/>
                    </a:lnTo>
                    <a:lnTo>
                      <a:pt x="773" y="35"/>
                    </a:lnTo>
                    <a:lnTo>
                      <a:pt x="767" y="48"/>
                    </a:lnTo>
                    <a:lnTo>
                      <a:pt x="720" y="30"/>
                    </a:lnTo>
                    <a:lnTo>
                      <a:pt x="673" y="19"/>
                    </a:lnTo>
                    <a:lnTo>
                      <a:pt x="626" y="15"/>
                    </a:lnTo>
                    <a:lnTo>
                      <a:pt x="579" y="16"/>
                    </a:lnTo>
                    <a:lnTo>
                      <a:pt x="532" y="22"/>
                    </a:lnTo>
                    <a:lnTo>
                      <a:pt x="483" y="31"/>
                    </a:lnTo>
                    <a:lnTo>
                      <a:pt x="388" y="54"/>
                    </a:lnTo>
                    <a:lnTo>
                      <a:pt x="291" y="76"/>
                    </a:lnTo>
                    <a:lnTo>
                      <a:pt x="244" y="84"/>
                    </a:lnTo>
                    <a:lnTo>
                      <a:pt x="195" y="87"/>
                    </a:lnTo>
                    <a:lnTo>
                      <a:pt x="146" y="87"/>
                    </a:lnTo>
                    <a:lnTo>
                      <a:pt x="121" y="85"/>
                    </a:lnTo>
                    <a:lnTo>
                      <a:pt x="98" y="80"/>
                    </a:lnTo>
                    <a:lnTo>
                      <a:pt x="74" y="74"/>
                    </a:lnTo>
                    <a:lnTo>
                      <a:pt x="48" y="66"/>
                    </a:lnTo>
                    <a:lnTo>
                      <a:pt x="0" y="44"/>
                    </a:lnTo>
                    <a:lnTo>
                      <a:pt x="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774960" y="506880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0" y="12"/>
                    </a:moveTo>
                    <a:lnTo>
                      <a:pt x="1" y="13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176720" y="5072040"/>
                <a:ext cx="291960" cy="358200"/>
              </a:xfrm>
              <a:custGeom>
                <a:avLst/>
                <a:gdLst/>
                <a:ahLst/>
                <a:rect l="l" t="t" r="r" b="b"/>
                <a:pathLst>
                  <a:path w="368" h="451">
                    <a:moveTo>
                      <a:pt x="270" y="0"/>
                    </a:moveTo>
                    <a:lnTo>
                      <a:pt x="294" y="17"/>
                    </a:lnTo>
                    <a:lnTo>
                      <a:pt x="313" y="35"/>
                    </a:lnTo>
                    <a:lnTo>
                      <a:pt x="329" y="52"/>
                    </a:lnTo>
                    <a:lnTo>
                      <a:pt x="344" y="72"/>
                    </a:lnTo>
                    <a:lnTo>
                      <a:pt x="353" y="90"/>
                    </a:lnTo>
                    <a:lnTo>
                      <a:pt x="361" y="108"/>
                    </a:lnTo>
                    <a:lnTo>
                      <a:pt x="367" y="126"/>
                    </a:lnTo>
                    <a:lnTo>
                      <a:pt x="368" y="144"/>
                    </a:lnTo>
                    <a:lnTo>
                      <a:pt x="364" y="177"/>
                    </a:lnTo>
                    <a:lnTo>
                      <a:pt x="358" y="197"/>
                    </a:lnTo>
                    <a:lnTo>
                      <a:pt x="352" y="213"/>
                    </a:lnTo>
                    <a:lnTo>
                      <a:pt x="344" y="230"/>
                    </a:lnTo>
                    <a:lnTo>
                      <a:pt x="331" y="244"/>
                    </a:lnTo>
                    <a:lnTo>
                      <a:pt x="306" y="275"/>
                    </a:lnTo>
                    <a:lnTo>
                      <a:pt x="275" y="304"/>
                    </a:lnTo>
                    <a:lnTo>
                      <a:pt x="240" y="330"/>
                    </a:lnTo>
                    <a:lnTo>
                      <a:pt x="201" y="356"/>
                    </a:lnTo>
                    <a:lnTo>
                      <a:pt x="162" y="379"/>
                    </a:lnTo>
                    <a:lnTo>
                      <a:pt x="81" y="419"/>
                    </a:lnTo>
                    <a:lnTo>
                      <a:pt x="42" y="436"/>
                    </a:lnTo>
                    <a:lnTo>
                      <a:pt x="6" y="451"/>
                    </a:lnTo>
                    <a:lnTo>
                      <a:pt x="0" y="438"/>
                    </a:lnTo>
                    <a:lnTo>
                      <a:pt x="36" y="423"/>
                    </a:lnTo>
                    <a:lnTo>
                      <a:pt x="74" y="407"/>
                    </a:lnTo>
                    <a:lnTo>
                      <a:pt x="153" y="367"/>
                    </a:lnTo>
                    <a:lnTo>
                      <a:pt x="192" y="344"/>
                    </a:lnTo>
                    <a:lnTo>
                      <a:pt x="230" y="319"/>
                    </a:lnTo>
                    <a:lnTo>
                      <a:pt x="265" y="293"/>
                    </a:lnTo>
                    <a:lnTo>
                      <a:pt x="295" y="265"/>
                    </a:lnTo>
                    <a:lnTo>
                      <a:pt x="320" y="235"/>
                    </a:lnTo>
                    <a:lnTo>
                      <a:pt x="331" y="221"/>
                    </a:lnTo>
                    <a:lnTo>
                      <a:pt x="339" y="207"/>
                    </a:lnTo>
                    <a:lnTo>
                      <a:pt x="345" y="191"/>
                    </a:lnTo>
                    <a:lnTo>
                      <a:pt x="350" y="176"/>
                    </a:lnTo>
                    <a:lnTo>
                      <a:pt x="353" y="144"/>
                    </a:lnTo>
                    <a:lnTo>
                      <a:pt x="352" y="128"/>
                    </a:lnTo>
                    <a:lnTo>
                      <a:pt x="347" y="114"/>
                    </a:lnTo>
                    <a:lnTo>
                      <a:pt x="340" y="97"/>
                    </a:lnTo>
                    <a:lnTo>
                      <a:pt x="331" y="81"/>
                    </a:lnTo>
                    <a:lnTo>
                      <a:pt x="318" y="62"/>
                    </a:lnTo>
                    <a:lnTo>
                      <a:pt x="303" y="46"/>
                    </a:lnTo>
                    <a:lnTo>
                      <a:pt x="284" y="28"/>
                    </a:lnTo>
                    <a:lnTo>
                      <a:pt x="261" y="11"/>
                    </a:lnTo>
                    <a:lnTo>
                      <a:pt x="2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383000" y="507204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7" y="0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608280" y="5419440"/>
                <a:ext cx="573120" cy="72720"/>
              </a:xfrm>
              <a:custGeom>
                <a:avLst/>
                <a:gdLst/>
                <a:ahLst/>
                <a:rect l="l" t="t" r="r" b="b"/>
                <a:pathLst>
                  <a:path w="721" h="90">
                    <a:moveTo>
                      <a:pt x="721" y="13"/>
                    </a:moveTo>
                    <a:lnTo>
                      <a:pt x="632" y="44"/>
                    </a:lnTo>
                    <a:lnTo>
                      <a:pt x="587" y="56"/>
                    </a:lnTo>
                    <a:lnTo>
                      <a:pt x="543" y="67"/>
                    </a:lnTo>
                    <a:lnTo>
                      <a:pt x="496" y="75"/>
                    </a:lnTo>
                    <a:lnTo>
                      <a:pt x="451" y="83"/>
                    </a:lnTo>
                    <a:lnTo>
                      <a:pt x="362" y="90"/>
                    </a:lnTo>
                    <a:lnTo>
                      <a:pt x="315" y="90"/>
                    </a:lnTo>
                    <a:lnTo>
                      <a:pt x="270" y="88"/>
                    </a:lnTo>
                    <a:lnTo>
                      <a:pt x="225" y="83"/>
                    </a:lnTo>
                    <a:lnTo>
                      <a:pt x="179" y="75"/>
                    </a:lnTo>
                    <a:lnTo>
                      <a:pt x="135" y="64"/>
                    </a:lnTo>
                    <a:lnTo>
                      <a:pt x="91" y="51"/>
                    </a:lnTo>
                    <a:lnTo>
                      <a:pt x="44" y="34"/>
                    </a:lnTo>
                    <a:lnTo>
                      <a:pt x="0" y="13"/>
                    </a:lnTo>
                    <a:lnTo>
                      <a:pt x="6" y="1"/>
                    </a:lnTo>
                    <a:lnTo>
                      <a:pt x="50" y="20"/>
                    </a:lnTo>
                    <a:lnTo>
                      <a:pt x="95" y="38"/>
                    </a:lnTo>
                    <a:lnTo>
                      <a:pt x="139" y="51"/>
                    </a:lnTo>
                    <a:lnTo>
                      <a:pt x="182" y="62"/>
                    </a:lnTo>
                    <a:lnTo>
                      <a:pt x="227" y="69"/>
                    </a:lnTo>
                    <a:lnTo>
                      <a:pt x="270" y="74"/>
                    </a:lnTo>
                    <a:lnTo>
                      <a:pt x="315" y="77"/>
                    </a:lnTo>
                    <a:lnTo>
                      <a:pt x="359" y="77"/>
                    </a:lnTo>
                    <a:lnTo>
                      <a:pt x="449" y="69"/>
                    </a:lnTo>
                    <a:lnTo>
                      <a:pt x="493" y="62"/>
                    </a:lnTo>
                    <a:lnTo>
                      <a:pt x="538" y="53"/>
                    </a:lnTo>
                    <a:lnTo>
                      <a:pt x="582" y="42"/>
                    </a:lnTo>
                    <a:lnTo>
                      <a:pt x="626" y="30"/>
                    </a:lnTo>
                    <a:lnTo>
                      <a:pt x="715" y="0"/>
                    </a:lnTo>
                    <a:lnTo>
                      <a:pt x="72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176720" y="541944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3"/>
                    </a:moveTo>
                    <a:lnTo>
                      <a:pt x="0" y="0"/>
                    </a:lnTo>
                    <a:lnTo>
                      <a:pt x="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538440" y="5197320"/>
                <a:ext cx="76320" cy="232920"/>
              </a:xfrm>
              <a:custGeom>
                <a:avLst/>
                <a:gdLst/>
                <a:ahLst/>
                <a:rect l="l" t="t" r="r" b="b"/>
                <a:pathLst>
                  <a:path w="97" h="293">
                    <a:moveTo>
                      <a:pt x="87" y="293"/>
                    </a:moveTo>
                    <a:lnTo>
                      <a:pt x="69" y="278"/>
                    </a:lnTo>
                    <a:lnTo>
                      <a:pt x="53" y="261"/>
                    </a:lnTo>
                    <a:lnTo>
                      <a:pt x="44" y="244"/>
                    </a:lnTo>
                    <a:lnTo>
                      <a:pt x="37" y="226"/>
                    </a:lnTo>
                    <a:lnTo>
                      <a:pt x="34" y="206"/>
                    </a:lnTo>
                    <a:lnTo>
                      <a:pt x="34" y="187"/>
                    </a:lnTo>
                    <a:lnTo>
                      <a:pt x="38" y="150"/>
                    </a:lnTo>
                    <a:lnTo>
                      <a:pt x="43" y="112"/>
                    </a:lnTo>
                    <a:lnTo>
                      <a:pt x="43" y="94"/>
                    </a:lnTo>
                    <a:lnTo>
                      <a:pt x="42" y="78"/>
                    </a:lnTo>
                    <a:lnTo>
                      <a:pt x="37" y="61"/>
                    </a:lnTo>
                    <a:lnTo>
                      <a:pt x="29" y="42"/>
                    </a:lnTo>
                    <a:lnTo>
                      <a:pt x="23" y="35"/>
                    </a:lnTo>
                    <a:lnTo>
                      <a:pt x="17" y="28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27" y="17"/>
                    </a:lnTo>
                    <a:lnTo>
                      <a:pt x="34" y="25"/>
                    </a:lnTo>
                    <a:lnTo>
                      <a:pt x="42" y="35"/>
                    </a:lnTo>
                    <a:lnTo>
                      <a:pt x="50" y="55"/>
                    </a:lnTo>
                    <a:lnTo>
                      <a:pt x="55" y="74"/>
                    </a:lnTo>
                    <a:lnTo>
                      <a:pt x="56" y="94"/>
                    </a:lnTo>
                    <a:lnTo>
                      <a:pt x="56" y="115"/>
                    </a:lnTo>
                    <a:lnTo>
                      <a:pt x="51" y="153"/>
                    </a:lnTo>
                    <a:lnTo>
                      <a:pt x="48" y="189"/>
                    </a:lnTo>
                    <a:lnTo>
                      <a:pt x="48" y="206"/>
                    </a:lnTo>
                    <a:lnTo>
                      <a:pt x="50" y="222"/>
                    </a:lnTo>
                    <a:lnTo>
                      <a:pt x="56" y="238"/>
                    </a:lnTo>
                    <a:lnTo>
                      <a:pt x="64" y="253"/>
                    </a:lnTo>
                    <a:lnTo>
                      <a:pt x="78" y="267"/>
                    </a:lnTo>
                    <a:lnTo>
                      <a:pt x="97" y="282"/>
                    </a:lnTo>
                    <a:lnTo>
                      <a:pt x="87" y="2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606840" y="542124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" y="12"/>
                    </a:moveTo>
                    <a:lnTo>
                      <a:pt x="0" y="12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235320" y="5149800"/>
                <a:ext cx="309600" cy="56880"/>
              </a:xfrm>
              <a:custGeom>
                <a:avLst/>
                <a:gdLst/>
                <a:ahLst/>
                <a:rect l="l" t="t" r="r" b="b"/>
                <a:pathLst>
                  <a:path w="390" h="71">
                    <a:moveTo>
                      <a:pt x="382" y="71"/>
                    </a:moveTo>
                    <a:lnTo>
                      <a:pt x="336" y="46"/>
                    </a:lnTo>
                    <a:lnTo>
                      <a:pt x="291" y="30"/>
                    </a:lnTo>
                    <a:lnTo>
                      <a:pt x="243" y="18"/>
                    </a:lnTo>
                    <a:lnTo>
                      <a:pt x="196" y="13"/>
                    </a:lnTo>
                    <a:lnTo>
                      <a:pt x="150" y="13"/>
                    </a:lnTo>
                    <a:lnTo>
                      <a:pt x="101" y="19"/>
                    </a:lnTo>
                    <a:lnTo>
                      <a:pt x="53" y="33"/>
                    </a:lnTo>
                    <a:lnTo>
                      <a:pt x="6" y="51"/>
                    </a:lnTo>
                    <a:lnTo>
                      <a:pt x="0" y="38"/>
                    </a:lnTo>
                    <a:lnTo>
                      <a:pt x="47" y="19"/>
                    </a:lnTo>
                    <a:lnTo>
                      <a:pt x="97" y="6"/>
                    </a:lnTo>
                    <a:lnTo>
                      <a:pt x="148" y="0"/>
                    </a:lnTo>
                    <a:lnTo>
                      <a:pt x="196" y="0"/>
                    </a:lnTo>
                    <a:lnTo>
                      <a:pt x="247" y="5"/>
                    </a:lnTo>
                    <a:lnTo>
                      <a:pt x="295" y="17"/>
                    </a:lnTo>
                    <a:lnTo>
                      <a:pt x="342" y="34"/>
                    </a:lnTo>
                    <a:lnTo>
                      <a:pt x="390" y="58"/>
                    </a:lnTo>
                    <a:lnTo>
                      <a:pt x="382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538440" y="51973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10" y="2"/>
                    </a:moveTo>
                    <a:lnTo>
                      <a:pt x="9" y="0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121200" y="5180040"/>
                <a:ext cx="118800" cy="59760"/>
              </a:xfrm>
              <a:custGeom>
                <a:avLst/>
                <a:gdLst/>
                <a:ahLst/>
                <a:rect l="l" t="t" r="r" b="b"/>
                <a:pathLst>
                  <a:path w="152" h="74">
                    <a:moveTo>
                      <a:pt x="152" y="13"/>
                    </a:moveTo>
                    <a:lnTo>
                      <a:pt x="78" y="42"/>
                    </a:lnTo>
                    <a:lnTo>
                      <a:pt x="43" y="57"/>
                    </a:lnTo>
                    <a:lnTo>
                      <a:pt x="8" y="74"/>
                    </a:lnTo>
                    <a:lnTo>
                      <a:pt x="0" y="62"/>
                    </a:lnTo>
                    <a:lnTo>
                      <a:pt x="36" y="45"/>
                    </a:lnTo>
                    <a:lnTo>
                      <a:pt x="72" y="29"/>
                    </a:lnTo>
                    <a:lnTo>
                      <a:pt x="146" y="0"/>
                    </a:lnTo>
                    <a:lnTo>
                      <a:pt x="15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235320" y="5180040"/>
                <a:ext cx="4680" cy="104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6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119400" y="5230800"/>
                <a:ext cx="657360" cy="379080"/>
              </a:xfrm>
              <a:custGeom>
                <a:avLst/>
                <a:gdLst/>
                <a:ahLst/>
                <a:rect l="l" t="t" r="r" b="b"/>
                <a:pathLst>
                  <a:path w="829" h="478">
                    <a:moveTo>
                      <a:pt x="9" y="0"/>
                    </a:moveTo>
                    <a:lnTo>
                      <a:pt x="105" y="70"/>
                    </a:lnTo>
                    <a:lnTo>
                      <a:pt x="203" y="136"/>
                    </a:lnTo>
                    <a:lnTo>
                      <a:pt x="303" y="199"/>
                    </a:lnTo>
                    <a:lnTo>
                      <a:pt x="405" y="259"/>
                    </a:lnTo>
                    <a:lnTo>
                      <a:pt x="507" y="315"/>
                    </a:lnTo>
                    <a:lnTo>
                      <a:pt x="612" y="369"/>
                    </a:lnTo>
                    <a:lnTo>
                      <a:pt x="719" y="419"/>
                    </a:lnTo>
                    <a:lnTo>
                      <a:pt x="829" y="465"/>
                    </a:lnTo>
                    <a:lnTo>
                      <a:pt x="823" y="478"/>
                    </a:lnTo>
                    <a:lnTo>
                      <a:pt x="713" y="433"/>
                    </a:lnTo>
                    <a:lnTo>
                      <a:pt x="606" y="383"/>
                    </a:lnTo>
                    <a:lnTo>
                      <a:pt x="501" y="329"/>
                    </a:lnTo>
                    <a:lnTo>
                      <a:pt x="396" y="271"/>
                    </a:lnTo>
                    <a:lnTo>
                      <a:pt x="295" y="212"/>
                    </a:lnTo>
                    <a:lnTo>
                      <a:pt x="194" y="148"/>
                    </a:lnTo>
                    <a:lnTo>
                      <a:pt x="97" y="82"/>
                    </a:lnTo>
                    <a:lnTo>
                      <a:pt x="0" y="1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111480" y="5230800"/>
                <a:ext cx="14400" cy="900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1" y="0"/>
                    </a:moveTo>
                    <a:lnTo>
                      <a:pt x="0" y="5"/>
                    </a:lnTo>
                    <a:lnTo>
                      <a:pt x="10" y="12"/>
                    </a:lnTo>
                    <a:lnTo>
                      <a:pt x="19" y="0"/>
                    </a:lnTo>
                    <a:lnTo>
                      <a:pt x="19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772080" y="5599080"/>
                <a:ext cx="174600" cy="93240"/>
              </a:xfrm>
              <a:custGeom>
                <a:avLst/>
                <a:gdLst/>
                <a:ahLst/>
                <a:rect l="l" t="t" r="r" b="b"/>
                <a:pathLst>
                  <a:path w="218" h="117">
                    <a:moveTo>
                      <a:pt x="6" y="0"/>
                    </a:moveTo>
                    <a:lnTo>
                      <a:pt x="135" y="56"/>
                    </a:lnTo>
                    <a:lnTo>
                      <a:pt x="172" y="73"/>
                    </a:lnTo>
                    <a:lnTo>
                      <a:pt x="201" y="88"/>
                    </a:lnTo>
                    <a:lnTo>
                      <a:pt x="217" y="101"/>
                    </a:lnTo>
                    <a:lnTo>
                      <a:pt x="218" y="115"/>
                    </a:lnTo>
                    <a:lnTo>
                      <a:pt x="214" y="117"/>
                    </a:lnTo>
                    <a:lnTo>
                      <a:pt x="206" y="105"/>
                    </a:lnTo>
                    <a:lnTo>
                      <a:pt x="209" y="104"/>
                    </a:lnTo>
                    <a:lnTo>
                      <a:pt x="206" y="111"/>
                    </a:lnTo>
                    <a:lnTo>
                      <a:pt x="193" y="100"/>
                    </a:lnTo>
                    <a:lnTo>
                      <a:pt x="166" y="86"/>
                    </a:lnTo>
                    <a:lnTo>
                      <a:pt x="129" y="69"/>
                    </a:lnTo>
                    <a:lnTo>
                      <a:pt x="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772080" y="559908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0"/>
                    </a:moveTo>
                    <a:lnTo>
                      <a:pt x="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597120" y="5602320"/>
                <a:ext cx="341640" cy="90000"/>
              </a:xfrm>
              <a:custGeom>
                <a:avLst/>
                <a:gdLst/>
                <a:ahLst/>
                <a:rect l="l" t="t" r="r" b="b"/>
                <a:pathLst>
                  <a:path w="430" h="115">
                    <a:moveTo>
                      <a:pt x="430" y="115"/>
                    </a:moveTo>
                    <a:lnTo>
                      <a:pt x="402" y="114"/>
                    </a:lnTo>
                    <a:lnTo>
                      <a:pt x="372" y="110"/>
                    </a:lnTo>
                    <a:lnTo>
                      <a:pt x="317" y="101"/>
                    </a:lnTo>
                    <a:lnTo>
                      <a:pt x="291" y="93"/>
                    </a:lnTo>
                    <a:lnTo>
                      <a:pt x="265" y="86"/>
                    </a:lnTo>
                    <a:lnTo>
                      <a:pt x="212" y="70"/>
                    </a:lnTo>
                    <a:lnTo>
                      <a:pt x="107" y="36"/>
                    </a:lnTo>
                    <a:lnTo>
                      <a:pt x="53" y="22"/>
                    </a:lnTo>
                    <a:lnTo>
                      <a:pt x="28" y="17"/>
                    </a:lnTo>
                    <a:lnTo>
                      <a:pt x="0" y="14"/>
                    </a:lnTo>
                    <a:lnTo>
                      <a:pt x="2" y="0"/>
                    </a:lnTo>
                    <a:lnTo>
                      <a:pt x="30" y="4"/>
                    </a:lnTo>
                    <a:lnTo>
                      <a:pt x="57" y="9"/>
                    </a:lnTo>
                    <a:lnTo>
                      <a:pt x="112" y="22"/>
                    </a:lnTo>
                    <a:lnTo>
                      <a:pt x="217" y="57"/>
                    </a:lnTo>
                    <a:lnTo>
                      <a:pt x="270" y="72"/>
                    </a:lnTo>
                    <a:lnTo>
                      <a:pt x="295" y="80"/>
                    </a:lnTo>
                    <a:lnTo>
                      <a:pt x="321" y="87"/>
                    </a:lnTo>
                    <a:lnTo>
                      <a:pt x="375" y="97"/>
                    </a:lnTo>
                    <a:lnTo>
                      <a:pt x="402" y="101"/>
                    </a:lnTo>
                    <a:lnTo>
                      <a:pt x="430" y="102"/>
                    </a:lnTo>
                    <a:lnTo>
                      <a:pt x="430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936960" y="568152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12"/>
                    </a:moveTo>
                    <a:lnTo>
                      <a:pt x="5" y="13"/>
                    </a:lnTo>
                    <a:lnTo>
                      <a:pt x="4" y="1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589200" y="5602320"/>
                <a:ext cx="244440" cy="118440"/>
              </a:xfrm>
              <a:custGeom>
                <a:avLst/>
                <a:gdLst/>
                <a:ahLst/>
                <a:rect l="l" t="t" r="r" b="b"/>
                <a:pathLst>
                  <a:path w="308" h="152">
                    <a:moveTo>
                      <a:pt x="14" y="14"/>
                    </a:moveTo>
                    <a:lnTo>
                      <a:pt x="13" y="11"/>
                    </a:lnTo>
                    <a:lnTo>
                      <a:pt x="14" y="8"/>
                    </a:lnTo>
                    <a:lnTo>
                      <a:pt x="35" y="20"/>
                    </a:lnTo>
                    <a:lnTo>
                      <a:pt x="73" y="41"/>
                    </a:lnTo>
                    <a:lnTo>
                      <a:pt x="123" y="64"/>
                    </a:lnTo>
                    <a:lnTo>
                      <a:pt x="232" y="110"/>
                    </a:lnTo>
                    <a:lnTo>
                      <a:pt x="308" y="139"/>
                    </a:lnTo>
                    <a:lnTo>
                      <a:pt x="302" y="152"/>
                    </a:lnTo>
                    <a:lnTo>
                      <a:pt x="226" y="124"/>
                    </a:lnTo>
                    <a:lnTo>
                      <a:pt x="117" y="77"/>
                    </a:lnTo>
                    <a:lnTo>
                      <a:pt x="67" y="54"/>
                    </a:lnTo>
                    <a:lnTo>
                      <a:pt x="27" y="32"/>
                    </a:lnTo>
                    <a:lnTo>
                      <a:pt x="5" y="19"/>
                    </a:lnTo>
                    <a:lnTo>
                      <a:pt x="0" y="5"/>
                    </a:lnTo>
                    <a:lnTo>
                      <a:pt x="8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595680" y="560232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5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6" y="14"/>
                    </a:lnTo>
                    <a:lnTo>
                      <a:pt x="3" y="1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3830760" y="5709960"/>
                <a:ext cx="366480" cy="69480"/>
              </a:xfrm>
              <a:custGeom>
                <a:avLst/>
                <a:gdLst/>
                <a:ahLst/>
                <a:rect l="l" t="t" r="r" b="b"/>
                <a:pathLst>
                  <a:path w="462" h="88">
                    <a:moveTo>
                      <a:pt x="2" y="0"/>
                    </a:moveTo>
                    <a:lnTo>
                      <a:pt x="116" y="31"/>
                    </a:lnTo>
                    <a:lnTo>
                      <a:pt x="174" y="43"/>
                    </a:lnTo>
                    <a:lnTo>
                      <a:pt x="231" y="54"/>
                    </a:lnTo>
                    <a:lnTo>
                      <a:pt x="289" y="63"/>
                    </a:lnTo>
                    <a:lnTo>
                      <a:pt x="345" y="69"/>
                    </a:lnTo>
                    <a:lnTo>
                      <a:pt x="403" y="72"/>
                    </a:lnTo>
                    <a:lnTo>
                      <a:pt x="462" y="74"/>
                    </a:lnTo>
                    <a:lnTo>
                      <a:pt x="462" y="88"/>
                    </a:lnTo>
                    <a:lnTo>
                      <a:pt x="403" y="87"/>
                    </a:lnTo>
                    <a:lnTo>
                      <a:pt x="344" y="83"/>
                    </a:lnTo>
                    <a:lnTo>
                      <a:pt x="286" y="77"/>
                    </a:lnTo>
                    <a:lnTo>
                      <a:pt x="229" y="69"/>
                    </a:lnTo>
                    <a:lnTo>
                      <a:pt x="171" y="58"/>
                    </a:lnTo>
                    <a:lnTo>
                      <a:pt x="114" y="46"/>
                    </a:lnTo>
                    <a:lnTo>
                      <a:pt x="0" y="1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824280" y="570996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7" y="15"/>
                    </a:moveTo>
                    <a:lnTo>
                      <a:pt x="0" y="13"/>
                    </a:lnTo>
                    <a:lnTo>
                      <a:pt x="9" y="15"/>
                    </a:lnTo>
                    <a:lnTo>
                      <a:pt x="11" y="0"/>
                    </a:lnTo>
                    <a:lnTo>
                      <a:pt x="13" y="2"/>
                    </a:lnTo>
                    <a:lnTo>
                      <a:pt x="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4133880" y="5732280"/>
                <a:ext cx="77760" cy="47160"/>
              </a:xfrm>
              <a:custGeom>
                <a:avLst/>
                <a:gdLst/>
                <a:ahLst/>
                <a:rect l="l" t="t" r="r" b="b"/>
                <a:pathLst>
                  <a:path w="98" h="60">
                    <a:moveTo>
                      <a:pt x="81" y="46"/>
                    </a:moveTo>
                    <a:lnTo>
                      <a:pt x="88" y="44"/>
                    </a:lnTo>
                    <a:lnTo>
                      <a:pt x="85" y="48"/>
                    </a:lnTo>
                    <a:lnTo>
                      <a:pt x="86" y="53"/>
                    </a:lnTo>
                    <a:lnTo>
                      <a:pt x="82" y="52"/>
                    </a:lnTo>
                    <a:lnTo>
                      <a:pt x="44" y="37"/>
                    </a:lnTo>
                    <a:lnTo>
                      <a:pt x="22" y="30"/>
                    </a:lnTo>
                    <a:lnTo>
                      <a:pt x="7" y="21"/>
                    </a:lnTo>
                    <a:lnTo>
                      <a:pt x="0" y="16"/>
                    </a:lnTo>
                    <a:lnTo>
                      <a:pt x="2" y="4"/>
                    </a:lnTo>
                    <a:lnTo>
                      <a:pt x="15" y="0"/>
                    </a:lnTo>
                    <a:lnTo>
                      <a:pt x="20" y="14"/>
                    </a:lnTo>
                    <a:lnTo>
                      <a:pt x="9" y="16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29" y="16"/>
                    </a:lnTo>
                    <a:lnTo>
                      <a:pt x="51" y="24"/>
                    </a:lnTo>
                    <a:lnTo>
                      <a:pt x="88" y="38"/>
                    </a:lnTo>
                    <a:lnTo>
                      <a:pt x="96" y="42"/>
                    </a:lnTo>
                    <a:lnTo>
                      <a:pt x="98" y="51"/>
                    </a:lnTo>
                    <a:lnTo>
                      <a:pt x="91" y="59"/>
                    </a:lnTo>
                    <a:lnTo>
                      <a:pt x="82" y="60"/>
                    </a:lnTo>
                    <a:lnTo>
                      <a:pt x="81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97240" y="5769000"/>
                <a:ext cx="1800" cy="1044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14"/>
                    </a:moveTo>
                    <a:lnTo>
                      <a:pt x="1" y="14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4146480" y="5732280"/>
                <a:ext cx="260280" cy="29880"/>
              </a:xfrm>
              <a:custGeom>
                <a:avLst/>
                <a:gdLst/>
                <a:ahLst/>
                <a:rect l="l" t="t" r="r" b="b"/>
                <a:pathLst>
                  <a:path w="327" h="38">
                    <a:moveTo>
                      <a:pt x="0" y="0"/>
                    </a:moveTo>
                    <a:lnTo>
                      <a:pt x="81" y="0"/>
                    </a:lnTo>
                    <a:lnTo>
                      <a:pt x="163" y="5"/>
                    </a:lnTo>
                    <a:lnTo>
                      <a:pt x="327" y="23"/>
                    </a:lnTo>
                    <a:lnTo>
                      <a:pt x="326" y="38"/>
                    </a:lnTo>
                    <a:lnTo>
                      <a:pt x="162" y="20"/>
                    </a:lnTo>
                    <a:lnTo>
                      <a:pt x="81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4145040" y="5732280"/>
                <a:ext cx="3240" cy="1080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405320" y="5749920"/>
                <a:ext cx="87480" cy="16920"/>
              </a:xfrm>
              <a:custGeom>
                <a:avLst/>
                <a:gdLst/>
                <a:ahLst/>
                <a:rect l="l" t="t" r="r" b="b"/>
                <a:pathLst>
                  <a:path w="109" h="22">
                    <a:moveTo>
                      <a:pt x="1" y="0"/>
                    </a:moveTo>
                    <a:lnTo>
                      <a:pt x="55" y="4"/>
                    </a:lnTo>
                    <a:lnTo>
                      <a:pt x="109" y="8"/>
                    </a:lnTo>
                    <a:lnTo>
                      <a:pt x="107" y="22"/>
                    </a:lnTo>
                    <a:lnTo>
                      <a:pt x="54" y="19"/>
                    </a:lnTo>
                    <a:lnTo>
                      <a:pt x="0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4405320" y="5749920"/>
                <a:ext cx="1440" cy="1224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15"/>
                    </a:moveTo>
                    <a:lnTo>
                      <a:pt x="1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4491000" y="5756040"/>
                <a:ext cx="1800" cy="10800"/>
              </a:xfrm>
              <a:custGeom>
                <a:avLst/>
                <a:gdLst/>
                <a:ahLst/>
                <a:rect l="l" t="t" r="r" b="b"/>
                <a:pathLst>
                  <a:path w="3" h="14">
                    <a:moveTo>
                      <a:pt x="0" y="14"/>
                    </a:moveTo>
                    <a:lnTo>
                      <a:pt x="2" y="14"/>
                    </a:lnTo>
                    <a:lnTo>
                      <a:pt x="3" y="1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9" name=""/>
          <p:cNvSpPr/>
          <p:nvPr/>
        </p:nvSpPr>
        <p:spPr>
          <a:xfrm>
            <a:off x="2063160" y="5791320"/>
            <a:ext cx="476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utting the pieces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191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371600" y="334800"/>
            <a:ext cx="7375680" cy="7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: Basic push model</a:t>
            </a:r>
            <a:br>
              <a:rPr sz="2400"/>
            </a:b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Publishing ph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1" name=""/>
          <p:cNvGraphicFramePr/>
          <p:nvPr/>
        </p:nvGraphicFramePr>
        <p:xfrm>
          <a:off x="1905120" y="1371600"/>
          <a:ext cx="530532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371600"/>
                    <a:ext cx="53053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191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371600" y="334800"/>
            <a:ext cx="7375680" cy="7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: Basic Push model (2)</a:t>
            </a:r>
            <a:br>
              <a:rPr sz="2400"/>
            </a:b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earch and selection ph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1905120" y="1371600"/>
          <a:ext cx="530532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371600"/>
                    <a:ext cx="53053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191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371600" y="334800"/>
            <a:ext cx="7375680" cy="7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: Basic Push model (3)</a:t>
            </a:r>
            <a:br>
              <a:rPr sz="2400"/>
            </a:b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Location resolution ph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1905120" y="1371600"/>
          <a:ext cx="530532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371600"/>
                    <a:ext cx="53053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191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371600" y="334800"/>
            <a:ext cx="7375680" cy="7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: Basic Push model (4)</a:t>
            </a:r>
            <a:br>
              <a:rPr sz="2400"/>
            </a:b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cquire ph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0" name=""/>
          <p:cNvGraphicFramePr/>
          <p:nvPr/>
        </p:nvGraphicFramePr>
        <p:xfrm>
          <a:off x="1905120" y="1371600"/>
          <a:ext cx="530532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371600"/>
                    <a:ext cx="53053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191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1371600" y="334800"/>
            <a:ext cx="7375680" cy="7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: Basic Push model (4)</a:t>
            </a:r>
            <a:br>
              <a:rPr sz="2400"/>
            </a:b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Viewing ph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3" name=""/>
          <p:cNvGraphicFramePr/>
          <p:nvPr/>
        </p:nvGraphicFramePr>
        <p:xfrm>
          <a:off x="1905120" y="1371600"/>
          <a:ext cx="530532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371600"/>
                    <a:ext cx="53053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91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3756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ols…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91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3756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king systems ….??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483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91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3756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requirement mismatch….?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4327560" cy="20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34120" y="2438280"/>
            <a:ext cx="320328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91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334800"/>
            <a:ext cx="7375680" cy="7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V-Anytime System Design </a:t>
            </a:r>
            <a:br>
              <a:rPr sz="2400"/>
            </a:b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Goal: context to tool set created by TV-Any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5480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251280"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in criteri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1280"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1280" indent="-251280">
              <a:lnSpc>
                <a:spcPct val="115000"/>
              </a:lnSpc>
              <a:buClr>
                <a:srgbClr val="fafd00"/>
              </a:buClr>
              <a:buSzPct val="70000"/>
              <a:buFont typeface="Wingdings" charset="2"/>
              <a:buChar char="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lexi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1280" indent="0">
              <a:lnSpc>
                <a:spcPct val="115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1280" indent="-251280">
              <a:lnSpc>
                <a:spcPct val="115000"/>
              </a:lnSpc>
              <a:buClr>
                <a:srgbClr val="fafd00"/>
              </a:buClr>
              <a:buSzPct val="70000"/>
              <a:buFont typeface="Wingdings" charset="2"/>
              <a:buChar char="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nimum specification for interoperabi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1280" indent="0">
              <a:lnSpc>
                <a:spcPct val="115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1280" indent="-251280">
              <a:lnSpc>
                <a:spcPct val="115000"/>
              </a:lnSpc>
              <a:buClr>
                <a:srgbClr val="fafd00"/>
              </a:buClr>
              <a:buSzPct val="70000"/>
              <a:buFont typeface="Wingdings" charset="2"/>
              <a:buChar char="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tenda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1280" indent="0">
              <a:lnSpc>
                <a:spcPct val="115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1280" indent="-251280">
              <a:lnSpc>
                <a:spcPct val="115000"/>
              </a:lnSpc>
              <a:buClr>
                <a:srgbClr val="fafd00"/>
              </a:buClr>
              <a:buSzPct val="70000"/>
              <a:buFont typeface="Wingdings" charset="2"/>
              <a:buChar char="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usiness model independ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1280" indent="0">
              <a:lnSpc>
                <a:spcPct val="115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1280" indent="-251280">
              <a:lnSpc>
                <a:spcPct val="115000"/>
              </a:lnSpc>
              <a:buClr>
                <a:srgbClr val="fafd00"/>
              </a:buClr>
              <a:buSzPct val="70000"/>
              <a:buFont typeface="Wingdings" charset="2"/>
              <a:buChar char="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tic &amp; Dynam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1280" indent="0">
              <a:lnSpc>
                <a:spcPct val="115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1280" indent="0">
              <a:lnSpc>
                <a:spcPct val="115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91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3756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V-Anytime static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600200" y="1262160"/>
          <a:ext cx="6234120" cy="55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62160"/>
                    <a:ext cx="6234120" cy="55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91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3756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V-Anytime dynamic pha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590920"/>
            <a:ext cx="8153640" cy="1981080"/>
          </a:xfrm>
          <a:prstGeom prst="rightArrow">
            <a:avLst>
              <a:gd name="adj1" fmla="val 55926"/>
              <a:gd name="adj2" fmla="val 84792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ublish   search   select   locate   acquire   view   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91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3756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adcast PDR: TV-A basic push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716120" y="1295280"/>
          <a:ext cx="6168960" cy="53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1295280"/>
                    <a:ext cx="6168960" cy="53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91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3756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active PDR: TV-A fully interactive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905120" y="1219320"/>
          <a:ext cx="6095880" cy="54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19320"/>
                    <a:ext cx="60958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7T07:41:10Z</dcterms:created>
  <dc:creator>Don van Toor</dc:creator>
  <dc:description/>
  <dc:language>en-US</dc:language>
  <cp:lastModifiedBy>Frits Klok</cp:lastModifiedBy>
  <cp:lastPrinted>1998-12-14T10:08:41Z</cp:lastPrinted>
  <dcterms:modified xsi:type="dcterms:W3CDTF">2000-09-12T11:23:36Z</dcterms:modified>
  <cp:revision>49</cp:revision>
  <dc:subject/>
  <dc:title>No Slide Title</dc:title>
</cp:coreProperties>
</file>