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3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35"/>
                </a:solidFill>
                <a:latin typeface="Arial"/>
              </a:rPr>
              <a:t>The current state of PVRs</a:t>
            </a:r>
            <a:endParaRPr b="1" lang="en-US" sz="48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79246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kip Pizzi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echnical Manager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orldwide TV Standards &amp; Strateg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icrosoft Corpor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The flint-axe era</a:t>
            </a: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stand-alone analog PV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You supply the vide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PG via mode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VR as a new service busines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asic functional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VCR-lik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ive paus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lay while record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&lt;10 hours capac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Second-gen: PVR+STB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ntegrated receiver/recorder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first “PDRs”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PG data comes with cont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reatens 1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-gen business model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ar more accurat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ccommodates late chang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evice optimized to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Larger storage capacities (30 hrs +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Pros and cons of integration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VR “hijacks” the receiver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wo-tuner desig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win-decoder desig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reeing the backchann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pdating the processo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teractive servic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ternet TV servic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Next-gen devices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More storage (50 hrs +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movable media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gital I/O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C PV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VR as standard in all STB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More intellige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egmentation/Micro-navig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etter virtual channel cre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Greater interactivit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Business reaction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FU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est build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cognizing opportuniti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tent provider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ervice provider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dvertiser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lectronics manufacturer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artnership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New servic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Current Players - USA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iVo - standalon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ReplayTV - standalon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icrosoft WebTV – Dish Network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iVo – DIRECTV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icrosoft WebTV – DIRECTV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35"/>
                </a:solidFill>
                <a:latin typeface="Arial"/>
              </a:rPr>
              <a:t>New movement – UK</a:t>
            </a: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New device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wo-tuner PVR w/ADS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-downloaded PPV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rvice partnership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ky-TiV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ore to come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3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f1e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9T15:46:27Z</dcterms:created>
  <dc:creator>Skip Pizzi</dc:creator>
  <dc:description/>
  <dc:language>en-US</dc:language>
  <cp:lastModifiedBy>Skip Pizzi</cp:lastModifiedBy>
  <dcterms:modified xsi:type="dcterms:W3CDTF">2000-09-29T17:19:51Z</dcterms:modified>
  <cp:revision>3</cp:revision>
  <dc:subject/>
  <dc:title>The current state of PVRs</dc:title>
</cp:coreProperties>
</file>