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8236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3040" y="3930840"/>
            <a:ext cx="8236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3040" y="393084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3320" y="393084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7640" y="157752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2600" y="157752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040" y="393084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7640" y="393084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2600" y="393084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73040" y="1577520"/>
            <a:ext cx="8236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823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400" y="561960"/>
            <a:ext cx="5505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040" y="393084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3040" y="1577520"/>
            <a:ext cx="8236080" cy="45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3320" y="393084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3040" y="3930840"/>
            <a:ext cx="8236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8236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40" y="3930840"/>
            <a:ext cx="8236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3040" y="393084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3320" y="393084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57640" y="157752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2600" y="157752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3040" y="393084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57640" y="393084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2600" y="3930840"/>
            <a:ext cx="265176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823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400" y="561960"/>
            <a:ext cx="5505480" cy="30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3040" y="393084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3320" y="393084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3320" y="1577520"/>
            <a:ext cx="401904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3040" y="3930840"/>
            <a:ext cx="8236080" cy="214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9160" y="125280"/>
            <a:ext cx="8910720" cy="6616800"/>
          </a:xfrm>
          <a:prstGeom prst="roundRect">
            <a:avLst>
              <a:gd name="adj" fmla="val 2407"/>
            </a:avLst>
          </a:prstGeom>
          <a:solidFill>
            <a:srgbClr val="005d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73040" y="1577520"/>
            <a:ext cx="8236080" cy="45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199"/>
              </a:spcBef>
              <a:buClr>
                <a:srgbClr val="f8b8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f8b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f8b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1199"/>
              </a:spcBef>
              <a:buClr>
                <a:srgbClr val="f8b8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1199"/>
              </a:spcBef>
              <a:buClr>
                <a:srgbClr val="f8b8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789720" y="6431040"/>
            <a:ext cx="156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© 2000 pittard sullivan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210960" y="6370560"/>
            <a:ext cx="1758960" cy="289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28600" y="6292800"/>
            <a:ext cx="8674200" cy="0"/>
          </a:xfrm>
          <a:prstGeom prst="line">
            <a:avLst/>
          </a:prstGeom>
          <a:ln w="9360">
            <a:solidFill>
              <a:srgbClr val="bdb5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93680" y="6441120"/>
            <a:ext cx="10404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84E8-499B-410C-AC80-101F813C9E30}" type="slidenum">
              <a:rPr b="1" lang="en-US" sz="1400" spc="-1" strike="noStrike">
                <a:solidFill>
                  <a:srgbClr val="f8b8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2680" y="125280"/>
            <a:ext cx="8910720" cy="6616800"/>
          </a:xfrm>
          <a:prstGeom prst="roundRect">
            <a:avLst>
              <a:gd name="adj" fmla="val 2407"/>
            </a:avLst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6337440"/>
            <a:ext cx="867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54440" y="6364440"/>
            <a:ext cx="75996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5706" t="12724" r="6941" b="13814"/>
          <a:stretch/>
        </p:blipFill>
        <p:spPr>
          <a:xfrm>
            <a:off x="200160" y="6397560"/>
            <a:ext cx="1590480" cy="285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216000" y="365040"/>
            <a:ext cx="6019920" cy="768600"/>
          </a:xfrm>
          <a:prstGeom prst="roundRect">
            <a:avLst>
              <a:gd name="adj" fmla="val 16667"/>
            </a:avLst>
          </a:prstGeom>
          <a:solidFill>
            <a:srgbClr val="00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00" y="364680"/>
            <a:ext cx="5752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71360" y="6431040"/>
            <a:ext cx="160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6600"/>
                </a:solidFill>
                <a:latin typeface="Arial"/>
              </a:rPr>
              <a:t>© 2000 Pittard Sullivan, In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68400" y="-187200"/>
            <a:ext cx="9202320" cy="7235640"/>
            <a:chOff x="68400" y="-187200"/>
            <a:chExt cx="9202320" cy="7235640"/>
          </a:xfrm>
        </p:grpSpPr>
        <p:grpSp>
          <p:nvGrpSpPr>
            <p:cNvPr id="87" name=""/>
            <p:cNvGrpSpPr/>
            <p:nvPr/>
          </p:nvGrpSpPr>
          <p:grpSpPr>
            <a:xfrm>
              <a:off x="68400" y="-187200"/>
              <a:ext cx="9075600" cy="7234200"/>
              <a:chOff x="68400" y="-187200"/>
              <a:chExt cx="9075600" cy="7234200"/>
            </a:xfrm>
          </p:grpSpPr>
          <p:grpSp>
            <p:nvGrpSpPr>
              <p:cNvPr id="88" name=""/>
              <p:cNvGrpSpPr/>
              <p:nvPr/>
            </p:nvGrpSpPr>
            <p:grpSpPr>
              <a:xfrm>
                <a:off x="68400" y="-187200"/>
                <a:ext cx="9075600" cy="7234200"/>
                <a:chOff x="68400" y="-187200"/>
                <a:chExt cx="9075600" cy="7234200"/>
              </a:xfrm>
            </p:grpSpPr>
            <p:grpSp>
              <p:nvGrpSpPr>
                <p:cNvPr id="89" name=""/>
                <p:cNvGrpSpPr/>
                <p:nvPr/>
              </p:nvGrpSpPr>
              <p:grpSpPr>
                <a:xfrm>
                  <a:off x="68400" y="-187200"/>
                  <a:ext cx="9075600" cy="7234200"/>
                  <a:chOff x="68400" y="-187200"/>
                  <a:chExt cx="9075600" cy="723420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>
                    <a:off x="68400" y="125280"/>
                    <a:ext cx="8910720" cy="6616800"/>
                  </a:xfrm>
                  <a:prstGeom prst="roundRect">
                    <a:avLst>
                      <a:gd name="adj" fmla="val 2407"/>
                    </a:avLst>
                  </a:prstGeom>
                  <a:solidFill>
                    <a:srgbClr val="bdb5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91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19120" y="-187200"/>
                    <a:ext cx="862488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9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640" y="352440"/>
                  <a:ext cx="5465520" cy="99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3" name=""/>
              <p:cNvSpPr/>
              <p:nvPr/>
            </p:nvSpPr>
            <p:spPr>
              <a:xfrm>
                <a:off x="385200" y="6323040"/>
                <a:ext cx="810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 o s  a n g e l e s  |  n e w  y o r k  |  l o n d o n  |  m u n i c h  |  h o n g   k o n 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5562720" y="-165240"/>
              <a:ext cx="320040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6743880"/>
              <a:ext cx="2997360" cy="30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6952680" y="2533320"/>
              <a:ext cx="433080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1806480" y="4100400"/>
            <a:ext cx="24480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esented By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ly Pitt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63560" y="2857680"/>
            <a:ext cx="7886880" cy="1180800"/>
            <a:chOff x="1663560" y="2857680"/>
            <a:chExt cx="7886880" cy="1180800"/>
          </a:xfrm>
        </p:grpSpPr>
        <p:sp>
          <p:nvSpPr>
            <p:cNvPr id="99" name=""/>
            <p:cNvSpPr/>
            <p:nvPr/>
          </p:nvSpPr>
          <p:spPr>
            <a:xfrm>
              <a:off x="1663560" y="2857680"/>
              <a:ext cx="7886880" cy="11808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996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5560" y="3105000"/>
              <a:ext cx="55515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ow PVRs Are Changing the Lives of Consumer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3040" y="1577880"/>
            <a:ext cx="8236080" cy="4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stry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41400" y="2162160"/>
            <a:ext cx="7767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5000"/>
          </a:bodyPr>
          <a:p>
            <a:pPr marL="42480" indent="-4248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alue in off-hour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480" indent="-4248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ility of non-real-time distrib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480" indent="-4248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llenges in branding PVR servi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480" indent="-4248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annel branding challenge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2480" indent="-4248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gram branding increases in impor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8236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tertainment industry professionals shoul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e PV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58760" y="2567160"/>
            <a:ext cx="7650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92960" indent="-1929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ultimate air-check de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hows you’d miss but need to s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2960" indent="-1929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more viewing done in less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3040" y="2491920"/>
            <a:ext cx="8236080" cy="35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some of the same reason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VRs will prolifera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VRs will change our liv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3040" y="2995560"/>
            <a:ext cx="8236080" cy="28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4040" indent="-28404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lly@pittardsullivan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68400" y="-187200"/>
            <a:ext cx="9202320" cy="7235640"/>
            <a:chOff x="68400" y="-187200"/>
            <a:chExt cx="9202320" cy="7235640"/>
          </a:xfrm>
        </p:grpSpPr>
        <p:grpSp>
          <p:nvGrpSpPr>
            <p:cNvPr id="134" name=""/>
            <p:cNvGrpSpPr/>
            <p:nvPr/>
          </p:nvGrpSpPr>
          <p:grpSpPr>
            <a:xfrm>
              <a:off x="68400" y="-187200"/>
              <a:ext cx="9075600" cy="7234200"/>
              <a:chOff x="68400" y="-187200"/>
              <a:chExt cx="9075600" cy="7234200"/>
            </a:xfrm>
          </p:grpSpPr>
          <p:grpSp>
            <p:nvGrpSpPr>
              <p:cNvPr id="135" name=""/>
              <p:cNvGrpSpPr/>
              <p:nvPr/>
            </p:nvGrpSpPr>
            <p:grpSpPr>
              <a:xfrm>
                <a:off x="68400" y="-187200"/>
                <a:ext cx="9075600" cy="7234200"/>
                <a:chOff x="68400" y="-187200"/>
                <a:chExt cx="9075600" cy="723420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68400" y="-187200"/>
                  <a:ext cx="9075600" cy="7234200"/>
                  <a:chOff x="68400" y="-187200"/>
                  <a:chExt cx="9075600" cy="723420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68400" y="125280"/>
                    <a:ext cx="8910720" cy="6616800"/>
                  </a:xfrm>
                  <a:prstGeom prst="roundRect">
                    <a:avLst>
                      <a:gd name="adj" fmla="val 2407"/>
                    </a:avLst>
                  </a:prstGeom>
                  <a:solidFill>
                    <a:srgbClr val="bdb58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38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19120" y="-187200"/>
                    <a:ext cx="862488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3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4640" y="352440"/>
                  <a:ext cx="5465520" cy="992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40" name=""/>
              <p:cNvSpPr/>
              <p:nvPr/>
            </p:nvSpPr>
            <p:spPr>
              <a:xfrm>
                <a:off x="385200" y="6323040"/>
                <a:ext cx="8101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 o s  a n g e l e s  |  n e w  y o r k  |  l o n d o n  |  m u n i c h  |  h o n g   k o n g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562720" y="-165240"/>
              <a:ext cx="320040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6743880"/>
              <a:ext cx="2997360" cy="30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5400000">
              <a:off x="6952680" y="2533320"/>
              <a:ext cx="4330800" cy="304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806480" y="4100400"/>
            <a:ext cx="244800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ptember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esented By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ly Pitt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63560" y="2857680"/>
            <a:ext cx="7886880" cy="1180800"/>
            <a:chOff x="1663560" y="2857680"/>
            <a:chExt cx="7886880" cy="1180800"/>
          </a:xfrm>
        </p:grpSpPr>
        <p:sp>
          <p:nvSpPr>
            <p:cNvPr id="146" name=""/>
            <p:cNvSpPr/>
            <p:nvPr/>
          </p:nvSpPr>
          <p:spPr>
            <a:xfrm>
              <a:off x="1663560" y="2857680"/>
              <a:ext cx="7886880" cy="118080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50000"/>
              </a:srgbClr>
            </a:solidFill>
            <a:ln w="9360">
              <a:solidFill>
                <a:srgbClr val="ff9966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25560" y="3105000"/>
              <a:ext cx="55515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How PVRs Are Changing the Lives of Consumer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9600" y="2120400"/>
            <a:ext cx="8309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ittard Sulliv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vides end-to-end brand solutions for entertainment and media, worldwide. Services include strategic planning, branding, design, advertising, and public relations with a focus on digital media and televis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73040" y="2975040"/>
            <a:ext cx="823608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Viewer + User = View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8236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vision viewing is better with a PV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3040" y="2212920"/>
            <a:ext cx="82360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3000"/>
          </a:bodyPr>
          <a:p>
            <a:pPr lvl="1" marL="195480" indent="-6552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VRs put more control into the hands of the vie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480" indent="-6552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pleasurable viewing experience due to the VCR-type contr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480" indent="-6552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can watch a show in less tim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5480" indent="-6552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so easy! No comparison to VC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3040" y="1577880"/>
            <a:ext cx="82360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e more TV you lik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3040" y="2212920"/>
            <a:ext cx="82360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 lvl="1" marL="178560" indent="-597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don’t have to watch so much TV to see the good stuff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560" indent="-597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e shows you’d otherwise mi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560" indent="-597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ee more episodes—because our schedule doesn’t cause us to miss our favorite sh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8560" indent="-597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earning feature of PVRs exposes viewers to more of the kinds of things they like, but might otherwise mi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5505480" cy="6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73040" y="1577880"/>
            <a:ext cx="82360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 prime tim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3040" y="2212920"/>
            <a:ext cx="82360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lvl="1" marL="14436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end of network prime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w, prime time is my time—even if it’s 3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doesn’t matter when a show air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ch what you want when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4436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reedom with personal schedu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82360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07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ing habits chan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5760" y="2146320"/>
            <a:ext cx="82357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lvl="1" marL="221040" indent="-741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watch more TV now that we have 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1040" indent="-741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viewing schedules develo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221040" indent="-7416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are shows with friends—because we c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3040" y="1577520"/>
            <a:ext cx="823608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hallenge for the consu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23760" y="2179800"/>
            <a:ext cx="778536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8000"/>
          </a:bodyPr>
          <a:p>
            <a:pPr marL="51120" indent="-5112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derstanding what these things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to call them: PVRs, PDRs, Personal televi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n-store experi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rice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120" indent="-5112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up and customer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7400" y="561960"/>
            <a:ext cx="550548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3040" y="1577880"/>
            <a:ext cx="823608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ustry effec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760" y="2149560"/>
            <a:ext cx="77853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7000"/>
          </a:bodyPr>
          <a:p>
            <a:pPr marL="4824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r program loya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4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er knowledge of preferences of individual view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4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y-targeted ad plac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4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ad revenue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4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opportuniti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240" indent="-48240">
              <a:lnSpc>
                <a:spcPct val="100000"/>
              </a:lnSpc>
              <a:spcBef>
                <a:spcPts val="1199"/>
              </a:spcBef>
              <a:buClr>
                <a:srgbClr val="f8b8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kinds of interactive shows based on PVR capabilit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2T17:26:39Z</dcterms:created>
  <dc:creator>Marvin Price</dc:creator>
  <dc:description/>
  <dc:language>en-US</dc:language>
  <cp:lastModifiedBy>Marvin Price</cp:lastModifiedBy>
  <cp:lastPrinted>2000-07-14T00:29:52Z</cp:lastPrinted>
  <dcterms:modified xsi:type="dcterms:W3CDTF">2000-09-29T15:56:51Z</dcterms:modified>
  <cp:revision>231</cp:revision>
  <dc:subject/>
  <dc:title>No Slide Title</dc:title>
</cp:coreProperties>
</file>