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2825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1440" y="12600"/>
            <a:ext cx="29368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3360" y="12600"/>
            <a:ext cx="29368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-1440" y="9435960"/>
            <a:ext cx="29368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3843360" y="9435960"/>
            <a:ext cx="29368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870A49C0-A423-4B7F-9BD5-34FA2703C4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905040" y="4719240"/>
            <a:ext cx="4968720" cy="4483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Img"/>
          </p:nvPr>
        </p:nvSpPr>
        <p:spPr>
          <a:xfrm>
            <a:off x="880920" y="860040"/>
            <a:ext cx="5018400" cy="347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43360" y="9435960"/>
            <a:ext cx="29368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B893DD6D-FF92-47E8-A627-E5794E65E6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1440" y="9435960"/>
            <a:ext cx="29368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1440" y="12600"/>
            <a:ext cx="29368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43360" y="12600"/>
            <a:ext cx="29368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-2460600" y="1523880"/>
            <a:ext cx="11633040" cy="805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39360" y="800280"/>
            <a:ext cx="1187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0240" y="3995280"/>
            <a:ext cx="8747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0240" y="399528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2600" y="399528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17640" y="144792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75040" y="144792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60240" y="399528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17640" y="399528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75040" y="399528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50960" y="151920"/>
            <a:ext cx="77709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0240" y="399528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2600" y="399528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0240" y="3995280"/>
            <a:ext cx="8747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0240" y="3995280"/>
            <a:ext cx="8747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0240" y="399528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2600" y="399528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17640" y="144792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75040" y="144792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0240" y="399528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17640" y="399528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75040" y="3995280"/>
            <a:ext cx="2816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50960" y="151920"/>
            <a:ext cx="77709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60240" y="399528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2600" y="399528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2600" y="1447920"/>
            <a:ext cx="4268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0240" y="3995280"/>
            <a:ext cx="874728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30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2720" indent="-2271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2720" indent="-2271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2720" indent="-2271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55640" y="990720"/>
            <a:ext cx="725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650960" y="990720"/>
            <a:ext cx="725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47680" y="304920"/>
            <a:ext cx="1238400" cy="652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7520" indent="0" algn="ctr">
              <a:spcBef>
                <a:spcPts val="6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2779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50760" indent="417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6840" indent="5587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66840" indent="55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66840" indent="55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19462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5880" y="152352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TV-Anytime:</a:t>
            </a:r>
            <a:br>
              <a:rPr sz="3200"/>
            </a:b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Store it on my TV</a:t>
            </a:r>
            <a:br>
              <a:rPr sz="3200"/>
            </a:b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&amp; Share it!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86080" y="41148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nald 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ilips Digital Systems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Share it! partners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42976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spcBef>
                <a:spcPts val="1562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ox manufactur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hili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562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562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chnology provi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U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raunhofer/Fok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09840" y="1447920"/>
            <a:ext cx="42973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spcBef>
                <a:spcPts val="1562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KP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562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562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roadcas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O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562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Share it! Objectives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and implement an end-to-en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easy access to and transfer of personal content in home-to-home networks, such as 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Virtual Family Network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innovative services through a seamless combination of on-line, broadcast, and stor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ibution and adherence t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Milestones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55560" y="1521000"/>
          <a:ext cx="906804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521000"/>
                    <a:ext cx="90680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Features of a Share it! System 1/2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gital Video Broadcast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-hom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able storage?  sneaker-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age (&gt;&gt;100 hrs broadcast qu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record / 3 playback simultaneous (local and / or network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5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Features of a Share it! System 2/2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 fontScale="99000"/>
          </a:bodyPr>
          <a:p>
            <a:pPr marL="337680" indent="-337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cy, security, rights and network control /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ed navigation,content management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V Anytime services an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ing content in the (friends/family)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d/fetch content+metadata+content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abl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ing live/recorded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Broadcast channel, my Studio, community TV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TV-Anytime phases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0240" y="1447560"/>
            <a:ext cx="8747280" cy="2361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spcBef>
                <a:spcPts val="1562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VA phase 1 (1999-200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search, select, acquire and rightfully utilize material 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n a local storage device 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rom both broadcast and on-line 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0240" y="3898800"/>
            <a:ext cx="8747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56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VA phase 2 (2001-200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transfer material between local storage devices 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using home networks and exchangeable media 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nd to micro-navigate around the rich cont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information on Share it! 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Morris, Philips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.morris@philip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xtra.research.philips.com/euprojects/share_i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Historic perspective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 fontScale="99000"/>
          </a:bodyPr>
          <a:p>
            <a:pPr marL="337680" indent="-3376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5 SM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HD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 STO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ting the righ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V Anytime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 my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operable TVA solution for DV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ization: TVAF, DVB, IETF, W3C, M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 Shar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al content sharing in home-to-hom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TV-Anytime functionality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what you want, when you wan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r ways for the consumer to acqui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V content on local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on EPG, trailer,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gt; programmes &g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es, related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s items, parts of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lisation and automatic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myTV: TV-Anytime for DVB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y and implement a consumer platform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built-in local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TV-Anytime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true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 equipment manufacturers: Philips, No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casters: BBC, RAI, N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y (&amp; service) providers: UoL, 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t IFA 2001 and IBC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2920" y="1212840"/>
            <a:ext cx="9077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mbining TV Anytime, MHP and PVR functionali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V implemented a rich set of new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08000" y="2685960"/>
            <a:ext cx="6013800" cy="3695760"/>
            <a:chOff x="1908000" y="2685960"/>
            <a:chExt cx="6013800" cy="3695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908000" y="2685960"/>
              <a:ext cx="601380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155680" y="3508200"/>
              <a:ext cx="173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n-stored T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1000" y="56577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V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99200" y="350820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andard MH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56160" y="4667040"/>
              <a:ext cx="12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ed MH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28840" y="4651200"/>
              <a:ext cx="14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ndard T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68320" y="3828960"/>
              <a:ext cx="845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yT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myTV project - Overview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27040" y="3619440"/>
            <a:ext cx="4235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Philips myTV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6520" y="1434960"/>
          <a:ext cx="4267080" cy="24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434960"/>
                    <a:ext cx="4267080" cy="24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47680" y="5308560"/>
            <a:ext cx="9242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 fontScale="89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te system uses a TV Anytime enhanced DVB-S input stream, TV Anytime IP servers, and WAP / web clients for remote programming.  Supports normal PVR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myTV platforms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70400" y="3606840"/>
            <a:ext cx="423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Nokia myTV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638680" y="1434960"/>
            <a:ext cx="3386160" cy="2468520"/>
            <a:chOff x="5638680" y="1434960"/>
            <a:chExt cx="3386160" cy="2468520"/>
          </a:xfrm>
        </p:grpSpPr>
        <p:graphicFrame>
          <p:nvGraphicFramePr>
            <p:cNvPr id="112" name=""/>
            <p:cNvGraphicFramePr/>
            <p:nvPr/>
          </p:nvGraphicFramePr>
          <p:xfrm>
            <a:off x="5638680" y="2760480"/>
            <a:ext cx="3386160" cy="11430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2760480"/>
                      <a:ext cx="33861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5638680" y="1434960"/>
            <a:ext cx="3386160" cy="114300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8680" y="1434960"/>
                      <a:ext cx="33861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473120"/>
            <a:ext cx="907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/>
          </a:bodyPr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/implemented content referencing and metadata over DV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 Anytime functionality for PVRs without a back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accurate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ler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/ implemented protocols for querying TV Anytime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es real broadcaster schedule information from three different serv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myTV achievements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096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Share it! summary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0240" y="1447920"/>
            <a:ext cx="874728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ystem that enables eas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tent betwee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 stor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me-to-h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h2h) network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at en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nova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rvic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amless combination of on-li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roadcast, and stored cont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465360" y="228600"/>
            <a:ext cx="3135240" cy="1143000"/>
            <a:chOff x="3465360" y="228600"/>
            <a:chExt cx="3135240" cy="1143000"/>
          </a:xfrm>
        </p:grpSpPr>
        <p:sp>
          <p:nvSpPr>
            <p:cNvPr id="121" name=""/>
            <p:cNvSpPr/>
            <p:nvPr/>
          </p:nvSpPr>
          <p:spPr>
            <a:xfrm>
              <a:off x="3465360" y="228600"/>
              <a:ext cx="3135240" cy="1143000"/>
            </a:xfrm>
            <a:custGeom>
              <a:avLst/>
              <a:gdLst/>
              <a:ahLst/>
              <a:rect l="l" t="t" r="r" b="b"/>
              <a:pathLst>
                <a:path w="927" h="584">
                  <a:moveTo>
                    <a:pt x="135" y="433"/>
                  </a:moveTo>
                  <a:lnTo>
                    <a:pt x="148" y="462"/>
                  </a:lnTo>
                  <a:lnTo>
                    <a:pt x="165" y="488"/>
                  </a:lnTo>
                  <a:lnTo>
                    <a:pt x="182" y="511"/>
                  </a:lnTo>
                  <a:lnTo>
                    <a:pt x="201" y="533"/>
                  </a:lnTo>
                  <a:lnTo>
                    <a:pt x="225" y="549"/>
                  </a:lnTo>
                  <a:lnTo>
                    <a:pt x="248" y="563"/>
                  </a:lnTo>
                  <a:lnTo>
                    <a:pt x="271" y="574"/>
                  </a:lnTo>
                  <a:lnTo>
                    <a:pt x="295" y="581"/>
                  </a:lnTo>
                  <a:lnTo>
                    <a:pt x="321" y="583"/>
                  </a:lnTo>
                  <a:lnTo>
                    <a:pt x="347" y="581"/>
                  </a:lnTo>
                  <a:lnTo>
                    <a:pt x="372" y="577"/>
                  </a:lnTo>
                  <a:lnTo>
                    <a:pt x="395" y="568"/>
                  </a:lnTo>
                  <a:lnTo>
                    <a:pt x="420" y="556"/>
                  </a:lnTo>
                  <a:lnTo>
                    <a:pt x="441" y="538"/>
                  </a:lnTo>
                  <a:lnTo>
                    <a:pt x="462" y="520"/>
                  </a:lnTo>
                  <a:lnTo>
                    <a:pt x="484" y="538"/>
                  </a:lnTo>
                  <a:lnTo>
                    <a:pt x="505" y="556"/>
                  </a:lnTo>
                  <a:lnTo>
                    <a:pt x="529" y="568"/>
                  </a:lnTo>
                  <a:lnTo>
                    <a:pt x="552" y="577"/>
                  </a:lnTo>
                  <a:lnTo>
                    <a:pt x="578" y="581"/>
                  </a:lnTo>
                  <a:lnTo>
                    <a:pt x="604" y="583"/>
                  </a:lnTo>
                  <a:lnTo>
                    <a:pt x="628" y="581"/>
                  </a:lnTo>
                  <a:lnTo>
                    <a:pt x="653" y="574"/>
                  </a:lnTo>
                  <a:lnTo>
                    <a:pt x="676" y="563"/>
                  </a:lnTo>
                  <a:lnTo>
                    <a:pt x="700" y="549"/>
                  </a:lnTo>
                  <a:lnTo>
                    <a:pt x="721" y="533"/>
                  </a:lnTo>
                  <a:lnTo>
                    <a:pt x="741" y="511"/>
                  </a:lnTo>
                  <a:lnTo>
                    <a:pt x="760" y="488"/>
                  </a:lnTo>
                  <a:lnTo>
                    <a:pt x="775" y="462"/>
                  </a:lnTo>
                  <a:lnTo>
                    <a:pt x="789" y="433"/>
                  </a:lnTo>
                  <a:lnTo>
                    <a:pt x="805" y="437"/>
                  </a:lnTo>
                  <a:lnTo>
                    <a:pt x="822" y="438"/>
                  </a:lnTo>
                  <a:lnTo>
                    <a:pt x="838" y="435"/>
                  </a:lnTo>
                  <a:lnTo>
                    <a:pt x="855" y="429"/>
                  </a:lnTo>
                  <a:lnTo>
                    <a:pt x="868" y="418"/>
                  </a:lnTo>
                  <a:lnTo>
                    <a:pt x="883" y="407"/>
                  </a:lnTo>
                  <a:lnTo>
                    <a:pt x="895" y="393"/>
                  </a:lnTo>
                  <a:lnTo>
                    <a:pt x="905" y="374"/>
                  </a:lnTo>
                  <a:lnTo>
                    <a:pt x="915" y="355"/>
                  </a:lnTo>
                  <a:lnTo>
                    <a:pt x="920" y="335"/>
                  </a:lnTo>
                  <a:lnTo>
                    <a:pt x="924" y="313"/>
                  </a:lnTo>
                  <a:lnTo>
                    <a:pt x="926" y="292"/>
                  </a:lnTo>
                  <a:lnTo>
                    <a:pt x="924" y="270"/>
                  </a:lnTo>
                  <a:lnTo>
                    <a:pt x="920" y="248"/>
                  </a:lnTo>
                  <a:lnTo>
                    <a:pt x="915" y="228"/>
                  </a:lnTo>
                  <a:lnTo>
                    <a:pt x="905" y="208"/>
                  </a:lnTo>
                  <a:lnTo>
                    <a:pt x="895" y="190"/>
                  </a:lnTo>
                  <a:lnTo>
                    <a:pt x="883" y="176"/>
                  </a:lnTo>
                  <a:lnTo>
                    <a:pt x="868" y="164"/>
                  </a:lnTo>
                  <a:lnTo>
                    <a:pt x="855" y="155"/>
                  </a:lnTo>
                  <a:lnTo>
                    <a:pt x="838" y="148"/>
                  </a:lnTo>
                  <a:lnTo>
                    <a:pt x="822" y="146"/>
                  </a:lnTo>
                  <a:lnTo>
                    <a:pt x="805" y="146"/>
                  </a:lnTo>
                  <a:lnTo>
                    <a:pt x="789" y="150"/>
                  </a:lnTo>
                  <a:lnTo>
                    <a:pt x="775" y="121"/>
                  </a:lnTo>
                  <a:lnTo>
                    <a:pt x="760" y="95"/>
                  </a:lnTo>
                  <a:lnTo>
                    <a:pt x="741" y="72"/>
                  </a:lnTo>
                  <a:lnTo>
                    <a:pt x="721" y="51"/>
                  </a:lnTo>
                  <a:lnTo>
                    <a:pt x="700" y="34"/>
                  </a:lnTo>
                  <a:lnTo>
                    <a:pt x="676" y="19"/>
                  </a:lnTo>
                  <a:lnTo>
                    <a:pt x="653" y="9"/>
                  </a:lnTo>
                  <a:lnTo>
                    <a:pt x="628" y="3"/>
                  </a:lnTo>
                  <a:lnTo>
                    <a:pt x="604" y="0"/>
                  </a:lnTo>
                  <a:lnTo>
                    <a:pt x="578" y="1"/>
                  </a:lnTo>
                  <a:lnTo>
                    <a:pt x="552" y="6"/>
                  </a:lnTo>
                  <a:lnTo>
                    <a:pt x="529" y="15"/>
                  </a:lnTo>
                  <a:lnTo>
                    <a:pt x="505" y="27"/>
                  </a:lnTo>
                  <a:lnTo>
                    <a:pt x="484" y="44"/>
                  </a:lnTo>
                  <a:lnTo>
                    <a:pt x="462" y="63"/>
                  </a:lnTo>
                  <a:lnTo>
                    <a:pt x="441" y="44"/>
                  </a:lnTo>
                  <a:lnTo>
                    <a:pt x="420" y="27"/>
                  </a:lnTo>
                  <a:lnTo>
                    <a:pt x="395" y="15"/>
                  </a:lnTo>
                  <a:lnTo>
                    <a:pt x="372" y="6"/>
                  </a:lnTo>
                  <a:lnTo>
                    <a:pt x="347" y="1"/>
                  </a:lnTo>
                  <a:lnTo>
                    <a:pt x="321" y="0"/>
                  </a:lnTo>
                  <a:lnTo>
                    <a:pt x="295" y="3"/>
                  </a:lnTo>
                  <a:lnTo>
                    <a:pt x="271" y="9"/>
                  </a:lnTo>
                  <a:lnTo>
                    <a:pt x="248" y="19"/>
                  </a:lnTo>
                  <a:lnTo>
                    <a:pt x="225" y="34"/>
                  </a:lnTo>
                  <a:lnTo>
                    <a:pt x="201" y="51"/>
                  </a:lnTo>
                  <a:lnTo>
                    <a:pt x="182" y="72"/>
                  </a:lnTo>
                  <a:lnTo>
                    <a:pt x="165" y="95"/>
                  </a:lnTo>
                  <a:lnTo>
                    <a:pt x="148" y="121"/>
                  </a:lnTo>
                  <a:lnTo>
                    <a:pt x="135" y="150"/>
                  </a:lnTo>
                  <a:lnTo>
                    <a:pt x="118" y="146"/>
                  </a:lnTo>
                  <a:lnTo>
                    <a:pt x="102" y="146"/>
                  </a:lnTo>
                  <a:lnTo>
                    <a:pt x="85" y="148"/>
                  </a:lnTo>
                  <a:lnTo>
                    <a:pt x="70" y="155"/>
                  </a:lnTo>
                  <a:lnTo>
                    <a:pt x="54" y="164"/>
                  </a:lnTo>
                  <a:lnTo>
                    <a:pt x="40" y="176"/>
                  </a:lnTo>
                  <a:lnTo>
                    <a:pt x="30" y="190"/>
                  </a:lnTo>
                  <a:lnTo>
                    <a:pt x="19" y="208"/>
                  </a:lnTo>
                  <a:lnTo>
                    <a:pt x="9" y="228"/>
                  </a:lnTo>
                  <a:lnTo>
                    <a:pt x="4" y="248"/>
                  </a:lnTo>
                  <a:lnTo>
                    <a:pt x="1" y="270"/>
                  </a:lnTo>
                  <a:lnTo>
                    <a:pt x="0" y="292"/>
                  </a:lnTo>
                  <a:lnTo>
                    <a:pt x="1" y="313"/>
                  </a:lnTo>
                  <a:lnTo>
                    <a:pt x="4" y="335"/>
                  </a:lnTo>
                  <a:lnTo>
                    <a:pt x="9" y="355"/>
                  </a:lnTo>
                  <a:lnTo>
                    <a:pt x="19" y="374"/>
                  </a:lnTo>
                  <a:lnTo>
                    <a:pt x="30" y="393"/>
                  </a:lnTo>
                  <a:lnTo>
                    <a:pt x="40" y="407"/>
                  </a:lnTo>
                  <a:lnTo>
                    <a:pt x="54" y="418"/>
                  </a:lnTo>
                  <a:lnTo>
                    <a:pt x="70" y="429"/>
                  </a:lnTo>
                  <a:lnTo>
                    <a:pt x="85" y="435"/>
                  </a:lnTo>
                  <a:lnTo>
                    <a:pt x="102" y="438"/>
                  </a:lnTo>
                  <a:lnTo>
                    <a:pt x="118" y="437"/>
                  </a:lnTo>
                  <a:lnTo>
                    <a:pt x="135" y="433"/>
                  </a:lnTo>
                </a:path>
              </a:pathLst>
            </a:custGeom>
            <a:solidFill>
              <a:srgbClr val="76a7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1440" y="57456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887560" y="2362320"/>
            <a:ext cx="4127040" cy="3251160"/>
            <a:chOff x="2887560" y="2362320"/>
            <a:chExt cx="4127040" cy="3251160"/>
          </a:xfrm>
        </p:grpSpPr>
        <p:grpSp>
          <p:nvGrpSpPr>
            <p:cNvPr id="124" name=""/>
            <p:cNvGrpSpPr/>
            <p:nvPr/>
          </p:nvGrpSpPr>
          <p:grpSpPr>
            <a:xfrm>
              <a:off x="2887560" y="2819520"/>
              <a:ext cx="4127040" cy="2514600"/>
              <a:chOff x="2887560" y="2819520"/>
              <a:chExt cx="4127040" cy="2514600"/>
            </a:xfrm>
          </p:grpSpPr>
          <p:sp>
            <p:nvSpPr>
              <p:cNvPr id="125" name=""/>
              <p:cNvSpPr/>
              <p:nvPr/>
            </p:nvSpPr>
            <p:spPr>
              <a:xfrm>
                <a:off x="2887560" y="2819520"/>
                <a:ext cx="4127040" cy="2514600"/>
              </a:xfrm>
              <a:custGeom>
                <a:avLst/>
                <a:gdLst/>
                <a:ahLst/>
                <a:rect l="l" t="t" r="r" b="b"/>
                <a:pathLst>
                  <a:path w="927" h="584">
                    <a:moveTo>
                      <a:pt x="135" y="433"/>
                    </a:moveTo>
                    <a:lnTo>
                      <a:pt x="148" y="462"/>
                    </a:lnTo>
                    <a:lnTo>
                      <a:pt x="165" y="488"/>
                    </a:lnTo>
                    <a:lnTo>
                      <a:pt x="182" y="511"/>
                    </a:lnTo>
                    <a:lnTo>
                      <a:pt x="201" y="533"/>
                    </a:lnTo>
                    <a:lnTo>
                      <a:pt x="225" y="549"/>
                    </a:lnTo>
                    <a:lnTo>
                      <a:pt x="248" y="563"/>
                    </a:lnTo>
                    <a:lnTo>
                      <a:pt x="271" y="574"/>
                    </a:lnTo>
                    <a:lnTo>
                      <a:pt x="295" y="581"/>
                    </a:lnTo>
                    <a:lnTo>
                      <a:pt x="321" y="583"/>
                    </a:lnTo>
                    <a:lnTo>
                      <a:pt x="347" y="581"/>
                    </a:lnTo>
                    <a:lnTo>
                      <a:pt x="372" y="577"/>
                    </a:lnTo>
                    <a:lnTo>
                      <a:pt x="395" y="568"/>
                    </a:lnTo>
                    <a:lnTo>
                      <a:pt x="420" y="556"/>
                    </a:lnTo>
                    <a:lnTo>
                      <a:pt x="441" y="538"/>
                    </a:lnTo>
                    <a:lnTo>
                      <a:pt x="462" y="520"/>
                    </a:lnTo>
                    <a:lnTo>
                      <a:pt x="484" y="538"/>
                    </a:lnTo>
                    <a:lnTo>
                      <a:pt x="505" y="556"/>
                    </a:lnTo>
                    <a:lnTo>
                      <a:pt x="529" y="568"/>
                    </a:lnTo>
                    <a:lnTo>
                      <a:pt x="552" y="577"/>
                    </a:lnTo>
                    <a:lnTo>
                      <a:pt x="578" y="581"/>
                    </a:lnTo>
                    <a:lnTo>
                      <a:pt x="604" y="583"/>
                    </a:lnTo>
                    <a:lnTo>
                      <a:pt x="628" y="581"/>
                    </a:lnTo>
                    <a:lnTo>
                      <a:pt x="653" y="574"/>
                    </a:lnTo>
                    <a:lnTo>
                      <a:pt x="676" y="563"/>
                    </a:lnTo>
                    <a:lnTo>
                      <a:pt x="700" y="549"/>
                    </a:lnTo>
                    <a:lnTo>
                      <a:pt x="721" y="533"/>
                    </a:lnTo>
                    <a:lnTo>
                      <a:pt x="741" y="511"/>
                    </a:lnTo>
                    <a:lnTo>
                      <a:pt x="760" y="488"/>
                    </a:lnTo>
                    <a:lnTo>
                      <a:pt x="775" y="462"/>
                    </a:lnTo>
                    <a:lnTo>
                      <a:pt x="789" y="433"/>
                    </a:lnTo>
                    <a:lnTo>
                      <a:pt x="805" y="437"/>
                    </a:lnTo>
                    <a:lnTo>
                      <a:pt x="822" y="438"/>
                    </a:lnTo>
                    <a:lnTo>
                      <a:pt x="838" y="435"/>
                    </a:lnTo>
                    <a:lnTo>
                      <a:pt x="855" y="429"/>
                    </a:lnTo>
                    <a:lnTo>
                      <a:pt x="868" y="418"/>
                    </a:lnTo>
                    <a:lnTo>
                      <a:pt x="883" y="407"/>
                    </a:lnTo>
                    <a:lnTo>
                      <a:pt x="895" y="393"/>
                    </a:lnTo>
                    <a:lnTo>
                      <a:pt x="905" y="374"/>
                    </a:lnTo>
                    <a:lnTo>
                      <a:pt x="915" y="355"/>
                    </a:lnTo>
                    <a:lnTo>
                      <a:pt x="920" y="335"/>
                    </a:lnTo>
                    <a:lnTo>
                      <a:pt x="924" y="313"/>
                    </a:lnTo>
                    <a:lnTo>
                      <a:pt x="926" y="292"/>
                    </a:lnTo>
                    <a:lnTo>
                      <a:pt x="924" y="270"/>
                    </a:lnTo>
                    <a:lnTo>
                      <a:pt x="920" y="248"/>
                    </a:lnTo>
                    <a:lnTo>
                      <a:pt x="915" y="228"/>
                    </a:lnTo>
                    <a:lnTo>
                      <a:pt x="905" y="208"/>
                    </a:lnTo>
                    <a:lnTo>
                      <a:pt x="895" y="190"/>
                    </a:lnTo>
                    <a:lnTo>
                      <a:pt x="883" y="176"/>
                    </a:lnTo>
                    <a:lnTo>
                      <a:pt x="868" y="164"/>
                    </a:lnTo>
                    <a:lnTo>
                      <a:pt x="855" y="155"/>
                    </a:lnTo>
                    <a:lnTo>
                      <a:pt x="838" y="148"/>
                    </a:lnTo>
                    <a:lnTo>
                      <a:pt x="822" y="146"/>
                    </a:lnTo>
                    <a:lnTo>
                      <a:pt x="805" y="146"/>
                    </a:lnTo>
                    <a:lnTo>
                      <a:pt x="789" y="150"/>
                    </a:lnTo>
                    <a:lnTo>
                      <a:pt x="775" y="121"/>
                    </a:lnTo>
                    <a:lnTo>
                      <a:pt x="760" y="95"/>
                    </a:lnTo>
                    <a:lnTo>
                      <a:pt x="741" y="72"/>
                    </a:lnTo>
                    <a:lnTo>
                      <a:pt x="721" y="51"/>
                    </a:lnTo>
                    <a:lnTo>
                      <a:pt x="700" y="34"/>
                    </a:lnTo>
                    <a:lnTo>
                      <a:pt x="676" y="19"/>
                    </a:lnTo>
                    <a:lnTo>
                      <a:pt x="653" y="9"/>
                    </a:lnTo>
                    <a:lnTo>
                      <a:pt x="628" y="3"/>
                    </a:lnTo>
                    <a:lnTo>
                      <a:pt x="604" y="0"/>
                    </a:lnTo>
                    <a:lnTo>
                      <a:pt x="578" y="1"/>
                    </a:lnTo>
                    <a:lnTo>
                      <a:pt x="552" y="6"/>
                    </a:lnTo>
                    <a:lnTo>
                      <a:pt x="529" y="15"/>
                    </a:lnTo>
                    <a:lnTo>
                      <a:pt x="505" y="27"/>
                    </a:lnTo>
                    <a:lnTo>
                      <a:pt x="484" y="44"/>
                    </a:lnTo>
                    <a:lnTo>
                      <a:pt x="462" y="63"/>
                    </a:lnTo>
                    <a:lnTo>
                      <a:pt x="441" y="44"/>
                    </a:lnTo>
                    <a:lnTo>
                      <a:pt x="420" y="27"/>
                    </a:lnTo>
                    <a:lnTo>
                      <a:pt x="395" y="15"/>
                    </a:lnTo>
                    <a:lnTo>
                      <a:pt x="372" y="6"/>
                    </a:lnTo>
                    <a:lnTo>
                      <a:pt x="347" y="1"/>
                    </a:lnTo>
                    <a:lnTo>
                      <a:pt x="321" y="0"/>
                    </a:lnTo>
                    <a:lnTo>
                      <a:pt x="295" y="3"/>
                    </a:lnTo>
                    <a:lnTo>
                      <a:pt x="271" y="9"/>
                    </a:lnTo>
                    <a:lnTo>
                      <a:pt x="248" y="19"/>
                    </a:lnTo>
                    <a:lnTo>
                      <a:pt x="225" y="34"/>
                    </a:lnTo>
                    <a:lnTo>
                      <a:pt x="201" y="51"/>
                    </a:lnTo>
                    <a:lnTo>
                      <a:pt x="182" y="72"/>
                    </a:lnTo>
                    <a:lnTo>
                      <a:pt x="165" y="95"/>
                    </a:lnTo>
                    <a:lnTo>
                      <a:pt x="148" y="121"/>
                    </a:lnTo>
                    <a:lnTo>
                      <a:pt x="135" y="150"/>
                    </a:lnTo>
                    <a:lnTo>
                      <a:pt x="118" y="146"/>
                    </a:lnTo>
                    <a:lnTo>
                      <a:pt x="102" y="146"/>
                    </a:lnTo>
                    <a:lnTo>
                      <a:pt x="85" y="148"/>
                    </a:lnTo>
                    <a:lnTo>
                      <a:pt x="70" y="155"/>
                    </a:lnTo>
                    <a:lnTo>
                      <a:pt x="54" y="164"/>
                    </a:lnTo>
                    <a:lnTo>
                      <a:pt x="40" y="176"/>
                    </a:lnTo>
                    <a:lnTo>
                      <a:pt x="30" y="190"/>
                    </a:lnTo>
                    <a:lnTo>
                      <a:pt x="19" y="208"/>
                    </a:lnTo>
                    <a:lnTo>
                      <a:pt x="9" y="228"/>
                    </a:lnTo>
                    <a:lnTo>
                      <a:pt x="4" y="248"/>
                    </a:lnTo>
                    <a:lnTo>
                      <a:pt x="1" y="270"/>
                    </a:lnTo>
                    <a:lnTo>
                      <a:pt x="0" y="292"/>
                    </a:lnTo>
                    <a:lnTo>
                      <a:pt x="1" y="313"/>
                    </a:lnTo>
                    <a:lnTo>
                      <a:pt x="4" y="335"/>
                    </a:lnTo>
                    <a:lnTo>
                      <a:pt x="9" y="355"/>
                    </a:lnTo>
                    <a:lnTo>
                      <a:pt x="19" y="374"/>
                    </a:lnTo>
                    <a:lnTo>
                      <a:pt x="30" y="393"/>
                    </a:lnTo>
                    <a:lnTo>
                      <a:pt x="40" y="407"/>
                    </a:lnTo>
                    <a:lnTo>
                      <a:pt x="54" y="418"/>
                    </a:lnTo>
                    <a:lnTo>
                      <a:pt x="70" y="429"/>
                    </a:lnTo>
                    <a:lnTo>
                      <a:pt x="85" y="435"/>
                    </a:lnTo>
                    <a:lnTo>
                      <a:pt x="102" y="438"/>
                    </a:lnTo>
                    <a:lnTo>
                      <a:pt x="118" y="437"/>
                    </a:lnTo>
                    <a:lnTo>
                      <a:pt x="135" y="433"/>
                    </a:lnTo>
                  </a:path>
                </a:pathLst>
              </a:custGeom>
              <a:solidFill>
                <a:srgbClr val="76a7e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186080" y="3200400"/>
                <a:ext cx="163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broadban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interactiv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548160" y="4952880"/>
              <a:ext cx="617040" cy="38268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6920" y="2971800"/>
              <a:ext cx="617040" cy="38268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694120" y="4724280"/>
              <a:ext cx="907560" cy="889200"/>
              <a:chOff x="5694120" y="4724280"/>
              <a:chExt cx="907560" cy="8892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694120" y="4724280"/>
                <a:ext cx="907560" cy="889200"/>
                <a:chOff x="5694120" y="4724280"/>
                <a:chExt cx="907560" cy="889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694120" y="4724280"/>
                  <a:ext cx="907560" cy="889200"/>
                </a:xfrm>
                <a:custGeom>
                  <a:avLst/>
                  <a:gdLst/>
                  <a:ahLst/>
                  <a:rect l="l" t="t" r="r" b="b"/>
                  <a:pathLst>
                    <a:path w="3998" h="3804">
                      <a:moveTo>
                        <a:pt x="288" y="3804"/>
                      </a:moveTo>
                      <a:lnTo>
                        <a:pt x="288" y="1164"/>
                      </a:lnTo>
                      <a:lnTo>
                        <a:pt x="0" y="1164"/>
                      </a:lnTo>
                      <a:lnTo>
                        <a:pt x="2016" y="0"/>
                      </a:lnTo>
                      <a:lnTo>
                        <a:pt x="3998" y="1160"/>
                      </a:lnTo>
                      <a:lnTo>
                        <a:pt x="3696" y="1164"/>
                      </a:lnTo>
                      <a:lnTo>
                        <a:pt x="3696" y="3804"/>
                      </a:lnTo>
                      <a:lnTo>
                        <a:pt x="288" y="3804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832360" y="5328720"/>
                  <a:ext cx="6123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931000" y="5224320"/>
                  <a:ext cx="0" cy="10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030000" y="5328720"/>
                  <a:ext cx="0" cy="10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188040" y="5224320"/>
                  <a:ext cx="0" cy="10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06480" y="5328720"/>
                  <a:ext cx="0" cy="10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5871960" y="5411880"/>
                <a:ext cx="147600" cy="104400"/>
              </a:xfrm>
              <a:prstGeom prst="can">
                <a:avLst>
                  <a:gd name="adj" fmla="val 2500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134880" y="2362320"/>
              <a:ext cx="908280" cy="888840"/>
              <a:chOff x="3134880" y="2362320"/>
              <a:chExt cx="908280" cy="8888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3134880" y="2362320"/>
                <a:ext cx="908280" cy="888840"/>
                <a:chOff x="3134880" y="2362320"/>
                <a:chExt cx="908280" cy="888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134880" y="2362320"/>
                  <a:ext cx="908280" cy="888840"/>
                </a:xfrm>
                <a:custGeom>
                  <a:avLst/>
                  <a:gdLst/>
                  <a:ahLst/>
                  <a:rect l="l" t="t" r="r" b="b"/>
                  <a:pathLst>
                    <a:path w="3998" h="3804">
                      <a:moveTo>
                        <a:pt x="288" y="3804"/>
                      </a:moveTo>
                      <a:lnTo>
                        <a:pt x="288" y="1164"/>
                      </a:lnTo>
                      <a:lnTo>
                        <a:pt x="0" y="1164"/>
                      </a:lnTo>
                      <a:lnTo>
                        <a:pt x="2016" y="0"/>
                      </a:lnTo>
                      <a:lnTo>
                        <a:pt x="3998" y="1160"/>
                      </a:lnTo>
                      <a:lnTo>
                        <a:pt x="3696" y="1164"/>
                      </a:lnTo>
                      <a:lnTo>
                        <a:pt x="3696" y="3804"/>
                      </a:lnTo>
                      <a:lnTo>
                        <a:pt x="288" y="3804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273120" y="2966400"/>
                  <a:ext cx="612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372120" y="2862360"/>
                  <a:ext cx="0" cy="10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70760" y="2966400"/>
                  <a:ext cx="0" cy="10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629160" y="2862360"/>
                  <a:ext cx="0" cy="10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747960" y="2966400"/>
                  <a:ext cx="0" cy="10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312720" y="3049920"/>
                <a:ext cx="147600" cy="104400"/>
              </a:xfrm>
              <a:prstGeom prst="can">
                <a:avLst>
                  <a:gd name="adj" fmla="val 2500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6932520" y="2743200"/>
            <a:ext cx="2970360" cy="2362320"/>
            <a:chOff x="6932520" y="2743200"/>
            <a:chExt cx="2970360" cy="2362320"/>
          </a:xfrm>
        </p:grpSpPr>
        <p:grpSp>
          <p:nvGrpSpPr>
            <p:cNvPr id="148" name=""/>
            <p:cNvGrpSpPr/>
            <p:nvPr/>
          </p:nvGrpSpPr>
          <p:grpSpPr>
            <a:xfrm>
              <a:off x="6932520" y="2743200"/>
              <a:ext cx="2970360" cy="2362320"/>
              <a:chOff x="6932520" y="2743200"/>
              <a:chExt cx="2970360" cy="2362320"/>
            </a:xfrm>
          </p:grpSpPr>
          <p:sp>
            <p:nvSpPr>
              <p:cNvPr id="149" name=""/>
              <p:cNvSpPr/>
              <p:nvPr/>
            </p:nvSpPr>
            <p:spPr>
              <a:xfrm>
                <a:off x="6932520" y="2743200"/>
                <a:ext cx="2970360" cy="2362320"/>
              </a:xfrm>
              <a:custGeom>
                <a:avLst/>
                <a:gdLst/>
                <a:ahLst/>
                <a:rect l="l" t="t" r="r" b="b"/>
                <a:pathLst>
                  <a:path w="3998" h="3804">
                    <a:moveTo>
                      <a:pt x="288" y="3804"/>
                    </a:moveTo>
                    <a:lnTo>
                      <a:pt x="288" y="1164"/>
                    </a:lnTo>
                    <a:lnTo>
                      <a:pt x="0" y="1164"/>
                    </a:lnTo>
                    <a:lnTo>
                      <a:pt x="2016" y="0"/>
                    </a:lnTo>
                    <a:lnTo>
                      <a:pt x="3998" y="1160"/>
                    </a:lnTo>
                    <a:lnTo>
                      <a:pt x="3696" y="1164"/>
                    </a:lnTo>
                    <a:lnTo>
                      <a:pt x="3696" y="3804"/>
                    </a:lnTo>
                    <a:lnTo>
                      <a:pt x="288" y="3804"/>
                    </a:lnTo>
                    <a:close/>
                  </a:path>
                </a:pathLst>
              </a:custGeom>
              <a:solidFill>
                <a:srgbClr val="ffffcc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85040" y="4348800"/>
                <a:ext cx="20041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08320" y="4071960"/>
                <a:ext cx="0" cy="276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31600" y="4348800"/>
                <a:ext cx="0" cy="27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48920" y="4071960"/>
                <a:ext cx="0" cy="276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937000" y="4348800"/>
                <a:ext cx="0" cy="27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7514280" y="4570200"/>
              <a:ext cx="483480" cy="27792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0" y="2743200"/>
            <a:ext cx="2970360" cy="2362320"/>
            <a:chOff x="0" y="2743200"/>
            <a:chExt cx="2970360" cy="2362320"/>
          </a:xfrm>
        </p:grpSpPr>
        <p:grpSp>
          <p:nvGrpSpPr>
            <p:cNvPr id="157" name=""/>
            <p:cNvGrpSpPr/>
            <p:nvPr/>
          </p:nvGrpSpPr>
          <p:grpSpPr>
            <a:xfrm>
              <a:off x="0" y="2743200"/>
              <a:ext cx="2970360" cy="2362320"/>
              <a:chOff x="0" y="2743200"/>
              <a:chExt cx="2970360" cy="236232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2743200"/>
                <a:ext cx="2970360" cy="2362320"/>
              </a:xfrm>
              <a:custGeom>
                <a:avLst/>
                <a:gdLst/>
                <a:ahLst/>
                <a:rect l="l" t="t" r="r" b="b"/>
                <a:pathLst>
                  <a:path w="3998" h="3804">
                    <a:moveTo>
                      <a:pt x="288" y="3804"/>
                    </a:moveTo>
                    <a:lnTo>
                      <a:pt x="288" y="1164"/>
                    </a:lnTo>
                    <a:lnTo>
                      <a:pt x="0" y="1164"/>
                    </a:lnTo>
                    <a:lnTo>
                      <a:pt x="2016" y="0"/>
                    </a:lnTo>
                    <a:lnTo>
                      <a:pt x="3998" y="1160"/>
                    </a:lnTo>
                    <a:lnTo>
                      <a:pt x="3696" y="1164"/>
                    </a:lnTo>
                    <a:lnTo>
                      <a:pt x="3696" y="3804"/>
                    </a:lnTo>
                    <a:lnTo>
                      <a:pt x="288" y="3804"/>
                    </a:lnTo>
                    <a:close/>
                  </a:path>
                </a:pathLst>
              </a:custGeom>
              <a:solidFill>
                <a:srgbClr val="ffffcc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2520" y="4348800"/>
                <a:ext cx="20041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5800" y="4071960"/>
                <a:ext cx="0" cy="276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99080" y="4348800"/>
                <a:ext cx="0" cy="27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16400" y="4071960"/>
                <a:ext cx="0" cy="276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04480" y="4348800"/>
                <a:ext cx="0" cy="27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81760" y="4570200"/>
              <a:ext cx="483480" cy="27792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700000">
            <a:off x="6570000" y="1645560"/>
            <a:ext cx="1218960" cy="823680"/>
          </a:xfrm>
          <a:prstGeom prst="rightArrow">
            <a:avLst>
              <a:gd name="adj1" fmla="val 50000"/>
              <a:gd name="adj2" fmla="val 36997"/>
            </a:avLst>
          </a:prstGeom>
          <a:solidFill>
            <a:srgbClr val="fcfeb9"/>
          </a:solidFill>
          <a:ln w="93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100000">
            <a:off x="2228400" y="1599840"/>
            <a:ext cx="1319400" cy="762120"/>
          </a:xfrm>
          <a:prstGeom prst="rightArrow">
            <a:avLst>
              <a:gd name="adj1" fmla="val 50000"/>
              <a:gd name="adj2" fmla="val 43281"/>
            </a:avLst>
          </a:prstGeom>
          <a:solidFill>
            <a:srgbClr val="fcfeb9"/>
          </a:solidFill>
          <a:ln w="93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52800" y="3809880"/>
            <a:ext cx="3797280" cy="76212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fcfeb9"/>
          </a:solidFill>
          <a:ln w="93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4292640" y="1845360"/>
            <a:ext cx="1316160" cy="825480"/>
          </a:xfrm>
          <a:prstGeom prst="leftRightArrow">
            <a:avLst>
              <a:gd name="adj1" fmla="val 50000"/>
              <a:gd name="adj2" fmla="val 31740"/>
            </a:avLst>
          </a:prstGeom>
          <a:solidFill>
            <a:srgbClr val="fcfeb9"/>
          </a:solidFill>
          <a:ln w="93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95840" y="5562720"/>
            <a:ext cx="1898280" cy="1143000"/>
            <a:chOff x="3795840" y="5562720"/>
            <a:chExt cx="1898280" cy="1143000"/>
          </a:xfrm>
        </p:grpSpPr>
        <p:sp>
          <p:nvSpPr>
            <p:cNvPr id="170" name=""/>
            <p:cNvSpPr/>
            <p:nvPr/>
          </p:nvSpPr>
          <p:spPr>
            <a:xfrm>
              <a:off x="4290840" y="5562720"/>
              <a:ext cx="1403280" cy="1066680"/>
            </a:xfrm>
            <a:custGeom>
              <a:avLst/>
              <a:gdLst/>
              <a:ahLst/>
              <a:rect l="l" t="t" r="r" b="b"/>
              <a:pathLst>
                <a:path w="927" h="584">
                  <a:moveTo>
                    <a:pt x="135" y="433"/>
                  </a:moveTo>
                  <a:lnTo>
                    <a:pt x="148" y="462"/>
                  </a:lnTo>
                  <a:lnTo>
                    <a:pt x="165" y="488"/>
                  </a:lnTo>
                  <a:lnTo>
                    <a:pt x="182" y="511"/>
                  </a:lnTo>
                  <a:lnTo>
                    <a:pt x="201" y="533"/>
                  </a:lnTo>
                  <a:lnTo>
                    <a:pt x="225" y="549"/>
                  </a:lnTo>
                  <a:lnTo>
                    <a:pt x="248" y="563"/>
                  </a:lnTo>
                  <a:lnTo>
                    <a:pt x="271" y="574"/>
                  </a:lnTo>
                  <a:lnTo>
                    <a:pt x="295" y="581"/>
                  </a:lnTo>
                  <a:lnTo>
                    <a:pt x="321" y="583"/>
                  </a:lnTo>
                  <a:lnTo>
                    <a:pt x="347" y="581"/>
                  </a:lnTo>
                  <a:lnTo>
                    <a:pt x="372" y="577"/>
                  </a:lnTo>
                  <a:lnTo>
                    <a:pt x="395" y="568"/>
                  </a:lnTo>
                  <a:lnTo>
                    <a:pt x="420" y="556"/>
                  </a:lnTo>
                  <a:lnTo>
                    <a:pt x="441" y="538"/>
                  </a:lnTo>
                  <a:lnTo>
                    <a:pt x="462" y="520"/>
                  </a:lnTo>
                  <a:lnTo>
                    <a:pt x="484" y="538"/>
                  </a:lnTo>
                  <a:lnTo>
                    <a:pt x="505" y="556"/>
                  </a:lnTo>
                  <a:lnTo>
                    <a:pt x="529" y="568"/>
                  </a:lnTo>
                  <a:lnTo>
                    <a:pt x="552" y="577"/>
                  </a:lnTo>
                  <a:lnTo>
                    <a:pt x="578" y="581"/>
                  </a:lnTo>
                  <a:lnTo>
                    <a:pt x="604" y="583"/>
                  </a:lnTo>
                  <a:lnTo>
                    <a:pt x="628" y="581"/>
                  </a:lnTo>
                  <a:lnTo>
                    <a:pt x="653" y="574"/>
                  </a:lnTo>
                  <a:lnTo>
                    <a:pt x="676" y="563"/>
                  </a:lnTo>
                  <a:lnTo>
                    <a:pt x="700" y="549"/>
                  </a:lnTo>
                  <a:lnTo>
                    <a:pt x="721" y="533"/>
                  </a:lnTo>
                  <a:lnTo>
                    <a:pt x="741" y="511"/>
                  </a:lnTo>
                  <a:lnTo>
                    <a:pt x="760" y="488"/>
                  </a:lnTo>
                  <a:lnTo>
                    <a:pt x="775" y="462"/>
                  </a:lnTo>
                  <a:lnTo>
                    <a:pt x="789" y="433"/>
                  </a:lnTo>
                  <a:lnTo>
                    <a:pt x="805" y="437"/>
                  </a:lnTo>
                  <a:lnTo>
                    <a:pt x="822" y="438"/>
                  </a:lnTo>
                  <a:lnTo>
                    <a:pt x="838" y="435"/>
                  </a:lnTo>
                  <a:lnTo>
                    <a:pt x="855" y="429"/>
                  </a:lnTo>
                  <a:lnTo>
                    <a:pt x="868" y="418"/>
                  </a:lnTo>
                  <a:lnTo>
                    <a:pt x="883" y="407"/>
                  </a:lnTo>
                  <a:lnTo>
                    <a:pt x="895" y="393"/>
                  </a:lnTo>
                  <a:lnTo>
                    <a:pt x="905" y="374"/>
                  </a:lnTo>
                  <a:lnTo>
                    <a:pt x="915" y="355"/>
                  </a:lnTo>
                  <a:lnTo>
                    <a:pt x="920" y="335"/>
                  </a:lnTo>
                  <a:lnTo>
                    <a:pt x="924" y="313"/>
                  </a:lnTo>
                  <a:lnTo>
                    <a:pt x="926" y="292"/>
                  </a:lnTo>
                  <a:lnTo>
                    <a:pt x="924" y="270"/>
                  </a:lnTo>
                  <a:lnTo>
                    <a:pt x="920" y="248"/>
                  </a:lnTo>
                  <a:lnTo>
                    <a:pt x="915" y="228"/>
                  </a:lnTo>
                  <a:lnTo>
                    <a:pt x="905" y="208"/>
                  </a:lnTo>
                  <a:lnTo>
                    <a:pt x="895" y="190"/>
                  </a:lnTo>
                  <a:lnTo>
                    <a:pt x="883" y="176"/>
                  </a:lnTo>
                  <a:lnTo>
                    <a:pt x="868" y="164"/>
                  </a:lnTo>
                  <a:lnTo>
                    <a:pt x="855" y="155"/>
                  </a:lnTo>
                  <a:lnTo>
                    <a:pt x="838" y="148"/>
                  </a:lnTo>
                  <a:lnTo>
                    <a:pt x="822" y="146"/>
                  </a:lnTo>
                  <a:lnTo>
                    <a:pt x="805" y="146"/>
                  </a:lnTo>
                  <a:lnTo>
                    <a:pt x="789" y="150"/>
                  </a:lnTo>
                  <a:lnTo>
                    <a:pt x="775" y="121"/>
                  </a:lnTo>
                  <a:lnTo>
                    <a:pt x="760" y="95"/>
                  </a:lnTo>
                  <a:lnTo>
                    <a:pt x="741" y="72"/>
                  </a:lnTo>
                  <a:lnTo>
                    <a:pt x="721" y="51"/>
                  </a:lnTo>
                  <a:lnTo>
                    <a:pt x="700" y="34"/>
                  </a:lnTo>
                  <a:lnTo>
                    <a:pt x="676" y="19"/>
                  </a:lnTo>
                  <a:lnTo>
                    <a:pt x="653" y="9"/>
                  </a:lnTo>
                  <a:lnTo>
                    <a:pt x="628" y="3"/>
                  </a:lnTo>
                  <a:lnTo>
                    <a:pt x="604" y="0"/>
                  </a:lnTo>
                  <a:lnTo>
                    <a:pt x="578" y="1"/>
                  </a:lnTo>
                  <a:lnTo>
                    <a:pt x="552" y="6"/>
                  </a:lnTo>
                  <a:lnTo>
                    <a:pt x="529" y="15"/>
                  </a:lnTo>
                  <a:lnTo>
                    <a:pt x="505" y="27"/>
                  </a:lnTo>
                  <a:lnTo>
                    <a:pt x="484" y="44"/>
                  </a:lnTo>
                  <a:lnTo>
                    <a:pt x="462" y="63"/>
                  </a:lnTo>
                  <a:lnTo>
                    <a:pt x="441" y="44"/>
                  </a:lnTo>
                  <a:lnTo>
                    <a:pt x="420" y="27"/>
                  </a:lnTo>
                  <a:lnTo>
                    <a:pt x="395" y="15"/>
                  </a:lnTo>
                  <a:lnTo>
                    <a:pt x="372" y="6"/>
                  </a:lnTo>
                  <a:lnTo>
                    <a:pt x="347" y="1"/>
                  </a:lnTo>
                  <a:lnTo>
                    <a:pt x="321" y="0"/>
                  </a:lnTo>
                  <a:lnTo>
                    <a:pt x="295" y="3"/>
                  </a:lnTo>
                  <a:lnTo>
                    <a:pt x="271" y="9"/>
                  </a:lnTo>
                  <a:lnTo>
                    <a:pt x="248" y="19"/>
                  </a:lnTo>
                  <a:lnTo>
                    <a:pt x="225" y="34"/>
                  </a:lnTo>
                  <a:lnTo>
                    <a:pt x="201" y="51"/>
                  </a:lnTo>
                  <a:lnTo>
                    <a:pt x="182" y="72"/>
                  </a:lnTo>
                  <a:lnTo>
                    <a:pt x="165" y="95"/>
                  </a:lnTo>
                  <a:lnTo>
                    <a:pt x="148" y="121"/>
                  </a:lnTo>
                  <a:lnTo>
                    <a:pt x="135" y="150"/>
                  </a:lnTo>
                  <a:lnTo>
                    <a:pt x="118" y="146"/>
                  </a:lnTo>
                  <a:lnTo>
                    <a:pt x="102" y="146"/>
                  </a:lnTo>
                  <a:lnTo>
                    <a:pt x="85" y="148"/>
                  </a:lnTo>
                  <a:lnTo>
                    <a:pt x="70" y="155"/>
                  </a:lnTo>
                  <a:lnTo>
                    <a:pt x="54" y="164"/>
                  </a:lnTo>
                  <a:lnTo>
                    <a:pt x="40" y="176"/>
                  </a:lnTo>
                  <a:lnTo>
                    <a:pt x="30" y="190"/>
                  </a:lnTo>
                  <a:lnTo>
                    <a:pt x="19" y="208"/>
                  </a:lnTo>
                  <a:lnTo>
                    <a:pt x="9" y="228"/>
                  </a:lnTo>
                  <a:lnTo>
                    <a:pt x="4" y="248"/>
                  </a:lnTo>
                  <a:lnTo>
                    <a:pt x="1" y="270"/>
                  </a:lnTo>
                  <a:lnTo>
                    <a:pt x="0" y="292"/>
                  </a:lnTo>
                  <a:lnTo>
                    <a:pt x="1" y="313"/>
                  </a:lnTo>
                  <a:lnTo>
                    <a:pt x="4" y="335"/>
                  </a:lnTo>
                  <a:lnTo>
                    <a:pt x="9" y="355"/>
                  </a:lnTo>
                  <a:lnTo>
                    <a:pt x="19" y="374"/>
                  </a:lnTo>
                  <a:lnTo>
                    <a:pt x="30" y="393"/>
                  </a:lnTo>
                  <a:lnTo>
                    <a:pt x="40" y="407"/>
                  </a:lnTo>
                  <a:lnTo>
                    <a:pt x="54" y="418"/>
                  </a:lnTo>
                  <a:lnTo>
                    <a:pt x="70" y="429"/>
                  </a:lnTo>
                  <a:lnTo>
                    <a:pt x="85" y="435"/>
                  </a:lnTo>
                  <a:lnTo>
                    <a:pt x="102" y="438"/>
                  </a:lnTo>
                  <a:lnTo>
                    <a:pt x="118" y="437"/>
                  </a:lnTo>
                  <a:lnTo>
                    <a:pt x="135" y="433"/>
                  </a:lnTo>
                </a:path>
              </a:pathLst>
            </a:custGeom>
            <a:solidFill>
              <a:srgbClr val="76a7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93520" y="58672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795840" y="5943600"/>
              <a:ext cx="81324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 rot="5400000">
            <a:off x="4375800" y="4893480"/>
            <a:ext cx="1315800" cy="825480"/>
          </a:xfrm>
          <a:prstGeom prst="leftRightArrow">
            <a:avLst>
              <a:gd name="adj1" fmla="val 50000"/>
              <a:gd name="adj2" fmla="val 31732"/>
            </a:avLst>
          </a:prstGeom>
          <a:solidFill>
            <a:srgbClr val="fcfeb9"/>
          </a:solidFill>
          <a:ln w="93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700000">
            <a:off x="2477160" y="5350680"/>
            <a:ext cx="1315800" cy="825480"/>
          </a:xfrm>
          <a:prstGeom prst="leftRightArrow">
            <a:avLst>
              <a:gd name="adj1" fmla="val 50000"/>
              <a:gd name="adj2" fmla="val 31732"/>
            </a:avLst>
          </a:prstGeom>
          <a:solidFill>
            <a:srgbClr val="fcfeb9"/>
          </a:solidFill>
          <a:ln w="93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8100000">
            <a:off x="6271920" y="5333760"/>
            <a:ext cx="1425600" cy="761760"/>
          </a:xfrm>
          <a:prstGeom prst="leftRightArrow">
            <a:avLst>
              <a:gd name="adj1" fmla="val 50000"/>
              <a:gd name="adj2" fmla="val 37256"/>
            </a:avLst>
          </a:prstGeom>
          <a:solidFill>
            <a:srgbClr val="fcfeb9"/>
          </a:solidFill>
          <a:ln w="93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09:43:09Z</dcterms:created>
  <dc:creator>Ronald M. Tol</dc:creator>
  <dc:description/>
  <dc:language>en-US</dc:language>
  <cp:lastModifiedBy>Ronald Tol</cp:lastModifiedBy>
  <cp:lastPrinted>1999-12-06T12:32:50Z</cp:lastPrinted>
  <dcterms:modified xsi:type="dcterms:W3CDTF">2002-02-27T16:14:37Z</dcterms:modified>
  <cp:revision>157</cp:revision>
  <dc:subject/>
  <dc:title>Share it! - a Vision for TVA phase 2</dc:title>
</cp:coreProperties>
</file>