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EA433E5-6555-462B-B23F-DED09C159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have been working within the TV Anytime forum for the last year, participating in the Business Models, Systems and Content Referencing groups at various times.  Over the last few meetings I have concentrated on content referencing, where I am the editor for documents produced by the Content Referencing sub-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work for Philips in their research lab near London, where I am currently working on a European project called “myTV” which is implementing TV Anytime functionality in a European DVB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k of the myTV project has allowed us to submit proposals to the TV Anytime forum which are based on the way we are actually going to implement a real TV Anytime system.  Working on an actual implementation means that some of the difficulties inherent in such an ambitious standard as TV Anytime have been discovered.  I like to think that the myTV submissions to TV Anytime reflect this depth of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629880"/>
            <a:ext cx="8382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62988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62988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62988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62988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62988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62988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362988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629880"/>
            <a:ext cx="8382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629880"/>
            <a:ext cx="8382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62988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362988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62988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362988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629880"/>
            <a:ext cx="26989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62988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62988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629880"/>
            <a:ext cx="8382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39852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657440" indent="-4618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233440" indent="-4618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798640" indent="-45072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798640" indent="-45072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798640" indent="-45072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78360" y="5638680"/>
            <a:ext cx="36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myTV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14000" y="6172200"/>
            <a:ext cx="503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ttp://www.extra.research.philips.com/euprojects/my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09680" y="5638680"/>
            <a:ext cx="5105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ytv-logo" descr=""/>
          <p:cNvPicPr/>
          <p:nvPr/>
        </p:nvPicPr>
        <p:blipFill>
          <a:blip r:embed="rId3"/>
          <a:stretch/>
        </p:blipFill>
        <p:spPr>
          <a:xfrm>
            <a:off x="380880" y="5626080"/>
            <a:ext cx="1650960" cy="927000"/>
          </a:xfrm>
          <a:prstGeom prst="rect">
            <a:avLst/>
          </a:prstGeom>
          <a:ln w="0">
            <a:noFill/>
          </a:ln>
        </p:spPr>
      </p:pic>
      <p:pic>
        <p:nvPicPr>
          <p:cNvPr id="6" name="istlogo-small" descr=""/>
          <p:cNvPicPr/>
          <p:nvPr/>
        </p:nvPicPr>
        <p:blipFill>
          <a:blip r:embed="rId4"/>
          <a:stretch/>
        </p:blipFill>
        <p:spPr>
          <a:xfrm>
            <a:off x="7513560" y="5638680"/>
            <a:ext cx="1173240" cy="86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URV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15480" y="6645240"/>
            <a:ext cx="267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©2002 Philips Electronics UK Lt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281160" algn="ctr">
              <a:spcBef>
                <a:spcPts val="5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399960" algn="ctr">
              <a:spcBef>
                <a:spcPts val="5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19120" algn="ctr">
              <a:spcBef>
                <a:spcPts val="5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191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191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00"/>
                </a:solidFill>
                <a:latin typeface="Tahoma"/>
              </a:rPr>
              <a:t>myTV: Delivers TV Anytime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360" y="30481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BC 2001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 Anytime Implementers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mytv-logo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1650960" cy="927000"/>
          </a:xfrm>
          <a:prstGeom prst="rect">
            <a:avLst/>
          </a:prstGeom>
          <a:ln w="0">
            <a:noFill/>
          </a:ln>
        </p:spPr>
      </p:pic>
      <p:pic>
        <p:nvPicPr>
          <p:cNvPr id="93" name="tvat7a" descr=""/>
          <p:cNvPicPr/>
          <p:nvPr/>
        </p:nvPicPr>
        <p:blipFill>
          <a:blip r:embed="rId2"/>
          <a:srcRect l="0" t="1691" r="0" b="17754"/>
          <a:stretch/>
        </p:blipFill>
        <p:spPr>
          <a:xfrm flipH="1">
            <a:off x="6794280" y="4432320"/>
            <a:ext cx="1206360" cy="97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Nokia  myTV Platform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1600200"/>
          <a:ext cx="4419720" cy="1490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00200"/>
                    <a:ext cx="441972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724280" y="1371600"/>
            <a:ext cx="41911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/>
          </a:bodyPr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B using Intel Celeron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thernet for IP 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VB-S satellite tu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rd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505320"/>
            <a:ext cx="8534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plete system provides the same TV Anytime features* as the Philips STB, using the SAME da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VA via DVB not currently 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Content Referencing &amp; Metadata Server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BC, NOB and UoL provide TVA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BC and NOB use real scheduling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oL takes information from BBC and NOB and augments films with information from IMD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des CRID resolution, metadata queries and downloading of TV schedu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des a simple form of metadata extensions to allow new metadata fields not defined by myTV or 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nhanced MHP applic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219320"/>
            <a:ext cx="3886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st news. The user can personalise the way news is presented and has DVD-like control over news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>
              <a:lnSpc>
                <a:spcPct val="100000"/>
              </a:lnSpc>
              <a:spcBef>
                <a:spcPts val="499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>
              <a:lnSpc>
                <a:spcPct val="100000"/>
              </a:lnSpc>
              <a:spcBef>
                <a:spcPts val="499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>
              <a:lnSpc>
                <a:spcPct val="100000"/>
              </a:lnSpc>
              <a:spcBef>
                <a:spcPts val="499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-330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caster navigator. A navigator designed to enhance particular content, and so offer the user greater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3_NOB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504960" cy="1971720"/>
          </a:xfrm>
          <a:prstGeom prst="rect">
            <a:avLst/>
          </a:prstGeom>
          <a:ln w="0">
            <a:noFill/>
          </a:ln>
        </p:spPr>
      </p:pic>
      <p:pic>
        <p:nvPicPr>
          <p:cNvPr id="165" name="1_BBCvirtual_channel" descr=""/>
          <p:cNvPicPr/>
          <p:nvPr/>
        </p:nvPicPr>
        <p:blipFill>
          <a:blip r:embed="rId3"/>
          <a:stretch/>
        </p:blipFill>
        <p:spPr>
          <a:xfrm>
            <a:off x="4648320" y="3351240"/>
            <a:ext cx="35100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Implementation Issu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V Anytime should consider how implementations wi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d where &amp; what TVA data is being broadc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ke sure updating is flexible enough for the broadcasters, but not too difficult to imp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nchronise CRID+Metadata for adverts/trai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-exist with (and extend?) interactive TV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ke use of the Internet (e.g. for getting TVA data, for remote programming of a PD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The myTV Projec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collaborative research project made up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BC, NOB, Nokia, NDS, Philips, RAI, University of Ljublj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onsored by the European Commission as part of the IST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venn-diagram" descr=""/>
          <p:cNvPicPr/>
          <p:nvPr/>
        </p:nvPicPr>
        <p:blipFill>
          <a:blip r:embed="rId2"/>
          <a:stretch/>
        </p:blipFill>
        <p:spPr>
          <a:xfrm>
            <a:off x="1762200" y="1828800"/>
            <a:ext cx="5553000" cy="369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609480"/>
            <a:ext cx="8382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combining TV Anytime, MHP and PVR functionalities, myTV has implemented a rich set of new function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90800" y="26510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stored T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30000" y="48006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2651040"/>
            <a:ext cx="13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M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38560" y="38098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M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1160" y="379404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T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25240" y="2971800"/>
            <a:ext cx="84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V Anytime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2952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and implemented formats for content referencing and metadata delivery over DVB. En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398520">
              <a:lnSpc>
                <a:spcPct val="100000"/>
              </a:lnSpc>
              <a:spcBef>
                <a:spcPts val="5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iler recor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398520">
              <a:lnSpc>
                <a:spcPct val="100000"/>
              </a:lnSpc>
              <a:spcBef>
                <a:spcPts val="5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V Anytime functionality for PVRs without a back cha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398520">
              <a:lnSpc>
                <a:spcPct val="100000"/>
              </a:lnSpc>
              <a:spcBef>
                <a:spcPts val="5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ime accurate recor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398520">
              <a:lnSpc>
                <a:spcPct val="100000"/>
              </a:lnSpc>
              <a:spcBef>
                <a:spcPts val="30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and implemented protocols for querying TV Anytime compliant web 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398520">
              <a:lnSpc>
                <a:spcPct val="100000"/>
              </a:lnSpc>
              <a:spcBef>
                <a:spcPts val="5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cesses real broadcaster schedule information from 3 different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1080" indent="-398520">
              <a:lnSpc>
                <a:spcPct val="100000"/>
              </a:lnSpc>
              <a:spcBef>
                <a:spcPts val="249"/>
              </a:spcBef>
              <a:buClr>
                <a:srgbClr val="4d93e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DVB Delivery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ptors in well known locations indicate where (and what sort of) TV Anytime data can be f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nt Referencing delivered in slightly compressed MPEG-2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94200">
              <a:spcBef>
                <a:spcPts val="5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oot” table lists authorities resolvable with this stre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94200">
              <a:spcBef>
                <a:spcPts val="5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RID” tables contain the actual resolution inform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data delivered as XML files inside a DSMCC carous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94200">
              <a:spcBef>
                <a:spcPts val="5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nifest file maps CRID to XML f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394200">
              <a:spcBef>
                <a:spcPts val="5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Updating of metadata is done by updating a f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IP Delivery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rmAutofit/>
          </a:bodyPr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data and Content Referencing created from real listings information provided over the Internet by BBC, NOB and U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s a simple HTTP based protocol which is the same as the one used when submitting an HTML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des CRID resolution, metadata queries and downloading of TV schedu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ailer Recor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447920"/>
            <a:ext cx="437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/>
          </a:bodyPr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watching a trailer a single button click allows the advertised programme to be reco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user can see other information about the programme to assist their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ed by inserting a CRID into the DVB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trailer1" descr=""/>
          <p:cNvPicPr/>
          <p:nvPr/>
        </p:nvPicPr>
        <p:blipFill>
          <a:blip r:embed="rId2"/>
          <a:stretch/>
        </p:blipFill>
        <p:spPr>
          <a:xfrm>
            <a:off x="4648320" y="170028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tb" descr=""/>
          <p:cNvPicPr/>
          <p:nvPr/>
        </p:nvPicPr>
        <p:blipFill>
          <a:blip r:embed="rId2"/>
          <a:srcRect l="0" t="6577" r="2476" b="4287"/>
          <a:stretch/>
        </p:blipFill>
        <p:spPr>
          <a:xfrm>
            <a:off x="6075360" y="4267080"/>
            <a:ext cx="2001960" cy="105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43000" y="0"/>
            <a:ext cx="67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mote Programm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wap_wish2" descr=""/>
          <p:cNvPicPr/>
          <p:nvPr/>
        </p:nvPicPr>
        <p:blipFill>
          <a:blip r:embed="rId3"/>
          <a:stretch/>
        </p:blipFill>
        <p:spPr>
          <a:xfrm>
            <a:off x="452520" y="914400"/>
            <a:ext cx="993600" cy="2133720"/>
          </a:xfrm>
          <a:prstGeom prst="rect">
            <a:avLst/>
          </a:prstGeom>
          <a:ln w="0">
            <a:noFill/>
          </a:ln>
        </p:spPr>
      </p:pic>
      <p:pic>
        <p:nvPicPr>
          <p:cNvPr id="117" name="rp_wish1" descr=""/>
          <p:cNvPicPr/>
          <p:nvPr/>
        </p:nvPicPr>
        <p:blipFill>
          <a:blip r:embed="rId4"/>
          <a:stretch/>
        </p:blipFill>
        <p:spPr>
          <a:xfrm>
            <a:off x="2438280" y="990720"/>
            <a:ext cx="2505240" cy="1957320"/>
          </a:xfrm>
          <a:prstGeom prst="rect">
            <a:avLst/>
          </a:prstGeom>
          <a:ln w="0">
            <a:noFill/>
          </a:ln>
        </p:spPr>
      </p:pic>
      <p:pic>
        <p:nvPicPr>
          <p:cNvPr id="118" name="rp_UOL" descr=""/>
          <p:cNvPicPr/>
          <p:nvPr/>
        </p:nvPicPr>
        <p:blipFill>
          <a:blip r:embed="rId5"/>
          <a:stretch/>
        </p:blipFill>
        <p:spPr>
          <a:xfrm>
            <a:off x="5410080" y="990720"/>
            <a:ext cx="27432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2879640" y="4017960"/>
            <a:ext cx="1763640" cy="1468440"/>
            <a:chOff x="2879640" y="4017960"/>
            <a:chExt cx="1763640" cy="1468440"/>
          </a:xfrm>
        </p:grpSpPr>
        <p:sp>
          <p:nvSpPr>
            <p:cNvPr id="120" name=""/>
            <p:cNvSpPr/>
            <p:nvPr/>
          </p:nvSpPr>
          <p:spPr>
            <a:xfrm>
              <a:off x="2914560" y="4060440"/>
              <a:ext cx="1728720" cy="1425960"/>
            </a:xfrm>
            <a:custGeom>
              <a:avLst/>
              <a:gdLst/>
              <a:ahLst/>
              <a:rect l="l" t="t" r="r" b="b"/>
              <a:pathLst>
                <a:path w="2722" h="2245">
                  <a:moveTo>
                    <a:pt x="247" y="747"/>
                  </a:moveTo>
                  <a:lnTo>
                    <a:pt x="220" y="752"/>
                  </a:lnTo>
                  <a:lnTo>
                    <a:pt x="196" y="756"/>
                  </a:lnTo>
                  <a:lnTo>
                    <a:pt x="172" y="768"/>
                  </a:lnTo>
                  <a:lnTo>
                    <a:pt x="148" y="778"/>
                  </a:lnTo>
                  <a:lnTo>
                    <a:pt x="127" y="792"/>
                  </a:lnTo>
                  <a:lnTo>
                    <a:pt x="108" y="809"/>
                  </a:lnTo>
                  <a:lnTo>
                    <a:pt x="88" y="826"/>
                  </a:lnTo>
                  <a:lnTo>
                    <a:pt x="72" y="845"/>
                  </a:lnTo>
                  <a:lnTo>
                    <a:pt x="55" y="866"/>
                  </a:lnTo>
                  <a:lnTo>
                    <a:pt x="41" y="890"/>
                  </a:lnTo>
                  <a:lnTo>
                    <a:pt x="29" y="914"/>
                  </a:lnTo>
                  <a:lnTo>
                    <a:pt x="19" y="941"/>
                  </a:lnTo>
                  <a:lnTo>
                    <a:pt x="9" y="967"/>
                  </a:lnTo>
                  <a:lnTo>
                    <a:pt x="5" y="996"/>
                  </a:lnTo>
                  <a:lnTo>
                    <a:pt x="2" y="1024"/>
                  </a:lnTo>
                  <a:lnTo>
                    <a:pt x="0" y="1053"/>
                  </a:lnTo>
                  <a:lnTo>
                    <a:pt x="2" y="1075"/>
                  </a:lnTo>
                  <a:lnTo>
                    <a:pt x="2" y="1094"/>
                  </a:lnTo>
                  <a:lnTo>
                    <a:pt x="7" y="1113"/>
                  </a:lnTo>
                  <a:lnTo>
                    <a:pt x="9" y="1132"/>
                  </a:lnTo>
                  <a:lnTo>
                    <a:pt x="21" y="1170"/>
                  </a:lnTo>
                  <a:lnTo>
                    <a:pt x="36" y="1206"/>
                  </a:lnTo>
                  <a:lnTo>
                    <a:pt x="55" y="1240"/>
                  </a:lnTo>
                  <a:lnTo>
                    <a:pt x="79" y="1269"/>
                  </a:lnTo>
                  <a:lnTo>
                    <a:pt x="105" y="1297"/>
                  </a:lnTo>
                  <a:lnTo>
                    <a:pt x="136" y="1319"/>
                  </a:lnTo>
                  <a:lnTo>
                    <a:pt x="134" y="1316"/>
                  </a:lnTo>
                  <a:lnTo>
                    <a:pt x="117" y="1338"/>
                  </a:lnTo>
                  <a:lnTo>
                    <a:pt x="103" y="1362"/>
                  </a:lnTo>
                  <a:lnTo>
                    <a:pt x="91" y="1386"/>
                  </a:lnTo>
                  <a:lnTo>
                    <a:pt x="79" y="1415"/>
                  </a:lnTo>
                  <a:lnTo>
                    <a:pt x="72" y="1441"/>
                  </a:lnTo>
                  <a:lnTo>
                    <a:pt x="64" y="1470"/>
                  </a:lnTo>
                  <a:lnTo>
                    <a:pt x="62" y="1496"/>
                  </a:lnTo>
                  <a:lnTo>
                    <a:pt x="60" y="1527"/>
                  </a:lnTo>
                  <a:lnTo>
                    <a:pt x="62" y="1558"/>
                  </a:lnTo>
                  <a:lnTo>
                    <a:pt x="67" y="1587"/>
                  </a:lnTo>
                  <a:lnTo>
                    <a:pt x="72" y="1618"/>
                  </a:lnTo>
                  <a:lnTo>
                    <a:pt x="81" y="1644"/>
                  </a:lnTo>
                  <a:lnTo>
                    <a:pt x="93" y="1673"/>
                  </a:lnTo>
                  <a:lnTo>
                    <a:pt x="108" y="1697"/>
                  </a:lnTo>
                  <a:lnTo>
                    <a:pt x="122" y="1721"/>
                  </a:lnTo>
                  <a:lnTo>
                    <a:pt x="141" y="1742"/>
                  </a:lnTo>
                  <a:lnTo>
                    <a:pt x="160" y="1764"/>
                  </a:lnTo>
                  <a:lnTo>
                    <a:pt x="182" y="1781"/>
                  </a:lnTo>
                  <a:lnTo>
                    <a:pt x="203" y="1795"/>
                  </a:lnTo>
                  <a:lnTo>
                    <a:pt x="227" y="1809"/>
                  </a:lnTo>
                  <a:lnTo>
                    <a:pt x="254" y="1819"/>
                  </a:lnTo>
                  <a:lnTo>
                    <a:pt x="280" y="1829"/>
                  </a:lnTo>
                  <a:lnTo>
                    <a:pt x="306" y="1833"/>
                  </a:lnTo>
                  <a:lnTo>
                    <a:pt x="335" y="1833"/>
                  </a:lnTo>
                  <a:lnTo>
                    <a:pt x="352" y="1833"/>
                  </a:lnTo>
                  <a:lnTo>
                    <a:pt x="366" y="1831"/>
                  </a:lnTo>
                  <a:lnTo>
                    <a:pt x="366" y="1833"/>
                  </a:lnTo>
                  <a:lnTo>
                    <a:pt x="383" y="1865"/>
                  </a:lnTo>
                  <a:lnTo>
                    <a:pt x="402" y="1896"/>
                  </a:lnTo>
                  <a:lnTo>
                    <a:pt x="421" y="1922"/>
                  </a:lnTo>
                  <a:lnTo>
                    <a:pt x="443" y="1948"/>
                  </a:lnTo>
                  <a:lnTo>
                    <a:pt x="467" y="1972"/>
                  </a:lnTo>
                  <a:lnTo>
                    <a:pt x="491" y="1996"/>
                  </a:lnTo>
                  <a:lnTo>
                    <a:pt x="515" y="2018"/>
                  </a:lnTo>
                  <a:lnTo>
                    <a:pt x="544" y="2034"/>
                  </a:lnTo>
                  <a:lnTo>
                    <a:pt x="570" y="2051"/>
                  </a:lnTo>
                  <a:lnTo>
                    <a:pt x="601" y="2068"/>
                  </a:lnTo>
                  <a:lnTo>
                    <a:pt x="630" y="2080"/>
                  </a:lnTo>
                  <a:lnTo>
                    <a:pt x="661" y="2090"/>
                  </a:lnTo>
                  <a:lnTo>
                    <a:pt x="692" y="2097"/>
                  </a:lnTo>
                  <a:lnTo>
                    <a:pt x="723" y="2104"/>
                  </a:lnTo>
                  <a:lnTo>
                    <a:pt x="755" y="2109"/>
                  </a:lnTo>
                  <a:lnTo>
                    <a:pt x="788" y="2109"/>
                  </a:lnTo>
                  <a:lnTo>
                    <a:pt x="819" y="2109"/>
                  </a:lnTo>
                  <a:lnTo>
                    <a:pt x="853" y="2104"/>
                  </a:lnTo>
                  <a:lnTo>
                    <a:pt x="886" y="2097"/>
                  </a:lnTo>
                  <a:lnTo>
                    <a:pt x="917" y="2090"/>
                  </a:lnTo>
                  <a:lnTo>
                    <a:pt x="949" y="2078"/>
                  </a:lnTo>
                  <a:lnTo>
                    <a:pt x="980" y="2063"/>
                  </a:lnTo>
                  <a:lnTo>
                    <a:pt x="1008" y="2049"/>
                  </a:lnTo>
                  <a:lnTo>
                    <a:pt x="1037" y="2030"/>
                  </a:lnTo>
                  <a:lnTo>
                    <a:pt x="1037" y="2030"/>
                  </a:lnTo>
                  <a:lnTo>
                    <a:pt x="1054" y="2056"/>
                  </a:lnTo>
                  <a:lnTo>
                    <a:pt x="1068" y="2078"/>
                  </a:lnTo>
                  <a:lnTo>
                    <a:pt x="1088" y="2099"/>
                  </a:lnTo>
                  <a:lnTo>
                    <a:pt x="1107" y="2121"/>
                  </a:lnTo>
                  <a:lnTo>
                    <a:pt x="1126" y="2140"/>
                  </a:lnTo>
                  <a:lnTo>
                    <a:pt x="1147" y="2157"/>
                  </a:lnTo>
                  <a:lnTo>
                    <a:pt x="1169" y="2173"/>
                  </a:lnTo>
                  <a:lnTo>
                    <a:pt x="1191" y="2188"/>
                  </a:lnTo>
                  <a:lnTo>
                    <a:pt x="1215" y="2200"/>
                  </a:lnTo>
                  <a:lnTo>
                    <a:pt x="1236" y="2212"/>
                  </a:lnTo>
                  <a:lnTo>
                    <a:pt x="1260" y="2221"/>
                  </a:lnTo>
                  <a:lnTo>
                    <a:pt x="1286" y="2231"/>
                  </a:lnTo>
                  <a:lnTo>
                    <a:pt x="1313" y="2236"/>
                  </a:lnTo>
                  <a:lnTo>
                    <a:pt x="1339" y="2240"/>
                  </a:lnTo>
                  <a:lnTo>
                    <a:pt x="1365" y="2243"/>
                  </a:lnTo>
                  <a:lnTo>
                    <a:pt x="1389" y="2245"/>
                  </a:lnTo>
                  <a:lnTo>
                    <a:pt x="1425" y="2243"/>
                  </a:lnTo>
                  <a:lnTo>
                    <a:pt x="1459" y="2236"/>
                  </a:lnTo>
                  <a:lnTo>
                    <a:pt x="1492" y="2231"/>
                  </a:lnTo>
                  <a:lnTo>
                    <a:pt x="1526" y="2219"/>
                  </a:lnTo>
                  <a:lnTo>
                    <a:pt x="1557" y="2207"/>
                  </a:lnTo>
                  <a:lnTo>
                    <a:pt x="1586" y="2190"/>
                  </a:lnTo>
                  <a:lnTo>
                    <a:pt x="1617" y="2171"/>
                  </a:lnTo>
                  <a:lnTo>
                    <a:pt x="1643" y="2149"/>
                  </a:lnTo>
                  <a:lnTo>
                    <a:pt x="1670" y="2125"/>
                  </a:lnTo>
                  <a:lnTo>
                    <a:pt x="1694" y="2099"/>
                  </a:lnTo>
                  <a:lnTo>
                    <a:pt x="1718" y="2073"/>
                  </a:lnTo>
                  <a:lnTo>
                    <a:pt x="1737" y="2042"/>
                  </a:lnTo>
                  <a:lnTo>
                    <a:pt x="1756" y="2011"/>
                  </a:lnTo>
                  <a:lnTo>
                    <a:pt x="1773" y="1977"/>
                  </a:lnTo>
                  <a:lnTo>
                    <a:pt x="1787" y="1941"/>
                  </a:lnTo>
                  <a:lnTo>
                    <a:pt x="1797" y="1903"/>
                  </a:lnTo>
                  <a:lnTo>
                    <a:pt x="1799" y="1905"/>
                  </a:lnTo>
                  <a:lnTo>
                    <a:pt x="1821" y="1920"/>
                  </a:lnTo>
                  <a:lnTo>
                    <a:pt x="1845" y="1932"/>
                  </a:lnTo>
                  <a:lnTo>
                    <a:pt x="1866" y="1944"/>
                  </a:lnTo>
                  <a:lnTo>
                    <a:pt x="1890" y="1953"/>
                  </a:lnTo>
                  <a:lnTo>
                    <a:pt x="1917" y="1960"/>
                  </a:lnTo>
                  <a:lnTo>
                    <a:pt x="1941" y="1963"/>
                  </a:lnTo>
                  <a:lnTo>
                    <a:pt x="1967" y="1965"/>
                  </a:lnTo>
                  <a:lnTo>
                    <a:pt x="1991" y="1967"/>
                  </a:lnTo>
                  <a:lnTo>
                    <a:pt x="2029" y="1965"/>
                  </a:lnTo>
                  <a:lnTo>
                    <a:pt x="2063" y="1960"/>
                  </a:lnTo>
                  <a:lnTo>
                    <a:pt x="2099" y="1948"/>
                  </a:lnTo>
                  <a:lnTo>
                    <a:pt x="2132" y="1936"/>
                  </a:lnTo>
                  <a:lnTo>
                    <a:pt x="2163" y="1920"/>
                  </a:lnTo>
                  <a:lnTo>
                    <a:pt x="2195" y="1898"/>
                  </a:lnTo>
                  <a:lnTo>
                    <a:pt x="2221" y="1874"/>
                  </a:lnTo>
                  <a:lnTo>
                    <a:pt x="2247" y="1850"/>
                  </a:lnTo>
                  <a:lnTo>
                    <a:pt x="2271" y="1821"/>
                  </a:lnTo>
                  <a:lnTo>
                    <a:pt x="2293" y="1790"/>
                  </a:lnTo>
                  <a:lnTo>
                    <a:pt x="2312" y="1757"/>
                  </a:lnTo>
                  <a:lnTo>
                    <a:pt x="2326" y="1721"/>
                  </a:lnTo>
                  <a:lnTo>
                    <a:pt x="2338" y="1685"/>
                  </a:lnTo>
                  <a:lnTo>
                    <a:pt x="2348" y="1644"/>
                  </a:lnTo>
                  <a:lnTo>
                    <a:pt x="2353" y="1604"/>
                  </a:lnTo>
                  <a:lnTo>
                    <a:pt x="2355" y="1563"/>
                  </a:lnTo>
                  <a:lnTo>
                    <a:pt x="2355" y="1561"/>
                  </a:lnTo>
                  <a:lnTo>
                    <a:pt x="2393" y="1553"/>
                  </a:lnTo>
                  <a:lnTo>
                    <a:pt x="2432" y="1541"/>
                  </a:lnTo>
                  <a:lnTo>
                    <a:pt x="2468" y="1525"/>
                  </a:lnTo>
                  <a:lnTo>
                    <a:pt x="2501" y="1508"/>
                  </a:lnTo>
                  <a:lnTo>
                    <a:pt x="2532" y="1484"/>
                  </a:lnTo>
                  <a:lnTo>
                    <a:pt x="2563" y="1460"/>
                  </a:lnTo>
                  <a:lnTo>
                    <a:pt x="2592" y="1431"/>
                  </a:lnTo>
                  <a:lnTo>
                    <a:pt x="2616" y="1400"/>
                  </a:lnTo>
                  <a:lnTo>
                    <a:pt x="2640" y="1369"/>
                  </a:lnTo>
                  <a:lnTo>
                    <a:pt x="2662" y="1333"/>
                  </a:lnTo>
                  <a:lnTo>
                    <a:pt x="2678" y="1295"/>
                  </a:lnTo>
                  <a:lnTo>
                    <a:pt x="2695" y="1257"/>
                  </a:lnTo>
                  <a:lnTo>
                    <a:pt x="2705" y="1216"/>
                  </a:lnTo>
                  <a:lnTo>
                    <a:pt x="2714" y="1175"/>
                  </a:lnTo>
                  <a:lnTo>
                    <a:pt x="2719" y="1132"/>
                  </a:lnTo>
                  <a:lnTo>
                    <a:pt x="2722" y="1089"/>
                  </a:lnTo>
                  <a:lnTo>
                    <a:pt x="2722" y="1048"/>
                  </a:lnTo>
                  <a:lnTo>
                    <a:pt x="2717" y="1010"/>
                  </a:lnTo>
                  <a:lnTo>
                    <a:pt x="2710" y="969"/>
                  </a:lnTo>
                  <a:lnTo>
                    <a:pt x="2700" y="933"/>
                  </a:lnTo>
                  <a:lnTo>
                    <a:pt x="2686" y="898"/>
                  </a:lnTo>
                  <a:lnTo>
                    <a:pt x="2671" y="862"/>
                  </a:lnTo>
                  <a:lnTo>
                    <a:pt x="2655" y="826"/>
                  </a:lnTo>
                  <a:lnTo>
                    <a:pt x="2633" y="795"/>
                  </a:lnTo>
                  <a:lnTo>
                    <a:pt x="2633" y="795"/>
                  </a:lnTo>
                  <a:lnTo>
                    <a:pt x="2645" y="761"/>
                  </a:lnTo>
                  <a:lnTo>
                    <a:pt x="2652" y="723"/>
                  </a:lnTo>
                  <a:lnTo>
                    <a:pt x="2659" y="685"/>
                  </a:lnTo>
                  <a:lnTo>
                    <a:pt x="2659" y="646"/>
                  </a:lnTo>
                  <a:lnTo>
                    <a:pt x="2659" y="615"/>
                  </a:lnTo>
                  <a:lnTo>
                    <a:pt x="2655" y="584"/>
                  </a:lnTo>
                  <a:lnTo>
                    <a:pt x="2650" y="553"/>
                  </a:lnTo>
                  <a:lnTo>
                    <a:pt x="2643" y="524"/>
                  </a:lnTo>
                  <a:lnTo>
                    <a:pt x="2631" y="495"/>
                  </a:lnTo>
                  <a:lnTo>
                    <a:pt x="2619" y="469"/>
                  </a:lnTo>
                  <a:lnTo>
                    <a:pt x="2607" y="443"/>
                  </a:lnTo>
                  <a:lnTo>
                    <a:pt x="2590" y="416"/>
                  </a:lnTo>
                  <a:lnTo>
                    <a:pt x="2573" y="392"/>
                  </a:lnTo>
                  <a:lnTo>
                    <a:pt x="2554" y="373"/>
                  </a:lnTo>
                  <a:lnTo>
                    <a:pt x="2532" y="352"/>
                  </a:lnTo>
                  <a:lnTo>
                    <a:pt x="2513" y="333"/>
                  </a:lnTo>
                  <a:lnTo>
                    <a:pt x="2489" y="318"/>
                  </a:lnTo>
                  <a:lnTo>
                    <a:pt x="2465" y="302"/>
                  </a:lnTo>
                  <a:lnTo>
                    <a:pt x="2439" y="292"/>
                  </a:lnTo>
                  <a:lnTo>
                    <a:pt x="2413" y="282"/>
                  </a:lnTo>
                  <a:lnTo>
                    <a:pt x="2413" y="282"/>
                  </a:lnTo>
                  <a:lnTo>
                    <a:pt x="2408" y="251"/>
                  </a:lnTo>
                  <a:lnTo>
                    <a:pt x="2398" y="223"/>
                  </a:lnTo>
                  <a:lnTo>
                    <a:pt x="2389" y="194"/>
                  </a:lnTo>
                  <a:lnTo>
                    <a:pt x="2377" y="167"/>
                  </a:lnTo>
                  <a:lnTo>
                    <a:pt x="2362" y="144"/>
                  </a:lnTo>
                  <a:lnTo>
                    <a:pt x="2345" y="122"/>
                  </a:lnTo>
                  <a:lnTo>
                    <a:pt x="2326" y="98"/>
                  </a:lnTo>
                  <a:lnTo>
                    <a:pt x="2307" y="79"/>
                  </a:lnTo>
                  <a:lnTo>
                    <a:pt x="2288" y="60"/>
                  </a:lnTo>
                  <a:lnTo>
                    <a:pt x="2264" y="45"/>
                  </a:lnTo>
                  <a:lnTo>
                    <a:pt x="2242" y="31"/>
                  </a:lnTo>
                  <a:lnTo>
                    <a:pt x="2216" y="19"/>
                  </a:lnTo>
                  <a:lnTo>
                    <a:pt x="2192" y="12"/>
                  </a:lnTo>
                  <a:lnTo>
                    <a:pt x="2166" y="5"/>
                  </a:lnTo>
                  <a:lnTo>
                    <a:pt x="2139" y="0"/>
                  </a:lnTo>
                  <a:lnTo>
                    <a:pt x="2111" y="0"/>
                  </a:lnTo>
                  <a:lnTo>
                    <a:pt x="2079" y="2"/>
                  </a:lnTo>
                  <a:lnTo>
                    <a:pt x="2046" y="7"/>
                  </a:lnTo>
                  <a:lnTo>
                    <a:pt x="2015" y="17"/>
                  </a:lnTo>
                  <a:lnTo>
                    <a:pt x="1984" y="31"/>
                  </a:lnTo>
                  <a:lnTo>
                    <a:pt x="1955" y="48"/>
                  </a:lnTo>
                  <a:lnTo>
                    <a:pt x="1926" y="69"/>
                  </a:lnTo>
                  <a:lnTo>
                    <a:pt x="1900" y="93"/>
                  </a:lnTo>
                  <a:lnTo>
                    <a:pt x="1878" y="122"/>
                  </a:lnTo>
                  <a:lnTo>
                    <a:pt x="1878" y="122"/>
                  </a:lnTo>
                  <a:lnTo>
                    <a:pt x="1859" y="93"/>
                  </a:lnTo>
                  <a:lnTo>
                    <a:pt x="1835" y="69"/>
                  </a:lnTo>
                  <a:lnTo>
                    <a:pt x="1809" y="48"/>
                  </a:lnTo>
                  <a:lnTo>
                    <a:pt x="1782" y="31"/>
                  </a:lnTo>
                  <a:lnTo>
                    <a:pt x="1754" y="17"/>
                  </a:lnTo>
                  <a:lnTo>
                    <a:pt x="1722" y="7"/>
                  </a:lnTo>
                  <a:lnTo>
                    <a:pt x="1691" y="2"/>
                  </a:lnTo>
                  <a:lnTo>
                    <a:pt x="1660" y="0"/>
                  </a:lnTo>
                  <a:lnTo>
                    <a:pt x="1641" y="0"/>
                  </a:lnTo>
                  <a:lnTo>
                    <a:pt x="1622" y="2"/>
                  </a:lnTo>
                  <a:lnTo>
                    <a:pt x="1603" y="7"/>
                  </a:lnTo>
                  <a:lnTo>
                    <a:pt x="1584" y="12"/>
                  </a:lnTo>
                  <a:lnTo>
                    <a:pt x="1550" y="26"/>
                  </a:lnTo>
                  <a:lnTo>
                    <a:pt x="1516" y="45"/>
                  </a:lnTo>
                  <a:lnTo>
                    <a:pt x="1485" y="69"/>
                  </a:lnTo>
                  <a:lnTo>
                    <a:pt x="1457" y="98"/>
                  </a:lnTo>
                  <a:lnTo>
                    <a:pt x="1433" y="132"/>
                  </a:lnTo>
                  <a:lnTo>
                    <a:pt x="1423" y="151"/>
                  </a:lnTo>
                  <a:lnTo>
                    <a:pt x="1413" y="170"/>
                  </a:lnTo>
                  <a:lnTo>
                    <a:pt x="1416" y="175"/>
                  </a:lnTo>
                  <a:lnTo>
                    <a:pt x="1389" y="151"/>
                  </a:lnTo>
                  <a:lnTo>
                    <a:pt x="1365" y="129"/>
                  </a:lnTo>
                  <a:lnTo>
                    <a:pt x="1337" y="110"/>
                  </a:lnTo>
                  <a:lnTo>
                    <a:pt x="1306" y="93"/>
                  </a:lnTo>
                  <a:lnTo>
                    <a:pt x="1277" y="84"/>
                  </a:lnTo>
                  <a:lnTo>
                    <a:pt x="1246" y="74"/>
                  </a:lnTo>
                  <a:lnTo>
                    <a:pt x="1212" y="67"/>
                  </a:lnTo>
                  <a:lnTo>
                    <a:pt x="1179" y="67"/>
                  </a:lnTo>
                  <a:lnTo>
                    <a:pt x="1157" y="67"/>
                  </a:lnTo>
                  <a:lnTo>
                    <a:pt x="1133" y="69"/>
                  </a:lnTo>
                  <a:lnTo>
                    <a:pt x="1112" y="74"/>
                  </a:lnTo>
                  <a:lnTo>
                    <a:pt x="1088" y="81"/>
                  </a:lnTo>
                  <a:lnTo>
                    <a:pt x="1066" y="89"/>
                  </a:lnTo>
                  <a:lnTo>
                    <a:pt x="1047" y="98"/>
                  </a:lnTo>
                  <a:lnTo>
                    <a:pt x="1025" y="108"/>
                  </a:lnTo>
                  <a:lnTo>
                    <a:pt x="1006" y="122"/>
                  </a:lnTo>
                  <a:lnTo>
                    <a:pt x="987" y="134"/>
                  </a:lnTo>
                  <a:lnTo>
                    <a:pt x="970" y="151"/>
                  </a:lnTo>
                  <a:lnTo>
                    <a:pt x="937" y="184"/>
                  </a:lnTo>
                  <a:lnTo>
                    <a:pt x="922" y="203"/>
                  </a:lnTo>
                  <a:lnTo>
                    <a:pt x="908" y="225"/>
                  </a:lnTo>
                  <a:lnTo>
                    <a:pt x="893" y="246"/>
                  </a:lnTo>
                  <a:lnTo>
                    <a:pt x="884" y="268"/>
                  </a:lnTo>
                  <a:lnTo>
                    <a:pt x="882" y="270"/>
                  </a:lnTo>
                  <a:lnTo>
                    <a:pt x="855" y="254"/>
                  </a:lnTo>
                  <a:lnTo>
                    <a:pt x="831" y="242"/>
                  </a:lnTo>
                  <a:lnTo>
                    <a:pt x="805" y="230"/>
                  </a:lnTo>
                  <a:lnTo>
                    <a:pt x="778" y="220"/>
                  </a:lnTo>
                  <a:lnTo>
                    <a:pt x="752" y="213"/>
                  </a:lnTo>
                  <a:lnTo>
                    <a:pt x="723" y="208"/>
                  </a:lnTo>
                  <a:lnTo>
                    <a:pt x="695" y="206"/>
                  </a:lnTo>
                  <a:lnTo>
                    <a:pt x="666" y="206"/>
                  </a:lnTo>
                  <a:lnTo>
                    <a:pt x="623" y="208"/>
                  </a:lnTo>
                  <a:lnTo>
                    <a:pt x="582" y="213"/>
                  </a:lnTo>
                  <a:lnTo>
                    <a:pt x="541" y="225"/>
                  </a:lnTo>
                  <a:lnTo>
                    <a:pt x="501" y="242"/>
                  </a:lnTo>
                  <a:lnTo>
                    <a:pt x="465" y="261"/>
                  </a:lnTo>
                  <a:lnTo>
                    <a:pt x="429" y="285"/>
                  </a:lnTo>
                  <a:lnTo>
                    <a:pt x="395" y="314"/>
                  </a:lnTo>
                  <a:lnTo>
                    <a:pt x="366" y="345"/>
                  </a:lnTo>
                  <a:lnTo>
                    <a:pt x="338" y="378"/>
                  </a:lnTo>
                  <a:lnTo>
                    <a:pt x="314" y="414"/>
                  </a:lnTo>
                  <a:lnTo>
                    <a:pt x="292" y="455"/>
                  </a:lnTo>
                  <a:lnTo>
                    <a:pt x="275" y="495"/>
                  </a:lnTo>
                  <a:lnTo>
                    <a:pt x="261" y="539"/>
                  </a:lnTo>
                  <a:lnTo>
                    <a:pt x="249" y="586"/>
                  </a:lnTo>
                  <a:lnTo>
                    <a:pt x="242" y="632"/>
                  </a:lnTo>
                  <a:lnTo>
                    <a:pt x="242" y="682"/>
                  </a:lnTo>
                  <a:lnTo>
                    <a:pt x="242" y="713"/>
                  </a:lnTo>
                  <a:lnTo>
                    <a:pt x="244" y="747"/>
                  </a:lnTo>
                  <a:lnTo>
                    <a:pt x="247" y="7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79640" y="4017960"/>
              <a:ext cx="1728720" cy="1425960"/>
            </a:xfrm>
            <a:custGeom>
              <a:avLst/>
              <a:gdLst/>
              <a:ahLst/>
              <a:rect l="l" t="t" r="r" b="b"/>
              <a:pathLst>
                <a:path w="2722" h="2245">
                  <a:moveTo>
                    <a:pt x="246" y="747"/>
                  </a:moveTo>
                  <a:lnTo>
                    <a:pt x="220" y="752"/>
                  </a:lnTo>
                  <a:lnTo>
                    <a:pt x="196" y="759"/>
                  </a:lnTo>
                  <a:lnTo>
                    <a:pt x="172" y="768"/>
                  </a:lnTo>
                  <a:lnTo>
                    <a:pt x="148" y="778"/>
                  </a:lnTo>
                  <a:lnTo>
                    <a:pt x="127" y="792"/>
                  </a:lnTo>
                  <a:lnTo>
                    <a:pt x="107" y="809"/>
                  </a:lnTo>
                  <a:lnTo>
                    <a:pt x="88" y="826"/>
                  </a:lnTo>
                  <a:lnTo>
                    <a:pt x="72" y="845"/>
                  </a:lnTo>
                  <a:lnTo>
                    <a:pt x="55" y="869"/>
                  </a:lnTo>
                  <a:lnTo>
                    <a:pt x="40" y="890"/>
                  </a:lnTo>
                  <a:lnTo>
                    <a:pt x="28" y="917"/>
                  </a:lnTo>
                  <a:lnTo>
                    <a:pt x="19" y="941"/>
                  </a:lnTo>
                  <a:lnTo>
                    <a:pt x="9" y="967"/>
                  </a:lnTo>
                  <a:lnTo>
                    <a:pt x="4" y="996"/>
                  </a:lnTo>
                  <a:lnTo>
                    <a:pt x="2" y="1024"/>
                  </a:lnTo>
                  <a:lnTo>
                    <a:pt x="0" y="1053"/>
                  </a:lnTo>
                  <a:lnTo>
                    <a:pt x="2" y="1075"/>
                  </a:lnTo>
                  <a:lnTo>
                    <a:pt x="2" y="1094"/>
                  </a:lnTo>
                  <a:lnTo>
                    <a:pt x="7" y="1113"/>
                  </a:lnTo>
                  <a:lnTo>
                    <a:pt x="9" y="1134"/>
                  </a:lnTo>
                  <a:lnTo>
                    <a:pt x="21" y="1170"/>
                  </a:lnTo>
                  <a:lnTo>
                    <a:pt x="38" y="1209"/>
                  </a:lnTo>
                  <a:lnTo>
                    <a:pt x="57" y="1240"/>
                  </a:lnTo>
                  <a:lnTo>
                    <a:pt x="79" y="1271"/>
                  </a:lnTo>
                  <a:lnTo>
                    <a:pt x="105" y="1297"/>
                  </a:lnTo>
                  <a:lnTo>
                    <a:pt x="136" y="1321"/>
                  </a:lnTo>
                  <a:lnTo>
                    <a:pt x="134" y="1316"/>
                  </a:lnTo>
                  <a:lnTo>
                    <a:pt x="117" y="1338"/>
                  </a:lnTo>
                  <a:lnTo>
                    <a:pt x="103" y="1362"/>
                  </a:lnTo>
                  <a:lnTo>
                    <a:pt x="91" y="1388"/>
                  </a:lnTo>
                  <a:lnTo>
                    <a:pt x="79" y="1415"/>
                  </a:lnTo>
                  <a:lnTo>
                    <a:pt x="72" y="1441"/>
                  </a:lnTo>
                  <a:lnTo>
                    <a:pt x="64" y="1470"/>
                  </a:lnTo>
                  <a:lnTo>
                    <a:pt x="62" y="1498"/>
                  </a:lnTo>
                  <a:lnTo>
                    <a:pt x="60" y="1527"/>
                  </a:lnTo>
                  <a:lnTo>
                    <a:pt x="62" y="1558"/>
                  </a:lnTo>
                  <a:lnTo>
                    <a:pt x="67" y="1589"/>
                  </a:lnTo>
                  <a:lnTo>
                    <a:pt x="74" y="1618"/>
                  </a:lnTo>
                  <a:lnTo>
                    <a:pt x="81" y="1644"/>
                  </a:lnTo>
                  <a:lnTo>
                    <a:pt x="93" y="1673"/>
                  </a:lnTo>
                  <a:lnTo>
                    <a:pt x="107" y="1699"/>
                  </a:lnTo>
                  <a:lnTo>
                    <a:pt x="122" y="1723"/>
                  </a:lnTo>
                  <a:lnTo>
                    <a:pt x="141" y="1742"/>
                  </a:lnTo>
                  <a:lnTo>
                    <a:pt x="160" y="1764"/>
                  </a:lnTo>
                  <a:lnTo>
                    <a:pt x="182" y="1781"/>
                  </a:lnTo>
                  <a:lnTo>
                    <a:pt x="206" y="1795"/>
                  </a:lnTo>
                  <a:lnTo>
                    <a:pt x="227" y="1809"/>
                  </a:lnTo>
                  <a:lnTo>
                    <a:pt x="254" y="1821"/>
                  </a:lnTo>
                  <a:lnTo>
                    <a:pt x="280" y="1829"/>
                  </a:lnTo>
                  <a:lnTo>
                    <a:pt x="306" y="1833"/>
                  </a:lnTo>
                  <a:lnTo>
                    <a:pt x="335" y="1833"/>
                  </a:lnTo>
                  <a:lnTo>
                    <a:pt x="352" y="1833"/>
                  </a:lnTo>
                  <a:lnTo>
                    <a:pt x="366" y="1831"/>
                  </a:lnTo>
                  <a:lnTo>
                    <a:pt x="366" y="1833"/>
                  </a:lnTo>
                  <a:lnTo>
                    <a:pt x="383" y="1865"/>
                  </a:lnTo>
                  <a:lnTo>
                    <a:pt x="402" y="1896"/>
                  </a:lnTo>
                  <a:lnTo>
                    <a:pt x="421" y="1924"/>
                  </a:lnTo>
                  <a:lnTo>
                    <a:pt x="443" y="1948"/>
                  </a:lnTo>
                  <a:lnTo>
                    <a:pt x="467" y="1972"/>
                  </a:lnTo>
                  <a:lnTo>
                    <a:pt x="491" y="1996"/>
                  </a:lnTo>
                  <a:lnTo>
                    <a:pt x="517" y="2018"/>
                  </a:lnTo>
                  <a:lnTo>
                    <a:pt x="544" y="2034"/>
                  </a:lnTo>
                  <a:lnTo>
                    <a:pt x="570" y="2051"/>
                  </a:lnTo>
                  <a:lnTo>
                    <a:pt x="601" y="2068"/>
                  </a:lnTo>
                  <a:lnTo>
                    <a:pt x="630" y="2080"/>
                  </a:lnTo>
                  <a:lnTo>
                    <a:pt x="661" y="2090"/>
                  </a:lnTo>
                  <a:lnTo>
                    <a:pt x="692" y="2097"/>
                  </a:lnTo>
                  <a:lnTo>
                    <a:pt x="723" y="2104"/>
                  </a:lnTo>
                  <a:lnTo>
                    <a:pt x="754" y="2109"/>
                  </a:lnTo>
                  <a:lnTo>
                    <a:pt x="788" y="2109"/>
                  </a:lnTo>
                  <a:lnTo>
                    <a:pt x="821" y="2109"/>
                  </a:lnTo>
                  <a:lnTo>
                    <a:pt x="853" y="2104"/>
                  </a:lnTo>
                  <a:lnTo>
                    <a:pt x="886" y="2097"/>
                  </a:lnTo>
                  <a:lnTo>
                    <a:pt x="917" y="2090"/>
                  </a:lnTo>
                  <a:lnTo>
                    <a:pt x="948" y="2078"/>
                  </a:lnTo>
                  <a:lnTo>
                    <a:pt x="980" y="2063"/>
                  </a:lnTo>
                  <a:lnTo>
                    <a:pt x="1008" y="2049"/>
                  </a:lnTo>
                  <a:lnTo>
                    <a:pt x="1037" y="2030"/>
                  </a:lnTo>
                  <a:lnTo>
                    <a:pt x="1037" y="2030"/>
                  </a:lnTo>
                  <a:lnTo>
                    <a:pt x="1054" y="2056"/>
                  </a:lnTo>
                  <a:lnTo>
                    <a:pt x="1068" y="2078"/>
                  </a:lnTo>
                  <a:lnTo>
                    <a:pt x="1087" y="2101"/>
                  </a:lnTo>
                  <a:lnTo>
                    <a:pt x="1107" y="2121"/>
                  </a:lnTo>
                  <a:lnTo>
                    <a:pt x="1126" y="2140"/>
                  </a:lnTo>
                  <a:lnTo>
                    <a:pt x="1147" y="2159"/>
                  </a:lnTo>
                  <a:lnTo>
                    <a:pt x="1169" y="2173"/>
                  </a:lnTo>
                  <a:lnTo>
                    <a:pt x="1190" y="2188"/>
                  </a:lnTo>
                  <a:lnTo>
                    <a:pt x="1214" y="2202"/>
                  </a:lnTo>
                  <a:lnTo>
                    <a:pt x="1238" y="2212"/>
                  </a:lnTo>
                  <a:lnTo>
                    <a:pt x="1262" y="2221"/>
                  </a:lnTo>
                  <a:lnTo>
                    <a:pt x="1286" y="2231"/>
                  </a:lnTo>
                  <a:lnTo>
                    <a:pt x="1313" y="2236"/>
                  </a:lnTo>
                  <a:lnTo>
                    <a:pt x="1339" y="2240"/>
                  </a:lnTo>
                  <a:lnTo>
                    <a:pt x="1365" y="2243"/>
                  </a:lnTo>
                  <a:lnTo>
                    <a:pt x="1392" y="2245"/>
                  </a:lnTo>
                  <a:lnTo>
                    <a:pt x="1425" y="2243"/>
                  </a:lnTo>
                  <a:lnTo>
                    <a:pt x="1459" y="2238"/>
                  </a:lnTo>
                  <a:lnTo>
                    <a:pt x="1492" y="2231"/>
                  </a:lnTo>
                  <a:lnTo>
                    <a:pt x="1526" y="2219"/>
                  </a:lnTo>
                  <a:lnTo>
                    <a:pt x="1557" y="2207"/>
                  </a:lnTo>
                  <a:lnTo>
                    <a:pt x="1586" y="2190"/>
                  </a:lnTo>
                  <a:lnTo>
                    <a:pt x="1617" y="2171"/>
                  </a:lnTo>
                  <a:lnTo>
                    <a:pt x="1643" y="2149"/>
                  </a:lnTo>
                  <a:lnTo>
                    <a:pt x="1670" y="2125"/>
                  </a:lnTo>
                  <a:lnTo>
                    <a:pt x="1694" y="2101"/>
                  </a:lnTo>
                  <a:lnTo>
                    <a:pt x="1718" y="2073"/>
                  </a:lnTo>
                  <a:lnTo>
                    <a:pt x="1737" y="2042"/>
                  </a:lnTo>
                  <a:lnTo>
                    <a:pt x="1756" y="2011"/>
                  </a:lnTo>
                  <a:lnTo>
                    <a:pt x="1773" y="1977"/>
                  </a:lnTo>
                  <a:lnTo>
                    <a:pt x="1787" y="1941"/>
                  </a:lnTo>
                  <a:lnTo>
                    <a:pt x="1797" y="1903"/>
                  </a:lnTo>
                  <a:lnTo>
                    <a:pt x="1799" y="1908"/>
                  </a:lnTo>
                  <a:lnTo>
                    <a:pt x="1821" y="1920"/>
                  </a:lnTo>
                  <a:lnTo>
                    <a:pt x="1845" y="1934"/>
                  </a:lnTo>
                  <a:lnTo>
                    <a:pt x="1866" y="1944"/>
                  </a:lnTo>
                  <a:lnTo>
                    <a:pt x="1893" y="1953"/>
                  </a:lnTo>
                  <a:lnTo>
                    <a:pt x="1916" y="1960"/>
                  </a:lnTo>
                  <a:lnTo>
                    <a:pt x="1940" y="1965"/>
                  </a:lnTo>
                  <a:lnTo>
                    <a:pt x="1967" y="1967"/>
                  </a:lnTo>
                  <a:lnTo>
                    <a:pt x="1991" y="1967"/>
                  </a:lnTo>
                  <a:lnTo>
                    <a:pt x="2029" y="1967"/>
                  </a:lnTo>
                  <a:lnTo>
                    <a:pt x="2065" y="1960"/>
                  </a:lnTo>
                  <a:lnTo>
                    <a:pt x="2099" y="1951"/>
                  </a:lnTo>
                  <a:lnTo>
                    <a:pt x="2132" y="1936"/>
                  </a:lnTo>
                  <a:lnTo>
                    <a:pt x="2163" y="1920"/>
                  </a:lnTo>
                  <a:lnTo>
                    <a:pt x="2194" y="1900"/>
                  </a:lnTo>
                  <a:lnTo>
                    <a:pt x="2221" y="1876"/>
                  </a:lnTo>
                  <a:lnTo>
                    <a:pt x="2247" y="1850"/>
                  </a:lnTo>
                  <a:lnTo>
                    <a:pt x="2271" y="1821"/>
                  </a:lnTo>
                  <a:lnTo>
                    <a:pt x="2293" y="1790"/>
                  </a:lnTo>
                  <a:lnTo>
                    <a:pt x="2312" y="1757"/>
                  </a:lnTo>
                  <a:lnTo>
                    <a:pt x="2326" y="1721"/>
                  </a:lnTo>
                  <a:lnTo>
                    <a:pt x="2338" y="1685"/>
                  </a:lnTo>
                  <a:lnTo>
                    <a:pt x="2348" y="1644"/>
                  </a:lnTo>
                  <a:lnTo>
                    <a:pt x="2353" y="1606"/>
                  </a:lnTo>
                  <a:lnTo>
                    <a:pt x="2355" y="1563"/>
                  </a:lnTo>
                  <a:lnTo>
                    <a:pt x="2355" y="1563"/>
                  </a:lnTo>
                  <a:lnTo>
                    <a:pt x="2393" y="1553"/>
                  </a:lnTo>
                  <a:lnTo>
                    <a:pt x="2432" y="1541"/>
                  </a:lnTo>
                  <a:lnTo>
                    <a:pt x="2468" y="1525"/>
                  </a:lnTo>
                  <a:lnTo>
                    <a:pt x="2501" y="1508"/>
                  </a:lnTo>
                  <a:lnTo>
                    <a:pt x="2532" y="1484"/>
                  </a:lnTo>
                  <a:lnTo>
                    <a:pt x="2563" y="1460"/>
                  </a:lnTo>
                  <a:lnTo>
                    <a:pt x="2592" y="1431"/>
                  </a:lnTo>
                  <a:lnTo>
                    <a:pt x="2618" y="1400"/>
                  </a:lnTo>
                  <a:lnTo>
                    <a:pt x="2640" y="1369"/>
                  </a:lnTo>
                  <a:lnTo>
                    <a:pt x="2662" y="1336"/>
                  </a:lnTo>
                  <a:lnTo>
                    <a:pt x="2678" y="1297"/>
                  </a:lnTo>
                  <a:lnTo>
                    <a:pt x="2695" y="1257"/>
                  </a:lnTo>
                  <a:lnTo>
                    <a:pt x="2705" y="1216"/>
                  </a:lnTo>
                  <a:lnTo>
                    <a:pt x="2714" y="1175"/>
                  </a:lnTo>
                  <a:lnTo>
                    <a:pt x="2719" y="1134"/>
                  </a:lnTo>
                  <a:lnTo>
                    <a:pt x="2722" y="1089"/>
                  </a:lnTo>
                  <a:lnTo>
                    <a:pt x="2722" y="1048"/>
                  </a:lnTo>
                  <a:lnTo>
                    <a:pt x="2717" y="1010"/>
                  </a:lnTo>
                  <a:lnTo>
                    <a:pt x="2710" y="972"/>
                  </a:lnTo>
                  <a:lnTo>
                    <a:pt x="2700" y="933"/>
                  </a:lnTo>
                  <a:lnTo>
                    <a:pt x="2686" y="898"/>
                  </a:lnTo>
                  <a:lnTo>
                    <a:pt x="2671" y="862"/>
                  </a:lnTo>
                  <a:lnTo>
                    <a:pt x="2654" y="828"/>
                  </a:lnTo>
                  <a:lnTo>
                    <a:pt x="2633" y="795"/>
                  </a:lnTo>
                  <a:lnTo>
                    <a:pt x="2633" y="795"/>
                  </a:lnTo>
                  <a:lnTo>
                    <a:pt x="2645" y="761"/>
                  </a:lnTo>
                  <a:lnTo>
                    <a:pt x="2652" y="723"/>
                  </a:lnTo>
                  <a:lnTo>
                    <a:pt x="2659" y="684"/>
                  </a:lnTo>
                  <a:lnTo>
                    <a:pt x="2659" y="649"/>
                  </a:lnTo>
                  <a:lnTo>
                    <a:pt x="2659" y="615"/>
                  </a:lnTo>
                  <a:lnTo>
                    <a:pt x="2654" y="584"/>
                  </a:lnTo>
                  <a:lnTo>
                    <a:pt x="2650" y="555"/>
                  </a:lnTo>
                  <a:lnTo>
                    <a:pt x="2642" y="524"/>
                  </a:lnTo>
                  <a:lnTo>
                    <a:pt x="2630" y="498"/>
                  </a:lnTo>
                  <a:lnTo>
                    <a:pt x="2621" y="469"/>
                  </a:lnTo>
                  <a:lnTo>
                    <a:pt x="2607" y="443"/>
                  </a:lnTo>
                  <a:lnTo>
                    <a:pt x="2590" y="416"/>
                  </a:lnTo>
                  <a:lnTo>
                    <a:pt x="2573" y="392"/>
                  </a:lnTo>
                  <a:lnTo>
                    <a:pt x="2554" y="373"/>
                  </a:lnTo>
                  <a:lnTo>
                    <a:pt x="2532" y="352"/>
                  </a:lnTo>
                  <a:lnTo>
                    <a:pt x="2513" y="333"/>
                  </a:lnTo>
                  <a:lnTo>
                    <a:pt x="2489" y="318"/>
                  </a:lnTo>
                  <a:lnTo>
                    <a:pt x="2465" y="304"/>
                  </a:lnTo>
                  <a:lnTo>
                    <a:pt x="2439" y="292"/>
                  </a:lnTo>
                  <a:lnTo>
                    <a:pt x="2412" y="282"/>
                  </a:lnTo>
                  <a:lnTo>
                    <a:pt x="2412" y="282"/>
                  </a:lnTo>
                  <a:lnTo>
                    <a:pt x="2408" y="251"/>
                  </a:lnTo>
                  <a:lnTo>
                    <a:pt x="2398" y="223"/>
                  </a:lnTo>
                  <a:lnTo>
                    <a:pt x="2388" y="196"/>
                  </a:lnTo>
                  <a:lnTo>
                    <a:pt x="2376" y="167"/>
                  </a:lnTo>
                  <a:lnTo>
                    <a:pt x="2362" y="144"/>
                  </a:lnTo>
                  <a:lnTo>
                    <a:pt x="2345" y="122"/>
                  </a:lnTo>
                  <a:lnTo>
                    <a:pt x="2329" y="98"/>
                  </a:lnTo>
                  <a:lnTo>
                    <a:pt x="2307" y="79"/>
                  </a:lnTo>
                  <a:lnTo>
                    <a:pt x="2288" y="62"/>
                  </a:lnTo>
                  <a:lnTo>
                    <a:pt x="2264" y="45"/>
                  </a:lnTo>
                  <a:lnTo>
                    <a:pt x="2242" y="31"/>
                  </a:lnTo>
                  <a:lnTo>
                    <a:pt x="2218" y="21"/>
                  </a:lnTo>
                  <a:lnTo>
                    <a:pt x="2192" y="12"/>
                  </a:lnTo>
                  <a:lnTo>
                    <a:pt x="2166" y="5"/>
                  </a:lnTo>
                  <a:lnTo>
                    <a:pt x="2139" y="0"/>
                  </a:lnTo>
                  <a:lnTo>
                    <a:pt x="2111" y="0"/>
                  </a:lnTo>
                  <a:lnTo>
                    <a:pt x="2079" y="2"/>
                  </a:lnTo>
                  <a:lnTo>
                    <a:pt x="2046" y="7"/>
                  </a:lnTo>
                  <a:lnTo>
                    <a:pt x="2015" y="17"/>
                  </a:lnTo>
                  <a:lnTo>
                    <a:pt x="1984" y="31"/>
                  </a:lnTo>
                  <a:lnTo>
                    <a:pt x="1955" y="48"/>
                  </a:lnTo>
                  <a:lnTo>
                    <a:pt x="1926" y="69"/>
                  </a:lnTo>
                  <a:lnTo>
                    <a:pt x="1900" y="96"/>
                  </a:lnTo>
                  <a:lnTo>
                    <a:pt x="1878" y="122"/>
                  </a:lnTo>
                  <a:lnTo>
                    <a:pt x="1878" y="122"/>
                  </a:lnTo>
                  <a:lnTo>
                    <a:pt x="1859" y="96"/>
                  </a:lnTo>
                  <a:lnTo>
                    <a:pt x="1835" y="69"/>
                  </a:lnTo>
                  <a:lnTo>
                    <a:pt x="1809" y="48"/>
                  </a:lnTo>
                  <a:lnTo>
                    <a:pt x="1782" y="31"/>
                  </a:lnTo>
                  <a:lnTo>
                    <a:pt x="1754" y="17"/>
                  </a:lnTo>
                  <a:lnTo>
                    <a:pt x="1722" y="7"/>
                  </a:lnTo>
                  <a:lnTo>
                    <a:pt x="1691" y="2"/>
                  </a:lnTo>
                  <a:lnTo>
                    <a:pt x="1660" y="0"/>
                  </a:lnTo>
                  <a:lnTo>
                    <a:pt x="1641" y="0"/>
                  </a:lnTo>
                  <a:lnTo>
                    <a:pt x="1622" y="2"/>
                  </a:lnTo>
                  <a:lnTo>
                    <a:pt x="1603" y="7"/>
                  </a:lnTo>
                  <a:lnTo>
                    <a:pt x="1586" y="12"/>
                  </a:lnTo>
                  <a:lnTo>
                    <a:pt x="1550" y="26"/>
                  </a:lnTo>
                  <a:lnTo>
                    <a:pt x="1516" y="45"/>
                  </a:lnTo>
                  <a:lnTo>
                    <a:pt x="1485" y="69"/>
                  </a:lnTo>
                  <a:lnTo>
                    <a:pt x="1456" y="98"/>
                  </a:lnTo>
                  <a:lnTo>
                    <a:pt x="1435" y="132"/>
                  </a:lnTo>
                  <a:lnTo>
                    <a:pt x="1423" y="151"/>
                  </a:lnTo>
                  <a:lnTo>
                    <a:pt x="1413" y="170"/>
                  </a:lnTo>
                  <a:lnTo>
                    <a:pt x="1416" y="175"/>
                  </a:lnTo>
                  <a:lnTo>
                    <a:pt x="1392" y="151"/>
                  </a:lnTo>
                  <a:lnTo>
                    <a:pt x="1365" y="129"/>
                  </a:lnTo>
                  <a:lnTo>
                    <a:pt x="1337" y="110"/>
                  </a:lnTo>
                  <a:lnTo>
                    <a:pt x="1305" y="96"/>
                  </a:lnTo>
                  <a:lnTo>
                    <a:pt x="1277" y="84"/>
                  </a:lnTo>
                  <a:lnTo>
                    <a:pt x="1246" y="74"/>
                  </a:lnTo>
                  <a:lnTo>
                    <a:pt x="1212" y="69"/>
                  </a:lnTo>
                  <a:lnTo>
                    <a:pt x="1181" y="67"/>
                  </a:lnTo>
                  <a:lnTo>
                    <a:pt x="1157" y="69"/>
                  </a:lnTo>
                  <a:lnTo>
                    <a:pt x="1133" y="72"/>
                  </a:lnTo>
                  <a:lnTo>
                    <a:pt x="1111" y="74"/>
                  </a:lnTo>
                  <a:lnTo>
                    <a:pt x="1090" y="81"/>
                  </a:lnTo>
                  <a:lnTo>
                    <a:pt x="1068" y="88"/>
                  </a:lnTo>
                  <a:lnTo>
                    <a:pt x="1047" y="98"/>
                  </a:lnTo>
                  <a:lnTo>
                    <a:pt x="1025" y="108"/>
                  </a:lnTo>
                  <a:lnTo>
                    <a:pt x="1006" y="122"/>
                  </a:lnTo>
                  <a:lnTo>
                    <a:pt x="987" y="136"/>
                  </a:lnTo>
                  <a:lnTo>
                    <a:pt x="970" y="151"/>
                  </a:lnTo>
                  <a:lnTo>
                    <a:pt x="937" y="184"/>
                  </a:lnTo>
                  <a:lnTo>
                    <a:pt x="922" y="203"/>
                  </a:lnTo>
                  <a:lnTo>
                    <a:pt x="908" y="225"/>
                  </a:lnTo>
                  <a:lnTo>
                    <a:pt x="893" y="246"/>
                  </a:lnTo>
                  <a:lnTo>
                    <a:pt x="884" y="268"/>
                  </a:lnTo>
                  <a:lnTo>
                    <a:pt x="881" y="270"/>
                  </a:lnTo>
                  <a:lnTo>
                    <a:pt x="857" y="256"/>
                  </a:lnTo>
                  <a:lnTo>
                    <a:pt x="831" y="242"/>
                  </a:lnTo>
                  <a:lnTo>
                    <a:pt x="805" y="232"/>
                  </a:lnTo>
                  <a:lnTo>
                    <a:pt x="778" y="223"/>
                  </a:lnTo>
                  <a:lnTo>
                    <a:pt x="752" y="215"/>
                  </a:lnTo>
                  <a:lnTo>
                    <a:pt x="723" y="208"/>
                  </a:lnTo>
                  <a:lnTo>
                    <a:pt x="695" y="206"/>
                  </a:lnTo>
                  <a:lnTo>
                    <a:pt x="668" y="206"/>
                  </a:lnTo>
                  <a:lnTo>
                    <a:pt x="623" y="208"/>
                  </a:lnTo>
                  <a:lnTo>
                    <a:pt x="582" y="215"/>
                  </a:lnTo>
                  <a:lnTo>
                    <a:pt x="541" y="225"/>
                  </a:lnTo>
                  <a:lnTo>
                    <a:pt x="500" y="242"/>
                  </a:lnTo>
                  <a:lnTo>
                    <a:pt x="464" y="263"/>
                  </a:lnTo>
                  <a:lnTo>
                    <a:pt x="429" y="287"/>
                  </a:lnTo>
                  <a:lnTo>
                    <a:pt x="397" y="313"/>
                  </a:lnTo>
                  <a:lnTo>
                    <a:pt x="366" y="345"/>
                  </a:lnTo>
                  <a:lnTo>
                    <a:pt x="338" y="378"/>
                  </a:lnTo>
                  <a:lnTo>
                    <a:pt x="314" y="416"/>
                  </a:lnTo>
                  <a:lnTo>
                    <a:pt x="292" y="455"/>
                  </a:lnTo>
                  <a:lnTo>
                    <a:pt x="275" y="498"/>
                  </a:lnTo>
                  <a:lnTo>
                    <a:pt x="261" y="541"/>
                  </a:lnTo>
                  <a:lnTo>
                    <a:pt x="249" y="586"/>
                  </a:lnTo>
                  <a:lnTo>
                    <a:pt x="244" y="634"/>
                  </a:lnTo>
                  <a:lnTo>
                    <a:pt x="242" y="682"/>
                  </a:lnTo>
                  <a:lnTo>
                    <a:pt x="242" y="716"/>
                  </a:lnTo>
                  <a:lnTo>
                    <a:pt x="246" y="747"/>
                  </a:lnTo>
                  <a:lnTo>
                    <a:pt x="246" y="7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9640" y="4017960"/>
              <a:ext cx="1728720" cy="1425960"/>
            </a:xfrm>
            <a:custGeom>
              <a:avLst/>
              <a:gdLst/>
              <a:ahLst/>
              <a:rect l="l" t="t" r="r" b="b"/>
              <a:pathLst>
                <a:path w="2722" h="2245">
                  <a:moveTo>
                    <a:pt x="246" y="747"/>
                  </a:moveTo>
                  <a:lnTo>
                    <a:pt x="220" y="752"/>
                  </a:lnTo>
                  <a:lnTo>
                    <a:pt x="196" y="759"/>
                  </a:lnTo>
                  <a:lnTo>
                    <a:pt x="172" y="768"/>
                  </a:lnTo>
                  <a:lnTo>
                    <a:pt x="148" y="778"/>
                  </a:lnTo>
                  <a:lnTo>
                    <a:pt x="127" y="792"/>
                  </a:lnTo>
                  <a:lnTo>
                    <a:pt x="107" y="809"/>
                  </a:lnTo>
                  <a:lnTo>
                    <a:pt x="88" y="826"/>
                  </a:lnTo>
                  <a:lnTo>
                    <a:pt x="72" y="845"/>
                  </a:lnTo>
                  <a:lnTo>
                    <a:pt x="55" y="869"/>
                  </a:lnTo>
                  <a:lnTo>
                    <a:pt x="40" y="890"/>
                  </a:lnTo>
                  <a:lnTo>
                    <a:pt x="28" y="917"/>
                  </a:lnTo>
                  <a:lnTo>
                    <a:pt x="19" y="941"/>
                  </a:lnTo>
                  <a:lnTo>
                    <a:pt x="9" y="967"/>
                  </a:lnTo>
                  <a:lnTo>
                    <a:pt x="4" y="996"/>
                  </a:lnTo>
                  <a:lnTo>
                    <a:pt x="2" y="1024"/>
                  </a:lnTo>
                  <a:lnTo>
                    <a:pt x="0" y="1053"/>
                  </a:lnTo>
                  <a:lnTo>
                    <a:pt x="2" y="1075"/>
                  </a:lnTo>
                  <a:lnTo>
                    <a:pt x="2" y="1094"/>
                  </a:lnTo>
                  <a:lnTo>
                    <a:pt x="7" y="1113"/>
                  </a:lnTo>
                  <a:lnTo>
                    <a:pt x="9" y="1134"/>
                  </a:lnTo>
                  <a:lnTo>
                    <a:pt x="21" y="1170"/>
                  </a:lnTo>
                  <a:lnTo>
                    <a:pt x="38" y="1209"/>
                  </a:lnTo>
                  <a:lnTo>
                    <a:pt x="57" y="1240"/>
                  </a:lnTo>
                  <a:lnTo>
                    <a:pt x="79" y="1271"/>
                  </a:lnTo>
                  <a:lnTo>
                    <a:pt x="105" y="1297"/>
                  </a:lnTo>
                  <a:lnTo>
                    <a:pt x="136" y="1321"/>
                  </a:lnTo>
                  <a:lnTo>
                    <a:pt x="134" y="1316"/>
                  </a:lnTo>
                  <a:lnTo>
                    <a:pt x="117" y="1338"/>
                  </a:lnTo>
                  <a:lnTo>
                    <a:pt x="103" y="1362"/>
                  </a:lnTo>
                  <a:lnTo>
                    <a:pt x="91" y="1388"/>
                  </a:lnTo>
                  <a:lnTo>
                    <a:pt x="79" y="1415"/>
                  </a:lnTo>
                  <a:lnTo>
                    <a:pt x="72" y="1441"/>
                  </a:lnTo>
                  <a:lnTo>
                    <a:pt x="64" y="1470"/>
                  </a:lnTo>
                  <a:lnTo>
                    <a:pt x="62" y="1498"/>
                  </a:lnTo>
                  <a:lnTo>
                    <a:pt x="60" y="1527"/>
                  </a:lnTo>
                  <a:lnTo>
                    <a:pt x="62" y="1558"/>
                  </a:lnTo>
                  <a:lnTo>
                    <a:pt x="67" y="1589"/>
                  </a:lnTo>
                  <a:lnTo>
                    <a:pt x="74" y="1618"/>
                  </a:lnTo>
                  <a:lnTo>
                    <a:pt x="81" y="1644"/>
                  </a:lnTo>
                  <a:lnTo>
                    <a:pt x="93" y="1673"/>
                  </a:lnTo>
                  <a:lnTo>
                    <a:pt x="107" y="1699"/>
                  </a:lnTo>
                  <a:lnTo>
                    <a:pt x="122" y="1723"/>
                  </a:lnTo>
                  <a:lnTo>
                    <a:pt x="141" y="1742"/>
                  </a:lnTo>
                  <a:lnTo>
                    <a:pt x="160" y="1764"/>
                  </a:lnTo>
                  <a:lnTo>
                    <a:pt x="182" y="1781"/>
                  </a:lnTo>
                  <a:lnTo>
                    <a:pt x="206" y="1795"/>
                  </a:lnTo>
                  <a:lnTo>
                    <a:pt x="227" y="1809"/>
                  </a:lnTo>
                  <a:lnTo>
                    <a:pt x="254" y="1821"/>
                  </a:lnTo>
                  <a:lnTo>
                    <a:pt x="280" y="1829"/>
                  </a:lnTo>
                  <a:lnTo>
                    <a:pt x="306" y="1833"/>
                  </a:lnTo>
                  <a:lnTo>
                    <a:pt x="335" y="1833"/>
                  </a:lnTo>
                  <a:lnTo>
                    <a:pt x="352" y="1833"/>
                  </a:lnTo>
                  <a:lnTo>
                    <a:pt x="366" y="1831"/>
                  </a:lnTo>
                  <a:lnTo>
                    <a:pt x="366" y="1833"/>
                  </a:lnTo>
                  <a:lnTo>
                    <a:pt x="383" y="1865"/>
                  </a:lnTo>
                  <a:lnTo>
                    <a:pt x="402" y="1896"/>
                  </a:lnTo>
                  <a:lnTo>
                    <a:pt x="421" y="1924"/>
                  </a:lnTo>
                  <a:lnTo>
                    <a:pt x="443" y="1948"/>
                  </a:lnTo>
                  <a:lnTo>
                    <a:pt x="467" y="1972"/>
                  </a:lnTo>
                  <a:lnTo>
                    <a:pt x="491" y="1996"/>
                  </a:lnTo>
                  <a:lnTo>
                    <a:pt x="517" y="2018"/>
                  </a:lnTo>
                  <a:lnTo>
                    <a:pt x="544" y="2034"/>
                  </a:lnTo>
                  <a:lnTo>
                    <a:pt x="570" y="2051"/>
                  </a:lnTo>
                  <a:lnTo>
                    <a:pt x="601" y="2068"/>
                  </a:lnTo>
                  <a:lnTo>
                    <a:pt x="630" y="2080"/>
                  </a:lnTo>
                  <a:lnTo>
                    <a:pt x="661" y="2090"/>
                  </a:lnTo>
                  <a:lnTo>
                    <a:pt x="692" y="2097"/>
                  </a:lnTo>
                  <a:lnTo>
                    <a:pt x="723" y="2104"/>
                  </a:lnTo>
                  <a:lnTo>
                    <a:pt x="754" y="2109"/>
                  </a:lnTo>
                  <a:lnTo>
                    <a:pt x="788" y="2109"/>
                  </a:lnTo>
                  <a:lnTo>
                    <a:pt x="821" y="2109"/>
                  </a:lnTo>
                  <a:lnTo>
                    <a:pt x="853" y="2104"/>
                  </a:lnTo>
                  <a:lnTo>
                    <a:pt x="886" y="2097"/>
                  </a:lnTo>
                  <a:lnTo>
                    <a:pt x="917" y="2090"/>
                  </a:lnTo>
                  <a:lnTo>
                    <a:pt x="948" y="2078"/>
                  </a:lnTo>
                  <a:lnTo>
                    <a:pt x="980" y="2063"/>
                  </a:lnTo>
                  <a:lnTo>
                    <a:pt x="1008" y="2049"/>
                  </a:lnTo>
                  <a:lnTo>
                    <a:pt x="1037" y="2030"/>
                  </a:lnTo>
                  <a:lnTo>
                    <a:pt x="1037" y="2030"/>
                  </a:lnTo>
                  <a:lnTo>
                    <a:pt x="1054" y="2056"/>
                  </a:lnTo>
                  <a:lnTo>
                    <a:pt x="1068" y="2078"/>
                  </a:lnTo>
                  <a:lnTo>
                    <a:pt x="1087" y="2101"/>
                  </a:lnTo>
                  <a:lnTo>
                    <a:pt x="1107" y="2121"/>
                  </a:lnTo>
                  <a:lnTo>
                    <a:pt x="1126" y="2140"/>
                  </a:lnTo>
                  <a:lnTo>
                    <a:pt x="1147" y="2159"/>
                  </a:lnTo>
                  <a:lnTo>
                    <a:pt x="1169" y="2173"/>
                  </a:lnTo>
                  <a:lnTo>
                    <a:pt x="1190" y="2188"/>
                  </a:lnTo>
                  <a:lnTo>
                    <a:pt x="1214" y="2202"/>
                  </a:lnTo>
                  <a:lnTo>
                    <a:pt x="1238" y="2212"/>
                  </a:lnTo>
                  <a:lnTo>
                    <a:pt x="1262" y="2221"/>
                  </a:lnTo>
                  <a:lnTo>
                    <a:pt x="1286" y="2231"/>
                  </a:lnTo>
                  <a:lnTo>
                    <a:pt x="1313" y="2236"/>
                  </a:lnTo>
                  <a:lnTo>
                    <a:pt x="1339" y="2240"/>
                  </a:lnTo>
                  <a:lnTo>
                    <a:pt x="1365" y="2243"/>
                  </a:lnTo>
                  <a:lnTo>
                    <a:pt x="1392" y="2245"/>
                  </a:lnTo>
                  <a:lnTo>
                    <a:pt x="1425" y="2243"/>
                  </a:lnTo>
                  <a:lnTo>
                    <a:pt x="1459" y="2238"/>
                  </a:lnTo>
                  <a:lnTo>
                    <a:pt x="1492" y="2231"/>
                  </a:lnTo>
                  <a:lnTo>
                    <a:pt x="1526" y="2219"/>
                  </a:lnTo>
                  <a:lnTo>
                    <a:pt x="1557" y="2207"/>
                  </a:lnTo>
                  <a:lnTo>
                    <a:pt x="1586" y="2190"/>
                  </a:lnTo>
                  <a:lnTo>
                    <a:pt x="1617" y="2171"/>
                  </a:lnTo>
                  <a:lnTo>
                    <a:pt x="1643" y="2149"/>
                  </a:lnTo>
                  <a:lnTo>
                    <a:pt x="1670" y="2125"/>
                  </a:lnTo>
                  <a:lnTo>
                    <a:pt x="1694" y="2101"/>
                  </a:lnTo>
                  <a:lnTo>
                    <a:pt x="1718" y="2073"/>
                  </a:lnTo>
                  <a:lnTo>
                    <a:pt x="1737" y="2042"/>
                  </a:lnTo>
                  <a:lnTo>
                    <a:pt x="1756" y="2011"/>
                  </a:lnTo>
                  <a:lnTo>
                    <a:pt x="1773" y="1977"/>
                  </a:lnTo>
                  <a:lnTo>
                    <a:pt x="1787" y="1941"/>
                  </a:lnTo>
                  <a:lnTo>
                    <a:pt x="1797" y="1903"/>
                  </a:lnTo>
                  <a:lnTo>
                    <a:pt x="1799" y="1908"/>
                  </a:lnTo>
                  <a:lnTo>
                    <a:pt x="1821" y="1920"/>
                  </a:lnTo>
                  <a:lnTo>
                    <a:pt x="1845" y="1934"/>
                  </a:lnTo>
                  <a:lnTo>
                    <a:pt x="1866" y="1944"/>
                  </a:lnTo>
                  <a:lnTo>
                    <a:pt x="1893" y="1953"/>
                  </a:lnTo>
                  <a:lnTo>
                    <a:pt x="1916" y="1960"/>
                  </a:lnTo>
                  <a:lnTo>
                    <a:pt x="1940" y="1965"/>
                  </a:lnTo>
                  <a:lnTo>
                    <a:pt x="1967" y="1967"/>
                  </a:lnTo>
                  <a:lnTo>
                    <a:pt x="1991" y="1967"/>
                  </a:lnTo>
                  <a:lnTo>
                    <a:pt x="2029" y="1967"/>
                  </a:lnTo>
                  <a:lnTo>
                    <a:pt x="2065" y="1960"/>
                  </a:lnTo>
                  <a:lnTo>
                    <a:pt x="2099" y="1951"/>
                  </a:lnTo>
                  <a:lnTo>
                    <a:pt x="2132" y="1936"/>
                  </a:lnTo>
                  <a:lnTo>
                    <a:pt x="2163" y="1920"/>
                  </a:lnTo>
                  <a:lnTo>
                    <a:pt x="2194" y="1900"/>
                  </a:lnTo>
                  <a:lnTo>
                    <a:pt x="2221" y="1876"/>
                  </a:lnTo>
                  <a:lnTo>
                    <a:pt x="2247" y="1850"/>
                  </a:lnTo>
                  <a:lnTo>
                    <a:pt x="2271" y="1821"/>
                  </a:lnTo>
                  <a:lnTo>
                    <a:pt x="2293" y="1790"/>
                  </a:lnTo>
                  <a:lnTo>
                    <a:pt x="2312" y="1757"/>
                  </a:lnTo>
                  <a:lnTo>
                    <a:pt x="2326" y="1721"/>
                  </a:lnTo>
                  <a:lnTo>
                    <a:pt x="2338" y="1685"/>
                  </a:lnTo>
                  <a:lnTo>
                    <a:pt x="2348" y="1644"/>
                  </a:lnTo>
                  <a:lnTo>
                    <a:pt x="2353" y="1606"/>
                  </a:lnTo>
                  <a:lnTo>
                    <a:pt x="2355" y="1563"/>
                  </a:lnTo>
                  <a:lnTo>
                    <a:pt x="2355" y="1563"/>
                  </a:lnTo>
                  <a:lnTo>
                    <a:pt x="2393" y="1553"/>
                  </a:lnTo>
                  <a:lnTo>
                    <a:pt x="2432" y="1541"/>
                  </a:lnTo>
                  <a:lnTo>
                    <a:pt x="2468" y="1525"/>
                  </a:lnTo>
                  <a:lnTo>
                    <a:pt x="2501" y="1508"/>
                  </a:lnTo>
                  <a:lnTo>
                    <a:pt x="2532" y="1484"/>
                  </a:lnTo>
                  <a:lnTo>
                    <a:pt x="2563" y="1460"/>
                  </a:lnTo>
                  <a:lnTo>
                    <a:pt x="2592" y="1431"/>
                  </a:lnTo>
                  <a:lnTo>
                    <a:pt x="2618" y="1400"/>
                  </a:lnTo>
                  <a:lnTo>
                    <a:pt x="2640" y="1369"/>
                  </a:lnTo>
                  <a:lnTo>
                    <a:pt x="2662" y="1336"/>
                  </a:lnTo>
                  <a:lnTo>
                    <a:pt x="2678" y="1297"/>
                  </a:lnTo>
                  <a:lnTo>
                    <a:pt x="2695" y="1257"/>
                  </a:lnTo>
                  <a:lnTo>
                    <a:pt x="2705" y="1216"/>
                  </a:lnTo>
                  <a:lnTo>
                    <a:pt x="2714" y="1175"/>
                  </a:lnTo>
                  <a:lnTo>
                    <a:pt x="2719" y="1134"/>
                  </a:lnTo>
                  <a:lnTo>
                    <a:pt x="2722" y="1089"/>
                  </a:lnTo>
                  <a:lnTo>
                    <a:pt x="2722" y="1048"/>
                  </a:lnTo>
                  <a:lnTo>
                    <a:pt x="2717" y="1010"/>
                  </a:lnTo>
                  <a:lnTo>
                    <a:pt x="2710" y="972"/>
                  </a:lnTo>
                  <a:lnTo>
                    <a:pt x="2700" y="933"/>
                  </a:lnTo>
                  <a:lnTo>
                    <a:pt x="2686" y="898"/>
                  </a:lnTo>
                  <a:lnTo>
                    <a:pt x="2671" y="862"/>
                  </a:lnTo>
                  <a:lnTo>
                    <a:pt x="2654" y="828"/>
                  </a:lnTo>
                  <a:lnTo>
                    <a:pt x="2633" y="795"/>
                  </a:lnTo>
                  <a:lnTo>
                    <a:pt x="2633" y="795"/>
                  </a:lnTo>
                  <a:lnTo>
                    <a:pt x="2645" y="761"/>
                  </a:lnTo>
                  <a:lnTo>
                    <a:pt x="2652" y="723"/>
                  </a:lnTo>
                  <a:lnTo>
                    <a:pt x="2659" y="684"/>
                  </a:lnTo>
                  <a:lnTo>
                    <a:pt x="2659" y="649"/>
                  </a:lnTo>
                  <a:lnTo>
                    <a:pt x="2659" y="615"/>
                  </a:lnTo>
                  <a:lnTo>
                    <a:pt x="2654" y="584"/>
                  </a:lnTo>
                  <a:lnTo>
                    <a:pt x="2650" y="555"/>
                  </a:lnTo>
                  <a:lnTo>
                    <a:pt x="2642" y="524"/>
                  </a:lnTo>
                  <a:lnTo>
                    <a:pt x="2630" y="498"/>
                  </a:lnTo>
                  <a:lnTo>
                    <a:pt x="2621" y="469"/>
                  </a:lnTo>
                  <a:lnTo>
                    <a:pt x="2607" y="443"/>
                  </a:lnTo>
                  <a:lnTo>
                    <a:pt x="2590" y="416"/>
                  </a:lnTo>
                  <a:lnTo>
                    <a:pt x="2573" y="392"/>
                  </a:lnTo>
                  <a:lnTo>
                    <a:pt x="2554" y="373"/>
                  </a:lnTo>
                  <a:lnTo>
                    <a:pt x="2532" y="352"/>
                  </a:lnTo>
                  <a:lnTo>
                    <a:pt x="2513" y="333"/>
                  </a:lnTo>
                  <a:lnTo>
                    <a:pt x="2489" y="318"/>
                  </a:lnTo>
                  <a:lnTo>
                    <a:pt x="2465" y="304"/>
                  </a:lnTo>
                  <a:lnTo>
                    <a:pt x="2439" y="292"/>
                  </a:lnTo>
                  <a:lnTo>
                    <a:pt x="2412" y="282"/>
                  </a:lnTo>
                  <a:lnTo>
                    <a:pt x="2412" y="282"/>
                  </a:lnTo>
                  <a:lnTo>
                    <a:pt x="2408" y="251"/>
                  </a:lnTo>
                  <a:lnTo>
                    <a:pt x="2398" y="223"/>
                  </a:lnTo>
                  <a:lnTo>
                    <a:pt x="2388" y="196"/>
                  </a:lnTo>
                  <a:lnTo>
                    <a:pt x="2376" y="167"/>
                  </a:lnTo>
                  <a:lnTo>
                    <a:pt x="2362" y="144"/>
                  </a:lnTo>
                  <a:lnTo>
                    <a:pt x="2345" y="122"/>
                  </a:lnTo>
                  <a:lnTo>
                    <a:pt x="2329" y="98"/>
                  </a:lnTo>
                  <a:lnTo>
                    <a:pt x="2307" y="79"/>
                  </a:lnTo>
                  <a:lnTo>
                    <a:pt x="2288" y="62"/>
                  </a:lnTo>
                  <a:lnTo>
                    <a:pt x="2264" y="45"/>
                  </a:lnTo>
                  <a:lnTo>
                    <a:pt x="2242" y="31"/>
                  </a:lnTo>
                  <a:lnTo>
                    <a:pt x="2218" y="21"/>
                  </a:lnTo>
                  <a:lnTo>
                    <a:pt x="2192" y="12"/>
                  </a:lnTo>
                  <a:lnTo>
                    <a:pt x="2166" y="5"/>
                  </a:lnTo>
                  <a:lnTo>
                    <a:pt x="2139" y="0"/>
                  </a:lnTo>
                  <a:lnTo>
                    <a:pt x="2111" y="0"/>
                  </a:lnTo>
                  <a:lnTo>
                    <a:pt x="2079" y="2"/>
                  </a:lnTo>
                  <a:lnTo>
                    <a:pt x="2046" y="7"/>
                  </a:lnTo>
                  <a:lnTo>
                    <a:pt x="2015" y="17"/>
                  </a:lnTo>
                  <a:lnTo>
                    <a:pt x="1984" y="31"/>
                  </a:lnTo>
                  <a:lnTo>
                    <a:pt x="1955" y="48"/>
                  </a:lnTo>
                  <a:lnTo>
                    <a:pt x="1926" y="69"/>
                  </a:lnTo>
                  <a:lnTo>
                    <a:pt x="1900" y="96"/>
                  </a:lnTo>
                  <a:lnTo>
                    <a:pt x="1878" y="122"/>
                  </a:lnTo>
                  <a:lnTo>
                    <a:pt x="1878" y="122"/>
                  </a:lnTo>
                  <a:lnTo>
                    <a:pt x="1859" y="96"/>
                  </a:lnTo>
                  <a:lnTo>
                    <a:pt x="1835" y="69"/>
                  </a:lnTo>
                  <a:lnTo>
                    <a:pt x="1809" y="48"/>
                  </a:lnTo>
                  <a:lnTo>
                    <a:pt x="1782" y="31"/>
                  </a:lnTo>
                  <a:lnTo>
                    <a:pt x="1754" y="17"/>
                  </a:lnTo>
                  <a:lnTo>
                    <a:pt x="1722" y="7"/>
                  </a:lnTo>
                  <a:lnTo>
                    <a:pt x="1691" y="2"/>
                  </a:lnTo>
                  <a:lnTo>
                    <a:pt x="1660" y="0"/>
                  </a:lnTo>
                  <a:lnTo>
                    <a:pt x="1641" y="0"/>
                  </a:lnTo>
                  <a:lnTo>
                    <a:pt x="1622" y="2"/>
                  </a:lnTo>
                  <a:lnTo>
                    <a:pt x="1603" y="7"/>
                  </a:lnTo>
                  <a:lnTo>
                    <a:pt x="1586" y="12"/>
                  </a:lnTo>
                  <a:lnTo>
                    <a:pt x="1550" y="26"/>
                  </a:lnTo>
                  <a:lnTo>
                    <a:pt x="1516" y="45"/>
                  </a:lnTo>
                  <a:lnTo>
                    <a:pt x="1485" y="69"/>
                  </a:lnTo>
                  <a:lnTo>
                    <a:pt x="1456" y="98"/>
                  </a:lnTo>
                  <a:lnTo>
                    <a:pt x="1435" y="132"/>
                  </a:lnTo>
                  <a:lnTo>
                    <a:pt x="1423" y="151"/>
                  </a:lnTo>
                  <a:lnTo>
                    <a:pt x="1413" y="170"/>
                  </a:lnTo>
                  <a:lnTo>
                    <a:pt x="1416" y="175"/>
                  </a:lnTo>
                  <a:lnTo>
                    <a:pt x="1392" y="151"/>
                  </a:lnTo>
                  <a:lnTo>
                    <a:pt x="1365" y="129"/>
                  </a:lnTo>
                  <a:lnTo>
                    <a:pt x="1337" y="110"/>
                  </a:lnTo>
                  <a:lnTo>
                    <a:pt x="1305" y="96"/>
                  </a:lnTo>
                  <a:lnTo>
                    <a:pt x="1277" y="84"/>
                  </a:lnTo>
                  <a:lnTo>
                    <a:pt x="1246" y="74"/>
                  </a:lnTo>
                  <a:lnTo>
                    <a:pt x="1212" y="69"/>
                  </a:lnTo>
                  <a:lnTo>
                    <a:pt x="1181" y="67"/>
                  </a:lnTo>
                  <a:lnTo>
                    <a:pt x="1157" y="69"/>
                  </a:lnTo>
                  <a:lnTo>
                    <a:pt x="1133" y="72"/>
                  </a:lnTo>
                  <a:lnTo>
                    <a:pt x="1111" y="74"/>
                  </a:lnTo>
                  <a:lnTo>
                    <a:pt x="1090" y="81"/>
                  </a:lnTo>
                  <a:lnTo>
                    <a:pt x="1068" y="88"/>
                  </a:lnTo>
                  <a:lnTo>
                    <a:pt x="1047" y="98"/>
                  </a:lnTo>
                  <a:lnTo>
                    <a:pt x="1025" y="108"/>
                  </a:lnTo>
                  <a:lnTo>
                    <a:pt x="1006" y="122"/>
                  </a:lnTo>
                  <a:lnTo>
                    <a:pt x="987" y="136"/>
                  </a:lnTo>
                  <a:lnTo>
                    <a:pt x="970" y="151"/>
                  </a:lnTo>
                  <a:lnTo>
                    <a:pt x="937" y="184"/>
                  </a:lnTo>
                  <a:lnTo>
                    <a:pt x="922" y="203"/>
                  </a:lnTo>
                  <a:lnTo>
                    <a:pt x="908" y="225"/>
                  </a:lnTo>
                  <a:lnTo>
                    <a:pt x="893" y="246"/>
                  </a:lnTo>
                  <a:lnTo>
                    <a:pt x="884" y="268"/>
                  </a:lnTo>
                  <a:lnTo>
                    <a:pt x="881" y="270"/>
                  </a:lnTo>
                  <a:lnTo>
                    <a:pt x="857" y="256"/>
                  </a:lnTo>
                  <a:lnTo>
                    <a:pt x="831" y="242"/>
                  </a:lnTo>
                  <a:lnTo>
                    <a:pt x="805" y="232"/>
                  </a:lnTo>
                  <a:lnTo>
                    <a:pt x="778" y="223"/>
                  </a:lnTo>
                  <a:lnTo>
                    <a:pt x="752" y="215"/>
                  </a:lnTo>
                  <a:lnTo>
                    <a:pt x="723" y="208"/>
                  </a:lnTo>
                  <a:lnTo>
                    <a:pt x="695" y="206"/>
                  </a:lnTo>
                  <a:lnTo>
                    <a:pt x="668" y="206"/>
                  </a:lnTo>
                  <a:lnTo>
                    <a:pt x="623" y="208"/>
                  </a:lnTo>
                  <a:lnTo>
                    <a:pt x="582" y="215"/>
                  </a:lnTo>
                  <a:lnTo>
                    <a:pt x="541" y="225"/>
                  </a:lnTo>
                  <a:lnTo>
                    <a:pt x="500" y="242"/>
                  </a:lnTo>
                  <a:lnTo>
                    <a:pt x="464" y="263"/>
                  </a:lnTo>
                  <a:lnTo>
                    <a:pt x="429" y="287"/>
                  </a:lnTo>
                  <a:lnTo>
                    <a:pt x="397" y="313"/>
                  </a:lnTo>
                  <a:lnTo>
                    <a:pt x="366" y="345"/>
                  </a:lnTo>
                  <a:lnTo>
                    <a:pt x="338" y="378"/>
                  </a:lnTo>
                  <a:lnTo>
                    <a:pt x="314" y="416"/>
                  </a:lnTo>
                  <a:lnTo>
                    <a:pt x="292" y="455"/>
                  </a:lnTo>
                  <a:lnTo>
                    <a:pt x="275" y="498"/>
                  </a:lnTo>
                  <a:lnTo>
                    <a:pt x="261" y="541"/>
                  </a:lnTo>
                  <a:lnTo>
                    <a:pt x="249" y="586"/>
                  </a:lnTo>
                  <a:lnTo>
                    <a:pt x="244" y="634"/>
                  </a:lnTo>
                  <a:lnTo>
                    <a:pt x="242" y="682"/>
                  </a:lnTo>
                  <a:lnTo>
                    <a:pt x="242" y="716"/>
                  </a:lnTo>
                  <a:lnTo>
                    <a:pt x="246" y="747"/>
                  </a:lnTo>
                  <a:lnTo>
                    <a:pt x="246" y="747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66040" y="4855680"/>
              <a:ext cx="102240" cy="27000"/>
            </a:xfrm>
            <a:custGeom>
              <a:avLst/>
              <a:gdLst/>
              <a:ahLst/>
              <a:rect l="l" t="t" r="r" b="b"/>
              <a:pathLst>
                <a:path w="161" h="43">
                  <a:moveTo>
                    <a:pt x="0" y="0"/>
                  </a:moveTo>
                  <a:lnTo>
                    <a:pt x="34" y="19"/>
                  </a:lnTo>
                  <a:lnTo>
                    <a:pt x="67" y="33"/>
                  </a:lnTo>
                  <a:lnTo>
                    <a:pt x="101" y="40"/>
                  </a:lnTo>
                  <a:lnTo>
                    <a:pt x="120" y="43"/>
                  </a:lnTo>
                  <a:lnTo>
                    <a:pt x="139" y="43"/>
                  </a:lnTo>
                  <a:lnTo>
                    <a:pt x="149" y="43"/>
                  </a:lnTo>
                  <a:lnTo>
                    <a:pt x="161" y="4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13640" y="5168880"/>
              <a:ext cx="42480" cy="11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9"/>
                  </a:moveTo>
                  <a:lnTo>
                    <a:pt x="16" y="17"/>
                  </a:lnTo>
                  <a:lnTo>
                    <a:pt x="33" y="12"/>
                  </a:lnTo>
                  <a:lnTo>
                    <a:pt x="6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12160" y="5250960"/>
              <a:ext cx="25920" cy="5616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20" y="46"/>
                  </a:lnTo>
                  <a:lnTo>
                    <a:pt x="29" y="70"/>
                  </a:lnTo>
                  <a:lnTo>
                    <a:pt x="41" y="8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21920" y="5164200"/>
              <a:ext cx="8640" cy="61920"/>
            </a:xfrm>
            <a:custGeom>
              <a:avLst/>
              <a:gdLst/>
              <a:ahLst/>
              <a:rect l="l" t="t" r="r" b="b"/>
              <a:pathLst>
                <a:path w="14" h="98">
                  <a:moveTo>
                    <a:pt x="0" y="98"/>
                  </a:moveTo>
                  <a:lnTo>
                    <a:pt x="5" y="74"/>
                  </a:lnTo>
                  <a:lnTo>
                    <a:pt x="10" y="50"/>
                  </a:lnTo>
                  <a:lnTo>
                    <a:pt x="12" y="24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5840" y="4775040"/>
              <a:ext cx="130680" cy="235440"/>
            </a:xfrm>
            <a:custGeom>
              <a:avLst/>
              <a:gdLst/>
              <a:ahLst/>
              <a:rect l="l" t="t" r="r" b="b"/>
              <a:pathLst>
                <a:path w="206" h="371">
                  <a:moveTo>
                    <a:pt x="206" y="371"/>
                  </a:moveTo>
                  <a:lnTo>
                    <a:pt x="206" y="369"/>
                  </a:lnTo>
                  <a:lnTo>
                    <a:pt x="206" y="369"/>
                  </a:lnTo>
                  <a:lnTo>
                    <a:pt x="204" y="337"/>
                  </a:lnTo>
                  <a:lnTo>
                    <a:pt x="202" y="311"/>
                  </a:lnTo>
                  <a:lnTo>
                    <a:pt x="199" y="280"/>
                  </a:lnTo>
                  <a:lnTo>
                    <a:pt x="192" y="254"/>
                  </a:lnTo>
                  <a:lnTo>
                    <a:pt x="182" y="227"/>
                  </a:lnTo>
                  <a:lnTo>
                    <a:pt x="173" y="201"/>
                  </a:lnTo>
                  <a:lnTo>
                    <a:pt x="163" y="175"/>
                  </a:lnTo>
                  <a:lnTo>
                    <a:pt x="151" y="151"/>
                  </a:lnTo>
                  <a:lnTo>
                    <a:pt x="137" y="129"/>
                  </a:lnTo>
                  <a:lnTo>
                    <a:pt x="120" y="105"/>
                  </a:lnTo>
                  <a:lnTo>
                    <a:pt x="103" y="84"/>
                  </a:lnTo>
                  <a:lnTo>
                    <a:pt x="87" y="65"/>
                  </a:lnTo>
                  <a:lnTo>
                    <a:pt x="65" y="45"/>
                  </a:lnTo>
                  <a:lnTo>
                    <a:pt x="46" y="29"/>
                  </a:lnTo>
                  <a:lnTo>
                    <a:pt x="24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4240" y="4522680"/>
              <a:ext cx="57600" cy="8928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0" y="141"/>
                  </a:moveTo>
                  <a:lnTo>
                    <a:pt x="26" y="110"/>
                  </a:lnTo>
                  <a:lnTo>
                    <a:pt x="53" y="76"/>
                  </a:lnTo>
                  <a:lnTo>
                    <a:pt x="74" y="40"/>
                  </a:lnTo>
                  <a:lnTo>
                    <a:pt x="9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1440" y="4196880"/>
              <a:ext cx="2880" cy="41040"/>
            </a:xfrm>
            <a:custGeom>
              <a:avLst/>
              <a:gdLst/>
              <a:ahLst/>
              <a:rect l="l" t="t" r="r" b="b"/>
              <a:pathLst>
                <a:path w="5" h="65">
                  <a:moveTo>
                    <a:pt x="5" y="65"/>
                  </a:moveTo>
                  <a:lnTo>
                    <a:pt x="5" y="63"/>
                  </a:lnTo>
                  <a:lnTo>
                    <a:pt x="5" y="60"/>
                  </a:lnTo>
                  <a:lnTo>
                    <a:pt x="5" y="3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43520" y="4095360"/>
              <a:ext cx="28440" cy="51480"/>
            </a:xfrm>
            <a:custGeom>
              <a:avLst/>
              <a:gdLst/>
              <a:ahLst/>
              <a:rect l="l" t="t" r="r" b="b"/>
              <a:pathLst>
                <a:path w="45" h="81">
                  <a:moveTo>
                    <a:pt x="45" y="0"/>
                  </a:moveTo>
                  <a:lnTo>
                    <a:pt x="33" y="19"/>
                  </a:lnTo>
                  <a:lnTo>
                    <a:pt x="21" y="41"/>
                  </a:lnTo>
                  <a:lnTo>
                    <a:pt x="9" y="60"/>
                  </a:lnTo>
                  <a:lnTo>
                    <a:pt x="0" y="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63800" y="4125960"/>
              <a:ext cx="15120" cy="4572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24" y="0"/>
                  </a:moveTo>
                  <a:lnTo>
                    <a:pt x="9" y="38"/>
                  </a:lnTo>
                  <a:lnTo>
                    <a:pt x="5" y="55"/>
                  </a:lnTo>
                  <a:lnTo>
                    <a:pt x="0" y="7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39080" y="4189320"/>
              <a:ext cx="51840" cy="44280"/>
            </a:xfrm>
            <a:custGeom>
              <a:avLst/>
              <a:gdLst/>
              <a:ahLst/>
              <a:rect l="l" t="t" r="r" b="b"/>
              <a:pathLst>
                <a:path w="82" h="70">
                  <a:moveTo>
                    <a:pt x="82" y="70"/>
                  </a:moveTo>
                  <a:lnTo>
                    <a:pt x="65" y="51"/>
                  </a:lnTo>
                  <a:lnTo>
                    <a:pt x="44" y="32"/>
                  </a:lnTo>
                  <a:lnTo>
                    <a:pt x="22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34440" y="4492080"/>
              <a:ext cx="8640" cy="46800"/>
            </a:xfrm>
            <a:custGeom>
              <a:avLst/>
              <a:gdLst/>
              <a:ahLst/>
              <a:rect l="l" t="t" r="r" b="b"/>
              <a:pathLst>
                <a:path w="14" h="74">
                  <a:moveTo>
                    <a:pt x="0" y="0"/>
                  </a:moveTo>
                  <a:lnTo>
                    <a:pt x="2" y="16"/>
                  </a:lnTo>
                  <a:lnTo>
                    <a:pt x="7" y="36"/>
                  </a:lnTo>
                  <a:lnTo>
                    <a:pt x="14" y="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656160" y="2971800"/>
            <a:ext cx="228600" cy="1089000"/>
          </a:xfrm>
          <a:prstGeom prst="upDownArrow">
            <a:avLst>
              <a:gd name="adj1" fmla="val 50000"/>
              <a:gd name="adj2" fmla="val 9483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32400" y="440388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TV PV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4611600"/>
            <a:ext cx="1528560" cy="244440"/>
          </a:xfrm>
          <a:prstGeom prst="leftRightArrow">
            <a:avLst>
              <a:gd name="adj1" fmla="val 49352"/>
              <a:gd name="adj2" fmla="val 1032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442400">
            <a:off x="4428720" y="3544560"/>
            <a:ext cx="2428920" cy="341280"/>
          </a:xfrm>
          <a:prstGeom prst="leftRightArrow">
            <a:avLst>
              <a:gd name="adj1" fmla="val 30815"/>
              <a:gd name="adj2" fmla="val 6613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2157600">
            <a:off x="761760" y="3620880"/>
            <a:ext cx="2428920" cy="341280"/>
          </a:xfrm>
          <a:prstGeom prst="leftRightArrow">
            <a:avLst>
              <a:gd name="adj1" fmla="val 30815"/>
              <a:gd name="adj2" fmla="val 6613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90240" y="3505320"/>
            <a:ext cx="1301040" cy="480960"/>
            <a:chOff x="1290240" y="3505320"/>
            <a:chExt cx="1301040" cy="480960"/>
          </a:xfrm>
        </p:grpSpPr>
        <p:sp>
          <p:nvSpPr>
            <p:cNvPr id="140" name=""/>
            <p:cNvSpPr/>
            <p:nvPr/>
          </p:nvSpPr>
          <p:spPr>
            <a:xfrm>
              <a:off x="1293840" y="3505320"/>
              <a:ext cx="1295280" cy="48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0240" y="3608280"/>
              <a:ext cx="13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P 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0400" y="4403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10240" y="32004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Local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10000" y="335268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3rd party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2320" y="4800600"/>
            <a:ext cx="14792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uthentic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800600" y="3200400"/>
            <a:ext cx="3381840" cy="2057400"/>
            <a:chOff x="4800600" y="3200400"/>
            <a:chExt cx="3381840" cy="2057400"/>
          </a:xfrm>
        </p:grpSpPr>
        <p:sp>
          <p:nvSpPr>
            <p:cNvPr id="147" name=""/>
            <p:cNvSpPr/>
            <p:nvPr/>
          </p:nvSpPr>
          <p:spPr>
            <a:xfrm>
              <a:off x="4800600" y="3200400"/>
              <a:ext cx="1905120" cy="2057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705720" y="3962160"/>
              <a:ext cx="60948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41400" y="373392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TVA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Philips myTV Plat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1600200"/>
          <a:ext cx="4267080" cy="2468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00200"/>
                    <a:ext cx="42670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648320" y="1828800"/>
            <a:ext cx="41907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/>
          </a:bodyPr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B using TriMedia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thernet card for IP 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VB-S satellite tu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250"/>
              </a:spcBef>
              <a:buClr>
                <a:srgbClr val="4d93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DE hard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343400"/>
            <a:ext cx="8534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plete system uses a TV Anytime enhanced DVB-S input stream, TV Anytime IP servers, and WAP / web clients for remote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2:43:24Z</dcterms:created>
  <dc:creator>Alex Ashley</dc:creator>
  <dc:description/>
  <dc:language>en-US</dc:language>
  <cp:lastModifiedBy>Alex Ashley</cp:lastModifiedBy>
  <cp:lastPrinted>2000-09-08T16:23:16Z</cp:lastPrinted>
  <dcterms:modified xsi:type="dcterms:W3CDTF">2002-01-28T19:52:40Z</dcterms:modified>
  <cp:revision>33</cp:revision>
  <dc:subject/>
  <dc:title>myTV Delivers TV Anytime</dc:title>
</cp:coreProperties>
</file>