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D5D-E203-431E-942C-4A3D48C7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987-8CF9-414B-A2FE-49F631E3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4CC-D8A7-4E53-8222-A9F770CD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C49-7CE5-4BD6-A501-E0F9DE38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7295-6180-4012-99C7-A83F3207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D18A-303E-400B-89F2-7AEFCB36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F843-0820-46E4-B267-C95E2BCB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CBBB-3AF6-45F0-BCBB-A14846F6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03D2-11C2-43A4-8F75-6B446581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5C47-62A7-427A-ADB1-F6D51BA3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7155-7BE2-4B05-AB0F-7C8DD273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541-E9CB-4D71-B8D4-DFF92975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C0F7-4C07-44E0-9DD8-5A03BE4E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370D-B4DE-494B-92FF-7624F81A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CA79-2D14-433C-BF3D-80A29F91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921B-C494-4419-8167-E0848544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D419-E597-46CC-B468-C6891D87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83A-A599-4AF5-BF28-64AF5D30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40F-A3E1-4C53-8F9C-07191D31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B77-1042-4493-8C31-89A67ADD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90FA-C034-48AE-930C-CF91004E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9E7-6FF8-43EB-9386-C9670C58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598-79C0-4163-9F53-EB4EABE5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F71-CC71-4D2D-912E-49A9912E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3801-024D-4E4B-A646-1BD7B1190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" name="tvat7a" descr=""/>
          <p:cNvPicPr/>
          <p:nvPr/>
        </p:nvPicPr>
        <p:blipFill>
          <a:blip r:embed="rId2"/>
          <a:stretch/>
        </p:blipFill>
        <p:spPr>
          <a:xfrm>
            <a:off x="7780320" y="0"/>
            <a:ext cx="136368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ACCD-2275-41B0-82AF-BC2A21FDF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66"/>
                </a:solidFill>
                <a:latin typeface="Arial"/>
              </a:rPr>
              <a:t>The TV-Anytime Forum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25400" y="5428800"/>
            <a:ext cx="784872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on Parn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irman, TV-Anytime For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The Forum’s achievement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6336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09/99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orum officially establish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11/99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FC (Call For Contributions) genera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04/00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ntent Referencing and Metadata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quirements documents publish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07/00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ublication of Content Referencing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09/00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ublication of Metadata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pecification and Rights Management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&amp; Protection requirements docu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11F-60AB-4836-B96A-A3A6AA481A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The TV-Anytime Forum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6640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are a non-profit association of organisations seeking to develop specifications to enable audio-visual services based on persistent local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ship is open to all who sign the Memorandum of Understanding and attend mee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ll information a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tv-anytime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BB8-3007-47F8-8921-D5B0E400FB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Principle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09480" y="1619280"/>
            <a:ext cx="7259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V-Anyti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u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producing specifications that will enable applications to exploit local persistent storage in consumer electronics platfor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‘agnostic’ about the means for content delivery to consumer electronics equipment; including various broadcast delivery mechanisms (e.g. ATSC, DVB, DirecTV, etc.) and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ill develop specifications for interoperable and integrated systems, from content creators through service providers to consu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405-895F-42D0-AC30-2F3BCFA517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vat7a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605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The future?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209680"/>
            <a:ext cx="611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 look into the seeds of time, and say which grain will grow and which will not, speak 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beth, Act 1 - Scene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Price trend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08040" y="1981080"/>
          <a:ext cx="7097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040" y="1981080"/>
                    <a:ext cx="7097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708280" y="2844720"/>
            <a:ext cx="5519880" cy="1987560"/>
          </a:xfrm>
          <a:prstGeom prst="line">
            <a:avLst/>
          </a:prstGeom>
          <a:ln w="25560">
            <a:solidFill>
              <a:srgbClr val="549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700440" y="3267000"/>
            <a:ext cx="277920" cy="457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97120" y="3654360"/>
            <a:ext cx="1352520" cy="3668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27320" y="2138400"/>
            <a:ext cx="262080" cy="39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48880" y="65062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rch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29880" y="1542960"/>
            <a:ext cx="1934640" cy="641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790040" y="2997360"/>
            <a:ext cx="117360" cy="528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12160" y="2408400"/>
            <a:ext cx="162216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of 2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751880" y="4178160"/>
            <a:ext cx="117360" cy="528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13600" y="3719520"/>
            <a:ext cx="162216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of 2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9960" y="2305080"/>
            <a:ext cx="5502240" cy="1343160"/>
          </a:xfrm>
          <a:prstGeom prst="line">
            <a:avLst/>
          </a:prstGeom>
          <a:ln w="25560">
            <a:solidFill>
              <a:srgbClr val="549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Evolution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cally, to succeed, a new feature or item must deliver incremental benefi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velopment of the Internet has been by a series of incremental steps.  Each purchase has - in isolation - produced cost effective benefits for the buyer, whether consumer, network operator, or service provid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umble VCR has followed an evolutionary genesis, delivering incremental benefits to consumers, distributors and content owners.  The key requirement was a usable standar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Why TV-Anytime ?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6197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quipment manufacturers are already producing  solutions with mass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iance on proprietary solu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ds to vertical market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tricts viewers to a single service or a single content provi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cks together the broadcaster, the service provider and the STB manufactur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oad adoption of standards will lea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wer costs for service providers and for device manufactur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reater and wider choice of content for consu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164-09D6-47D4-A111-D7AB25594F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Standards required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interoperability is to be achieved, widening the market, extending choice and reducing costs to the consumer, the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mon specifications need to be produc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it’s necessary to decide what needs to be specified, and what does not!  “It’s the fish that John West reject that make John West the best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Key problem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533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Location, Referencing and Re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 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decom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to time / channel /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ctors which feed navigators and ag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al and extendable forms enabling ever more sophisticated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Rights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ing content easy to acquire and to pay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the digital threat into the greatest opportunity for content rights ho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lec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qui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rightfull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til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erial on a local storage device from bot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road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-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rc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f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erial between local storage devices us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e networ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changeable me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o ‘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cro-navig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 around rich cont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130 Current Signatorie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53800" y="1447920"/>
            <a:ext cx="285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BC Interactive, Australia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CI Worldwide BV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dherent System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ntech S. P. A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nytime TV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pplied Psychology Research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TI Technologies Inc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xcent Media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BBC - British Broadcasting Corporatio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British Sky Broadcasting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Broadbus Technologie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BT - British Telecommunications PLC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anal + Technologie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-Cube Microsystem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ommunication Arts PLC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ylo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aewoo Electronic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anish Broadcasting Corporatio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entsu Incorporated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eutsch Telekom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igital Stream Technolog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ivicom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TI – UK Department of Trade and Industr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BU - European Broadcasting Unio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DIT Technologie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lisa Communications Corporatio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nReach Technologie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quator Technologies, EU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TRI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uroCableLab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Video TV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xatel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xpW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astcom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innish Broadcasting Compan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or more convenient AV  lif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ox Entertainment Group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rance Telecom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uji Television Network Incorporated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383760" indent="-16416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6880" y="1523880"/>
            <a:ext cx="2760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5880" y="1438200"/>
            <a:ext cx="36939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uture T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Granada Med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Groupe TV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Grundi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Hewlett Packar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Hitach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Hitachi America Lt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Homing In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Humax Co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IMA Norw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Information Broadcasting Laboratories In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Intracom 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IRT - Institut f</a:t>
            </a:r>
            <a:r>
              <a:rPr b="0" lang="en-GB" sz="700" spc="-1" strike="noStrike">
                <a:solidFill>
                  <a:srgbClr val="000000"/>
                </a:solidFill>
                <a:latin typeface="Times New Roman Special G1"/>
                <a:ea typeface="Times New Roman Special G1"/>
              </a:rPr>
              <a:t>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r Rundfunktechni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ITC - Independent Television Commis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ITV - Independent Television Networks Lt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Jov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JVC – Victor Company of Jap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Karg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Kick T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Kinoma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KP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LG Electronic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Liberate Technolog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LSI Lo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Lysis 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edia Corporation of Singapo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ediaGenix N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ediasi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edioStrea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eijers Med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etabyte Networ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indport Media4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itsubishi Electric Corpo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Motorol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EC Electronics U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HK – Japan Broadcasting Corpo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49720" y="1447920"/>
            <a:ext cx="3694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ippon TeleviToshiba Corpo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ribune Media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riveni Digi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UEC Technolog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Verizon Lab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Vest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Videst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Waseda Univers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Z Microsyste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4T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ion Network Corpo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O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orpa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R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T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Oki Electric Industry Co. Lt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ON Digi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OpenTV Corpo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Out There Ne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Oxford Semiconductor Lt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Pace Microtechnolog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Pass Ed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Philips Electronic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Pione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Quantu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Random/Ord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Ravisen Technolog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ReplayT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RTL Tele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age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amsung Electronic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any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eodu InChip In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harp Labs of Amer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ingular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on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ony Corpo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3760" indent="-1641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tellar 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54680" y="1447920"/>
            <a:ext cx="3694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tellar 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TMicroelectronic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AOJ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elcordia Technolog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elematica Instituu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elenor Research and Develop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emporal Research Lt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eraLogic In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homson Multimed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iV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okyo Electron Device In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oshiba Corpo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ribune Media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riveni Digi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UEC Technolog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Verizon Lab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Vest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Videst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Waseda Univers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Z Microsyste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-1713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4T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4:53:44Z</dcterms:created>
  <dc:creator>Simon Parnall </dc:creator>
  <dc:description/>
  <dc:language>en-US</dc:language>
  <cp:lastModifiedBy>Simon Parnall </cp:lastModifiedBy>
  <dcterms:modified xsi:type="dcterms:W3CDTF">2000-09-29T19:23:48Z</dcterms:modified>
  <cp:revision>47</cp:revision>
  <dc:subject/>
  <dc:title>The TV Anytime Forum</dc:title>
</cp:coreProperties>
</file>