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788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12960" y="742680"/>
            <a:ext cx="4954320" cy="37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00"/>
                </a:solidFill>
                <a:latin typeface="Tahoma"/>
              </a:rPr>
              <a:t>Click to move the slide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03240" y="4706640"/>
            <a:ext cx="497376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1544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41920" y="941544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5194-8B33-4706-8D5F-6FE2D0F5E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54320" cy="371628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03240" y="4706640"/>
            <a:ext cx="497376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fact, it is sometimes necessary to reference content that has not even been created yet.  For example, a promotion for a show that begins in a year needs some way to referenc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54320" cy="371628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03240" y="4706640"/>
            <a:ext cx="497376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s is the recipe for baking TV-A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54320" cy="371628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03240" y="4706640"/>
            <a:ext cx="497376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fact, it is sometimes necessary to reference content that has not even been created yet.  For example, a promotion for a show that begins in a year needs some way to referenc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54320" cy="37162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03240" y="4706640"/>
            <a:ext cx="497376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uthority is typically the content creator (e.g., Disney), the content distributer, or content ow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54320" cy="37162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03240" y="4706640"/>
            <a:ext cx="497376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CRID is URI compliant.  The second form for authority allows multiple authorities to share the same domain n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54320" cy="371628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03240" y="4706640"/>
            <a:ext cx="497376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: CM for a TV show next season.  Clicking on a “automatically record” button -&gt; stores CR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3697-143D-47D3-8446-8FCADF2EC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439A-13EA-4A65-8AA6-DE2DF989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ADEC-15D4-4B41-928C-8D058827E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06C9-28A8-4A30-B57B-D89D98A55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CBE9-20F5-4018-90A0-DEC901A4B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F2AB-2F08-4C14-BD03-465FB50C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FE07-68B7-4DBB-98DE-5CA36D49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1426-EB43-43F9-9BBD-B5803239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32C4-191A-4CAE-95B2-AA436634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AF2A-3FD6-453E-BB49-1207F134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B894-74EE-4C8C-A699-855B73DF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6173-7841-4CCC-B961-028C421D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EAAE7-7BA0-4792-86B9-6DBBA86E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9647-E01B-4321-82A1-37C16EB8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068E-5113-445B-9B21-FCFA20ED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8FDB-5F5C-4280-80B1-F40A5225A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661E-6154-4D45-ADD5-B11E1361E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A022-C63E-4F96-B714-9B7EADB9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04E3-35D6-4CA8-BD77-6AD2195D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6606-2CFE-47B4-BD4E-9FA104A5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D732-C901-45E5-BA27-621AC0FD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1170-C443-4AE2-B54C-EBB4746D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2EF1-24BB-44D5-A13D-9EF4FA14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813C-2D5B-435C-9049-ECEFA9FC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1F4A-B06F-443A-A480-F6F13CD4ED11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7626240" y="0"/>
            <a:ext cx="1516320" cy="15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9EA8-CFA6-4541-8EEB-E6384611E4A6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626240" y="0"/>
            <a:ext cx="1516320" cy="1523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00"/>
                </a:solidFill>
                <a:latin typeface="Tahoma"/>
              </a:rPr>
              <a:t>TV-Anytime Systems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14400" y="32767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Ronald To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hilips Digital Systems Lab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Tahoma"/>
                <a:ea typeface="ＭＳ Ｐゴシック"/>
              </a:rPr>
              <a:t>Metadata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Purpose of metadata: assist consumer in finding and selecting conten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Support creation and use of user profil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Main areas: EPG data, segmentation, user profile, user history, parental guidance, critical review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Much borrowed from MPEG-7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952560" y="1832040"/>
            <a:ext cx="7238880" cy="22827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Publis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52560" y="460440"/>
            <a:ext cx="7238880" cy="1218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Cre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333440" y="689040"/>
            <a:ext cx="1219320" cy="6094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etadata aggreg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257480" y="612720"/>
            <a:ext cx="1218960" cy="6094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Metadata aggreg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000680" y="689040"/>
            <a:ext cx="1218960" cy="6094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etadata aggreg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924360" y="612720"/>
            <a:ext cx="1219320" cy="6094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Metadata edit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667560" y="689040"/>
            <a:ext cx="1219320" cy="6094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etadata aggreg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591240" y="612720"/>
            <a:ext cx="1219320" cy="6094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Content cre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67560" y="2670120"/>
            <a:ext cx="1219320" cy="6094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etadata aggreg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91240" y="2593800"/>
            <a:ext cx="1219320" cy="6098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Content publish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104840" y="2057400"/>
            <a:ext cx="3200400" cy="1828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Metadata publish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390840" y="2517840"/>
            <a:ext cx="685800" cy="12160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Segmentation metad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314880" y="2441520"/>
            <a:ext cx="685800" cy="12160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Segmentation metad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400480" y="2517840"/>
            <a:ext cx="685800" cy="12160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Segmentation metad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324160" y="2441520"/>
            <a:ext cx="685800" cy="12160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Location resolution metad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409760" y="2517840"/>
            <a:ext cx="685800" cy="12160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Segmentation metad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333440" y="2441520"/>
            <a:ext cx="685800" cy="12160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Search and selection metad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52560" y="4267080"/>
            <a:ext cx="7238880" cy="121932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Select and Pres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33440" y="4495680"/>
            <a:ext cx="1219320" cy="6098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etadata aggreg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257480" y="4419720"/>
            <a:ext cx="1218960" cy="6094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Search and Sele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00680" y="4495680"/>
            <a:ext cx="1218960" cy="6098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etadata aggreg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924360" y="4419720"/>
            <a:ext cx="1219320" cy="6094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Location resolu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667560" y="4495680"/>
            <a:ext cx="1219320" cy="6098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etadata aggreg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000680" y="5867280"/>
            <a:ext cx="1218960" cy="6098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etadata aggreg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924360" y="5791320"/>
            <a:ext cx="1219320" cy="6094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User Intera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5143320" y="917640"/>
            <a:ext cx="1447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476440" y="917640"/>
            <a:ext cx="1447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943280" y="1222200"/>
            <a:ext cx="0" cy="835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714680" y="3657600"/>
            <a:ext cx="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000240" y="3651120"/>
            <a:ext cx="919440" cy="766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90960" y="3648240"/>
            <a:ext cx="2603520" cy="771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048440" y="1222200"/>
            <a:ext cx="0" cy="1371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5143320" y="1222200"/>
            <a:ext cx="1447560" cy="1371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048440" y="3203640"/>
            <a:ext cx="0" cy="1216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476440" y="4721400"/>
            <a:ext cx="144792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143680" y="4724280"/>
            <a:ext cx="1447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476440" y="5029200"/>
            <a:ext cx="1447920" cy="7621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429680" y="1222200"/>
            <a:ext cx="0" cy="1371600"/>
          </a:xfrm>
          <a:prstGeom prst="line">
            <a:avLst/>
          </a:prstGeom>
          <a:ln cap="rnd" w="38160">
            <a:solidFill>
              <a:srgbClr val="ff8467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429680" y="3203640"/>
            <a:ext cx="0" cy="1216080"/>
          </a:xfrm>
          <a:prstGeom prst="line">
            <a:avLst/>
          </a:prstGeom>
          <a:ln cap="rnd" w="38160">
            <a:solidFill>
              <a:srgbClr val="ff8467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5146560" y="5014800"/>
            <a:ext cx="2028960" cy="1068480"/>
          </a:xfrm>
          <a:prstGeom prst="line">
            <a:avLst/>
          </a:prstGeom>
          <a:ln cap="rnd" w="38160">
            <a:solidFill>
              <a:srgbClr val="ff8467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066680" y="612144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376280" y="6016680"/>
            <a:ext cx="1524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Metadata fl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772400" y="6121440"/>
            <a:ext cx="304920" cy="0"/>
          </a:xfrm>
          <a:prstGeom prst="line">
            <a:avLst/>
          </a:prstGeom>
          <a:ln cap="rnd" w="38160">
            <a:solidFill>
              <a:srgbClr val="ff8467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248520" y="6016680"/>
            <a:ext cx="152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Content fl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143680" y="5032440"/>
            <a:ext cx="1431720" cy="7617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543800" y="4492800"/>
            <a:ext cx="182520" cy="2286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591240" y="4419720"/>
            <a:ext cx="1219320" cy="6094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Stor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752480" y="1981080"/>
            <a:ext cx="2819520" cy="914400"/>
          </a:xfrm>
          <a:prstGeom prst="rect">
            <a:avLst/>
          </a:prstGeom>
          <a:solidFill>
            <a:srgbClr val="ffffff"/>
          </a:solidFill>
          <a:ln w="507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  <a:ea typeface="ＭＳ Ｐゴシック"/>
              </a:rPr>
              <a:t>Content Description meta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Tahoma"/>
                <a:ea typeface="ＭＳ Ｐゴシック"/>
              </a:rPr>
              <a:t>Kinds of Metadata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96" name=""/>
          <p:cNvSpPr/>
          <p:nvPr/>
        </p:nvSpPr>
        <p:spPr>
          <a:xfrm>
            <a:off x="1752480" y="3429000"/>
            <a:ext cx="2819520" cy="914400"/>
          </a:xfrm>
          <a:prstGeom prst="rect">
            <a:avLst/>
          </a:prstGeom>
          <a:solidFill>
            <a:srgbClr val="ffffff"/>
          </a:solidFill>
          <a:ln w="507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  <a:ea typeface="ＭＳ Ｐゴシック"/>
              </a:rPr>
              <a:t>Instance Description meta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752480" y="4876920"/>
            <a:ext cx="2819520" cy="914400"/>
          </a:xfrm>
          <a:prstGeom prst="rect">
            <a:avLst/>
          </a:prstGeom>
          <a:solidFill>
            <a:srgbClr val="ffffff"/>
          </a:solidFill>
          <a:ln w="507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  <a:ea typeface="ＭＳ Ｐゴシック"/>
              </a:rPr>
              <a:t>Consumer meta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105520" y="1879560"/>
            <a:ext cx="3124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program title, genre, summary, critic’s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105520" y="3327480"/>
            <a:ext cx="3124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ocation (broadcast time &amp; channel), usage rules, delivery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105520" y="4775040"/>
            <a:ext cx="3124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user preferences, usage history, personal bookma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Tahoma"/>
                <a:ea typeface="ＭＳ Ｐゴシック"/>
              </a:rPr>
              <a:t>Program/Location Model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402" name=""/>
          <p:cNvSpPr/>
          <p:nvPr/>
        </p:nvSpPr>
        <p:spPr>
          <a:xfrm>
            <a:off x="1371600" y="2209680"/>
            <a:ext cx="2819520" cy="914400"/>
          </a:xfrm>
          <a:prstGeom prst="rect">
            <a:avLst/>
          </a:prstGeom>
          <a:solidFill>
            <a:srgbClr val="ffffff"/>
          </a:solidFill>
          <a:ln w="507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  <a:ea typeface="ＭＳ Ｐゴシック"/>
              </a:rPr>
              <a:t>Program Lo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371600" y="3886200"/>
            <a:ext cx="2819520" cy="914400"/>
          </a:xfrm>
          <a:prstGeom prst="rect">
            <a:avLst/>
          </a:prstGeom>
          <a:solidFill>
            <a:srgbClr val="ffffff"/>
          </a:solidFill>
          <a:ln w="507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  <a:ea typeface="ＭＳ Ｐゴシック"/>
              </a:rPr>
              <a:t>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952880" y="3886200"/>
            <a:ext cx="2819520" cy="914400"/>
          </a:xfrm>
          <a:prstGeom prst="rect">
            <a:avLst/>
          </a:prstGeom>
          <a:solidFill>
            <a:srgbClr val="ffffff"/>
          </a:solidFill>
          <a:ln w="507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  <a:ea typeface="ＭＳ Ｐゴシック"/>
              </a:rPr>
              <a:t>Program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743200" y="31240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590920" y="31240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2742840" y="31240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590920" y="327672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6248160" y="373392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248520" y="373392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400800" y="373392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191120" y="434340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191120" y="419112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4190760" y="43434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343400" y="4191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772400" y="419112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7772040" y="43434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924680" y="4191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4800240" y="419112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800600" y="43434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800600" y="4191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43434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6400800" y="35809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400800" y="358128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077320" y="35812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380880" y="5638680"/>
            <a:ext cx="2057400" cy="761760"/>
            <a:chOff x="380880" y="5638680"/>
            <a:chExt cx="2057400" cy="761760"/>
          </a:xfrm>
        </p:grpSpPr>
        <p:sp>
          <p:nvSpPr>
            <p:cNvPr id="427" name=""/>
            <p:cNvSpPr/>
            <p:nvPr/>
          </p:nvSpPr>
          <p:spPr>
            <a:xfrm>
              <a:off x="380880" y="5638680"/>
              <a:ext cx="20574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Key: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876240" y="5708520"/>
              <a:ext cx="304560" cy="203040"/>
              <a:chOff x="876240" y="5708520"/>
              <a:chExt cx="304560" cy="203040"/>
            </a:xfrm>
          </p:grpSpPr>
          <p:sp>
            <p:nvSpPr>
              <p:cNvPr id="429" name=""/>
              <p:cNvSpPr/>
              <p:nvPr/>
            </p:nvSpPr>
            <p:spPr>
              <a:xfrm flipH="1">
                <a:off x="1078920" y="5708520"/>
                <a:ext cx="101160" cy="10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079280" y="5809680"/>
                <a:ext cx="101160" cy="10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079280" y="5708520"/>
                <a:ext cx="0" cy="20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76240" y="580968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3" name=""/>
            <p:cNvSpPr/>
            <p:nvPr/>
          </p:nvSpPr>
          <p:spPr>
            <a:xfrm>
              <a:off x="914040" y="60768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06360" y="5675040"/>
              <a:ext cx="9903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zero or mor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80800" y="5943240"/>
              <a:ext cx="4190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on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6960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Tahoma"/>
              </a:rPr>
              <a:t>Program/Program Group</a:t>
            </a:r>
            <a:br>
              <a:rPr sz="4200"/>
            </a:br>
            <a:r>
              <a:rPr b="0" lang="en-US" sz="4200" spc="-1" strike="noStrike">
                <a:solidFill>
                  <a:srgbClr val="800000"/>
                </a:solidFill>
                <a:latin typeface="Tahoma"/>
              </a:rPr>
              <a:t>Descriptive Metadata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itl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edia Titl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ynopsi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Keyword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Genr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anguag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47960" y="2438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st Lis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elated Materia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roduction Year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roduction Countr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reation Loca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elease Informa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Tahoma"/>
                <a:ea typeface="ＭＳ Ｐゴシック"/>
              </a:rPr>
              <a:t>Program Grouping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Programs can be grouped in several way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Series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Friends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, season 1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Mini-series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Root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Show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Friend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Program concept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Blade Runner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(all versions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Magazine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60 Minut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Virtual program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made of parts of other program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Other collection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consumer should view al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Other choice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consumer should view on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Parallels CRID grouping (group ID is a CRID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Tahoma"/>
                <a:ea typeface="ＭＳ Ｐゴシック"/>
              </a:rPr>
              <a:t>Segmentation Model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442" name=""/>
          <p:cNvSpPr/>
          <p:nvPr/>
        </p:nvSpPr>
        <p:spPr>
          <a:xfrm>
            <a:off x="1371600" y="1752480"/>
            <a:ext cx="2819520" cy="914400"/>
          </a:xfrm>
          <a:prstGeom prst="rect">
            <a:avLst/>
          </a:prstGeom>
          <a:solidFill>
            <a:srgbClr val="ffffff"/>
          </a:solidFill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  <a:ea typeface="ＭＳ Ｐゴシック"/>
              </a:rPr>
              <a:t>Program Lo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371600" y="3429000"/>
            <a:ext cx="2819520" cy="914400"/>
          </a:xfrm>
          <a:prstGeom prst="rect">
            <a:avLst/>
          </a:prstGeom>
          <a:solidFill>
            <a:srgbClr val="ffffff"/>
          </a:solidFill>
          <a:ln w="507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952880" y="3429000"/>
            <a:ext cx="2819520" cy="914400"/>
          </a:xfrm>
          <a:prstGeom prst="rect">
            <a:avLst/>
          </a:prstGeom>
          <a:solidFill>
            <a:srgbClr val="ffffff"/>
          </a:solidFill>
          <a:ln w="507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  <a:ea typeface="ＭＳ Ｐゴシック"/>
              </a:rPr>
              <a:t>Program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743200" y="2666880"/>
            <a:ext cx="0" cy="7621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666880"/>
            <a:ext cx="152280" cy="1526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2742840" y="2666880"/>
            <a:ext cx="152280" cy="1526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2819520"/>
            <a:ext cx="30456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6248160" y="3276720"/>
            <a:ext cx="152280" cy="1522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248520" y="3276720"/>
            <a:ext cx="30456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400800" y="3276720"/>
            <a:ext cx="152280" cy="1522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191120" y="3886200"/>
            <a:ext cx="76176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191120" y="3733920"/>
            <a:ext cx="152280" cy="1522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4190760" y="3886200"/>
            <a:ext cx="152280" cy="1522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772400" y="3733920"/>
            <a:ext cx="152280" cy="1522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7772040" y="3886200"/>
            <a:ext cx="152280" cy="1522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4800240" y="3733920"/>
            <a:ext cx="152280" cy="1522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800600" y="3886200"/>
            <a:ext cx="152280" cy="1522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800600" y="3733920"/>
            <a:ext cx="0" cy="3045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772400" y="3886200"/>
            <a:ext cx="3049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6400800" y="3123720"/>
            <a:ext cx="0" cy="3049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400800" y="3124080"/>
            <a:ext cx="16765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077320" y="3124080"/>
            <a:ext cx="0" cy="7621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5943600" y="1676520"/>
            <a:ext cx="2057400" cy="761760"/>
            <a:chOff x="5943600" y="1676520"/>
            <a:chExt cx="2057400" cy="761760"/>
          </a:xfrm>
        </p:grpSpPr>
        <p:sp>
          <p:nvSpPr>
            <p:cNvPr id="467" name=""/>
            <p:cNvSpPr/>
            <p:nvPr/>
          </p:nvSpPr>
          <p:spPr>
            <a:xfrm>
              <a:off x="5943600" y="1676520"/>
              <a:ext cx="20574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Key: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6438960" y="1746360"/>
              <a:ext cx="304560" cy="203040"/>
              <a:chOff x="6438960" y="1746360"/>
              <a:chExt cx="304560" cy="203040"/>
            </a:xfrm>
          </p:grpSpPr>
          <p:sp>
            <p:nvSpPr>
              <p:cNvPr id="469" name=""/>
              <p:cNvSpPr/>
              <p:nvPr/>
            </p:nvSpPr>
            <p:spPr>
              <a:xfrm flipH="1">
                <a:off x="6641640" y="1746360"/>
                <a:ext cx="101160" cy="10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642000" y="1847520"/>
                <a:ext cx="101160" cy="10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642000" y="1746360"/>
                <a:ext cx="0" cy="20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438960" y="184752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>
              <a:off x="6476760" y="21146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769080" y="1712880"/>
              <a:ext cx="99036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zero or mor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743520" y="1981080"/>
              <a:ext cx="419040" cy="2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on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1371600" y="5105520"/>
            <a:ext cx="2819520" cy="914400"/>
          </a:xfrm>
          <a:prstGeom prst="rect">
            <a:avLst/>
          </a:prstGeom>
          <a:solidFill>
            <a:srgbClr val="ffffff"/>
          </a:solidFill>
          <a:ln w="507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g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952880" y="5105520"/>
            <a:ext cx="2819520" cy="914400"/>
          </a:xfrm>
          <a:prstGeom prst="rect">
            <a:avLst/>
          </a:prstGeom>
          <a:solidFill>
            <a:srgbClr val="ffffff"/>
          </a:solidFill>
          <a:ln w="507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gment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743200" y="43434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6248160" y="49528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248520" y="49528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400800" y="49528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55627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191120" y="54100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4190760" y="556272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343400" y="54100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772400" y="54100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7772040" y="556272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924680" y="54100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4800240" y="54100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800600" y="556272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800600" y="54100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772400" y="55627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6400800" y="48002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400800" y="480060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077320" y="48006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2590560" y="49528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590920" y="49528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743200" y="49528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Tahoma"/>
                <a:ea typeface="ＭＳ Ｐゴシック"/>
              </a:rPr>
              <a:t>Segments and Segment group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Segmentation informa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Program reference (CRID), Instance identifier (imi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Segment locator, keyframe locator, Segment I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Segment group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Typed as bookmarks, highlights, preview, table of contents, virtual program, alternative group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Description (Segments &amp; Segments Groups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Title, Synopsis, Keywords, RelatedMateria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00"/>
                </a:solidFill>
                <a:latin typeface="Tahoma"/>
              </a:rPr>
              <a:t>TVA Systems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914400" y="32767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utting the pieces together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7626240" y="0"/>
            <a:ext cx="15163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Ingredient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4267080" y="1905120"/>
            <a:ext cx="3997440" cy="212868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685800" y="5334120"/>
            <a:ext cx="1371600" cy="76356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3"/>
          <a:stretch/>
        </p:blipFill>
        <p:spPr>
          <a:xfrm>
            <a:off x="6248520" y="4038480"/>
            <a:ext cx="1536480" cy="236232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4"/>
          <a:stretch/>
        </p:blipFill>
        <p:spPr>
          <a:xfrm>
            <a:off x="3276720" y="3733920"/>
            <a:ext cx="1714320" cy="28051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5"/>
          <a:stretch/>
        </p:blipFill>
        <p:spPr>
          <a:xfrm>
            <a:off x="838080" y="2819520"/>
            <a:ext cx="175284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0000"/>
                </a:solidFill>
                <a:latin typeface="Tahoma"/>
                <a:ea typeface="ＭＳ Ｐゴシック"/>
              </a:rPr>
              <a:t>First:</a:t>
            </a:r>
            <a:br>
              <a:rPr sz="3800"/>
            </a:br>
            <a:r>
              <a:rPr b="0" lang="en-US" sz="3800" spc="-1" strike="noStrike">
                <a:solidFill>
                  <a:srgbClr val="800000"/>
                </a:solidFill>
                <a:latin typeface="Tahoma"/>
                <a:ea typeface="ＭＳ Ｐゴシック"/>
              </a:rPr>
              <a:t>Introducing two technologies</a:t>
            </a:r>
            <a:endParaRPr b="0" lang="en-US" sz="3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Content Referenci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Metadat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286000" y="91404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Pizza or...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476520" cy="211428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5257800" y="4572000"/>
            <a:ext cx="2452680" cy="138096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5410080" y="342900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Arial"/>
              </a:rPr>
              <a:t>Sandwich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Role of System Design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nsure normative specifications work together to enable TV-Anytime system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dentify holes in system which require standardiza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ork with other organizations to ensure TV-Anytime standards are compatible and not competing with other standards effor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ork with standards bodies to formally adopt TV-Anytime standard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9900"/>
                </a:solidFill>
                <a:latin typeface="Tahoma"/>
              </a:rPr>
              <a:t>Phase I: Simple broadcast </a:t>
            </a:r>
            <a:br>
              <a:rPr sz="3800"/>
            </a:br>
            <a:r>
              <a:rPr b="0" lang="en-US" sz="3800" spc="-1" strike="noStrike">
                <a:solidFill>
                  <a:srgbClr val="cc9900"/>
                </a:solidFill>
                <a:latin typeface="Tahoma"/>
              </a:rPr>
              <a:t>+ back channel model</a:t>
            </a:r>
            <a:endParaRPr b="0" lang="en-US" sz="3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17" name=""/>
          <p:cNvSpPr/>
          <p:nvPr/>
        </p:nvSpPr>
        <p:spPr>
          <a:xfrm>
            <a:off x="685800" y="3048120"/>
            <a:ext cx="1576440" cy="81900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38080" y="3200400"/>
            <a:ext cx="1576440" cy="81900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990720" y="3352680"/>
            <a:ext cx="1576440" cy="81936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124080" y="2666880"/>
            <a:ext cx="1812960" cy="1582920"/>
          </a:xfrm>
          <a:custGeom>
            <a:avLst/>
            <a:gdLst/>
            <a:ahLst/>
            <a:rect l="l" t="t" r="r" b="b"/>
            <a:pathLst>
              <a:path w="1424" h="1243">
                <a:moveTo>
                  <a:pt x="92" y="866"/>
                </a:moveTo>
                <a:cubicBezTo>
                  <a:pt x="6" y="858"/>
                  <a:pt x="14" y="745"/>
                  <a:pt x="8" y="682"/>
                </a:cubicBezTo>
                <a:cubicBezTo>
                  <a:pt x="0" y="615"/>
                  <a:pt x="11" y="514"/>
                  <a:pt x="43" y="463"/>
                </a:cubicBezTo>
                <a:cubicBezTo>
                  <a:pt x="75" y="412"/>
                  <a:pt x="69" y="360"/>
                  <a:pt x="199" y="376"/>
                </a:cubicBezTo>
                <a:cubicBezTo>
                  <a:pt x="85" y="344"/>
                  <a:pt x="148" y="157"/>
                  <a:pt x="180" y="96"/>
                </a:cubicBezTo>
                <a:cubicBezTo>
                  <a:pt x="217" y="35"/>
                  <a:pt x="339" y="0"/>
                  <a:pt x="422" y="9"/>
                </a:cubicBezTo>
                <a:cubicBezTo>
                  <a:pt x="505" y="18"/>
                  <a:pt x="645" y="50"/>
                  <a:pt x="681" y="153"/>
                </a:cubicBezTo>
                <a:cubicBezTo>
                  <a:pt x="746" y="62"/>
                  <a:pt x="920" y="90"/>
                  <a:pt x="1016" y="106"/>
                </a:cubicBezTo>
                <a:cubicBezTo>
                  <a:pt x="1104" y="119"/>
                  <a:pt x="1177" y="166"/>
                  <a:pt x="1209" y="230"/>
                </a:cubicBezTo>
                <a:cubicBezTo>
                  <a:pt x="1241" y="294"/>
                  <a:pt x="1274" y="374"/>
                  <a:pt x="1208" y="490"/>
                </a:cubicBezTo>
                <a:cubicBezTo>
                  <a:pt x="1296" y="492"/>
                  <a:pt x="1376" y="650"/>
                  <a:pt x="1400" y="730"/>
                </a:cubicBezTo>
                <a:cubicBezTo>
                  <a:pt x="1424" y="810"/>
                  <a:pt x="1404" y="928"/>
                  <a:pt x="1352" y="970"/>
                </a:cubicBezTo>
                <a:cubicBezTo>
                  <a:pt x="1300" y="1012"/>
                  <a:pt x="1192" y="1041"/>
                  <a:pt x="1086" y="982"/>
                </a:cubicBezTo>
                <a:cubicBezTo>
                  <a:pt x="1125" y="1092"/>
                  <a:pt x="1002" y="1164"/>
                  <a:pt x="921" y="1202"/>
                </a:cubicBezTo>
                <a:cubicBezTo>
                  <a:pt x="840" y="1240"/>
                  <a:pt x="669" y="1243"/>
                  <a:pt x="597" y="1212"/>
                </a:cubicBezTo>
                <a:cubicBezTo>
                  <a:pt x="525" y="1181"/>
                  <a:pt x="501" y="1116"/>
                  <a:pt x="488" y="1018"/>
                </a:cubicBezTo>
                <a:cubicBezTo>
                  <a:pt x="458" y="1114"/>
                  <a:pt x="315" y="1156"/>
                  <a:pt x="244" y="1149"/>
                </a:cubicBezTo>
                <a:cubicBezTo>
                  <a:pt x="173" y="1148"/>
                  <a:pt x="85" y="1057"/>
                  <a:pt x="60" y="1010"/>
                </a:cubicBezTo>
                <a:cubicBezTo>
                  <a:pt x="35" y="963"/>
                  <a:pt x="48" y="900"/>
                  <a:pt x="92" y="866"/>
                </a:cubicBezTo>
                <a:close/>
              </a:path>
            </a:pathLst>
          </a:custGeom>
          <a:solidFill>
            <a:srgbClr val="006666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276720" y="2819520"/>
            <a:ext cx="1812960" cy="1582560"/>
          </a:xfrm>
          <a:custGeom>
            <a:avLst/>
            <a:gdLst/>
            <a:ahLst/>
            <a:rect l="l" t="t" r="r" b="b"/>
            <a:pathLst>
              <a:path w="1424" h="1243">
                <a:moveTo>
                  <a:pt x="92" y="866"/>
                </a:moveTo>
                <a:cubicBezTo>
                  <a:pt x="6" y="858"/>
                  <a:pt x="14" y="745"/>
                  <a:pt x="8" y="682"/>
                </a:cubicBezTo>
                <a:cubicBezTo>
                  <a:pt x="0" y="615"/>
                  <a:pt x="11" y="514"/>
                  <a:pt x="43" y="463"/>
                </a:cubicBezTo>
                <a:cubicBezTo>
                  <a:pt x="75" y="412"/>
                  <a:pt x="69" y="360"/>
                  <a:pt x="199" y="376"/>
                </a:cubicBezTo>
                <a:cubicBezTo>
                  <a:pt x="85" y="344"/>
                  <a:pt x="148" y="157"/>
                  <a:pt x="180" y="96"/>
                </a:cubicBezTo>
                <a:cubicBezTo>
                  <a:pt x="217" y="35"/>
                  <a:pt x="339" y="0"/>
                  <a:pt x="422" y="9"/>
                </a:cubicBezTo>
                <a:cubicBezTo>
                  <a:pt x="505" y="18"/>
                  <a:pt x="645" y="50"/>
                  <a:pt x="681" y="153"/>
                </a:cubicBezTo>
                <a:cubicBezTo>
                  <a:pt x="746" y="62"/>
                  <a:pt x="920" y="90"/>
                  <a:pt x="1016" y="106"/>
                </a:cubicBezTo>
                <a:cubicBezTo>
                  <a:pt x="1104" y="119"/>
                  <a:pt x="1177" y="166"/>
                  <a:pt x="1209" y="230"/>
                </a:cubicBezTo>
                <a:cubicBezTo>
                  <a:pt x="1241" y="294"/>
                  <a:pt x="1274" y="374"/>
                  <a:pt x="1208" y="490"/>
                </a:cubicBezTo>
                <a:cubicBezTo>
                  <a:pt x="1296" y="492"/>
                  <a:pt x="1376" y="650"/>
                  <a:pt x="1400" y="730"/>
                </a:cubicBezTo>
                <a:cubicBezTo>
                  <a:pt x="1424" y="810"/>
                  <a:pt x="1404" y="928"/>
                  <a:pt x="1352" y="970"/>
                </a:cubicBezTo>
                <a:cubicBezTo>
                  <a:pt x="1300" y="1012"/>
                  <a:pt x="1192" y="1041"/>
                  <a:pt x="1086" y="982"/>
                </a:cubicBezTo>
                <a:cubicBezTo>
                  <a:pt x="1125" y="1092"/>
                  <a:pt x="1002" y="1164"/>
                  <a:pt x="921" y="1202"/>
                </a:cubicBezTo>
                <a:cubicBezTo>
                  <a:pt x="840" y="1240"/>
                  <a:pt x="669" y="1243"/>
                  <a:pt x="597" y="1212"/>
                </a:cubicBezTo>
                <a:cubicBezTo>
                  <a:pt x="525" y="1181"/>
                  <a:pt x="501" y="1116"/>
                  <a:pt x="488" y="1018"/>
                </a:cubicBezTo>
                <a:cubicBezTo>
                  <a:pt x="458" y="1114"/>
                  <a:pt x="315" y="1156"/>
                  <a:pt x="244" y="1149"/>
                </a:cubicBezTo>
                <a:cubicBezTo>
                  <a:pt x="173" y="1148"/>
                  <a:pt x="85" y="1057"/>
                  <a:pt x="60" y="1010"/>
                </a:cubicBezTo>
                <a:cubicBezTo>
                  <a:pt x="35" y="963"/>
                  <a:pt x="48" y="900"/>
                  <a:pt x="92" y="866"/>
                </a:cubicBezTo>
                <a:close/>
              </a:path>
            </a:pathLst>
          </a:custGeom>
          <a:solidFill>
            <a:srgbClr val="006666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429000" y="2971800"/>
            <a:ext cx="1812960" cy="1582560"/>
          </a:xfrm>
          <a:custGeom>
            <a:avLst/>
            <a:gdLst/>
            <a:ahLst/>
            <a:rect l="l" t="t" r="r" b="b"/>
            <a:pathLst>
              <a:path w="1424" h="1243">
                <a:moveTo>
                  <a:pt x="92" y="866"/>
                </a:moveTo>
                <a:cubicBezTo>
                  <a:pt x="6" y="858"/>
                  <a:pt x="14" y="745"/>
                  <a:pt x="8" y="682"/>
                </a:cubicBezTo>
                <a:cubicBezTo>
                  <a:pt x="0" y="615"/>
                  <a:pt x="11" y="514"/>
                  <a:pt x="43" y="463"/>
                </a:cubicBezTo>
                <a:cubicBezTo>
                  <a:pt x="75" y="412"/>
                  <a:pt x="69" y="360"/>
                  <a:pt x="199" y="376"/>
                </a:cubicBezTo>
                <a:cubicBezTo>
                  <a:pt x="85" y="344"/>
                  <a:pt x="148" y="157"/>
                  <a:pt x="180" y="96"/>
                </a:cubicBezTo>
                <a:cubicBezTo>
                  <a:pt x="217" y="35"/>
                  <a:pt x="339" y="0"/>
                  <a:pt x="422" y="9"/>
                </a:cubicBezTo>
                <a:cubicBezTo>
                  <a:pt x="505" y="18"/>
                  <a:pt x="645" y="50"/>
                  <a:pt x="681" y="153"/>
                </a:cubicBezTo>
                <a:cubicBezTo>
                  <a:pt x="746" y="62"/>
                  <a:pt x="920" y="90"/>
                  <a:pt x="1016" y="106"/>
                </a:cubicBezTo>
                <a:cubicBezTo>
                  <a:pt x="1104" y="119"/>
                  <a:pt x="1177" y="166"/>
                  <a:pt x="1209" y="230"/>
                </a:cubicBezTo>
                <a:cubicBezTo>
                  <a:pt x="1241" y="294"/>
                  <a:pt x="1274" y="374"/>
                  <a:pt x="1208" y="490"/>
                </a:cubicBezTo>
                <a:cubicBezTo>
                  <a:pt x="1296" y="492"/>
                  <a:pt x="1376" y="650"/>
                  <a:pt x="1400" y="730"/>
                </a:cubicBezTo>
                <a:cubicBezTo>
                  <a:pt x="1424" y="810"/>
                  <a:pt x="1404" y="928"/>
                  <a:pt x="1352" y="970"/>
                </a:cubicBezTo>
                <a:cubicBezTo>
                  <a:pt x="1300" y="1012"/>
                  <a:pt x="1192" y="1041"/>
                  <a:pt x="1086" y="982"/>
                </a:cubicBezTo>
                <a:cubicBezTo>
                  <a:pt x="1125" y="1092"/>
                  <a:pt x="1002" y="1164"/>
                  <a:pt x="921" y="1202"/>
                </a:cubicBezTo>
                <a:cubicBezTo>
                  <a:pt x="840" y="1240"/>
                  <a:pt x="669" y="1243"/>
                  <a:pt x="597" y="1212"/>
                </a:cubicBezTo>
                <a:cubicBezTo>
                  <a:pt x="525" y="1181"/>
                  <a:pt x="501" y="1116"/>
                  <a:pt x="488" y="1018"/>
                </a:cubicBezTo>
                <a:cubicBezTo>
                  <a:pt x="458" y="1114"/>
                  <a:pt x="315" y="1156"/>
                  <a:pt x="244" y="1149"/>
                </a:cubicBezTo>
                <a:cubicBezTo>
                  <a:pt x="173" y="1148"/>
                  <a:pt x="85" y="1057"/>
                  <a:pt x="60" y="1010"/>
                </a:cubicBezTo>
                <a:cubicBezTo>
                  <a:pt x="35" y="963"/>
                  <a:pt x="48" y="900"/>
                  <a:pt x="92" y="866"/>
                </a:cubicBezTo>
                <a:close/>
              </a:path>
            </a:pathLst>
          </a:custGeom>
          <a:solidFill>
            <a:srgbClr val="006666"/>
          </a:soli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791320" y="1905120"/>
            <a:ext cx="0" cy="4724280"/>
          </a:xfrm>
          <a:prstGeom prst="line">
            <a:avLst/>
          </a:prstGeom>
          <a:ln w="38160">
            <a:solidFill>
              <a:srgbClr val="cc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248520" y="2133720"/>
            <a:ext cx="1600200" cy="914400"/>
          </a:xfrm>
          <a:prstGeom prst="rect">
            <a:avLst/>
          </a:prstGeom>
          <a:solidFill>
            <a:srgbClr val="0066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324480" y="2209680"/>
            <a:ext cx="1444680" cy="762120"/>
          </a:xfrm>
          <a:prstGeom prst="rect">
            <a:avLst/>
          </a:prstGeom>
          <a:solidFill>
            <a:srgbClr val="0066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V s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172200" y="3427560"/>
            <a:ext cx="1676520" cy="2057400"/>
          </a:xfrm>
          <a:prstGeom prst="rect">
            <a:avLst/>
          </a:prstGeom>
          <a:noFill/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553080" y="4417920"/>
            <a:ext cx="914400" cy="914400"/>
          </a:xfrm>
          <a:prstGeom prst="can">
            <a:avLst>
              <a:gd name="adj" fmla="val 25000"/>
            </a:avLst>
          </a:prstGeom>
          <a:solidFill>
            <a:srgbClr val="00666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324480" y="3581280"/>
            <a:ext cx="1371600" cy="304920"/>
          </a:xfrm>
          <a:prstGeom prst="rect">
            <a:avLst/>
          </a:prstGeom>
          <a:solidFill>
            <a:srgbClr val="0066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-t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590920" y="3732120"/>
            <a:ext cx="6094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257800" y="3808440"/>
            <a:ext cx="106668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10280" y="3059280"/>
            <a:ext cx="0" cy="60948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010280" y="39607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68320" y="34686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064360" y="4307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D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Supported feature se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609480" y="1679400"/>
          <a:ext cx="8001000" cy="4656240"/>
        </p:xfrm>
        <a:graphic>
          <a:graphicData uri="http://schemas.openxmlformats.org/drawingml/2006/table">
            <a:tbl>
              <a:tblPr/>
              <a:tblGrid>
                <a:gridCol w="7507440"/>
                <a:gridCol w="493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e of ECG to find and capture broadcast conten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pture and playback of audio, video and data (AVD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ross linking of A/V content to related conten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upport of consumer preferenc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tent can be updated/replaced by newer in-coming vers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upport for a variety of broadcast content typ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upport for all broadcast delivery mechanism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ulti-user preference suppo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pdated listing/capture data can be delivered to ‘broadcast’ analog personal recorders (via return path or other mechanism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pdated listings/capture data can be delivered to ‘broadcast’ PDR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erification of usage of content on PDR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bility to collect usage dat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7" name=""/>
          <p:cNvSpPr/>
          <p:nvPr/>
        </p:nvSpPr>
        <p:spPr>
          <a:xfrm>
            <a:off x="-241200" y="521496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9900"/>
                </a:solidFill>
                <a:latin typeface="Tahoma"/>
              </a:rPr>
              <a:t>TV Anytime Broadcast model</a:t>
            </a:r>
            <a:br>
              <a:rPr sz="3800"/>
            </a:br>
            <a:r>
              <a:rPr b="0" lang="en-US" sz="3800" spc="-1" strike="noStrike">
                <a:solidFill>
                  <a:srgbClr val="cc9900"/>
                </a:solidFill>
                <a:latin typeface="Tahoma"/>
              </a:rPr>
              <a:t>(without Rights Management)</a:t>
            </a:r>
            <a:endParaRPr b="0" lang="en-US" sz="3800" spc="-1" strike="noStrike">
              <a:solidFill>
                <a:srgbClr val="cc9900"/>
              </a:solidFill>
              <a:latin typeface="Tahoma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1724040" y="1282680"/>
          <a:ext cx="6353280" cy="56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4040" y="1282680"/>
                    <a:ext cx="6353280" cy="56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TV Anytime order of event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685800" y="1752480"/>
          <a:ext cx="9372600" cy="23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9372600" cy="23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14040" y="38858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ontent providers will publish information about their content, which can be used in a search and select proces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lected content can be located and acquired for viewing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 finishing phase is foreseen e.g. to deal with PPV scenari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Usage Exampl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 want Foxes”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(a rather popular, but fictitious TV series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Metadata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1477800" y="1392120"/>
          <a:ext cx="6799320" cy="546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7800" y="1392120"/>
                    <a:ext cx="6799320" cy="546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"/>
          <p:cNvGraphicFramePr/>
          <p:nvPr/>
        </p:nvGraphicFramePr>
        <p:xfrm>
          <a:off x="990720" y="0"/>
          <a:ext cx="2590560" cy="6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0"/>
                    <a:ext cx="259056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Metadata Group Description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743400" y="2210760"/>
            <a:ext cx="9096120" cy="33858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6360"/>
                <a:tab algn="l" pos="863640"/>
                <a:tab algn="l" pos="1152360"/>
                <a:tab algn="l" pos="1728720"/>
                <a:tab algn="l" pos="2016000"/>
                <a:tab algn="l" pos="2305080"/>
                <a:tab algn="l" pos="2592360"/>
                <a:tab algn="l" pos="3168720"/>
                <a:tab algn="l" pos="3456000"/>
                <a:tab algn="l" pos="3745080"/>
                <a:tab algn="l" pos="4032360"/>
                <a:tab algn="l" pos="4608360"/>
                <a:tab algn="l" pos="4896000"/>
                <a:tab algn="l" pos="51847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GroupInformationTabl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6360"/>
                <a:tab algn="l" pos="863640"/>
                <a:tab algn="l" pos="1152360"/>
                <a:tab algn="l" pos="1728720"/>
                <a:tab algn="l" pos="2016000"/>
                <a:tab algn="l" pos="2305080"/>
                <a:tab algn="l" pos="2592360"/>
                <a:tab algn="l" pos="3168720"/>
                <a:tab algn="l" pos="3456000"/>
                <a:tab algn="l" pos="3745080"/>
                <a:tab algn="l" pos="4032360"/>
                <a:tab algn="l" pos="4608360"/>
                <a:tab algn="l" pos="4896000"/>
                <a:tab algn="l" pos="51847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GroupInformation GroupId="crid://hbc.com/foxes/all"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6360"/>
                <a:tab algn="l" pos="863640"/>
                <a:tab algn="l" pos="1152360"/>
                <a:tab algn="l" pos="1728720"/>
                <a:tab algn="l" pos="2016000"/>
                <a:tab algn="l" pos="2305080"/>
                <a:tab algn="l" pos="2592360"/>
                <a:tab algn="l" pos="3168720"/>
                <a:tab algn="l" pos="3456000"/>
                <a:tab algn="l" pos="3745080"/>
                <a:tab algn="l" pos="4032360"/>
                <a:tab algn="l" pos="4608360"/>
                <a:tab algn="l" pos="4896000"/>
                <a:tab algn="l" pos="51847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BasicDescription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6360"/>
                <a:tab algn="l" pos="863640"/>
                <a:tab algn="l" pos="1152360"/>
                <a:tab algn="l" pos="1728720"/>
                <a:tab algn="l" pos="2016000"/>
                <a:tab algn="l" pos="2305080"/>
                <a:tab algn="l" pos="2592360"/>
                <a:tab algn="l" pos="3168720"/>
                <a:tab algn="l" pos="3456000"/>
                <a:tab algn="l" pos="3745080"/>
                <a:tab algn="l" pos="4032360"/>
                <a:tab algn="l" pos="4608360"/>
                <a:tab algn="l" pos="4896000"/>
                <a:tab algn="l" pos="51847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Title type="main"&gt;All episodes of Foxes ever&lt;/Titl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6360"/>
                <a:tab algn="l" pos="863640"/>
                <a:tab algn="l" pos="1152360"/>
                <a:tab algn="l" pos="1728720"/>
                <a:tab algn="l" pos="2016000"/>
                <a:tab algn="l" pos="2305080"/>
                <a:tab algn="l" pos="2592360"/>
                <a:tab algn="l" pos="3168720"/>
                <a:tab algn="l" pos="3456000"/>
                <a:tab algn="l" pos="3745080"/>
                <a:tab algn="l" pos="4032360"/>
                <a:tab algn="l" pos="4608360"/>
                <a:tab algn="l" pos="4896000"/>
                <a:tab algn="l" pos="51847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Synopsis&gt;More Foxes than you can handle&lt;/Synopsis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6360"/>
                <a:tab algn="l" pos="863640"/>
                <a:tab algn="l" pos="1152360"/>
                <a:tab algn="l" pos="1728720"/>
                <a:tab algn="l" pos="2016000"/>
                <a:tab algn="l" pos="2305080"/>
                <a:tab algn="l" pos="2592360"/>
                <a:tab algn="l" pos="3168720"/>
                <a:tab algn="l" pos="3456000"/>
                <a:tab algn="l" pos="3745080"/>
                <a:tab algn="l" pos="4032360"/>
                <a:tab algn="l" pos="4608360"/>
                <a:tab algn="l" pos="4896000"/>
                <a:tab algn="l" pos="51847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Keyword&gt;Foxes&lt;/Keyword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6360"/>
                <a:tab algn="l" pos="863640"/>
                <a:tab algn="l" pos="1152360"/>
                <a:tab algn="l" pos="1728720"/>
                <a:tab algn="l" pos="2016000"/>
                <a:tab algn="l" pos="2305080"/>
                <a:tab algn="l" pos="2592360"/>
                <a:tab algn="l" pos="3168720"/>
                <a:tab algn="l" pos="3456000"/>
                <a:tab algn="l" pos="3745080"/>
                <a:tab algn="l" pos="4032360"/>
                <a:tab algn="l" pos="4608360"/>
                <a:tab algn="l" pos="4896000"/>
                <a:tab algn="l" pos="51847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Keyword&gt;all&lt;/Keyword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6360"/>
                <a:tab algn="l" pos="863640"/>
                <a:tab algn="l" pos="1152360"/>
                <a:tab algn="l" pos="1728720"/>
                <a:tab algn="l" pos="2016000"/>
                <a:tab algn="l" pos="2305080"/>
                <a:tab algn="l" pos="2592360"/>
                <a:tab algn="l" pos="3168720"/>
                <a:tab algn="l" pos="3456000"/>
                <a:tab algn="l" pos="3745080"/>
                <a:tab algn="l" pos="4032360"/>
                <a:tab algn="l" pos="4608360"/>
                <a:tab algn="l" pos="4896000"/>
                <a:tab algn="l" pos="51847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Genre href = "urn:tva:TVAFormat.3.5.7" type="main"/&gt;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6360"/>
                <a:tab algn="l" pos="863640"/>
                <a:tab algn="l" pos="1152360"/>
                <a:tab algn="l" pos="1728720"/>
                <a:tab algn="l" pos="2016000"/>
                <a:tab algn="l" pos="2305080"/>
                <a:tab algn="l" pos="2592360"/>
                <a:tab algn="l" pos="3168720"/>
                <a:tab algn="l" pos="3456000"/>
                <a:tab algn="l" pos="3745080"/>
                <a:tab algn="l" pos="4032360"/>
                <a:tab algn="l" pos="4608360"/>
                <a:tab algn="l" pos="4896000"/>
                <a:tab algn="l" pos="51847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/BasicDescription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6360"/>
                <a:tab algn="l" pos="863640"/>
                <a:tab algn="l" pos="1152360"/>
                <a:tab algn="l" pos="1728720"/>
                <a:tab algn="l" pos="2016000"/>
                <a:tab algn="l" pos="2305080"/>
                <a:tab algn="l" pos="2592360"/>
                <a:tab algn="l" pos="3168720"/>
                <a:tab algn="l" pos="3456000"/>
                <a:tab algn="l" pos="3745080"/>
                <a:tab algn="l" pos="4032360"/>
                <a:tab algn="l" pos="4608360"/>
                <a:tab algn="l" pos="4896000"/>
                <a:tab algn="l" pos="51847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MemberOf&gt;crid://hbc.com/comedy/all&lt;/MemberOf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6360"/>
                <a:tab algn="l" pos="863640"/>
                <a:tab algn="l" pos="1152360"/>
                <a:tab algn="l" pos="1728720"/>
                <a:tab algn="l" pos="2016000"/>
                <a:tab algn="l" pos="2305080"/>
                <a:tab algn="l" pos="2592360"/>
                <a:tab algn="l" pos="3168720"/>
                <a:tab algn="l" pos="3456000"/>
                <a:tab algn="l" pos="3745080"/>
                <a:tab algn="l" pos="4032360"/>
                <a:tab algn="l" pos="4608360"/>
                <a:tab algn="l" pos="4896000"/>
                <a:tab algn="l" pos="51847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/GroupInformation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6360"/>
                <a:tab algn="l" pos="863640"/>
                <a:tab algn="l" pos="1152360"/>
                <a:tab algn="l" pos="1728720"/>
                <a:tab algn="l" pos="2016000"/>
                <a:tab algn="l" pos="2305080"/>
                <a:tab algn="l" pos="2592360"/>
                <a:tab algn="l" pos="3168720"/>
                <a:tab algn="l" pos="3456000"/>
                <a:tab algn="l" pos="3745080"/>
                <a:tab algn="l" pos="4032360"/>
                <a:tab algn="l" pos="4608360"/>
                <a:tab algn="l" pos="4896000"/>
                <a:tab algn="l" pos="51847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/GroupInformationTabl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949320" y="0"/>
          <a:ext cx="2631960" cy="67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9320" y="0"/>
                    <a:ext cx="263196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Metadata Event Description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57" name=""/>
          <p:cNvSpPr/>
          <p:nvPr/>
        </p:nvSpPr>
        <p:spPr>
          <a:xfrm>
            <a:off x="670320" y="1890360"/>
            <a:ext cx="7724520" cy="39344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6360"/>
                <a:tab algn="l" pos="863640"/>
                <a:tab algn="l" pos="1152360"/>
                <a:tab algn="l" pos="1728720"/>
                <a:tab algn="l" pos="2016000"/>
                <a:tab algn="l" pos="2305080"/>
                <a:tab algn="l" pos="2592360"/>
                <a:tab algn="l" pos="3168720"/>
                <a:tab algn="l" pos="3456000"/>
                <a:tab algn="l" pos="3745080"/>
                <a:tab algn="l" pos="4032360"/>
                <a:tab algn="l" pos="4608360"/>
                <a:tab algn="l" pos="4896000"/>
                <a:tab algn="l" pos="51847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BroadcastEv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6360"/>
                <a:tab algn="l" pos="863640"/>
                <a:tab algn="l" pos="1152360"/>
                <a:tab algn="l" pos="1728720"/>
                <a:tab algn="l" pos="2016000"/>
                <a:tab algn="l" pos="2305080"/>
                <a:tab algn="l" pos="2592360"/>
                <a:tab algn="l" pos="3168720"/>
                <a:tab algn="l" pos="3456000"/>
                <a:tab algn="l" pos="3745080"/>
                <a:tab algn="l" pos="4032360"/>
                <a:tab algn="l" pos="4608360"/>
                <a:tab algn="l" pos="4896000"/>
                <a:tab algn="l" pos="51847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Program&gt;crid://hbc.com/foxes/episode1&lt;/Program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6360"/>
                <a:tab algn="l" pos="863640"/>
                <a:tab algn="l" pos="1152360"/>
                <a:tab algn="l" pos="1728720"/>
                <a:tab algn="l" pos="2016000"/>
                <a:tab algn="l" pos="2305080"/>
                <a:tab algn="l" pos="2592360"/>
                <a:tab algn="l" pos="3168720"/>
                <a:tab algn="l" pos="3456000"/>
                <a:tab algn="l" pos="3745080"/>
                <a:tab algn="l" pos="4032360"/>
                <a:tab algn="l" pos="4608360"/>
                <a:tab algn="l" pos="4896000"/>
                <a:tab algn="l" pos="51847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BroadcastURL&gt;dvb:// 1.4ee2.3f5/&lt;/BroadcastURL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6360"/>
                <a:tab algn="l" pos="863640"/>
                <a:tab algn="l" pos="1152360"/>
                <a:tab algn="l" pos="1728720"/>
                <a:tab algn="l" pos="2016000"/>
                <a:tab algn="l" pos="2305080"/>
                <a:tab algn="l" pos="2592360"/>
                <a:tab algn="l" pos="3168720"/>
                <a:tab algn="l" pos="3456000"/>
                <a:tab algn="l" pos="3745080"/>
                <a:tab algn="l" pos="4032360"/>
                <a:tab algn="l" pos="4608360"/>
                <a:tab algn="l" pos="4896000"/>
                <a:tab algn="l" pos="51847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EventDescription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6360"/>
                <a:tab algn="l" pos="863640"/>
                <a:tab algn="l" pos="1152360"/>
                <a:tab algn="l" pos="1728720"/>
                <a:tab algn="l" pos="2016000"/>
                <a:tab algn="l" pos="2305080"/>
                <a:tab algn="l" pos="2592360"/>
                <a:tab algn="l" pos="3168720"/>
                <a:tab algn="l" pos="3456000"/>
                <a:tab algn="l" pos="3745080"/>
                <a:tab algn="l" pos="4032360"/>
                <a:tab algn="l" pos="4608360"/>
                <a:tab algn="l" pos="4896000"/>
                <a:tab algn="l" pos="51847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PublishedTime&gt;20010407T19.00+01:00&lt;/Published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6360"/>
                <a:tab algn="l" pos="863640"/>
                <a:tab algn="l" pos="1152360"/>
                <a:tab algn="l" pos="1728720"/>
                <a:tab algn="l" pos="2016000"/>
                <a:tab algn="l" pos="2305080"/>
                <a:tab algn="l" pos="2592360"/>
                <a:tab algn="l" pos="3168720"/>
                <a:tab algn="l" pos="3456000"/>
                <a:tab algn="l" pos="3745080"/>
                <a:tab algn="l" pos="4032360"/>
                <a:tab algn="l" pos="4608360"/>
                <a:tab algn="l" pos="4896000"/>
                <a:tab algn="l" pos="51847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PublishedDuration&gt;30&lt;/PublishedDuration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6360"/>
                <a:tab algn="l" pos="863640"/>
                <a:tab algn="l" pos="1152360"/>
                <a:tab algn="l" pos="1728720"/>
                <a:tab algn="l" pos="2016000"/>
                <a:tab algn="l" pos="2305080"/>
                <a:tab algn="l" pos="2592360"/>
                <a:tab algn="l" pos="3168720"/>
                <a:tab algn="l" pos="3456000"/>
                <a:tab algn="l" pos="3745080"/>
                <a:tab algn="l" pos="4032360"/>
                <a:tab algn="l" pos="4608360"/>
                <a:tab algn="l" pos="4896000"/>
                <a:tab algn="l" pos="51847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Live&gt;false&lt;/Li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6360"/>
                <a:tab algn="l" pos="863640"/>
                <a:tab algn="l" pos="1152360"/>
                <a:tab algn="l" pos="1728720"/>
                <a:tab algn="l" pos="2016000"/>
                <a:tab algn="l" pos="2305080"/>
                <a:tab algn="l" pos="2592360"/>
                <a:tab algn="l" pos="3168720"/>
                <a:tab algn="l" pos="3456000"/>
                <a:tab algn="l" pos="3745080"/>
                <a:tab algn="l" pos="4032360"/>
                <a:tab algn="l" pos="4608360"/>
                <a:tab algn="l" pos="4896000"/>
                <a:tab algn="l" pos="51847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Repeat&gt;true&lt;/Repea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6360"/>
                <a:tab algn="l" pos="863640"/>
                <a:tab algn="l" pos="1152360"/>
                <a:tab algn="l" pos="1728720"/>
                <a:tab algn="l" pos="2016000"/>
                <a:tab algn="l" pos="2305080"/>
                <a:tab algn="l" pos="2592360"/>
                <a:tab algn="l" pos="3168720"/>
                <a:tab algn="l" pos="3456000"/>
                <a:tab algn="l" pos="3745080"/>
                <a:tab algn="l" pos="4032360"/>
                <a:tab algn="l" pos="4608360"/>
                <a:tab algn="l" pos="4896000"/>
                <a:tab algn="l" pos="51847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FirstShowing&gt;false&lt;/FirstShowing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6360"/>
                <a:tab algn="l" pos="863640"/>
                <a:tab algn="l" pos="1152360"/>
                <a:tab algn="l" pos="1728720"/>
                <a:tab algn="l" pos="2016000"/>
                <a:tab algn="l" pos="2305080"/>
                <a:tab algn="l" pos="2592360"/>
                <a:tab algn="l" pos="3168720"/>
                <a:tab algn="l" pos="3456000"/>
                <a:tab algn="l" pos="3745080"/>
                <a:tab algn="l" pos="4032360"/>
                <a:tab algn="l" pos="4608360"/>
                <a:tab algn="l" pos="4896000"/>
                <a:tab algn="l" pos="51847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LastShowing&gt;false&lt;/LastShowing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6360"/>
                <a:tab algn="l" pos="863640"/>
                <a:tab algn="l" pos="1152360"/>
                <a:tab algn="l" pos="1728720"/>
                <a:tab algn="l" pos="2016000"/>
                <a:tab algn="l" pos="2305080"/>
                <a:tab algn="l" pos="2592360"/>
                <a:tab algn="l" pos="3168720"/>
                <a:tab algn="l" pos="3456000"/>
                <a:tab algn="l" pos="3745080"/>
                <a:tab algn="l" pos="4032360"/>
                <a:tab algn="l" pos="4608360"/>
                <a:tab algn="l" pos="4896000"/>
                <a:tab algn="l" pos="51847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Free&gt;true&lt;/Fre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6360"/>
                <a:tab algn="l" pos="863640"/>
                <a:tab algn="l" pos="1152360"/>
                <a:tab algn="l" pos="1728720"/>
                <a:tab algn="l" pos="2016000"/>
                <a:tab algn="l" pos="2305080"/>
                <a:tab algn="l" pos="2592360"/>
                <a:tab algn="l" pos="3168720"/>
                <a:tab algn="l" pos="3456000"/>
                <a:tab algn="l" pos="3745080"/>
                <a:tab algn="l" pos="4032360"/>
                <a:tab algn="l" pos="4608360"/>
                <a:tab algn="l" pos="4896000"/>
                <a:tab algn="l" pos="51847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/EventDescription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6360"/>
                <a:tab algn="l" pos="863640"/>
                <a:tab algn="l" pos="1152360"/>
                <a:tab algn="l" pos="1728720"/>
                <a:tab algn="l" pos="2016000"/>
                <a:tab algn="l" pos="2305080"/>
                <a:tab algn="l" pos="2592360"/>
                <a:tab algn="l" pos="3168720"/>
                <a:tab algn="l" pos="3456000"/>
                <a:tab algn="l" pos="3745080"/>
                <a:tab algn="l" pos="4032360"/>
                <a:tab algn="l" pos="4608360"/>
                <a:tab algn="l" pos="4896000"/>
                <a:tab algn="l" pos="51847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ServiceId&gt;hbc100022311&lt;/ServiceId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6360"/>
                <a:tab algn="l" pos="863640"/>
                <a:tab algn="l" pos="1152360"/>
                <a:tab algn="l" pos="1728720"/>
                <a:tab algn="l" pos="2016000"/>
                <a:tab algn="l" pos="2305080"/>
                <a:tab algn="l" pos="2592360"/>
                <a:tab algn="l" pos="3168720"/>
                <a:tab algn="l" pos="3456000"/>
                <a:tab algn="l" pos="3745080"/>
                <a:tab algn="l" pos="4032360"/>
                <a:tab algn="l" pos="4608360"/>
                <a:tab algn="l" pos="4896000"/>
                <a:tab algn="l" pos="51847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/BroadcastEv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990720" y="0"/>
          <a:ext cx="2631960" cy="67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0"/>
                    <a:ext cx="263196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Tahoma"/>
                <a:ea typeface="ＭＳ Ｐゴシック"/>
              </a:rPr>
              <a:t>Content Referencing – problem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No consistent way to reference content from different sources (terrestrial TV, satellite, Internet, etc.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Content can change locations, either on the web or due to a reschedule of time / chann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Need a way to reference a group of programs, such as an entire seri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A central registration authority for such content references is impractica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Location Resolution data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1582560" y="1392120"/>
          <a:ext cx="6589800" cy="546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2560" y="1392120"/>
                    <a:ext cx="6589800" cy="546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3" name=""/>
          <p:cNvGraphicFramePr/>
          <p:nvPr/>
        </p:nvGraphicFramePr>
        <p:xfrm>
          <a:off x="990720" y="0"/>
          <a:ext cx="263196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0"/>
                    <a:ext cx="263196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ontent Referencing Tabl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66" name=""/>
          <p:cNvSpPr/>
          <p:nvPr/>
        </p:nvSpPr>
        <p:spPr>
          <a:xfrm>
            <a:off x="1051560" y="2499120"/>
            <a:ext cx="7587360" cy="25628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6360"/>
                <a:tab algn="l" pos="863640"/>
                <a:tab algn="l" pos="1152360"/>
                <a:tab algn="l" pos="1728720"/>
                <a:tab algn="l" pos="2016000"/>
                <a:tab algn="l" pos="2305080"/>
                <a:tab algn="l" pos="2592360"/>
                <a:tab algn="l" pos="3168720"/>
                <a:tab algn="l" pos="3456000"/>
                <a:tab algn="l" pos="3745080"/>
                <a:tab algn="l" pos="4032360"/>
                <a:tab algn="l" pos="4608360"/>
                <a:tab algn="l" pos="4896000"/>
                <a:tab algn="l" pos="51847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ContentReferencingTabl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6360"/>
                <a:tab algn="l" pos="863640"/>
                <a:tab algn="l" pos="1152360"/>
                <a:tab algn="l" pos="1728720"/>
                <a:tab algn="l" pos="2016000"/>
                <a:tab algn="l" pos="2305080"/>
                <a:tab algn="l" pos="2592360"/>
                <a:tab algn="l" pos="3168720"/>
                <a:tab algn="l" pos="3456000"/>
                <a:tab algn="l" pos="3745080"/>
                <a:tab algn="l" pos="4032360"/>
                <a:tab algn="l" pos="4608360"/>
                <a:tab algn="l" pos="4896000"/>
                <a:tab algn="l" pos="51847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!-- CRID resolution to other CRIDs --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6360"/>
                <a:tab algn="l" pos="863640"/>
                <a:tab algn="l" pos="1152360"/>
                <a:tab algn="l" pos="1728720"/>
                <a:tab algn="l" pos="2016000"/>
                <a:tab algn="l" pos="2305080"/>
                <a:tab algn="l" pos="2592360"/>
                <a:tab algn="l" pos="3168720"/>
                <a:tab algn="l" pos="3456000"/>
                <a:tab algn="l" pos="3745080"/>
                <a:tab algn="l" pos="4032360"/>
                <a:tab algn="l" pos="4608360"/>
                <a:tab algn="l" pos="4896000"/>
                <a:tab algn="l" pos="51847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Result CRID="crid://hbc.com/foxes/all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6360"/>
                <a:tab algn="l" pos="863640"/>
                <a:tab algn="l" pos="1152360"/>
                <a:tab algn="l" pos="1728720"/>
                <a:tab algn="l" pos="2016000"/>
                <a:tab algn="l" pos="2305080"/>
                <a:tab algn="l" pos="2592360"/>
                <a:tab algn="l" pos="3168720"/>
                <a:tab algn="l" pos="3456000"/>
                <a:tab algn="l" pos="3745080"/>
                <a:tab algn="l" pos="4032360"/>
                <a:tab algn="l" pos="4608360"/>
                <a:tab algn="l" pos="4896000"/>
                <a:tab algn="l" pos="51847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atus="resolved" complete="true" acquire="all"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6360"/>
                <a:tab algn="l" pos="863640"/>
                <a:tab algn="l" pos="1152360"/>
                <a:tab algn="l" pos="1728720"/>
                <a:tab algn="l" pos="2016000"/>
                <a:tab algn="l" pos="2305080"/>
                <a:tab algn="l" pos="2592360"/>
                <a:tab algn="l" pos="3168720"/>
                <a:tab algn="l" pos="3456000"/>
                <a:tab algn="l" pos="3745080"/>
                <a:tab algn="l" pos="4032360"/>
                <a:tab algn="l" pos="4608360"/>
                <a:tab algn="l" pos="4896000"/>
                <a:tab algn="l" pos="51847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CRIDResul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6360"/>
                <a:tab algn="l" pos="863640"/>
                <a:tab algn="l" pos="1152360"/>
                <a:tab algn="l" pos="1728720"/>
                <a:tab algn="l" pos="2016000"/>
                <a:tab algn="l" pos="2305080"/>
                <a:tab algn="l" pos="2592360"/>
                <a:tab algn="l" pos="3168720"/>
                <a:tab algn="l" pos="3456000"/>
                <a:tab algn="l" pos="3745080"/>
                <a:tab algn="l" pos="4032360"/>
                <a:tab algn="l" pos="4608360"/>
                <a:tab algn="l" pos="4896000"/>
                <a:tab algn="l" pos="51847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Crid&gt;crid://hbc.com/foxes/episode1&lt;/Crid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6360"/>
                <a:tab algn="l" pos="863640"/>
                <a:tab algn="l" pos="1152360"/>
                <a:tab algn="l" pos="1728720"/>
                <a:tab algn="l" pos="2016000"/>
                <a:tab algn="l" pos="2305080"/>
                <a:tab algn="l" pos="2592360"/>
                <a:tab algn="l" pos="3168720"/>
                <a:tab algn="l" pos="3456000"/>
                <a:tab algn="l" pos="3745080"/>
                <a:tab algn="l" pos="4032360"/>
                <a:tab algn="l" pos="4608360"/>
                <a:tab algn="l" pos="4896000"/>
                <a:tab algn="l" pos="51847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Crid&gt;crid://hbc.com/foxes/episode2&lt;/Crid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6360"/>
                <a:tab algn="l" pos="863640"/>
                <a:tab algn="l" pos="1152360"/>
                <a:tab algn="l" pos="1728720"/>
                <a:tab algn="l" pos="2016000"/>
                <a:tab algn="l" pos="2305080"/>
                <a:tab algn="l" pos="2592360"/>
                <a:tab algn="l" pos="3168720"/>
                <a:tab algn="l" pos="3456000"/>
                <a:tab algn="l" pos="3745080"/>
                <a:tab algn="l" pos="4032360"/>
                <a:tab algn="l" pos="4608360"/>
                <a:tab algn="l" pos="4896000"/>
                <a:tab algn="l" pos="51847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/CRIDResul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6360"/>
                <a:tab algn="l" pos="863640"/>
                <a:tab algn="l" pos="1152360"/>
                <a:tab algn="l" pos="1728720"/>
                <a:tab algn="l" pos="2016000"/>
                <a:tab algn="l" pos="2305080"/>
                <a:tab algn="l" pos="2592360"/>
                <a:tab algn="l" pos="3168720"/>
                <a:tab algn="l" pos="3456000"/>
                <a:tab algn="l" pos="3745080"/>
                <a:tab algn="l" pos="4032360"/>
                <a:tab algn="l" pos="4608360"/>
                <a:tab algn="l" pos="4896000"/>
                <a:tab algn="l" pos="51847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/Resul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990720" y="0"/>
          <a:ext cx="2631960" cy="67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0"/>
                    <a:ext cx="263196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ontent Referencing Tabl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70" name=""/>
          <p:cNvSpPr/>
          <p:nvPr/>
        </p:nvSpPr>
        <p:spPr>
          <a:xfrm>
            <a:off x="103680" y="2058480"/>
            <a:ext cx="8958960" cy="39344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6360"/>
                <a:tab algn="l" pos="863640"/>
                <a:tab algn="l" pos="1152360"/>
                <a:tab algn="l" pos="1728720"/>
                <a:tab algn="l" pos="2016000"/>
                <a:tab algn="l" pos="2305080"/>
                <a:tab algn="l" pos="2592360"/>
                <a:tab algn="l" pos="3168720"/>
                <a:tab algn="l" pos="3456000"/>
                <a:tab algn="l" pos="3745080"/>
                <a:tab algn="l" pos="4032360"/>
                <a:tab algn="l" pos="4608360"/>
                <a:tab algn="l" pos="4896000"/>
                <a:tab algn="l" pos="51847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!-- CRID resolution to locators --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6360"/>
                <a:tab algn="l" pos="863640"/>
                <a:tab algn="l" pos="1152360"/>
                <a:tab algn="l" pos="1728720"/>
                <a:tab algn="l" pos="2016000"/>
                <a:tab algn="l" pos="2305080"/>
                <a:tab algn="l" pos="2592360"/>
                <a:tab algn="l" pos="3168720"/>
                <a:tab algn="l" pos="3456000"/>
                <a:tab algn="l" pos="3745080"/>
                <a:tab algn="l" pos="4032360"/>
                <a:tab algn="l" pos="4608360"/>
                <a:tab algn="l" pos="4896000"/>
                <a:tab algn="l" pos="51847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Result CRID="crid://hbc.com/foxes/episode1"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6360"/>
                <a:tab algn="l" pos="863640"/>
                <a:tab algn="l" pos="1152360"/>
                <a:tab algn="l" pos="1728720"/>
                <a:tab algn="l" pos="2016000"/>
                <a:tab algn="l" pos="2305080"/>
                <a:tab algn="l" pos="2592360"/>
                <a:tab algn="l" pos="3168720"/>
                <a:tab algn="l" pos="3456000"/>
                <a:tab algn="l" pos="3745080"/>
                <a:tab algn="l" pos="4032360"/>
                <a:tab algn="l" pos="4608360"/>
                <a:tab algn="l" pos="4896000"/>
                <a:tab algn="l" pos="51847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atus="resolved“ complete="true" acquire="all"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6360"/>
                <a:tab algn="l" pos="863640"/>
                <a:tab algn="l" pos="1152360"/>
                <a:tab algn="l" pos="1728720"/>
                <a:tab algn="l" pos="2016000"/>
                <a:tab algn="l" pos="2305080"/>
                <a:tab algn="l" pos="2592360"/>
                <a:tab algn="l" pos="3168720"/>
                <a:tab algn="l" pos="3456000"/>
                <a:tab algn="l" pos="3745080"/>
                <a:tab algn="l" pos="4032360"/>
                <a:tab algn="l" pos="4608360"/>
                <a:tab algn="l" pos="4896000"/>
                <a:tab algn="l" pos="51847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LocationsResul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6360"/>
                <a:tab algn="l" pos="863640"/>
                <a:tab algn="l" pos="1152360"/>
                <a:tab algn="l" pos="1728720"/>
                <a:tab algn="l" pos="2016000"/>
                <a:tab algn="l" pos="2305080"/>
                <a:tab algn="l" pos="2592360"/>
                <a:tab algn="l" pos="3168720"/>
                <a:tab algn="l" pos="3456000"/>
                <a:tab algn="l" pos="3745080"/>
                <a:tab algn="l" pos="4032360"/>
                <a:tab algn="l" pos="4608360"/>
                <a:tab algn="l" pos="4896000"/>
                <a:tab algn="l" pos="51847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Locator&gt;dvb://1.4ee2.3f4;4f5@2001-04-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6360"/>
                <a:tab algn="l" pos="863640"/>
                <a:tab algn="l" pos="1152360"/>
                <a:tab algn="l" pos="1728720"/>
                <a:tab algn="l" pos="2016000"/>
                <a:tab algn="l" pos="2305080"/>
                <a:tab algn="l" pos="2592360"/>
                <a:tab algn="l" pos="3168720"/>
                <a:tab algn="l" pos="3456000"/>
                <a:tab algn="l" pos="3745080"/>
                <a:tab algn="l" pos="4032360"/>
                <a:tab algn="l" pos="4608360"/>
                <a:tab algn="l" pos="4896000"/>
                <a:tab algn="l" pos="51847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21:00:00.00+01:00/PT00H45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6360"/>
                <a:tab algn="l" pos="863640"/>
                <a:tab algn="l" pos="1152360"/>
                <a:tab algn="l" pos="1728720"/>
                <a:tab algn="l" pos="2016000"/>
                <a:tab algn="l" pos="2305080"/>
                <a:tab algn="l" pos="2592360"/>
                <a:tab algn="l" pos="3168720"/>
                <a:tab algn="l" pos="3456000"/>
                <a:tab algn="l" pos="3745080"/>
                <a:tab algn="l" pos="4032360"/>
                <a:tab algn="l" pos="4608360"/>
                <a:tab algn="l" pos="4896000"/>
                <a:tab algn="l" pos="51847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/Locato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6360"/>
                <a:tab algn="l" pos="863640"/>
                <a:tab algn="l" pos="1152360"/>
                <a:tab algn="l" pos="1728720"/>
                <a:tab algn="l" pos="2016000"/>
                <a:tab algn="l" pos="2305080"/>
                <a:tab algn="l" pos="2592360"/>
                <a:tab algn="l" pos="3168720"/>
                <a:tab algn="l" pos="3456000"/>
                <a:tab algn="l" pos="3745080"/>
                <a:tab algn="l" pos="4032360"/>
                <a:tab algn="l" pos="4608360"/>
                <a:tab algn="l" pos="4896000"/>
                <a:tab algn="l" pos="51847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/LocationsResul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6360"/>
                <a:tab algn="l" pos="863640"/>
                <a:tab algn="l" pos="1152360"/>
                <a:tab algn="l" pos="1728720"/>
                <a:tab algn="l" pos="2016000"/>
                <a:tab algn="l" pos="2305080"/>
                <a:tab algn="l" pos="2592360"/>
                <a:tab algn="l" pos="3168720"/>
                <a:tab algn="l" pos="3456000"/>
                <a:tab algn="l" pos="3745080"/>
                <a:tab algn="l" pos="4032360"/>
                <a:tab algn="l" pos="4608360"/>
                <a:tab algn="l" pos="4896000"/>
                <a:tab algn="l" pos="51847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/Resul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6360"/>
                <a:tab algn="l" pos="863640"/>
                <a:tab algn="l" pos="1152360"/>
                <a:tab algn="l" pos="1728720"/>
                <a:tab algn="l" pos="2016000"/>
                <a:tab algn="l" pos="2305080"/>
                <a:tab algn="l" pos="2592360"/>
                <a:tab algn="l" pos="3168720"/>
                <a:tab algn="l" pos="3456000"/>
                <a:tab algn="l" pos="3745080"/>
                <a:tab algn="l" pos="4032360"/>
                <a:tab algn="l" pos="4608360"/>
                <a:tab algn="l" pos="4896000"/>
                <a:tab algn="l" pos="51847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Result CRID="crid://hbc.com/foxes/episode2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6360"/>
                <a:tab algn="l" pos="863640"/>
                <a:tab algn="l" pos="1152360"/>
                <a:tab algn="l" pos="1728720"/>
                <a:tab algn="l" pos="2016000"/>
                <a:tab algn="l" pos="2305080"/>
                <a:tab algn="l" pos="2592360"/>
                <a:tab algn="l" pos="3168720"/>
                <a:tab algn="l" pos="3456000"/>
                <a:tab algn="l" pos="3745080"/>
                <a:tab algn="l" pos="4032360"/>
                <a:tab algn="l" pos="4608360"/>
                <a:tab algn="l" pos="4896000"/>
                <a:tab algn="l" pos="51847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atus="cannot yet resolve" complete="true“ acquire="all"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6360"/>
                <a:tab algn="l" pos="863640"/>
                <a:tab algn="l" pos="1152360"/>
                <a:tab algn="l" pos="1728720"/>
                <a:tab algn="l" pos="2016000"/>
                <a:tab algn="l" pos="2305080"/>
                <a:tab algn="l" pos="2592360"/>
                <a:tab algn="l" pos="3168720"/>
                <a:tab algn="l" pos="3456000"/>
                <a:tab algn="l" pos="3745080"/>
                <a:tab algn="l" pos="4032360"/>
                <a:tab algn="l" pos="4608360"/>
                <a:tab algn="l" pos="4896000"/>
                <a:tab algn="l" pos="51847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resolveDate = “2001-09-09T12:00:00.00+01.00”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6360"/>
                <a:tab algn="l" pos="863640"/>
                <a:tab algn="l" pos="1152360"/>
                <a:tab algn="l" pos="1728720"/>
                <a:tab algn="l" pos="2016000"/>
                <a:tab algn="l" pos="2305080"/>
                <a:tab algn="l" pos="2592360"/>
                <a:tab algn="l" pos="3168720"/>
                <a:tab algn="l" pos="3456000"/>
                <a:tab algn="l" pos="3745080"/>
                <a:tab algn="l" pos="4032360"/>
                <a:tab algn="l" pos="4608360"/>
                <a:tab algn="l" pos="4896000"/>
                <a:tab algn="l" pos="51847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/Resul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576360"/>
                <a:tab algn="l" pos="863640"/>
                <a:tab algn="l" pos="1152360"/>
                <a:tab algn="l" pos="1728720"/>
                <a:tab algn="l" pos="2016000"/>
                <a:tab algn="l" pos="2305080"/>
                <a:tab algn="l" pos="2592360"/>
                <a:tab algn="l" pos="3168720"/>
                <a:tab algn="l" pos="3456000"/>
                <a:tab algn="l" pos="3745080"/>
                <a:tab algn="l" pos="4032360"/>
                <a:tab algn="l" pos="4608360"/>
                <a:tab algn="l" pos="4896000"/>
                <a:tab algn="l" pos="51847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/ContentReferencingTabl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1" name=""/>
          <p:cNvGraphicFramePr/>
          <p:nvPr/>
        </p:nvGraphicFramePr>
        <p:xfrm>
          <a:off x="949320" y="0"/>
          <a:ext cx="2631960" cy="67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9320" y="0"/>
                    <a:ext cx="263196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Dynamic system behaviour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1066680" y="1833480"/>
          <a:ext cx="7162920" cy="502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33480"/>
                    <a:ext cx="7162920" cy="50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More information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ocumen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V036r2 – System Requiremen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P002 – System specification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+ requirements on transpor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P003 – Metadat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P004 – Content Referencing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P006 – Metadata over a bi-directional network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Tahoma"/>
                <a:ea typeface="ＭＳ Ｐゴシック"/>
              </a:rPr>
              <a:t>Content Referencing – </a:t>
            </a:r>
            <a:br>
              <a:rPr sz="4200"/>
            </a:br>
            <a:r>
              <a:rPr b="0" lang="en-US" sz="4200" spc="-1" strike="noStrike">
                <a:solidFill>
                  <a:srgbClr val="800000"/>
                </a:solidFill>
                <a:latin typeface="Tahoma"/>
                <a:ea typeface="ＭＳ Ｐゴシック"/>
              </a:rPr>
              <a:t>the CRID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The CRID (Content Reference Identifier) allows for the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Tahoma"/>
                <a:ea typeface="ＭＳ Ｐゴシック"/>
              </a:rPr>
              <a:t>location independent referencing of content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It is assigned by an </a:t>
            </a:r>
            <a:r>
              <a:rPr b="0" i="1" lang="en-US" sz="3000" spc="-1" strike="noStrike">
                <a:solidFill>
                  <a:srgbClr val="800000"/>
                </a:solidFill>
                <a:latin typeface="Tahoma"/>
                <a:ea typeface="ＭＳ Ｐゴシック"/>
              </a:rPr>
              <a:t>authority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which also provides the ability to </a:t>
            </a:r>
            <a:r>
              <a:rPr b="0" i="1" lang="en-US" sz="3000" spc="-1" strike="noStrike">
                <a:solidFill>
                  <a:srgbClr val="800000"/>
                </a:solidFill>
                <a:latin typeface="Tahoma"/>
                <a:ea typeface="ＭＳ Ｐゴシック"/>
              </a:rPr>
              <a:t>resolve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the CRID to a locatio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A CRID points to a single piece of content or a series of other CRID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Tahoma"/>
                <a:ea typeface="ＭＳ Ｐゴシック"/>
              </a:rPr>
              <a:t>CRID</a:t>
            </a:r>
            <a:r>
              <a:rPr b="0" lang="en-US" sz="4200" spc="-1" strike="noStrike">
                <a:solidFill>
                  <a:srgbClr val="cc9900"/>
                </a:solidFill>
                <a:latin typeface="Tahoma"/>
                <a:ea typeface="ＭＳ Ｐゴシック"/>
              </a:rPr>
              <a:t> </a:t>
            </a:r>
            <a:r>
              <a:rPr b="0" lang="en-US" sz="4200" spc="-1" strike="noStrike">
                <a:solidFill>
                  <a:srgbClr val="800000"/>
                </a:solidFill>
                <a:latin typeface="Tahoma"/>
                <a:ea typeface="ＭＳ Ｐゴシック"/>
              </a:rPr>
              <a:t>Definition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3436560"/>
            <a:ext cx="754380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5128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Format of </a:t>
            </a:r>
            <a:r>
              <a:rPr b="0" lang="en-US" sz="2600" spc="-1" strike="noStrike">
                <a:solidFill>
                  <a:srgbClr val="800000"/>
                </a:solidFill>
                <a:latin typeface="Tahoma"/>
                <a:ea typeface="ＭＳ Ｐゴシック"/>
              </a:rPr>
              <a:t>authority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2057400"/>
            <a:ext cx="586728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RID:// 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  <a:ea typeface="ＭＳ Ｐゴシック"/>
              </a:rPr>
              <a:t>&lt;authority&gt;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/ </a:t>
            </a:r>
            <a:r>
              <a:rPr b="0" lang="en-US" sz="3200" spc="-1" strike="noStrike">
                <a:solidFill>
                  <a:srgbClr val="990033"/>
                </a:solidFill>
                <a:latin typeface="Times New Roman"/>
                <a:ea typeface="ＭＳ Ｐゴシック"/>
              </a:rPr>
              <a:t>&lt;data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3886200"/>
            <a:ext cx="586728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NS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5334120"/>
            <a:ext cx="5867280" cy="76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3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NS name&gt;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;&lt;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path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46483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Tahoma"/>
                <a:ea typeface="ＭＳ Ｐゴシック"/>
              </a:rPr>
              <a:t>CRID</a:t>
            </a:r>
            <a:r>
              <a:rPr b="0" lang="en-US" sz="4200" spc="-1" strike="noStrike">
                <a:solidFill>
                  <a:srgbClr val="cc9900"/>
                </a:solidFill>
                <a:latin typeface="Tahoma"/>
                <a:ea typeface="ＭＳ Ｐゴシック"/>
              </a:rPr>
              <a:t> </a:t>
            </a:r>
            <a:r>
              <a:rPr b="0" lang="en-US" sz="4200" spc="-1" strike="noStrike">
                <a:solidFill>
                  <a:srgbClr val="800000"/>
                </a:solidFill>
                <a:latin typeface="Tahoma"/>
                <a:ea typeface="ＭＳ Ｐゴシック"/>
              </a:rPr>
              <a:t>Exampl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Format for </a:t>
            </a:r>
            <a:r>
              <a:rPr b="0" lang="en-US" sz="3000" spc="-1" strike="noStrike">
                <a:solidFill>
                  <a:srgbClr val="990033"/>
                </a:solidFill>
                <a:latin typeface="Tahoma"/>
                <a:ea typeface="ＭＳ Ｐゴシック"/>
              </a:rPr>
              <a:t>data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is decided by authorit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Examples: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CRID://</a:t>
            </a:r>
            <a:r>
              <a:rPr b="0" lang="en-US" sz="3000" spc="-1" strike="noStrike">
                <a:solidFill>
                  <a:srgbClr val="800000"/>
                </a:solidFill>
                <a:latin typeface="Tahoma"/>
                <a:ea typeface="ＭＳ Ｐゴシック"/>
              </a:rPr>
              <a:t>www.tv-tokyo.co.jp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/</a:t>
            </a:r>
            <a:r>
              <a:rPr b="0" lang="en-US" sz="3000" spc="-1" strike="noStrike">
                <a:solidFill>
                  <a:srgbClr val="990033"/>
                </a:solidFill>
                <a:latin typeface="Tahoma"/>
                <a:ea typeface="ＭＳ Ｐゴシック"/>
              </a:rPr>
              <a:t>vpn-tv/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CRID://</a:t>
            </a:r>
            <a:r>
              <a:rPr b="0" lang="en-US" sz="3000" spc="-1" strike="noStrike">
                <a:solidFill>
                  <a:srgbClr val="800000"/>
                </a:solidFill>
                <a:latin typeface="Tahoma"/>
                <a:ea typeface="ＭＳ Ｐゴシック"/>
              </a:rPr>
              <a:t>sony.com;columbia-tristar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/</a:t>
            </a:r>
            <a:r>
              <a:rPr b="0" lang="en-US" sz="3000" spc="-1" strike="noStrike">
                <a:solidFill>
                  <a:srgbClr val="990033"/>
                </a:solidFill>
                <a:latin typeface="Tahoma"/>
                <a:ea typeface="ＭＳ Ｐゴシック"/>
              </a:rPr>
              <a:t>jeopard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CRID://</a:t>
            </a:r>
            <a:r>
              <a:rPr b="0" lang="en-US" sz="3000" spc="-1" strike="noStrike">
                <a:solidFill>
                  <a:srgbClr val="800000"/>
                </a:solidFill>
                <a:latin typeface="Tahoma"/>
                <a:ea typeface="ＭＳ Ｐゴシック"/>
              </a:rPr>
              <a:t>nbc.com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/</a:t>
            </a:r>
            <a:r>
              <a:rPr b="0" lang="en-US" sz="3000" spc="-1" strike="noStrike">
                <a:solidFill>
                  <a:srgbClr val="990033"/>
                </a:solidFill>
                <a:latin typeface="Tahoma"/>
                <a:ea typeface="ＭＳ Ｐゴシック"/>
              </a:rPr>
              <a:t>UPID92f3-a30b-5177-08ac-4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Tahoma"/>
                <a:ea typeface="ＭＳ Ｐゴシック"/>
              </a:rPr>
              <a:t>CRID</a:t>
            </a:r>
            <a:r>
              <a:rPr b="0" lang="en-US" sz="4200" spc="-1" strike="noStrike">
                <a:solidFill>
                  <a:srgbClr val="cc9900"/>
                </a:solidFill>
                <a:latin typeface="Tahoma"/>
                <a:ea typeface="ＭＳ Ｐゴシック"/>
              </a:rPr>
              <a:t> </a:t>
            </a:r>
            <a:r>
              <a:rPr b="0" lang="en-US" sz="4200" spc="-1" strike="noStrike">
                <a:solidFill>
                  <a:srgbClr val="800000"/>
                </a:solidFill>
                <a:latin typeface="Tahoma"/>
                <a:ea typeface="ＭＳ Ｐゴシック"/>
              </a:rPr>
              <a:t>Resolution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3733920" y="2057400"/>
            <a:ext cx="137160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RI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ＭＳ Ｐゴシック"/>
              </a:rPr>
              <a:t>T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819160" y="2514600"/>
            <a:ext cx="16002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19720" y="25146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19720" y="2514600"/>
            <a:ext cx="175248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35053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4114800"/>
            <a:ext cx="1218960" cy="380880"/>
          </a:xfrm>
          <a:prstGeom prst="roundRect">
            <a:avLst>
              <a:gd name="adj" fmla="val 50000"/>
            </a:avLst>
          </a:prstGeom>
          <a:solidFill>
            <a:srgbClr val="00666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oc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09640" y="3048120"/>
            <a:ext cx="114300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RI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ＭＳ Ｐゴシック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57760" y="3048120"/>
            <a:ext cx="114300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RI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ＭＳ Ｐゴシック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19920" y="3048120"/>
            <a:ext cx="114300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RI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ＭＳ Ｐゴシック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4038480"/>
            <a:ext cx="114300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RI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ＭＳ Ｐゴシック"/>
              </a:rPr>
              <a:t>B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038480"/>
            <a:ext cx="114300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CRID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ＭＳ Ｐゴシック"/>
              </a:rPr>
              <a:t>B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809880" y="3505320"/>
            <a:ext cx="60984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19720" y="3505320"/>
            <a:ext cx="76176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81440" y="44956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1960" y="5105520"/>
            <a:ext cx="1218960" cy="380880"/>
          </a:xfrm>
          <a:prstGeom prst="roundRect">
            <a:avLst>
              <a:gd name="adj" fmla="val 50000"/>
            </a:avLst>
          </a:prstGeom>
          <a:solidFill>
            <a:srgbClr val="00666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oc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5105520"/>
            <a:ext cx="1219320" cy="380880"/>
          </a:xfrm>
          <a:prstGeom prst="roundRect">
            <a:avLst>
              <a:gd name="adj" fmla="val 50000"/>
            </a:avLst>
          </a:prstGeom>
          <a:solidFill>
            <a:srgbClr val="00666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oc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5105520"/>
            <a:ext cx="1219320" cy="380880"/>
          </a:xfrm>
          <a:prstGeom prst="roundRect">
            <a:avLst>
              <a:gd name="adj" fmla="val 50000"/>
            </a:avLst>
          </a:prstGeom>
          <a:solidFill>
            <a:srgbClr val="00666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oc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81480" y="44956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4495680"/>
            <a:ext cx="129528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29400" y="35053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19920" y="4114800"/>
            <a:ext cx="1218960" cy="380880"/>
          </a:xfrm>
          <a:prstGeom prst="roundRect">
            <a:avLst>
              <a:gd name="adj" fmla="val 50000"/>
            </a:avLst>
          </a:prstGeom>
          <a:solidFill>
            <a:srgbClr val="00666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oc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228600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Times New Roman"/>
                <a:ea typeface="ＭＳ Ｐゴシック"/>
              </a:rPr>
              <a:t>A CRID can resolve to other CRID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571500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  <a:ea typeface="ＭＳ Ｐゴシック"/>
              </a:rPr>
              <a:t>At some point, CRIDs must resolve to lo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86400" y="2057400"/>
            <a:ext cx="213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  <a:ea typeface="ＭＳ Ｐゴシック"/>
              </a:rPr>
              <a:t>crids resolve to lists (of crids or locators). Lists can be </a:t>
            </a:r>
            <a:r>
              <a:rPr b="0" i="1" lang="en-US" sz="1400" spc="-1" strike="noStrike">
                <a:solidFill>
                  <a:srgbClr val="800000"/>
                </a:solidFill>
                <a:latin typeface="Times New Roman"/>
                <a:ea typeface="ＭＳ Ｐゴシック"/>
              </a:rPr>
              <a:t>getOne</a:t>
            </a:r>
            <a:r>
              <a:rPr b="0" lang="en-US" sz="1400" spc="-1" strike="noStrike">
                <a:solidFill>
                  <a:srgbClr val="800000"/>
                </a:solidFill>
                <a:latin typeface="Times New Roman"/>
                <a:ea typeface="ＭＳ Ｐゴシック"/>
              </a:rPr>
              <a:t> or </a:t>
            </a:r>
            <a:r>
              <a:rPr b="0" i="1" lang="en-US" sz="1400" spc="-1" strike="noStrike">
                <a:solidFill>
                  <a:srgbClr val="800000"/>
                </a:solidFill>
                <a:latin typeface="Times New Roman"/>
                <a:ea typeface="ＭＳ Ｐゴシック"/>
              </a:rPr>
              <a:t>getAl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Tahoma"/>
                <a:ea typeface="ＭＳ Ｐゴシック"/>
              </a:rPr>
              <a:t>CRID Hierarchy Exampl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352680" y="1371600"/>
            <a:ext cx="2210040" cy="457200"/>
          </a:xfrm>
          <a:prstGeom prst="rect">
            <a:avLst/>
          </a:prstGeom>
          <a:solidFill>
            <a:srgbClr val="0066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tar Tr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057400" y="1828800"/>
            <a:ext cx="236232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580920" y="1828800"/>
            <a:ext cx="83844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19720" y="1828800"/>
            <a:ext cx="121896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2895480"/>
            <a:ext cx="23619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5562720"/>
            <a:ext cx="1218960" cy="380880"/>
          </a:xfrm>
          <a:prstGeom prst="roundRect">
            <a:avLst>
              <a:gd name="adj" fmla="val 50000"/>
            </a:avLst>
          </a:prstGeom>
          <a:solidFill>
            <a:srgbClr val="00666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ocation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2362320"/>
            <a:ext cx="1676520" cy="533160"/>
          </a:xfrm>
          <a:prstGeom prst="rect">
            <a:avLst/>
          </a:prstGeom>
          <a:solidFill>
            <a:srgbClr val="0066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Original Ser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1966-196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10280" y="2362320"/>
            <a:ext cx="1600200" cy="533160"/>
          </a:xfrm>
          <a:prstGeom prst="rect">
            <a:avLst/>
          </a:prstGeom>
          <a:solidFill>
            <a:srgbClr val="0066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Voyag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1995-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27680" y="2362320"/>
            <a:ext cx="1752480" cy="533160"/>
          </a:xfrm>
          <a:prstGeom prst="rect">
            <a:avLst/>
          </a:prstGeom>
          <a:solidFill>
            <a:srgbClr val="0066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eep Space Ni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1993-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16120" y="2362320"/>
            <a:ext cx="1981440" cy="533160"/>
          </a:xfrm>
          <a:prstGeom prst="rect">
            <a:avLst/>
          </a:prstGeom>
          <a:solidFill>
            <a:srgbClr val="0066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The Next Gene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1987-199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3581280"/>
            <a:ext cx="2057400" cy="304920"/>
          </a:xfrm>
          <a:prstGeom prst="rect">
            <a:avLst/>
          </a:prstGeom>
          <a:solidFill>
            <a:srgbClr val="0066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eason 1: 1966-196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4419720"/>
            <a:ext cx="2362320" cy="326880"/>
          </a:xfrm>
          <a:prstGeom prst="rect">
            <a:avLst/>
          </a:prstGeom>
          <a:solidFill>
            <a:srgbClr val="0066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Episode 1: “The Man Trap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28954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2895480"/>
            <a:ext cx="480060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9560" y="4267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59040" y="365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65640" y="365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23880" y="38862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19720" y="1828800"/>
            <a:ext cx="281916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57600" y="4419720"/>
            <a:ext cx="3200400" cy="304560"/>
          </a:xfrm>
          <a:prstGeom prst="rect">
            <a:avLst/>
          </a:prstGeom>
          <a:solidFill>
            <a:srgbClr val="0066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Episode 29: “Operation: Annihilate!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98760" y="2666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40480" y="2666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21560" y="2666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95480" y="3581280"/>
            <a:ext cx="2057400" cy="304920"/>
          </a:xfrm>
          <a:prstGeom prst="rect">
            <a:avLst/>
          </a:prstGeom>
          <a:solidFill>
            <a:srgbClr val="0066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eason 2: 1967-196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57800" y="3581280"/>
            <a:ext cx="2057400" cy="304920"/>
          </a:xfrm>
          <a:prstGeom prst="rect">
            <a:avLst/>
          </a:prstGeom>
          <a:solidFill>
            <a:srgbClr val="0066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Season 3: 1968-196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3886200"/>
            <a:ext cx="373392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25680" y="3809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352520" y="4749840"/>
            <a:ext cx="171360" cy="81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57400" y="5562720"/>
            <a:ext cx="1219320" cy="380880"/>
          </a:xfrm>
          <a:prstGeom prst="roundRect">
            <a:avLst>
              <a:gd name="adj" fmla="val 50000"/>
            </a:avLst>
          </a:prstGeom>
          <a:solidFill>
            <a:srgbClr val="00666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ocation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30360" y="4749840"/>
            <a:ext cx="984240" cy="81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48320" y="5562720"/>
            <a:ext cx="1218960" cy="380880"/>
          </a:xfrm>
          <a:prstGeom prst="roundRect">
            <a:avLst>
              <a:gd name="adj" fmla="val 50000"/>
            </a:avLst>
          </a:prstGeom>
          <a:solidFill>
            <a:srgbClr val="00666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o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57800" y="47242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030640" y="4421160"/>
            <a:ext cx="573120" cy="216000"/>
          </a:xfrm>
          <a:prstGeom prst="rect">
            <a:avLst/>
          </a:prstGeom>
          <a:solidFill>
            <a:srgbClr val="00cc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68800" y="4441680"/>
            <a:ext cx="365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ocato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890640" y="3208320"/>
            <a:ext cx="7211880" cy="716040"/>
            <a:chOff x="890640" y="3208320"/>
            <a:chExt cx="7211880" cy="716040"/>
          </a:xfrm>
        </p:grpSpPr>
        <p:grpSp>
          <p:nvGrpSpPr>
            <p:cNvPr id="174" name=""/>
            <p:cNvGrpSpPr/>
            <p:nvPr/>
          </p:nvGrpSpPr>
          <p:grpSpPr>
            <a:xfrm>
              <a:off x="890640" y="3208320"/>
              <a:ext cx="7210080" cy="714240"/>
              <a:chOff x="890640" y="3208320"/>
              <a:chExt cx="7210080" cy="714240"/>
            </a:xfrm>
          </p:grpSpPr>
          <p:sp>
            <p:nvSpPr>
              <p:cNvPr id="175" name=""/>
              <p:cNvSpPr/>
              <p:nvPr/>
            </p:nvSpPr>
            <p:spPr>
              <a:xfrm>
                <a:off x="890640" y="3208320"/>
                <a:ext cx="74160" cy="714240"/>
              </a:xfrm>
              <a:prstGeom prst="rect">
                <a:avLst/>
              </a:prstGeom>
              <a:solidFill>
                <a:srgbClr val="b2b1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964800" y="3208320"/>
                <a:ext cx="75960" cy="714240"/>
              </a:xfrm>
              <a:prstGeom prst="rect">
                <a:avLst/>
              </a:prstGeom>
              <a:solidFill>
                <a:srgbClr val="b2b1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040760" y="3208320"/>
                <a:ext cx="74160" cy="714240"/>
              </a:xfrm>
              <a:prstGeom prst="rect">
                <a:avLst/>
              </a:prstGeom>
              <a:solidFill>
                <a:srgbClr val="b3b1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115280" y="3208320"/>
                <a:ext cx="75960" cy="714240"/>
              </a:xfrm>
              <a:prstGeom prst="rect">
                <a:avLst/>
              </a:prstGeom>
              <a:solidFill>
                <a:srgbClr val="b3b1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191240" y="3208320"/>
                <a:ext cx="74160" cy="714240"/>
              </a:xfrm>
              <a:prstGeom prst="rect">
                <a:avLst/>
              </a:prstGeom>
              <a:solidFill>
                <a:srgbClr val="b4b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265400" y="3208320"/>
                <a:ext cx="74880" cy="714240"/>
              </a:xfrm>
              <a:prstGeom prst="rect">
                <a:avLst/>
              </a:prstGeom>
              <a:solidFill>
                <a:srgbClr val="b5b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340640" y="3208320"/>
                <a:ext cx="74880" cy="714240"/>
              </a:xfrm>
              <a:prstGeom prst="rect">
                <a:avLst/>
              </a:prstGeom>
              <a:solidFill>
                <a:srgbClr val="b6b0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15880" y="3208320"/>
                <a:ext cx="75240" cy="714240"/>
              </a:xfrm>
              <a:prstGeom prst="rect">
                <a:avLst/>
              </a:prstGeom>
              <a:solidFill>
                <a:srgbClr val="b7b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91120" y="3208320"/>
                <a:ext cx="73800" cy="714240"/>
              </a:xfrm>
              <a:prstGeom prst="rect">
                <a:avLst/>
              </a:prstGeom>
              <a:solidFill>
                <a:srgbClr val="b9b0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565280" y="3208320"/>
                <a:ext cx="75960" cy="714240"/>
              </a:xfrm>
              <a:prstGeom prst="rect">
                <a:avLst/>
              </a:prstGeom>
              <a:solidFill>
                <a:srgbClr val="baaf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641240" y="3208320"/>
                <a:ext cx="74160" cy="714240"/>
              </a:xfrm>
              <a:prstGeom prst="rect">
                <a:avLst/>
              </a:prstGeom>
              <a:solidFill>
                <a:srgbClr val="bc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715760" y="3208320"/>
                <a:ext cx="75960" cy="714240"/>
              </a:xfrm>
              <a:prstGeom prst="rect">
                <a:avLst/>
              </a:prstGeom>
              <a:solidFill>
                <a:srgbClr val="bda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791720" y="3208320"/>
                <a:ext cx="74160" cy="714240"/>
              </a:xfrm>
              <a:prstGeom prst="rect">
                <a:avLst/>
              </a:prstGeom>
              <a:solidFill>
                <a:srgbClr val="bfa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865880" y="3208320"/>
                <a:ext cx="75960" cy="714240"/>
              </a:xfrm>
              <a:prstGeom prst="rect">
                <a:avLst/>
              </a:prstGeom>
              <a:solidFill>
                <a:srgbClr val="c1ad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942200" y="3208320"/>
                <a:ext cx="73800" cy="714240"/>
              </a:xfrm>
              <a:prstGeom prst="rect">
                <a:avLst/>
              </a:prstGeom>
              <a:solidFill>
                <a:srgbClr val="c3ad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016360" y="3208320"/>
                <a:ext cx="75960" cy="714240"/>
              </a:xfrm>
              <a:prstGeom prst="rect">
                <a:avLst/>
              </a:prstGeom>
              <a:solidFill>
                <a:srgbClr val="c5ac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092320" y="3208320"/>
                <a:ext cx="74160" cy="714240"/>
              </a:xfrm>
              <a:prstGeom prst="rect">
                <a:avLst/>
              </a:prstGeom>
              <a:solidFill>
                <a:srgbClr val="c8ac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166840" y="3208320"/>
                <a:ext cx="75960" cy="714240"/>
              </a:xfrm>
              <a:prstGeom prst="rect">
                <a:avLst/>
              </a:prstGeom>
              <a:solidFill>
                <a:srgbClr val="caa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242800" y="3208320"/>
                <a:ext cx="74160" cy="714240"/>
              </a:xfrm>
              <a:prstGeom prst="rect">
                <a:avLst/>
              </a:prstGeom>
              <a:solidFill>
                <a:srgbClr val="cdaa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316960" y="3208320"/>
                <a:ext cx="75960" cy="714240"/>
              </a:xfrm>
              <a:prstGeom prst="rect">
                <a:avLst/>
              </a:prstGeom>
              <a:solidFill>
                <a:srgbClr val="cfa9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393280" y="3208320"/>
                <a:ext cx="74160" cy="714240"/>
              </a:xfrm>
              <a:prstGeom prst="rect">
                <a:avLst/>
              </a:prstGeom>
              <a:solidFill>
                <a:srgbClr val="d2a8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467440" y="3208320"/>
                <a:ext cx="74880" cy="714240"/>
              </a:xfrm>
              <a:prstGeom prst="rect">
                <a:avLst/>
              </a:prstGeom>
              <a:solidFill>
                <a:srgbClr val="d5a8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542680" y="3208320"/>
                <a:ext cx="74880" cy="714240"/>
              </a:xfrm>
              <a:prstGeom prst="rect">
                <a:avLst/>
              </a:prstGeom>
              <a:solidFill>
                <a:srgbClr val="d7a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617560" y="3208320"/>
                <a:ext cx="74880" cy="714240"/>
              </a:xfrm>
              <a:prstGeom prst="rect">
                <a:avLst/>
              </a:prstGeom>
              <a:solidFill>
                <a:srgbClr val="daa6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692800" y="3208320"/>
                <a:ext cx="74160" cy="714240"/>
              </a:xfrm>
              <a:prstGeom prst="rect">
                <a:avLst/>
              </a:prstGeom>
              <a:solidFill>
                <a:srgbClr val="dda5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766960" y="3208320"/>
                <a:ext cx="75960" cy="714240"/>
              </a:xfrm>
              <a:prstGeom prst="rect">
                <a:avLst/>
              </a:prstGeom>
              <a:solidFill>
                <a:srgbClr val="dfa4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843280" y="3208320"/>
                <a:ext cx="73800" cy="714240"/>
              </a:xfrm>
              <a:prstGeom prst="rect">
                <a:avLst/>
              </a:prstGeom>
              <a:solidFill>
                <a:srgbClr val="e2a3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917440" y="3208320"/>
                <a:ext cx="75960" cy="714240"/>
              </a:xfrm>
              <a:prstGeom prst="rect">
                <a:avLst/>
              </a:prstGeom>
              <a:solidFill>
                <a:srgbClr val="e4a2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993400" y="3208320"/>
                <a:ext cx="74160" cy="714240"/>
              </a:xfrm>
              <a:prstGeom prst="rect">
                <a:avLst/>
              </a:prstGeom>
              <a:solidFill>
                <a:srgbClr val="e7a2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067920" y="3208320"/>
                <a:ext cx="75960" cy="714240"/>
              </a:xfrm>
              <a:prstGeom prst="rect">
                <a:avLst/>
              </a:prstGeom>
              <a:solidFill>
                <a:srgbClr val="e9a1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143880" y="3208320"/>
                <a:ext cx="74160" cy="714240"/>
              </a:xfrm>
              <a:prstGeom prst="rect">
                <a:avLst/>
              </a:prstGeom>
              <a:solidFill>
                <a:srgbClr val="eba0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218040" y="3208320"/>
                <a:ext cx="75960" cy="714240"/>
              </a:xfrm>
              <a:prstGeom prst="rect">
                <a:avLst/>
              </a:prstGeom>
              <a:solidFill>
                <a:srgbClr val="ed9f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294360" y="3208320"/>
                <a:ext cx="73800" cy="714240"/>
              </a:xfrm>
              <a:prstGeom prst="rect">
                <a:avLst/>
              </a:prstGeom>
              <a:solidFill>
                <a:srgbClr val="ef9e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368520" y="3208320"/>
                <a:ext cx="75960" cy="714240"/>
              </a:xfrm>
              <a:prstGeom prst="rect">
                <a:avLst/>
              </a:prstGeom>
              <a:solidFill>
                <a:srgbClr val="f19e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444480" y="3208320"/>
                <a:ext cx="74160" cy="714240"/>
              </a:xfrm>
              <a:prstGeom prst="rect">
                <a:avLst/>
              </a:prstGeom>
              <a:solidFill>
                <a:srgbClr val="f39d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519000" y="3208320"/>
                <a:ext cx="74880" cy="714240"/>
              </a:xfrm>
              <a:prstGeom prst="rect">
                <a:avLst/>
              </a:prstGeom>
              <a:solidFill>
                <a:srgbClr val="f49d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593880" y="3208320"/>
                <a:ext cx="74880" cy="714240"/>
              </a:xfrm>
              <a:prstGeom prst="rect">
                <a:avLst/>
              </a:prstGeom>
              <a:solidFill>
                <a:srgbClr val="f69c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669120" y="3208320"/>
                <a:ext cx="74880" cy="714240"/>
              </a:xfrm>
              <a:prstGeom prst="rect">
                <a:avLst/>
              </a:prstGeom>
              <a:solidFill>
                <a:srgbClr val="f79c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744360" y="3208320"/>
                <a:ext cx="74160" cy="714240"/>
              </a:xfrm>
              <a:prstGeom prst="rect">
                <a:avLst/>
              </a:prstGeom>
              <a:solidFill>
                <a:srgbClr val="f89b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18520" y="3208320"/>
                <a:ext cx="75960" cy="714240"/>
              </a:xfrm>
              <a:prstGeom prst="rect">
                <a:avLst/>
              </a:prstGeom>
              <a:solidFill>
                <a:srgbClr val="f99b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894840" y="3208320"/>
                <a:ext cx="74160" cy="714240"/>
              </a:xfrm>
              <a:prstGeom prst="rect">
                <a:avLst/>
              </a:prstGeom>
              <a:solidFill>
                <a:srgbClr val="fa9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969000" y="3208320"/>
                <a:ext cx="75960" cy="714240"/>
              </a:xfrm>
              <a:prstGeom prst="rect">
                <a:avLst/>
              </a:prstGeom>
              <a:solidFill>
                <a:srgbClr val="fb9a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044960" y="3208320"/>
                <a:ext cx="74160" cy="714240"/>
              </a:xfrm>
              <a:prstGeom prst="rect">
                <a:avLst/>
              </a:prstGeom>
              <a:solidFill>
                <a:srgbClr val="fc9a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119120" y="3208320"/>
                <a:ext cx="75960" cy="714240"/>
              </a:xfrm>
              <a:prstGeom prst="rect">
                <a:avLst/>
              </a:prstGeom>
              <a:solidFill>
                <a:srgbClr val="fc99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195080" y="3208320"/>
                <a:ext cx="74160" cy="714240"/>
              </a:xfrm>
              <a:prstGeom prst="rect">
                <a:avLst/>
              </a:prstGeom>
              <a:solidFill>
                <a:srgbClr val="fd99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269600" y="3208320"/>
                <a:ext cx="75960" cy="714240"/>
              </a:xfrm>
              <a:prstGeom prst="rect">
                <a:avLst/>
              </a:prstGeom>
              <a:solidFill>
                <a:srgbClr val="fe99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345560" y="3208320"/>
                <a:ext cx="74160" cy="714240"/>
              </a:xfrm>
              <a:prstGeom prst="rect">
                <a:avLst/>
              </a:prstGeom>
              <a:solidFill>
                <a:srgbClr val="fe99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420080" y="3208320"/>
                <a:ext cx="75960" cy="714240"/>
              </a:xfrm>
              <a:prstGeom prst="rect">
                <a:avLst/>
              </a:prstGeom>
              <a:solidFill>
                <a:srgbClr val="fe99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496040" y="3208320"/>
                <a:ext cx="74160" cy="714240"/>
              </a:xfrm>
              <a:prstGeom prst="rect">
                <a:avLst/>
              </a:prstGeom>
              <a:solidFill>
                <a:srgbClr val="fe99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570200" y="3208320"/>
                <a:ext cx="74880" cy="714240"/>
              </a:xfrm>
              <a:prstGeom prst="rect">
                <a:avLst/>
              </a:prstGeom>
              <a:solidFill>
                <a:srgbClr val="fe99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645440" y="3208320"/>
                <a:ext cx="74880" cy="714240"/>
              </a:xfrm>
              <a:prstGeom prst="rect">
                <a:avLst/>
              </a:prstGeom>
              <a:solidFill>
                <a:srgbClr val="fe99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720680" y="3208320"/>
                <a:ext cx="75240" cy="714240"/>
              </a:xfrm>
              <a:prstGeom prst="rect">
                <a:avLst/>
              </a:prstGeom>
              <a:solidFill>
                <a:srgbClr val="fd99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795920" y="3208320"/>
                <a:ext cx="73800" cy="714240"/>
              </a:xfrm>
              <a:prstGeom prst="rect">
                <a:avLst/>
              </a:prstGeom>
              <a:solidFill>
                <a:srgbClr val="fd99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870080" y="3208320"/>
                <a:ext cx="75960" cy="714240"/>
              </a:xfrm>
              <a:prstGeom prst="rect">
                <a:avLst/>
              </a:prstGeom>
              <a:solidFill>
                <a:srgbClr val="fc9a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946040" y="3208320"/>
                <a:ext cx="74160" cy="714240"/>
              </a:xfrm>
              <a:prstGeom prst="rect">
                <a:avLst/>
              </a:prstGeom>
              <a:solidFill>
                <a:srgbClr val="fb9a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020560" y="3208320"/>
                <a:ext cx="75960" cy="714240"/>
              </a:xfrm>
              <a:prstGeom prst="rect">
                <a:avLst/>
              </a:prstGeom>
              <a:solidFill>
                <a:srgbClr val="fa9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096520" y="3208320"/>
                <a:ext cx="74160" cy="714240"/>
              </a:xfrm>
              <a:prstGeom prst="rect">
                <a:avLst/>
              </a:prstGeom>
              <a:solidFill>
                <a:srgbClr val="f99b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170680" y="3208320"/>
                <a:ext cx="75960" cy="714240"/>
              </a:xfrm>
              <a:prstGeom prst="rect">
                <a:avLst/>
              </a:prstGeom>
              <a:solidFill>
                <a:srgbClr val="f89b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247000" y="3208320"/>
                <a:ext cx="73800" cy="714240"/>
              </a:xfrm>
              <a:prstGeom prst="rect">
                <a:avLst/>
              </a:prstGeom>
              <a:solidFill>
                <a:srgbClr val="f79b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321160" y="3208320"/>
                <a:ext cx="75960" cy="714240"/>
              </a:xfrm>
              <a:prstGeom prst="rect">
                <a:avLst/>
              </a:prstGeom>
              <a:solidFill>
                <a:srgbClr val="f69c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397120" y="3208320"/>
                <a:ext cx="74160" cy="714240"/>
              </a:xfrm>
              <a:prstGeom prst="rect">
                <a:avLst/>
              </a:prstGeom>
              <a:solidFill>
                <a:srgbClr val="f49d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471640" y="3208320"/>
                <a:ext cx="75960" cy="714240"/>
              </a:xfrm>
              <a:prstGeom prst="rect">
                <a:avLst/>
              </a:prstGeom>
              <a:solidFill>
                <a:srgbClr val="f39d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547600" y="3208320"/>
                <a:ext cx="74160" cy="714240"/>
              </a:xfrm>
              <a:prstGeom prst="rect">
                <a:avLst/>
              </a:prstGeom>
              <a:solidFill>
                <a:srgbClr val="f19e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621760" y="3208320"/>
                <a:ext cx="75960" cy="714240"/>
              </a:xfrm>
              <a:prstGeom prst="rect">
                <a:avLst/>
              </a:prstGeom>
              <a:solidFill>
                <a:srgbClr val="ef9e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698080" y="3208320"/>
                <a:ext cx="74160" cy="714240"/>
              </a:xfrm>
              <a:prstGeom prst="rect">
                <a:avLst/>
              </a:prstGeom>
              <a:solidFill>
                <a:srgbClr val="ee9f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772240" y="3208320"/>
                <a:ext cx="74880" cy="714240"/>
              </a:xfrm>
              <a:prstGeom prst="rect">
                <a:avLst/>
              </a:prstGeom>
              <a:solidFill>
                <a:srgbClr val="eba0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847480" y="3208320"/>
                <a:ext cx="74880" cy="714240"/>
              </a:xfrm>
              <a:prstGeom prst="rect">
                <a:avLst/>
              </a:prstGeom>
              <a:solidFill>
                <a:srgbClr val="e9a1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922360" y="3208320"/>
                <a:ext cx="74880" cy="714240"/>
              </a:xfrm>
              <a:prstGeom prst="rect">
                <a:avLst/>
              </a:prstGeom>
              <a:solidFill>
                <a:srgbClr val="e7a2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997600" y="3208320"/>
                <a:ext cx="74160" cy="714240"/>
              </a:xfrm>
              <a:prstGeom prst="rect">
                <a:avLst/>
              </a:prstGeom>
              <a:solidFill>
                <a:srgbClr val="e4a2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071760" y="3208320"/>
                <a:ext cx="75960" cy="714240"/>
              </a:xfrm>
              <a:prstGeom prst="rect">
                <a:avLst/>
              </a:prstGeom>
              <a:solidFill>
                <a:srgbClr val="e2a3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148080" y="3208320"/>
                <a:ext cx="73800" cy="714240"/>
              </a:xfrm>
              <a:prstGeom prst="rect">
                <a:avLst/>
              </a:prstGeom>
              <a:solidFill>
                <a:srgbClr val="e0a4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222240" y="3208320"/>
                <a:ext cx="75960" cy="714240"/>
              </a:xfrm>
              <a:prstGeom prst="rect">
                <a:avLst/>
              </a:prstGeom>
              <a:solidFill>
                <a:srgbClr val="dda5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298200" y="3208320"/>
                <a:ext cx="74160" cy="714240"/>
              </a:xfrm>
              <a:prstGeom prst="rect">
                <a:avLst/>
              </a:prstGeom>
              <a:solidFill>
                <a:srgbClr val="daa6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372720" y="3208320"/>
                <a:ext cx="75960" cy="714240"/>
              </a:xfrm>
              <a:prstGeom prst="rect">
                <a:avLst/>
              </a:prstGeom>
              <a:solidFill>
                <a:srgbClr val="d8a7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448680" y="3208320"/>
                <a:ext cx="74160" cy="714240"/>
              </a:xfrm>
              <a:prstGeom prst="rect">
                <a:avLst/>
              </a:prstGeom>
              <a:solidFill>
                <a:srgbClr val="d5a8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522840" y="3208320"/>
                <a:ext cx="75960" cy="714240"/>
              </a:xfrm>
              <a:prstGeom prst="rect">
                <a:avLst/>
              </a:prstGeom>
              <a:solidFill>
                <a:srgbClr val="d2a8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599160" y="3208320"/>
                <a:ext cx="73800" cy="714240"/>
              </a:xfrm>
              <a:prstGeom prst="rect">
                <a:avLst/>
              </a:prstGeom>
              <a:solidFill>
                <a:srgbClr val="d0a9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673320" y="3208320"/>
                <a:ext cx="75960" cy="714240"/>
              </a:xfrm>
              <a:prstGeom prst="rect">
                <a:avLst/>
              </a:prstGeom>
              <a:solidFill>
                <a:srgbClr val="cdaa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749280" y="3208320"/>
                <a:ext cx="74160" cy="714240"/>
              </a:xfrm>
              <a:prstGeom prst="rect">
                <a:avLst/>
              </a:prstGeom>
              <a:solidFill>
                <a:srgbClr val="caab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823800" y="3208320"/>
                <a:ext cx="74880" cy="714240"/>
              </a:xfrm>
              <a:prstGeom prst="rect">
                <a:avLst/>
              </a:prstGeom>
              <a:solidFill>
                <a:srgbClr val="c8ab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898680" y="3208320"/>
                <a:ext cx="74880" cy="714240"/>
              </a:xfrm>
              <a:prstGeom prst="rect">
                <a:avLst/>
              </a:prstGeom>
              <a:solidFill>
                <a:srgbClr val="c5ac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973920" y="3208320"/>
                <a:ext cx="74880" cy="714240"/>
              </a:xfrm>
              <a:prstGeom prst="rect">
                <a:avLst/>
              </a:prstGeom>
              <a:solidFill>
                <a:srgbClr val="c3ad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49160" y="3208320"/>
                <a:ext cx="74160" cy="714240"/>
              </a:xfrm>
              <a:prstGeom prst="rect">
                <a:avLst/>
              </a:prstGeom>
              <a:solidFill>
                <a:srgbClr val="c1ad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123320" y="3208320"/>
                <a:ext cx="75960" cy="714240"/>
              </a:xfrm>
              <a:prstGeom prst="rect">
                <a:avLst/>
              </a:prstGeom>
              <a:solidFill>
                <a:srgbClr val="bfa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199640" y="3208320"/>
                <a:ext cx="74160" cy="714240"/>
              </a:xfrm>
              <a:prstGeom prst="rect">
                <a:avLst/>
              </a:prstGeom>
              <a:solidFill>
                <a:srgbClr val="bda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273800" y="3208320"/>
                <a:ext cx="75960" cy="714240"/>
              </a:xfrm>
              <a:prstGeom prst="rect">
                <a:avLst/>
              </a:prstGeom>
              <a:solidFill>
                <a:srgbClr val="bc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349760" y="3208320"/>
                <a:ext cx="74160" cy="714240"/>
              </a:xfrm>
              <a:prstGeom prst="rect">
                <a:avLst/>
              </a:prstGeom>
              <a:solidFill>
                <a:srgbClr val="baaf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423920" y="3208320"/>
                <a:ext cx="75960" cy="714240"/>
              </a:xfrm>
              <a:prstGeom prst="rect">
                <a:avLst/>
              </a:prstGeom>
              <a:solidFill>
                <a:srgbClr val="b9b0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500240" y="3208320"/>
                <a:ext cx="73800" cy="714240"/>
              </a:xfrm>
              <a:prstGeom prst="rect">
                <a:avLst/>
              </a:prstGeom>
              <a:solidFill>
                <a:srgbClr val="b8b0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74400" y="3208320"/>
                <a:ext cx="75960" cy="714240"/>
              </a:xfrm>
              <a:prstGeom prst="rect">
                <a:avLst/>
              </a:prstGeom>
              <a:solidFill>
                <a:srgbClr val="b6b0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50360" y="3208320"/>
                <a:ext cx="74160" cy="714240"/>
              </a:xfrm>
              <a:prstGeom prst="rect">
                <a:avLst/>
              </a:prstGeom>
              <a:solidFill>
                <a:srgbClr val="b5b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724880" y="3208320"/>
                <a:ext cx="75960" cy="714240"/>
              </a:xfrm>
              <a:prstGeom prst="rect">
                <a:avLst/>
              </a:prstGeom>
              <a:solidFill>
                <a:srgbClr val="b4b1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800840" y="3208320"/>
                <a:ext cx="74160" cy="714240"/>
              </a:xfrm>
              <a:prstGeom prst="rect">
                <a:avLst/>
              </a:prstGeom>
              <a:solidFill>
                <a:srgbClr val="b3b1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875000" y="3208320"/>
                <a:ext cx="75960" cy="714240"/>
              </a:xfrm>
              <a:prstGeom prst="rect">
                <a:avLst/>
              </a:prstGeom>
              <a:solidFill>
                <a:srgbClr val="b3b1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951320" y="3208320"/>
                <a:ext cx="73800" cy="714240"/>
              </a:xfrm>
              <a:prstGeom prst="rect">
                <a:avLst/>
              </a:prstGeom>
              <a:solidFill>
                <a:srgbClr val="b2b1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8025480" y="3208320"/>
                <a:ext cx="75240" cy="714240"/>
              </a:xfrm>
              <a:prstGeom prst="rect">
                <a:avLst/>
              </a:prstGeom>
              <a:solidFill>
                <a:srgbClr val="b2b1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890640" y="3208320"/>
              <a:ext cx="7211880" cy="7160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1247760" y="5064120"/>
            <a:ext cx="1428840" cy="930240"/>
          </a:xfrm>
          <a:prstGeom prst="rect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508040" y="5205240"/>
            <a:ext cx="80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t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452240" y="5546880"/>
            <a:ext cx="904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343240" y="4635360"/>
            <a:ext cx="93600" cy="428760"/>
            <a:chOff x="2343240" y="4635360"/>
            <a:chExt cx="93600" cy="428760"/>
          </a:xfrm>
        </p:grpSpPr>
        <p:sp>
          <p:nvSpPr>
            <p:cNvPr id="276" name=""/>
            <p:cNvSpPr/>
            <p:nvPr/>
          </p:nvSpPr>
          <p:spPr>
            <a:xfrm flipV="1">
              <a:off x="2388600" y="4724280"/>
              <a:ext cx="720" cy="339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43240" y="4635360"/>
              <a:ext cx="93600" cy="9252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100"/>
                  </a:moveTo>
                  <a:lnTo>
                    <a:pt x="49" y="0"/>
                  </a:lnTo>
                  <a:lnTo>
                    <a:pt x="0" y="100"/>
                  </a:lnTo>
                  <a:lnTo>
                    <a:pt x="101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890640" y="4280040"/>
            <a:ext cx="6710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104920" y="4280040"/>
            <a:ext cx="571680" cy="214200"/>
          </a:xfrm>
          <a:prstGeom prst="rect">
            <a:avLst/>
          </a:prstGeom>
          <a:solidFill>
            <a:srgbClr val="00cc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195280" y="4284720"/>
            <a:ext cx="35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R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317760" y="5064120"/>
            <a:ext cx="2357640" cy="930240"/>
          </a:xfrm>
          <a:prstGeom prst="rect">
            <a:avLst/>
          </a:prstGeom>
          <a:solidFill>
            <a:srgbClr val="00cc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985560" y="5205240"/>
            <a:ext cx="1085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o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62160" y="5546880"/>
            <a:ext cx="1137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sol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672240" y="5064120"/>
            <a:ext cx="1359000" cy="930240"/>
          </a:xfrm>
          <a:prstGeom prst="rect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18480" y="5376960"/>
            <a:ext cx="932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tri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2317680" y="3708360"/>
            <a:ext cx="1540080" cy="571680"/>
            <a:chOff x="2317680" y="3708360"/>
            <a:chExt cx="1540080" cy="571680"/>
          </a:xfrm>
        </p:grpSpPr>
        <p:sp>
          <p:nvSpPr>
            <p:cNvPr id="287" name=""/>
            <p:cNvSpPr/>
            <p:nvPr/>
          </p:nvSpPr>
          <p:spPr>
            <a:xfrm>
              <a:off x="2317680" y="3708360"/>
              <a:ext cx="1540080" cy="571680"/>
            </a:xfrm>
            <a:custGeom>
              <a:avLst/>
              <a:gdLst/>
              <a:ahLst/>
              <a:rect l="l" t="t" r="r" b="b"/>
              <a:pathLst>
                <a:path w="1659" h="616">
                  <a:moveTo>
                    <a:pt x="0" y="616"/>
                  </a:moveTo>
                  <a:lnTo>
                    <a:pt x="4" y="553"/>
                  </a:lnTo>
                  <a:lnTo>
                    <a:pt x="13" y="492"/>
                  </a:lnTo>
                  <a:lnTo>
                    <a:pt x="28" y="433"/>
                  </a:lnTo>
                  <a:lnTo>
                    <a:pt x="47" y="377"/>
                  </a:lnTo>
                  <a:lnTo>
                    <a:pt x="72" y="322"/>
                  </a:lnTo>
                  <a:lnTo>
                    <a:pt x="101" y="271"/>
                  </a:lnTo>
                  <a:lnTo>
                    <a:pt x="135" y="225"/>
                  </a:lnTo>
                  <a:lnTo>
                    <a:pt x="173" y="181"/>
                  </a:lnTo>
                  <a:lnTo>
                    <a:pt x="215" y="141"/>
                  </a:lnTo>
                  <a:lnTo>
                    <a:pt x="262" y="106"/>
                  </a:lnTo>
                  <a:lnTo>
                    <a:pt x="310" y="74"/>
                  </a:lnTo>
                  <a:lnTo>
                    <a:pt x="363" y="48"/>
                  </a:lnTo>
                  <a:lnTo>
                    <a:pt x="417" y="27"/>
                  </a:lnTo>
                  <a:lnTo>
                    <a:pt x="473" y="13"/>
                  </a:lnTo>
                  <a:lnTo>
                    <a:pt x="532" y="3"/>
                  </a:lnTo>
                  <a:lnTo>
                    <a:pt x="563" y="2"/>
                  </a:lnTo>
                  <a:lnTo>
                    <a:pt x="593" y="0"/>
                  </a:lnTo>
                  <a:lnTo>
                    <a:pt x="932" y="0"/>
                  </a:lnTo>
                  <a:lnTo>
                    <a:pt x="978" y="2"/>
                  </a:lnTo>
                  <a:lnTo>
                    <a:pt x="1024" y="8"/>
                  </a:lnTo>
                  <a:lnTo>
                    <a:pt x="1069" y="18"/>
                  </a:lnTo>
                  <a:lnTo>
                    <a:pt x="1113" y="31"/>
                  </a:lnTo>
                  <a:lnTo>
                    <a:pt x="1154" y="47"/>
                  </a:lnTo>
                  <a:lnTo>
                    <a:pt x="1196" y="66"/>
                  </a:lnTo>
                  <a:lnTo>
                    <a:pt x="1236" y="88"/>
                  </a:lnTo>
                  <a:lnTo>
                    <a:pt x="1273" y="114"/>
                  </a:lnTo>
                  <a:lnTo>
                    <a:pt x="1308" y="141"/>
                  </a:lnTo>
                  <a:lnTo>
                    <a:pt x="1342" y="173"/>
                  </a:lnTo>
                  <a:lnTo>
                    <a:pt x="1374" y="207"/>
                  </a:lnTo>
                  <a:lnTo>
                    <a:pt x="1403" y="242"/>
                  </a:lnTo>
                  <a:lnTo>
                    <a:pt x="1428" y="282"/>
                  </a:lnTo>
                  <a:lnTo>
                    <a:pt x="1452" y="322"/>
                  </a:lnTo>
                  <a:lnTo>
                    <a:pt x="1472" y="366"/>
                  </a:lnTo>
                  <a:lnTo>
                    <a:pt x="1489" y="410"/>
                  </a:lnTo>
                  <a:lnTo>
                    <a:pt x="1659" y="410"/>
                  </a:lnTo>
                  <a:lnTo>
                    <a:pt x="1355" y="616"/>
                  </a:lnTo>
                  <a:lnTo>
                    <a:pt x="981" y="410"/>
                  </a:lnTo>
                  <a:lnTo>
                    <a:pt x="1151" y="410"/>
                  </a:lnTo>
                  <a:lnTo>
                    <a:pt x="1138" y="377"/>
                  </a:lnTo>
                  <a:lnTo>
                    <a:pt x="1124" y="343"/>
                  </a:lnTo>
                  <a:lnTo>
                    <a:pt x="1108" y="311"/>
                  </a:lnTo>
                  <a:lnTo>
                    <a:pt x="1090" y="281"/>
                  </a:lnTo>
                  <a:lnTo>
                    <a:pt x="1069" y="250"/>
                  </a:lnTo>
                  <a:lnTo>
                    <a:pt x="1048" y="221"/>
                  </a:lnTo>
                  <a:lnTo>
                    <a:pt x="1000" y="170"/>
                  </a:lnTo>
                  <a:lnTo>
                    <a:pt x="975" y="146"/>
                  </a:lnTo>
                  <a:lnTo>
                    <a:pt x="948" y="124"/>
                  </a:lnTo>
                  <a:lnTo>
                    <a:pt x="920" y="103"/>
                  </a:lnTo>
                  <a:lnTo>
                    <a:pt x="890" y="83"/>
                  </a:lnTo>
                  <a:lnTo>
                    <a:pt x="859" y="66"/>
                  </a:lnTo>
                  <a:lnTo>
                    <a:pt x="827" y="51"/>
                  </a:lnTo>
                  <a:lnTo>
                    <a:pt x="795" y="37"/>
                  </a:lnTo>
                  <a:lnTo>
                    <a:pt x="762" y="26"/>
                  </a:lnTo>
                  <a:lnTo>
                    <a:pt x="762" y="26"/>
                  </a:lnTo>
                  <a:lnTo>
                    <a:pt x="715" y="42"/>
                  </a:lnTo>
                  <a:lnTo>
                    <a:pt x="672" y="63"/>
                  </a:lnTo>
                  <a:lnTo>
                    <a:pt x="630" y="87"/>
                  </a:lnTo>
                  <a:lnTo>
                    <a:pt x="590" y="112"/>
                  </a:lnTo>
                  <a:lnTo>
                    <a:pt x="553" y="143"/>
                  </a:lnTo>
                  <a:lnTo>
                    <a:pt x="518" y="175"/>
                  </a:lnTo>
                  <a:lnTo>
                    <a:pt x="486" y="210"/>
                  </a:lnTo>
                  <a:lnTo>
                    <a:pt x="457" y="249"/>
                  </a:lnTo>
                  <a:lnTo>
                    <a:pt x="430" y="289"/>
                  </a:lnTo>
                  <a:lnTo>
                    <a:pt x="406" y="330"/>
                  </a:lnTo>
                  <a:lnTo>
                    <a:pt x="387" y="374"/>
                  </a:lnTo>
                  <a:lnTo>
                    <a:pt x="369" y="420"/>
                  </a:lnTo>
                  <a:lnTo>
                    <a:pt x="356" y="467"/>
                  </a:lnTo>
                  <a:lnTo>
                    <a:pt x="347" y="515"/>
                  </a:lnTo>
                  <a:lnTo>
                    <a:pt x="340" y="564"/>
                  </a:lnTo>
                  <a:lnTo>
                    <a:pt x="339" y="616"/>
                  </a:lnTo>
                  <a:lnTo>
                    <a:pt x="0" y="616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317680" y="3708360"/>
              <a:ext cx="707400" cy="571680"/>
            </a:xfrm>
            <a:custGeom>
              <a:avLst/>
              <a:gdLst/>
              <a:ahLst/>
              <a:rect l="l" t="t" r="r" b="b"/>
              <a:pathLst>
                <a:path w="762" h="616">
                  <a:moveTo>
                    <a:pt x="0" y="616"/>
                  </a:moveTo>
                  <a:lnTo>
                    <a:pt x="4" y="553"/>
                  </a:lnTo>
                  <a:lnTo>
                    <a:pt x="13" y="492"/>
                  </a:lnTo>
                  <a:lnTo>
                    <a:pt x="28" y="433"/>
                  </a:lnTo>
                  <a:lnTo>
                    <a:pt x="47" y="377"/>
                  </a:lnTo>
                  <a:lnTo>
                    <a:pt x="72" y="322"/>
                  </a:lnTo>
                  <a:lnTo>
                    <a:pt x="101" y="271"/>
                  </a:lnTo>
                  <a:lnTo>
                    <a:pt x="135" y="225"/>
                  </a:lnTo>
                  <a:lnTo>
                    <a:pt x="173" y="181"/>
                  </a:lnTo>
                  <a:lnTo>
                    <a:pt x="215" y="141"/>
                  </a:lnTo>
                  <a:lnTo>
                    <a:pt x="262" y="106"/>
                  </a:lnTo>
                  <a:lnTo>
                    <a:pt x="310" y="74"/>
                  </a:lnTo>
                  <a:lnTo>
                    <a:pt x="363" y="48"/>
                  </a:lnTo>
                  <a:lnTo>
                    <a:pt x="417" y="27"/>
                  </a:lnTo>
                  <a:lnTo>
                    <a:pt x="473" y="13"/>
                  </a:lnTo>
                  <a:lnTo>
                    <a:pt x="532" y="3"/>
                  </a:lnTo>
                  <a:lnTo>
                    <a:pt x="563" y="2"/>
                  </a:lnTo>
                  <a:lnTo>
                    <a:pt x="593" y="0"/>
                  </a:lnTo>
                  <a:lnTo>
                    <a:pt x="635" y="2"/>
                  </a:lnTo>
                  <a:lnTo>
                    <a:pt x="678" y="7"/>
                  </a:lnTo>
                  <a:lnTo>
                    <a:pt x="720" y="15"/>
                  </a:lnTo>
                  <a:lnTo>
                    <a:pt x="762" y="26"/>
                  </a:lnTo>
                  <a:lnTo>
                    <a:pt x="762" y="26"/>
                  </a:lnTo>
                  <a:lnTo>
                    <a:pt x="715" y="42"/>
                  </a:lnTo>
                  <a:lnTo>
                    <a:pt x="672" y="63"/>
                  </a:lnTo>
                  <a:lnTo>
                    <a:pt x="630" y="87"/>
                  </a:lnTo>
                  <a:lnTo>
                    <a:pt x="590" y="112"/>
                  </a:lnTo>
                  <a:lnTo>
                    <a:pt x="553" y="143"/>
                  </a:lnTo>
                  <a:lnTo>
                    <a:pt x="518" y="175"/>
                  </a:lnTo>
                  <a:lnTo>
                    <a:pt x="486" y="210"/>
                  </a:lnTo>
                  <a:lnTo>
                    <a:pt x="457" y="249"/>
                  </a:lnTo>
                  <a:lnTo>
                    <a:pt x="430" y="289"/>
                  </a:lnTo>
                  <a:lnTo>
                    <a:pt x="406" y="330"/>
                  </a:lnTo>
                  <a:lnTo>
                    <a:pt x="387" y="374"/>
                  </a:lnTo>
                  <a:lnTo>
                    <a:pt x="369" y="420"/>
                  </a:lnTo>
                  <a:lnTo>
                    <a:pt x="356" y="467"/>
                  </a:lnTo>
                  <a:lnTo>
                    <a:pt x="347" y="515"/>
                  </a:lnTo>
                  <a:lnTo>
                    <a:pt x="340" y="564"/>
                  </a:lnTo>
                  <a:lnTo>
                    <a:pt x="339" y="616"/>
                  </a:lnTo>
                  <a:lnTo>
                    <a:pt x="0" y="616"/>
                  </a:lnTo>
                  <a:close/>
                </a:path>
              </a:pathLst>
            </a:custGeom>
            <a:solidFill>
              <a:srgbClr val="cdc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17680" y="3708360"/>
              <a:ext cx="1540080" cy="571680"/>
            </a:xfrm>
            <a:custGeom>
              <a:avLst/>
              <a:gdLst/>
              <a:ahLst/>
              <a:rect l="l" t="t" r="r" b="b"/>
              <a:pathLst>
                <a:path w="1659" h="616">
                  <a:moveTo>
                    <a:pt x="0" y="616"/>
                  </a:moveTo>
                  <a:lnTo>
                    <a:pt x="4" y="553"/>
                  </a:lnTo>
                  <a:lnTo>
                    <a:pt x="13" y="492"/>
                  </a:lnTo>
                  <a:lnTo>
                    <a:pt x="28" y="433"/>
                  </a:lnTo>
                  <a:lnTo>
                    <a:pt x="47" y="377"/>
                  </a:lnTo>
                  <a:lnTo>
                    <a:pt x="72" y="322"/>
                  </a:lnTo>
                  <a:lnTo>
                    <a:pt x="101" y="271"/>
                  </a:lnTo>
                  <a:lnTo>
                    <a:pt x="135" y="225"/>
                  </a:lnTo>
                  <a:lnTo>
                    <a:pt x="173" y="181"/>
                  </a:lnTo>
                  <a:lnTo>
                    <a:pt x="215" y="141"/>
                  </a:lnTo>
                  <a:lnTo>
                    <a:pt x="262" y="106"/>
                  </a:lnTo>
                  <a:lnTo>
                    <a:pt x="310" y="74"/>
                  </a:lnTo>
                  <a:lnTo>
                    <a:pt x="363" y="48"/>
                  </a:lnTo>
                  <a:lnTo>
                    <a:pt x="417" y="27"/>
                  </a:lnTo>
                  <a:lnTo>
                    <a:pt x="473" y="13"/>
                  </a:lnTo>
                  <a:lnTo>
                    <a:pt x="532" y="3"/>
                  </a:lnTo>
                  <a:lnTo>
                    <a:pt x="563" y="2"/>
                  </a:lnTo>
                  <a:lnTo>
                    <a:pt x="593" y="0"/>
                  </a:lnTo>
                  <a:lnTo>
                    <a:pt x="932" y="0"/>
                  </a:lnTo>
                  <a:lnTo>
                    <a:pt x="978" y="2"/>
                  </a:lnTo>
                  <a:lnTo>
                    <a:pt x="1024" y="8"/>
                  </a:lnTo>
                  <a:lnTo>
                    <a:pt x="1069" y="18"/>
                  </a:lnTo>
                  <a:lnTo>
                    <a:pt x="1113" y="31"/>
                  </a:lnTo>
                  <a:lnTo>
                    <a:pt x="1154" y="47"/>
                  </a:lnTo>
                  <a:lnTo>
                    <a:pt x="1196" y="66"/>
                  </a:lnTo>
                  <a:lnTo>
                    <a:pt x="1236" y="88"/>
                  </a:lnTo>
                  <a:lnTo>
                    <a:pt x="1273" y="114"/>
                  </a:lnTo>
                  <a:lnTo>
                    <a:pt x="1308" y="141"/>
                  </a:lnTo>
                  <a:lnTo>
                    <a:pt x="1342" y="173"/>
                  </a:lnTo>
                  <a:lnTo>
                    <a:pt x="1374" y="207"/>
                  </a:lnTo>
                  <a:lnTo>
                    <a:pt x="1403" y="242"/>
                  </a:lnTo>
                  <a:lnTo>
                    <a:pt x="1428" y="282"/>
                  </a:lnTo>
                  <a:lnTo>
                    <a:pt x="1452" y="322"/>
                  </a:lnTo>
                  <a:lnTo>
                    <a:pt x="1472" y="366"/>
                  </a:lnTo>
                  <a:lnTo>
                    <a:pt x="1489" y="410"/>
                  </a:lnTo>
                  <a:lnTo>
                    <a:pt x="1659" y="410"/>
                  </a:lnTo>
                  <a:lnTo>
                    <a:pt x="1355" y="616"/>
                  </a:lnTo>
                  <a:lnTo>
                    <a:pt x="981" y="410"/>
                  </a:lnTo>
                  <a:lnTo>
                    <a:pt x="1151" y="410"/>
                  </a:lnTo>
                  <a:lnTo>
                    <a:pt x="1138" y="377"/>
                  </a:lnTo>
                  <a:lnTo>
                    <a:pt x="1124" y="343"/>
                  </a:lnTo>
                  <a:lnTo>
                    <a:pt x="1108" y="311"/>
                  </a:lnTo>
                  <a:lnTo>
                    <a:pt x="1090" y="281"/>
                  </a:lnTo>
                  <a:lnTo>
                    <a:pt x="1069" y="250"/>
                  </a:lnTo>
                  <a:lnTo>
                    <a:pt x="1048" y="221"/>
                  </a:lnTo>
                  <a:lnTo>
                    <a:pt x="1000" y="170"/>
                  </a:lnTo>
                  <a:lnTo>
                    <a:pt x="975" y="146"/>
                  </a:lnTo>
                  <a:lnTo>
                    <a:pt x="948" y="124"/>
                  </a:lnTo>
                  <a:lnTo>
                    <a:pt x="920" y="103"/>
                  </a:lnTo>
                  <a:lnTo>
                    <a:pt x="890" y="83"/>
                  </a:lnTo>
                  <a:lnTo>
                    <a:pt x="859" y="66"/>
                  </a:lnTo>
                  <a:lnTo>
                    <a:pt x="827" y="51"/>
                  </a:lnTo>
                  <a:lnTo>
                    <a:pt x="795" y="37"/>
                  </a:lnTo>
                  <a:lnTo>
                    <a:pt x="762" y="26"/>
                  </a:lnTo>
                  <a:lnTo>
                    <a:pt x="762" y="26"/>
                  </a:lnTo>
                  <a:lnTo>
                    <a:pt x="715" y="42"/>
                  </a:lnTo>
                  <a:lnTo>
                    <a:pt x="672" y="63"/>
                  </a:lnTo>
                  <a:lnTo>
                    <a:pt x="630" y="87"/>
                  </a:lnTo>
                  <a:lnTo>
                    <a:pt x="590" y="112"/>
                  </a:lnTo>
                  <a:lnTo>
                    <a:pt x="553" y="143"/>
                  </a:lnTo>
                  <a:lnTo>
                    <a:pt x="518" y="175"/>
                  </a:lnTo>
                  <a:lnTo>
                    <a:pt x="486" y="210"/>
                  </a:lnTo>
                  <a:lnTo>
                    <a:pt x="457" y="249"/>
                  </a:lnTo>
                  <a:lnTo>
                    <a:pt x="430" y="289"/>
                  </a:lnTo>
                  <a:lnTo>
                    <a:pt x="406" y="330"/>
                  </a:lnTo>
                  <a:lnTo>
                    <a:pt x="387" y="374"/>
                  </a:lnTo>
                  <a:lnTo>
                    <a:pt x="369" y="420"/>
                  </a:lnTo>
                  <a:lnTo>
                    <a:pt x="356" y="467"/>
                  </a:lnTo>
                  <a:lnTo>
                    <a:pt x="347" y="515"/>
                  </a:lnTo>
                  <a:lnTo>
                    <a:pt x="340" y="564"/>
                  </a:lnTo>
                  <a:lnTo>
                    <a:pt x="339" y="616"/>
                  </a:lnTo>
                  <a:lnTo>
                    <a:pt x="0" y="616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68120" y="3708360"/>
              <a:ext cx="156600" cy="24120"/>
            </a:xfrm>
            <a:custGeom>
              <a:avLst/>
              <a:gdLst/>
              <a:ahLst/>
              <a:rect l="l" t="t" r="r" b="b"/>
              <a:pathLst>
                <a:path w="169" h="26">
                  <a:moveTo>
                    <a:pt x="0" y="0"/>
                  </a:moveTo>
                  <a:lnTo>
                    <a:pt x="42" y="2"/>
                  </a:lnTo>
                  <a:lnTo>
                    <a:pt x="85" y="7"/>
                  </a:lnTo>
                  <a:lnTo>
                    <a:pt x="127" y="15"/>
                  </a:lnTo>
                  <a:lnTo>
                    <a:pt x="169" y="2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3246480" y="4280040"/>
            <a:ext cx="571320" cy="214200"/>
          </a:xfrm>
          <a:prstGeom prst="rect">
            <a:avLst/>
          </a:prstGeom>
          <a:solidFill>
            <a:srgbClr val="00cc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336840" y="4284720"/>
            <a:ext cx="35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R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3484440" y="4635360"/>
            <a:ext cx="93960" cy="428400"/>
            <a:chOff x="3484440" y="4635360"/>
            <a:chExt cx="93960" cy="428400"/>
          </a:xfrm>
        </p:grpSpPr>
        <p:sp>
          <p:nvSpPr>
            <p:cNvPr id="294" name=""/>
            <p:cNvSpPr/>
            <p:nvPr/>
          </p:nvSpPr>
          <p:spPr>
            <a:xfrm>
              <a:off x="3531960" y="4635360"/>
              <a:ext cx="720" cy="339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84440" y="4971240"/>
              <a:ext cx="93960" cy="9252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0" y="0"/>
                  </a:moveTo>
                  <a:lnTo>
                    <a:pt x="51" y="100"/>
                  </a:lnTo>
                  <a:lnTo>
                    <a:pt x="10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4959360" y="4351320"/>
            <a:ext cx="573120" cy="214200"/>
          </a:xfrm>
          <a:prstGeom prst="rect">
            <a:avLst/>
          </a:prstGeom>
          <a:solidFill>
            <a:srgbClr val="00cc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997520" y="4370400"/>
            <a:ext cx="365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ocato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127480" y="4635360"/>
            <a:ext cx="93960" cy="428760"/>
            <a:chOff x="5127480" y="4635360"/>
            <a:chExt cx="93960" cy="428760"/>
          </a:xfrm>
        </p:grpSpPr>
        <p:sp>
          <p:nvSpPr>
            <p:cNvPr id="299" name=""/>
            <p:cNvSpPr/>
            <p:nvPr/>
          </p:nvSpPr>
          <p:spPr>
            <a:xfrm flipV="1">
              <a:off x="5172840" y="4724280"/>
              <a:ext cx="720" cy="339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27480" y="4635360"/>
              <a:ext cx="93960" cy="9252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101" y="100"/>
                  </a:moveTo>
                  <a:lnTo>
                    <a:pt x="49" y="0"/>
                  </a:lnTo>
                  <a:lnTo>
                    <a:pt x="0" y="100"/>
                  </a:lnTo>
                  <a:lnTo>
                    <a:pt x="101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2960640" y="1494000"/>
            <a:ext cx="1800" cy="4641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923760"/>
            <a:ext cx="250020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2440" y="965160"/>
            <a:ext cx="192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  <a:ea typeface="ＭＳ Ｐゴシック"/>
              </a:rPr>
              <a:t>Content searching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28920" y="1222200"/>
            <a:ext cx="1398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  <a:ea typeface="ＭＳ Ｐゴシック"/>
              </a:rPr>
              <a:t>selection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743880" y="4280040"/>
            <a:ext cx="572760" cy="214200"/>
          </a:xfrm>
          <a:prstGeom prst="rect">
            <a:avLst/>
          </a:prstGeom>
          <a:solidFill>
            <a:srgbClr val="00cc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777000" y="4300560"/>
            <a:ext cx="54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oc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6981840" y="4635360"/>
            <a:ext cx="93600" cy="428400"/>
            <a:chOff x="6981840" y="4635360"/>
            <a:chExt cx="93600" cy="428400"/>
          </a:xfrm>
        </p:grpSpPr>
        <p:sp>
          <p:nvSpPr>
            <p:cNvPr id="308" name=""/>
            <p:cNvSpPr/>
            <p:nvPr/>
          </p:nvSpPr>
          <p:spPr>
            <a:xfrm>
              <a:off x="7030080" y="4635360"/>
              <a:ext cx="720" cy="339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81840" y="4971240"/>
              <a:ext cx="93600" cy="9252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0" y="0"/>
                  </a:moveTo>
                  <a:lnTo>
                    <a:pt x="52" y="100"/>
                  </a:lnTo>
                  <a:lnTo>
                    <a:pt x="10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030640" y="3708360"/>
            <a:ext cx="2378160" cy="571680"/>
            <a:chOff x="5030640" y="3708360"/>
            <a:chExt cx="2378160" cy="571680"/>
          </a:xfrm>
        </p:grpSpPr>
        <p:sp>
          <p:nvSpPr>
            <p:cNvPr id="311" name=""/>
            <p:cNvSpPr/>
            <p:nvPr/>
          </p:nvSpPr>
          <p:spPr>
            <a:xfrm>
              <a:off x="5030640" y="3708360"/>
              <a:ext cx="2378160" cy="571680"/>
            </a:xfrm>
            <a:custGeom>
              <a:avLst/>
              <a:gdLst/>
              <a:ahLst/>
              <a:rect l="l" t="t" r="r" b="b"/>
              <a:pathLst>
                <a:path w="2562" h="616">
                  <a:moveTo>
                    <a:pt x="0" y="616"/>
                  </a:moveTo>
                  <a:lnTo>
                    <a:pt x="1" y="584"/>
                  </a:lnTo>
                  <a:lnTo>
                    <a:pt x="4" y="553"/>
                  </a:lnTo>
                  <a:lnTo>
                    <a:pt x="11" y="523"/>
                  </a:lnTo>
                  <a:lnTo>
                    <a:pt x="19" y="492"/>
                  </a:lnTo>
                  <a:lnTo>
                    <a:pt x="28" y="462"/>
                  </a:lnTo>
                  <a:lnTo>
                    <a:pt x="41" y="433"/>
                  </a:lnTo>
                  <a:lnTo>
                    <a:pt x="56" y="404"/>
                  </a:lnTo>
                  <a:lnTo>
                    <a:pt x="72" y="377"/>
                  </a:lnTo>
                  <a:lnTo>
                    <a:pt x="89" y="350"/>
                  </a:lnTo>
                  <a:lnTo>
                    <a:pt x="110" y="322"/>
                  </a:lnTo>
                  <a:lnTo>
                    <a:pt x="133" y="297"/>
                  </a:lnTo>
                  <a:lnTo>
                    <a:pt x="157" y="271"/>
                  </a:lnTo>
                  <a:lnTo>
                    <a:pt x="182" y="247"/>
                  </a:lnTo>
                  <a:lnTo>
                    <a:pt x="210" y="225"/>
                  </a:lnTo>
                  <a:lnTo>
                    <a:pt x="267" y="181"/>
                  </a:lnTo>
                  <a:lnTo>
                    <a:pt x="333" y="141"/>
                  </a:lnTo>
                  <a:lnTo>
                    <a:pt x="403" y="106"/>
                  </a:lnTo>
                  <a:lnTo>
                    <a:pt x="479" y="74"/>
                  </a:lnTo>
                  <a:lnTo>
                    <a:pt x="559" y="48"/>
                  </a:lnTo>
                  <a:lnTo>
                    <a:pt x="642" y="27"/>
                  </a:lnTo>
                  <a:lnTo>
                    <a:pt x="730" y="13"/>
                  </a:lnTo>
                  <a:lnTo>
                    <a:pt x="822" y="3"/>
                  </a:lnTo>
                  <a:lnTo>
                    <a:pt x="868" y="2"/>
                  </a:lnTo>
                  <a:lnTo>
                    <a:pt x="915" y="0"/>
                  </a:lnTo>
                  <a:lnTo>
                    <a:pt x="1439" y="0"/>
                  </a:lnTo>
                  <a:lnTo>
                    <a:pt x="1511" y="2"/>
                  </a:lnTo>
                  <a:lnTo>
                    <a:pt x="1581" y="8"/>
                  </a:lnTo>
                  <a:lnTo>
                    <a:pt x="1652" y="18"/>
                  </a:lnTo>
                  <a:lnTo>
                    <a:pt x="1719" y="31"/>
                  </a:lnTo>
                  <a:lnTo>
                    <a:pt x="1785" y="47"/>
                  </a:lnTo>
                  <a:lnTo>
                    <a:pt x="1847" y="66"/>
                  </a:lnTo>
                  <a:lnTo>
                    <a:pt x="1908" y="88"/>
                  </a:lnTo>
                  <a:lnTo>
                    <a:pt x="1966" y="114"/>
                  </a:lnTo>
                  <a:lnTo>
                    <a:pt x="2022" y="141"/>
                  </a:lnTo>
                  <a:lnTo>
                    <a:pt x="2073" y="173"/>
                  </a:lnTo>
                  <a:lnTo>
                    <a:pt x="2121" y="207"/>
                  </a:lnTo>
                  <a:lnTo>
                    <a:pt x="2166" y="242"/>
                  </a:lnTo>
                  <a:lnTo>
                    <a:pt x="2206" y="282"/>
                  </a:lnTo>
                  <a:lnTo>
                    <a:pt x="2243" y="322"/>
                  </a:lnTo>
                  <a:lnTo>
                    <a:pt x="2274" y="366"/>
                  </a:lnTo>
                  <a:lnTo>
                    <a:pt x="2301" y="410"/>
                  </a:lnTo>
                  <a:lnTo>
                    <a:pt x="2562" y="410"/>
                  </a:lnTo>
                  <a:lnTo>
                    <a:pt x="2093" y="616"/>
                  </a:lnTo>
                  <a:lnTo>
                    <a:pt x="1516" y="410"/>
                  </a:lnTo>
                  <a:lnTo>
                    <a:pt x="1779" y="410"/>
                  </a:lnTo>
                  <a:lnTo>
                    <a:pt x="1759" y="377"/>
                  </a:lnTo>
                  <a:lnTo>
                    <a:pt x="1737" y="343"/>
                  </a:lnTo>
                  <a:lnTo>
                    <a:pt x="1711" y="311"/>
                  </a:lnTo>
                  <a:lnTo>
                    <a:pt x="1682" y="281"/>
                  </a:lnTo>
                  <a:lnTo>
                    <a:pt x="1652" y="250"/>
                  </a:lnTo>
                  <a:lnTo>
                    <a:pt x="1618" y="221"/>
                  </a:lnTo>
                  <a:lnTo>
                    <a:pt x="1583" y="196"/>
                  </a:lnTo>
                  <a:lnTo>
                    <a:pt x="1546" y="170"/>
                  </a:lnTo>
                  <a:lnTo>
                    <a:pt x="1506" y="146"/>
                  </a:lnTo>
                  <a:lnTo>
                    <a:pt x="1464" y="124"/>
                  </a:lnTo>
                  <a:lnTo>
                    <a:pt x="1420" y="103"/>
                  </a:lnTo>
                  <a:lnTo>
                    <a:pt x="1375" y="83"/>
                  </a:lnTo>
                  <a:lnTo>
                    <a:pt x="1327" y="66"/>
                  </a:lnTo>
                  <a:lnTo>
                    <a:pt x="1278" y="51"/>
                  </a:lnTo>
                  <a:lnTo>
                    <a:pt x="1227" y="37"/>
                  </a:lnTo>
                  <a:lnTo>
                    <a:pt x="1176" y="26"/>
                  </a:lnTo>
                  <a:lnTo>
                    <a:pt x="1176" y="26"/>
                  </a:lnTo>
                  <a:lnTo>
                    <a:pt x="1105" y="42"/>
                  </a:lnTo>
                  <a:lnTo>
                    <a:pt x="1036" y="63"/>
                  </a:lnTo>
                  <a:lnTo>
                    <a:pt x="972" y="87"/>
                  </a:lnTo>
                  <a:lnTo>
                    <a:pt x="910" y="112"/>
                  </a:lnTo>
                  <a:lnTo>
                    <a:pt x="852" y="143"/>
                  </a:lnTo>
                  <a:lnTo>
                    <a:pt x="799" y="175"/>
                  </a:lnTo>
                  <a:lnTo>
                    <a:pt x="750" y="210"/>
                  </a:lnTo>
                  <a:lnTo>
                    <a:pt x="703" y="249"/>
                  </a:lnTo>
                  <a:lnTo>
                    <a:pt x="663" y="289"/>
                  </a:lnTo>
                  <a:lnTo>
                    <a:pt x="626" y="330"/>
                  </a:lnTo>
                  <a:lnTo>
                    <a:pt x="596" y="374"/>
                  </a:lnTo>
                  <a:lnTo>
                    <a:pt x="570" y="420"/>
                  </a:lnTo>
                  <a:lnTo>
                    <a:pt x="549" y="467"/>
                  </a:lnTo>
                  <a:lnTo>
                    <a:pt x="535" y="515"/>
                  </a:lnTo>
                  <a:lnTo>
                    <a:pt x="525" y="564"/>
                  </a:lnTo>
                  <a:lnTo>
                    <a:pt x="522" y="616"/>
                  </a:lnTo>
                  <a:lnTo>
                    <a:pt x="0" y="616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030640" y="3708360"/>
              <a:ext cx="1091520" cy="571680"/>
            </a:xfrm>
            <a:custGeom>
              <a:avLst/>
              <a:gdLst/>
              <a:ahLst/>
              <a:rect l="l" t="t" r="r" b="b"/>
              <a:pathLst>
                <a:path w="1176" h="616">
                  <a:moveTo>
                    <a:pt x="0" y="616"/>
                  </a:moveTo>
                  <a:lnTo>
                    <a:pt x="1" y="584"/>
                  </a:lnTo>
                  <a:lnTo>
                    <a:pt x="4" y="553"/>
                  </a:lnTo>
                  <a:lnTo>
                    <a:pt x="11" y="523"/>
                  </a:lnTo>
                  <a:lnTo>
                    <a:pt x="19" y="492"/>
                  </a:lnTo>
                  <a:lnTo>
                    <a:pt x="28" y="462"/>
                  </a:lnTo>
                  <a:lnTo>
                    <a:pt x="41" y="433"/>
                  </a:lnTo>
                  <a:lnTo>
                    <a:pt x="56" y="404"/>
                  </a:lnTo>
                  <a:lnTo>
                    <a:pt x="72" y="377"/>
                  </a:lnTo>
                  <a:lnTo>
                    <a:pt x="89" y="350"/>
                  </a:lnTo>
                  <a:lnTo>
                    <a:pt x="110" y="322"/>
                  </a:lnTo>
                  <a:lnTo>
                    <a:pt x="133" y="297"/>
                  </a:lnTo>
                  <a:lnTo>
                    <a:pt x="157" y="271"/>
                  </a:lnTo>
                  <a:lnTo>
                    <a:pt x="182" y="247"/>
                  </a:lnTo>
                  <a:lnTo>
                    <a:pt x="210" y="225"/>
                  </a:lnTo>
                  <a:lnTo>
                    <a:pt x="267" y="181"/>
                  </a:lnTo>
                  <a:lnTo>
                    <a:pt x="333" y="141"/>
                  </a:lnTo>
                  <a:lnTo>
                    <a:pt x="403" y="106"/>
                  </a:lnTo>
                  <a:lnTo>
                    <a:pt x="479" y="74"/>
                  </a:lnTo>
                  <a:lnTo>
                    <a:pt x="559" y="48"/>
                  </a:lnTo>
                  <a:lnTo>
                    <a:pt x="642" y="27"/>
                  </a:lnTo>
                  <a:lnTo>
                    <a:pt x="730" y="13"/>
                  </a:lnTo>
                  <a:lnTo>
                    <a:pt x="822" y="3"/>
                  </a:lnTo>
                  <a:lnTo>
                    <a:pt x="868" y="2"/>
                  </a:lnTo>
                  <a:lnTo>
                    <a:pt x="915" y="0"/>
                  </a:lnTo>
                  <a:lnTo>
                    <a:pt x="980" y="2"/>
                  </a:lnTo>
                  <a:lnTo>
                    <a:pt x="1046" y="7"/>
                  </a:lnTo>
                  <a:lnTo>
                    <a:pt x="1112" y="15"/>
                  </a:lnTo>
                  <a:lnTo>
                    <a:pt x="1176" y="26"/>
                  </a:lnTo>
                  <a:lnTo>
                    <a:pt x="1176" y="26"/>
                  </a:lnTo>
                  <a:lnTo>
                    <a:pt x="1105" y="42"/>
                  </a:lnTo>
                  <a:lnTo>
                    <a:pt x="1036" y="63"/>
                  </a:lnTo>
                  <a:lnTo>
                    <a:pt x="972" y="87"/>
                  </a:lnTo>
                  <a:lnTo>
                    <a:pt x="910" y="112"/>
                  </a:lnTo>
                  <a:lnTo>
                    <a:pt x="852" y="143"/>
                  </a:lnTo>
                  <a:lnTo>
                    <a:pt x="799" y="175"/>
                  </a:lnTo>
                  <a:lnTo>
                    <a:pt x="750" y="210"/>
                  </a:lnTo>
                  <a:lnTo>
                    <a:pt x="703" y="249"/>
                  </a:lnTo>
                  <a:lnTo>
                    <a:pt x="663" y="289"/>
                  </a:lnTo>
                  <a:lnTo>
                    <a:pt x="626" y="330"/>
                  </a:lnTo>
                  <a:lnTo>
                    <a:pt x="596" y="374"/>
                  </a:lnTo>
                  <a:lnTo>
                    <a:pt x="570" y="420"/>
                  </a:lnTo>
                  <a:lnTo>
                    <a:pt x="549" y="467"/>
                  </a:lnTo>
                  <a:lnTo>
                    <a:pt x="535" y="515"/>
                  </a:lnTo>
                  <a:lnTo>
                    <a:pt x="525" y="564"/>
                  </a:lnTo>
                  <a:lnTo>
                    <a:pt x="522" y="616"/>
                  </a:lnTo>
                  <a:lnTo>
                    <a:pt x="0" y="616"/>
                  </a:lnTo>
                  <a:close/>
                </a:path>
              </a:pathLst>
            </a:custGeom>
            <a:solidFill>
              <a:srgbClr val="cdcd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030640" y="3708360"/>
              <a:ext cx="2378160" cy="571680"/>
            </a:xfrm>
            <a:custGeom>
              <a:avLst/>
              <a:gdLst/>
              <a:ahLst/>
              <a:rect l="l" t="t" r="r" b="b"/>
              <a:pathLst>
                <a:path w="2562" h="616">
                  <a:moveTo>
                    <a:pt x="0" y="616"/>
                  </a:moveTo>
                  <a:lnTo>
                    <a:pt x="1" y="584"/>
                  </a:lnTo>
                  <a:lnTo>
                    <a:pt x="4" y="553"/>
                  </a:lnTo>
                  <a:lnTo>
                    <a:pt x="11" y="523"/>
                  </a:lnTo>
                  <a:lnTo>
                    <a:pt x="19" y="492"/>
                  </a:lnTo>
                  <a:lnTo>
                    <a:pt x="28" y="462"/>
                  </a:lnTo>
                  <a:lnTo>
                    <a:pt x="41" y="433"/>
                  </a:lnTo>
                  <a:lnTo>
                    <a:pt x="56" y="404"/>
                  </a:lnTo>
                  <a:lnTo>
                    <a:pt x="72" y="377"/>
                  </a:lnTo>
                  <a:lnTo>
                    <a:pt x="89" y="350"/>
                  </a:lnTo>
                  <a:lnTo>
                    <a:pt x="110" y="322"/>
                  </a:lnTo>
                  <a:lnTo>
                    <a:pt x="133" y="297"/>
                  </a:lnTo>
                  <a:lnTo>
                    <a:pt x="157" y="271"/>
                  </a:lnTo>
                  <a:lnTo>
                    <a:pt x="182" y="247"/>
                  </a:lnTo>
                  <a:lnTo>
                    <a:pt x="210" y="225"/>
                  </a:lnTo>
                  <a:lnTo>
                    <a:pt x="267" y="181"/>
                  </a:lnTo>
                  <a:lnTo>
                    <a:pt x="333" y="141"/>
                  </a:lnTo>
                  <a:lnTo>
                    <a:pt x="403" y="106"/>
                  </a:lnTo>
                  <a:lnTo>
                    <a:pt x="479" y="74"/>
                  </a:lnTo>
                  <a:lnTo>
                    <a:pt x="559" y="48"/>
                  </a:lnTo>
                  <a:lnTo>
                    <a:pt x="642" y="27"/>
                  </a:lnTo>
                  <a:lnTo>
                    <a:pt x="730" y="13"/>
                  </a:lnTo>
                  <a:lnTo>
                    <a:pt x="822" y="3"/>
                  </a:lnTo>
                  <a:lnTo>
                    <a:pt x="868" y="2"/>
                  </a:lnTo>
                  <a:lnTo>
                    <a:pt x="915" y="0"/>
                  </a:lnTo>
                  <a:lnTo>
                    <a:pt x="1439" y="0"/>
                  </a:lnTo>
                  <a:lnTo>
                    <a:pt x="1511" y="2"/>
                  </a:lnTo>
                  <a:lnTo>
                    <a:pt x="1581" y="8"/>
                  </a:lnTo>
                  <a:lnTo>
                    <a:pt x="1652" y="18"/>
                  </a:lnTo>
                  <a:lnTo>
                    <a:pt x="1719" y="31"/>
                  </a:lnTo>
                  <a:lnTo>
                    <a:pt x="1785" y="47"/>
                  </a:lnTo>
                  <a:lnTo>
                    <a:pt x="1847" y="66"/>
                  </a:lnTo>
                  <a:lnTo>
                    <a:pt x="1908" y="88"/>
                  </a:lnTo>
                  <a:lnTo>
                    <a:pt x="1966" y="114"/>
                  </a:lnTo>
                  <a:lnTo>
                    <a:pt x="2022" y="141"/>
                  </a:lnTo>
                  <a:lnTo>
                    <a:pt x="2073" y="173"/>
                  </a:lnTo>
                  <a:lnTo>
                    <a:pt x="2121" y="207"/>
                  </a:lnTo>
                  <a:lnTo>
                    <a:pt x="2166" y="242"/>
                  </a:lnTo>
                  <a:lnTo>
                    <a:pt x="2206" y="282"/>
                  </a:lnTo>
                  <a:lnTo>
                    <a:pt x="2243" y="322"/>
                  </a:lnTo>
                  <a:lnTo>
                    <a:pt x="2274" y="366"/>
                  </a:lnTo>
                  <a:lnTo>
                    <a:pt x="2301" y="410"/>
                  </a:lnTo>
                  <a:lnTo>
                    <a:pt x="2562" y="410"/>
                  </a:lnTo>
                  <a:lnTo>
                    <a:pt x="2093" y="616"/>
                  </a:lnTo>
                  <a:lnTo>
                    <a:pt x="1516" y="410"/>
                  </a:lnTo>
                  <a:lnTo>
                    <a:pt x="1779" y="410"/>
                  </a:lnTo>
                  <a:lnTo>
                    <a:pt x="1759" y="377"/>
                  </a:lnTo>
                  <a:lnTo>
                    <a:pt x="1737" y="343"/>
                  </a:lnTo>
                  <a:lnTo>
                    <a:pt x="1711" y="311"/>
                  </a:lnTo>
                  <a:lnTo>
                    <a:pt x="1682" y="281"/>
                  </a:lnTo>
                  <a:lnTo>
                    <a:pt x="1652" y="250"/>
                  </a:lnTo>
                  <a:lnTo>
                    <a:pt x="1618" y="221"/>
                  </a:lnTo>
                  <a:lnTo>
                    <a:pt x="1583" y="196"/>
                  </a:lnTo>
                  <a:lnTo>
                    <a:pt x="1546" y="170"/>
                  </a:lnTo>
                  <a:lnTo>
                    <a:pt x="1506" y="146"/>
                  </a:lnTo>
                  <a:lnTo>
                    <a:pt x="1464" y="124"/>
                  </a:lnTo>
                  <a:lnTo>
                    <a:pt x="1420" y="103"/>
                  </a:lnTo>
                  <a:lnTo>
                    <a:pt x="1375" y="83"/>
                  </a:lnTo>
                  <a:lnTo>
                    <a:pt x="1327" y="66"/>
                  </a:lnTo>
                  <a:lnTo>
                    <a:pt x="1278" y="51"/>
                  </a:lnTo>
                  <a:lnTo>
                    <a:pt x="1227" y="37"/>
                  </a:lnTo>
                  <a:lnTo>
                    <a:pt x="1176" y="26"/>
                  </a:lnTo>
                  <a:lnTo>
                    <a:pt x="1176" y="26"/>
                  </a:lnTo>
                  <a:lnTo>
                    <a:pt x="1105" y="42"/>
                  </a:lnTo>
                  <a:lnTo>
                    <a:pt x="1036" y="63"/>
                  </a:lnTo>
                  <a:lnTo>
                    <a:pt x="972" y="87"/>
                  </a:lnTo>
                  <a:lnTo>
                    <a:pt x="910" y="112"/>
                  </a:lnTo>
                  <a:lnTo>
                    <a:pt x="852" y="143"/>
                  </a:lnTo>
                  <a:lnTo>
                    <a:pt x="799" y="175"/>
                  </a:lnTo>
                  <a:lnTo>
                    <a:pt x="750" y="210"/>
                  </a:lnTo>
                  <a:lnTo>
                    <a:pt x="703" y="249"/>
                  </a:lnTo>
                  <a:lnTo>
                    <a:pt x="663" y="289"/>
                  </a:lnTo>
                  <a:lnTo>
                    <a:pt x="626" y="330"/>
                  </a:lnTo>
                  <a:lnTo>
                    <a:pt x="596" y="374"/>
                  </a:lnTo>
                  <a:lnTo>
                    <a:pt x="570" y="420"/>
                  </a:lnTo>
                  <a:lnTo>
                    <a:pt x="549" y="467"/>
                  </a:lnTo>
                  <a:lnTo>
                    <a:pt x="535" y="515"/>
                  </a:lnTo>
                  <a:lnTo>
                    <a:pt x="525" y="564"/>
                  </a:lnTo>
                  <a:lnTo>
                    <a:pt x="522" y="616"/>
                  </a:lnTo>
                  <a:lnTo>
                    <a:pt x="0" y="616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79880" y="3708360"/>
              <a:ext cx="241920" cy="24120"/>
            </a:xfrm>
            <a:custGeom>
              <a:avLst/>
              <a:gdLst/>
              <a:ahLst/>
              <a:rect l="l" t="t" r="r" b="b"/>
              <a:pathLst>
                <a:path w="261" h="26">
                  <a:moveTo>
                    <a:pt x="0" y="0"/>
                  </a:moveTo>
                  <a:lnTo>
                    <a:pt x="65" y="2"/>
                  </a:lnTo>
                  <a:lnTo>
                    <a:pt x="131" y="7"/>
                  </a:lnTo>
                  <a:lnTo>
                    <a:pt x="197" y="15"/>
                  </a:lnTo>
                  <a:lnTo>
                    <a:pt x="261" y="2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6672240" y="1422360"/>
            <a:ext cx="1573200" cy="1001880"/>
          </a:xfrm>
          <a:prstGeom prst="rect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084440" y="1650960"/>
            <a:ext cx="8344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ecifi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t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04800" y="1708200"/>
            <a:ext cx="2143080" cy="858960"/>
          </a:xfrm>
          <a:prstGeom prst="rect">
            <a:avLst/>
          </a:prstGeom>
          <a:solidFill>
            <a:srgbClr val="b2b2b2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8320" y="1981080"/>
            <a:ext cx="1965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ome kind of in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243480" y="1494000"/>
            <a:ext cx="1800" cy="4498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389400" y="2565360"/>
            <a:ext cx="2417760" cy="371520"/>
          </a:xfrm>
          <a:prstGeom prst="rect">
            <a:avLst/>
          </a:prstGeom>
          <a:noFill/>
          <a:ln w="18360">
            <a:solidFill>
              <a:srgbClr val="fb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669120" y="2644920"/>
            <a:ext cx="1841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Content Referenc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390680" y="2637000"/>
            <a:ext cx="500040" cy="2427120"/>
          </a:xfrm>
          <a:custGeom>
            <a:avLst/>
            <a:gdLst/>
            <a:ahLst/>
            <a:rect l="l" t="t" r="r" b="b"/>
            <a:pathLst>
              <a:path w="539" h="2616">
                <a:moveTo>
                  <a:pt x="0" y="1962"/>
                </a:moveTo>
                <a:lnTo>
                  <a:pt x="135" y="1962"/>
                </a:lnTo>
                <a:lnTo>
                  <a:pt x="135" y="0"/>
                </a:lnTo>
                <a:lnTo>
                  <a:pt x="404" y="0"/>
                </a:lnTo>
                <a:lnTo>
                  <a:pt x="404" y="1962"/>
                </a:lnTo>
                <a:lnTo>
                  <a:pt x="539" y="1962"/>
                </a:lnTo>
                <a:lnTo>
                  <a:pt x="270" y="2616"/>
                </a:lnTo>
                <a:lnTo>
                  <a:pt x="0" y="1962"/>
                </a:lnTo>
                <a:close/>
              </a:path>
            </a:pathLst>
          </a:custGeom>
          <a:solidFill>
            <a:srgbClr val="ffffcc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529400" y="2494080"/>
            <a:ext cx="500040" cy="2570040"/>
          </a:xfrm>
          <a:custGeom>
            <a:avLst/>
            <a:gdLst/>
            <a:ahLst/>
            <a:rect l="l" t="t" r="r" b="b"/>
            <a:pathLst>
              <a:path w="539" h="2770">
                <a:moveTo>
                  <a:pt x="0" y="693"/>
                </a:moveTo>
                <a:lnTo>
                  <a:pt x="135" y="693"/>
                </a:lnTo>
                <a:lnTo>
                  <a:pt x="135" y="2770"/>
                </a:lnTo>
                <a:lnTo>
                  <a:pt x="404" y="2770"/>
                </a:lnTo>
                <a:lnTo>
                  <a:pt x="404" y="693"/>
                </a:lnTo>
                <a:lnTo>
                  <a:pt x="539" y="693"/>
                </a:lnTo>
                <a:lnTo>
                  <a:pt x="269" y="0"/>
                </a:lnTo>
                <a:lnTo>
                  <a:pt x="0" y="693"/>
                </a:lnTo>
                <a:close/>
              </a:path>
            </a:pathLst>
          </a:custGeom>
          <a:solidFill>
            <a:srgbClr val="ffffcc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243480" y="914400"/>
            <a:ext cx="22910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233760" y="1015920"/>
            <a:ext cx="201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  <a:ea typeface="ＭＳ Ｐゴシック"/>
              </a:rPr>
              <a:t>Content Consum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03560" y="4260960"/>
            <a:ext cx="2712960" cy="36360"/>
          </a:xfrm>
          <a:prstGeom prst="rect">
            <a:avLst/>
          </a:prstGeom>
          <a:solidFill>
            <a:srgbClr val="fb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888080" y="4280040"/>
            <a:ext cx="572760" cy="214200"/>
          </a:xfrm>
          <a:prstGeom prst="rect">
            <a:avLst/>
          </a:prstGeom>
          <a:solidFill>
            <a:srgbClr val="00cc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917960" y="4300560"/>
            <a:ext cx="54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Loc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4181400" y="4421160"/>
            <a:ext cx="573120" cy="216000"/>
          </a:xfrm>
          <a:prstGeom prst="rect">
            <a:avLst/>
          </a:prstGeom>
          <a:solidFill>
            <a:srgbClr val="00cc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4110120" y="4351320"/>
            <a:ext cx="573120" cy="214200"/>
          </a:xfrm>
          <a:prstGeom prst="rect">
            <a:avLst/>
          </a:prstGeom>
          <a:solidFill>
            <a:srgbClr val="00cc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4303440" y="4370400"/>
            <a:ext cx="266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RI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4322880" y="4608360"/>
            <a:ext cx="93600" cy="428400"/>
            <a:chOff x="4322880" y="4608360"/>
            <a:chExt cx="93600" cy="428400"/>
          </a:xfrm>
        </p:grpSpPr>
        <p:sp>
          <p:nvSpPr>
            <p:cNvPr id="333" name=""/>
            <p:cNvSpPr/>
            <p:nvPr/>
          </p:nvSpPr>
          <p:spPr>
            <a:xfrm flipH="1" flipV="1">
              <a:off x="4367520" y="4696920"/>
              <a:ext cx="720" cy="339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 flipV="1">
              <a:off x="4322880" y="4608000"/>
              <a:ext cx="93600" cy="9252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0" y="0"/>
                  </a:moveTo>
                  <a:lnTo>
                    <a:pt x="52" y="100"/>
                  </a:lnTo>
                  <a:lnTo>
                    <a:pt x="10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 flipH="1">
            <a:off x="4038480" y="4280040"/>
            <a:ext cx="573120" cy="214200"/>
          </a:xfrm>
          <a:prstGeom prst="rect">
            <a:avLst/>
          </a:prstGeom>
          <a:solidFill>
            <a:srgbClr val="00cc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192560" y="4300560"/>
            <a:ext cx="35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R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808280" y="3218040"/>
            <a:ext cx="2598480" cy="1011240"/>
          </a:xfrm>
          <a:custGeom>
            <a:avLst/>
            <a:gdLst>
              <a:gd name="textAreaLeft" fmla="*/ 360 w 2598480"/>
              <a:gd name="textAreaRight" fmla="*/ 2599200 w 2598480"/>
              <a:gd name="textAreaTop" fmla="*/ 0 h 1011240"/>
              <a:gd name="textAreaBottom" fmla="*/ 1011600 h 101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6889" stAng="10800000" swAng="5400000"/>
                <a:lnTo>
                  <a:pt x="15745" y="5271"/>
                </a:lnTo>
                <a:lnTo>
                  <a:pt x="15745" y="0"/>
                </a:lnTo>
                <a:lnTo>
                  <a:pt x="21600" y="6079"/>
                </a:lnTo>
                <a:lnTo>
                  <a:pt x="15745" y="12158"/>
                </a:lnTo>
                <a:lnTo>
                  <a:pt x="15745" y="6887"/>
                </a:lnTo>
                <a:lnTo>
                  <a:pt x="12427" y="6887"/>
                </a:lnTo>
                <a:arcTo wR="10811" hR="5273" stAng="16200000" swAng="-5400000"/>
                <a:lnTo>
                  <a:pt x="1616" y="216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90920" y="3403440"/>
            <a:ext cx="3909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TV-Anytime 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746440" y="3780000"/>
            <a:ext cx="3643200" cy="1785600"/>
          </a:xfrm>
          <a:prstGeom prst="ellipse">
            <a:avLst/>
          </a:prstGeom>
          <a:noFill/>
          <a:ln w="24120">
            <a:solidFill>
              <a:srgbClr val="fb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22860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54864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971800" y="45720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400800" y="457200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001000" y="2133720"/>
            <a:ext cx="45720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5T13:18:15Z</dcterms:created>
  <dc:creator/>
  <dc:description/>
  <dc:language>en-US</dc:language>
  <cp:lastModifiedBy>Ronald Tol</cp:lastModifiedBy>
  <dcterms:modified xsi:type="dcterms:W3CDTF">2002-11-18T00:05:54Z</dcterms:modified>
  <cp:revision>122</cp:revision>
  <dc:subject/>
  <dc:title>TV-Anytime Systems ‘Putting the pieces together’</dc:title>
</cp:coreProperties>
</file>