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4E3-8A91-4955-BC11-2BC83269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7EB-58CE-46A1-B74A-56A49D8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81A-3364-4E4E-B353-7C441372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1AF-CD66-4801-B55F-56EA5CB3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8EE43-677A-4CA6-B1CA-3C96A17A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5A372-D1A4-4615-8907-EDA22FF0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972EB-6AAE-43EA-AF16-C3466A8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2E0F-2A63-4190-90FF-FF099B98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0F879-641F-45C5-BDF4-8395E6A4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127A-2F9D-4294-A644-3A652BA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2245-A9E0-4D6E-A2DF-B53BF4C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3D-0FC2-4B49-9B47-6BB0666E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DFA61-37F8-4D00-8CDE-5E36086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09A2B-CA35-4A20-AA5D-96448D8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DFD1-1191-47F1-8FDE-BB629745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D1102-09FE-4057-B470-6A1C2B99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B75E2-1F3A-48EB-8193-D24651A3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2DD-DB95-4A73-BC16-745C7E2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2F7-E631-4B62-B1D3-44C0224D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F40-9B5C-49E2-ACD7-8B29CC5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BE2-1725-465A-A1E6-6CDA4D7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52B-CC2B-4FC9-AE67-B086D74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577-507C-47A3-A3F1-BC7BC45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2C6-B4C3-4673-9541-B2B288C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DA31-8916-462F-A9D9-B4CB92539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2A34-48A7-4E8F-955D-1CF6A3E24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39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TV-Anytime Foru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tus &amp; Roadm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entation Day, Sy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mber 18, 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1587240" cy="159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ecif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ases of 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Working Groups (Phase 1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Models (Inf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(Inf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data (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 Referencing (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s Management &amp; Protection (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Working Groups (Phase 1+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Models (Inf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, Transport Interfaces &amp; Content Referencing (Informative + 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data (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s Management &amp; Protection (Norma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f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atus – TVA Phase 1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quir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roug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-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comple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pecifica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ongoing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Model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-1 v1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-2 v1.2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dat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-3 v1.2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nt Referencing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-4 v1.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P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-5 draft (TV109r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-directional Metadat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-6 draft (WD651r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* - Provisional v1.3 relea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tandardiz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nts of Phase 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 selected and frozen at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eting, for submission to ET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final TVA Specifications (in whole or in part) and possible additional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elements to be finalized and approved a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eting (SLC, Jan 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or to prepare document for ET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VA will review and approve ETSI candidate submission at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eting (Geneva, Mar 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hase 2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Q-1 under development (TV140r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ol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8:42:07Z</dcterms:created>
  <dc:creator>Skip Pizzi</dc:creator>
  <dc:description/>
  <dc:language>en-US</dc:language>
  <cp:lastModifiedBy>Skip Pizzi</cp:lastModifiedBy>
  <dcterms:modified xsi:type="dcterms:W3CDTF">2002-11-18T00:23:08Z</dcterms:modified>
  <cp:revision>5</cp:revision>
  <dc:subject>Status &amp; Roadmap</dc:subject>
  <dc:title>TVAF Orientation Day, Sydney</dc:title>
</cp:coreProperties>
</file>