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261-9340-4ABC-9528-FD084421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CEC-C741-4986-89AC-5BFEE452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DC7-C29F-4C73-9D6B-55152ED6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207-91F6-4B51-9EAE-C5B0A248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6B7-2232-41A9-BCF0-0001EBCF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8AFD-EA26-4C39-BAEC-588990D8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FB01-7F29-487D-9702-DBB2AB0D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86D0-E230-485C-A0BF-BA1A720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BC59-EE0D-48AC-AA9A-87927BCE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AFF-9CCF-4078-A54F-34F775E3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758-ED94-436B-8F8E-F44836C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8EF-A5C7-44EC-BE1C-A032FD56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6D82-E0CA-422A-97A2-060790F9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BA5A-FEAA-4B71-9C2C-8377992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5E92-0299-4991-AB00-BDD87AE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E008-1767-4A7E-BEF2-5A2C17E3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8992-0F5D-4B0C-B50F-64991DD4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FCA-0F74-43BC-9F10-BE18E10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18A-A862-448D-B5D9-CDEE181F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7EB-0EDD-4CC8-8C38-69FE513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25C-DEE0-4D4F-82B1-C383DF0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A3A-9C99-46F7-8EB5-2B4E0CA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CFF-E323-4424-8B63-48B2800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E2B-DF62-4C92-8B19-28C1E0D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30EE-786D-4609-911F-A659AC27DE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0C5C-401F-4994-9D9D-821B73E310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V- Anytime RMP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dney Ori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P =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ights Management &amp; Protect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Aim: Provide standardized security technologies &amp; methodologies to support overall TV- Anytime specif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Method, capture requirements, receive and evaluate technology proposals – generate specif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Challenge: Requirements and overall “rights related market/regulatory context are moving targ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Method: Two Groups: Drafting &amp; Sco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fting progresses specification for Phase 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oping charts course, including requirements &amp; technologies for subsequent ph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P Also = Really Massive Proble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psterization of audiovisual content is pervasive concern, but hard and fast agreed delineations of permissible uses of content are hard to obtain from the content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nt distribution value chain participants and respective vendors have widely varied and often competing prior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technologies are in and of themselves very challen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rietary solutions and standardized solutions have to co-ex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 usage cases require rich rights description, consumer electronics requires low cost implemen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 users expect reasonable level of uniformity, equity &amp; performance of viewing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t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ad Ne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are LATE LATE LATE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RMP Phase One Spec will not be ready this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ood Ne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ARE making real headw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rrently assessing candidate break-away technologies for Fasttrack inclusion in PHASE One TVAF specification rele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adata Prote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ghts Expression 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oping Roadmap Docu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ease of the RMP specification will encompass multiple phases of TVAF, including advanced usage mod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maintain a sense of humor and perspective, and fulfill the very important “underdog” role in TVAnytime as a who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MP Key Docume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ments Document: TV039r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es the requirements of RMP in TV- Any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Draft Specification Document: WD57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ins draft proposed elements of the RMP Security system, repository for comment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oping Document: WD638r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s to characterize the supported use cases of the overall RMP system, (across phases) based on prioritized usage cases drawn from Business Mod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2:03:13Z</dcterms:created>
  <dc:creator>Nicholas R. Givotovsky</dc:creator>
  <dc:description/>
  <dc:language>en-US</dc:language>
  <cp:lastModifiedBy>Nicholas R. Givotovsky</cp:lastModifiedBy>
  <dcterms:modified xsi:type="dcterms:W3CDTF">2002-11-18T03:09:30Z</dcterms:modified>
  <cp:revision>36</cp:revision>
  <dc:subject/>
  <dc:title>TV- Anytime RM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