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B7CC-47FA-4DC1-9B41-2B765C99C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FC3F-1798-4B92-8E16-9B34ABF09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6203-906A-486D-93C6-3E2798D30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CFB0-C070-4759-AEB7-4C08AF0A6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21645-F224-44AF-A9E8-037FC52A8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E5CF-15D1-484F-A6F9-6F780768B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9319-2FB0-4E18-8E3F-602D35677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5484-2E65-41B6-9948-776A0C056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AD7D-BB27-40BE-9877-25243E3BB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2A4F-40F5-4488-9064-362C50BD8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4F8C-AE5E-45E1-9670-89F0AC247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B5F2-4A43-4A9B-967A-8AD0C966D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1722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69A-F78D-4088-BA57-D1A1167C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564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fond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39120" cy="5829480"/>
          </a:xfrm>
          <a:prstGeom prst="rect">
            <a:avLst/>
          </a:prstGeom>
          <a:ln w="0">
            <a:noFill/>
          </a:ln>
        </p:spPr>
      </p:pic>
      <p:pic>
        <p:nvPicPr>
          <p:cNvPr id="42" name="logo" descr=""/>
          <p:cNvPicPr/>
          <p:nvPr/>
        </p:nvPicPr>
        <p:blipFill>
          <a:blip r:embed="rId2"/>
          <a:stretch/>
        </p:blipFill>
        <p:spPr>
          <a:xfrm>
            <a:off x="3648240" y="1981080"/>
            <a:ext cx="1847520" cy="261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 Black"/>
              </a:rPr>
              <a:t>www.onTV.eu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14600" y="533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is implem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95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4 – Investigation of the TV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13372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sample instance TV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testing of schema components (including MPEG-7 content description datatypes used by T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bugs and proposals f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going involvement (including audience targetin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533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is implem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295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5 – TVA Genr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828800"/>
            <a:ext cx="79250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pplied the TVA Genre Dictionary to multi-dimensional classification of programmes of many types and countries of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of sample instance documents including detailed classifica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going involvement (including integration of Genre Dictionary into the schem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09680" y="457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is implem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066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6 – Development of prototype TV metadata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96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ake TVA-compliant metadata as input and to generate it as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ble to accept and generate a wide range of other structur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SL-T used for transformations between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pository schema  is based on TVA content description semantics – with content management features ad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5335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has learned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1 – Limitations of 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590920"/>
            <a:ext cx="8001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chema was finalised in March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support is still unsatis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TVA and MPEG-7 schemas and instance documents remains problema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roblems were experienced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p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bco Extensibility Tur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5335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has learned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5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2 – Limitations of  the TVA 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666880"/>
            <a:ext cx="8001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description parts of the TVA Schema has no significant problems that we ar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09680" y="3049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has learned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3 – Limitations of the MPEG-7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805040"/>
            <a:ext cx="8610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VA Schema is the tip of an iceberg – the rest of the iceberg is MPEG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PEG-7 Schema is large and complex and sometimes stretches the capabilities of existing widely used XML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decided not to use TVA 100% native at this stage, because of problems caused by its underlying usage of the MPEG-7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gone for a selectively simpler syntax that we can validate with greater confidence using exist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5335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Conclusions – some TVA imple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600200"/>
            <a:ext cx="800100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a need  a need in Phase II or for a TVA-Lite Schema that federates most of the semantic functionality of the existing TVA schema and associated components of MPEG-7 schema into a single, simpler 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PEG-7 may not be easy to implement but its documentation does contain useful examples of the use of many of its components; TVA could learn from 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fondo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9120" cy="5829120"/>
          </a:xfrm>
          <a:prstGeom prst="rect">
            <a:avLst/>
          </a:prstGeom>
          <a:ln w="0">
            <a:noFill/>
          </a:ln>
        </p:spPr>
      </p:pic>
      <p:pic>
        <p:nvPicPr>
          <p:cNvPr id="94" name="logo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930240" cy="131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1523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 Black"/>
              </a:rPr>
              <a:t>www.onTV.eu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2286000"/>
            <a:ext cx="419076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in Moo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572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: +351-218439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x: +351-2184399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Black"/>
              </a:rPr>
              <a:t>Colin@onTV.eu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fon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439120" cy="5753160"/>
          </a:xfrm>
          <a:prstGeom prst="rect">
            <a:avLst/>
          </a:prstGeom>
          <a:ln w="0">
            <a:noFill/>
          </a:ln>
        </p:spPr>
      </p:pic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7162920" y="2743200"/>
            <a:ext cx="984240" cy="139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1219320"/>
            <a:ext cx="72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ome lessons from early implementation of the TV-Anytime Metadata Specif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362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04812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V Europe Ltd. – who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nTV is implementing  TVA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nTV is implemen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at we’ve learnt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 –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ome TVA implementation issu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TV.eu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52480" y="533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onTV Europe Ltd. – who we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2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905120"/>
            <a:ext cx="807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in multilingual database publishing and conten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print, then digital media and web – now integrated / multi-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ctivity: development of a multilingual, multi-purpose TV metadata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4572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y onTV is implementing  the TVA metadata specification 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2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05120"/>
            <a:ext cx="807696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ased on XM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n open standard that draws on wide ranging industry expertise and that has interoperability as a high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sed on thorough  analysis of present and future television metadata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bottom li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allows much richer, versatile and adaptable content description than precursor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1 - Inherent streng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4572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y onTV is implementing  the TVA metadata specification 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2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905120"/>
            <a:ext cx="80769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ise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inpoint 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ement of view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1523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2 – Valuable features that are en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2480" y="4572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y onTV is implementing  the TVA metadata specification n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2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905120"/>
            <a:ext cx="807696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to television service operators – ammunition in the battle for eyeballs (improved public metadata manag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to television service operators – integration of internal processes (improved private metadata manag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ontent for enhanced and specialist programme guides and por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tter content for web/broadband and VOD catalogues, directories and search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3716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3 – Immediate applic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28800" y="6094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is implem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1371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1 – Objective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057400"/>
            <a:ext cx="7467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alist content management system for television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ake a wide range of input data forma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output to a wide range of output formats (including custom formats – and formats that haven’t been invented y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ling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457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is implem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2 – Pre-history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133720"/>
            <a:ext cx="69343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lational database schema – a complicated and rigid route to modest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-oriented user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-European survey of television programme information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odbye database; hallo proprietary XML Schema and much improved function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14600" y="533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What onTV is implem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3 – Adoption of TVA and participation in the For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666880"/>
            <a:ext cx="7467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ek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VA Schema matched the functionality of our schema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d the advantage of being the result of a peer-group reviewed industry initi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decided to participate a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1:43:58Z</dcterms:created>
  <dc:creator>Isabel Lopes Dias</dc:creator>
  <dc:description/>
  <dc:language>en-US</dc:language>
  <cp:lastModifiedBy>Colin Moorcraft</cp:lastModifiedBy>
  <dcterms:modified xsi:type="dcterms:W3CDTF">2002-01-28T21:59:31Z</dcterms:modified>
  <cp:revision>39</cp:revision>
  <dc:subject/>
  <dc:title>PowerPoint Presentation</dc:title>
</cp:coreProperties>
</file>