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088-B145-4C22-9F96-8FF9AEAB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7897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2CF-9303-4843-9CEC-0746E74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048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453-D44A-42D3-9865-42C6B40D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908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412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908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412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B69-3945-4E85-B137-E03863F4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9149-7019-4A3E-86A2-9D6D0D60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2E92-E11D-4B50-9E62-3834B5BC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E60F-38DB-4A8A-84C9-6396B8A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57EB-052D-4814-B3E3-8034AD7D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8DCB-0997-4064-8D96-73C3D4E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90920" y="76320"/>
            <a:ext cx="63244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12A1-40FD-4EB0-8F32-1B10FFF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ADB-4EF5-4CE5-9C27-A0001A5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F04-E161-41C5-8F17-46EDE489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48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8A3F-67F1-4653-B169-53774AB3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CDA-4BDC-42C8-BBAF-E47EB7E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040" y="37897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8D3D-5690-4748-BF41-04833265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48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90F-0B18-46C1-83F3-3122C4CB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908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4120" y="16002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04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908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4120" y="37897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F35-020A-4F51-8780-6D06BB22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8B5-F7CB-417C-AF82-AB81189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3DA-2096-4F5D-812F-7D573C4A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8AE-5685-4D1D-A245-F797D154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76320"/>
            <a:ext cx="632448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280-E707-4A5F-8C75-50EB3E42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D7D-16DF-49D9-9616-9DDDEB9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0480" y="37897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E5A-03DC-4037-B142-97CE416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480" y="16002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7897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69-1AB4-44CF-B4C7-1C4D36A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6294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NDS Ltd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2819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C79-3809-438C-ADA7-BED7D4AD863E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43800" y="66290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VA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5760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4B0B4A-53FB-41E1-A86F-E2EF7E47A3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19810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5192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9C38-E70E-46D2-B703-95973B232B91}" type="datetime5">
              <a:rPr b="0" lang="en-US" sz="9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6294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NDS Lt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7543800" y="66290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presentation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65760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635F74-806D-4D18-813E-7CE014AFDA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millark/Desktop/TVAWorkshop%20Synamedia%20Diagram.doc" TargetMode="External"/><Relationship Id="rId3" Type="http://schemas.openxmlformats.org/officeDocument/2006/relationships/hyperlink" Target="file:///C:/Documents%20and%20Settings/millark/Desktop/TVAWorkshop%20Synamedia%20Diagram.doc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19810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TV-Anytime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XTV &amp; Synamedi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Synamedia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323-80CF-432A-843A-69AF81E718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061D9-B04C-46C2-8486-F3FAB24E02FB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ent Referenc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content is given a CRID which is used to identify the Content throughou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D Resolution is used to resolve the CRID to a location on a VoD Server at playou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quired in a distributed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D used to enable the purchase of Content packages e.g. Star Trek 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and management of Content for recording within an nPV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593-A3C8-40C2-9641-F171125262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D0B4-5B88-4983-B17B-B8AECDB04F86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a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VA Content Descriptive metadata adopted within Syna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ing metadata impor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ch data to enable searching and personalisation of content within XTV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ent Descriptive Metadata authored using XTV Encry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VA Segmentation metadata schema adopted within Synamedia enabling enhance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TV Metatagger used to author t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374-AAD7-41F1-B7D2-27AE543ABC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22648-D9C5-4EFF-9548-E7ABC0857043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TV Overview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DS’s PV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ed on OpenTV &amp; NDS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lly Integrated S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 facility through standard E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Content stored in original digita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Content stored in its original scrambl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es Re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deployment (SKY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unched September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’000 Sales in period to Dec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253-D4E4-4E50-86DA-024305FC2A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7CD3-C9D9-41FC-A647-8699E6906E21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TV &amp; Content Referenc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Referencing enhances both the PVR and the Conventional 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enable the following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ommendation Lists - e.g Top Ten Mov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FBE-4114-4D49-9571-380E74E63B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6BCA-7649-4ED6-AE70-49F65C5D7286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ent Referencing Issues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s potentially very Verbose and therefore he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very bandwidth 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necessarily heavy in a vertical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D Delive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ility to easily and quickly locate the CRID of interest in a uni-directional broadcast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CRID Ind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5B7-EFE3-40E6-8796-559B1ED2CD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882D5-6AB7-4C81-B78D-327079DF7ED3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ent Referencing Issues (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D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quirement for optional minimal metadata to be associated with a C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n’t wish to support both Si &amp; TVA data from day 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y of data from Channel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rbage In - Garbage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TG working on defining a B2B system for exchanging of Content Referencing data and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C57-FA8A-4FA1-8783-F519B8FF9A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4E5FB-BC5D-404D-9257-074CB2CE0710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tent Referencing Issues (3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racy of Present/Following in deploy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r only source of record triggers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ed not to be accurate across all chann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241-85A6-47BE-9C5B-684842F269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28DF-F846-45B6-AFF8-B23107E8591D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DS has adopted the TV-Anytime metadata schema for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or extensions added to support NDS specific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DS Segmentation authoring tool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XTV Metatagger” used to generate TV-Anytime compliant Segment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TV Preview - Segmentation XTV Preview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an NPT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39A-7145-44D0-B9DE-3363B99D48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06033-AC8D-4B00-8C28-23DABCF548FA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ynamedia Overview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band System providing secure deliver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roadcast TV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deo On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ar Video On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twork PVR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936-C657-473C-A7DF-8148C22F95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FF7BA-5356-4B68-90C6-554DB332C910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10332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d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Movie%20Archive1" descr=""/>
          <p:cNvPicPr/>
          <p:nvPr/>
        </p:nvPicPr>
        <p:blipFill>
          <a:blip r:embed="rId2"/>
          <a:srcRect l="3355" t="1964" r="-544" b="415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90920" y="76320"/>
            <a:ext cx="63244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sert presentation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C5E-7F7E-4971-82B2-101BEBFD8F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24369-E03D-4567-8FA9-92133FE519C8}" type="datetime3">
              <a:rPr lang="en-US"/>
              <a:t>July 30, 2026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11:31Z</dcterms:created>
  <dc:creator>MereditG</dc:creator>
  <dc:description/>
  <dc:language>en-US</dc:language>
  <cp:lastModifiedBy>Keith Millar</cp:lastModifiedBy>
  <cp:lastPrinted>2000-07-03T15:15:44Z</cp:lastPrinted>
  <dcterms:modified xsi:type="dcterms:W3CDTF">2002-01-28T21:48:25Z</dcterms:modified>
  <cp:revision>5</cp:revision>
  <dc:subject/>
  <dc:title>NDS white/ blue template</dc:title>
</cp:coreProperties>
</file>