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7848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600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600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20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59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20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59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7848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2" marL="1630440" indent="-381240">
              <a:spcBef>
                <a:spcPts val="60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3" marL="204948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4" marL="246852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5" marL="246852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6" marL="246852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14400" y="1371600"/>
            <a:ext cx="7696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6553080" y="5867280"/>
          <a:ext cx="2362320" cy="820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5867280"/>
                    <a:ext cx="2362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52280" y="6340320"/>
            <a:ext cx="381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f3587"/>
                </a:solidFill>
                <a:latin typeface="Arial"/>
              </a:rPr>
              <a:t>Copyright © ContentGuard, Inc.,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62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3587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2f3587"/>
              </a:solidFill>
              <a:latin typeface="Arial Black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553080" y="5867280"/>
          <a:ext cx="2362320" cy="820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5867280"/>
                    <a:ext cx="2362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380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f3587"/>
                </a:solidFill>
                <a:latin typeface="Arial"/>
              </a:rPr>
              <a:t>Copyright © ContentGuard, Inc.,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2" marL="914400" indent="334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3587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2f3587"/>
              </a:solidFill>
              <a:latin typeface="Arial"/>
            </a:endParaRPr>
          </a:p>
          <a:p>
            <a:pPr lvl="3" marL="1371600" indent="449280" algn="ctr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4" marL="1828800" indent="411120" algn="ctr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5" marL="1828800" indent="411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6" marL="1828800" indent="411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ontentguard.com/" TargetMode="External"/><Relationship Id="rId2" Type="http://schemas.openxmlformats.org/officeDocument/2006/relationships/hyperlink" Target="http://www.tv-anytime.org/" TargetMode="External"/><Relationship Id="rId3" Type="http://schemas.openxmlformats.org/officeDocument/2006/relationships/hyperlink" Target="http://www.tv-anytime.org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lordoftherings.com/" TargetMode="External"/><Relationship Id="rId2" Type="http://schemas.openxmlformats.org/officeDocument/2006/relationships/hyperlink" Target="http://thelordoftherings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62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 Black"/>
              </a:rPr>
              <a:t>Using a Rights Expression Language for Management of Content Usage in the Home Media Environment</a:t>
            </a:r>
            <a:r>
              <a:rPr b="0" lang="en-US" sz="2400" spc="-1" strike="noStrike">
                <a:solidFill>
                  <a:srgbClr val="2f3587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620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AB 2003</a:t>
            </a: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Michael Raley</a:t>
            </a:r>
            <a:endParaRPr b="0" i="1" lang="en-US" sz="1600" spc="-1" strike="noStrike">
              <a:solidFill>
                <a:srgbClr val="cc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enior Member of the Research Staff</a:t>
            </a:r>
            <a:endParaRPr b="0" i="1" lang="en-US" sz="1600" spc="-1" strike="noStrike">
              <a:solidFill>
                <a:srgbClr val="cc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ontentGuard</a:t>
            </a:r>
            <a:endParaRPr b="0" i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Template Mapping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71" name="Document"/>
          <p:cNvSpPr/>
          <p:nvPr/>
        </p:nvSpPr>
        <p:spPr>
          <a:xfrm rot="10800000">
            <a:off x="761760" y="2209680"/>
            <a:ext cx="2361960" cy="3657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~~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 &lt;param1&gt;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 &lt;param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2520" y="180180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PV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ocument"/>
          <p:cNvSpPr/>
          <p:nvPr/>
        </p:nvSpPr>
        <p:spPr>
          <a:xfrm rot="10800000">
            <a:off x="5029200" y="1828800"/>
            <a:ext cx="144792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~~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  </a:t>
            </a: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   </a:t>
            </a: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 &lt;&gt;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 &l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761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PV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276720" y="281916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13560" y="5181480"/>
            <a:ext cx="25077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&lt;param1&gt;, &lt;param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8600" y="472428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mpact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434340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Template Mapping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74760" y="4524480"/>
          <a:ext cx="6467400" cy="744480"/>
        </p:xfrm>
        <a:graphic>
          <a:graphicData uri="http://schemas.openxmlformats.org/drawingml/2006/table">
            <a:tbl>
              <a:tblPr/>
              <a:tblGrid>
                <a:gridCol w="752040"/>
                <a:gridCol w="349920"/>
                <a:gridCol w="351000"/>
                <a:gridCol w="349920"/>
                <a:gridCol w="351360"/>
                <a:gridCol w="349560"/>
                <a:gridCol w="349560"/>
                <a:gridCol w="351360"/>
                <a:gridCol w="349920"/>
                <a:gridCol w="351000"/>
                <a:gridCol w="349560"/>
                <a:gridCol w="367920"/>
                <a:gridCol w="369720"/>
                <a:gridCol w="369360"/>
                <a:gridCol w="367560"/>
                <a:gridCol w="369360"/>
                <a:gridCol w="368280"/>
              </a:tblGrid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Byte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7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C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Decim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295280" y="1371600"/>
            <a:ext cx="48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gr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cm:device cmid="12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cx:play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cm:song cmid="456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/gr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cm:issuerDev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cm:device cmid="024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/cm:issuerDev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/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Templatespaces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1” is ambiguous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(Acme Portable Movie Player MP123).1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(Acme Portable Movies).1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(Acme).1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(Portable Movie Association).1 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Even the most constrained devices can participate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Easy to interpret 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If “1” then…. If “2” then…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Licenses can explicitly or implicitly release content to legacy devices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Explicit-license says its ok to make DVD RAM copy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Implicit-license says its ok to make 3 physical copies (so DVD-RAM is ok)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REL Can Travel Separate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506920" y="1996920"/>
            <a:ext cx="1198800" cy="671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638680" y="3429000"/>
            <a:ext cx="1981440" cy="2362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1295280" cy="725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19720" y="266688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3048120"/>
            <a:ext cx="1600200" cy="3047760"/>
          </a:xfrm>
          <a:prstGeom prst="can">
            <a:avLst>
              <a:gd name="adj" fmla="val 16925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600200" y="5029200"/>
            <a:ext cx="1312920" cy="735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048120" y="4648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42840" y="2590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48120" y="25909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Further Info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ContentGuar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i="1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contentguard.com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XrML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 (http://www.xrml.org)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Contribution Paper (</a:t>
            </a:r>
            <a:r>
              <a:rPr b="0" i="1" lang="en-US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tv-anytime.org</a:t>
            </a: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) AN504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MPEG REL 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TV-Anytime (</a:t>
            </a:r>
            <a:r>
              <a:rPr b="0" i="1" lang="en-US" sz="2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ttp://www.tv-anytime.org</a:t>
            </a: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)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Contact Michael Raley (Michael.Raley@ContentGuard.com)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3587"/>
                </a:solidFill>
                <a:latin typeface="Arial Black"/>
              </a:rPr>
              <a:t>Digital Storage and Distribution of A/V Content in the Home</a:t>
            </a:r>
            <a:endParaRPr b="0" lang="en-US" sz="2800" spc="-1" strike="noStrike">
              <a:solidFill>
                <a:srgbClr val="2f3587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41320" cy="1067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103680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1066680" cy="8762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429000" y="2666880"/>
            <a:ext cx="4876560" cy="3352680"/>
            <a:chOff x="3429000" y="2666880"/>
            <a:chExt cx="4876560" cy="3352680"/>
          </a:xfrm>
        </p:grpSpPr>
        <p:sp>
          <p:nvSpPr>
            <p:cNvPr id="91" name=""/>
            <p:cNvSpPr/>
            <p:nvPr/>
          </p:nvSpPr>
          <p:spPr>
            <a:xfrm>
              <a:off x="3429000" y="2666880"/>
              <a:ext cx="4876560" cy="3352680"/>
            </a:xfrm>
            <a:custGeom>
              <a:avLst/>
              <a:gdLst/>
              <a:ahLst/>
              <a:rect l="l" t="t" r="r" b="b"/>
              <a:pathLst>
                <a:path w="2704" h="1822">
                  <a:moveTo>
                    <a:pt x="244" y="604"/>
                  </a:moveTo>
                  <a:lnTo>
                    <a:pt x="150" y="633"/>
                  </a:lnTo>
                  <a:lnTo>
                    <a:pt x="66" y="689"/>
                  </a:lnTo>
                  <a:lnTo>
                    <a:pt x="19" y="765"/>
                  </a:lnTo>
                  <a:lnTo>
                    <a:pt x="9" y="812"/>
                  </a:lnTo>
                  <a:lnTo>
                    <a:pt x="0" y="859"/>
                  </a:lnTo>
                  <a:lnTo>
                    <a:pt x="9" y="925"/>
                  </a:lnTo>
                  <a:lnTo>
                    <a:pt x="38" y="982"/>
                  </a:lnTo>
                  <a:lnTo>
                    <a:pt x="75" y="1029"/>
                  </a:lnTo>
                  <a:lnTo>
                    <a:pt x="131" y="1067"/>
                  </a:lnTo>
                  <a:lnTo>
                    <a:pt x="131" y="1067"/>
                  </a:lnTo>
                  <a:lnTo>
                    <a:pt x="75" y="1152"/>
                  </a:lnTo>
                  <a:lnTo>
                    <a:pt x="66" y="1190"/>
                  </a:lnTo>
                  <a:lnTo>
                    <a:pt x="56" y="1237"/>
                  </a:lnTo>
                  <a:lnTo>
                    <a:pt x="66" y="1284"/>
                  </a:lnTo>
                  <a:lnTo>
                    <a:pt x="75" y="1341"/>
                  </a:lnTo>
                  <a:lnTo>
                    <a:pt x="141" y="1416"/>
                  </a:lnTo>
                  <a:lnTo>
                    <a:pt x="225" y="1473"/>
                  </a:lnTo>
                  <a:lnTo>
                    <a:pt x="272" y="1482"/>
                  </a:lnTo>
                  <a:lnTo>
                    <a:pt x="329" y="1492"/>
                  </a:lnTo>
                  <a:lnTo>
                    <a:pt x="347" y="1492"/>
                  </a:lnTo>
                  <a:lnTo>
                    <a:pt x="366" y="1492"/>
                  </a:lnTo>
                  <a:lnTo>
                    <a:pt x="366" y="1492"/>
                  </a:lnTo>
                  <a:lnTo>
                    <a:pt x="441" y="1586"/>
                  </a:lnTo>
                  <a:lnTo>
                    <a:pt x="545" y="1652"/>
                  </a:lnTo>
                  <a:lnTo>
                    <a:pt x="657" y="1690"/>
                  </a:lnTo>
                  <a:lnTo>
                    <a:pt x="779" y="1709"/>
                  </a:lnTo>
                  <a:lnTo>
                    <a:pt x="911" y="1700"/>
                  </a:lnTo>
                  <a:lnTo>
                    <a:pt x="1033" y="1652"/>
                  </a:lnTo>
                  <a:lnTo>
                    <a:pt x="1033" y="1652"/>
                  </a:lnTo>
                  <a:lnTo>
                    <a:pt x="1099" y="1719"/>
                  </a:lnTo>
                  <a:lnTo>
                    <a:pt x="1183" y="1775"/>
                  </a:lnTo>
                  <a:lnTo>
                    <a:pt x="1277" y="1813"/>
                  </a:lnTo>
                  <a:lnTo>
                    <a:pt x="1380" y="1822"/>
                  </a:lnTo>
                  <a:lnTo>
                    <a:pt x="1446" y="1813"/>
                  </a:lnTo>
                  <a:lnTo>
                    <a:pt x="1512" y="1803"/>
                  </a:lnTo>
                  <a:lnTo>
                    <a:pt x="1634" y="1747"/>
                  </a:lnTo>
                  <a:lnTo>
                    <a:pt x="1728" y="1662"/>
                  </a:lnTo>
                  <a:lnTo>
                    <a:pt x="1756" y="1605"/>
                  </a:lnTo>
                  <a:lnTo>
                    <a:pt x="1784" y="1549"/>
                  </a:lnTo>
                  <a:lnTo>
                    <a:pt x="1784" y="1549"/>
                  </a:lnTo>
                  <a:lnTo>
                    <a:pt x="1878" y="1586"/>
                  </a:lnTo>
                  <a:lnTo>
                    <a:pt x="1981" y="1596"/>
                  </a:lnTo>
                  <a:lnTo>
                    <a:pt x="2056" y="1586"/>
                  </a:lnTo>
                  <a:lnTo>
                    <a:pt x="2122" y="1567"/>
                  </a:lnTo>
                  <a:lnTo>
                    <a:pt x="2178" y="1539"/>
                  </a:lnTo>
                  <a:lnTo>
                    <a:pt x="2235" y="1501"/>
                  </a:lnTo>
                  <a:lnTo>
                    <a:pt x="2282" y="1454"/>
                  </a:lnTo>
                  <a:lnTo>
                    <a:pt x="2310" y="1398"/>
                  </a:lnTo>
                  <a:lnTo>
                    <a:pt x="2329" y="1331"/>
                  </a:lnTo>
                  <a:lnTo>
                    <a:pt x="2338" y="1265"/>
                  </a:lnTo>
                  <a:lnTo>
                    <a:pt x="2338" y="1265"/>
                  </a:lnTo>
                  <a:lnTo>
                    <a:pt x="2413" y="1246"/>
                  </a:lnTo>
                  <a:lnTo>
                    <a:pt x="2479" y="1218"/>
                  </a:lnTo>
                  <a:lnTo>
                    <a:pt x="2545" y="1180"/>
                  </a:lnTo>
                  <a:lnTo>
                    <a:pt x="2601" y="1133"/>
                  </a:lnTo>
                  <a:lnTo>
                    <a:pt x="2638" y="1086"/>
                  </a:lnTo>
                  <a:lnTo>
                    <a:pt x="2676" y="1020"/>
                  </a:lnTo>
                  <a:lnTo>
                    <a:pt x="2695" y="954"/>
                  </a:lnTo>
                  <a:lnTo>
                    <a:pt x="2704" y="888"/>
                  </a:lnTo>
                  <a:lnTo>
                    <a:pt x="2695" y="822"/>
                  </a:lnTo>
                  <a:lnTo>
                    <a:pt x="2685" y="756"/>
                  </a:lnTo>
                  <a:lnTo>
                    <a:pt x="2657" y="699"/>
                  </a:lnTo>
                  <a:lnTo>
                    <a:pt x="2620" y="642"/>
                  </a:lnTo>
                  <a:lnTo>
                    <a:pt x="2620" y="642"/>
                  </a:lnTo>
                  <a:lnTo>
                    <a:pt x="2629" y="586"/>
                  </a:lnTo>
                  <a:lnTo>
                    <a:pt x="2638" y="529"/>
                  </a:lnTo>
                  <a:lnTo>
                    <a:pt x="2620" y="425"/>
                  </a:lnTo>
                  <a:lnTo>
                    <a:pt x="2573" y="340"/>
                  </a:lnTo>
                  <a:lnTo>
                    <a:pt x="2498" y="274"/>
                  </a:lnTo>
                  <a:lnTo>
                    <a:pt x="2394" y="227"/>
                  </a:lnTo>
                  <a:lnTo>
                    <a:pt x="2394" y="227"/>
                  </a:lnTo>
                  <a:lnTo>
                    <a:pt x="2385" y="180"/>
                  </a:lnTo>
                  <a:lnTo>
                    <a:pt x="2357" y="132"/>
                  </a:lnTo>
                  <a:lnTo>
                    <a:pt x="2291" y="66"/>
                  </a:lnTo>
                  <a:lnTo>
                    <a:pt x="2207" y="19"/>
                  </a:lnTo>
                  <a:lnTo>
                    <a:pt x="2094" y="0"/>
                  </a:lnTo>
                  <a:lnTo>
                    <a:pt x="2028" y="10"/>
                  </a:lnTo>
                  <a:lnTo>
                    <a:pt x="1972" y="29"/>
                  </a:lnTo>
                  <a:lnTo>
                    <a:pt x="1915" y="57"/>
                  </a:lnTo>
                  <a:lnTo>
                    <a:pt x="1868" y="95"/>
                  </a:lnTo>
                  <a:lnTo>
                    <a:pt x="1868" y="95"/>
                  </a:lnTo>
                  <a:lnTo>
                    <a:pt x="1822" y="57"/>
                  </a:lnTo>
                  <a:lnTo>
                    <a:pt x="1775" y="29"/>
                  </a:lnTo>
                  <a:lnTo>
                    <a:pt x="1718" y="10"/>
                  </a:lnTo>
                  <a:lnTo>
                    <a:pt x="1653" y="0"/>
                  </a:lnTo>
                  <a:lnTo>
                    <a:pt x="1577" y="10"/>
                  </a:lnTo>
                  <a:lnTo>
                    <a:pt x="1512" y="38"/>
                  </a:lnTo>
                  <a:lnTo>
                    <a:pt x="1455" y="85"/>
                  </a:lnTo>
                  <a:lnTo>
                    <a:pt x="1408" y="142"/>
                  </a:lnTo>
                  <a:lnTo>
                    <a:pt x="1408" y="142"/>
                  </a:lnTo>
                  <a:lnTo>
                    <a:pt x="1352" y="104"/>
                  </a:lnTo>
                  <a:lnTo>
                    <a:pt x="1296" y="76"/>
                  </a:lnTo>
                  <a:lnTo>
                    <a:pt x="1239" y="66"/>
                  </a:lnTo>
                  <a:lnTo>
                    <a:pt x="1174" y="57"/>
                  </a:lnTo>
                  <a:lnTo>
                    <a:pt x="1089" y="66"/>
                  </a:lnTo>
                  <a:lnTo>
                    <a:pt x="1005" y="95"/>
                  </a:lnTo>
                  <a:lnTo>
                    <a:pt x="930" y="151"/>
                  </a:lnTo>
                  <a:lnTo>
                    <a:pt x="873" y="217"/>
                  </a:lnTo>
                  <a:lnTo>
                    <a:pt x="873" y="217"/>
                  </a:lnTo>
                  <a:lnTo>
                    <a:pt x="770" y="180"/>
                  </a:lnTo>
                  <a:lnTo>
                    <a:pt x="667" y="170"/>
                  </a:lnTo>
                  <a:lnTo>
                    <a:pt x="582" y="180"/>
                  </a:lnTo>
                  <a:lnTo>
                    <a:pt x="498" y="198"/>
                  </a:lnTo>
                  <a:lnTo>
                    <a:pt x="422" y="236"/>
                  </a:lnTo>
                  <a:lnTo>
                    <a:pt x="366" y="283"/>
                  </a:lnTo>
                  <a:lnTo>
                    <a:pt x="310" y="340"/>
                  </a:lnTo>
                  <a:lnTo>
                    <a:pt x="272" y="406"/>
                  </a:lnTo>
                  <a:lnTo>
                    <a:pt x="244" y="482"/>
                  </a:lnTo>
                  <a:lnTo>
                    <a:pt x="235" y="557"/>
                  </a:lnTo>
                  <a:lnTo>
                    <a:pt x="244" y="586"/>
                  </a:lnTo>
                  <a:lnTo>
                    <a:pt x="244" y="604"/>
                  </a:lnTo>
                  <a:close/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65160" y="4629960"/>
              <a:ext cx="288000" cy="69840"/>
            </a:xfrm>
            <a:custGeom>
              <a:avLst/>
              <a:gdLst/>
              <a:ahLst/>
              <a:rect l="l" t="t" r="r" b="b"/>
              <a:pathLst>
                <a:path w="160" h="38">
                  <a:moveTo>
                    <a:pt x="0" y="0"/>
                  </a:moveTo>
                  <a:lnTo>
                    <a:pt x="76" y="28"/>
                  </a:lnTo>
                  <a:lnTo>
                    <a:pt x="141" y="38"/>
                  </a:lnTo>
                  <a:lnTo>
                    <a:pt x="151" y="38"/>
                  </a:lnTo>
                  <a:lnTo>
                    <a:pt x="160" y="3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88880" y="5377320"/>
              <a:ext cx="118800" cy="34920"/>
            </a:xfrm>
            <a:custGeom>
              <a:avLst/>
              <a:gdLst/>
              <a:ahLst/>
              <a:rect l="l" t="t" r="r" b="b"/>
              <a:pathLst>
                <a:path w="66" h="19">
                  <a:moveTo>
                    <a:pt x="0" y="19"/>
                  </a:moveTo>
                  <a:lnTo>
                    <a:pt x="38" y="9"/>
                  </a:lnTo>
                  <a:lnTo>
                    <a:pt x="66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07040" y="5568480"/>
              <a:ext cx="84600" cy="137880"/>
            </a:xfrm>
            <a:custGeom>
              <a:avLst/>
              <a:gdLst/>
              <a:ahLst/>
              <a:rect l="l" t="t" r="r" b="b"/>
              <a:pathLst>
                <a:path w="47" h="75">
                  <a:moveTo>
                    <a:pt x="0" y="0"/>
                  </a:moveTo>
                  <a:lnTo>
                    <a:pt x="19" y="38"/>
                  </a:lnTo>
                  <a:lnTo>
                    <a:pt x="47" y="7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46320" y="5360760"/>
              <a:ext cx="34200" cy="15624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85"/>
                  </a:moveTo>
                  <a:lnTo>
                    <a:pt x="9" y="47"/>
                  </a:lnTo>
                  <a:lnTo>
                    <a:pt x="19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90000" y="4457160"/>
              <a:ext cx="355320" cy="537120"/>
            </a:xfrm>
            <a:custGeom>
              <a:avLst/>
              <a:gdLst/>
              <a:ahLst/>
              <a:rect l="l" t="t" r="r" b="b"/>
              <a:pathLst>
                <a:path w="197" h="292">
                  <a:moveTo>
                    <a:pt x="197" y="292"/>
                  </a:moveTo>
                  <a:lnTo>
                    <a:pt x="197" y="292"/>
                  </a:lnTo>
                  <a:lnTo>
                    <a:pt x="188" y="198"/>
                  </a:lnTo>
                  <a:lnTo>
                    <a:pt x="141" y="122"/>
                  </a:lnTo>
                  <a:lnTo>
                    <a:pt x="84" y="47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4800" y="3848040"/>
              <a:ext cx="169560" cy="209880"/>
            </a:xfrm>
            <a:custGeom>
              <a:avLst/>
              <a:gdLst/>
              <a:ahLst/>
              <a:rect l="l" t="t" r="r" b="b"/>
              <a:pathLst>
                <a:path w="94" h="114">
                  <a:moveTo>
                    <a:pt x="0" y="114"/>
                  </a:moveTo>
                  <a:lnTo>
                    <a:pt x="47" y="66"/>
                  </a:lnTo>
                  <a:lnTo>
                    <a:pt x="94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46480" y="3084480"/>
              <a:ext cx="17640" cy="10296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10" y="56"/>
                  </a:moveTo>
                  <a:lnTo>
                    <a:pt x="10" y="56"/>
                  </a:lnTo>
                  <a:lnTo>
                    <a:pt x="10" y="47"/>
                  </a:lnTo>
                  <a:lnTo>
                    <a:pt x="10" y="28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15080" y="2841480"/>
              <a:ext cx="82800" cy="13788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46" y="0"/>
                  </a:moveTo>
                  <a:lnTo>
                    <a:pt x="18" y="37"/>
                  </a:lnTo>
                  <a:lnTo>
                    <a:pt x="0" y="7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917680" y="2927880"/>
              <a:ext cx="50040" cy="10296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003280" y="3066120"/>
              <a:ext cx="153360" cy="1051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68920" y="3778200"/>
              <a:ext cx="16200" cy="12276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0" y="0"/>
                  </a:moveTo>
                  <a:lnTo>
                    <a:pt x="9" y="29"/>
                  </a:lnTo>
                  <a:lnTo>
                    <a:pt x="9" y="6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90920" y="2133720"/>
            <a:ext cx="4876200" cy="3352320"/>
            <a:chOff x="2590920" y="2133720"/>
            <a:chExt cx="4876200" cy="3352320"/>
          </a:xfrm>
        </p:grpSpPr>
        <p:sp>
          <p:nvSpPr>
            <p:cNvPr id="104" name=""/>
            <p:cNvSpPr/>
            <p:nvPr/>
          </p:nvSpPr>
          <p:spPr>
            <a:xfrm>
              <a:off x="2590920" y="2133720"/>
              <a:ext cx="4876200" cy="3352320"/>
            </a:xfrm>
            <a:custGeom>
              <a:avLst/>
              <a:gdLst/>
              <a:ahLst/>
              <a:rect l="l" t="t" r="r" b="b"/>
              <a:pathLst>
                <a:path w="2704" h="1822">
                  <a:moveTo>
                    <a:pt x="244" y="604"/>
                  </a:moveTo>
                  <a:lnTo>
                    <a:pt x="150" y="633"/>
                  </a:lnTo>
                  <a:lnTo>
                    <a:pt x="66" y="689"/>
                  </a:lnTo>
                  <a:lnTo>
                    <a:pt x="19" y="765"/>
                  </a:lnTo>
                  <a:lnTo>
                    <a:pt x="9" y="812"/>
                  </a:lnTo>
                  <a:lnTo>
                    <a:pt x="0" y="859"/>
                  </a:lnTo>
                  <a:lnTo>
                    <a:pt x="9" y="925"/>
                  </a:lnTo>
                  <a:lnTo>
                    <a:pt x="38" y="982"/>
                  </a:lnTo>
                  <a:lnTo>
                    <a:pt x="75" y="1029"/>
                  </a:lnTo>
                  <a:lnTo>
                    <a:pt x="131" y="1067"/>
                  </a:lnTo>
                  <a:lnTo>
                    <a:pt x="131" y="1067"/>
                  </a:lnTo>
                  <a:lnTo>
                    <a:pt x="75" y="1152"/>
                  </a:lnTo>
                  <a:lnTo>
                    <a:pt x="66" y="1190"/>
                  </a:lnTo>
                  <a:lnTo>
                    <a:pt x="56" y="1237"/>
                  </a:lnTo>
                  <a:lnTo>
                    <a:pt x="66" y="1284"/>
                  </a:lnTo>
                  <a:lnTo>
                    <a:pt x="75" y="1341"/>
                  </a:lnTo>
                  <a:lnTo>
                    <a:pt x="141" y="1416"/>
                  </a:lnTo>
                  <a:lnTo>
                    <a:pt x="225" y="1473"/>
                  </a:lnTo>
                  <a:lnTo>
                    <a:pt x="272" y="1482"/>
                  </a:lnTo>
                  <a:lnTo>
                    <a:pt x="329" y="1492"/>
                  </a:lnTo>
                  <a:lnTo>
                    <a:pt x="347" y="1492"/>
                  </a:lnTo>
                  <a:lnTo>
                    <a:pt x="366" y="1492"/>
                  </a:lnTo>
                  <a:lnTo>
                    <a:pt x="366" y="1492"/>
                  </a:lnTo>
                  <a:lnTo>
                    <a:pt x="441" y="1586"/>
                  </a:lnTo>
                  <a:lnTo>
                    <a:pt x="545" y="1652"/>
                  </a:lnTo>
                  <a:lnTo>
                    <a:pt x="657" y="1690"/>
                  </a:lnTo>
                  <a:lnTo>
                    <a:pt x="779" y="1709"/>
                  </a:lnTo>
                  <a:lnTo>
                    <a:pt x="911" y="1700"/>
                  </a:lnTo>
                  <a:lnTo>
                    <a:pt x="1033" y="1652"/>
                  </a:lnTo>
                  <a:lnTo>
                    <a:pt x="1033" y="1652"/>
                  </a:lnTo>
                  <a:lnTo>
                    <a:pt x="1099" y="1719"/>
                  </a:lnTo>
                  <a:lnTo>
                    <a:pt x="1183" y="1775"/>
                  </a:lnTo>
                  <a:lnTo>
                    <a:pt x="1277" y="1813"/>
                  </a:lnTo>
                  <a:lnTo>
                    <a:pt x="1380" y="1822"/>
                  </a:lnTo>
                  <a:lnTo>
                    <a:pt x="1446" y="1813"/>
                  </a:lnTo>
                  <a:lnTo>
                    <a:pt x="1512" y="1803"/>
                  </a:lnTo>
                  <a:lnTo>
                    <a:pt x="1634" y="1747"/>
                  </a:lnTo>
                  <a:lnTo>
                    <a:pt x="1728" y="1662"/>
                  </a:lnTo>
                  <a:lnTo>
                    <a:pt x="1756" y="1605"/>
                  </a:lnTo>
                  <a:lnTo>
                    <a:pt x="1784" y="1549"/>
                  </a:lnTo>
                  <a:lnTo>
                    <a:pt x="1784" y="1549"/>
                  </a:lnTo>
                  <a:lnTo>
                    <a:pt x="1878" y="1586"/>
                  </a:lnTo>
                  <a:lnTo>
                    <a:pt x="1981" y="1596"/>
                  </a:lnTo>
                  <a:lnTo>
                    <a:pt x="2056" y="1586"/>
                  </a:lnTo>
                  <a:lnTo>
                    <a:pt x="2122" y="1567"/>
                  </a:lnTo>
                  <a:lnTo>
                    <a:pt x="2178" y="1539"/>
                  </a:lnTo>
                  <a:lnTo>
                    <a:pt x="2235" y="1501"/>
                  </a:lnTo>
                  <a:lnTo>
                    <a:pt x="2282" y="1454"/>
                  </a:lnTo>
                  <a:lnTo>
                    <a:pt x="2310" y="1398"/>
                  </a:lnTo>
                  <a:lnTo>
                    <a:pt x="2329" y="1331"/>
                  </a:lnTo>
                  <a:lnTo>
                    <a:pt x="2338" y="1265"/>
                  </a:lnTo>
                  <a:lnTo>
                    <a:pt x="2338" y="1265"/>
                  </a:lnTo>
                  <a:lnTo>
                    <a:pt x="2413" y="1246"/>
                  </a:lnTo>
                  <a:lnTo>
                    <a:pt x="2479" y="1218"/>
                  </a:lnTo>
                  <a:lnTo>
                    <a:pt x="2545" y="1180"/>
                  </a:lnTo>
                  <a:lnTo>
                    <a:pt x="2601" y="1133"/>
                  </a:lnTo>
                  <a:lnTo>
                    <a:pt x="2638" y="1086"/>
                  </a:lnTo>
                  <a:lnTo>
                    <a:pt x="2676" y="1020"/>
                  </a:lnTo>
                  <a:lnTo>
                    <a:pt x="2695" y="954"/>
                  </a:lnTo>
                  <a:lnTo>
                    <a:pt x="2704" y="888"/>
                  </a:lnTo>
                  <a:lnTo>
                    <a:pt x="2695" y="822"/>
                  </a:lnTo>
                  <a:lnTo>
                    <a:pt x="2685" y="756"/>
                  </a:lnTo>
                  <a:lnTo>
                    <a:pt x="2657" y="699"/>
                  </a:lnTo>
                  <a:lnTo>
                    <a:pt x="2620" y="642"/>
                  </a:lnTo>
                  <a:lnTo>
                    <a:pt x="2620" y="642"/>
                  </a:lnTo>
                  <a:lnTo>
                    <a:pt x="2629" y="586"/>
                  </a:lnTo>
                  <a:lnTo>
                    <a:pt x="2638" y="529"/>
                  </a:lnTo>
                  <a:lnTo>
                    <a:pt x="2620" y="425"/>
                  </a:lnTo>
                  <a:lnTo>
                    <a:pt x="2573" y="340"/>
                  </a:lnTo>
                  <a:lnTo>
                    <a:pt x="2498" y="274"/>
                  </a:lnTo>
                  <a:lnTo>
                    <a:pt x="2394" y="227"/>
                  </a:lnTo>
                  <a:lnTo>
                    <a:pt x="2394" y="227"/>
                  </a:lnTo>
                  <a:lnTo>
                    <a:pt x="2385" y="180"/>
                  </a:lnTo>
                  <a:lnTo>
                    <a:pt x="2357" y="132"/>
                  </a:lnTo>
                  <a:lnTo>
                    <a:pt x="2291" y="66"/>
                  </a:lnTo>
                  <a:lnTo>
                    <a:pt x="2207" y="19"/>
                  </a:lnTo>
                  <a:lnTo>
                    <a:pt x="2094" y="0"/>
                  </a:lnTo>
                  <a:lnTo>
                    <a:pt x="2028" y="10"/>
                  </a:lnTo>
                  <a:lnTo>
                    <a:pt x="1972" y="29"/>
                  </a:lnTo>
                  <a:lnTo>
                    <a:pt x="1915" y="57"/>
                  </a:lnTo>
                  <a:lnTo>
                    <a:pt x="1868" y="95"/>
                  </a:lnTo>
                  <a:lnTo>
                    <a:pt x="1868" y="95"/>
                  </a:lnTo>
                  <a:lnTo>
                    <a:pt x="1822" y="57"/>
                  </a:lnTo>
                  <a:lnTo>
                    <a:pt x="1775" y="29"/>
                  </a:lnTo>
                  <a:lnTo>
                    <a:pt x="1718" y="10"/>
                  </a:lnTo>
                  <a:lnTo>
                    <a:pt x="1653" y="0"/>
                  </a:lnTo>
                  <a:lnTo>
                    <a:pt x="1577" y="10"/>
                  </a:lnTo>
                  <a:lnTo>
                    <a:pt x="1512" y="38"/>
                  </a:lnTo>
                  <a:lnTo>
                    <a:pt x="1455" y="85"/>
                  </a:lnTo>
                  <a:lnTo>
                    <a:pt x="1408" y="142"/>
                  </a:lnTo>
                  <a:lnTo>
                    <a:pt x="1408" y="142"/>
                  </a:lnTo>
                  <a:lnTo>
                    <a:pt x="1352" y="104"/>
                  </a:lnTo>
                  <a:lnTo>
                    <a:pt x="1296" y="76"/>
                  </a:lnTo>
                  <a:lnTo>
                    <a:pt x="1239" y="66"/>
                  </a:lnTo>
                  <a:lnTo>
                    <a:pt x="1174" y="57"/>
                  </a:lnTo>
                  <a:lnTo>
                    <a:pt x="1089" y="66"/>
                  </a:lnTo>
                  <a:lnTo>
                    <a:pt x="1005" y="95"/>
                  </a:lnTo>
                  <a:lnTo>
                    <a:pt x="930" y="151"/>
                  </a:lnTo>
                  <a:lnTo>
                    <a:pt x="873" y="217"/>
                  </a:lnTo>
                  <a:lnTo>
                    <a:pt x="873" y="217"/>
                  </a:lnTo>
                  <a:lnTo>
                    <a:pt x="770" y="180"/>
                  </a:lnTo>
                  <a:lnTo>
                    <a:pt x="667" y="170"/>
                  </a:lnTo>
                  <a:lnTo>
                    <a:pt x="582" y="180"/>
                  </a:lnTo>
                  <a:lnTo>
                    <a:pt x="498" y="198"/>
                  </a:lnTo>
                  <a:lnTo>
                    <a:pt x="422" y="236"/>
                  </a:lnTo>
                  <a:lnTo>
                    <a:pt x="366" y="283"/>
                  </a:lnTo>
                  <a:lnTo>
                    <a:pt x="310" y="340"/>
                  </a:lnTo>
                  <a:lnTo>
                    <a:pt x="272" y="406"/>
                  </a:lnTo>
                  <a:lnTo>
                    <a:pt x="244" y="482"/>
                  </a:lnTo>
                  <a:lnTo>
                    <a:pt x="235" y="557"/>
                  </a:lnTo>
                  <a:lnTo>
                    <a:pt x="244" y="586"/>
                  </a:lnTo>
                  <a:lnTo>
                    <a:pt x="244" y="604"/>
                  </a:lnTo>
                  <a:close/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7080" y="4096800"/>
              <a:ext cx="288000" cy="69840"/>
            </a:xfrm>
            <a:custGeom>
              <a:avLst/>
              <a:gdLst/>
              <a:ahLst/>
              <a:rect l="l" t="t" r="r" b="b"/>
              <a:pathLst>
                <a:path w="160" h="38">
                  <a:moveTo>
                    <a:pt x="0" y="0"/>
                  </a:moveTo>
                  <a:lnTo>
                    <a:pt x="76" y="28"/>
                  </a:lnTo>
                  <a:lnTo>
                    <a:pt x="141" y="38"/>
                  </a:lnTo>
                  <a:lnTo>
                    <a:pt x="151" y="38"/>
                  </a:lnTo>
                  <a:lnTo>
                    <a:pt x="160" y="38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50800" y="4844160"/>
              <a:ext cx="118800" cy="34920"/>
            </a:xfrm>
            <a:custGeom>
              <a:avLst/>
              <a:gdLst/>
              <a:ahLst/>
              <a:rect l="l" t="t" r="r" b="b"/>
              <a:pathLst>
                <a:path w="66" h="19">
                  <a:moveTo>
                    <a:pt x="0" y="19"/>
                  </a:moveTo>
                  <a:lnTo>
                    <a:pt x="38" y="9"/>
                  </a:lnTo>
                  <a:lnTo>
                    <a:pt x="66" y="0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8960" y="5034960"/>
              <a:ext cx="84600" cy="137880"/>
            </a:xfrm>
            <a:custGeom>
              <a:avLst/>
              <a:gdLst/>
              <a:ahLst/>
              <a:rect l="l" t="t" r="r" b="b"/>
              <a:pathLst>
                <a:path w="47" h="75">
                  <a:moveTo>
                    <a:pt x="0" y="0"/>
                  </a:moveTo>
                  <a:lnTo>
                    <a:pt x="19" y="38"/>
                  </a:lnTo>
                  <a:lnTo>
                    <a:pt x="47" y="75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08240" y="4827240"/>
              <a:ext cx="34200" cy="15624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85"/>
                  </a:moveTo>
                  <a:lnTo>
                    <a:pt x="9" y="47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51920" y="3924000"/>
              <a:ext cx="355320" cy="537120"/>
            </a:xfrm>
            <a:custGeom>
              <a:avLst/>
              <a:gdLst/>
              <a:ahLst/>
              <a:rect l="l" t="t" r="r" b="b"/>
              <a:pathLst>
                <a:path w="197" h="292">
                  <a:moveTo>
                    <a:pt x="197" y="292"/>
                  </a:moveTo>
                  <a:lnTo>
                    <a:pt x="197" y="292"/>
                  </a:lnTo>
                  <a:lnTo>
                    <a:pt x="188" y="198"/>
                  </a:lnTo>
                  <a:lnTo>
                    <a:pt x="141" y="122"/>
                  </a:lnTo>
                  <a:lnTo>
                    <a:pt x="84" y="4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46360" y="3314880"/>
              <a:ext cx="169560" cy="209520"/>
            </a:xfrm>
            <a:custGeom>
              <a:avLst/>
              <a:gdLst/>
              <a:ahLst/>
              <a:rect l="l" t="t" r="r" b="b"/>
              <a:pathLst>
                <a:path w="94" h="114">
                  <a:moveTo>
                    <a:pt x="0" y="114"/>
                  </a:moveTo>
                  <a:lnTo>
                    <a:pt x="47" y="66"/>
                  </a:lnTo>
                  <a:lnTo>
                    <a:pt x="94" y="0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08040" y="2551320"/>
              <a:ext cx="17640" cy="10296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10" y="56"/>
                  </a:moveTo>
                  <a:lnTo>
                    <a:pt x="10" y="56"/>
                  </a:lnTo>
                  <a:lnTo>
                    <a:pt x="10" y="47"/>
                  </a:lnTo>
                  <a:lnTo>
                    <a:pt x="1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6640" y="2308320"/>
              <a:ext cx="82800" cy="13788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46" y="0"/>
                  </a:moveTo>
                  <a:lnTo>
                    <a:pt x="18" y="37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079240" y="2394720"/>
              <a:ext cx="50040" cy="10296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4165200" y="2532960"/>
              <a:ext cx="153360" cy="1051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0840" y="3245040"/>
              <a:ext cx="16200" cy="12276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0" y="0"/>
                  </a:moveTo>
                  <a:lnTo>
                    <a:pt x="9" y="29"/>
                  </a:lnTo>
                  <a:lnTo>
                    <a:pt x="9" y="67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62120" y="5029200"/>
            <a:ext cx="1371600" cy="922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33720" y="342900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brid (Legacy Distribution/New Dig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2590920"/>
            <a:ext cx="533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8195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114800"/>
            <a:ext cx="2590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 Video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352680"/>
            <a:ext cx="137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 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7391520" y="1600200"/>
            <a:ext cx="1066680" cy="87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52480" y="25146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5146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133720" y="449568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505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495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5410080"/>
            <a:ext cx="838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76920" y="1828800"/>
            <a:ext cx="2514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772400" y="2438280"/>
            <a:ext cx="76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4038480"/>
            <a:ext cx="838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7440" y="16765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7080" y="58672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962520" y="297144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Problem: Status Quo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If a device allows a consumer to do something with content, then it must be OK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Consumers want the inherent advantages of digital storage and distribution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Distributing analog only content will not prevent digitized redistribution (real time digital encoding)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Problem: User Expectations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The free downloading habit among 61 million Americans and millions more worldwide is ‘cemented,’ with only 9 percent of U.S. downloaders believing they are doing anything wrong”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3587"/>
                </a:solidFill>
                <a:latin typeface="Arial"/>
              </a:rPr>
              <a:t>-Eric Garland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f3587"/>
                </a:solidFill>
                <a:latin typeface="Arial"/>
              </a:rPr>
              <a:t>Founder of Beverly Hills-based Big Champagne</a:t>
            </a: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Getting Agreement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Consumers of content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Rights holders of content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CE Devices that manage, display, distribute and record content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Getting this agreement is made more difficult by the interests of many stakeholders 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Distributor/Aggregator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Service provider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Government regulations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Getting Agreement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Rich set of Business models based on: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866520" indent="-346320">
              <a:lnSpc>
                <a:spcPct val="90000"/>
              </a:lnSpc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Source of the content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866520" indent="-346320">
              <a:lnSpc>
                <a:spcPct val="90000"/>
              </a:lnSpc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Distribution Method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866520" indent="-346320">
              <a:lnSpc>
                <a:spcPct val="90000"/>
              </a:lnSpc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Region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866520" indent="-346320">
              <a:lnSpc>
                <a:spcPct val="90000"/>
              </a:lnSpc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Type of Content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866520" indent="-346320">
              <a:lnSpc>
                <a:spcPct val="90000"/>
              </a:lnSpc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…</a:t>
            </a: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.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Lots of experimentation needed to find the balance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866520" indent="-346320">
              <a:lnSpc>
                <a:spcPct val="90000"/>
              </a:lnSpc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Locking down today’s simple “usage rules” are a barrier to experimentation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866520" indent="-346320">
              <a:lnSpc>
                <a:spcPct val="90000"/>
              </a:lnSpc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Allow the device to do more, not less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marL="34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52388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3587"/>
                </a:solidFill>
                <a:uFillTx/>
                <a:latin typeface="Arial"/>
              </a:rPr>
              <a:t>Once digitized, content can and wil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3587"/>
                </a:solidFill>
                <a:latin typeface="Arial Black"/>
              </a:rPr>
              <a:t>Allow Devices Today to Find The Business Model That Will Work</a:t>
            </a:r>
            <a:endParaRPr b="0" lang="en-US" sz="2800" spc="-1" strike="noStrike">
              <a:solidFill>
                <a:srgbClr val="2f358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244520" cy="1406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95880" y="1676520"/>
            <a:ext cx="2511720" cy="1477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809880" y="5257800"/>
            <a:ext cx="1371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429000" y="3124080"/>
            <a:ext cx="1981080" cy="1165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44956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9720" y="30481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0481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2920" y="26668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A Rights Language: MPEG REL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447920" y="1600200"/>
            <a:ext cx="5790240" cy="4190400"/>
            <a:chOff x="1447920" y="1600200"/>
            <a:chExt cx="5790240" cy="4190400"/>
          </a:xfrm>
        </p:grpSpPr>
        <p:sp>
          <p:nvSpPr>
            <p:cNvPr id="156" name=""/>
            <p:cNvSpPr/>
            <p:nvPr/>
          </p:nvSpPr>
          <p:spPr>
            <a:xfrm>
              <a:off x="1447920" y="1600200"/>
              <a:ext cx="5480280" cy="391464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04960" y="4396320"/>
              <a:ext cx="359604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suer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4960" y="1879920"/>
              <a:ext cx="4281480" cy="25160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61640" y="2439360"/>
              <a:ext cx="1541160" cy="55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60200" y="2439360"/>
              <a:ext cx="1541160" cy="55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61640" y="3277800"/>
              <a:ext cx="1541160" cy="55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60200" y="3277800"/>
              <a:ext cx="1541160" cy="55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3960" y="3837240"/>
              <a:ext cx="14238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15080" y="3277800"/>
              <a:ext cx="14230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57680" y="3557880"/>
              <a:ext cx="14238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15080" y="5235840"/>
              <a:ext cx="142308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c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MPEG REL: intro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1752480"/>
          <a:ext cx="7086600" cy="1067040"/>
        </p:xfrm>
        <a:graphic>
          <a:graphicData uri="http://schemas.openxmlformats.org/drawingml/2006/table">
            <a:tbl>
              <a:tblPr/>
              <a:tblGrid>
                <a:gridCol w="1963800"/>
                <a:gridCol w="1587600"/>
                <a:gridCol w="1369800"/>
                <a:gridCol w="2165400"/>
              </a:tblGrid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nci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di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ice ID =  “123456789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rd of the Rings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ly send signal to these rendering devices: TV1, TV2, TV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838080" y="3123720"/>
            <a:ext cx="7086600" cy="2831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:licens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:gra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tvax:device deviceID=”123456789”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mx:play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:digitalResour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:nonSecureIndirect URI=”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theLordOfTheRings.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:digitalResour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tvax:rendere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tvax:device deviceID=”TV1”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tvax:device deviceID=”TV2”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tvax:device deviceID=”TV3”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tvax:rendere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:gra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:issue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:licens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Raley</cp:lastModifiedBy>
  <dcterms:modified xsi:type="dcterms:W3CDTF">2003-04-07T22:42:42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8068423</vt:r8>
  </property>
  <property fmtid="{D5CDD505-2E9C-101B-9397-08002B2CF9AE}" pid="3" name="_AuthorEmail">
    <vt:lpwstr>Michael.Raley@CONTENTGUARD.COM</vt:lpwstr>
  </property>
  <property fmtid="{D5CDD505-2E9C-101B-9397-08002B2CF9AE}" pid="4" name="_AuthorEmailDisplayName">
    <vt:lpwstr>Raley, Michael</vt:lpwstr>
  </property>
  <property fmtid="{D5CDD505-2E9C-101B-9397-08002B2CF9AE}" pid="5" name="_EmailSubject">
    <vt:lpwstr>NAB presentations</vt:lpwstr>
  </property>
</Properties>
</file>