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eb98"/>
              </a:solidFill>
              <a:latin typeface="Franklin Gothic 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eb98"/>
              </a:solidFill>
              <a:latin typeface="Franklin Gothic Medi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eb98"/>
              </a:solidFill>
              <a:latin typeface="Franklin Gothic Mediu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eb98"/>
              </a:solidFill>
              <a:latin typeface="Franklin Gothic Mediu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Click to edit the title text format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3" marL="1810440" indent="-39420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4" marL="2205000" indent="-39276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5" marL="2205000" indent="-3927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6" marL="2205000" indent="-3927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90440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Click to edit the title text format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Click to edit the outline text format</a:t>
            </a:r>
            <a:endParaRPr b="0" lang="en-US" sz="3600" spc="-1" strike="noStrike">
              <a:solidFill>
                <a:srgbClr val="fceb98"/>
              </a:solidFill>
              <a:latin typeface="Franklin Gothic Medium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914400" indent="115920" algn="ctr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3" marL="133524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  <a:p>
            <a:pPr lvl="4" marL="173520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  <a:p>
            <a:pPr lvl="5" marL="1735200" indent="95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  <a:p>
            <a:pPr lvl="6" marL="1735200" indent="95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157040"/>
            <a:ext cx="77724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  <a:ea typeface="ＭＳ Ｐゴシック"/>
              </a:rPr>
              <a:t>Overview of PVR Technology and Applications to Date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440" y="3385800"/>
            <a:ext cx="8458200" cy="30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Skip Pizzi</a:t>
            </a:r>
            <a:endParaRPr b="0" lang="en-US" sz="3600" spc="-1" strike="noStrike">
              <a:solidFill>
                <a:srgbClr val="fceb98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Manager, Media Standards &amp; Regulation</a:t>
            </a:r>
            <a:endParaRPr b="0" lang="en-US" sz="3600" spc="-1" strike="noStrike">
              <a:solidFill>
                <a:srgbClr val="fceb98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Windows New Media Platforms Division</a:t>
            </a:r>
            <a:endParaRPr b="0" lang="en-US" sz="3600" spc="-1" strike="noStrike">
              <a:solidFill>
                <a:srgbClr val="fceb98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Microsoft Corporation</a:t>
            </a:r>
            <a:endParaRPr b="0" lang="en-US" sz="3600" spc="-1" strike="noStrike">
              <a:solidFill>
                <a:srgbClr val="fceb98"/>
              </a:solidFill>
              <a:latin typeface="Franklin Gothic Medium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29"/>
                </a:solidFill>
                <a:latin typeface="Franklin Gothic Medium"/>
              </a:rPr>
              <a:t>Terminology</a:t>
            </a:r>
            <a:endParaRPr b="0" lang="en-US" sz="44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6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VR – Personal Video Recorde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VR – Digital Video Recorde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DR – Personal Digital Recorde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ll refer to high-capacity, local media storage on fixed magnetic disk drive, plus OS, UI, appropriate I/O, IR control and a data communications por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t present “PVR” seems most broadly understood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The flint-axe era</a:t>
            </a: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	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319040"/>
            <a:ext cx="7772400" cy="51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The stand-alone analog PVR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You supply the video (like VCR)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EPG via modem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PVR as a new service business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Basic functionality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VCR-like operations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Smart” timeshifting (EPG)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Live pause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Play while recording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&lt;10 hours capacity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Plus ~30 min pause buffer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Second-gen: PVR+STB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9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Integrated receiver/recorde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e first “PDRs”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EPG data comes with conten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evice dedicated to specific servic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Larger storage capacities (30 hrs +)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tandalone devices also increased capacity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Issues of integration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88720"/>
            <a:ext cx="7772400" cy="53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VR “hijacks” the receive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Two-tuner design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Twin-decoder design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No encoder required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No consumer video input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No resolution choice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reeing up the backchann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Updating the processor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Interactive services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Internet TV services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Next-gen devices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71080"/>
            <a:ext cx="7772400" cy="54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More storage (50-100 hrs)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HD capability (10-12 hrs)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Standalone &amp; Integrated models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Digital I/O (HDMI)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PVR as standard in all STBs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PC w/PVR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Beyond A/V content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Enabling home media networks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More intelligence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Improved search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Segmentation/Micro-navigation (DVD-like)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Business reaction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58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ommercial-skipping concern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Fast-wind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30-sec jump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Automatic removal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Internet redistribution concern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Defining the “authorized domain”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Content protection/copy management (DRM)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VR vs. VOD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uture advertising model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Consumer reaction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6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trong desire yet low penetratio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ardware + subscription obstacl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heap or freely provided Sat/Cable STB+PVR may overcome consumer resistance in U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orizontal market development may also increase penetration outside U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U.S. PVR status report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411804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1.5 million PVRs now in use in U.S.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65% w/integrated receiver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Projected to double by 2004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Growth in cable STB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Typical hard disk capacity is 80 GB now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Likely to move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120 GB by 2004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0" y="1415880"/>
          <a:ext cx="4191120" cy="384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415880"/>
                    <a:ext cx="419112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9T15:46:27Z</dcterms:created>
  <dc:creator>Skip Pizzi</dc:creator>
  <dc:description/>
  <dc:language>en-US</dc:language>
  <cp:lastModifiedBy>Skip Pizzi</cp:lastModifiedBy>
  <dcterms:modified xsi:type="dcterms:W3CDTF">2003-04-07T16:06:21Z</dcterms:modified>
  <cp:revision>12</cp:revision>
  <dc:subject/>
  <dc:title>The current state of PV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64921937</vt:r8>
  </property>
  <property fmtid="{D5CDD505-2E9C-101B-9397-08002B2CF9AE}" pid="3" name="_AuthorEmailDisplayName">
    <vt:lpwstr>Skip Pizzi</vt:lpwstr>
  </property>
  <property fmtid="{D5CDD505-2E9C-101B-9397-08002B2CF9AE}" pid="4" name="_EmailSubject">
    <vt:lpwstr>NAB presentations</vt:lpwstr>
  </property>
</Properties>
</file>