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15D-5FB7-4115-9994-72B52697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479-B7BF-47EA-A0DE-79235628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53A-0A79-4C8D-8321-E2C2C2D4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EB6-C58D-405E-96A1-172E3ABC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B0C-676B-4AF1-8731-CB8A72FC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B21-87C7-4440-A058-6EAC8DD5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98F-EDCA-407A-B6E3-6FD503A5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E0B-BD7F-49F5-AA8A-EF78F125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2E8-A958-4858-A001-0F3A9057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523-65A2-40CB-943A-E9C4CF89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010-0B05-4C5B-A7B5-B24E09A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0DE-40D6-4163-A41E-1992453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FFB7-11B5-4BCA-AA1D-2846F4E19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N7353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SCN7365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DSCN7354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SCN7356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SCN7358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SCN7359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SCN7361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SCN7362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SCN7363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SCN7364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20:46:28Z</dcterms:created>
  <dc:creator>Aske Dam</dc:creator>
  <dc:description/>
  <dc:language>en-US</dc:language>
  <cp:lastModifiedBy>Aske Dam</cp:lastModifiedBy>
  <dcterms:modified xsi:type="dcterms:W3CDTF">2003-07-07T18:10:16Z</dcterms:modified>
  <cp:revision>2</cp:revision>
  <dc:subject/>
  <dc:title>PowerPoint Presentation</dc:title>
</cp:coreProperties>
</file>