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79DB-669F-41BF-BB59-5046F878C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, nie govariou par rus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74F6-70FE-47FB-9EB4-0BA7E5F23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1D23-ECCB-4A35-B461-A4464B28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84A-2B07-4BDF-B12E-AB122086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F6E4-0746-4BD0-A749-01F5CA89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6DA9-2A79-4C90-84BE-E9F24EBC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0992-A606-459F-A2C3-EB82ED9A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A15B-1EA8-47A8-A71F-DEA82D40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EEE0-2125-4308-8B0A-DA11DBC2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C541-FD30-4959-B1A4-AE416DF9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E30B-F428-4D11-9A3C-5B743EE5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17B1-01FA-4488-8CE5-38AD48C7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6AC-0FF3-415C-ADDD-3B549AF0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D4E8-EBC6-44BA-B54C-8E62C75B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7763-A503-4140-AD0E-B6DDAC31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0A3E-0280-44E3-911F-99B0BE82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4721-4E44-4AE3-AAC9-AED64878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707F-6210-4EB0-B277-35064C1D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EEC-06F6-4EDD-B69A-6413CE80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1F1-8196-46C6-A208-1B129156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65B7-598F-4464-93EC-57FF2610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ACD-D7A0-4C9B-AD22-FDCED466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58A-6D53-48AF-950D-A8117B7F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52D3-2900-46F9-B621-22283A6C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6DF-6EF4-49DF-B6D1-BA18F35D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933ff"/>
              </a:buClr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cc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A630-2118-4143-9D71-65CCEDF7A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6" name="tvat7a" descr=""/>
          <p:cNvPicPr/>
          <p:nvPr/>
        </p:nvPicPr>
        <p:blipFill>
          <a:blip r:embed="rId3"/>
          <a:stretch/>
        </p:blipFill>
        <p:spPr>
          <a:xfrm>
            <a:off x="7823160" y="0"/>
            <a:ext cx="1320840" cy="13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47D1-8CA9-45B2-9BF3-4EFA82BB11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61480" y="2161800"/>
            <a:ext cx="772956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imes New Roman"/>
              </a:rPr>
              <a:t>A Metadata Solution</a:t>
            </a:r>
            <a:br>
              <a:rPr sz="3200"/>
            </a:br>
            <a:r>
              <a:rPr b="1" lang="en-GB" sz="3200" spc="-1" strike="noStrike">
                <a:solidFill>
                  <a:srgbClr val="ffcc00"/>
                </a:solidFill>
                <a:latin typeface="Times New Roman"/>
              </a:rPr>
              <a:t>for TV-Anytime</a:t>
            </a:r>
            <a:br>
              <a:rPr sz="3200"/>
            </a:br>
            <a:r>
              <a:rPr b="1" i="1" lang="en-GB" sz="2400" spc="-1" strike="noStrike">
                <a:solidFill>
                  <a:srgbClr val="ffcc00"/>
                </a:solidFill>
                <a:latin typeface="Times New Roman"/>
              </a:rPr>
              <a:t>IBC’2000</a:t>
            </a:r>
            <a:br>
              <a:rPr sz="2400"/>
            </a:br>
            <a:r>
              <a:rPr b="1" i="1" lang="en-GB" sz="2400" spc="-1" strike="noStrike">
                <a:solidFill>
                  <a:srgbClr val="ffcc00"/>
                </a:solidFill>
                <a:latin typeface="Times New Roman"/>
              </a:rPr>
              <a:t>Amsterdam, 11 September 2000</a:t>
            </a:r>
            <a:br>
              <a:rPr sz="2400"/>
            </a:br>
            <a:br>
              <a:rPr sz="2400"/>
            </a:br>
            <a:r>
              <a:rPr b="1" lang="en-GB" sz="3200" spc="-1" strike="noStrike">
                <a:solidFill>
                  <a:srgbClr val="ffcc00"/>
                </a:solidFill>
                <a:latin typeface="Times New Roman"/>
              </a:rPr>
              <a:t>Jean-Pierre Evain, EBU</a:t>
            </a:r>
            <a:br>
              <a:rPr sz="3200"/>
            </a:br>
            <a:r>
              <a:rPr b="1" lang="en-GB" sz="3200" spc="-1" strike="noStrike">
                <a:solidFill>
                  <a:srgbClr val="ffcc00"/>
                </a:solidFill>
                <a:latin typeface="Times New Roman"/>
              </a:rPr>
              <a:t>evain@ebu.ch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93" name="tvat7a" descr=""/>
          <p:cNvPicPr/>
          <p:nvPr/>
        </p:nvPicPr>
        <p:blipFill>
          <a:blip r:embed="rId1"/>
          <a:stretch/>
        </p:blipFill>
        <p:spPr>
          <a:xfrm>
            <a:off x="3970440" y="262080"/>
            <a:ext cx="1492200" cy="150012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4040280" y="5527800"/>
            <a:ext cx="1380960" cy="1141200"/>
            <a:chOff x="4040280" y="5527800"/>
            <a:chExt cx="1380960" cy="1141200"/>
          </a:xfrm>
        </p:grpSpPr>
        <p:sp>
          <p:nvSpPr>
            <p:cNvPr id="95" name=""/>
            <p:cNvSpPr/>
            <p:nvPr/>
          </p:nvSpPr>
          <p:spPr>
            <a:xfrm>
              <a:off x="4040280" y="5527800"/>
              <a:ext cx="1380960" cy="114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4060080" y="5527800"/>
            <a:ext cx="1301040" cy="1120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60080" y="5527800"/>
                      <a:ext cx="1301040" cy="11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What needs to be standardised ?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9760" y="1655280"/>
            <a:ext cx="85438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common fra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mon representation language: syntax and structu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9933ff"/>
              </a:buClr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mon rules for compliance and interoperability testing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9933ff"/>
              </a:buClr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tadata and application life-cyc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9933ff"/>
              </a:buClr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mon security proced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ndwidth and platform resources are still limited 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common libraries: common semantic and datatypes including e.g. enumeration 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tadata must be exchangeable and interoper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common forma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uthoring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TV-Anytime’s choice: XML framework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9640" y="1914120"/>
            <a:ext cx="8700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XML, XML-Schema...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XSL, DO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XML Schema: controlled structure, syntax and data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tains the separation of data from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llows different levels of validation on the server and / or client plat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llows transformation from dictionary based metadata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9933ff"/>
              </a:buClr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ructure similar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9933ff"/>
              </a:buClr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path to common semantic (elements, attributes, controlled valu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pports exten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TV-Anytime Metadata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ore specifically...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3800" y="1701360"/>
            <a:ext cx="85453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rch, selection, user preferences and profiles, user history, parental guidance rating, visual summary, annotations, bookmarks, media reviews, recording and playback references (implementation?)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gmentation, frame accurate timing (NVo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t characteri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 characteristics (PDR pro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right management and protection, usage rules, financial and transactional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rage management, security ( of person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6195960" y="5213520"/>
            <a:ext cx="2948040" cy="1339560"/>
            <a:chOff x="6195960" y="5213520"/>
            <a:chExt cx="2948040" cy="1339560"/>
          </a:xfrm>
        </p:grpSpPr>
        <p:sp>
          <p:nvSpPr>
            <p:cNvPr id="238" name=""/>
            <p:cNvSpPr/>
            <p:nvPr/>
          </p:nvSpPr>
          <p:spPr>
            <a:xfrm>
              <a:off x="7086600" y="541008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95960" y="52135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AP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86600" y="5638680"/>
              <a:ext cx="1828800" cy="9144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Applica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3110040" y="1770120"/>
            <a:ext cx="28440" cy="425772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14800" y="2852640"/>
            <a:ext cx="2666880" cy="914400"/>
            <a:chOff x="3214800" y="2852640"/>
            <a:chExt cx="2666880" cy="914400"/>
          </a:xfrm>
        </p:grpSpPr>
        <p:sp>
          <p:nvSpPr>
            <p:cNvPr id="243" name=""/>
            <p:cNvSpPr/>
            <p:nvPr/>
          </p:nvSpPr>
          <p:spPr>
            <a:xfrm>
              <a:off x="4205160" y="2852640"/>
              <a:ext cx="1676520" cy="914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E.g. Nested KL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represent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of valu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4800" y="2852640"/>
              <a:ext cx="990360" cy="914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Sche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I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334120" y="2401920"/>
            <a:ext cx="3581280" cy="2833200"/>
            <a:chOff x="5334120" y="2401920"/>
            <a:chExt cx="3581280" cy="2833200"/>
          </a:xfrm>
        </p:grpSpPr>
        <p:sp>
          <p:nvSpPr>
            <p:cNvPr id="246" name=""/>
            <p:cNvSpPr/>
            <p:nvPr/>
          </p:nvSpPr>
          <p:spPr>
            <a:xfrm>
              <a:off x="7467480" y="2590920"/>
              <a:ext cx="1447920" cy="13716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Schem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Libra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72200" y="3048120"/>
              <a:ext cx="1219320" cy="5331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decod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15200" y="4343400"/>
              <a:ext cx="137160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Descriptio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24480" y="3657600"/>
              <a:ext cx="990720" cy="533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Pars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34120" y="2401920"/>
              <a:ext cx="1218960" cy="380880"/>
            </a:xfrm>
            <a:custGeom>
              <a:avLst/>
              <a:gdLst>
                <a:gd name="textAreaLeft" fmla="*/ 213120 w 1218960"/>
                <a:gd name="textAreaRight" fmla="*/ 883800 w 121896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477120" y="2514600"/>
              <a:ext cx="1218960" cy="380880"/>
            </a:xfrm>
            <a:custGeom>
              <a:avLst/>
              <a:gdLst>
                <a:gd name="textAreaLeft" fmla="*/ 213480 w 1218960"/>
                <a:gd name="textAreaRight" fmla="*/ 884160 w 121896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 rot="2873400">
              <a:off x="6443640" y="4442400"/>
              <a:ext cx="762480" cy="609840"/>
            </a:xfrm>
            <a:custGeom>
              <a:avLst/>
              <a:gdLst>
                <a:gd name="textAreaLeft" fmla="*/ 133200 w 762480"/>
                <a:gd name="textAreaRight" fmla="*/ 552960 w 762480"/>
                <a:gd name="textAreaTop" fmla="*/ 81720 h 609840"/>
                <a:gd name="textAreaBottom" fmla="*/ 52812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304920" y="41148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Times New Roman"/>
              </a:rPr>
              <a:t>Common structure and semantics§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0" y="1627200"/>
            <a:ext cx="3048120" cy="4011480"/>
            <a:chOff x="0" y="1627200"/>
            <a:chExt cx="3048120" cy="4011480"/>
          </a:xfrm>
        </p:grpSpPr>
        <p:sp>
          <p:nvSpPr>
            <p:cNvPr id="255" name=""/>
            <p:cNvSpPr/>
            <p:nvPr/>
          </p:nvSpPr>
          <p:spPr>
            <a:xfrm>
              <a:off x="1752480" y="2870280"/>
              <a:ext cx="1295640" cy="8730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Valida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Descript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12800" y="2362320"/>
              <a:ext cx="292320" cy="869760"/>
            </a:xfrm>
            <a:custGeom>
              <a:avLst/>
              <a:gdLst>
                <a:gd name="textAreaLeft" fmla="*/ 38880 w 292320"/>
                <a:gd name="textAreaRight" fmla="*/ 253440 w 292320"/>
                <a:gd name="textAreaTop" fmla="*/ 151920 h 869760"/>
                <a:gd name="textAreaBottom" fmla="*/ 630720 h 86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81080" y="2133720"/>
              <a:ext cx="1067040" cy="609480"/>
            </a:xfrm>
            <a:prstGeom prst="ellipse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Valu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0" y="1627200"/>
              <a:ext cx="2711520" cy="4011480"/>
              <a:chOff x="0" y="1627200"/>
              <a:chExt cx="2711520" cy="4011480"/>
            </a:xfrm>
          </p:grpSpPr>
          <p:sp>
            <p:nvSpPr>
              <p:cNvPr id="259" name=""/>
              <p:cNvSpPr/>
              <p:nvPr/>
            </p:nvSpPr>
            <p:spPr>
              <a:xfrm>
                <a:off x="228600" y="5029200"/>
                <a:ext cx="1447920" cy="60948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</a:rPr>
                  <a:t>Dictionar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28600" y="2286000"/>
                <a:ext cx="1447920" cy="175248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Times New Roman"/>
                  </a:rPr>
                  <a:t>XML Schem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Times New Roman"/>
                  </a:rPr>
                  <a:t>Data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1627200"/>
                <a:ext cx="271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00"/>
                    </a:solidFill>
                    <a:latin typeface="Times New Roman"/>
                  </a:rPr>
                  <a:t>Metadata Authorin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0" y="3505320"/>
                <a:ext cx="533520" cy="1676160"/>
              </a:xfrm>
              <a:custGeom>
                <a:avLst/>
                <a:gdLst>
                  <a:gd name="textAreaLeft" fmla="*/ 71280 w 533520"/>
                  <a:gd name="textAreaRight" fmla="*/ 462240 w 533520"/>
                  <a:gd name="textAreaTop" fmla="*/ 293040 h 1676160"/>
                  <a:gd name="textAreaBottom" fmla="*/ 1215360 h 1676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1295280" y="3657600"/>
                <a:ext cx="533520" cy="1676520"/>
              </a:xfrm>
              <a:custGeom>
                <a:avLst/>
                <a:gdLst>
                  <a:gd name="textAreaLeft" fmla="*/ 71280 w 533520"/>
                  <a:gd name="textAreaRight" fmla="*/ 462240 w 533520"/>
                  <a:gd name="textAreaTop" fmla="*/ 293400 h 1676520"/>
                  <a:gd name="textAreaBottom" fmla="*/ 1215720 h 1676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"/>
          <p:cNvSpPr/>
          <p:nvPr/>
        </p:nvSpPr>
        <p:spPr>
          <a:xfrm rot="18792000">
            <a:off x="1461240" y="4356360"/>
            <a:ext cx="1925640" cy="320760"/>
          </a:xfrm>
          <a:custGeom>
            <a:avLst/>
            <a:gdLst>
              <a:gd name="textAreaLeft" fmla="*/ 300600 w 1925640"/>
              <a:gd name="textAreaRight" fmla="*/ 1685160 w 1925640"/>
              <a:gd name="textAreaTop" fmla="*/ 80280 h 320760"/>
              <a:gd name="textAreaBottom" fmla="*/ 240840 h 320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03680" y="14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3968640"/>
            <a:ext cx="2698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PEG2 TS Private S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SM CC Object Carous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P 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7200" y="6175440"/>
            <a:ext cx="5973840" cy="476280"/>
          </a:xfrm>
          <a:custGeom>
            <a:avLst/>
            <a:gdLst>
              <a:gd name="textAreaLeft" fmla="*/ 0 w 5973840"/>
              <a:gd name="textAreaRight" fmla="*/ 5974200 w 59738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Update mechanis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End-to-end delivery and manage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89760" y="1824120"/>
            <a:ext cx="14040" cy="4241880"/>
          </a:xfrm>
          <a:prstGeom prst="line">
            <a:avLst/>
          </a:prstGeom>
          <a:ln w="93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13000" y="2862360"/>
            <a:ext cx="2667240" cy="91440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Encod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XML descrip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e.g. binarised, zipp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33600" y="1628640"/>
            <a:ext cx="256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Encoding &amp; 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1616040"/>
            <a:ext cx="236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Decoding, parsing &amp;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64000" y="4935600"/>
            <a:ext cx="2641680" cy="1116360"/>
            <a:chOff x="3564000" y="4935600"/>
            <a:chExt cx="2641680" cy="1116360"/>
          </a:xfrm>
        </p:grpSpPr>
        <p:grpSp>
          <p:nvGrpSpPr>
            <p:cNvPr id="274" name=""/>
            <p:cNvGrpSpPr/>
            <p:nvPr/>
          </p:nvGrpSpPr>
          <p:grpSpPr>
            <a:xfrm>
              <a:off x="3564000" y="4935600"/>
              <a:ext cx="2107080" cy="1116360"/>
              <a:chOff x="3564000" y="4935600"/>
              <a:chExt cx="2107080" cy="1116360"/>
            </a:xfrm>
          </p:grpSpPr>
          <p:sp>
            <p:nvSpPr>
              <p:cNvPr id="275" name=""/>
              <p:cNvSpPr/>
              <p:nvPr/>
            </p:nvSpPr>
            <p:spPr>
              <a:xfrm>
                <a:off x="3564000" y="5348160"/>
                <a:ext cx="2107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Times New Roman"/>
                  </a:rPr>
                  <a:t>E.g ARIB, ATSC,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Times New Roman"/>
                  </a:rPr>
                  <a:t>DVB, W3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416480" y="4935600"/>
                <a:ext cx="403200" cy="361800"/>
              </a:xfrm>
              <a:prstGeom prst="upArrow">
                <a:avLst>
                  <a:gd name="adj1" fmla="val 50000"/>
                  <a:gd name="adj2" fmla="val 25000"/>
                </a:avLst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757840" y="5397480"/>
              <a:ext cx="447840" cy="303120"/>
            </a:xfrm>
            <a:prstGeom prst="rightArrow">
              <a:avLst>
                <a:gd name="adj1" fmla="val 50000"/>
                <a:gd name="adj2" fmla="val 36936"/>
              </a:avLst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44200" y="0"/>
            <a:ext cx="775332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TV-Anytime, MPEG-7, EBU, SMPTE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Integration ?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11360" y="3494160"/>
            <a:ext cx="2313000" cy="16844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MPEG-7 Integration AH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4520" y="2149560"/>
            <a:ext cx="16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V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81200" y="5297400"/>
            <a:ext cx="21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P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11800" y="5297400"/>
            <a:ext cx="21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EG-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9240" y="3951360"/>
            <a:ext cx="12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B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05440" y="2889360"/>
            <a:ext cx="2211480" cy="23367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224160" y="2820960"/>
            <a:ext cx="1005120" cy="1133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987560" y="4447800"/>
            <a:ext cx="704880" cy="8492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5580000" y="4789440"/>
            <a:ext cx="1006560" cy="4953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02240" y="2889360"/>
            <a:ext cx="0" cy="5857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462040" y="4773600"/>
            <a:ext cx="1005120" cy="5666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61240" y="3274920"/>
            <a:ext cx="27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PEG-7 TVA AH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12960" y="3770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/M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97040" y="5599080"/>
            <a:ext cx="3838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TV-Anytime Metadata</a:t>
            </a:r>
            <a:br>
              <a:rPr sz="3200"/>
            </a:b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Current Status and future work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44680" y="1684440"/>
            <a:ext cx="81784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list of requirements had been def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framework has been selected that will enable the definition of a solution fulfilling these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veral Metadata schemas are under study that will be used to check that the framework actually corresponds to the TV-Anytime Metadata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preliminary specification will be published at the September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other call for proposals for metadata Schemas filling the gaps to fully cover the TVA business scena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ank-you for your attention 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Why Metadata?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9680" y="1698120"/>
            <a:ext cx="8643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ETADATA IS NOT NEW but had a different nam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data about data and now everything is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tadata description will federate information currently generated on a variety of suppo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ENVIRONMENT IS NEW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tadata corresponds to  a new overall consistent framework, from production to delivery and storage of content, to create, save, update, transport, exchange, process, manage and customise information to be shared by several pa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V-Anytime is one domain of application justifying the development of an harmonised metadata solu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2280" y="6450120"/>
            <a:ext cx="1909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56120" y="6450120"/>
            <a:ext cx="28317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61200" y="6176880"/>
            <a:ext cx="6649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94680" bIns="94680" anchor="t">
            <a:spAutoFit/>
          </a:bodyPr>
          <a:p>
            <a:pPr marL="157320" indent="-15732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100" spc="-1" strike="noStrike">
                <a:solidFill>
                  <a:srgbClr val="ffff00"/>
                </a:solidFill>
                <a:latin typeface="FuturaA Hv BT"/>
              </a:rPr>
              <a:t>200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9960" y="266760"/>
            <a:ext cx="702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imes New Roman"/>
              </a:rPr>
              <a:t>Rationale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: Convergence and evolution in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an horizontal mar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-720" y="1698480"/>
            <a:ext cx="6684840" cy="4821120"/>
            <a:chOff x="-720" y="1698480"/>
            <a:chExt cx="6684840" cy="4821120"/>
          </a:xfrm>
        </p:grpSpPr>
        <p:sp>
          <p:nvSpPr>
            <p:cNvPr id="105" name=""/>
            <p:cNvSpPr/>
            <p:nvPr/>
          </p:nvSpPr>
          <p:spPr>
            <a:xfrm rot="5400000">
              <a:off x="2154960" y="1175760"/>
              <a:ext cx="3646440" cy="5411880"/>
            </a:xfrm>
            <a:prstGeom prst="triangle">
              <a:avLst>
                <a:gd name="adj" fmla="val 49995"/>
              </a:avLst>
            </a:prstGeom>
            <a:solidFill>
              <a:srgbClr val="ff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74240" y="2973240"/>
              <a:ext cx="1440" cy="2992320"/>
            </a:xfrm>
            <a:prstGeom prst="line">
              <a:avLst/>
            </a:prstGeom>
            <a:ln w="1260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93280" y="3365280"/>
              <a:ext cx="1080" cy="2600280"/>
            </a:xfrm>
            <a:prstGeom prst="line">
              <a:avLst/>
            </a:prstGeom>
            <a:ln w="1260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11960" y="3690720"/>
              <a:ext cx="1440" cy="2274840"/>
            </a:xfrm>
            <a:prstGeom prst="line">
              <a:avLst/>
            </a:prstGeom>
            <a:ln w="1260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37320" y="3952800"/>
              <a:ext cx="1080" cy="2012760"/>
            </a:xfrm>
            <a:prstGeom prst="line">
              <a:avLst/>
            </a:prstGeom>
            <a:ln w="1260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76400" y="6102000"/>
              <a:ext cx="4623840" cy="1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83000" y="6162480"/>
              <a:ext cx="6195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94680" bIns="94680" anchor="t">
              <a:spAutoFit/>
            </a:bodyPr>
            <a:p>
              <a:pPr marL="157320" indent="-157320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100" spc="-1" strike="noStrike">
                  <a:solidFill>
                    <a:srgbClr val="ffff00"/>
                  </a:solidFill>
                  <a:latin typeface="FuturaA Hv BT"/>
                </a:rPr>
                <a:t>1998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02040" y="6162480"/>
              <a:ext cx="6195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94680" bIns="94680" anchor="t">
              <a:spAutoFit/>
            </a:bodyPr>
            <a:p>
              <a:pPr marL="157320" indent="-157320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100" spc="-1" strike="noStrike">
                  <a:solidFill>
                    <a:srgbClr val="ffff00"/>
                  </a:solidFill>
                  <a:latin typeface="FuturaA Hv BT"/>
                </a:rPr>
                <a:t>1999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20720" y="6162480"/>
              <a:ext cx="6195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94680" bIns="94680" anchor="t">
              <a:spAutoFit/>
            </a:bodyPr>
            <a:p>
              <a:pPr marL="157320" indent="-157320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100" spc="-1" strike="noStrike">
                  <a:solidFill>
                    <a:srgbClr val="ffff00"/>
                  </a:solidFill>
                  <a:latin typeface="FuturaA Hv BT"/>
                </a:rPr>
                <a:t>2000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74240" y="5976720"/>
              <a:ext cx="1440" cy="25092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93280" y="5976720"/>
              <a:ext cx="1080" cy="25092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11960" y="5976720"/>
              <a:ext cx="1440" cy="25092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37320" y="5976720"/>
              <a:ext cx="1080" cy="25092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5560" y="2276280"/>
              <a:ext cx="10821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94680" bIns="94680" anchor="t">
              <a:spAutoFit/>
            </a:bodyPr>
            <a:p>
              <a:pPr algn="ctr">
                <a:lnSpc>
                  <a:spcPct val="90000"/>
                </a:lnSpc>
                <a:spcBef>
                  <a:spcPts val="689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ffff00"/>
                  </a:solidFill>
                  <a:latin typeface="Arial"/>
                </a:rPr>
                <a:t>TV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7880" y="1765080"/>
              <a:ext cx="678600" cy="511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9240" y="1790280"/>
              <a:ext cx="514440" cy="435240"/>
            </a:xfrm>
            <a:prstGeom prst="roundRect">
              <a:avLst>
                <a:gd name="adj" fmla="val 12324"/>
              </a:avLst>
            </a:prstGeom>
            <a:solidFill>
              <a:srgbClr val="fde3b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5760" y="1798560"/>
              <a:ext cx="41040" cy="420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7200" y="1798560"/>
              <a:ext cx="39600" cy="420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567720" y="1806480"/>
            <a:ext cx="357480" cy="403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7720" y="1806480"/>
                      <a:ext cx="357480" cy="40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283680" y="6032160"/>
              <a:ext cx="9237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94680" bIns="94680" anchor="t">
              <a:spAutoFit/>
            </a:bodyPr>
            <a:p>
              <a:pPr algn="ctr">
                <a:lnSpc>
                  <a:spcPct val="90000"/>
                </a:lnSpc>
                <a:spcBef>
                  <a:spcPts val="689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PC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82800" y="2874600"/>
              <a:ext cx="790920" cy="642960"/>
            </a:xfrm>
            <a:prstGeom prst="rect">
              <a:avLst/>
            </a:prstGeom>
            <a:solidFill>
              <a:srgbClr val="fafe8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689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9933ff"/>
                  </a:solidFill>
                  <a:latin typeface="Arial"/>
                </a:rPr>
                <a:t>WWW</a:t>
              </a:r>
              <a:br>
                <a:rPr sz="1100"/>
              </a:br>
              <a:r>
                <a:rPr b="1" lang="en-US" sz="1100" spc="-1" strike="noStrike">
                  <a:solidFill>
                    <a:srgbClr val="9933ff"/>
                  </a:solidFill>
                  <a:latin typeface="Arial"/>
                </a:rPr>
                <a:t>(limited</a:t>
              </a:r>
              <a:br>
                <a:rPr sz="1100"/>
              </a:br>
              <a:r>
                <a:rPr b="1" lang="en-US" sz="1100" spc="-1" strike="noStrike">
                  <a:solidFill>
                    <a:srgbClr val="9933ff"/>
                  </a:solidFill>
                  <a:latin typeface="Arial"/>
                </a:rPr>
                <a:t>graphics)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15600" y="2776320"/>
              <a:ext cx="790920" cy="642960"/>
            </a:xfrm>
            <a:prstGeom prst="rect">
              <a:avLst/>
            </a:prstGeom>
            <a:solidFill>
              <a:srgbClr val="fafe8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689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9933ff"/>
                  </a:solidFill>
                  <a:latin typeface="Arial"/>
                </a:rPr>
                <a:t>WWW</a:t>
              </a:r>
              <a:br>
                <a:rPr sz="1100"/>
              </a:br>
              <a:r>
                <a:rPr b="1" lang="en-US" sz="1100" spc="-1" strike="noStrike">
                  <a:solidFill>
                    <a:srgbClr val="9933ff"/>
                  </a:solidFill>
                  <a:latin typeface="Arial"/>
                </a:rPr>
                <a:t>(enhanced</a:t>
              </a:r>
              <a:br>
                <a:rPr sz="1100"/>
              </a:br>
              <a:r>
                <a:rPr b="1" lang="en-US" sz="1100" spc="-1" strike="noStrike">
                  <a:solidFill>
                    <a:srgbClr val="9933ff"/>
                  </a:solidFill>
                  <a:latin typeface="Arial"/>
                </a:rPr>
                <a:t>features)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68760" y="4279680"/>
              <a:ext cx="932760" cy="641160"/>
            </a:xfrm>
            <a:prstGeom prst="rect">
              <a:avLst/>
            </a:prstGeom>
            <a:solidFill>
              <a:srgbClr val="fafe8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689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9933ff"/>
                  </a:solidFill>
                  <a:latin typeface="Arial"/>
                </a:rPr>
                <a:t>Video Conferenci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37800" y="4997160"/>
              <a:ext cx="1432440" cy="642960"/>
            </a:xfrm>
            <a:prstGeom prst="rect">
              <a:avLst/>
            </a:prstGeom>
            <a:solidFill>
              <a:srgbClr val="fafe8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689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9933ff"/>
                  </a:solidFill>
                  <a:latin typeface="Arial"/>
                </a:rPr>
                <a:t>Full Internet Access</a:t>
              </a:r>
              <a:br>
                <a:rPr sz="1100"/>
              </a:br>
              <a:r>
                <a:rPr b="1" lang="en-US" sz="1100" spc="-1" strike="noStrike">
                  <a:solidFill>
                    <a:srgbClr val="9933ff"/>
                  </a:solidFill>
                  <a:latin typeface="Arial"/>
                </a:rPr>
                <a:t>(ftp, WWW, e-mail, ..)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25200" y="4736880"/>
              <a:ext cx="790920" cy="641160"/>
            </a:xfrm>
            <a:prstGeom prst="rect">
              <a:avLst/>
            </a:prstGeom>
            <a:solidFill>
              <a:srgbClr val="fafe8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689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9933ff"/>
                  </a:solidFill>
                  <a:latin typeface="Arial"/>
                </a:rPr>
                <a:t>Internet Telephony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52400" y="4082760"/>
              <a:ext cx="791280" cy="642960"/>
            </a:xfrm>
            <a:prstGeom prst="rect">
              <a:avLst/>
            </a:prstGeom>
            <a:solidFill>
              <a:srgbClr val="fafe8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689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9933ff"/>
                  </a:solidFill>
                  <a:latin typeface="Arial"/>
                </a:rPr>
                <a:t>Audio on</a:t>
              </a:r>
              <a:br>
                <a:rPr sz="1100"/>
              </a:br>
              <a:r>
                <a:rPr b="1" lang="en-US" sz="1100" spc="-1" strike="noStrike">
                  <a:solidFill>
                    <a:srgbClr val="9933ff"/>
                  </a:solidFill>
                  <a:latin typeface="Arial"/>
                </a:rPr>
                <a:t>Demand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40000" y="2220840"/>
              <a:ext cx="11872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94680" bIns="94680" anchor="t">
              <a:spAutoFit/>
            </a:bodyPr>
            <a:p>
              <a:pPr marL="157320" indent="-157320"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ffff00"/>
                  </a:solidFill>
                  <a:latin typeface="FuturaA Hv BT"/>
                </a:rPr>
                <a:t>Broadcast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01480" y="5371920"/>
              <a:ext cx="1302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94680" bIns="94680" anchor="t">
              <a:spAutoFit/>
            </a:bodyPr>
            <a:p>
              <a:pPr marL="157320" indent="-157320"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ffff00"/>
                  </a:solidFill>
                  <a:latin typeface="FuturaA Hv BT"/>
                </a:rPr>
                <a:t>Interactive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560" y="2822400"/>
              <a:ext cx="1082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94680" bIns="94680" anchor="t">
              <a:spAutoFit/>
            </a:bodyPr>
            <a:p>
              <a:pPr algn="ctr">
                <a:lnSpc>
                  <a:spcPct val="90000"/>
                </a:lnSpc>
                <a:spcBef>
                  <a:spcPts val="689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ffff00"/>
                  </a:solidFill>
                  <a:latin typeface="Arial"/>
                </a:rPr>
                <a:t>TV with increasing processi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4760" y="4478040"/>
              <a:ext cx="1080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94680" bIns="94680" anchor="t">
              <a:spAutoFit/>
            </a:bodyPr>
            <a:p>
              <a:pPr algn="ctr">
                <a:lnSpc>
                  <a:spcPct val="90000"/>
                </a:lnSpc>
                <a:spcBef>
                  <a:spcPts val="689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ffff00"/>
                  </a:solidFill>
                  <a:latin typeface="Arial"/>
                </a:rPr>
                <a:t>PC</a:t>
              </a:r>
              <a:br>
                <a:rPr sz="1100"/>
              </a:br>
              <a:r>
                <a:rPr b="1" lang="en-US" sz="1100" spc="-1" strike="noStrike">
                  <a:solidFill>
                    <a:srgbClr val="ffff00"/>
                  </a:solidFill>
                  <a:latin typeface="Arial"/>
                </a:rPr>
                <a:t>with DVB</a:t>
              </a:r>
              <a:br>
                <a:rPr sz="1100"/>
              </a:br>
              <a:r>
                <a:rPr b="1" lang="en-US" sz="1100" spc="-1" strike="noStrike">
                  <a:solidFill>
                    <a:srgbClr val="ffff00"/>
                  </a:solidFill>
                  <a:latin typeface="Arial"/>
                </a:rPr>
                <a:t>Decoder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13120" y="3260520"/>
              <a:ext cx="1233000" cy="15876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1059840" y="4463640"/>
              <a:ext cx="1286280" cy="29376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07200" y="2679480"/>
              <a:ext cx="603000" cy="641160"/>
            </a:xfrm>
            <a:prstGeom prst="rect">
              <a:avLst/>
            </a:prstGeom>
            <a:solidFill>
              <a:srgbClr val="fafe8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689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9933ff"/>
                  </a:solidFill>
                  <a:latin typeface="Arial"/>
                </a:rPr>
                <a:t>e-mail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07200" y="2025360"/>
              <a:ext cx="691920" cy="642960"/>
            </a:xfrm>
            <a:prstGeom prst="rect">
              <a:avLst/>
            </a:prstGeom>
            <a:solidFill>
              <a:srgbClr val="fafe8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689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9933ff"/>
                  </a:solidFill>
                  <a:latin typeface="Arial"/>
                </a:rPr>
                <a:t>Home</a:t>
              </a:r>
              <a:br>
                <a:rPr sz="1100"/>
              </a:br>
              <a:r>
                <a:rPr b="1" lang="en-US" sz="1100" spc="-1" strike="noStrike">
                  <a:solidFill>
                    <a:srgbClr val="9933ff"/>
                  </a:solidFill>
                  <a:latin typeface="Arial"/>
                </a:rPr>
                <a:t>Shoppin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94400" y="2287440"/>
              <a:ext cx="576720" cy="641160"/>
            </a:xfrm>
            <a:prstGeom prst="rect">
              <a:avLst/>
            </a:prstGeom>
            <a:solidFill>
              <a:srgbClr val="fafe8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689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9933ff"/>
                  </a:solidFill>
                  <a:latin typeface="Arial"/>
                </a:rPr>
                <a:t>PPV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62000" y="1698480"/>
              <a:ext cx="603360" cy="642960"/>
            </a:xfrm>
            <a:prstGeom prst="rect">
              <a:avLst/>
            </a:prstGeom>
            <a:solidFill>
              <a:srgbClr val="fafe8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689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9933ff"/>
                  </a:solidFill>
                  <a:latin typeface="Arial"/>
                </a:rPr>
                <a:t>EPG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88760" y="3430440"/>
              <a:ext cx="790920" cy="576000"/>
            </a:xfrm>
            <a:prstGeom prst="rect">
              <a:avLst/>
            </a:prstGeom>
            <a:solidFill>
              <a:srgbClr val="fafe8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90000"/>
                </a:lnSpc>
                <a:spcBef>
                  <a:spcPts val="689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1" lang="en-US" sz="1100" spc="-1" strike="noStrike">
                  <a:solidFill>
                    <a:srgbClr val="9933ff"/>
                  </a:solidFill>
                  <a:latin typeface="Arial"/>
                </a:rPr>
                <a:t>Internet Telephony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272600" y="5533560"/>
              <a:ext cx="468720" cy="18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2600" y="2058840"/>
              <a:ext cx="46548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402120" y="5263920"/>
              <a:ext cx="749160" cy="756720"/>
              <a:chOff x="402120" y="5263920"/>
              <a:chExt cx="749160" cy="756720"/>
            </a:xfrm>
          </p:grpSpPr>
          <p:graphicFrame>
            <p:nvGraphicFramePr>
              <p:cNvPr id="146" name=""/>
              <p:cNvGraphicFramePr/>
              <p:nvPr/>
            </p:nvGraphicFramePr>
            <p:xfrm>
              <a:off x="402120" y="5302080"/>
              <a:ext cx="676440" cy="7185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4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02120" y="5302080"/>
                        <a:ext cx="676440" cy="71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8" name=""/>
              <p:cNvSpPr/>
              <p:nvPr/>
            </p:nvSpPr>
            <p:spPr>
              <a:xfrm>
                <a:off x="924480" y="5533200"/>
                <a:ext cx="16488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078560" y="5293800"/>
                <a:ext cx="0" cy="6969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036800" y="5263920"/>
                <a:ext cx="114480" cy="73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14760" y="5712840"/>
                <a:ext cx="114480" cy="10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-720" y="3900240"/>
              <a:ext cx="970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cc"/>
                  </a:solidFill>
                  <a:latin typeface="Arial"/>
                </a:rPr>
                <a:t>Interactivity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990360" y="4001400"/>
              <a:ext cx="1301040" cy="558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7432560" y="3035160"/>
            <a:ext cx="1295640" cy="1447920"/>
          </a:xfrm>
          <a:prstGeom prst="can">
            <a:avLst>
              <a:gd name="adj" fmla="val 25000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r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146640" y="2006640"/>
            <a:ext cx="2208240" cy="3765600"/>
            <a:chOff x="6146640" y="2006640"/>
            <a:chExt cx="2208240" cy="3765600"/>
          </a:xfrm>
        </p:grpSpPr>
        <p:sp>
          <p:nvSpPr>
            <p:cNvPr id="156" name=""/>
            <p:cNvSpPr/>
            <p:nvPr/>
          </p:nvSpPr>
          <p:spPr>
            <a:xfrm>
              <a:off x="6146640" y="2006640"/>
              <a:ext cx="2208240" cy="836640"/>
            </a:xfrm>
            <a:custGeom>
              <a:avLst/>
              <a:gdLst>
                <a:gd name="textAreaLeft" fmla="*/ 386280 w 2208240"/>
                <a:gd name="textAreaRight" fmla="*/ 1600920 w 2208240"/>
                <a:gd name="textAreaTop" fmla="*/ 111960 h 836640"/>
                <a:gd name="textAreaBottom" fmla="*/ 724680 h 8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21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Meta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146640" y="4791240"/>
              <a:ext cx="2092320" cy="981000"/>
            </a:xfrm>
            <a:custGeom>
              <a:avLst/>
              <a:gdLst>
                <a:gd name="textAreaLeft" fmla="*/ 366480 w 2092320"/>
                <a:gd name="textAreaRight" fmla="*/ 1517400 w 2092320"/>
                <a:gd name="textAreaTop" fmla="*/ 131400 h 981000"/>
                <a:gd name="textAreaBottom" fmla="*/ 849600 h 98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Meta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275520" y="3525840"/>
            <a:ext cx="1042920" cy="642960"/>
          </a:xfrm>
          <a:prstGeom prst="rect">
            <a:avLst/>
          </a:prstGeom>
          <a:solidFill>
            <a:srgbClr val="fafe8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1200" spc="-1" strike="noStrike">
                <a:solidFill>
                  <a:srgbClr val="9933ff"/>
                </a:solidFill>
                <a:latin typeface="Arial"/>
              </a:rPr>
              <a:t>Interactive Multimedia</a:t>
            </a:r>
            <a:br>
              <a:rPr sz="1200"/>
            </a:br>
            <a:r>
              <a:rPr b="1" lang="en-US" sz="1200" spc="-1" strike="noStrike">
                <a:solidFill>
                  <a:srgbClr val="9933ff"/>
                </a:solidFill>
                <a:latin typeface="Arial"/>
              </a:rPr>
              <a:t>Home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8572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TV-Anytime Conce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6720" y="184788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V-Anytim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ill allow viewers to watch the programmes they want, in the way they want, and when they w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V-Anytim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viewers will be able to explore and acquire TV content from a variety of sources, including traditional broadcast and new on-line interactive services – for presentation at any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V-Anytim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ill combine the immediacy of television with the flexibility of the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3360" y="554040"/>
            <a:ext cx="77724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imes New Roman"/>
              </a:rPr>
              <a:t>Why Metadata in TV-Any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0560" y="1792440"/>
            <a:ext cx="86234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will fully enable the TV-Anytime conce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is already in operation for analogue tele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fore, a Metadata solution for TV-Anytime shall 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an alternative to the proliferation of proprietary solu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00ff"/>
              </a:buClr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as already developed for analogue tele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00ff"/>
              </a:buClr>
              <a:buFont typeface="Monotype Sorts" charset="2"/>
              <a:buChar char="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or as in different product implementations of PD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a means to protect the investments made in defining open APIs for open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a guarantee to the development of new contents, services, products in a competitive horizontal market to the benefit of all parties invol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66640" y="230040"/>
            <a:ext cx="76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TV-Anytime -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Looking for an Appropriate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" y="1671480"/>
            <a:ext cx="839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information will the user  / consumer be interested i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will the system need to allow searching, navigating, selecting, and managing content to fulfil the user reques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scriptor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the attractors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this is what I want 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identifiers &amp; locators (fulfilment process and track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r human or intelligent agent  (automatic) proce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operability, flexibility, scalability, upgrad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n standard in an multi-application multi-implement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volutionary and transportable into different transport paradigms, e.g. ARIB, ATSC, DVB and Internet deliver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201600" y="1673280"/>
            <a:ext cx="2695680" cy="4738680"/>
            <a:chOff x="201600" y="1673280"/>
            <a:chExt cx="2695680" cy="4738680"/>
          </a:xfrm>
        </p:grpSpPr>
        <p:sp>
          <p:nvSpPr>
            <p:cNvPr id="166" name=""/>
            <p:cNvSpPr/>
            <p:nvPr/>
          </p:nvSpPr>
          <p:spPr>
            <a:xfrm>
              <a:off x="201600" y="2462040"/>
              <a:ext cx="2695680" cy="39499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cc"/>
                  </a:solidFill>
                  <a:latin typeface="Times New Roman"/>
                </a:rPr>
                <a:t>Servic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cc"/>
                  </a:solidFill>
                  <a:latin typeface="Times New Roman"/>
                </a:rPr>
                <a:t>Creatio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4280" y="1673280"/>
              <a:ext cx="2478240" cy="7999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cc"/>
                  </a:solidFill>
                  <a:latin typeface="Times New Roman"/>
                </a:rPr>
                <a:t>Content Creatio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imes New Roman"/>
                </a:rPr>
                <a:t>(and Associated Metadata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863800" y="3076560"/>
            <a:ext cx="3246480" cy="1281240"/>
          </a:xfrm>
          <a:prstGeom prst="leftRightArrow">
            <a:avLst>
              <a:gd name="adj1" fmla="val 50000"/>
              <a:gd name="adj2" fmla="val 50442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shed or pulled servi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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8320" y="187200"/>
            <a:ext cx="76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TV-Anytime -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Offer, demand, supply... &amp; Meta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09760" y="2001960"/>
            <a:ext cx="7680240" cy="3963960"/>
            <a:chOff x="509760" y="2001960"/>
            <a:chExt cx="7680240" cy="3963960"/>
          </a:xfrm>
        </p:grpSpPr>
        <p:sp>
          <p:nvSpPr>
            <p:cNvPr id="171" name=""/>
            <p:cNvSpPr/>
            <p:nvPr/>
          </p:nvSpPr>
          <p:spPr>
            <a:xfrm>
              <a:off x="5979960" y="2001960"/>
              <a:ext cx="2210040" cy="1218960"/>
            </a:xfrm>
            <a:prstGeom prst="downArrowCallout">
              <a:avLst>
                <a:gd name="adj1" fmla="val 45330"/>
                <a:gd name="adj2" fmla="val 45326"/>
                <a:gd name="adj3" fmla="val 16667"/>
                <a:gd name="adj4" fmla="val 66667"/>
              </a:avLst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ser / Agent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filter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09760" y="2556000"/>
              <a:ext cx="7650000" cy="3409920"/>
              <a:chOff x="509760" y="2556000"/>
              <a:chExt cx="7650000" cy="3409920"/>
            </a:xfrm>
          </p:grpSpPr>
          <p:sp>
            <p:nvSpPr>
              <p:cNvPr id="173" name=""/>
              <p:cNvSpPr/>
              <p:nvPr/>
            </p:nvSpPr>
            <p:spPr>
              <a:xfrm>
                <a:off x="509760" y="3981600"/>
                <a:ext cx="2100240" cy="1984320"/>
              </a:xfrm>
              <a:prstGeom prst="ellipse">
                <a:avLst/>
              </a:prstGeom>
              <a:solidFill>
                <a:srgbClr val="00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Times New Roman"/>
                  </a:rPr>
                  <a:t>Attractor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cc00"/>
                    </a:solidFill>
                    <a:latin typeface="Times New Roman"/>
                  </a:rPr>
                  <a:t>Service Provider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cc00"/>
                    </a:solidFill>
                    <a:latin typeface="Times New Roman"/>
                  </a:rPr>
                  <a:t>or third party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cc00"/>
                    </a:solidFill>
                    <a:latin typeface="Times New Roman"/>
                  </a:rPr>
                  <a:t>from e.g. the EPG/SI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cc00"/>
                    </a:solidFill>
                    <a:latin typeface="Times New Roman"/>
                  </a:rPr>
                  <a:t>or from a web pag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107040" y="3270240"/>
                <a:ext cx="2052720" cy="838080"/>
              </a:xfrm>
              <a:prstGeom prst="flowChartPreparation">
                <a:avLst/>
              </a:prstGeom>
              <a:solidFill>
                <a:srgbClr val="0000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Search an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Selectio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90840" y="2556000"/>
                <a:ext cx="22669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Exchange of metadat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3087720" y="4089240"/>
            <a:ext cx="5227560" cy="2540160"/>
            <a:chOff x="3087720" y="4089240"/>
            <a:chExt cx="5227560" cy="2540160"/>
          </a:xfrm>
        </p:grpSpPr>
        <p:sp>
          <p:nvSpPr>
            <p:cNvPr id="177" name=""/>
            <p:cNvSpPr/>
            <p:nvPr/>
          </p:nvSpPr>
          <p:spPr>
            <a:xfrm>
              <a:off x="3087720" y="4089240"/>
              <a:ext cx="295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CRID + URL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Resolving mechanism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35760" y="5329080"/>
              <a:ext cx="2279520" cy="130032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ispla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r Sto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content and </a:t>
              </a:r>
              <a:r>
                <a:rPr b="0" lang="en-US" sz="1400" spc="-1" strike="noStrike">
                  <a:solidFill>
                    <a:srgbClr val="ffff00"/>
                  </a:solidFill>
                  <a:latin typeface="Times New Roman"/>
                </a:rPr>
                <a:t>meta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29440" y="4106880"/>
              <a:ext cx="1886040" cy="1212840"/>
            </a:xfrm>
            <a:custGeom>
              <a:avLst/>
              <a:gdLst>
                <a:gd name="textAreaLeft" fmla="*/ 0 w 1886040"/>
                <a:gd name="textAreaRight" fmla="*/ 1886400 w 1886040"/>
                <a:gd name="textAreaTop" fmla="*/ 303120 h 1212840"/>
                <a:gd name="textAreaBottom" fmla="*/ 909720 h 121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cc"/>
                  </a:solidFill>
                  <a:latin typeface="Times New Roman"/>
                </a:rPr>
                <a:t>Delive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8259840" y="1522800"/>
            <a:ext cx="699480" cy="4905000"/>
            <a:chOff x="8259840" y="1522800"/>
            <a:chExt cx="699480" cy="4905000"/>
          </a:xfrm>
        </p:grpSpPr>
        <p:sp>
          <p:nvSpPr>
            <p:cNvPr id="181" name=""/>
            <p:cNvSpPr/>
            <p:nvPr/>
          </p:nvSpPr>
          <p:spPr>
            <a:xfrm flipH="1" rot="5277600">
              <a:off x="6164280" y="3711960"/>
              <a:ext cx="4889520" cy="525960"/>
            </a:xfrm>
            <a:custGeom>
              <a:avLst/>
              <a:gdLst>
                <a:gd name="textAreaLeft" fmla="*/ 855720 w 4889520"/>
                <a:gd name="textAreaRight" fmla="*/ 3544920 w 4889520"/>
                <a:gd name="textAreaTop" fmla="*/ 70200 h 525960"/>
                <a:gd name="textAreaBottom" fmla="*/ 455760 h 52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05920" y="3638520"/>
              <a:ext cx="47628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00"/>
                  </a:solidFill>
                  <a:latin typeface="Times New Roman"/>
                </a:rPr>
                <a:t>meta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979880" y="5484960"/>
            <a:ext cx="1557360" cy="1373040"/>
          </a:xfrm>
          <a:custGeom>
            <a:avLst/>
            <a:gdLst>
              <a:gd name="textAreaLeft" fmla="*/ 355320 w 1557360"/>
              <a:gd name="textAreaRight" fmla="*/ 1202040 w 1557360"/>
              <a:gd name="textAreaTop" fmla="*/ 313200 h 1373040"/>
              <a:gd name="textAreaBottom" fmla="*/ 1059840 h 137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igh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348440" y="5699160"/>
            <a:ext cx="68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View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Copy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68400" y="3851280"/>
            <a:ext cx="7680240" cy="1143000"/>
          </a:xfrm>
          <a:custGeom>
            <a:avLst/>
            <a:gdLst>
              <a:gd name="textAreaLeft" fmla="*/ 0 w 7680240"/>
              <a:gd name="textAreaRight" fmla="*/ 7680600 w 7680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8" y="0"/>
                </a:lnTo>
                <a:lnTo>
                  <a:pt x="21600" y="10800"/>
                </a:lnTo>
                <a:lnTo>
                  <a:pt x="19878" y="21600"/>
                </a:lnTo>
                <a:lnTo>
                  <a:pt x="0" y="21600"/>
                </a:lnTo>
                <a:lnTo>
                  <a:pt x="1722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13160" y="1730520"/>
            <a:ext cx="1906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Metadata 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658960"/>
            <a:ext cx="693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4880" y="5708520"/>
            <a:ext cx="70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11760" y="4992840"/>
            <a:ext cx="625320" cy="377640"/>
          </a:xfrm>
          <a:prstGeom prst="downArrow">
            <a:avLst>
              <a:gd name="adj1" fmla="val 50000"/>
              <a:gd name="adj2" fmla="val 38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68880" y="4992840"/>
            <a:ext cx="625680" cy="377640"/>
          </a:xfrm>
          <a:prstGeom prst="downArrow">
            <a:avLst>
              <a:gd name="adj1" fmla="val 50000"/>
              <a:gd name="adj2" fmla="val 38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59480" y="4992840"/>
            <a:ext cx="623880" cy="377640"/>
          </a:xfrm>
          <a:prstGeom prst="downArrow">
            <a:avLst>
              <a:gd name="adj1" fmla="val 50000"/>
              <a:gd name="adj2" fmla="val 38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25560" y="2381400"/>
            <a:ext cx="1041480" cy="1447560"/>
          </a:xfrm>
          <a:prstGeom prst="downArrowCallout">
            <a:avLst>
              <a:gd name="adj1" fmla="val 25002"/>
              <a:gd name="adj2" fmla="val 25000"/>
              <a:gd name="adj3" fmla="val 23165"/>
              <a:gd name="adj4" fmla="val 6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e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re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4800" y="2381400"/>
            <a:ext cx="1041480" cy="1447560"/>
          </a:xfrm>
          <a:prstGeom prst="downArrowCallout">
            <a:avLst>
              <a:gd name="adj1" fmla="val 25002"/>
              <a:gd name="adj2" fmla="val 25000"/>
              <a:gd name="adj3" fmla="val 23165"/>
              <a:gd name="adj4" fmla="val 6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e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81320" y="2371680"/>
            <a:ext cx="1039680" cy="1447920"/>
          </a:xfrm>
          <a:prstGeom prst="downArrowCallout">
            <a:avLst>
              <a:gd name="adj1" fmla="val 25002"/>
              <a:gd name="adj2" fmla="val 25000"/>
              <a:gd name="adj3" fmla="val 23211"/>
              <a:gd name="adj4" fmla="val 6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08480" y="2362320"/>
            <a:ext cx="1041480" cy="1447560"/>
          </a:xfrm>
          <a:prstGeom prst="downArrowCallout">
            <a:avLst>
              <a:gd name="adj1" fmla="val 25002"/>
              <a:gd name="adj2" fmla="val 25000"/>
              <a:gd name="adj3" fmla="val 23165"/>
              <a:gd name="adj4" fmla="val 6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70560" y="2362320"/>
            <a:ext cx="1041480" cy="1447560"/>
          </a:xfrm>
          <a:prstGeom prst="downArrowCallout">
            <a:avLst>
              <a:gd name="adj1" fmla="val 25002"/>
              <a:gd name="adj2" fmla="val 25000"/>
              <a:gd name="adj3" fmla="val 23165"/>
              <a:gd name="adj4" fmla="val 6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son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git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c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4149360" y="-1195200"/>
            <a:ext cx="257040" cy="6715080"/>
          </a:xfrm>
          <a:custGeom>
            <a:avLst/>
            <a:gdLst>
              <a:gd name="textAreaLeft" fmla="*/ 164160 w 257040"/>
              <a:gd name="textAreaRight" fmla="*/ 257400 w 257040"/>
              <a:gd name="textAreaTop" fmla="*/ 174960 h 6715080"/>
              <a:gd name="textAreaBottom" fmla="*/ 6540120 h 671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99160" y="2371680"/>
            <a:ext cx="1041480" cy="1447920"/>
          </a:xfrm>
          <a:prstGeom prst="downArrowCallout">
            <a:avLst>
              <a:gd name="adj1" fmla="val 25002"/>
              <a:gd name="adj2" fmla="val 25000"/>
              <a:gd name="adj3" fmla="val 23171"/>
              <a:gd name="adj4" fmla="val 6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68960" y="5372280"/>
            <a:ext cx="1214280" cy="12189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lec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57840" y="5391000"/>
            <a:ext cx="1214640" cy="12193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o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80200" y="5391000"/>
            <a:ext cx="1422360" cy="12193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sum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2640" y="187200"/>
            <a:ext cx="76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TV-Anytime - Forward Metadata Fl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47840" y="3406680"/>
            <a:ext cx="4759200" cy="1327320"/>
            <a:chOff x="447840" y="3406680"/>
            <a:chExt cx="4759200" cy="1327320"/>
          </a:xfrm>
        </p:grpSpPr>
        <p:sp>
          <p:nvSpPr>
            <p:cNvPr id="204" name=""/>
            <p:cNvSpPr/>
            <p:nvPr/>
          </p:nvSpPr>
          <p:spPr>
            <a:xfrm>
              <a:off x="447840" y="3406680"/>
              <a:ext cx="1038240" cy="1327320"/>
            </a:xfrm>
            <a:custGeom>
              <a:avLst/>
              <a:gdLst>
                <a:gd name="textAreaLeft" fmla="*/ 138960 w 1038240"/>
                <a:gd name="textAreaRight" fmla="*/ 899280 w 1038240"/>
                <a:gd name="textAreaTop" fmla="*/ 232200 h 1327320"/>
                <a:gd name="textAreaBottom" fmla="*/ 962280 h 132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71760" y="4214880"/>
              <a:ext cx="36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Times New Roman"/>
                </a:rPr>
                <a:t>Original descriptive inform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664000" y="3429000"/>
            <a:ext cx="4759200" cy="1512000"/>
            <a:chOff x="2664000" y="3429000"/>
            <a:chExt cx="4759200" cy="1512000"/>
          </a:xfrm>
        </p:grpSpPr>
        <p:sp>
          <p:nvSpPr>
            <p:cNvPr id="207" name=""/>
            <p:cNvSpPr/>
            <p:nvPr/>
          </p:nvSpPr>
          <p:spPr>
            <a:xfrm>
              <a:off x="2664000" y="3429000"/>
              <a:ext cx="1038240" cy="1327320"/>
            </a:xfrm>
            <a:custGeom>
              <a:avLst/>
              <a:gdLst>
                <a:gd name="textAreaLeft" fmla="*/ 138960 w 1038240"/>
                <a:gd name="textAreaRight" fmla="*/ 899280 w 1038240"/>
                <a:gd name="textAreaTop" fmla="*/ 232200 h 1327320"/>
                <a:gd name="textAreaBottom" fmla="*/ 962280 h 132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87920" y="4237200"/>
              <a:ext cx="363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Times New Roman"/>
                </a:rPr>
                <a:t>E.g. Electronic Programme Gui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127920" y="3371760"/>
            <a:ext cx="2627280" cy="1408680"/>
            <a:chOff x="6127920" y="3371760"/>
            <a:chExt cx="2627280" cy="1408680"/>
          </a:xfrm>
        </p:grpSpPr>
        <p:sp>
          <p:nvSpPr>
            <p:cNvPr id="210" name=""/>
            <p:cNvSpPr/>
            <p:nvPr/>
          </p:nvSpPr>
          <p:spPr>
            <a:xfrm>
              <a:off x="6127920" y="3371760"/>
              <a:ext cx="1037880" cy="1327320"/>
            </a:xfrm>
            <a:custGeom>
              <a:avLst/>
              <a:gdLst>
                <a:gd name="textAreaLeft" fmla="*/ 138960 w 1037880"/>
                <a:gd name="textAreaRight" fmla="*/ 898920 w 1037880"/>
                <a:gd name="textAreaTop" fmla="*/ 232200 h 1327320"/>
                <a:gd name="textAreaBottom" fmla="*/ 962280 h 132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89600" y="4076640"/>
              <a:ext cx="1965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66"/>
                  </a:solidFill>
                  <a:latin typeface="Times New Roman"/>
                </a:rPr>
                <a:t>E.g.     preferenc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 flipV="1" rot="10800000">
            <a:off x="868320" y="3948120"/>
            <a:ext cx="7886880" cy="993600"/>
          </a:xfrm>
          <a:custGeom>
            <a:avLst/>
            <a:gdLst>
              <a:gd name="textAreaLeft" fmla="*/ 0 w 7886880"/>
              <a:gd name="textAreaRight" fmla="*/ 7887240 w 7886880"/>
              <a:gd name="textAreaTop" fmla="*/ 0 h 993600"/>
              <a:gd name="textAreaBottom" fmla="*/ 993600 h 99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8" y="0"/>
                </a:lnTo>
                <a:lnTo>
                  <a:pt x="21600" y="10800"/>
                </a:lnTo>
                <a:lnTo>
                  <a:pt x="19878" y="21600"/>
                </a:lnTo>
                <a:lnTo>
                  <a:pt x="0" y="21600"/>
                </a:lnTo>
                <a:lnTo>
                  <a:pt x="1722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5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40080" y="5008680"/>
            <a:ext cx="685800" cy="330120"/>
          </a:xfrm>
          <a:prstGeom prst="downArrow">
            <a:avLst>
              <a:gd name="adj1" fmla="val 50000"/>
              <a:gd name="adj2" fmla="val 38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91240" y="4989600"/>
            <a:ext cx="685800" cy="330120"/>
          </a:xfrm>
          <a:prstGeom prst="downArrow">
            <a:avLst>
              <a:gd name="adj1" fmla="val 50000"/>
              <a:gd name="adj2" fmla="val 38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72000" y="2548080"/>
            <a:ext cx="1041480" cy="1257120"/>
          </a:xfrm>
          <a:prstGeom prst="downArrowCallout">
            <a:avLst>
              <a:gd name="adj1" fmla="val 25002"/>
              <a:gd name="adj2" fmla="val 25000"/>
              <a:gd name="adj3" fmla="val 20118"/>
              <a:gd name="adj4" fmla="val 6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son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git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c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153200" y="2538360"/>
            <a:ext cx="1041480" cy="1257480"/>
          </a:xfrm>
          <a:prstGeom prst="downArrowCallout">
            <a:avLst>
              <a:gd name="adj1" fmla="val 25002"/>
              <a:gd name="adj2" fmla="val 25000"/>
              <a:gd name="adj3" fmla="val 20123"/>
              <a:gd name="adj4" fmla="val 66667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19720" y="5499000"/>
            <a:ext cx="1422360" cy="10591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62440" y="5499000"/>
            <a:ext cx="1422360" cy="10591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rvi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1080" y="2990880"/>
            <a:ext cx="693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4360" y="6026040"/>
            <a:ext cx="70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0560" y="1735200"/>
            <a:ext cx="1906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Metadata 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4722480" y="-1162080"/>
            <a:ext cx="257400" cy="6715080"/>
          </a:xfrm>
          <a:custGeom>
            <a:avLst/>
            <a:gdLst>
              <a:gd name="textAreaLeft" fmla="*/ 164520 w 257400"/>
              <a:gd name="textAreaRight" fmla="*/ 257760 w 257400"/>
              <a:gd name="textAreaTop" fmla="*/ 174960 h 6715080"/>
              <a:gd name="textAreaBottom" fmla="*/ 6540120 h 671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440" y="244440"/>
            <a:ext cx="7657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TV-Anytime - Backward Metadata Fl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21200" y="5008680"/>
            <a:ext cx="685800" cy="330120"/>
          </a:xfrm>
          <a:prstGeom prst="downArrow">
            <a:avLst>
              <a:gd name="adj1" fmla="val 50000"/>
              <a:gd name="adj2" fmla="val 38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43560" y="5499000"/>
            <a:ext cx="1422360" cy="10591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39880" y="5008680"/>
            <a:ext cx="685800" cy="330120"/>
          </a:xfrm>
          <a:prstGeom prst="downArrow">
            <a:avLst>
              <a:gd name="adj1" fmla="val 50000"/>
              <a:gd name="adj2" fmla="val 3890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62240" y="5499000"/>
            <a:ext cx="1422360" cy="10591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gh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42120" y="3508200"/>
            <a:ext cx="3404160" cy="1165320"/>
            <a:chOff x="5442120" y="3508200"/>
            <a:chExt cx="3404160" cy="1165320"/>
          </a:xfrm>
        </p:grpSpPr>
        <p:sp>
          <p:nvSpPr>
            <p:cNvPr id="229" name=""/>
            <p:cNvSpPr/>
            <p:nvPr/>
          </p:nvSpPr>
          <p:spPr>
            <a:xfrm>
              <a:off x="7936200" y="3508200"/>
              <a:ext cx="910080" cy="1155240"/>
            </a:xfrm>
            <a:custGeom>
              <a:avLst/>
              <a:gdLst>
                <a:gd name="textAreaLeft" fmla="*/ 121680 w 910080"/>
                <a:gd name="textAreaRight" fmla="*/ 788400 w 910080"/>
                <a:gd name="textAreaTop" fmla="*/ 201960 h 1155240"/>
                <a:gd name="textAreaBottom" fmla="*/ 837720 h 115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42120" y="4213800"/>
              <a:ext cx="249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66"/>
                  </a:solidFill>
                  <a:latin typeface="Times New Roman"/>
                </a:rPr>
                <a:t>User prefere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4:53:44Z</dcterms:created>
  <dc:creator>Jean-Pierre Evain</dc:creator>
  <dc:description/>
  <dc:language>en-US</dc:language>
  <cp:lastModifiedBy>NET-DEFAULT</cp:lastModifiedBy>
  <cp:lastPrinted>2000-05-17T08:45:17Z</cp:lastPrinted>
  <dcterms:modified xsi:type="dcterms:W3CDTF">2000-09-11T10:13:31Z</dcterms:modified>
  <cp:revision>408</cp:revision>
  <dc:subject/>
  <dc:title>A Metadat Solution for TV-Anytime</dc:title>
</cp:coreProperties>
</file>