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34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png" ContentType="image/png"/>
  <Override PartName="/ppt/media/image36.png" ContentType="image/png"/>
  <Override PartName="/ppt/media/image5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088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68B-96EB-4855-AEE1-F1EF891E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B8D-0547-4AEB-9CF9-AAB0E2D5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BAE-1A9D-4273-B99F-8720DC05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2D2-B225-4EAA-8A95-16DB91FE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2D5-7DA9-4EE8-B755-E342EB70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6A6-729D-4F14-895A-436D7EB2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53DD-8C9E-4D76-BF45-05D38C91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720-41B3-4887-BB16-0389DA9A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A67-7756-4126-A480-2ABEF828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8F0-A490-46AA-958B-9D557250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9EF-8BD9-4018-968B-5C1FF539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5B1-A005-49F3-B4E2-CF5ECDC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9000" y="6281640"/>
            <a:ext cx="101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DCB1-67A9-4454-9BA1-A6F58C8AD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-66600" y="-39600"/>
            <a:ext cx="923904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cyberlink.com/" TargetMode="External"/><Relationship Id="rId2" Type="http://schemas.openxmlformats.org/officeDocument/2006/relationships/image" Target="../media/image18.png"/><Relationship Id="rId3" Type="http://schemas.openxmlformats.org/officeDocument/2006/relationships/hyperlink" Target="http://www.hauppauge.com/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www.intervideo.com/" TargetMode="External"/><Relationship Id="rId6" Type="http://schemas.openxmlformats.org/officeDocument/2006/relationships/image" Target="../media/image20.png"/><Relationship Id="rId7" Type="http://schemas.openxmlformats.org/officeDocument/2006/relationships/hyperlink" Target="http://www.showshifter.com/" TargetMode="External"/><Relationship Id="rId8" Type="http://schemas.openxmlformats.org/officeDocument/2006/relationships/image" Target="../media/image21.png"/><Relationship Id="rId9" Type="http://schemas.openxmlformats.org/officeDocument/2006/relationships/hyperlink" Target="http://www.telemann.com/" TargetMode="External"/><Relationship Id="rId10" Type="http://schemas.openxmlformats.org/officeDocument/2006/relationships/image" Target="../media/image22.png"/><Relationship Id="rId11" Type="http://schemas.openxmlformats.org/officeDocument/2006/relationships/hyperlink" Target="http://www.elgato.com/index.html" TargetMode="External"/><Relationship Id="rId12" Type="http://schemas.openxmlformats.org/officeDocument/2006/relationships/image" Target="../media/image23.png"/><Relationship Id="rId13" Type="http://schemas.openxmlformats.org/officeDocument/2006/relationships/image" Target="../media/image24.wmf"/><Relationship Id="rId14" Type="http://schemas.openxmlformats.org/officeDocument/2006/relationships/image" Target="../media/image25.png"/><Relationship Id="rId15" Type="http://schemas.openxmlformats.org/officeDocument/2006/relationships/image" Target="../media/image26.wmf"/><Relationship Id="rId16" Type="http://schemas.openxmlformats.org/officeDocument/2006/relationships/image" Target="../media/image27.jpeg"/><Relationship Id="rId17" Type="http://schemas.openxmlformats.org/officeDocument/2006/relationships/image" Target="../media/image28.png"/><Relationship Id="rId18" Type="http://schemas.openxmlformats.org/officeDocument/2006/relationships/image" Target="../media/image29.jpeg"/><Relationship Id="rId19" Type="http://schemas.openxmlformats.org/officeDocument/2006/relationships/image" Target="../media/image30.png"/><Relationship Id="rId20" Type="http://schemas.openxmlformats.org/officeDocument/2006/relationships/image" Target="../media/image31.jpeg"/><Relationship Id="rId21" Type="http://schemas.openxmlformats.org/officeDocument/2006/relationships/image" Target="../media/image32.jpeg"/><Relationship Id="rId22" Type="http://schemas.openxmlformats.org/officeDocument/2006/relationships/image" Target="../media/image33.jpeg"/><Relationship Id="rId23" Type="http://schemas.openxmlformats.org/officeDocument/2006/relationships/image" Target="../media/image34.jpeg"/><Relationship Id="rId24" Type="http://schemas.openxmlformats.org/officeDocument/2006/relationships/image" Target="../media/image35.jpeg"/><Relationship Id="rId25" Type="http://schemas.openxmlformats.org/officeDocument/2006/relationships/image" Target="../media/image36.png"/><Relationship Id="rId26" Type="http://schemas.openxmlformats.org/officeDocument/2006/relationships/image" Target="../media/image37.jpeg"/><Relationship Id="rId2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1366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V Transition Update &amp;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7368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-Anytime Forum ID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9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k Rine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962520" y="1447920"/>
          <a:ext cx="107604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1076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61800" y="5802480"/>
            <a:ext cx="2181240" cy="22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AAF-8E28-4133-B9E7-AE668C5019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52280" y="4572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H-level ‘Tuning’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mportant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080" y="1819440"/>
            <a:ext cx="328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anTV shows 37 stations available tod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an OH 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2760" y="1828800"/>
            <a:ext cx="55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other popular gu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lays only 10 st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35360" y="2098080"/>
            <a:ext cx="226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   WKY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   W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   WJ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9  WO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1  WFM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60" y="2276280"/>
            <a:ext cx="33602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KYC-DT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N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OIO-DT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5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EWS-DT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5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KDKA-DT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UAB-DT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U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1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JW-DT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8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QED-DT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8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PXI-DT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N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CWB-DT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3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PGH-DT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7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TOV-DT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N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KDKA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KYC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N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TAE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EWS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JAC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N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JW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TOV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N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PXI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N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84400" y="2289240"/>
            <a:ext cx="2514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2  WICU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N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7  WDLI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B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9  WOIO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1  WFMJ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N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3 WVPX  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5 WVIZ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7 WKBN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3 WYTV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9 W39AI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B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3 WUAB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UPN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5 WNEO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9 WEAO  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3 WPGH  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5 WBNX  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8 W58AM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1 WQHS  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U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2 WYFX  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7 WOAC 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HOP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26080" y="2276640"/>
            <a:ext cx="190512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7 WKB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3 WY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3 WU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9 WE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2  WYFX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5880" y="4680000"/>
            <a:ext cx="2057400" cy="1415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4120" y="3962520"/>
            <a:ext cx="1238040" cy="12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E49A-FFEC-45E7-81B6-07C8D7B2A4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ail Point-of-S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832280" cy="375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5006" b="0"/>
          <a:stretch/>
        </p:blipFill>
        <p:spPr>
          <a:xfrm>
            <a:off x="423720" y="36082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38400" y="3200400"/>
            <a:ext cx="2887560" cy="217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0" t="0" r="5006" b="0"/>
          <a:stretch/>
        </p:blipFill>
        <p:spPr>
          <a:xfrm>
            <a:off x="5943600" y="3575160"/>
            <a:ext cx="259092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ABF-C85E-47CF-B6E7-40AF7DDC64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nna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12654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C1E-8CC5-4E6F-A140-A426A3B129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106640" y="1111320"/>
            <a:ext cx="6970680" cy="4619160"/>
            <a:chOff x="1106640" y="1111320"/>
            <a:chExt cx="6970680" cy="4619160"/>
          </a:xfrm>
        </p:grpSpPr>
        <p:pic>
          <p:nvPicPr>
            <p:cNvPr id="102" name="" descr="">
              <a:hlinkClick r:id="rId1"/>
            </p:cNvPr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3907800" y="1111320"/>
              <a:ext cx="164700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>
              <a:hlinkClick r:id="rId3"/>
            </p:cNvPr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106640" y="3002400"/>
              <a:ext cx="168984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>
              <a:hlinkClick r:id="rId5"/>
            </p:cNvPr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4811400" y="2909160"/>
              <a:ext cx="164700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>
              <a:hlinkClick r:id="rId7"/>
            </p:cNvPr>
            <p:cNvPicPr/>
            <p:nvPr/>
          </p:nvPicPr>
          <p:blipFill>
            <a:blip r:embed="rId8">
              <a:lum bright="70000" contrast="-70000"/>
            </a:blip>
            <a:stretch/>
          </p:blipFill>
          <p:spPr>
            <a:xfrm>
              <a:off x="3506040" y="5227920"/>
              <a:ext cx="2311920" cy="50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>
              <a:hlinkClick r:id="rId9"/>
            </p:cNvPr>
            <p:cNvPicPr/>
            <p:nvPr/>
          </p:nvPicPr>
          <p:blipFill>
            <a:blip r:embed="rId10">
              <a:lum bright="70000" contrast="-70000"/>
            </a:blip>
            <a:stretch/>
          </p:blipFill>
          <p:spPr>
            <a:xfrm>
              <a:off x="6516000" y="5076360"/>
              <a:ext cx="11664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El Gato">
              <a:hlinkClick r:id="rId11"/>
            </p:cNvPr>
            <p:cNvPicPr/>
            <p:nvPr/>
          </p:nvPicPr>
          <p:blipFill>
            <a:blip r:embed="rId12">
              <a:lum bright="70000" contrast="-70000"/>
            </a:blip>
            <a:stretch/>
          </p:blipFill>
          <p:spPr>
            <a:xfrm>
              <a:off x="3633120" y="2315160"/>
              <a:ext cx="219600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3">
              <a:lum bright="70000" contrast="-70000"/>
            </a:blip>
            <a:stretch/>
          </p:blipFill>
          <p:spPr>
            <a:xfrm>
              <a:off x="1162080" y="4232880"/>
              <a:ext cx="224748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"/>
            <p:cNvGrpSpPr/>
            <p:nvPr/>
          </p:nvGrpSpPr>
          <p:grpSpPr>
            <a:xfrm>
              <a:off x="1162080" y="1195560"/>
              <a:ext cx="6668640" cy="674280"/>
              <a:chOff x="1162080" y="1195560"/>
              <a:chExt cx="6668640" cy="674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>
                <a:lum bright="70000" contrast="-70000"/>
              </a:blip>
              <a:stretch/>
            </p:blipFill>
            <p:spPr>
              <a:xfrm>
                <a:off x="1162080" y="1195560"/>
                <a:ext cx="2067120" cy="54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>
                <a:lum bright="70000" contrast="-70000"/>
              </a:blip>
              <a:stretch/>
            </p:blipFill>
            <p:spPr>
              <a:xfrm>
                <a:off x="6378120" y="1195560"/>
                <a:ext cx="1452600" cy="674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2" name="" descr=""/>
            <p:cNvPicPr/>
            <p:nvPr/>
          </p:nvPicPr>
          <p:blipFill>
            <a:blip r:embed="rId16">
              <a:lum bright="70000" contrast="-70000"/>
            </a:blip>
            <a:stretch/>
          </p:blipFill>
          <p:spPr>
            <a:xfrm>
              <a:off x="6721920" y="3135960"/>
              <a:ext cx="135540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7">
              <a:lum bright="70000" contrast="-70000"/>
            </a:blip>
            <a:stretch/>
          </p:blipFill>
          <p:spPr>
            <a:xfrm>
              <a:off x="6172920" y="2292120"/>
              <a:ext cx="1578240" cy="43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8">
              <a:lum bright="70000" contrast="-70000"/>
            </a:blip>
            <a:stretch/>
          </p:blipFill>
          <p:spPr>
            <a:xfrm>
              <a:off x="1299240" y="5126040"/>
              <a:ext cx="1567080" cy="5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9">
              <a:lum bright="70000" contrast="-70000"/>
            </a:blip>
            <a:srcRect l="26391" t="40245" r="27778" b="37179"/>
            <a:stretch/>
          </p:blipFill>
          <p:spPr>
            <a:xfrm>
              <a:off x="4044960" y="4064040"/>
              <a:ext cx="1029240" cy="88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0">
              <a:lum bright="70000" contrast="-70000"/>
            </a:blip>
            <a:stretch/>
          </p:blipFill>
          <p:spPr>
            <a:xfrm>
              <a:off x="1368000" y="2123640"/>
              <a:ext cx="1372320" cy="5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1">
              <a:lum bright="70000" contrast="-70000"/>
            </a:blip>
            <a:stretch/>
          </p:blipFill>
          <p:spPr>
            <a:xfrm>
              <a:off x="5898240" y="4148640"/>
              <a:ext cx="191880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2">
              <a:lum bright="70000" contrast="-70000"/>
            </a:blip>
            <a:srcRect l="0" t="0" r="59379" b="0"/>
            <a:stretch/>
          </p:blipFill>
          <p:spPr>
            <a:xfrm>
              <a:off x="3358440" y="3000600"/>
              <a:ext cx="1098000" cy="84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anTV PVR Integr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3809880"/>
            <a:ext cx="304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3"/>
          <a:srcRect l="0" t="15193" r="0" b="8872"/>
          <a:stretch/>
        </p:blipFill>
        <p:spPr>
          <a:xfrm>
            <a:off x="533520" y="1600200"/>
            <a:ext cx="247320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4"/>
          <a:stretch/>
        </p:blipFill>
        <p:spPr>
          <a:xfrm>
            <a:off x="7010280" y="1708200"/>
            <a:ext cx="908280" cy="2905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43800" y="3003480"/>
            <a:ext cx="3808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02440" y="2774880"/>
            <a:ext cx="6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438280"/>
            <a:ext cx="3808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2317680"/>
            <a:ext cx="6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3526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5"/>
          <a:srcRect l="4836" t="18753" r="39846" b="13609"/>
          <a:stretch/>
        </p:blipFill>
        <p:spPr>
          <a:xfrm>
            <a:off x="2971800" y="1549440"/>
            <a:ext cx="3433680" cy="263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6"/>
          <a:stretch/>
        </p:blipFill>
        <p:spPr>
          <a:xfrm>
            <a:off x="3200400" y="1828800"/>
            <a:ext cx="304812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E40-8D29-49AB-B736-6D3BB19F1D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adcasters – The Future is Coming Into Fo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centric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use of digital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time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lowly adopting fully dynamic PS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ing new business models to help fill the p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 to create circuitous path with vie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777-4DCF-4761-9CE5-34FFC68F26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ing volume of new content and multicas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ng program metadata downstream and disseminating last minute airing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delivery via Air-to-Web Broadcast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0F5-CA81-449F-86CE-7B173D4D07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7080" y="266688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00400" y="3344760"/>
            <a:ext cx="2392200" cy="25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198-BC70-4E7A-81FA-B88A426061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Decision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Transition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Interest and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ers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FD1-F376-49D6-B60A-269D2EF7AD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mark Highl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ly-held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fi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usiness-to-business information and technology company, 35 employees, Cedar Rapids, Io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every broadcaster to every consu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 technology, data and intellectual property designed to capitalize on the convergence of the television, radio, personal computer, Internet and digital broadcas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357960" y="4614840"/>
            <a:ext cx="1017720" cy="1057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48240" y="4595760"/>
            <a:ext cx="1618920" cy="111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81160" y="4335480"/>
            <a:ext cx="1523880" cy="14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5148360"/>
            <a:ext cx="16002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86440" y="5138640"/>
            <a:ext cx="12952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935-D57C-4705-A55D-BD6FDBB6B6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R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91320" y="1285920"/>
            <a:ext cx="2381040" cy="1638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15000" y="400680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90720" y="3753000"/>
            <a:ext cx="2266920" cy="216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143160" y="2124000"/>
            <a:ext cx="2614680" cy="2185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438280" y="3528720"/>
            <a:ext cx="1067040" cy="685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562720" y="3495240"/>
            <a:ext cx="1038240" cy="5050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303200" y="1504800"/>
            <a:ext cx="1403640" cy="1457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 flipV="1">
            <a:off x="2666520" y="2581200"/>
            <a:ext cx="685800" cy="4572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638680" y="2428920"/>
            <a:ext cx="762120" cy="5335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E30-1EE0-495B-98F0-27DFC3794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Digital TV Tran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90720" y="1219320"/>
          <a:ext cx="6869160" cy="49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686916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C8D-9D67-4464-A8E1-FA52913E65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V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ons live – 1,085 in 194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H coverage – 96% at least 1 signal, 83% with 4 or more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breakdown – PBS, ABC, NBC, CBS, 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soon – 130 stations by EOY, 443 granted FCC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50+ stations with on-air dates nex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2D7-3436-4ED7-8D14-D2730E7344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423 content channels generated by the 1,085 live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9 stations multicasting more than 1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49% of stations running at their allotted E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% of live stations showing some 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ose, 10% of what is aired is in 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209-6DED-4D3E-9FFC-20EF666FAC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2057400" cy="1416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819520" y="1797120"/>
            <a:ext cx="1238040" cy="12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90920" y="3397320"/>
            <a:ext cx="3867120" cy="41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24160" y="4114800"/>
            <a:ext cx="66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U.S. household receives 12.3 over-the-air stations, each with the capacity to broadcast 19.4 Mb/s. This results in an average of 240 Mb/s of programming (data) into each h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BB6-AB44-48DC-816F-630FAC7FED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r Interest Gr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57800" y="152388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hannels can I rece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gramming is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ntenna is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PV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447920"/>
          <a:ext cx="5029200" cy="37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502920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897-88D0-40B4-AA6D-74AC9697F3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9:07:22Z</dcterms:created>
  <dc:creator>Mick Rinehart, Decisionmark</dc:creator>
  <dc:description/>
  <dc:language>en-US</dc:language>
  <cp:lastModifiedBy>Mick Rinehart</cp:lastModifiedBy>
  <cp:lastPrinted>2003-09-05T17:08:56Z</cp:lastPrinted>
  <dcterms:modified xsi:type="dcterms:W3CDTF">2003-09-29T18:06:41Z</dcterms:modified>
  <cp:revision>105</cp:revision>
  <dc:subject>TVAF IDE, 29-Sep-03</dc:subject>
  <dc:title>DTV Transition Update and Issues</dc:title>
</cp:coreProperties>
</file>