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00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00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200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592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200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592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600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7848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00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00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600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00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600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600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200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592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200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592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00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7848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00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00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00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00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lvl="2" marL="1630440" indent="-381240">
              <a:spcBef>
                <a:spcPts val="60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lvl="3" marL="2049480" indent="-2286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lvl="4" marL="2468520" indent="-22860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lvl="5" marL="246852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lvl="6" marL="246852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14400" y="1371600"/>
            <a:ext cx="7696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6553080" y="5867280"/>
          <a:ext cx="2362320" cy="820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5867280"/>
                    <a:ext cx="23623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52280" y="6340320"/>
            <a:ext cx="381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f3587"/>
                </a:solidFill>
                <a:latin typeface="Arial"/>
              </a:rPr>
              <a:t>Copyright © ContentGuard, Inc.,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762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3587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2f3587"/>
              </a:solidFill>
              <a:latin typeface="Arial Black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553080" y="5867280"/>
          <a:ext cx="2362320" cy="820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5867280"/>
                    <a:ext cx="23623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144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248520"/>
            <a:ext cx="3809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f3587"/>
                </a:solidFill>
                <a:latin typeface="Arial"/>
              </a:rPr>
              <a:t>Copyright © ContentGuard, Inc.,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  <a:p>
            <a:pPr lvl="2" marL="914400" indent="334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3587"/>
                </a:solidFill>
                <a:latin typeface="Arial"/>
              </a:rPr>
              <a:t>Third Outline Level</a:t>
            </a:r>
            <a:endParaRPr b="0" i="1" lang="en-US" sz="2000" spc="-1" strike="noStrike">
              <a:solidFill>
                <a:srgbClr val="2f3587"/>
              </a:solidFill>
              <a:latin typeface="Arial"/>
            </a:endParaRPr>
          </a:p>
          <a:p>
            <a:pPr lvl="3" marL="1371600" indent="449280" algn="ctr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3587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2f3587"/>
              </a:solidFill>
              <a:latin typeface="Arial"/>
            </a:endParaRPr>
          </a:p>
          <a:p>
            <a:pPr lvl="4" marL="1828800" indent="411120" algn="ctr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3587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2f3587"/>
              </a:solidFill>
              <a:latin typeface="Arial"/>
            </a:endParaRPr>
          </a:p>
          <a:p>
            <a:pPr lvl="5" marL="1828800" indent="411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3587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2f3587"/>
              </a:solidFill>
              <a:latin typeface="Arial"/>
            </a:endParaRPr>
          </a:p>
          <a:p>
            <a:pPr lvl="6" marL="1828800" indent="411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3587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762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 Black"/>
              </a:rPr>
              <a:t>MPEG REL Status Related to the PVR Market</a:t>
            </a:r>
            <a:endParaRPr b="0" lang="en-US" sz="24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620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TVA Sept 2003</a:t>
            </a:r>
            <a:endParaRPr b="0" i="1" lang="en-US" sz="2400" spc="-1" strike="noStrike">
              <a:solidFill>
                <a:srgbClr val="cc33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Michael Raley</a:t>
            </a:r>
            <a:endParaRPr b="0" i="1" lang="en-US" sz="1600" spc="-1" strike="noStrike">
              <a:solidFill>
                <a:srgbClr val="cc33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enior Member of the Research Staff</a:t>
            </a:r>
            <a:endParaRPr b="0" i="1" lang="en-US" sz="1600" spc="-1" strike="noStrike">
              <a:solidFill>
                <a:srgbClr val="cc33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ContentGuard</a:t>
            </a:r>
            <a:endParaRPr b="0" i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3587"/>
                </a:solidFill>
                <a:latin typeface="Arial Black"/>
              </a:rPr>
              <a:t>Vision: Establishing Agreement</a:t>
            </a:r>
            <a:endParaRPr b="0" lang="en-US" sz="2800" spc="-1" strike="noStrike">
              <a:solidFill>
                <a:srgbClr val="2f3587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1244520" cy="1406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095880" y="1676520"/>
            <a:ext cx="2511720" cy="1477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809880" y="5257800"/>
            <a:ext cx="1371600" cy="1122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429000" y="3124080"/>
            <a:ext cx="1981080" cy="1165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V="1">
            <a:off x="44956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409720" y="304812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30481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4680" y="26668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RMPI Rich/Basic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RMP Group Adopted Toolbox Approach To Spec.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RMPI Basic Usage States Being Negotiated (Come on in and help!)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spcBef>
                <a:spcPts val="550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Simple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spcBef>
                <a:spcPts val="550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Traditional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spcBef>
                <a:spcPts val="550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CA/CE Friendly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RMPI Rich TBD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TVAX: An MPEG REL Extension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Original Extension Developed Based on XrML 2.0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spcBef>
                <a:spcPts val="550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AN504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spcBef>
                <a:spcPts val="550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NTT, MMG, Infocity, Microsoft, ContentGuard, and more!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TVAX is being updated in parallel to reflect RMPI Basic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TVAX Updated as an Extension of MPEG REL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Template Mapping AN504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180" name="Document"/>
          <p:cNvSpPr/>
          <p:nvPr/>
        </p:nvSpPr>
        <p:spPr>
          <a:xfrm rot="10800000">
            <a:off x="761760" y="2209680"/>
            <a:ext cx="2361960" cy="3657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~~~~~~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  </a:t>
            </a: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~~~~~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     </a:t>
            </a: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~~~~~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   </a:t>
            </a: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~~~ &lt;param1&gt;~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~~~ &lt;param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~~~~~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2520" y="180180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PV Lic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Document"/>
          <p:cNvSpPr/>
          <p:nvPr/>
        </p:nvSpPr>
        <p:spPr>
          <a:xfrm rot="10800000">
            <a:off x="5029200" y="1828800"/>
            <a:ext cx="1447920" cy="19051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~~~~~~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  </a:t>
            </a: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~~~~~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~~~~~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   </a:t>
            </a: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~~~ &lt;&gt;~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~~~~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~~~ &l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~~~~~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76120" y="13716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PV Tem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276720" y="2819160"/>
            <a:ext cx="1600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3560" y="5181480"/>
            <a:ext cx="25077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Garamond"/>
              </a:rPr>
              <a:t>&lt;param1&gt;, &lt;param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28600" y="472428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ompact Lic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4343400"/>
            <a:ext cx="1447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Template Mapping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74760" y="4524480"/>
          <a:ext cx="6467400" cy="744480"/>
        </p:xfrm>
        <a:graphic>
          <a:graphicData uri="http://schemas.openxmlformats.org/drawingml/2006/table">
            <a:tbl>
              <a:tblPr/>
              <a:tblGrid>
                <a:gridCol w="752040"/>
                <a:gridCol w="349920"/>
                <a:gridCol w="351000"/>
                <a:gridCol w="349920"/>
                <a:gridCol w="351360"/>
                <a:gridCol w="349560"/>
                <a:gridCol w="349560"/>
                <a:gridCol w="351360"/>
                <a:gridCol w="349920"/>
                <a:gridCol w="351000"/>
                <a:gridCol w="349560"/>
                <a:gridCol w="367920"/>
                <a:gridCol w="369720"/>
                <a:gridCol w="369360"/>
                <a:gridCol w="367560"/>
                <a:gridCol w="369360"/>
                <a:gridCol w="368280"/>
              </a:tblGrid>
              <a:tr h="24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Byte #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7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C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Decim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4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2f3587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1295280" y="1371600"/>
            <a:ext cx="487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licen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gra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cm:device cmid="12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cx:play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cm:song cmid="456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/gra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cm:issuerDevi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cm:device cmid="024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/cm:issuerDevi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/licen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Even the most constrained devices can participate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Easy to interpret 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spcBef>
                <a:spcPts val="550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If “1” then…. If “2” then…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Licenses can explicitly or implicitly release content to legacy devices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spcBef>
                <a:spcPts val="550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Explicit-license says its ok to make DVD RAM copy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spcBef>
                <a:spcPts val="550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Implicit-license says its ok to make 3 physical copies (so DVD-RAM is ok)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Conclusion</a:t>
            </a: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MPEG REL is continuing it evolution and deployment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RMP is working to overcome differences 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spcBef>
                <a:spcPts val="550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Meaningful  specifications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spcBef>
                <a:spcPts val="550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3587"/>
                </a:solidFill>
                <a:latin typeface="Arial"/>
              </a:rPr>
              <a:t>Specifications that can be used in different market segments while still facilitating interoperability between market segments</a:t>
            </a:r>
            <a:endParaRPr b="0" i="1" lang="en-US" sz="22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It is recommended for RMP to continue to consider MPEG REL as a candidate technology for achieving interoperability with MPEG-21 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Overview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Language adoption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Brief example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Work happening at TVA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MPEG REL Development Status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15000"/>
              </a:lnSpc>
              <a:spcBef>
                <a:spcPts val="799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f3587"/>
                </a:solidFill>
                <a:latin typeface="Arial"/>
              </a:rPr>
              <a:t>Has been in development within MPEG-21 for over two years</a:t>
            </a:r>
            <a:endParaRPr b="0" i="1" lang="en-US" sz="16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lnSpc>
                <a:spcPct val="115000"/>
              </a:lnSpc>
              <a:spcBef>
                <a:spcPts val="799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f3587"/>
                </a:solidFill>
                <a:latin typeface="Arial"/>
              </a:rPr>
              <a:t>Followed MPEG development process</a:t>
            </a:r>
            <a:endParaRPr b="0" i="1" lang="en-US" sz="16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lnSpc>
                <a:spcPct val="115000"/>
              </a:lnSpc>
              <a:spcBef>
                <a:spcPts val="799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f3587"/>
                </a:solidFill>
                <a:latin typeface="Arial"/>
              </a:rPr>
              <a:t>Requirements, including submissions from rights holders, e.g. RIAA and IFPI</a:t>
            </a:r>
            <a:endParaRPr b="0" i="1" lang="en-US" sz="16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lnSpc>
                <a:spcPct val="115000"/>
              </a:lnSpc>
              <a:spcBef>
                <a:spcPts val="799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f3587"/>
                </a:solidFill>
                <a:latin typeface="Arial"/>
              </a:rPr>
              <a:t>Technology evaluation and selection</a:t>
            </a:r>
            <a:endParaRPr b="0" i="1" lang="en-US" sz="16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lnSpc>
                <a:spcPct val="115000"/>
              </a:lnSpc>
              <a:spcBef>
                <a:spcPts val="799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f3587"/>
                </a:solidFill>
                <a:latin typeface="Arial"/>
              </a:rPr>
              <a:t>Development, multiple iterations of drafting and reviewing</a:t>
            </a:r>
            <a:endParaRPr b="0" i="1" lang="en-US" sz="16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lnSpc>
                <a:spcPct val="115000"/>
              </a:lnSpc>
              <a:spcBef>
                <a:spcPts val="799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f3587"/>
                </a:solidFill>
                <a:latin typeface="Arial"/>
              </a:rPr>
              <a:t>Test and Validation via a suite of usage scenarios </a:t>
            </a:r>
            <a:endParaRPr b="0" i="1" lang="en-US" sz="16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lnSpc>
                <a:spcPct val="115000"/>
              </a:lnSpc>
              <a:spcBef>
                <a:spcPts val="799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f3587"/>
                </a:solidFill>
                <a:latin typeface="Arial"/>
              </a:rPr>
              <a:t>Achieved FDIS (Final Draft International Standard) in July 2003.  Expect to become an ISO/IEC standard by year end or early 2004</a:t>
            </a:r>
            <a:endParaRPr b="0" i="1" lang="en-US" sz="1600" spc="-1" strike="noStrike">
              <a:solidFill>
                <a:srgbClr val="2f3587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943600" y="3200400"/>
            <a:ext cx="2857680" cy="8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MPEG REL Adoption by Other Organizations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5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3587"/>
                </a:solidFill>
                <a:latin typeface="Arial"/>
              </a:rPr>
              <a:t>OeBF (Open eBook Forum)</a:t>
            </a:r>
            <a:endParaRPr b="0" i="1" lang="en-US" sz="18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3587"/>
                </a:solidFill>
                <a:latin typeface="Arial"/>
              </a:rPr>
              <a:t>Selected MPEG REL as the basis for its Rights Language</a:t>
            </a:r>
            <a:endParaRPr b="0" i="1" lang="en-US" sz="18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3587"/>
                </a:solidFill>
                <a:latin typeface="Arial"/>
              </a:rPr>
              <a:t>Its Rights and Rules Working Group completed development of an MPEG REL extension</a:t>
            </a:r>
            <a:endParaRPr b="0" i="1" lang="en-US" sz="18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3587"/>
                </a:solidFill>
                <a:latin typeface="Arial"/>
              </a:rPr>
              <a:t>Lots of use cases from Publishers were validated using the OeBF Rights Language</a:t>
            </a:r>
            <a:endParaRPr b="0" i="1" lang="en-US" sz="18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3587"/>
                </a:solidFill>
                <a:latin typeface="Arial"/>
              </a:rPr>
              <a:t>OASIS WSSTC (Web Services Security Technical Committee)</a:t>
            </a:r>
            <a:endParaRPr b="0" i="1" lang="en-US" sz="18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3587"/>
                </a:solidFill>
                <a:latin typeface="Arial"/>
              </a:rPr>
              <a:t>Developed a draft XrML token profile specification as one of its security tokens to implement message level integrity and confidentiality</a:t>
            </a:r>
            <a:endParaRPr b="0" i="1" lang="en-US" sz="18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3587"/>
                </a:solidFill>
                <a:latin typeface="Arial"/>
              </a:rPr>
              <a:t>CRF (Content Reference Forum)</a:t>
            </a:r>
            <a:endParaRPr b="0" i="1" lang="en-US" sz="18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3587"/>
                </a:solidFill>
                <a:latin typeface="Arial"/>
              </a:rPr>
              <a:t>Developed an MPEG REL profile and extension to specify offers and usage licenses for governed viral content distribution</a:t>
            </a:r>
            <a:endParaRPr b="0" i="1" lang="en-US" sz="1800" spc="-1" strike="noStrike">
              <a:solidFill>
                <a:srgbClr val="2f3587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ac1004"/>
              </a:buClr>
              <a:buSzPct val="9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3587"/>
                </a:solidFill>
                <a:latin typeface="Arial"/>
              </a:rPr>
              <a:t>http://www.crforum.org/</a:t>
            </a:r>
            <a:endParaRPr b="0" i="1" lang="en-US" sz="18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Some MPEG REL Implementations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MPEG-21 Reference Software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MOSES (MPEG Open Security for Embedded Systems) project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OpenIPMP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Windows RMS (Rights Management Services)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ContentGuard, MPEG REL License Generators and SDK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Kokorozashi, XrML License Generator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Data Model: MPEG REL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447920" y="1600200"/>
            <a:ext cx="5790240" cy="4190400"/>
            <a:chOff x="1447920" y="1600200"/>
            <a:chExt cx="5790240" cy="4190400"/>
          </a:xfrm>
        </p:grpSpPr>
        <p:sp>
          <p:nvSpPr>
            <p:cNvPr id="97" name=""/>
            <p:cNvSpPr/>
            <p:nvPr/>
          </p:nvSpPr>
          <p:spPr>
            <a:xfrm>
              <a:off x="1447920" y="1600200"/>
              <a:ext cx="5480280" cy="391464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04960" y="4396320"/>
              <a:ext cx="359604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suer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1879920"/>
              <a:ext cx="4281480" cy="2516040"/>
            </a:xfrm>
            <a:prstGeom prst="flowChartMultidocumen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61640" y="2439360"/>
              <a:ext cx="1541160" cy="559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incip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60200" y="2439360"/>
              <a:ext cx="1541160" cy="559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61640" y="3277800"/>
              <a:ext cx="1541160" cy="559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60200" y="3277800"/>
              <a:ext cx="1541160" cy="559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d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43960" y="3837240"/>
              <a:ext cx="14238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15080" y="3277800"/>
              <a:ext cx="14230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57680" y="3557880"/>
              <a:ext cx="142380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15080" y="5235840"/>
              <a:ext cx="142308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c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Sample of the Language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&lt;license&gt;</a:t>
            </a:r>
            <a:endParaRPr b="0" i="1" lang="en-US" sz="16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&lt;grant&gt;</a:t>
            </a:r>
            <a:endParaRPr b="0" i="1" lang="en-US" sz="16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&lt;keyHolder licensePartId="John"&gt;…&lt;/keyHolder&gt;</a:t>
            </a:r>
            <a:endParaRPr b="0" i="1" lang="en-US" sz="16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&lt;mx:play/&gt;</a:t>
            </a:r>
            <a:endParaRPr b="0" i="1" lang="en-US" sz="16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&lt;mx:diReference&gt;</a:t>
            </a:r>
            <a:endParaRPr b="0" i="1" lang="en-US" sz="16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&lt;mx:identifier&gt;urn:grid:a1-abcde-1234567890-f&lt;/mx:identifier&gt;</a:t>
            </a:r>
            <a:endParaRPr b="0" i="1" lang="en-US" sz="16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&lt;/mx:diReference&gt;</a:t>
            </a:r>
            <a:endParaRPr b="0" i="1" lang="en-US" sz="16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&lt;validityInterval&gt;</a:t>
            </a:r>
            <a:endParaRPr b="0" i="1" lang="en-US" sz="16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&lt;notBefore&gt;2003-01-01T00:00:00&lt;/notBefore&gt;</a:t>
            </a:r>
            <a:endParaRPr b="0" i="1" lang="en-US" sz="16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&lt;notAfter&gt;2003-12-31T12:59:59&lt;/notAfter&gt;</a:t>
            </a:r>
            <a:endParaRPr b="0" i="1" lang="en-US" sz="16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&lt;/validityInterval&gt;</a:t>
            </a:r>
            <a:endParaRPr b="0" i="1" lang="en-US" sz="16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&lt;/grant&gt;</a:t>
            </a:r>
            <a:endParaRPr b="0" i="1" lang="en-US" sz="16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&lt;issuer&gt;</a:t>
            </a:r>
            <a:endParaRPr b="0" i="1" lang="en-US" sz="16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&lt;keyHolder licensePartId=“Xin”&gt;…&lt;/keyHolder&gt;</a:t>
            </a:r>
            <a:endParaRPr b="0" i="1" lang="en-US" sz="16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&lt;/issuer&gt;</a:t>
            </a:r>
            <a:endParaRPr b="0" i="1" lang="en-US" sz="1600" spc="-1" strike="noStrike">
              <a:solidFill>
                <a:srgbClr val="2f358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3587"/>
                </a:solidFill>
                <a:latin typeface="Arial"/>
              </a:rPr>
              <a:t>&lt;/license&gt;</a:t>
            </a:r>
            <a:endParaRPr b="0" i="1" lang="en-US" sz="1600" spc="-1" strike="noStrike">
              <a:solidFill>
                <a:srgbClr val="2f358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124080"/>
            <a:ext cx="7391160" cy="990720"/>
          </a:xfrm>
          <a:prstGeom prst="rect">
            <a:avLst/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362320"/>
            <a:ext cx="7391160" cy="761760"/>
          </a:xfrm>
          <a:prstGeom prst="rect">
            <a:avLst/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1905120"/>
            <a:ext cx="7391160" cy="22860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133720"/>
            <a:ext cx="739116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3587"/>
                </a:solidFill>
                <a:latin typeface="Arial Black"/>
              </a:rPr>
              <a:t>Adapting MPEG REL to TVA</a:t>
            </a:r>
            <a:endParaRPr b="0" lang="en-US" sz="3200" spc="-1" strike="noStrike">
              <a:solidFill>
                <a:srgbClr val="2f358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Vision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RMPI Basic and RMPI Rich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Updating TVAX Extension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ac1004"/>
              </a:buClr>
              <a:buSzPct val="9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3587"/>
                </a:solidFill>
                <a:latin typeface="Arial"/>
              </a:rPr>
              <a:t>Handling Constrained Devices with Templates</a:t>
            </a:r>
            <a:endParaRPr b="0" i="1" lang="en-US" sz="2400" spc="-1" strike="noStrike">
              <a:solidFill>
                <a:srgbClr val="2f358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3587"/>
                </a:solidFill>
                <a:latin typeface="Arial Black"/>
              </a:rPr>
              <a:t>Vision: Digital Storage and Distribution of A/V Content in the Home</a:t>
            </a:r>
            <a:endParaRPr b="0" lang="en-US" sz="2800" spc="-1" strike="noStrike">
              <a:solidFill>
                <a:srgbClr val="2f3587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841320" cy="1067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1036800" cy="1066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62120" y="3886200"/>
            <a:ext cx="1066680" cy="87624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3429000" y="2666880"/>
            <a:ext cx="4876560" cy="3352680"/>
            <a:chOff x="3429000" y="2666880"/>
            <a:chExt cx="4876560" cy="3352680"/>
          </a:xfrm>
        </p:grpSpPr>
        <p:sp>
          <p:nvSpPr>
            <p:cNvPr id="121" name=""/>
            <p:cNvSpPr/>
            <p:nvPr/>
          </p:nvSpPr>
          <p:spPr>
            <a:xfrm>
              <a:off x="3429000" y="2666880"/>
              <a:ext cx="4876560" cy="3352680"/>
            </a:xfrm>
            <a:custGeom>
              <a:avLst/>
              <a:gdLst/>
              <a:ahLst/>
              <a:rect l="l" t="t" r="r" b="b"/>
              <a:pathLst>
                <a:path w="2704" h="1822">
                  <a:moveTo>
                    <a:pt x="244" y="604"/>
                  </a:moveTo>
                  <a:lnTo>
                    <a:pt x="150" y="633"/>
                  </a:lnTo>
                  <a:lnTo>
                    <a:pt x="66" y="689"/>
                  </a:lnTo>
                  <a:lnTo>
                    <a:pt x="19" y="765"/>
                  </a:lnTo>
                  <a:lnTo>
                    <a:pt x="9" y="812"/>
                  </a:lnTo>
                  <a:lnTo>
                    <a:pt x="0" y="859"/>
                  </a:lnTo>
                  <a:lnTo>
                    <a:pt x="9" y="925"/>
                  </a:lnTo>
                  <a:lnTo>
                    <a:pt x="38" y="982"/>
                  </a:lnTo>
                  <a:lnTo>
                    <a:pt x="75" y="1029"/>
                  </a:lnTo>
                  <a:lnTo>
                    <a:pt x="131" y="1067"/>
                  </a:lnTo>
                  <a:lnTo>
                    <a:pt x="131" y="1067"/>
                  </a:lnTo>
                  <a:lnTo>
                    <a:pt x="75" y="1152"/>
                  </a:lnTo>
                  <a:lnTo>
                    <a:pt x="66" y="1190"/>
                  </a:lnTo>
                  <a:lnTo>
                    <a:pt x="56" y="1237"/>
                  </a:lnTo>
                  <a:lnTo>
                    <a:pt x="66" y="1284"/>
                  </a:lnTo>
                  <a:lnTo>
                    <a:pt x="75" y="1341"/>
                  </a:lnTo>
                  <a:lnTo>
                    <a:pt x="141" y="1416"/>
                  </a:lnTo>
                  <a:lnTo>
                    <a:pt x="225" y="1473"/>
                  </a:lnTo>
                  <a:lnTo>
                    <a:pt x="272" y="1482"/>
                  </a:lnTo>
                  <a:lnTo>
                    <a:pt x="329" y="1492"/>
                  </a:lnTo>
                  <a:lnTo>
                    <a:pt x="347" y="1492"/>
                  </a:lnTo>
                  <a:lnTo>
                    <a:pt x="366" y="1492"/>
                  </a:lnTo>
                  <a:lnTo>
                    <a:pt x="366" y="1492"/>
                  </a:lnTo>
                  <a:lnTo>
                    <a:pt x="441" y="1586"/>
                  </a:lnTo>
                  <a:lnTo>
                    <a:pt x="545" y="1652"/>
                  </a:lnTo>
                  <a:lnTo>
                    <a:pt x="657" y="1690"/>
                  </a:lnTo>
                  <a:lnTo>
                    <a:pt x="779" y="1709"/>
                  </a:lnTo>
                  <a:lnTo>
                    <a:pt x="911" y="1700"/>
                  </a:lnTo>
                  <a:lnTo>
                    <a:pt x="1033" y="1652"/>
                  </a:lnTo>
                  <a:lnTo>
                    <a:pt x="1033" y="1652"/>
                  </a:lnTo>
                  <a:lnTo>
                    <a:pt x="1099" y="1719"/>
                  </a:lnTo>
                  <a:lnTo>
                    <a:pt x="1183" y="1775"/>
                  </a:lnTo>
                  <a:lnTo>
                    <a:pt x="1277" y="1813"/>
                  </a:lnTo>
                  <a:lnTo>
                    <a:pt x="1380" y="1822"/>
                  </a:lnTo>
                  <a:lnTo>
                    <a:pt x="1446" y="1813"/>
                  </a:lnTo>
                  <a:lnTo>
                    <a:pt x="1512" y="1803"/>
                  </a:lnTo>
                  <a:lnTo>
                    <a:pt x="1634" y="1747"/>
                  </a:lnTo>
                  <a:lnTo>
                    <a:pt x="1728" y="1662"/>
                  </a:lnTo>
                  <a:lnTo>
                    <a:pt x="1756" y="1605"/>
                  </a:lnTo>
                  <a:lnTo>
                    <a:pt x="1784" y="1549"/>
                  </a:lnTo>
                  <a:lnTo>
                    <a:pt x="1784" y="1549"/>
                  </a:lnTo>
                  <a:lnTo>
                    <a:pt x="1878" y="1586"/>
                  </a:lnTo>
                  <a:lnTo>
                    <a:pt x="1981" y="1596"/>
                  </a:lnTo>
                  <a:lnTo>
                    <a:pt x="2056" y="1586"/>
                  </a:lnTo>
                  <a:lnTo>
                    <a:pt x="2122" y="1567"/>
                  </a:lnTo>
                  <a:lnTo>
                    <a:pt x="2178" y="1539"/>
                  </a:lnTo>
                  <a:lnTo>
                    <a:pt x="2235" y="1501"/>
                  </a:lnTo>
                  <a:lnTo>
                    <a:pt x="2282" y="1454"/>
                  </a:lnTo>
                  <a:lnTo>
                    <a:pt x="2310" y="1398"/>
                  </a:lnTo>
                  <a:lnTo>
                    <a:pt x="2329" y="1331"/>
                  </a:lnTo>
                  <a:lnTo>
                    <a:pt x="2338" y="1265"/>
                  </a:lnTo>
                  <a:lnTo>
                    <a:pt x="2338" y="1265"/>
                  </a:lnTo>
                  <a:lnTo>
                    <a:pt x="2413" y="1246"/>
                  </a:lnTo>
                  <a:lnTo>
                    <a:pt x="2479" y="1218"/>
                  </a:lnTo>
                  <a:lnTo>
                    <a:pt x="2545" y="1180"/>
                  </a:lnTo>
                  <a:lnTo>
                    <a:pt x="2601" y="1133"/>
                  </a:lnTo>
                  <a:lnTo>
                    <a:pt x="2638" y="1086"/>
                  </a:lnTo>
                  <a:lnTo>
                    <a:pt x="2676" y="1020"/>
                  </a:lnTo>
                  <a:lnTo>
                    <a:pt x="2695" y="954"/>
                  </a:lnTo>
                  <a:lnTo>
                    <a:pt x="2704" y="888"/>
                  </a:lnTo>
                  <a:lnTo>
                    <a:pt x="2695" y="822"/>
                  </a:lnTo>
                  <a:lnTo>
                    <a:pt x="2685" y="756"/>
                  </a:lnTo>
                  <a:lnTo>
                    <a:pt x="2657" y="699"/>
                  </a:lnTo>
                  <a:lnTo>
                    <a:pt x="2620" y="642"/>
                  </a:lnTo>
                  <a:lnTo>
                    <a:pt x="2620" y="642"/>
                  </a:lnTo>
                  <a:lnTo>
                    <a:pt x="2629" y="586"/>
                  </a:lnTo>
                  <a:lnTo>
                    <a:pt x="2638" y="529"/>
                  </a:lnTo>
                  <a:lnTo>
                    <a:pt x="2620" y="425"/>
                  </a:lnTo>
                  <a:lnTo>
                    <a:pt x="2573" y="340"/>
                  </a:lnTo>
                  <a:lnTo>
                    <a:pt x="2498" y="274"/>
                  </a:lnTo>
                  <a:lnTo>
                    <a:pt x="2394" y="227"/>
                  </a:lnTo>
                  <a:lnTo>
                    <a:pt x="2394" y="227"/>
                  </a:lnTo>
                  <a:lnTo>
                    <a:pt x="2385" y="180"/>
                  </a:lnTo>
                  <a:lnTo>
                    <a:pt x="2357" y="132"/>
                  </a:lnTo>
                  <a:lnTo>
                    <a:pt x="2291" y="66"/>
                  </a:lnTo>
                  <a:lnTo>
                    <a:pt x="2207" y="19"/>
                  </a:lnTo>
                  <a:lnTo>
                    <a:pt x="2094" y="0"/>
                  </a:lnTo>
                  <a:lnTo>
                    <a:pt x="2028" y="10"/>
                  </a:lnTo>
                  <a:lnTo>
                    <a:pt x="1972" y="29"/>
                  </a:lnTo>
                  <a:lnTo>
                    <a:pt x="1915" y="57"/>
                  </a:lnTo>
                  <a:lnTo>
                    <a:pt x="1868" y="95"/>
                  </a:lnTo>
                  <a:lnTo>
                    <a:pt x="1868" y="95"/>
                  </a:lnTo>
                  <a:lnTo>
                    <a:pt x="1822" y="57"/>
                  </a:lnTo>
                  <a:lnTo>
                    <a:pt x="1775" y="29"/>
                  </a:lnTo>
                  <a:lnTo>
                    <a:pt x="1718" y="10"/>
                  </a:lnTo>
                  <a:lnTo>
                    <a:pt x="1653" y="0"/>
                  </a:lnTo>
                  <a:lnTo>
                    <a:pt x="1577" y="10"/>
                  </a:lnTo>
                  <a:lnTo>
                    <a:pt x="1512" y="38"/>
                  </a:lnTo>
                  <a:lnTo>
                    <a:pt x="1455" y="85"/>
                  </a:lnTo>
                  <a:lnTo>
                    <a:pt x="1408" y="142"/>
                  </a:lnTo>
                  <a:lnTo>
                    <a:pt x="1408" y="142"/>
                  </a:lnTo>
                  <a:lnTo>
                    <a:pt x="1352" y="104"/>
                  </a:lnTo>
                  <a:lnTo>
                    <a:pt x="1296" y="76"/>
                  </a:lnTo>
                  <a:lnTo>
                    <a:pt x="1239" y="66"/>
                  </a:lnTo>
                  <a:lnTo>
                    <a:pt x="1174" y="57"/>
                  </a:lnTo>
                  <a:lnTo>
                    <a:pt x="1089" y="66"/>
                  </a:lnTo>
                  <a:lnTo>
                    <a:pt x="1005" y="95"/>
                  </a:lnTo>
                  <a:lnTo>
                    <a:pt x="930" y="151"/>
                  </a:lnTo>
                  <a:lnTo>
                    <a:pt x="873" y="217"/>
                  </a:lnTo>
                  <a:lnTo>
                    <a:pt x="873" y="217"/>
                  </a:lnTo>
                  <a:lnTo>
                    <a:pt x="770" y="180"/>
                  </a:lnTo>
                  <a:lnTo>
                    <a:pt x="667" y="170"/>
                  </a:lnTo>
                  <a:lnTo>
                    <a:pt x="582" y="180"/>
                  </a:lnTo>
                  <a:lnTo>
                    <a:pt x="498" y="198"/>
                  </a:lnTo>
                  <a:lnTo>
                    <a:pt x="422" y="236"/>
                  </a:lnTo>
                  <a:lnTo>
                    <a:pt x="366" y="283"/>
                  </a:lnTo>
                  <a:lnTo>
                    <a:pt x="310" y="340"/>
                  </a:lnTo>
                  <a:lnTo>
                    <a:pt x="272" y="406"/>
                  </a:lnTo>
                  <a:lnTo>
                    <a:pt x="244" y="482"/>
                  </a:lnTo>
                  <a:lnTo>
                    <a:pt x="235" y="557"/>
                  </a:lnTo>
                  <a:lnTo>
                    <a:pt x="244" y="586"/>
                  </a:lnTo>
                  <a:lnTo>
                    <a:pt x="244" y="604"/>
                  </a:lnTo>
                  <a:close/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65160" y="4629960"/>
              <a:ext cx="288000" cy="69840"/>
            </a:xfrm>
            <a:custGeom>
              <a:avLst/>
              <a:gdLst/>
              <a:ahLst/>
              <a:rect l="l" t="t" r="r" b="b"/>
              <a:pathLst>
                <a:path w="160" h="38">
                  <a:moveTo>
                    <a:pt x="0" y="0"/>
                  </a:moveTo>
                  <a:lnTo>
                    <a:pt x="76" y="28"/>
                  </a:lnTo>
                  <a:lnTo>
                    <a:pt x="141" y="38"/>
                  </a:lnTo>
                  <a:lnTo>
                    <a:pt x="151" y="38"/>
                  </a:lnTo>
                  <a:lnTo>
                    <a:pt x="160" y="3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88880" y="5377320"/>
              <a:ext cx="118800" cy="34920"/>
            </a:xfrm>
            <a:custGeom>
              <a:avLst/>
              <a:gdLst/>
              <a:ahLst/>
              <a:rect l="l" t="t" r="r" b="b"/>
              <a:pathLst>
                <a:path w="66" h="19">
                  <a:moveTo>
                    <a:pt x="0" y="19"/>
                  </a:moveTo>
                  <a:lnTo>
                    <a:pt x="38" y="9"/>
                  </a:lnTo>
                  <a:lnTo>
                    <a:pt x="66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07040" y="5568480"/>
              <a:ext cx="84600" cy="137880"/>
            </a:xfrm>
            <a:custGeom>
              <a:avLst/>
              <a:gdLst/>
              <a:ahLst/>
              <a:rect l="l" t="t" r="r" b="b"/>
              <a:pathLst>
                <a:path w="47" h="75">
                  <a:moveTo>
                    <a:pt x="0" y="0"/>
                  </a:moveTo>
                  <a:lnTo>
                    <a:pt x="19" y="38"/>
                  </a:lnTo>
                  <a:lnTo>
                    <a:pt x="47" y="75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46320" y="5360760"/>
              <a:ext cx="34200" cy="15624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85"/>
                  </a:moveTo>
                  <a:lnTo>
                    <a:pt x="9" y="47"/>
                  </a:lnTo>
                  <a:lnTo>
                    <a:pt x="19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90000" y="4457160"/>
              <a:ext cx="355320" cy="537120"/>
            </a:xfrm>
            <a:custGeom>
              <a:avLst/>
              <a:gdLst/>
              <a:ahLst/>
              <a:rect l="l" t="t" r="r" b="b"/>
              <a:pathLst>
                <a:path w="197" h="292">
                  <a:moveTo>
                    <a:pt x="197" y="292"/>
                  </a:moveTo>
                  <a:lnTo>
                    <a:pt x="197" y="292"/>
                  </a:lnTo>
                  <a:lnTo>
                    <a:pt x="188" y="198"/>
                  </a:lnTo>
                  <a:lnTo>
                    <a:pt x="141" y="122"/>
                  </a:lnTo>
                  <a:lnTo>
                    <a:pt x="84" y="47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84800" y="3848040"/>
              <a:ext cx="169560" cy="209880"/>
            </a:xfrm>
            <a:custGeom>
              <a:avLst/>
              <a:gdLst/>
              <a:ahLst/>
              <a:rect l="l" t="t" r="r" b="b"/>
              <a:pathLst>
                <a:path w="94" h="114">
                  <a:moveTo>
                    <a:pt x="0" y="114"/>
                  </a:moveTo>
                  <a:lnTo>
                    <a:pt x="47" y="66"/>
                  </a:lnTo>
                  <a:lnTo>
                    <a:pt x="94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46480" y="3084480"/>
              <a:ext cx="17640" cy="102960"/>
            </a:xfrm>
            <a:custGeom>
              <a:avLst/>
              <a:gdLst/>
              <a:ahLst/>
              <a:rect l="l" t="t" r="r" b="b"/>
              <a:pathLst>
                <a:path w="10" h="56">
                  <a:moveTo>
                    <a:pt x="10" y="56"/>
                  </a:moveTo>
                  <a:lnTo>
                    <a:pt x="10" y="56"/>
                  </a:lnTo>
                  <a:lnTo>
                    <a:pt x="10" y="47"/>
                  </a:lnTo>
                  <a:lnTo>
                    <a:pt x="10" y="28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15080" y="2841480"/>
              <a:ext cx="82800" cy="13788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46" y="0"/>
                  </a:moveTo>
                  <a:lnTo>
                    <a:pt x="18" y="37"/>
                  </a:lnTo>
                  <a:lnTo>
                    <a:pt x="0" y="75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917680" y="2927880"/>
              <a:ext cx="50040" cy="10296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5003280" y="3066120"/>
              <a:ext cx="153360" cy="10512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68920" y="3778200"/>
              <a:ext cx="16200" cy="122760"/>
            </a:xfrm>
            <a:custGeom>
              <a:avLst/>
              <a:gdLst/>
              <a:ahLst/>
              <a:rect l="l" t="t" r="r" b="b"/>
              <a:pathLst>
                <a:path w="9" h="67">
                  <a:moveTo>
                    <a:pt x="0" y="0"/>
                  </a:moveTo>
                  <a:lnTo>
                    <a:pt x="9" y="29"/>
                  </a:lnTo>
                  <a:lnTo>
                    <a:pt x="9" y="6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90920" y="2133720"/>
            <a:ext cx="4876200" cy="3352320"/>
            <a:chOff x="2590920" y="2133720"/>
            <a:chExt cx="4876200" cy="3352320"/>
          </a:xfrm>
        </p:grpSpPr>
        <p:sp>
          <p:nvSpPr>
            <p:cNvPr id="134" name=""/>
            <p:cNvSpPr/>
            <p:nvPr/>
          </p:nvSpPr>
          <p:spPr>
            <a:xfrm>
              <a:off x="2590920" y="2133720"/>
              <a:ext cx="4876200" cy="3352320"/>
            </a:xfrm>
            <a:custGeom>
              <a:avLst/>
              <a:gdLst/>
              <a:ahLst/>
              <a:rect l="l" t="t" r="r" b="b"/>
              <a:pathLst>
                <a:path w="2704" h="1822">
                  <a:moveTo>
                    <a:pt x="244" y="604"/>
                  </a:moveTo>
                  <a:lnTo>
                    <a:pt x="150" y="633"/>
                  </a:lnTo>
                  <a:lnTo>
                    <a:pt x="66" y="689"/>
                  </a:lnTo>
                  <a:lnTo>
                    <a:pt x="19" y="765"/>
                  </a:lnTo>
                  <a:lnTo>
                    <a:pt x="9" y="812"/>
                  </a:lnTo>
                  <a:lnTo>
                    <a:pt x="0" y="859"/>
                  </a:lnTo>
                  <a:lnTo>
                    <a:pt x="9" y="925"/>
                  </a:lnTo>
                  <a:lnTo>
                    <a:pt x="38" y="982"/>
                  </a:lnTo>
                  <a:lnTo>
                    <a:pt x="75" y="1029"/>
                  </a:lnTo>
                  <a:lnTo>
                    <a:pt x="131" y="1067"/>
                  </a:lnTo>
                  <a:lnTo>
                    <a:pt x="131" y="1067"/>
                  </a:lnTo>
                  <a:lnTo>
                    <a:pt x="75" y="1152"/>
                  </a:lnTo>
                  <a:lnTo>
                    <a:pt x="66" y="1190"/>
                  </a:lnTo>
                  <a:lnTo>
                    <a:pt x="56" y="1237"/>
                  </a:lnTo>
                  <a:lnTo>
                    <a:pt x="66" y="1284"/>
                  </a:lnTo>
                  <a:lnTo>
                    <a:pt x="75" y="1341"/>
                  </a:lnTo>
                  <a:lnTo>
                    <a:pt x="141" y="1416"/>
                  </a:lnTo>
                  <a:lnTo>
                    <a:pt x="225" y="1473"/>
                  </a:lnTo>
                  <a:lnTo>
                    <a:pt x="272" y="1482"/>
                  </a:lnTo>
                  <a:lnTo>
                    <a:pt x="329" y="1492"/>
                  </a:lnTo>
                  <a:lnTo>
                    <a:pt x="347" y="1492"/>
                  </a:lnTo>
                  <a:lnTo>
                    <a:pt x="366" y="1492"/>
                  </a:lnTo>
                  <a:lnTo>
                    <a:pt x="366" y="1492"/>
                  </a:lnTo>
                  <a:lnTo>
                    <a:pt x="441" y="1586"/>
                  </a:lnTo>
                  <a:lnTo>
                    <a:pt x="545" y="1652"/>
                  </a:lnTo>
                  <a:lnTo>
                    <a:pt x="657" y="1690"/>
                  </a:lnTo>
                  <a:lnTo>
                    <a:pt x="779" y="1709"/>
                  </a:lnTo>
                  <a:lnTo>
                    <a:pt x="911" y="1700"/>
                  </a:lnTo>
                  <a:lnTo>
                    <a:pt x="1033" y="1652"/>
                  </a:lnTo>
                  <a:lnTo>
                    <a:pt x="1033" y="1652"/>
                  </a:lnTo>
                  <a:lnTo>
                    <a:pt x="1099" y="1719"/>
                  </a:lnTo>
                  <a:lnTo>
                    <a:pt x="1183" y="1775"/>
                  </a:lnTo>
                  <a:lnTo>
                    <a:pt x="1277" y="1813"/>
                  </a:lnTo>
                  <a:lnTo>
                    <a:pt x="1380" y="1822"/>
                  </a:lnTo>
                  <a:lnTo>
                    <a:pt x="1446" y="1813"/>
                  </a:lnTo>
                  <a:lnTo>
                    <a:pt x="1512" y="1803"/>
                  </a:lnTo>
                  <a:lnTo>
                    <a:pt x="1634" y="1747"/>
                  </a:lnTo>
                  <a:lnTo>
                    <a:pt x="1728" y="1662"/>
                  </a:lnTo>
                  <a:lnTo>
                    <a:pt x="1756" y="1605"/>
                  </a:lnTo>
                  <a:lnTo>
                    <a:pt x="1784" y="1549"/>
                  </a:lnTo>
                  <a:lnTo>
                    <a:pt x="1784" y="1549"/>
                  </a:lnTo>
                  <a:lnTo>
                    <a:pt x="1878" y="1586"/>
                  </a:lnTo>
                  <a:lnTo>
                    <a:pt x="1981" y="1596"/>
                  </a:lnTo>
                  <a:lnTo>
                    <a:pt x="2056" y="1586"/>
                  </a:lnTo>
                  <a:lnTo>
                    <a:pt x="2122" y="1567"/>
                  </a:lnTo>
                  <a:lnTo>
                    <a:pt x="2178" y="1539"/>
                  </a:lnTo>
                  <a:lnTo>
                    <a:pt x="2235" y="1501"/>
                  </a:lnTo>
                  <a:lnTo>
                    <a:pt x="2282" y="1454"/>
                  </a:lnTo>
                  <a:lnTo>
                    <a:pt x="2310" y="1398"/>
                  </a:lnTo>
                  <a:lnTo>
                    <a:pt x="2329" y="1331"/>
                  </a:lnTo>
                  <a:lnTo>
                    <a:pt x="2338" y="1265"/>
                  </a:lnTo>
                  <a:lnTo>
                    <a:pt x="2338" y="1265"/>
                  </a:lnTo>
                  <a:lnTo>
                    <a:pt x="2413" y="1246"/>
                  </a:lnTo>
                  <a:lnTo>
                    <a:pt x="2479" y="1218"/>
                  </a:lnTo>
                  <a:lnTo>
                    <a:pt x="2545" y="1180"/>
                  </a:lnTo>
                  <a:lnTo>
                    <a:pt x="2601" y="1133"/>
                  </a:lnTo>
                  <a:lnTo>
                    <a:pt x="2638" y="1086"/>
                  </a:lnTo>
                  <a:lnTo>
                    <a:pt x="2676" y="1020"/>
                  </a:lnTo>
                  <a:lnTo>
                    <a:pt x="2695" y="954"/>
                  </a:lnTo>
                  <a:lnTo>
                    <a:pt x="2704" y="888"/>
                  </a:lnTo>
                  <a:lnTo>
                    <a:pt x="2695" y="822"/>
                  </a:lnTo>
                  <a:lnTo>
                    <a:pt x="2685" y="756"/>
                  </a:lnTo>
                  <a:lnTo>
                    <a:pt x="2657" y="699"/>
                  </a:lnTo>
                  <a:lnTo>
                    <a:pt x="2620" y="642"/>
                  </a:lnTo>
                  <a:lnTo>
                    <a:pt x="2620" y="642"/>
                  </a:lnTo>
                  <a:lnTo>
                    <a:pt x="2629" y="586"/>
                  </a:lnTo>
                  <a:lnTo>
                    <a:pt x="2638" y="529"/>
                  </a:lnTo>
                  <a:lnTo>
                    <a:pt x="2620" y="425"/>
                  </a:lnTo>
                  <a:lnTo>
                    <a:pt x="2573" y="340"/>
                  </a:lnTo>
                  <a:lnTo>
                    <a:pt x="2498" y="274"/>
                  </a:lnTo>
                  <a:lnTo>
                    <a:pt x="2394" y="227"/>
                  </a:lnTo>
                  <a:lnTo>
                    <a:pt x="2394" y="227"/>
                  </a:lnTo>
                  <a:lnTo>
                    <a:pt x="2385" y="180"/>
                  </a:lnTo>
                  <a:lnTo>
                    <a:pt x="2357" y="132"/>
                  </a:lnTo>
                  <a:lnTo>
                    <a:pt x="2291" y="66"/>
                  </a:lnTo>
                  <a:lnTo>
                    <a:pt x="2207" y="19"/>
                  </a:lnTo>
                  <a:lnTo>
                    <a:pt x="2094" y="0"/>
                  </a:lnTo>
                  <a:lnTo>
                    <a:pt x="2028" y="10"/>
                  </a:lnTo>
                  <a:lnTo>
                    <a:pt x="1972" y="29"/>
                  </a:lnTo>
                  <a:lnTo>
                    <a:pt x="1915" y="57"/>
                  </a:lnTo>
                  <a:lnTo>
                    <a:pt x="1868" y="95"/>
                  </a:lnTo>
                  <a:lnTo>
                    <a:pt x="1868" y="95"/>
                  </a:lnTo>
                  <a:lnTo>
                    <a:pt x="1822" y="57"/>
                  </a:lnTo>
                  <a:lnTo>
                    <a:pt x="1775" y="29"/>
                  </a:lnTo>
                  <a:lnTo>
                    <a:pt x="1718" y="10"/>
                  </a:lnTo>
                  <a:lnTo>
                    <a:pt x="1653" y="0"/>
                  </a:lnTo>
                  <a:lnTo>
                    <a:pt x="1577" y="10"/>
                  </a:lnTo>
                  <a:lnTo>
                    <a:pt x="1512" y="38"/>
                  </a:lnTo>
                  <a:lnTo>
                    <a:pt x="1455" y="85"/>
                  </a:lnTo>
                  <a:lnTo>
                    <a:pt x="1408" y="142"/>
                  </a:lnTo>
                  <a:lnTo>
                    <a:pt x="1408" y="142"/>
                  </a:lnTo>
                  <a:lnTo>
                    <a:pt x="1352" y="104"/>
                  </a:lnTo>
                  <a:lnTo>
                    <a:pt x="1296" y="76"/>
                  </a:lnTo>
                  <a:lnTo>
                    <a:pt x="1239" y="66"/>
                  </a:lnTo>
                  <a:lnTo>
                    <a:pt x="1174" y="57"/>
                  </a:lnTo>
                  <a:lnTo>
                    <a:pt x="1089" y="66"/>
                  </a:lnTo>
                  <a:lnTo>
                    <a:pt x="1005" y="95"/>
                  </a:lnTo>
                  <a:lnTo>
                    <a:pt x="930" y="151"/>
                  </a:lnTo>
                  <a:lnTo>
                    <a:pt x="873" y="217"/>
                  </a:lnTo>
                  <a:lnTo>
                    <a:pt x="873" y="217"/>
                  </a:lnTo>
                  <a:lnTo>
                    <a:pt x="770" y="180"/>
                  </a:lnTo>
                  <a:lnTo>
                    <a:pt x="667" y="170"/>
                  </a:lnTo>
                  <a:lnTo>
                    <a:pt x="582" y="180"/>
                  </a:lnTo>
                  <a:lnTo>
                    <a:pt x="498" y="198"/>
                  </a:lnTo>
                  <a:lnTo>
                    <a:pt x="422" y="236"/>
                  </a:lnTo>
                  <a:lnTo>
                    <a:pt x="366" y="283"/>
                  </a:lnTo>
                  <a:lnTo>
                    <a:pt x="310" y="340"/>
                  </a:lnTo>
                  <a:lnTo>
                    <a:pt x="272" y="406"/>
                  </a:lnTo>
                  <a:lnTo>
                    <a:pt x="244" y="482"/>
                  </a:lnTo>
                  <a:lnTo>
                    <a:pt x="235" y="557"/>
                  </a:lnTo>
                  <a:lnTo>
                    <a:pt x="244" y="586"/>
                  </a:lnTo>
                  <a:lnTo>
                    <a:pt x="244" y="604"/>
                  </a:lnTo>
                  <a:close/>
                </a:path>
              </a:pathLst>
            </a:custGeom>
            <a:solidFill>
              <a:srgbClr val="ffff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27080" y="4096800"/>
              <a:ext cx="288000" cy="69840"/>
            </a:xfrm>
            <a:custGeom>
              <a:avLst/>
              <a:gdLst/>
              <a:ahLst/>
              <a:rect l="l" t="t" r="r" b="b"/>
              <a:pathLst>
                <a:path w="160" h="38">
                  <a:moveTo>
                    <a:pt x="0" y="0"/>
                  </a:moveTo>
                  <a:lnTo>
                    <a:pt x="76" y="28"/>
                  </a:lnTo>
                  <a:lnTo>
                    <a:pt x="141" y="38"/>
                  </a:lnTo>
                  <a:lnTo>
                    <a:pt x="151" y="38"/>
                  </a:lnTo>
                  <a:lnTo>
                    <a:pt x="160" y="38"/>
                  </a:lnTo>
                </a:path>
              </a:pathLst>
            </a:custGeom>
            <a:solidFill>
              <a:srgbClr val="ffff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50800" y="4844160"/>
              <a:ext cx="118800" cy="34920"/>
            </a:xfrm>
            <a:custGeom>
              <a:avLst/>
              <a:gdLst/>
              <a:ahLst/>
              <a:rect l="l" t="t" r="r" b="b"/>
              <a:pathLst>
                <a:path w="66" h="19">
                  <a:moveTo>
                    <a:pt x="0" y="19"/>
                  </a:moveTo>
                  <a:lnTo>
                    <a:pt x="38" y="9"/>
                  </a:lnTo>
                  <a:lnTo>
                    <a:pt x="66" y="0"/>
                  </a:lnTo>
                </a:path>
              </a:pathLst>
            </a:custGeom>
            <a:solidFill>
              <a:srgbClr val="ffff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68960" y="5034960"/>
              <a:ext cx="84600" cy="137880"/>
            </a:xfrm>
            <a:custGeom>
              <a:avLst/>
              <a:gdLst/>
              <a:ahLst/>
              <a:rect l="l" t="t" r="r" b="b"/>
              <a:pathLst>
                <a:path w="47" h="75">
                  <a:moveTo>
                    <a:pt x="0" y="0"/>
                  </a:moveTo>
                  <a:lnTo>
                    <a:pt x="19" y="38"/>
                  </a:lnTo>
                  <a:lnTo>
                    <a:pt x="47" y="75"/>
                  </a:lnTo>
                </a:path>
              </a:pathLst>
            </a:custGeom>
            <a:solidFill>
              <a:srgbClr val="ffff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08240" y="4827240"/>
              <a:ext cx="34200" cy="15624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85"/>
                  </a:moveTo>
                  <a:lnTo>
                    <a:pt x="9" y="47"/>
                  </a:lnTo>
                  <a:lnTo>
                    <a:pt x="19" y="0"/>
                  </a:lnTo>
                </a:path>
              </a:pathLst>
            </a:custGeom>
            <a:solidFill>
              <a:srgbClr val="ffff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1920" y="3924000"/>
              <a:ext cx="355320" cy="537120"/>
            </a:xfrm>
            <a:custGeom>
              <a:avLst/>
              <a:gdLst/>
              <a:ahLst/>
              <a:rect l="l" t="t" r="r" b="b"/>
              <a:pathLst>
                <a:path w="197" h="292">
                  <a:moveTo>
                    <a:pt x="197" y="292"/>
                  </a:moveTo>
                  <a:lnTo>
                    <a:pt x="197" y="292"/>
                  </a:lnTo>
                  <a:lnTo>
                    <a:pt x="188" y="198"/>
                  </a:lnTo>
                  <a:lnTo>
                    <a:pt x="141" y="122"/>
                  </a:lnTo>
                  <a:lnTo>
                    <a:pt x="84" y="4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46360" y="3314880"/>
              <a:ext cx="169560" cy="209520"/>
            </a:xfrm>
            <a:custGeom>
              <a:avLst/>
              <a:gdLst/>
              <a:ahLst/>
              <a:rect l="l" t="t" r="r" b="b"/>
              <a:pathLst>
                <a:path w="94" h="114">
                  <a:moveTo>
                    <a:pt x="0" y="114"/>
                  </a:moveTo>
                  <a:lnTo>
                    <a:pt x="47" y="66"/>
                  </a:lnTo>
                  <a:lnTo>
                    <a:pt x="94" y="0"/>
                  </a:lnTo>
                </a:path>
              </a:pathLst>
            </a:custGeom>
            <a:solidFill>
              <a:srgbClr val="ffff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08040" y="2551320"/>
              <a:ext cx="17640" cy="102960"/>
            </a:xfrm>
            <a:custGeom>
              <a:avLst/>
              <a:gdLst/>
              <a:ahLst/>
              <a:rect l="l" t="t" r="r" b="b"/>
              <a:pathLst>
                <a:path w="10" h="56">
                  <a:moveTo>
                    <a:pt x="10" y="56"/>
                  </a:moveTo>
                  <a:lnTo>
                    <a:pt x="10" y="56"/>
                  </a:lnTo>
                  <a:lnTo>
                    <a:pt x="10" y="47"/>
                  </a:lnTo>
                  <a:lnTo>
                    <a:pt x="10" y="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76640" y="2308320"/>
              <a:ext cx="82800" cy="13788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46" y="0"/>
                  </a:moveTo>
                  <a:lnTo>
                    <a:pt x="18" y="37"/>
                  </a:lnTo>
                  <a:lnTo>
                    <a:pt x="0" y="75"/>
                  </a:lnTo>
                </a:path>
              </a:pathLst>
            </a:custGeom>
            <a:solidFill>
              <a:srgbClr val="ffff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079240" y="2394720"/>
              <a:ext cx="50040" cy="10296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4165200" y="2532960"/>
              <a:ext cx="153360" cy="10512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30840" y="3245040"/>
              <a:ext cx="16200" cy="122760"/>
            </a:xfrm>
            <a:custGeom>
              <a:avLst/>
              <a:gdLst/>
              <a:ahLst/>
              <a:rect l="l" t="t" r="r" b="b"/>
              <a:pathLst>
                <a:path w="9" h="67">
                  <a:moveTo>
                    <a:pt x="0" y="0"/>
                  </a:moveTo>
                  <a:lnTo>
                    <a:pt x="9" y="29"/>
                  </a:lnTo>
                  <a:lnTo>
                    <a:pt x="9" y="67"/>
                  </a:lnTo>
                </a:path>
              </a:pathLst>
            </a:custGeom>
            <a:solidFill>
              <a:srgbClr val="ffff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62120" y="5029200"/>
            <a:ext cx="1371600" cy="922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133720" y="3429000"/>
            <a:ext cx="1828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ybrid (Legacy Distribution/New Digi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2590920"/>
            <a:ext cx="533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281952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4114800"/>
            <a:ext cx="2590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 Video Rec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3352680"/>
            <a:ext cx="1371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d 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7391520" y="1600200"/>
            <a:ext cx="1066680" cy="876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752480" y="25146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25146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133720" y="4495680"/>
            <a:ext cx="22096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3505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44956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5410080"/>
            <a:ext cx="8380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876920" y="1828800"/>
            <a:ext cx="2514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772400" y="2438280"/>
            <a:ext cx="76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91520" y="4038480"/>
            <a:ext cx="8380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7440" y="167652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Doma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7080" y="586728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Domai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962520" y="2971440"/>
            <a:ext cx="2209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15000" y="3733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Raley, ContentGuard</dc:creator>
  <dc:description/>
  <dc:language>en-US</dc:language>
  <cp:lastModifiedBy>Michael Raley</cp:lastModifiedBy>
  <dcterms:modified xsi:type="dcterms:W3CDTF">2003-09-30T16:41:13Z</dcterms:modified>
  <cp:revision>64</cp:revision>
  <dc:subject>TVAF IDE, 29-Sep-03</dc:subject>
  <dc:title>MPEG REL Update and Relevance to TVA</dc:title>
</cp:coreProperties>
</file>