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321660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6052680" y="141588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38052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4" name="PlaceHolder 6"/>
          <p:cNvSpPr>
            <a:spLocks noGrp="1"/>
          </p:cNvSpPr>
          <p:nvPr>
            <p:ph/>
          </p:nvPr>
        </p:nvSpPr>
        <p:spPr>
          <a:xfrm>
            <a:off x="321660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75" name="PlaceHolder 7"/>
          <p:cNvSpPr>
            <a:spLocks noGrp="1"/>
          </p:cNvSpPr>
          <p:nvPr>
            <p:ph/>
          </p:nvPr>
        </p:nvSpPr>
        <p:spPr>
          <a:xfrm>
            <a:off x="6052680" y="3545640"/>
            <a:ext cx="2700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380520" y="228600"/>
            <a:ext cx="839340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8920" y="354564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8920" y="1415880"/>
            <a:ext cx="409320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380520" y="3545640"/>
            <a:ext cx="83883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520" y="1415880"/>
            <a:ext cx="83883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18440" indent="-4510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414440" indent="-39420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810440" indent="-39420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2205000" indent="-39276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2205000" indent="-392760">
              <a:lnSpc>
                <a:spcPct val="90000"/>
              </a:lnSpc>
              <a:spcBef>
                <a:spcPts val="11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647640" y="1904400"/>
            <a:ext cx="77724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Click to edit the title text format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Click to edit the outline text format</a:t>
            </a: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  <a:p>
            <a:pPr lvl="1" marL="457200" indent="0" algn="ctr">
              <a:lnSpc>
                <a:spcPct val="90000"/>
              </a:lnSpc>
              <a:spcBef>
                <a:spcPts val="10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914400" indent="115920" algn="ctr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3" marL="133524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  <a:p>
            <a:pPr lvl="4" marL="1735200" indent="95040" algn="ctr">
              <a:lnSpc>
                <a:spcPct val="90000"/>
              </a:lnSpc>
              <a:spcBef>
                <a:spcPts val="75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  <a:p>
            <a:pPr lvl="5" marL="1735200" indent="95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  <a:p>
            <a:pPr lvl="6" marL="1735200" indent="9504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oleObject" Target="../embeddings/oleObject1.bin"/><Relationship Id="rId3" Type="http://schemas.openxmlformats.org/officeDocument/2006/relationships/image" Target="../media/image3.wmf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04560" y="1180800"/>
            <a:ext cx="8762760" cy="228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cc29"/>
                </a:solidFill>
                <a:latin typeface="Franklin Gothic Medium"/>
              </a:rPr>
              <a:t>Overview of US DTV Environment</a:t>
            </a:r>
            <a:br>
              <a:rPr sz="6000"/>
            </a:br>
            <a:r>
              <a:rPr b="0" lang="en-US" sz="3600" spc="-1" strike="noStrike">
                <a:solidFill>
                  <a:srgbClr val="ffcc29"/>
                </a:solidFill>
                <a:latin typeface="Franklin Gothic Medium"/>
              </a:rPr>
              <a:t>TV-Anytime IDE</a:t>
            </a:r>
            <a:br>
              <a:rPr sz="3200"/>
            </a:br>
            <a:r>
              <a:rPr b="0" lang="en-US" sz="2800" spc="-1" strike="noStrike">
                <a:solidFill>
                  <a:srgbClr val="ffcc29"/>
                </a:solidFill>
                <a:latin typeface="Franklin Gothic Medium"/>
              </a:rPr>
              <a:t>29 September 2003</a:t>
            </a:r>
            <a:endParaRPr b="0" lang="en-US" sz="2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 type="subTitle"/>
          </p:nvPr>
        </p:nvSpPr>
        <p:spPr>
          <a:xfrm>
            <a:off x="380520" y="4419720"/>
            <a:ext cx="8915400" cy="2093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eb98"/>
                </a:solidFill>
                <a:latin typeface="Franklin Gothic Medium"/>
              </a:rPr>
              <a:t>Skip Pizzi</a:t>
            </a:r>
            <a:endParaRPr b="0" lang="en-US" sz="3200" spc="-1" strike="noStrike">
              <a:solidFill>
                <a:srgbClr val="fceb98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ceb98"/>
                </a:solidFill>
                <a:latin typeface="Franklin Gothic Medium"/>
              </a:rPr>
              <a:t>Manager, Media Standards &amp; Regulation</a:t>
            </a:r>
            <a:endParaRPr b="0" lang="en-US" sz="3200" spc="-1" strike="noStrike">
              <a:solidFill>
                <a:srgbClr val="fceb98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eb98"/>
                </a:solidFill>
                <a:latin typeface="Franklin Gothic Medium"/>
              </a:rPr>
              <a:t>Windows Client Division</a:t>
            </a:r>
            <a:endParaRPr b="0" lang="en-US" sz="3200" spc="-1" strike="noStrike">
              <a:solidFill>
                <a:srgbClr val="fceb98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ceb98"/>
                </a:solidFill>
                <a:latin typeface="Franklin Gothic Medium"/>
              </a:rPr>
              <a:t>Microsoft Corporation</a:t>
            </a:r>
            <a:endParaRPr b="0" lang="en-US" sz="3200" spc="-1" strike="noStrike">
              <a:solidFill>
                <a:srgbClr val="fceb98"/>
              </a:solidFill>
              <a:latin typeface="Franklin Gothic Medium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	</a:t>
            </a:r>
            <a:r>
              <a:rPr b="0" lang="en-US" sz="3600" spc="-1" strike="noStrike">
                <a:solidFill>
                  <a:srgbClr val="fceb98"/>
                </a:solidFill>
                <a:latin typeface="Franklin Gothic Medium"/>
              </a:rPr>
              <a:t>	</a:t>
            </a:r>
            <a:endParaRPr b="0" lang="en-US" sz="3600" spc="-1" strike="noStrike">
              <a:solidFill>
                <a:srgbClr val="fceb98"/>
              </a:solidFill>
              <a:latin typeface="Franklin Gothic Medium"/>
            </a:endParaRPr>
          </a:p>
        </p:txBody>
      </p:sp>
    </p:spTree>
  </p:cSld>
  <p:transition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U.S. PVR status report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28600" y="1415880"/>
            <a:ext cx="4270320" cy="5620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Typical hard disk capacity is 40 hrs now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Likely to move to </a:t>
            </a:r>
            <a:br>
              <a:rPr sz="2800"/>
            </a:b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60 hrs by 2004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1.5 million PVRs now in use in U.S.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65% w/integrated receiver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Projected to double by 2004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Most growth in cable STB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4572000" y="1415880"/>
          <a:ext cx="4191120" cy="38419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572000" y="1415880"/>
                    <a:ext cx="4191120" cy="3841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p:transition>
    <p:zoom dir="in"/>
  </p:transition>
  <p:timing>
    <p:tnLst>
      <p:par>
        <p:cTn id="339" dur="indefinite" restart="never" nodeType="tmRoot">
          <p:childTnLst>
            <p:seq>
              <p:cTn id="340" dur="indefinite" nodeType="mainSeq">
                <p:childTnLst>
                  <p:par>
                    <p:cTn id="341" fill="hold">
                      <p:stCondLst>
                        <p:cond delay="0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3" fill="hold">
                      <p:stCondLst>
                        <p:cond delay="indefinite"/>
                      </p:stCondLst>
                      <p:childTnLst>
                        <p:par>
                          <p:cTn id="354" fill="hold">
                            <p:stCondLst>
                              <p:cond delay="0"/>
                            </p:stCondLst>
                            <p:childTnLst>
                              <p:par>
                                <p:cTn id="3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8" fill="hold">
                      <p:stCondLst>
                        <p:cond delay="indefinite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fill="hold">
                      <p:stCondLst>
                        <p:cond delay="indefinite"/>
                      </p:stCondLst>
                      <p:childTnLst>
                        <p:par>
                          <p:cTn id="367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Next-gen PVRs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171080"/>
            <a:ext cx="7772400" cy="581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More storage (50-100 hrs)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HD capability (10-12 hrs, early 2004)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Standalone &amp; Integrated-tuner models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Digital I/O (HDMI)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PVR as standard in most STBs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PC as PVR (WindowsXP Media Center Edition)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Beyond A/V content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Enabling home media networks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More intelligence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Improved searching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9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Segmentation/Micro-navigation (DVD-like)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zoom dir="in"/>
  </p:transition>
  <p:timing>
    <p:tnLst>
      <p:par>
        <p:cTn id="376" dur="indefinite" restart="never" nodeType="tmRoot">
          <p:childTnLst>
            <p:seq>
              <p:cTn id="377" dur="indefinite" nodeType="mainSeq">
                <p:childTnLst>
                  <p:par>
                    <p:cTn id="378" fill="hold">
                      <p:stCondLst>
                        <p:cond delay="0"/>
                      </p:stCondLst>
                      <p:childTnLst>
                        <p:par>
                          <p:cTn id="379" fill="hold">
                            <p:stCondLst>
                              <p:cond delay="0"/>
                            </p:stCondLst>
                            <p:childTnLst>
                              <p:par>
                                <p:cTn id="38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4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0" fill="hold">
                      <p:stCondLst>
                        <p:cond delay="indefinite"/>
                      </p:stCondLst>
                      <p:childTnLst>
                        <p:par>
                          <p:cTn id="391" fill="hold">
                            <p:stCondLst>
                              <p:cond delay="0"/>
                            </p:stCondLst>
                            <p:childTnLst>
                              <p:par>
                                <p:cTn id="3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8" fill="hold">
                      <p:stCondLst>
                        <p:cond delay="indefinite"/>
                      </p:stCondLst>
                      <p:childTnLst>
                        <p:par>
                          <p:cTn id="409" fill="hold">
                            <p:stCondLst>
                              <p:cond delay="0"/>
                            </p:stCondLst>
                            <p:childTnLst>
                              <p:par>
                                <p:cTn id="41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8" fill="hold">
                      <p:stCondLst>
                        <p:cond delay="indefinite"/>
                      </p:stCondLst>
                      <p:childTnLst>
                        <p:par>
                          <p:cTn id="419" fill="hold">
                            <p:stCondLst>
                              <p:cond delay="0"/>
                            </p:stCondLst>
                            <p:childTnLst>
                              <p:par>
                                <p:cTn id="42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Is DTV Datacasting a future revenue stream?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01680" y="1901520"/>
            <a:ext cx="8540640" cy="47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Adds narrowcast content streams to terrestrial DTV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Allows file downloads or web content delivery to wireless devices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Demos in place at several TV stations today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IPTV content industry may develop soon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Role of PVR here?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zoom dir="in"/>
  </p:transition>
  <p:timing>
    <p:tnLst>
      <p:par>
        <p:cTn id="434" dur="indefinite" restart="never" nodeType="tmRoot">
          <p:childTnLst>
            <p:seq>
              <p:cTn id="435" dur="indefinite" nodeType="mainSeq">
                <p:childTnLst>
                  <p:par>
                    <p:cTn id="436" fill="hold">
                      <p:stCondLst>
                        <p:cond delay="0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2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3" fill="hold">
                      <p:stCondLst>
                        <p:cond delay="indefinite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8" fill="hold">
                      <p:stCondLst>
                        <p:cond delay="indefinite"/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01680" y="315720"/>
            <a:ext cx="8510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DTV Summary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301680" y="1371600"/>
            <a:ext cx="8540640" cy="527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gital TV offers opportunities for more content delivery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TV style via multicast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IP style via datacast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gital TV is changing usage patterns and adding personalization to TV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“</a:t>
            </a: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e-convergence” can provide powerful new communication (learning) platform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US terrestrial DTV still needs some help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Marketing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Regulatory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zoom dir="in"/>
  </p:transition>
  <p:timing>
    <p:tnLst>
      <p:par>
        <p:cTn id="468" dur="indefinite" restart="never" nodeType="tmRoot">
          <p:childTnLst>
            <p:seq>
              <p:cTn id="469" dur="indefinite" nodeType="mainSeq">
                <p:childTnLst>
                  <p:par>
                    <p:cTn id="470" fill="hold">
                      <p:stCondLst>
                        <p:cond delay="0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fill="hold">
                      <p:stCondLst>
                        <p:cond delay="indefinite"/>
                      </p:stCondLst>
                      <p:childTnLst>
                        <p:par>
                          <p:cTn id="478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fill="hold">
                      <p:stCondLst>
                        <p:cond delay="indefinite"/>
                      </p:stCondLst>
                      <p:childTnLst>
                        <p:par>
                          <p:cTn id="489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fill="hold">
                      <p:stCondLst>
                        <p:cond delay="indefinite"/>
                      </p:stCondLst>
                      <p:childTnLst>
                        <p:par>
                          <p:cTn id="494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fill="hold">
                      <p:stCondLst>
                        <p:cond delay="indefinite"/>
                      </p:stCondLst>
                      <p:childTnLst>
                        <p:par>
                          <p:cTn id="499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008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dissolv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80520" y="16344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US Digital TV environment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80880" y="1217520"/>
            <a:ext cx="8763120" cy="531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Terrestrial TV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Second channels assigned (VHF &amp; UHF)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ATSC standard, 6MHz channels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MPEG-2 video; Dolby Digital (2.0 or 5.1 ch) audio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Analog shutoff in 2006 (?)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428840" indent="-398520">
              <a:lnSpc>
                <a:spcPct val="80000"/>
              </a:lnSpc>
              <a:spcBef>
                <a:spcPts val="75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Franklin Gothic Medium"/>
              </a:rPr>
              <a:t>Regulatory (FCC) vs. Legislative (Congress)</a:t>
            </a:r>
            <a:endParaRPr b="0" lang="en-US" sz="20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Cable TV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Digital cable deploying now 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CableLabs OpenCable standard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New “plug &amp; play” FCC regulations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Satellite TV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DIRECTV (proprietary)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Dish Network/Echostar (DVB-S)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zoom dir="in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 </a:t>
            </a: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Terrestrial DTV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80520" y="1415520"/>
            <a:ext cx="8388360" cy="392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Forced convers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Only about 10% OTA-only hom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Cable ~70%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Satellite ~20%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Little ATSC support in receiver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mall but growing carriage in cabl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New regulation to address these issues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fill="hold">
                      <p:stCondLst>
                        <p:cond delay="0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" fill="hold">
                      <p:stCondLst>
                        <p:cond delay="indefinite"/>
                      </p:stCondLst>
                      <p:childTnLst>
                        <p:par>
                          <p:cTn id="81" fill="hold">
                            <p:stCondLst>
                              <p:cond delay="0"/>
                            </p:stCondLst>
                            <p:childTnLst>
                              <p:par>
                                <p:cTn id="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140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Qualitative vs. quantitative expansion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520" y="1911240"/>
            <a:ext cx="8388360" cy="391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SDTV (480i/p) or HDTV (720p/1080i)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Multicasting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Metadata (PSIP)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Interactive elements (DASE)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Datacasting potential 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Stimulating user-behavior changes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zoom dir="in"/>
  </p:transition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0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4" fill="hold">
                      <p:stCondLst>
                        <p:cond delay="indefinite"/>
                      </p:stCondLst>
                      <p:childTnLst>
                        <p:par>
                          <p:cTn id="125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76320" y="228600"/>
            <a:ext cx="899136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Challenges to US terrestrial DTV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301680" y="1219320"/>
            <a:ext cx="8540640" cy="645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ATSC reception problems (8-VSB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Lack of HD content, but growing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Very low OTA receiver penetrat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Most DTVs do not include an ATSC tuner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External ATSC STBs are rare and expensive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18440" indent="-451080">
              <a:lnSpc>
                <a:spcPct val="9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Some HD Satellite receivers include ATSC tuner 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No mobile/portable reception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Low cable and no satellite carriage to dat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Security concerns (“Broadcast flag”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9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ROI for broadcasters?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zoom dir="in"/>
  </p:transition>
  <p:timing>
    <p:tnLst>
      <p:par>
        <p:cTn id="134" dur="indefinite" restart="never" nodeType="tmRoot">
          <p:childTnLst>
            <p:seq>
              <p:cTn id="135" dur="indefinite" nodeType="mainSeq">
                <p:childTnLst>
                  <p:par>
                    <p:cTn id="136" fill="hold">
                      <p:stCondLst>
                        <p:cond delay="0"/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3" fill="hold">
                      <p:stCondLst>
                        <p:cond delay="indefinite"/>
                      </p:stCondLst>
                      <p:childTnLst>
                        <p:par>
                          <p:cTn id="144" fill="hold">
                            <p:stCondLst>
                              <p:cond delay="0"/>
                            </p:stCondLst>
                            <p:childTnLst>
                              <p:par>
                                <p:cTn id="14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8" fill="hold">
                      <p:stCondLst>
                        <p:cond delay="indefinite"/>
                      </p:stCondLst>
                      <p:childTnLst>
                        <p:par>
                          <p:cTn id="149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3" fill="hold">
                      <p:stCondLst>
                        <p:cond delay="indefinite"/>
                      </p:stCondLst>
                      <p:childTnLst>
                        <p:par>
                          <p:cTn id="154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fill="hold">
                      <p:stCondLst>
                        <p:cond delay="indefinite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2" fill="hold">
                      <p:stCondLst>
                        <p:cond delay="indefinite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fill="hold">
                      <p:stCondLst>
                        <p:cond delay="indefinite"/>
                      </p:stCondLst>
                      <p:childTnLst>
                        <p:par>
                          <p:cTn id="178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86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228600" y="228600"/>
            <a:ext cx="868680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Could interactivity provide ROI?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80520" y="1415880"/>
            <a:ext cx="8388360" cy="48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Play-along applications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“</a:t>
            </a: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Tell me more” data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Electronic program guides (EPG)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Local storage (PVR)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T-commerce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500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Web integration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zoom dir="in"/>
  </p:transition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fill="hold">
                      <p:stCondLst>
                        <p:cond delay="0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5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1" fill="hold">
                      <p:stCondLst>
                        <p:cond delay="indefinite"/>
                      </p:stCondLst>
                      <p:childTnLst>
                        <p:par>
                          <p:cTn id="202" fill="hold">
                            <p:stCondLst>
                              <p:cond delay="0"/>
                            </p:stCondLst>
                            <p:childTnLst>
                              <p:par>
                                <p:cTn id="2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0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6" fill="hold">
                      <p:stCondLst>
                        <p:cond delay="indefinite"/>
                      </p:stCondLst>
                      <p:childTnLst>
                        <p:par>
                          <p:cTn id="207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1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6" fill="hold">
                      <p:stCondLst>
                        <p:cond delay="indefinite"/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fill="hold">
                      <p:stCondLst>
                        <p:cond delay="indefinite"/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38088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Challenges to interactivity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80520" y="1523520"/>
            <a:ext cx="8388360" cy="5000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80000"/>
              </a:lnSpc>
              <a:spcBef>
                <a:spcPts val="1500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Hardware cost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500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Multiple content formats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500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Back-channel requirement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500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Weak demand in US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No teletext tradition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28880" indent="-455760">
              <a:lnSpc>
                <a:spcPct val="8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High on-line PC penetration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80000"/>
              </a:lnSpc>
              <a:spcBef>
                <a:spcPts val="1500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Franklin Gothic Medium"/>
              </a:rPr>
              <a:t>Two-screen variant (“telewebbing”) persists</a:t>
            </a:r>
            <a:endParaRPr b="0" lang="en-US" sz="40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zoom dir="in"/>
  </p:transition>
  <p:timing>
    <p:tnLst>
      <p:par>
        <p:cTn id="226" dur="indefinite" restart="never" nodeType="tmRoot">
          <p:childTnLst>
            <p:seq>
              <p:cTn id="227" dur="indefinite" nodeType="mainSeq">
                <p:childTnLst>
                  <p:par>
                    <p:cTn id="228" fill="hold">
                      <p:stCondLst>
                        <p:cond delay="0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2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3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0" fill="hold">
                      <p:stCondLst>
                        <p:cond delay="indefinite"/>
                      </p:stCondLst>
                      <p:childTnLst>
                        <p:par>
                          <p:cTn id="241" fill="hold">
                            <p:stCondLst>
                              <p:cond delay="0"/>
                            </p:stCondLst>
                            <p:childTnLst>
                              <p:par>
                                <p:cTn id="24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5" fill="hold">
                      <p:stCondLst>
                        <p:cond delay="indefinite"/>
                      </p:stCondLst>
                      <p:childTnLst>
                        <p:par>
                          <p:cTn id="246" fill="hold">
                            <p:stCondLst>
                              <p:cond delay="0"/>
                            </p:stCondLst>
                            <p:childTnLst>
                              <p:par>
                                <p:cTn id="2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5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39760"/>
            <a:ext cx="8510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DTV’s early strength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225360" y="1218960"/>
            <a:ext cx="8842320" cy="6235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65920" indent="-565920">
              <a:lnSpc>
                <a:spcPct val="11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EPG (browse TV for content, not by channel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11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EPG+PVR (one-click record by title, live pause, commercial skipping)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marL="565920" indent="-565920">
              <a:lnSpc>
                <a:spcPct val="110000"/>
              </a:lnSpc>
              <a:spcBef>
                <a:spcPts val="119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Franklin Gothic Medium"/>
              </a:rPr>
              <a:t>Digital satellite &amp; cable</a:t>
            </a:r>
            <a:endParaRPr b="0" lang="en-US" sz="32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18440" indent="-451080">
              <a:lnSpc>
                <a:spcPct val="11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Already in place and growing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414440" indent="-394200">
              <a:lnSpc>
                <a:spcPct val="11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Cable penetration 70%, but only ~10% of that is digital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414440" indent="-394200">
              <a:lnSpc>
                <a:spcPct val="11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DTH Satellite penetration near 20%, all digital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  <a:p>
            <a:pPr lvl="1" marL="1018440" indent="-451080">
              <a:lnSpc>
                <a:spcPct val="110000"/>
              </a:lnSpc>
              <a:spcBef>
                <a:spcPts val="1049"/>
              </a:spcBef>
              <a:buClr>
                <a:srgbClr val="ffcc29"/>
              </a:buClr>
              <a:buSzPct val="75000"/>
              <a:buFont typeface="Wingdings" charset="2"/>
              <a:buChar char="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Franklin Gothic Medium"/>
              </a:rPr>
              <a:t>Starting HD programming </a:t>
            </a:r>
            <a:endParaRPr b="0" lang="en-US" sz="2800" spc="-1" strike="noStrike">
              <a:solidFill>
                <a:srgbClr val="ffffff"/>
              </a:solidFill>
              <a:latin typeface="Franklin Gothic Medium"/>
            </a:endParaRPr>
          </a:p>
          <a:p>
            <a:pPr lvl="2" marL="1414440" indent="-394200">
              <a:lnSpc>
                <a:spcPct val="110000"/>
              </a:lnSpc>
              <a:spcBef>
                <a:spcPts val="901"/>
              </a:spcBef>
              <a:buClr>
                <a:srgbClr val="ffcc29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Franklin Gothic Medium"/>
              </a:rPr>
              <a:t>HBO, SHO, HDNet (2), ESPN, DISC, PPV</a:t>
            </a:r>
            <a:endParaRPr b="0" lang="en-US" sz="24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zoom dir="in"/>
  </p:transition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0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5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fill="hold">
                      <p:stCondLst>
                        <p:cond delay="indefinite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fill="hold">
                      <p:stCondLst>
                        <p:cond delay="indefinite"/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1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2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393400" cy="751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cc29"/>
                </a:solidFill>
                <a:latin typeface="Franklin Gothic Medium"/>
              </a:rPr>
              <a:t>Emergence of the PVR </a:t>
            </a:r>
            <a:endParaRPr b="0" lang="en-US" sz="4800" spc="-1" strike="noStrike">
              <a:solidFill>
                <a:srgbClr val="ffcc29"/>
              </a:solidFill>
              <a:latin typeface="Franklin Gothic Medium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26680" y="1523880"/>
            <a:ext cx="8388360" cy="588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Strong desire yet still relatively low penetration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Hardware + subscription $$$ obstacle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Cheap or freely provided Sat/Cable STB+PVR may overcome consumer resistance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Content-skipping concerns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-571680">
              <a:lnSpc>
                <a:spcPct val="90000"/>
              </a:lnSpc>
              <a:spcBef>
                <a:spcPts val="1349"/>
              </a:spcBef>
              <a:buClr>
                <a:srgbClr val="ffcc2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Franklin Gothic Medium"/>
              </a:rPr>
              <a:t>Internet redistribution concerns</a:t>
            </a: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  <a:p>
            <a:pPr marL="5716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Franklin Gothic Medium"/>
            </a:endParaRPr>
          </a:p>
        </p:txBody>
      </p:sp>
    </p:spTree>
  </p:cSld>
  <p:transition>
    <p:zoom dir="in"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3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4" fill="hold">
                      <p:stCondLst>
                        <p:cond delay="indefinite"/>
                      </p:stCondLst>
                      <p:childTnLst>
                        <p:par>
                          <p:cTn id="315" fill="hold">
                            <p:stCondLst>
                              <p:cond delay="0"/>
                            </p:stCondLst>
                            <p:childTnLst>
                              <p:par>
                                <p:cTn id="31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fill="hold">
                      <p:stCondLst>
                        <p:cond delay="indefinite"/>
                      </p:stCondLst>
                      <p:childTnLst>
                        <p:par>
                          <p:cTn id="330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4" fill="hold">
                      <p:stCondLst>
                        <p:cond delay="indefinite"/>
                      </p:stCondLst>
                      <p:childTnLst>
                        <p:par>
                          <p:cTn id="335" fill="hold">
                            <p:stCondLst>
                              <p:cond delay="0"/>
                            </p:stCondLst>
                            <p:childTnLst>
                              <p:par>
                                <p:cTn id="33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07T14:19:34Z</dcterms:created>
  <dc:creator>Skip Pizzi</dc:creator>
  <dc:description/>
  <dc:language>en-US</dc:language>
  <cp:lastModifiedBy>Skip Pizzi</cp:lastModifiedBy>
  <dcterms:modified xsi:type="dcterms:W3CDTF">2003-09-29T01:25:36Z</dcterms:modified>
  <cp:revision>15</cp:revision>
  <dc:subject>TVAF IDE, 29-Sep-03</dc:subject>
  <dc:title>Overview of US DTV Environment</dc:title>
</cp:coreProperties>
</file>