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0080" y="322776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276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808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572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008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808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572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0080" y="534600"/>
            <a:ext cx="77724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276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0080" y="322776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276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5808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5720" y="117432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008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5808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5720" y="3227760"/>
            <a:ext cx="250236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0080" y="534600"/>
            <a:ext cx="77724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2760" y="322776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174320"/>
            <a:ext cx="37926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0080" y="322776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99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99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5654520"/>
            <a:ext cx="9144000" cy="136800"/>
          </a:xfrm>
          <a:prstGeom prst="rect">
            <a:avLst/>
          </a:prstGeom>
          <a:solidFill>
            <a:srgbClr val="e6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240" y="5786280"/>
            <a:ext cx="914076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990360"/>
            <a:ext cx="77695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654520"/>
            <a:ext cx="9144000" cy="136800"/>
          </a:xfrm>
          <a:prstGeom prst="rect">
            <a:avLst/>
          </a:prstGeom>
          <a:solidFill>
            <a:srgbClr val="e6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" y="5786280"/>
            <a:ext cx="9140760" cy="107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857160" algn="ctr">
              <a:spcBef>
                <a:spcPts val="601"/>
              </a:spcBef>
              <a:buClr>
                <a:srgbClr val="ff9966"/>
              </a:buClr>
              <a:buFont typeface="Tahoma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200240" algn="ctr">
              <a:spcBef>
                <a:spcPts val="550"/>
              </a:spcBef>
              <a:buClr>
                <a:srgbClr val="ff9966"/>
              </a:buClr>
              <a:buFont typeface="Tahom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4" marL="1542960" algn="ctr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5" marL="1542960">
              <a:spcBef>
                <a:spcPts val="499"/>
              </a:spcBef>
              <a:buClr>
                <a:srgbClr val="0099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6" marL="1542960">
              <a:spcBef>
                <a:spcPts val="499"/>
              </a:spcBef>
              <a:buClr>
                <a:srgbClr val="0099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990360"/>
            <a:ext cx="77695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US DVR Landscape - Status and Trends</a:t>
            </a:r>
            <a:br>
              <a:rPr sz="3000"/>
            </a:b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30080" y="1630440"/>
            <a:ext cx="7769520" cy="39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V-Anytime Forum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9/29/03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Bill Niemeyer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hief, Analysis &amp; Research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he DiMA Group, LLC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Dramatic MSO Growth Should Continu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Over last year, most Explorer 8000s taken by one MSO - Time Warner - #2 in size, 15% of cable market, 11 million sub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53760" indent="-25128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#1 Comcast (29%, 21 million) deployed in selected systems, also Cox &amp; Bright House 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A reported Comcast "substantial order" in Q4 in support of plans for "wider deployment"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53760" indent="-25128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"Substantial orders" from TW in both Q4 and beginning of new quarter </a:t>
            </a:r>
            <a:br>
              <a:rPr sz="2600"/>
            </a:b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What of Motorola?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No equivalent product to Explorer 8000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Motorola systems have no "standard level" DCT box + TV Guide EPG solution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April - postponed indefinitely DCT 2600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Will ship HD DVR set-top w/ TV Guide EPG this year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hipments of BMC 9000 media centers (based on Digeo Moxi tech) to start by end of year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Order for 100,000 placed by Charter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Media Center New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Motorola BMC 9000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Microsoft Media Center PC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omcast - Ucentric / Samsung trial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cientific-Atlanta "Multi-Room DVR"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DBS Respons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choStar announced new "free" DVR receiver &amp; service in August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Backed with aggressive TV/print campaign (featuring ad skipping and 100 hour cap.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One reason cited for launch - cable success with DVR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DBS Respons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Rupert Murdoch at conference two weeks ago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"Within a year, every new home will be getting either [a] ...free PVR or one for nominal amounts of money, with no subscription fee at the other end."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DIRECTV sale should close by end of year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Ad Industry DVR Respons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Many (but not all) at advertisers &amp; networks remain complacent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But... noticeable change over past 90 day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"10% before we pay attention"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Primetime ad rates are set by 18-49 ratings - will magnify DVR number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ome hoping for defensive measure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Time Warner's Mystro TV (network DVR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Ad Industry DVR Respons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rials of new DVR marketing opportunitie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Telescoping ads - Best Buy (TiVo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Advertainment - BMW Films (TiVo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Viewer request for more info &amp; recording of long form - Chrysler Crossfire (TiVo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Interactive Advertising Guidelines project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E "Standalone" DVR Challenge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able &amp; DBS can aggressively price &amp; market DVR because of impact on overall financial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Integration with set-top/receiver currently provides: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Easier install and use for customer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No conditional access issue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able can hybridize with VOD more easily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E "Standalone" DVR Opportunitie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Licensing or partnering with cable / DB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Move quickly to market to leverage the nascent state of cable DVR servic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Offer superior integration with TV, DVD, home media, PCs, home networks, Internet 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CEA / NCTA "Plug and Play" should help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rovide a better user interface experienc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Control of the UI could be large opportunity - esp. for integrated media companie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E "Standalone" DVR Opportunitie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Offer viewers, advertisers and programmers a better platform for advanced on-demand TV marketing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Requires different business model 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Requires integration with other efforts to establish on-demand ad practices and specification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US DVR Landscape - Status and Trend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eployment metrics - current and tren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mergence of MSO DVR set-top servic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riving forces for market growth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hallenges and opportunitie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Advertising impact / trials / industry respons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Wrapping Up...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VR becoming key part of cable vs. DBS battl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able DVR fastest growing segment in U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Will continue to accelerate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"Standalone" CE DVR has a shortening window to establish its position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VR provides new opportunities for TV marketing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Participants should work to prepare now 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US DVR Story So Far...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Growth in US has been steady but not spectacular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ince 1999, TiVo and EchoStar have gained         1.8 million subscriber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4 million DVD players sold in first four year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Many at advertisers &amp; networks complacent about ad skipping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Impact "someday but not soon"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Three Notable Recent Development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Cable DVR set-top service has become fastest growing US category one year since first commercial deployment 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choStar aggressively launched "free" DVR offer (with wide TV ad campaign)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Rupert Murdoch predicted free DVR for all new DBS subscribers in one year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urrent US DVR Deployment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otal - 2.2 million DVR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choStar - 1,000,000 DVR subscriber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9/24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iVo - 793,000 sub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7/31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467,000 standalone - 326,000 DIRECTV 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cientific-Atlanta - 387,000 DVR set-top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6/30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Explorer 8000 - first trials, April 2002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DVR Metrics In Context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2.2 million DVR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107 million US TV Household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Nielsen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72 million cable subscriber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NCTA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1 million digital cable subscriber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20 million DBS subscribers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SBCA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Current Quarterly Deployment Rates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VRs per quarter - 340,000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approx.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Scientific-Atlanta - 158,000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6/30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387K over past year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chostar - 90,000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avg. since April 2002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350K over past year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approx.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TiVo - 90,000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(7/31 - 36K standalone - 56K DIRECTV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329K over past year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Why MSOs Like DVR Servic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Increased revenu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68520" indent="-2570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$4.95 - $9.95 a month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Easy to deploy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68520" indent="-2570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Remote headend software update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668520" indent="-2570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Uses version of current EPG (SARA, Passport)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1" marL="668520" indent="-2570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Box self-install by customer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rofitabl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668520" indent="-2570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About $200 higher cost for DVR vs. "regular" set-top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0080" y="5346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Why MSOs </a:t>
            </a:r>
            <a:r>
              <a:rPr b="1" lang="en-US" sz="3000" spc="-1" strike="noStrike" u="sng">
                <a:solidFill>
                  <a:srgbClr val="1a3280"/>
                </a:solidFill>
                <a:uFillTx/>
                <a:latin typeface="Tahoma"/>
              </a:rPr>
              <a:t>Love</a:t>
            </a:r>
            <a:r>
              <a:rPr b="1" lang="en-US" sz="3000" spc="-1" strike="noStrike">
                <a:solidFill>
                  <a:srgbClr val="1a3280"/>
                </a:solidFill>
                <a:latin typeface="Tahoma"/>
              </a:rPr>
              <a:t> DVR Service</a:t>
            </a:r>
            <a:endParaRPr b="1" lang="en-US" sz="3000" spc="-1" strike="noStrike">
              <a:solidFill>
                <a:srgbClr val="1a328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17432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Increases subscriber satisfaction with digital cable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rives digital adoption, reduces churn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Helps compete with DB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Drives core financials for cable systems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Ironic - given ownership of The WB, TBS, TNN &amp; CNN - Time Warner first to deploy wid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8T23:46:15Z</dcterms:created>
  <dc:creator>Bill Niemeyer, DiMA Group</dc:creator>
  <dc:description/>
  <dc:language>en-US</dc:language>
  <cp:lastModifiedBy>Bill Niemeyer</cp:lastModifiedBy>
  <dcterms:modified xsi:type="dcterms:W3CDTF">2003-09-29T05:44:13Z</dcterms:modified>
  <cp:revision>620</cp:revision>
  <dc:subject>TVAF IDE, 29-Sep-03</dc:subject>
  <dc:title>US PVR Landscape: Status and Trends</dc:title>
</cp:coreProperties>
</file>