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262-320C-456E-A2DE-BDCCE7DA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C3C-F4BB-4A44-9E6E-8194A312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B5AB-2467-444E-A07C-B740263B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B19-BF3A-4035-BA59-9C5BF5DD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4E79-D66E-4D54-AA80-7E1BA0E9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7DFB-7F46-4C52-AC03-ACD6C35B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8EF02-131E-4F27-BAC1-6CA44A30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6998-1E58-4616-B3E7-DACF87C4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AC7C-E7EE-45F8-AEB1-149409E1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38480" y="304920"/>
            <a:ext cx="4114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02B3-B0F8-4BC6-BFE3-2C81B360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F6CD-0CA4-411A-B582-21A56CDE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6BB-2A98-41A8-B264-424501C6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4840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11670-4CF1-4081-858A-33428112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4C7D-8626-4E54-B9FA-C395399B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12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EB39-CBC6-40CA-9AAF-C696134C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4840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8C00-2FF5-4891-9A85-440D7E94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4008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1400" y="198108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12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4008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1400" y="413064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D915-FA77-49A5-8281-C627F8A7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7F7-C6F0-41D3-8C40-BD079AF2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DFD-0B24-4506-B62D-5FE2ABA2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48E3-9499-4955-854F-856062D0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38480" y="304920"/>
            <a:ext cx="4114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DABF-63AA-4A7D-B5A9-874F9F0F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265E-ABAD-4438-A0B1-FF8361E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3064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C56-0B61-431D-A6D3-D65E10EA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981080"/>
            <a:ext cx="394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30640"/>
            <a:ext cx="8077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D08-BD79-4E18-9B72-3F93C49F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609480" y="624852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B01A-BEFA-4B18-9F7E-4828211EE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09480" y="6248520"/>
            <a:ext cx="19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B705-393E-4D1E-9235-7E935FAFD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1904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TV-Anytime on DVB broadcast network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avid White, NDS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VB-GBS Edito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562720" y="2971800"/>
            <a:ext cx="35812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Content Referencing Information - examp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238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Content Referencing Information -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ifficult require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fficient data siz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ort prioritisation of con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eed a route to correct resul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lexible solu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ased on TVA index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vel, specialised index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vides CRID compa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oints to results (allows prioritisa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fficient CRI resul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Metadata delivery -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flexible linka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ased on metadata on MPEG-2 amend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ocation of linkage indicates type of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uthority part of R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ent metadata (ProgramInfo, GroupInfo, et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lobal part of RNT or NIT/B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ll ty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deal for receivers caching to dis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D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stance metadata (Schedule, ServiceInfo, etc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Metadata delivery -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issues under deba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ssues under deb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Object carousel or data carous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efine some standard DVB indices (i.e. profile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Just indexing or additional organisation of type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PEG-7 BiM or something els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railer book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imple way of associating on-screen promotion with cont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railer for a fil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motion of series during credits for an episo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ink to related material during program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esence of “Related material section” entry indicates a li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ulti-language editorial text per li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Your chance to see walking with dinosaur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fer to content using CRID per li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orts multiple lin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railer book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5208480" cy="5333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276360" cy="28386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3352680" y="2057400"/>
            <a:ext cx="2146680" cy="1526040"/>
            <a:chOff x="3352680" y="2057400"/>
            <a:chExt cx="2146680" cy="1526040"/>
          </a:xfrm>
        </p:grpSpPr>
        <p:sp>
          <p:nvSpPr>
            <p:cNvPr id="118" name=""/>
            <p:cNvSpPr/>
            <p:nvPr/>
          </p:nvSpPr>
          <p:spPr>
            <a:xfrm>
              <a:off x="3352680" y="2057400"/>
              <a:ext cx="2133720" cy="1371600"/>
            </a:xfrm>
            <a:prstGeom prst="wedgeRoundRectCallout">
              <a:avLst>
                <a:gd name="adj1" fmla="val -55953"/>
                <a:gd name="adj2" fmla="val 7106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29000" y="2209680"/>
              <a:ext cx="2070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Watch me</a:t>
              </a:r>
              <a:br>
                <a:rPr sz="2800"/>
              </a:br>
              <a:r>
                <a:rPr b="0" lang="en-GB" sz="2800" spc="-1" strike="noStrike">
                  <a:solidFill>
                    <a:srgbClr val="000000"/>
                  </a:solidFill>
                  <a:latin typeface="Times New Roman"/>
                </a:rPr>
                <a:t>cooking foo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752480" y="4495680"/>
            <a:ext cx="1828800" cy="398880"/>
            <a:chOff x="1752480" y="4495680"/>
            <a:chExt cx="1828800" cy="398880"/>
          </a:xfrm>
        </p:grpSpPr>
        <p:sp>
          <p:nvSpPr>
            <p:cNvPr id="121" name=""/>
            <p:cNvSpPr/>
            <p:nvPr/>
          </p:nvSpPr>
          <p:spPr>
            <a:xfrm>
              <a:off x="1752480" y="4495680"/>
              <a:ext cx="381240" cy="3812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90880" y="4495680"/>
              <a:ext cx="149040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Press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600200" y="4267080"/>
            <a:ext cx="35812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cord Jamie coo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Record all Jamie’s program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railer book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5208480" cy="5333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352680" y="2057400"/>
            <a:ext cx="2133720" cy="1371600"/>
          </a:xfrm>
          <a:prstGeom prst="wedgeRoundRectCallout">
            <a:avLst>
              <a:gd name="adj1" fmla="val -55953"/>
              <a:gd name="adj2" fmla="val 71064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2438280"/>
            <a:ext cx="14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’s g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Integration with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DVB-SI ev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ten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tended event ident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ort for nested and overlapping ev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plac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VA metadata provides much of SI functiona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optional parts of SI can be done with meta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egr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ort existing platforms using EIT schedu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ssociate CRIDs with ev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nimise impact on existing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Accurate recording -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hree modes for record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ime &amp; date onl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asic but an effective fall-bac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ime &amp; date + event_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otentially accu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orted by current systems by EIT p/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IT events can’t overl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ime &amp; date + TVA_i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otentially accu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VA_id events can overla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cord ads at start and end of all ev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orts nested ev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ist of TVA_ids in EIT p/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760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VA_id -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recording overlapping cont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3048120"/>
            <a:ext cx="2210040" cy="9144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V program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30481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3048120"/>
            <a:ext cx="2209680" cy="9144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V program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086600" y="30481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3048120"/>
            <a:ext cx="91440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4495680"/>
            <a:ext cx="403884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ord program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4114800"/>
            <a:ext cx="403884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ord program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514600"/>
            <a:ext cx="4038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VA_id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133720"/>
            <a:ext cx="40384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VA_i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raft document - GBS005r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arriage and signalling of TV-Anytime information in DVB transport stream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xt revision available 29th July from DVB ftp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760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VA_id -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recording nested cont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3880" y="2743200"/>
            <a:ext cx="594360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ort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3880" y="3352680"/>
            <a:ext cx="167652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ll 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3352680"/>
            <a:ext cx="76212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ur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3352680"/>
            <a:ext cx="251460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Yet more foo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3352680"/>
            <a:ext cx="990360" cy="6858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torb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4267080"/>
            <a:ext cx="59436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ord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4800600"/>
            <a:ext cx="7621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10520" y="5562720"/>
            <a:ext cx="52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eceiver can’t tell differ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nested and overlapp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1676520"/>
            <a:ext cx="601992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VA_i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2209680"/>
            <a:ext cx="914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VA_id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2209680"/>
            <a:ext cx="152424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VA_id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4800" y="2209680"/>
            <a:ext cx="236232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VA_id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53080" y="2209680"/>
            <a:ext cx="914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VA_id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n effective tool-kit built on TV-Anyti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lexible link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ent referencing in broadcast networ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etadata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railer book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owerful event ident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egration with S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me issues still to resol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etadata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dentifying appropriate R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GBS0005r5 is draft specific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562720" y="3444840"/>
            <a:ext cx="35812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Reasons - backgroun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apidly expanding PDR marke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ort for PDRs in DVB is limit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prietary solutions mean legacy issu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trong commercial drive for PDR supp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Reasons - requiremen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quirements in document PDR00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cording DVB servic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cquiring associated meta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ferencing content for recor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romoting content before it is schedul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obust to changes in schedu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dopted TVA as best fit to require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Key featur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uthority link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upporting TVA resolving author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ntent Referencing Information (CRI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RID resolving in a broadcast net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etadata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cluding compression, indexing and scheduled deliver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railer book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imple, powerful and effici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Integration with S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tensions to EIT for “platform upgrades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Flexible Linkage - 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the resolving author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TV-Anytime defines concept of an “authority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rid://&lt;authority&gt;/&lt;data&gt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presented by Resolution Authority Record (RAR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How to find a RAR in a DVB network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solution Notification Table (RNT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fixed PID for R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lists known authorit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ferences authority’s C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RARs per authority, DVB or intern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ferences authority’s meta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references other transport streams to look for R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Locating information on</a:t>
            </a:r>
            <a:br>
              <a:rPr sz="2500"/>
            </a:b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an author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65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38480" y="30492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ffffff"/>
                </a:solidFill>
                <a:latin typeface="Arial"/>
              </a:rPr>
              <a:t>Content Referencing Information - CRI se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ifferent networks require different ways of organising C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TT - tight bandwidth and regional recep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minimise cross-carri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istribute over transport strea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SAT/ DCABLE - more bandwidth, wide-area recep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ld centralise CRI on one transpond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uld carry additional, incomplete, localised set per 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could cross-carry all CR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ach TS has complete CRI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David White</cp:lastModifiedBy>
  <dcterms:modified xsi:type="dcterms:W3CDTF">2003-07-28T09:46:59Z</dcterms:modified>
  <cp:revision>6</cp:revision>
  <dc:subject/>
  <dc:title>TV-Anytime on DVB broadcast networks</dc:title>
</cp:coreProperties>
</file>