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695160" y="761760"/>
            <a:ext cx="539136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9329-0561-4E1C-80B2-CF2DBBC737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531720" y="328680"/>
            <a:ext cx="5732640" cy="3968640"/>
          </a:xfrm>
          <a:prstGeom prst="rect">
            <a:avLst/>
          </a:prstGeom>
          <a:ln w="0">
            <a:noFill/>
          </a:ln>
        </p:spPr>
      </p:sp>
      <p:sp>
        <p:nvSpPr>
          <p:cNvPr id="121" name=""/>
          <p:cNvSpPr/>
          <p:nvPr/>
        </p:nvSpPr>
        <p:spPr>
          <a:xfrm>
            <a:off x="498600" y="4684680"/>
            <a:ext cx="580392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4922-083F-4BFC-943C-452AEC8D6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720720" y="749160"/>
            <a:ext cx="5356080" cy="37101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4471-357A-42D7-8028-C8B19472FD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720720" y="749160"/>
            <a:ext cx="5356080" cy="37101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531720" y="328680"/>
            <a:ext cx="5732640" cy="3968640"/>
          </a:xfrm>
          <a:prstGeom prst="rect">
            <a:avLst/>
          </a:prstGeom>
          <a:ln w="0">
            <a:noFill/>
          </a:ln>
        </p:spPr>
      </p:sp>
      <p:sp>
        <p:nvSpPr>
          <p:cNvPr id="135" name=""/>
          <p:cNvSpPr/>
          <p:nvPr/>
        </p:nvSpPr>
        <p:spPr>
          <a:xfrm>
            <a:off x="498600" y="4684680"/>
            <a:ext cx="580392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320" y="88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760" y="144756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9760" y="371628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7320" y="88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9760" y="144756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4360" y="144756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9760" y="371628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4360" y="371628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7320" y="88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9760" y="144756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3880" y="144756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9760" y="371628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000" y="371628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3880" y="371628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7320" y="88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9760" y="144756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320" y="88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9760" y="144756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7320" y="88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9760" y="144756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4360" y="144756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7320" y="88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7320" y="889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7320" y="88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9760" y="144756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360" y="144756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9760" y="371628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7320" y="88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9760" y="144756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360" y="144756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4360" y="371628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7320" y="88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760" y="144756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360" y="144756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9760" y="371628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4"/>
            </a:gs>
            <a:gs pos="50000">
              <a:srgbClr val="0033cc"/>
            </a:gs>
            <a:gs pos="100000">
              <a:srgbClr val="00008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320" y="88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760" y="144756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080" y="6251400"/>
            <a:ext cx="9820080" cy="255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66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551800" y="6372360"/>
          <a:ext cx="1155600" cy="32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1800" y="6372360"/>
                    <a:ext cx="11556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275760" y="6381720"/>
            <a:ext cx="26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arch &amp;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bc.co.uk/rd/pubs/whp/whp060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4"/>
            </a:gs>
            <a:gs pos="50000">
              <a:srgbClr val="0033cc"/>
            </a:gs>
            <a:gs pos="100000">
              <a:srgbClr val="00008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440" y="187200"/>
            <a:ext cx="97408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96760"/>
            <a:ext cx="9823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BC TV-Anytime end-to-end pilo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438280" y="2590920"/>
            <a:ext cx="2895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ris Newe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gital Media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BC R&amp;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4"/>
            </a:gs>
            <a:gs pos="50000">
              <a:srgbClr val="0033cc"/>
            </a:gs>
            <a:gs pos="100000">
              <a:srgbClr val="00008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80880" indent="-3808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he developments required in the BBC’s internal informa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idate and inform the standards work within TV-Anytime and DV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test streams to PVR manufacturers for interoperability t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demonstrations to promote TV-Any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76176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d-to-end pilot goa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4"/>
            </a:gs>
            <a:gs pos="50000">
              <a:srgbClr val="0033cc"/>
            </a:gs>
            <a:gs pos="100000">
              <a:srgbClr val="00008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440" y="187200"/>
            <a:ext cx="97408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14400"/>
            <a:ext cx="9823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667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ve combined SI / TV-Anytime data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oup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pea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nt Referencing service compiler  (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data service compiler  (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 Carousel compiler  (interim transport form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yout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04920"/>
            <a:ext cx="861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V-Anytime end-to-end pilot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4"/>
            </a:gs>
            <a:gs pos="50000">
              <a:srgbClr val="0033cc"/>
            </a:gs>
            <a:gs pos="100000">
              <a:srgbClr val="00008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420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V-Anytime end-to-end pilot head-e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990720" y="1752480"/>
            <a:ext cx="808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33344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3368520"/>
            <a:ext cx="914400" cy="974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ous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05120"/>
            <a:ext cx="914400" cy="974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3368520"/>
            <a:ext cx="914400" cy="974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590920"/>
            <a:ext cx="914400" cy="97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855960"/>
            <a:ext cx="45720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" name=""/>
          <p:cNvCxnSpPr>
            <a:endCxn id="64" idx="1"/>
          </p:cNvCxnSpPr>
          <p:nvPr/>
        </p:nvCxnSpPr>
        <p:spPr>
          <a:xfrm>
            <a:off x="3276720" y="3285720"/>
            <a:ext cx="762480" cy="570600"/>
          </a:xfrm>
          <a:prstGeom prst="bentConnector3">
            <a:avLst>
              <a:gd name="adj1" fmla="val 4997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endCxn id="63" idx="1"/>
          </p:cNvCxnSpPr>
          <p:nvPr/>
        </p:nvCxnSpPr>
        <p:spPr>
          <a:xfrm flipV="1">
            <a:off x="3276720" y="2391840"/>
            <a:ext cx="1372320" cy="651600"/>
          </a:xfrm>
          <a:prstGeom prst="bentConnector3">
            <a:avLst>
              <a:gd name="adj1" fmla="val 4998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3" idx="3"/>
          </p:cNvCxnSpPr>
          <p:nvPr/>
        </p:nvCxnSpPr>
        <p:spPr>
          <a:xfrm>
            <a:off x="5562360" y="2392200"/>
            <a:ext cx="1524600" cy="4881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2" idx="3"/>
          </p:cNvCxnSpPr>
          <p:nvPr/>
        </p:nvCxnSpPr>
        <p:spPr>
          <a:xfrm flipV="1">
            <a:off x="6324120" y="3285360"/>
            <a:ext cx="762840" cy="5706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71" name=""/>
          <p:cNvGrpSpPr/>
          <p:nvPr/>
        </p:nvGrpSpPr>
        <p:grpSpPr>
          <a:xfrm>
            <a:off x="2362320" y="2473200"/>
            <a:ext cx="914040" cy="1300320"/>
            <a:chOff x="2362320" y="2473200"/>
            <a:chExt cx="914040" cy="1300320"/>
          </a:xfrm>
        </p:grpSpPr>
        <p:sp>
          <p:nvSpPr>
            <p:cNvPr id="72" name=""/>
            <p:cNvSpPr/>
            <p:nvPr/>
          </p:nvSpPr>
          <p:spPr>
            <a:xfrm>
              <a:off x="2362320" y="2565360"/>
              <a:ext cx="914040" cy="111636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bin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D/TV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2473200"/>
              <a:ext cx="914040" cy="18468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362320" y="3588480"/>
              <a:ext cx="913680" cy="18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2362320" y="3588480"/>
              <a:ext cx="912960" cy="18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80880" y="5486400"/>
            <a:ext cx="5334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D: The BBC’s existing Schedule Information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:  Content Referencing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43800" y="3540240"/>
            <a:ext cx="1440" cy="5331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43800" y="2092320"/>
            <a:ext cx="1440" cy="5335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41911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sting m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lot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124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81952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date stre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4"/>
            </a:gs>
            <a:gs pos="50000">
              <a:srgbClr val="0033cc"/>
            </a:gs>
            <a:gs pos="100000">
              <a:srgbClr val="00008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440" y="187200"/>
            <a:ext cx="97408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14400"/>
            <a:ext cx="9823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nux DVB API supporting DVB-T or DVB-S 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data service captured and cached on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I decoder supports live location re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interface provided to applications using the BBC Java TV-Anytime API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bbc.co.uk/rd/pubs/whp/whp060.html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VA plug-in for VDR (Video Disk Recorder) open source PV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ava-based GUI for test purpo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04920"/>
            <a:ext cx="861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V-Anytime end-to-end client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4"/>
            </a:gs>
            <a:gs pos="50000">
              <a:srgbClr val="0033cc"/>
            </a:gs>
            <a:gs pos="100000">
              <a:srgbClr val="00008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420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V-Anytime end-to-end pilot cli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990720" y="1752480"/>
            <a:ext cx="808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33344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2606760"/>
            <a:ext cx="914400" cy="974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1143000"/>
            <a:ext cx="914400" cy="974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606760"/>
            <a:ext cx="914400" cy="974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ous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1844640"/>
            <a:ext cx="914400" cy="974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3094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5" idx="3"/>
            <a:endCxn id="91" idx="1"/>
          </p:cNvCxnSpPr>
          <p:nvPr/>
        </p:nvCxnSpPr>
        <p:spPr>
          <a:xfrm>
            <a:off x="2590920" y="2392200"/>
            <a:ext cx="762480" cy="702720"/>
          </a:xfrm>
          <a:prstGeom prst="bentConnector3">
            <a:avLst>
              <a:gd name="adj1" fmla="val 4997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5" idx="3"/>
            <a:endCxn id="90" idx="1"/>
          </p:cNvCxnSpPr>
          <p:nvPr/>
        </p:nvCxnSpPr>
        <p:spPr>
          <a:xfrm flipV="1">
            <a:off x="2590920" y="1630080"/>
            <a:ext cx="1372320" cy="762480"/>
          </a:xfrm>
          <a:prstGeom prst="bentConnector3">
            <a:avLst>
              <a:gd name="adj1" fmla="val 2776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0" idx="3"/>
            <a:endCxn id="92" idx="1"/>
          </p:cNvCxnSpPr>
          <p:nvPr/>
        </p:nvCxnSpPr>
        <p:spPr>
          <a:xfrm>
            <a:off x="4876560" y="1630080"/>
            <a:ext cx="1524600" cy="702360"/>
          </a:xfrm>
          <a:prstGeom prst="bentConnector3">
            <a:avLst>
              <a:gd name="adj1" fmla="val 6572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3"/>
            <a:endCxn id="92" idx="1"/>
          </p:cNvCxnSpPr>
          <p:nvPr/>
        </p:nvCxnSpPr>
        <p:spPr>
          <a:xfrm flipV="1">
            <a:off x="5638320" y="2331360"/>
            <a:ext cx="762840" cy="762840"/>
          </a:xfrm>
          <a:prstGeom prst="bentConnector3">
            <a:avLst>
              <a:gd name="adj1" fmla="val 3120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99" name=""/>
          <p:cNvGrpSpPr/>
          <p:nvPr/>
        </p:nvGrpSpPr>
        <p:grpSpPr>
          <a:xfrm>
            <a:off x="7924680" y="3368520"/>
            <a:ext cx="914040" cy="1300320"/>
            <a:chOff x="7924680" y="3368520"/>
            <a:chExt cx="914040" cy="1300320"/>
          </a:xfrm>
        </p:grpSpPr>
        <p:sp>
          <p:nvSpPr>
            <p:cNvPr id="100" name=""/>
            <p:cNvSpPr/>
            <p:nvPr/>
          </p:nvSpPr>
          <p:spPr>
            <a:xfrm>
              <a:off x="7924680" y="3460680"/>
              <a:ext cx="914040" cy="111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4680" y="3368520"/>
              <a:ext cx="914040" cy="184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924680" y="4483800"/>
              <a:ext cx="913680" cy="18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7924680" y="4483800"/>
              <a:ext cx="912960" cy="18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400800" y="3521160"/>
            <a:ext cx="914400" cy="974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DR 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g-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4968720"/>
            <a:ext cx="914400" cy="974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835360"/>
            <a:ext cx="0" cy="1143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978360"/>
            <a:ext cx="4267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3978360"/>
            <a:ext cx="6094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45115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283536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219320" y="23781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219320" y="11426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219320" y="114264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143000" y="11426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57913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DR: Video Disk Recorder  (Open source PVR for Linu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1905120"/>
            <a:ext cx="914400" cy="974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V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5486400"/>
            <a:ext cx="6094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tv2" descr=""/>
          <p:cNvPicPr/>
          <p:nvPr/>
        </p:nvPicPr>
        <p:blipFill>
          <a:blip r:embed="rId1"/>
          <a:stretch/>
        </p:blipFill>
        <p:spPr>
          <a:xfrm>
            <a:off x="7924680" y="5029200"/>
            <a:ext cx="121932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4"/>
            </a:gs>
            <a:gs pos="50000">
              <a:srgbClr val="0033cc"/>
            </a:gs>
            <a:gs pos="100000">
              <a:srgbClr val="00008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d-to-end pilot future develo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Content Referencing and Metadata services incrementally to support live upd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agate live service updates through client to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V-Anytime related DVB-SI  (RNT etc, to support  service discov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DVB Transport specification when final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gainst independent test streams and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Emma Williams</dc:creator>
  <dc:description/>
  <dc:language>en-US</dc:language>
  <cp:lastModifiedBy>newell</cp:lastModifiedBy>
  <cp:lastPrinted>2002-11-07T17:08:47Z</cp:lastPrinted>
  <dcterms:modified xsi:type="dcterms:W3CDTF">2003-07-28T09:05:05Z</dcterms:modified>
  <cp:revision>334</cp:revision>
  <dc:subject/>
  <dc:title>Powerpoint template for Slide Presentations</dc:title>
</cp:coreProperties>
</file>