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5275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45600" cy="98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96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65240" y="-360"/>
            <a:ext cx="28796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7A2-AB54-48F8-B73C-1D1D08DB2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680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885600" y="4684680"/>
            <a:ext cx="48733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369360"/>
            <a:ext cx="28796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65240" y="9369360"/>
            <a:ext cx="28796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44AA-654A-4540-AEC2-963F9D77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85600" y="4684680"/>
            <a:ext cx="4873320" cy="44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 slide peut être cach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5F0-96AC-4706-BC87-F81A1133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2C0-86E6-455E-819A-F8E5441F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AE5-5CCF-4FB0-8B10-95B02F60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8B2-2656-4CEA-A0EA-57F05A5C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636-6E12-4E19-B0AA-DB0CBE6C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C83-BF7C-4140-A6DC-A57105E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3B0-436C-43BC-8067-85A605A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2A6-5998-43D1-8AE1-41BCB5F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52B-D57D-4F96-9F23-576ADFE7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DCE-B7EB-4872-BC7A-EE321B7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DA9-F51C-4D10-A4E8-2C736D2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FC2-EA3C-4B0E-9F23-CB9F88E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990720"/>
            <a:ext cx="8839440" cy="5333760"/>
          </a:xfrm>
          <a:prstGeom prst="roundRect">
            <a:avLst>
              <a:gd name="adj" fmla="val 1050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B2CF-A94F-4FE6-9FF7-56E8498AB38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59056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481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E10-33EB-4186-B086-EB77E119E4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EXPWAYDEF" descr=""/>
          <p:cNvPicPr/>
          <p:nvPr/>
        </p:nvPicPr>
        <p:blipFill>
          <a:blip r:embed="rId2"/>
          <a:srcRect l="1668" t="2576" r="83838" b="87786"/>
          <a:stretch/>
        </p:blipFill>
        <p:spPr>
          <a:xfrm>
            <a:off x="8305920" y="6434280"/>
            <a:ext cx="838080" cy="417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400800"/>
            <a:ext cx="8305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EXPWAY2" descr=""/>
          <p:cNvPicPr/>
          <p:nvPr/>
        </p:nvPicPr>
        <p:blipFill>
          <a:blip r:embed="rId3"/>
          <a:srcRect l="31636" t="0" r="0" b="0"/>
          <a:stretch/>
        </p:blipFill>
        <p:spPr>
          <a:xfrm>
            <a:off x="12600" y="152280"/>
            <a:ext cx="2772000" cy="666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rcRect l="62383" t="21375" r="13857" b="75328"/>
          <a:stretch/>
        </p:blipFill>
        <p:spPr>
          <a:xfrm>
            <a:off x="2743200" y="95400"/>
            <a:ext cx="6400800" cy="7617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EXPWAY Policy &amp; Philosophy for BiM IPR </a:t>
            </a:r>
            <a:br>
              <a:rPr sz="4000"/>
            </a:br>
            <a:br>
              <a:rPr sz="36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Olivier Dhotel &amp; Cédric Thiénot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mplementers &amp; Developers Event – TVA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neva, 28th July 200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F5C-4312-46E9-9354-99031B9401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613A6-839A-4825-B5C3-B88E20F3EB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M within the Standards sc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WAY Philosophy for BiM IP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M Targeted Licens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WAY contribution to TV-Anytime for UK DT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FB1-66E2-4C16-A723-7A2FC96DEF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658B1-89A1-406A-B350-8620EAF3A7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52680" y="1447920"/>
            <a:ext cx="2210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2679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B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2286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362320"/>
            <a:ext cx="57657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01720" y="23623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048120"/>
            <a:ext cx="1752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9960" y="30481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345456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PEG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43120" y="30481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88720" y="341136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V-AN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2040" y="3798720"/>
            <a:ext cx="14097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57240" y="3798720"/>
            <a:ext cx="0" cy="3812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6240" y="3798720"/>
            <a:ext cx="0" cy="3812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17040" y="417996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R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63880" y="417996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3080" y="2706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BIM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75360" y="270504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BIM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16720" y="23623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29680" y="302256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33400" y="33526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G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73520" y="30481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42080" y="3048120"/>
            <a:ext cx="0" cy="3808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6480" y="339552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W3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7840" y="3798720"/>
            <a:ext cx="0" cy="3812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0"/>
            <a:ext cx="6705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iM within the Standards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200" y="3641760"/>
            <a:ext cx="6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6600"/>
                </a:solidFill>
                <a:latin typeface="Verdana"/>
              </a:rPr>
              <a:t>Adop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8520" y="4383000"/>
            <a:ext cx="6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6600"/>
                </a:solidFill>
                <a:latin typeface="Verdana"/>
              </a:rPr>
              <a:t>Adop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440" y="3551400"/>
            <a:ext cx="6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6600"/>
                </a:solidFill>
                <a:latin typeface="Verdana"/>
              </a:rPr>
              <a:t>Adop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51560" y="4348080"/>
            <a:ext cx="70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cc"/>
                </a:solidFill>
                <a:latin typeface="Verdana"/>
              </a:rPr>
              <a:t>On go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498200">
            <a:off x="4074840" y="2545920"/>
            <a:ext cx="2359080" cy="2421000"/>
          </a:xfrm>
          <a:prstGeom prst="ellipse">
            <a:avLst/>
          </a:prstGeom>
          <a:noFill/>
          <a:ln cap="rnd" w="284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252800">
            <a:off x="6582960" y="2371680"/>
            <a:ext cx="2171880" cy="205920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438280"/>
            <a:ext cx="3429000" cy="2667240"/>
          </a:xfrm>
          <a:prstGeom prst="ellipse">
            <a:avLst/>
          </a:prstGeom>
          <a:noFill/>
          <a:ln cap="rnd" w="28440">
            <a:solidFill>
              <a:srgbClr val="cc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52480" y="35892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3333cc"/>
                </a:solidFill>
                <a:latin typeface="Verdana"/>
              </a:rPr>
              <a:t>Un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conside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41680" y="3597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3333cc"/>
                </a:solidFill>
                <a:latin typeface="Verdana"/>
              </a:rPr>
              <a:t>Under 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conside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-6956280"/>
            <a:ext cx="9144000" cy="20770560"/>
            <a:chOff x="0" y="-6956280"/>
            <a:chExt cx="9144000" cy="20770560"/>
          </a:xfrm>
        </p:grpSpPr>
        <p:sp>
          <p:nvSpPr>
            <p:cNvPr id="93" name=""/>
            <p:cNvSpPr/>
            <p:nvPr/>
          </p:nvSpPr>
          <p:spPr>
            <a:xfrm>
              <a:off x="0" y="-6956280"/>
              <a:ext cx="9144000" cy="207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-6956280"/>
              <a:ext cx="9144000" cy="1142640"/>
              <a:chOff x="0" y="-6956280"/>
              <a:chExt cx="9144000" cy="114264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-6956280"/>
                <a:ext cx="9144000" cy="11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-6956280"/>
                <a:ext cx="9144000" cy="11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7" name="X3D_105_97" descr="X3D AnyWhere"/>
          <p:cNvPicPr/>
          <p:nvPr/>
        </p:nvPicPr>
        <p:blipFill>
          <a:blip r:embed="rId1"/>
          <a:stretch/>
        </p:blipFill>
        <p:spPr>
          <a:xfrm>
            <a:off x="168120" y="-6910560"/>
            <a:ext cx="120024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0" y="-6956280"/>
            <a:ext cx="9144000" cy="20770560"/>
            <a:chOff x="0" y="-6956280"/>
            <a:chExt cx="9144000" cy="20770560"/>
          </a:xfrm>
        </p:grpSpPr>
        <p:sp>
          <p:nvSpPr>
            <p:cNvPr id="99" name=""/>
            <p:cNvSpPr/>
            <p:nvPr/>
          </p:nvSpPr>
          <p:spPr>
            <a:xfrm>
              <a:off x="0" y="-6956280"/>
              <a:ext cx="9144000" cy="207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0" y="-6956280"/>
              <a:ext cx="9144000" cy="1142640"/>
              <a:chOff x="0" y="-6956280"/>
              <a:chExt cx="9144000" cy="1142640"/>
            </a:xfrm>
          </p:grpSpPr>
          <p:sp>
            <p:nvSpPr>
              <p:cNvPr id="101" name=""/>
              <p:cNvSpPr/>
              <p:nvPr/>
            </p:nvSpPr>
            <p:spPr>
              <a:xfrm>
                <a:off x="0" y="-6956280"/>
                <a:ext cx="9144000" cy="11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-6956280"/>
                <a:ext cx="9144000" cy="11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3" name="X3D_105_97" descr="X3D AnyWhere"/>
          <p:cNvPicPr/>
          <p:nvPr/>
        </p:nvPicPr>
        <p:blipFill>
          <a:blip r:embed="rId2"/>
          <a:stretch/>
        </p:blipFill>
        <p:spPr>
          <a:xfrm>
            <a:off x="168120" y="-6910560"/>
            <a:ext cx="1200240" cy="110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585040" y="337824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22400" y="3581280"/>
            <a:ext cx="83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36320" y="437184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T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92400" y="457200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6600"/>
                </a:solidFill>
                <a:latin typeface="Verdana"/>
              </a:rPr>
              <a:t>star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&amp;A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inXML32x220t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011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D66-1CFE-4552-AE24-B784A243E7E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1D71E-2654-499C-97C8-C872348293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iM IPR Philosoph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801"/>
                </a:solidFill>
                <a:latin typeface="Verdana"/>
              </a:rPr>
              <a:t>Ensure </a:t>
            </a:r>
            <a:r>
              <a:rPr b="0" lang="fr-FR" sz="2400" spc="-1" strike="noStrike" u="sng">
                <a:solidFill>
                  <a:srgbClr val="ff6801"/>
                </a:solidFill>
                <a:uFillTx/>
                <a:latin typeface="Verdana"/>
              </a:rPr>
              <a:t>wide acceptance</a:t>
            </a:r>
            <a:r>
              <a:rPr b="0" lang="fr-FR" sz="2400" spc="-1" strike="noStrike">
                <a:solidFill>
                  <a:srgbClr val="ff6801"/>
                </a:solidFill>
                <a:latin typeface="Verdana"/>
              </a:rPr>
              <a:t> both within standards and commerc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everal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everal types of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pen Specifications to redevelop BiM compliant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801"/>
                </a:solidFill>
                <a:latin typeface="Verdana"/>
              </a:rPr>
              <a:t>Establish a </a:t>
            </a:r>
            <a:r>
              <a:rPr b="0" lang="fr-FR" sz="2400" spc="-1" strike="noStrike" u="sng">
                <a:solidFill>
                  <a:srgbClr val="ff6801"/>
                </a:solidFill>
                <a:uFillTx/>
                <a:latin typeface="Verdana"/>
              </a:rPr>
              <a:t>fair and reasonable</a:t>
            </a:r>
            <a:r>
              <a:rPr b="0" lang="fr-FR" sz="2400" spc="-1" strike="noStrike">
                <a:solidFill>
                  <a:srgbClr val="ff6801"/>
                </a:solidFill>
                <a:latin typeface="Verdana"/>
              </a:rPr>
              <a:t> IPR and licensing 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cceptabl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to the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ixed in a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ncerte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manner with market l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 line with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xisting licensing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3F4-8FD8-4362-8AAB-38D0A969B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1BA11-815A-4385-B0BE-832FEB3F03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iM Targeted Licensing Mod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801"/>
                </a:solidFill>
                <a:latin typeface="Verdana"/>
              </a:rPr>
              <a:t>In line with MPEG-2 licensing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cense per decoder: few cents 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 license per co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801"/>
                </a:solidFill>
                <a:latin typeface="Verdana"/>
              </a:rPr>
              <a:t>Within TV-Anytime Patent Pool fram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396-F27B-46E7-9E4D-A5FE0D94B6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38331-CEEA-4604-BB13-797D23AEE4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PWAY contribution to TVA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 UK DT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WAY is committed to contribute to TV-Anytime timely su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801"/>
                </a:solidFill>
                <a:latin typeface="Verdana"/>
              </a:rPr>
              <a:t>Help support UK DTG efforts to implement TVA in 2003 wit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re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BiM compliant SDK (Encoder / Deco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dvantageous BiM product run-time license to deploy initial 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ocal support to integrate BiM products into standards testbeds &amp; companies pi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623-5B37-4F44-A9BA-D18D3B09BC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67EA7-18C9-44B1-93F9-0A6DC74813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livier.dhotel@expway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edric.thienot@expway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urther detai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ww.expway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way All rights reserved, copyright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DB5-86D3-4027-95C2-2EE60AA3AA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5A9E-3EC7-4818-98F8-7207D0270C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55:15Z</dcterms:created>
  <dc:creator>Olivier Dhotel</dc:creator>
  <dc:description/>
  <dc:language>en-US</dc:language>
  <cp:lastModifiedBy>Olivier D'Hotel</cp:lastModifiedBy>
  <dcterms:modified xsi:type="dcterms:W3CDTF">2003-07-28T10:09:55Z</dcterms:modified>
  <cp:revision>191</cp:revision>
  <dc:subject/>
  <dc:title>Présentation PowerPoint</dc:title>
</cp:coreProperties>
</file>