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258-3B85-455F-98CF-0D01ED29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580-9958-4574-88AD-DAC9DAA3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E40-58DA-428D-8DD4-FF57EE3B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5D0-EE74-4A34-8302-849B0CA4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69A4-10DA-4942-954F-1FEC0219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10C1-C069-40BC-B02B-243ED80C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0E8C-B13E-4C20-8EC0-4262CB09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0874-7526-45B3-BAF9-B49948D2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0386-F667-45CD-99D9-7565619B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AB33-4E32-4DDA-993D-DA9943F9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E9A9-3878-4BFC-9DE5-C144E98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A99-633C-4B14-ADD8-E2F4B98F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382E-C385-44A9-B650-2D16E94A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19CE-81F3-44BF-B54D-EF4F9010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ABA2-6FFF-40D6-870C-EEA96605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CAC7-D655-42E9-9470-7492F04A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C53D-89A2-4ABF-98DA-D230C577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BE0-7E0B-4AFC-B41A-4E83EA2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D2D-4F7E-4581-B697-29A5642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453-28A5-417F-BD9D-A653B1D6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BA9-89A1-4165-BA06-81E6F0C2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B45-E2E9-4D16-8B40-DF7CE528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19C-439C-4ACA-BC86-4A743FC0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9B7-4ECD-4766-AB3B-9C81471D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5F45-B2E3-4B6F-B228-B80E57714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tvat7a" descr=""/>
          <p:cNvPicPr/>
          <p:nvPr/>
        </p:nvPicPr>
        <p:blipFill>
          <a:blip r:embed="rId2"/>
          <a:stretch/>
        </p:blipFill>
        <p:spPr>
          <a:xfrm>
            <a:off x="7780320" y="0"/>
            <a:ext cx="13636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39CC-FDCF-443E-BC4D-0C1EA93BE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Arial"/>
              </a:rPr>
              <a:t>The TV-Anytime Forum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68160" y="4924440"/>
            <a:ext cx="78487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on Parn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irman - TV Anytime Forum &amp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r, Advanced Technologies Group, 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So who’s threatened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ow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s management is a very serious busi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3 / Napster is just the st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retailers / re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line distribution models are emer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 branding / Channel br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anyone with such tools watch adverts any mo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he TV-Anytime Forum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6640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V-Anyti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um is a non-profit association of organisations which seeks to develop specifications to enable audio-visual services based on persistent local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ship is open to all who sign the Memorandum of Understanding and attend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ll information 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tv-anytime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99B-D358-4BCC-871A-A8250E5088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he Forum will specify: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633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echanisms for identifying and locating cont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 framework for content rights management &amp; prot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hemes for metadata (&amp; transport of metadat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asic metadata for interoperability which is extensible and has filtering capabilit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niversal and network-type independ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D4C-278C-4664-8CD0-4A4A64EA1A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he Forum has produced..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 documents R1-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: The TV Anytime Environment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2: The System Description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3: Metadata Requirements (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4: Content Referencing Requirements (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5: Rights Management Requirements (WI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tions doc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4: Content Referen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documents are freely available on the Forum’s websi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ocument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um will be soon be producing the following docum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 2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 2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 Management &amp; Pro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stage a system description document and business models document describe the context and reason for the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113 Current Signatorie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53800" y="1447920"/>
            <a:ext cx="285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BC Interactive, Australia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CI Worldwide BV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dherent System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ntech S. P. A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nytime TV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plied Psychology Research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TI Technologies Inc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xcent Media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BBC - British Broadcasting Corpor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British Sky Broadcast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BT - British Telecommunications PLC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anal + Technologi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-Cube Microsystem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ommunication Arts PLC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ylo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aewoo Electronic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anish Broadcasting Corpor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entsu Incorporated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gital Stream Technolog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vicom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TI – UK Department of Trade and Industr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BU - European Broadcasting Un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DIT Technologi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lisa Communications Corpor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nReach Technologi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quator Technologies, EU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TRI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uroCableLab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xatel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astcom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innish Broadcasting Compan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or more convenient AV  lif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ox Entertainment Group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rance Telecom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uji Television Network Incorporated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uture TV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Granada Media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95640" indent="-1695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Groupe TVA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6880" y="1523880"/>
            <a:ext cx="2760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1560" y="1438200"/>
            <a:ext cx="3693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Grundi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GTE lab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ewlett Pack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itach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itachi America Lt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oming I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umax C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MA Norw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nformation Broadcasting Laboratories I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ntracom 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RT - Institut f</a:t>
            </a:r>
            <a:r>
              <a:rPr b="0" lang="en-GB" sz="700" spc="-1" strike="noStrike">
                <a:solidFill>
                  <a:srgbClr val="000000"/>
                </a:solidFill>
                <a:latin typeface="Times New Roman Special G1"/>
                <a:ea typeface="Times New Roman Special G1"/>
              </a:rPr>
              <a:t>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 Rundfunktechni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TC - Independent Television Commis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TV - Independent Television Networks Lt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Jov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JVC – Victor Company of Jap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Karg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KP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LG Electronic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Liberate Technolog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LSI Lo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Lysis 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dia Corporation of Singapo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diaGenix N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dias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dioStre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ijers Med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tabyte Networ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indport Media4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EC Electronics U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HK – Japan Broadcasting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ippon Television Network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O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T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5640" indent="-169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ki Electric Industry Co. Lt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50040" y="1400040"/>
            <a:ext cx="3693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N Digi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penTV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xford Semiconductor Lt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hilips Electronic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ione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eplayT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TL Tele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ag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amsung Electronic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any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creamingly Different Entertain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eodu InChip In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kytune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n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ny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TMicroelectronic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AOJ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lcordia Technolog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lematica Institu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lenor Research and Develop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mporal Research Lt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raLogic In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homson Multimed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iV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okyo Electron Device I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oshiba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ribune Media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riveni Digi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UEC Technolog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Vest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Waseda Univers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Z Microsyste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4T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V-Anytim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to explore the fertile ground in the overlaps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casting and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mer electronics and computer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l storage will allow consumers to “break free of the constraints of linear broadcast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V-Anyti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will combine the immediacy of television with the flexibility of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vat7a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05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he future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209680"/>
            <a:ext cx="611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look into the seeds of time, and say which grain will grow and which will not, speak 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beth, Act 1 - Scene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Price trend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08040" y="1981080"/>
          <a:ext cx="7097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1981080"/>
                    <a:ext cx="7097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8048880" y="65062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rch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27320" y="2138400"/>
            <a:ext cx="262080" cy="39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39960" y="2305080"/>
            <a:ext cx="5502240" cy="1343160"/>
          </a:xfrm>
          <a:prstGeom prst="line">
            <a:avLst/>
          </a:prstGeom>
          <a:ln w="25560">
            <a:solidFill>
              <a:srgbClr val="549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29880" y="1542960"/>
            <a:ext cx="1934640" cy="641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90040" y="2997360"/>
            <a:ext cx="117360" cy="528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2408400"/>
            <a:ext cx="162216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of 2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Price trend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08040" y="1981080"/>
          <a:ext cx="7097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1981080"/>
                    <a:ext cx="7097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708280" y="2844720"/>
            <a:ext cx="5519880" cy="1987560"/>
          </a:xfrm>
          <a:prstGeom prst="line">
            <a:avLst/>
          </a:prstGeom>
          <a:ln w="25560">
            <a:solidFill>
              <a:srgbClr val="549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00440" y="3267000"/>
            <a:ext cx="27792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97120" y="3654360"/>
            <a:ext cx="1352520" cy="366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27320" y="2138400"/>
            <a:ext cx="262080" cy="39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48880" y="65062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rch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9880" y="1542960"/>
            <a:ext cx="1934640" cy="641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790040" y="2997360"/>
            <a:ext cx="117360" cy="528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2160" y="2408400"/>
            <a:ext cx="162216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of 2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751880" y="4178160"/>
            <a:ext cx="117360" cy="528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0" y="3719520"/>
            <a:ext cx="162216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of 2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39960" y="2305080"/>
            <a:ext cx="5502240" cy="1343160"/>
          </a:xfrm>
          <a:prstGeom prst="line">
            <a:avLst/>
          </a:prstGeom>
          <a:ln w="25560">
            <a:solidFill>
              <a:srgbClr val="549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60520" y="3670200"/>
            <a:ext cx="7122960" cy="285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10480" y="6087960"/>
            <a:ext cx="1342800" cy="50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446120" y="1671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k drives enabling local storage, retrieval and manipulation of audio, video and data are increasing in capacity and falling in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ture projections vary only as to 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at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these tr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urs of video for $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Aggressiv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Factor of 2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Factor of 2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every 18 months    every 10 mon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4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4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25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,38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3840" y="2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Low-cost mass storag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8280" y="4075200"/>
            <a:ext cx="3063960" cy="24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08280" y="4078440"/>
            <a:ext cx="5877000" cy="11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431720" y="5264280"/>
            <a:ext cx="12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469520" y="4073400"/>
            <a:ext cx="12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F05-EFFB-456A-B4CF-0BE7F11E30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Hard-disk video recorder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60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d disks are now becoming so cheap that they are being used as “intelligent” video record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like tape-based VCRs, hard disks can record and replay at the same ti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record a “live” programme but if the telephone rings, you can press “pause”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resume watching the programme with full VCR-like controls - allowing you to “rewind” or “fast forward” whilst the programme is still being recorded; b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also “skip” the advertisements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Benefits of local storag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availability of “local” storage also permi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V viewers to “order” a programme to be recorded by a single click during a trai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lligent agents to record TV programmes that they “think” you might want to wa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phisticated interactive multimedia information services, continuously up-dated and available instantly to consu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ear programmes to be consumed in a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n-linear manner (e.g. a news bullet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omatic indexing of recorded program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Storage Type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term (Frid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spcBef>
                <a:spcPts val="601"/>
              </a:spcBef>
              <a:buClr>
                <a:srgbClr val="000000"/>
              </a:buClr>
              <a:buFont typeface="ZapfDingbats BT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line and quick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spcBef>
                <a:spcPts val="601"/>
              </a:spcBef>
              <a:buClr>
                <a:srgbClr val="000000"/>
              </a:buClr>
              <a:buFont typeface="ZapfDingbats BT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-disc 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spcBef>
                <a:spcPts val="601"/>
              </a:spcBef>
              <a:buClr>
                <a:srgbClr val="000000"/>
              </a:buClr>
              <a:buFont typeface="ZapfDingbats BT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and multiple record and p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spcBef>
                <a:spcPts val="601"/>
              </a:spcBef>
              <a:buClr>
                <a:srgbClr val="000000"/>
              </a:buClr>
              <a:buFont typeface="ZapfDingbats BT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provide ‘pause’ whilst watching ‘live’ T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term (Freez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spcBef>
                <a:spcPts val="601"/>
              </a:spcBef>
              <a:buClr>
                <a:srgbClr val="000000"/>
              </a:buClr>
              <a:buFont typeface="ZapfDingbats BT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-line with slower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spcBef>
                <a:spcPts val="601"/>
              </a:spcBef>
              <a:buClr>
                <a:srgbClr val="000000"/>
              </a:buClr>
              <a:buFont typeface="ZapfDingbats BT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changeable with other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69800">
              <a:spcBef>
                <a:spcPts val="601"/>
              </a:spcBef>
              <a:buClr>
                <a:srgbClr val="000000"/>
              </a:buClr>
              <a:buFont typeface="ZapfDingbats BT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 or optical di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he TV-Anytime Forum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quipment manufacturers are already producing solutions with mass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iance on proprietary solu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ds to vertical market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tricts viewers to a single service or a single content prov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ks together the broadcaster, the service provider and the STB manufactur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 adoption of standards will lea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wer costs for service providers and for device manufactur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reater and wider choice of content for consu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742-1089-4E88-B085-86CB7748A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4:53:44Z</dcterms:created>
  <dc:creator>Simon Parnall </dc:creator>
  <dc:description/>
  <dc:language>en-US</dc:language>
  <cp:lastModifiedBy>Simon Parnall </cp:lastModifiedBy>
  <dcterms:modified xsi:type="dcterms:W3CDTF">2000-09-11T11:09:32Z</dcterms:modified>
  <cp:revision>44</cp:revision>
  <dc:subject/>
  <dc:title>The TV Anytime Forum</dc:title>
</cp:coreProperties>
</file>