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1800" y="748800"/>
            <a:ext cx="4991040" cy="37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504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83840"/>
            <a:ext cx="29448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840" y="9483840"/>
            <a:ext cx="29448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F123B62-E3DE-4D8D-B6AA-A362B9E95F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5040" y="4741560"/>
            <a:ext cx="498456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iM PLAY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can read &amp; display a MPEG video stream, &amp; decode and display the BiM fragments at the same time, synchron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BiM fragments are decoded as soon as they are received: re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BiM Player can reconstruct the whole textual XML original file or even display the description trees, as each BiM fragment contain the localization of the fra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n see : Tag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5040" y="4741560"/>
            <a:ext cx="498456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s </a:t>
            </a:r>
            <a:r>
              <a:rPr b="1" lang="en-GB" sz="1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de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es required information only (skip non-needed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s </a:t>
            </a:r>
            <a:r>
              <a:rPr b="1" lang="en-GB" sz="1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can be stored and processed in 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decoding kernel for many XML languages (SVG, SMIL, XMT, MPEG-7, WML, XHTML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s </a:t>
            </a:r>
            <a:r>
              <a:rPr b="1" lang="en-GB" sz="1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and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</a:t>
            </a:r>
            <a:r>
              <a:rPr b="1" lang="en-GB" sz="1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nrich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and dynamic navigation withi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ed transmission and acces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st Effectiv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d Deco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 &amp; Forward Compatibility prevents from breaking legacy ter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-up terminals can be extended thanks to the schema update for new XML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5040" y="4741560"/>
            <a:ext cx="498456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Binary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gh structure compression ra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st decoding and par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ric framework for XML enco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ing &amp; upd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al update of XML 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essive loading to reduce user perceived waiting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ows a scalable transfer of 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bility &amp; Compat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ML Schema extension mechanis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ivate extensions, Versionnin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ward and forward compatibility for hardwired deco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504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 DECODER: specific to MPEG-7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75 Kbytes (including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URATION SCENARIO: due to decoder so fast that WIN unable to determinate exact speed: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 time: fast; 3 sec.: + precise ti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CENARIO 1.1: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XTUAL DECODING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fo:  input size / output file name / decoding time + input b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SEE: XML file output (comment: shape change &amp; Q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CENARIO 2.1: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AX PARSING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8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generates SAX events without application to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CENARIO 3.1: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AX TYPED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4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faster than SAX because allows integer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CENARIO 4.1: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ND INTEGER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4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generates statistical info about binary file: &gt;0-5000&lt;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Nb integers within define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Total nb integers in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  Mea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. Std deviation (against m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5040" y="4741560"/>
            <a:ext cx="4984560" cy="44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fore being broadcasted, the whole description has to be divided in smaller XML valid sub-trees, among a linear timeline 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5040" y="4741560"/>
            <a:ext cx="498456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AXHandler file: cutting &amp; broadcast strategy (affects a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. ENCODING &amp; PARS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&gt; devides in blocks (fragments) &amp; affects timing (which appear during stream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. STREAMING FRA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t=streaming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nb blocks broadca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stuffing blocks: to keep a constant b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trashed blocks: could not insert in stream (negative timing: strat. not to broadca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!! PUT BACK 8000bits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C1C-DCA0-4DCF-BE42-8E847B28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BEF-020D-47DA-8C70-E879D2AE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C15-3A40-4EA8-8D27-BF7F7C36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9BA-3A21-4AFF-894F-DFF781D7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D94-C254-44C9-914F-4AE212C5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60A-223B-460D-9176-9CCFFDBE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CB2-DEBB-48A7-9075-F8E7D1DE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1BA-95AB-4AFD-99DF-B3ABFBAB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FF0-E42E-43DF-ADBA-78056426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2E9-53F6-494B-AADC-04815EE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425-E556-4D00-BAD7-E56E200E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58D-D832-4F68-B4FC-1650B79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8000"/>
              </a:buClr>
              <a:buSzPct val="50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8084-9DFD-441B-BA61-08ABF5ED2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52280" y="1372680"/>
            <a:ext cx="8763120" cy="74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etitlogosansClaim" descr=""/>
          <p:cNvPicPr/>
          <p:nvPr/>
        </p:nvPicPr>
        <p:blipFill>
          <a:blip r:embed="rId2"/>
          <a:stretch/>
        </p:blipFill>
        <p:spPr>
          <a:xfrm>
            <a:off x="6553080" y="6248520"/>
            <a:ext cx="1381320" cy="399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5160" y="6400800"/>
            <a:ext cx="305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Arial"/>
              </a:rPr>
              <a:t>Copyright (c) [2002].  Expway.  All </a:t>
            </a: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Rights</a:t>
            </a:r>
            <a:r>
              <a:rPr b="0" lang="fr-FR" sz="1000" spc="-1" strike="noStrike">
                <a:solidFill>
                  <a:srgbClr val="b2b2b2"/>
                </a:solidFill>
                <a:latin typeface="Arial"/>
              </a:rPr>
              <a:t>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.\soft\publisher\player.ba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&quot;.\soft\encoder\encoder.bat&quot;" TargetMode="External"/><Relationship Id="rId2" Type="http://schemas.openxmlformats.org/officeDocument/2006/relationships/hyperlink" Target="uedit32 &quot;.\testset\mpeg7\monsterJr4Ver3.xml.bin&quot;" TargetMode="External"/><Relationship Id="rId3" Type="http://schemas.openxmlformats.org/officeDocument/2006/relationships/hyperlink" Target="uedit32 &quot;.\testset\mpeg7\monsterJr4Ver3.xml&quot;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.\soft\decoder\BiMDecoder.exe" TargetMode="External"/><Relationship Id="rId2" Type="http://schemas.openxmlformats.org/officeDocument/2006/relationships/hyperlink" Target="uedit32 &quot;.\testset\mpeg7\monsterJr4Ver3_D.xml&quot;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uedit32 &quot;.\testset\ibc\ibcEVTSEQ.xml&quot;" TargetMode="External"/><Relationship Id="rId2" Type="http://schemas.openxmlformats.org/officeDocument/2006/relationships/hyperlink" Target="uedit32  &quot;C:\test\block\au0.xml.bin&quot;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.\soft\publisher\publisher.ba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Encoding, streaming and decoding</a:t>
            </a:r>
            <a:r>
              <a:rPr b="0" lang="en-US" sz="4000" spc="-1" strike="noStrike">
                <a:solidFill>
                  <a:srgbClr val="cc3300"/>
                </a:solidFill>
                <a:latin typeface="Tahoma"/>
                <a:ea typeface="Times New Roman"/>
              </a:rPr>
              <a:t> TV Anytim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Metadata</a:t>
            </a:r>
            <a:r>
              <a:rPr b="0" lang="en-US" sz="4000" spc="-1" strike="noStrike">
                <a:solidFill>
                  <a:srgbClr val="cc3300"/>
                </a:solidFill>
                <a:latin typeface="Tahoma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</a:t>
            </a:r>
            <a:r>
              <a:rPr b="0" lang="en-US" sz="4000" spc="-1" strike="noStrike">
                <a:solidFill>
                  <a:srgbClr val="cc3300"/>
                </a:solidFill>
                <a:latin typeface="Tahoma"/>
                <a:ea typeface="Times New Roman"/>
              </a:rPr>
              <a:t>BiM</a:t>
            </a:r>
            <a:br>
              <a:rPr sz="4000"/>
            </a:br>
            <a:br>
              <a:rPr sz="4000"/>
            </a:br>
            <a:br>
              <a:rPr sz="3200"/>
            </a:br>
            <a:br>
              <a:rPr sz="3200"/>
            </a:b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7012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pyright (c) [2002].  Expway.  Al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o_home" descr=""/>
          <p:cNvPicPr/>
          <p:nvPr/>
        </p:nvPicPr>
        <p:blipFill>
          <a:blip r:embed="rId2"/>
          <a:stretch/>
        </p:blipFill>
        <p:spPr>
          <a:xfrm>
            <a:off x="3505320" y="4548240"/>
            <a:ext cx="144756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tva_logo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287360" cy="12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328-E88A-46DB-9402-9183E1A3A3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2819520"/>
            <a:ext cx="5867640" cy="2133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3886200"/>
            <a:ext cx="838080" cy="361800"/>
          </a:xfrm>
          <a:custGeom>
            <a:avLst/>
            <a:gdLst>
              <a:gd name="textAreaLeft" fmla="*/ 108000 w 838080"/>
              <a:gd name="textAreaRight" fmla="*/ 730080 w 838080"/>
              <a:gd name="textAreaTop" fmla="*/ 115920 h 361800"/>
              <a:gd name="textAreaBottom" fmla="*/ 245880 h 361800"/>
            </a:gdLst>
            <a:ahLst/>
            <a:rect l="textAreaLeft" t="textAreaTop" r="textAreaRight" b="textAreaBottom"/>
            <a:pathLst>
              <a:path w="21600" h="21600">
                <a:moveTo>
                  <a:pt x="0" y="6916"/>
                </a:moveTo>
                <a:lnTo>
                  <a:pt x="13850" y="6916"/>
                </a:lnTo>
                <a:lnTo>
                  <a:pt x="13850" y="0"/>
                </a:lnTo>
                <a:lnTo>
                  <a:pt x="21600" y="10800"/>
                </a:lnTo>
                <a:lnTo>
                  <a:pt x="13850" y="21600"/>
                </a:lnTo>
                <a:lnTo>
                  <a:pt x="13850" y="14684"/>
                </a:lnTo>
                <a:lnTo>
                  <a:pt x="0" y="14684"/>
                </a:lnTo>
                <a:lnTo>
                  <a:pt x="2787" y="10800"/>
                </a:lnTo>
                <a:lnTo>
                  <a:pt x="0" y="691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799440"/>
            <a:ext cx="1143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nary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581280"/>
            <a:ext cx="1371600" cy="941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371808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3048120"/>
            <a:ext cx="1371600" cy="1474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3581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124080"/>
            <a:ext cx="4114800" cy="362160"/>
          </a:xfrm>
          <a:custGeom>
            <a:avLst/>
            <a:gdLst>
              <a:gd name="textAreaLeft" fmla="*/ 105120 w 4114800"/>
              <a:gd name="textAreaRight" fmla="*/ 4009680 w 4114800"/>
              <a:gd name="textAreaTop" fmla="*/ 115920 h 362160"/>
              <a:gd name="textAreaBottom" fmla="*/ 246240 h 362160"/>
            </a:gdLst>
            <a:ahLst/>
            <a:rect l="textAreaLeft" t="textAreaTop" r="textAreaRight" b="textAreaBottom"/>
            <a:pathLst>
              <a:path w="21600" h="21600">
                <a:moveTo>
                  <a:pt x="0" y="6916"/>
                </a:moveTo>
                <a:lnTo>
                  <a:pt x="20061" y="6916"/>
                </a:lnTo>
                <a:lnTo>
                  <a:pt x="20061" y="0"/>
                </a:lnTo>
                <a:lnTo>
                  <a:pt x="21600" y="10800"/>
                </a:lnTo>
                <a:lnTo>
                  <a:pt x="20061" y="21600"/>
                </a:lnTo>
                <a:lnTo>
                  <a:pt x="20061" y="14684"/>
                </a:lnTo>
                <a:lnTo>
                  <a:pt x="0" y="14684"/>
                </a:lnTo>
                <a:lnTo>
                  <a:pt x="553" y="10800"/>
                </a:lnTo>
                <a:lnTo>
                  <a:pt x="0" y="691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3123000"/>
            <a:ext cx="990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44800" y="3657600"/>
            <a:ext cx="1067040" cy="838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39625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97180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48200" y="45720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Synch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3505320"/>
            <a:ext cx="762120" cy="53316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580200"/>
            <a:ext cx="16765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n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Live Decoding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of descrip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>
            <a:hlinkClick r:id="rId1"/>
          </p:cNvPr>
          <p:cNvSpPr/>
          <p:nvPr/>
        </p:nvSpPr>
        <p:spPr>
          <a:xfrm>
            <a:off x="6705720" y="510552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layer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4F1-51CD-474A-9FC2-476826AE6A4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1752480"/>
            <a:ext cx="2021040" cy="374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52760" y="1752480"/>
            <a:ext cx="4191120" cy="374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0160" y="2120040"/>
            <a:ext cx="1106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ideo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H26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441320"/>
            <a:ext cx="154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T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08988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s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MPEG-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81240" y="557064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hanced SoNG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72120" y="2276640"/>
            <a:ext cx="1198440" cy="461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2327400"/>
            <a:ext cx="449280" cy="298440"/>
          </a:xfrm>
          <a:prstGeom prst="rightArrow">
            <a:avLst>
              <a:gd name="adj1" fmla="val 50000"/>
              <a:gd name="adj2" fmla="val 3763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3475080"/>
            <a:ext cx="449280" cy="298440"/>
          </a:xfrm>
          <a:prstGeom prst="rightArrow">
            <a:avLst>
              <a:gd name="adj1" fmla="val 50000"/>
              <a:gd name="adj2" fmla="val 3763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6520" y="4643280"/>
            <a:ext cx="449280" cy="298440"/>
          </a:xfrm>
          <a:prstGeom prst="rightArrow">
            <a:avLst>
              <a:gd name="adj1" fmla="val 50000"/>
              <a:gd name="adj2" fmla="val 3763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433480" y="3362400"/>
            <a:ext cx="2845080" cy="523800"/>
          </a:xfrm>
          <a:prstGeom prst="triangle">
            <a:avLst>
              <a:gd name="adj" fmla="val 4994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1600" y="55688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36880" y="4643280"/>
            <a:ext cx="823680" cy="403560"/>
          </a:xfrm>
          <a:prstGeom prst="rightArrow">
            <a:avLst>
              <a:gd name="adj1" fmla="val 50000"/>
              <a:gd name="adj2" fmla="val 5102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81160" y="3475080"/>
            <a:ext cx="824040" cy="372960"/>
          </a:xfrm>
          <a:prstGeom prst="rightArrow">
            <a:avLst>
              <a:gd name="adj1" fmla="val 50000"/>
              <a:gd name="adj2" fmla="val 5523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70000" y="2327400"/>
            <a:ext cx="824040" cy="398160"/>
          </a:xfrm>
          <a:prstGeom prst="rightArrow">
            <a:avLst>
              <a:gd name="adj1" fmla="val 50000"/>
              <a:gd name="adj2" fmla="val 5174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59200" y="4605480"/>
            <a:ext cx="1571400" cy="4413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02040" y="3436920"/>
            <a:ext cx="1571400" cy="4874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FS 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02040" y="2289240"/>
            <a:ext cx="1571400" cy="436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263 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72120" y="3400560"/>
            <a:ext cx="1198440" cy="460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72120" y="4522680"/>
            <a:ext cx="1198440" cy="462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Live streaming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of synchronized M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238880" y="2590920"/>
            <a:ext cx="914400" cy="422280"/>
          </a:xfrm>
          <a:prstGeom prst="rect">
            <a:avLst/>
          </a:prstGeom>
          <a:ln w="0">
            <a:noFill/>
          </a:ln>
        </p:spPr>
      </p:pic>
      <p:pic>
        <p:nvPicPr>
          <p:cNvPr id="217" name="ft_logo_hor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1295640" cy="303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1880" y="4191120"/>
            <a:ext cx="457200" cy="2286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228600"/>
              <a:gd name="textAreaBottom" fmla="*/ 20016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0466" y="2700"/>
                </a:lnTo>
                <a:lnTo>
                  <a:pt x="2700" y="27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0466" y="18900"/>
                </a:lnTo>
                <a:lnTo>
                  <a:pt x="40466" y="27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40466" y="189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snapshot%20-%2002" descr=""/>
          <p:cNvPicPr/>
          <p:nvPr/>
        </p:nvPicPr>
        <p:blipFill>
          <a:blip r:embed="rId3"/>
          <a:stretch/>
        </p:blipFill>
        <p:spPr>
          <a:xfrm>
            <a:off x="7315200" y="3124080"/>
            <a:ext cx="1523880" cy="103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113-8C23-4FD5-AADA-9C73B32FF6D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Demo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bandwidth gain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per bloc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98400" y="1486080"/>
          <a:ext cx="7759800" cy="48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486080"/>
                    <a:ext cx="775980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300-8E5C-4355-8B0C-11FA49D9294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Demo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bandwidth 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total gai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447920"/>
          <a:ext cx="8001000" cy="47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0010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73F-BECE-48BF-98C6-9E9D7E31265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Bin-XML™ 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tabeau_Bytes%20(2)" descr=""/>
          <p:cNvPicPr/>
          <p:nvPr/>
        </p:nvPicPr>
        <p:blipFill>
          <a:blip r:embed="rId1"/>
          <a:stretch/>
        </p:blipFill>
        <p:spPr>
          <a:xfrm>
            <a:off x="1905120" y="1763640"/>
            <a:ext cx="4647960" cy="3971880"/>
          </a:xfrm>
          <a:prstGeom prst="rect">
            <a:avLst/>
          </a:prstGeom>
          <a:ln w="0">
            <a:noFill/>
          </a:ln>
        </p:spPr>
      </p:pic>
      <p:pic>
        <p:nvPicPr>
          <p:cNvPr id="228" name="txt_BinXml%20(2)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36232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AB4-F012-4D1C-B409-F667039BE98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Bin-XML™ 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8915400" y="43243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15400" y="4324320"/>
            <a:ext cx="1440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915400" y="45766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15400" y="4576680"/>
            <a:ext cx="1440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15400" y="48290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15400" y="4829040"/>
            <a:ext cx="1440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915400" y="50817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15400" y="5081760"/>
            <a:ext cx="1440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915400" y="53341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15400" y="5334120"/>
            <a:ext cx="1440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tabeau_Ms%20(2)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648320" cy="4106880"/>
          </a:xfrm>
          <a:prstGeom prst="rect">
            <a:avLst/>
          </a:prstGeom>
          <a:ln w="0">
            <a:noFill/>
          </a:ln>
        </p:spPr>
      </p:pic>
      <p:pic>
        <p:nvPicPr>
          <p:cNvPr id="241" name="txt_BinXml%20(2)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36232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3BA-287B-4490-8A6E-65526102109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BiM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Key Advant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ves 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CPU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memor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 band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ables </a:t>
            </a: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enriched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interactiv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ally suited for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broad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ser, Encoder, Decoder, Publisher by EXP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edric.thienot@expway.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ww.expway.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txt_BinXml%20(2)" descr=""/>
          <p:cNvPicPr/>
          <p:nvPr/>
        </p:nvPicPr>
        <p:blipFill>
          <a:blip r:embed="rId1"/>
          <a:stretch/>
        </p:blipFill>
        <p:spPr>
          <a:xfrm>
            <a:off x="533520" y="4098960"/>
            <a:ext cx="1371600" cy="35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DE5-1A42-4D25-85CB-813E0F5E91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BiM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Workshop Pla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iM Key </a:t>
            </a: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iM Software Tools </a:t>
            </a: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VA </a:t>
            </a: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iM Key </a:t>
            </a: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9DF-CD3B-4A73-8A80-5DC3433CDA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Tahoma"/>
                <a:ea typeface="Times New Roman"/>
              </a:rPr>
              <a:t>BiM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Key Feature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als with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any XM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codes with very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high compression rat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es data at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unmatched spe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pects XML Legacy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lows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stream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artial updat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f XM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ffers </a:t>
            </a: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extensibility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lus B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amp; FW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ed to </a:t>
            </a:r>
            <a:r>
              <a:rPr b="0" lang="fr-FR" sz="2800" spc="-1" strike="noStrike">
                <a:solidFill>
                  <a:srgbClr val="cc3300"/>
                </a:solidFill>
                <a:latin typeface="Arial"/>
              </a:rPr>
              <a:t>portab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vices like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6EF-D75A-446B-BD56-4655FD0374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BiM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Software Tools Dem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XML-Schema </a:t>
            </a:r>
            <a:r>
              <a:rPr b="0" lang="fr-FR" sz="3200" spc="-1" strike="noStrike">
                <a:solidFill>
                  <a:srgbClr val="cc3300"/>
                </a:solidFill>
                <a:latin typeface="Tahoma"/>
              </a:rPr>
              <a:t>Parser &amp; En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Binary XML </a:t>
            </a:r>
            <a:r>
              <a:rPr b="0" lang="fr-FR" sz="3200" spc="-1" strike="noStrike">
                <a:solidFill>
                  <a:srgbClr val="cc3300"/>
                </a:solidFill>
                <a:latin typeface="Tahoma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fr-FR" sz="3200" spc="-1" strike="noStrike">
                <a:solidFill>
                  <a:srgbClr val="cc3300"/>
                </a:solidFill>
                <a:latin typeface="Tahoma"/>
              </a:rPr>
              <a:t>Publi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29D-1127-4143-8815-A411AC3E6E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BiM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XML-Schema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 Parser &amp; Encod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086840" y="39913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9800" y="380844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lidated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nary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 rot="5400000">
            <a:off x="4000320" y="319140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 rot="13200">
            <a:off x="2854440" y="4121640"/>
            <a:ext cx="761760" cy="228600"/>
          </a:xfrm>
          <a:custGeom>
            <a:avLst/>
            <a:gdLst>
              <a:gd name="textAreaLeft" fmla="*/ 118800 w 761760"/>
              <a:gd name="textAreaRight" fmla="*/ 666720 w 7617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17600" y="23612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-Schem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2520" y="3763800"/>
            <a:ext cx="13716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840120"/>
            <a:ext cx="13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+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3916440"/>
            <a:ext cx="914400" cy="60948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828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4724280" y="483084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Start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/>
          </p:cNvPr>
          <p:cNvSpPr/>
          <p:nvPr/>
        </p:nvSpPr>
        <p:spPr>
          <a:xfrm>
            <a:off x="7543800" y="460224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/>
          </p:cNvPr>
          <p:cNvSpPr/>
          <p:nvPr/>
        </p:nvSpPr>
        <p:spPr>
          <a:xfrm>
            <a:off x="1295280" y="437364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607-0C22-4E9B-B63C-3EBBF1127C6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BiM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Decod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6111360" y="258984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7320" y="38836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nary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5400000">
            <a:off x="3390840" y="3039840"/>
            <a:ext cx="761760" cy="228600"/>
          </a:xfrm>
          <a:custGeom>
            <a:avLst/>
            <a:gdLst>
              <a:gd name="textAreaLeft" fmla="*/ 118800 w 761760"/>
              <a:gd name="textAreaRight" fmla="*/ 666720 w 7617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3200">
            <a:off x="2244600" y="396936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31040" y="22086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-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83040" y="3611520"/>
            <a:ext cx="13716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62240" y="38703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0488800">
            <a:off x="4762440" y="2971440"/>
            <a:ext cx="914400" cy="60948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67080" y="354852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andard XML API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(SAX/D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34040" y="4508640"/>
            <a:ext cx="28195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dicated XML API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(specific to a Sche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91040" y="3581280"/>
            <a:ext cx="914400" cy="60984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861000">
            <a:off x="4838760" y="4267080"/>
            <a:ext cx="914400" cy="60984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/>
          </p:cNvPr>
          <p:cNvSpPr/>
          <p:nvPr/>
        </p:nvSpPr>
        <p:spPr>
          <a:xfrm>
            <a:off x="4114800" y="467820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Start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7010280" y="300204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282-05C3-4EDC-A2BF-F2CEEE2E668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82920" y="5513400"/>
            <a:ext cx="6432480" cy="264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743200" y="4241880"/>
            <a:ext cx="4728960" cy="263520"/>
            <a:chOff x="2743200" y="4241880"/>
            <a:chExt cx="4728960" cy="263520"/>
          </a:xfrm>
        </p:grpSpPr>
        <p:sp>
          <p:nvSpPr>
            <p:cNvPr id="91" name=""/>
            <p:cNvSpPr/>
            <p:nvPr/>
          </p:nvSpPr>
          <p:spPr>
            <a:xfrm>
              <a:off x="6289560" y="4241880"/>
              <a:ext cx="1182600" cy="26352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74960" y="4241880"/>
              <a:ext cx="790560" cy="26352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4241880"/>
              <a:ext cx="133200" cy="263520"/>
            </a:xfrm>
            <a:prstGeom prst="rect">
              <a:avLst/>
            </a:pr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13120" y="4241880"/>
              <a:ext cx="658800" cy="26352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3120" y="4241880"/>
              <a:ext cx="133200" cy="263520"/>
            </a:xfrm>
            <a:prstGeom prst="rect">
              <a:avLst/>
            </a:pr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89560" y="4241880"/>
              <a:ext cx="131760" cy="263520"/>
            </a:xfrm>
            <a:prstGeom prst="rect">
              <a:avLst/>
            </a:pr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612880" y="5513400"/>
            <a:ext cx="6302520" cy="264960"/>
            <a:chOff x="2612880" y="5513400"/>
            <a:chExt cx="6302520" cy="264960"/>
          </a:xfrm>
        </p:grpSpPr>
        <p:sp>
          <p:nvSpPr>
            <p:cNvPr id="98" name=""/>
            <p:cNvSpPr/>
            <p:nvPr/>
          </p:nvSpPr>
          <p:spPr>
            <a:xfrm>
              <a:off x="2743200" y="5513400"/>
              <a:ext cx="790560" cy="26496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12880" y="5513400"/>
              <a:ext cx="131760" cy="264960"/>
            </a:xfrm>
            <a:prstGeom prst="rect">
              <a:avLst/>
            </a:pr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64200" y="5513400"/>
              <a:ext cx="1051200" cy="26496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32440" y="5513400"/>
              <a:ext cx="133560" cy="264960"/>
            </a:xfrm>
            <a:prstGeom prst="rect">
              <a:avLst/>
            </a:pr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89320" y="5513400"/>
              <a:ext cx="527040" cy="26496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57560" y="5513400"/>
              <a:ext cx="133200" cy="264960"/>
            </a:xfrm>
            <a:prstGeom prst="rect">
              <a:avLst/>
            </a:prstGeom>
            <a:solidFill>
              <a:srgbClr val="ff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320640" y="2654280"/>
            <a:ext cx="3581640" cy="1523880"/>
            <a:chOff x="3320640" y="2654280"/>
            <a:chExt cx="3581640" cy="1523880"/>
          </a:xfrm>
        </p:grpSpPr>
        <p:sp>
          <p:nvSpPr>
            <p:cNvPr id="105" name=""/>
            <p:cNvSpPr/>
            <p:nvPr/>
          </p:nvSpPr>
          <p:spPr>
            <a:xfrm flipH="1">
              <a:off x="3320640" y="2654280"/>
              <a:ext cx="190476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996800" y="3568680"/>
              <a:ext cx="2286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16480" y="3492360"/>
              <a:ext cx="685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83360" y="2089080"/>
            <a:ext cx="906480" cy="1292040"/>
            <a:chOff x="5283360" y="2089080"/>
            <a:chExt cx="906480" cy="1292040"/>
          </a:xfrm>
        </p:grpSpPr>
        <p:sp>
          <p:nvSpPr>
            <p:cNvPr id="109" name=""/>
            <p:cNvSpPr/>
            <p:nvPr/>
          </p:nvSpPr>
          <p:spPr>
            <a:xfrm>
              <a:off x="5518080" y="2089080"/>
              <a:ext cx="10188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402520" y="2192040"/>
              <a:ext cx="164880" cy="30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0640" y="2199960"/>
              <a:ext cx="157320" cy="30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86560" y="2493720"/>
              <a:ext cx="9828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570640" y="2595240"/>
              <a:ext cx="16200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35880" y="2603160"/>
              <a:ext cx="16488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29440" y="2500200"/>
              <a:ext cx="98280" cy="1080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1200" y="2500200"/>
              <a:ext cx="98640" cy="1080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27680" y="2862000"/>
              <a:ext cx="98640" cy="1080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711760" y="2965320"/>
              <a:ext cx="16200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7000" y="2973240"/>
              <a:ext cx="16524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7400" y="2192040"/>
              <a:ext cx="523800" cy="30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96160" y="3274920"/>
              <a:ext cx="9828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37240" y="3274920"/>
              <a:ext cx="10332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18080" y="2862000"/>
              <a:ext cx="101880" cy="1080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83360" y="3274920"/>
              <a:ext cx="98280" cy="106200"/>
            </a:xfrm>
            <a:prstGeom prst="ellipse">
              <a:avLst/>
            </a:pr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329080" y="2965320"/>
              <a:ext cx="237960" cy="309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24600" y="1905120"/>
            <a:ext cx="1320480" cy="1594800"/>
            <a:chOff x="5124600" y="1905120"/>
            <a:chExt cx="1320480" cy="1594800"/>
          </a:xfrm>
        </p:grpSpPr>
        <p:sp>
          <p:nvSpPr>
            <p:cNvPr id="127" name=""/>
            <p:cNvSpPr/>
            <p:nvPr/>
          </p:nvSpPr>
          <p:spPr>
            <a:xfrm>
              <a:off x="5149800" y="2768400"/>
              <a:ext cx="575640" cy="723600"/>
            </a:xfrm>
            <a:custGeom>
              <a:avLst/>
              <a:gdLst/>
              <a:ahLst/>
              <a:rect l="l" t="t" r="r" b="b"/>
              <a:pathLst>
                <a:path w="363" h="456">
                  <a:moveTo>
                    <a:pt x="120" y="206"/>
                  </a:moveTo>
                  <a:lnTo>
                    <a:pt x="102" y="233"/>
                  </a:lnTo>
                  <a:lnTo>
                    <a:pt x="84" y="259"/>
                  </a:lnTo>
                  <a:lnTo>
                    <a:pt x="44" y="314"/>
                  </a:lnTo>
                  <a:lnTo>
                    <a:pt x="24" y="338"/>
                  </a:lnTo>
                  <a:lnTo>
                    <a:pt x="11" y="362"/>
                  </a:lnTo>
                  <a:lnTo>
                    <a:pt x="2" y="384"/>
                  </a:lnTo>
                  <a:lnTo>
                    <a:pt x="0" y="401"/>
                  </a:lnTo>
                  <a:lnTo>
                    <a:pt x="7" y="415"/>
                  </a:lnTo>
                  <a:lnTo>
                    <a:pt x="18" y="429"/>
                  </a:lnTo>
                  <a:lnTo>
                    <a:pt x="35" y="441"/>
                  </a:lnTo>
                  <a:lnTo>
                    <a:pt x="55" y="451"/>
                  </a:lnTo>
                  <a:lnTo>
                    <a:pt x="78" y="456"/>
                  </a:lnTo>
                  <a:lnTo>
                    <a:pt x="102" y="456"/>
                  </a:lnTo>
                  <a:lnTo>
                    <a:pt x="126" y="449"/>
                  </a:lnTo>
                  <a:lnTo>
                    <a:pt x="140" y="441"/>
                  </a:lnTo>
                  <a:lnTo>
                    <a:pt x="151" y="432"/>
                  </a:lnTo>
                  <a:lnTo>
                    <a:pt x="162" y="420"/>
                  </a:lnTo>
                  <a:lnTo>
                    <a:pt x="177" y="405"/>
                  </a:lnTo>
                  <a:lnTo>
                    <a:pt x="190" y="386"/>
                  </a:lnTo>
                  <a:lnTo>
                    <a:pt x="206" y="365"/>
                  </a:lnTo>
                  <a:lnTo>
                    <a:pt x="239" y="314"/>
                  </a:lnTo>
                  <a:lnTo>
                    <a:pt x="272" y="261"/>
                  </a:lnTo>
                  <a:lnTo>
                    <a:pt x="303" y="206"/>
                  </a:lnTo>
                  <a:lnTo>
                    <a:pt x="330" y="153"/>
                  </a:lnTo>
                  <a:lnTo>
                    <a:pt x="341" y="132"/>
                  </a:lnTo>
                  <a:lnTo>
                    <a:pt x="350" y="110"/>
                  </a:lnTo>
                  <a:lnTo>
                    <a:pt x="356" y="91"/>
                  </a:lnTo>
                  <a:lnTo>
                    <a:pt x="361" y="76"/>
                  </a:lnTo>
                  <a:lnTo>
                    <a:pt x="363" y="64"/>
                  </a:lnTo>
                  <a:lnTo>
                    <a:pt x="361" y="52"/>
                  </a:lnTo>
                  <a:lnTo>
                    <a:pt x="354" y="33"/>
                  </a:lnTo>
                  <a:lnTo>
                    <a:pt x="339" y="19"/>
                  </a:lnTo>
                  <a:lnTo>
                    <a:pt x="321" y="7"/>
                  </a:lnTo>
                  <a:lnTo>
                    <a:pt x="301" y="2"/>
                  </a:lnTo>
                  <a:lnTo>
                    <a:pt x="279" y="0"/>
                  </a:lnTo>
                  <a:lnTo>
                    <a:pt x="259" y="2"/>
                  </a:lnTo>
                  <a:lnTo>
                    <a:pt x="241" y="9"/>
                  </a:lnTo>
                  <a:lnTo>
                    <a:pt x="226" y="21"/>
                  </a:lnTo>
                  <a:lnTo>
                    <a:pt x="210" y="40"/>
                  </a:lnTo>
                  <a:lnTo>
                    <a:pt x="195" y="64"/>
                  </a:lnTo>
                  <a:lnTo>
                    <a:pt x="182" y="93"/>
                  </a:lnTo>
                  <a:lnTo>
                    <a:pt x="151" y="151"/>
                  </a:lnTo>
                  <a:lnTo>
                    <a:pt x="135" y="180"/>
                  </a:lnTo>
                  <a:lnTo>
                    <a:pt x="120" y="20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1200" y="2825640"/>
              <a:ext cx="703080" cy="674280"/>
            </a:xfrm>
            <a:custGeom>
              <a:avLst/>
              <a:gdLst/>
              <a:ahLst/>
              <a:rect l="l" t="t" r="r" b="b"/>
              <a:pathLst>
                <a:path w="443" h="425">
                  <a:moveTo>
                    <a:pt x="339" y="141"/>
                  </a:moveTo>
                  <a:lnTo>
                    <a:pt x="317" y="96"/>
                  </a:lnTo>
                  <a:lnTo>
                    <a:pt x="294" y="60"/>
                  </a:lnTo>
                  <a:lnTo>
                    <a:pt x="281" y="43"/>
                  </a:lnTo>
                  <a:lnTo>
                    <a:pt x="270" y="31"/>
                  </a:lnTo>
                  <a:lnTo>
                    <a:pt x="259" y="19"/>
                  </a:lnTo>
                  <a:lnTo>
                    <a:pt x="248" y="12"/>
                  </a:lnTo>
                  <a:lnTo>
                    <a:pt x="228" y="2"/>
                  </a:lnTo>
                  <a:lnTo>
                    <a:pt x="217" y="0"/>
                  </a:lnTo>
                  <a:lnTo>
                    <a:pt x="208" y="0"/>
                  </a:lnTo>
                  <a:lnTo>
                    <a:pt x="197" y="4"/>
                  </a:lnTo>
                  <a:lnTo>
                    <a:pt x="186" y="12"/>
                  </a:lnTo>
                  <a:lnTo>
                    <a:pt x="173" y="24"/>
                  </a:lnTo>
                  <a:lnTo>
                    <a:pt x="159" y="43"/>
                  </a:lnTo>
                  <a:lnTo>
                    <a:pt x="151" y="55"/>
                  </a:lnTo>
                  <a:lnTo>
                    <a:pt x="139" y="72"/>
                  </a:lnTo>
                  <a:lnTo>
                    <a:pt x="126" y="91"/>
                  </a:lnTo>
                  <a:lnTo>
                    <a:pt x="113" y="110"/>
                  </a:lnTo>
                  <a:lnTo>
                    <a:pt x="82" y="156"/>
                  </a:lnTo>
                  <a:lnTo>
                    <a:pt x="51" y="206"/>
                  </a:lnTo>
                  <a:lnTo>
                    <a:pt x="27" y="257"/>
                  </a:lnTo>
                  <a:lnTo>
                    <a:pt x="16" y="278"/>
                  </a:lnTo>
                  <a:lnTo>
                    <a:pt x="9" y="302"/>
                  </a:lnTo>
                  <a:lnTo>
                    <a:pt x="2" y="321"/>
                  </a:lnTo>
                  <a:lnTo>
                    <a:pt x="0" y="341"/>
                  </a:lnTo>
                  <a:lnTo>
                    <a:pt x="2" y="357"/>
                  </a:lnTo>
                  <a:lnTo>
                    <a:pt x="9" y="369"/>
                  </a:lnTo>
                  <a:lnTo>
                    <a:pt x="20" y="379"/>
                  </a:lnTo>
                  <a:lnTo>
                    <a:pt x="38" y="389"/>
                  </a:lnTo>
                  <a:lnTo>
                    <a:pt x="60" y="398"/>
                  </a:lnTo>
                  <a:lnTo>
                    <a:pt x="86" y="405"/>
                  </a:lnTo>
                  <a:lnTo>
                    <a:pt x="115" y="410"/>
                  </a:lnTo>
                  <a:lnTo>
                    <a:pt x="146" y="415"/>
                  </a:lnTo>
                  <a:lnTo>
                    <a:pt x="215" y="422"/>
                  </a:lnTo>
                  <a:lnTo>
                    <a:pt x="283" y="425"/>
                  </a:lnTo>
                  <a:lnTo>
                    <a:pt x="317" y="422"/>
                  </a:lnTo>
                  <a:lnTo>
                    <a:pt x="345" y="420"/>
                  </a:lnTo>
                  <a:lnTo>
                    <a:pt x="372" y="417"/>
                  </a:lnTo>
                  <a:lnTo>
                    <a:pt x="396" y="413"/>
                  </a:lnTo>
                  <a:lnTo>
                    <a:pt x="414" y="408"/>
                  </a:lnTo>
                  <a:lnTo>
                    <a:pt x="427" y="401"/>
                  </a:lnTo>
                  <a:lnTo>
                    <a:pt x="436" y="393"/>
                  </a:lnTo>
                  <a:lnTo>
                    <a:pt x="441" y="381"/>
                  </a:lnTo>
                  <a:lnTo>
                    <a:pt x="443" y="369"/>
                  </a:lnTo>
                  <a:lnTo>
                    <a:pt x="441" y="355"/>
                  </a:lnTo>
                  <a:lnTo>
                    <a:pt x="436" y="338"/>
                  </a:lnTo>
                  <a:lnTo>
                    <a:pt x="432" y="319"/>
                  </a:lnTo>
                  <a:lnTo>
                    <a:pt x="414" y="283"/>
                  </a:lnTo>
                  <a:lnTo>
                    <a:pt x="394" y="242"/>
                  </a:lnTo>
                  <a:lnTo>
                    <a:pt x="372" y="204"/>
                  </a:lnTo>
                  <a:lnTo>
                    <a:pt x="354" y="170"/>
                  </a:lnTo>
                  <a:lnTo>
                    <a:pt x="339" y="14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19520" y="2090520"/>
              <a:ext cx="101160" cy="10620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403600" y="2193840"/>
              <a:ext cx="16488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72080" y="2201760"/>
              <a:ext cx="156600" cy="2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88000" y="2495520"/>
              <a:ext cx="97920" cy="1058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572080" y="2597040"/>
              <a:ext cx="1612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6960" y="2604960"/>
              <a:ext cx="1648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0520" y="2501640"/>
              <a:ext cx="98280" cy="1076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2640" y="2501640"/>
              <a:ext cx="97920" cy="1076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29120" y="2863800"/>
              <a:ext cx="97920" cy="1076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712840" y="2966760"/>
              <a:ext cx="16164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78440" y="2974680"/>
              <a:ext cx="16452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8840" y="2193840"/>
              <a:ext cx="52344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7240" y="3276360"/>
              <a:ext cx="98280" cy="106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38680" y="3276360"/>
              <a:ext cx="102600" cy="106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19520" y="2863800"/>
              <a:ext cx="101160" cy="1076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4440" y="3276360"/>
              <a:ext cx="98280" cy="106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330160" y="2966760"/>
              <a:ext cx="23796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24600" y="1905120"/>
              <a:ext cx="1320480" cy="888840"/>
            </a:xfrm>
            <a:custGeom>
              <a:avLst/>
              <a:gdLst/>
              <a:ahLst/>
              <a:rect l="l" t="t" r="r" b="b"/>
              <a:pathLst>
                <a:path w="832" h="560">
                  <a:moveTo>
                    <a:pt x="224" y="16"/>
                  </a:moveTo>
                  <a:cubicBezTo>
                    <a:pt x="112" y="32"/>
                    <a:pt x="0" y="360"/>
                    <a:pt x="80" y="448"/>
                  </a:cubicBezTo>
                  <a:cubicBezTo>
                    <a:pt x="160" y="536"/>
                    <a:pt x="592" y="560"/>
                    <a:pt x="704" y="544"/>
                  </a:cubicBezTo>
                  <a:cubicBezTo>
                    <a:pt x="816" y="528"/>
                    <a:pt x="832" y="440"/>
                    <a:pt x="752" y="352"/>
                  </a:cubicBezTo>
                  <a:cubicBezTo>
                    <a:pt x="672" y="264"/>
                    <a:pt x="336" y="0"/>
                    <a:pt x="224" y="16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016080" y="4559400"/>
            <a:ext cx="5181840" cy="838080"/>
            <a:chOff x="3016080" y="4559400"/>
            <a:chExt cx="5181840" cy="838080"/>
          </a:xfrm>
        </p:grpSpPr>
        <p:sp>
          <p:nvSpPr>
            <p:cNvPr id="148" name=""/>
            <p:cNvSpPr/>
            <p:nvPr/>
          </p:nvSpPr>
          <p:spPr>
            <a:xfrm flipH="1">
              <a:off x="3016080" y="4559400"/>
              <a:ext cx="15264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64000" y="4559400"/>
              <a:ext cx="53352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78600" y="4559400"/>
              <a:ext cx="121932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38760" y="3505320"/>
            <a:ext cx="8424360" cy="459720"/>
            <a:chOff x="338760" y="3505320"/>
            <a:chExt cx="8424360" cy="459720"/>
          </a:xfrm>
        </p:grpSpPr>
        <p:sp>
          <p:nvSpPr>
            <p:cNvPr id="152" name=""/>
            <p:cNvSpPr/>
            <p:nvPr/>
          </p:nvSpPr>
          <p:spPr>
            <a:xfrm>
              <a:off x="338760" y="35053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2- Enc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3733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85200" y="4800600"/>
            <a:ext cx="8377920" cy="459720"/>
            <a:chOff x="385200" y="4800600"/>
            <a:chExt cx="8377920" cy="459720"/>
          </a:xfrm>
        </p:grpSpPr>
        <p:sp>
          <p:nvSpPr>
            <p:cNvPr id="155" name=""/>
            <p:cNvSpPr/>
            <p:nvPr/>
          </p:nvSpPr>
          <p:spPr>
            <a:xfrm>
              <a:off x="385200" y="4800600"/>
              <a:ext cx="152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3- Inse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000" y="5029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51880" y="2362320"/>
            <a:ext cx="4401000" cy="459720"/>
            <a:chOff x="551880" y="2362320"/>
            <a:chExt cx="4401000" cy="459720"/>
          </a:xfrm>
        </p:grpSpPr>
        <p:sp>
          <p:nvSpPr>
            <p:cNvPr id="158" name=""/>
            <p:cNvSpPr/>
            <p:nvPr/>
          </p:nvSpPr>
          <p:spPr>
            <a:xfrm>
              <a:off x="551880" y="236232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1- Cu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09680" y="2590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750920" y="160020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ML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000" y="586728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ML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Streaming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 ste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6324480" y="281952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/>
          </p:cNvPr>
          <p:cNvSpPr/>
          <p:nvPr/>
        </p:nvSpPr>
        <p:spPr>
          <a:xfrm>
            <a:off x="7543800" y="43434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59A-CB25-45B4-96BE-2D180EFF1A8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BiM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Publish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475240" y="3687840"/>
            <a:ext cx="28954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nar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eamed X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ady for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 rot="5400000">
            <a:off x="3525840" y="3213000"/>
            <a:ext cx="784080" cy="228600"/>
          </a:xfrm>
          <a:custGeom>
            <a:avLst/>
            <a:gdLst>
              <a:gd name="textAreaLeft" fmla="*/ 122400 w 784080"/>
              <a:gd name="textAreaRight" fmla="*/ 686160 w 78408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 rot="13200">
            <a:off x="2425680" y="4130280"/>
            <a:ext cx="762120" cy="233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58320 h 233280"/>
              <a:gd name="textAreaBottom" fmla="*/ 174960 h 23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5560" y="3773520"/>
            <a:ext cx="1371600" cy="941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65560" y="4032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5760" y="3925800"/>
            <a:ext cx="914400" cy="6271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56600 h 627120"/>
              <a:gd name="textAreaBottom" fmla="*/ 470520 h 62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48760" y="236124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ublishing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60120" y="3697200"/>
            <a:ext cx="13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ML Fil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+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/>
          </p:cNvPr>
          <p:cNvSpPr/>
          <p:nvPr/>
        </p:nvSpPr>
        <p:spPr>
          <a:xfrm>
            <a:off x="4255920" y="487692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ahoma"/>
              </a:rPr>
              <a:t>Start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69C-7BB7-48EB-B660-667BF40FFE5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3300"/>
                </a:solidFill>
                <a:latin typeface="Tahom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Live decoding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nd visual reconstruction of description DO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Live streaming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of synchronized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354-6403-4226-B0E3-5160CA18C6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V Anytime - 28/0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15:08:33Z</dcterms:created>
  <dc:creator>Claude</dc:creator>
  <dc:description/>
  <dc:language>en-US</dc:language>
  <cp:lastModifiedBy>cedric</cp:lastModifiedBy>
  <cp:lastPrinted>2001-07-20T22:07:46Z</cp:lastPrinted>
  <dcterms:modified xsi:type="dcterms:W3CDTF">2002-02-14T14:38:37Z</dcterms:modified>
  <cp:revision>210</cp:revision>
  <dc:subject/>
  <dc:title>X-Bin   A generic and extensible binary format for MPEG-7 descriptions</dc:title>
</cp:coreProperties>
</file>