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91584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move the slide</a:t>
            </a:r>
            <a:endParaRPr b="1" lang="en-US" sz="3000" spc="-1" strike="noStrike">
              <a:solidFill>
                <a:srgbClr val="ffff00"/>
              </a:solidFill>
              <a:latin typeface="Arial"/>
            </a:endParaRPr>
          </a:p>
        </p:txBody>
      </p:sp>
      <p:sp>
        <p:nvSpPr>
          <p:cNvPr id="85" name="PlaceHolder 3"/>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4"/>
          <p:cNvSpPr>
            <a:spLocks noGrp="1"/>
          </p:cNvSpPr>
          <p:nvPr>
            <p:ph type="dt" idx="1"/>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429840"/>
            <a:ext cx="2944800" cy="49680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4800" cy="49680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2867642-3F2D-4375-BB2A-AC602B60D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5840" y="744480"/>
            <a:ext cx="4964400" cy="3722760"/>
          </a:xfrm>
          <a:prstGeom prst="rect">
            <a:avLst/>
          </a:prstGeom>
          <a:ln w="0">
            <a:noFill/>
          </a:ln>
        </p:spPr>
      </p:sp>
      <p:sp>
        <p:nvSpPr>
          <p:cNvPr id="303"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been working within the TV Anytime forum for the last year, participating in the Business Models, Systems and Content Referencing groups at various times.  Over the last few meetings I have concentrated on content referencing, where I am the editor for documents produced by the Content Referencing sub-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rk for Philips in their research lab near London, where I am currently working on a European project called “myTV” which is implementing TV Anytime functionality in a European DVB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 of the myTV project has allowed us to submit proposals to the TV Anytime forum which are based on the way we are actually going to implement a real TV Anytime system.  Working on an actual implementation means that some of the difficulties inherent in such an ambitious standard as TV Anytime have been discovered.  I like to think that the myTV submissions to TV Anytime reflect this depth of analys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5840" y="744480"/>
            <a:ext cx="4964400" cy="3722760"/>
          </a:xfrm>
          <a:prstGeom prst="rect">
            <a:avLst/>
          </a:prstGeom>
          <a:ln w="0">
            <a:noFill/>
          </a:ln>
        </p:spPr>
      </p:sp>
      <p:sp>
        <p:nvSpPr>
          <p:cNvPr id="305"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explaining content referencing it is useful to have an analogy to illustrate the purpose that content referencing fulf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chosen an analogy based on a shopping chain in the UK which is a mixture of mail order and conventional shopping.  You choose the item you want from a catalogue (just like mail order) but you go to your local store to pick up the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get to the store you go to a till and pay for your chosen item, but rather than get the item, you get a piece of paper.  You then take this piece of paper to someone else, who then goes and finds your chosen product in the stock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talogue is like the TV-Anytime </a:t>
            </a:r>
            <a:r>
              <a:rPr b="1" lang="en-GB" sz="1200" spc="-1" strike="noStrike">
                <a:solidFill>
                  <a:srgbClr val="000000"/>
                </a:solidFill>
                <a:latin typeface="Times New Roman"/>
              </a:rPr>
              <a:t>metadata</a:t>
            </a:r>
            <a:r>
              <a:rPr b="0" lang="en-GB" sz="1200" spc="-1" strike="noStrike">
                <a:solidFill>
                  <a:srgbClr val="000000"/>
                </a:solidFill>
                <a:latin typeface="Times New Roman"/>
              </a:rPr>
              <a:t>, the paying for the item is the </a:t>
            </a:r>
            <a:r>
              <a:rPr b="1" lang="en-GB" sz="1200" spc="-1" strike="noStrike">
                <a:solidFill>
                  <a:srgbClr val="000000"/>
                </a:solidFill>
                <a:latin typeface="Times New Roman"/>
              </a:rPr>
              <a:t>selection</a:t>
            </a:r>
            <a:r>
              <a:rPr b="0" lang="en-GB" sz="1200" spc="-1" strike="noStrike">
                <a:solidFill>
                  <a:srgbClr val="000000"/>
                </a:solidFill>
                <a:latin typeface="Times New Roman"/>
              </a:rPr>
              <a:t> of a content item and the piece of paper you receive is the </a:t>
            </a:r>
            <a:r>
              <a:rPr b="1" lang="en-GB" sz="1200" spc="-1" strike="noStrike">
                <a:solidFill>
                  <a:srgbClr val="000000"/>
                </a:solidFill>
                <a:latin typeface="Times New Roman"/>
              </a:rPr>
              <a:t>content reference</a:t>
            </a:r>
            <a:r>
              <a:rPr b="0" lang="en-GB" sz="1200" spc="-1" strike="noStrike">
                <a:solidFill>
                  <a:srgbClr val="000000"/>
                </a:solidFill>
                <a:latin typeface="Times New Roman"/>
              </a:rPr>
              <a:t>.  The person going to the stock room is </a:t>
            </a:r>
            <a:r>
              <a:rPr b="1" lang="en-GB" sz="1200" spc="-1" strike="noStrike">
                <a:solidFill>
                  <a:srgbClr val="000000"/>
                </a:solidFill>
                <a:latin typeface="Times New Roman"/>
              </a:rPr>
              <a:t>resolving</a:t>
            </a:r>
            <a:r>
              <a:rPr b="0" lang="en-GB" sz="1200" spc="-1" strike="noStrike">
                <a:solidFill>
                  <a:srgbClr val="000000"/>
                </a:solidFill>
                <a:latin typeface="Times New Roman"/>
              </a:rPr>
              <a:t> the reference into a </a:t>
            </a:r>
            <a:r>
              <a:rPr b="1" lang="en-GB" sz="1200" spc="-1" strike="noStrike">
                <a:solidFill>
                  <a:srgbClr val="000000"/>
                </a:solidFill>
                <a:latin typeface="Times New Roman"/>
              </a:rPr>
              <a:t>loc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5840" y="744480"/>
            <a:ext cx="4964400" cy="3722760"/>
          </a:xfrm>
          <a:prstGeom prst="rect">
            <a:avLst/>
          </a:prstGeom>
          <a:ln w="0">
            <a:noFill/>
          </a:ln>
        </p:spPr>
      </p:sp>
      <p:sp>
        <p:nvSpPr>
          <p:cNvPr id="307"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n obvious question “Why do we need content referencing?” for which there are lots of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most common answe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hen a consumer has a hard disk based video recorder that allows them to pause live TV, they become freed from the schedules set by the broadcasters.  They no longer have to arrange their time to fit with the scheduled broadcast time of their favourit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TV Anytime wants to push this further, by allowing the user to find their favourite shows regardless of which channel they are broadcast on.  From the broadcaster’s point of view, it allows the viewer to find their content amongst the hundreds of channel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5840" y="744480"/>
            <a:ext cx="4964400" cy="3722760"/>
          </a:xfrm>
          <a:prstGeom prst="rect">
            <a:avLst/>
          </a:prstGeom>
          <a:ln w="0">
            <a:noFill/>
          </a:ln>
        </p:spPr>
      </p:sp>
      <p:sp>
        <p:nvSpPr>
          <p:cNvPr id="309"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ep of creating the Content Referencing specification is to decide the bounds of the problem you want to solve.  This slide contains some of the requirements that were given in the requirements section of the call for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5840" y="744480"/>
            <a:ext cx="4964400" cy="3722760"/>
          </a:xfrm>
          <a:prstGeom prst="rect">
            <a:avLst/>
          </a:prstGeom>
          <a:ln w="0">
            <a:noFill/>
          </a:ln>
        </p:spPr>
      </p:sp>
      <p:sp>
        <p:nvSpPr>
          <p:cNvPr id="311"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move on to the solution that the TV Anytime forum have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me of the token used as a content reference is called the </a:t>
            </a:r>
            <a:r>
              <a:rPr b="1" lang="en-GB" sz="1200" spc="-1" strike="noStrike">
                <a:solidFill>
                  <a:srgbClr val="000000"/>
                </a:solidFill>
                <a:latin typeface="Times New Roman"/>
              </a:rPr>
              <a:t>C</a:t>
            </a:r>
            <a:r>
              <a:rPr b="0" lang="en-GB" sz="1200" spc="-1" strike="noStrike">
                <a:solidFill>
                  <a:srgbClr val="000000"/>
                </a:solidFill>
                <a:latin typeface="Times New Roman"/>
              </a:rPr>
              <a:t>ontent </a:t>
            </a:r>
            <a:r>
              <a:rPr b="1" lang="en-GB" sz="1200" spc="-1" strike="noStrike">
                <a:solidFill>
                  <a:srgbClr val="000000"/>
                </a:solidFill>
                <a:latin typeface="Times New Roman"/>
              </a:rPr>
              <a:t>R</a:t>
            </a:r>
            <a:r>
              <a:rPr b="0" lang="en-GB" sz="1200" spc="-1" strike="noStrike">
                <a:solidFill>
                  <a:srgbClr val="000000"/>
                </a:solidFill>
                <a:latin typeface="Times New Roman"/>
              </a:rPr>
              <a:t>eference </a:t>
            </a:r>
            <a:r>
              <a:rPr b="1" lang="en-GB" sz="1200" spc="-1" strike="noStrike">
                <a:solidFill>
                  <a:srgbClr val="000000"/>
                </a:solidFill>
                <a:latin typeface="Times New Roman"/>
              </a:rPr>
              <a:t>ID</a:t>
            </a:r>
            <a:r>
              <a:rPr b="0" lang="en-GB" sz="1200" spc="-1" strike="noStrike">
                <a:solidFill>
                  <a:srgbClr val="000000"/>
                </a:solidFill>
                <a:latin typeface="Times New Roman"/>
              </a:rPr>
              <a:t>entifier (CRID) which is a text string that can be converted by a location resolution service into either locations for the content, or more CR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ent Referencing specification defines an organisation called the authority, which is the body that creates CRIDs that it guarantees to be unambigu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authority has a globally unique name, which is assured to be unique by using the DNS naming sys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5840" y="744480"/>
            <a:ext cx="4964400" cy="3722760"/>
          </a:xfrm>
          <a:prstGeom prst="rect">
            <a:avLst/>
          </a:prstGeom>
          <a:ln w="0">
            <a:noFill/>
          </a:ln>
        </p:spPr>
      </p:sp>
      <p:sp>
        <p:nvSpPr>
          <p:cNvPr id="313"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you have a CRID, at some point you need it converted into a real location, else it is not much us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olving a CRID is a two step system.  The first step is to find the place where the CRID can be resolved.  The TV-Anytime Content Referencing specification uses something called a </a:t>
            </a:r>
            <a:r>
              <a:rPr b="1" lang="en-GB" sz="1200" spc="-1" strike="noStrike">
                <a:solidFill>
                  <a:srgbClr val="000000"/>
                </a:solidFill>
                <a:latin typeface="Times New Roman"/>
              </a:rPr>
              <a:t>R</a:t>
            </a:r>
            <a:r>
              <a:rPr b="0" lang="en-GB" sz="1200" spc="-1" strike="noStrike">
                <a:solidFill>
                  <a:srgbClr val="000000"/>
                </a:solidFill>
                <a:latin typeface="Times New Roman"/>
              </a:rPr>
              <a:t>esolution </a:t>
            </a:r>
            <a:r>
              <a:rPr b="1" lang="en-GB" sz="1200" spc="-1" strike="noStrike">
                <a:solidFill>
                  <a:srgbClr val="000000"/>
                </a:solidFill>
                <a:latin typeface="Times New Roman"/>
              </a:rPr>
              <a:t>A</a:t>
            </a:r>
            <a:r>
              <a:rPr b="0" lang="en-GB" sz="1200" spc="-1" strike="noStrike">
                <a:solidFill>
                  <a:srgbClr val="000000"/>
                </a:solidFill>
                <a:latin typeface="Times New Roman"/>
              </a:rPr>
              <a:t>uthority </a:t>
            </a:r>
            <a:r>
              <a:rPr b="1" lang="en-GB" sz="1200" spc="-1" strike="noStrike">
                <a:solidFill>
                  <a:srgbClr val="000000"/>
                </a:solidFill>
                <a:latin typeface="Times New Roman"/>
              </a:rPr>
              <a:t>R</a:t>
            </a:r>
            <a:r>
              <a:rPr b="0" lang="en-GB" sz="1200" spc="-1" strike="noStrike">
                <a:solidFill>
                  <a:srgbClr val="000000"/>
                </a:solidFill>
                <a:latin typeface="Times New Roman"/>
              </a:rPr>
              <a:t>ecord.  This record is used to map from authority name to the place where the CRIDs created by the authority can be re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n a broadcast system, an RAR for an authority will point to the channel where location resolution information is being broadcast.  In an IP based environment, the RAR will point to a server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PDR knows where to find its location information, it can take its CRID and get it resolved into locations or more CRIDs.  How this happens depends on the location of the resolving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f the resolving service is carried in a DVB transport stream, then the method of location resolution will be carried out using some DVB defined protoc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5840" y="744480"/>
            <a:ext cx="4964400" cy="3722760"/>
          </a:xfrm>
          <a:prstGeom prst="rect">
            <a:avLst/>
          </a:prstGeom>
          <a:ln w="0">
            <a:noFill/>
          </a:ln>
        </p:spPr>
      </p:sp>
      <p:sp>
        <p:nvSpPr>
          <p:cNvPr id="315"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concept introduced in the TV-Anytime Content Referencing specification is the idea of a resolution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solution handler is the bridge between the generic process of resolving a CRID and the protocol specific process needed to do the actual resol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PDR might have a DVB and an IP resolution handler so that it can resolve CRIDs using either a DVB stream or a server on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5840" y="744480"/>
            <a:ext cx="4964400" cy="3722760"/>
          </a:xfrm>
          <a:prstGeom prst="rect">
            <a:avLst/>
          </a:prstGeom>
          <a:ln w="0">
            <a:noFill/>
          </a:ln>
        </p:spPr>
      </p:sp>
      <p:sp>
        <p:nvSpPr>
          <p:cNvPr id="317"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n example of how CRIDs can be used to allow a user to find all the sports programmes for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D for “all today’s sport” resolves into two CRIDs, on two different broadcasters.  For broadcaster B, this CRID resolves into three different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D for the tennis programme illustrates another feature, as it resolves into two locations because the tennis is shown once live and also repeated later that day.  The tennis CRID allows the PDR to know that it can record either the live or the repeat, which may be useful if there is a schedule clash with other programmes the user wants to reco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5840" y="744480"/>
            <a:ext cx="4964400" cy="3722760"/>
          </a:xfrm>
          <a:prstGeom prst="rect">
            <a:avLst/>
          </a:prstGeom>
          <a:ln w="0">
            <a:noFill/>
          </a:ln>
        </p:spPr>
      </p:sp>
      <p:sp>
        <p:nvSpPr>
          <p:cNvPr id="319" name="PlaceHolder 2"/>
          <p:cNvSpPr>
            <a:spLocks noGrp="1"/>
          </p:cNvSpPr>
          <p:nvPr>
            <p:ph type="body"/>
          </p:nvPr>
        </p:nvSpPr>
        <p:spPr>
          <a:xfrm>
            <a:off x="906480" y="4716000"/>
            <a:ext cx="498312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sion 1.0 of the content referencing specification was released after the 7th TV-Anytime meeting in Geneva.  It provides the foundation for content referencing in all environments, and the requirements for content referencing in a broadcas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oes not provide the ability to resolve CRIDs using bi-directional networks such as the Internet, as it was felt that there were insufficient contributions on this subject to produce a mature specification.  A future version of the specification will provide the ability to perform location resolution in a bi-directional network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28" name="PlaceHolder 2"/>
          <p:cNvSpPr>
            <a:spLocks noGrp="1"/>
          </p:cNvSpPr>
          <p:nvPr>
            <p:ph/>
          </p:nvPr>
        </p:nvSpPr>
        <p:spPr>
          <a:xfrm>
            <a:off x="380880" y="159984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380880" y="362988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31"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38088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7604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36" name="PlaceHolder 2"/>
          <p:cNvSpPr>
            <a:spLocks noGrp="1"/>
          </p:cNvSpPr>
          <p:nvPr>
            <p:ph/>
          </p:nvPr>
        </p:nvSpPr>
        <p:spPr>
          <a:xfrm>
            <a:off x="38088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21516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04944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38088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21516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04944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47" name="PlaceHolder 2"/>
          <p:cNvSpPr>
            <a:spLocks noGrp="1"/>
          </p:cNvSpPr>
          <p:nvPr>
            <p:ph type="subTitle"/>
          </p:nvPr>
        </p:nvSpPr>
        <p:spPr>
          <a:xfrm>
            <a:off x="380880" y="1599840"/>
            <a:ext cx="838224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49" name="PlaceHolder 2"/>
          <p:cNvSpPr>
            <a:spLocks noGrp="1"/>
          </p:cNvSpPr>
          <p:nvPr>
            <p:ph/>
          </p:nvPr>
        </p:nvSpPr>
        <p:spPr>
          <a:xfrm>
            <a:off x="380880" y="1599840"/>
            <a:ext cx="838224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51" name="PlaceHolder 2"/>
          <p:cNvSpPr>
            <a:spLocks noGrp="1"/>
          </p:cNvSpPr>
          <p:nvPr>
            <p:ph/>
          </p:nvPr>
        </p:nvSpPr>
        <p:spPr>
          <a:xfrm>
            <a:off x="38088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467604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228600"/>
            <a:ext cx="8382240" cy="6005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56"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7604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38088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7" name="PlaceHolder 2"/>
          <p:cNvSpPr>
            <a:spLocks noGrp="1"/>
          </p:cNvSpPr>
          <p:nvPr>
            <p:ph type="subTitle"/>
          </p:nvPr>
        </p:nvSpPr>
        <p:spPr>
          <a:xfrm>
            <a:off x="380880" y="1599840"/>
            <a:ext cx="838224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60" name="PlaceHolder 2"/>
          <p:cNvSpPr>
            <a:spLocks noGrp="1"/>
          </p:cNvSpPr>
          <p:nvPr>
            <p:ph/>
          </p:nvPr>
        </p:nvSpPr>
        <p:spPr>
          <a:xfrm>
            <a:off x="38088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67604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64"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380880" y="362988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68" name="PlaceHolder 2"/>
          <p:cNvSpPr>
            <a:spLocks noGrp="1"/>
          </p:cNvSpPr>
          <p:nvPr>
            <p:ph/>
          </p:nvPr>
        </p:nvSpPr>
        <p:spPr>
          <a:xfrm>
            <a:off x="380880" y="159984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380880" y="362988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71"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38088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5"/>
          <p:cNvSpPr>
            <a:spLocks noGrp="1"/>
          </p:cNvSpPr>
          <p:nvPr>
            <p:ph/>
          </p:nvPr>
        </p:nvSpPr>
        <p:spPr>
          <a:xfrm>
            <a:off x="467604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76" name="PlaceHolder 2"/>
          <p:cNvSpPr>
            <a:spLocks noGrp="1"/>
          </p:cNvSpPr>
          <p:nvPr>
            <p:ph/>
          </p:nvPr>
        </p:nvSpPr>
        <p:spPr>
          <a:xfrm>
            <a:off x="38088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321516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6049440" y="159984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38088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6"/>
          <p:cNvSpPr>
            <a:spLocks noGrp="1"/>
          </p:cNvSpPr>
          <p:nvPr>
            <p:ph/>
          </p:nvPr>
        </p:nvSpPr>
        <p:spPr>
          <a:xfrm>
            <a:off x="321516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7"/>
          <p:cNvSpPr>
            <a:spLocks noGrp="1"/>
          </p:cNvSpPr>
          <p:nvPr>
            <p:ph/>
          </p:nvPr>
        </p:nvSpPr>
        <p:spPr>
          <a:xfrm>
            <a:off x="6049440" y="3629880"/>
            <a:ext cx="26989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9" name="PlaceHolder 2"/>
          <p:cNvSpPr>
            <a:spLocks noGrp="1"/>
          </p:cNvSpPr>
          <p:nvPr>
            <p:ph/>
          </p:nvPr>
        </p:nvSpPr>
        <p:spPr>
          <a:xfrm>
            <a:off x="380880" y="1599840"/>
            <a:ext cx="838224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11" name="PlaceHolder 2"/>
          <p:cNvSpPr>
            <a:spLocks noGrp="1"/>
          </p:cNvSpPr>
          <p:nvPr>
            <p:ph/>
          </p:nvPr>
        </p:nvSpPr>
        <p:spPr>
          <a:xfrm>
            <a:off x="38088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7604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8382240" cy="6005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16"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7604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38088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20" name="PlaceHolder 2"/>
          <p:cNvSpPr>
            <a:spLocks noGrp="1"/>
          </p:cNvSpPr>
          <p:nvPr>
            <p:ph/>
          </p:nvPr>
        </p:nvSpPr>
        <p:spPr>
          <a:xfrm>
            <a:off x="380880" y="1599840"/>
            <a:ext cx="4090320" cy="388620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76040" y="362988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Arial"/>
            </a:endParaRPr>
          </a:p>
        </p:txBody>
      </p:sp>
      <p:sp>
        <p:nvSpPr>
          <p:cNvPr id="24" name="PlaceHolder 2"/>
          <p:cNvSpPr>
            <a:spLocks noGrp="1"/>
          </p:cNvSpPr>
          <p:nvPr>
            <p:ph/>
          </p:nvPr>
        </p:nvSpPr>
        <p:spPr>
          <a:xfrm>
            <a:off x="38088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76040" y="1599840"/>
            <a:ext cx="409032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380880" y="3629880"/>
            <a:ext cx="8382240" cy="1853640"/>
          </a:xfrm>
          <a:prstGeom prst="rect">
            <a:avLst/>
          </a:prstGeom>
          <a:noFill/>
          <a:ln w="0">
            <a:noFill/>
          </a:ln>
        </p:spPr>
        <p:txBody>
          <a:bodyPr lIns="90360" rIns="90360" tIns="44280" bIns="44280" anchor="ctr" anchorCtr="1">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1" name="PlaceHolder 2"/>
          <p:cNvSpPr>
            <a:spLocks noGrp="1"/>
          </p:cNvSpPr>
          <p:nvPr>
            <p:ph type="body"/>
          </p:nvPr>
        </p:nvSpPr>
        <p:spPr>
          <a:xfrm>
            <a:off x="380880" y="1599840"/>
            <a:ext cx="8382240" cy="3886200"/>
          </a:xfrm>
          <a:prstGeom prst="rect">
            <a:avLst/>
          </a:prstGeom>
          <a:noFill/>
          <a:ln w="0">
            <a:noFill/>
          </a:ln>
        </p:spPr>
        <p:txBody>
          <a:bodyPr lIns="90360" rIns="90360" tIns="44280" bIns="44280" anchor="ctr" anchorCtr="1">
            <a:normAutofit/>
          </a:bodyPr>
          <a:p>
            <a:pPr marL="341280" indent="-3412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81080" indent="-39852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57440" indent="-4618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233440" indent="-4618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798640" indent="-45072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798640" indent="-450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798640" indent="-450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pic>
        <p:nvPicPr>
          <p:cNvPr id="2" name="tvat7a" descr=""/>
          <p:cNvPicPr/>
          <p:nvPr/>
        </p:nvPicPr>
        <p:blipFill>
          <a:blip r:embed="rId3"/>
          <a:srcRect l="0" t="1691" r="0" b="17754"/>
          <a:stretch/>
        </p:blipFill>
        <p:spPr>
          <a:xfrm flipH="1">
            <a:off x="380880" y="5638680"/>
            <a:ext cx="1206720" cy="978120"/>
          </a:xfrm>
          <a:prstGeom prst="rect">
            <a:avLst/>
          </a:prstGeom>
          <a:ln w="9360">
            <a:solidFill>
              <a:srgbClr val="000000"/>
            </a:solidFill>
            <a:miter/>
          </a:ln>
        </p:spPr>
      </p:pic>
      <p:sp>
        <p:nvSpPr>
          <p:cNvPr id="3" name=""/>
          <p:cNvSpPr/>
          <p:nvPr/>
        </p:nvSpPr>
        <p:spPr>
          <a:xfrm>
            <a:off x="1904400" y="5638680"/>
            <a:ext cx="372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V-Anytime</a:t>
            </a:r>
            <a:r>
              <a:rPr b="0" lang="en-GB" sz="3200" spc="-1" strike="noStrike">
                <a:solidFill>
                  <a:srgbClr val="ffffff"/>
                </a:solidFill>
                <a:latin typeface="Arial"/>
              </a:rPr>
              <a:t> Forum</a:t>
            </a:r>
            <a:endParaRPr b="0" lang="en-US" sz="3200" spc="-1" strike="noStrike">
              <a:solidFill>
                <a:srgbClr val="000000"/>
              </a:solidFill>
              <a:latin typeface="Times New Roman"/>
            </a:endParaRPr>
          </a:p>
        </p:txBody>
      </p:sp>
      <p:sp>
        <p:nvSpPr>
          <p:cNvPr id="4" name=""/>
          <p:cNvSpPr/>
          <p:nvPr/>
        </p:nvSpPr>
        <p:spPr>
          <a:xfrm>
            <a:off x="1902600" y="617220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tv-anytime.org</a:t>
            </a:r>
            <a:endParaRPr b="0" lang="en-US" sz="2000" spc="-1" strike="noStrike">
              <a:solidFill>
                <a:srgbClr val="000000"/>
              </a:solidFill>
              <a:latin typeface="Times New Roman"/>
            </a:endParaRPr>
          </a:p>
        </p:txBody>
      </p:sp>
      <p:sp>
        <p:nvSpPr>
          <p:cNvPr id="5" name=""/>
          <p:cNvSpPr/>
          <p:nvPr/>
        </p:nvSpPr>
        <p:spPr>
          <a:xfrm>
            <a:off x="1905120" y="5638680"/>
            <a:ext cx="5867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2" name="CURV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057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44" name=""/>
          <p:cNvSpPr/>
          <p:nvPr/>
        </p:nvSpPr>
        <p:spPr>
          <a:xfrm>
            <a:off x="6315480" y="6645240"/>
            <a:ext cx="267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00 Philips Electronics UK Ltd</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914400" indent="281160" algn="ctr">
              <a:spcBef>
                <a:spcPts val="550"/>
              </a:spcBef>
              <a:buClr>
                <a:srgbClr val="4d93e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399960" algn="ctr">
              <a:spcBef>
                <a:spcPts val="550"/>
              </a:spcBef>
              <a:buClr>
                <a:srgbClr val="4d93e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indent="519120" algn="ctr">
              <a:spcBef>
                <a:spcPts val="550"/>
              </a:spcBef>
              <a:buClr>
                <a:srgbClr val="4d93e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indent="519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indent="519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Arial"/>
              </a:rPr>
              <a:t>The Specification</a:t>
            </a:r>
            <a:br>
              <a:rPr sz="3900"/>
            </a:br>
            <a:r>
              <a:rPr b="1" lang="en-US" sz="3900" spc="-1" strike="noStrike">
                <a:solidFill>
                  <a:srgbClr val="ffff00"/>
                </a:solidFill>
                <a:latin typeface="Arial"/>
              </a:rPr>
              <a:t>for Content Referencing</a:t>
            </a:r>
            <a:endParaRPr b="1" lang="en-US" sz="3900" spc="-1" strike="noStrike">
              <a:solidFill>
                <a:srgbClr val="ffff00"/>
              </a:solidFill>
              <a:latin typeface="Arial"/>
            </a:endParaRPr>
          </a:p>
        </p:txBody>
      </p:sp>
      <p:sp>
        <p:nvSpPr>
          <p:cNvPr id="90" name="PlaceHolder 2"/>
          <p:cNvSpPr>
            <a:spLocks noGrp="1"/>
          </p:cNvSpPr>
          <p:nvPr>
            <p:ph type="subTitle"/>
          </p:nvPr>
        </p:nvSpPr>
        <p:spPr>
          <a:xfrm>
            <a:off x="1371600" y="36576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 Ashley</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or for Content Referencing sub-group</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What is Content Referencing?</a:t>
            </a:r>
            <a:endParaRPr b="1" lang="en-US" sz="3000" spc="-1" strike="noStrike">
              <a:solidFill>
                <a:srgbClr val="ffff00"/>
              </a:solidFill>
              <a:latin typeface="Arial"/>
            </a:endParaRPr>
          </a:p>
        </p:txBody>
      </p:sp>
      <p:grpSp>
        <p:nvGrpSpPr>
          <p:cNvPr id="92" name=""/>
          <p:cNvGrpSpPr/>
          <p:nvPr/>
        </p:nvGrpSpPr>
        <p:grpSpPr>
          <a:xfrm>
            <a:off x="2137320" y="1295280"/>
            <a:ext cx="5384160" cy="1673280"/>
            <a:chOff x="2137320" y="1295280"/>
            <a:chExt cx="5384160" cy="1673280"/>
          </a:xfrm>
        </p:grpSpPr>
        <p:pic>
          <p:nvPicPr>
            <p:cNvPr id="93" name="BOOKS" descr=""/>
            <p:cNvPicPr/>
            <p:nvPr/>
          </p:nvPicPr>
          <p:blipFill>
            <a:blip r:embed="rId2"/>
            <a:stretch/>
          </p:blipFill>
          <p:spPr>
            <a:xfrm>
              <a:off x="6477120" y="1295280"/>
              <a:ext cx="1044360" cy="1673280"/>
            </a:xfrm>
            <a:prstGeom prst="rect">
              <a:avLst/>
            </a:prstGeom>
            <a:ln w="0">
              <a:noFill/>
            </a:ln>
          </p:spPr>
        </p:pic>
        <p:sp>
          <p:nvSpPr>
            <p:cNvPr id="94" name=""/>
            <p:cNvSpPr/>
            <p:nvPr/>
          </p:nvSpPr>
          <p:spPr>
            <a:xfrm>
              <a:off x="2137320" y="19810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oose product from catalogue</a:t>
              </a:r>
              <a:endParaRPr b="0" lang="en-US" sz="2400" spc="-1" strike="noStrike">
                <a:solidFill>
                  <a:srgbClr val="000000"/>
                </a:solidFill>
                <a:latin typeface="Times New Roman"/>
              </a:endParaRPr>
            </a:p>
          </p:txBody>
        </p:sp>
      </p:grpSp>
      <p:grpSp>
        <p:nvGrpSpPr>
          <p:cNvPr id="95" name=""/>
          <p:cNvGrpSpPr/>
          <p:nvPr/>
        </p:nvGrpSpPr>
        <p:grpSpPr>
          <a:xfrm>
            <a:off x="2134440" y="4343400"/>
            <a:ext cx="2866320" cy="1069920"/>
            <a:chOff x="2134440" y="4343400"/>
            <a:chExt cx="2866320" cy="1069920"/>
          </a:xfrm>
        </p:grpSpPr>
        <p:pic>
          <p:nvPicPr>
            <p:cNvPr id="96" name="" descr=""/>
            <p:cNvPicPr/>
            <p:nvPr/>
          </p:nvPicPr>
          <p:blipFill>
            <a:blip r:embed="rId3"/>
            <a:stretch/>
          </p:blipFill>
          <p:spPr>
            <a:xfrm>
              <a:off x="3962520" y="4343400"/>
              <a:ext cx="1038240" cy="1069920"/>
            </a:xfrm>
            <a:prstGeom prst="rect">
              <a:avLst/>
            </a:prstGeom>
            <a:ln w="0">
              <a:noFill/>
            </a:ln>
          </p:spPr>
        </p:pic>
        <p:sp>
          <p:nvSpPr>
            <p:cNvPr id="97" name=""/>
            <p:cNvSpPr/>
            <p:nvPr/>
          </p:nvSpPr>
          <p:spPr>
            <a:xfrm>
              <a:off x="2134440" y="449568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 product</a:t>
              </a:r>
              <a:endParaRPr b="0" lang="en-US" sz="2400" spc="-1" strike="noStrike">
                <a:solidFill>
                  <a:srgbClr val="000000"/>
                </a:solidFill>
                <a:latin typeface="Times New Roman"/>
              </a:endParaRPr>
            </a:p>
          </p:txBody>
        </p:sp>
      </p:grpSp>
      <p:grpSp>
        <p:nvGrpSpPr>
          <p:cNvPr id="98" name=""/>
          <p:cNvGrpSpPr/>
          <p:nvPr/>
        </p:nvGrpSpPr>
        <p:grpSpPr>
          <a:xfrm>
            <a:off x="2137320" y="3352680"/>
            <a:ext cx="6143040" cy="1219320"/>
            <a:chOff x="2137320" y="3352680"/>
            <a:chExt cx="6143040" cy="1219320"/>
          </a:xfrm>
        </p:grpSpPr>
        <p:pic>
          <p:nvPicPr>
            <p:cNvPr id="99" name="DELIV1" descr=""/>
            <p:cNvPicPr/>
            <p:nvPr/>
          </p:nvPicPr>
          <p:blipFill>
            <a:blip r:embed="rId4"/>
            <a:stretch/>
          </p:blipFill>
          <p:spPr>
            <a:xfrm>
              <a:off x="7238880" y="3352680"/>
              <a:ext cx="1041480" cy="1219320"/>
            </a:xfrm>
            <a:prstGeom prst="rect">
              <a:avLst/>
            </a:prstGeom>
            <a:ln w="0">
              <a:noFill/>
            </a:ln>
          </p:spPr>
        </p:pic>
        <p:sp>
          <p:nvSpPr>
            <p:cNvPr id="100" name=""/>
            <p:cNvSpPr/>
            <p:nvPr/>
          </p:nvSpPr>
          <p:spPr>
            <a:xfrm>
              <a:off x="2137320" y="3581280"/>
              <a:ext cx="51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ke piece of paper to someone else</a:t>
              </a:r>
              <a:endParaRPr b="0" lang="en-US" sz="2400" spc="-1" strike="noStrike">
                <a:solidFill>
                  <a:srgbClr val="000000"/>
                </a:solidFill>
                <a:latin typeface="Times New Roman"/>
              </a:endParaRPr>
            </a:p>
          </p:txBody>
        </p:sp>
      </p:grpSp>
      <p:grpSp>
        <p:nvGrpSpPr>
          <p:cNvPr id="101" name=""/>
          <p:cNvGrpSpPr/>
          <p:nvPr/>
        </p:nvGrpSpPr>
        <p:grpSpPr>
          <a:xfrm>
            <a:off x="1066680" y="2514600"/>
            <a:ext cx="5231880" cy="1117440"/>
            <a:chOff x="1066680" y="2514600"/>
            <a:chExt cx="5231880" cy="1117440"/>
          </a:xfrm>
        </p:grpSpPr>
        <p:pic>
          <p:nvPicPr>
            <p:cNvPr id="102" name="MONEY1" descr=""/>
            <p:cNvPicPr/>
            <p:nvPr/>
          </p:nvPicPr>
          <p:blipFill>
            <a:blip r:embed="rId5"/>
            <a:stretch/>
          </p:blipFill>
          <p:spPr>
            <a:xfrm>
              <a:off x="1066680" y="2514600"/>
              <a:ext cx="1219320" cy="1117440"/>
            </a:xfrm>
            <a:prstGeom prst="rect">
              <a:avLst/>
            </a:prstGeom>
            <a:ln w="0">
              <a:noFill/>
            </a:ln>
          </p:spPr>
        </p:pic>
        <p:sp>
          <p:nvSpPr>
            <p:cNvPr id="103" name=""/>
            <p:cNvSpPr/>
            <p:nvPr/>
          </p:nvSpPr>
          <p:spPr>
            <a:xfrm>
              <a:off x="2135520" y="2743200"/>
              <a:ext cx="41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y, and get a piece of paper</a:t>
              </a:r>
              <a:endParaRPr b="0" lang="en-US" sz="2400" spc="-1" strike="noStrike">
                <a:solidFill>
                  <a:srgbClr val="000000"/>
                </a:solidFill>
                <a:latin typeface="Times New Roman"/>
              </a:endParaRPr>
            </a:p>
          </p:txBody>
        </p:sp>
      </p:grpSp>
      <p:grpSp>
        <p:nvGrpSpPr>
          <p:cNvPr id="104" name=""/>
          <p:cNvGrpSpPr/>
          <p:nvPr/>
        </p:nvGrpSpPr>
        <p:grpSpPr>
          <a:xfrm>
            <a:off x="569160" y="1509120"/>
            <a:ext cx="7190640" cy="3157200"/>
            <a:chOff x="569160" y="1509120"/>
            <a:chExt cx="7190640" cy="3157200"/>
          </a:xfrm>
        </p:grpSpPr>
        <p:sp>
          <p:nvSpPr>
            <p:cNvPr id="105" name=""/>
            <p:cNvSpPr/>
            <p:nvPr/>
          </p:nvSpPr>
          <p:spPr>
            <a:xfrm>
              <a:off x="4465440" y="3185280"/>
              <a:ext cx="3294360" cy="566640"/>
            </a:xfrm>
            <a:prstGeom prst="wedgeEllipseCallout">
              <a:avLst>
                <a:gd name="adj1" fmla="val -42694"/>
                <a:gd name="adj2" fmla="val 66250"/>
              </a:avLst>
            </a:prstGeom>
            <a:noFill/>
            <a:ln w="12600">
              <a:solidFill>
                <a:srgbClr val="fe9b0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e9b03"/>
                  </a:solidFill>
                  <a:latin typeface="Arial"/>
                </a:rPr>
                <a:t>Location resolution</a:t>
              </a:r>
              <a:endParaRPr b="0" lang="en-US" sz="2000" spc="-1" strike="noStrike">
                <a:solidFill>
                  <a:srgbClr val="000000"/>
                </a:solidFill>
                <a:latin typeface="Times New Roman"/>
              </a:endParaRPr>
            </a:p>
          </p:txBody>
        </p:sp>
        <p:sp>
          <p:nvSpPr>
            <p:cNvPr id="106" name=""/>
            <p:cNvSpPr/>
            <p:nvPr/>
          </p:nvSpPr>
          <p:spPr>
            <a:xfrm>
              <a:off x="4563720" y="1583640"/>
              <a:ext cx="1763280" cy="566640"/>
            </a:xfrm>
            <a:prstGeom prst="wedgeEllipseCallout">
              <a:avLst>
                <a:gd name="adj1" fmla="val -42041"/>
                <a:gd name="adj2" fmla="val 66250"/>
              </a:avLst>
            </a:prstGeom>
            <a:noFill/>
            <a:ln w="12600">
              <a:solidFill>
                <a:srgbClr val="fe9b0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e9b03"/>
                  </a:solidFill>
                  <a:latin typeface="Arial"/>
                </a:rPr>
                <a:t>metadata</a:t>
              </a:r>
              <a:endParaRPr b="0" lang="en-US" sz="2000" spc="-1" strike="noStrike">
                <a:solidFill>
                  <a:srgbClr val="000000"/>
                </a:solidFill>
                <a:latin typeface="Times New Roman"/>
              </a:endParaRPr>
            </a:p>
          </p:txBody>
        </p:sp>
        <p:sp>
          <p:nvSpPr>
            <p:cNvPr id="107" name=""/>
            <p:cNvSpPr/>
            <p:nvPr/>
          </p:nvSpPr>
          <p:spPr>
            <a:xfrm>
              <a:off x="1337400" y="4099680"/>
              <a:ext cx="1445040" cy="566640"/>
            </a:xfrm>
            <a:prstGeom prst="wedgeEllipseCallout">
              <a:avLst>
                <a:gd name="adj1" fmla="val 51143"/>
                <a:gd name="adj2" fmla="val 68601"/>
              </a:avLst>
            </a:prstGeom>
            <a:noFill/>
            <a:ln w="1260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cquire</a:t>
              </a:r>
              <a:endParaRPr b="0" lang="en-US" sz="2000" spc="-1" strike="noStrike">
                <a:solidFill>
                  <a:srgbClr val="000000"/>
                </a:solidFill>
                <a:latin typeface="Times New Roman"/>
              </a:endParaRPr>
            </a:p>
          </p:txBody>
        </p:sp>
        <p:sp>
          <p:nvSpPr>
            <p:cNvPr id="108" name=""/>
            <p:cNvSpPr/>
            <p:nvPr/>
          </p:nvSpPr>
          <p:spPr>
            <a:xfrm>
              <a:off x="1153080" y="1509120"/>
              <a:ext cx="1345320" cy="566640"/>
            </a:xfrm>
            <a:prstGeom prst="wedgeEllipseCallout">
              <a:avLst>
                <a:gd name="adj1" fmla="val 102379"/>
                <a:gd name="adj2" fmla="val 63203"/>
              </a:avLst>
            </a:prstGeom>
            <a:noFill/>
            <a:ln w="1260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earch</a:t>
              </a:r>
              <a:endParaRPr b="0" lang="en-US" sz="2000" spc="-1" strike="noStrike">
                <a:solidFill>
                  <a:srgbClr val="000000"/>
                </a:solidFill>
                <a:latin typeface="Times New Roman"/>
              </a:endParaRPr>
            </a:p>
          </p:txBody>
        </p:sp>
        <p:sp>
          <p:nvSpPr>
            <p:cNvPr id="109" name=""/>
            <p:cNvSpPr/>
            <p:nvPr/>
          </p:nvSpPr>
          <p:spPr>
            <a:xfrm>
              <a:off x="569160" y="2347200"/>
              <a:ext cx="1202400" cy="566640"/>
            </a:xfrm>
            <a:prstGeom prst="wedgeEllipseCallout">
              <a:avLst>
                <a:gd name="adj1" fmla="val 108092"/>
                <a:gd name="adj2" fmla="val 39203"/>
              </a:avLst>
            </a:prstGeom>
            <a:noFill/>
            <a:ln w="1260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elec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Why do we need Content Referencing?</a:t>
            </a:r>
            <a:endParaRPr b="1" lang="en-US" sz="3000" spc="-1" strike="noStrike">
              <a:solidFill>
                <a:srgbClr val="ffff00"/>
              </a:solidFill>
              <a:latin typeface="Arial"/>
            </a:endParaRPr>
          </a:p>
        </p:txBody>
      </p:sp>
      <p:sp>
        <p:nvSpPr>
          <p:cNvPr id="111" name="PlaceHolder 2"/>
          <p:cNvSpPr>
            <a:spLocks noGrp="1"/>
          </p:cNvSpPr>
          <p:nvPr>
            <p:ph/>
          </p:nvPr>
        </p:nvSpPr>
        <p:spPr>
          <a:xfrm>
            <a:off x="761760" y="1294920"/>
            <a:ext cx="7848360" cy="4419720"/>
          </a:xfrm>
          <a:prstGeom prst="rect">
            <a:avLst/>
          </a:prstGeom>
          <a:noFill/>
          <a:ln w="0">
            <a:noFill/>
          </a:ln>
        </p:spPr>
        <p:txBody>
          <a:bodyPr lIns="0" rIns="0" tIns="0" bIns="0" anchor="t">
            <a:normAutofit/>
          </a:bodyPr>
          <a:p>
            <a:pPr marL="341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 disconnect a piece of content from</a:t>
            </a:r>
            <a:endParaRPr b="0" lang="en-US" sz="2800" spc="-1" strike="noStrike">
              <a:solidFill>
                <a:srgbClr val="ffffff"/>
              </a:solidFill>
              <a:latin typeface="Arial"/>
            </a:endParaRPr>
          </a:p>
          <a:p>
            <a:pPr marL="341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ts location in time and space</a:t>
            </a:r>
            <a:endParaRPr b="0" lang="en-US" sz="2800" spc="-1" strike="noStrike">
              <a:solidFill>
                <a:srgbClr val="ffffff"/>
              </a:solidFill>
              <a:latin typeface="Arial"/>
            </a:endParaRPr>
          </a:p>
          <a:p>
            <a:pPr marL="341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1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y do we want this disconnection?</a:t>
            </a:r>
            <a:endParaRPr b="0" lang="en-US" sz="2400" spc="-1" strike="noStrike">
              <a:solidFill>
                <a:srgbClr val="ffffff"/>
              </a:solidFill>
              <a:latin typeface="Arial"/>
            </a:endParaRPr>
          </a:p>
          <a:p>
            <a:pPr marL="341280" indent="-341280">
              <a:spcBef>
                <a:spcPts val="499"/>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ame metadata can be used for content regardless of where and when it is broadcast </a:t>
            </a:r>
            <a:endParaRPr b="0" lang="en-US" sz="2000" spc="-1" strike="noStrike">
              <a:solidFill>
                <a:srgbClr val="ffffff"/>
              </a:solidFill>
              <a:latin typeface="Arial"/>
            </a:endParaRPr>
          </a:p>
          <a:p>
            <a:pPr marL="341280" indent="-341280">
              <a:spcBef>
                <a:spcPts val="499"/>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reference groups of programmes such as an entire series </a:t>
            </a:r>
            <a:endParaRPr b="0" lang="en-US" sz="2000" spc="-1" strike="noStrike">
              <a:solidFill>
                <a:srgbClr val="ffffff"/>
              </a:solidFill>
              <a:latin typeface="Arial"/>
            </a:endParaRPr>
          </a:p>
          <a:p>
            <a:pPr marL="341280" indent="-341280">
              <a:spcBef>
                <a:spcPts val="499"/>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ferences can be given before time &amp; channel has been decided</a:t>
            </a:r>
            <a:endParaRPr b="0" lang="en-US" sz="2000" spc="-1" strike="noStrike">
              <a:solidFill>
                <a:srgbClr val="ffffff"/>
              </a:solidFill>
              <a:latin typeface="Arial"/>
            </a:endParaRPr>
          </a:p>
          <a:p>
            <a:pPr marL="341280" indent="-341280">
              <a:spcBef>
                <a:spcPts val="499"/>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ferences work even if there is a change to the scheduled transmission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Content Referencing Requirements</a:t>
            </a:r>
            <a:endParaRPr b="1" lang="en-US" sz="3000" spc="-1" strike="noStrike">
              <a:solidFill>
                <a:srgbClr val="ffff00"/>
              </a:solidFill>
              <a:latin typeface="Arial"/>
            </a:endParaRPr>
          </a:p>
        </p:txBody>
      </p:sp>
      <p:sp>
        <p:nvSpPr>
          <p:cNvPr id="113" name="PlaceHolder 2"/>
          <p:cNvSpPr>
            <a:spLocks noGrp="1"/>
          </p:cNvSpPr>
          <p:nvPr>
            <p:ph/>
          </p:nvPr>
        </p:nvSpPr>
        <p:spPr>
          <a:xfrm>
            <a:off x="380880" y="1599840"/>
            <a:ext cx="8382240" cy="3886200"/>
          </a:xfrm>
          <a:prstGeom prst="rect">
            <a:avLst/>
          </a:prstGeom>
          <a:noFill/>
          <a:ln w="0">
            <a:noFill/>
          </a:ln>
        </p:spPr>
        <p:txBody>
          <a:bodyPr lIns="90360" rIns="90360" tIns="44280" bIns="44280" anchor="ctr">
            <a:normAutofit/>
          </a:bodyPr>
          <a:p>
            <a:pPr marL="341280" indent="-3412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ble to reference any form of delivery medium</a:t>
            </a:r>
            <a:endParaRPr b="0" lang="en-US" sz="2400" spc="-1" strike="noStrike">
              <a:solidFill>
                <a:srgbClr val="ffffff"/>
              </a:solidFill>
              <a:latin typeface="Arial"/>
            </a:endParaRPr>
          </a:p>
          <a:p>
            <a:pPr marL="341280" indent="-3412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ble to reference an exhaustive variety of content formats</a:t>
            </a:r>
            <a:endParaRPr b="0" lang="en-US" sz="2400" spc="-1" strike="noStrike">
              <a:solidFill>
                <a:srgbClr val="ffffff"/>
              </a:solidFill>
              <a:latin typeface="Arial"/>
            </a:endParaRPr>
          </a:p>
          <a:p>
            <a:pPr marL="341280" indent="-341280" algn="just">
              <a:spcBef>
                <a:spcPts val="601"/>
              </a:spcBef>
              <a:spcAft>
                <a:spcPts val="601"/>
              </a:spcAft>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ble to reference:</a:t>
            </a:r>
            <a:endParaRPr b="0" lang="en-US" sz="2400" spc="-1" strike="noStrike">
              <a:solidFill>
                <a:srgbClr val="ffffff"/>
              </a:solidFill>
              <a:latin typeface="Arial"/>
            </a:endParaRPr>
          </a:p>
          <a:p>
            <a:pPr lvl="1" marL="1081080" indent="-398520" algn="just">
              <a:spcBef>
                <a:spcPts val="550"/>
              </a:spcBef>
              <a:spcAft>
                <a:spcPts val="601"/>
              </a:spcAft>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complete content item</a:t>
            </a:r>
            <a:endParaRPr b="0" lang="en-US" sz="2200" spc="-1" strike="noStrike">
              <a:solidFill>
                <a:srgbClr val="ffffff"/>
              </a:solidFill>
              <a:latin typeface="Arial"/>
            </a:endParaRPr>
          </a:p>
          <a:p>
            <a:pPr lvl="1" marL="1081080" indent="-398520" algn="just">
              <a:spcBef>
                <a:spcPts val="550"/>
              </a:spcBef>
              <a:spcAft>
                <a:spcPts val="601"/>
              </a:spcAft>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set of complete content items</a:t>
            </a:r>
            <a:endParaRPr b="0" lang="en-US" sz="2200" spc="-1" strike="noStrike">
              <a:solidFill>
                <a:srgbClr val="ffffff"/>
              </a:solidFill>
              <a:latin typeface="Arial"/>
            </a:endParaRPr>
          </a:p>
          <a:p>
            <a:pPr marL="341280" indent="-341280" algn="just">
              <a:spcBef>
                <a:spcPts val="601"/>
              </a:spcBef>
              <a:spcAft>
                <a:spcPts val="601"/>
              </a:spcAft>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fficient by itself to allow resolution of the location</a:t>
            </a:r>
            <a:endParaRPr b="0" lang="en-US" sz="2400" spc="-1" strike="noStrike">
              <a:solidFill>
                <a:srgbClr val="ffffff"/>
              </a:solidFill>
              <a:latin typeface="Arial"/>
            </a:endParaRPr>
          </a:p>
          <a:p>
            <a:pPr marL="341280" indent="-341280" algn="just">
              <a:spcBef>
                <a:spcPts val="601"/>
              </a:spcBef>
              <a:spcAft>
                <a:spcPts val="601"/>
              </a:spcAft>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ependent of central registratio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2362320" y="2209680"/>
            <a:ext cx="3657600" cy="2286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32000" y="1752480"/>
            <a:ext cx="78876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CRID</a:t>
            </a:r>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The CRID</a:t>
            </a:r>
            <a:endParaRPr b="1" lang="en-US" sz="3000" spc="-1" strike="noStrike">
              <a:solidFill>
                <a:srgbClr val="ffff00"/>
              </a:solidFill>
              <a:latin typeface="Arial"/>
            </a:endParaRPr>
          </a:p>
        </p:txBody>
      </p:sp>
      <p:sp>
        <p:nvSpPr>
          <p:cNvPr id="117" name=""/>
          <p:cNvSpPr/>
          <p:nvPr/>
        </p:nvSpPr>
        <p:spPr>
          <a:xfrm>
            <a:off x="1990800" y="1827360"/>
            <a:ext cx="853920" cy="474480"/>
          </a:xfrm>
          <a:custGeom>
            <a:avLst/>
            <a:gdLst/>
            <a:ahLst/>
            <a:rect l="l" t="t" r="r" b="b"/>
            <a:pathLst>
              <a:path w="4300" h="2392">
                <a:moveTo>
                  <a:pt x="3315" y="2392"/>
                </a:moveTo>
                <a:lnTo>
                  <a:pt x="3353" y="2367"/>
                </a:lnTo>
                <a:lnTo>
                  <a:pt x="3389" y="2341"/>
                </a:lnTo>
                <a:lnTo>
                  <a:pt x="3424" y="2312"/>
                </a:lnTo>
                <a:lnTo>
                  <a:pt x="3457" y="2280"/>
                </a:lnTo>
                <a:lnTo>
                  <a:pt x="3487" y="2247"/>
                </a:lnTo>
                <a:lnTo>
                  <a:pt x="3519" y="2212"/>
                </a:lnTo>
                <a:lnTo>
                  <a:pt x="3548" y="2177"/>
                </a:lnTo>
                <a:lnTo>
                  <a:pt x="3579" y="2140"/>
                </a:lnTo>
                <a:lnTo>
                  <a:pt x="3609" y="2103"/>
                </a:lnTo>
                <a:lnTo>
                  <a:pt x="3640" y="2066"/>
                </a:lnTo>
                <a:lnTo>
                  <a:pt x="3671" y="2029"/>
                </a:lnTo>
                <a:lnTo>
                  <a:pt x="3704" y="1991"/>
                </a:lnTo>
                <a:lnTo>
                  <a:pt x="3739" y="1954"/>
                </a:lnTo>
                <a:lnTo>
                  <a:pt x="3776" y="1917"/>
                </a:lnTo>
                <a:lnTo>
                  <a:pt x="3814" y="1882"/>
                </a:lnTo>
                <a:lnTo>
                  <a:pt x="3856" y="1847"/>
                </a:lnTo>
                <a:lnTo>
                  <a:pt x="3886" y="1815"/>
                </a:lnTo>
                <a:lnTo>
                  <a:pt x="3914" y="1783"/>
                </a:lnTo>
                <a:lnTo>
                  <a:pt x="3941" y="1750"/>
                </a:lnTo>
                <a:lnTo>
                  <a:pt x="3965" y="1716"/>
                </a:lnTo>
                <a:lnTo>
                  <a:pt x="3987" y="1683"/>
                </a:lnTo>
                <a:lnTo>
                  <a:pt x="4010" y="1651"/>
                </a:lnTo>
                <a:lnTo>
                  <a:pt x="4031" y="1618"/>
                </a:lnTo>
                <a:lnTo>
                  <a:pt x="4052" y="1584"/>
                </a:lnTo>
                <a:lnTo>
                  <a:pt x="4072" y="1551"/>
                </a:lnTo>
                <a:lnTo>
                  <a:pt x="4093" y="1520"/>
                </a:lnTo>
                <a:lnTo>
                  <a:pt x="4115" y="1488"/>
                </a:lnTo>
                <a:lnTo>
                  <a:pt x="4137" y="1456"/>
                </a:lnTo>
                <a:lnTo>
                  <a:pt x="4160" y="1426"/>
                </a:lnTo>
                <a:lnTo>
                  <a:pt x="4185" y="1395"/>
                </a:lnTo>
                <a:lnTo>
                  <a:pt x="4211" y="1366"/>
                </a:lnTo>
                <a:lnTo>
                  <a:pt x="4239" y="1338"/>
                </a:lnTo>
                <a:lnTo>
                  <a:pt x="4250" y="1316"/>
                </a:lnTo>
                <a:lnTo>
                  <a:pt x="4262" y="1295"/>
                </a:lnTo>
                <a:lnTo>
                  <a:pt x="4274" y="1274"/>
                </a:lnTo>
                <a:lnTo>
                  <a:pt x="4286" y="1253"/>
                </a:lnTo>
                <a:lnTo>
                  <a:pt x="4295" y="1232"/>
                </a:lnTo>
                <a:lnTo>
                  <a:pt x="4300" y="1210"/>
                </a:lnTo>
                <a:lnTo>
                  <a:pt x="4299" y="1188"/>
                </a:lnTo>
                <a:lnTo>
                  <a:pt x="4293" y="1165"/>
                </a:lnTo>
                <a:lnTo>
                  <a:pt x="4259" y="1155"/>
                </a:lnTo>
                <a:lnTo>
                  <a:pt x="4225" y="1145"/>
                </a:lnTo>
                <a:lnTo>
                  <a:pt x="4191" y="1135"/>
                </a:lnTo>
                <a:lnTo>
                  <a:pt x="4156" y="1125"/>
                </a:lnTo>
                <a:lnTo>
                  <a:pt x="4123" y="1114"/>
                </a:lnTo>
                <a:lnTo>
                  <a:pt x="4088" y="1103"/>
                </a:lnTo>
                <a:lnTo>
                  <a:pt x="4054" y="1093"/>
                </a:lnTo>
                <a:lnTo>
                  <a:pt x="4019" y="1082"/>
                </a:lnTo>
                <a:lnTo>
                  <a:pt x="3984" y="1071"/>
                </a:lnTo>
                <a:lnTo>
                  <a:pt x="3949" y="1062"/>
                </a:lnTo>
                <a:lnTo>
                  <a:pt x="3914" y="1051"/>
                </a:lnTo>
                <a:lnTo>
                  <a:pt x="3880" y="1040"/>
                </a:lnTo>
                <a:lnTo>
                  <a:pt x="3845" y="1029"/>
                </a:lnTo>
                <a:lnTo>
                  <a:pt x="3810" y="1018"/>
                </a:lnTo>
                <a:lnTo>
                  <a:pt x="3775" y="1007"/>
                </a:lnTo>
                <a:lnTo>
                  <a:pt x="3740" y="995"/>
                </a:lnTo>
                <a:lnTo>
                  <a:pt x="3705" y="984"/>
                </a:lnTo>
                <a:lnTo>
                  <a:pt x="3670" y="972"/>
                </a:lnTo>
                <a:lnTo>
                  <a:pt x="3635" y="961"/>
                </a:lnTo>
                <a:lnTo>
                  <a:pt x="3600" y="949"/>
                </a:lnTo>
                <a:lnTo>
                  <a:pt x="3567" y="938"/>
                </a:lnTo>
                <a:lnTo>
                  <a:pt x="3532" y="926"/>
                </a:lnTo>
                <a:lnTo>
                  <a:pt x="3497" y="914"/>
                </a:lnTo>
                <a:lnTo>
                  <a:pt x="3462" y="902"/>
                </a:lnTo>
                <a:lnTo>
                  <a:pt x="3428" y="890"/>
                </a:lnTo>
                <a:lnTo>
                  <a:pt x="3393" y="877"/>
                </a:lnTo>
                <a:lnTo>
                  <a:pt x="3360" y="865"/>
                </a:lnTo>
                <a:lnTo>
                  <a:pt x="3326" y="852"/>
                </a:lnTo>
                <a:lnTo>
                  <a:pt x="3291" y="840"/>
                </a:lnTo>
                <a:lnTo>
                  <a:pt x="3257" y="827"/>
                </a:lnTo>
                <a:lnTo>
                  <a:pt x="3224" y="814"/>
                </a:lnTo>
                <a:lnTo>
                  <a:pt x="3191" y="801"/>
                </a:lnTo>
                <a:lnTo>
                  <a:pt x="3128" y="775"/>
                </a:lnTo>
                <a:lnTo>
                  <a:pt x="3067" y="749"/>
                </a:lnTo>
                <a:lnTo>
                  <a:pt x="3005" y="724"/>
                </a:lnTo>
                <a:lnTo>
                  <a:pt x="2943" y="697"/>
                </a:lnTo>
                <a:lnTo>
                  <a:pt x="2880" y="672"/>
                </a:lnTo>
                <a:lnTo>
                  <a:pt x="2818" y="646"/>
                </a:lnTo>
                <a:lnTo>
                  <a:pt x="2754" y="621"/>
                </a:lnTo>
                <a:lnTo>
                  <a:pt x="2692" y="595"/>
                </a:lnTo>
                <a:lnTo>
                  <a:pt x="2629" y="570"/>
                </a:lnTo>
                <a:lnTo>
                  <a:pt x="2566" y="544"/>
                </a:lnTo>
                <a:lnTo>
                  <a:pt x="2503" y="519"/>
                </a:lnTo>
                <a:lnTo>
                  <a:pt x="2439" y="493"/>
                </a:lnTo>
                <a:lnTo>
                  <a:pt x="2375" y="468"/>
                </a:lnTo>
                <a:lnTo>
                  <a:pt x="2312" y="443"/>
                </a:lnTo>
                <a:lnTo>
                  <a:pt x="2248" y="417"/>
                </a:lnTo>
                <a:lnTo>
                  <a:pt x="2184" y="392"/>
                </a:lnTo>
                <a:lnTo>
                  <a:pt x="2120" y="368"/>
                </a:lnTo>
                <a:lnTo>
                  <a:pt x="2056" y="343"/>
                </a:lnTo>
                <a:lnTo>
                  <a:pt x="1992" y="318"/>
                </a:lnTo>
                <a:lnTo>
                  <a:pt x="1928" y="293"/>
                </a:lnTo>
                <a:lnTo>
                  <a:pt x="1864" y="268"/>
                </a:lnTo>
                <a:lnTo>
                  <a:pt x="1799" y="244"/>
                </a:lnTo>
                <a:lnTo>
                  <a:pt x="1736" y="219"/>
                </a:lnTo>
                <a:lnTo>
                  <a:pt x="1672" y="195"/>
                </a:lnTo>
                <a:lnTo>
                  <a:pt x="1608" y="169"/>
                </a:lnTo>
                <a:lnTo>
                  <a:pt x="1543" y="146"/>
                </a:lnTo>
                <a:lnTo>
                  <a:pt x="1479" y="122"/>
                </a:lnTo>
                <a:lnTo>
                  <a:pt x="1416" y="96"/>
                </a:lnTo>
                <a:lnTo>
                  <a:pt x="1351" y="72"/>
                </a:lnTo>
                <a:lnTo>
                  <a:pt x="1287" y="48"/>
                </a:lnTo>
                <a:lnTo>
                  <a:pt x="1224" y="24"/>
                </a:lnTo>
                <a:lnTo>
                  <a:pt x="1160" y="0"/>
                </a:lnTo>
                <a:lnTo>
                  <a:pt x="1154" y="2"/>
                </a:lnTo>
                <a:lnTo>
                  <a:pt x="1148" y="4"/>
                </a:lnTo>
                <a:lnTo>
                  <a:pt x="1141" y="7"/>
                </a:lnTo>
                <a:lnTo>
                  <a:pt x="1136" y="12"/>
                </a:lnTo>
                <a:lnTo>
                  <a:pt x="1110" y="47"/>
                </a:lnTo>
                <a:lnTo>
                  <a:pt x="1085" y="82"/>
                </a:lnTo>
                <a:lnTo>
                  <a:pt x="1059" y="116"/>
                </a:lnTo>
                <a:lnTo>
                  <a:pt x="1033" y="151"/>
                </a:lnTo>
                <a:lnTo>
                  <a:pt x="1007" y="185"/>
                </a:lnTo>
                <a:lnTo>
                  <a:pt x="980" y="220"/>
                </a:lnTo>
                <a:lnTo>
                  <a:pt x="951" y="253"/>
                </a:lnTo>
                <a:lnTo>
                  <a:pt x="924" y="287"/>
                </a:lnTo>
                <a:lnTo>
                  <a:pt x="896" y="321"/>
                </a:lnTo>
                <a:lnTo>
                  <a:pt x="866" y="355"/>
                </a:lnTo>
                <a:lnTo>
                  <a:pt x="838" y="389"/>
                </a:lnTo>
                <a:lnTo>
                  <a:pt x="809" y="423"/>
                </a:lnTo>
                <a:lnTo>
                  <a:pt x="779" y="456"/>
                </a:lnTo>
                <a:lnTo>
                  <a:pt x="750" y="490"/>
                </a:lnTo>
                <a:lnTo>
                  <a:pt x="720" y="523"/>
                </a:lnTo>
                <a:lnTo>
                  <a:pt x="691" y="557"/>
                </a:lnTo>
                <a:lnTo>
                  <a:pt x="661" y="589"/>
                </a:lnTo>
                <a:lnTo>
                  <a:pt x="631" y="623"/>
                </a:lnTo>
                <a:lnTo>
                  <a:pt x="601" y="656"/>
                </a:lnTo>
                <a:lnTo>
                  <a:pt x="572" y="689"/>
                </a:lnTo>
                <a:lnTo>
                  <a:pt x="543" y="721"/>
                </a:lnTo>
                <a:lnTo>
                  <a:pt x="513" y="754"/>
                </a:lnTo>
                <a:lnTo>
                  <a:pt x="484" y="787"/>
                </a:lnTo>
                <a:lnTo>
                  <a:pt x="454" y="818"/>
                </a:lnTo>
                <a:lnTo>
                  <a:pt x="425" y="851"/>
                </a:lnTo>
                <a:lnTo>
                  <a:pt x="396" y="883"/>
                </a:lnTo>
                <a:lnTo>
                  <a:pt x="368" y="916"/>
                </a:lnTo>
                <a:lnTo>
                  <a:pt x="340" y="947"/>
                </a:lnTo>
                <a:lnTo>
                  <a:pt x="312" y="979"/>
                </a:lnTo>
                <a:lnTo>
                  <a:pt x="285" y="1010"/>
                </a:lnTo>
                <a:lnTo>
                  <a:pt x="258" y="1042"/>
                </a:lnTo>
                <a:lnTo>
                  <a:pt x="232" y="1074"/>
                </a:lnTo>
                <a:lnTo>
                  <a:pt x="218" y="1089"/>
                </a:lnTo>
                <a:lnTo>
                  <a:pt x="203" y="1103"/>
                </a:lnTo>
                <a:lnTo>
                  <a:pt x="189" y="1118"/>
                </a:lnTo>
                <a:lnTo>
                  <a:pt x="174" y="1131"/>
                </a:lnTo>
                <a:lnTo>
                  <a:pt x="160" y="1146"/>
                </a:lnTo>
                <a:lnTo>
                  <a:pt x="146" y="1160"/>
                </a:lnTo>
                <a:lnTo>
                  <a:pt x="130" y="1173"/>
                </a:lnTo>
                <a:lnTo>
                  <a:pt x="116" y="1187"/>
                </a:lnTo>
                <a:lnTo>
                  <a:pt x="102" y="1200"/>
                </a:lnTo>
                <a:lnTo>
                  <a:pt x="88" y="1214"/>
                </a:lnTo>
                <a:lnTo>
                  <a:pt x="74" y="1229"/>
                </a:lnTo>
                <a:lnTo>
                  <a:pt x="60" y="1242"/>
                </a:lnTo>
                <a:lnTo>
                  <a:pt x="46" y="1257"/>
                </a:lnTo>
                <a:lnTo>
                  <a:pt x="33" y="1271"/>
                </a:lnTo>
                <a:lnTo>
                  <a:pt x="20" y="1286"/>
                </a:lnTo>
                <a:lnTo>
                  <a:pt x="7" y="1302"/>
                </a:lnTo>
                <a:lnTo>
                  <a:pt x="5" y="1315"/>
                </a:lnTo>
                <a:lnTo>
                  <a:pt x="1" y="1331"/>
                </a:lnTo>
                <a:lnTo>
                  <a:pt x="0" y="1347"/>
                </a:lnTo>
                <a:lnTo>
                  <a:pt x="4" y="1364"/>
                </a:lnTo>
                <a:lnTo>
                  <a:pt x="268" y="1500"/>
                </a:lnTo>
                <a:lnTo>
                  <a:pt x="478" y="1549"/>
                </a:lnTo>
                <a:lnTo>
                  <a:pt x="483" y="1548"/>
                </a:lnTo>
                <a:lnTo>
                  <a:pt x="489" y="1546"/>
                </a:lnTo>
                <a:lnTo>
                  <a:pt x="497" y="1544"/>
                </a:lnTo>
                <a:lnTo>
                  <a:pt x="504" y="1540"/>
                </a:lnTo>
                <a:lnTo>
                  <a:pt x="523" y="1549"/>
                </a:lnTo>
                <a:lnTo>
                  <a:pt x="541" y="1558"/>
                </a:lnTo>
                <a:lnTo>
                  <a:pt x="561" y="1566"/>
                </a:lnTo>
                <a:lnTo>
                  <a:pt x="580" y="1574"/>
                </a:lnTo>
                <a:lnTo>
                  <a:pt x="599" y="1582"/>
                </a:lnTo>
                <a:lnTo>
                  <a:pt x="619" y="1591"/>
                </a:lnTo>
                <a:lnTo>
                  <a:pt x="640" y="1598"/>
                </a:lnTo>
                <a:lnTo>
                  <a:pt x="660" y="1606"/>
                </a:lnTo>
                <a:lnTo>
                  <a:pt x="681" y="1614"/>
                </a:lnTo>
                <a:lnTo>
                  <a:pt x="702" y="1622"/>
                </a:lnTo>
                <a:lnTo>
                  <a:pt x="723" y="1630"/>
                </a:lnTo>
                <a:lnTo>
                  <a:pt x="745" y="1638"/>
                </a:lnTo>
                <a:lnTo>
                  <a:pt x="768" y="1645"/>
                </a:lnTo>
                <a:lnTo>
                  <a:pt x="791" y="1653"/>
                </a:lnTo>
                <a:lnTo>
                  <a:pt x="814" y="1662"/>
                </a:lnTo>
                <a:lnTo>
                  <a:pt x="838" y="1669"/>
                </a:lnTo>
                <a:lnTo>
                  <a:pt x="901" y="1688"/>
                </a:lnTo>
                <a:lnTo>
                  <a:pt x="964" y="1706"/>
                </a:lnTo>
                <a:lnTo>
                  <a:pt x="1028" y="1725"/>
                </a:lnTo>
                <a:lnTo>
                  <a:pt x="1092" y="1743"/>
                </a:lnTo>
                <a:lnTo>
                  <a:pt x="1155" y="1762"/>
                </a:lnTo>
                <a:lnTo>
                  <a:pt x="1218" y="1780"/>
                </a:lnTo>
                <a:lnTo>
                  <a:pt x="1282" y="1800"/>
                </a:lnTo>
                <a:lnTo>
                  <a:pt x="1344" y="1819"/>
                </a:lnTo>
                <a:lnTo>
                  <a:pt x="1407" y="1838"/>
                </a:lnTo>
                <a:lnTo>
                  <a:pt x="1470" y="1857"/>
                </a:lnTo>
                <a:lnTo>
                  <a:pt x="1533" y="1876"/>
                </a:lnTo>
                <a:lnTo>
                  <a:pt x="1597" y="1895"/>
                </a:lnTo>
                <a:lnTo>
                  <a:pt x="1660" y="1915"/>
                </a:lnTo>
                <a:lnTo>
                  <a:pt x="1722" y="1933"/>
                </a:lnTo>
                <a:lnTo>
                  <a:pt x="1785" y="1953"/>
                </a:lnTo>
                <a:lnTo>
                  <a:pt x="1849" y="1971"/>
                </a:lnTo>
                <a:lnTo>
                  <a:pt x="1912" y="1991"/>
                </a:lnTo>
                <a:lnTo>
                  <a:pt x="1974" y="2009"/>
                </a:lnTo>
                <a:lnTo>
                  <a:pt x="2037" y="2028"/>
                </a:lnTo>
                <a:lnTo>
                  <a:pt x="2100" y="2047"/>
                </a:lnTo>
                <a:lnTo>
                  <a:pt x="2164" y="2065"/>
                </a:lnTo>
                <a:lnTo>
                  <a:pt x="2226" y="2084"/>
                </a:lnTo>
                <a:lnTo>
                  <a:pt x="2289" y="2102"/>
                </a:lnTo>
                <a:lnTo>
                  <a:pt x="2352" y="2120"/>
                </a:lnTo>
                <a:lnTo>
                  <a:pt x="2415" y="2138"/>
                </a:lnTo>
                <a:lnTo>
                  <a:pt x="2478" y="2156"/>
                </a:lnTo>
                <a:lnTo>
                  <a:pt x="2541" y="2173"/>
                </a:lnTo>
                <a:lnTo>
                  <a:pt x="2604" y="2189"/>
                </a:lnTo>
                <a:lnTo>
                  <a:pt x="2667" y="2207"/>
                </a:lnTo>
                <a:lnTo>
                  <a:pt x="2729" y="2223"/>
                </a:lnTo>
                <a:lnTo>
                  <a:pt x="2793" y="2240"/>
                </a:lnTo>
                <a:lnTo>
                  <a:pt x="2856" y="2256"/>
                </a:lnTo>
                <a:lnTo>
                  <a:pt x="2883" y="2262"/>
                </a:lnTo>
                <a:lnTo>
                  <a:pt x="2909" y="2268"/>
                </a:lnTo>
                <a:lnTo>
                  <a:pt x="2937" y="2274"/>
                </a:lnTo>
                <a:lnTo>
                  <a:pt x="2963" y="2281"/>
                </a:lnTo>
                <a:lnTo>
                  <a:pt x="2989" y="2288"/>
                </a:lnTo>
                <a:lnTo>
                  <a:pt x="3015" y="2294"/>
                </a:lnTo>
                <a:lnTo>
                  <a:pt x="3041" y="2302"/>
                </a:lnTo>
                <a:lnTo>
                  <a:pt x="3066" y="2308"/>
                </a:lnTo>
                <a:lnTo>
                  <a:pt x="3092" y="2316"/>
                </a:lnTo>
                <a:lnTo>
                  <a:pt x="3119" y="2324"/>
                </a:lnTo>
                <a:lnTo>
                  <a:pt x="3145" y="2332"/>
                </a:lnTo>
                <a:lnTo>
                  <a:pt x="3171" y="2341"/>
                </a:lnTo>
                <a:lnTo>
                  <a:pt x="3197" y="2350"/>
                </a:lnTo>
                <a:lnTo>
                  <a:pt x="3223" y="2358"/>
                </a:lnTo>
                <a:lnTo>
                  <a:pt x="3249" y="2368"/>
                </a:lnTo>
                <a:lnTo>
                  <a:pt x="3277" y="2379"/>
                </a:lnTo>
                <a:lnTo>
                  <a:pt x="3282" y="2380"/>
                </a:lnTo>
                <a:lnTo>
                  <a:pt x="3288" y="2382"/>
                </a:lnTo>
                <a:lnTo>
                  <a:pt x="3291" y="2385"/>
                </a:lnTo>
                <a:lnTo>
                  <a:pt x="3295" y="2387"/>
                </a:lnTo>
                <a:lnTo>
                  <a:pt x="3300" y="2389"/>
                </a:lnTo>
                <a:lnTo>
                  <a:pt x="3304" y="2391"/>
                </a:lnTo>
                <a:lnTo>
                  <a:pt x="3309" y="2392"/>
                </a:lnTo>
                <a:lnTo>
                  <a:pt x="3315" y="2392"/>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33400" y="1716120"/>
            <a:ext cx="312840" cy="349200"/>
          </a:xfrm>
          <a:custGeom>
            <a:avLst/>
            <a:gdLst/>
            <a:ahLst/>
            <a:rect l="l" t="t" r="r" b="b"/>
            <a:pathLst>
              <a:path w="1581" h="1758">
                <a:moveTo>
                  <a:pt x="887" y="1758"/>
                </a:moveTo>
                <a:lnTo>
                  <a:pt x="931" y="1712"/>
                </a:lnTo>
                <a:lnTo>
                  <a:pt x="974" y="1666"/>
                </a:lnTo>
                <a:lnTo>
                  <a:pt x="1016" y="1616"/>
                </a:lnTo>
                <a:lnTo>
                  <a:pt x="1060" y="1566"/>
                </a:lnTo>
                <a:lnTo>
                  <a:pt x="1102" y="1515"/>
                </a:lnTo>
                <a:lnTo>
                  <a:pt x="1145" y="1464"/>
                </a:lnTo>
                <a:lnTo>
                  <a:pt x="1187" y="1410"/>
                </a:lnTo>
                <a:lnTo>
                  <a:pt x="1230" y="1357"/>
                </a:lnTo>
                <a:lnTo>
                  <a:pt x="1273" y="1303"/>
                </a:lnTo>
                <a:lnTo>
                  <a:pt x="1316" y="1249"/>
                </a:lnTo>
                <a:lnTo>
                  <a:pt x="1359" y="1195"/>
                </a:lnTo>
                <a:lnTo>
                  <a:pt x="1403" y="1141"/>
                </a:lnTo>
                <a:lnTo>
                  <a:pt x="1447" y="1088"/>
                </a:lnTo>
                <a:lnTo>
                  <a:pt x="1491" y="1034"/>
                </a:lnTo>
                <a:lnTo>
                  <a:pt x="1536" y="981"/>
                </a:lnTo>
                <a:lnTo>
                  <a:pt x="1581" y="928"/>
                </a:lnTo>
                <a:lnTo>
                  <a:pt x="1580" y="924"/>
                </a:lnTo>
                <a:lnTo>
                  <a:pt x="1579" y="917"/>
                </a:lnTo>
                <a:lnTo>
                  <a:pt x="1576" y="911"/>
                </a:lnTo>
                <a:lnTo>
                  <a:pt x="1573" y="904"/>
                </a:lnTo>
                <a:lnTo>
                  <a:pt x="1570" y="900"/>
                </a:lnTo>
                <a:lnTo>
                  <a:pt x="1567" y="897"/>
                </a:lnTo>
                <a:lnTo>
                  <a:pt x="1562" y="892"/>
                </a:lnTo>
                <a:lnTo>
                  <a:pt x="1557" y="887"/>
                </a:lnTo>
                <a:lnTo>
                  <a:pt x="1531" y="884"/>
                </a:lnTo>
                <a:lnTo>
                  <a:pt x="1503" y="881"/>
                </a:lnTo>
                <a:lnTo>
                  <a:pt x="1477" y="880"/>
                </a:lnTo>
                <a:lnTo>
                  <a:pt x="1450" y="878"/>
                </a:lnTo>
                <a:lnTo>
                  <a:pt x="1423" y="877"/>
                </a:lnTo>
                <a:lnTo>
                  <a:pt x="1395" y="877"/>
                </a:lnTo>
                <a:lnTo>
                  <a:pt x="1368" y="876"/>
                </a:lnTo>
                <a:lnTo>
                  <a:pt x="1341" y="875"/>
                </a:lnTo>
                <a:lnTo>
                  <a:pt x="1314" y="875"/>
                </a:lnTo>
                <a:lnTo>
                  <a:pt x="1286" y="874"/>
                </a:lnTo>
                <a:lnTo>
                  <a:pt x="1259" y="873"/>
                </a:lnTo>
                <a:lnTo>
                  <a:pt x="1232" y="872"/>
                </a:lnTo>
                <a:lnTo>
                  <a:pt x="1205" y="870"/>
                </a:lnTo>
                <a:lnTo>
                  <a:pt x="1177" y="868"/>
                </a:lnTo>
                <a:lnTo>
                  <a:pt x="1151" y="866"/>
                </a:lnTo>
                <a:lnTo>
                  <a:pt x="1125" y="863"/>
                </a:lnTo>
                <a:lnTo>
                  <a:pt x="1099" y="860"/>
                </a:lnTo>
                <a:lnTo>
                  <a:pt x="1073" y="855"/>
                </a:lnTo>
                <a:lnTo>
                  <a:pt x="1048" y="851"/>
                </a:lnTo>
                <a:lnTo>
                  <a:pt x="1023" y="844"/>
                </a:lnTo>
                <a:lnTo>
                  <a:pt x="998" y="838"/>
                </a:lnTo>
                <a:lnTo>
                  <a:pt x="974" y="830"/>
                </a:lnTo>
                <a:lnTo>
                  <a:pt x="950" y="821"/>
                </a:lnTo>
                <a:lnTo>
                  <a:pt x="927" y="812"/>
                </a:lnTo>
                <a:lnTo>
                  <a:pt x="904" y="801"/>
                </a:lnTo>
                <a:lnTo>
                  <a:pt x="882" y="788"/>
                </a:lnTo>
                <a:lnTo>
                  <a:pt x="860" y="773"/>
                </a:lnTo>
                <a:lnTo>
                  <a:pt x="839" y="758"/>
                </a:lnTo>
                <a:lnTo>
                  <a:pt x="819" y="742"/>
                </a:lnTo>
                <a:lnTo>
                  <a:pt x="800" y="723"/>
                </a:lnTo>
                <a:lnTo>
                  <a:pt x="781" y="703"/>
                </a:lnTo>
                <a:lnTo>
                  <a:pt x="763" y="681"/>
                </a:lnTo>
                <a:lnTo>
                  <a:pt x="741" y="658"/>
                </a:lnTo>
                <a:lnTo>
                  <a:pt x="720" y="635"/>
                </a:lnTo>
                <a:lnTo>
                  <a:pt x="698" y="612"/>
                </a:lnTo>
                <a:lnTo>
                  <a:pt x="675" y="590"/>
                </a:lnTo>
                <a:lnTo>
                  <a:pt x="653" y="567"/>
                </a:lnTo>
                <a:lnTo>
                  <a:pt x="630" y="545"/>
                </a:lnTo>
                <a:lnTo>
                  <a:pt x="606" y="524"/>
                </a:lnTo>
                <a:lnTo>
                  <a:pt x="583" y="502"/>
                </a:lnTo>
                <a:lnTo>
                  <a:pt x="559" y="480"/>
                </a:lnTo>
                <a:lnTo>
                  <a:pt x="536" y="459"/>
                </a:lnTo>
                <a:lnTo>
                  <a:pt x="512" y="437"/>
                </a:lnTo>
                <a:lnTo>
                  <a:pt x="488" y="417"/>
                </a:lnTo>
                <a:lnTo>
                  <a:pt x="464" y="396"/>
                </a:lnTo>
                <a:lnTo>
                  <a:pt x="440" y="374"/>
                </a:lnTo>
                <a:lnTo>
                  <a:pt x="416" y="353"/>
                </a:lnTo>
                <a:lnTo>
                  <a:pt x="392" y="333"/>
                </a:lnTo>
                <a:lnTo>
                  <a:pt x="369" y="312"/>
                </a:lnTo>
                <a:lnTo>
                  <a:pt x="345" y="291"/>
                </a:lnTo>
                <a:lnTo>
                  <a:pt x="321" y="271"/>
                </a:lnTo>
                <a:lnTo>
                  <a:pt x="298" y="250"/>
                </a:lnTo>
                <a:lnTo>
                  <a:pt x="274" y="230"/>
                </a:lnTo>
                <a:lnTo>
                  <a:pt x="251" y="210"/>
                </a:lnTo>
                <a:lnTo>
                  <a:pt x="228" y="189"/>
                </a:lnTo>
                <a:lnTo>
                  <a:pt x="205" y="168"/>
                </a:lnTo>
                <a:lnTo>
                  <a:pt x="182" y="147"/>
                </a:lnTo>
                <a:lnTo>
                  <a:pt x="160" y="127"/>
                </a:lnTo>
                <a:lnTo>
                  <a:pt x="137" y="106"/>
                </a:lnTo>
                <a:lnTo>
                  <a:pt x="117" y="85"/>
                </a:lnTo>
                <a:lnTo>
                  <a:pt x="95" y="63"/>
                </a:lnTo>
                <a:lnTo>
                  <a:pt x="74" y="43"/>
                </a:lnTo>
                <a:lnTo>
                  <a:pt x="53" y="22"/>
                </a:lnTo>
                <a:lnTo>
                  <a:pt x="34" y="0"/>
                </a:lnTo>
                <a:lnTo>
                  <a:pt x="23" y="2"/>
                </a:lnTo>
                <a:lnTo>
                  <a:pt x="16" y="7"/>
                </a:lnTo>
                <a:lnTo>
                  <a:pt x="13" y="13"/>
                </a:lnTo>
                <a:lnTo>
                  <a:pt x="11" y="22"/>
                </a:lnTo>
                <a:lnTo>
                  <a:pt x="9" y="32"/>
                </a:lnTo>
                <a:lnTo>
                  <a:pt x="8" y="42"/>
                </a:lnTo>
                <a:lnTo>
                  <a:pt x="4" y="52"/>
                </a:lnTo>
                <a:lnTo>
                  <a:pt x="0" y="62"/>
                </a:lnTo>
                <a:lnTo>
                  <a:pt x="16" y="111"/>
                </a:lnTo>
                <a:lnTo>
                  <a:pt x="19" y="117"/>
                </a:lnTo>
                <a:lnTo>
                  <a:pt x="22" y="122"/>
                </a:lnTo>
                <a:lnTo>
                  <a:pt x="27" y="128"/>
                </a:lnTo>
                <a:lnTo>
                  <a:pt x="33" y="132"/>
                </a:lnTo>
                <a:lnTo>
                  <a:pt x="38" y="136"/>
                </a:lnTo>
                <a:lnTo>
                  <a:pt x="45" y="141"/>
                </a:lnTo>
                <a:lnTo>
                  <a:pt x="51" y="145"/>
                </a:lnTo>
                <a:lnTo>
                  <a:pt x="58" y="150"/>
                </a:lnTo>
                <a:lnTo>
                  <a:pt x="99" y="228"/>
                </a:lnTo>
                <a:lnTo>
                  <a:pt x="140" y="307"/>
                </a:lnTo>
                <a:lnTo>
                  <a:pt x="180" y="387"/>
                </a:lnTo>
                <a:lnTo>
                  <a:pt x="220" y="468"/>
                </a:lnTo>
                <a:lnTo>
                  <a:pt x="259" y="549"/>
                </a:lnTo>
                <a:lnTo>
                  <a:pt x="300" y="631"/>
                </a:lnTo>
                <a:lnTo>
                  <a:pt x="339" y="712"/>
                </a:lnTo>
                <a:lnTo>
                  <a:pt x="378" y="795"/>
                </a:lnTo>
                <a:lnTo>
                  <a:pt x="416" y="878"/>
                </a:lnTo>
                <a:lnTo>
                  <a:pt x="456" y="960"/>
                </a:lnTo>
                <a:lnTo>
                  <a:pt x="496" y="1043"/>
                </a:lnTo>
                <a:lnTo>
                  <a:pt x="535" y="1125"/>
                </a:lnTo>
                <a:lnTo>
                  <a:pt x="576" y="1206"/>
                </a:lnTo>
                <a:lnTo>
                  <a:pt x="616" y="1288"/>
                </a:lnTo>
                <a:lnTo>
                  <a:pt x="656" y="1369"/>
                </a:lnTo>
                <a:lnTo>
                  <a:pt x="698" y="1450"/>
                </a:lnTo>
                <a:lnTo>
                  <a:pt x="704" y="1494"/>
                </a:lnTo>
                <a:lnTo>
                  <a:pt x="713" y="1538"/>
                </a:lnTo>
                <a:lnTo>
                  <a:pt x="726" y="1579"/>
                </a:lnTo>
                <a:lnTo>
                  <a:pt x="744" y="1618"/>
                </a:lnTo>
                <a:lnTo>
                  <a:pt x="764" y="1654"/>
                </a:lnTo>
                <a:lnTo>
                  <a:pt x="788" y="1686"/>
                </a:lnTo>
                <a:lnTo>
                  <a:pt x="818" y="1717"/>
                </a:lnTo>
                <a:lnTo>
                  <a:pt x="851" y="1743"/>
                </a:lnTo>
                <a:lnTo>
                  <a:pt x="857" y="1746"/>
                </a:lnTo>
                <a:lnTo>
                  <a:pt x="861" y="1748"/>
                </a:lnTo>
                <a:lnTo>
                  <a:pt x="866" y="1752"/>
                </a:lnTo>
                <a:lnTo>
                  <a:pt x="870" y="1754"/>
                </a:lnTo>
                <a:lnTo>
                  <a:pt x="873" y="1755"/>
                </a:lnTo>
                <a:lnTo>
                  <a:pt x="878" y="1757"/>
                </a:lnTo>
                <a:lnTo>
                  <a:pt x="882" y="1758"/>
                </a:lnTo>
                <a:lnTo>
                  <a:pt x="887" y="1758"/>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3880" y="1217520"/>
            <a:ext cx="358920" cy="646200"/>
          </a:xfrm>
          <a:custGeom>
            <a:avLst/>
            <a:gdLst/>
            <a:ahLst/>
            <a:rect l="l" t="t" r="r" b="b"/>
            <a:pathLst>
              <a:path w="1807" h="3259">
                <a:moveTo>
                  <a:pt x="1448" y="3259"/>
                </a:moveTo>
                <a:lnTo>
                  <a:pt x="1450" y="3259"/>
                </a:lnTo>
                <a:lnTo>
                  <a:pt x="1455" y="3259"/>
                </a:lnTo>
                <a:lnTo>
                  <a:pt x="1458" y="3259"/>
                </a:lnTo>
                <a:lnTo>
                  <a:pt x="1460" y="3259"/>
                </a:lnTo>
                <a:lnTo>
                  <a:pt x="1483" y="3241"/>
                </a:lnTo>
                <a:lnTo>
                  <a:pt x="1505" y="3223"/>
                </a:lnTo>
                <a:lnTo>
                  <a:pt x="1527" y="3202"/>
                </a:lnTo>
                <a:lnTo>
                  <a:pt x="1547" y="3180"/>
                </a:lnTo>
                <a:lnTo>
                  <a:pt x="1568" y="3157"/>
                </a:lnTo>
                <a:lnTo>
                  <a:pt x="1589" y="3135"/>
                </a:lnTo>
                <a:lnTo>
                  <a:pt x="1608" y="3111"/>
                </a:lnTo>
                <a:lnTo>
                  <a:pt x="1629" y="3087"/>
                </a:lnTo>
                <a:lnTo>
                  <a:pt x="1650" y="3063"/>
                </a:lnTo>
                <a:lnTo>
                  <a:pt x="1671" y="3040"/>
                </a:lnTo>
                <a:lnTo>
                  <a:pt x="1691" y="3017"/>
                </a:lnTo>
                <a:lnTo>
                  <a:pt x="1713" y="2995"/>
                </a:lnTo>
                <a:lnTo>
                  <a:pt x="1735" y="2975"/>
                </a:lnTo>
                <a:lnTo>
                  <a:pt x="1758" y="2956"/>
                </a:lnTo>
                <a:lnTo>
                  <a:pt x="1782" y="2939"/>
                </a:lnTo>
                <a:lnTo>
                  <a:pt x="1807" y="2924"/>
                </a:lnTo>
                <a:lnTo>
                  <a:pt x="1796" y="2866"/>
                </a:lnTo>
                <a:lnTo>
                  <a:pt x="1782" y="2808"/>
                </a:lnTo>
                <a:lnTo>
                  <a:pt x="1764" y="2751"/>
                </a:lnTo>
                <a:lnTo>
                  <a:pt x="1744" y="2693"/>
                </a:lnTo>
                <a:lnTo>
                  <a:pt x="1721" y="2635"/>
                </a:lnTo>
                <a:lnTo>
                  <a:pt x="1697" y="2578"/>
                </a:lnTo>
                <a:lnTo>
                  <a:pt x="1671" y="2520"/>
                </a:lnTo>
                <a:lnTo>
                  <a:pt x="1643" y="2463"/>
                </a:lnTo>
                <a:lnTo>
                  <a:pt x="1616" y="2406"/>
                </a:lnTo>
                <a:lnTo>
                  <a:pt x="1588" y="2348"/>
                </a:lnTo>
                <a:lnTo>
                  <a:pt x="1559" y="2291"/>
                </a:lnTo>
                <a:lnTo>
                  <a:pt x="1531" y="2235"/>
                </a:lnTo>
                <a:lnTo>
                  <a:pt x="1504" y="2178"/>
                </a:lnTo>
                <a:lnTo>
                  <a:pt x="1478" y="2121"/>
                </a:lnTo>
                <a:lnTo>
                  <a:pt x="1454" y="2065"/>
                </a:lnTo>
                <a:lnTo>
                  <a:pt x="1431" y="2008"/>
                </a:lnTo>
                <a:lnTo>
                  <a:pt x="1398" y="1960"/>
                </a:lnTo>
                <a:lnTo>
                  <a:pt x="1366" y="1910"/>
                </a:lnTo>
                <a:lnTo>
                  <a:pt x="1336" y="1861"/>
                </a:lnTo>
                <a:lnTo>
                  <a:pt x="1308" y="1809"/>
                </a:lnTo>
                <a:lnTo>
                  <a:pt x="1279" y="1759"/>
                </a:lnTo>
                <a:lnTo>
                  <a:pt x="1252" y="1708"/>
                </a:lnTo>
                <a:lnTo>
                  <a:pt x="1226" y="1658"/>
                </a:lnTo>
                <a:lnTo>
                  <a:pt x="1199" y="1606"/>
                </a:lnTo>
                <a:lnTo>
                  <a:pt x="1172" y="1556"/>
                </a:lnTo>
                <a:lnTo>
                  <a:pt x="1146" y="1506"/>
                </a:lnTo>
                <a:lnTo>
                  <a:pt x="1119" y="1457"/>
                </a:lnTo>
                <a:lnTo>
                  <a:pt x="1092" y="1409"/>
                </a:lnTo>
                <a:lnTo>
                  <a:pt x="1064" y="1362"/>
                </a:lnTo>
                <a:lnTo>
                  <a:pt x="1035" y="1315"/>
                </a:lnTo>
                <a:lnTo>
                  <a:pt x="1005" y="1271"/>
                </a:lnTo>
                <a:lnTo>
                  <a:pt x="973" y="1227"/>
                </a:lnTo>
                <a:lnTo>
                  <a:pt x="931" y="1154"/>
                </a:lnTo>
                <a:lnTo>
                  <a:pt x="893" y="1079"/>
                </a:lnTo>
                <a:lnTo>
                  <a:pt x="857" y="1003"/>
                </a:lnTo>
                <a:lnTo>
                  <a:pt x="824" y="926"/>
                </a:lnTo>
                <a:lnTo>
                  <a:pt x="791" y="847"/>
                </a:lnTo>
                <a:lnTo>
                  <a:pt x="759" y="769"/>
                </a:lnTo>
                <a:lnTo>
                  <a:pt x="728" y="689"/>
                </a:lnTo>
                <a:lnTo>
                  <a:pt x="696" y="611"/>
                </a:lnTo>
                <a:lnTo>
                  <a:pt x="663" y="533"/>
                </a:lnTo>
                <a:lnTo>
                  <a:pt x="631" y="456"/>
                </a:lnTo>
                <a:lnTo>
                  <a:pt x="596" y="379"/>
                </a:lnTo>
                <a:lnTo>
                  <a:pt x="559" y="305"/>
                </a:lnTo>
                <a:lnTo>
                  <a:pt x="519" y="232"/>
                </a:lnTo>
                <a:lnTo>
                  <a:pt x="478" y="162"/>
                </a:lnTo>
                <a:lnTo>
                  <a:pt x="432" y="95"/>
                </a:lnTo>
                <a:lnTo>
                  <a:pt x="382" y="29"/>
                </a:lnTo>
                <a:lnTo>
                  <a:pt x="367" y="23"/>
                </a:lnTo>
                <a:lnTo>
                  <a:pt x="351" y="16"/>
                </a:lnTo>
                <a:lnTo>
                  <a:pt x="336" y="10"/>
                </a:lnTo>
                <a:lnTo>
                  <a:pt x="321" y="5"/>
                </a:lnTo>
                <a:lnTo>
                  <a:pt x="305" y="1"/>
                </a:lnTo>
                <a:lnTo>
                  <a:pt x="289" y="0"/>
                </a:lnTo>
                <a:lnTo>
                  <a:pt x="274" y="2"/>
                </a:lnTo>
                <a:lnTo>
                  <a:pt x="259" y="8"/>
                </a:lnTo>
                <a:lnTo>
                  <a:pt x="242" y="23"/>
                </a:lnTo>
                <a:lnTo>
                  <a:pt x="226" y="37"/>
                </a:lnTo>
                <a:lnTo>
                  <a:pt x="211" y="51"/>
                </a:lnTo>
                <a:lnTo>
                  <a:pt x="195" y="65"/>
                </a:lnTo>
                <a:lnTo>
                  <a:pt x="178" y="78"/>
                </a:lnTo>
                <a:lnTo>
                  <a:pt x="163" y="92"/>
                </a:lnTo>
                <a:lnTo>
                  <a:pt x="148" y="105"/>
                </a:lnTo>
                <a:lnTo>
                  <a:pt x="132" y="118"/>
                </a:lnTo>
                <a:lnTo>
                  <a:pt x="116" y="131"/>
                </a:lnTo>
                <a:lnTo>
                  <a:pt x="101" y="143"/>
                </a:lnTo>
                <a:lnTo>
                  <a:pt x="85" y="155"/>
                </a:lnTo>
                <a:lnTo>
                  <a:pt x="71" y="167"/>
                </a:lnTo>
                <a:lnTo>
                  <a:pt x="56" y="178"/>
                </a:lnTo>
                <a:lnTo>
                  <a:pt x="41" y="190"/>
                </a:lnTo>
                <a:lnTo>
                  <a:pt x="27" y="201"/>
                </a:lnTo>
                <a:lnTo>
                  <a:pt x="11" y="212"/>
                </a:lnTo>
                <a:lnTo>
                  <a:pt x="0" y="229"/>
                </a:lnTo>
                <a:lnTo>
                  <a:pt x="2" y="251"/>
                </a:lnTo>
                <a:lnTo>
                  <a:pt x="8" y="275"/>
                </a:lnTo>
                <a:lnTo>
                  <a:pt x="11" y="298"/>
                </a:lnTo>
                <a:lnTo>
                  <a:pt x="66" y="322"/>
                </a:lnTo>
                <a:lnTo>
                  <a:pt x="119" y="348"/>
                </a:lnTo>
                <a:lnTo>
                  <a:pt x="169" y="376"/>
                </a:lnTo>
                <a:lnTo>
                  <a:pt x="218" y="406"/>
                </a:lnTo>
                <a:lnTo>
                  <a:pt x="266" y="438"/>
                </a:lnTo>
                <a:lnTo>
                  <a:pt x="311" y="472"/>
                </a:lnTo>
                <a:lnTo>
                  <a:pt x="355" y="507"/>
                </a:lnTo>
                <a:lnTo>
                  <a:pt x="396" y="545"/>
                </a:lnTo>
                <a:lnTo>
                  <a:pt x="435" y="585"/>
                </a:lnTo>
                <a:lnTo>
                  <a:pt x="472" y="626"/>
                </a:lnTo>
                <a:lnTo>
                  <a:pt x="507" y="670"/>
                </a:lnTo>
                <a:lnTo>
                  <a:pt x="540" y="715"/>
                </a:lnTo>
                <a:lnTo>
                  <a:pt x="572" y="763"/>
                </a:lnTo>
                <a:lnTo>
                  <a:pt x="600" y="812"/>
                </a:lnTo>
                <a:lnTo>
                  <a:pt x="627" y="864"/>
                </a:lnTo>
                <a:lnTo>
                  <a:pt x="651" y="917"/>
                </a:lnTo>
                <a:lnTo>
                  <a:pt x="663" y="955"/>
                </a:lnTo>
                <a:lnTo>
                  <a:pt x="675" y="994"/>
                </a:lnTo>
                <a:lnTo>
                  <a:pt x="689" y="1031"/>
                </a:lnTo>
                <a:lnTo>
                  <a:pt x="704" y="1068"/>
                </a:lnTo>
                <a:lnTo>
                  <a:pt x="720" y="1104"/>
                </a:lnTo>
                <a:lnTo>
                  <a:pt x="736" y="1140"/>
                </a:lnTo>
                <a:lnTo>
                  <a:pt x="753" y="1176"/>
                </a:lnTo>
                <a:lnTo>
                  <a:pt x="770" y="1211"/>
                </a:lnTo>
                <a:lnTo>
                  <a:pt x="789" y="1245"/>
                </a:lnTo>
                <a:lnTo>
                  <a:pt x="806" y="1280"/>
                </a:lnTo>
                <a:lnTo>
                  <a:pt x="825" y="1315"/>
                </a:lnTo>
                <a:lnTo>
                  <a:pt x="843" y="1349"/>
                </a:lnTo>
                <a:lnTo>
                  <a:pt x="862" y="1384"/>
                </a:lnTo>
                <a:lnTo>
                  <a:pt x="880" y="1419"/>
                </a:lnTo>
                <a:lnTo>
                  <a:pt x="898" y="1453"/>
                </a:lnTo>
                <a:lnTo>
                  <a:pt x="915" y="1488"/>
                </a:lnTo>
                <a:lnTo>
                  <a:pt x="930" y="1511"/>
                </a:lnTo>
                <a:lnTo>
                  <a:pt x="946" y="1533"/>
                </a:lnTo>
                <a:lnTo>
                  <a:pt x="960" y="1557"/>
                </a:lnTo>
                <a:lnTo>
                  <a:pt x="973" y="1580"/>
                </a:lnTo>
                <a:lnTo>
                  <a:pt x="986" y="1603"/>
                </a:lnTo>
                <a:lnTo>
                  <a:pt x="998" y="1626"/>
                </a:lnTo>
                <a:lnTo>
                  <a:pt x="1010" y="1649"/>
                </a:lnTo>
                <a:lnTo>
                  <a:pt x="1022" y="1672"/>
                </a:lnTo>
                <a:lnTo>
                  <a:pt x="1033" y="1695"/>
                </a:lnTo>
                <a:lnTo>
                  <a:pt x="1045" y="1717"/>
                </a:lnTo>
                <a:lnTo>
                  <a:pt x="1057" y="1740"/>
                </a:lnTo>
                <a:lnTo>
                  <a:pt x="1069" y="1761"/>
                </a:lnTo>
                <a:lnTo>
                  <a:pt x="1081" y="1783"/>
                </a:lnTo>
                <a:lnTo>
                  <a:pt x="1094" y="1805"/>
                </a:lnTo>
                <a:lnTo>
                  <a:pt x="1108" y="1827"/>
                </a:lnTo>
                <a:lnTo>
                  <a:pt x="1122" y="1848"/>
                </a:lnTo>
                <a:lnTo>
                  <a:pt x="1140" y="1885"/>
                </a:lnTo>
                <a:lnTo>
                  <a:pt x="1158" y="1922"/>
                </a:lnTo>
                <a:lnTo>
                  <a:pt x="1178" y="1957"/>
                </a:lnTo>
                <a:lnTo>
                  <a:pt x="1196" y="1993"/>
                </a:lnTo>
                <a:lnTo>
                  <a:pt x="1216" y="2027"/>
                </a:lnTo>
                <a:lnTo>
                  <a:pt x="1236" y="2062"/>
                </a:lnTo>
                <a:lnTo>
                  <a:pt x="1255" y="2097"/>
                </a:lnTo>
                <a:lnTo>
                  <a:pt x="1275" y="2131"/>
                </a:lnTo>
                <a:lnTo>
                  <a:pt x="1293" y="2167"/>
                </a:lnTo>
                <a:lnTo>
                  <a:pt x="1312" y="2202"/>
                </a:lnTo>
                <a:lnTo>
                  <a:pt x="1330" y="2238"/>
                </a:lnTo>
                <a:lnTo>
                  <a:pt x="1348" y="2274"/>
                </a:lnTo>
                <a:lnTo>
                  <a:pt x="1364" y="2311"/>
                </a:lnTo>
                <a:lnTo>
                  <a:pt x="1380" y="2349"/>
                </a:lnTo>
                <a:lnTo>
                  <a:pt x="1394" y="2389"/>
                </a:lnTo>
                <a:lnTo>
                  <a:pt x="1407" y="2429"/>
                </a:lnTo>
                <a:lnTo>
                  <a:pt x="1421" y="2484"/>
                </a:lnTo>
                <a:lnTo>
                  <a:pt x="1442" y="2538"/>
                </a:lnTo>
                <a:lnTo>
                  <a:pt x="1467" y="2590"/>
                </a:lnTo>
                <a:lnTo>
                  <a:pt x="1493" y="2640"/>
                </a:lnTo>
                <a:lnTo>
                  <a:pt x="1514" y="2691"/>
                </a:lnTo>
                <a:lnTo>
                  <a:pt x="1529" y="2741"/>
                </a:lnTo>
                <a:lnTo>
                  <a:pt x="1533" y="2792"/>
                </a:lnTo>
                <a:lnTo>
                  <a:pt x="1522" y="2845"/>
                </a:lnTo>
                <a:lnTo>
                  <a:pt x="1509" y="2883"/>
                </a:lnTo>
                <a:lnTo>
                  <a:pt x="1498" y="2920"/>
                </a:lnTo>
                <a:lnTo>
                  <a:pt x="1489" y="2957"/>
                </a:lnTo>
                <a:lnTo>
                  <a:pt x="1479" y="2993"/>
                </a:lnTo>
                <a:lnTo>
                  <a:pt x="1471" y="3029"/>
                </a:lnTo>
                <a:lnTo>
                  <a:pt x="1463" y="3065"/>
                </a:lnTo>
                <a:lnTo>
                  <a:pt x="1456" y="3100"/>
                </a:lnTo>
                <a:lnTo>
                  <a:pt x="1448" y="3135"/>
                </a:lnTo>
                <a:lnTo>
                  <a:pt x="1398" y="3222"/>
                </a:lnTo>
                <a:lnTo>
                  <a:pt x="1400" y="3229"/>
                </a:lnTo>
                <a:lnTo>
                  <a:pt x="1405" y="3236"/>
                </a:lnTo>
                <a:lnTo>
                  <a:pt x="1409" y="3241"/>
                </a:lnTo>
                <a:lnTo>
                  <a:pt x="1415" y="3247"/>
                </a:lnTo>
                <a:lnTo>
                  <a:pt x="1422" y="3250"/>
                </a:lnTo>
                <a:lnTo>
                  <a:pt x="1431" y="3254"/>
                </a:lnTo>
                <a:lnTo>
                  <a:pt x="1439" y="3257"/>
                </a:lnTo>
                <a:lnTo>
                  <a:pt x="1448" y="3259"/>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5280" y="1235160"/>
            <a:ext cx="270000" cy="360360"/>
          </a:xfrm>
          <a:custGeom>
            <a:avLst/>
            <a:gdLst/>
            <a:ahLst/>
            <a:rect l="l" t="t" r="r" b="b"/>
            <a:pathLst>
              <a:path w="1357" h="1822">
                <a:moveTo>
                  <a:pt x="1301" y="1822"/>
                </a:moveTo>
                <a:lnTo>
                  <a:pt x="1305" y="1822"/>
                </a:lnTo>
                <a:lnTo>
                  <a:pt x="1309" y="1822"/>
                </a:lnTo>
                <a:lnTo>
                  <a:pt x="1314" y="1822"/>
                </a:lnTo>
                <a:lnTo>
                  <a:pt x="1317" y="1821"/>
                </a:lnTo>
                <a:lnTo>
                  <a:pt x="1321" y="1821"/>
                </a:lnTo>
                <a:lnTo>
                  <a:pt x="1326" y="1819"/>
                </a:lnTo>
                <a:lnTo>
                  <a:pt x="1331" y="1818"/>
                </a:lnTo>
                <a:lnTo>
                  <a:pt x="1337" y="1817"/>
                </a:lnTo>
                <a:lnTo>
                  <a:pt x="1343" y="1811"/>
                </a:lnTo>
                <a:lnTo>
                  <a:pt x="1349" y="1804"/>
                </a:lnTo>
                <a:lnTo>
                  <a:pt x="1353" y="1795"/>
                </a:lnTo>
                <a:lnTo>
                  <a:pt x="1357" y="1785"/>
                </a:lnTo>
                <a:lnTo>
                  <a:pt x="730" y="793"/>
                </a:lnTo>
                <a:lnTo>
                  <a:pt x="753" y="766"/>
                </a:lnTo>
                <a:lnTo>
                  <a:pt x="780" y="740"/>
                </a:lnTo>
                <a:lnTo>
                  <a:pt x="806" y="716"/>
                </a:lnTo>
                <a:lnTo>
                  <a:pt x="832" y="691"/>
                </a:lnTo>
                <a:lnTo>
                  <a:pt x="856" y="663"/>
                </a:lnTo>
                <a:lnTo>
                  <a:pt x="875" y="634"/>
                </a:lnTo>
                <a:lnTo>
                  <a:pt x="891" y="599"/>
                </a:lnTo>
                <a:lnTo>
                  <a:pt x="899" y="558"/>
                </a:lnTo>
                <a:lnTo>
                  <a:pt x="882" y="507"/>
                </a:lnTo>
                <a:lnTo>
                  <a:pt x="800" y="433"/>
                </a:lnTo>
                <a:lnTo>
                  <a:pt x="260" y="125"/>
                </a:lnTo>
                <a:lnTo>
                  <a:pt x="256" y="118"/>
                </a:lnTo>
                <a:lnTo>
                  <a:pt x="253" y="111"/>
                </a:lnTo>
                <a:lnTo>
                  <a:pt x="249" y="105"/>
                </a:lnTo>
                <a:lnTo>
                  <a:pt x="243" y="98"/>
                </a:lnTo>
                <a:lnTo>
                  <a:pt x="74" y="0"/>
                </a:lnTo>
                <a:lnTo>
                  <a:pt x="12" y="12"/>
                </a:lnTo>
                <a:lnTo>
                  <a:pt x="9" y="17"/>
                </a:lnTo>
                <a:lnTo>
                  <a:pt x="7" y="21"/>
                </a:lnTo>
                <a:lnTo>
                  <a:pt x="3" y="29"/>
                </a:lnTo>
                <a:lnTo>
                  <a:pt x="0" y="37"/>
                </a:lnTo>
                <a:lnTo>
                  <a:pt x="1" y="46"/>
                </a:lnTo>
                <a:lnTo>
                  <a:pt x="3" y="55"/>
                </a:lnTo>
                <a:lnTo>
                  <a:pt x="7" y="62"/>
                </a:lnTo>
                <a:lnTo>
                  <a:pt x="11" y="69"/>
                </a:lnTo>
                <a:lnTo>
                  <a:pt x="16" y="75"/>
                </a:lnTo>
                <a:lnTo>
                  <a:pt x="22" y="81"/>
                </a:lnTo>
                <a:lnTo>
                  <a:pt x="28" y="86"/>
                </a:lnTo>
                <a:lnTo>
                  <a:pt x="36" y="91"/>
                </a:lnTo>
                <a:lnTo>
                  <a:pt x="50" y="121"/>
                </a:lnTo>
                <a:lnTo>
                  <a:pt x="63" y="152"/>
                </a:lnTo>
                <a:lnTo>
                  <a:pt x="77" y="183"/>
                </a:lnTo>
                <a:lnTo>
                  <a:pt x="91" y="214"/>
                </a:lnTo>
                <a:lnTo>
                  <a:pt x="104" y="246"/>
                </a:lnTo>
                <a:lnTo>
                  <a:pt x="117" y="278"/>
                </a:lnTo>
                <a:lnTo>
                  <a:pt x="130" y="310"/>
                </a:lnTo>
                <a:lnTo>
                  <a:pt x="144" y="343"/>
                </a:lnTo>
                <a:lnTo>
                  <a:pt x="157" y="374"/>
                </a:lnTo>
                <a:lnTo>
                  <a:pt x="170" y="407"/>
                </a:lnTo>
                <a:lnTo>
                  <a:pt x="183" y="439"/>
                </a:lnTo>
                <a:lnTo>
                  <a:pt x="196" y="470"/>
                </a:lnTo>
                <a:lnTo>
                  <a:pt x="209" y="502"/>
                </a:lnTo>
                <a:lnTo>
                  <a:pt x="224" y="534"/>
                </a:lnTo>
                <a:lnTo>
                  <a:pt x="237" y="564"/>
                </a:lnTo>
                <a:lnTo>
                  <a:pt x="251" y="595"/>
                </a:lnTo>
                <a:lnTo>
                  <a:pt x="258" y="646"/>
                </a:lnTo>
                <a:lnTo>
                  <a:pt x="272" y="693"/>
                </a:lnTo>
                <a:lnTo>
                  <a:pt x="289" y="737"/>
                </a:lnTo>
                <a:lnTo>
                  <a:pt x="309" y="779"/>
                </a:lnTo>
                <a:lnTo>
                  <a:pt x="328" y="820"/>
                </a:lnTo>
                <a:lnTo>
                  <a:pt x="347" y="863"/>
                </a:lnTo>
                <a:lnTo>
                  <a:pt x="363" y="907"/>
                </a:lnTo>
                <a:lnTo>
                  <a:pt x="375" y="955"/>
                </a:lnTo>
                <a:lnTo>
                  <a:pt x="389" y="998"/>
                </a:lnTo>
                <a:lnTo>
                  <a:pt x="403" y="1040"/>
                </a:lnTo>
                <a:lnTo>
                  <a:pt x="420" y="1080"/>
                </a:lnTo>
                <a:lnTo>
                  <a:pt x="436" y="1120"/>
                </a:lnTo>
                <a:lnTo>
                  <a:pt x="454" y="1158"/>
                </a:lnTo>
                <a:lnTo>
                  <a:pt x="472" y="1197"/>
                </a:lnTo>
                <a:lnTo>
                  <a:pt x="491" y="1234"/>
                </a:lnTo>
                <a:lnTo>
                  <a:pt x="509" y="1271"/>
                </a:lnTo>
                <a:lnTo>
                  <a:pt x="529" y="1308"/>
                </a:lnTo>
                <a:lnTo>
                  <a:pt x="548" y="1345"/>
                </a:lnTo>
                <a:lnTo>
                  <a:pt x="568" y="1382"/>
                </a:lnTo>
                <a:lnTo>
                  <a:pt x="587" y="1419"/>
                </a:lnTo>
                <a:lnTo>
                  <a:pt x="606" y="1456"/>
                </a:lnTo>
                <a:lnTo>
                  <a:pt x="625" y="1495"/>
                </a:lnTo>
                <a:lnTo>
                  <a:pt x="642" y="1534"/>
                </a:lnTo>
                <a:lnTo>
                  <a:pt x="660" y="1574"/>
                </a:lnTo>
                <a:lnTo>
                  <a:pt x="663" y="1578"/>
                </a:lnTo>
                <a:lnTo>
                  <a:pt x="667" y="1582"/>
                </a:lnTo>
                <a:lnTo>
                  <a:pt x="673" y="1585"/>
                </a:lnTo>
                <a:lnTo>
                  <a:pt x="678" y="1587"/>
                </a:lnTo>
                <a:lnTo>
                  <a:pt x="685" y="1590"/>
                </a:lnTo>
                <a:lnTo>
                  <a:pt x="691" y="1593"/>
                </a:lnTo>
                <a:lnTo>
                  <a:pt x="698" y="1595"/>
                </a:lnTo>
                <a:lnTo>
                  <a:pt x="705" y="1598"/>
                </a:lnTo>
                <a:lnTo>
                  <a:pt x="738" y="1594"/>
                </a:lnTo>
                <a:lnTo>
                  <a:pt x="771" y="1593"/>
                </a:lnTo>
                <a:lnTo>
                  <a:pt x="802" y="1595"/>
                </a:lnTo>
                <a:lnTo>
                  <a:pt x="834" y="1600"/>
                </a:lnTo>
                <a:lnTo>
                  <a:pt x="866" y="1607"/>
                </a:lnTo>
                <a:lnTo>
                  <a:pt x="897" y="1617"/>
                </a:lnTo>
                <a:lnTo>
                  <a:pt x="928" y="1626"/>
                </a:lnTo>
                <a:lnTo>
                  <a:pt x="958" y="1639"/>
                </a:lnTo>
                <a:lnTo>
                  <a:pt x="989" y="1653"/>
                </a:lnTo>
                <a:lnTo>
                  <a:pt x="1018" y="1667"/>
                </a:lnTo>
                <a:lnTo>
                  <a:pt x="1048" y="1681"/>
                </a:lnTo>
                <a:lnTo>
                  <a:pt x="1077" y="1696"/>
                </a:lnTo>
                <a:lnTo>
                  <a:pt x="1105" y="1710"/>
                </a:lnTo>
                <a:lnTo>
                  <a:pt x="1134" y="1725"/>
                </a:lnTo>
                <a:lnTo>
                  <a:pt x="1161" y="1739"/>
                </a:lnTo>
                <a:lnTo>
                  <a:pt x="1188" y="1751"/>
                </a:lnTo>
                <a:lnTo>
                  <a:pt x="1204" y="1763"/>
                </a:lnTo>
                <a:lnTo>
                  <a:pt x="1219" y="1775"/>
                </a:lnTo>
                <a:lnTo>
                  <a:pt x="1233" y="1786"/>
                </a:lnTo>
                <a:lnTo>
                  <a:pt x="1246" y="1795"/>
                </a:lnTo>
                <a:lnTo>
                  <a:pt x="1259" y="1804"/>
                </a:lnTo>
                <a:lnTo>
                  <a:pt x="1273" y="1812"/>
                </a:lnTo>
                <a:lnTo>
                  <a:pt x="1286" y="1817"/>
                </a:lnTo>
                <a:lnTo>
                  <a:pt x="1301" y="1822"/>
                </a:lnTo>
                <a:close/>
              </a:path>
            </a:pathLst>
          </a:custGeom>
          <a:solidFill>
            <a:srgbClr val="ea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447920" y="1116000"/>
            <a:ext cx="1492200" cy="1241280"/>
          </a:xfrm>
          <a:custGeom>
            <a:avLst/>
            <a:gdLst/>
            <a:ahLst/>
            <a:rect l="l" t="t" r="r" b="b"/>
            <a:pathLst>
              <a:path w="7520" h="6252">
                <a:moveTo>
                  <a:pt x="4934" y="2698"/>
                </a:moveTo>
                <a:lnTo>
                  <a:pt x="5540" y="2969"/>
                </a:lnTo>
                <a:lnTo>
                  <a:pt x="5564" y="2968"/>
                </a:lnTo>
                <a:lnTo>
                  <a:pt x="5587" y="2969"/>
                </a:lnTo>
                <a:lnTo>
                  <a:pt x="5610" y="2974"/>
                </a:lnTo>
                <a:lnTo>
                  <a:pt x="5632" y="2980"/>
                </a:lnTo>
                <a:lnTo>
                  <a:pt x="5654" y="2988"/>
                </a:lnTo>
                <a:lnTo>
                  <a:pt x="5674" y="2998"/>
                </a:lnTo>
                <a:lnTo>
                  <a:pt x="5695" y="3010"/>
                </a:lnTo>
                <a:lnTo>
                  <a:pt x="5716" y="3022"/>
                </a:lnTo>
                <a:lnTo>
                  <a:pt x="5735" y="3036"/>
                </a:lnTo>
                <a:lnTo>
                  <a:pt x="5756" y="3049"/>
                </a:lnTo>
                <a:lnTo>
                  <a:pt x="5776" y="3063"/>
                </a:lnTo>
                <a:lnTo>
                  <a:pt x="5795" y="3077"/>
                </a:lnTo>
                <a:lnTo>
                  <a:pt x="5815" y="3090"/>
                </a:lnTo>
                <a:lnTo>
                  <a:pt x="5835" y="3104"/>
                </a:lnTo>
                <a:lnTo>
                  <a:pt x="5854" y="3116"/>
                </a:lnTo>
                <a:lnTo>
                  <a:pt x="5874" y="3126"/>
                </a:lnTo>
                <a:lnTo>
                  <a:pt x="5958" y="3099"/>
                </a:lnTo>
                <a:lnTo>
                  <a:pt x="5990" y="3016"/>
                </a:lnTo>
                <a:lnTo>
                  <a:pt x="5984" y="2952"/>
                </a:lnTo>
                <a:lnTo>
                  <a:pt x="5970" y="2926"/>
                </a:lnTo>
                <a:lnTo>
                  <a:pt x="5953" y="2900"/>
                </a:lnTo>
                <a:lnTo>
                  <a:pt x="5936" y="2875"/>
                </a:lnTo>
                <a:lnTo>
                  <a:pt x="5917" y="2849"/>
                </a:lnTo>
                <a:lnTo>
                  <a:pt x="5898" y="2824"/>
                </a:lnTo>
                <a:lnTo>
                  <a:pt x="5878" y="2800"/>
                </a:lnTo>
                <a:lnTo>
                  <a:pt x="5857" y="2775"/>
                </a:lnTo>
                <a:lnTo>
                  <a:pt x="5838" y="2750"/>
                </a:lnTo>
                <a:lnTo>
                  <a:pt x="5818" y="2726"/>
                </a:lnTo>
                <a:lnTo>
                  <a:pt x="5800" y="2701"/>
                </a:lnTo>
                <a:lnTo>
                  <a:pt x="5783" y="2676"/>
                </a:lnTo>
                <a:lnTo>
                  <a:pt x="5767" y="2651"/>
                </a:lnTo>
                <a:lnTo>
                  <a:pt x="5753" y="2625"/>
                </a:lnTo>
                <a:lnTo>
                  <a:pt x="5741" y="2597"/>
                </a:lnTo>
                <a:lnTo>
                  <a:pt x="5732" y="2571"/>
                </a:lnTo>
                <a:lnTo>
                  <a:pt x="5726" y="2543"/>
                </a:lnTo>
                <a:lnTo>
                  <a:pt x="5711" y="2523"/>
                </a:lnTo>
                <a:lnTo>
                  <a:pt x="5696" y="2504"/>
                </a:lnTo>
                <a:lnTo>
                  <a:pt x="5681" y="2484"/>
                </a:lnTo>
                <a:lnTo>
                  <a:pt x="5666" y="2466"/>
                </a:lnTo>
                <a:lnTo>
                  <a:pt x="5649" y="2447"/>
                </a:lnTo>
                <a:lnTo>
                  <a:pt x="5634" y="2428"/>
                </a:lnTo>
                <a:lnTo>
                  <a:pt x="5618" y="2410"/>
                </a:lnTo>
                <a:lnTo>
                  <a:pt x="5602" y="2391"/>
                </a:lnTo>
                <a:lnTo>
                  <a:pt x="5587" y="2374"/>
                </a:lnTo>
                <a:lnTo>
                  <a:pt x="5572" y="2355"/>
                </a:lnTo>
                <a:lnTo>
                  <a:pt x="5557" y="2337"/>
                </a:lnTo>
                <a:lnTo>
                  <a:pt x="5542" y="2319"/>
                </a:lnTo>
                <a:lnTo>
                  <a:pt x="5528" y="2301"/>
                </a:lnTo>
                <a:lnTo>
                  <a:pt x="5515" y="2282"/>
                </a:lnTo>
                <a:lnTo>
                  <a:pt x="5503" y="2263"/>
                </a:lnTo>
                <a:lnTo>
                  <a:pt x="5491" y="2244"/>
                </a:lnTo>
                <a:lnTo>
                  <a:pt x="5491" y="2235"/>
                </a:lnTo>
                <a:lnTo>
                  <a:pt x="5492" y="2226"/>
                </a:lnTo>
                <a:lnTo>
                  <a:pt x="5492" y="2216"/>
                </a:lnTo>
                <a:lnTo>
                  <a:pt x="5492" y="2203"/>
                </a:lnTo>
                <a:lnTo>
                  <a:pt x="5232" y="1993"/>
                </a:lnTo>
                <a:lnTo>
                  <a:pt x="5232" y="1987"/>
                </a:lnTo>
                <a:lnTo>
                  <a:pt x="5230" y="1982"/>
                </a:lnTo>
                <a:lnTo>
                  <a:pt x="5223" y="1979"/>
                </a:lnTo>
                <a:lnTo>
                  <a:pt x="5210" y="1981"/>
                </a:lnTo>
                <a:lnTo>
                  <a:pt x="5071" y="1896"/>
                </a:lnTo>
                <a:lnTo>
                  <a:pt x="4978" y="1815"/>
                </a:lnTo>
                <a:lnTo>
                  <a:pt x="4819" y="1757"/>
                </a:lnTo>
                <a:lnTo>
                  <a:pt x="4502" y="1598"/>
                </a:lnTo>
                <a:lnTo>
                  <a:pt x="4502" y="1604"/>
                </a:lnTo>
                <a:lnTo>
                  <a:pt x="4500" y="1610"/>
                </a:lnTo>
                <a:lnTo>
                  <a:pt x="4497" y="1617"/>
                </a:lnTo>
                <a:lnTo>
                  <a:pt x="4493" y="1624"/>
                </a:lnTo>
                <a:lnTo>
                  <a:pt x="4355" y="1546"/>
                </a:lnTo>
                <a:lnTo>
                  <a:pt x="4193" y="1481"/>
                </a:lnTo>
                <a:lnTo>
                  <a:pt x="4149" y="1505"/>
                </a:lnTo>
                <a:lnTo>
                  <a:pt x="4123" y="1637"/>
                </a:lnTo>
                <a:lnTo>
                  <a:pt x="4137" y="1648"/>
                </a:lnTo>
                <a:lnTo>
                  <a:pt x="4151" y="1657"/>
                </a:lnTo>
                <a:lnTo>
                  <a:pt x="4166" y="1666"/>
                </a:lnTo>
                <a:lnTo>
                  <a:pt x="4182" y="1676"/>
                </a:lnTo>
                <a:lnTo>
                  <a:pt x="4197" y="1685"/>
                </a:lnTo>
                <a:lnTo>
                  <a:pt x="4214" y="1693"/>
                </a:lnTo>
                <a:lnTo>
                  <a:pt x="4230" y="1702"/>
                </a:lnTo>
                <a:lnTo>
                  <a:pt x="4246" y="1712"/>
                </a:lnTo>
                <a:lnTo>
                  <a:pt x="4263" y="1721"/>
                </a:lnTo>
                <a:lnTo>
                  <a:pt x="4279" y="1730"/>
                </a:lnTo>
                <a:lnTo>
                  <a:pt x="4294" y="1741"/>
                </a:lnTo>
                <a:lnTo>
                  <a:pt x="4309" y="1752"/>
                </a:lnTo>
                <a:lnTo>
                  <a:pt x="4325" y="1764"/>
                </a:lnTo>
                <a:lnTo>
                  <a:pt x="4339" y="1777"/>
                </a:lnTo>
                <a:lnTo>
                  <a:pt x="4352" y="1791"/>
                </a:lnTo>
                <a:lnTo>
                  <a:pt x="4365" y="1807"/>
                </a:lnTo>
                <a:lnTo>
                  <a:pt x="4382" y="1817"/>
                </a:lnTo>
                <a:lnTo>
                  <a:pt x="4400" y="1827"/>
                </a:lnTo>
                <a:lnTo>
                  <a:pt x="4417" y="1837"/>
                </a:lnTo>
                <a:lnTo>
                  <a:pt x="4434" y="1848"/>
                </a:lnTo>
                <a:lnTo>
                  <a:pt x="4451" y="1859"/>
                </a:lnTo>
                <a:lnTo>
                  <a:pt x="4466" y="1870"/>
                </a:lnTo>
                <a:lnTo>
                  <a:pt x="4483" y="1880"/>
                </a:lnTo>
                <a:lnTo>
                  <a:pt x="4499" y="1891"/>
                </a:lnTo>
                <a:lnTo>
                  <a:pt x="4514" y="1901"/>
                </a:lnTo>
                <a:lnTo>
                  <a:pt x="4531" y="1909"/>
                </a:lnTo>
                <a:lnTo>
                  <a:pt x="4547" y="1918"/>
                </a:lnTo>
                <a:lnTo>
                  <a:pt x="4563" y="1927"/>
                </a:lnTo>
                <a:lnTo>
                  <a:pt x="4580" y="1933"/>
                </a:lnTo>
                <a:lnTo>
                  <a:pt x="4596" y="1940"/>
                </a:lnTo>
                <a:lnTo>
                  <a:pt x="4614" y="1945"/>
                </a:lnTo>
                <a:lnTo>
                  <a:pt x="4631" y="1950"/>
                </a:lnTo>
                <a:lnTo>
                  <a:pt x="4663" y="1971"/>
                </a:lnTo>
                <a:lnTo>
                  <a:pt x="4693" y="1992"/>
                </a:lnTo>
                <a:lnTo>
                  <a:pt x="4725" y="2013"/>
                </a:lnTo>
                <a:lnTo>
                  <a:pt x="4756" y="2031"/>
                </a:lnTo>
                <a:lnTo>
                  <a:pt x="4788" y="2051"/>
                </a:lnTo>
                <a:lnTo>
                  <a:pt x="4820" y="2070"/>
                </a:lnTo>
                <a:lnTo>
                  <a:pt x="4851" y="2087"/>
                </a:lnTo>
                <a:lnTo>
                  <a:pt x="4884" y="2104"/>
                </a:lnTo>
                <a:lnTo>
                  <a:pt x="4917" y="2122"/>
                </a:lnTo>
                <a:lnTo>
                  <a:pt x="4948" y="2138"/>
                </a:lnTo>
                <a:lnTo>
                  <a:pt x="4981" y="2155"/>
                </a:lnTo>
                <a:lnTo>
                  <a:pt x="5015" y="2171"/>
                </a:lnTo>
                <a:lnTo>
                  <a:pt x="5047" y="2187"/>
                </a:lnTo>
                <a:lnTo>
                  <a:pt x="5081" y="2203"/>
                </a:lnTo>
                <a:lnTo>
                  <a:pt x="5115" y="2219"/>
                </a:lnTo>
                <a:lnTo>
                  <a:pt x="5149" y="2235"/>
                </a:lnTo>
                <a:lnTo>
                  <a:pt x="5152" y="2240"/>
                </a:lnTo>
                <a:lnTo>
                  <a:pt x="5155" y="2245"/>
                </a:lnTo>
                <a:lnTo>
                  <a:pt x="5157" y="2251"/>
                </a:lnTo>
                <a:lnTo>
                  <a:pt x="5157" y="2258"/>
                </a:lnTo>
                <a:lnTo>
                  <a:pt x="4899" y="2462"/>
                </a:lnTo>
                <a:lnTo>
                  <a:pt x="4893" y="2491"/>
                </a:lnTo>
                <a:lnTo>
                  <a:pt x="4891" y="2519"/>
                </a:lnTo>
                <a:lnTo>
                  <a:pt x="4893" y="2546"/>
                </a:lnTo>
                <a:lnTo>
                  <a:pt x="4897" y="2573"/>
                </a:lnTo>
                <a:lnTo>
                  <a:pt x="4905" y="2602"/>
                </a:lnTo>
                <a:lnTo>
                  <a:pt x="4912" y="2630"/>
                </a:lnTo>
                <a:lnTo>
                  <a:pt x="4921" y="2660"/>
                </a:lnTo>
                <a:lnTo>
                  <a:pt x="4928" y="2691"/>
                </a:lnTo>
                <a:lnTo>
                  <a:pt x="4929" y="2692"/>
                </a:lnTo>
                <a:lnTo>
                  <a:pt x="4931" y="2695"/>
                </a:lnTo>
                <a:lnTo>
                  <a:pt x="4933" y="2697"/>
                </a:lnTo>
                <a:lnTo>
                  <a:pt x="4934" y="2698"/>
                </a:lnTo>
                <a:close/>
                <a:moveTo>
                  <a:pt x="4404" y="3030"/>
                </a:moveTo>
                <a:lnTo>
                  <a:pt x="4575" y="2882"/>
                </a:lnTo>
                <a:lnTo>
                  <a:pt x="4593" y="2872"/>
                </a:lnTo>
                <a:lnTo>
                  <a:pt x="4610" y="2869"/>
                </a:lnTo>
                <a:lnTo>
                  <a:pt x="4629" y="2871"/>
                </a:lnTo>
                <a:lnTo>
                  <a:pt x="4647" y="2876"/>
                </a:lnTo>
                <a:lnTo>
                  <a:pt x="4666" y="2882"/>
                </a:lnTo>
                <a:lnTo>
                  <a:pt x="4684" y="2888"/>
                </a:lnTo>
                <a:lnTo>
                  <a:pt x="4704" y="2890"/>
                </a:lnTo>
                <a:lnTo>
                  <a:pt x="4723" y="2889"/>
                </a:lnTo>
                <a:lnTo>
                  <a:pt x="4737" y="2878"/>
                </a:lnTo>
                <a:lnTo>
                  <a:pt x="4752" y="2872"/>
                </a:lnTo>
                <a:lnTo>
                  <a:pt x="4767" y="2871"/>
                </a:lnTo>
                <a:lnTo>
                  <a:pt x="4785" y="2872"/>
                </a:lnTo>
                <a:lnTo>
                  <a:pt x="4801" y="2873"/>
                </a:lnTo>
                <a:lnTo>
                  <a:pt x="4817" y="2875"/>
                </a:lnTo>
                <a:lnTo>
                  <a:pt x="4834" y="2872"/>
                </a:lnTo>
                <a:lnTo>
                  <a:pt x="4849" y="2866"/>
                </a:lnTo>
                <a:lnTo>
                  <a:pt x="4853" y="2866"/>
                </a:lnTo>
                <a:lnTo>
                  <a:pt x="4858" y="2865"/>
                </a:lnTo>
                <a:lnTo>
                  <a:pt x="4862" y="2865"/>
                </a:lnTo>
                <a:lnTo>
                  <a:pt x="4867" y="2866"/>
                </a:lnTo>
                <a:lnTo>
                  <a:pt x="4872" y="2866"/>
                </a:lnTo>
                <a:lnTo>
                  <a:pt x="4876" y="2868"/>
                </a:lnTo>
                <a:lnTo>
                  <a:pt x="4882" y="2869"/>
                </a:lnTo>
                <a:lnTo>
                  <a:pt x="4887" y="2872"/>
                </a:lnTo>
                <a:lnTo>
                  <a:pt x="4891" y="2872"/>
                </a:lnTo>
                <a:lnTo>
                  <a:pt x="4895" y="2872"/>
                </a:lnTo>
                <a:lnTo>
                  <a:pt x="4900" y="2872"/>
                </a:lnTo>
                <a:lnTo>
                  <a:pt x="4905" y="2871"/>
                </a:lnTo>
                <a:lnTo>
                  <a:pt x="4910" y="2871"/>
                </a:lnTo>
                <a:lnTo>
                  <a:pt x="4916" y="2870"/>
                </a:lnTo>
                <a:lnTo>
                  <a:pt x="4922" y="2868"/>
                </a:lnTo>
                <a:lnTo>
                  <a:pt x="4928" y="2867"/>
                </a:lnTo>
                <a:lnTo>
                  <a:pt x="5796" y="3203"/>
                </a:lnTo>
                <a:lnTo>
                  <a:pt x="5897" y="3258"/>
                </a:lnTo>
                <a:lnTo>
                  <a:pt x="5900" y="3258"/>
                </a:lnTo>
                <a:lnTo>
                  <a:pt x="5903" y="3258"/>
                </a:lnTo>
                <a:lnTo>
                  <a:pt x="5908" y="3258"/>
                </a:lnTo>
                <a:lnTo>
                  <a:pt x="5912" y="3257"/>
                </a:lnTo>
                <a:lnTo>
                  <a:pt x="5916" y="3256"/>
                </a:lnTo>
                <a:lnTo>
                  <a:pt x="5921" y="3255"/>
                </a:lnTo>
                <a:lnTo>
                  <a:pt x="5926" y="3253"/>
                </a:lnTo>
                <a:lnTo>
                  <a:pt x="5931" y="3252"/>
                </a:lnTo>
                <a:lnTo>
                  <a:pt x="6349" y="3421"/>
                </a:lnTo>
                <a:lnTo>
                  <a:pt x="6351" y="3419"/>
                </a:lnTo>
                <a:lnTo>
                  <a:pt x="6354" y="3415"/>
                </a:lnTo>
                <a:lnTo>
                  <a:pt x="6356" y="3412"/>
                </a:lnTo>
                <a:lnTo>
                  <a:pt x="6359" y="3409"/>
                </a:lnTo>
                <a:lnTo>
                  <a:pt x="6020" y="2867"/>
                </a:lnTo>
                <a:lnTo>
                  <a:pt x="5755" y="2467"/>
                </a:lnTo>
                <a:lnTo>
                  <a:pt x="5748" y="2461"/>
                </a:lnTo>
                <a:lnTo>
                  <a:pt x="5743" y="2457"/>
                </a:lnTo>
                <a:lnTo>
                  <a:pt x="5734" y="2451"/>
                </a:lnTo>
                <a:lnTo>
                  <a:pt x="5723" y="2446"/>
                </a:lnTo>
                <a:lnTo>
                  <a:pt x="5572" y="2242"/>
                </a:lnTo>
                <a:lnTo>
                  <a:pt x="5472" y="2110"/>
                </a:lnTo>
                <a:lnTo>
                  <a:pt x="5443" y="2072"/>
                </a:lnTo>
                <a:lnTo>
                  <a:pt x="5415" y="2035"/>
                </a:lnTo>
                <a:lnTo>
                  <a:pt x="5385" y="1999"/>
                </a:lnTo>
                <a:lnTo>
                  <a:pt x="5354" y="1964"/>
                </a:lnTo>
                <a:lnTo>
                  <a:pt x="5322" y="1930"/>
                </a:lnTo>
                <a:lnTo>
                  <a:pt x="5290" y="1896"/>
                </a:lnTo>
                <a:lnTo>
                  <a:pt x="5257" y="1865"/>
                </a:lnTo>
                <a:lnTo>
                  <a:pt x="5222" y="1833"/>
                </a:lnTo>
                <a:lnTo>
                  <a:pt x="5187" y="1802"/>
                </a:lnTo>
                <a:lnTo>
                  <a:pt x="5152" y="1772"/>
                </a:lnTo>
                <a:lnTo>
                  <a:pt x="5115" y="1742"/>
                </a:lnTo>
                <a:lnTo>
                  <a:pt x="5079" y="1714"/>
                </a:lnTo>
                <a:lnTo>
                  <a:pt x="5042" y="1686"/>
                </a:lnTo>
                <a:lnTo>
                  <a:pt x="5004" y="1657"/>
                </a:lnTo>
                <a:lnTo>
                  <a:pt x="4966" y="1630"/>
                </a:lnTo>
                <a:lnTo>
                  <a:pt x="4928" y="1603"/>
                </a:lnTo>
                <a:lnTo>
                  <a:pt x="4888" y="1577"/>
                </a:lnTo>
                <a:lnTo>
                  <a:pt x="4849" y="1550"/>
                </a:lnTo>
                <a:lnTo>
                  <a:pt x="4810" y="1524"/>
                </a:lnTo>
                <a:lnTo>
                  <a:pt x="4769" y="1498"/>
                </a:lnTo>
                <a:lnTo>
                  <a:pt x="4730" y="1473"/>
                </a:lnTo>
                <a:lnTo>
                  <a:pt x="4690" y="1447"/>
                </a:lnTo>
                <a:lnTo>
                  <a:pt x="4651" y="1422"/>
                </a:lnTo>
                <a:lnTo>
                  <a:pt x="4610" y="1396"/>
                </a:lnTo>
                <a:lnTo>
                  <a:pt x="4571" y="1370"/>
                </a:lnTo>
                <a:lnTo>
                  <a:pt x="4531" y="1344"/>
                </a:lnTo>
                <a:lnTo>
                  <a:pt x="4492" y="1319"/>
                </a:lnTo>
                <a:lnTo>
                  <a:pt x="4452" y="1293"/>
                </a:lnTo>
                <a:lnTo>
                  <a:pt x="4413" y="1267"/>
                </a:lnTo>
                <a:lnTo>
                  <a:pt x="4374" y="1241"/>
                </a:lnTo>
                <a:lnTo>
                  <a:pt x="4336" y="1213"/>
                </a:lnTo>
                <a:lnTo>
                  <a:pt x="4297" y="1186"/>
                </a:lnTo>
                <a:lnTo>
                  <a:pt x="4282" y="1179"/>
                </a:lnTo>
                <a:lnTo>
                  <a:pt x="4268" y="1170"/>
                </a:lnTo>
                <a:lnTo>
                  <a:pt x="4256" y="1162"/>
                </a:lnTo>
                <a:lnTo>
                  <a:pt x="4244" y="1155"/>
                </a:lnTo>
                <a:lnTo>
                  <a:pt x="4233" y="1147"/>
                </a:lnTo>
                <a:lnTo>
                  <a:pt x="4221" y="1141"/>
                </a:lnTo>
                <a:lnTo>
                  <a:pt x="4209" y="1136"/>
                </a:lnTo>
                <a:lnTo>
                  <a:pt x="4195" y="1134"/>
                </a:lnTo>
                <a:lnTo>
                  <a:pt x="3560" y="759"/>
                </a:lnTo>
                <a:lnTo>
                  <a:pt x="3552" y="756"/>
                </a:lnTo>
                <a:lnTo>
                  <a:pt x="3545" y="755"/>
                </a:lnTo>
                <a:lnTo>
                  <a:pt x="3541" y="760"/>
                </a:lnTo>
                <a:lnTo>
                  <a:pt x="3537" y="768"/>
                </a:lnTo>
                <a:lnTo>
                  <a:pt x="4047" y="1630"/>
                </a:lnTo>
                <a:lnTo>
                  <a:pt x="4053" y="1638"/>
                </a:lnTo>
                <a:lnTo>
                  <a:pt x="4060" y="1643"/>
                </a:lnTo>
                <a:lnTo>
                  <a:pt x="4067" y="1649"/>
                </a:lnTo>
                <a:lnTo>
                  <a:pt x="4077" y="1654"/>
                </a:lnTo>
                <a:lnTo>
                  <a:pt x="4112" y="1745"/>
                </a:lnTo>
                <a:lnTo>
                  <a:pt x="4116" y="1748"/>
                </a:lnTo>
                <a:lnTo>
                  <a:pt x="4121" y="1750"/>
                </a:lnTo>
                <a:lnTo>
                  <a:pt x="4125" y="1752"/>
                </a:lnTo>
                <a:lnTo>
                  <a:pt x="4130" y="1753"/>
                </a:lnTo>
                <a:lnTo>
                  <a:pt x="4134" y="1755"/>
                </a:lnTo>
                <a:lnTo>
                  <a:pt x="4138" y="1758"/>
                </a:lnTo>
                <a:lnTo>
                  <a:pt x="4144" y="1760"/>
                </a:lnTo>
                <a:lnTo>
                  <a:pt x="4148" y="1763"/>
                </a:lnTo>
                <a:lnTo>
                  <a:pt x="4151" y="1772"/>
                </a:lnTo>
                <a:lnTo>
                  <a:pt x="4152" y="1779"/>
                </a:lnTo>
                <a:lnTo>
                  <a:pt x="4150" y="1790"/>
                </a:lnTo>
                <a:lnTo>
                  <a:pt x="4146" y="1805"/>
                </a:lnTo>
                <a:lnTo>
                  <a:pt x="4336" y="2100"/>
                </a:lnTo>
                <a:lnTo>
                  <a:pt x="4333" y="2108"/>
                </a:lnTo>
                <a:lnTo>
                  <a:pt x="4332" y="2114"/>
                </a:lnTo>
                <a:lnTo>
                  <a:pt x="4335" y="2120"/>
                </a:lnTo>
                <a:lnTo>
                  <a:pt x="4339" y="2125"/>
                </a:lnTo>
                <a:lnTo>
                  <a:pt x="4344" y="2130"/>
                </a:lnTo>
                <a:lnTo>
                  <a:pt x="4350" y="2134"/>
                </a:lnTo>
                <a:lnTo>
                  <a:pt x="4357" y="2138"/>
                </a:lnTo>
                <a:lnTo>
                  <a:pt x="4364" y="2144"/>
                </a:lnTo>
                <a:lnTo>
                  <a:pt x="4440" y="2302"/>
                </a:lnTo>
                <a:lnTo>
                  <a:pt x="4441" y="2310"/>
                </a:lnTo>
                <a:lnTo>
                  <a:pt x="4441" y="2319"/>
                </a:lnTo>
                <a:lnTo>
                  <a:pt x="4441" y="2329"/>
                </a:lnTo>
                <a:lnTo>
                  <a:pt x="4444" y="2339"/>
                </a:lnTo>
                <a:lnTo>
                  <a:pt x="4450" y="2346"/>
                </a:lnTo>
                <a:lnTo>
                  <a:pt x="4458" y="2349"/>
                </a:lnTo>
                <a:lnTo>
                  <a:pt x="4465" y="2352"/>
                </a:lnTo>
                <a:lnTo>
                  <a:pt x="4474" y="2359"/>
                </a:lnTo>
                <a:lnTo>
                  <a:pt x="4493" y="2435"/>
                </a:lnTo>
                <a:lnTo>
                  <a:pt x="4500" y="2440"/>
                </a:lnTo>
                <a:lnTo>
                  <a:pt x="4508" y="2446"/>
                </a:lnTo>
                <a:lnTo>
                  <a:pt x="4514" y="2451"/>
                </a:lnTo>
                <a:lnTo>
                  <a:pt x="4523" y="2458"/>
                </a:lnTo>
                <a:lnTo>
                  <a:pt x="4526" y="2467"/>
                </a:lnTo>
                <a:lnTo>
                  <a:pt x="4529" y="2476"/>
                </a:lnTo>
                <a:lnTo>
                  <a:pt x="4530" y="2486"/>
                </a:lnTo>
                <a:lnTo>
                  <a:pt x="4529" y="2495"/>
                </a:lnTo>
                <a:lnTo>
                  <a:pt x="4532" y="2503"/>
                </a:lnTo>
                <a:lnTo>
                  <a:pt x="4538" y="2507"/>
                </a:lnTo>
                <a:lnTo>
                  <a:pt x="4545" y="2512"/>
                </a:lnTo>
                <a:lnTo>
                  <a:pt x="4551" y="2519"/>
                </a:lnTo>
                <a:lnTo>
                  <a:pt x="4569" y="2616"/>
                </a:lnTo>
                <a:lnTo>
                  <a:pt x="4579" y="2627"/>
                </a:lnTo>
                <a:lnTo>
                  <a:pt x="4589" y="2640"/>
                </a:lnTo>
                <a:lnTo>
                  <a:pt x="4596" y="2653"/>
                </a:lnTo>
                <a:lnTo>
                  <a:pt x="4603" y="2667"/>
                </a:lnTo>
                <a:lnTo>
                  <a:pt x="4607" y="2683"/>
                </a:lnTo>
                <a:lnTo>
                  <a:pt x="4609" y="2698"/>
                </a:lnTo>
                <a:lnTo>
                  <a:pt x="4608" y="2714"/>
                </a:lnTo>
                <a:lnTo>
                  <a:pt x="4604" y="2731"/>
                </a:lnTo>
                <a:lnTo>
                  <a:pt x="4595" y="2739"/>
                </a:lnTo>
                <a:lnTo>
                  <a:pt x="4585" y="2745"/>
                </a:lnTo>
                <a:lnTo>
                  <a:pt x="4574" y="2747"/>
                </a:lnTo>
                <a:lnTo>
                  <a:pt x="4563" y="2748"/>
                </a:lnTo>
                <a:lnTo>
                  <a:pt x="4553" y="2747"/>
                </a:lnTo>
                <a:lnTo>
                  <a:pt x="4541" y="2745"/>
                </a:lnTo>
                <a:lnTo>
                  <a:pt x="4529" y="2741"/>
                </a:lnTo>
                <a:lnTo>
                  <a:pt x="4517" y="2739"/>
                </a:lnTo>
                <a:lnTo>
                  <a:pt x="4507" y="2731"/>
                </a:lnTo>
                <a:lnTo>
                  <a:pt x="4498" y="2723"/>
                </a:lnTo>
                <a:lnTo>
                  <a:pt x="4490" y="2715"/>
                </a:lnTo>
                <a:lnTo>
                  <a:pt x="4482" y="2710"/>
                </a:lnTo>
                <a:lnTo>
                  <a:pt x="4474" y="2704"/>
                </a:lnTo>
                <a:lnTo>
                  <a:pt x="4465" y="2699"/>
                </a:lnTo>
                <a:lnTo>
                  <a:pt x="4457" y="2695"/>
                </a:lnTo>
                <a:lnTo>
                  <a:pt x="4448" y="2689"/>
                </a:lnTo>
                <a:lnTo>
                  <a:pt x="4446" y="2680"/>
                </a:lnTo>
                <a:lnTo>
                  <a:pt x="4439" y="2671"/>
                </a:lnTo>
                <a:lnTo>
                  <a:pt x="4434" y="2660"/>
                </a:lnTo>
                <a:lnTo>
                  <a:pt x="4432" y="2649"/>
                </a:lnTo>
                <a:lnTo>
                  <a:pt x="4425" y="2643"/>
                </a:lnTo>
                <a:lnTo>
                  <a:pt x="4418" y="2638"/>
                </a:lnTo>
                <a:lnTo>
                  <a:pt x="4411" y="2633"/>
                </a:lnTo>
                <a:lnTo>
                  <a:pt x="4401" y="2628"/>
                </a:lnTo>
                <a:lnTo>
                  <a:pt x="4051" y="2156"/>
                </a:lnTo>
                <a:lnTo>
                  <a:pt x="4035" y="2106"/>
                </a:lnTo>
                <a:lnTo>
                  <a:pt x="3961" y="2019"/>
                </a:lnTo>
                <a:lnTo>
                  <a:pt x="3963" y="2013"/>
                </a:lnTo>
                <a:lnTo>
                  <a:pt x="3964" y="2004"/>
                </a:lnTo>
                <a:lnTo>
                  <a:pt x="3962" y="1993"/>
                </a:lnTo>
                <a:lnTo>
                  <a:pt x="3955" y="1981"/>
                </a:lnTo>
                <a:lnTo>
                  <a:pt x="3951" y="1980"/>
                </a:lnTo>
                <a:lnTo>
                  <a:pt x="3948" y="1978"/>
                </a:lnTo>
                <a:lnTo>
                  <a:pt x="3944" y="1976"/>
                </a:lnTo>
                <a:lnTo>
                  <a:pt x="3941" y="1974"/>
                </a:lnTo>
                <a:lnTo>
                  <a:pt x="3938" y="1970"/>
                </a:lnTo>
                <a:lnTo>
                  <a:pt x="3933" y="1968"/>
                </a:lnTo>
                <a:lnTo>
                  <a:pt x="3928" y="1965"/>
                </a:lnTo>
                <a:lnTo>
                  <a:pt x="3922" y="1963"/>
                </a:lnTo>
                <a:lnTo>
                  <a:pt x="3906" y="1904"/>
                </a:lnTo>
                <a:lnTo>
                  <a:pt x="3901" y="1902"/>
                </a:lnTo>
                <a:lnTo>
                  <a:pt x="3894" y="1899"/>
                </a:lnTo>
                <a:lnTo>
                  <a:pt x="3886" y="1899"/>
                </a:lnTo>
                <a:lnTo>
                  <a:pt x="3879" y="1899"/>
                </a:lnTo>
                <a:lnTo>
                  <a:pt x="3872" y="1881"/>
                </a:lnTo>
                <a:lnTo>
                  <a:pt x="3866" y="1860"/>
                </a:lnTo>
                <a:lnTo>
                  <a:pt x="3857" y="1838"/>
                </a:lnTo>
                <a:lnTo>
                  <a:pt x="3848" y="1815"/>
                </a:lnTo>
                <a:lnTo>
                  <a:pt x="3836" y="1795"/>
                </a:lnTo>
                <a:lnTo>
                  <a:pt x="3821" y="1775"/>
                </a:lnTo>
                <a:lnTo>
                  <a:pt x="3803" y="1757"/>
                </a:lnTo>
                <a:lnTo>
                  <a:pt x="3781" y="1742"/>
                </a:lnTo>
                <a:lnTo>
                  <a:pt x="3767" y="1722"/>
                </a:lnTo>
                <a:lnTo>
                  <a:pt x="3753" y="1702"/>
                </a:lnTo>
                <a:lnTo>
                  <a:pt x="3740" y="1681"/>
                </a:lnTo>
                <a:lnTo>
                  <a:pt x="3728" y="1661"/>
                </a:lnTo>
                <a:lnTo>
                  <a:pt x="3716" y="1641"/>
                </a:lnTo>
                <a:lnTo>
                  <a:pt x="3704" y="1620"/>
                </a:lnTo>
                <a:lnTo>
                  <a:pt x="3692" y="1601"/>
                </a:lnTo>
                <a:lnTo>
                  <a:pt x="3680" y="1580"/>
                </a:lnTo>
                <a:lnTo>
                  <a:pt x="3668" y="1559"/>
                </a:lnTo>
                <a:lnTo>
                  <a:pt x="3658" y="1540"/>
                </a:lnTo>
                <a:lnTo>
                  <a:pt x="3644" y="1520"/>
                </a:lnTo>
                <a:lnTo>
                  <a:pt x="3632" y="1499"/>
                </a:lnTo>
                <a:lnTo>
                  <a:pt x="3620" y="1480"/>
                </a:lnTo>
                <a:lnTo>
                  <a:pt x="3607" y="1460"/>
                </a:lnTo>
                <a:lnTo>
                  <a:pt x="3593" y="1440"/>
                </a:lnTo>
                <a:lnTo>
                  <a:pt x="3579" y="1421"/>
                </a:lnTo>
                <a:lnTo>
                  <a:pt x="3566" y="1390"/>
                </a:lnTo>
                <a:lnTo>
                  <a:pt x="3550" y="1361"/>
                </a:lnTo>
                <a:lnTo>
                  <a:pt x="3531" y="1332"/>
                </a:lnTo>
                <a:lnTo>
                  <a:pt x="3513" y="1304"/>
                </a:lnTo>
                <a:lnTo>
                  <a:pt x="3495" y="1277"/>
                </a:lnTo>
                <a:lnTo>
                  <a:pt x="3480" y="1249"/>
                </a:lnTo>
                <a:lnTo>
                  <a:pt x="3469" y="1221"/>
                </a:lnTo>
                <a:lnTo>
                  <a:pt x="3462" y="1193"/>
                </a:lnTo>
                <a:lnTo>
                  <a:pt x="3185" y="836"/>
                </a:lnTo>
                <a:lnTo>
                  <a:pt x="3141" y="864"/>
                </a:lnTo>
                <a:lnTo>
                  <a:pt x="4264" y="2817"/>
                </a:lnTo>
                <a:lnTo>
                  <a:pt x="4404" y="3030"/>
                </a:lnTo>
                <a:close/>
                <a:moveTo>
                  <a:pt x="4492" y="3263"/>
                </a:moveTo>
                <a:lnTo>
                  <a:pt x="4627" y="3286"/>
                </a:lnTo>
                <a:lnTo>
                  <a:pt x="4638" y="3279"/>
                </a:lnTo>
                <a:lnTo>
                  <a:pt x="4650" y="3276"/>
                </a:lnTo>
                <a:lnTo>
                  <a:pt x="4663" y="3274"/>
                </a:lnTo>
                <a:lnTo>
                  <a:pt x="4676" y="3274"/>
                </a:lnTo>
                <a:lnTo>
                  <a:pt x="4689" y="3275"/>
                </a:lnTo>
                <a:lnTo>
                  <a:pt x="4703" y="3278"/>
                </a:lnTo>
                <a:lnTo>
                  <a:pt x="4716" y="3281"/>
                </a:lnTo>
                <a:lnTo>
                  <a:pt x="4731" y="3286"/>
                </a:lnTo>
                <a:lnTo>
                  <a:pt x="4746" y="3290"/>
                </a:lnTo>
                <a:lnTo>
                  <a:pt x="4760" y="3296"/>
                </a:lnTo>
                <a:lnTo>
                  <a:pt x="4775" y="3300"/>
                </a:lnTo>
                <a:lnTo>
                  <a:pt x="4789" y="3304"/>
                </a:lnTo>
                <a:lnTo>
                  <a:pt x="4804" y="3308"/>
                </a:lnTo>
                <a:lnTo>
                  <a:pt x="4819" y="3311"/>
                </a:lnTo>
                <a:lnTo>
                  <a:pt x="4834" y="3312"/>
                </a:lnTo>
                <a:lnTo>
                  <a:pt x="4848" y="3312"/>
                </a:lnTo>
                <a:lnTo>
                  <a:pt x="4900" y="3334"/>
                </a:lnTo>
                <a:lnTo>
                  <a:pt x="4954" y="3354"/>
                </a:lnTo>
                <a:lnTo>
                  <a:pt x="5006" y="3376"/>
                </a:lnTo>
                <a:lnTo>
                  <a:pt x="5059" y="3396"/>
                </a:lnTo>
                <a:lnTo>
                  <a:pt x="5112" y="3417"/>
                </a:lnTo>
                <a:lnTo>
                  <a:pt x="5165" y="3436"/>
                </a:lnTo>
                <a:lnTo>
                  <a:pt x="5218" y="3456"/>
                </a:lnTo>
                <a:lnTo>
                  <a:pt x="5270" y="3474"/>
                </a:lnTo>
                <a:lnTo>
                  <a:pt x="5323" y="3494"/>
                </a:lnTo>
                <a:lnTo>
                  <a:pt x="5376" y="3513"/>
                </a:lnTo>
                <a:lnTo>
                  <a:pt x="5429" y="3531"/>
                </a:lnTo>
                <a:lnTo>
                  <a:pt x="5481" y="3549"/>
                </a:lnTo>
                <a:lnTo>
                  <a:pt x="5535" y="3567"/>
                </a:lnTo>
                <a:lnTo>
                  <a:pt x="5587" y="3585"/>
                </a:lnTo>
                <a:lnTo>
                  <a:pt x="5641" y="3602"/>
                </a:lnTo>
                <a:lnTo>
                  <a:pt x="5694" y="3619"/>
                </a:lnTo>
                <a:lnTo>
                  <a:pt x="5746" y="3637"/>
                </a:lnTo>
                <a:lnTo>
                  <a:pt x="5800" y="3654"/>
                </a:lnTo>
                <a:lnTo>
                  <a:pt x="5852" y="3671"/>
                </a:lnTo>
                <a:lnTo>
                  <a:pt x="5905" y="3688"/>
                </a:lnTo>
                <a:lnTo>
                  <a:pt x="5958" y="3706"/>
                </a:lnTo>
                <a:lnTo>
                  <a:pt x="6011" y="3722"/>
                </a:lnTo>
                <a:lnTo>
                  <a:pt x="6064" y="3739"/>
                </a:lnTo>
                <a:lnTo>
                  <a:pt x="6117" y="3757"/>
                </a:lnTo>
                <a:lnTo>
                  <a:pt x="6169" y="3774"/>
                </a:lnTo>
                <a:lnTo>
                  <a:pt x="6222" y="3791"/>
                </a:lnTo>
                <a:lnTo>
                  <a:pt x="6275" y="3808"/>
                </a:lnTo>
                <a:lnTo>
                  <a:pt x="6327" y="3826"/>
                </a:lnTo>
                <a:lnTo>
                  <a:pt x="6381" y="3844"/>
                </a:lnTo>
                <a:lnTo>
                  <a:pt x="6433" y="3862"/>
                </a:lnTo>
                <a:lnTo>
                  <a:pt x="6487" y="3879"/>
                </a:lnTo>
                <a:lnTo>
                  <a:pt x="6539" y="3898"/>
                </a:lnTo>
                <a:lnTo>
                  <a:pt x="6550" y="3893"/>
                </a:lnTo>
                <a:lnTo>
                  <a:pt x="6558" y="3886"/>
                </a:lnTo>
                <a:lnTo>
                  <a:pt x="6565" y="3875"/>
                </a:lnTo>
                <a:lnTo>
                  <a:pt x="6572" y="3862"/>
                </a:lnTo>
                <a:lnTo>
                  <a:pt x="6578" y="3848"/>
                </a:lnTo>
                <a:lnTo>
                  <a:pt x="6586" y="3835"/>
                </a:lnTo>
                <a:lnTo>
                  <a:pt x="6594" y="3823"/>
                </a:lnTo>
                <a:lnTo>
                  <a:pt x="6606" y="3814"/>
                </a:lnTo>
                <a:lnTo>
                  <a:pt x="6605" y="3804"/>
                </a:lnTo>
                <a:lnTo>
                  <a:pt x="6603" y="3794"/>
                </a:lnTo>
                <a:lnTo>
                  <a:pt x="6598" y="3785"/>
                </a:lnTo>
                <a:lnTo>
                  <a:pt x="6591" y="3775"/>
                </a:lnTo>
                <a:lnTo>
                  <a:pt x="6582" y="3766"/>
                </a:lnTo>
                <a:lnTo>
                  <a:pt x="6575" y="3756"/>
                </a:lnTo>
                <a:lnTo>
                  <a:pt x="6566" y="3745"/>
                </a:lnTo>
                <a:lnTo>
                  <a:pt x="6558" y="3733"/>
                </a:lnTo>
                <a:lnTo>
                  <a:pt x="6537" y="3718"/>
                </a:lnTo>
                <a:lnTo>
                  <a:pt x="6515" y="3706"/>
                </a:lnTo>
                <a:lnTo>
                  <a:pt x="6492" y="3695"/>
                </a:lnTo>
                <a:lnTo>
                  <a:pt x="6470" y="3686"/>
                </a:lnTo>
                <a:lnTo>
                  <a:pt x="6447" y="3678"/>
                </a:lnTo>
                <a:lnTo>
                  <a:pt x="6424" y="3672"/>
                </a:lnTo>
                <a:lnTo>
                  <a:pt x="6401" y="3665"/>
                </a:lnTo>
                <a:lnTo>
                  <a:pt x="6379" y="3660"/>
                </a:lnTo>
                <a:lnTo>
                  <a:pt x="6356" y="3654"/>
                </a:lnTo>
                <a:lnTo>
                  <a:pt x="6333" y="3649"/>
                </a:lnTo>
                <a:lnTo>
                  <a:pt x="6310" y="3641"/>
                </a:lnTo>
                <a:lnTo>
                  <a:pt x="6288" y="3635"/>
                </a:lnTo>
                <a:lnTo>
                  <a:pt x="6265" y="3625"/>
                </a:lnTo>
                <a:lnTo>
                  <a:pt x="6243" y="3615"/>
                </a:lnTo>
                <a:lnTo>
                  <a:pt x="6222" y="3602"/>
                </a:lnTo>
                <a:lnTo>
                  <a:pt x="6201" y="3588"/>
                </a:lnTo>
                <a:lnTo>
                  <a:pt x="4779" y="3066"/>
                </a:lnTo>
                <a:lnTo>
                  <a:pt x="4486" y="3252"/>
                </a:lnTo>
                <a:lnTo>
                  <a:pt x="4487" y="3254"/>
                </a:lnTo>
                <a:lnTo>
                  <a:pt x="4489" y="3257"/>
                </a:lnTo>
                <a:lnTo>
                  <a:pt x="4490" y="3261"/>
                </a:lnTo>
                <a:lnTo>
                  <a:pt x="4492" y="3263"/>
                </a:lnTo>
                <a:close/>
                <a:moveTo>
                  <a:pt x="4283" y="3381"/>
                </a:moveTo>
                <a:lnTo>
                  <a:pt x="4294" y="3390"/>
                </a:lnTo>
                <a:lnTo>
                  <a:pt x="4306" y="3399"/>
                </a:lnTo>
                <a:lnTo>
                  <a:pt x="4317" y="3409"/>
                </a:lnTo>
                <a:lnTo>
                  <a:pt x="4329" y="3418"/>
                </a:lnTo>
                <a:lnTo>
                  <a:pt x="4341" y="3426"/>
                </a:lnTo>
                <a:lnTo>
                  <a:pt x="4352" y="3435"/>
                </a:lnTo>
                <a:lnTo>
                  <a:pt x="4364" y="3443"/>
                </a:lnTo>
                <a:lnTo>
                  <a:pt x="4376" y="3450"/>
                </a:lnTo>
                <a:lnTo>
                  <a:pt x="4389" y="3458"/>
                </a:lnTo>
                <a:lnTo>
                  <a:pt x="4401" y="3465"/>
                </a:lnTo>
                <a:lnTo>
                  <a:pt x="4414" y="3471"/>
                </a:lnTo>
                <a:lnTo>
                  <a:pt x="4427" y="3475"/>
                </a:lnTo>
                <a:lnTo>
                  <a:pt x="4441" y="3481"/>
                </a:lnTo>
                <a:lnTo>
                  <a:pt x="4456" y="3484"/>
                </a:lnTo>
                <a:lnTo>
                  <a:pt x="4470" y="3486"/>
                </a:lnTo>
                <a:lnTo>
                  <a:pt x="4485" y="3489"/>
                </a:lnTo>
                <a:lnTo>
                  <a:pt x="4495" y="3487"/>
                </a:lnTo>
                <a:lnTo>
                  <a:pt x="4503" y="3483"/>
                </a:lnTo>
                <a:lnTo>
                  <a:pt x="4511" y="3475"/>
                </a:lnTo>
                <a:lnTo>
                  <a:pt x="4518" y="3467"/>
                </a:lnTo>
                <a:lnTo>
                  <a:pt x="4525" y="3458"/>
                </a:lnTo>
                <a:lnTo>
                  <a:pt x="4534" y="3450"/>
                </a:lnTo>
                <a:lnTo>
                  <a:pt x="4543" y="3444"/>
                </a:lnTo>
                <a:lnTo>
                  <a:pt x="4554" y="3442"/>
                </a:lnTo>
                <a:lnTo>
                  <a:pt x="6554" y="4132"/>
                </a:lnTo>
                <a:lnTo>
                  <a:pt x="6557" y="4133"/>
                </a:lnTo>
                <a:lnTo>
                  <a:pt x="6562" y="4133"/>
                </a:lnTo>
                <a:lnTo>
                  <a:pt x="6566" y="4132"/>
                </a:lnTo>
                <a:lnTo>
                  <a:pt x="6572" y="4131"/>
                </a:lnTo>
                <a:lnTo>
                  <a:pt x="6577" y="4129"/>
                </a:lnTo>
                <a:lnTo>
                  <a:pt x="6582" y="4128"/>
                </a:lnTo>
                <a:lnTo>
                  <a:pt x="6588" y="4128"/>
                </a:lnTo>
                <a:lnTo>
                  <a:pt x="6593" y="4128"/>
                </a:lnTo>
                <a:lnTo>
                  <a:pt x="6685" y="4148"/>
                </a:lnTo>
                <a:lnTo>
                  <a:pt x="6742" y="4132"/>
                </a:lnTo>
                <a:lnTo>
                  <a:pt x="6751" y="4114"/>
                </a:lnTo>
                <a:lnTo>
                  <a:pt x="6760" y="4095"/>
                </a:lnTo>
                <a:lnTo>
                  <a:pt x="6770" y="4076"/>
                </a:lnTo>
                <a:lnTo>
                  <a:pt x="6780" y="4058"/>
                </a:lnTo>
                <a:lnTo>
                  <a:pt x="6791" y="4038"/>
                </a:lnTo>
                <a:lnTo>
                  <a:pt x="6800" y="4020"/>
                </a:lnTo>
                <a:lnTo>
                  <a:pt x="6812" y="4001"/>
                </a:lnTo>
                <a:lnTo>
                  <a:pt x="6823" y="3983"/>
                </a:lnTo>
                <a:lnTo>
                  <a:pt x="6836" y="3964"/>
                </a:lnTo>
                <a:lnTo>
                  <a:pt x="6848" y="3947"/>
                </a:lnTo>
                <a:lnTo>
                  <a:pt x="6863" y="3928"/>
                </a:lnTo>
                <a:lnTo>
                  <a:pt x="6877" y="3912"/>
                </a:lnTo>
                <a:lnTo>
                  <a:pt x="6891" y="3894"/>
                </a:lnTo>
                <a:lnTo>
                  <a:pt x="6907" y="3879"/>
                </a:lnTo>
                <a:lnTo>
                  <a:pt x="6924" y="3863"/>
                </a:lnTo>
                <a:lnTo>
                  <a:pt x="6941" y="3848"/>
                </a:lnTo>
                <a:lnTo>
                  <a:pt x="6947" y="3838"/>
                </a:lnTo>
                <a:lnTo>
                  <a:pt x="6953" y="3827"/>
                </a:lnTo>
                <a:lnTo>
                  <a:pt x="6956" y="3819"/>
                </a:lnTo>
                <a:lnTo>
                  <a:pt x="6959" y="3816"/>
                </a:lnTo>
                <a:lnTo>
                  <a:pt x="6953" y="3787"/>
                </a:lnTo>
                <a:lnTo>
                  <a:pt x="6945" y="3759"/>
                </a:lnTo>
                <a:lnTo>
                  <a:pt x="6936" y="3731"/>
                </a:lnTo>
                <a:lnTo>
                  <a:pt x="6924" y="3703"/>
                </a:lnTo>
                <a:lnTo>
                  <a:pt x="6911" y="3676"/>
                </a:lnTo>
                <a:lnTo>
                  <a:pt x="6895" y="3649"/>
                </a:lnTo>
                <a:lnTo>
                  <a:pt x="6879" y="3622"/>
                </a:lnTo>
                <a:lnTo>
                  <a:pt x="6862" y="3595"/>
                </a:lnTo>
                <a:lnTo>
                  <a:pt x="6844" y="3569"/>
                </a:lnTo>
                <a:lnTo>
                  <a:pt x="6826" y="3542"/>
                </a:lnTo>
                <a:lnTo>
                  <a:pt x="6808" y="3516"/>
                </a:lnTo>
                <a:lnTo>
                  <a:pt x="6791" y="3490"/>
                </a:lnTo>
                <a:lnTo>
                  <a:pt x="6774" y="3463"/>
                </a:lnTo>
                <a:lnTo>
                  <a:pt x="6759" y="3437"/>
                </a:lnTo>
                <a:lnTo>
                  <a:pt x="6745" y="3410"/>
                </a:lnTo>
                <a:lnTo>
                  <a:pt x="6733" y="3384"/>
                </a:lnTo>
                <a:lnTo>
                  <a:pt x="6684" y="3290"/>
                </a:lnTo>
                <a:lnTo>
                  <a:pt x="6633" y="3197"/>
                </a:lnTo>
                <a:lnTo>
                  <a:pt x="6580" y="3106"/>
                </a:lnTo>
                <a:lnTo>
                  <a:pt x="6527" y="3015"/>
                </a:lnTo>
                <a:lnTo>
                  <a:pt x="6472" y="2925"/>
                </a:lnTo>
                <a:lnTo>
                  <a:pt x="6417" y="2836"/>
                </a:lnTo>
                <a:lnTo>
                  <a:pt x="6360" y="2748"/>
                </a:lnTo>
                <a:lnTo>
                  <a:pt x="6301" y="2661"/>
                </a:lnTo>
                <a:lnTo>
                  <a:pt x="6242" y="2576"/>
                </a:lnTo>
                <a:lnTo>
                  <a:pt x="6181" y="2491"/>
                </a:lnTo>
                <a:lnTo>
                  <a:pt x="6119" y="2408"/>
                </a:lnTo>
                <a:lnTo>
                  <a:pt x="6056" y="2325"/>
                </a:lnTo>
                <a:lnTo>
                  <a:pt x="5990" y="2244"/>
                </a:lnTo>
                <a:lnTo>
                  <a:pt x="5925" y="2164"/>
                </a:lnTo>
                <a:lnTo>
                  <a:pt x="5857" y="2086"/>
                </a:lnTo>
                <a:lnTo>
                  <a:pt x="5789" y="2009"/>
                </a:lnTo>
                <a:lnTo>
                  <a:pt x="5719" y="1933"/>
                </a:lnTo>
                <a:lnTo>
                  <a:pt x="5648" y="1859"/>
                </a:lnTo>
                <a:lnTo>
                  <a:pt x="5576" y="1786"/>
                </a:lnTo>
                <a:lnTo>
                  <a:pt x="5502" y="1714"/>
                </a:lnTo>
                <a:lnTo>
                  <a:pt x="5428" y="1644"/>
                </a:lnTo>
                <a:lnTo>
                  <a:pt x="5352" y="1577"/>
                </a:lnTo>
                <a:lnTo>
                  <a:pt x="5274" y="1510"/>
                </a:lnTo>
                <a:lnTo>
                  <a:pt x="5196" y="1445"/>
                </a:lnTo>
                <a:lnTo>
                  <a:pt x="5115" y="1381"/>
                </a:lnTo>
                <a:lnTo>
                  <a:pt x="5034" y="1319"/>
                </a:lnTo>
                <a:lnTo>
                  <a:pt x="4952" y="1260"/>
                </a:lnTo>
                <a:lnTo>
                  <a:pt x="4868" y="1201"/>
                </a:lnTo>
                <a:lnTo>
                  <a:pt x="4783" y="1146"/>
                </a:lnTo>
                <a:lnTo>
                  <a:pt x="4696" y="1091"/>
                </a:lnTo>
                <a:lnTo>
                  <a:pt x="4609" y="1038"/>
                </a:lnTo>
                <a:lnTo>
                  <a:pt x="4520" y="988"/>
                </a:lnTo>
                <a:lnTo>
                  <a:pt x="4496" y="979"/>
                </a:lnTo>
                <a:lnTo>
                  <a:pt x="4476" y="967"/>
                </a:lnTo>
                <a:lnTo>
                  <a:pt x="4459" y="952"/>
                </a:lnTo>
                <a:lnTo>
                  <a:pt x="4444" y="935"/>
                </a:lnTo>
                <a:lnTo>
                  <a:pt x="4428" y="920"/>
                </a:lnTo>
                <a:lnTo>
                  <a:pt x="4412" y="908"/>
                </a:lnTo>
                <a:lnTo>
                  <a:pt x="4393" y="900"/>
                </a:lnTo>
                <a:lnTo>
                  <a:pt x="4370" y="898"/>
                </a:lnTo>
                <a:lnTo>
                  <a:pt x="4367" y="896"/>
                </a:lnTo>
                <a:lnTo>
                  <a:pt x="4363" y="892"/>
                </a:lnTo>
                <a:lnTo>
                  <a:pt x="4359" y="886"/>
                </a:lnTo>
                <a:lnTo>
                  <a:pt x="4354" y="880"/>
                </a:lnTo>
                <a:lnTo>
                  <a:pt x="3735" y="504"/>
                </a:lnTo>
                <a:lnTo>
                  <a:pt x="3299" y="341"/>
                </a:lnTo>
                <a:lnTo>
                  <a:pt x="3251" y="375"/>
                </a:lnTo>
                <a:lnTo>
                  <a:pt x="2948" y="691"/>
                </a:lnTo>
                <a:lnTo>
                  <a:pt x="2941" y="698"/>
                </a:lnTo>
                <a:lnTo>
                  <a:pt x="2935" y="700"/>
                </a:lnTo>
                <a:lnTo>
                  <a:pt x="2929" y="700"/>
                </a:lnTo>
                <a:lnTo>
                  <a:pt x="2923" y="698"/>
                </a:lnTo>
                <a:lnTo>
                  <a:pt x="2916" y="694"/>
                </a:lnTo>
                <a:lnTo>
                  <a:pt x="2910" y="690"/>
                </a:lnTo>
                <a:lnTo>
                  <a:pt x="2902" y="687"/>
                </a:lnTo>
                <a:lnTo>
                  <a:pt x="2893" y="684"/>
                </a:lnTo>
                <a:lnTo>
                  <a:pt x="2813" y="836"/>
                </a:lnTo>
                <a:lnTo>
                  <a:pt x="2822" y="870"/>
                </a:lnTo>
                <a:lnTo>
                  <a:pt x="2833" y="904"/>
                </a:lnTo>
                <a:lnTo>
                  <a:pt x="2848" y="940"/>
                </a:lnTo>
                <a:lnTo>
                  <a:pt x="2865" y="975"/>
                </a:lnTo>
                <a:lnTo>
                  <a:pt x="2886" y="1008"/>
                </a:lnTo>
                <a:lnTo>
                  <a:pt x="2910" y="1041"/>
                </a:lnTo>
                <a:lnTo>
                  <a:pt x="2938" y="1071"/>
                </a:lnTo>
                <a:lnTo>
                  <a:pt x="2970" y="1097"/>
                </a:lnTo>
                <a:lnTo>
                  <a:pt x="2986" y="1145"/>
                </a:lnTo>
                <a:lnTo>
                  <a:pt x="3005" y="1193"/>
                </a:lnTo>
                <a:lnTo>
                  <a:pt x="3026" y="1240"/>
                </a:lnTo>
                <a:lnTo>
                  <a:pt x="3049" y="1286"/>
                </a:lnTo>
                <a:lnTo>
                  <a:pt x="3074" y="1333"/>
                </a:lnTo>
                <a:lnTo>
                  <a:pt x="3102" y="1380"/>
                </a:lnTo>
                <a:lnTo>
                  <a:pt x="3129" y="1426"/>
                </a:lnTo>
                <a:lnTo>
                  <a:pt x="3157" y="1473"/>
                </a:lnTo>
                <a:lnTo>
                  <a:pt x="3185" y="1520"/>
                </a:lnTo>
                <a:lnTo>
                  <a:pt x="3214" y="1566"/>
                </a:lnTo>
                <a:lnTo>
                  <a:pt x="3241" y="1613"/>
                </a:lnTo>
                <a:lnTo>
                  <a:pt x="3268" y="1660"/>
                </a:lnTo>
                <a:lnTo>
                  <a:pt x="3294" y="1705"/>
                </a:lnTo>
                <a:lnTo>
                  <a:pt x="3318" y="1752"/>
                </a:lnTo>
                <a:lnTo>
                  <a:pt x="3341" y="1800"/>
                </a:lnTo>
                <a:lnTo>
                  <a:pt x="3362" y="1847"/>
                </a:lnTo>
                <a:lnTo>
                  <a:pt x="3388" y="1879"/>
                </a:lnTo>
                <a:lnTo>
                  <a:pt x="3411" y="1911"/>
                </a:lnTo>
                <a:lnTo>
                  <a:pt x="3433" y="1944"/>
                </a:lnTo>
                <a:lnTo>
                  <a:pt x="3454" y="1978"/>
                </a:lnTo>
                <a:lnTo>
                  <a:pt x="3472" y="2011"/>
                </a:lnTo>
                <a:lnTo>
                  <a:pt x="3491" y="2045"/>
                </a:lnTo>
                <a:lnTo>
                  <a:pt x="3508" y="2078"/>
                </a:lnTo>
                <a:lnTo>
                  <a:pt x="3525" y="2113"/>
                </a:lnTo>
                <a:lnTo>
                  <a:pt x="3541" y="2147"/>
                </a:lnTo>
                <a:lnTo>
                  <a:pt x="3557" y="2181"/>
                </a:lnTo>
                <a:lnTo>
                  <a:pt x="3574" y="2215"/>
                </a:lnTo>
                <a:lnTo>
                  <a:pt x="3591" y="2247"/>
                </a:lnTo>
                <a:lnTo>
                  <a:pt x="3608" y="2280"/>
                </a:lnTo>
                <a:lnTo>
                  <a:pt x="3628" y="2313"/>
                </a:lnTo>
                <a:lnTo>
                  <a:pt x="3648" y="2344"/>
                </a:lnTo>
                <a:lnTo>
                  <a:pt x="3670" y="2376"/>
                </a:lnTo>
                <a:lnTo>
                  <a:pt x="3687" y="2414"/>
                </a:lnTo>
                <a:lnTo>
                  <a:pt x="3704" y="2450"/>
                </a:lnTo>
                <a:lnTo>
                  <a:pt x="3724" y="2484"/>
                </a:lnTo>
                <a:lnTo>
                  <a:pt x="3745" y="2516"/>
                </a:lnTo>
                <a:lnTo>
                  <a:pt x="3764" y="2548"/>
                </a:lnTo>
                <a:lnTo>
                  <a:pt x="3783" y="2579"/>
                </a:lnTo>
                <a:lnTo>
                  <a:pt x="3800" y="2611"/>
                </a:lnTo>
                <a:lnTo>
                  <a:pt x="3817" y="2643"/>
                </a:lnTo>
                <a:lnTo>
                  <a:pt x="3834" y="2671"/>
                </a:lnTo>
                <a:lnTo>
                  <a:pt x="3850" y="2699"/>
                </a:lnTo>
                <a:lnTo>
                  <a:pt x="3866" y="2727"/>
                </a:lnTo>
                <a:lnTo>
                  <a:pt x="3881" y="2756"/>
                </a:lnTo>
                <a:lnTo>
                  <a:pt x="3896" y="2785"/>
                </a:lnTo>
                <a:lnTo>
                  <a:pt x="3912" y="2813"/>
                </a:lnTo>
                <a:lnTo>
                  <a:pt x="3927" y="2843"/>
                </a:lnTo>
                <a:lnTo>
                  <a:pt x="3941" y="2871"/>
                </a:lnTo>
                <a:lnTo>
                  <a:pt x="3956" y="2901"/>
                </a:lnTo>
                <a:lnTo>
                  <a:pt x="3971" y="2929"/>
                </a:lnTo>
                <a:lnTo>
                  <a:pt x="3987" y="2957"/>
                </a:lnTo>
                <a:lnTo>
                  <a:pt x="4003" y="2985"/>
                </a:lnTo>
                <a:lnTo>
                  <a:pt x="4019" y="3013"/>
                </a:lnTo>
                <a:lnTo>
                  <a:pt x="4036" y="3039"/>
                </a:lnTo>
                <a:lnTo>
                  <a:pt x="4054" y="3065"/>
                </a:lnTo>
                <a:lnTo>
                  <a:pt x="4073" y="3092"/>
                </a:lnTo>
                <a:lnTo>
                  <a:pt x="4083" y="3113"/>
                </a:lnTo>
                <a:lnTo>
                  <a:pt x="4093" y="3134"/>
                </a:lnTo>
                <a:lnTo>
                  <a:pt x="4104" y="3154"/>
                </a:lnTo>
                <a:lnTo>
                  <a:pt x="4118" y="3172"/>
                </a:lnTo>
                <a:lnTo>
                  <a:pt x="4132" y="3190"/>
                </a:lnTo>
                <a:lnTo>
                  <a:pt x="4146" y="3207"/>
                </a:lnTo>
                <a:lnTo>
                  <a:pt x="4160" y="3224"/>
                </a:lnTo>
                <a:lnTo>
                  <a:pt x="4175" y="3240"/>
                </a:lnTo>
                <a:lnTo>
                  <a:pt x="4191" y="3256"/>
                </a:lnTo>
                <a:lnTo>
                  <a:pt x="4205" y="3273"/>
                </a:lnTo>
                <a:lnTo>
                  <a:pt x="4220" y="3289"/>
                </a:lnTo>
                <a:lnTo>
                  <a:pt x="4234" y="3306"/>
                </a:lnTo>
                <a:lnTo>
                  <a:pt x="4248" y="3324"/>
                </a:lnTo>
                <a:lnTo>
                  <a:pt x="4260" y="3341"/>
                </a:lnTo>
                <a:lnTo>
                  <a:pt x="4272" y="3361"/>
                </a:lnTo>
                <a:lnTo>
                  <a:pt x="4283" y="3381"/>
                </a:lnTo>
                <a:close/>
                <a:moveTo>
                  <a:pt x="2494" y="3001"/>
                </a:moveTo>
                <a:lnTo>
                  <a:pt x="2793" y="3221"/>
                </a:lnTo>
                <a:lnTo>
                  <a:pt x="2788" y="3193"/>
                </a:lnTo>
                <a:lnTo>
                  <a:pt x="2778" y="3166"/>
                </a:lnTo>
                <a:lnTo>
                  <a:pt x="2765" y="3138"/>
                </a:lnTo>
                <a:lnTo>
                  <a:pt x="2749" y="3111"/>
                </a:lnTo>
                <a:lnTo>
                  <a:pt x="2733" y="3084"/>
                </a:lnTo>
                <a:lnTo>
                  <a:pt x="2717" y="3057"/>
                </a:lnTo>
                <a:lnTo>
                  <a:pt x="2700" y="3028"/>
                </a:lnTo>
                <a:lnTo>
                  <a:pt x="2686" y="2999"/>
                </a:lnTo>
                <a:lnTo>
                  <a:pt x="2670" y="2968"/>
                </a:lnTo>
                <a:lnTo>
                  <a:pt x="2653" y="2938"/>
                </a:lnTo>
                <a:lnTo>
                  <a:pt x="2636" y="2908"/>
                </a:lnTo>
                <a:lnTo>
                  <a:pt x="2620" y="2878"/>
                </a:lnTo>
                <a:lnTo>
                  <a:pt x="2602" y="2848"/>
                </a:lnTo>
                <a:lnTo>
                  <a:pt x="2585" y="2818"/>
                </a:lnTo>
                <a:lnTo>
                  <a:pt x="2567" y="2788"/>
                </a:lnTo>
                <a:lnTo>
                  <a:pt x="2550" y="2758"/>
                </a:lnTo>
                <a:lnTo>
                  <a:pt x="2532" y="2728"/>
                </a:lnTo>
                <a:lnTo>
                  <a:pt x="2516" y="2698"/>
                </a:lnTo>
                <a:lnTo>
                  <a:pt x="2499" y="2667"/>
                </a:lnTo>
                <a:lnTo>
                  <a:pt x="2481" y="2637"/>
                </a:lnTo>
                <a:lnTo>
                  <a:pt x="2464" y="2606"/>
                </a:lnTo>
                <a:lnTo>
                  <a:pt x="2447" y="2575"/>
                </a:lnTo>
                <a:lnTo>
                  <a:pt x="2430" y="2543"/>
                </a:lnTo>
                <a:lnTo>
                  <a:pt x="2414" y="2511"/>
                </a:lnTo>
                <a:lnTo>
                  <a:pt x="2382" y="2449"/>
                </a:lnTo>
                <a:lnTo>
                  <a:pt x="2350" y="2388"/>
                </a:lnTo>
                <a:lnTo>
                  <a:pt x="2318" y="2326"/>
                </a:lnTo>
                <a:lnTo>
                  <a:pt x="2285" y="2265"/>
                </a:lnTo>
                <a:lnTo>
                  <a:pt x="2252" y="2204"/>
                </a:lnTo>
                <a:lnTo>
                  <a:pt x="2220" y="2143"/>
                </a:lnTo>
                <a:lnTo>
                  <a:pt x="2187" y="2083"/>
                </a:lnTo>
                <a:lnTo>
                  <a:pt x="2153" y="2022"/>
                </a:lnTo>
                <a:lnTo>
                  <a:pt x="2119" y="1961"/>
                </a:lnTo>
                <a:lnTo>
                  <a:pt x="2085" y="1901"/>
                </a:lnTo>
                <a:lnTo>
                  <a:pt x="2052" y="1839"/>
                </a:lnTo>
                <a:lnTo>
                  <a:pt x="2018" y="1779"/>
                </a:lnTo>
                <a:lnTo>
                  <a:pt x="1984" y="1718"/>
                </a:lnTo>
                <a:lnTo>
                  <a:pt x="1949" y="1658"/>
                </a:lnTo>
                <a:lnTo>
                  <a:pt x="1915" y="1597"/>
                </a:lnTo>
                <a:lnTo>
                  <a:pt x="1881" y="1537"/>
                </a:lnTo>
                <a:lnTo>
                  <a:pt x="1818" y="1498"/>
                </a:lnTo>
                <a:lnTo>
                  <a:pt x="1806" y="1504"/>
                </a:lnTo>
                <a:lnTo>
                  <a:pt x="1793" y="1510"/>
                </a:lnTo>
                <a:lnTo>
                  <a:pt x="1780" y="1519"/>
                </a:lnTo>
                <a:lnTo>
                  <a:pt x="1767" y="1529"/>
                </a:lnTo>
                <a:lnTo>
                  <a:pt x="1755" y="1540"/>
                </a:lnTo>
                <a:lnTo>
                  <a:pt x="1743" y="1550"/>
                </a:lnTo>
                <a:lnTo>
                  <a:pt x="1732" y="1562"/>
                </a:lnTo>
                <a:lnTo>
                  <a:pt x="1722" y="1574"/>
                </a:lnTo>
                <a:lnTo>
                  <a:pt x="1765" y="1644"/>
                </a:lnTo>
                <a:lnTo>
                  <a:pt x="1809" y="1715"/>
                </a:lnTo>
                <a:lnTo>
                  <a:pt x="1852" y="1785"/>
                </a:lnTo>
                <a:lnTo>
                  <a:pt x="1896" y="1855"/>
                </a:lnTo>
                <a:lnTo>
                  <a:pt x="1939" y="1926"/>
                </a:lnTo>
                <a:lnTo>
                  <a:pt x="1983" y="1995"/>
                </a:lnTo>
                <a:lnTo>
                  <a:pt x="2026" y="2066"/>
                </a:lnTo>
                <a:lnTo>
                  <a:pt x="2068" y="2136"/>
                </a:lnTo>
                <a:lnTo>
                  <a:pt x="2109" y="2207"/>
                </a:lnTo>
                <a:lnTo>
                  <a:pt x="2150" y="2278"/>
                </a:lnTo>
                <a:lnTo>
                  <a:pt x="2188" y="2350"/>
                </a:lnTo>
                <a:lnTo>
                  <a:pt x="2226" y="2421"/>
                </a:lnTo>
                <a:lnTo>
                  <a:pt x="2263" y="2493"/>
                </a:lnTo>
                <a:lnTo>
                  <a:pt x="2297" y="2565"/>
                </a:lnTo>
                <a:lnTo>
                  <a:pt x="2331" y="2638"/>
                </a:lnTo>
                <a:lnTo>
                  <a:pt x="2361" y="2711"/>
                </a:lnTo>
                <a:lnTo>
                  <a:pt x="2393" y="2771"/>
                </a:lnTo>
                <a:lnTo>
                  <a:pt x="2394" y="2779"/>
                </a:lnTo>
                <a:lnTo>
                  <a:pt x="2392" y="2786"/>
                </a:lnTo>
                <a:lnTo>
                  <a:pt x="2389" y="2796"/>
                </a:lnTo>
                <a:lnTo>
                  <a:pt x="2385" y="2806"/>
                </a:lnTo>
                <a:lnTo>
                  <a:pt x="2447" y="2960"/>
                </a:lnTo>
                <a:lnTo>
                  <a:pt x="2454" y="2963"/>
                </a:lnTo>
                <a:lnTo>
                  <a:pt x="2459" y="2967"/>
                </a:lnTo>
                <a:lnTo>
                  <a:pt x="2464" y="2973"/>
                </a:lnTo>
                <a:lnTo>
                  <a:pt x="2469" y="2979"/>
                </a:lnTo>
                <a:lnTo>
                  <a:pt x="2474" y="2985"/>
                </a:lnTo>
                <a:lnTo>
                  <a:pt x="2479" y="2991"/>
                </a:lnTo>
                <a:lnTo>
                  <a:pt x="2486" y="2997"/>
                </a:lnTo>
                <a:lnTo>
                  <a:pt x="2494" y="3001"/>
                </a:lnTo>
                <a:close/>
                <a:moveTo>
                  <a:pt x="1153" y="2162"/>
                </a:moveTo>
                <a:lnTo>
                  <a:pt x="1461" y="2308"/>
                </a:lnTo>
                <a:lnTo>
                  <a:pt x="1464" y="2312"/>
                </a:lnTo>
                <a:lnTo>
                  <a:pt x="1470" y="2316"/>
                </a:lnTo>
                <a:lnTo>
                  <a:pt x="1475" y="2324"/>
                </a:lnTo>
                <a:lnTo>
                  <a:pt x="1478" y="2331"/>
                </a:lnTo>
                <a:lnTo>
                  <a:pt x="1496" y="2336"/>
                </a:lnTo>
                <a:lnTo>
                  <a:pt x="1513" y="2342"/>
                </a:lnTo>
                <a:lnTo>
                  <a:pt x="1531" y="2349"/>
                </a:lnTo>
                <a:lnTo>
                  <a:pt x="1549" y="2358"/>
                </a:lnTo>
                <a:lnTo>
                  <a:pt x="1567" y="2365"/>
                </a:lnTo>
                <a:lnTo>
                  <a:pt x="1584" y="2373"/>
                </a:lnTo>
                <a:lnTo>
                  <a:pt x="1603" y="2380"/>
                </a:lnTo>
                <a:lnTo>
                  <a:pt x="1622" y="2387"/>
                </a:lnTo>
                <a:lnTo>
                  <a:pt x="1641" y="2404"/>
                </a:lnTo>
                <a:lnTo>
                  <a:pt x="1658" y="2421"/>
                </a:lnTo>
                <a:lnTo>
                  <a:pt x="1677" y="2435"/>
                </a:lnTo>
                <a:lnTo>
                  <a:pt x="1695" y="2449"/>
                </a:lnTo>
                <a:lnTo>
                  <a:pt x="1713" y="2463"/>
                </a:lnTo>
                <a:lnTo>
                  <a:pt x="1730" y="2476"/>
                </a:lnTo>
                <a:lnTo>
                  <a:pt x="1746" y="2491"/>
                </a:lnTo>
                <a:lnTo>
                  <a:pt x="1762" y="2506"/>
                </a:lnTo>
                <a:lnTo>
                  <a:pt x="1860" y="2543"/>
                </a:lnTo>
                <a:lnTo>
                  <a:pt x="2051" y="2683"/>
                </a:lnTo>
                <a:lnTo>
                  <a:pt x="2060" y="2686"/>
                </a:lnTo>
                <a:lnTo>
                  <a:pt x="2068" y="2685"/>
                </a:lnTo>
                <a:lnTo>
                  <a:pt x="2074" y="2679"/>
                </a:lnTo>
                <a:lnTo>
                  <a:pt x="2078" y="2669"/>
                </a:lnTo>
                <a:lnTo>
                  <a:pt x="2065" y="2639"/>
                </a:lnTo>
                <a:lnTo>
                  <a:pt x="2051" y="2609"/>
                </a:lnTo>
                <a:lnTo>
                  <a:pt x="2035" y="2580"/>
                </a:lnTo>
                <a:lnTo>
                  <a:pt x="2020" y="2551"/>
                </a:lnTo>
                <a:lnTo>
                  <a:pt x="2004" y="2521"/>
                </a:lnTo>
                <a:lnTo>
                  <a:pt x="1987" y="2493"/>
                </a:lnTo>
                <a:lnTo>
                  <a:pt x="1970" y="2464"/>
                </a:lnTo>
                <a:lnTo>
                  <a:pt x="1954" y="2436"/>
                </a:lnTo>
                <a:lnTo>
                  <a:pt x="1936" y="2408"/>
                </a:lnTo>
                <a:lnTo>
                  <a:pt x="1919" y="2378"/>
                </a:lnTo>
                <a:lnTo>
                  <a:pt x="1901" y="2350"/>
                </a:lnTo>
                <a:lnTo>
                  <a:pt x="1885" y="2320"/>
                </a:lnTo>
                <a:lnTo>
                  <a:pt x="1867" y="2291"/>
                </a:lnTo>
                <a:lnTo>
                  <a:pt x="1852" y="2262"/>
                </a:lnTo>
                <a:lnTo>
                  <a:pt x="1836" y="2231"/>
                </a:lnTo>
                <a:lnTo>
                  <a:pt x="1821" y="2200"/>
                </a:lnTo>
                <a:lnTo>
                  <a:pt x="1804" y="2179"/>
                </a:lnTo>
                <a:lnTo>
                  <a:pt x="1788" y="2156"/>
                </a:lnTo>
                <a:lnTo>
                  <a:pt x="1774" y="2133"/>
                </a:lnTo>
                <a:lnTo>
                  <a:pt x="1758" y="2111"/>
                </a:lnTo>
                <a:lnTo>
                  <a:pt x="1744" y="2088"/>
                </a:lnTo>
                <a:lnTo>
                  <a:pt x="1730" y="2065"/>
                </a:lnTo>
                <a:lnTo>
                  <a:pt x="1716" y="2042"/>
                </a:lnTo>
                <a:lnTo>
                  <a:pt x="1702" y="2019"/>
                </a:lnTo>
                <a:lnTo>
                  <a:pt x="1688" y="1997"/>
                </a:lnTo>
                <a:lnTo>
                  <a:pt x="1673" y="1974"/>
                </a:lnTo>
                <a:lnTo>
                  <a:pt x="1658" y="1950"/>
                </a:lnTo>
                <a:lnTo>
                  <a:pt x="1643" y="1927"/>
                </a:lnTo>
                <a:lnTo>
                  <a:pt x="1628" y="1904"/>
                </a:lnTo>
                <a:lnTo>
                  <a:pt x="1611" y="1881"/>
                </a:lnTo>
                <a:lnTo>
                  <a:pt x="1595" y="1857"/>
                </a:lnTo>
                <a:lnTo>
                  <a:pt x="1577" y="1834"/>
                </a:lnTo>
                <a:lnTo>
                  <a:pt x="1565" y="1812"/>
                </a:lnTo>
                <a:lnTo>
                  <a:pt x="1553" y="1789"/>
                </a:lnTo>
                <a:lnTo>
                  <a:pt x="1542" y="1767"/>
                </a:lnTo>
                <a:lnTo>
                  <a:pt x="1528" y="1747"/>
                </a:lnTo>
                <a:lnTo>
                  <a:pt x="1516" y="1725"/>
                </a:lnTo>
                <a:lnTo>
                  <a:pt x="1503" y="1704"/>
                </a:lnTo>
                <a:lnTo>
                  <a:pt x="1490" y="1682"/>
                </a:lnTo>
                <a:lnTo>
                  <a:pt x="1477" y="1662"/>
                </a:lnTo>
                <a:lnTo>
                  <a:pt x="1464" y="1641"/>
                </a:lnTo>
                <a:lnTo>
                  <a:pt x="1451" y="1619"/>
                </a:lnTo>
                <a:lnTo>
                  <a:pt x="1438" y="1598"/>
                </a:lnTo>
                <a:lnTo>
                  <a:pt x="1425" y="1578"/>
                </a:lnTo>
                <a:lnTo>
                  <a:pt x="1413" y="1556"/>
                </a:lnTo>
                <a:lnTo>
                  <a:pt x="1400" y="1535"/>
                </a:lnTo>
                <a:lnTo>
                  <a:pt x="1389" y="1513"/>
                </a:lnTo>
                <a:lnTo>
                  <a:pt x="1377" y="1492"/>
                </a:lnTo>
                <a:lnTo>
                  <a:pt x="1373" y="1481"/>
                </a:lnTo>
                <a:lnTo>
                  <a:pt x="1371" y="1469"/>
                </a:lnTo>
                <a:lnTo>
                  <a:pt x="1373" y="1457"/>
                </a:lnTo>
                <a:lnTo>
                  <a:pt x="1377" y="1445"/>
                </a:lnTo>
                <a:lnTo>
                  <a:pt x="1381" y="1432"/>
                </a:lnTo>
                <a:lnTo>
                  <a:pt x="1386" y="1418"/>
                </a:lnTo>
                <a:lnTo>
                  <a:pt x="1391" y="1404"/>
                </a:lnTo>
                <a:lnTo>
                  <a:pt x="1395" y="1390"/>
                </a:lnTo>
                <a:lnTo>
                  <a:pt x="1402" y="1384"/>
                </a:lnTo>
                <a:lnTo>
                  <a:pt x="1410" y="1381"/>
                </a:lnTo>
                <a:lnTo>
                  <a:pt x="1417" y="1381"/>
                </a:lnTo>
                <a:lnTo>
                  <a:pt x="1426" y="1382"/>
                </a:lnTo>
                <a:lnTo>
                  <a:pt x="1434" y="1385"/>
                </a:lnTo>
                <a:lnTo>
                  <a:pt x="1442" y="1385"/>
                </a:lnTo>
                <a:lnTo>
                  <a:pt x="1450" y="1382"/>
                </a:lnTo>
                <a:lnTo>
                  <a:pt x="1459" y="1377"/>
                </a:lnTo>
                <a:lnTo>
                  <a:pt x="1461" y="1369"/>
                </a:lnTo>
                <a:lnTo>
                  <a:pt x="1459" y="1362"/>
                </a:lnTo>
                <a:lnTo>
                  <a:pt x="1456" y="1353"/>
                </a:lnTo>
                <a:lnTo>
                  <a:pt x="1458" y="1343"/>
                </a:lnTo>
                <a:lnTo>
                  <a:pt x="1465" y="1341"/>
                </a:lnTo>
                <a:lnTo>
                  <a:pt x="1472" y="1342"/>
                </a:lnTo>
                <a:lnTo>
                  <a:pt x="1478" y="1344"/>
                </a:lnTo>
                <a:lnTo>
                  <a:pt x="1484" y="1349"/>
                </a:lnTo>
                <a:lnTo>
                  <a:pt x="1489" y="1354"/>
                </a:lnTo>
                <a:lnTo>
                  <a:pt x="1496" y="1360"/>
                </a:lnTo>
                <a:lnTo>
                  <a:pt x="1501" y="1364"/>
                </a:lnTo>
                <a:lnTo>
                  <a:pt x="1508" y="1368"/>
                </a:lnTo>
                <a:lnTo>
                  <a:pt x="1639" y="1258"/>
                </a:lnTo>
                <a:lnTo>
                  <a:pt x="1581" y="1221"/>
                </a:lnTo>
                <a:lnTo>
                  <a:pt x="1563" y="1200"/>
                </a:lnTo>
                <a:lnTo>
                  <a:pt x="1546" y="1181"/>
                </a:lnTo>
                <a:lnTo>
                  <a:pt x="1527" y="1161"/>
                </a:lnTo>
                <a:lnTo>
                  <a:pt x="1508" y="1141"/>
                </a:lnTo>
                <a:lnTo>
                  <a:pt x="1488" y="1124"/>
                </a:lnTo>
                <a:lnTo>
                  <a:pt x="1467" y="1105"/>
                </a:lnTo>
                <a:lnTo>
                  <a:pt x="1447" y="1088"/>
                </a:lnTo>
                <a:lnTo>
                  <a:pt x="1425" y="1072"/>
                </a:lnTo>
                <a:lnTo>
                  <a:pt x="1403" y="1055"/>
                </a:lnTo>
                <a:lnTo>
                  <a:pt x="1380" y="1039"/>
                </a:lnTo>
                <a:lnTo>
                  <a:pt x="1358" y="1024"/>
                </a:lnTo>
                <a:lnTo>
                  <a:pt x="1335" y="1008"/>
                </a:lnTo>
                <a:lnTo>
                  <a:pt x="1313" y="993"/>
                </a:lnTo>
                <a:lnTo>
                  <a:pt x="1290" y="978"/>
                </a:lnTo>
                <a:lnTo>
                  <a:pt x="1267" y="963"/>
                </a:lnTo>
                <a:lnTo>
                  <a:pt x="1244" y="948"/>
                </a:lnTo>
                <a:lnTo>
                  <a:pt x="1221" y="937"/>
                </a:lnTo>
                <a:lnTo>
                  <a:pt x="1201" y="925"/>
                </a:lnTo>
                <a:lnTo>
                  <a:pt x="1183" y="912"/>
                </a:lnTo>
                <a:lnTo>
                  <a:pt x="1165" y="900"/>
                </a:lnTo>
                <a:lnTo>
                  <a:pt x="1148" y="888"/>
                </a:lnTo>
                <a:lnTo>
                  <a:pt x="1129" y="879"/>
                </a:lnTo>
                <a:lnTo>
                  <a:pt x="1110" y="872"/>
                </a:lnTo>
                <a:lnTo>
                  <a:pt x="1088" y="868"/>
                </a:lnTo>
                <a:lnTo>
                  <a:pt x="1052" y="842"/>
                </a:lnTo>
                <a:lnTo>
                  <a:pt x="1015" y="815"/>
                </a:lnTo>
                <a:lnTo>
                  <a:pt x="979" y="789"/>
                </a:lnTo>
                <a:lnTo>
                  <a:pt x="942" y="764"/>
                </a:lnTo>
                <a:lnTo>
                  <a:pt x="905" y="739"/>
                </a:lnTo>
                <a:lnTo>
                  <a:pt x="868" y="715"/>
                </a:lnTo>
                <a:lnTo>
                  <a:pt x="831" y="690"/>
                </a:lnTo>
                <a:lnTo>
                  <a:pt x="794" y="666"/>
                </a:lnTo>
                <a:lnTo>
                  <a:pt x="755" y="642"/>
                </a:lnTo>
                <a:lnTo>
                  <a:pt x="718" y="618"/>
                </a:lnTo>
                <a:lnTo>
                  <a:pt x="681" y="594"/>
                </a:lnTo>
                <a:lnTo>
                  <a:pt x="644" y="570"/>
                </a:lnTo>
                <a:lnTo>
                  <a:pt x="608" y="546"/>
                </a:lnTo>
                <a:lnTo>
                  <a:pt x="571" y="522"/>
                </a:lnTo>
                <a:lnTo>
                  <a:pt x="535" y="498"/>
                </a:lnTo>
                <a:lnTo>
                  <a:pt x="499" y="473"/>
                </a:lnTo>
                <a:lnTo>
                  <a:pt x="492" y="462"/>
                </a:lnTo>
                <a:lnTo>
                  <a:pt x="485" y="454"/>
                </a:lnTo>
                <a:lnTo>
                  <a:pt x="477" y="450"/>
                </a:lnTo>
                <a:lnTo>
                  <a:pt x="470" y="449"/>
                </a:lnTo>
                <a:lnTo>
                  <a:pt x="505" y="547"/>
                </a:lnTo>
                <a:lnTo>
                  <a:pt x="541" y="646"/>
                </a:lnTo>
                <a:lnTo>
                  <a:pt x="578" y="744"/>
                </a:lnTo>
                <a:lnTo>
                  <a:pt x="616" y="843"/>
                </a:lnTo>
                <a:lnTo>
                  <a:pt x="655" y="941"/>
                </a:lnTo>
                <a:lnTo>
                  <a:pt x="694" y="1039"/>
                </a:lnTo>
                <a:lnTo>
                  <a:pt x="735" y="1136"/>
                </a:lnTo>
                <a:lnTo>
                  <a:pt x="776" y="1234"/>
                </a:lnTo>
                <a:lnTo>
                  <a:pt x="817" y="1332"/>
                </a:lnTo>
                <a:lnTo>
                  <a:pt x="859" y="1429"/>
                </a:lnTo>
                <a:lnTo>
                  <a:pt x="900" y="1526"/>
                </a:lnTo>
                <a:lnTo>
                  <a:pt x="943" y="1625"/>
                </a:lnTo>
                <a:lnTo>
                  <a:pt x="986" y="1722"/>
                </a:lnTo>
                <a:lnTo>
                  <a:pt x="1029" y="1819"/>
                </a:lnTo>
                <a:lnTo>
                  <a:pt x="1072" y="1916"/>
                </a:lnTo>
                <a:lnTo>
                  <a:pt x="1114" y="2013"/>
                </a:lnTo>
                <a:lnTo>
                  <a:pt x="1122" y="2031"/>
                </a:lnTo>
                <a:lnTo>
                  <a:pt x="1128" y="2049"/>
                </a:lnTo>
                <a:lnTo>
                  <a:pt x="1134" y="2066"/>
                </a:lnTo>
                <a:lnTo>
                  <a:pt x="1139" y="2083"/>
                </a:lnTo>
                <a:lnTo>
                  <a:pt x="1142" y="2099"/>
                </a:lnTo>
                <a:lnTo>
                  <a:pt x="1145" y="2115"/>
                </a:lnTo>
                <a:lnTo>
                  <a:pt x="1145" y="2132"/>
                </a:lnTo>
                <a:lnTo>
                  <a:pt x="1144" y="2148"/>
                </a:lnTo>
                <a:lnTo>
                  <a:pt x="1146" y="2149"/>
                </a:lnTo>
                <a:lnTo>
                  <a:pt x="1148" y="2151"/>
                </a:lnTo>
                <a:lnTo>
                  <a:pt x="1150" y="2156"/>
                </a:lnTo>
                <a:lnTo>
                  <a:pt x="1153" y="2162"/>
                </a:lnTo>
                <a:close/>
                <a:moveTo>
                  <a:pt x="2633" y="3615"/>
                </a:moveTo>
                <a:lnTo>
                  <a:pt x="2639" y="3621"/>
                </a:lnTo>
                <a:lnTo>
                  <a:pt x="2646" y="3626"/>
                </a:lnTo>
                <a:lnTo>
                  <a:pt x="2653" y="3631"/>
                </a:lnTo>
                <a:lnTo>
                  <a:pt x="2661" y="3639"/>
                </a:lnTo>
                <a:lnTo>
                  <a:pt x="2692" y="3629"/>
                </a:lnTo>
                <a:lnTo>
                  <a:pt x="2718" y="3610"/>
                </a:lnTo>
                <a:lnTo>
                  <a:pt x="2739" y="3583"/>
                </a:lnTo>
                <a:lnTo>
                  <a:pt x="2757" y="3553"/>
                </a:lnTo>
                <a:lnTo>
                  <a:pt x="2774" y="3519"/>
                </a:lnTo>
                <a:lnTo>
                  <a:pt x="2792" y="3486"/>
                </a:lnTo>
                <a:lnTo>
                  <a:pt x="2810" y="3455"/>
                </a:lnTo>
                <a:lnTo>
                  <a:pt x="2832" y="3429"/>
                </a:lnTo>
                <a:lnTo>
                  <a:pt x="2623" y="3372"/>
                </a:lnTo>
                <a:lnTo>
                  <a:pt x="2382" y="3217"/>
                </a:lnTo>
                <a:lnTo>
                  <a:pt x="2383" y="3208"/>
                </a:lnTo>
                <a:lnTo>
                  <a:pt x="2382" y="3202"/>
                </a:lnTo>
                <a:lnTo>
                  <a:pt x="2378" y="3198"/>
                </a:lnTo>
                <a:lnTo>
                  <a:pt x="2372" y="3196"/>
                </a:lnTo>
                <a:lnTo>
                  <a:pt x="2365" y="3195"/>
                </a:lnTo>
                <a:lnTo>
                  <a:pt x="2357" y="3194"/>
                </a:lnTo>
                <a:lnTo>
                  <a:pt x="2349" y="3193"/>
                </a:lnTo>
                <a:lnTo>
                  <a:pt x="2342" y="3190"/>
                </a:lnTo>
                <a:lnTo>
                  <a:pt x="2337" y="3180"/>
                </a:lnTo>
                <a:lnTo>
                  <a:pt x="2331" y="3170"/>
                </a:lnTo>
                <a:lnTo>
                  <a:pt x="2323" y="3161"/>
                </a:lnTo>
                <a:lnTo>
                  <a:pt x="2314" y="3153"/>
                </a:lnTo>
                <a:lnTo>
                  <a:pt x="2306" y="3146"/>
                </a:lnTo>
                <a:lnTo>
                  <a:pt x="2295" y="3142"/>
                </a:lnTo>
                <a:lnTo>
                  <a:pt x="2283" y="3138"/>
                </a:lnTo>
                <a:lnTo>
                  <a:pt x="2271" y="3137"/>
                </a:lnTo>
                <a:lnTo>
                  <a:pt x="2242" y="3097"/>
                </a:lnTo>
                <a:lnTo>
                  <a:pt x="2238" y="3094"/>
                </a:lnTo>
                <a:lnTo>
                  <a:pt x="2233" y="3093"/>
                </a:lnTo>
                <a:lnTo>
                  <a:pt x="2227" y="3092"/>
                </a:lnTo>
                <a:lnTo>
                  <a:pt x="2222" y="3092"/>
                </a:lnTo>
                <a:lnTo>
                  <a:pt x="2217" y="3092"/>
                </a:lnTo>
                <a:lnTo>
                  <a:pt x="2212" y="3090"/>
                </a:lnTo>
                <a:lnTo>
                  <a:pt x="2208" y="3088"/>
                </a:lnTo>
                <a:lnTo>
                  <a:pt x="2204" y="3084"/>
                </a:lnTo>
                <a:lnTo>
                  <a:pt x="2203" y="3076"/>
                </a:lnTo>
                <a:lnTo>
                  <a:pt x="2199" y="3069"/>
                </a:lnTo>
                <a:lnTo>
                  <a:pt x="2193" y="3059"/>
                </a:lnTo>
                <a:lnTo>
                  <a:pt x="2188" y="3047"/>
                </a:lnTo>
                <a:lnTo>
                  <a:pt x="2069" y="2994"/>
                </a:lnTo>
                <a:lnTo>
                  <a:pt x="2066" y="2986"/>
                </a:lnTo>
                <a:lnTo>
                  <a:pt x="2064" y="2977"/>
                </a:lnTo>
                <a:lnTo>
                  <a:pt x="2060" y="2967"/>
                </a:lnTo>
                <a:lnTo>
                  <a:pt x="2053" y="2956"/>
                </a:lnTo>
                <a:lnTo>
                  <a:pt x="1998" y="2944"/>
                </a:lnTo>
                <a:lnTo>
                  <a:pt x="1992" y="2936"/>
                </a:lnTo>
                <a:lnTo>
                  <a:pt x="1990" y="2926"/>
                </a:lnTo>
                <a:lnTo>
                  <a:pt x="1987" y="2916"/>
                </a:lnTo>
                <a:lnTo>
                  <a:pt x="1983" y="2905"/>
                </a:lnTo>
                <a:lnTo>
                  <a:pt x="1906" y="2861"/>
                </a:lnTo>
                <a:lnTo>
                  <a:pt x="1899" y="2863"/>
                </a:lnTo>
                <a:lnTo>
                  <a:pt x="1895" y="2866"/>
                </a:lnTo>
                <a:lnTo>
                  <a:pt x="1893" y="2870"/>
                </a:lnTo>
                <a:lnTo>
                  <a:pt x="1893" y="2878"/>
                </a:lnTo>
                <a:lnTo>
                  <a:pt x="2053" y="3035"/>
                </a:lnTo>
                <a:lnTo>
                  <a:pt x="2058" y="3042"/>
                </a:lnTo>
                <a:lnTo>
                  <a:pt x="2060" y="3051"/>
                </a:lnTo>
                <a:lnTo>
                  <a:pt x="2062" y="3062"/>
                </a:lnTo>
                <a:lnTo>
                  <a:pt x="2067" y="3075"/>
                </a:lnTo>
                <a:lnTo>
                  <a:pt x="2633" y="3615"/>
                </a:lnTo>
                <a:close/>
                <a:moveTo>
                  <a:pt x="2285" y="3673"/>
                </a:moveTo>
                <a:lnTo>
                  <a:pt x="2297" y="3687"/>
                </a:lnTo>
                <a:lnTo>
                  <a:pt x="2310" y="3700"/>
                </a:lnTo>
                <a:lnTo>
                  <a:pt x="2323" y="3713"/>
                </a:lnTo>
                <a:lnTo>
                  <a:pt x="2336" y="3725"/>
                </a:lnTo>
                <a:lnTo>
                  <a:pt x="2350" y="3735"/>
                </a:lnTo>
                <a:lnTo>
                  <a:pt x="2365" y="3745"/>
                </a:lnTo>
                <a:lnTo>
                  <a:pt x="2380" y="3754"/>
                </a:lnTo>
                <a:lnTo>
                  <a:pt x="2395" y="3761"/>
                </a:lnTo>
                <a:lnTo>
                  <a:pt x="2410" y="3768"/>
                </a:lnTo>
                <a:lnTo>
                  <a:pt x="2426" y="3773"/>
                </a:lnTo>
                <a:lnTo>
                  <a:pt x="2442" y="3778"/>
                </a:lnTo>
                <a:lnTo>
                  <a:pt x="2458" y="3781"/>
                </a:lnTo>
                <a:lnTo>
                  <a:pt x="2475" y="3782"/>
                </a:lnTo>
                <a:lnTo>
                  <a:pt x="2492" y="3783"/>
                </a:lnTo>
                <a:lnTo>
                  <a:pt x="2508" y="3783"/>
                </a:lnTo>
                <a:lnTo>
                  <a:pt x="2526" y="3781"/>
                </a:lnTo>
                <a:lnTo>
                  <a:pt x="2536" y="3778"/>
                </a:lnTo>
                <a:lnTo>
                  <a:pt x="2544" y="3775"/>
                </a:lnTo>
                <a:lnTo>
                  <a:pt x="2551" y="3774"/>
                </a:lnTo>
                <a:lnTo>
                  <a:pt x="2553" y="3773"/>
                </a:lnTo>
                <a:lnTo>
                  <a:pt x="2606" y="3784"/>
                </a:lnTo>
                <a:lnTo>
                  <a:pt x="2613" y="3798"/>
                </a:lnTo>
                <a:lnTo>
                  <a:pt x="2611" y="3815"/>
                </a:lnTo>
                <a:lnTo>
                  <a:pt x="2607" y="3831"/>
                </a:lnTo>
                <a:lnTo>
                  <a:pt x="2607" y="3846"/>
                </a:lnTo>
                <a:lnTo>
                  <a:pt x="2884" y="3834"/>
                </a:lnTo>
                <a:lnTo>
                  <a:pt x="3228" y="3320"/>
                </a:lnTo>
                <a:lnTo>
                  <a:pt x="3226" y="3304"/>
                </a:lnTo>
                <a:lnTo>
                  <a:pt x="3219" y="3288"/>
                </a:lnTo>
                <a:lnTo>
                  <a:pt x="3211" y="3269"/>
                </a:lnTo>
                <a:lnTo>
                  <a:pt x="3200" y="3248"/>
                </a:lnTo>
                <a:lnTo>
                  <a:pt x="3191" y="3244"/>
                </a:lnTo>
                <a:lnTo>
                  <a:pt x="3184" y="3240"/>
                </a:lnTo>
                <a:lnTo>
                  <a:pt x="3178" y="3233"/>
                </a:lnTo>
                <a:lnTo>
                  <a:pt x="3171" y="3225"/>
                </a:lnTo>
                <a:lnTo>
                  <a:pt x="3170" y="3217"/>
                </a:lnTo>
                <a:lnTo>
                  <a:pt x="3173" y="3208"/>
                </a:lnTo>
                <a:lnTo>
                  <a:pt x="3178" y="3198"/>
                </a:lnTo>
                <a:lnTo>
                  <a:pt x="3181" y="3186"/>
                </a:lnTo>
                <a:lnTo>
                  <a:pt x="3148" y="3125"/>
                </a:lnTo>
                <a:lnTo>
                  <a:pt x="3117" y="3064"/>
                </a:lnTo>
                <a:lnTo>
                  <a:pt x="3084" y="3002"/>
                </a:lnTo>
                <a:lnTo>
                  <a:pt x="3052" y="2940"/>
                </a:lnTo>
                <a:lnTo>
                  <a:pt x="3020" y="2879"/>
                </a:lnTo>
                <a:lnTo>
                  <a:pt x="2987" y="2817"/>
                </a:lnTo>
                <a:lnTo>
                  <a:pt x="2955" y="2755"/>
                </a:lnTo>
                <a:lnTo>
                  <a:pt x="2923" y="2691"/>
                </a:lnTo>
                <a:lnTo>
                  <a:pt x="2890" y="2629"/>
                </a:lnTo>
                <a:lnTo>
                  <a:pt x="2856" y="2567"/>
                </a:lnTo>
                <a:lnTo>
                  <a:pt x="2824" y="2504"/>
                </a:lnTo>
                <a:lnTo>
                  <a:pt x="2791" y="2442"/>
                </a:lnTo>
                <a:lnTo>
                  <a:pt x="2757" y="2379"/>
                </a:lnTo>
                <a:lnTo>
                  <a:pt x="2723" y="2316"/>
                </a:lnTo>
                <a:lnTo>
                  <a:pt x="2689" y="2254"/>
                </a:lnTo>
                <a:lnTo>
                  <a:pt x="2655" y="2192"/>
                </a:lnTo>
                <a:lnTo>
                  <a:pt x="2621" y="2130"/>
                </a:lnTo>
                <a:lnTo>
                  <a:pt x="2586" y="2067"/>
                </a:lnTo>
                <a:lnTo>
                  <a:pt x="2551" y="2005"/>
                </a:lnTo>
                <a:lnTo>
                  <a:pt x="2515" y="1943"/>
                </a:lnTo>
                <a:lnTo>
                  <a:pt x="2479" y="1882"/>
                </a:lnTo>
                <a:lnTo>
                  <a:pt x="2443" y="1821"/>
                </a:lnTo>
                <a:lnTo>
                  <a:pt x="2406" y="1760"/>
                </a:lnTo>
                <a:lnTo>
                  <a:pt x="2369" y="1699"/>
                </a:lnTo>
                <a:lnTo>
                  <a:pt x="2332" y="1638"/>
                </a:lnTo>
                <a:lnTo>
                  <a:pt x="2294" y="1578"/>
                </a:lnTo>
                <a:lnTo>
                  <a:pt x="2256" y="1518"/>
                </a:lnTo>
                <a:lnTo>
                  <a:pt x="2216" y="1458"/>
                </a:lnTo>
                <a:lnTo>
                  <a:pt x="2177" y="1399"/>
                </a:lnTo>
                <a:lnTo>
                  <a:pt x="2138" y="1340"/>
                </a:lnTo>
                <a:lnTo>
                  <a:pt x="2097" y="1281"/>
                </a:lnTo>
                <a:lnTo>
                  <a:pt x="2056" y="1223"/>
                </a:lnTo>
                <a:lnTo>
                  <a:pt x="2057" y="1215"/>
                </a:lnTo>
                <a:lnTo>
                  <a:pt x="2056" y="1205"/>
                </a:lnTo>
                <a:lnTo>
                  <a:pt x="2054" y="1195"/>
                </a:lnTo>
                <a:lnTo>
                  <a:pt x="2048" y="1185"/>
                </a:lnTo>
                <a:lnTo>
                  <a:pt x="2043" y="1175"/>
                </a:lnTo>
                <a:lnTo>
                  <a:pt x="2035" y="1165"/>
                </a:lnTo>
                <a:lnTo>
                  <a:pt x="2027" y="1158"/>
                </a:lnTo>
                <a:lnTo>
                  <a:pt x="2018" y="1151"/>
                </a:lnTo>
                <a:lnTo>
                  <a:pt x="1973" y="1117"/>
                </a:lnTo>
                <a:lnTo>
                  <a:pt x="1927" y="1085"/>
                </a:lnTo>
                <a:lnTo>
                  <a:pt x="1883" y="1052"/>
                </a:lnTo>
                <a:lnTo>
                  <a:pt x="1837" y="1019"/>
                </a:lnTo>
                <a:lnTo>
                  <a:pt x="1791" y="987"/>
                </a:lnTo>
                <a:lnTo>
                  <a:pt x="1745" y="954"/>
                </a:lnTo>
                <a:lnTo>
                  <a:pt x="1698" y="922"/>
                </a:lnTo>
                <a:lnTo>
                  <a:pt x="1653" y="889"/>
                </a:lnTo>
                <a:lnTo>
                  <a:pt x="1606" y="858"/>
                </a:lnTo>
                <a:lnTo>
                  <a:pt x="1559" y="826"/>
                </a:lnTo>
                <a:lnTo>
                  <a:pt x="1512" y="795"/>
                </a:lnTo>
                <a:lnTo>
                  <a:pt x="1465" y="764"/>
                </a:lnTo>
                <a:lnTo>
                  <a:pt x="1418" y="734"/>
                </a:lnTo>
                <a:lnTo>
                  <a:pt x="1371" y="702"/>
                </a:lnTo>
                <a:lnTo>
                  <a:pt x="1325" y="671"/>
                </a:lnTo>
                <a:lnTo>
                  <a:pt x="1277" y="641"/>
                </a:lnTo>
                <a:lnTo>
                  <a:pt x="1230" y="611"/>
                </a:lnTo>
                <a:lnTo>
                  <a:pt x="1182" y="581"/>
                </a:lnTo>
                <a:lnTo>
                  <a:pt x="1134" y="551"/>
                </a:lnTo>
                <a:lnTo>
                  <a:pt x="1087" y="522"/>
                </a:lnTo>
                <a:lnTo>
                  <a:pt x="1039" y="492"/>
                </a:lnTo>
                <a:lnTo>
                  <a:pt x="991" y="463"/>
                </a:lnTo>
                <a:lnTo>
                  <a:pt x="943" y="434"/>
                </a:lnTo>
                <a:lnTo>
                  <a:pt x="895" y="405"/>
                </a:lnTo>
                <a:lnTo>
                  <a:pt x="847" y="377"/>
                </a:lnTo>
                <a:lnTo>
                  <a:pt x="799" y="349"/>
                </a:lnTo>
                <a:lnTo>
                  <a:pt x="751" y="320"/>
                </a:lnTo>
                <a:lnTo>
                  <a:pt x="703" y="292"/>
                </a:lnTo>
                <a:lnTo>
                  <a:pt x="655" y="263"/>
                </a:lnTo>
                <a:lnTo>
                  <a:pt x="607" y="236"/>
                </a:lnTo>
                <a:lnTo>
                  <a:pt x="559" y="208"/>
                </a:lnTo>
                <a:lnTo>
                  <a:pt x="511" y="181"/>
                </a:lnTo>
                <a:lnTo>
                  <a:pt x="497" y="172"/>
                </a:lnTo>
                <a:lnTo>
                  <a:pt x="483" y="163"/>
                </a:lnTo>
                <a:lnTo>
                  <a:pt x="470" y="154"/>
                </a:lnTo>
                <a:lnTo>
                  <a:pt x="456" y="147"/>
                </a:lnTo>
                <a:lnTo>
                  <a:pt x="442" y="139"/>
                </a:lnTo>
                <a:lnTo>
                  <a:pt x="428" y="131"/>
                </a:lnTo>
                <a:lnTo>
                  <a:pt x="414" y="124"/>
                </a:lnTo>
                <a:lnTo>
                  <a:pt x="400" y="117"/>
                </a:lnTo>
                <a:lnTo>
                  <a:pt x="387" y="111"/>
                </a:lnTo>
                <a:lnTo>
                  <a:pt x="373" y="103"/>
                </a:lnTo>
                <a:lnTo>
                  <a:pt x="360" y="97"/>
                </a:lnTo>
                <a:lnTo>
                  <a:pt x="347" y="90"/>
                </a:lnTo>
                <a:lnTo>
                  <a:pt x="334" y="83"/>
                </a:lnTo>
                <a:lnTo>
                  <a:pt x="321" y="77"/>
                </a:lnTo>
                <a:lnTo>
                  <a:pt x="307" y="69"/>
                </a:lnTo>
                <a:lnTo>
                  <a:pt x="294" y="63"/>
                </a:lnTo>
                <a:lnTo>
                  <a:pt x="282" y="58"/>
                </a:lnTo>
                <a:lnTo>
                  <a:pt x="273" y="54"/>
                </a:lnTo>
                <a:lnTo>
                  <a:pt x="263" y="51"/>
                </a:lnTo>
                <a:lnTo>
                  <a:pt x="254" y="47"/>
                </a:lnTo>
                <a:lnTo>
                  <a:pt x="246" y="45"/>
                </a:lnTo>
                <a:lnTo>
                  <a:pt x="240" y="44"/>
                </a:lnTo>
                <a:lnTo>
                  <a:pt x="233" y="43"/>
                </a:lnTo>
                <a:lnTo>
                  <a:pt x="227" y="43"/>
                </a:lnTo>
                <a:lnTo>
                  <a:pt x="221" y="44"/>
                </a:lnTo>
                <a:lnTo>
                  <a:pt x="216" y="46"/>
                </a:lnTo>
                <a:lnTo>
                  <a:pt x="209" y="50"/>
                </a:lnTo>
                <a:lnTo>
                  <a:pt x="201" y="55"/>
                </a:lnTo>
                <a:lnTo>
                  <a:pt x="177" y="116"/>
                </a:lnTo>
                <a:lnTo>
                  <a:pt x="167" y="121"/>
                </a:lnTo>
                <a:lnTo>
                  <a:pt x="157" y="119"/>
                </a:lnTo>
                <a:lnTo>
                  <a:pt x="147" y="114"/>
                </a:lnTo>
                <a:lnTo>
                  <a:pt x="137" y="106"/>
                </a:lnTo>
                <a:lnTo>
                  <a:pt x="128" y="99"/>
                </a:lnTo>
                <a:lnTo>
                  <a:pt x="118" y="90"/>
                </a:lnTo>
                <a:lnTo>
                  <a:pt x="108" y="83"/>
                </a:lnTo>
                <a:lnTo>
                  <a:pt x="98" y="81"/>
                </a:lnTo>
                <a:lnTo>
                  <a:pt x="0" y="290"/>
                </a:lnTo>
                <a:lnTo>
                  <a:pt x="263" y="822"/>
                </a:lnTo>
                <a:lnTo>
                  <a:pt x="289" y="889"/>
                </a:lnTo>
                <a:lnTo>
                  <a:pt x="488" y="1469"/>
                </a:lnTo>
                <a:lnTo>
                  <a:pt x="488" y="1476"/>
                </a:lnTo>
                <a:lnTo>
                  <a:pt x="488" y="1485"/>
                </a:lnTo>
                <a:lnTo>
                  <a:pt x="487" y="1496"/>
                </a:lnTo>
                <a:lnTo>
                  <a:pt x="489" y="1507"/>
                </a:lnTo>
                <a:lnTo>
                  <a:pt x="638" y="1775"/>
                </a:lnTo>
                <a:lnTo>
                  <a:pt x="636" y="1790"/>
                </a:lnTo>
                <a:lnTo>
                  <a:pt x="637" y="1806"/>
                </a:lnTo>
                <a:lnTo>
                  <a:pt x="642" y="1822"/>
                </a:lnTo>
                <a:lnTo>
                  <a:pt x="653" y="1836"/>
                </a:lnTo>
                <a:lnTo>
                  <a:pt x="660" y="1841"/>
                </a:lnTo>
                <a:lnTo>
                  <a:pt x="667" y="1845"/>
                </a:lnTo>
                <a:lnTo>
                  <a:pt x="674" y="1851"/>
                </a:lnTo>
                <a:lnTo>
                  <a:pt x="681" y="1859"/>
                </a:lnTo>
                <a:lnTo>
                  <a:pt x="774" y="2125"/>
                </a:lnTo>
                <a:lnTo>
                  <a:pt x="830" y="2265"/>
                </a:lnTo>
                <a:lnTo>
                  <a:pt x="834" y="2267"/>
                </a:lnTo>
                <a:lnTo>
                  <a:pt x="838" y="2268"/>
                </a:lnTo>
                <a:lnTo>
                  <a:pt x="842" y="2270"/>
                </a:lnTo>
                <a:lnTo>
                  <a:pt x="846" y="2271"/>
                </a:lnTo>
                <a:lnTo>
                  <a:pt x="849" y="2274"/>
                </a:lnTo>
                <a:lnTo>
                  <a:pt x="855" y="2275"/>
                </a:lnTo>
                <a:lnTo>
                  <a:pt x="859" y="2277"/>
                </a:lnTo>
                <a:lnTo>
                  <a:pt x="866" y="2278"/>
                </a:lnTo>
                <a:lnTo>
                  <a:pt x="871" y="2283"/>
                </a:lnTo>
                <a:lnTo>
                  <a:pt x="875" y="2289"/>
                </a:lnTo>
                <a:lnTo>
                  <a:pt x="878" y="2295"/>
                </a:lnTo>
                <a:lnTo>
                  <a:pt x="879" y="2304"/>
                </a:lnTo>
                <a:lnTo>
                  <a:pt x="876" y="2314"/>
                </a:lnTo>
                <a:lnTo>
                  <a:pt x="876" y="2324"/>
                </a:lnTo>
                <a:lnTo>
                  <a:pt x="875" y="2335"/>
                </a:lnTo>
                <a:lnTo>
                  <a:pt x="871" y="2347"/>
                </a:lnTo>
                <a:lnTo>
                  <a:pt x="869" y="2355"/>
                </a:lnTo>
                <a:lnTo>
                  <a:pt x="869" y="2365"/>
                </a:lnTo>
                <a:lnTo>
                  <a:pt x="871" y="2376"/>
                </a:lnTo>
                <a:lnTo>
                  <a:pt x="875" y="2387"/>
                </a:lnTo>
                <a:lnTo>
                  <a:pt x="881" y="2398"/>
                </a:lnTo>
                <a:lnTo>
                  <a:pt x="890" y="2408"/>
                </a:lnTo>
                <a:lnTo>
                  <a:pt x="899" y="2415"/>
                </a:lnTo>
                <a:lnTo>
                  <a:pt x="911" y="2421"/>
                </a:lnTo>
                <a:lnTo>
                  <a:pt x="953" y="2456"/>
                </a:lnTo>
                <a:lnTo>
                  <a:pt x="993" y="2491"/>
                </a:lnTo>
                <a:lnTo>
                  <a:pt x="1035" y="2525"/>
                </a:lnTo>
                <a:lnTo>
                  <a:pt x="1076" y="2559"/>
                </a:lnTo>
                <a:lnTo>
                  <a:pt x="1117" y="2593"/>
                </a:lnTo>
                <a:lnTo>
                  <a:pt x="1160" y="2627"/>
                </a:lnTo>
                <a:lnTo>
                  <a:pt x="1201" y="2661"/>
                </a:lnTo>
                <a:lnTo>
                  <a:pt x="1243" y="2695"/>
                </a:lnTo>
                <a:lnTo>
                  <a:pt x="1284" y="2727"/>
                </a:lnTo>
                <a:lnTo>
                  <a:pt x="1326" y="2761"/>
                </a:lnTo>
                <a:lnTo>
                  <a:pt x="1366" y="2795"/>
                </a:lnTo>
                <a:lnTo>
                  <a:pt x="1407" y="2829"/>
                </a:lnTo>
                <a:lnTo>
                  <a:pt x="1448" y="2863"/>
                </a:lnTo>
                <a:lnTo>
                  <a:pt x="1489" y="2897"/>
                </a:lnTo>
                <a:lnTo>
                  <a:pt x="1528" y="2931"/>
                </a:lnTo>
                <a:lnTo>
                  <a:pt x="1569" y="2966"/>
                </a:lnTo>
                <a:lnTo>
                  <a:pt x="1591" y="2989"/>
                </a:lnTo>
                <a:lnTo>
                  <a:pt x="1613" y="3012"/>
                </a:lnTo>
                <a:lnTo>
                  <a:pt x="1635" y="3035"/>
                </a:lnTo>
                <a:lnTo>
                  <a:pt x="1657" y="3057"/>
                </a:lnTo>
                <a:lnTo>
                  <a:pt x="1679" y="3080"/>
                </a:lnTo>
                <a:lnTo>
                  <a:pt x="1702" y="3102"/>
                </a:lnTo>
                <a:lnTo>
                  <a:pt x="1724" y="3125"/>
                </a:lnTo>
                <a:lnTo>
                  <a:pt x="1745" y="3147"/>
                </a:lnTo>
                <a:lnTo>
                  <a:pt x="1768" y="3170"/>
                </a:lnTo>
                <a:lnTo>
                  <a:pt x="1790" y="3193"/>
                </a:lnTo>
                <a:lnTo>
                  <a:pt x="1812" y="3215"/>
                </a:lnTo>
                <a:lnTo>
                  <a:pt x="1835" y="3238"/>
                </a:lnTo>
                <a:lnTo>
                  <a:pt x="1857" y="3260"/>
                </a:lnTo>
                <a:lnTo>
                  <a:pt x="1879" y="3282"/>
                </a:lnTo>
                <a:lnTo>
                  <a:pt x="1901" y="3304"/>
                </a:lnTo>
                <a:lnTo>
                  <a:pt x="1924" y="3327"/>
                </a:lnTo>
                <a:lnTo>
                  <a:pt x="1946" y="3349"/>
                </a:lnTo>
                <a:lnTo>
                  <a:pt x="1969" y="3371"/>
                </a:lnTo>
                <a:lnTo>
                  <a:pt x="1991" y="3394"/>
                </a:lnTo>
                <a:lnTo>
                  <a:pt x="2014" y="3415"/>
                </a:lnTo>
                <a:lnTo>
                  <a:pt x="2035" y="3437"/>
                </a:lnTo>
                <a:lnTo>
                  <a:pt x="2058" y="3459"/>
                </a:lnTo>
                <a:lnTo>
                  <a:pt x="2081" y="3481"/>
                </a:lnTo>
                <a:lnTo>
                  <a:pt x="2103" y="3503"/>
                </a:lnTo>
                <a:lnTo>
                  <a:pt x="2126" y="3523"/>
                </a:lnTo>
                <a:lnTo>
                  <a:pt x="2149" y="3545"/>
                </a:lnTo>
                <a:lnTo>
                  <a:pt x="2171" y="3567"/>
                </a:lnTo>
                <a:lnTo>
                  <a:pt x="2193" y="3588"/>
                </a:lnTo>
                <a:lnTo>
                  <a:pt x="2216" y="3610"/>
                </a:lnTo>
                <a:lnTo>
                  <a:pt x="2239" y="3630"/>
                </a:lnTo>
                <a:lnTo>
                  <a:pt x="2262" y="3652"/>
                </a:lnTo>
                <a:lnTo>
                  <a:pt x="2285" y="3673"/>
                </a:lnTo>
                <a:close/>
                <a:moveTo>
                  <a:pt x="1753" y="5332"/>
                </a:moveTo>
                <a:lnTo>
                  <a:pt x="1779" y="5345"/>
                </a:lnTo>
                <a:lnTo>
                  <a:pt x="1804" y="5359"/>
                </a:lnTo>
                <a:lnTo>
                  <a:pt x="1829" y="5374"/>
                </a:lnTo>
                <a:lnTo>
                  <a:pt x="1854" y="5391"/>
                </a:lnTo>
                <a:lnTo>
                  <a:pt x="1878" y="5408"/>
                </a:lnTo>
                <a:lnTo>
                  <a:pt x="1902" y="5426"/>
                </a:lnTo>
                <a:lnTo>
                  <a:pt x="1927" y="5443"/>
                </a:lnTo>
                <a:lnTo>
                  <a:pt x="1951" y="5460"/>
                </a:lnTo>
                <a:lnTo>
                  <a:pt x="1975" y="5477"/>
                </a:lnTo>
                <a:lnTo>
                  <a:pt x="2000" y="5492"/>
                </a:lnTo>
                <a:lnTo>
                  <a:pt x="2026" y="5507"/>
                </a:lnTo>
                <a:lnTo>
                  <a:pt x="2052" y="5519"/>
                </a:lnTo>
                <a:lnTo>
                  <a:pt x="2079" y="5530"/>
                </a:lnTo>
                <a:lnTo>
                  <a:pt x="2106" y="5539"/>
                </a:lnTo>
                <a:lnTo>
                  <a:pt x="2136" y="5546"/>
                </a:lnTo>
                <a:lnTo>
                  <a:pt x="2165" y="5549"/>
                </a:lnTo>
                <a:lnTo>
                  <a:pt x="2184" y="5560"/>
                </a:lnTo>
                <a:lnTo>
                  <a:pt x="2201" y="5570"/>
                </a:lnTo>
                <a:lnTo>
                  <a:pt x="2220" y="5577"/>
                </a:lnTo>
                <a:lnTo>
                  <a:pt x="2237" y="5584"/>
                </a:lnTo>
                <a:lnTo>
                  <a:pt x="2254" y="5589"/>
                </a:lnTo>
                <a:lnTo>
                  <a:pt x="2273" y="5595"/>
                </a:lnTo>
                <a:lnTo>
                  <a:pt x="2290" y="5599"/>
                </a:lnTo>
                <a:lnTo>
                  <a:pt x="2308" y="5602"/>
                </a:lnTo>
                <a:lnTo>
                  <a:pt x="2325" y="5607"/>
                </a:lnTo>
                <a:lnTo>
                  <a:pt x="2343" y="5611"/>
                </a:lnTo>
                <a:lnTo>
                  <a:pt x="2361" y="5616"/>
                </a:lnTo>
                <a:lnTo>
                  <a:pt x="2379" y="5622"/>
                </a:lnTo>
                <a:lnTo>
                  <a:pt x="2396" y="5628"/>
                </a:lnTo>
                <a:lnTo>
                  <a:pt x="2414" y="5636"/>
                </a:lnTo>
                <a:lnTo>
                  <a:pt x="2431" y="5646"/>
                </a:lnTo>
                <a:lnTo>
                  <a:pt x="2449" y="5657"/>
                </a:lnTo>
                <a:lnTo>
                  <a:pt x="2469" y="5657"/>
                </a:lnTo>
                <a:lnTo>
                  <a:pt x="2489" y="5657"/>
                </a:lnTo>
                <a:lnTo>
                  <a:pt x="2506" y="5657"/>
                </a:lnTo>
                <a:lnTo>
                  <a:pt x="2522" y="5657"/>
                </a:lnTo>
                <a:lnTo>
                  <a:pt x="2537" y="5659"/>
                </a:lnTo>
                <a:lnTo>
                  <a:pt x="2552" y="5663"/>
                </a:lnTo>
                <a:lnTo>
                  <a:pt x="2568" y="5669"/>
                </a:lnTo>
                <a:lnTo>
                  <a:pt x="2585" y="5678"/>
                </a:lnTo>
                <a:lnTo>
                  <a:pt x="4746" y="6172"/>
                </a:lnTo>
                <a:lnTo>
                  <a:pt x="5175" y="6252"/>
                </a:lnTo>
                <a:lnTo>
                  <a:pt x="5178" y="6251"/>
                </a:lnTo>
                <a:lnTo>
                  <a:pt x="5182" y="6251"/>
                </a:lnTo>
                <a:lnTo>
                  <a:pt x="5185" y="6251"/>
                </a:lnTo>
                <a:lnTo>
                  <a:pt x="5189" y="6251"/>
                </a:lnTo>
                <a:lnTo>
                  <a:pt x="5195" y="6250"/>
                </a:lnTo>
                <a:lnTo>
                  <a:pt x="5199" y="6249"/>
                </a:lnTo>
                <a:lnTo>
                  <a:pt x="5203" y="6248"/>
                </a:lnTo>
                <a:lnTo>
                  <a:pt x="5209" y="6245"/>
                </a:lnTo>
                <a:lnTo>
                  <a:pt x="5214" y="6242"/>
                </a:lnTo>
                <a:lnTo>
                  <a:pt x="5219" y="6241"/>
                </a:lnTo>
                <a:lnTo>
                  <a:pt x="5224" y="6239"/>
                </a:lnTo>
                <a:lnTo>
                  <a:pt x="5231" y="6239"/>
                </a:lnTo>
                <a:lnTo>
                  <a:pt x="5236" y="6239"/>
                </a:lnTo>
                <a:lnTo>
                  <a:pt x="5244" y="6239"/>
                </a:lnTo>
                <a:lnTo>
                  <a:pt x="5250" y="6241"/>
                </a:lnTo>
                <a:lnTo>
                  <a:pt x="5259" y="6245"/>
                </a:lnTo>
                <a:lnTo>
                  <a:pt x="5512" y="6078"/>
                </a:lnTo>
                <a:lnTo>
                  <a:pt x="6025" y="6223"/>
                </a:lnTo>
                <a:lnTo>
                  <a:pt x="6118" y="6108"/>
                </a:lnTo>
                <a:lnTo>
                  <a:pt x="6169" y="6083"/>
                </a:lnTo>
                <a:lnTo>
                  <a:pt x="6180" y="6082"/>
                </a:lnTo>
                <a:lnTo>
                  <a:pt x="6192" y="6084"/>
                </a:lnTo>
                <a:lnTo>
                  <a:pt x="6203" y="6089"/>
                </a:lnTo>
                <a:lnTo>
                  <a:pt x="6214" y="6094"/>
                </a:lnTo>
                <a:lnTo>
                  <a:pt x="6225" y="6101"/>
                </a:lnTo>
                <a:lnTo>
                  <a:pt x="6236" y="6109"/>
                </a:lnTo>
                <a:lnTo>
                  <a:pt x="6248" y="6117"/>
                </a:lnTo>
                <a:lnTo>
                  <a:pt x="6259" y="6125"/>
                </a:lnTo>
                <a:lnTo>
                  <a:pt x="6298" y="6087"/>
                </a:lnTo>
                <a:lnTo>
                  <a:pt x="6336" y="6049"/>
                </a:lnTo>
                <a:lnTo>
                  <a:pt x="6373" y="6010"/>
                </a:lnTo>
                <a:lnTo>
                  <a:pt x="6410" y="5972"/>
                </a:lnTo>
                <a:lnTo>
                  <a:pt x="6447" y="5933"/>
                </a:lnTo>
                <a:lnTo>
                  <a:pt x="6484" y="5893"/>
                </a:lnTo>
                <a:lnTo>
                  <a:pt x="6520" y="5853"/>
                </a:lnTo>
                <a:lnTo>
                  <a:pt x="6555" y="5814"/>
                </a:lnTo>
                <a:lnTo>
                  <a:pt x="6591" y="5774"/>
                </a:lnTo>
                <a:lnTo>
                  <a:pt x="6626" y="5733"/>
                </a:lnTo>
                <a:lnTo>
                  <a:pt x="6661" y="5692"/>
                </a:lnTo>
                <a:lnTo>
                  <a:pt x="6696" y="5651"/>
                </a:lnTo>
                <a:lnTo>
                  <a:pt x="6730" y="5610"/>
                </a:lnTo>
                <a:lnTo>
                  <a:pt x="6765" y="5568"/>
                </a:lnTo>
                <a:lnTo>
                  <a:pt x="6798" y="5527"/>
                </a:lnTo>
                <a:lnTo>
                  <a:pt x="6832" y="5486"/>
                </a:lnTo>
                <a:lnTo>
                  <a:pt x="6866" y="5444"/>
                </a:lnTo>
                <a:lnTo>
                  <a:pt x="6900" y="5403"/>
                </a:lnTo>
                <a:lnTo>
                  <a:pt x="6933" y="5361"/>
                </a:lnTo>
                <a:lnTo>
                  <a:pt x="6967" y="5320"/>
                </a:lnTo>
                <a:lnTo>
                  <a:pt x="7002" y="5278"/>
                </a:lnTo>
                <a:lnTo>
                  <a:pt x="7036" y="5237"/>
                </a:lnTo>
                <a:lnTo>
                  <a:pt x="7070" y="5195"/>
                </a:lnTo>
                <a:lnTo>
                  <a:pt x="7105" y="5154"/>
                </a:lnTo>
                <a:lnTo>
                  <a:pt x="7138" y="5113"/>
                </a:lnTo>
                <a:lnTo>
                  <a:pt x="7173" y="5071"/>
                </a:lnTo>
                <a:lnTo>
                  <a:pt x="7208" y="5031"/>
                </a:lnTo>
                <a:lnTo>
                  <a:pt x="7243" y="4989"/>
                </a:lnTo>
                <a:lnTo>
                  <a:pt x="7279" y="4949"/>
                </a:lnTo>
                <a:lnTo>
                  <a:pt x="7314" y="4909"/>
                </a:lnTo>
                <a:lnTo>
                  <a:pt x="7351" y="4868"/>
                </a:lnTo>
                <a:lnTo>
                  <a:pt x="7387" y="4828"/>
                </a:lnTo>
                <a:lnTo>
                  <a:pt x="7397" y="4809"/>
                </a:lnTo>
                <a:lnTo>
                  <a:pt x="7406" y="4792"/>
                </a:lnTo>
                <a:lnTo>
                  <a:pt x="7414" y="4774"/>
                </a:lnTo>
                <a:lnTo>
                  <a:pt x="7423" y="4758"/>
                </a:lnTo>
                <a:lnTo>
                  <a:pt x="7432" y="4742"/>
                </a:lnTo>
                <a:lnTo>
                  <a:pt x="7440" y="4726"/>
                </a:lnTo>
                <a:lnTo>
                  <a:pt x="7451" y="4713"/>
                </a:lnTo>
                <a:lnTo>
                  <a:pt x="7463" y="4701"/>
                </a:lnTo>
                <a:lnTo>
                  <a:pt x="7473" y="4704"/>
                </a:lnTo>
                <a:lnTo>
                  <a:pt x="7482" y="4701"/>
                </a:lnTo>
                <a:lnTo>
                  <a:pt x="7489" y="4695"/>
                </a:lnTo>
                <a:lnTo>
                  <a:pt x="7496" y="4684"/>
                </a:lnTo>
                <a:lnTo>
                  <a:pt x="7503" y="4673"/>
                </a:lnTo>
                <a:lnTo>
                  <a:pt x="7508" y="4660"/>
                </a:lnTo>
                <a:lnTo>
                  <a:pt x="7513" y="4647"/>
                </a:lnTo>
                <a:lnTo>
                  <a:pt x="7520" y="4635"/>
                </a:lnTo>
                <a:lnTo>
                  <a:pt x="7150" y="4007"/>
                </a:lnTo>
                <a:lnTo>
                  <a:pt x="6977" y="3925"/>
                </a:lnTo>
                <a:lnTo>
                  <a:pt x="6968" y="3919"/>
                </a:lnTo>
                <a:lnTo>
                  <a:pt x="6961" y="3919"/>
                </a:lnTo>
                <a:lnTo>
                  <a:pt x="6954" y="3923"/>
                </a:lnTo>
                <a:lnTo>
                  <a:pt x="6949" y="3928"/>
                </a:lnTo>
                <a:lnTo>
                  <a:pt x="6944" y="3936"/>
                </a:lnTo>
                <a:lnTo>
                  <a:pt x="6942" y="3944"/>
                </a:lnTo>
                <a:lnTo>
                  <a:pt x="6940" y="3953"/>
                </a:lnTo>
                <a:lnTo>
                  <a:pt x="6939" y="3960"/>
                </a:lnTo>
                <a:lnTo>
                  <a:pt x="6938" y="3977"/>
                </a:lnTo>
                <a:lnTo>
                  <a:pt x="6936" y="3991"/>
                </a:lnTo>
                <a:lnTo>
                  <a:pt x="6935" y="4004"/>
                </a:lnTo>
                <a:lnTo>
                  <a:pt x="6933" y="4018"/>
                </a:lnTo>
                <a:lnTo>
                  <a:pt x="7195" y="4500"/>
                </a:lnTo>
                <a:lnTo>
                  <a:pt x="7195" y="4505"/>
                </a:lnTo>
                <a:lnTo>
                  <a:pt x="7194" y="4511"/>
                </a:lnTo>
                <a:lnTo>
                  <a:pt x="7192" y="4518"/>
                </a:lnTo>
                <a:lnTo>
                  <a:pt x="7187" y="4525"/>
                </a:lnTo>
                <a:lnTo>
                  <a:pt x="7179" y="4526"/>
                </a:lnTo>
                <a:lnTo>
                  <a:pt x="7170" y="4527"/>
                </a:lnTo>
                <a:lnTo>
                  <a:pt x="7160" y="4526"/>
                </a:lnTo>
                <a:lnTo>
                  <a:pt x="7150" y="4524"/>
                </a:lnTo>
                <a:lnTo>
                  <a:pt x="7140" y="4521"/>
                </a:lnTo>
                <a:lnTo>
                  <a:pt x="7129" y="4519"/>
                </a:lnTo>
                <a:lnTo>
                  <a:pt x="7117" y="4516"/>
                </a:lnTo>
                <a:lnTo>
                  <a:pt x="7105" y="4515"/>
                </a:lnTo>
                <a:lnTo>
                  <a:pt x="7100" y="4515"/>
                </a:lnTo>
                <a:lnTo>
                  <a:pt x="7092" y="4517"/>
                </a:lnTo>
                <a:lnTo>
                  <a:pt x="7084" y="4521"/>
                </a:lnTo>
                <a:lnTo>
                  <a:pt x="7077" y="4530"/>
                </a:lnTo>
                <a:lnTo>
                  <a:pt x="6989" y="4553"/>
                </a:lnTo>
                <a:lnTo>
                  <a:pt x="6943" y="4552"/>
                </a:lnTo>
                <a:lnTo>
                  <a:pt x="6952" y="4571"/>
                </a:lnTo>
                <a:lnTo>
                  <a:pt x="6962" y="4588"/>
                </a:lnTo>
                <a:lnTo>
                  <a:pt x="6973" y="4604"/>
                </a:lnTo>
                <a:lnTo>
                  <a:pt x="6985" y="4620"/>
                </a:lnTo>
                <a:lnTo>
                  <a:pt x="6997" y="4634"/>
                </a:lnTo>
                <a:lnTo>
                  <a:pt x="7010" y="4647"/>
                </a:lnTo>
                <a:lnTo>
                  <a:pt x="7024" y="4659"/>
                </a:lnTo>
                <a:lnTo>
                  <a:pt x="7039" y="4670"/>
                </a:lnTo>
                <a:lnTo>
                  <a:pt x="7054" y="4680"/>
                </a:lnTo>
                <a:lnTo>
                  <a:pt x="7071" y="4688"/>
                </a:lnTo>
                <a:lnTo>
                  <a:pt x="7087" y="4696"/>
                </a:lnTo>
                <a:lnTo>
                  <a:pt x="7104" y="4702"/>
                </a:lnTo>
                <a:lnTo>
                  <a:pt x="7121" y="4708"/>
                </a:lnTo>
                <a:lnTo>
                  <a:pt x="7140" y="4713"/>
                </a:lnTo>
                <a:lnTo>
                  <a:pt x="7157" y="4717"/>
                </a:lnTo>
                <a:lnTo>
                  <a:pt x="7176" y="4720"/>
                </a:lnTo>
                <a:lnTo>
                  <a:pt x="7181" y="4725"/>
                </a:lnTo>
                <a:lnTo>
                  <a:pt x="7184" y="4731"/>
                </a:lnTo>
                <a:lnTo>
                  <a:pt x="7186" y="4737"/>
                </a:lnTo>
                <a:lnTo>
                  <a:pt x="7185" y="4743"/>
                </a:lnTo>
                <a:lnTo>
                  <a:pt x="7176" y="4758"/>
                </a:lnTo>
                <a:lnTo>
                  <a:pt x="7166" y="4773"/>
                </a:lnTo>
                <a:lnTo>
                  <a:pt x="7155" y="4788"/>
                </a:lnTo>
                <a:lnTo>
                  <a:pt x="7145" y="4802"/>
                </a:lnTo>
                <a:lnTo>
                  <a:pt x="7133" y="4815"/>
                </a:lnTo>
                <a:lnTo>
                  <a:pt x="7122" y="4829"/>
                </a:lnTo>
                <a:lnTo>
                  <a:pt x="7110" y="4842"/>
                </a:lnTo>
                <a:lnTo>
                  <a:pt x="7099" y="4855"/>
                </a:lnTo>
                <a:lnTo>
                  <a:pt x="7087" y="4868"/>
                </a:lnTo>
                <a:lnTo>
                  <a:pt x="7075" y="4881"/>
                </a:lnTo>
                <a:lnTo>
                  <a:pt x="7063" y="4894"/>
                </a:lnTo>
                <a:lnTo>
                  <a:pt x="7051" y="4908"/>
                </a:lnTo>
                <a:lnTo>
                  <a:pt x="7039" y="4922"/>
                </a:lnTo>
                <a:lnTo>
                  <a:pt x="7027" y="4935"/>
                </a:lnTo>
                <a:lnTo>
                  <a:pt x="7015" y="4949"/>
                </a:lnTo>
                <a:lnTo>
                  <a:pt x="7003" y="4963"/>
                </a:lnTo>
                <a:lnTo>
                  <a:pt x="6978" y="4996"/>
                </a:lnTo>
                <a:lnTo>
                  <a:pt x="6953" y="5027"/>
                </a:lnTo>
                <a:lnTo>
                  <a:pt x="6928" y="5059"/>
                </a:lnTo>
                <a:lnTo>
                  <a:pt x="6902" y="5092"/>
                </a:lnTo>
                <a:lnTo>
                  <a:pt x="6877" y="5123"/>
                </a:lnTo>
                <a:lnTo>
                  <a:pt x="6852" y="5155"/>
                </a:lnTo>
                <a:lnTo>
                  <a:pt x="6827" y="5187"/>
                </a:lnTo>
                <a:lnTo>
                  <a:pt x="6802" y="5217"/>
                </a:lnTo>
                <a:lnTo>
                  <a:pt x="6775" y="5249"/>
                </a:lnTo>
                <a:lnTo>
                  <a:pt x="6750" y="5281"/>
                </a:lnTo>
                <a:lnTo>
                  <a:pt x="6725" y="5311"/>
                </a:lnTo>
                <a:lnTo>
                  <a:pt x="6699" y="5342"/>
                </a:lnTo>
                <a:lnTo>
                  <a:pt x="6674" y="5373"/>
                </a:lnTo>
                <a:lnTo>
                  <a:pt x="6648" y="5404"/>
                </a:lnTo>
                <a:lnTo>
                  <a:pt x="6622" y="5434"/>
                </a:lnTo>
                <a:lnTo>
                  <a:pt x="6597" y="5465"/>
                </a:lnTo>
                <a:lnTo>
                  <a:pt x="6570" y="5495"/>
                </a:lnTo>
                <a:lnTo>
                  <a:pt x="6544" y="5525"/>
                </a:lnTo>
                <a:lnTo>
                  <a:pt x="6518" y="5555"/>
                </a:lnTo>
                <a:lnTo>
                  <a:pt x="6491" y="5585"/>
                </a:lnTo>
                <a:lnTo>
                  <a:pt x="6465" y="5615"/>
                </a:lnTo>
                <a:lnTo>
                  <a:pt x="6439" y="5645"/>
                </a:lnTo>
                <a:lnTo>
                  <a:pt x="6411" y="5674"/>
                </a:lnTo>
                <a:lnTo>
                  <a:pt x="6384" y="5704"/>
                </a:lnTo>
                <a:lnTo>
                  <a:pt x="6358" y="5733"/>
                </a:lnTo>
                <a:lnTo>
                  <a:pt x="6331" y="5763"/>
                </a:lnTo>
                <a:lnTo>
                  <a:pt x="6302" y="5791"/>
                </a:lnTo>
                <a:lnTo>
                  <a:pt x="6275" y="5820"/>
                </a:lnTo>
                <a:lnTo>
                  <a:pt x="6248" y="5849"/>
                </a:lnTo>
                <a:lnTo>
                  <a:pt x="6219" y="5878"/>
                </a:lnTo>
                <a:lnTo>
                  <a:pt x="6191" y="5907"/>
                </a:lnTo>
                <a:lnTo>
                  <a:pt x="6163" y="5935"/>
                </a:lnTo>
                <a:lnTo>
                  <a:pt x="6141" y="5939"/>
                </a:lnTo>
                <a:lnTo>
                  <a:pt x="6119" y="5941"/>
                </a:lnTo>
                <a:lnTo>
                  <a:pt x="6098" y="5941"/>
                </a:lnTo>
                <a:lnTo>
                  <a:pt x="6077" y="5939"/>
                </a:lnTo>
                <a:lnTo>
                  <a:pt x="6054" y="5936"/>
                </a:lnTo>
                <a:lnTo>
                  <a:pt x="6032" y="5932"/>
                </a:lnTo>
                <a:lnTo>
                  <a:pt x="6010" y="5926"/>
                </a:lnTo>
                <a:lnTo>
                  <a:pt x="5988" y="5921"/>
                </a:lnTo>
                <a:lnTo>
                  <a:pt x="5965" y="5914"/>
                </a:lnTo>
                <a:lnTo>
                  <a:pt x="5944" y="5908"/>
                </a:lnTo>
                <a:lnTo>
                  <a:pt x="5921" y="5901"/>
                </a:lnTo>
                <a:lnTo>
                  <a:pt x="5898" y="5895"/>
                </a:lnTo>
                <a:lnTo>
                  <a:pt x="5876" y="5889"/>
                </a:lnTo>
                <a:lnTo>
                  <a:pt x="5853" y="5885"/>
                </a:lnTo>
                <a:lnTo>
                  <a:pt x="5830" y="5881"/>
                </a:lnTo>
                <a:lnTo>
                  <a:pt x="5807" y="5880"/>
                </a:lnTo>
                <a:lnTo>
                  <a:pt x="5776" y="5869"/>
                </a:lnTo>
                <a:lnTo>
                  <a:pt x="5744" y="5859"/>
                </a:lnTo>
                <a:lnTo>
                  <a:pt x="5712" y="5849"/>
                </a:lnTo>
                <a:lnTo>
                  <a:pt x="5681" y="5839"/>
                </a:lnTo>
                <a:lnTo>
                  <a:pt x="5650" y="5829"/>
                </a:lnTo>
                <a:lnTo>
                  <a:pt x="5619" y="5820"/>
                </a:lnTo>
                <a:lnTo>
                  <a:pt x="5587" y="5812"/>
                </a:lnTo>
                <a:lnTo>
                  <a:pt x="5557" y="5803"/>
                </a:lnTo>
                <a:lnTo>
                  <a:pt x="5525" y="5794"/>
                </a:lnTo>
                <a:lnTo>
                  <a:pt x="5494" y="5787"/>
                </a:lnTo>
                <a:lnTo>
                  <a:pt x="5464" y="5779"/>
                </a:lnTo>
                <a:lnTo>
                  <a:pt x="5432" y="5770"/>
                </a:lnTo>
                <a:lnTo>
                  <a:pt x="5402" y="5763"/>
                </a:lnTo>
                <a:lnTo>
                  <a:pt x="5371" y="5756"/>
                </a:lnTo>
                <a:lnTo>
                  <a:pt x="5340" y="5748"/>
                </a:lnTo>
                <a:lnTo>
                  <a:pt x="5309" y="5741"/>
                </a:lnTo>
                <a:lnTo>
                  <a:pt x="5279" y="5733"/>
                </a:lnTo>
                <a:lnTo>
                  <a:pt x="5248" y="5726"/>
                </a:lnTo>
                <a:lnTo>
                  <a:pt x="5218" y="5719"/>
                </a:lnTo>
                <a:lnTo>
                  <a:pt x="5187" y="5711"/>
                </a:lnTo>
                <a:lnTo>
                  <a:pt x="5155" y="5704"/>
                </a:lnTo>
                <a:lnTo>
                  <a:pt x="5125" y="5696"/>
                </a:lnTo>
                <a:lnTo>
                  <a:pt x="5094" y="5688"/>
                </a:lnTo>
                <a:lnTo>
                  <a:pt x="5064" y="5681"/>
                </a:lnTo>
                <a:lnTo>
                  <a:pt x="5033" y="5672"/>
                </a:lnTo>
                <a:lnTo>
                  <a:pt x="5003" y="5664"/>
                </a:lnTo>
                <a:lnTo>
                  <a:pt x="4972" y="5656"/>
                </a:lnTo>
                <a:lnTo>
                  <a:pt x="4942" y="5647"/>
                </a:lnTo>
                <a:lnTo>
                  <a:pt x="4911" y="5638"/>
                </a:lnTo>
                <a:lnTo>
                  <a:pt x="4880" y="5630"/>
                </a:lnTo>
                <a:lnTo>
                  <a:pt x="4849" y="5620"/>
                </a:lnTo>
                <a:lnTo>
                  <a:pt x="4819" y="5610"/>
                </a:lnTo>
                <a:lnTo>
                  <a:pt x="4748" y="5599"/>
                </a:lnTo>
                <a:lnTo>
                  <a:pt x="3429" y="5224"/>
                </a:lnTo>
                <a:lnTo>
                  <a:pt x="2629" y="4993"/>
                </a:lnTo>
                <a:lnTo>
                  <a:pt x="2657" y="4944"/>
                </a:lnTo>
                <a:lnTo>
                  <a:pt x="2688" y="4896"/>
                </a:lnTo>
                <a:lnTo>
                  <a:pt x="2722" y="4848"/>
                </a:lnTo>
                <a:lnTo>
                  <a:pt x="2758" y="4802"/>
                </a:lnTo>
                <a:lnTo>
                  <a:pt x="2797" y="4757"/>
                </a:lnTo>
                <a:lnTo>
                  <a:pt x="2838" y="4711"/>
                </a:lnTo>
                <a:lnTo>
                  <a:pt x="2880" y="4668"/>
                </a:lnTo>
                <a:lnTo>
                  <a:pt x="2923" y="4623"/>
                </a:lnTo>
                <a:lnTo>
                  <a:pt x="2966" y="4579"/>
                </a:lnTo>
                <a:lnTo>
                  <a:pt x="3009" y="4535"/>
                </a:lnTo>
                <a:lnTo>
                  <a:pt x="3052" y="4490"/>
                </a:lnTo>
                <a:lnTo>
                  <a:pt x="3094" y="4444"/>
                </a:lnTo>
                <a:lnTo>
                  <a:pt x="3134" y="4398"/>
                </a:lnTo>
                <a:lnTo>
                  <a:pt x="3173" y="4351"/>
                </a:lnTo>
                <a:lnTo>
                  <a:pt x="3209" y="4303"/>
                </a:lnTo>
                <a:lnTo>
                  <a:pt x="3243" y="4254"/>
                </a:lnTo>
                <a:lnTo>
                  <a:pt x="3274" y="4230"/>
                </a:lnTo>
                <a:lnTo>
                  <a:pt x="3303" y="4205"/>
                </a:lnTo>
                <a:lnTo>
                  <a:pt x="3332" y="4180"/>
                </a:lnTo>
                <a:lnTo>
                  <a:pt x="3358" y="4154"/>
                </a:lnTo>
                <a:lnTo>
                  <a:pt x="3383" y="4128"/>
                </a:lnTo>
                <a:lnTo>
                  <a:pt x="3408" y="4100"/>
                </a:lnTo>
                <a:lnTo>
                  <a:pt x="3432" y="4073"/>
                </a:lnTo>
                <a:lnTo>
                  <a:pt x="3455" y="4046"/>
                </a:lnTo>
                <a:lnTo>
                  <a:pt x="3478" y="4018"/>
                </a:lnTo>
                <a:lnTo>
                  <a:pt x="3499" y="3990"/>
                </a:lnTo>
                <a:lnTo>
                  <a:pt x="3522" y="3962"/>
                </a:lnTo>
                <a:lnTo>
                  <a:pt x="3544" y="3935"/>
                </a:lnTo>
                <a:lnTo>
                  <a:pt x="3567" y="3906"/>
                </a:lnTo>
                <a:lnTo>
                  <a:pt x="3590" y="3879"/>
                </a:lnTo>
                <a:lnTo>
                  <a:pt x="3613" y="3852"/>
                </a:lnTo>
                <a:lnTo>
                  <a:pt x="3637" y="3826"/>
                </a:lnTo>
                <a:lnTo>
                  <a:pt x="3650" y="3807"/>
                </a:lnTo>
                <a:lnTo>
                  <a:pt x="3663" y="3790"/>
                </a:lnTo>
                <a:lnTo>
                  <a:pt x="3677" y="3772"/>
                </a:lnTo>
                <a:lnTo>
                  <a:pt x="3691" y="3754"/>
                </a:lnTo>
                <a:lnTo>
                  <a:pt x="3705" y="3737"/>
                </a:lnTo>
                <a:lnTo>
                  <a:pt x="3720" y="3720"/>
                </a:lnTo>
                <a:lnTo>
                  <a:pt x="3735" y="3705"/>
                </a:lnTo>
                <a:lnTo>
                  <a:pt x="3749" y="3688"/>
                </a:lnTo>
                <a:lnTo>
                  <a:pt x="3764" y="3673"/>
                </a:lnTo>
                <a:lnTo>
                  <a:pt x="3780" y="3659"/>
                </a:lnTo>
                <a:lnTo>
                  <a:pt x="3796" y="3646"/>
                </a:lnTo>
                <a:lnTo>
                  <a:pt x="3811" y="3633"/>
                </a:lnTo>
                <a:lnTo>
                  <a:pt x="3828" y="3621"/>
                </a:lnTo>
                <a:lnTo>
                  <a:pt x="3844" y="3610"/>
                </a:lnTo>
                <a:lnTo>
                  <a:pt x="3861" y="3600"/>
                </a:lnTo>
                <a:lnTo>
                  <a:pt x="3878" y="3591"/>
                </a:lnTo>
                <a:lnTo>
                  <a:pt x="3924" y="3604"/>
                </a:lnTo>
                <a:lnTo>
                  <a:pt x="3970" y="3617"/>
                </a:lnTo>
                <a:lnTo>
                  <a:pt x="4017" y="3631"/>
                </a:lnTo>
                <a:lnTo>
                  <a:pt x="4064" y="3647"/>
                </a:lnTo>
                <a:lnTo>
                  <a:pt x="4111" y="3662"/>
                </a:lnTo>
                <a:lnTo>
                  <a:pt x="4158" y="3678"/>
                </a:lnTo>
                <a:lnTo>
                  <a:pt x="4206" y="3696"/>
                </a:lnTo>
                <a:lnTo>
                  <a:pt x="4254" y="3713"/>
                </a:lnTo>
                <a:lnTo>
                  <a:pt x="4302" y="3732"/>
                </a:lnTo>
                <a:lnTo>
                  <a:pt x="4350" y="3749"/>
                </a:lnTo>
                <a:lnTo>
                  <a:pt x="4398" y="3769"/>
                </a:lnTo>
                <a:lnTo>
                  <a:pt x="4446" y="3787"/>
                </a:lnTo>
                <a:lnTo>
                  <a:pt x="4494" y="3806"/>
                </a:lnTo>
                <a:lnTo>
                  <a:pt x="4543" y="3826"/>
                </a:lnTo>
                <a:lnTo>
                  <a:pt x="4591" y="3845"/>
                </a:lnTo>
                <a:lnTo>
                  <a:pt x="4640" y="3864"/>
                </a:lnTo>
                <a:lnTo>
                  <a:pt x="4689" y="3883"/>
                </a:lnTo>
                <a:lnTo>
                  <a:pt x="4737" y="3903"/>
                </a:lnTo>
                <a:lnTo>
                  <a:pt x="4786" y="3922"/>
                </a:lnTo>
                <a:lnTo>
                  <a:pt x="4835" y="3940"/>
                </a:lnTo>
                <a:lnTo>
                  <a:pt x="4884" y="3959"/>
                </a:lnTo>
                <a:lnTo>
                  <a:pt x="4933" y="3976"/>
                </a:lnTo>
                <a:lnTo>
                  <a:pt x="4982" y="3994"/>
                </a:lnTo>
                <a:lnTo>
                  <a:pt x="5031" y="4010"/>
                </a:lnTo>
                <a:lnTo>
                  <a:pt x="5080" y="4026"/>
                </a:lnTo>
                <a:lnTo>
                  <a:pt x="5129" y="4043"/>
                </a:lnTo>
                <a:lnTo>
                  <a:pt x="5177" y="4057"/>
                </a:lnTo>
                <a:lnTo>
                  <a:pt x="5226" y="4071"/>
                </a:lnTo>
                <a:lnTo>
                  <a:pt x="5275" y="4084"/>
                </a:lnTo>
                <a:lnTo>
                  <a:pt x="5324" y="4096"/>
                </a:lnTo>
                <a:lnTo>
                  <a:pt x="5372" y="4108"/>
                </a:lnTo>
                <a:lnTo>
                  <a:pt x="5421" y="4118"/>
                </a:lnTo>
                <a:lnTo>
                  <a:pt x="5438" y="4127"/>
                </a:lnTo>
                <a:lnTo>
                  <a:pt x="5454" y="4136"/>
                </a:lnTo>
                <a:lnTo>
                  <a:pt x="5470" y="4145"/>
                </a:lnTo>
                <a:lnTo>
                  <a:pt x="5487" y="4154"/>
                </a:lnTo>
                <a:lnTo>
                  <a:pt x="5503" y="4164"/>
                </a:lnTo>
                <a:lnTo>
                  <a:pt x="5520" y="4172"/>
                </a:lnTo>
                <a:lnTo>
                  <a:pt x="5535" y="4181"/>
                </a:lnTo>
                <a:lnTo>
                  <a:pt x="5551" y="4190"/>
                </a:lnTo>
                <a:lnTo>
                  <a:pt x="5566" y="4199"/>
                </a:lnTo>
                <a:lnTo>
                  <a:pt x="5582" y="4207"/>
                </a:lnTo>
                <a:lnTo>
                  <a:pt x="5598" y="4215"/>
                </a:lnTo>
                <a:lnTo>
                  <a:pt x="5613" y="4224"/>
                </a:lnTo>
                <a:lnTo>
                  <a:pt x="5629" y="4231"/>
                </a:lnTo>
                <a:lnTo>
                  <a:pt x="5645" y="4239"/>
                </a:lnTo>
                <a:lnTo>
                  <a:pt x="5660" y="4247"/>
                </a:lnTo>
                <a:lnTo>
                  <a:pt x="5677" y="4253"/>
                </a:lnTo>
                <a:lnTo>
                  <a:pt x="5682" y="4256"/>
                </a:lnTo>
                <a:lnTo>
                  <a:pt x="5687" y="4259"/>
                </a:lnTo>
                <a:lnTo>
                  <a:pt x="5692" y="4260"/>
                </a:lnTo>
                <a:lnTo>
                  <a:pt x="5696" y="4261"/>
                </a:lnTo>
                <a:lnTo>
                  <a:pt x="5702" y="4261"/>
                </a:lnTo>
                <a:lnTo>
                  <a:pt x="5707" y="4261"/>
                </a:lnTo>
                <a:lnTo>
                  <a:pt x="5714" y="4261"/>
                </a:lnTo>
                <a:lnTo>
                  <a:pt x="5721" y="4260"/>
                </a:lnTo>
                <a:lnTo>
                  <a:pt x="5743" y="4275"/>
                </a:lnTo>
                <a:lnTo>
                  <a:pt x="5766" y="4288"/>
                </a:lnTo>
                <a:lnTo>
                  <a:pt x="5790" y="4299"/>
                </a:lnTo>
                <a:lnTo>
                  <a:pt x="5814" y="4308"/>
                </a:lnTo>
                <a:lnTo>
                  <a:pt x="5839" y="4316"/>
                </a:lnTo>
                <a:lnTo>
                  <a:pt x="5865" y="4323"/>
                </a:lnTo>
                <a:lnTo>
                  <a:pt x="5890" y="4328"/>
                </a:lnTo>
                <a:lnTo>
                  <a:pt x="5916" y="4334"/>
                </a:lnTo>
                <a:lnTo>
                  <a:pt x="5943" y="4339"/>
                </a:lnTo>
                <a:lnTo>
                  <a:pt x="5970" y="4345"/>
                </a:lnTo>
                <a:lnTo>
                  <a:pt x="5996" y="4350"/>
                </a:lnTo>
                <a:lnTo>
                  <a:pt x="6021" y="4356"/>
                </a:lnTo>
                <a:lnTo>
                  <a:pt x="6047" y="4363"/>
                </a:lnTo>
                <a:lnTo>
                  <a:pt x="6072" y="4371"/>
                </a:lnTo>
                <a:lnTo>
                  <a:pt x="6097" y="4381"/>
                </a:lnTo>
                <a:lnTo>
                  <a:pt x="6121" y="4392"/>
                </a:lnTo>
                <a:lnTo>
                  <a:pt x="6155" y="4400"/>
                </a:lnTo>
                <a:lnTo>
                  <a:pt x="6188" y="4408"/>
                </a:lnTo>
                <a:lnTo>
                  <a:pt x="6222" y="4415"/>
                </a:lnTo>
                <a:lnTo>
                  <a:pt x="6254" y="4421"/>
                </a:lnTo>
                <a:lnTo>
                  <a:pt x="6287" y="4427"/>
                </a:lnTo>
                <a:lnTo>
                  <a:pt x="6320" y="4432"/>
                </a:lnTo>
                <a:lnTo>
                  <a:pt x="6352" y="4436"/>
                </a:lnTo>
                <a:lnTo>
                  <a:pt x="6384" y="4441"/>
                </a:lnTo>
                <a:lnTo>
                  <a:pt x="6417" y="4446"/>
                </a:lnTo>
                <a:lnTo>
                  <a:pt x="6448" y="4452"/>
                </a:lnTo>
                <a:lnTo>
                  <a:pt x="6481" y="4457"/>
                </a:lnTo>
                <a:lnTo>
                  <a:pt x="6513" y="4463"/>
                </a:lnTo>
                <a:lnTo>
                  <a:pt x="6544" y="4469"/>
                </a:lnTo>
                <a:lnTo>
                  <a:pt x="6576" y="4477"/>
                </a:lnTo>
                <a:lnTo>
                  <a:pt x="6608" y="4484"/>
                </a:lnTo>
                <a:lnTo>
                  <a:pt x="6639" y="4494"/>
                </a:lnTo>
                <a:lnTo>
                  <a:pt x="6637" y="4480"/>
                </a:lnTo>
                <a:lnTo>
                  <a:pt x="6628" y="4468"/>
                </a:lnTo>
                <a:lnTo>
                  <a:pt x="6616" y="4458"/>
                </a:lnTo>
                <a:lnTo>
                  <a:pt x="6600" y="4451"/>
                </a:lnTo>
                <a:lnTo>
                  <a:pt x="6582" y="4443"/>
                </a:lnTo>
                <a:lnTo>
                  <a:pt x="6564" y="4435"/>
                </a:lnTo>
                <a:lnTo>
                  <a:pt x="6548" y="4428"/>
                </a:lnTo>
                <a:lnTo>
                  <a:pt x="6532" y="4418"/>
                </a:lnTo>
                <a:lnTo>
                  <a:pt x="6529" y="4410"/>
                </a:lnTo>
                <a:lnTo>
                  <a:pt x="6528" y="4400"/>
                </a:lnTo>
                <a:lnTo>
                  <a:pt x="6530" y="4389"/>
                </a:lnTo>
                <a:lnTo>
                  <a:pt x="6539" y="4379"/>
                </a:lnTo>
                <a:lnTo>
                  <a:pt x="3982" y="3361"/>
                </a:lnTo>
                <a:lnTo>
                  <a:pt x="3934" y="3269"/>
                </a:lnTo>
                <a:lnTo>
                  <a:pt x="3886" y="3177"/>
                </a:lnTo>
                <a:lnTo>
                  <a:pt x="3837" y="3085"/>
                </a:lnTo>
                <a:lnTo>
                  <a:pt x="3789" y="2993"/>
                </a:lnTo>
                <a:lnTo>
                  <a:pt x="3741" y="2902"/>
                </a:lnTo>
                <a:lnTo>
                  <a:pt x="3693" y="2810"/>
                </a:lnTo>
                <a:lnTo>
                  <a:pt x="3644" y="2719"/>
                </a:lnTo>
                <a:lnTo>
                  <a:pt x="3596" y="2627"/>
                </a:lnTo>
                <a:lnTo>
                  <a:pt x="3549" y="2534"/>
                </a:lnTo>
                <a:lnTo>
                  <a:pt x="3501" y="2443"/>
                </a:lnTo>
                <a:lnTo>
                  <a:pt x="3453" y="2351"/>
                </a:lnTo>
                <a:lnTo>
                  <a:pt x="3405" y="2259"/>
                </a:lnTo>
                <a:lnTo>
                  <a:pt x="3357" y="2168"/>
                </a:lnTo>
                <a:lnTo>
                  <a:pt x="3309" y="2076"/>
                </a:lnTo>
                <a:lnTo>
                  <a:pt x="3261" y="1985"/>
                </a:lnTo>
                <a:lnTo>
                  <a:pt x="3213" y="1893"/>
                </a:lnTo>
                <a:lnTo>
                  <a:pt x="3166" y="1801"/>
                </a:lnTo>
                <a:lnTo>
                  <a:pt x="3118" y="1709"/>
                </a:lnTo>
                <a:lnTo>
                  <a:pt x="3071" y="1617"/>
                </a:lnTo>
                <a:lnTo>
                  <a:pt x="3023" y="1525"/>
                </a:lnTo>
                <a:lnTo>
                  <a:pt x="2976" y="1433"/>
                </a:lnTo>
                <a:lnTo>
                  <a:pt x="2929" y="1341"/>
                </a:lnTo>
                <a:lnTo>
                  <a:pt x="2882" y="1248"/>
                </a:lnTo>
                <a:lnTo>
                  <a:pt x="2836" y="1157"/>
                </a:lnTo>
                <a:lnTo>
                  <a:pt x="2790" y="1064"/>
                </a:lnTo>
                <a:lnTo>
                  <a:pt x="2743" y="971"/>
                </a:lnTo>
                <a:lnTo>
                  <a:pt x="2697" y="879"/>
                </a:lnTo>
                <a:lnTo>
                  <a:pt x="2651" y="786"/>
                </a:lnTo>
                <a:lnTo>
                  <a:pt x="2606" y="693"/>
                </a:lnTo>
                <a:lnTo>
                  <a:pt x="2560" y="600"/>
                </a:lnTo>
                <a:lnTo>
                  <a:pt x="2514" y="508"/>
                </a:lnTo>
                <a:lnTo>
                  <a:pt x="2469" y="414"/>
                </a:lnTo>
                <a:lnTo>
                  <a:pt x="2462" y="398"/>
                </a:lnTo>
                <a:lnTo>
                  <a:pt x="2453" y="381"/>
                </a:lnTo>
                <a:lnTo>
                  <a:pt x="2443" y="366"/>
                </a:lnTo>
                <a:lnTo>
                  <a:pt x="2434" y="351"/>
                </a:lnTo>
                <a:lnTo>
                  <a:pt x="2426" y="337"/>
                </a:lnTo>
                <a:lnTo>
                  <a:pt x="2418" y="320"/>
                </a:lnTo>
                <a:lnTo>
                  <a:pt x="2413" y="305"/>
                </a:lnTo>
                <a:lnTo>
                  <a:pt x="2409" y="289"/>
                </a:lnTo>
                <a:lnTo>
                  <a:pt x="2416" y="283"/>
                </a:lnTo>
                <a:lnTo>
                  <a:pt x="2422" y="280"/>
                </a:lnTo>
                <a:lnTo>
                  <a:pt x="2429" y="279"/>
                </a:lnTo>
                <a:lnTo>
                  <a:pt x="2437" y="278"/>
                </a:lnTo>
                <a:lnTo>
                  <a:pt x="2443" y="278"/>
                </a:lnTo>
                <a:lnTo>
                  <a:pt x="2451" y="280"/>
                </a:lnTo>
                <a:lnTo>
                  <a:pt x="2458" y="281"/>
                </a:lnTo>
                <a:lnTo>
                  <a:pt x="2466" y="283"/>
                </a:lnTo>
                <a:lnTo>
                  <a:pt x="2930" y="454"/>
                </a:lnTo>
                <a:lnTo>
                  <a:pt x="2935" y="455"/>
                </a:lnTo>
                <a:lnTo>
                  <a:pt x="2939" y="456"/>
                </a:lnTo>
                <a:lnTo>
                  <a:pt x="2943" y="456"/>
                </a:lnTo>
                <a:lnTo>
                  <a:pt x="2947" y="455"/>
                </a:lnTo>
                <a:lnTo>
                  <a:pt x="2951" y="455"/>
                </a:lnTo>
                <a:lnTo>
                  <a:pt x="2955" y="454"/>
                </a:lnTo>
                <a:lnTo>
                  <a:pt x="2960" y="452"/>
                </a:lnTo>
                <a:lnTo>
                  <a:pt x="2965" y="451"/>
                </a:lnTo>
                <a:lnTo>
                  <a:pt x="2969" y="450"/>
                </a:lnTo>
                <a:lnTo>
                  <a:pt x="2973" y="450"/>
                </a:lnTo>
                <a:lnTo>
                  <a:pt x="2977" y="451"/>
                </a:lnTo>
                <a:lnTo>
                  <a:pt x="2983" y="453"/>
                </a:lnTo>
                <a:lnTo>
                  <a:pt x="2987" y="455"/>
                </a:lnTo>
                <a:lnTo>
                  <a:pt x="2994" y="458"/>
                </a:lnTo>
                <a:lnTo>
                  <a:pt x="2999" y="461"/>
                </a:lnTo>
                <a:lnTo>
                  <a:pt x="3006" y="463"/>
                </a:lnTo>
                <a:lnTo>
                  <a:pt x="3068" y="436"/>
                </a:lnTo>
                <a:lnTo>
                  <a:pt x="2938" y="368"/>
                </a:lnTo>
                <a:lnTo>
                  <a:pt x="2891" y="326"/>
                </a:lnTo>
                <a:lnTo>
                  <a:pt x="2766" y="284"/>
                </a:lnTo>
                <a:lnTo>
                  <a:pt x="2594" y="185"/>
                </a:lnTo>
                <a:lnTo>
                  <a:pt x="2590" y="185"/>
                </a:lnTo>
                <a:lnTo>
                  <a:pt x="2586" y="185"/>
                </a:lnTo>
                <a:lnTo>
                  <a:pt x="2583" y="186"/>
                </a:lnTo>
                <a:lnTo>
                  <a:pt x="2578" y="187"/>
                </a:lnTo>
                <a:lnTo>
                  <a:pt x="2574" y="188"/>
                </a:lnTo>
                <a:lnTo>
                  <a:pt x="2570" y="189"/>
                </a:lnTo>
                <a:lnTo>
                  <a:pt x="2563" y="189"/>
                </a:lnTo>
                <a:lnTo>
                  <a:pt x="2556" y="188"/>
                </a:lnTo>
                <a:lnTo>
                  <a:pt x="2330" y="75"/>
                </a:lnTo>
                <a:lnTo>
                  <a:pt x="2323" y="64"/>
                </a:lnTo>
                <a:lnTo>
                  <a:pt x="2314" y="53"/>
                </a:lnTo>
                <a:lnTo>
                  <a:pt x="2306" y="43"/>
                </a:lnTo>
                <a:lnTo>
                  <a:pt x="2295" y="33"/>
                </a:lnTo>
                <a:lnTo>
                  <a:pt x="2284" y="23"/>
                </a:lnTo>
                <a:lnTo>
                  <a:pt x="2273" y="15"/>
                </a:lnTo>
                <a:lnTo>
                  <a:pt x="2261" y="7"/>
                </a:lnTo>
                <a:lnTo>
                  <a:pt x="2249" y="0"/>
                </a:lnTo>
                <a:lnTo>
                  <a:pt x="2165" y="25"/>
                </a:lnTo>
                <a:lnTo>
                  <a:pt x="2102" y="6"/>
                </a:lnTo>
                <a:lnTo>
                  <a:pt x="2070" y="34"/>
                </a:lnTo>
                <a:lnTo>
                  <a:pt x="2040" y="63"/>
                </a:lnTo>
                <a:lnTo>
                  <a:pt x="2008" y="92"/>
                </a:lnTo>
                <a:lnTo>
                  <a:pt x="1976" y="122"/>
                </a:lnTo>
                <a:lnTo>
                  <a:pt x="1945" y="152"/>
                </a:lnTo>
                <a:lnTo>
                  <a:pt x="1913" y="184"/>
                </a:lnTo>
                <a:lnTo>
                  <a:pt x="1882" y="214"/>
                </a:lnTo>
                <a:lnTo>
                  <a:pt x="1850" y="246"/>
                </a:lnTo>
                <a:lnTo>
                  <a:pt x="1817" y="278"/>
                </a:lnTo>
                <a:lnTo>
                  <a:pt x="1786" y="309"/>
                </a:lnTo>
                <a:lnTo>
                  <a:pt x="1754" y="341"/>
                </a:lnTo>
                <a:lnTo>
                  <a:pt x="1721" y="374"/>
                </a:lnTo>
                <a:lnTo>
                  <a:pt x="1689" y="404"/>
                </a:lnTo>
                <a:lnTo>
                  <a:pt x="1657" y="436"/>
                </a:lnTo>
                <a:lnTo>
                  <a:pt x="1624" y="466"/>
                </a:lnTo>
                <a:lnTo>
                  <a:pt x="1592" y="497"/>
                </a:lnTo>
                <a:lnTo>
                  <a:pt x="1586" y="508"/>
                </a:lnTo>
                <a:lnTo>
                  <a:pt x="1581" y="519"/>
                </a:lnTo>
                <a:lnTo>
                  <a:pt x="1575" y="528"/>
                </a:lnTo>
                <a:lnTo>
                  <a:pt x="1570" y="537"/>
                </a:lnTo>
                <a:lnTo>
                  <a:pt x="1565" y="545"/>
                </a:lnTo>
                <a:lnTo>
                  <a:pt x="1561" y="552"/>
                </a:lnTo>
                <a:lnTo>
                  <a:pt x="1558" y="559"/>
                </a:lnTo>
                <a:lnTo>
                  <a:pt x="1557" y="564"/>
                </a:lnTo>
                <a:lnTo>
                  <a:pt x="1604" y="758"/>
                </a:lnTo>
                <a:lnTo>
                  <a:pt x="1624" y="751"/>
                </a:lnTo>
                <a:lnTo>
                  <a:pt x="1645" y="740"/>
                </a:lnTo>
                <a:lnTo>
                  <a:pt x="1664" y="726"/>
                </a:lnTo>
                <a:lnTo>
                  <a:pt x="1683" y="710"/>
                </a:lnTo>
                <a:lnTo>
                  <a:pt x="1703" y="693"/>
                </a:lnTo>
                <a:lnTo>
                  <a:pt x="1722" y="677"/>
                </a:lnTo>
                <a:lnTo>
                  <a:pt x="1743" y="664"/>
                </a:lnTo>
                <a:lnTo>
                  <a:pt x="1765" y="653"/>
                </a:lnTo>
                <a:lnTo>
                  <a:pt x="1786" y="635"/>
                </a:lnTo>
                <a:lnTo>
                  <a:pt x="1805" y="618"/>
                </a:lnTo>
                <a:lnTo>
                  <a:pt x="1824" y="599"/>
                </a:lnTo>
                <a:lnTo>
                  <a:pt x="1842" y="581"/>
                </a:lnTo>
                <a:lnTo>
                  <a:pt x="1860" y="562"/>
                </a:lnTo>
                <a:lnTo>
                  <a:pt x="1877" y="543"/>
                </a:lnTo>
                <a:lnTo>
                  <a:pt x="1895" y="524"/>
                </a:lnTo>
                <a:lnTo>
                  <a:pt x="1911" y="504"/>
                </a:lnTo>
                <a:lnTo>
                  <a:pt x="1929" y="486"/>
                </a:lnTo>
                <a:lnTo>
                  <a:pt x="1947" y="467"/>
                </a:lnTo>
                <a:lnTo>
                  <a:pt x="1966" y="450"/>
                </a:lnTo>
                <a:lnTo>
                  <a:pt x="1984" y="434"/>
                </a:lnTo>
                <a:lnTo>
                  <a:pt x="2004" y="417"/>
                </a:lnTo>
                <a:lnTo>
                  <a:pt x="2024" y="403"/>
                </a:lnTo>
                <a:lnTo>
                  <a:pt x="2047" y="389"/>
                </a:lnTo>
                <a:lnTo>
                  <a:pt x="2070" y="377"/>
                </a:lnTo>
                <a:lnTo>
                  <a:pt x="2091" y="393"/>
                </a:lnTo>
                <a:lnTo>
                  <a:pt x="2111" y="413"/>
                </a:lnTo>
                <a:lnTo>
                  <a:pt x="2129" y="433"/>
                </a:lnTo>
                <a:lnTo>
                  <a:pt x="2147" y="455"/>
                </a:lnTo>
                <a:lnTo>
                  <a:pt x="2164" y="478"/>
                </a:lnTo>
                <a:lnTo>
                  <a:pt x="2179" y="502"/>
                </a:lnTo>
                <a:lnTo>
                  <a:pt x="2195" y="528"/>
                </a:lnTo>
                <a:lnTo>
                  <a:pt x="2209" y="554"/>
                </a:lnTo>
                <a:lnTo>
                  <a:pt x="2222" y="581"/>
                </a:lnTo>
                <a:lnTo>
                  <a:pt x="2235" y="607"/>
                </a:lnTo>
                <a:lnTo>
                  <a:pt x="2247" y="634"/>
                </a:lnTo>
                <a:lnTo>
                  <a:pt x="2259" y="660"/>
                </a:lnTo>
                <a:lnTo>
                  <a:pt x="2271" y="687"/>
                </a:lnTo>
                <a:lnTo>
                  <a:pt x="2282" y="713"/>
                </a:lnTo>
                <a:lnTo>
                  <a:pt x="2293" y="737"/>
                </a:lnTo>
                <a:lnTo>
                  <a:pt x="2304" y="761"/>
                </a:lnTo>
                <a:lnTo>
                  <a:pt x="2301" y="778"/>
                </a:lnTo>
                <a:lnTo>
                  <a:pt x="2298" y="792"/>
                </a:lnTo>
                <a:lnTo>
                  <a:pt x="2298" y="804"/>
                </a:lnTo>
                <a:lnTo>
                  <a:pt x="2305" y="816"/>
                </a:lnTo>
                <a:lnTo>
                  <a:pt x="2319" y="844"/>
                </a:lnTo>
                <a:lnTo>
                  <a:pt x="2329" y="871"/>
                </a:lnTo>
                <a:lnTo>
                  <a:pt x="2337" y="897"/>
                </a:lnTo>
                <a:lnTo>
                  <a:pt x="2345" y="924"/>
                </a:lnTo>
                <a:lnTo>
                  <a:pt x="2354" y="952"/>
                </a:lnTo>
                <a:lnTo>
                  <a:pt x="2365" y="979"/>
                </a:lnTo>
                <a:lnTo>
                  <a:pt x="2379" y="1006"/>
                </a:lnTo>
                <a:lnTo>
                  <a:pt x="2399" y="1033"/>
                </a:lnTo>
                <a:lnTo>
                  <a:pt x="2418" y="1076"/>
                </a:lnTo>
                <a:lnTo>
                  <a:pt x="2438" y="1117"/>
                </a:lnTo>
                <a:lnTo>
                  <a:pt x="2461" y="1158"/>
                </a:lnTo>
                <a:lnTo>
                  <a:pt x="2482" y="1197"/>
                </a:lnTo>
                <a:lnTo>
                  <a:pt x="2503" y="1236"/>
                </a:lnTo>
                <a:lnTo>
                  <a:pt x="2523" y="1276"/>
                </a:lnTo>
                <a:lnTo>
                  <a:pt x="2538" y="1316"/>
                </a:lnTo>
                <a:lnTo>
                  <a:pt x="2549" y="1358"/>
                </a:lnTo>
                <a:lnTo>
                  <a:pt x="2558" y="1384"/>
                </a:lnTo>
                <a:lnTo>
                  <a:pt x="2567" y="1409"/>
                </a:lnTo>
                <a:lnTo>
                  <a:pt x="2579" y="1434"/>
                </a:lnTo>
                <a:lnTo>
                  <a:pt x="2591" y="1458"/>
                </a:lnTo>
                <a:lnTo>
                  <a:pt x="2606" y="1481"/>
                </a:lnTo>
                <a:lnTo>
                  <a:pt x="2622" y="1501"/>
                </a:lnTo>
                <a:lnTo>
                  <a:pt x="2638" y="1522"/>
                </a:lnTo>
                <a:lnTo>
                  <a:pt x="2657" y="1541"/>
                </a:lnTo>
                <a:lnTo>
                  <a:pt x="2652" y="1585"/>
                </a:lnTo>
                <a:lnTo>
                  <a:pt x="2853" y="1887"/>
                </a:lnTo>
                <a:lnTo>
                  <a:pt x="2864" y="1905"/>
                </a:lnTo>
                <a:lnTo>
                  <a:pt x="2867" y="1926"/>
                </a:lnTo>
                <a:lnTo>
                  <a:pt x="2867" y="1947"/>
                </a:lnTo>
                <a:lnTo>
                  <a:pt x="2869" y="1968"/>
                </a:lnTo>
                <a:lnTo>
                  <a:pt x="2886" y="2010"/>
                </a:lnTo>
                <a:lnTo>
                  <a:pt x="2904" y="2051"/>
                </a:lnTo>
                <a:lnTo>
                  <a:pt x="2924" y="2091"/>
                </a:lnTo>
                <a:lnTo>
                  <a:pt x="2945" y="2133"/>
                </a:lnTo>
                <a:lnTo>
                  <a:pt x="2966" y="2173"/>
                </a:lnTo>
                <a:lnTo>
                  <a:pt x="2989" y="2214"/>
                </a:lnTo>
                <a:lnTo>
                  <a:pt x="3012" y="2254"/>
                </a:lnTo>
                <a:lnTo>
                  <a:pt x="3036" y="2294"/>
                </a:lnTo>
                <a:lnTo>
                  <a:pt x="3059" y="2335"/>
                </a:lnTo>
                <a:lnTo>
                  <a:pt x="3083" y="2376"/>
                </a:lnTo>
                <a:lnTo>
                  <a:pt x="3106" y="2416"/>
                </a:lnTo>
                <a:lnTo>
                  <a:pt x="3128" y="2458"/>
                </a:lnTo>
                <a:lnTo>
                  <a:pt x="3150" y="2500"/>
                </a:lnTo>
                <a:lnTo>
                  <a:pt x="3170" y="2542"/>
                </a:lnTo>
                <a:lnTo>
                  <a:pt x="3190" y="2584"/>
                </a:lnTo>
                <a:lnTo>
                  <a:pt x="3208" y="2628"/>
                </a:lnTo>
                <a:lnTo>
                  <a:pt x="3227" y="2661"/>
                </a:lnTo>
                <a:lnTo>
                  <a:pt x="3244" y="2693"/>
                </a:lnTo>
                <a:lnTo>
                  <a:pt x="3262" y="2726"/>
                </a:lnTo>
                <a:lnTo>
                  <a:pt x="3279" y="2758"/>
                </a:lnTo>
                <a:lnTo>
                  <a:pt x="3296" y="2789"/>
                </a:lnTo>
                <a:lnTo>
                  <a:pt x="3313" y="2821"/>
                </a:lnTo>
                <a:lnTo>
                  <a:pt x="3329" y="2853"/>
                </a:lnTo>
                <a:lnTo>
                  <a:pt x="3346" y="2883"/>
                </a:lnTo>
                <a:lnTo>
                  <a:pt x="3362" y="2915"/>
                </a:lnTo>
                <a:lnTo>
                  <a:pt x="3378" y="2945"/>
                </a:lnTo>
                <a:lnTo>
                  <a:pt x="3395" y="2976"/>
                </a:lnTo>
                <a:lnTo>
                  <a:pt x="3411" y="3006"/>
                </a:lnTo>
                <a:lnTo>
                  <a:pt x="3427" y="3036"/>
                </a:lnTo>
                <a:lnTo>
                  <a:pt x="3443" y="3066"/>
                </a:lnTo>
                <a:lnTo>
                  <a:pt x="3459" y="3096"/>
                </a:lnTo>
                <a:lnTo>
                  <a:pt x="3475" y="3125"/>
                </a:lnTo>
                <a:lnTo>
                  <a:pt x="3492" y="3160"/>
                </a:lnTo>
                <a:lnTo>
                  <a:pt x="3511" y="3192"/>
                </a:lnTo>
                <a:lnTo>
                  <a:pt x="3534" y="3221"/>
                </a:lnTo>
                <a:lnTo>
                  <a:pt x="3557" y="3250"/>
                </a:lnTo>
                <a:lnTo>
                  <a:pt x="3581" y="3278"/>
                </a:lnTo>
                <a:lnTo>
                  <a:pt x="3603" y="3308"/>
                </a:lnTo>
                <a:lnTo>
                  <a:pt x="3623" y="3338"/>
                </a:lnTo>
                <a:lnTo>
                  <a:pt x="3639" y="3371"/>
                </a:lnTo>
                <a:lnTo>
                  <a:pt x="3626" y="3397"/>
                </a:lnTo>
                <a:lnTo>
                  <a:pt x="3610" y="3422"/>
                </a:lnTo>
                <a:lnTo>
                  <a:pt x="3592" y="3446"/>
                </a:lnTo>
                <a:lnTo>
                  <a:pt x="3574" y="3470"/>
                </a:lnTo>
                <a:lnTo>
                  <a:pt x="3553" y="3492"/>
                </a:lnTo>
                <a:lnTo>
                  <a:pt x="3532" y="3515"/>
                </a:lnTo>
                <a:lnTo>
                  <a:pt x="3509" y="3537"/>
                </a:lnTo>
                <a:lnTo>
                  <a:pt x="3486" y="3557"/>
                </a:lnTo>
                <a:lnTo>
                  <a:pt x="3463" y="3579"/>
                </a:lnTo>
                <a:lnTo>
                  <a:pt x="3439" y="3600"/>
                </a:lnTo>
                <a:lnTo>
                  <a:pt x="3417" y="3621"/>
                </a:lnTo>
                <a:lnTo>
                  <a:pt x="3394" y="3642"/>
                </a:lnTo>
                <a:lnTo>
                  <a:pt x="3371" y="3664"/>
                </a:lnTo>
                <a:lnTo>
                  <a:pt x="3349" y="3686"/>
                </a:lnTo>
                <a:lnTo>
                  <a:pt x="3327" y="3709"/>
                </a:lnTo>
                <a:lnTo>
                  <a:pt x="3308" y="3732"/>
                </a:lnTo>
                <a:lnTo>
                  <a:pt x="3267" y="3781"/>
                </a:lnTo>
                <a:lnTo>
                  <a:pt x="3227" y="3829"/>
                </a:lnTo>
                <a:lnTo>
                  <a:pt x="3185" y="3877"/>
                </a:lnTo>
                <a:lnTo>
                  <a:pt x="3144" y="3925"/>
                </a:lnTo>
                <a:lnTo>
                  <a:pt x="3102" y="3972"/>
                </a:lnTo>
                <a:lnTo>
                  <a:pt x="3060" y="4019"/>
                </a:lnTo>
                <a:lnTo>
                  <a:pt x="3018" y="4064"/>
                </a:lnTo>
                <a:lnTo>
                  <a:pt x="2975" y="4111"/>
                </a:lnTo>
                <a:lnTo>
                  <a:pt x="2933" y="4157"/>
                </a:lnTo>
                <a:lnTo>
                  <a:pt x="2891" y="4203"/>
                </a:lnTo>
                <a:lnTo>
                  <a:pt x="2849" y="4250"/>
                </a:lnTo>
                <a:lnTo>
                  <a:pt x="2807" y="4296"/>
                </a:lnTo>
                <a:lnTo>
                  <a:pt x="2767" y="4343"/>
                </a:lnTo>
                <a:lnTo>
                  <a:pt x="2727" y="4389"/>
                </a:lnTo>
                <a:lnTo>
                  <a:pt x="2686" y="4436"/>
                </a:lnTo>
                <a:lnTo>
                  <a:pt x="2647" y="4484"/>
                </a:lnTo>
                <a:lnTo>
                  <a:pt x="2618" y="4509"/>
                </a:lnTo>
                <a:lnTo>
                  <a:pt x="2590" y="4536"/>
                </a:lnTo>
                <a:lnTo>
                  <a:pt x="2563" y="4564"/>
                </a:lnTo>
                <a:lnTo>
                  <a:pt x="2538" y="4594"/>
                </a:lnTo>
                <a:lnTo>
                  <a:pt x="2514" y="4625"/>
                </a:lnTo>
                <a:lnTo>
                  <a:pt x="2491" y="4656"/>
                </a:lnTo>
                <a:lnTo>
                  <a:pt x="2467" y="4686"/>
                </a:lnTo>
                <a:lnTo>
                  <a:pt x="2444" y="4717"/>
                </a:lnTo>
                <a:lnTo>
                  <a:pt x="2420" y="4746"/>
                </a:lnTo>
                <a:lnTo>
                  <a:pt x="2396" y="4774"/>
                </a:lnTo>
                <a:lnTo>
                  <a:pt x="2371" y="4801"/>
                </a:lnTo>
                <a:lnTo>
                  <a:pt x="2345" y="4824"/>
                </a:lnTo>
                <a:lnTo>
                  <a:pt x="2318" y="4844"/>
                </a:lnTo>
                <a:lnTo>
                  <a:pt x="2288" y="4863"/>
                </a:lnTo>
                <a:lnTo>
                  <a:pt x="2258" y="4876"/>
                </a:lnTo>
                <a:lnTo>
                  <a:pt x="2224" y="4886"/>
                </a:lnTo>
                <a:lnTo>
                  <a:pt x="2199" y="4864"/>
                </a:lnTo>
                <a:lnTo>
                  <a:pt x="2177" y="4839"/>
                </a:lnTo>
                <a:lnTo>
                  <a:pt x="2159" y="4812"/>
                </a:lnTo>
                <a:lnTo>
                  <a:pt x="2143" y="4783"/>
                </a:lnTo>
                <a:lnTo>
                  <a:pt x="2129" y="4753"/>
                </a:lnTo>
                <a:lnTo>
                  <a:pt x="2115" y="4723"/>
                </a:lnTo>
                <a:lnTo>
                  <a:pt x="2102" y="4693"/>
                </a:lnTo>
                <a:lnTo>
                  <a:pt x="2089" y="4663"/>
                </a:lnTo>
                <a:lnTo>
                  <a:pt x="2062" y="4604"/>
                </a:lnTo>
                <a:lnTo>
                  <a:pt x="2034" y="4545"/>
                </a:lnTo>
                <a:lnTo>
                  <a:pt x="2007" y="4485"/>
                </a:lnTo>
                <a:lnTo>
                  <a:pt x="1981" y="4427"/>
                </a:lnTo>
                <a:lnTo>
                  <a:pt x="1954" y="4368"/>
                </a:lnTo>
                <a:lnTo>
                  <a:pt x="1926" y="4309"/>
                </a:lnTo>
                <a:lnTo>
                  <a:pt x="1900" y="4250"/>
                </a:lnTo>
                <a:lnTo>
                  <a:pt x="1873" y="4191"/>
                </a:lnTo>
                <a:lnTo>
                  <a:pt x="1846" y="4132"/>
                </a:lnTo>
                <a:lnTo>
                  <a:pt x="1818" y="4073"/>
                </a:lnTo>
                <a:lnTo>
                  <a:pt x="1791" y="4014"/>
                </a:lnTo>
                <a:lnTo>
                  <a:pt x="1765" y="3956"/>
                </a:lnTo>
                <a:lnTo>
                  <a:pt x="1738" y="3898"/>
                </a:lnTo>
                <a:lnTo>
                  <a:pt x="1710" y="3839"/>
                </a:lnTo>
                <a:lnTo>
                  <a:pt x="1682" y="3780"/>
                </a:lnTo>
                <a:lnTo>
                  <a:pt x="1655" y="3721"/>
                </a:lnTo>
                <a:lnTo>
                  <a:pt x="1628" y="3662"/>
                </a:lnTo>
                <a:lnTo>
                  <a:pt x="1599" y="3604"/>
                </a:lnTo>
                <a:lnTo>
                  <a:pt x="1572" y="3545"/>
                </a:lnTo>
                <a:lnTo>
                  <a:pt x="1544" y="3486"/>
                </a:lnTo>
                <a:lnTo>
                  <a:pt x="1515" y="3427"/>
                </a:lnTo>
                <a:lnTo>
                  <a:pt x="1487" y="3369"/>
                </a:lnTo>
                <a:lnTo>
                  <a:pt x="1459" y="3311"/>
                </a:lnTo>
                <a:lnTo>
                  <a:pt x="1430" y="3252"/>
                </a:lnTo>
                <a:lnTo>
                  <a:pt x="1401" y="3193"/>
                </a:lnTo>
                <a:lnTo>
                  <a:pt x="1371" y="3134"/>
                </a:lnTo>
                <a:lnTo>
                  <a:pt x="1342" y="3075"/>
                </a:lnTo>
                <a:lnTo>
                  <a:pt x="1313" y="3016"/>
                </a:lnTo>
                <a:lnTo>
                  <a:pt x="1282" y="2957"/>
                </a:lnTo>
                <a:lnTo>
                  <a:pt x="1252" y="2899"/>
                </a:lnTo>
                <a:lnTo>
                  <a:pt x="1221" y="2840"/>
                </a:lnTo>
                <a:lnTo>
                  <a:pt x="1190" y="2781"/>
                </a:lnTo>
                <a:lnTo>
                  <a:pt x="1121" y="2772"/>
                </a:lnTo>
                <a:lnTo>
                  <a:pt x="1066" y="2701"/>
                </a:lnTo>
                <a:lnTo>
                  <a:pt x="1045" y="2709"/>
                </a:lnTo>
                <a:lnTo>
                  <a:pt x="1026" y="2721"/>
                </a:lnTo>
                <a:lnTo>
                  <a:pt x="1008" y="2736"/>
                </a:lnTo>
                <a:lnTo>
                  <a:pt x="992" y="2755"/>
                </a:lnTo>
                <a:lnTo>
                  <a:pt x="977" y="2776"/>
                </a:lnTo>
                <a:lnTo>
                  <a:pt x="963" y="2798"/>
                </a:lnTo>
                <a:lnTo>
                  <a:pt x="951" y="2821"/>
                </a:lnTo>
                <a:lnTo>
                  <a:pt x="940" y="2844"/>
                </a:lnTo>
                <a:lnTo>
                  <a:pt x="1026" y="3045"/>
                </a:lnTo>
                <a:lnTo>
                  <a:pt x="1053" y="3111"/>
                </a:lnTo>
                <a:lnTo>
                  <a:pt x="1081" y="3177"/>
                </a:lnTo>
                <a:lnTo>
                  <a:pt x="1112" y="3242"/>
                </a:lnTo>
                <a:lnTo>
                  <a:pt x="1142" y="3308"/>
                </a:lnTo>
                <a:lnTo>
                  <a:pt x="1174" y="3373"/>
                </a:lnTo>
                <a:lnTo>
                  <a:pt x="1206" y="3437"/>
                </a:lnTo>
                <a:lnTo>
                  <a:pt x="1238" y="3503"/>
                </a:lnTo>
                <a:lnTo>
                  <a:pt x="1270" y="3567"/>
                </a:lnTo>
                <a:lnTo>
                  <a:pt x="1302" y="3633"/>
                </a:lnTo>
                <a:lnTo>
                  <a:pt x="1333" y="3697"/>
                </a:lnTo>
                <a:lnTo>
                  <a:pt x="1364" y="3762"/>
                </a:lnTo>
                <a:lnTo>
                  <a:pt x="1394" y="3828"/>
                </a:lnTo>
                <a:lnTo>
                  <a:pt x="1423" y="3893"/>
                </a:lnTo>
                <a:lnTo>
                  <a:pt x="1450" y="3959"/>
                </a:lnTo>
                <a:lnTo>
                  <a:pt x="1475" y="4025"/>
                </a:lnTo>
                <a:lnTo>
                  <a:pt x="1499" y="4092"/>
                </a:lnTo>
                <a:lnTo>
                  <a:pt x="1521" y="4138"/>
                </a:lnTo>
                <a:lnTo>
                  <a:pt x="1542" y="4183"/>
                </a:lnTo>
                <a:lnTo>
                  <a:pt x="1563" y="4229"/>
                </a:lnTo>
                <a:lnTo>
                  <a:pt x="1584" y="4274"/>
                </a:lnTo>
                <a:lnTo>
                  <a:pt x="1606" y="4320"/>
                </a:lnTo>
                <a:lnTo>
                  <a:pt x="1627" y="4364"/>
                </a:lnTo>
                <a:lnTo>
                  <a:pt x="1647" y="4409"/>
                </a:lnTo>
                <a:lnTo>
                  <a:pt x="1668" y="4454"/>
                </a:lnTo>
                <a:lnTo>
                  <a:pt x="1689" y="4497"/>
                </a:lnTo>
                <a:lnTo>
                  <a:pt x="1709" y="4542"/>
                </a:lnTo>
                <a:lnTo>
                  <a:pt x="1730" y="4587"/>
                </a:lnTo>
                <a:lnTo>
                  <a:pt x="1750" y="4632"/>
                </a:lnTo>
                <a:lnTo>
                  <a:pt x="1769" y="4675"/>
                </a:lnTo>
                <a:lnTo>
                  <a:pt x="1789" y="4720"/>
                </a:lnTo>
                <a:lnTo>
                  <a:pt x="1809" y="4765"/>
                </a:lnTo>
                <a:lnTo>
                  <a:pt x="1827" y="4809"/>
                </a:lnTo>
                <a:lnTo>
                  <a:pt x="1841" y="4851"/>
                </a:lnTo>
                <a:lnTo>
                  <a:pt x="1859" y="4888"/>
                </a:lnTo>
                <a:lnTo>
                  <a:pt x="1878" y="4923"/>
                </a:lnTo>
                <a:lnTo>
                  <a:pt x="1900" y="4953"/>
                </a:lnTo>
                <a:lnTo>
                  <a:pt x="1924" y="4983"/>
                </a:lnTo>
                <a:lnTo>
                  <a:pt x="1950" y="5008"/>
                </a:lnTo>
                <a:lnTo>
                  <a:pt x="1978" y="5032"/>
                </a:lnTo>
                <a:lnTo>
                  <a:pt x="2007" y="5054"/>
                </a:lnTo>
                <a:lnTo>
                  <a:pt x="2038" y="5074"/>
                </a:lnTo>
                <a:lnTo>
                  <a:pt x="2068" y="5094"/>
                </a:lnTo>
                <a:lnTo>
                  <a:pt x="2101" y="5113"/>
                </a:lnTo>
                <a:lnTo>
                  <a:pt x="2133" y="5131"/>
                </a:lnTo>
                <a:lnTo>
                  <a:pt x="2166" y="5149"/>
                </a:lnTo>
                <a:lnTo>
                  <a:pt x="2199" y="5167"/>
                </a:lnTo>
                <a:lnTo>
                  <a:pt x="2230" y="5185"/>
                </a:lnTo>
                <a:lnTo>
                  <a:pt x="2263" y="5204"/>
                </a:lnTo>
                <a:lnTo>
                  <a:pt x="2293" y="5213"/>
                </a:lnTo>
                <a:lnTo>
                  <a:pt x="2322" y="5221"/>
                </a:lnTo>
                <a:lnTo>
                  <a:pt x="2351" y="5228"/>
                </a:lnTo>
                <a:lnTo>
                  <a:pt x="2381" y="5237"/>
                </a:lnTo>
                <a:lnTo>
                  <a:pt x="2409" y="5245"/>
                </a:lnTo>
                <a:lnTo>
                  <a:pt x="2438" y="5252"/>
                </a:lnTo>
                <a:lnTo>
                  <a:pt x="2466" y="5260"/>
                </a:lnTo>
                <a:lnTo>
                  <a:pt x="2493" y="5266"/>
                </a:lnTo>
                <a:lnTo>
                  <a:pt x="2520" y="5274"/>
                </a:lnTo>
                <a:lnTo>
                  <a:pt x="2548" y="5281"/>
                </a:lnTo>
                <a:lnTo>
                  <a:pt x="2575" y="5286"/>
                </a:lnTo>
                <a:lnTo>
                  <a:pt x="2602" y="5293"/>
                </a:lnTo>
                <a:lnTo>
                  <a:pt x="2628" y="5298"/>
                </a:lnTo>
                <a:lnTo>
                  <a:pt x="2656" y="5302"/>
                </a:lnTo>
                <a:lnTo>
                  <a:pt x="2682" y="5307"/>
                </a:lnTo>
                <a:lnTo>
                  <a:pt x="2708" y="5310"/>
                </a:lnTo>
                <a:lnTo>
                  <a:pt x="5129" y="5995"/>
                </a:lnTo>
                <a:lnTo>
                  <a:pt x="5130" y="5998"/>
                </a:lnTo>
                <a:lnTo>
                  <a:pt x="5129" y="6003"/>
                </a:lnTo>
                <a:lnTo>
                  <a:pt x="5128" y="6009"/>
                </a:lnTo>
                <a:lnTo>
                  <a:pt x="5125" y="6018"/>
                </a:lnTo>
                <a:lnTo>
                  <a:pt x="5117" y="6027"/>
                </a:lnTo>
                <a:lnTo>
                  <a:pt x="5109" y="6032"/>
                </a:lnTo>
                <a:lnTo>
                  <a:pt x="5099" y="6037"/>
                </a:lnTo>
                <a:lnTo>
                  <a:pt x="5089" y="6041"/>
                </a:lnTo>
                <a:lnTo>
                  <a:pt x="5079" y="6044"/>
                </a:lnTo>
                <a:lnTo>
                  <a:pt x="5069" y="6046"/>
                </a:lnTo>
                <a:lnTo>
                  <a:pt x="5059" y="6049"/>
                </a:lnTo>
                <a:lnTo>
                  <a:pt x="5050" y="6054"/>
                </a:lnTo>
                <a:lnTo>
                  <a:pt x="5030" y="6049"/>
                </a:lnTo>
                <a:lnTo>
                  <a:pt x="5010" y="6046"/>
                </a:lnTo>
                <a:lnTo>
                  <a:pt x="4990" y="6042"/>
                </a:lnTo>
                <a:lnTo>
                  <a:pt x="4970" y="6039"/>
                </a:lnTo>
                <a:lnTo>
                  <a:pt x="4949" y="6035"/>
                </a:lnTo>
                <a:lnTo>
                  <a:pt x="4929" y="6032"/>
                </a:lnTo>
                <a:lnTo>
                  <a:pt x="4908" y="6029"/>
                </a:lnTo>
                <a:lnTo>
                  <a:pt x="4887" y="6024"/>
                </a:lnTo>
                <a:lnTo>
                  <a:pt x="4867" y="6021"/>
                </a:lnTo>
                <a:lnTo>
                  <a:pt x="4846" y="6018"/>
                </a:lnTo>
                <a:lnTo>
                  <a:pt x="4824" y="6013"/>
                </a:lnTo>
                <a:lnTo>
                  <a:pt x="4803" y="6009"/>
                </a:lnTo>
                <a:lnTo>
                  <a:pt x="4781" y="6005"/>
                </a:lnTo>
                <a:lnTo>
                  <a:pt x="4761" y="6000"/>
                </a:lnTo>
                <a:lnTo>
                  <a:pt x="4739" y="5996"/>
                </a:lnTo>
                <a:lnTo>
                  <a:pt x="4718" y="5991"/>
                </a:lnTo>
                <a:lnTo>
                  <a:pt x="4686" y="5986"/>
                </a:lnTo>
                <a:lnTo>
                  <a:pt x="4654" y="5982"/>
                </a:lnTo>
                <a:lnTo>
                  <a:pt x="4622" y="5975"/>
                </a:lnTo>
                <a:lnTo>
                  <a:pt x="4591" y="5969"/>
                </a:lnTo>
                <a:lnTo>
                  <a:pt x="4559" y="5960"/>
                </a:lnTo>
                <a:lnTo>
                  <a:pt x="4527" y="5952"/>
                </a:lnTo>
                <a:lnTo>
                  <a:pt x="4496" y="5944"/>
                </a:lnTo>
                <a:lnTo>
                  <a:pt x="4464" y="5934"/>
                </a:lnTo>
                <a:lnTo>
                  <a:pt x="4434" y="5924"/>
                </a:lnTo>
                <a:lnTo>
                  <a:pt x="4402" y="5915"/>
                </a:lnTo>
                <a:lnTo>
                  <a:pt x="4370" y="5905"/>
                </a:lnTo>
                <a:lnTo>
                  <a:pt x="4340" y="5896"/>
                </a:lnTo>
                <a:lnTo>
                  <a:pt x="4308" y="5887"/>
                </a:lnTo>
                <a:lnTo>
                  <a:pt x="4277" y="5879"/>
                </a:lnTo>
                <a:lnTo>
                  <a:pt x="4245" y="5871"/>
                </a:lnTo>
                <a:lnTo>
                  <a:pt x="4214" y="5864"/>
                </a:lnTo>
                <a:lnTo>
                  <a:pt x="4206" y="5861"/>
                </a:lnTo>
                <a:lnTo>
                  <a:pt x="4199" y="5856"/>
                </a:lnTo>
                <a:lnTo>
                  <a:pt x="4195" y="5853"/>
                </a:lnTo>
                <a:lnTo>
                  <a:pt x="4193" y="5852"/>
                </a:lnTo>
                <a:lnTo>
                  <a:pt x="3870" y="5780"/>
                </a:lnTo>
                <a:lnTo>
                  <a:pt x="3856" y="5784"/>
                </a:lnTo>
                <a:lnTo>
                  <a:pt x="3842" y="5787"/>
                </a:lnTo>
                <a:lnTo>
                  <a:pt x="3829" y="5787"/>
                </a:lnTo>
                <a:lnTo>
                  <a:pt x="3815" y="5787"/>
                </a:lnTo>
                <a:lnTo>
                  <a:pt x="3801" y="5784"/>
                </a:lnTo>
                <a:lnTo>
                  <a:pt x="3788" y="5781"/>
                </a:lnTo>
                <a:lnTo>
                  <a:pt x="3774" y="5778"/>
                </a:lnTo>
                <a:lnTo>
                  <a:pt x="3761" y="5775"/>
                </a:lnTo>
                <a:lnTo>
                  <a:pt x="3748" y="5770"/>
                </a:lnTo>
                <a:lnTo>
                  <a:pt x="3734" y="5766"/>
                </a:lnTo>
                <a:lnTo>
                  <a:pt x="3721" y="5762"/>
                </a:lnTo>
                <a:lnTo>
                  <a:pt x="3708" y="5758"/>
                </a:lnTo>
                <a:lnTo>
                  <a:pt x="3693" y="5756"/>
                </a:lnTo>
                <a:lnTo>
                  <a:pt x="3680" y="5754"/>
                </a:lnTo>
                <a:lnTo>
                  <a:pt x="3666" y="5753"/>
                </a:lnTo>
                <a:lnTo>
                  <a:pt x="3652" y="5753"/>
                </a:lnTo>
                <a:lnTo>
                  <a:pt x="3605" y="5740"/>
                </a:lnTo>
                <a:lnTo>
                  <a:pt x="3558" y="5727"/>
                </a:lnTo>
                <a:lnTo>
                  <a:pt x="3510" y="5714"/>
                </a:lnTo>
                <a:lnTo>
                  <a:pt x="3463" y="5700"/>
                </a:lnTo>
                <a:lnTo>
                  <a:pt x="3417" y="5687"/>
                </a:lnTo>
                <a:lnTo>
                  <a:pt x="3371" y="5675"/>
                </a:lnTo>
                <a:lnTo>
                  <a:pt x="3324" y="5662"/>
                </a:lnTo>
                <a:lnTo>
                  <a:pt x="3277" y="5649"/>
                </a:lnTo>
                <a:lnTo>
                  <a:pt x="3230" y="5637"/>
                </a:lnTo>
                <a:lnTo>
                  <a:pt x="3183" y="5624"/>
                </a:lnTo>
                <a:lnTo>
                  <a:pt x="3136" y="5611"/>
                </a:lnTo>
                <a:lnTo>
                  <a:pt x="3091" y="5599"/>
                </a:lnTo>
                <a:lnTo>
                  <a:pt x="3044" y="5586"/>
                </a:lnTo>
                <a:lnTo>
                  <a:pt x="2997" y="5573"/>
                </a:lnTo>
                <a:lnTo>
                  <a:pt x="2950" y="5560"/>
                </a:lnTo>
                <a:lnTo>
                  <a:pt x="2904" y="5547"/>
                </a:lnTo>
                <a:lnTo>
                  <a:pt x="2857" y="5535"/>
                </a:lnTo>
                <a:lnTo>
                  <a:pt x="2810" y="5522"/>
                </a:lnTo>
                <a:lnTo>
                  <a:pt x="2764" y="5507"/>
                </a:lnTo>
                <a:lnTo>
                  <a:pt x="2717" y="5494"/>
                </a:lnTo>
                <a:lnTo>
                  <a:pt x="2670" y="5481"/>
                </a:lnTo>
                <a:lnTo>
                  <a:pt x="2623" y="5467"/>
                </a:lnTo>
                <a:lnTo>
                  <a:pt x="2576" y="5453"/>
                </a:lnTo>
                <a:lnTo>
                  <a:pt x="2528" y="5440"/>
                </a:lnTo>
                <a:lnTo>
                  <a:pt x="2481" y="5426"/>
                </a:lnTo>
                <a:lnTo>
                  <a:pt x="2433" y="5410"/>
                </a:lnTo>
                <a:lnTo>
                  <a:pt x="2386" y="5396"/>
                </a:lnTo>
                <a:lnTo>
                  <a:pt x="2338" y="5381"/>
                </a:lnTo>
                <a:lnTo>
                  <a:pt x="2290" y="5366"/>
                </a:lnTo>
                <a:lnTo>
                  <a:pt x="2242" y="5350"/>
                </a:lnTo>
                <a:lnTo>
                  <a:pt x="2195" y="5335"/>
                </a:lnTo>
                <a:lnTo>
                  <a:pt x="2147" y="5319"/>
                </a:lnTo>
                <a:lnTo>
                  <a:pt x="2137" y="5318"/>
                </a:lnTo>
                <a:lnTo>
                  <a:pt x="2128" y="5318"/>
                </a:lnTo>
                <a:lnTo>
                  <a:pt x="2119" y="5317"/>
                </a:lnTo>
                <a:lnTo>
                  <a:pt x="2111" y="5318"/>
                </a:lnTo>
                <a:lnTo>
                  <a:pt x="2102" y="5318"/>
                </a:lnTo>
                <a:lnTo>
                  <a:pt x="2093" y="5319"/>
                </a:lnTo>
                <a:lnTo>
                  <a:pt x="2084" y="5321"/>
                </a:lnTo>
                <a:lnTo>
                  <a:pt x="2076" y="5323"/>
                </a:lnTo>
                <a:lnTo>
                  <a:pt x="2063" y="5315"/>
                </a:lnTo>
                <a:lnTo>
                  <a:pt x="2050" y="5307"/>
                </a:lnTo>
                <a:lnTo>
                  <a:pt x="2038" y="5296"/>
                </a:lnTo>
                <a:lnTo>
                  <a:pt x="2028" y="5285"/>
                </a:lnTo>
                <a:lnTo>
                  <a:pt x="2018" y="5272"/>
                </a:lnTo>
                <a:lnTo>
                  <a:pt x="2008" y="5259"/>
                </a:lnTo>
                <a:lnTo>
                  <a:pt x="2000" y="5245"/>
                </a:lnTo>
                <a:lnTo>
                  <a:pt x="1993" y="5229"/>
                </a:lnTo>
                <a:lnTo>
                  <a:pt x="1979" y="5204"/>
                </a:lnTo>
                <a:lnTo>
                  <a:pt x="1962" y="5179"/>
                </a:lnTo>
                <a:lnTo>
                  <a:pt x="1947" y="5154"/>
                </a:lnTo>
                <a:lnTo>
                  <a:pt x="1931" y="5129"/>
                </a:lnTo>
                <a:lnTo>
                  <a:pt x="1913" y="5103"/>
                </a:lnTo>
                <a:lnTo>
                  <a:pt x="1897" y="5078"/>
                </a:lnTo>
                <a:lnTo>
                  <a:pt x="1879" y="5051"/>
                </a:lnTo>
                <a:lnTo>
                  <a:pt x="1861" y="5025"/>
                </a:lnTo>
                <a:lnTo>
                  <a:pt x="1843" y="4999"/>
                </a:lnTo>
                <a:lnTo>
                  <a:pt x="1826" y="4973"/>
                </a:lnTo>
                <a:lnTo>
                  <a:pt x="1808" y="4947"/>
                </a:lnTo>
                <a:lnTo>
                  <a:pt x="1790" y="4921"/>
                </a:lnTo>
                <a:lnTo>
                  <a:pt x="1773" y="4896"/>
                </a:lnTo>
                <a:lnTo>
                  <a:pt x="1755" y="4869"/>
                </a:lnTo>
                <a:lnTo>
                  <a:pt x="1739" y="4843"/>
                </a:lnTo>
                <a:lnTo>
                  <a:pt x="1722" y="4818"/>
                </a:lnTo>
                <a:lnTo>
                  <a:pt x="1698" y="4774"/>
                </a:lnTo>
                <a:lnTo>
                  <a:pt x="1675" y="4731"/>
                </a:lnTo>
                <a:lnTo>
                  <a:pt x="1651" y="4687"/>
                </a:lnTo>
                <a:lnTo>
                  <a:pt x="1628" y="4645"/>
                </a:lnTo>
                <a:lnTo>
                  <a:pt x="1604" y="4601"/>
                </a:lnTo>
                <a:lnTo>
                  <a:pt x="1581" y="4557"/>
                </a:lnTo>
                <a:lnTo>
                  <a:pt x="1558" y="4515"/>
                </a:lnTo>
                <a:lnTo>
                  <a:pt x="1535" y="4472"/>
                </a:lnTo>
                <a:lnTo>
                  <a:pt x="1512" y="4430"/>
                </a:lnTo>
                <a:lnTo>
                  <a:pt x="1490" y="4386"/>
                </a:lnTo>
                <a:lnTo>
                  <a:pt x="1467" y="4344"/>
                </a:lnTo>
                <a:lnTo>
                  <a:pt x="1446" y="4301"/>
                </a:lnTo>
                <a:lnTo>
                  <a:pt x="1423" y="4259"/>
                </a:lnTo>
                <a:lnTo>
                  <a:pt x="1401" y="4217"/>
                </a:lnTo>
                <a:lnTo>
                  <a:pt x="1379" y="4175"/>
                </a:lnTo>
                <a:lnTo>
                  <a:pt x="1357" y="4132"/>
                </a:lnTo>
                <a:lnTo>
                  <a:pt x="1335" y="4090"/>
                </a:lnTo>
                <a:lnTo>
                  <a:pt x="1314" y="4048"/>
                </a:lnTo>
                <a:lnTo>
                  <a:pt x="1292" y="4006"/>
                </a:lnTo>
                <a:lnTo>
                  <a:pt x="1270" y="3963"/>
                </a:lnTo>
                <a:lnTo>
                  <a:pt x="1249" y="3920"/>
                </a:lnTo>
                <a:lnTo>
                  <a:pt x="1228" y="3879"/>
                </a:lnTo>
                <a:lnTo>
                  <a:pt x="1206" y="3836"/>
                </a:lnTo>
                <a:lnTo>
                  <a:pt x="1185" y="3794"/>
                </a:lnTo>
                <a:lnTo>
                  <a:pt x="1163" y="3752"/>
                </a:lnTo>
                <a:lnTo>
                  <a:pt x="1142" y="3710"/>
                </a:lnTo>
                <a:lnTo>
                  <a:pt x="1121" y="3667"/>
                </a:lnTo>
                <a:lnTo>
                  <a:pt x="1100" y="3626"/>
                </a:lnTo>
                <a:lnTo>
                  <a:pt x="1078" y="3583"/>
                </a:lnTo>
                <a:lnTo>
                  <a:pt x="1056" y="3541"/>
                </a:lnTo>
                <a:lnTo>
                  <a:pt x="1036" y="3498"/>
                </a:lnTo>
                <a:lnTo>
                  <a:pt x="1014" y="3456"/>
                </a:lnTo>
                <a:lnTo>
                  <a:pt x="988" y="3412"/>
                </a:lnTo>
                <a:lnTo>
                  <a:pt x="962" y="3369"/>
                </a:lnTo>
                <a:lnTo>
                  <a:pt x="938" y="3325"/>
                </a:lnTo>
                <a:lnTo>
                  <a:pt x="914" y="3280"/>
                </a:lnTo>
                <a:lnTo>
                  <a:pt x="891" y="3237"/>
                </a:lnTo>
                <a:lnTo>
                  <a:pt x="868" y="3192"/>
                </a:lnTo>
                <a:lnTo>
                  <a:pt x="845" y="3147"/>
                </a:lnTo>
                <a:lnTo>
                  <a:pt x="823" y="3102"/>
                </a:lnTo>
                <a:lnTo>
                  <a:pt x="800" y="3058"/>
                </a:lnTo>
                <a:lnTo>
                  <a:pt x="777" y="3013"/>
                </a:lnTo>
                <a:lnTo>
                  <a:pt x="754" y="2968"/>
                </a:lnTo>
                <a:lnTo>
                  <a:pt x="732" y="2924"/>
                </a:lnTo>
                <a:lnTo>
                  <a:pt x="706" y="2880"/>
                </a:lnTo>
                <a:lnTo>
                  <a:pt x="682" y="2835"/>
                </a:lnTo>
                <a:lnTo>
                  <a:pt x="656" y="2791"/>
                </a:lnTo>
                <a:lnTo>
                  <a:pt x="629" y="2747"/>
                </a:lnTo>
                <a:lnTo>
                  <a:pt x="627" y="2737"/>
                </a:lnTo>
                <a:lnTo>
                  <a:pt x="626" y="2728"/>
                </a:lnTo>
                <a:lnTo>
                  <a:pt x="626" y="2722"/>
                </a:lnTo>
                <a:lnTo>
                  <a:pt x="626" y="2720"/>
                </a:lnTo>
                <a:lnTo>
                  <a:pt x="645" y="2697"/>
                </a:lnTo>
                <a:lnTo>
                  <a:pt x="667" y="2673"/>
                </a:lnTo>
                <a:lnTo>
                  <a:pt x="688" y="2650"/>
                </a:lnTo>
                <a:lnTo>
                  <a:pt x="709" y="2626"/>
                </a:lnTo>
                <a:lnTo>
                  <a:pt x="728" y="2601"/>
                </a:lnTo>
                <a:lnTo>
                  <a:pt x="743" y="2575"/>
                </a:lnTo>
                <a:lnTo>
                  <a:pt x="755" y="2545"/>
                </a:lnTo>
                <a:lnTo>
                  <a:pt x="762" y="2513"/>
                </a:lnTo>
                <a:lnTo>
                  <a:pt x="762" y="2495"/>
                </a:lnTo>
                <a:lnTo>
                  <a:pt x="759" y="2474"/>
                </a:lnTo>
                <a:lnTo>
                  <a:pt x="757" y="2454"/>
                </a:lnTo>
                <a:lnTo>
                  <a:pt x="760" y="2432"/>
                </a:lnTo>
                <a:lnTo>
                  <a:pt x="759" y="2427"/>
                </a:lnTo>
                <a:lnTo>
                  <a:pt x="757" y="2422"/>
                </a:lnTo>
                <a:lnTo>
                  <a:pt x="753" y="2416"/>
                </a:lnTo>
                <a:lnTo>
                  <a:pt x="750" y="2411"/>
                </a:lnTo>
                <a:lnTo>
                  <a:pt x="745" y="2407"/>
                </a:lnTo>
                <a:lnTo>
                  <a:pt x="739" y="2401"/>
                </a:lnTo>
                <a:lnTo>
                  <a:pt x="733" y="2398"/>
                </a:lnTo>
                <a:lnTo>
                  <a:pt x="725" y="2395"/>
                </a:lnTo>
                <a:lnTo>
                  <a:pt x="720" y="2395"/>
                </a:lnTo>
                <a:lnTo>
                  <a:pt x="714" y="2396"/>
                </a:lnTo>
                <a:lnTo>
                  <a:pt x="706" y="2397"/>
                </a:lnTo>
                <a:lnTo>
                  <a:pt x="700" y="2400"/>
                </a:lnTo>
                <a:lnTo>
                  <a:pt x="555" y="2350"/>
                </a:lnTo>
                <a:lnTo>
                  <a:pt x="537" y="2364"/>
                </a:lnTo>
                <a:lnTo>
                  <a:pt x="520" y="2380"/>
                </a:lnTo>
                <a:lnTo>
                  <a:pt x="503" y="2397"/>
                </a:lnTo>
                <a:lnTo>
                  <a:pt x="486" y="2413"/>
                </a:lnTo>
                <a:lnTo>
                  <a:pt x="471" y="2432"/>
                </a:lnTo>
                <a:lnTo>
                  <a:pt x="456" y="2450"/>
                </a:lnTo>
                <a:lnTo>
                  <a:pt x="440" y="2470"/>
                </a:lnTo>
                <a:lnTo>
                  <a:pt x="427" y="2490"/>
                </a:lnTo>
                <a:lnTo>
                  <a:pt x="413" y="2510"/>
                </a:lnTo>
                <a:lnTo>
                  <a:pt x="400" y="2531"/>
                </a:lnTo>
                <a:lnTo>
                  <a:pt x="388" y="2552"/>
                </a:lnTo>
                <a:lnTo>
                  <a:pt x="376" y="2573"/>
                </a:lnTo>
                <a:lnTo>
                  <a:pt x="365" y="2595"/>
                </a:lnTo>
                <a:lnTo>
                  <a:pt x="354" y="2617"/>
                </a:lnTo>
                <a:lnTo>
                  <a:pt x="344" y="2640"/>
                </a:lnTo>
                <a:lnTo>
                  <a:pt x="335" y="2662"/>
                </a:lnTo>
                <a:lnTo>
                  <a:pt x="331" y="2741"/>
                </a:lnTo>
                <a:lnTo>
                  <a:pt x="352" y="2768"/>
                </a:lnTo>
                <a:lnTo>
                  <a:pt x="371" y="2794"/>
                </a:lnTo>
                <a:lnTo>
                  <a:pt x="389" y="2821"/>
                </a:lnTo>
                <a:lnTo>
                  <a:pt x="406" y="2848"/>
                </a:lnTo>
                <a:lnTo>
                  <a:pt x="421" y="2875"/>
                </a:lnTo>
                <a:lnTo>
                  <a:pt x="436" y="2902"/>
                </a:lnTo>
                <a:lnTo>
                  <a:pt x="450" y="2929"/>
                </a:lnTo>
                <a:lnTo>
                  <a:pt x="463" y="2956"/>
                </a:lnTo>
                <a:lnTo>
                  <a:pt x="476" y="2984"/>
                </a:lnTo>
                <a:lnTo>
                  <a:pt x="489" y="3011"/>
                </a:lnTo>
                <a:lnTo>
                  <a:pt x="503" y="3038"/>
                </a:lnTo>
                <a:lnTo>
                  <a:pt x="516" y="3065"/>
                </a:lnTo>
                <a:lnTo>
                  <a:pt x="529" y="3093"/>
                </a:lnTo>
                <a:lnTo>
                  <a:pt x="543" y="3119"/>
                </a:lnTo>
                <a:lnTo>
                  <a:pt x="556" y="3146"/>
                </a:lnTo>
                <a:lnTo>
                  <a:pt x="571" y="3172"/>
                </a:lnTo>
                <a:lnTo>
                  <a:pt x="589" y="3207"/>
                </a:lnTo>
                <a:lnTo>
                  <a:pt x="605" y="3241"/>
                </a:lnTo>
                <a:lnTo>
                  <a:pt x="622" y="3275"/>
                </a:lnTo>
                <a:lnTo>
                  <a:pt x="640" y="3308"/>
                </a:lnTo>
                <a:lnTo>
                  <a:pt x="656" y="3340"/>
                </a:lnTo>
                <a:lnTo>
                  <a:pt x="674" y="3373"/>
                </a:lnTo>
                <a:lnTo>
                  <a:pt x="690" y="3405"/>
                </a:lnTo>
                <a:lnTo>
                  <a:pt x="708" y="3437"/>
                </a:lnTo>
                <a:lnTo>
                  <a:pt x="724" y="3469"/>
                </a:lnTo>
                <a:lnTo>
                  <a:pt x="740" y="3501"/>
                </a:lnTo>
                <a:lnTo>
                  <a:pt x="757" y="3533"/>
                </a:lnTo>
                <a:lnTo>
                  <a:pt x="772" y="3565"/>
                </a:lnTo>
                <a:lnTo>
                  <a:pt x="788" y="3598"/>
                </a:lnTo>
                <a:lnTo>
                  <a:pt x="803" y="3630"/>
                </a:lnTo>
                <a:lnTo>
                  <a:pt x="819" y="3663"/>
                </a:lnTo>
                <a:lnTo>
                  <a:pt x="833" y="3697"/>
                </a:lnTo>
                <a:lnTo>
                  <a:pt x="847" y="3719"/>
                </a:lnTo>
                <a:lnTo>
                  <a:pt x="861" y="3742"/>
                </a:lnTo>
                <a:lnTo>
                  <a:pt x="874" y="3763"/>
                </a:lnTo>
                <a:lnTo>
                  <a:pt x="887" y="3786"/>
                </a:lnTo>
                <a:lnTo>
                  <a:pt x="900" y="3808"/>
                </a:lnTo>
                <a:lnTo>
                  <a:pt x="912" y="3831"/>
                </a:lnTo>
                <a:lnTo>
                  <a:pt x="923" y="3854"/>
                </a:lnTo>
                <a:lnTo>
                  <a:pt x="935" y="3876"/>
                </a:lnTo>
                <a:lnTo>
                  <a:pt x="946" y="3899"/>
                </a:lnTo>
                <a:lnTo>
                  <a:pt x="957" y="3922"/>
                </a:lnTo>
                <a:lnTo>
                  <a:pt x="967" y="3944"/>
                </a:lnTo>
                <a:lnTo>
                  <a:pt x="978" y="3966"/>
                </a:lnTo>
                <a:lnTo>
                  <a:pt x="989" y="3989"/>
                </a:lnTo>
                <a:lnTo>
                  <a:pt x="999" y="4011"/>
                </a:lnTo>
                <a:lnTo>
                  <a:pt x="1009" y="4034"/>
                </a:lnTo>
                <a:lnTo>
                  <a:pt x="1020" y="4056"/>
                </a:lnTo>
                <a:lnTo>
                  <a:pt x="1040" y="4098"/>
                </a:lnTo>
                <a:lnTo>
                  <a:pt x="1060" y="4140"/>
                </a:lnTo>
                <a:lnTo>
                  <a:pt x="1081" y="4182"/>
                </a:lnTo>
                <a:lnTo>
                  <a:pt x="1102" y="4224"/>
                </a:lnTo>
                <a:lnTo>
                  <a:pt x="1125" y="4266"/>
                </a:lnTo>
                <a:lnTo>
                  <a:pt x="1147" y="4308"/>
                </a:lnTo>
                <a:lnTo>
                  <a:pt x="1170" y="4350"/>
                </a:lnTo>
                <a:lnTo>
                  <a:pt x="1193" y="4392"/>
                </a:lnTo>
                <a:lnTo>
                  <a:pt x="1216" y="4433"/>
                </a:lnTo>
                <a:lnTo>
                  <a:pt x="1238" y="4475"/>
                </a:lnTo>
                <a:lnTo>
                  <a:pt x="1261" y="4516"/>
                </a:lnTo>
                <a:lnTo>
                  <a:pt x="1284" y="4557"/>
                </a:lnTo>
                <a:lnTo>
                  <a:pt x="1307" y="4598"/>
                </a:lnTo>
                <a:lnTo>
                  <a:pt x="1329" y="4638"/>
                </a:lnTo>
                <a:lnTo>
                  <a:pt x="1351" y="4678"/>
                </a:lnTo>
                <a:lnTo>
                  <a:pt x="1371" y="4719"/>
                </a:lnTo>
                <a:lnTo>
                  <a:pt x="1393" y="4755"/>
                </a:lnTo>
                <a:lnTo>
                  <a:pt x="1414" y="4792"/>
                </a:lnTo>
                <a:lnTo>
                  <a:pt x="1437" y="4830"/>
                </a:lnTo>
                <a:lnTo>
                  <a:pt x="1459" y="4867"/>
                </a:lnTo>
                <a:lnTo>
                  <a:pt x="1482" y="4905"/>
                </a:lnTo>
                <a:lnTo>
                  <a:pt x="1504" y="4944"/>
                </a:lnTo>
                <a:lnTo>
                  <a:pt x="1527" y="4982"/>
                </a:lnTo>
                <a:lnTo>
                  <a:pt x="1550" y="5020"/>
                </a:lnTo>
                <a:lnTo>
                  <a:pt x="1574" y="5058"/>
                </a:lnTo>
                <a:lnTo>
                  <a:pt x="1597" y="5096"/>
                </a:lnTo>
                <a:lnTo>
                  <a:pt x="1620" y="5133"/>
                </a:lnTo>
                <a:lnTo>
                  <a:pt x="1643" y="5170"/>
                </a:lnTo>
                <a:lnTo>
                  <a:pt x="1666" y="5206"/>
                </a:lnTo>
                <a:lnTo>
                  <a:pt x="1689" y="5242"/>
                </a:lnTo>
                <a:lnTo>
                  <a:pt x="1710" y="5277"/>
                </a:lnTo>
                <a:lnTo>
                  <a:pt x="1732" y="5311"/>
                </a:lnTo>
                <a:lnTo>
                  <a:pt x="1738" y="5318"/>
                </a:lnTo>
                <a:lnTo>
                  <a:pt x="1742" y="5324"/>
                </a:lnTo>
                <a:lnTo>
                  <a:pt x="1743" y="5329"/>
                </a:lnTo>
                <a:lnTo>
                  <a:pt x="1744" y="5330"/>
                </a:lnTo>
                <a:lnTo>
                  <a:pt x="1745" y="5330"/>
                </a:lnTo>
                <a:lnTo>
                  <a:pt x="1749" y="5331"/>
                </a:lnTo>
                <a:lnTo>
                  <a:pt x="1752" y="5332"/>
                </a:lnTo>
                <a:lnTo>
                  <a:pt x="1753" y="5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99040" y="1752480"/>
            <a:ext cx="78876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CRID</a:t>
            </a:r>
            <a:endParaRPr b="0" lang="en-US" sz="2000" spc="-1" strike="noStrike">
              <a:solidFill>
                <a:srgbClr val="000000"/>
              </a:solidFill>
              <a:latin typeface="Times New Roman"/>
            </a:endParaRPr>
          </a:p>
        </p:txBody>
      </p:sp>
      <p:sp>
        <p:nvSpPr>
          <p:cNvPr id="123" name=""/>
          <p:cNvSpPr/>
          <p:nvPr/>
        </p:nvSpPr>
        <p:spPr>
          <a:xfrm>
            <a:off x="5265720" y="1752480"/>
            <a:ext cx="78876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CRID</a:t>
            </a:r>
            <a:endParaRPr b="0" lang="en-US" sz="2000" spc="-1" strike="noStrike">
              <a:solidFill>
                <a:srgbClr val="000000"/>
              </a:solidFill>
              <a:latin typeface="Times New Roman"/>
            </a:endParaRPr>
          </a:p>
        </p:txBody>
      </p:sp>
      <p:sp>
        <p:nvSpPr>
          <p:cNvPr id="124" name=""/>
          <p:cNvSpPr/>
          <p:nvPr/>
        </p:nvSpPr>
        <p:spPr>
          <a:xfrm>
            <a:off x="5843520" y="22654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9080" y="1219320"/>
            <a:ext cx="412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authority produces CRIDs</a:t>
            </a:r>
            <a:endParaRPr b="0" lang="en-US" sz="2400" spc="-1" strike="noStrike">
              <a:solidFill>
                <a:srgbClr val="000000"/>
              </a:solidFill>
              <a:latin typeface="Times New Roman"/>
            </a:endParaRPr>
          </a:p>
        </p:txBody>
      </p:sp>
      <p:sp>
        <p:nvSpPr>
          <p:cNvPr id="126" name=""/>
          <p:cNvSpPr/>
          <p:nvPr/>
        </p:nvSpPr>
        <p:spPr>
          <a:xfrm>
            <a:off x="1372320" y="2590920"/>
            <a:ext cx="6535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ch CRID contains the name of the autho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st of the CRID is defined by the authority</a:t>
            </a:r>
            <a:endParaRPr b="0" lang="en-US" sz="2400" spc="-1" strike="noStrike">
              <a:solidFill>
                <a:srgbClr val="000000"/>
              </a:solidFill>
              <a:latin typeface="Times New Roman"/>
            </a:endParaRPr>
          </a:p>
        </p:txBody>
      </p:sp>
      <p:sp>
        <p:nvSpPr>
          <p:cNvPr id="127" name=""/>
          <p:cNvSpPr/>
          <p:nvPr/>
        </p:nvSpPr>
        <p:spPr>
          <a:xfrm>
            <a:off x="1301760" y="4419720"/>
            <a:ext cx="70052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ch authority must be have globally unique nam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V-Anytime standard uses the DNS syste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lt;DNS name&gt;/&lt;optional path&gt;</a:t>
            </a:r>
            <a:endParaRPr b="0" lang="en-US" sz="2000" spc="-1" strike="noStrike">
              <a:solidFill>
                <a:srgbClr val="000000"/>
              </a:solidFill>
              <a:latin typeface="Times New Roman"/>
            </a:endParaRPr>
          </a:p>
        </p:txBody>
      </p:sp>
      <p:sp>
        <p:nvSpPr>
          <p:cNvPr id="128" name=""/>
          <p:cNvSpPr/>
          <p:nvPr/>
        </p:nvSpPr>
        <p:spPr>
          <a:xfrm>
            <a:off x="2368800" y="3657600"/>
            <a:ext cx="456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D://&lt;authority&gt;;&lt;data&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Resolving a CRID</a:t>
            </a:r>
            <a:endParaRPr b="1" lang="en-US" sz="3000" spc="-1" strike="noStrike">
              <a:solidFill>
                <a:srgbClr val="ffff00"/>
              </a:solidFill>
              <a:latin typeface="Arial"/>
            </a:endParaRPr>
          </a:p>
        </p:txBody>
      </p:sp>
      <p:sp>
        <p:nvSpPr>
          <p:cNvPr id="130" name="PlaceHolder 2"/>
          <p:cNvSpPr>
            <a:spLocks noGrp="1"/>
          </p:cNvSpPr>
          <p:nvPr>
            <p:ph/>
          </p:nvPr>
        </p:nvSpPr>
        <p:spPr>
          <a:xfrm>
            <a:off x="380880" y="1447560"/>
            <a:ext cx="8382240" cy="3886200"/>
          </a:xfrm>
          <a:prstGeom prst="rect">
            <a:avLst/>
          </a:prstGeom>
          <a:noFill/>
          <a:ln w="0">
            <a:noFill/>
          </a:ln>
        </p:spPr>
        <p:txBody>
          <a:bodyPr lIns="90360" rIns="90360" tIns="44280" bIns="44280" anchor="ctr" anchorCtr="1">
            <a:normAutofit/>
          </a:bodyPr>
          <a:p>
            <a:pPr marL="341280" indent="-341280">
              <a:spcBef>
                <a:spcPts val="601"/>
              </a:spcBef>
              <a:buClr>
                <a:srgbClr val="ffff00"/>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nd out where a CRID created by an authority can be resolved</a:t>
            </a:r>
            <a:endParaRPr b="0" lang="en-US" sz="2400" spc="-1" strike="noStrike">
              <a:solidFill>
                <a:srgbClr val="ffffff"/>
              </a:solidFill>
              <a:latin typeface="Arial"/>
            </a:endParaRPr>
          </a:p>
          <a:p>
            <a:pPr lvl="1" marL="1081080" indent="-398520">
              <a:spcBef>
                <a:spcPts val="550"/>
              </a:spcBef>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s a Resolution Authority Record</a:t>
            </a:r>
            <a:endParaRPr b="0" lang="en-US" sz="2200" spc="-1" strike="noStrike">
              <a:solidFill>
                <a:srgbClr val="ffffff"/>
              </a:solidFill>
              <a:latin typeface="Arial"/>
            </a:endParaRPr>
          </a:p>
          <a:p>
            <a:pPr lvl="1" marL="1081080" indent="-398520">
              <a:spcBef>
                <a:spcPts val="550"/>
              </a:spcBef>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se records are pushed in the broadcast case</a:t>
            </a:r>
            <a:endParaRPr b="0" lang="en-US" sz="2200" spc="-1" strike="noStrike">
              <a:solidFill>
                <a:srgbClr val="ffffff"/>
              </a:solidFill>
              <a:latin typeface="Arial"/>
            </a:endParaRPr>
          </a:p>
          <a:p>
            <a:pPr lvl="1" marL="1081080" indent="-398520">
              <a:spcBef>
                <a:spcPts val="550"/>
              </a:spcBef>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P case is not yet specified, but a DNS based solution has been proposed</a:t>
            </a:r>
            <a:endParaRPr b="0" lang="en-US" sz="2200" spc="-1" strike="noStrike">
              <a:solidFill>
                <a:srgbClr val="ffffff"/>
              </a:solidFill>
              <a:latin typeface="Arial"/>
            </a:endParaRPr>
          </a:p>
          <a:p>
            <a:pPr marL="341280" indent="-341280">
              <a:spcBef>
                <a:spcPts val="601"/>
              </a:spcBef>
              <a:buClr>
                <a:srgbClr val="ffff00"/>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o to location given by resolution authority record</a:t>
            </a:r>
            <a:endParaRPr b="0" lang="en-US" sz="2400" spc="-1" strike="noStrike">
              <a:solidFill>
                <a:srgbClr val="ffffff"/>
              </a:solidFill>
              <a:latin typeface="Arial"/>
            </a:endParaRPr>
          </a:p>
          <a:p>
            <a:pPr lvl="1" marL="1081080" indent="-398520">
              <a:spcBef>
                <a:spcPts val="550"/>
              </a:spcBef>
              <a:buClr>
                <a:srgbClr val="4d93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convert the CRID into locators or CRID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Talking to Location Resolver</a:t>
            </a:r>
            <a:endParaRPr b="1" lang="en-US" sz="3000" spc="-1" strike="noStrike">
              <a:solidFill>
                <a:srgbClr val="ffff00"/>
              </a:solidFill>
              <a:latin typeface="Arial"/>
            </a:endParaRPr>
          </a:p>
        </p:txBody>
      </p:sp>
      <p:sp>
        <p:nvSpPr>
          <p:cNvPr id="132" name="PlaceHolder 2"/>
          <p:cNvSpPr>
            <a:spLocks noGrp="1"/>
          </p:cNvSpPr>
          <p:nvPr>
            <p:ph/>
          </p:nvPr>
        </p:nvSpPr>
        <p:spPr>
          <a:xfrm>
            <a:off x="380880" y="3200400"/>
            <a:ext cx="8382240" cy="2286000"/>
          </a:xfrm>
          <a:prstGeom prst="rect">
            <a:avLst/>
          </a:prstGeom>
          <a:noFill/>
          <a:ln w="0">
            <a:noFill/>
          </a:ln>
        </p:spPr>
        <p:txBody>
          <a:bodyPr lIns="90360" rIns="90360" tIns="44280" bIns="44280" anchor="ctr" anchorCtr="1">
            <a:normAutofit/>
          </a:bodyPr>
          <a:p>
            <a:pPr marL="341280" indent="-3412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solution Authority Record gives location of location resolver</a:t>
            </a:r>
            <a:endParaRPr b="0" lang="en-US" sz="2400" spc="-1" strike="noStrike">
              <a:solidFill>
                <a:srgbClr val="ffffff"/>
              </a:solidFill>
              <a:latin typeface="Arial"/>
            </a:endParaRPr>
          </a:p>
          <a:p>
            <a:pPr marL="341280" indent="-341280">
              <a:spcBef>
                <a:spcPts val="601"/>
              </a:spcBef>
              <a:buClr>
                <a:srgbClr val="4d93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e or more resolution handlers will “know” how to talk to this location.</a:t>
            </a:r>
            <a:endParaRPr b="0" lang="en-US" sz="2400" spc="-1" strike="noStrike">
              <a:solidFill>
                <a:srgbClr val="ffffff"/>
              </a:solidFill>
              <a:latin typeface="Arial"/>
            </a:endParaRPr>
          </a:p>
        </p:txBody>
      </p:sp>
      <p:graphicFrame>
        <p:nvGraphicFramePr>
          <p:cNvPr id="133" name=""/>
          <p:cNvGraphicFramePr/>
          <p:nvPr/>
        </p:nvGraphicFramePr>
        <p:xfrm>
          <a:off x="2666880" y="1371600"/>
          <a:ext cx="3819600" cy="1990800"/>
        </p:xfrm>
        <a:graphic>
          <a:graphicData uri="http://schemas.openxmlformats.org/presentationml/2006/ole">
            <p:oleObj r:id="rId2" spid="">
              <p:embed/>
              <p:pic>
                <p:nvPicPr>
                  <p:cNvPr id="134" name="" descr=""/>
                  <p:cNvPicPr/>
                  <p:nvPr/>
                </p:nvPicPr>
                <p:blipFill>
                  <a:blip r:embed="rId3"/>
                  <a:stretch/>
                </p:blipFill>
                <p:spPr>
                  <a:xfrm>
                    <a:off x="2666880" y="1371600"/>
                    <a:ext cx="381960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An Example</a:t>
            </a:r>
            <a:endParaRPr b="1" lang="en-US" sz="3000" spc="-1" strike="noStrike">
              <a:solidFill>
                <a:srgbClr val="ffff00"/>
              </a:solidFill>
              <a:latin typeface="Arial"/>
            </a:endParaRPr>
          </a:p>
        </p:txBody>
      </p:sp>
      <p:grpSp>
        <p:nvGrpSpPr>
          <p:cNvPr id="136" name=""/>
          <p:cNvGrpSpPr/>
          <p:nvPr/>
        </p:nvGrpSpPr>
        <p:grpSpPr>
          <a:xfrm>
            <a:off x="3582720" y="2514600"/>
            <a:ext cx="4403880" cy="914400"/>
            <a:chOff x="3582720" y="2514600"/>
            <a:chExt cx="4403880" cy="914400"/>
          </a:xfrm>
        </p:grpSpPr>
        <p:sp>
          <p:nvSpPr>
            <p:cNvPr id="137" name=""/>
            <p:cNvSpPr/>
            <p:nvPr/>
          </p:nvSpPr>
          <p:spPr>
            <a:xfrm>
              <a:off x="3905280" y="2576520"/>
              <a:ext cx="858960" cy="42552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11760" y="2583000"/>
              <a:ext cx="849240" cy="417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9480" y="2693880"/>
              <a:ext cx="2304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5908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41" name=""/>
            <p:cNvSpPr/>
            <p:nvPr/>
          </p:nvSpPr>
          <p:spPr>
            <a:xfrm>
              <a:off x="4249800" y="2693880"/>
              <a:ext cx="2188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8940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143" name=""/>
            <p:cNvSpPr/>
            <p:nvPr/>
          </p:nvSpPr>
          <p:spPr>
            <a:xfrm>
              <a:off x="4384800" y="2693880"/>
              <a:ext cx="1188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360" y="2695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145" name=""/>
            <p:cNvSpPr/>
            <p:nvPr/>
          </p:nvSpPr>
          <p:spPr>
            <a:xfrm>
              <a:off x="4430880" y="2693880"/>
              <a:ext cx="230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7012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147" name=""/>
            <p:cNvSpPr/>
            <p:nvPr/>
          </p:nvSpPr>
          <p:spPr>
            <a:xfrm flipH="1">
              <a:off x="3582720" y="3002040"/>
              <a:ext cx="741240" cy="4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24320" y="3002040"/>
              <a:ext cx="225360" cy="4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61000" y="2887560"/>
              <a:ext cx="779400" cy="541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19960" y="2514600"/>
              <a:ext cx="326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All sport by broadcaster </a:t>
              </a:r>
              <a:r>
                <a:rPr b="0" i="1" lang="en-GB" sz="2000" spc="-1" strike="noStrike">
                  <a:solidFill>
                    <a:srgbClr val="ffffff"/>
                  </a:solidFill>
                  <a:latin typeface="Arial"/>
                </a:rPr>
                <a:t>B</a:t>
              </a:r>
              <a:r>
                <a:rPr b="0" lang="en-GB" sz="2000" spc="-1" strike="noStrike">
                  <a:solidFill>
                    <a:srgbClr val="ffffff"/>
                  </a:solidFill>
                  <a:latin typeface="Arial"/>
                </a:rPr>
                <a:t>”</a:t>
              </a:r>
              <a:endParaRPr b="0" lang="en-US" sz="2000" spc="-1" strike="noStrike">
                <a:solidFill>
                  <a:srgbClr val="000000"/>
                </a:solidFill>
                <a:latin typeface="Times New Roman"/>
              </a:endParaRPr>
            </a:p>
          </p:txBody>
        </p:sp>
      </p:grpSp>
      <p:grpSp>
        <p:nvGrpSpPr>
          <p:cNvPr id="151" name=""/>
          <p:cNvGrpSpPr/>
          <p:nvPr/>
        </p:nvGrpSpPr>
        <p:grpSpPr>
          <a:xfrm>
            <a:off x="762120" y="1828800"/>
            <a:ext cx="5988600" cy="1577880"/>
            <a:chOff x="762120" y="1828800"/>
            <a:chExt cx="5988600" cy="1577880"/>
          </a:xfrm>
        </p:grpSpPr>
        <p:sp>
          <p:nvSpPr>
            <p:cNvPr id="152" name=""/>
            <p:cNvSpPr/>
            <p:nvPr/>
          </p:nvSpPr>
          <p:spPr>
            <a:xfrm>
              <a:off x="3271680" y="1828800"/>
              <a:ext cx="847800" cy="42876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78160" y="1835280"/>
              <a:ext cx="838080" cy="417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75080" y="1947960"/>
              <a:ext cx="23004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14680" y="1951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56" name=""/>
            <p:cNvSpPr/>
            <p:nvPr/>
          </p:nvSpPr>
          <p:spPr>
            <a:xfrm>
              <a:off x="3605040" y="1947960"/>
              <a:ext cx="21924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4640" y="1951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158" name=""/>
            <p:cNvSpPr/>
            <p:nvPr/>
          </p:nvSpPr>
          <p:spPr>
            <a:xfrm>
              <a:off x="3740040" y="1947960"/>
              <a:ext cx="11916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74600" y="1951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160" name=""/>
            <p:cNvSpPr/>
            <p:nvPr/>
          </p:nvSpPr>
          <p:spPr>
            <a:xfrm>
              <a:off x="3786120" y="1947960"/>
              <a:ext cx="23040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25720" y="1951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162" name=""/>
            <p:cNvSpPr/>
            <p:nvPr/>
          </p:nvSpPr>
          <p:spPr>
            <a:xfrm>
              <a:off x="1773360" y="2978280"/>
              <a:ext cx="858600" cy="428400"/>
            </a:xfrm>
            <a:custGeom>
              <a:avLst/>
              <a:gdLst/>
              <a:ahLst/>
              <a:rect l="l" t="t" r="r" b="b"/>
              <a:pathLst>
                <a:path w="541" h="270">
                  <a:moveTo>
                    <a:pt x="270" y="0"/>
                  </a:moveTo>
                  <a:lnTo>
                    <a:pt x="421" y="0"/>
                  </a:lnTo>
                  <a:lnTo>
                    <a:pt x="466" y="8"/>
                  </a:lnTo>
                  <a:lnTo>
                    <a:pt x="503" y="38"/>
                  </a:lnTo>
                  <a:lnTo>
                    <a:pt x="534" y="76"/>
                  </a:lnTo>
                  <a:lnTo>
                    <a:pt x="541" y="121"/>
                  </a:lnTo>
                  <a:lnTo>
                    <a:pt x="541" y="150"/>
                  </a:lnTo>
                  <a:lnTo>
                    <a:pt x="534" y="203"/>
                  </a:lnTo>
                  <a:lnTo>
                    <a:pt x="503" y="240"/>
                  </a:lnTo>
                  <a:lnTo>
                    <a:pt x="466" y="261"/>
                  </a:lnTo>
                  <a:lnTo>
                    <a:pt x="421" y="270"/>
                  </a:lnTo>
                  <a:lnTo>
                    <a:pt x="120" y="270"/>
                  </a:lnTo>
                  <a:lnTo>
                    <a:pt x="75" y="261"/>
                  </a:lnTo>
                  <a:lnTo>
                    <a:pt x="31" y="240"/>
                  </a:lnTo>
                  <a:lnTo>
                    <a:pt x="7" y="203"/>
                  </a:lnTo>
                  <a:lnTo>
                    <a:pt x="0" y="150"/>
                  </a:lnTo>
                  <a:lnTo>
                    <a:pt x="0" y="121"/>
                  </a:lnTo>
                  <a:lnTo>
                    <a:pt x="7" y="76"/>
                  </a:lnTo>
                  <a:lnTo>
                    <a:pt x="31" y="38"/>
                  </a:lnTo>
                  <a:lnTo>
                    <a:pt x="75" y="8"/>
                  </a:lnTo>
                  <a:lnTo>
                    <a:pt x="120" y="0"/>
                  </a:lnTo>
                  <a:lnTo>
                    <a:pt x="270" y="0"/>
                  </a:lnTo>
                  <a:close/>
                </a:path>
              </a:pathLst>
            </a:cu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773360" y="2978280"/>
              <a:ext cx="858600" cy="428400"/>
            </a:xfrm>
            <a:custGeom>
              <a:avLst/>
              <a:gdLst/>
              <a:ahLst/>
              <a:rect l="l" t="t" r="r" b="b"/>
              <a:pathLst>
                <a:path w="541" h="270">
                  <a:moveTo>
                    <a:pt x="270" y="0"/>
                  </a:moveTo>
                  <a:lnTo>
                    <a:pt x="421" y="0"/>
                  </a:lnTo>
                  <a:lnTo>
                    <a:pt x="466" y="8"/>
                  </a:lnTo>
                  <a:lnTo>
                    <a:pt x="503" y="38"/>
                  </a:lnTo>
                  <a:lnTo>
                    <a:pt x="534" y="76"/>
                  </a:lnTo>
                  <a:lnTo>
                    <a:pt x="541" y="121"/>
                  </a:lnTo>
                  <a:lnTo>
                    <a:pt x="541" y="150"/>
                  </a:lnTo>
                  <a:lnTo>
                    <a:pt x="534" y="203"/>
                  </a:lnTo>
                  <a:lnTo>
                    <a:pt x="503" y="240"/>
                  </a:lnTo>
                  <a:lnTo>
                    <a:pt x="466" y="261"/>
                  </a:lnTo>
                  <a:lnTo>
                    <a:pt x="421" y="270"/>
                  </a:lnTo>
                  <a:lnTo>
                    <a:pt x="120" y="270"/>
                  </a:lnTo>
                  <a:lnTo>
                    <a:pt x="75" y="261"/>
                  </a:lnTo>
                  <a:lnTo>
                    <a:pt x="31" y="240"/>
                  </a:lnTo>
                  <a:lnTo>
                    <a:pt x="7" y="203"/>
                  </a:lnTo>
                  <a:lnTo>
                    <a:pt x="0" y="150"/>
                  </a:lnTo>
                  <a:lnTo>
                    <a:pt x="0" y="121"/>
                  </a:lnTo>
                  <a:lnTo>
                    <a:pt x="7" y="76"/>
                  </a:lnTo>
                  <a:lnTo>
                    <a:pt x="31" y="38"/>
                  </a:lnTo>
                  <a:lnTo>
                    <a:pt x="75" y="8"/>
                  </a:lnTo>
                  <a:lnTo>
                    <a:pt x="120" y="0"/>
                  </a:lnTo>
                  <a:lnTo>
                    <a:pt x="27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05120" y="3098880"/>
              <a:ext cx="1936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44000" y="310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Times New Roman"/>
              </a:endParaRPr>
            </a:p>
          </p:txBody>
        </p:sp>
        <p:sp>
          <p:nvSpPr>
            <p:cNvPr id="166" name=""/>
            <p:cNvSpPr/>
            <p:nvPr/>
          </p:nvSpPr>
          <p:spPr>
            <a:xfrm>
              <a:off x="2013120" y="3098880"/>
              <a:ext cx="1904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48760" y="310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68" name=""/>
            <p:cNvSpPr/>
            <p:nvPr/>
          </p:nvSpPr>
          <p:spPr>
            <a:xfrm>
              <a:off x="2106720" y="3098880"/>
              <a:ext cx="1825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45240" y="3100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70" name=""/>
            <p:cNvSpPr/>
            <p:nvPr/>
          </p:nvSpPr>
          <p:spPr>
            <a:xfrm>
              <a:off x="2190600" y="3098880"/>
              <a:ext cx="1922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29480" y="310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72" name=""/>
            <p:cNvSpPr/>
            <p:nvPr/>
          </p:nvSpPr>
          <p:spPr>
            <a:xfrm>
              <a:off x="2298600" y="3098880"/>
              <a:ext cx="13356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36400" y="3100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endParaRPr b="0" lang="en-US" sz="1400" spc="-1" strike="noStrike">
                <a:solidFill>
                  <a:srgbClr val="000000"/>
                </a:solidFill>
                <a:latin typeface="Times New Roman"/>
              </a:endParaRPr>
            </a:p>
          </p:txBody>
        </p:sp>
        <p:sp>
          <p:nvSpPr>
            <p:cNvPr id="174" name=""/>
            <p:cNvSpPr/>
            <p:nvPr/>
          </p:nvSpPr>
          <p:spPr>
            <a:xfrm>
              <a:off x="2346480" y="3098880"/>
              <a:ext cx="1936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85360" y="310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76" name=""/>
            <p:cNvSpPr/>
            <p:nvPr/>
          </p:nvSpPr>
          <p:spPr>
            <a:xfrm>
              <a:off x="2454120" y="3098880"/>
              <a:ext cx="14616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93000" y="3100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178" name=""/>
            <p:cNvSpPr/>
            <p:nvPr/>
          </p:nvSpPr>
          <p:spPr>
            <a:xfrm>
              <a:off x="3691080" y="2243160"/>
              <a:ext cx="633240" cy="333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41480" y="2576520"/>
              <a:ext cx="849600" cy="42552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47960" y="2583000"/>
              <a:ext cx="838080" cy="417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46320" y="2693880"/>
              <a:ext cx="2286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08592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83" name=""/>
            <p:cNvSpPr/>
            <p:nvPr/>
          </p:nvSpPr>
          <p:spPr>
            <a:xfrm>
              <a:off x="3178080" y="2693880"/>
              <a:ext cx="2160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21768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185" name=""/>
            <p:cNvSpPr/>
            <p:nvPr/>
          </p:nvSpPr>
          <p:spPr>
            <a:xfrm>
              <a:off x="3306600" y="2693880"/>
              <a:ext cx="1224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44400" y="2695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187" name=""/>
            <p:cNvSpPr/>
            <p:nvPr/>
          </p:nvSpPr>
          <p:spPr>
            <a:xfrm>
              <a:off x="3354480" y="2693880"/>
              <a:ext cx="230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9372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189" name=""/>
            <p:cNvSpPr/>
            <p:nvPr/>
          </p:nvSpPr>
          <p:spPr>
            <a:xfrm flipH="1">
              <a:off x="3260520" y="2243160"/>
              <a:ext cx="430200" cy="333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2539800" y="2746440"/>
              <a:ext cx="301320" cy="27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47280" y="1839960"/>
              <a:ext cx="25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Sports today” group</a:t>
              </a:r>
              <a:endParaRPr b="0" lang="en-US" sz="2000" spc="-1" strike="noStrike">
                <a:solidFill>
                  <a:srgbClr val="000000"/>
                </a:solidFill>
                <a:latin typeface="Times New Roman"/>
              </a:endParaRPr>
            </a:p>
          </p:txBody>
        </p:sp>
        <p:sp>
          <p:nvSpPr>
            <p:cNvPr id="192" name=""/>
            <p:cNvSpPr/>
            <p:nvPr/>
          </p:nvSpPr>
          <p:spPr>
            <a:xfrm>
              <a:off x="762120" y="2286000"/>
              <a:ext cx="1981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Golf match on broadcaster </a:t>
              </a:r>
              <a:r>
                <a:rPr b="0" i="1" lang="en-GB" sz="2000" spc="-1" strike="noStrike">
                  <a:solidFill>
                    <a:srgbClr val="ffffff"/>
                  </a:solidFill>
                  <a:latin typeface="Arial"/>
                </a:rPr>
                <a:t>A</a:t>
              </a:r>
              <a:r>
                <a:rPr b="0" lang="en-GB" sz="2000" spc="-1" strike="noStrike">
                  <a:solidFill>
                    <a:srgbClr val="ffffff"/>
                  </a:solidFill>
                  <a:latin typeface="Arial"/>
                </a:rPr>
                <a:t>”</a:t>
              </a:r>
              <a:endParaRPr b="0" lang="en-US" sz="2000" spc="-1" strike="noStrike">
                <a:solidFill>
                  <a:srgbClr val="000000"/>
                </a:solidFill>
                <a:latin typeface="Times New Roman"/>
              </a:endParaRPr>
            </a:p>
          </p:txBody>
        </p:sp>
      </p:grpSp>
      <p:grpSp>
        <p:nvGrpSpPr>
          <p:cNvPr id="193" name=""/>
          <p:cNvGrpSpPr/>
          <p:nvPr/>
        </p:nvGrpSpPr>
        <p:grpSpPr>
          <a:xfrm>
            <a:off x="3125160" y="3124080"/>
            <a:ext cx="888120" cy="1578240"/>
            <a:chOff x="3125160" y="3124080"/>
            <a:chExt cx="888120" cy="1578240"/>
          </a:xfrm>
        </p:grpSpPr>
        <p:sp>
          <p:nvSpPr>
            <p:cNvPr id="194" name=""/>
            <p:cNvSpPr/>
            <p:nvPr/>
          </p:nvSpPr>
          <p:spPr>
            <a:xfrm>
              <a:off x="3152880" y="3429000"/>
              <a:ext cx="860400" cy="42696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59000" y="3433680"/>
              <a:ext cx="849600" cy="419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68520" y="3535200"/>
              <a:ext cx="2286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40812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98" name=""/>
            <p:cNvSpPr/>
            <p:nvPr/>
          </p:nvSpPr>
          <p:spPr>
            <a:xfrm>
              <a:off x="3500280" y="3535200"/>
              <a:ext cx="2160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53988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00" name=""/>
            <p:cNvSpPr/>
            <p:nvPr/>
          </p:nvSpPr>
          <p:spPr>
            <a:xfrm>
              <a:off x="3630600" y="3535200"/>
              <a:ext cx="1224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68400" y="3538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202" name=""/>
            <p:cNvSpPr/>
            <p:nvPr/>
          </p:nvSpPr>
          <p:spPr>
            <a:xfrm>
              <a:off x="3676680" y="3535200"/>
              <a:ext cx="2300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71628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204" name=""/>
            <p:cNvSpPr/>
            <p:nvPr/>
          </p:nvSpPr>
          <p:spPr>
            <a:xfrm>
              <a:off x="3137040" y="4273560"/>
              <a:ext cx="871560" cy="428760"/>
            </a:xfrm>
            <a:custGeom>
              <a:avLst/>
              <a:gdLst/>
              <a:ahLst/>
              <a:rect l="l" t="t" r="r" b="b"/>
              <a:pathLst>
                <a:path w="549" h="270">
                  <a:moveTo>
                    <a:pt x="278" y="0"/>
                  </a:moveTo>
                  <a:lnTo>
                    <a:pt x="429" y="0"/>
                  </a:lnTo>
                  <a:lnTo>
                    <a:pt x="472" y="7"/>
                  </a:lnTo>
                  <a:lnTo>
                    <a:pt x="512" y="38"/>
                  </a:lnTo>
                  <a:lnTo>
                    <a:pt x="533" y="76"/>
                  </a:lnTo>
                  <a:lnTo>
                    <a:pt x="549" y="120"/>
                  </a:lnTo>
                  <a:lnTo>
                    <a:pt x="549" y="149"/>
                  </a:lnTo>
                  <a:lnTo>
                    <a:pt x="533" y="202"/>
                  </a:lnTo>
                  <a:lnTo>
                    <a:pt x="512" y="239"/>
                  </a:lnTo>
                  <a:lnTo>
                    <a:pt x="472" y="262"/>
                  </a:lnTo>
                  <a:lnTo>
                    <a:pt x="429" y="270"/>
                  </a:lnTo>
                  <a:lnTo>
                    <a:pt x="127" y="270"/>
                  </a:lnTo>
                  <a:lnTo>
                    <a:pt x="75" y="262"/>
                  </a:lnTo>
                  <a:lnTo>
                    <a:pt x="37" y="239"/>
                  </a:lnTo>
                  <a:lnTo>
                    <a:pt x="14" y="202"/>
                  </a:lnTo>
                  <a:lnTo>
                    <a:pt x="0" y="149"/>
                  </a:lnTo>
                  <a:lnTo>
                    <a:pt x="0" y="120"/>
                  </a:lnTo>
                  <a:lnTo>
                    <a:pt x="14" y="76"/>
                  </a:lnTo>
                  <a:lnTo>
                    <a:pt x="37" y="38"/>
                  </a:lnTo>
                  <a:lnTo>
                    <a:pt x="75" y="7"/>
                  </a:lnTo>
                  <a:lnTo>
                    <a:pt x="127" y="0"/>
                  </a:lnTo>
                  <a:lnTo>
                    <a:pt x="278" y="0"/>
                  </a:lnTo>
                  <a:close/>
                </a:path>
              </a:pathLst>
            </a:cu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37040" y="4273560"/>
              <a:ext cx="871560" cy="428760"/>
            </a:xfrm>
            <a:custGeom>
              <a:avLst/>
              <a:gdLst/>
              <a:ahLst/>
              <a:rect l="l" t="t" r="r" b="b"/>
              <a:pathLst>
                <a:path w="549" h="270">
                  <a:moveTo>
                    <a:pt x="278" y="0"/>
                  </a:moveTo>
                  <a:lnTo>
                    <a:pt x="429" y="0"/>
                  </a:lnTo>
                  <a:lnTo>
                    <a:pt x="472" y="7"/>
                  </a:lnTo>
                  <a:lnTo>
                    <a:pt x="512" y="38"/>
                  </a:lnTo>
                  <a:lnTo>
                    <a:pt x="533" y="76"/>
                  </a:lnTo>
                  <a:lnTo>
                    <a:pt x="549" y="120"/>
                  </a:lnTo>
                  <a:lnTo>
                    <a:pt x="549" y="149"/>
                  </a:lnTo>
                  <a:lnTo>
                    <a:pt x="533" y="202"/>
                  </a:lnTo>
                  <a:lnTo>
                    <a:pt x="512" y="239"/>
                  </a:lnTo>
                  <a:lnTo>
                    <a:pt x="472" y="262"/>
                  </a:lnTo>
                  <a:lnTo>
                    <a:pt x="429" y="270"/>
                  </a:lnTo>
                  <a:lnTo>
                    <a:pt x="127" y="270"/>
                  </a:lnTo>
                  <a:lnTo>
                    <a:pt x="75" y="262"/>
                  </a:lnTo>
                  <a:lnTo>
                    <a:pt x="37" y="239"/>
                  </a:lnTo>
                  <a:lnTo>
                    <a:pt x="14" y="202"/>
                  </a:lnTo>
                  <a:lnTo>
                    <a:pt x="0" y="149"/>
                  </a:lnTo>
                  <a:lnTo>
                    <a:pt x="0" y="120"/>
                  </a:lnTo>
                  <a:lnTo>
                    <a:pt x="14" y="76"/>
                  </a:lnTo>
                  <a:lnTo>
                    <a:pt x="37" y="38"/>
                  </a:lnTo>
                  <a:lnTo>
                    <a:pt x="75" y="7"/>
                  </a:lnTo>
                  <a:lnTo>
                    <a:pt x="127" y="0"/>
                  </a:lnTo>
                  <a:lnTo>
                    <a:pt x="278"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28840" y="4365720"/>
              <a:ext cx="19224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67720" y="436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Times New Roman"/>
              </a:endParaRPr>
            </a:p>
          </p:txBody>
        </p:sp>
        <p:sp>
          <p:nvSpPr>
            <p:cNvPr id="208" name=""/>
            <p:cNvSpPr/>
            <p:nvPr/>
          </p:nvSpPr>
          <p:spPr>
            <a:xfrm>
              <a:off x="3324240" y="4365720"/>
              <a:ext cx="19224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1680" y="436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10" name=""/>
            <p:cNvSpPr/>
            <p:nvPr/>
          </p:nvSpPr>
          <p:spPr>
            <a:xfrm>
              <a:off x="3419640" y="4365720"/>
              <a:ext cx="18252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458160" y="43689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12" name=""/>
            <p:cNvSpPr/>
            <p:nvPr/>
          </p:nvSpPr>
          <p:spPr>
            <a:xfrm>
              <a:off x="3513240" y="4365720"/>
              <a:ext cx="19368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52120" y="436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214" name=""/>
            <p:cNvSpPr/>
            <p:nvPr/>
          </p:nvSpPr>
          <p:spPr>
            <a:xfrm>
              <a:off x="3622680" y="4365720"/>
              <a:ext cx="13320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660480" y="436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endParaRPr b="0" lang="en-US" sz="1400" spc="-1" strike="noStrike">
                <a:solidFill>
                  <a:srgbClr val="000000"/>
                </a:solidFill>
                <a:latin typeface="Times New Roman"/>
              </a:endParaRPr>
            </a:p>
          </p:txBody>
        </p:sp>
        <p:sp>
          <p:nvSpPr>
            <p:cNvPr id="216" name=""/>
            <p:cNvSpPr/>
            <p:nvPr/>
          </p:nvSpPr>
          <p:spPr>
            <a:xfrm>
              <a:off x="3670200" y="4365720"/>
              <a:ext cx="19368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09080" y="436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18" name=""/>
            <p:cNvSpPr/>
            <p:nvPr/>
          </p:nvSpPr>
          <p:spPr>
            <a:xfrm>
              <a:off x="3767040" y="4365720"/>
              <a:ext cx="14472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02680" y="43689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20" name=""/>
            <p:cNvSpPr/>
            <p:nvPr/>
          </p:nvSpPr>
          <p:spPr>
            <a:xfrm>
              <a:off x="3581280" y="3809880"/>
              <a:ext cx="0" cy="457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25160" y="312408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olf</a:t>
              </a:r>
              <a:endParaRPr b="0" lang="en-US" sz="2000" spc="-1" strike="noStrike">
                <a:solidFill>
                  <a:srgbClr val="000000"/>
                </a:solidFill>
                <a:latin typeface="Times New Roman"/>
              </a:endParaRPr>
            </a:p>
          </p:txBody>
        </p:sp>
      </p:grpSp>
      <p:grpSp>
        <p:nvGrpSpPr>
          <p:cNvPr id="222" name=""/>
          <p:cNvGrpSpPr/>
          <p:nvPr/>
        </p:nvGrpSpPr>
        <p:grpSpPr>
          <a:xfrm>
            <a:off x="4100400" y="3124080"/>
            <a:ext cx="989280" cy="1579680"/>
            <a:chOff x="4100400" y="3124080"/>
            <a:chExt cx="989280" cy="1579680"/>
          </a:xfrm>
        </p:grpSpPr>
        <p:sp>
          <p:nvSpPr>
            <p:cNvPr id="223" name=""/>
            <p:cNvSpPr/>
            <p:nvPr/>
          </p:nvSpPr>
          <p:spPr>
            <a:xfrm>
              <a:off x="4119480" y="3429000"/>
              <a:ext cx="860400" cy="42696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25960" y="3433680"/>
              <a:ext cx="849240" cy="419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35480" y="3535200"/>
              <a:ext cx="2286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37508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27" name=""/>
            <p:cNvSpPr/>
            <p:nvPr/>
          </p:nvSpPr>
          <p:spPr>
            <a:xfrm>
              <a:off x="4467240" y="3535200"/>
              <a:ext cx="2160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0684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29" name=""/>
            <p:cNvSpPr/>
            <p:nvPr/>
          </p:nvSpPr>
          <p:spPr>
            <a:xfrm>
              <a:off x="4597560" y="3535200"/>
              <a:ext cx="1220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35360" y="3538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231" name=""/>
            <p:cNvSpPr/>
            <p:nvPr/>
          </p:nvSpPr>
          <p:spPr>
            <a:xfrm>
              <a:off x="4646520" y="3535200"/>
              <a:ext cx="22716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86120" y="35384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233" name=""/>
            <p:cNvSpPr/>
            <p:nvPr/>
          </p:nvSpPr>
          <p:spPr>
            <a:xfrm>
              <a:off x="4100400" y="4278240"/>
              <a:ext cx="847800" cy="425520"/>
            </a:xfrm>
            <a:custGeom>
              <a:avLst/>
              <a:gdLst/>
              <a:ahLst/>
              <a:rect l="l" t="t" r="r" b="b"/>
              <a:pathLst>
                <a:path w="534" h="268">
                  <a:moveTo>
                    <a:pt x="264" y="0"/>
                  </a:moveTo>
                  <a:lnTo>
                    <a:pt x="422" y="0"/>
                  </a:lnTo>
                  <a:lnTo>
                    <a:pt x="467" y="15"/>
                  </a:lnTo>
                  <a:lnTo>
                    <a:pt x="505" y="38"/>
                  </a:lnTo>
                  <a:lnTo>
                    <a:pt x="527" y="74"/>
                  </a:lnTo>
                  <a:lnTo>
                    <a:pt x="534" y="119"/>
                  </a:lnTo>
                  <a:lnTo>
                    <a:pt x="534" y="157"/>
                  </a:lnTo>
                  <a:lnTo>
                    <a:pt x="527" y="202"/>
                  </a:lnTo>
                  <a:lnTo>
                    <a:pt x="505" y="239"/>
                  </a:lnTo>
                  <a:lnTo>
                    <a:pt x="467" y="261"/>
                  </a:lnTo>
                  <a:lnTo>
                    <a:pt x="422" y="268"/>
                  </a:lnTo>
                  <a:lnTo>
                    <a:pt x="113" y="268"/>
                  </a:lnTo>
                  <a:lnTo>
                    <a:pt x="68" y="261"/>
                  </a:lnTo>
                  <a:lnTo>
                    <a:pt x="31" y="239"/>
                  </a:lnTo>
                  <a:lnTo>
                    <a:pt x="7" y="202"/>
                  </a:lnTo>
                  <a:lnTo>
                    <a:pt x="0" y="157"/>
                  </a:lnTo>
                  <a:lnTo>
                    <a:pt x="0" y="119"/>
                  </a:lnTo>
                  <a:lnTo>
                    <a:pt x="7" y="74"/>
                  </a:lnTo>
                  <a:lnTo>
                    <a:pt x="31" y="38"/>
                  </a:lnTo>
                  <a:lnTo>
                    <a:pt x="68" y="15"/>
                  </a:lnTo>
                  <a:lnTo>
                    <a:pt x="113" y="0"/>
                  </a:lnTo>
                  <a:lnTo>
                    <a:pt x="264" y="0"/>
                  </a:lnTo>
                  <a:close/>
                </a:path>
              </a:pathLst>
            </a:cu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00400" y="4278240"/>
              <a:ext cx="847800" cy="425520"/>
            </a:xfrm>
            <a:custGeom>
              <a:avLst/>
              <a:gdLst/>
              <a:ahLst/>
              <a:rect l="l" t="t" r="r" b="b"/>
              <a:pathLst>
                <a:path w="534" h="268">
                  <a:moveTo>
                    <a:pt x="264" y="0"/>
                  </a:moveTo>
                  <a:lnTo>
                    <a:pt x="422" y="0"/>
                  </a:lnTo>
                  <a:lnTo>
                    <a:pt x="467" y="15"/>
                  </a:lnTo>
                  <a:lnTo>
                    <a:pt x="505" y="38"/>
                  </a:lnTo>
                  <a:lnTo>
                    <a:pt x="527" y="74"/>
                  </a:lnTo>
                  <a:lnTo>
                    <a:pt x="534" y="119"/>
                  </a:lnTo>
                  <a:lnTo>
                    <a:pt x="534" y="157"/>
                  </a:lnTo>
                  <a:lnTo>
                    <a:pt x="527" y="202"/>
                  </a:lnTo>
                  <a:lnTo>
                    <a:pt x="505" y="239"/>
                  </a:lnTo>
                  <a:lnTo>
                    <a:pt x="467" y="261"/>
                  </a:lnTo>
                  <a:lnTo>
                    <a:pt x="422" y="268"/>
                  </a:lnTo>
                  <a:lnTo>
                    <a:pt x="113" y="268"/>
                  </a:lnTo>
                  <a:lnTo>
                    <a:pt x="68" y="261"/>
                  </a:lnTo>
                  <a:lnTo>
                    <a:pt x="31" y="239"/>
                  </a:lnTo>
                  <a:lnTo>
                    <a:pt x="7" y="202"/>
                  </a:lnTo>
                  <a:lnTo>
                    <a:pt x="0" y="157"/>
                  </a:lnTo>
                  <a:lnTo>
                    <a:pt x="0" y="119"/>
                  </a:lnTo>
                  <a:lnTo>
                    <a:pt x="7" y="74"/>
                  </a:lnTo>
                  <a:lnTo>
                    <a:pt x="31" y="38"/>
                  </a:lnTo>
                  <a:lnTo>
                    <a:pt x="68" y="15"/>
                  </a:lnTo>
                  <a:lnTo>
                    <a:pt x="113" y="0"/>
                  </a:lnTo>
                  <a:lnTo>
                    <a:pt x="26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232160" y="439596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271040" y="4397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Times New Roman"/>
              </a:endParaRPr>
            </a:p>
          </p:txBody>
        </p:sp>
        <p:sp>
          <p:nvSpPr>
            <p:cNvPr id="237" name=""/>
            <p:cNvSpPr/>
            <p:nvPr/>
          </p:nvSpPr>
          <p:spPr>
            <a:xfrm>
              <a:off x="4329000" y="439596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367880" y="4397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39" name=""/>
            <p:cNvSpPr/>
            <p:nvPr/>
          </p:nvSpPr>
          <p:spPr>
            <a:xfrm>
              <a:off x="4433760" y="4395960"/>
              <a:ext cx="1825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72640" y="4397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41" name=""/>
            <p:cNvSpPr/>
            <p:nvPr/>
          </p:nvSpPr>
          <p:spPr>
            <a:xfrm>
              <a:off x="4519440" y="439596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58320" y="4397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243" name=""/>
            <p:cNvSpPr/>
            <p:nvPr/>
          </p:nvSpPr>
          <p:spPr>
            <a:xfrm>
              <a:off x="4626000" y="4395960"/>
              <a:ext cx="1332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663800" y="43974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endParaRPr b="0" lang="en-US" sz="1400" spc="-1" strike="noStrike">
                <a:solidFill>
                  <a:srgbClr val="000000"/>
                </a:solidFill>
                <a:latin typeface="Times New Roman"/>
              </a:endParaRPr>
            </a:p>
          </p:txBody>
        </p:sp>
        <p:sp>
          <p:nvSpPr>
            <p:cNvPr id="245" name=""/>
            <p:cNvSpPr/>
            <p:nvPr/>
          </p:nvSpPr>
          <p:spPr>
            <a:xfrm>
              <a:off x="4673520" y="439596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12400" y="4397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47" name=""/>
            <p:cNvSpPr/>
            <p:nvPr/>
          </p:nvSpPr>
          <p:spPr>
            <a:xfrm>
              <a:off x="4781520" y="4395960"/>
              <a:ext cx="14616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820400" y="43974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49" name=""/>
            <p:cNvSpPr/>
            <p:nvPr/>
          </p:nvSpPr>
          <p:spPr>
            <a:xfrm>
              <a:off x="4545000" y="3838680"/>
              <a:ext cx="4680" cy="439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114800" y="31240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icket</a:t>
              </a:r>
              <a:endParaRPr b="0" lang="en-US" sz="2000" spc="-1" strike="noStrike">
                <a:solidFill>
                  <a:srgbClr val="000000"/>
                </a:solidFill>
                <a:latin typeface="Times New Roman"/>
              </a:endParaRPr>
            </a:p>
          </p:txBody>
        </p:sp>
      </p:grpSp>
      <p:grpSp>
        <p:nvGrpSpPr>
          <p:cNvPr id="251" name=""/>
          <p:cNvGrpSpPr/>
          <p:nvPr/>
        </p:nvGrpSpPr>
        <p:grpSpPr>
          <a:xfrm>
            <a:off x="5157720" y="3048120"/>
            <a:ext cx="1978200" cy="1563480"/>
            <a:chOff x="5157720" y="3048120"/>
            <a:chExt cx="1978200" cy="1563480"/>
          </a:xfrm>
        </p:grpSpPr>
        <p:sp>
          <p:nvSpPr>
            <p:cNvPr id="252" name=""/>
            <p:cNvSpPr/>
            <p:nvPr/>
          </p:nvSpPr>
          <p:spPr>
            <a:xfrm>
              <a:off x="5251320" y="4186080"/>
              <a:ext cx="847800" cy="425520"/>
            </a:xfrm>
            <a:custGeom>
              <a:avLst/>
              <a:gdLst/>
              <a:ahLst/>
              <a:rect l="l" t="t" r="r" b="b"/>
              <a:pathLst>
                <a:path w="534" h="268">
                  <a:moveTo>
                    <a:pt x="264" y="0"/>
                  </a:moveTo>
                  <a:lnTo>
                    <a:pt x="422" y="0"/>
                  </a:lnTo>
                  <a:lnTo>
                    <a:pt x="467" y="15"/>
                  </a:lnTo>
                  <a:lnTo>
                    <a:pt x="505" y="36"/>
                  </a:lnTo>
                  <a:lnTo>
                    <a:pt x="527" y="74"/>
                  </a:lnTo>
                  <a:lnTo>
                    <a:pt x="534" y="119"/>
                  </a:lnTo>
                  <a:lnTo>
                    <a:pt x="534" y="149"/>
                  </a:lnTo>
                  <a:lnTo>
                    <a:pt x="527" y="202"/>
                  </a:lnTo>
                  <a:lnTo>
                    <a:pt x="505" y="232"/>
                  </a:lnTo>
                  <a:lnTo>
                    <a:pt x="467" y="261"/>
                  </a:lnTo>
                  <a:lnTo>
                    <a:pt x="422" y="268"/>
                  </a:lnTo>
                  <a:lnTo>
                    <a:pt x="113" y="268"/>
                  </a:lnTo>
                  <a:lnTo>
                    <a:pt x="68" y="261"/>
                  </a:lnTo>
                  <a:lnTo>
                    <a:pt x="31" y="232"/>
                  </a:lnTo>
                  <a:lnTo>
                    <a:pt x="8" y="202"/>
                  </a:lnTo>
                  <a:lnTo>
                    <a:pt x="0" y="149"/>
                  </a:lnTo>
                  <a:lnTo>
                    <a:pt x="0" y="119"/>
                  </a:lnTo>
                  <a:lnTo>
                    <a:pt x="8" y="74"/>
                  </a:lnTo>
                  <a:lnTo>
                    <a:pt x="31" y="36"/>
                  </a:lnTo>
                  <a:lnTo>
                    <a:pt x="68" y="15"/>
                  </a:lnTo>
                  <a:lnTo>
                    <a:pt x="113" y="0"/>
                  </a:lnTo>
                  <a:lnTo>
                    <a:pt x="264" y="0"/>
                  </a:lnTo>
                  <a:close/>
                </a:path>
              </a:pathLst>
            </a:cu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251320" y="4186080"/>
              <a:ext cx="847800" cy="425520"/>
            </a:xfrm>
            <a:custGeom>
              <a:avLst/>
              <a:gdLst/>
              <a:ahLst/>
              <a:rect l="l" t="t" r="r" b="b"/>
              <a:pathLst>
                <a:path w="534" h="268">
                  <a:moveTo>
                    <a:pt x="264" y="0"/>
                  </a:moveTo>
                  <a:lnTo>
                    <a:pt x="422" y="0"/>
                  </a:lnTo>
                  <a:lnTo>
                    <a:pt x="467" y="15"/>
                  </a:lnTo>
                  <a:lnTo>
                    <a:pt x="505" y="36"/>
                  </a:lnTo>
                  <a:lnTo>
                    <a:pt x="527" y="74"/>
                  </a:lnTo>
                  <a:lnTo>
                    <a:pt x="534" y="119"/>
                  </a:lnTo>
                  <a:lnTo>
                    <a:pt x="534" y="149"/>
                  </a:lnTo>
                  <a:lnTo>
                    <a:pt x="527" y="202"/>
                  </a:lnTo>
                  <a:lnTo>
                    <a:pt x="505" y="232"/>
                  </a:lnTo>
                  <a:lnTo>
                    <a:pt x="467" y="261"/>
                  </a:lnTo>
                  <a:lnTo>
                    <a:pt x="422" y="268"/>
                  </a:lnTo>
                  <a:lnTo>
                    <a:pt x="113" y="268"/>
                  </a:lnTo>
                  <a:lnTo>
                    <a:pt x="68" y="261"/>
                  </a:lnTo>
                  <a:lnTo>
                    <a:pt x="31" y="232"/>
                  </a:lnTo>
                  <a:lnTo>
                    <a:pt x="8" y="202"/>
                  </a:lnTo>
                  <a:lnTo>
                    <a:pt x="0" y="149"/>
                  </a:lnTo>
                  <a:lnTo>
                    <a:pt x="0" y="119"/>
                  </a:lnTo>
                  <a:lnTo>
                    <a:pt x="8" y="74"/>
                  </a:lnTo>
                  <a:lnTo>
                    <a:pt x="31" y="36"/>
                  </a:lnTo>
                  <a:lnTo>
                    <a:pt x="68" y="15"/>
                  </a:lnTo>
                  <a:lnTo>
                    <a:pt x="113" y="0"/>
                  </a:lnTo>
                  <a:lnTo>
                    <a:pt x="26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83080" y="430380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421960" y="4305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Times New Roman"/>
              </a:endParaRPr>
            </a:p>
          </p:txBody>
        </p:sp>
        <p:sp>
          <p:nvSpPr>
            <p:cNvPr id="256" name=""/>
            <p:cNvSpPr/>
            <p:nvPr/>
          </p:nvSpPr>
          <p:spPr>
            <a:xfrm>
              <a:off x="5479920" y="430380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18800" y="4305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58" name=""/>
            <p:cNvSpPr/>
            <p:nvPr/>
          </p:nvSpPr>
          <p:spPr>
            <a:xfrm>
              <a:off x="5586480" y="4303800"/>
              <a:ext cx="1810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625000" y="4305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60" name=""/>
            <p:cNvSpPr/>
            <p:nvPr/>
          </p:nvSpPr>
          <p:spPr>
            <a:xfrm>
              <a:off x="5670720" y="430380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09600" y="4305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262" name=""/>
            <p:cNvSpPr/>
            <p:nvPr/>
          </p:nvSpPr>
          <p:spPr>
            <a:xfrm>
              <a:off x="5776920" y="4303800"/>
              <a:ext cx="13320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814720" y="4305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endParaRPr b="0" lang="en-US" sz="1400" spc="-1" strike="noStrike">
                <a:solidFill>
                  <a:srgbClr val="000000"/>
                </a:solidFill>
                <a:latin typeface="Times New Roman"/>
              </a:endParaRPr>
            </a:p>
          </p:txBody>
        </p:sp>
        <p:sp>
          <p:nvSpPr>
            <p:cNvPr id="264" name=""/>
            <p:cNvSpPr/>
            <p:nvPr/>
          </p:nvSpPr>
          <p:spPr>
            <a:xfrm>
              <a:off x="5824440" y="4303800"/>
              <a:ext cx="193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863320" y="4305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66" name=""/>
            <p:cNvSpPr/>
            <p:nvPr/>
          </p:nvSpPr>
          <p:spPr>
            <a:xfrm>
              <a:off x="5934240" y="4303800"/>
              <a:ext cx="14436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73120" y="43052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68" name=""/>
            <p:cNvSpPr/>
            <p:nvPr/>
          </p:nvSpPr>
          <p:spPr>
            <a:xfrm>
              <a:off x="6288120" y="3943440"/>
              <a:ext cx="847800" cy="426960"/>
            </a:xfrm>
            <a:custGeom>
              <a:avLst/>
              <a:gdLst/>
              <a:ahLst/>
              <a:rect l="l" t="t" r="r" b="b"/>
              <a:pathLst>
                <a:path w="534" h="269">
                  <a:moveTo>
                    <a:pt x="264" y="0"/>
                  </a:moveTo>
                  <a:lnTo>
                    <a:pt x="422" y="0"/>
                  </a:lnTo>
                  <a:lnTo>
                    <a:pt x="467" y="16"/>
                  </a:lnTo>
                  <a:lnTo>
                    <a:pt x="505" y="37"/>
                  </a:lnTo>
                  <a:lnTo>
                    <a:pt x="526" y="73"/>
                  </a:lnTo>
                  <a:lnTo>
                    <a:pt x="534" y="120"/>
                  </a:lnTo>
                  <a:lnTo>
                    <a:pt x="534" y="156"/>
                  </a:lnTo>
                  <a:lnTo>
                    <a:pt x="526" y="201"/>
                  </a:lnTo>
                  <a:lnTo>
                    <a:pt x="505" y="239"/>
                  </a:lnTo>
                  <a:lnTo>
                    <a:pt x="467" y="260"/>
                  </a:lnTo>
                  <a:lnTo>
                    <a:pt x="422" y="269"/>
                  </a:lnTo>
                  <a:lnTo>
                    <a:pt x="113" y="269"/>
                  </a:lnTo>
                  <a:lnTo>
                    <a:pt x="68" y="260"/>
                  </a:lnTo>
                  <a:lnTo>
                    <a:pt x="30" y="239"/>
                  </a:lnTo>
                  <a:lnTo>
                    <a:pt x="7" y="201"/>
                  </a:lnTo>
                  <a:lnTo>
                    <a:pt x="0" y="156"/>
                  </a:lnTo>
                  <a:lnTo>
                    <a:pt x="0" y="120"/>
                  </a:lnTo>
                  <a:lnTo>
                    <a:pt x="7" y="73"/>
                  </a:lnTo>
                  <a:lnTo>
                    <a:pt x="30" y="37"/>
                  </a:lnTo>
                  <a:lnTo>
                    <a:pt x="68" y="16"/>
                  </a:lnTo>
                  <a:lnTo>
                    <a:pt x="113" y="0"/>
                  </a:lnTo>
                  <a:lnTo>
                    <a:pt x="264" y="0"/>
                  </a:lnTo>
                  <a:close/>
                </a:path>
              </a:pathLst>
            </a:cu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88120" y="3943440"/>
              <a:ext cx="847800" cy="426960"/>
            </a:xfrm>
            <a:custGeom>
              <a:avLst/>
              <a:gdLst/>
              <a:ahLst/>
              <a:rect l="l" t="t" r="r" b="b"/>
              <a:pathLst>
                <a:path w="534" h="269">
                  <a:moveTo>
                    <a:pt x="264" y="0"/>
                  </a:moveTo>
                  <a:lnTo>
                    <a:pt x="422" y="0"/>
                  </a:lnTo>
                  <a:lnTo>
                    <a:pt x="467" y="16"/>
                  </a:lnTo>
                  <a:lnTo>
                    <a:pt x="505" y="37"/>
                  </a:lnTo>
                  <a:lnTo>
                    <a:pt x="526" y="73"/>
                  </a:lnTo>
                  <a:lnTo>
                    <a:pt x="534" y="120"/>
                  </a:lnTo>
                  <a:lnTo>
                    <a:pt x="534" y="156"/>
                  </a:lnTo>
                  <a:lnTo>
                    <a:pt x="526" y="201"/>
                  </a:lnTo>
                  <a:lnTo>
                    <a:pt x="505" y="239"/>
                  </a:lnTo>
                  <a:lnTo>
                    <a:pt x="467" y="260"/>
                  </a:lnTo>
                  <a:lnTo>
                    <a:pt x="422" y="269"/>
                  </a:lnTo>
                  <a:lnTo>
                    <a:pt x="113" y="269"/>
                  </a:lnTo>
                  <a:lnTo>
                    <a:pt x="68" y="260"/>
                  </a:lnTo>
                  <a:lnTo>
                    <a:pt x="30" y="239"/>
                  </a:lnTo>
                  <a:lnTo>
                    <a:pt x="7" y="201"/>
                  </a:lnTo>
                  <a:lnTo>
                    <a:pt x="0" y="156"/>
                  </a:lnTo>
                  <a:lnTo>
                    <a:pt x="0" y="120"/>
                  </a:lnTo>
                  <a:lnTo>
                    <a:pt x="7" y="73"/>
                  </a:lnTo>
                  <a:lnTo>
                    <a:pt x="30" y="37"/>
                  </a:lnTo>
                  <a:lnTo>
                    <a:pt x="68" y="16"/>
                  </a:lnTo>
                  <a:lnTo>
                    <a:pt x="113" y="0"/>
                  </a:lnTo>
                  <a:lnTo>
                    <a:pt x="26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19880" y="4059360"/>
              <a:ext cx="1918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58760" y="4064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Times New Roman"/>
              </a:endParaRPr>
            </a:p>
          </p:txBody>
        </p:sp>
        <p:sp>
          <p:nvSpPr>
            <p:cNvPr id="272" name=""/>
            <p:cNvSpPr/>
            <p:nvPr/>
          </p:nvSpPr>
          <p:spPr>
            <a:xfrm>
              <a:off x="6515280" y="4059360"/>
              <a:ext cx="1933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554160" y="4064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74" name=""/>
            <p:cNvSpPr/>
            <p:nvPr/>
          </p:nvSpPr>
          <p:spPr>
            <a:xfrm>
              <a:off x="6621480" y="4059360"/>
              <a:ext cx="1825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660000" y="406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76" name=""/>
            <p:cNvSpPr/>
            <p:nvPr/>
          </p:nvSpPr>
          <p:spPr>
            <a:xfrm>
              <a:off x="6707160" y="4059360"/>
              <a:ext cx="193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746040" y="4064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278" name=""/>
            <p:cNvSpPr/>
            <p:nvPr/>
          </p:nvSpPr>
          <p:spPr>
            <a:xfrm>
              <a:off x="6813720" y="4059360"/>
              <a:ext cx="13320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1520" y="4064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endParaRPr b="0" lang="en-US" sz="1400" spc="-1" strike="noStrike">
                <a:solidFill>
                  <a:srgbClr val="000000"/>
                </a:solidFill>
                <a:latin typeface="Times New Roman"/>
              </a:endParaRPr>
            </a:p>
          </p:txBody>
        </p:sp>
        <p:sp>
          <p:nvSpPr>
            <p:cNvPr id="280" name=""/>
            <p:cNvSpPr/>
            <p:nvPr/>
          </p:nvSpPr>
          <p:spPr>
            <a:xfrm>
              <a:off x="6861240" y="4059360"/>
              <a:ext cx="193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00120" y="4064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282" name=""/>
            <p:cNvSpPr/>
            <p:nvPr/>
          </p:nvSpPr>
          <p:spPr>
            <a:xfrm>
              <a:off x="6969240" y="4059360"/>
              <a:ext cx="14580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08120" y="4064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84" name=""/>
            <p:cNvSpPr/>
            <p:nvPr/>
          </p:nvSpPr>
          <p:spPr>
            <a:xfrm flipH="1" flipV="1">
              <a:off x="5673600" y="3821040"/>
              <a:ext cx="50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flipV="1">
              <a:off x="6005520" y="3796920"/>
              <a:ext cx="271440" cy="358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157720" y="3395520"/>
              <a:ext cx="858960" cy="427320"/>
            </a:xfrm>
            <a:prstGeom prst="rect">
              <a:avLst/>
            </a:prstGeom>
            <a:solidFill>
              <a:srgbClr val="c9f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162400" y="3402000"/>
              <a:ext cx="851040" cy="415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72280" y="3514680"/>
              <a:ext cx="2300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411520" y="351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290" name=""/>
            <p:cNvSpPr/>
            <p:nvPr/>
          </p:nvSpPr>
          <p:spPr>
            <a:xfrm>
              <a:off x="5502240" y="3514680"/>
              <a:ext cx="2192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41840" y="351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p:txBody>
        </p:sp>
        <p:sp>
          <p:nvSpPr>
            <p:cNvPr id="292" name=""/>
            <p:cNvSpPr/>
            <p:nvPr/>
          </p:nvSpPr>
          <p:spPr>
            <a:xfrm>
              <a:off x="5634000" y="3514680"/>
              <a:ext cx="1224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671800" y="3517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t>
              </a:r>
              <a:endParaRPr b="0" lang="en-US" sz="1400" spc="-1" strike="noStrike">
                <a:solidFill>
                  <a:srgbClr val="000000"/>
                </a:solidFill>
                <a:latin typeface="Times New Roman"/>
              </a:endParaRPr>
            </a:p>
          </p:txBody>
        </p:sp>
        <p:sp>
          <p:nvSpPr>
            <p:cNvPr id="294" name=""/>
            <p:cNvSpPr/>
            <p:nvPr/>
          </p:nvSpPr>
          <p:spPr>
            <a:xfrm>
              <a:off x="5683320" y="3514680"/>
              <a:ext cx="2300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722560" y="351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p:txBody>
        </p:sp>
        <p:sp>
          <p:nvSpPr>
            <p:cNvPr id="296" name=""/>
            <p:cNvSpPr/>
            <p:nvPr/>
          </p:nvSpPr>
          <p:spPr>
            <a:xfrm>
              <a:off x="5182560" y="304812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nni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600"/>
            <a:ext cx="838224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The Content Referencing Specification</a:t>
            </a:r>
            <a:endParaRPr b="1" lang="en-US" sz="3000" spc="-1" strike="noStrike">
              <a:solidFill>
                <a:srgbClr val="ffff00"/>
              </a:solidFill>
              <a:latin typeface="Arial"/>
            </a:endParaRPr>
          </a:p>
        </p:txBody>
      </p:sp>
      <p:pic>
        <p:nvPicPr>
          <p:cNvPr id="298" name="" descr=""/>
          <p:cNvPicPr/>
          <p:nvPr/>
        </p:nvPicPr>
        <p:blipFill>
          <a:blip r:embed="rId2"/>
          <a:stretch/>
        </p:blipFill>
        <p:spPr>
          <a:xfrm>
            <a:off x="1066680" y="1295280"/>
            <a:ext cx="1978200" cy="1648080"/>
          </a:xfrm>
          <a:prstGeom prst="rect">
            <a:avLst/>
          </a:prstGeom>
          <a:ln w="0">
            <a:noFill/>
          </a:ln>
        </p:spPr>
      </p:pic>
      <p:sp>
        <p:nvSpPr>
          <p:cNvPr id="299" name=""/>
          <p:cNvSpPr/>
          <p:nvPr/>
        </p:nvSpPr>
        <p:spPr>
          <a:xfrm>
            <a:off x="3200400" y="1371600"/>
            <a:ext cx="496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tent referencing specification provides a location independent referencing tool that can be used in many ways</a:t>
            </a:r>
            <a:endParaRPr b="0" lang="en-US" sz="2400" spc="-1" strike="noStrike">
              <a:solidFill>
                <a:srgbClr val="000000"/>
              </a:solidFill>
              <a:latin typeface="Times New Roman"/>
            </a:endParaRPr>
          </a:p>
        </p:txBody>
      </p:sp>
      <p:sp>
        <p:nvSpPr>
          <p:cNvPr id="300" name=""/>
          <p:cNvSpPr/>
          <p:nvPr/>
        </p:nvSpPr>
        <p:spPr>
          <a:xfrm>
            <a:off x="685800" y="304812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V-Anytime Systems specification will show how to use this tool to fulfil various business models</a:t>
            </a:r>
            <a:endParaRPr b="0" lang="en-US" sz="2400" spc="-1" strike="noStrike">
              <a:solidFill>
                <a:srgbClr val="000000"/>
              </a:solidFill>
              <a:latin typeface="Times New Roman"/>
            </a:endParaRPr>
          </a:p>
        </p:txBody>
      </p:sp>
      <p:sp>
        <p:nvSpPr>
          <p:cNvPr id="301" name=""/>
          <p:cNvSpPr/>
          <p:nvPr/>
        </p:nvSpPr>
        <p:spPr>
          <a:xfrm>
            <a:off x="685800" y="4038480"/>
            <a:ext cx="7864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 specification v1.0 allows location resolution in a broadcast environment.  Future versions will allow location resolution in a bi-directional (e.g. IP)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14:51:43Z</dcterms:created>
  <dc:creator>Alex Ashley</dc:creator>
  <dc:description/>
  <dc:language>en-US</dc:language>
  <cp:lastModifiedBy>Alex Ashley</cp:lastModifiedBy>
  <cp:lastPrinted>2000-09-08T16:23:16Z</cp:lastPrinted>
  <dcterms:modified xsi:type="dcterms:W3CDTF">2000-09-13T08:14:03Z</dcterms:modified>
  <cp:revision>34</cp:revision>
  <dc:subject/>
  <dc:title>The Specification for Content Referencing</dc:title>
</cp:coreProperties>
</file>