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8CAE-6D14-47F9-9900-F2D8141BD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A719-7FC1-4697-B247-C56790848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20F5-5790-4C4E-B6F4-7AF1B54248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695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2052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89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695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2052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24FFD-DD12-46FB-B321-3F9D9374FC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7AEEF-7A25-4088-9698-224DFD7C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Insign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3664F-E954-42A0-9A30-F38F07B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2394C-FB82-49A5-A212-287F4507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4564E-884F-4010-9EE1-A79C8F88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04CC7-45FB-4B6D-9D64-72CA3D1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18960" y="1519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Insign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AD07B-63FE-4FFB-B814-A99193EA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F8198-5848-4FBF-8235-69630288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Insign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AF0EB-614B-4FDC-86DD-DC5C86392E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508EA-0BE9-4C08-A19A-1D719C2C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595C0-1B3E-4C27-AEB8-BF68BC9A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77F93-5FB2-4B3D-980D-01BC3C19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95317-A8A1-4616-968F-FAC0EC0F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956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20520" y="137124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89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956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20520" y="391860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7FD21-D21D-43AA-B90A-E58D1429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21009-ED51-47A6-9BC1-FDA6CE2FB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318F5-103B-430F-AC93-248076143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5FF0-4524-42CF-BD0C-E7963E601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18960" y="1519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Insign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3EB5-6169-4708-8132-B9C827FB6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0AE3-49F6-42CD-BF26-CC89B1B61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84640" y="391860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1C3B-8B67-4733-AC70-58BDFEB60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84640" y="137124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8960" y="391860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75C5-6013-4D77-B671-80DF956DEC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age23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2" marL="11430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3" marL="16002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4" marL="2057400" indent="-228600">
              <a:spcBef>
                <a:spcPts val="700"/>
              </a:spcBef>
              <a:spcAft>
                <a:spcPts val="700"/>
              </a:spcAft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5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6" marL="2057400" indent="-22860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1896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Insign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Insignia"/>
              </a:rPr>
              <a:t>© </a:t>
            </a:r>
            <a:r>
              <a:rPr b="0" lang="en-GB" sz="1000" spc="-1" strike="noStrike">
                <a:solidFill>
                  <a:srgbClr val="808080"/>
                </a:solidFill>
                <a:latin typeface="Insignia"/>
              </a:rPr>
              <a:t>Vide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858000" y="64004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Insign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6EC7-B58A-4A61-99F1-41D0FD500203}" type="slidenum">
              <a:rPr b="1" lang="en-US" sz="1000" spc="-1" strike="noStrike">
                <a:solidFill>
                  <a:srgbClr val="808080"/>
                </a:solidFill>
                <a:latin typeface="Insign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pic>
        <p:nvPicPr>
          <p:cNvPr id="5" name="yellowline" descr=""/>
          <p:cNvPicPr/>
          <p:nvPr/>
        </p:nvPicPr>
        <p:blipFill>
          <a:blip r:embed="rId4"/>
          <a:stretch/>
        </p:blipFill>
        <p:spPr>
          <a:xfrm>
            <a:off x="1565280" y="990720"/>
            <a:ext cx="7197840" cy="3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age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640720" cy="6480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Insign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sign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419112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Insign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Insignia"/>
              </a:rPr>
              <a:t>© </a:t>
            </a:r>
            <a:r>
              <a:rPr b="0" lang="en-GB" sz="1000" spc="-1" strike="noStrike">
                <a:solidFill>
                  <a:srgbClr val="000000"/>
                </a:solidFill>
                <a:latin typeface="Insignia"/>
              </a:rPr>
              <a:t>vide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Insign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FFFA-6B5B-428D-8CE6-A3F622A22CC4}" type="slidenum">
              <a:rPr b="0" lang="en-US" sz="1000" spc="-1" strike="noStrike">
                <a:solidFill>
                  <a:srgbClr val="000000"/>
                </a:solidFill>
                <a:latin typeface="Insign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Insignia"/>
              </a:rPr>
              <a:t>Click to edit the outline text format</a:t>
            </a:r>
            <a:endParaRPr b="0" lang="en-US" sz="2800" spc="-1" strike="noStrike">
              <a:solidFill>
                <a:srgbClr val="808080"/>
              </a:solidFill>
              <a:latin typeface="Insigni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telecom.esa.int/artes/artes4/fileincludes/datasheets/videsti/videsti.cf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nsignia"/>
              </a:rPr>
              <a:t>Opus </a:t>
            </a:r>
            <a:r>
              <a:rPr b="0" lang="en-IE" sz="3200" spc="-1" strike="noStrike">
                <a:solidFill>
                  <a:srgbClr val="000000"/>
                </a:solidFill>
                <a:latin typeface="Insignia"/>
              </a:rPr>
              <a:t>&amp;</a:t>
            </a:r>
            <a:r>
              <a:rPr b="0" lang="en-GB" sz="3200" spc="-1" strike="noStrike">
                <a:solidFill>
                  <a:srgbClr val="000000"/>
                </a:solidFill>
                <a:latin typeface="Insignia"/>
              </a:rPr>
              <a:t> Bin</a:t>
            </a:r>
            <a:r>
              <a:rPr b="0" lang="en-IE" sz="3200" spc="-1" strike="noStrike">
                <a:solidFill>
                  <a:srgbClr val="000000"/>
                </a:solidFill>
                <a:latin typeface="Insignia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Insignia"/>
              </a:rPr>
              <a:t>XML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Insignia"/>
              </a:rPr>
              <a:t>ESA ARTES4 Fusion Studio Project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525744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8080"/>
                </a:solidFill>
                <a:latin typeface="Insignia"/>
              </a:rPr>
              <a:t>2</a:t>
            </a:r>
            <a:r>
              <a:rPr b="0" lang="en-GB" sz="2800" spc="-1" strike="noStrike" baseline="30000">
                <a:solidFill>
                  <a:srgbClr val="808080"/>
                </a:solidFill>
                <a:latin typeface="Insignia"/>
              </a:rPr>
              <a:t>nd</a:t>
            </a:r>
            <a:r>
              <a:rPr b="0" lang="en-GB" sz="2800" spc="-1" strike="noStrike">
                <a:solidFill>
                  <a:srgbClr val="808080"/>
                </a:solidFill>
                <a:latin typeface="Insignia"/>
              </a:rPr>
              <a:t> TV-Anytime Implementers Workshop     July 2002</a:t>
            </a:r>
            <a:endParaRPr b="0" lang="en-US" sz="2800" spc="-1" strike="noStrike">
              <a:solidFill>
                <a:srgbClr val="808080"/>
              </a:solidFill>
              <a:latin typeface="Insign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nsignia"/>
              </a:rPr>
              <a:t>Opus and Bin-XML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99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signia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Insignia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Insignia"/>
              </a:rPr>
              <a:t> Implementers Workshop</a:t>
            </a:r>
            <a:endParaRPr b="0" lang="en-US" sz="1800" spc="-1" strike="noStrike">
              <a:solidFill>
                <a:srgbClr val="000000"/>
              </a:solidFill>
              <a:latin typeface="Insigni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us 1.0, TV-Anytime data creation, editing &amp; management to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al is being widely used 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University of Crete/MUSIC lab in th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-TV pro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signia"/>
              </a:rPr>
              <a:t>Opus 1.1</a:t>
            </a:r>
            <a:endParaRPr b="0" lang="en-US" sz="1800" spc="-1" strike="noStrike">
              <a:solidFill>
                <a:srgbClr val="000000"/>
              </a:solidFill>
              <a:latin typeface="Insigni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on of Bin-XML suppor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 TV-Anytime documents in Bin-XML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ort from Bin-XML fi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signia"/>
              </a:rPr>
              <a:t>Integration using an SDK supplied by our partners Expway</a:t>
            </a:r>
            <a:endParaRPr b="0" lang="en-US" sz="1800" spc="-1" strike="noStrike">
              <a:solidFill>
                <a:srgbClr val="000000"/>
              </a:solidFill>
              <a:latin typeface="Insigni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signia"/>
              </a:rPr>
              <a:t>We found the Expway SDK to be easy to use and well documented</a:t>
            </a:r>
            <a:endParaRPr b="0" lang="en-US" sz="1800" spc="-1" strike="noStrike">
              <a:solidFill>
                <a:srgbClr val="000000"/>
              </a:solidFill>
              <a:latin typeface="Insigni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examples provid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gration took only one da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signia"/>
              </a:rPr>
              <a:t>Post 1.1 ?</a:t>
            </a:r>
            <a:endParaRPr b="0" lang="en-US" sz="1800" spc="-1" strike="noStrike">
              <a:solidFill>
                <a:srgbClr val="000000"/>
              </a:solidFill>
              <a:latin typeface="Insigni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ort for 1.2 / 1.3 specific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iting for the schema to sett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production-oriented user interface in the 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nsignia"/>
              </a:rPr>
              <a:t>1.1 Demo</a:t>
            </a:r>
            <a:endParaRPr b="0" lang="en-US" sz="1800" spc="-1" strike="noStrike">
              <a:solidFill>
                <a:srgbClr val="000000"/>
              </a:solidFill>
              <a:latin typeface="Insigni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nsignia"/>
              </a:rPr>
              <a:t>Videsti ‘Fusion Studio’ Project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isual authoring tool for multimedia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nded by the European Space Agency under the ARTES4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Insignia"/>
              </a:rPr>
              <a:t>ESA’s interest? 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atellite delivery of digital television + local storage = compelling plat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Project started May 2002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Expected duration 2.5 years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Project partner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Yard, leading post-production ho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 user, post-production expertise, requir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</p:txBody>
      </p:sp>
      <p:pic>
        <p:nvPicPr>
          <p:cNvPr id="90" name="FusionStudioLogo" descr=""/>
          <p:cNvPicPr/>
          <p:nvPr/>
        </p:nvPicPr>
        <p:blipFill>
          <a:blip r:embed="rId6"/>
          <a:stretch/>
        </p:blipFill>
        <p:spPr>
          <a:xfrm>
            <a:off x="2362320" y="243000"/>
            <a:ext cx="1143000" cy="671400"/>
          </a:xfrm>
          <a:prstGeom prst="rect">
            <a:avLst/>
          </a:prstGeom>
          <a:ln w="0">
            <a:noFill/>
          </a:ln>
        </p:spPr>
      </p:pic>
      <p:pic>
        <p:nvPicPr>
          <p:cNvPr id="91" name="esa3" descr=""/>
          <p:cNvPicPr/>
          <p:nvPr/>
        </p:nvPicPr>
        <p:blipFill>
          <a:blip r:embed="rId7"/>
          <a:stretch/>
        </p:blipFill>
        <p:spPr>
          <a:xfrm>
            <a:off x="3733920" y="380880"/>
            <a:ext cx="984240" cy="497160"/>
          </a:xfrm>
          <a:prstGeom prst="rect">
            <a:avLst/>
          </a:prstGeom>
          <a:ln w="0">
            <a:noFill/>
          </a:ln>
        </p:spPr>
      </p:pic>
      <p:pic>
        <p:nvPicPr>
          <p:cNvPr id="92" name="artes4" descr=""/>
          <p:cNvPicPr/>
          <p:nvPr/>
        </p:nvPicPr>
        <p:blipFill>
          <a:blip r:embed="rId8"/>
          <a:stretch/>
        </p:blipFill>
        <p:spPr>
          <a:xfrm>
            <a:off x="4952880" y="304920"/>
            <a:ext cx="1371600" cy="641160"/>
          </a:xfrm>
          <a:prstGeom prst="rect">
            <a:avLst/>
          </a:prstGeom>
          <a:ln w="0">
            <a:noFill/>
          </a:ln>
        </p:spPr>
      </p:pic>
      <p:pic>
        <p:nvPicPr>
          <p:cNvPr id="93" name="yard_gen_logo" descr=""/>
          <p:cNvPicPr/>
          <p:nvPr/>
        </p:nvPicPr>
        <p:blipFill>
          <a:blip r:embed="rId9"/>
          <a:stretch/>
        </p:blipFill>
        <p:spPr>
          <a:xfrm>
            <a:off x="6477120" y="228600"/>
            <a:ext cx="10666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1522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Fusion Studio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1371600"/>
            <a:ext cx="7543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Interactivity of control i.e. personal television, PDRs, what I want, when I wan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A possible Phase One TV-Anytime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oadcast, perhaps with limited return 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lectronic Content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ident application in the PD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ing content referencing data, metadata, RM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enting a User Interface to the viewer for control and perso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turing content explicitly chosen by the viewer, and content the viewer might li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about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Fusion Studio (3)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The interactivity of additional information / entertainment 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Interactivity associated with a particular program.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Enhanced TV today, where there is no local storage.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 information on-screen in the form of text and still 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control of broadcast stre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Fusion Studio (4)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What happens when each television program’s interactive application can take advantage of local storage?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media TV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 DVB-MHP xlet being able to play content stored locally, while pausing the main program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Authoring for what?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icit in the authoring process is an understanding of the target platform and client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all the technology for the target device appears to have been specified / standardised y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ation of the target platform technology is part of the pro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nsign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Fusion Studio target platform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The target platform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B-MH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day’s TV-Anytime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(TV-Anytime?) techn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TV-Anytime technology to be used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content is identified by a CR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let does not need to know where the content is loc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let does need to check that its associated CRIDs can be resol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media experience can gracefully degrade if some CRIDs cannot be resolv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MPI (most probab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data (mayb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Fusion Studio &amp; TV-Anytime Phase Two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Fusion Studio project seems relevant to TV-Anytime Phase 2: New Content Types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Some ideas would appear to be in scope e.g.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ghtful association of xlets with CRID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Tahoma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good if the xlet of one TV program can “play” the CRID of another unrelated progr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MPI is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But other ideas imply the specification of APIs e.g.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n xlet “plays” a CRID, it needs to be informed of events from the playing stream (pause, stop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nsignia"/>
              </a:rPr>
              <a:t>Any API specification should be platform neutral</a:t>
            </a:r>
            <a:endParaRPr b="0" lang="en-US" sz="24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nsignia"/>
              </a:rPr>
              <a:t>Calling other projects</a:t>
            </a:r>
            <a:endParaRPr b="0" lang="en-US" sz="3200" spc="-1" strike="noStrike">
              <a:solidFill>
                <a:srgbClr val="000000"/>
              </a:solidFill>
              <a:latin typeface="Insign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If you have similar or relevant projects, or have an interest in this area, we’d like to talk to you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nsignia"/>
              </a:rPr>
              <a:t>European Space Agency ARTES4 Fusion Studio project website</a:t>
            </a:r>
            <a:endParaRPr b="0" lang="en-US" sz="2800" spc="-1" strike="noStrike">
              <a:solidFill>
                <a:srgbClr val="000000"/>
              </a:solidFill>
              <a:latin typeface="Insigni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ahoma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http://telecom.esa.int/artes/artes4/fileincludes/datasheets/videsti/videsti.cf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0:02:37Z</dcterms:created>
  <dc:creator>dblack</dc:creator>
  <dc:description/>
  <dc:language>en-US</dc:language>
  <cp:lastModifiedBy>cotoole</cp:lastModifiedBy>
  <dcterms:modified xsi:type="dcterms:W3CDTF">2002-07-25T11:05:01Z</dcterms:modified>
  <cp:revision>204</cp:revision>
  <dc:subject/>
  <dc:title>PowerPoint Presentation</dc:title>
</cp:coreProperties>
</file>