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9627-DB18-42BF-A33A-697A701A9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446-1CA0-415F-BE7C-6E7F52DFC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A485-71D6-49FD-998E-1F1F96876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9B9B-9015-41D4-B084-F8E2441F6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AAE4-284B-4A15-9C50-6675541DB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8C27-C67F-4B56-B236-C2B3C6CFB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F947-52F7-4FF7-A5AD-7B13F2E34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01AB-2368-4E50-823B-9EB18CD5D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BC45-B15F-414A-B9AE-083CA8AA5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BFA6-3D42-4EF3-A9A5-3F6841E92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F279-DAD7-4A9D-88CC-EF96ABB50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A992-60D4-4165-A254-C8EDF932D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Arial Black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AE8-28EE-4734-8153-269F5F502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39120" cy="5638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48240" y="1981080"/>
            <a:ext cx="1847520" cy="261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4800600"/>
            <a:ext cx="1981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www.onTV.eu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424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echnical lessons – 2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XML storag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ere unable to find an “XML-enabled” relational database capable of handling the TVA Metadata and associated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ongst problems encountered were the inability to handle import/multiple schemas, recursive inheritance not allowed and some complexType content models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surprisingly, schema support was found to be poor amongst native XML repositories (including inability to handle imported sche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-Hive was able to validate imported TVA instance documents and had other XML-related capabilities of value for our particular implementation – so we decided to 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E059-128A-4B98-8E60-2DEC1B2ACE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iling, both of TVA and of MPEG-7, could be a great aid to implem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of content description it would be useful if TVA created its own Content Description Profile (e.g. along the lines proposed in AN4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would also be useful to match this to a Content Description sub-profile of the MPEG-7 User Description Profile (which, despite its name, cov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VA requirements - for content as well as user descri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V Europe Ltd would be interested in working with other TVA members with a particular interest in content description in promoting a Content Description Prof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404640"/>
            <a:ext cx="7200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Implications for future evolution of </a:t>
            </a:r>
            <a:br>
              <a:rPr sz="3600"/>
            </a:b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 TVA Metadata Specif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58A2-0810-4AE7-AD63-C4E544FAD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11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nd TV-Anytime Implementers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Workshop; Geneva, July 29th 2002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Development of the onTV Metadata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urther experience of the implement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V-Anytime Metadata Specification for conten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in Moorcraft,  onTV Europe L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2F2A-3544-4866-8CCB-6A93C09CA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 to the onTV television metadata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ess since the 1st Implementer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onTV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chnical lessons learnt from implementing the TVA Metadat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implications for future evolution of the TVA Metadata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0E82-EB8B-4634-A8FA-5B4D26658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048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troduction to the onTV television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etadata management system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V is developing a content management system specifically for television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only concerned with managing content description (i.e. no user descri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entred on the MPEG-7 and TV-Anytime metadata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intended to be a flexible management tool enabling acquisition of metadata from a variety of sources in a variety of formats and its publication in a equally varied range of formats (including non-TVA form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 technology is central to the development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7F24-05F5-4B6D-8B38-9B3D8656E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Progress since the 1st Workshop – 1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chema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ollowing the Sunnyvale discussions onTV switched away from a proprietary “MPEG-7+TVA paraphrase schem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decided to adopt the profile-based approach that has emerged in the MPEG-7 and TVA communities since Sunnyv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interpret this as functional sub-setting of tools to meet the specific needs of particular implementation communities (e.g. content providers and distributors and others who provide content description metadata servic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have taken a MPEG-7+TVA content description subset and are adding  proprietary extensio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B00F-3EC8-458B-9FB6-3952A541E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8403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Progress since the 1st Workshop – 2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torage and querying of XML metadat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had started development in the expectation that we would use Oracle and its forthcoming XDB toolk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actical results using real TVA data showed that this option does not meet our requirements – and is unlikely to do so soon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 we did a comparative evaluation of native XML repositories, also using real TVA data (more about this la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chose to use the x-Hive metadata repository and are currently focussed on getting full value from its xQuery capabilities – which look very promi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0715-6AC3-4069-81E4-C883A0ACC7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2643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Progress since the 1st Workshop – 3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Author/Editing/Interfac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the complexity of the TVA Metadata Schema, onTV sees limited applicability for static forms as a viable input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-Forms is very promising as a medium-term solution but we have not found a viable immediately applicabl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while we’re directly plugging XHTML and Javascript directly into  servlets that access th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’re also following a second track using Flash – especially for authoring / metadata origination rather than processing of imported metadat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60A9-0B7C-41BE-8A39-E07BD147E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lation of rich legacy TV metadata into TVA-compliant instances (especially mapping from non-TVA to TVA Genre categories and combinations of categ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hancement of TV metadata  by consistent and accurate application of the TVA classification dictionary as a complete replacement for simpler classif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forms of TV metadata enhancement - including the use of Group to provide innovative value adding functionality to 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stomisation of TVA output to match the editorial/functional profile of a particular application, bundling of channels, physical constraints and other deploymen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620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onTV experience and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C377-4FB3-42AA-871F-7C7F8D186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403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echnical lessons – 1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Validator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lidators were still very challenged by the MPEG-7 and TVA schemas at the time of Sunnyvale and gave highly inconsistent results; there was no single reliable vali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erroneous indication of validity of invalid schemas and instances and erroneous indication of invalidity of valid schemas and instances were 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tuation has improved considerably (for the first time the post-Montreal schemas validate across several validators and, with the exception of the xml namespace issue, may be right to do 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use the current builds of Excelon Stylus, Extensibility Turbo XML, Altova XML Spy and the W3C on-line validation service for development validation and Xerces for production val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9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onTV.eu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6A1E-F9CA-43DC-AB24-DD6F9317C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0:34:53Z</dcterms:created>
  <dc:creator>Isabel Lopes Dias</dc:creator>
  <dc:description/>
  <dc:language>en-US</dc:language>
  <cp:lastModifiedBy>Colin Moorcraft</cp:lastModifiedBy>
  <dcterms:modified xsi:type="dcterms:W3CDTF">2002-07-29T07:02:15Z</dcterms:modified>
  <cp:revision>44</cp:revision>
  <dc:subject/>
  <dc:title>PowerPoint Presentation</dc:title>
</cp:coreProperties>
</file>