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BCA-9A14-4C96-94E2-F74678FC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97E-0F93-4DAE-B017-40586AC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182-CA32-4332-AAAE-9A4445CE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784-8E02-4670-933B-052254BA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67E0-C8E9-4976-94AC-55756AA6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410C-063C-47BF-BD74-3E9ABF46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CFF6-4EAF-4839-8355-3D77AB9C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209-3535-464A-8B2C-1F1DDFBB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4FC6-962D-4918-8F7C-BBF9F30A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38480" y="304920"/>
            <a:ext cx="4114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E6CA-E6E4-4700-BBA9-1ADAFD7F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A648-C362-4F8E-991C-8E0B913B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D7A-2F1E-45D6-9762-387BAC8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2A63-6BE7-4AB0-8AFD-A4A4A3D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7ED8-57AC-451D-8881-4EBC917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3BB2-D2DA-44C3-BECE-F855CB82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5597-772A-4A58-A28E-DD90DD73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F35D-AE81-4FAF-BB7C-726F3EB5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21D-8CE9-48D8-B1C1-F37CCEB3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2F0-DF68-4AB2-9072-861A7BD4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EBB-3C07-46C1-AD97-F522BC4B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38480" y="304920"/>
            <a:ext cx="4114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AAA-AFDF-4B21-A0B5-44D18F8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B23-252B-4995-845E-622662F1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6A6-5242-499D-A31F-24C88E21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3F6-2D25-49ED-818C-9BE091FB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030C-BD8B-4D18-8B86-7728E021BECA}" type="datetime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51C7-3AC0-411C-B76A-41E49569ABA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09480" y="624852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2769-04F0-4985-A4CD-1A529FEB6DE5}" type="datetime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2E59-64D7-4654-AB5B-0072CF61768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KY+ A Secure PVR Sol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ND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D408-912A-40B0-A218-A43B9F91F76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CABB597-F49D-4806-9395-B764AE07C1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unched August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End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5K Last Official Sales Fig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rst fully integrated PVR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int development between Sky, NDS, OpenTV, N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sed on NDS XTV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ND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CCB-27DB-47CD-A23B-C5EE49A74B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75B21-24E2-4F2E-9CCD-252C506F42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ky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ky+ a Fully Digital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ent Stored as originally transmit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igned to minimise headend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ords partial Transport St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decode/encode - giving high quality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ghtly coupled with Sky Guide EPG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ND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738-06FE-4F3B-8628-A1B59B8497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C2E47-C8AE-412D-B6A0-8263C49A69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ky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 emphasis on Usability and responsiveness of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arning from experience of VCR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al Pl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gi Box it is used as a Reminder &amp; VCR record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thin Sky+ it provides the recording fun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hanced EPG functions based on X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nre lis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-Z lis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ND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9F3-3465-413D-A8CC-E359AAB547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6E41A-0FBA-4FD8-AFEE-3D60EB6C0E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ky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ries Linking - Concept of conten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vailable on all major Sky chann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nel providers now starting to provide CR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rrently around 2000 series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urate recording using EIT P/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ND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E84-EE31-42CD-9F23-49FA73C9F1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990B6-F73E-4347-92C3-DA551272F0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A-Feat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 content stored scrambled as originally transmit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s content security on the d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ansparently maintains Parental Rating and general CA entit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ility to record PPV 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er only charged if content vie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forces entitlement to 24Hour viewing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ND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6C1-5D8E-4B17-8DB3-F4054E8BCC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8001E-3991-4ADA-9BF3-428FF4B3FD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RAS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ndom Access Streaming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ltime Indexing solution required to support trick modes in scrambled st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rdware solution supported by a number of major chip manufacturer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ND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18A-976C-4F19-BA19-F8A9FBF662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9B7F9-285A-4089-A26D-A3EF5E7CB8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 poi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fully deployed secure PVR sol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 required to provide enhanced features starting to become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with a brown field site (Required to stand alongside existing legacy syst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uality of data is vital for a compelling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ky+ provides a stable platform upon which enhanced TVA functionality can be ad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DS &amp; Sky are committed to supporting the emerging PDR standards such as TVA and DVB where there is a strong Business requir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ND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697-94EF-4613-B52D-85247D0560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9AA80-F016-4D56-B6EF-EF67A14D5B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6:14:51Z</dcterms:created>
  <dc:creator/>
  <dc:description/>
  <dc:language>en-US</dc:language>
  <cp:lastModifiedBy>Keith Millar</cp:lastModifiedBy>
  <dcterms:modified xsi:type="dcterms:W3CDTF">2002-07-29T10:40:17Z</dcterms:modified>
  <cp:revision>14</cp:revision>
  <dc:subject/>
  <dc:title>No Slide Title</dc:title>
</cp:coreProperties>
</file>