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46066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BE84-18A9-4909-B013-EE04536FC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8522-E3F0-4F80-B521-2B57CED84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AB9C-F7BB-4D53-A941-05925E02C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3691-D307-46E7-96C9-E31D3F38E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8750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9880" y="3995280"/>
            <a:ext cx="8750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3680" y="144792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9880" y="399528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3680" y="399528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28173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8360" y="1447920"/>
            <a:ext cx="28173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77200" y="1447920"/>
            <a:ext cx="28173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9880" y="3995280"/>
            <a:ext cx="28173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8360" y="3995280"/>
            <a:ext cx="28173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77200" y="3995280"/>
            <a:ext cx="28173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9880" y="1447920"/>
            <a:ext cx="87505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8750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426996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3680" y="1447920"/>
            <a:ext cx="426996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50600" y="151920"/>
            <a:ext cx="7774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3680" y="1447920"/>
            <a:ext cx="426996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9880" y="399528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9880" y="1447920"/>
            <a:ext cx="87505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426996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3680" y="144792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3680" y="399528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3680" y="144792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9880" y="3995280"/>
            <a:ext cx="8750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8750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9880" y="3995280"/>
            <a:ext cx="8750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3680" y="144792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9880" y="399528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3680" y="399528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28173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18360" y="1447920"/>
            <a:ext cx="28173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77200" y="1447920"/>
            <a:ext cx="28173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9880" y="3995280"/>
            <a:ext cx="28173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18360" y="3995280"/>
            <a:ext cx="28173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77200" y="3995280"/>
            <a:ext cx="28173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8750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426996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3680" y="1447920"/>
            <a:ext cx="426996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50600" y="151920"/>
            <a:ext cx="7774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3680" y="1447920"/>
            <a:ext cx="426996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9880" y="399528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426996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3680" y="144792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3680" y="399528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3680" y="1447920"/>
            <a:ext cx="426996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9880" y="3995280"/>
            <a:ext cx="8750520" cy="232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46066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1447920"/>
            <a:ext cx="8750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304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96960" indent="-22860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2720" indent="-2271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2720" indent="-2271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2720" indent="-2271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55640" y="990720"/>
            <a:ext cx="72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47680" y="304920"/>
            <a:ext cx="1238400" cy="65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46066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650960" y="990720"/>
            <a:ext cx="72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7680" y="304920"/>
            <a:ext cx="1238400" cy="652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7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7520" indent="0" algn="ctr">
              <a:spcBef>
                <a:spcPts val="6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3240" indent="27792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50760" indent="417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6840" indent="5587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66840" indent="558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66840" indent="558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0" r="0" b="1946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78040" y="1523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myTV</a:t>
            </a:r>
            <a:br>
              <a:rPr sz="3200"/>
            </a:b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delivers TV Anytime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r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nald T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ilips Digital Systems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92000" y="1947960"/>
            <a:ext cx="2173320" cy="22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TVA data transported over DVB (cnt’d)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2000" y="3200400"/>
            <a:ext cx="21733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olution authority descrip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2000" y="2579760"/>
            <a:ext cx="217332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tadata location descrip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000" y="1936800"/>
            <a:ext cx="217332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517920"/>
            <a:ext cx="2171880" cy="20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ation Resolution 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98800" y="2162160"/>
            <a:ext cx="3525840" cy="565200"/>
          </a:xfrm>
          <a:custGeom>
            <a:avLst/>
            <a:gdLst/>
            <a:ahLst/>
            <a:rect l="l" t="t" r="r" b="b"/>
            <a:pathLst>
              <a:path w="4230" h="4425">
                <a:moveTo>
                  <a:pt x="0" y="4425"/>
                </a:moveTo>
                <a:cubicBezTo>
                  <a:pt x="297" y="3815"/>
                  <a:pt x="1080" y="1503"/>
                  <a:pt x="1785" y="765"/>
                </a:cubicBezTo>
                <a:cubicBezTo>
                  <a:pt x="2490" y="27"/>
                  <a:pt x="3690" y="60"/>
                  <a:pt x="423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998800" y="3517200"/>
            <a:ext cx="1039680" cy="903240"/>
          </a:xfrm>
          <a:custGeom>
            <a:avLst/>
            <a:gdLst/>
            <a:ahLst/>
            <a:rect l="l" t="t" r="r" b="b"/>
            <a:pathLst>
              <a:path w="1035" h="1500">
                <a:moveTo>
                  <a:pt x="0" y="1500"/>
                </a:moveTo>
                <a:cubicBezTo>
                  <a:pt x="85" y="1313"/>
                  <a:pt x="338" y="625"/>
                  <a:pt x="510" y="375"/>
                </a:cubicBezTo>
                <a:cubicBezTo>
                  <a:pt x="682" y="125"/>
                  <a:pt x="926" y="78"/>
                  <a:pt x="10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11440" y="4308480"/>
            <a:ext cx="14270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ables in Section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78200" y="1484280"/>
            <a:ext cx="20829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to a Manifest file in an Object Carou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583320" y="1371600"/>
            <a:ext cx="2827080" cy="4273200"/>
            <a:chOff x="6583320" y="1371600"/>
            <a:chExt cx="2827080" cy="4273200"/>
          </a:xfrm>
        </p:grpSpPr>
        <p:grpSp>
          <p:nvGrpSpPr>
            <p:cNvPr id="159" name=""/>
            <p:cNvGrpSpPr/>
            <p:nvPr/>
          </p:nvGrpSpPr>
          <p:grpSpPr>
            <a:xfrm>
              <a:off x="6583320" y="1371600"/>
              <a:ext cx="2172600" cy="4273200"/>
              <a:chOff x="6583320" y="1371600"/>
              <a:chExt cx="2172600" cy="4273200"/>
            </a:xfrm>
          </p:grpSpPr>
          <p:sp>
            <p:nvSpPr>
              <p:cNvPr id="160" name=""/>
              <p:cNvSpPr/>
              <p:nvPr/>
            </p:nvSpPr>
            <p:spPr>
              <a:xfrm>
                <a:off x="6583320" y="2347200"/>
                <a:ext cx="2172600" cy="24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583320" y="2014560"/>
                <a:ext cx="2172600" cy="32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nifest fi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583320" y="1371600"/>
                <a:ext cx="2172600" cy="63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PEG-2 DSMcc Object Carous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83320" y="2590920"/>
                <a:ext cx="2172600" cy="271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583320" y="2859480"/>
                <a:ext cx="2172600" cy="481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83320" y="3338280"/>
                <a:ext cx="2172600" cy="24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83320" y="3584520"/>
                <a:ext cx="2172600" cy="24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583320" y="3830400"/>
                <a:ext cx="2172600" cy="249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583320" y="4087800"/>
                <a:ext cx="2172600" cy="24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583320" y="4342680"/>
                <a:ext cx="2172600" cy="130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8761320" y="2081160"/>
              <a:ext cx="649080" cy="1407960"/>
            </a:xfrm>
            <a:custGeom>
              <a:avLst/>
              <a:gdLst/>
              <a:ahLst/>
              <a:rect l="l" t="t" r="r" b="b"/>
              <a:pathLst>
                <a:path w="720" h="1905">
                  <a:moveTo>
                    <a:pt x="0" y="0"/>
                  </a:moveTo>
                  <a:cubicBezTo>
                    <a:pt x="195" y="15"/>
                    <a:pt x="720" y="493"/>
                    <a:pt x="720" y="810"/>
                  </a:cubicBezTo>
                  <a:cubicBezTo>
                    <a:pt x="720" y="1127"/>
                    <a:pt x="300" y="1680"/>
                    <a:pt x="0" y="19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748000" y="2114280"/>
              <a:ext cx="378720" cy="875880"/>
            </a:xfrm>
            <a:custGeom>
              <a:avLst/>
              <a:gdLst/>
              <a:ahLst/>
              <a:rect l="l" t="t" r="r" b="b"/>
              <a:pathLst>
                <a:path w="720" h="1905">
                  <a:moveTo>
                    <a:pt x="0" y="0"/>
                  </a:moveTo>
                  <a:cubicBezTo>
                    <a:pt x="195" y="15"/>
                    <a:pt x="720" y="493"/>
                    <a:pt x="720" y="810"/>
                  </a:cubicBezTo>
                  <a:cubicBezTo>
                    <a:pt x="720" y="1127"/>
                    <a:pt x="300" y="1680"/>
                    <a:pt x="0" y="19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761320" y="2180880"/>
              <a:ext cx="135000" cy="310320"/>
            </a:xfrm>
            <a:custGeom>
              <a:avLst/>
              <a:gdLst/>
              <a:ahLst/>
              <a:rect l="l" t="t" r="r" b="b"/>
              <a:pathLst>
                <a:path w="720" h="1905">
                  <a:moveTo>
                    <a:pt x="0" y="0"/>
                  </a:moveTo>
                  <a:cubicBezTo>
                    <a:pt x="195" y="15"/>
                    <a:pt x="720" y="493"/>
                    <a:pt x="720" y="810"/>
                  </a:cubicBezTo>
                  <a:cubicBezTo>
                    <a:pt x="720" y="1127"/>
                    <a:pt x="300" y="1680"/>
                    <a:pt x="0" y="19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990720" y="1371600"/>
            <a:ext cx="412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0600" y="1179360"/>
            <a:ext cx="132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age descri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6840" y="4800600"/>
            <a:ext cx="2171520" cy="13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ler information 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0280" y="3809880"/>
            <a:ext cx="21715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railer descrip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311560" y="4506120"/>
            <a:ext cx="1038240" cy="903240"/>
          </a:xfrm>
          <a:custGeom>
            <a:avLst/>
            <a:gdLst/>
            <a:ahLst/>
            <a:rect l="l" t="t" r="r" b="b"/>
            <a:pathLst>
              <a:path w="1035" h="1500">
                <a:moveTo>
                  <a:pt x="0" y="1500"/>
                </a:moveTo>
                <a:cubicBezTo>
                  <a:pt x="85" y="1313"/>
                  <a:pt x="338" y="625"/>
                  <a:pt x="510" y="375"/>
                </a:cubicBezTo>
                <a:cubicBezTo>
                  <a:pt x="682" y="125"/>
                  <a:pt x="926" y="78"/>
                  <a:pt x="10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82551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TVA data access over IP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8750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ve search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amm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tle, synopsis, genre, techn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up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ies, related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tion resolut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nel, date,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82551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TVA data access over IP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8750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http://www.movies.com/resolve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RID=crid://movies.com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ields XML response with resolu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ttp://www.movies.com/tva.cgi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or=Tom+Crui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amp;Actor=Nicole+Kidm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amp;Genre=thril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s XML response with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495360" y="1282680"/>
            <a:ext cx="3426840" cy="2571840"/>
            <a:chOff x="495360" y="1282680"/>
            <a:chExt cx="3426840" cy="2571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495360" y="1282680"/>
              <a:ext cx="342684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650600" y="1359000"/>
              <a:ext cx="5176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46066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460660"/>
                </a:solidFill>
                <a:latin typeface="Arial"/>
              </a:rPr>
              <a:t>Nokia’s implementation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18120" y="1447920"/>
            <a:ext cx="429264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okia Media Term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HP 1.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Java eng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zilla brows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VA modu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Resident navigat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95360" y="4500720"/>
            <a:ext cx="351324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46066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460660"/>
                </a:solidFill>
                <a:latin typeface="Arial"/>
              </a:rPr>
              <a:t>Philips’ implementation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18120" y="1447920"/>
            <a:ext cx="429264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riMedia-based ST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S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HP 1.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Java eng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VA modu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Resident navigat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95360" y="1295280"/>
            <a:ext cx="3467160" cy="2602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95360" y="4495680"/>
            <a:ext cx="354960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BBC Navigator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25480" y="1523880"/>
            <a:ext cx="842004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NOB Latest News Application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25480" y="1511280"/>
            <a:ext cx="83376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What’s current? – Share it! summary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899820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0" algn="just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 a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d-to-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ystem that enables eas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ransf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ntent betwee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ocal stora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ome-to-h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h2h) network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at en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nova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rvic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amless combination of on-li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10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roadcast, and stored cont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Contact information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8750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nald Tol, Philips Digital Systems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mail: ronald.tol@philip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V-Anytime Forum, http://www.tv-anytime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rhard Mekenkamp, Philip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mail: gerhard.mekenkamp@philip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extra.research.philips.com/euprojects/mytv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Morris, Philips Rese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.morris@philip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xtra.research.philips.com/euprojects/share_i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8750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re information on Share it! cont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Morris, Philips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.morris@philip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50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xtra.research.philips.com/euprojects/share_i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What is myTV?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8750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-years (~60 my) EU-funded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January 2000 – 31 December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ms to provid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an interoperable TV-Anytime solut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for DVB and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 equipment manufacturers: Philips, Nok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adcasters: BBC, RAI, N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ology providers: UoL, 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8750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fy and implement a consumer platform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built-in local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TV-Anytime service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oiting this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true interoperability,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across different service provider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across different box manufactu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TV-Anytime functionality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8750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what you want, when you wan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r ways for the consumer to acquir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V content on local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on EPG, trailer,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gt; programmes &gt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ies, related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s items, parts of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sonalisation and automatic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909800" y="1866960"/>
            <a:ext cx="6014520" cy="3695760"/>
            <a:chOff x="1909800" y="1866960"/>
            <a:chExt cx="6014520" cy="36957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909800" y="1866960"/>
              <a:ext cx="601452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157120" y="2689200"/>
              <a:ext cx="173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n-stored T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2800" y="48387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V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01360" y="2689200"/>
              <a:ext cx="151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ndard MH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58320" y="3848400"/>
              <a:ext cx="123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red MH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29920" y="3832200"/>
              <a:ext cx="1404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ndard T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71200" y="3203640"/>
              <a:ext cx="8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yT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460660"/>
                </a:solidFill>
                <a:latin typeface="Arial"/>
              </a:rPr>
              <a:t>Combining TVA, MHP, &amp; PVR …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460660"/>
                </a:solidFill>
                <a:latin typeface="Arial"/>
              </a:rPr>
              <a:t>Enabled the following features …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8750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zed TV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le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abl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ing store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460660"/>
                </a:solidFill>
                <a:latin typeface="Arial"/>
              </a:rPr>
              <a:t>Demonstration at IBC 2001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360" y="1219320"/>
            <a:ext cx="2228760" cy="2743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38960" y="1676520"/>
            <a:ext cx="3157560" cy="3886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146320" y="3657600"/>
            <a:ext cx="39625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590400" y="1666800"/>
            <a:ext cx="1877760" cy="1266840"/>
            <a:chOff x="590400" y="1666800"/>
            <a:chExt cx="1877760" cy="1266840"/>
          </a:xfrm>
        </p:grpSpPr>
        <p:sp>
          <p:nvSpPr>
            <p:cNvPr id="112" name=""/>
            <p:cNvSpPr/>
            <p:nvPr/>
          </p:nvSpPr>
          <p:spPr>
            <a:xfrm>
              <a:off x="712440" y="1666800"/>
              <a:ext cx="1755720" cy="114300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0400" y="1790640"/>
              <a:ext cx="1753920" cy="114300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roadca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777420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End-to-end architecture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0400" y="3530520"/>
            <a:ext cx="6404040" cy="66348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68640" y="1989000"/>
            <a:ext cx="1266840" cy="72396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02360" y="1701720"/>
            <a:ext cx="1752480" cy="129564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y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947000" y="1901880"/>
            <a:ext cx="990720" cy="91440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40640" y="3301920"/>
            <a:ext cx="839880" cy="60984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90400" y="4648320"/>
            <a:ext cx="1906200" cy="1295280"/>
            <a:chOff x="590400" y="4648320"/>
            <a:chExt cx="1906200" cy="1295280"/>
          </a:xfrm>
        </p:grpSpPr>
        <p:sp>
          <p:nvSpPr>
            <p:cNvPr id="121" name=""/>
            <p:cNvSpPr/>
            <p:nvPr/>
          </p:nvSpPr>
          <p:spPr>
            <a:xfrm>
              <a:off x="743040" y="4648320"/>
              <a:ext cx="1753560" cy="114300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0400" y="4800600"/>
              <a:ext cx="1753200" cy="114300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et T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/>
          <p:nvPr/>
        </p:nvCxnSpPr>
        <p:spPr>
          <a:xfrm flipV="1">
            <a:off x="2184480" y="2350440"/>
            <a:ext cx="699120" cy="118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/>
          <p:nvPr/>
        </p:nvCxnSpPr>
        <p:spPr>
          <a:xfrm flipV="1">
            <a:off x="4017600" y="2348640"/>
            <a:ext cx="8420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/>
          <p:nvPr/>
        </p:nvCxnSpPr>
        <p:spPr>
          <a:xfrm>
            <a:off x="6408360" y="2349000"/>
            <a:ext cx="965880" cy="10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74840" y="2921040"/>
            <a:ext cx="0" cy="606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4840" y="4178160"/>
            <a:ext cx="0" cy="606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67440" y="3008160"/>
            <a:ext cx="0" cy="50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2520" y="3002040"/>
            <a:ext cx="728640" cy="309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46760" y="4683240"/>
            <a:ext cx="1101600" cy="676080"/>
          </a:xfrm>
          <a:prstGeom prst="rect">
            <a:avLst/>
          </a:prstGeom>
          <a:solidFill>
            <a:srgbClr val="fcfeb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38960" y="4191120"/>
            <a:ext cx="0" cy="506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4680" y="4724280"/>
            <a:ext cx="839880" cy="60984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02920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260360" y="2325240"/>
            <a:ext cx="4683240" cy="1401120"/>
            <a:chOff x="1260360" y="2325240"/>
            <a:chExt cx="4683240" cy="1401120"/>
          </a:xfrm>
        </p:grpSpPr>
        <p:sp>
          <p:nvSpPr>
            <p:cNvPr id="135" name=""/>
            <p:cNvSpPr/>
            <p:nvPr/>
          </p:nvSpPr>
          <p:spPr>
            <a:xfrm>
              <a:off x="1260360" y="2325600"/>
              <a:ext cx="0" cy="1374840"/>
            </a:xfrm>
            <a:prstGeom prst="line">
              <a:avLst/>
            </a:prstGeom>
            <a:ln w="507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943240" y="2325240"/>
              <a:ext cx="0" cy="1374840"/>
            </a:xfrm>
            <a:prstGeom prst="line">
              <a:avLst/>
            </a:prstGeom>
            <a:ln w="507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" name=""/>
            <p:cNvCxnSpPr>
              <a:stCxn id="135" idx="0"/>
              <a:endCxn id="136" idx="0"/>
            </p:cNvCxnSpPr>
            <p:nvPr/>
          </p:nvCxnSpPr>
          <p:spPr>
            <a:xfrm>
              <a:off x="1260360" y="3725640"/>
              <a:ext cx="4683600" cy="1080"/>
            </a:xfrm>
            <a:prstGeom prst="straightConnector1">
              <a:avLst/>
            </a:prstGeom>
            <a:ln w="50760">
              <a:solidFill>
                <a:srgbClr val="3366ff"/>
              </a:solidFill>
              <a:miter/>
              <a:tailEnd len="med" type="triangle" w="med"/>
            </a:ln>
          </p:spPr>
        </p:cxnSp>
      </p:grpSp>
      <p:cxnSp>
        <p:nvCxnSpPr>
          <p:cNvPr id="138" name=""/>
          <p:cNvCxnSpPr/>
          <p:nvPr/>
        </p:nvCxnSpPr>
        <p:spPr>
          <a:xfrm flipV="1">
            <a:off x="2198160" y="2320200"/>
            <a:ext cx="2832840" cy="13320"/>
          </a:xfrm>
          <a:prstGeom prst="straightConnector1">
            <a:avLst/>
          </a:prstGeom>
          <a:ln w="25560">
            <a:solidFill>
              <a:srgbClr val="3366ff"/>
            </a:solidFill>
            <a:miter/>
            <a:tailEnd len="sm" type="triangle" w="sm"/>
          </a:ln>
        </p:spPr>
      </p:cxnSp>
      <p:grpSp>
        <p:nvGrpSpPr>
          <p:cNvPr id="139" name=""/>
          <p:cNvGrpSpPr/>
          <p:nvPr/>
        </p:nvGrpSpPr>
        <p:grpSpPr>
          <a:xfrm>
            <a:off x="1488600" y="2596680"/>
            <a:ext cx="4686480" cy="2797200"/>
            <a:chOff x="1488600" y="2596680"/>
            <a:chExt cx="4686480" cy="2797200"/>
          </a:xfrm>
        </p:grpSpPr>
        <p:sp>
          <p:nvSpPr>
            <p:cNvPr id="140" name=""/>
            <p:cNvSpPr/>
            <p:nvPr/>
          </p:nvSpPr>
          <p:spPr>
            <a:xfrm flipV="1">
              <a:off x="1488960" y="4019040"/>
              <a:ext cx="0" cy="1374840"/>
            </a:xfrm>
            <a:prstGeom prst="line">
              <a:avLst/>
            </a:prstGeom>
            <a:ln w="507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"/>
            <p:cNvCxnSpPr>
              <a:stCxn id="140" idx="0"/>
              <a:endCxn id="142" idx="0"/>
            </p:cNvCxnSpPr>
            <p:nvPr/>
          </p:nvCxnSpPr>
          <p:spPr>
            <a:xfrm>
              <a:off x="1488600" y="3993840"/>
              <a:ext cx="4686840" cy="3960"/>
            </a:xfrm>
            <a:prstGeom prst="straightConnector1">
              <a:avLst/>
            </a:prstGeom>
            <a:ln w="50760">
              <a:solidFill>
                <a:srgbClr val="3366ff"/>
              </a:solidFill>
              <a:miter/>
              <a:tailEnd len="med" type="triangle" w="med"/>
            </a:ln>
          </p:spPr>
        </p:cxnSp>
        <p:sp>
          <p:nvSpPr>
            <p:cNvPr id="143" name=""/>
            <p:cNvSpPr/>
            <p:nvPr/>
          </p:nvSpPr>
          <p:spPr>
            <a:xfrm flipV="1">
              <a:off x="6175080" y="2596680"/>
              <a:ext cx="0" cy="1374840"/>
            </a:xfrm>
            <a:prstGeom prst="line">
              <a:avLst/>
            </a:prstGeom>
            <a:ln w="507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905520" y="6073920"/>
            <a:ext cx="568440" cy="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43080" y="586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cd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50600" y="151920"/>
            <a:ext cx="8255160" cy="838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3200" spc="-1" strike="noStrike">
                <a:solidFill>
                  <a:srgbClr val="460660"/>
                </a:solidFill>
                <a:latin typeface="Arial"/>
              </a:rPr>
              <a:t>TVA data transported over DVB</a:t>
            </a:r>
            <a:endParaRPr b="0" lang="en-US" sz="3200" spc="-1" strike="noStrike">
              <a:solidFill>
                <a:srgbClr val="46066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9880" y="1447920"/>
            <a:ext cx="8750520" cy="487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amm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tle, synopsis, genre, techn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up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ies, related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gmentat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ler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tion resolut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nel, date,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8:27:46Z</dcterms:created>
  <dc:creator>Ronald Tol</dc:creator>
  <dc:description/>
  <dc:language>en-US</dc:language>
  <cp:lastModifiedBy>Ronald Tol</cp:lastModifiedBy>
  <dcterms:modified xsi:type="dcterms:W3CDTF">2002-07-29T10:26:29Z</dcterms:modified>
  <cp:revision>37</cp:revision>
  <dc:subject/>
  <dc:title>myTV demo at second implementers workshop</dc:title>
</cp:coreProperties>
</file>