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9.png" ContentType="image/pn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76120-5F5B-4324-A50A-76D2B5434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62120" y="4137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33F0-8B6F-4AE2-B0AD-48E58D7D9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480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07B4-4650-40EE-99DE-7F5AECAD0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012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776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6212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012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776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5DF2E-96F8-4E6C-B5B7-6248C8FF5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676520" y="2282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87BF-D346-42AC-A24A-3B562B8B3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4480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62120" y="4137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4480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9012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17760" y="18284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76212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9012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17760" y="41371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55615-B04A-45A3-8341-2FC205680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5EBF7-DEA9-4B05-A94C-35DFD0AF6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46911-E456-4A78-BE6E-73FAEB17D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76520" y="2282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49A01-8AAD-4804-9913-4877602BC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0DAC7-C8B9-4E9C-883A-5EB6ED08A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4800" y="41371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19708-3896-4953-808E-06D9CE3BC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8284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1371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A00C-DE29-4AD0-8EED-DE4702C13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g2" descr=""/>
          <p:cNvPicPr/>
          <p:nvPr/>
        </p:nvPicPr>
        <p:blipFill>
          <a:blip r:embed="rId2"/>
          <a:stretch/>
        </p:blipFill>
        <p:spPr>
          <a:xfrm>
            <a:off x="76320" y="3048120"/>
            <a:ext cx="2209680" cy="4038480"/>
          </a:xfrm>
          <a:prstGeom prst="rect">
            <a:avLst/>
          </a:prstGeom>
          <a:ln w="0">
            <a:noFill/>
          </a:ln>
        </p:spPr>
      </p:pic>
      <p:pic>
        <p:nvPicPr>
          <p:cNvPr id="1" name="pres2" descr=""/>
          <p:cNvPicPr/>
          <p:nvPr/>
        </p:nvPicPr>
        <p:blipFill>
          <a:blip r:embed="rId3"/>
          <a:stretch/>
        </p:blipFill>
        <p:spPr>
          <a:xfrm>
            <a:off x="8001000" y="5334120"/>
            <a:ext cx="1027080" cy="137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22860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EAA6-E062-4282-89CF-28C3DF3D15F0}" type="slidenum"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res" descr=""/>
          <p:cNvPicPr/>
          <p:nvPr/>
        </p:nvPicPr>
        <p:blipFill>
          <a:blip r:embed="rId4"/>
          <a:stretch/>
        </p:blipFill>
        <p:spPr>
          <a:xfrm>
            <a:off x="0" y="152280"/>
            <a:ext cx="1793880" cy="133848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0" y="1523880"/>
            <a:ext cx="5781600" cy="149040"/>
            <a:chOff x="0" y="1523880"/>
            <a:chExt cx="5781600" cy="149040"/>
          </a:xfrm>
        </p:grpSpPr>
        <p:sp>
          <p:nvSpPr>
            <p:cNvPr id="8" name=""/>
            <p:cNvSpPr/>
            <p:nvPr/>
          </p:nvSpPr>
          <p:spPr>
            <a:xfrm>
              <a:off x="0" y="1609560"/>
              <a:ext cx="5781600" cy="1800"/>
            </a:xfrm>
            <a:custGeom>
              <a:avLst/>
              <a:gdLst/>
              <a:ahLst/>
              <a:rect l="l" t="t" r="r" b="b"/>
              <a:pathLst>
                <a:path w="3642" h="1">
                  <a:moveTo>
                    <a:pt x="0" y="0"/>
                  </a:moveTo>
                  <a:lnTo>
                    <a:pt x="3642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1523880" y="1523880"/>
              <a:ext cx="2663640" cy="149040"/>
              <a:chOff x="1523880" y="1523880"/>
              <a:chExt cx="2663640" cy="149040"/>
            </a:xfrm>
          </p:grpSpPr>
          <p:sp>
            <p:nvSpPr>
              <p:cNvPr id="10" name=""/>
              <p:cNvSpPr/>
              <p:nvPr/>
            </p:nvSpPr>
            <p:spPr>
              <a:xfrm>
                <a:off x="1523880" y="15238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9a4e1b"/>
                  </a:gs>
                  <a:gs pos="100000">
                    <a:srgbClr val="ff822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361960" y="15238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9a4e1b"/>
                  </a:gs>
                  <a:gs pos="100000">
                    <a:srgbClr val="ff822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200040" y="15238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9a4e1b"/>
                  </a:gs>
                  <a:gs pos="100000">
                    <a:srgbClr val="ff822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038480" y="15238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9a4e1b"/>
                  </a:gs>
                  <a:gs pos="100000">
                    <a:srgbClr val="ff822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2895480" cy="6858000"/>
          </a:xfrm>
          <a:custGeom>
            <a:avLst/>
            <a:gdLst/>
            <a:ahLst/>
            <a:rect l="l" t="t" r="r" b="b"/>
            <a:pathLst>
              <a:path w="1824" h="3840">
                <a:moveTo>
                  <a:pt x="0" y="3840"/>
                </a:moveTo>
                <a:lnTo>
                  <a:pt x="0" y="0"/>
                </a:lnTo>
                <a:lnTo>
                  <a:pt x="1824" y="0"/>
                </a:lnTo>
                <a:cubicBezTo>
                  <a:pt x="74" y="1204"/>
                  <a:pt x="465" y="3655"/>
                  <a:pt x="583" y="3840"/>
                </a:cubicBezTo>
                <a:cubicBezTo>
                  <a:pt x="291" y="3840"/>
                  <a:pt x="0" y="3840"/>
                  <a:pt x="0" y="384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CITBANND" descr=""/>
          <p:cNvPicPr/>
          <p:nvPr/>
        </p:nvPicPr>
        <p:blipFill>
          <a:blip r:embed="rId3"/>
          <a:srcRect l="30665" t="0" r="5335" b="86713"/>
          <a:stretch/>
        </p:blipFill>
        <p:spPr>
          <a:xfrm>
            <a:off x="2286000" y="1766880"/>
            <a:ext cx="6629400" cy="13824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0" y="3581280"/>
            <a:ext cx="5781600" cy="149040"/>
            <a:chOff x="0" y="3581280"/>
            <a:chExt cx="5781600" cy="149040"/>
          </a:xfrm>
        </p:grpSpPr>
        <p:sp>
          <p:nvSpPr>
            <p:cNvPr id="53" name=""/>
            <p:cNvSpPr/>
            <p:nvPr/>
          </p:nvSpPr>
          <p:spPr>
            <a:xfrm>
              <a:off x="0" y="3666960"/>
              <a:ext cx="5781600" cy="1800"/>
            </a:xfrm>
            <a:custGeom>
              <a:avLst/>
              <a:gdLst/>
              <a:ahLst/>
              <a:rect l="l" t="t" r="r" b="b"/>
              <a:pathLst>
                <a:path w="3642" h="1">
                  <a:moveTo>
                    <a:pt x="0" y="0"/>
                  </a:moveTo>
                  <a:lnTo>
                    <a:pt x="3642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523880" y="3581280"/>
              <a:ext cx="2663640" cy="149040"/>
              <a:chOff x="1523880" y="3581280"/>
              <a:chExt cx="2663640" cy="149040"/>
            </a:xfrm>
          </p:grpSpPr>
          <p:sp>
            <p:nvSpPr>
              <p:cNvPr id="55" name=""/>
              <p:cNvSpPr/>
              <p:nvPr/>
            </p:nvSpPr>
            <p:spPr>
              <a:xfrm>
                <a:off x="1523880" y="35812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9a4e1b"/>
                  </a:gs>
                  <a:gs pos="100000">
                    <a:srgbClr val="ff822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361960" y="35812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9a4e1b"/>
                  </a:gs>
                  <a:gs pos="100000">
                    <a:srgbClr val="ff822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200040" y="3581280"/>
                <a:ext cx="149400" cy="149040"/>
              </a:xfrm>
              <a:prstGeom prst="ellipse">
                <a:avLst/>
              </a:prstGeom>
              <a:gradFill rotWithShape="0">
                <a:gsLst>
                  <a:gs pos="0">
                    <a:srgbClr val="9a4e1b"/>
                  </a:gs>
                  <a:gs pos="100000">
                    <a:srgbClr val="ff822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038480" y="3581280"/>
                <a:ext cx="149040" cy="149040"/>
              </a:xfrm>
              <a:prstGeom prst="ellipse">
                <a:avLst/>
              </a:prstGeom>
              <a:gradFill rotWithShape="0">
                <a:gsLst>
                  <a:gs pos="0">
                    <a:srgbClr val="9a4e1b"/>
                  </a:gs>
                  <a:gs pos="100000">
                    <a:srgbClr val="ff822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3"/>
          </p:nvPr>
        </p:nvSpPr>
        <p:spPr>
          <a:xfrm>
            <a:off x="1676160" y="632448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melisa-logo_300dpi" descr=""/>
          <p:cNvPicPr/>
          <p:nvPr/>
        </p:nvPicPr>
        <p:blipFill>
          <a:blip r:embed="rId4"/>
          <a:stretch/>
        </p:blipFill>
        <p:spPr>
          <a:xfrm>
            <a:off x="4343400" y="304920"/>
            <a:ext cx="2630520" cy="1393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mrezgui@canal-plus.fr" TargetMode="External"/><Relationship Id="rId2" Type="http://schemas.openxmlformats.org/officeDocument/2006/relationships/hyperlink" Target="mailto:mrezgui@canal-plus.fr" TargetMode="External"/><Relationship Id="rId3" Type="http://schemas.openxmlformats.org/officeDocument/2006/relationships/hyperlink" Target="mailto:mrezgui@canal-plus.fr" TargetMode="External"/><Relationship Id="rId4" Type="http://schemas.openxmlformats.org/officeDocument/2006/relationships/hyperlink" Target="mailto:nduarte@canal-plus.fr" TargetMode="External"/><Relationship Id="rId5" Type="http://schemas.openxmlformats.org/officeDocument/2006/relationships/hyperlink" Target="mailto:nduarte@canal-plus.fr" TargetMode="External"/><Relationship Id="rId6" Type="http://schemas.openxmlformats.org/officeDocument/2006/relationships/hyperlink" Target="mailto:nduarte@canal-plus.fr" TargetMode="External"/><Relationship Id="rId7" Type="http://schemas.openxmlformats.org/officeDocument/2006/relationships/hyperlink" Target="mailto:blozach@canal-plus.fr" TargetMode="External"/><Relationship Id="rId8" Type="http://schemas.openxmlformats.org/officeDocument/2006/relationships/hyperlink" Target="mailto:soft@intracom.gr" TargetMode="External"/><Relationship Id="rId9" Type="http://schemas.openxmlformats.org/officeDocument/2006/relationships/hyperlink" Target="mailto:soft@intracom.gr" TargetMode="External"/><Relationship Id="rId10" Type="http://schemas.openxmlformats.org/officeDocument/2006/relationships/hyperlink" Target="mailto:dema@intracom.gr" TargetMode="External"/><Relationship Id="rId11" Type="http://schemas.openxmlformats.org/officeDocument/2006/relationships/hyperlink" Target="mailto:dema@intracom.gr" TargetMode="External"/><Relationship Id="rId12" Type="http://schemas.openxmlformats.org/officeDocument/2006/relationships/hyperlink" Target="mailto:dema@intracom.gr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ultiplatform e-Publishing for Leisure and Interactive Sports Advertise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V Anytime Phase I and II brought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s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AL+ Technolog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COM S.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nd Implementers Workshop, 18th TV Anytime Forum Meeting Geneva, 29/7-2/8/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ystem components…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the core components of the MELISA system is the set-top bo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Implementers Workshop, 18th TV Anytime Forum Meeting Geneva, 29/7-2/8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E6AB-C358-4B86-A8D1-41F8CE21A0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ocus on STB feature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DR with return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PEG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(over I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HP compat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adata Processing unit (MP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features of MP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s the 3 metadata types defined by T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 Description metadata (attracto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gmentation meta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mer metadata (profil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 “real-time” and differed meta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data and content synchron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data and content sent separat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Implementers Workshop, 18th TV Anytime Forum Meeting Geneva, 29/7-2/8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4557C-DB79-4A26-84F5-48431CCEDF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V Anytime Phase I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ssessment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requirem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ic Sports and Betting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equent Upd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g volum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VA functionalities under conside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00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ope of TVA Schema and possible exten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00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ession and Bi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00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ing and handling XML metadata structu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Implementers Workshop, 18th TV Anytime Forum Meeting Geneva, 29/7-2/8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03588-7BD8-4050-8154-633F7ED5AA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V Anytime Phase II features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content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dentification, referenc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uping, Cross-linking, Cross-referenc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emporal definitions (dynamic vs. static cont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ghts managem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protection for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interactive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ption, identification, referenc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actional issu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yment mod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scription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led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e gen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Implementers Workshop, 18th TV Anytime Forum Meeting Geneva, 29/7-2/8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4CEA4-3444-42AD-950B-BF82D3E66A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V Anytime Phase II features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vironmental profi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Profiles (bandwidth, directionality, 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l Profiles (terminal targe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ized consumption at multiple termin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l profiles (capabilities descrip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profiling, usage history exten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sitive data protection, priv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ing for other than advertis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Implementers Workshop, 18th TV Anytime Forum Meeting Geneva, 29/7-2/8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6800F-E268-4C1F-9078-0289F7DDBF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tact Detai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4038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AL+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urad Rezgu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:</a:t>
            </a:r>
            <a:r>
              <a:rPr b="0" lang="en-US" sz="2000" spc="-1" strike="noStrike" u="sng">
                <a:solidFill>
                  <a:srgbClr val="ff63b1"/>
                </a:solidFill>
                <a:uFillTx/>
                <a:latin typeface="Tahoma"/>
                <a:hlinkClick r:id="rId1"/>
              </a:rPr>
              <a:t>mrezgui</a:t>
            </a:r>
            <a:r>
              <a:rPr b="0" lang="en-US" sz="2000" spc="-1" strike="noStrike" u="sng">
                <a:solidFill>
                  <a:srgbClr val="ff63b1"/>
                </a:solidFill>
                <a:uFillTx/>
                <a:latin typeface="Tahoma"/>
                <a:hlinkClick r:id="rId2"/>
              </a:rPr>
              <a:t>@canal-plus.</a:t>
            </a:r>
            <a:r>
              <a:rPr b="0" lang="en-US" sz="2000" spc="-1" strike="noStrike" u="sng">
                <a:solidFill>
                  <a:srgbClr val="ff63b1"/>
                </a:solidFill>
                <a:uFillTx/>
                <a:latin typeface="Tahoma"/>
                <a:hlinkClick r:id="rId3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rcisse Duarte de Frei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:</a:t>
            </a:r>
            <a:r>
              <a:rPr b="0" lang="en-US" sz="2000" spc="-1" strike="noStrike" u="sng">
                <a:solidFill>
                  <a:srgbClr val="ff63b1"/>
                </a:solidFill>
                <a:uFillTx/>
                <a:latin typeface="Tahoma"/>
                <a:hlinkClick r:id="rId4"/>
              </a:rPr>
              <a:t>nduarte</a:t>
            </a:r>
            <a:r>
              <a:rPr b="0" lang="en-US" sz="2000" spc="-1" strike="noStrike" u="sng">
                <a:solidFill>
                  <a:srgbClr val="ff63b1"/>
                </a:solidFill>
                <a:uFillTx/>
                <a:latin typeface="Tahoma"/>
                <a:hlinkClick r:id="rId5"/>
              </a:rPr>
              <a:t>@canal-plus.</a:t>
            </a:r>
            <a:r>
              <a:rPr b="0" lang="en-US" sz="2000" spc="-1" strike="noStrike" u="sng">
                <a:solidFill>
                  <a:srgbClr val="ff63b1"/>
                </a:solidFill>
                <a:uFillTx/>
                <a:latin typeface="Tahoma"/>
                <a:hlinkClick r:id="rId6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runo Loz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-mail:</a:t>
            </a:r>
            <a:r>
              <a:rPr b="0" lang="en-GB" sz="2000" spc="-1" strike="noStrike" u="sng">
                <a:solidFill>
                  <a:srgbClr val="ff63b1"/>
                </a:solidFill>
                <a:uFillTx/>
                <a:latin typeface="Tahoma"/>
                <a:hlinkClick r:id="rId7"/>
              </a:rPr>
              <a:t>blozach@canal-plus.f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2286000"/>
            <a:ext cx="3657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ACOM S.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ia Tsekerido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US" sz="2000" spc="-1" strike="noStrike" u="sng">
                <a:solidFill>
                  <a:srgbClr val="ff63b1"/>
                </a:solidFill>
                <a:uFillTx/>
                <a:latin typeface="Tahoma"/>
                <a:hlinkClick r:id="rId8"/>
              </a:rPr>
              <a:t>soft@intracom.</a:t>
            </a:r>
            <a:r>
              <a:rPr b="0" lang="en-US" sz="2000" spc="-1" strike="noStrike" u="sng">
                <a:solidFill>
                  <a:srgbClr val="ff63b1"/>
                </a:solidFill>
                <a:uFillTx/>
                <a:latin typeface="Tahoma"/>
                <a:hlinkClick r:id="rId9"/>
              </a:rPr>
              <a:t>g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hanasios Demir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US" sz="2000" spc="-1" strike="noStrike" u="sng">
                <a:solidFill>
                  <a:srgbClr val="ff63b1"/>
                </a:solidFill>
                <a:uFillTx/>
                <a:latin typeface="Tahoma"/>
                <a:hlinkClick r:id="rId10"/>
              </a:rPr>
              <a:t>dema</a:t>
            </a:r>
            <a:r>
              <a:rPr b="0" lang="en-US" sz="2000" spc="-1" strike="noStrike" u="sng">
                <a:solidFill>
                  <a:srgbClr val="ff63b1"/>
                </a:solidFill>
                <a:uFillTx/>
                <a:latin typeface="Tahoma"/>
                <a:hlinkClick r:id="rId11"/>
              </a:rPr>
              <a:t>@intracom.</a:t>
            </a:r>
            <a:r>
              <a:rPr b="0" lang="en-US" sz="2000" spc="-1" strike="noStrike" u="sng">
                <a:solidFill>
                  <a:srgbClr val="ff63b1"/>
                </a:solidFill>
                <a:uFillTx/>
                <a:latin typeface="Tahoma"/>
                <a:hlinkClick r:id="rId12"/>
              </a:rPr>
              <a:t>g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Implementers Workshop, 18th TV Anytime Forum Meeting Geneva, 29/7-2/8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074C6-EDD3-4E0F-8C4F-3DE1D1EDBF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nd-to-end enhanced and interactive TV application that integra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ntional sports events broadca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ual enhanc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transactional in-content advertis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s-related betting servic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digital television and next generation mobile network infrastructures across a variety of termin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d set-top box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G mobile ph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Implementers Workshop, 18th TV Anytime Forum Meeting Geneva, 29/7-2/8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67BCC-32A9-488B-BE31-1061FD5474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sortiu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3504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Coordin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ACOM S.A. (G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al+ Technologies (F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gilvy Interactive (G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mah Vision (F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versity of Essex (U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ALOT (G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MOTE (G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ssala University (S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dbrokes Ltd. (U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T (G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828800"/>
            <a:ext cx="4648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umer electronics manufacturer, Technology provi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umer electronics manufacturer, Technology provi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ent Provider, End-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chnology Provi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chnology Provi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chnology Provi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 Operator, Service Provi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chnology Provi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ent Provider, End-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oadcaster, Content Provider, End-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Implementers Workshop, 18th TV Anytime Forum Meeting Geneva, 29/7-2/8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6CDFC-DF3F-4C2A-921B-9D8E58E99E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usiness Objectiv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ing of new business opportun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ized information services (sports statistic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hanced bett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content advertising promotions (e-Commerce boo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Implementers Workshop, 18th TV Anytime Forum Meeting Geneva, 29/7-2/8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85EBF-47FC-4B96-AC3A-FDB050CEC2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bstract System Architectu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0711"/>
          <a:stretch/>
        </p:blipFill>
        <p:spPr>
          <a:xfrm>
            <a:off x="914400" y="1981080"/>
            <a:ext cx="7315200" cy="3362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45416" r="0" b="0"/>
          <a:stretch/>
        </p:blipFill>
        <p:spPr>
          <a:xfrm>
            <a:off x="914400" y="1828800"/>
            <a:ext cx="6700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Implementers Workshop, 18th TV Anytime Forum Meeting Geneva, 29/7-2/8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0D53-8615-4DB5-B62A-1136D16965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 Application Scenarios (1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InteractiveAdvertisementMobile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440240" cy="4496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629400" y="1523880"/>
            <a:ext cx="2133720" cy="2288520"/>
          </a:xfrm>
          <a:prstGeom prst="rect">
            <a:avLst/>
          </a:prstGeom>
          <a:solidFill>
            <a:srgbClr val="33cccc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ve, person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content and context-sens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Implementers Workshop, 18th TV Anytime Forum Meeting Geneva, 29/7-2/8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10BC-3178-48DA-AF9E-632879F6C0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 Application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enarios 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Enhanced%20informationInSoccer" descr=""/>
          <p:cNvPicPr/>
          <p:nvPr/>
        </p:nvPicPr>
        <p:blipFill>
          <a:blip r:embed="rId1"/>
          <a:srcRect l="6057" t="0" r="6057" b="7765"/>
          <a:stretch/>
        </p:blipFill>
        <p:spPr>
          <a:xfrm>
            <a:off x="457200" y="1676520"/>
            <a:ext cx="2209680" cy="1981080"/>
          </a:xfrm>
          <a:prstGeom prst="rect">
            <a:avLst/>
          </a:prstGeom>
          <a:ln w="0">
            <a:noFill/>
          </a:ln>
        </p:spPr>
      </p:pic>
      <p:pic>
        <p:nvPicPr>
          <p:cNvPr id="116" name="Enhanced%20informationInSoccerMobile" descr=""/>
          <p:cNvPicPr/>
          <p:nvPr/>
        </p:nvPicPr>
        <p:blipFill>
          <a:blip r:embed="rId2"/>
          <a:srcRect l="0" t="0" r="2594" b="4447"/>
          <a:stretch/>
        </p:blipFill>
        <p:spPr>
          <a:xfrm>
            <a:off x="2514600" y="3048120"/>
            <a:ext cx="4648320" cy="3276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629400" y="1514520"/>
            <a:ext cx="2133720" cy="2654280"/>
          </a:xfrm>
          <a:prstGeom prst="rect">
            <a:avLst/>
          </a:prstGeom>
          <a:solidFill>
            <a:srgbClr val="33cccc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content consumption and Betting services using a variety of 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Implementers Workshop, 18th TV Anytime Forum Meeting Geneva, 29/7-2/8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367B1-1A17-4B6A-88AB-E02BD68D4A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 Application Scenarios (3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CarRaceWithTrack" descr=""/>
          <p:cNvPicPr/>
          <p:nvPr/>
        </p:nvPicPr>
        <p:blipFill>
          <a:blip r:embed="rId1"/>
          <a:stretch/>
        </p:blipFill>
        <p:spPr>
          <a:xfrm>
            <a:off x="1219320" y="2948040"/>
            <a:ext cx="6858000" cy="2614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705720" y="1447920"/>
            <a:ext cx="2133360" cy="1557000"/>
          </a:xfrm>
          <a:prstGeom prst="rect">
            <a:avLst/>
          </a:prstGeom>
          <a:solidFill>
            <a:srgbClr val="33cccc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Visualization (e.g. by means of senso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Implementers Workshop, 18th TV Anytime Forum Meeting Geneva, 29/7-2/8/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51D5E-FD7E-4DD4-B59E-EB42B4E1D4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…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LISA sloga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consume and interact with sports related services of your interests anytime, anywhere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isioned enhanced service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services (sports statistic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hanced content broadcasting services (sports visual enhancem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orts betting services (transaction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bedded advertising promotional services (transaction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Implementers Workshop, 18th TV Anytime Forum Meeting Geneva, 29/7-2/8/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F4D22-C67C-4047-B27A-5C711715B1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14:55:03Z</dcterms:created>
  <dc:creator>Sofia tsekeridou</dc:creator>
  <dc:description/>
  <dc:language>en-US</dc:language>
  <cp:lastModifiedBy>Sofia tsekeridou</cp:lastModifiedBy>
  <dcterms:modified xsi:type="dcterms:W3CDTF">2002-07-24T11:31:08Z</dcterms:modified>
  <cp:revision>174</cp:revision>
  <dc:subject/>
  <dc:title>Multiplatform e-Publishing for Leisure and Interactive Sports Adfvertisement</dc:title>
</cp:coreProperties>
</file>