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907588" cy="6858000"/>
  <p:notesSz cx="9399588" cy="7059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F92F-9220-48C7-B759-92AC8B91E9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28400" y="228240"/>
            <a:ext cx="7512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0520" y="1295280"/>
            <a:ext cx="8929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0520" y="3484800"/>
            <a:ext cx="8929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CB46F-2717-441D-9EAB-74DA2A62A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28400" y="228240"/>
            <a:ext cx="7512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0520" y="1295280"/>
            <a:ext cx="435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6120" y="1295280"/>
            <a:ext cx="435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0520" y="3484800"/>
            <a:ext cx="435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6120" y="3484800"/>
            <a:ext cx="435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F6D72-A4C6-4920-9463-E10D77113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28400" y="228240"/>
            <a:ext cx="7512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0520" y="1295280"/>
            <a:ext cx="2874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9480" y="1295280"/>
            <a:ext cx="2874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98800" y="1295280"/>
            <a:ext cx="2874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0520" y="3484800"/>
            <a:ext cx="2874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9480" y="3484800"/>
            <a:ext cx="2874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98800" y="3484800"/>
            <a:ext cx="2874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4C91C-30B6-4E35-9864-50173DD3F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28400" y="228240"/>
            <a:ext cx="7512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60520" y="1295280"/>
            <a:ext cx="89294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28400" y="228240"/>
            <a:ext cx="7512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0520" y="1295280"/>
            <a:ext cx="8929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28400" y="228240"/>
            <a:ext cx="7512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0520" y="1295280"/>
            <a:ext cx="435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6120" y="1295280"/>
            <a:ext cx="435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28400" y="228240"/>
            <a:ext cx="7512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28400" y="228240"/>
            <a:ext cx="75121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28400" y="228240"/>
            <a:ext cx="7512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0520" y="1295280"/>
            <a:ext cx="435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6120" y="1295280"/>
            <a:ext cx="435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0520" y="3484800"/>
            <a:ext cx="435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28400" y="228240"/>
            <a:ext cx="7512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0520" y="1295280"/>
            <a:ext cx="89294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626CB-7D48-4E53-99F0-A73CF73DEC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28400" y="228240"/>
            <a:ext cx="7512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0520" y="1295280"/>
            <a:ext cx="435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6120" y="1295280"/>
            <a:ext cx="435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6120" y="3484800"/>
            <a:ext cx="435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28400" y="228240"/>
            <a:ext cx="7512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0520" y="1295280"/>
            <a:ext cx="435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6120" y="1295280"/>
            <a:ext cx="435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0520" y="3484800"/>
            <a:ext cx="8929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28400" y="228240"/>
            <a:ext cx="7512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0520" y="1295280"/>
            <a:ext cx="8929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0520" y="3484800"/>
            <a:ext cx="8929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28400" y="228240"/>
            <a:ext cx="7512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0520" y="1295280"/>
            <a:ext cx="435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6120" y="1295280"/>
            <a:ext cx="435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0520" y="3484800"/>
            <a:ext cx="435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6120" y="3484800"/>
            <a:ext cx="435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28400" y="228240"/>
            <a:ext cx="7512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0520" y="1295280"/>
            <a:ext cx="2874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480" y="1295280"/>
            <a:ext cx="2874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98800" y="1295280"/>
            <a:ext cx="2874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0520" y="3484800"/>
            <a:ext cx="2874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480" y="3484800"/>
            <a:ext cx="2874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98800" y="3484800"/>
            <a:ext cx="28749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28400" y="228240"/>
            <a:ext cx="7512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0520" y="1295280"/>
            <a:ext cx="8929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45A71-3F57-4679-BE0B-1B164AF3B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28400" y="228240"/>
            <a:ext cx="7512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0520" y="1295280"/>
            <a:ext cx="435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6120" y="1295280"/>
            <a:ext cx="435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58C6D-5C88-43B9-9C38-B1E918C0F7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28400" y="228240"/>
            <a:ext cx="7512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4A554-1257-42DC-A4B6-4C9F39CE4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28400" y="228240"/>
            <a:ext cx="75121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5E47E-C4EB-4EEC-BC34-599B729D6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28400" y="228240"/>
            <a:ext cx="7512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0520" y="1295280"/>
            <a:ext cx="435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6120" y="1295280"/>
            <a:ext cx="435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0520" y="3484800"/>
            <a:ext cx="435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2ECAE-33D8-4441-9DCB-09C3A6ED9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28400" y="228240"/>
            <a:ext cx="7512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0520" y="1295280"/>
            <a:ext cx="435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6120" y="1295280"/>
            <a:ext cx="435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6120" y="3484800"/>
            <a:ext cx="435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65AD8-0FF5-4976-8FE5-7FB85AA5D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28400" y="228240"/>
            <a:ext cx="7512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0520" y="1295280"/>
            <a:ext cx="435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6120" y="1295280"/>
            <a:ext cx="4357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0520" y="3484800"/>
            <a:ext cx="8929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032D8-FC73-478A-A426-BD8382B853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28400" y="228240"/>
            <a:ext cx="7512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0520" y="1295280"/>
            <a:ext cx="8929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2440" y="304920"/>
            <a:ext cx="1816200" cy="798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012000"/>
            <a:ext cx="9906120" cy="84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116D-D6AD-48C1-8825-1E4F3CEF5A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084920" y="653112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© 2002 FD Learning Lt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0120" y="5830920"/>
            <a:ext cx="1816200" cy="798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2"/>
          </p:nvPr>
        </p:nvSpPr>
        <p:spPr>
          <a:xfrm>
            <a:off x="5714640" y="6019920"/>
            <a:ext cx="389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47320" y="5224320"/>
            <a:ext cx="94107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Perry Ismangi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96880" y="12682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livering t-Learning with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V-Anytime Meta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39800" y="3068640"/>
            <a:ext cx="7201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V-Anytime Forum Implementer’s Works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9 July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28400" y="228240"/>
            <a:ext cx="7512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0520" y="1295280"/>
            <a:ext cx="8929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 such as TV-Anytime lowers barrier of e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ing (any) standards can be problem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Phase 2 work is in the right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DD94F-0798-4693-8631-B6A47DBF2558}" type="slidenum">
              <a:t>10</a:t>
            </a:fld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97640" y="1752480"/>
            <a:ext cx="386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72640" y="2895480"/>
            <a:ext cx="43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y.ismangil@fdlearning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0D1FF-146F-4769-9350-4A1EC9AC5C0A}" type="slidenum">
              <a:t>11</a:t>
            </a:fld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28400" y="228240"/>
            <a:ext cx="7512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Outline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0520" y="1371600"/>
            <a:ext cx="892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8880" y="1905120"/>
            <a:ext cx="90867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ny 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access to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FC47B-4C58-4CE3-B882-2E0127336DD4}" type="slidenum">
              <a:t>2</a:t>
            </a:fld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863280" y="1371600"/>
            <a:ext cx="847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olutions &amp; services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16 education &amp; training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£7.5m Turno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4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K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years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of Tribal Group pl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292640" y="4724280"/>
            <a:ext cx="1933560" cy="503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819520" y="228240"/>
            <a:ext cx="6921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Company Background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EC5FF-491C-4B8A-B5A8-2337296B95F8}" type="slidenum">
              <a:t>3</a:t>
            </a:fld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47680" y="4495680"/>
            <a:ext cx="9410760" cy="1372680"/>
          </a:xfrm>
          <a:prstGeom prst="rect">
            <a:avLst/>
          </a:prstGeom>
          <a:noFill/>
          <a:ln w="9360">
            <a:solidFill>
              <a:srgbClr val="f415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520" y="228240"/>
            <a:ext cx="6921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Company Strategy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5400" y="1295280"/>
            <a:ext cx="84945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ising in Management of learning &amp; learning pro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level support &amp; integrat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8400" y="527040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21440" y="4908600"/>
            <a:ext cx="185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iculum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ing Program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2040" y="5127480"/>
            <a:ext cx="8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27960" y="4952880"/>
            <a:ext cx="119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g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97920" y="4952880"/>
            <a:ext cx="122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 Ad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54640" y="49528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493120" y="505476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00560" y="525780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49600" y="527040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42080" y="524520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131320" y="523224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95960" y="4038480"/>
            <a:ext cx="25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arning prov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997840" y="5410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457520" y="5715000"/>
            <a:ext cx="453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457880" y="5486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CFF94-C906-4AB5-A0E2-8DEFA08C454D}" type="slidenum">
              <a:t>4</a:t>
            </a:fld>
          </a:p>
        </p:txBody>
      </p:sp>
    </p:spTree>
  </p:cSld>
  <p:transition spd="med"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1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3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4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6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7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9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20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3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28400" y="228240"/>
            <a:ext cx="7512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t-Learning as Alternative Access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63640" y="1557360"/>
            <a:ext cx="862632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via web: fastest growth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access through non-PC devices such as digital television set-top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TV standards ‘usable’ by ‘normal’ developers – non-proprietary development k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F9EAD-58A1-44D7-AB5B-091798368915}" type="slidenum">
              <a:t>5</a:t>
            </a:fld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28400" y="228240"/>
            <a:ext cx="7512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t-Learning Scenario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1800" y="1773000"/>
            <a:ext cx="89870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DIANS project: EU-funded under IST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Learning (co-ordin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ex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Naples Federico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Aeg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ford Institute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TU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442280" y="189000"/>
            <a:ext cx="2334960" cy="942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915960" y="1125360"/>
            <a:ext cx="28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ist-guardians.t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T-1999-207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663F7-0746-4CE2-B74A-1CE042EF2B33}" type="slidenum">
              <a:t>6</a:t>
            </a:fld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28400" y="228240"/>
            <a:ext cx="7512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t-Learning Scenario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0520" y="1557360"/>
            <a:ext cx="892944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Digital TV components (DVB-MH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 of learning related interactive TV programs stored in searchable reposi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442280" y="189000"/>
            <a:ext cx="2334960" cy="942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915960" y="1125360"/>
            <a:ext cx="28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st-guardians.t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047C7-9701-4C9E-98DB-C13FF1A7F635}" type="slidenum">
              <a:t>7</a:t>
            </a:fld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28400" y="228240"/>
            <a:ext cx="7512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Clip of Demo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0520" y="1295280"/>
            <a:ext cx="8929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on S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d to broad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return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er assi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D3FC5-F799-4F8D-9930-21FB1EAA8B75}" type="slidenum">
              <a:t>8</a:t>
            </a:fld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28400" y="228240"/>
            <a:ext cx="7512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Issues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0520" y="2060640"/>
            <a:ext cx="892944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t of ‘official’ TV-Anytime metadata not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curve on broadcasting business for non-broadcast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practi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50614-B2E0-43BC-8864-BF8CAAD06644}" type="slidenum">
              <a:t>9</a:t>
            </a:fld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5T14:28:20Z</dcterms:created>
  <dc:creator>Perry</dc:creator>
  <dc:description/>
  <dc:language>en-US</dc:language>
  <cp:lastModifiedBy>Perry Ismangil</cp:lastModifiedBy>
  <cp:lastPrinted>2001-10-25T14:10:52Z</cp:lastPrinted>
  <dcterms:modified xsi:type="dcterms:W3CDTF">2002-09-04T08:58:36Z</dcterms:modified>
  <cp:revision>29</cp:revision>
  <dc:subject/>
  <dc:title>Slide 1</dc:title>
</cp:coreProperties>
</file>