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2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27825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28400" cy="984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03240" y="738360"/>
            <a:ext cx="4921200" cy="36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896760" y="4674960"/>
            <a:ext cx="4935600" cy="4429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34992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12760" y="934992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0542EA-D3AE-4BCA-B31E-140B91CDAE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03240" y="738360"/>
            <a:ext cx="4921200" cy="36907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896760" y="4674960"/>
            <a:ext cx="4935600" cy="44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AXHandler file: cutting &amp; broadcast strategy (affects a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. ENCODING &amp; PARS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&gt; devides in blocks (fragments) &amp; affects timing (which appear during stream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. STREAMING FRAG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t=streaming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nb blocks broadcas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stuffing blocks: to keep a constant bit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trashed blocks: could not insert in stream (negative timing: strat. not to broadca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!! PUT BACK 8000bits/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03240" y="738360"/>
            <a:ext cx="4921200" cy="36907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896760" y="4674960"/>
            <a:ext cx="4935600" cy="44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 DECODER: specific to MPEG-7 sche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75 Kbytes (including 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URATION SCENARIO: due to decoder so fast that WIN unable to determinate exact speed: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 time: fast; 3 sec.: + precise ti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CENARIO 1.1: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EXTUAL DECODING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Mb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nfo:  input size / output file name / decoding time + input bit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&gt; SEE: XML file output (comment: shape change &amp; Q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CENARIO 2.1: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SAX PARSING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8Mb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&gt; generates SAX events without application to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CENARIO 3.1: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SAX TYPED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4Mb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&gt; faster than SAX because allows integer 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CENARIO 4.1: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ND INTEGER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4Mb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&gt; generates statistical info about binary file: &gt;0-5000&lt;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sult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. Nb integers within define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. Total nb integers in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.  Mea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4. Std deviation (against me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03240" y="738360"/>
            <a:ext cx="4921200" cy="369072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896760" y="4674960"/>
            <a:ext cx="4935600" cy="44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L Binary Enco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igh structure compression rat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st decoding and pars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neric framework for XML enco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ing &amp; upd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rtial update of XML 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essive loading to reduce user perceived waiting 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ows a scalable transfer of X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bility &amp; Compati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ML Schema extension mechanism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ivate extensions, Versionning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ckward and forward compatibility for hardwired deco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03240" y="738360"/>
            <a:ext cx="4921200" cy="369072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896760" y="4674960"/>
            <a:ext cx="4935600" cy="44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fore being broadcasted, the whole description has to be divided in smaller XML valid sub-trees, among a linear timeline cu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08D1-5E06-4730-87E6-51B2ED1DF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880D-6639-4F0D-801E-290EE4CA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92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F2A9-7F58-4447-A192-F529E56E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74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5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74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5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1569-F7C2-4D16-B099-4F2BF2C02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F028-E10E-401E-ABCB-2963A215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EF1F-AA8D-40C2-BDAE-71BDF15F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F049-9AE4-4351-AFD7-77070D48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D115-79DB-494E-A954-13339074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763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E313-4568-4A10-B085-FF6EFFD1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2F45-924A-41B3-92DE-F26C1A72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92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C420-2E0A-4FC3-A4B2-7B8E9088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0ECD-B058-4109-B111-CB1AD177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8000"/>
              </a:buClr>
              <a:buSzPct val="50000"/>
              <a:buFont typeface="Marlett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732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6CC1-2BC7-4EE2-9B64-453E97482D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52280" y="1372680"/>
            <a:ext cx="8763120" cy="74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etitlogosansClaim" descr=""/>
          <p:cNvPicPr/>
          <p:nvPr/>
        </p:nvPicPr>
        <p:blipFill>
          <a:blip r:embed="rId2"/>
          <a:stretch/>
        </p:blipFill>
        <p:spPr>
          <a:xfrm>
            <a:off x="6553080" y="6248520"/>
            <a:ext cx="1381320" cy="399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895480" y="6541920"/>
            <a:ext cx="3200400" cy="31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&quot;.\soft\encoder\encoder.bat&quot;" TargetMode="External"/><Relationship Id="rId2" Type="http://schemas.openxmlformats.org/officeDocument/2006/relationships/hyperlink" Target="uedit32 &quot;.\testset\mpeg7\monsterJr4Ver3.xml.bin&quot;" TargetMode="External"/><Relationship Id="rId3" Type="http://schemas.openxmlformats.org/officeDocument/2006/relationships/hyperlink" Target="uedit32 &quot;.\testset\mpeg7\monsterJr4Ver3.xml&quot;" TargetMode="External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.\soft\publisher\publisher.bat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.\soft\decoder\BiMDecoder.exe" TargetMode="External"/><Relationship Id="rId2" Type="http://schemas.openxmlformats.org/officeDocument/2006/relationships/hyperlink" Target="uedit32 &quot;.\testset\mpeg7\monsterJr4Ver3_D.xml&quot;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uedit32 &quot;./ibcEVTSEQ.xml&quot;" TargetMode="External"/><Relationship Id="rId2" Type="http://schemas.openxmlformats.org/officeDocument/2006/relationships/image" Target="../media/image11.png"/><Relationship Id="rId3" Type="http://schemas.openxmlformats.org/officeDocument/2006/relationships/hyperlink" Target="uedit32  &quot;./fragment.xml&quot;" TargetMode="External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4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5.png"/><Relationship Id="rId26" Type="http://schemas.openxmlformats.org/officeDocument/2006/relationships/image" Target="../media/image15.png"/><Relationship Id="rId27" Type="http://schemas.openxmlformats.org/officeDocument/2006/relationships/image" Target="../media/image15.png"/><Relationship Id="rId28" Type="http://schemas.openxmlformats.org/officeDocument/2006/relationships/image" Target="../media/image15.png"/><Relationship Id="rId29" Type="http://schemas.openxmlformats.org/officeDocument/2006/relationships/image" Target="../media/image15.png"/><Relationship Id="rId30" Type="http://schemas.openxmlformats.org/officeDocument/2006/relationships/image" Target="../media/image15.png"/><Relationship Id="rId31" Type="http://schemas.openxmlformats.org/officeDocument/2006/relationships/image" Target="../media/image15.png"/><Relationship Id="rId32" Type="http://schemas.openxmlformats.org/officeDocument/2006/relationships/image" Target="../media/image15.png"/><Relationship Id="rId33" Type="http://schemas.openxmlformats.org/officeDocument/2006/relationships/image" Target="../media/image15.png"/><Relationship Id="rId34" Type="http://schemas.openxmlformats.org/officeDocument/2006/relationships/image" Target="../media/image15.png"/><Relationship Id="rId35" Type="http://schemas.openxmlformats.org/officeDocument/2006/relationships/image" Target="../media/image15.png"/><Relationship Id="rId36" Type="http://schemas.openxmlformats.org/officeDocument/2006/relationships/image" Target="../media/image15.png"/><Relationship Id="rId37" Type="http://schemas.openxmlformats.org/officeDocument/2006/relationships/image" Target="../media/image16.png"/><Relationship Id="rId38" Type="http://schemas.openxmlformats.org/officeDocument/2006/relationships/slideLayout" Target="../slideLayouts/slideLayout3.xml"/><Relationship Id="rId3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1000"/>
            </a:br>
            <a:r>
              <a:rPr b="0" lang="en-GB" sz="4000" spc="-1" strike="noStrike">
                <a:solidFill>
                  <a:srgbClr val="cc3300"/>
                </a:solidFill>
                <a:latin typeface="Tahoma"/>
                <a:ea typeface="Times New Roman"/>
              </a:rPr>
              <a:t>BiM versus Zip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encoding, streaming and decoding of TV-Anytime MD</a:t>
            </a:r>
            <a:br>
              <a:rPr sz="4000"/>
            </a:br>
            <a:br>
              <a:rPr sz="4000"/>
            </a:br>
            <a:br>
              <a:rPr sz="3200"/>
            </a:br>
            <a:br>
              <a:rPr sz="3200"/>
            </a:b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7012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pyright (c) [2002].  Expway.  All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ghts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o_home" descr=""/>
          <p:cNvPicPr/>
          <p:nvPr/>
        </p:nvPicPr>
        <p:blipFill>
          <a:blip r:embed="rId2"/>
          <a:stretch/>
        </p:blipFill>
        <p:spPr>
          <a:xfrm>
            <a:off x="3505320" y="4681440"/>
            <a:ext cx="1447560" cy="50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6858000" y="304920"/>
          <a:ext cx="1828800" cy="47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304920"/>
                    <a:ext cx="18288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tva_logo" descr=""/>
          <p:cNvPicPr/>
          <p:nvPr/>
        </p:nvPicPr>
        <p:blipFill>
          <a:blip r:embed="rId5"/>
          <a:stretch/>
        </p:blipFill>
        <p:spPr>
          <a:xfrm>
            <a:off x="7391520" y="914400"/>
            <a:ext cx="757080" cy="76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6162-1874-45AC-BDD8-9D95DCE120E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5640" y="1519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ahoma"/>
              </a:rPr>
              <a:t>&amp; the Broadcast architecture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304920" y="1959120"/>
          <a:ext cx="88390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59120"/>
                    <a:ext cx="88390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228600" y="461880"/>
          <a:ext cx="2057400" cy="53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61880"/>
                    <a:ext cx="205740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00FE-D96A-457A-8DC7-673013E517B6}" type="slidenum">
              <a:t>10</a:t>
            </a:fld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63120" y="342792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XML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86080" y="3245040"/>
            <a:ext cx="179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Validated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Binary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 rot="5400000">
            <a:off x="3576600" y="2628720"/>
            <a:ext cx="761760" cy="228600"/>
          </a:xfrm>
          <a:custGeom>
            <a:avLst/>
            <a:gdLst>
              <a:gd name="textAreaLeft" fmla="*/ 118800 w 761760"/>
              <a:gd name="textAreaRight" fmla="*/ 666720 w 761760"/>
              <a:gd name="textAreaTop" fmla="*/ 56880 h 228600"/>
              <a:gd name="textAreaBottom" fmla="*/ 17136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 rot="13200">
            <a:off x="2430360" y="3558240"/>
            <a:ext cx="762120" cy="228600"/>
          </a:xfrm>
          <a:custGeom>
            <a:avLst/>
            <a:gdLst>
              <a:gd name="textAreaLeft" fmla="*/ 118800 w 762120"/>
              <a:gd name="textAreaRight" fmla="*/ 667080 w 762120"/>
              <a:gd name="textAreaTop" fmla="*/ 56880 h 228600"/>
              <a:gd name="textAreaBottom" fmla="*/ 17136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93880" y="1797480"/>
            <a:ext cx="26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XML-Schem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68800" y="3200400"/>
            <a:ext cx="13716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33880" y="3276720"/>
            <a:ext cx="138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+ En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69000" y="3352680"/>
            <a:ext cx="914400" cy="609840"/>
          </a:xfrm>
          <a:custGeom>
            <a:avLst/>
            <a:gdLst>
              <a:gd name="textAreaLeft" fmla="*/ 114120 w 914400"/>
              <a:gd name="textAreaRight" fmla="*/ 800280 w 9144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rId1"/>
          </p:cNvPr>
          <p:cNvSpPr/>
          <p:nvPr/>
        </p:nvSpPr>
        <p:spPr>
          <a:xfrm>
            <a:off x="4300560" y="4267080"/>
            <a:ext cx="457200" cy="152640"/>
          </a:xfrm>
          <a:custGeom>
            <a:avLst/>
            <a:gdLst>
              <a:gd name="textAreaLeft" fmla="*/ 9720 w 457200"/>
              <a:gd name="textAreaRight" fmla="*/ 447480 w 45720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64597" h="21600">
                <a:moveTo>
                  <a:pt x="0" y="0"/>
                </a:moveTo>
                <a:lnTo>
                  <a:pt x="64597" y="0"/>
                </a:lnTo>
                <a:lnTo>
                  <a:pt x="64597" y="21600"/>
                </a:lnTo>
                <a:lnTo>
                  <a:pt x="0" y="21600"/>
                </a:lnTo>
                <a:close/>
              </a:path>
              <a:path fill="lightenLess" w="64597" h="21600">
                <a:moveTo>
                  <a:pt x="0" y="0"/>
                </a:moveTo>
                <a:lnTo>
                  <a:pt x="64597" y="0"/>
                </a:lnTo>
                <a:lnTo>
                  <a:pt x="63197" y="1400"/>
                </a:lnTo>
                <a:lnTo>
                  <a:pt x="1400" y="1400"/>
                </a:lnTo>
                <a:close/>
              </a:path>
              <a:path fill="darken" w="64597" h="21600">
                <a:moveTo>
                  <a:pt x="64597" y="0"/>
                </a:moveTo>
                <a:lnTo>
                  <a:pt x="64597" y="21600"/>
                </a:lnTo>
                <a:lnTo>
                  <a:pt x="63197" y="20200"/>
                </a:lnTo>
                <a:lnTo>
                  <a:pt x="63197" y="1400"/>
                </a:lnTo>
                <a:close/>
              </a:path>
              <a:path fill="darkenLess" w="64597" h="21600">
                <a:moveTo>
                  <a:pt x="64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197" y="20200"/>
                </a:lnTo>
                <a:close/>
              </a:path>
              <a:path fill="lighten" w="64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ahoma"/>
              </a:rPr>
              <a:t>Start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>
            <a:hlinkClick r:id="rId2"/>
          </p:cNvPr>
          <p:cNvSpPr/>
          <p:nvPr/>
        </p:nvSpPr>
        <p:spPr>
          <a:xfrm>
            <a:off x="7120080" y="4038480"/>
            <a:ext cx="457200" cy="152640"/>
          </a:xfrm>
          <a:custGeom>
            <a:avLst/>
            <a:gdLst>
              <a:gd name="textAreaLeft" fmla="*/ 9720 w 457200"/>
              <a:gd name="textAreaRight" fmla="*/ 447480 w 45720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64597" h="21600">
                <a:moveTo>
                  <a:pt x="0" y="0"/>
                </a:moveTo>
                <a:lnTo>
                  <a:pt x="64597" y="0"/>
                </a:lnTo>
                <a:lnTo>
                  <a:pt x="64597" y="21600"/>
                </a:lnTo>
                <a:lnTo>
                  <a:pt x="0" y="21600"/>
                </a:lnTo>
                <a:close/>
              </a:path>
              <a:path fill="lightenLess" w="64597" h="21600">
                <a:moveTo>
                  <a:pt x="0" y="0"/>
                </a:moveTo>
                <a:lnTo>
                  <a:pt x="64597" y="0"/>
                </a:lnTo>
                <a:lnTo>
                  <a:pt x="63197" y="1400"/>
                </a:lnTo>
                <a:lnTo>
                  <a:pt x="1400" y="1400"/>
                </a:lnTo>
                <a:close/>
              </a:path>
              <a:path fill="darken" w="64597" h="21600">
                <a:moveTo>
                  <a:pt x="64597" y="0"/>
                </a:moveTo>
                <a:lnTo>
                  <a:pt x="64597" y="21600"/>
                </a:lnTo>
                <a:lnTo>
                  <a:pt x="63197" y="20200"/>
                </a:lnTo>
                <a:lnTo>
                  <a:pt x="63197" y="1400"/>
                </a:lnTo>
                <a:close/>
              </a:path>
              <a:path fill="darkenLess" w="64597" h="21600">
                <a:moveTo>
                  <a:pt x="64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197" y="20200"/>
                </a:lnTo>
                <a:close/>
              </a:path>
              <a:path fill="lighten" w="64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View</a:t>
            </a:r>
            <a:r>
              <a:rPr b="0" i="1" lang="fr-FR" sz="1200" spc="-1" strike="noStrike">
                <a:solidFill>
                  <a:srgbClr val="000000"/>
                </a:solidFill>
                <a:latin typeface="Tahoma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rId3"/>
          </p:cNvPr>
          <p:cNvSpPr/>
          <p:nvPr/>
        </p:nvSpPr>
        <p:spPr>
          <a:xfrm>
            <a:off x="871560" y="3809880"/>
            <a:ext cx="457200" cy="152640"/>
          </a:xfrm>
          <a:custGeom>
            <a:avLst/>
            <a:gdLst>
              <a:gd name="textAreaLeft" fmla="*/ 9720 w 457200"/>
              <a:gd name="textAreaRight" fmla="*/ 447480 w 45720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64597" h="21600">
                <a:moveTo>
                  <a:pt x="0" y="0"/>
                </a:moveTo>
                <a:lnTo>
                  <a:pt x="64597" y="0"/>
                </a:lnTo>
                <a:lnTo>
                  <a:pt x="64597" y="21600"/>
                </a:lnTo>
                <a:lnTo>
                  <a:pt x="0" y="21600"/>
                </a:lnTo>
                <a:close/>
              </a:path>
              <a:path fill="lightenLess" w="64597" h="21600">
                <a:moveTo>
                  <a:pt x="0" y="0"/>
                </a:moveTo>
                <a:lnTo>
                  <a:pt x="64597" y="0"/>
                </a:lnTo>
                <a:lnTo>
                  <a:pt x="63197" y="1400"/>
                </a:lnTo>
                <a:lnTo>
                  <a:pt x="1400" y="1400"/>
                </a:lnTo>
                <a:close/>
              </a:path>
              <a:path fill="darken" w="64597" h="21600">
                <a:moveTo>
                  <a:pt x="64597" y="0"/>
                </a:moveTo>
                <a:lnTo>
                  <a:pt x="64597" y="21600"/>
                </a:lnTo>
                <a:lnTo>
                  <a:pt x="63197" y="20200"/>
                </a:lnTo>
                <a:lnTo>
                  <a:pt x="63197" y="1400"/>
                </a:lnTo>
                <a:close/>
              </a:path>
              <a:path fill="darkenLess" w="64597" h="21600">
                <a:moveTo>
                  <a:pt x="64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197" y="20200"/>
                </a:lnTo>
                <a:close/>
              </a:path>
              <a:path fill="lighten" w="64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View</a:t>
            </a:r>
            <a:r>
              <a:rPr b="0" i="1" lang="fr-FR" sz="1200" spc="-1" strike="noStrike">
                <a:solidFill>
                  <a:srgbClr val="000000"/>
                </a:solidFill>
                <a:latin typeface="Tahoma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14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ahoma"/>
              </a:rPr>
              <a:t>Parser &amp; Encode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228600" y="461880"/>
          <a:ext cx="2057400" cy="536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461880"/>
                    <a:ext cx="205740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762120" y="5029200"/>
            <a:ext cx="78483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Tahom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cc3300"/>
                </a:solidFill>
                <a:latin typeface="Tahoma"/>
              </a:rPr>
              <a:t>Validates XML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Tahom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cc3300"/>
                </a:solidFill>
                <a:latin typeface="Tahoma"/>
              </a:rPr>
              <a:t>Encodes XML data in a binary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7955-45E6-4E61-A85C-13E8B4EA1718}" type="slidenum">
              <a:t>11</a:t>
            </a:fld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5398920" y="3154680"/>
            <a:ext cx="28958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Binary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treamed XM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ready for in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 rot="5400000">
            <a:off x="3449520" y="2679480"/>
            <a:ext cx="784080" cy="228600"/>
          </a:xfrm>
          <a:custGeom>
            <a:avLst/>
            <a:gdLst>
              <a:gd name="textAreaLeft" fmla="*/ 122400 w 784080"/>
              <a:gd name="textAreaRight" fmla="*/ 686160 w 784080"/>
              <a:gd name="textAreaTop" fmla="*/ 56880 h 228600"/>
              <a:gd name="textAreaBottom" fmla="*/ 17136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 rot="13200">
            <a:off x="2349360" y="3596040"/>
            <a:ext cx="762120" cy="233640"/>
          </a:xfrm>
          <a:custGeom>
            <a:avLst/>
            <a:gdLst>
              <a:gd name="textAreaLeft" fmla="*/ 118800 w 762120"/>
              <a:gd name="textAreaRight" fmla="*/ 667080 w 762120"/>
              <a:gd name="textAreaTop" fmla="*/ 58320 h 233640"/>
              <a:gd name="textAreaBottom" fmla="*/ 175320 h 23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89240" y="3240000"/>
            <a:ext cx="1371600" cy="9414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89240" y="3498840"/>
            <a:ext cx="14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Publis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89440" y="3392640"/>
            <a:ext cx="914400" cy="626760"/>
          </a:xfrm>
          <a:custGeom>
            <a:avLst/>
            <a:gdLst>
              <a:gd name="textAreaLeft" fmla="*/ 114120 w 914400"/>
              <a:gd name="textAreaRight" fmla="*/ 800280 w 914400"/>
              <a:gd name="textAreaTop" fmla="*/ 156600 h 626760"/>
              <a:gd name="textAreaBottom" fmla="*/ 470160 h 626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72800" y="1827720"/>
            <a:ext cx="38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ublishing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83800" y="3163680"/>
            <a:ext cx="136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XML Fil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+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rId1"/>
          </p:cNvPr>
          <p:cNvSpPr/>
          <p:nvPr/>
        </p:nvSpPr>
        <p:spPr>
          <a:xfrm>
            <a:off x="4179960" y="4343400"/>
            <a:ext cx="457200" cy="152280"/>
          </a:xfrm>
          <a:custGeom>
            <a:avLst/>
            <a:gdLst>
              <a:gd name="textAreaLeft" fmla="*/ 9720 w 457200"/>
              <a:gd name="textAreaRight" fmla="*/ 447480 w 4572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64749" h="21600">
                <a:moveTo>
                  <a:pt x="0" y="0"/>
                </a:moveTo>
                <a:lnTo>
                  <a:pt x="64749" y="0"/>
                </a:lnTo>
                <a:lnTo>
                  <a:pt x="64749" y="21600"/>
                </a:lnTo>
                <a:lnTo>
                  <a:pt x="0" y="21600"/>
                </a:lnTo>
                <a:close/>
              </a:path>
              <a:path fill="lightenLess" w="64749" h="21600">
                <a:moveTo>
                  <a:pt x="0" y="0"/>
                </a:moveTo>
                <a:lnTo>
                  <a:pt x="64749" y="0"/>
                </a:lnTo>
                <a:lnTo>
                  <a:pt x="63349" y="1400"/>
                </a:lnTo>
                <a:lnTo>
                  <a:pt x="1400" y="1400"/>
                </a:lnTo>
                <a:close/>
              </a:path>
              <a:path fill="darken" w="64749" h="21600">
                <a:moveTo>
                  <a:pt x="64749" y="0"/>
                </a:moveTo>
                <a:lnTo>
                  <a:pt x="64749" y="21600"/>
                </a:lnTo>
                <a:lnTo>
                  <a:pt x="63349" y="20200"/>
                </a:lnTo>
                <a:lnTo>
                  <a:pt x="63349" y="1400"/>
                </a:lnTo>
                <a:close/>
              </a:path>
              <a:path fill="darkenLess" w="64749" h="21600">
                <a:moveTo>
                  <a:pt x="64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9" y="20200"/>
                </a:lnTo>
                <a:close/>
              </a:path>
              <a:path fill="lighten" w="64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ahoma"/>
              </a:rPr>
              <a:t>Start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14600" y="30492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ahoma"/>
              </a:rPr>
              <a:t>Publishe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5029200"/>
            <a:ext cx="79246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Tahom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cc3300"/>
                </a:solidFill>
                <a:latin typeface="Tahoma"/>
              </a:rPr>
              <a:t>Analyses, cuts and manages XML fra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Tahom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cc3300"/>
                </a:solidFill>
                <a:latin typeface="Tahoma"/>
              </a:rPr>
              <a:t>Generates streams of XML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28600" y="461880"/>
          <a:ext cx="2057400" cy="53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61880"/>
                    <a:ext cx="205740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DC65-3BEF-40A0-88FB-BEF77079F582}" type="slidenum">
              <a:t>12</a:t>
            </a:fld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149520" y="218016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XML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5480" y="3474000"/>
            <a:ext cx="17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Binary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 rot="5400000">
            <a:off x="3429000" y="2629440"/>
            <a:ext cx="762120" cy="228600"/>
          </a:xfrm>
          <a:custGeom>
            <a:avLst/>
            <a:gdLst>
              <a:gd name="textAreaLeft" fmla="*/ 118800 w 762120"/>
              <a:gd name="textAreaRight" fmla="*/ 667080 w 762120"/>
              <a:gd name="textAreaTop" fmla="*/ 56880 h 228600"/>
              <a:gd name="textAreaBottom" fmla="*/ 17136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 rot="13200">
            <a:off x="2282760" y="3559680"/>
            <a:ext cx="762120" cy="228600"/>
          </a:xfrm>
          <a:custGeom>
            <a:avLst/>
            <a:gdLst>
              <a:gd name="textAreaLeft" fmla="*/ 118800 w 762120"/>
              <a:gd name="textAreaRight" fmla="*/ 667080 w 762120"/>
              <a:gd name="textAreaTop" fmla="*/ 56880 h 228600"/>
              <a:gd name="textAreaBottom" fmla="*/ 17136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69200" y="1799280"/>
            <a:ext cx="20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XML-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21200" y="3201840"/>
            <a:ext cx="13716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200400" y="34606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e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20488800">
            <a:off x="4800600" y="2561760"/>
            <a:ext cx="914400" cy="609840"/>
          </a:xfrm>
          <a:custGeom>
            <a:avLst/>
            <a:gdLst>
              <a:gd name="textAreaLeft" fmla="*/ 114120 w 914400"/>
              <a:gd name="textAreaRight" fmla="*/ 800280 w 9144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105240" y="3138840"/>
            <a:ext cx="2745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tandard XML API</a:t>
            </a:r>
            <a:br>
              <a:rPr sz="2400"/>
            </a:b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(SAX/DO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72200" y="441864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Optimized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3171960"/>
            <a:ext cx="914400" cy="609480"/>
          </a:xfrm>
          <a:custGeom>
            <a:avLst/>
            <a:gdLst>
              <a:gd name="textAreaLeft" fmla="*/ 114120 w 914400"/>
              <a:gd name="textAreaRight" fmla="*/ 800280 w 9144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861000">
            <a:off x="4876560" y="3857760"/>
            <a:ext cx="914400" cy="609480"/>
          </a:xfrm>
          <a:custGeom>
            <a:avLst/>
            <a:gdLst>
              <a:gd name="textAreaLeft" fmla="*/ 114120 w 914400"/>
              <a:gd name="textAreaRight" fmla="*/ 800280 w 9144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>
            <a:hlinkClick r:id="rId1"/>
          </p:cNvPr>
          <p:cNvSpPr/>
          <p:nvPr/>
        </p:nvSpPr>
        <p:spPr>
          <a:xfrm>
            <a:off x="4152960" y="4268880"/>
            <a:ext cx="457200" cy="152280"/>
          </a:xfrm>
          <a:custGeom>
            <a:avLst/>
            <a:gdLst>
              <a:gd name="textAreaLeft" fmla="*/ 9720 w 457200"/>
              <a:gd name="textAreaRight" fmla="*/ 447480 w 4572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64749" h="21600">
                <a:moveTo>
                  <a:pt x="0" y="0"/>
                </a:moveTo>
                <a:lnTo>
                  <a:pt x="64749" y="0"/>
                </a:lnTo>
                <a:lnTo>
                  <a:pt x="64749" y="21600"/>
                </a:lnTo>
                <a:lnTo>
                  <a:pt x="0" y="21600"/>
                </a:lnTo>
                <a:close/>
              </a:path>
              <a:path fill="lightenLess" w="64749" h="21600">
                <a:moveTo>
                  <a:pt x="0" y="0"/>
                </a:moveTo>
                <a:lnTo>
                  <a:pt x="64749" y="0"/>
                </a:lnTo>
                <a:lnTo>
                  <a:pt x="63349" y="1400"/>
                </a:lnTo>
                <a:lnTo>
                  <a:pt x="1400" y="1400"/>
                </a:lnTo>
                <a:close/>
              </a:path>
              <a:path fill="darken" w="64749" h="21600">
                <a:moveTo>
                  <a:pt x="64749" y="0"/>
                </a:moveTo>
                <a:lnTo>
                  <a:pt x="64749" y="21600"/>
                </a:lnTo>
                <a:lnTo>
                  <a:pt x="63349" y="20200"/>
                </a:lnTo>
                <a:lnTo>
                  <a:pt x="63349" y="1400"/>
                </a:lnTo>
                <a:close/>
              </a:path>
              <a:path fill="darkenLess" w="64749" h="21600">
                <a:moveTo>
                  <a:pt x="64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9" y="20200"/>
                </a:lnTo>
                <a:close/>
              </a:path>
              <a:path fill="lighten" w="64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ahoma"/>
              </a:rPr>
              <a:t>Start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rId2"/>
          </p:cNvPr>
          <p:cNvSpPr/>
          <p:nvPr/>
        </p:nvSpPr>
        <p:spPr>
          <a:xfrm>
            <a:off x="7048440" y="2592360"/>
            <a:ext cx="457200" cy="152280"/>
          </a:xfrm>
          <a:custGeom>
            <a:avLst/>
            <a:gdLst>
              <a:gd name="textAreaLeft" fmla="*/ 9720 w 457200"/>
              <a:gd name="textAreaRight" fmla="*/ 447480 w 4572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64749" h="21600">
                <a:moveTo>
                  <a:pt x="0" y="0"/>
                </a:moveTo>
                <a:lnTo>
                  <a:pt x="64749" y="0"/>
                </a:lnTo>
                <a:lnTo>
                  <a:pt x="64749" y="21600"/>
                </a:lnTo>
                <a:lnTo>
                  <a:pt x="0" y="21600"/>
                </a:lnTo>
                <a:close/>
              </a:path>
              <a:path fill="lightenLess" w="64749" h="21600">
                <a:moveTo>
                  <a:pt x="0" y="0"/>
                </a:moveTo>
                <a:lnTo>
                  <a:pt x="64749" y="0"/>
                </a:lnTo>
                <a:lnTo>
                  <a:pt x="63349" y="1400"/>
                </a:lnTo>
                <a:lnTo>
                  <a:pt x="1400" y="1400"/>
                </a:lnTo>
                <a:close/>
              </a:path>
              <a:path fill="darken" w="64749" h="21600">
                <a:moveTo>
                  <a:pt x="64749" y="0"/>
                </a:moveTo>
                <a:lnTo>
                  <a:pt x="64749" y="21600"/>
                </a:lnTo>
                <a:lnTo>
                  <a:pt x="63349" y="20200"/>
                </a:lnTo>
                <a:lnTo>
                  <a:pt x="63349" y="1400"/>
                </a:lnTo>
                <a:close/>
              </a:path>
              <a:path fill="darkenLess" w="64749" h="21600">
                <a:moveTo>
                  <a:pt x="64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9" y="20200"/>
                </a:lnTo>
                <a:close/>
              </a:path>
              <a:path fill="lighten" w="64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View</a:t>
            </a:r>
            <a:r>
              <a:rPr b="0" i="1" lang="fr-FR" sz="1200" spc="-1" strike="noStrike">
                <a:solidFill>
                  <a:srgbClr val="000000"/>
                </a:solidFill>
                <a:latin typeface="Tahoma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514240" y="1519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ahoma"/>
              </a:rPr>
              <a:t>Decode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5029200"/>
            <a:ext cx="79246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Tahom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cc3300"/>
                </a:solidFill>
                <a:latin typeface="Tahoma"/>
              </a:rPr>
              <a:t>Decodes binary XML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Tahom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cc3300"/>
                </a:solidFill>
                <a:latin typeface="Tahoma"/>
              </a:rPr>
              <a:t>Dynamically filter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228600" y="461880"/>
          <a:ext cx="2057400" cy="53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61880"/>
                    <a:ext cx="205740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966F-8C4A-4E38-BC54-A8C40A016642}" type="slidenum">
              <a:t>13</a:t>
            </a:fld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c3300"/>
                </a:solidFill>
                <a:latin typeface="Tahoma"/>
              </a:rPr>
              <a:t>Performanc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276720" y="2697120"/>
          <a:ext cx="2514600" cy="65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697120"/>
                    <a:ext cx="251460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7C41-B504-4172-9E8B-00F9634B61F7}" type="slidenum">
              <a:t>14</a:t>
            </a:fld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Encoder </a:t>
            </a:r>
            <a:r>
              <a:rPr b="0" lang="fr-FR" sz="4000" spc="-1" strike="noStrike">
                <a:solidFill>
                  <a:srgbClr val="cc3300"/>
                </a:solidFill>
                <a:latin typeface="Tahoma"/>
              </a:rPr>
              <a:t>Compression Ratio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9" name="tabeau_Bytes%20(2)" descr=""/>
          <p:cNvPicPr/>
          <p:nvPr/>
        </p:nvPicPr>
        <p:blipFill>
          <a:blip r:embed="rId1"/>
          <a:stretch/>
        </p:blipFill>
        <p:spPr>
          <a:xfrm>
            <a:off x="1905120" y="1763640"/>
            <a:ext cx="4647960" cy="3971880"/>
          </a:xfrm>
          <a:prstGeom prst="rect">
            <a:avLst/>
          </a:prstGeom>
          <a:ln w="0">
            <a:noFill/>
          </a:ln>
        </p:spPr>
      </p:pic>
      <p:pic>
        <p:nvPicPr>
          <p:cNvPr id="290" name="BinXML-bleu%20petit" descr=""/>
          <p:cNvPicPr/>
          <p:nvPr/>
        </p:nvPicPr>
        <p:blipFill>
          <a:blip r:embed="rId2"/>
          <a:stretch/>
        </p:blipFill>
        <p:spPr>
          <a:xfrm>
            <a:off x="304920" y="517680"/>
            <a:ext cx="2125440" cy="54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0E3F-1648-48CA-8336-8D8F1CEB216E}" type="slidenum">
              <a:t>15</a:t>
            </a:fld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x.: </a:t>
            </a:r>
            <a:r>
              <a:rPr b="0" lang="en-US" sz="4000" spc="-1" strike="noStrike">
                <a:solidFill>
                  <a:srgbClr val="cc3300"/>
                </a:solidFill>
                <a:latin typeface="Tahoma"/>
              </a:rPr>
              <a:t>SVG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Compression Test se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3300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762120" y="2362320"/>
          <a:ext cx="7619760" cy="2968560"/>
        </p:xfrm>
        <a:graphic>
          <a:graphicData uri="http://schemas.openxmlformats.org/drawingml/2006/table">
            <a:tbl>
              <a:tblPr/>
              <a:tblGrid>
                <a:gridCol w="2020680"/>
                <a:gridCol w="1398600"/>
                <a:gridCol w="1557360"/>
                <a:gridCol w="1271520"/>
                <a:gridCol w="1371600"/>
              </a:tblGrid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 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G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p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M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o/Z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oundTheS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f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7 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9 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540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8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9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mo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3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1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8D14-8C29-4F25-9CA7-F6AF78A1D2E6}" type="slidenum">
              <a:t>16</a:t>
            </a:fld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066680" y="2286000"/>
            <a:ext cx="6858000" cy="1628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ahoma"/>
              </a:rPr>
              <a:t>BiM        Decoder </a:t>
            </a:r>
            <a:r>
              <a:rPr b="0" lang="fr-FR" sz="4000" spc="-1" strike="noStrike">
                <a:solidFill>
                  <a:srgbClr val="cc3300"/>
                </a:solidFill>
                <a:latin typeface="Tahoma"/>
              </a:rPr>
              <a:t>Memory Usag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3300"/>
                </a:solidFill>
                <a:latin typeface="Arial"/>
              </a:rPr>
              <a:t>Static (Flash) memory usag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is linearly dependent on the size of the schema.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SzPct val="50000"/>
              <a:buFont typeface="Marlett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3300"/>
                </a:solidFill>
                <a:latin typeface="Arial"/>
              </a:rPr>
              <a:t>Decoder siz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3300"/>
                </a:solidFill>
                <a:latin typeface="Arial"/>
              </a:rPr>
              <a:t>Dynamic (RAM) memory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usage is very sm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SzPct val="50000"/>
              <a:buFont typeface="Marlett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nearly dependent of the depth of the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SzPct val="50000"/>
              <a:buFont typeface="Marlett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ery few bytes per 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3300"/>
                </a:solidFill>
                <a:latin typeface="Arial"/>
              </a:rPr>
              <a:t>Memory consumption</a:t>
            </a:r>
            <a:r>
              <a:rPr b="0" lang="fr-FR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pendent on codec used for specific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SzPct val="50000"/>
              <a:buFont typeface="Marlett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.g., ZLib requires 22Kb (flash) + 44Kb (R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BinXML-bleu%20petit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12544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8" name=""/>
          <p:cNvGraphicFramePr/>
          <p:nvPr/>
        </p:nvGraphicFramePr>
        <p:xfrm>
          <a:off x="1752480" y="2425680"/>
          <a:ext cx="5943240" cy="146052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  <a:gridCol w="1981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e+ code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SVGT (AR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6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MPEG-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8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TV-Any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5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5DB3-CBB0-40F7-A10C-F9D3F88DA0B4}" type="slidenum">
              <a:t>17</a:t>
            </a:fld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BiM        </a:t>
            </a:r>
            <a:r>
              <a:rPr b="0" lang="en-GB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Decoder </a:t>
            </a:r>
            <a:r>
              <a:rPr b="0" lang="fr-FR" sz="4000" spc="-1" strike="noStrike">
                <a:solidFill>
                  <a:srgbClr val="cc3300"/>
                </a:solidFill>
                <a:latin typeface="Tahoma"/>
              </a:rPr>
              <a:t>Parsing Tim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8915400" y="432432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915400" y="4324320"/>
            <a:ext cx="14400" cy="14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915400" y="4576680"/>
            <a:ext cx="14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915400" y="4576680"/>
            <a:ext cx="14400" cy="14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915400" y="4829040"/>
            <a:ext cx="14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915400" y="4829040"/>
            <a:ext cx="14400" cy="14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915400" y="508176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915400" y="5081760"/>
            <a:ext cx="14400" cy="14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915400" y="533412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915400" y="5334120"/>
            <a:ext cx="14400" cy="14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tabeau_Ms%20(2)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4648320" cy="4106880"/>
          </a:xfrm>
          <a:prstGeom prst="rect">
            <a:avLst/>
          </a:prstGeom>
          <a:ln w="0">
            <a:noFill/>
          </a:ln>
        </p:spPr>
      </p:pic>
      <p:pic>
        <p:nvPicPr>
          <p:cNvPr id="311" name="BinXML-bleu%20petit" descr=""/>
          <p:cNvPicPr/>
          <p:nvPr/>
        </p:nvPicPr>
        <p:blipFill>
          <a:blip r:embed="rId2"/>
          <a:stretch/>
        </p:blipFill>
        <p:spPr>
          <a:xfrm>
            <a:off x="304920" y="441360"/>
            <a:ext cx="2125440" cy="54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200A-76F3-457F-9F10-D30AC33E41FA}" type="slidenum">
              <a:t>18</a:t>
            </a:fld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ahoma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98B2-C6F0-44DF-8BAA-73013993E9FA}" type="slidenum">
              <a:t>19</a:t>
            </a:fld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3300"/>
                </a:solidFill>
                <a:latin typeface="Arial"/>
              </a:rPr>
              <a:t>TV-Anytime 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50000"/>
              <a:buFont typeface="Marlett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cenario &amp;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50000"/>
              <a:buFont typeface="Marlett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mo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50000"/>
              <a:buFont typeface="Marlett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coding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50000"/>
              <a:buFont typeface="Marlett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mo data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3300"/>
                </a:solidFill>
                <a:latin typeface="Arial"/>
              </a:rPr>
              <a:t>EXPWAY Broadcast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50000"/>
              <a:buFont typeface="Marlett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oftware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3300"/>
                </a:solidFill>
                <a:latin typeface="Arial"/>
              </a:rPr>
              <a:t>BiM </a:t>
            </a:r>
            <a:r>
              <a:rPr b="0" lang="fr-FR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cc3300"/>
                </a:solidFill>
                <a:latin typeface="Arial"/>
              </a:rPr>
              <a:t> Perform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33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066680" y="5184720"/>
          <a:ext cx="14479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5184720"/>
                    <a:ext cx="144792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5070-E887-43EF-929C-3816782766EA}" type="slidenum">
              <a:t>2</a:t>
            </a:fld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Tahoma"/>
                <a:ea typeface="Times New Roman"/>
              </a:rPr>
              <a:t>	</a:t>
            </a:r>
            <a:r>
              <a:rPr b="0" lang="en-GB" sz="4000" spc="-1" strike="noStrike">
                <a:solidFill>
                  <a:srgbClr val="cc3300"/>
                </a:solidFill>
                <a:latin typeface="Tahoma"/>
                <a:ea typeface="Times New Roman"/>
              </a:rPr>
              <a:t>	</a:t>
            </a:r>
            <a:r>
              <a:rPr b="0" lang="en-GB" sz="4000" spc="-1" strike="noStrike">
                <a:solidFill>
                  <a:srgbClr val="cc3300"/>
                </a:solidFill>
                <a:latin typeface="Tahoma"/>
                <a:ea typeface="Times New Roman"/>
              </a:rPr>
              <a:t>  </a:t>
            </a:r>
            <a:r>
              <a:rPr b="0" lang="en-GB" sz="4000" spc="-1" strike="noStrike">
                <a:solidFill>
                  <a:srgbClr val="cc3300"/>
                </a:solidFill>
                <a:latin typeface="Tahoma"/>
                <a:ea typeface="Times New Roman"/>
              </a:rPr>
              <a:t>Key Features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als with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any XM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matched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compression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matched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 parsing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spects XML Legacy Syst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llows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stream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&amp;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partial updat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of XM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ffers </a:t>
            </a:r>
            <a:r>
              <a:rPr b="0" lang="fr-FR" sz="2800" spc="-1" strike="noStrike">
                <a:solidFill>
                  <a:srgbClr val="cc3300"/>
                </a:solidFill>
                <a:latin typeface="Arial"/>
              </a:rPr>
              <a:t>extensibility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+ B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&amp; FW 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iM is </a:t>
            </a:r>
            <a:r>
              <a:rPr b="0" lang="fr-FR" sz="2800" spc="-1" strike="noStrike">
                <a:solidFill>
                  <a:srgbClr val="cc3300"/>
                </a:solidFill>
                <a:latin typeface="Arial"/>
              </a:rPr>
              <a:t>ideally suited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to set-top-boxes, PDAs, mobile de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0" y="609480"/>
            <a:ext cx="1828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5880" y="22860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228600" y="461880"/>
          <a:ext cx="2057400" cy="5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61880"/>
                    <a:ext cx="205740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49B9-DA3F-40EF-AA70-A861FD70DA5C}" type="slidenum">
              <a:t>20</a:t>
            </a:fld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3300"/>
                </a:solidFill>
                <a:latin typeface="Tahoma"/>
              </a:rPr>
              <a:t>Thank you for your attention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olivier.dhotel@expway.tv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5147-0278-46AD-9E0C-900E0188E4C5}" type="slidenum">
              <a:t>21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ahoma"/>
              </a:rPr>
              <a:t>TV-Anytime demo</a:t>
            </a:r>
            <a:r>
              <a:rPr b="0" lang="fr-FR" sz="4000" spc="-1" strike="noStrike">
                <a:solidFill>
                  <a:srgbClr val="cc3300"/>
                </a:solidFill>
                <a:latin typeface="Tahoma"/>
              </a:rPr>
              <a:t> scenario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3300"/>
                </a:solidFill>
                <a:latin typeface="Arial"/>
              </a:rPr>
              <a:t>Objective</a:t>
            </a: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SzPct val="50000"/>
              <a:buFont typeface="Marlett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roadcast large amounts of XML data to a set-top-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SzPct val="50000"/>
              <a:buFont typeface="Marlett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mpare </a:t>
            </a:r>
            <a:r>
              <a:rPr b="0" lang="en-GB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Bandwidth consumptio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GB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Parsing speed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betwee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3300"/>
              </a:buClr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3300"/>
                </a:solidFill>
                <a:latin typeface="Arial"/>
              </a:rPr>
              <a:t>B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andard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Zipped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Principle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SzPct val="50000"/>
              <a:buFont typeface="Marlett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roadcast data to 2 different p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SzPct val="50000"/>
              <a:buFont typeface="Marlett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ynchroniz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ata to a 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SzPct val="50000"/>
              <a:buFont typeface="Marlett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code data on the fly with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in-XML™ De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erses C 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828800" y="5721480"/>
          <a:ext cx="1143000" cy="2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5721480"/>
                    <a:ext cx="114300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D964-24E4-457E-A269-00034F50806E}" type="slidenum">
              <a:t>3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ahoma"/>
              </a:rPr>
              <a:t>Demo </a:t>
            </a:r>
            <a:r>
              <a:rPr b="0" lang="fr-FR" sz="4000" spc="-1" strike="noStrike">
                <a:solidFill>
                  <a:srgbClr val="cc3300"/>
                </a:solidFill>
                <a:latin typeface="Tahoma"/>
              </a:rPr>
              <a:t>Architectur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25280" y="1523880"/>
            <a:ext cx="8637840" cy="4876920"/>
            <a:chOff x="125280" y="1523880"/>
            <a:chExt cx="8637840" cy="4876920"/>
          </a:xfrm>
        </p:grpSpPr>
        <p:sp>
          <p:nvSpPr>
            <p:cNvPr id="67" name=""/>
            <p:cNvSpPr/>
            <p:nvPr/>
          </p:nvSpPr>
          <p:spPr>
            <a:xfrm>
              <a:off x="2057400" y="2438280"/>
              <a:ext cx="3581280" cy="0"/>
            </a:xfrm>
            <a:prstGeom prst="line">
              <a:avLst/>
            </a:prstGeom>
            <a:ln w="19080">
              <a:solidFill>
                <a:srgbClr val="83728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76520" y="3809880"/>
              <a:ext cx="1752480" cy="2514600"/>
            </a:xfrm>
            <a:custGeom>
              <a:avLst/>
              <a:gdLst>
                <a:gd name="textAreaLeft" fmla="*/ 25920 w 1752480"/>
                <a:gd name="textAreaRight" fmla="*/ 1726560 w 1752480"/>
                <a:gd name="textAreaTop" fmla="*/ 25920 h 2514600"/>
                <a:gd name="textAreaBottom" fmla="*/ 2488680 h 2514600"/>
              </a:gdLst>
              <a:ahLst/>
              <a:rect l="textAreaLeft" t="textAreaTop" r="textAreaRight" b="textAreaBottom"/>
              <a:pathLst>
                <a:path w="21600" h="30991">
                  <a:moveTo>
                    <a:pt x="1096" y="0"/>
                  </a:moveTo>
                  <a:arcTo wR="1096" hR="1096" stAng="16200000" swAng="-5400000"/>
                  <a:lnTo>
                    <a:pt x="0" y="29895"/>
                  </a:lnTo>
                  <a:arcTo wR="1096" hR="1096" stAng="10800000" swAng="-5400000"/>
                  <a:lnTo>
                    <a:pt x="20504" y="30991"/>
                  </a:lnTo>
                  <a:arcTo wR="1096" hR="1096" stAng="5400000" swAng="-5400000"/>
                  <a:lnTo>
                    <a:pt x="21600" y="1096"/>
                  </a:lnTo>
                  <a:arcTo wR="1096" hR="109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83728e"/>
              </a:solidFill>
              <a:miter/>
            </a:ln>
            <a:effectLst>
              <a:outerShdw dist="71785" dir="2700000" blurRad="0" rotWithShape="0">
                <a:srgbClr val="9c8ea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5715000" y="1523880"/>
              <a:ext cx="2286000" cy="2135160"/>
              <a:chOff x="5715000" y="1523880"/>
              <a:chExt cx="2286000" cy="2135160"/>
            </a:xfrm>
          </p:grpSpPr>
          <p:pic>
            <p:nvPicPr>
              <p:cNvPr id="70" name="TeleDemo" descr=""/>
              <p:cNvPicPr/>
              <p:nvPr/>
            </p:nvPicPr>
            <p:blipFill>
              <a:blip r:embed="rId1"/>
              <a:stretch/>
            </p:blipFill>
            <p:spPr>
              <a:xfrm>
                <a:off x="5715000" y="1523880"/>
                <a:ext cx="2286000" cy="21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"/>
              <p:cNvSpPr/>
              <p:nvPr/>
            </p:nvSpPr>
            <p:spPr>
              <a:xfrm>
                <a:off x="5943600" y="3048120"/>
                <a:ext cx="533160" cy="21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ffffff"/>
                    </a:solidFill>
                    <a:latin typeface="Tahoma"/>
                  </a:rPr>
                  <a:t>10 CN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ffffff"/>
                    </a:solidFill>
                    <a:latin typeface="Tahoma"/>
                  </a:rPr>
                  <a:t>New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162560" y="3048120"/>
                <a:ext cx="762120" cy="21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ffffff"/>
                    </a:solidFill>
                    <a:latin typeface="Tahoma"/>
                  </a:rPr>
                  <a:t>Serv. Agass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ffffff"/>
                    </a:solidFill>
                    <a:latin typeface="Tahoma"/>
                  </a:rPr>
                  <a:t>1/5 – 40-1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553080" y="3048120"/>
                <a:ext cx="609480" cy="21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ffffff"/>
                    </a:solidFill>
                    <a:latin typeface="Tahoma"/>
                  </a:rPr>
                  <a:t>Drop sho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ffffff"/>
                    </a:solidFill>
                    <a:latin typeface="Tahoma"/>
                  </a:rPr>
                  <a:t>Agass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4" name="RemoteDemo" descr=""/>
            <p:cNvPicPr/>
            <p:nvPr/>
          </p:nvPicPr>
          <p:blipFill>
            <a:blip r:embed="rId2"/>
            <a:stretch/>
          </p:blipFill>
          <p:spPr>
            <a:xfrm>
              <a:off x="8229600" y="2209680"/>
              <a:ext cx="523800" cy="136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5791320" y="4038480"/>
              <a:ext cx="2971800" cy="515880"/>
            </a:xfrm>
            <a:prstGeom prst="roundRect">
              <a:avLst>
                <a:gd name="adj" fmla="val 16667"/>
              </a:avLst>
            </a:prstGeom>
            <a:solidFill>
              <a:srgbClr val="dcd2de"/>
            </a:solidFill>
            <a:ln w="9360">
              <a:solidFill>
                <a:srgbClr val="9c8ea5"/>
              </a:solidFill>
              <a:miter/>
            </a:ln>
            <a:effectLst>
              <a:outerShdw dist="71785" dir="2700000" blurRad="0" rotWithShape="0">
                <a:srgbClr val="9c8ea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6a5b73"/>
                  </a:solidFill>
                  <a:latin typeface="Tahoma"/>
                </a:rPr>
                <a:t>Interactive 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6858000" y="3657600"/>
              <a:ext cx="0" cy="380880"/>
            </a:xfrm>
            <a:prstGeom prst="line">
              <a:avLst/>
            </a:prstGeom>
            <a:ln w="38160">
              <a:solidFill>
                <a:srgbClr val="6a5b7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458200" y="3581280"/>
              <a:ext cx="0" cy="381240"/>
            </a:xfrm>
            <a:prstGeom prst="line">
              <a:avLst/>
            </a:prstGeom>
            <a:ln w="38160">
              <a:solidFill>
                <a:srgbClr val="6a5b7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549480" y="4781520"/>
              <a:ext cx="76968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4d7555"/>
                  </a:solidFill>
                  <a:latin typeface="Tahoma"/>
                </a:rPr>
                <a:t>SAX A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91320" y="4800600"/>
              <a:ext cx="2133360" cy="0"/>
            </a:xfrm>
            <a:prstGeom prst="line">
              <a:avLst/>
            </a:prstGeom>
            <a:ln w="12600">
              <a:solidFill>
                <a:srgbClr val="6a5b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91320" y="5029200"/>
              <a:ext cx="2133360" cy="0"/>
            </a:xfrm>
            <a:prstGeom prst="line">
              <a:avLst/>
            </a:prstGeom>
            <a:ln w="12600">
              <a:solidFill>
                <a:srgbClr val="6a5b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6858000" y="4571640"/>
              <a:ext cx="0" cy="228600"/>
            </a:xfrm>
            <a:prstGeom prst="line">
              <a:avLst/>
            </a:prstGeom>
            <a:ln w="12600">
              <a:solidFill>
                <a:srgbClr val="6a5b7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" name="videotape" descr=""/>
            <p:cNvPicPr/>
            <p:nvPr/>
          </p:nvPicPr>
          <p:blipFill>
            <a:blip r:embed="rId3"/>
            <a:stretch/>
          </p:blipFill>
          <p:spPr>
            <a:xfrm>
              <a:off x="1066680" y="2087640"/>
              <a:ext cx="73188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04920" y="2209680"/>
              <a:ext cx="9144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4d7555"/>
                  </a:solidFill>
                  <a:latin typeface="Tahoma"/>
                </a:rPr>
                <a:t>Mpeg1 Vide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publisher" descr=""/>
            <p:cNvPicPr/>
            <p:nvPr/>
          </p:nvPicPr>
          <p:blipFill>
            <a:blip r:embed="rId4"/>
            <a:stretch/>
          </p:blipFill>
          <p:spPr>
            <a:xfrm>
              <a:off x="2209680" y="3886200"/>
              <a:ext cx="91440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xml" descr=""/>
            <p:cNvPicPr/>
            <p:nvPr/>
          </p:nvPicPr>
          <p:blipFill>
            <a:blip r:embed="rId5"/>
            <a:stretch/>
          </p:blipFill>
          <p:spPr>
            <a:xfrm>
              <a:off x="2743200" y="4724280"/>
              <a:ext cx="1983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xml" descr=""/>
            <p:cNvPicPr/>
            <p:nvPr/>
          </p:nvPicPr>
          <p:blipFill>
            <a:blip r:embed="rId6"/>
            <a:stretch/>
          </p:blipFill>
          <p:spPr>
            <a:xfrm>
              <a:off x="2752560" y="4965840"/>
              <a:ext cx="1987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xml" descr=""/>
            <p:cNvPicPr/>
            <p:nvPr/>
          </p:nvPicPr>
          <p:blipFill>
            <a:blip r:embed="rId7"/>
            <a:stretch/>
          </p:blipFill>
          <p:spPr>
            <a:xfrm>
              <a:off x="2752560" y="5213520"/>
              <a:ext cx="1987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binXML" descr=""/>
            <p:cNvPicPr/>
            <p:nvPr/>
          </p:nvPicPr>
          <p:blipFill>
            <a:blip r:embed="rId8"/>
            <a:stretch/>
          </p:blipFill>
          <p:spPr>
            <a:xfrm>
              <a:off x="4143240" y="5832360"/>
              <a:ext cx="128880" cy="1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decoder" descr=""/>
            <p:cNvPicPr/>
            <p:nvPr/>
          </p:nvPicPr>
          <p:blipFill>
            <a:blip r:embed="rId9"/>
            <a:stretch/>
          </p:blipFill>
          <p:spPr>
            <a:xfrm>
              <a:off x="5753160" y="5562720"/>
              <a:ext cx="990720" cy="67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encoder" descr=""/>
            <p:cNvPicPr/>
            <p:nvPr/>
          </p:nvPicPr>
          <p:blipFill>
            <a:blip r:embed="rId10"/>
            <a:stretch/>
          </p:blipFill>
          <p:spPr>
            <a:xfrm>
              <a:off x="2286000" y="5562720"/>
              <a:ext cx="99072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binXML" descr=""/>
            <p:cNvPicPr/>
            <p:nvPr/>
          </p:nvPicPr>
          <p:blipFill>
            <a:blip r:embed="rId11"/>
            <a:stretch/>
          </p:blipFill>
          <p:spPr>
            <a:xfrm>
              <a:off x="4343400" y="5832360"/>
              <a:ext cx="128520" cy="1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binXML" descr=""/>
            <p:cNvPicPr/>
            <p:nvPr/>
          </p:nvPicPr>
          <p:blipFill>
            <a:blip r:embed="rId12"/>
            <a:stretch/>
          </p:blipFill>
          <p:spPr>
            <a:xfrm>
              <a:off x="4781520" y="5832360"/>
              <a:ext cx="128520" cy="1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binXML" descr=""/>
            <p:cNvPicPr/>
            <p:nvPr/>
          </p:nvPicPr>
          <p:blipFill>
            <a:blip r:embed="rId13"/>
            <a:stretch/>
          </p:blipFill>
          <p:spPr>
            <a:xfrm>
              <a:off x="4976640" y="5832360"/>
              <a:ext cx="128880" cy="1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binXML" descr=""/>
            <p:cNvPicPr/>
            <p:nvPr/>
          </p:nvPicPr>
          <p:blipFill>
            <a:blip r:embed="rId14"/>
            <a:stretch/>
          </p:blipFill>
          <p:spPr>
            <a:xfrm>
              <a:off x="3371760" y="5832360"/>
              <a:ext cx="128520" cy="1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binXML" descr=""/>
            <p:cNvPicPr/>
            <p:nvPr/>
          </p:nvPicPr>
          <p:blipFill>
            <a:blip r:embed="rId15"/>
            <a:stretch/>
          </p:blipFill>
          <p:spPr>
            <a:xfrm>
              <a:off x="3886200" y="5832360"/>
              <a:ext cx="128520" cy="1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2666880" y="4800600"/>
              <a:ext cx="0" cy="762120"/>
            </a:xfrm>
            <a:prstGeom prst="line">
              <a:avLst/>
            </a:prstGeom>
            <a:ln w="19080">
              <a:solidFill>
                <a:srgbClr val="83728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25280" y="3968640"/>
              <a:ext cx="1185840" cy="752040"/>
              <a:chOff x="125280" y="3968640"/>
              <a:chExt cx="1185840" cy="752040"/>
            </a:xfrm>
          </p:grpSpPr>
          <p:sp>
            <p:nvSpPr>
              <p:cNvPr id="98" name=""/>
              <p:cNvSpPr/>
              <p:nvPr/>
            </p:nvSpPr>
            <p:spPr>
              <a:xfrm>
                <a:off x="125280" y="3968640"/>
                <a:ext cx="94968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0800" bIns="10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4d7555"/>
                    </a:solidFill>
                    <a:latin typeface="Tahoma"/>
                  </a:rPr>
                  <a:t>XM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4d7555"/>
                    </a:solidFill>
                    <a:latin typeface="Tahoma"/>
                  </a:rPr>
                  <a:t>Stock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4d7555"/>
                    </a:solidFill>
                    <a:latin typeface="Tahoma"/>
                  </a:rPr>
                  <a:t>Metadat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9" name="xml" descr=""/>
              <p:cNvPicPr/>
              <p:nvPr/>
            </p:nvPicPr>
            <p:blipFill>
              <a:blip r:embed="rId16"/>
              <a:stretch/>
            </p:blipFill>
            <p:spPr>
              <a:xfrm>
                <a:off x="914400" y="4044960"/>
                <a:ext cx="39672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0" name=""/>
            <p:cNvGrpSpPr/>
            <p:nvPr/>
          </p:nvGrpSpPr>
          <p:grpSpPr>
            <a:xfrm>
              <a:off x="263520" y="5410080"/>
              <a:ext cx="949680" cy="752040"/>
              <a:chOff x="263520" y="5410080"/>
              <a:chExt cx="949680" cy="752040"/>
            </a:xfrm>
          </p:grpSpPr>
          <p:sp>
            <p:nvSpPr>
              <p:cNvPr id="101" name=""/>
              <p:cNvSpPr/>
              <p:nvPr/>
            </p:nvSpPr>
            <p:spPr>
              <a:xfrm>
                <a:off x="263520" y="5410080"/>
                <a:ext cx="94968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0800" bIns="10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4d7555"/>
                    </a:solidFill>
                    <a:latin typeface="Tahoma"/>
                  </a:rPr>
                  <a:t>L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4d7555"/>
                    </a:solidFill>
                    <a:latin typeface="Tahoma"/>
                  </a:rPr>
                  <a:t>XM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4d7555"/>
                    </a:solidFill>
                    <a:latin typeface="Tahoma"/>
                  </a:rPr>
                  <a:t>Metadat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2" name="xml" descr=""/>
              <p:cNvPicPr/>
              <p:nvPr/>
            </p:nvPicPr>
            <p:blipFill>
              <a:blip r:embed="rId17"/>
              <a:stretch/>
            </p:blipFill>
            <p:spPr>
              <a:xfrm>
                <a:off x="990720" y="5702400"/>
                <a:ext cx="19836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3" name=""/>
            <p:cNvSpPr/>
            <p:nvPr/>
          </p:nvSpPr>
          <p:spPr>
            <a:xfrm>
              <a:off x="1371600" y="4343400"/>
              <a:ext cx="762120" cy="0"/>
            </a:xfrm>
            <a:prstGeom prst="line">
              <a:avLst/>
            </a:prstGeom>
            <a:ln w="19080">
              <a:solidFill>
                <a:srgbClr val="83728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5867280"/>
              <a:ext cx="762120" cy="0"/>
            </a:xfrm>
            <a:prstGeom prst="line">
              <a:avLst/>
            </a:prstGeom>
            <a:ln w="19080">
              <a:solidFill>
                <a:srgbClr val="83728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" name="binXML" descr=""/>
            <p:cNvPicPr/>
            <p:nvPr/>
          </p:nvPicPr>
          <p:blipFill>
            <a:blip r:embed="rId18"/>
            <a:stretch/>
          </p:blipFill>
          <p:spPr>
            <a:xfrm>
              <a:off x="4572000" y="5834160"/>
              <a:ext cx="128520" cy="1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binXML" descr=""/>
            <p:cNvPicPr/>
            <p:nvPr/>
          </p:nvPicPr>
          <p:blipFill>
            <a:blip r:embed="rId19"/>
            <a:stretch/>
          </p:blipFill>
          <p:spPr>
            <a:xfrm>
              <a:off x="3605040" y="5832360"/>
              <a:ext cx="128880" cy="1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binXML" descr=""/>
            <p:cNvPicPr/>
            <p:nvPr/>
          </p:nvPicPr>
          <p:blipFill>
            <a:blip r:embed="rId20"/>
            <a:stretch/>
          </p:blipFill>
          <p:spPr>
            <a:xfrm>
              <a:off x="5372280" y="5824440"/>
              <a:ext cx="128520" cy="1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binXML" descr=""/>
            <p:cNvPicPr/>
            <p:nvPr/>
          </p:nvPicPr>
          <p:blipFill>
            <a:blip r:embed="rId21"/>
            <a:stretch/>
          </p:blipFill>
          <p:spPr>
            <a:xfrm>
              <a:off x="5162400" y="5826240"/>
              <a:ext cx="128880" cy="14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3352680" y="6019920"/>
              <a:ext cx="2362320" cy="0"/>
            </a:xfrm>
            <a:prstGeom prst="line">
              <a:avLst/>
            </a:prstGeom>
            <a:ln w="9360">
              <a:solidFill>
                <a:srgbClr val="83728e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" name="xml" descr=""/>
            <p:cNvPicPr/>
            <p:nvPr/>
          </p:nvPicPr>
          <p:blipFill>
            <a:blip r:embed="rId22"/>
            <a:stretch/>
          </p:blipFill>
          <p:spPr>
            <a:xfrm>
              <a:off x="7000920" y="5073480"/>
              <a:ext cx="1983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xml" descr=""/>
            <p:cNvPicPr/>
            <p:nvPr/>
          </p:nvPicPr>
          <p:blipFill>
            <a:blip r:embed="rId23"/>
            <a:stretch/>
          </p:blipFill>
          <p:spPr>
            <a:xfrm>
              <a:off x="7010280" y="5315040"/>
              <a:ext cx="1987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xml" descr=""/>
            <p:cNvPicPr/>
            <p:nvPr/>
          </p:nvPicPr>
          <p:blipFill>
            <a:blip r:embed="rId24"/>
            <a:stretch/>
          </p:blipFill>
          <p:spPr>
            <a:xfrm>
              <a:off x="7010280" y="5562720"/>
              <a:ext cx="19872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858000" y="5029200"/>
              <a:ext cx="0" cy="762120"/>
            </a:xfrm>
            <a:prstGeom prst="line">
              <a:avLst/>
            </a:prstGeom>
            <a:ln w="19080">
              <a:solidFill>
                <a:srgbClr val="83728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91120" y="1676520"/>
              <a:ext cx="457200" cy="4724280"/>
            </a:xfrm>
            <a:prstGeom prst="rect">
              <a:avLst/>
            </a:prstGeom>
            <a:solidFill>
              <a:srgbClr val="ffff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22080" y="3886200"/>
              <a:ext cx="4269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4d7555"/>
                  </a:solidFill>
                  <a:latin typeface="Tahoma"/>
                </a:rPr>
                <a:t>L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4d7555"/>
                  </a:solidFill>
                  <a:latin typeface="Tahoma"/>
                </a:rPr>
                <a:t>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91120" y="1676520"/>
              <a:ext cx="0" cy="472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48320" y="1676520"/>
              <a:ext cx="0" cy="472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05520" y="2438280"/>
              <a:ext cx="609480" cy="1828800"/>
            </a:xfrm>
            <a:custGeom>
              <a:avLst/>
              <a:gdLst/>
              <a:ahLst/>
              <a:rect l="l" t="t" r="r" b="b"/>
              <a:pathLst>
                <a:path w="384" h="1152">
                  <a:moveTo>
                    <a:pt x="384" y="1152"/>
                  </a:moveTo>
                  <a:lnTo>
                    <a:pt x="288" y="1152"/>
                  </a:ln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786882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31280" y="3733920"/>
              <a:ext cx="75924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4d7555"/>
                  </a:solidFill>
                  <a:latin typeface="Tahoma"/>
                </a:rPr>
                <a:t>Synchr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1AC9-3FDE-42F9-A26C-28243817EE81}" type="slidenum">
              <a:t>4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5130720" y="2013120"/>
            <a:ext cx="906480" cy="1292040"/>
            <a:chOff x="5130720" y="2013120"/>
            <a:chExt cx="906480" cy="1292040"/>
          </a:xfrm>
        </p:grpSpPr>
        <p:sp>
          <p:nvSpPr>
            <p:cNvPr id="121" name=""/>
            <p:cNvSpPr/>
            <p:nvPr/>
          </p:nvSpPr>
          <p:spPr>
            <a:xfrm>
              <a:off x="5365440" y="2013120"/>
              <a:ext cx="101880" cy="106200"/>
            </a:xfrm>
            <a:prstGeom prst="ellipse">
              <a:avLst/>
            </a:prstGeom>
            <a:solidFill>
              <a:srgbClr val="008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5249880" y="2116080"/>
              <a:ext cx="164880" cy="308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18000" y="2124000"/>
              <a:ext cx="157320" cy="300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33920" y="2417760"/>
              <a:ext cx="98280" cy="106200"/>
            </a:xfrm>
            <a:prstGeom prst="ellipse">
              <a:avLst/>
            </a:prstGeom>
            <a:solidFill>
              <a:srgbClr val="008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5418000" y="2519280"/>
              <a:ext cx="162000" cy="309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83240" y="2527200"/>
              <a:ext cx="164880" cy="309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76800" y="2424240"/>
              <a:ext cx="98280" cy="108000"/>
            </a:xfrm>
            <a:prstGeom prst="ellipse">
              <a:avLst/>
            </a:prstGeom>
            <a:solidFill>
              <a:srgbClr val="008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38560" y="2424240"/>
              <a:ext cx="98640" cy="108000"/>
            </a:xfrm>
            <a:prstGeom prst="ellipse">
              <a:avLst/>
            </a:prstGeom>
            <a:solidFill>
              <a:srgbClr val="008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75040" y="2786040"/>
              <a:ext cx="98640" cy="108000"/>
            </a:xfrm>
            <a:prstGeom prst="ellipse">
              <a:avLst/>
            </a:prstGeom>
            <a:solidFill>
              <a:srgbClr val="008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5559120" y="2889360"/>
              <a:ext cx="162000" cy="309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24360" y="2897280"/>
              <a:ext cx="165240" cy="309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14760" y="2116080"/>
              <a:ext cx="523800" cy="308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43520" y="3198960"/>
              <a:ext cx="98280" cy="106200"/>
            </a:xfrm>
            <a:prstGeom prst="ellipse">
              <a:avLst/>
            </a:prstGeom>
            <a:solidFill>
              <a:srgbClr val="008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84600" y="3198960"/>
              <a:ext cx="103320" cy="106200"/>
            </a:xfrm>
            <a:prstGeom prst="ellipse">
              <a:avLst/>
            </a:prstGeom>
            <a:solidFill>
              <a:srgbClr val="008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65440" y="2786040"/>
              <a:ext cx="101880" cy="108000"/>
            </a:xfrm>
            <a:prstGeom prst="ellipse">
              <a:avLst/>
            </a:prstGeom>
            <a:solidFill>
              <a:srgbClr val="008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30720" y="3198960"/>
              <a:ext cx="98280" cy="106200"/>
            </a:xfrm>
            <a:prstGeom prst="ellipse">
              <a:avLst/>
            </a:prstGeom>
            <a:solidFill>
              <a:srgbClr val="008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176440" y="2889360"/>
              <a:ext cx="237960" cy="309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87720" y="4191120"/>
            <a:ext cx="186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2- En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7160" y="5257800"/>
            <a:ext cx="24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3-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47800" y="5400720"/>
            <a:ext cx="61484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03480" y="2438280"/>
            <a:ext cx="4609800" cy="459720"/>
            <a:chOff x="303480" y="2438280"/>
            <a:chExt cx="4609800" cy="459720"/>
          </a:xfrm>
        </p:grpSpPr>
        <p:sp>
          <p:nvSpPr>
            <p:cNvPr id="142" name=""/>
            <p:cNvSpPr/>
            <p:nvPr/>
          </p:nvSpPr>
          <p:spPr>
            <a:xfrm>
              <a:off x="303480" y="2438280"/>
              <a:ext cx="26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ahoma"/>
                </a:rPr>
                <a:t>1- Fragm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71800" y="2666880"/>
              <a:ext cx="1941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554720" y="1523880"/>
            <a:ext cx="172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6600"/>
                </a:solidFill>
                <a:latin typeface="Tahoma"/>
              </a:rPr>
              <a:t>XML Doc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3300"/>
                </a:solidFill>
                <a:latin typeface="Tahoma"/>
              </a:rPr>
              <a:t>Encoding</a:t>
            </a:r>
            <a:r>
              <a:rPr b="0" lang="fr-FR" sz="4000" spc="-1" strike="noStrike">
                <a:solidFill>
                  <a:srgbClr val="000000"/>
                </a:solidFill>
                <a:latin typeface="Tahoma"/>
              </a:rPr>
              <a:t> step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>
            <a:hlinkClick r:id="rId1"/>
          </p:cNvPr>
          <p:cNvSpPr/>
          <p:nvPr/>
        </p:nvSpPr>
        <p:spPr>
          <a:xfrm>
            <a:off x="6172200" y="2743200"/>
            <a:ext cx="457200" cy="152280"/>
          </a:xfrm>
          <a:custGeom>
            <a:avLst/>
            <a:gdLst>
              <a:gd name="textAreaLeft" fmla="*/ 9720 w 457200"/>
              <a:gd name="textAreaRight" fmla="*/ 447480 w 4572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64749" h="21600">
                <a:moveTo>
                  <a:pt x="0" y="0"/>
                </a:moveTo>
                <a:lnTo>
                  <a:pt x="64749" y="0"/>
                </a:lnTo>
                <a:lnTo>
                  <a:pt x="64749" y="21600"/>
                </a:lnTo>
                <a:lnTo>
                  <a:pt x="0" y="21600"/>
                </a:lnTo>
                <a:close/>
              </a:path>
              <a:path fill="lightenLess" w="64749" h="21600">
                <a:moveTo>
                  <a:pt x="0" y="0"/>
                </a:moveTo>
                <a:lnTo>
                  <a:pt x="64749" y="0"/>
                </a:lnTo>
                <a:lnTo>
                  <a:pt x="63349" y="1400"/>
                </a:lnTo>
                <a:lnTo>
                  <a:pt x="1400" y="1400"/>
                </a:lnTo>
                <a:close/>
              </a:path>
              <a:path fill="darken" w="64749" h="21600">
                <a:moveTo>
                  <a:pt x="64749" y="0"/>
                </a:moveTo>
                <a:lnTo>
                  <a:pt x="64749" y="21600"/>
                </a:lnTo>
                <a:lnTo>
                  <a:pt x="63349" y="20200"/>
                </a:lnTo>
                <a:lnTo>
                  <a:pt x="63349" y="1400"/>
                </a:lnTo>
                <a:close/>
              </a:path>
              <a:path fill="darkenLess" w="64749" h="21600">
                <a:moveTo>
                  <a:pt x="64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9" y="20200"/>
                </a:lnTo>
                <a:close/>
              </a:path>
              <a:path fill="lighten" w="64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View</a:t>
            </a:r>
            <a:r>
              <a:rPr b="0" i="1" lang="fr-FR" sz="1200" spc="-1" strike="noStrike">
                <a:solidFill>
                  <a:srgbClr val="000000"/>
                </a:solidFill>
                <a:latin typeface="Tahoma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971960" y="1828800"/>
            <a:ext cx="1320840" cy="1595520"/>
            <a:chOff x="4971960" y="1828800"/>
            <a:chExt cx="1320840" cy="1595520"/>
          </a:xfrm>
        </p:grpSpPr>
        <p:sp>
          <p:nvSpPr>
            <p:cNvPr id="148" name=""/>
            <p:cNvSpPr/>
            <p:nvPr/>
          </p:nvSpPr>
          <p:spPr>
            <a:xfrm>
              <a:off x="4997520" y="2692440"/>
              <a:ext cx="576000" cy="723960"/>
            </a:xfrm>
            <a:custGeom>
              <a:avLst/>
              <a:gdLst/>
              <a:ahLst/>
              <a:rect l="l" t="t" r="r" b="b"/>
              <a:pathLst>
                <a:path w="363" h="456">
                  <a:moveTo>
                    <a:pt x="120" y="206"/>
                  </a:moveTo>
                  <a:lnTo>
                    <a:pt x="102" y="233"/>
                  </a:lnTo>
                  <a:lnTo>
                    <a:pt x="84" y="259"/>
                  </a:lnTo>
                  <a:lnTo>
                    <a:pt x="44" y="314"/>
                  </a:lnTo>
                  <a:lnTo>
                    <a:pt x="24" y="338"/>
                  </a:lnTo>
                  <a:lnTo>
                    <a:pt x="11" y="362"/>
                  </a:lnTo>
                  <a:lnTo>
                    <a:pt x="2" y="384"/>
                  </a:lnTo>
                  <a:lnTo>
                    <a:pt x="0" y="401"/>
                  </a:lnTo>
                  <a:lnTo>
                    <a:pt x="7" y="415"/>
                  </a:lnTo>
                  <a:lnTo>
                    <a:pt x="18" y="429"/>
                  </a:lnTo>
                  <a:lnTo>
                    <a:pt x="35" y="441"/>
                  </a:lnTo>
                  <a:lnTo>
                    <a:pt x="55" y="451"/>
                  </a:lnTo>
                  <a:lnTo>
                    <a:pt x="78" y="456"/>
                  </a:lnTo>
                  <a:lnTo>
                    <a:pt x="102" y="456"/>
                  </a:lnTo>
                  <a:lnTo>
                    <a:pt x="126" y="449"/>
                  </a:lnTo>
                  <a:lnTo>
                    <a:pt x="140" y="441"/>
                  </a:lnTo>
                  <a:lnTo>
                    <a:pt x="151" y="432"/>
                  </a:lnTo>
                  <a:lnTo>
                    <a:pt x="162" y="420"/>
                  </a:lnTo>
                  <a:lnTo>
                    <a:pt x="177" y="405"/>
                  </a:lnTo>
                  <a:lnTo>
                    <a:pt x="190" y="386"/>
                  </a:lnTo>
                  <a:lnTo>
                    <a:pt x="206" y="365"/>
                  </a:lnTo>
                  <a:lnTo>
                    <a:pt x="239" y="314"/>
                  </a:lnTo>
                  <a:lnTo>
                    <a:pt x="272" y="261"/>
                  </a:lnTo>
                  <a:lnTo>
                    <a:pt x="303" y="206"/>
                  </a:lnTo>
                  <a:lnTo>
                    <a:pt x="330" y="153"/>
                  </a:lnTo>
                  <a:lnTo>
                    <a:pt x="341" y="132"/>
                  </a:lnTo>
                  <a:lnTo>
                    <a:pt x="350" y="110"/>
                  </a:lnTo>
                  <a:lnTo>
                    <a:pt x="356" y="91"/>
                  </a:lnTo>
                  <a:lnTo>
                    <a:pt x="361" y="76"/>
                  </a:lnTo>
                  <a:lnTo>
                    <a:pt x="363" y="64"/>
                  </a:lnTo>
                  <a:lnTo>
                    <a:pt x="361" y="52"/>
                  </a:lnTo>
                  <a:lnTo>
                    <a:pt x="354" y="33"/>
                  </a:lnTo>
                  <a:lnTo>
                    <a:pt x="339" y="19"/>
                  </a:lnTo>
                  <a:lnTo>
                    <a:pt x="321" y="7"/>
                  </a:lnTo>
                  <a:lnTo>
                    <a:pt x="301" y="2"/>
                  </a:lnTo>
                  <a:lnTo>
                    <a:pt x="279" y="0"/>
                  </a:lnTo>
                  <a:lnTo>
                    <a:pt x="259" y="2"/>
                  </a:lnTo>
                  <a:lnTo>
                    <a:pt x="241" y="9"/>
                  </a:lnTo>
                  <a:lnTo>
                    <a:pt x="226" y="21"/>
                  </a:lnTo>
                  <a:lnTo>
                    <a:pt x="210" y="40"/>
                  </a:lnTo>
                  <a:lnTo>
                    <a:pt x="195" y="64"/>
                  </a:lnTo>
                  <a:lnTo>
                    <a:pt x="182" y="93"/>
                  </a:lnTo>
                  <a:lnTo>
                    <a:pt x="151" y="151"/>
                  </a:lnTo>
                  <a:lnTo>
                    <a:pt x="135" y="180"/>
                  </a:lnTo>
                  <a:lnTo>
                    <a:pt x="120" y="206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98920" y="2749680"/>
              <a:ext cx="703440" cy="674640"/>
            </a:xfrm>
            <a:custGeom>
              <a:avLst/>
              <a:gdLst/>
              <a:ahLst/>
              <a:rect l="l" t="t" r="r" b="b"/>
              <a:pathLst>
                <a:path w="443" h="425">
                  <a:moveTo>
                    <a:pt x="339" y="141"/>
                  </a:moveTo>
                  <a:lnTo>
                    <a:pt x="317" y="96"/>
                  </a:lnTo>
                  <a:lnTo>
                    <a:pt x="294" y="60"/>
                  </a:lnTo>
                  <a:lnTo>
                    <a:pt x="281" y="43"/>
                  </a:lnTo>
                  <a:lnTo>
                    <a:pt x="270" y="31"/>
                  </a:lnTo>
                  <a:lnTo>
                    <a:pt x="259" y="19"/>
                  </a:lnTo>
                  <a:lnTo>
                    <a:pt x="248" y="12"/>
                  </a:lnTo>
                  <a:lnTo>
                    <a:pt x="228" y="2"/>
                  </a:lnTo>
                  <a:lnTo>
                    <a:pt x="217" y="0"/>
                  </a:lnTo>
                  <a:lnTo>
                    <a:pt x="208" y="0"/>
                  </a:lnTo>
                  <a:lnTo>
                    <a:pt x="197" y="4"/>
                  </a:lnTo>
                  <a:lnTo>
                    <a:pt x="186" y="12"/>
                  </a:lnTo>
                  <a:lnTo>
                    <a:pt x="173" y="24"/>
                  </a:lnTo>
                  <a:lnTo>
                    <a:pt x="159" y="43"/>
                  </a:lnTo>
                  <a:lnTo>
                    <a:pt x="151" y="55"/>
                  </a:lnTo>
                  <a:lnTo>
                    <a:pt x="139" y="72"/>
                  </a:lnTo>
                  <a:lnTo>
                    <a:pt x="126" y="91"/>
                  </a:lnTo>
                  <a:lnTo>
                    <a:pt x="113" y="110"/>
                  </a:lnTo>
                  <a:lnTo>
                    <a:pt x="82" y="156"/>
                  </a:lnTo>
                  <a:lnTo>
                    <a:pt x="51" y="206"/>
                  </a:lnTo>
                  <a:lnTo>
                    <a:pt x="27" y="257"/>
                  </a:lnTo>
                  <a:lnTo>
                    <a:pt x="16" y="278"/>
                  </a:lnTo>
                  <a:lnTo>
                    <a:pt x="9" y="302"/>
                  </a:lnTo>
                  <a:lnTo>
                    <a:pt x="2" y="321"/>
                  </a:lnTo>
                  <a:lnTo>
                    <a:pt x="0" y="341"/>
                  </a:lnTo>
                  <a:lnTo>
                    <a:pt x="2" y="357"/>
                  </a:lnTo>
                  <a:lnTo>
                    <a:pt x="9" y="369"/>
                  </a:lnTo>
                  <a:lnTo>
                    <a:pt x="20" y="379"/>
                  </a:lnTo>
                  <a:lnTo>
                    <a:pt x="38" y="389"/>
                  </a:lnTo>
                  <a:lnTo>
                    <a:pt x="60" y="398"/>
                  </a:lnTo>
                  <a:lnTo>
                    <a:pt x="86" y="405"/>
                  </a:lnTo>
                  <a:lnTo>
                    <a:pt x="115" y="410"/>
                  </a:lnTo>
                  <a:lnTo>
                    <a:pt x="146" y="415"/>
                  </a:lnTo>
                  <a:lnTo>
                    <a:pt x="215" y="422"/>
                  </a:lnTo>
                  <a:lnTo>
                    <a:pt x="283" y="425"/>
                  </a:lnTo>
                  <a:lnTo>
                    <a:pt x="317" y="422"/>
                  </a:lnTo>
                  <a:lnTo>
                    <a:pt x="345" y="420"/>
                  </a:lnTo>
                  <a:lnTo>
                    <a:pt x="372" y="417"/>
                  </a:lnTo>
                  <a:lnTo>
                    <a:pt x="396" y="413"/>
                  </a:lnTo>
                  <a:lnTo>
                    <a:pt x="414" y="408"/>
                  </a:lnTo>
                  <a:lnTo>
                    <a:pt x="427" y="401"/>
                  </a:lnTo>
                  <a:lnTo>
                    <a:pt x="436" y="393"/>
                  </a:lnTo>
                  <a:lnTo>
                    <a:pt x="441" y="381"/>
                  </a:lnTo>
                  <a:lnTo>
                    <a:pt x="443" y="369"/>
                  </a:lnTo>
                  <a:lnTo>
                    <a:pt x="441" y="355"/>
                  </a:lnTo>
                  <a:lnTo>
                    <a:pt x="436" y="338"/>
                  </a:lnTo>
                  <a:lnTo>
                    <a:pt x="432" y="319"/>
                  </a:lnTo>
                  <a:lnTo>
                    <a:pt x="414" y="283"/>
                  </a:lnTo>
                  <a:lnTo>
                    <a:pt x="394" y="242"/>
                  </a:lnTo>
                  <a:lnTo>
                    <a:pt x="372" y="204"/>
                  </a:lnTo>
                  <a:lnTo>
                    <a:pt x="354" y="170"/>
                  </a:lnTo>
                  <a:lnTo>
                    <a:pt x="339" y="14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67240" y="2014560"/>
              <a:ext cx="101520" cy="106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5250960" y="2117880"/>
              <a:ext cx="165240" cy="30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19800" y="2125800"/>
              <a:ext cx="156960" cy="29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35720" y="2419560"/>
              <a:ext cx="98280" cy="10620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5419440" y="2521080"/>
              <a:ext cx="161640" cy="3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84680" y="2529000"/>
              <a:ext cx="165240" cy="3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78240" y="2425680"/>
              <a:ext cx="98640" cy="10800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40360" y="2425680"/>
              <a:ext cx="98280" cy="10800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76840" y="2787840"/>
              <a:ext cx="98280" cy="10800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5560920" y="2890800"/>
              <a:ext cx="162000" cy="3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26160" y="2898720"/>
              <a:ext cx="164880" cy="3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16560" y="2117880"/>
              <a:ext cx="523800" cy="30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44960" y="3200400"/>
              <a:ext cx="98640" cy="1065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86400" y="3200400"/>
              <a:ext cx="102960" cy="1065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67240" y="2787840"/>
              <a:ext cx="101520" cy="10800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32160" y="3200400"/>
              <a:ext cx="98640" cy="1065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5178240" y="2890800"/>
              <a:ext cx="238320" cy="3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71960" y="1828800"/>
              <a:ext cx="1320840" cy="889200"/>
            </a:xfrm>
            <a:custGeom>
              <a:avLst/>
              <a:gdLst/>
              <a:ahLst/>
              <a:rect l="l" t="t" r="r" b="b"/>
              <a:pathLst>
                <a:path w="832" h="560">
                  <a:moveTo>
                    <a:pt x="224" y="16"/>
                  </a:moveTo>
                  <a:cubicBezTo>
                    <a:pt x="112" y="32"/>
                    <a:pt x="0" y="360"/>
                    <a:pt x="80" y="448"/>
                  </a:cubicBezTo>
                  <a:cubicBezTo>
                    <a:pt x="160" y="536"/>
                    <a:pt x="592" y="560"/>
                    <a:pt x="704" y="544"/>
                  </a:cubicBezTo>
                  <a:cubicBezTo>
                    <a:pt x="816" y="528"/>
                    <a:pt x="832" y="440"/>
                    <a:pt x="752" y="352"/>
                  </a:cubicBezTo>
                  <a:cubicBezTo>
                    <a:pt x="672" y="264"/>
                    <a:pt x="336" y="0"/>
                    <a:pt x="224" y="16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8" name="xml" descr=""/>
          <p:cNvPicPr/>
          <p:nvPr/>
        </p:nvPicPr>
        <p:blipFill>
          <a:blip r:embed="rId2"/>
          <a:stretch/>
        </p:blipFill>
        <p:spPr>
          <a:xfrm>
            <a:off x="3886200" y="1523880"/>
            <a:ext cx="595440" cy="68580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4373640" y="3657600"/>
            <a:ext cx="4157640" cy="457200"/>
            <a:chOff x="4373640" y="3657600"/>
            <a:chExt cx="4157640" cy="457200"/>
          </a:xfrm>
        </p:grpSpPr>
        <p:sp>
          <p:nvSpPr>
            <p:cNvPr id="170" name="">
              <a:hlinkClick r:id="rId3"/>
            </p:cNvPr>
            <p:cNvSpPr/>
            <p:nvPr/>
          </p:nvSpPr>
          <p:spPr>
            <a:xfrm>
              <a:off x="7620120" y="3962520"/>
              <a:ext cx="457200" cy="152280"/>
            </a:xfrm>
            <a:custGeom>
              <a:avLst/>
              <a:gdLst>
                <a:gd name="textAreaLeft" fmla="*/ 9720 w 457200"/>
                <a:gd name="textAreaRight" fmla="*/ 447480 w 457200"/>
                <a:gd name="textAreaTop" fmla="*/ 9720 h 152280"/>
                <a:gd name="textAreaBottom" fmla="*/ 142560 h 152280"/>
              </a:gdLst>
              <a:ahLst/>
              <a:rect l="textAreaLeft" t="textAreaTop" r="textAreaRight" b="textAreaBottom"/>
              <a:pathLst>
                <a:path w="64749" h="21600">
                  <a:moveTo>
                    <a:pt x="0" y="0"/>
                  </a:moveTo>
                  <a:lnTo>
                    <a:pt x="64749" y="0"/>
                  </a:lnTo>
                  <a:lnTo>
                    <a:pt x="64749" y="21600"/>
                  </a:lnTo>
                  <a:lnTo>
                    <a:pt x="0" y="21600"/>
                  </a:lnTo>
                  <a:close/>
                </a:path>
                <a:path fill="lightenLess" w="64749" h="21600">
                  <a:moveTo>
                    <a:pt x="0" y="0"/>
                  </a:moveTo>
                  <a:lnTo>
                    <a:pt x="64749" y="0"/>
                  </a:lnTo>
                  <a:lnTo>
                    <a:pt x="63349" y="1400"/>
                  </a:lnTo>
                  <a:lnTo>
                    <a:pt x="1400" y="1400"/>
                  </a:lnTo>
                  <a:close/>
                </a:path>
                <a:path fill="darken" w="64749" h="21600">
                  <a:moveTo>
                    <a:pt x="64749" y="0"/>
                  </a:moveTo>
                  <a:lnTo>
                    <a:pt x="64749" y="21600"/>
                  </a:lnTo>
                  <a:lnTo>
                    <a:pt x="63349" y="20200"/>
                  </a:lnTo>
                  <a:lnTo>
                    <a:pt x="63349" y="1400"/>
                  </a:lnTo>
                  <a:close/>
                </a:path>
                <a:path fill="darkenLess" w="64749" h="21600">
                  <a:moveTo>
                    <a:pt x="6474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3349" y="20200"/>
                  </a:lnTo>
                  <a:close/>
                </a:path>
                <a:path fill="lighten" w="6474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ahoma"/>
                </a:rPr>
                <a:t>View</a:t>
              </a:r>
              <a:r>
                <a:rPr b="0" i="1" lang="fr-FR" sz="1200" spc="-1" strike="noStrike">
                  <a:solidFill>
                    <a:srgbClr val="000000"/>
                  </a:solidFill>
                  <a:latin typeface="Tahoma"/>
                </a:rPr>
                <a:t>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4373640" y="3733920"/>
              <a:ext cx="2332080" cy="228600"/>
              <a:chOff x="4373640" y="3733920"/>
              <a:chExt cx="2332080" cy="228600"/>
            </a:xfrm>
          </p:grpSpPr>
          <p:pic>
            <p:nvPicPr>
              <p:cNvPr id="172" name="xml" descr=""/>
              <p:cNvPicPr/>
              <p:nvPr/>
            </p:nvPicPr>
            <p:blipFill>
              <a:blip r:embed="rId4"/>
              <a:stretch/>
            </p:blipFill>
            <p:spPr>
              <a:xfrm>
                <a:off x="4373640" y="3733920"/>
                <a:ext cx="19872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xml" descr=""/>
              <p:cNvPicPr/>
              <p:nvPr/>
            </p:nvPicPr>
            <p:blipFill>
              <a:blip r:embed="rId5"/>
              <a:stretch/>
            </p:blipFill>
            <p:spPr>
              <a:xfrm>
                <a:off x="4678560" y="3733920"/>
                <a:ext cx="1983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xml" descr=""/>
              <p:cNvPicPr/>
              <p:nvPr/>
            </p:nvPicPr>
            <p:blipFill>
              <a:blip r:embed="rId6"/>
              <a:stretch/>
            </p:blipFill>
            <p:spPr>
              <a:xfrm>
                <a:off x="4983480" y="3733920"/>
                <a:ext cx="1983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xml" descr=""/>
              <p:cNvPicPr/>
              <p:nvPr/>
            </p:nvPicPr>
            <p:blipFill>
              <a:blip r:embed="rId7"/>
              <a:stretch/>
            </p:blipFill>
            <p:spPr>
              <a:xfrm>
                <a:off x="5288040" y="3733920"/>
                <a:ext cx="19872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xml" descr=""/>
              <p:cNvPicPr/>
              <p:nvPr/>
            </p:nvPicPr>
            <p:blipFill>
              <a:blip r:embed="rId8"/>
              <a:stretch/>
            </p:blipFill>
            <p:spPr>
              <a:xfrm>
                <a:off x="5592960" y="3733920"/>
                <a:ext cx="1983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xml" descr=""/>
              <p:cNvPicPr/>
              <p:nvPr/>
            </p:nvPicPr>
            <p:blipFill>
              <a:blip r:embed="rId9"/>
              <a:stretch/>
            </p:blipFill>
            <p:spPr>
              <a:xfrm>
                <a:off x="5897880" y="3733920"/>
                <a:ext cx="1983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xml" descr=""/>
              <p:cNvPicPr/>
              <p:nvPr/>
            </p:nvPicPr>
            <p:blipFill>
              <a:blip r:embed="rId10"/>
              <a:stretch/>
            </p:blipFill>
            <p:spPr>
              <a:xfrm>
                <a:off x="6202440" y="3733920"/>
                <a:ext cx="19872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xml" descr=""/>
              <p:cNvPicPr/>
              <p:nvPr/>
            </p:nvPicPr>
            <p:blipFill>
              <a:blip r:embed="rId11"/>
              <a:stretch/>
            </p:blipFill>
            <p:spPr>
              <a:xfrm>
                <a:off x="6507360" y="3733920"/>
                <a:ext cx="19836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0" name=""/>
            <p:cNvSpPr/>
            <p:nvPr/>
          </p:nvSpPr>
          <p:spPr>
            <a:xfrm>
              <a:off x="6762600" y="3657600"/>
              <a:ext cx="176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6600"/>
                  </a:solidFill>
                  <a:latin typeface="Tahoma"/>
                </a:rPr>
                <a:t>XML Frag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419720" y="4038480"/>
            <a:ext cx="2209680" cy="123840"/>
          </a:xfrm>
          <a:custGeom>
            <a:avLst/>
            <a:gdLst/>
            <a:ahLst/>
            <a:rect l="l" t="t" r="r" b="b"/>
            <a:pathLst>
              <a:path w="1392" h="78">
                <a:moveTo>
                  <a:pt x="0" y="0"/>
                </a:moveTo>
                <a:cubicBezTo>
                  <a:pt x="86" y="11"/>
                  <a:pt x="351" y="56"/>
                  <a:pt x="518" y="67"/>
                </a:cubicBezTo>
                <a:cubicBezTo>
                  <a:pt x="685" y="78"/>
                  <a:pt x="859" y="78"/>
                  <a:pt x="1005" y="67"/>
                </a:cubicBezTo>
                <a:cubicBezTo>
                  <a:pt x="1151" y="56"/>
                  <a:pt x="1312" y="14"/>
                  <a:pt x="1392" y="0"/>
                </a:cubicBezTo>
              </a:path>
            </a:pathLst>
          </a:custGeom>
          <a:noFill/>
          <a:ln w="1908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615000">
            <a:off x="5028840" y="4190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20280600">
            <a:off x="6324120" y="4114440"/>
            <a:ext cx="304920" cy="1371600"/>
          </a:xfrm>
          <a:prstGeom prst="downArrow">
            <a:avLst>
              <a:gd name="adj1" fmla="val 50000"/>
              <a:gd name="adj2" fmla="val 11245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encoder" descr=""/>
          <p:cNvPicPr/>
          <p:nvPr/>
        </p:nvPicPr>
        <p:blipFill>
          <a:blip r:embed="rId12"/>
          <a:stretch/>
        </p:blipFill>
        <p:spPr>
          <a:xfrm>
            <a:off x="3962520" y="4352760"/>
            <a:ext cx="990360" cy="67644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2631240" y="5073480"/>
            <a:ext cx="3692880" cy="337320"/>
            <a:chOff x="2631240" y="5073480"/>
            <a:chExt cx="3692880" cy="337320"/>
          </a:xfrm>
        </p:grpSpPr>
        <p:grpSp>
          <p:nvGrpSpPr>
            <p:cNvPr id="186" name=""/>
            <p:cNvGrpSpPr/>
            <p:nvPr/>
          </p:nvGrpSpPr>
          <p:grpSpPr>
            <a:xfrm>
              <a:off x="4114800" y="5181480"/>
              <a:ext cx="2209320" cy="146160"/>
              <a:chOff x="4114800" y="5181480"/>
              <a:chExt cx="2209320" cy="146160"/>
            </a:xfrm>
          </p:grpSpPr>
          <p:pic>
            <p:nvPicPr>
              <p:cNvPr id="187" name="binXML" descr=""/>
              <p:cNvPicPr/>
              <p:nvPr/>
            </p:nvPicPr>
            <p:blipFill>
              <a:blip r:embed="rId13"/>
              <a:stretch/>
            </p:blipFill>
            <p:spPr>
              <a:xfrm>
                <a:off x="4114800" y="5181480"/>
                <a:ext cx="128520" cy="14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binXML" descr=""/>
              <p:cNvPicPr/>
              <p:nvPr/>
            </p:nvPicPr>
            <p:blipFill>
              <a:blip r:embed="rId14"/>
              <a:stretch/>
            </p:blipFill>
            <p:spPr>
              <a:xfrm>
                <a:off x="4290840" y="5181480"/>
                <a:ext cx="128160" cy="14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binXML" descr=""/>
              <p:cNvPicPr/>
              <p:nvPr/>
            </p:nvPicPr>
            <p:blipFill>
              <a:blip r:embed="rId15"/>
              <a:stretch/>
            </p:blipFill>
            <p:spPr>
              <a:xfrm>
                <a:off x="4495680" y="5181480"/>
                <a:ext cx="128160" cy="14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" name="binXML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71720" y="5181480"/>
                <a:ext cx="128160" cy="14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" name="binXML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76560" y="5181480"/>
                <a:ext cx="128160" cy="14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2" name="binXML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52600" y="5181480"/>
                <a:ext cx="128520" cy="14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" name="binXML" descr=""/>
              <p:cNvPicPr/>
              <p:nvPr/>
            </p:nvPicPr>
            <p:blipFill>
              <a:blip r:embed="rId19"/>
              <a:stretch/>
            </p:blipFill>
            <p:spPr>
              <a:xfrm>
                <a:off x="5257440" y="5181480"/>
                <a:ext cx="128520" cy="14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binXML" descr=""/>
              <p:cNvPicPr/>
              <p:nvPr/>
            </p:nvPicPr>
            <p:blipFill>
              <a:blip r:embed="rId20"/>
              <a:stretch/>
            </p:blipFill>
            <p:spPr>
              <a:xfrm>
                <a:off x="5433840" y="5181480"/>
                <a:ext cx="128160" cy="14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5" name="binXML" descr=""/>
              <p:cNvPicPr/>
              <p:nvPr/>
            </p:nvPicPr>
            <p:blipFill>
              <a:blip r:embed="rId21"/>
              <a:stretch/>
            </p:blipFill>
            <p:spPr>
              <a:xfrm>
                <a:off x="5638680" y="5181480"/>
                <a:ext cx="128160" cy="14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6" name="binXML" descr=""/>
              <p:cNvPicPr/>
              <p:nvPr/>
            </p:nvPicPr>
            <p:blipFill>
              <a:blip r:embed="rId22"/>
              <a:stretch/>
            </p:blipFill>
            <p:spPr>
              <a:xfrm>
                <a:off x="5814720" y="5181480"/>
                <a:ext cx="128160" cy="14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binXML" descr=""/>
              <p:cNvPicPr/>
              <p:nvPr/>
            </p:nvPicPr>
            <p:blipFill>
              <a:blip r:embed="rId23"/>
              <a:stretch/>
            </p:blipFill>
            <p:spPr>
              <a:xfrm>
                <a:off x="6019560" y="5181480"/>
                <a:ext cx="128160" cy="14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binXML" descr=""/>
              <p:cNvPicPr/>
              <p:nvPr/>
            </p:nvPicPr>
            <p:blipFill>
              <a:blip r:embed="rId24"/>
              <a:stretch/>
            </p:blipFill>
            <p:spPr>
              <a:xfrm>
                <a:off x="6195600" y="5181480"/>
                <a:ext cx="128520" cy="14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9" name=""/>
            <p:cNvSpPr/>
            <p:nvPr/>
          </p:nvSpPr>
          <p:spPr>
            <a:xfrm>
              <a:off x="2631240" y="5073480"/>
              <a:ext cx="147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6600"/>
                  </a:solidFill>
                  <a:latin typeface="Tahoma"/>
                </a:rPr>
                <a:t>BiM Chunc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099400" y="5486400"/>
            <a:ext cx="2863080" cy="489600"/>
            <a:chOff x="5099400" y="5486400"/>
            <a:chExt cx="2863080" cy="489600"/>
          </a:xfrm>
        </p:grpSpPr>
        <p:grpSp>
          <p:nvGrpSpPr>
            <p:cNvPr id="201" name=""/>
            <p:cNvGrpSpPr/>
            <p:nvPr/>
          </p:nvGrpSpPr>
          <p:grpSpPr>
            <a:xfrm>
              <a:off x="5486400" y="5486400"/>
              <a:ext cx="2057400" cy="152280"/>
              <a:chOff x="5486400" y="5486400"/>
              <a:chExt cx="2057400" cy="152280"/>
            </a:xfrm>
          </p:grpSpPr>
          <p:pic>
            <p:nvPicPr>
              <p:cNvPr id="202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5486400" y="5486400"/>
                <a:ext cx="14616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3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5648400" y="5486400"/>
                <a:ext cx="1458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5835600" y="5486400"/>
                <a:ext cx="14616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5997600" y="5486400"/>
                <a:ext cx="14616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6200640" y="5486400"/>
                <a:ext cx="14616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6362640" y="5486400"/>
                <a:ext cx="14616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6550200" y="5486400"/>
                <a:ext cx="1458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6711840" y="5486400"/>
                <a:ext cx="14616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6886440" y="5486400"/>
                <a:ext cx="14616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7048440" y="5486400"/>
                <a:ext cx="14616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236000" y="5486400"/>
                <a:ext cx="1458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3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7397640" y="5486400"/>
                <a:ext cx="146160" cy="152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4" name=""/>
            <p:cNvSpPr/>
            <p:nvPr/>
          </p:nvSpPr>
          <p:spPr>
            <a:xfrm>
              <a:off x="5099400" y="5638680"/>
              <a:ext cx="286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6600"/>
                  </a:solidFill>
                  <a:latin typeface="Tahoma"/>
                </a:rPr>
                <a:t>« Zipped » XML Frag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572000" y="3200400"/>
            <a:ext cx="1905120" cy="504720"/>
            <a:chOff x="4572000" y="3200400"/>
            <a:chExt cx="1905120" cy="504720"/>
          </a:xfrm>
        </p:grpSpPr>
        <p:sp>
          <p:nvSpPr>
            <p:cNvPr id="216" name=""/>
            <p:cNvSpPr/>
            <p:nvPr/>
          </p:nvSpPr>
          <p:spPr>
            <a:xfrm flipH="1">
              <a:off x="4572000" y="3200400"/>
              <a:ext cx="3808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181480" y="3429000"/>
              <a:ext cx="1144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15000" y="347652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48520" y="32767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6400800" y="4343400"/>
            <a:ext cx="995040" cy="533520"/>
            <a:chOff x="6400800" y="4343400"/>
            <a:chExt cx="995040" cy="533520"/>
          </a:xfrm>
        </p:grpSpPr>
        <p:pic>
          <p:nvPicPr>
            <p:cNvPr id="221" name="" descr=""/>
            <p:cNvPicPr/>
            <p:nvPr/>
          </p:nvPicPr>
          <p:blipFill>
            <a:blip r:embed="rId37"/>
            <a:stretch/>
          </p:blipFill>
          <p:spPr>
            <a:xfrm>
              <a:off x="6400800" y="43434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863040" y="449568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6600"/>
                  </a:solidFill>
                  <a:latin typeface="Tahoma"/>
                </a:rPr>
                <a:t>zli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5181480" y="5715000"/>
            <a:ext cx="3633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D521-3318-4E34-83A4-3CDAA1DD9133}" type="slidenum">
              <a:t>5</a:t>
            </a:fld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ahoma"/>
              </a:rPr>
              <a:t>Demo application da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Mini-E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SzPct val="50000"/>
              <a:buFont typeface="Marlett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« What’s-on-now »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8000"/>
              </a:buClr>
              <a:buSzPct val="50000"/>
              <a:buFont typeface="Marlett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GB" sz="900" spc="-1" strike="noStrike">
                <a:solidFill>
                  <a:srgbClr val="990000"/>
                </a:solidFill>
                <a:latin typeface="Arial"/>
              </a:rPr>
              <a:t>event cc:start</a:t>
            </a:r>
            <a:r>
              <a:rPr b="0" lang="en-GB" sz="9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9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900" spc="-1" strike="noStrike">
                <a:solidFill>
                  <a:srgbClr val="990000"/>
                </a:solidFill>
                <a:latin typeface="Arial"/>
              </a:rPr>
              <a:t> cc:stop</a:t>
            </a:r>
            <a:r>
              <a:rPr b="0" lang="en-GB" sz="9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40000</a:t>
            </a:r>
            <a:r>
              <a:rPr b="0" lang="en-GB" sz="9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900" spc="-1" strike="noStrike">
                <a:solidFill>
                  <a:srgbClr val="990000"/>
                </a:solidFill>
                <a:latin typeface="Arial"/>
              </a:rPr>
              <a:t> cc:repeat</a:t>
            </a:r>
            <a:r>
              <a:rPr b="0" lang="en-GB" sz="9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1220</a:t>
            </a:r>
            <a:r>
              <a:rPr b="0" lang="en-GB" sz="900" spc="-1" strike="noStrike">
                <a:solidFill>
                  <a:srgbClr val="0000ff"/>
                </a:solidFill>
                <a:latin typeface="Arial"/>
              </a:rPr>
              <a:t>"&gt;</a:t>
            </a:r>
            <a:r>
              <a:rPr b="1" lang="en-GB" sz="900" spc="-1" strike="noStrike">
                <a:solidFill>
                  <a:srgbClr val="ff0000"/>
                </a:solidFill>
                <a:latin typeface="Courier New"/>
                <a:ea typeface="Courier New"/>
              </a:rPr>
              <a:t> 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GB" sz="1000" spc="-1" strike="noStrike">
                <a:solidFill>
                  <a:srgbClr val="990000"/>
                </a:solidFill>
                <a:latin typeface="Arial"/>
              </a:rPr>
              <a:t>channel</a:t>
            </a:r>
            <a:r>
              <a:rPr b="0" lang="en-GB" sz="10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6 KICU</a:t>
            </a:r>
            <a:r>
              <a:rPr b="0" lang="en-GB" sz="10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GB" sz="1000" spc="-1" strike="noStrike">
                <a:solidFill>
                  <a:srgbClr val="990000"/>
                </a:solidFill>
                <a:latin typeface="Arial"/>
              </a:rPr>
              <a:t>channel</a:t>
            </a:r>
            <a:r>
              <a:rPr b="0" lang="en-GB" sz="10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GB" sz="1000" spc="-1" strike="noStrike">
                <a:solidFill>
                  <a:srgbClr val="990000"/>
                </a:solidFill>
                <a:latin typeface="Arial"/>
              </a:rPr>
              <a:t>description</a:t>
            </a:r>
            <a:r>
              <a:rPr b="0" lang="en-GB" sz="10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World news program</a:t>
            </a:r>
            <a:r>
              <a:rPr b="0" lang="en-GB" sz="10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GB" sz="1000" spc="-1" strike="noStrike">
                <a:solidFill>
                  <a:srgbClr val="990000"/>
                </a:solidFill>
                <a:latin typeface="Arial"/>
              </a:rPr>
              <a:t>description</a:t>
            </a:r>
            <a:r>
              <a:rPr b="0" lang="en-GB" sz="10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GB" sz="900" spc="-1" strike="noStrike">
                <a:solidFill>
                  <a:srgbClr val="990000"/>
                </a:solidFill>
                <a:latin typeface="Arial"/>
              </a:rPr>
              <a:t>event</a:t>
            </a:r>
            <a:r>
              <a:rPr b="0" lang="en-GB" sz="9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SzPct val="50000"/>
              <a:buFont typeface="Marlett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eated every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Synchronized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SzPct val="50000"/>
              <a:buFont typeface="Marlett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SzPct val="50000"/>
              <a:buFont typeface="Marlett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ents on the court (special points, VIPs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SzPct val="50000"/>
              <a:buFont typeface="Marlett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eated every 500ms until next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3 « metadata channel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M-channel, XML-channel, Zipped-XML-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E619-3572-48E2-88BF-2EAB76E81F93}" type="slidenum">
              <a:t>6</a:t>
            </a:fld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3300"/>
                </a:solidFill>
                <a:latin typeface="Tahoma"/>
              </a:rPr>
              <a:t>Total Bandwidth</a:t>
            </a:r>
            <a:r>
              <a:rPr b="0" lang="fr-FR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4000" spc="-1" strike="noStrike">
                <a:solidFill>
                  <a:srgbClr val="cc3300"/>
                </a:solidFill>
                <a:latin typeface="Tahoma"/>
              </a:rPr>
              <a:t>Gain</a:t>
            </a:r>
            <a:r>
              <a:rPr b="0" lang="fr-FR" sz="4000" spc="-1" strike="noStrike">
                <a:solidFill>
                  <a:srgbClr val="000000"/>
                </a:solidFill>
                <a:latin typeface="Tahoma"/>
              </a:rPr>
              <a:t> in Demo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57200" y="1447920"/>
          <a:ext cx="8001000" cy="47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0010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4649-7B60-433D-B013-F061CE486ED3}" type="slidenum">
              <a:t>7</a:t>
            </a:fld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Demo</a:t>
            </a:r>
            <a:r>
              <a:rPr b="0" lang="fr-FR" sz="4000" spc="-1" strike="noStrike">
                <a:solidFill>
                  <a:srgbClr val="000000"/>
                </a:solidFill>
                <a:latin typeface="Tahoma"/>
              </a:rPr>
              <a:t> performance </a:t>
            </a:r>
            <a:r>
              <a:rPr b="0" lang="fr-FR" sz="4000" spc="-1" strike="noStrike">
                <a:solidFill>
                  <a:srgbClr val="cc3300"/>
                </a:solidFill>
                <a:latin typeface="Tahoma"/>
              </a:rPr>
              <a:t>s</a:t>
            </a:r>
            <a:r>
              <a:rPr b="0" lang="en-GB" sz="4000" spc="-1" strike="noStrike">
                <a:solidFill>
                  <a:srgbClr val="cc3300"/>
                </a:solidFill>
                <a:latin typeface="Tahoma"/>
              </a:rPr>
              <a:t>tatistic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3300"/>
                </a:solidFill>
                <a:latin typeface="Arial"/>
              </a:rPr>
              <a:t>Average fragment siz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SzPct val="50000"/>
              <a:buFont typeface="Marlett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ML: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8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by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SzPct val="50000"/>
              <a:buFont typeface="Marlett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ML+Zlib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29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bytes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compression ratio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2.19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SzPct val="50000"/>
              <a:buFont typeface="Marlett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iM: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bytes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2000" spc="-1" strike="noStrike">
                <a:solidFill>
                  <a:srgbClr val="006600"/>
                </a:solidFill>
                <a:latin typeface="Arial"/>
              </a:rPr>
              <a:t>compression ratio: </a:t>
            </a:r>
            <a:r>
              <a:rPr b="1" lang="fr-FR" sz="2000" spc="-1" strike="noStrike">
                <a:solidFill>
                  <a:srgbClr val="006600"/>
                </a:solidFill>
                <a:latin typeface="Arial"/>
              </a:rPr>
              <a:t>14.85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3300"/>
                </a:solidFill>
                <a:latin typeface="Arial"/>
              </a:rPr>
              <a:t>Average fragment decoding time (SAX AP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SzPct val="50000"/>
              <a:buFont typeface="Marlett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0.27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m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(Non validating Xerces-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SzPct val="50000"/>
              <a:buFont typeface="Marlett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ML+Zlib: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0.41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m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( ‘’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SzPct val="50000"/>
              <a:buFont typeface="Marlett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iM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336600"/>
                </a:solidFill>
                <a:latin typeface="Arial"/>
              </a:rPr>
              <a:t>0.07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19320" y="61722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(test platform: Win2000, Athlon 1.4Gh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BBB6-5F75-49F0-9B46-FDF814F5EE09}" type="slidenum">
              <a:t>8</a:t>
            </a:fld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cc3300"/>
                </a:solidFill>
                <a:latin typeface="Tahoma"/>
              </a:rPr>
              <a:t>Broadcast Produc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3" name="binXML-bleu" descr=""/>
          <p:cNvPicPr/>
          <p:nvPr/>
        </p:nvPicPr>
        <p:blipFill>
          <a:blip r:embed="rId1"/>
          <a:stretch/>
        </p:blipFill>
        <p:spPr>
          <a:xfrm>
            <a:off x="2971800" y="2209680"/>
            <a:ext cx="3086280" cy="80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CA0A-9893-4E7B-AA1E-A0E69874BB06}" type="slidenum">
              <a:t>9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0T15:08:33Z</dcterms:created>
  <dc:creator>Claude Seyrat / Olivier Dhotel</dc:creator>
  <dc:description/>
  <dc:language>en-US</dc:language>
  <cp:lastModifiedBy>Olivier D'Hotel</cp:lastModifiedBy>
  <cp:lastPrinted>2001-07-20T22:07:46Z</cp:lastPrinted>
  <dcterms:modified xsi:type="dcterms:W3CDTF">2002-07-31T15:08:40Z</dcterms:modified>
  <cp:revision>306</cp:revision>
  <dc:subject/>
  <dc:title>Expway / Bin-XML presentation</dc:title>
</cp:coreProperties>
</file>