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BEB-D5B0-45CD-9EA1-AACE0D19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C14-8923-48E1-9D9F-F6E965E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078-FFF8-477C-BA32-D3745F5D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67E-128C-4858-8E28-D3C3949F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CC9-6C0E-4673-8190-2C12BB3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8E1-A13B-4FB2-B67A-C5E680A5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AD0-A358-4316-90AD-5DD9A6AF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2D0-9BD5-48EA-B89F-5BD1A999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5D7-68C4-41A8-B770-E2D4EAE6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6BD-7645-4A4E-A68C-0F9D567F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574-1B6D-49DA-9939-765DE75B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C0F-DB79-4F30-A43F-9CC80C0F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5699-EAB4-4261-918E-79522B931EF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www.tfm.co.jp/index.html" TargetMode="External"/><Relationship Id="rId7" Type="http://schemas.openxmlformats.org/officeDocument/2006/relationships/image" Target="../media/image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tfm.co.jp/index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2.wmf"/><Relationship Id="rId7" Type="http://schemas.openxmlformats.org/officeDocument/2006/relationships/image" Target="../media/image5.jpeg"/><Relationship Id="rId8" Type="http://schemas.openxmlformats.org/officeDocument/2006/relationships/hyperlink" Target="http://www.tfm.co.jp/index.html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5.jpeg"/><Relationship Id="rId11" Type="http://schemas.openxmlformats.org/officeDocument/2006/relationships/hyperlink" Target="http://www.tfm.co.jp/index.html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2.wmf"/><Relationship Id="rId14" Type="http://schemas.openxmlformats.org/officeDocument/2006/relationships/image" Target="../media/image5.jpeg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1.bin"/><Relationship Id="rId19" Type="http://schemas.openxmlformats.org/officeDocument/2006/relationships/image" Target="../media/image7.png"/><Relationship Id="rId20" Type="http://schemas.openxmlformats.org/officeDocument/2006/relationships/oleObject" Target="../embeddings/oleObject2.bin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9360" y="6464160"/>
            <a:ext cx="287964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776160"/>
            <a:ext cx="6408720" cy="2952720"/>
          </a:xfrm>
          <a:prstGeom prst="wedgeRoundRectCallout">
            <a:avLst>
              <a:gd name="adj1" fmla="val -6972"/>
              <a:gd name="adj2" fmla="val 50106"/>
              <a:gd name="adj3" fmla="val 16667"/>
            </a:avLst>
          </a:prstGeom>
          <a:solidFill>
            <a:srgbClr val="ffffff"/>
          </a:solidFill>
          <a:ln w="9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41720" y="920880"/>
            <a:ext cx="1224000" cy="20890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2089080"/>
              <a:gd name="textAreaBottom" fmla="*/ 2029320 h 2089080"/>
            </a:gdLst>
            <a:ahLst/>
            <a:rect l="textAreaLeft" t="textAreaTop" r="textAreaRight" b="textAreaBottom"/>
            <a:pathLst>
              <a:path w="21600" h="36862">
                <a:moveTo>
                  <a:pt x="3600" y="0"/>
                </a:moveTo>
                <a:arcTo wR="3600" hR="3600" stAng="16200000" swAng="-5400000"/>
                <a:lnTo>
                  <a:pt x="0" y="33262"/>
                </a:lnTo>
                <a:arcTo wR="3600" hR="3600" stAng="10800000" swAng="-5400000"/>
                <a:lnTo>
                  <a:pt x="18000" y="368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5000" y="920880"/>
            <a:ext cx="1295640" cy="208908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089080"/>
              <a:gd name="textAreaBottom" fmla="*/ 2026080 h 2089080"/>
            </a:gdLst>
            <a:ahLst/>
            <a:rect l="textAreaLeft" t="textAreaTop" r="textAreaRight" b="textAreaBottom"/>
            <a:pathLst>
              <a:path w="21600" h="34824">
                <a:moveTo>
                  <a:pt x="3600" y="0"/>
                </a:moveTo>
                <a:arcTo wR="3600" hR="3600" stAng="16200000" swAng="-5400000"/>
                <a:lnTo>
                  <a:pt x="0" y="31224"/>
                </a:lnTo>
                <a:arcTo wR="3600" hR="3600" stAng="10800000" swAng="-5400000"/>
                <a:lnTo>
                  <a:pt x="18000" y="34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44640" y="-87480"/>
            <a:ext cx="2968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ＭＳ Ｐゴシック"/>
              </a:rPr>
              <a:t>FM keit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68640" y="3513240"/>
            <a:ext cx="129528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12960" y="3513240"/>
            <a:ext cx="277920" cy="79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55720" y="1138320"/>
            <a:ext cx="1133280" cy="151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5720" y="1138320"/>
            <a:ext cx="1133280" cy="189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9480" y="1327320"/>
            <a:ext cx="1087560" cy="132228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322280"/>
              <a:gd name="textAreaBottom" fmla="*/ 1269360 h 1322280"/>
            </a:gdLst>
            <a:ahLst/>
            <a:rect l="textAreaLeft" t="textAreaTop" r="textAreaRight" b="textAreaBottom"/>
            <a:pathLst>
              <a:path w="21600" h="26260">
                <a:moveTo>
                  <a:pt x="3600" y="0"/>
                </a:moveTo>
                <a:arcTo wR="3600" hR="3600" stAng="16200000" swAng="-5400000"/>
                <a:lnTo>
                  <a:pt x="0" y="22660"/>
                </a:lnTo>
                <a:arcTo wR="3600" hR="3600" stAng="10800000" swAng="-5400000"/>
                <a:lnTo>
                  <a:pt x="18000" y="262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3080" y="1563840"/>
            <a:ext cx="946080" cy="330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20600" y="1611360"/>
            <a:ext cx="520920" cy="233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8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520" y="164160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MH</a:t>
            </a:r>
            <a:r>
              <a:rPr b="0" lang="zh-CN" sz="1000" spc="-1" strike="noStrike">
                <a:solidFill>
                  <a:srgbClr val="ff6600"/>
                </a:solidFill>
                <a:latin typeface="Arial"/>
              </a:rPr>
              <a:t>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9280" y="1370160"/>
            <a:ext cx="435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6600"/>
                </a:solidFill>
                <a:latin typeface="Arial Black"/>
              </a:rPr>
              <a:t>EZ-F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27000" y="1987560"/>
            <a:ext cx="992160" cy="236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6120" y="1940040"/>
            <a:ext cx="473040" cy="95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6600"/>
                </a:solidFill>
                <a:latin typeface="Arial"/>
              </a:rPr>
              <a:t>NOW ON AI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4800" y="2001960"/>
            <a:ext cx="77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Arial"/>
              </a:rPr>
              <a:t>TOKYO F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27000" y="2271600"/>
            <a:ext cx="992160" cy="236520"/>
          </a:xfrm>
          <a:prstGeom prst="rect">
            <a:avLst/>
          </a:prstGeom>
          <a:solidFill>
            <a:srgbClr val="cc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3080" y="2295360"/>
            <a:ext cx="189000" cy="1875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F 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24000" y="2319480"/>
            <a:ext cx="46080" cy="44280"/>
            <a:chOff x="1224000" y="2319480"/>
            <a:chExt cx="46080" cy="44280"/>
          </a:xfrm>
        </p:grpSpPr>
        <p:sp>
          <p:nvSpPr>
            <p:cNvPr id="61" name=""/>
            <p:cNvSpPr/>
            <p:nvPr/>
          </p:nvSpPr>
          <p:spPr>
            <a:xfrm>
              <a:off x="1224000" y="2319480"/>
              <a:ext cx="46080" cy="4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235160" y="2329920"/>
              <a:ext cx="23040" cy="22320"/>
              <a:chOff x="1235160" y="2329920"/>
              <a:chExt cx="23040" cy="22320"/>
            </a:xfrm>
          </p:grpSpPr>
          <p:sp>
            <p:nvSpPr>
              <p:cNvPr id="63" name=""/>
              <p:cNvSpPr/>
              <p:nvPr/>
            </p:nvSpPr>
            <p:spPr>
              <a:xfrm>
                <a:off x="1235160" y="2341440"/>
                <a:ext cx="2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35160" y="2330280"/>
                <a:ext cx="2304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1235160" y="2329920"/>
                <a:ext cx="2304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224000" y="2413080"/>
            <a:ext cx="46080" cy="46080"/>
            <a:chOff x="1224000" y="2413080"/>
            <a:chExt cx="46080" cy="46080"/>
          </a:xfrm>
        </p:grpSpPr>
        <p:sp>
          <p:nvSpPr>
            <p:cNvPr id="67" name=""/>
            <p:cNvSpPr/>
            <p:nvPr/>
          </p:nvSpPr>
          <p:spPr>
            <a:xfrm>
              <a:off x="1224000" y="2413080"/>
              <a:ext cx="46080" cy="4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235160" y="2423880"/>
              <a:ext cx="23040" cy="23040"/>
              <a:chOff x="1235160" y="2423880"/>
              <a:chExt cx="23040" cy="23040"/>
            </a:xfrm>
          </p:grpSpPr>
          <p:sp>
            <p:nvSpPr>
              <p:cNvPr id="69" name=""/>
              <p:cNvSpPr/>
              <p:nvPr/>
            </p:nvSpPr>
            <p:spPr>
              <a:xfrm>
                <a:off x="1235160" y="2435760"/>
                <a:ext cx="2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35160" y="2424240"/>
                <a:ext cx="2304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1235160" y="2423880"/>
                <a:ext cx="2304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1313640" y="2281320"/>
            <a:ext cx="48564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Arial"/>
              </a:rPr>
              <a:t>オンエア曲着うた検索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4720" y="2349360"/>
            <a:ext cx="6418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000000"/>
                </a:solidFill>
                <a:latin typeface="Arial"/>
              </a:rPr>
              <a:t>選局中の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FM</a:t>
            </a:r>
            <a:r>
              <a:rPr b="0" lang="zh-CN" sz="400" spc="-1" strike="noStrike">
                <a:solidFill>
                  <a:srgbClr val="000000"/>
                </a:solidFill>
                <a:latin typeface="Arial"/>
              </a:rPr>
              <a:t>サイトへジャンプ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9160" y="2554200"/>
            <a:ext cx="28584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6600"/>
                </a:solidFill>
                <a:latin typeface="Arial"/>
              </a:rPr>
              <a:t>ツール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5000" y="2554200"/>
            <a:ext cx="28404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6600"/>
                </a:solidFill>
                <a:latin typeface="Arial"/>
              </a:rPr>
              <a:t>CLI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87600" y="2554200"/>
            <a:ext cx="28548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6600"/>
                </a:solidFill>
                <a:latin typeface="Arial"/>
              </a:rPr>
              <a:t>メニュー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92240" y="1137960"/>
            <a:ext cx="141120" cy="141120"/>
            <a:chOff x="1092240" y="1137960"/>
            <a:chExt cx="141120" cy="141120"/>
          </a:xfrm>
        </p:grpSpPr>
        <p:sp>
          <p:nvSpPr>
            <p:cNvPr id="78" name=""/>
            <p:cNvSpPr/>
            <p:nvPr/>
          </p:nvSpPr>
          <p:spPr>
            <a:xfrm>
              <a:off x="1092240" y="1184760"/>
              <a:ext cx="141120" cy="94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92240" y="1137960"/>
              <a:ext cx="9360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282680" y="1185840"/>
            <a:ext cx="93600" cy="93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65280" y="1179000"/>
            <a:ext cx="139680" cy="106920"/>
            <a:chOff x="1565280" y="1179000"/>
            <a:chExt cx="139680" cy="106920"/>
          </a:xfrm>
        </p:grpSpPr>
        <p:grpSp>
          <p:nvGrpSpPr>
            <p:cNvPr id="82" name=""/>
            <p:cNvGrpSpPr/>
            <p:nvPr/>
          </p:nvGrpSpPr>
          <p:grpSpPr>
            <a:xfrm>
              <a:off x="1565280" y="1179000"/>
              <a:ext cx="78840" cy="106920"/>
              <a:chOff x="1565280" y="1179000"/>
              <a:chExt cx="78840" cy="1069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1565280" y="1178640"/>
                <a:ext cx="78840" cy="3996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604520" y="1179360"/>
                <a:ext cx="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V="1">
              <a:off x="1634760" y="1249560"/>
              <a:ext cx="0" cy="3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670400" y="1214640"/>
              <a:ext cx="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670400" y="1214640"/>
              <a:ext cx="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704960" y="1179360"/>
              <a:ext cx="0" cy="1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642320" y="1136520"/>
            <a:ext cx="43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 MT"/>
                <a:ea typeface="바탕"/>
              </a:rPr>
              <a:t>1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1800" y="1184400"/>
            <a:ext cx="142920" cy="9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9320" y="1184400"/>
            <a:ext cx="0" cy="9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6840" y="1184400"/>
            <a:ext cx="0" cy="9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54440" y="920880"/>
            <a:ext cx="1295280" cy="208908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2089080"/>
              <a:gd name="textAreaBottom" fmla="*/ 2026080 h 20890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44800" y="1138320"/>
            <a:ext cx="1133640" cy="151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44800" y="1138320"/>
            <a:ext cx="1133640" cy="189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68560" y="1327320"/>
            <a:ext cx="1087560" cy="132228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322280"/>
              <a:gd name="textAreaBottom" fmla="*/ 1269360 h 1322280"/>
            </a:gdLst>
            <a:ahLst/>
            <a:rect l="textAreaLeft" t="textAreaTop" r="textAreaRight" b="textAreaBottom"/>
            <a:pathLst>
              <a:path w="21600" h="26260">
                <a:moveTo>
                  <a:pt x="3600" y="0"/>
                </a:moveTo>
                <a:arcTo wR="3600" hR="3600" stAng="16200000" swAng="-5400000"/>
                <a:lnTo>
                  <a:pt x="0" y="22660"/>
                </a:lnTo>
                <a:arcTo wR="3600" hR="3600" stAng="10800000" swAng="-5400000"/>
                <a:lnTo>
                  <a:pt x="18000" y="262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2160" y="1563840"/>
            <a:ext cx="946440" cy="330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10040" y="1611360"/>
            <a:ext cx="520560" cy="233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8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12600" y="164160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MH</a:t>
            </a:r>
            <a:r>
              <a:rPr b="0" lang="zh-CN" sz="1000" spc="-1" strike="noStrike">
                <a:solidFill>
                  <a:srgbClr val="ff6600"/>
                </a:solidFill>
                <a:latin typeface="Arial"/>
              </a:rPr>
              <a:t>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18720" y="1370160"/>
            <a:ext cx="435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6600"/>
                </a:solidFill>
                <a:latin typeface="Arial Black"/>
              </a:rPr>
              <a:t>EZ-F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16080" y="1987560"/>
            <a:ext cx="992520" cy="236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5200" y="1940040"/>
            <a:ext cx="473400" cy="950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NOW ON AI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00600" y="2014560"/>
            <a:ext cx="1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6600"/>
                </a:solidFill>
                <a:latin typeface="Arial"/>
              </a:rPr>
              <a:t>14:54 Imagine / 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16080" y="2271600"/>
            <a:ext cx="992520" cy="236520"/>
          </a:xfrm>
          <a:prstGeom prst="rect">
            <a:avLst/>
          </a:prstGeom>
          <a:solidFill>
            <a:srgbClr val="cc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2160" y="2295360"/>
            <a:ext cx="189000" cy="1875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F 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13080" y="2319480"/>
            <a:ext cx="46080" cy="44280"/>
            <a:chOff x="3313080" y="2319480"/>
            <a:chExt cx="46080" cy="44280"/>
          </a:xfrm>
        </p:grpSpPr>
        <p:sp>
          <p:nvSpPr>
            <p:cNvPr id="107" name=""/>
            <p:cNvSpPr/>
            <p:nvPr/>
          </p:nvSpPr>
          <p:spPr>
            <a:xfrm>
              <a:off x="3313080" y="2319480"/>
              <a:ext cx="46080" cy="4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324240" y="2329920"/>
              <a:ext cx="23040" cy="22320"/>
              <a:chOff x="3324240" y="2329920"/>
              <a:chExt cx="23040" cy="22320"/>
            </a:xfrm>
          </p:grpSpPr>
          <p:sp>
            <p:nvSpPr>
              <p:cNvPr id="109" name=""/>
              <p:cNvSpPr/>
              <p:nvPr/>
            </p:nvSpPr>
            <p:spPr>
              <a:xfrm>
                <a:off x="3324240" y="2341440"/>
                <a:ext cx="2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24240" y="2330280"/>
                <a:ext cx="2304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3324240" y="2329920"/>
                <a:ext cx="2304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3313080" y="2413080"/>
            <a:ext cx="46080" cy="46080"/>
            <a:chOff x="3313080" y="2413080"/>
            <a:chExt cx="46080" cy="46080"/>
          </a:xfrm>
        </p:grpSpPr>
        <p:sp>
          <p:nvSpPr>
            <p:cNvPr id="113" name=""/>
            <p:cNvSpPr/>
            <p:nvPr/>
          </p:nvSpPr>
          <p:spPr>
            <a:xfrm>
              <a:off x="3313080" y="2413080"/>
              <a:ext cx="46080" cy="4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324240" y="2423880"/>
              <a:ext cx="23040" cy="23040"/>
              <a:chOff x="3324240" y="2423880"/>
              <a:chExt cx="23040" cy="23040"/>
            </a:xfrm>
          </p:grpSpPr>
          <p:sp>
            <p:nvSpPr>
              <p:cNvPr id="115" name=""/>
              <p:cNvSpPr/>
              <p:nvPr/>
            </p:nvSpPr>
            <p:spPr>
              <a:xfrm>
                <a:off x="3324240" y="2435760"/>
                <a:ext cx="2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324240" y="2424240"/>
                <a:ext cx="2304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324240" y="2423880"/>
                <a:ext cx="2304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3402720" y="2281320"/>
            <a:ext cx="48564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Arial"/>
              </a:rPr>
              <a:t>オンエア曲着うた検索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04160" y="2349360"/>
            <a:ext cx="6418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000000"/>
                </a:solidFill>
                <a:latin typeface="Arial"/>
              </a:rPr>
              <a:t>選局中の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FM</a:t>
            </a:r>
            <a:r>
              <a:rPr b="0" lang="zh-CN" sz="400" spc="-1" strike="noStrike">
                <a:solidFill>
                  <a:srgbClr val="000000"/>
                </a:solidFill>
                <a:latin typeface="Arial"/>
              </a:rPr>
              <a:t>サイトへジャンプ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08240" y="2554200"/>
            <a:ext cx="28584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6600"/>
                </a:solidFill>
                <a:latin typeface="Arial"/>
              </a:rPr>
              <a:t>ツール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94080" y="2554200"/>
            <a:ext cx="28404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6600"/>
                </a:solidFill>
                <a:latin typeface="Arial"/>
              </a:rPr>
              <a:t>CLI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2554200"/>
            <a:ext cx="28584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6600"/>
                </a:solidFill>
                <a:latin typeface="Arial"/>
              </a:rPr>
              <a:t>メニュー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181320" y="1137960"/>
            <a:ext cx="141480" cy="141120"/>
            <a:chOff x="3181320" y="1137960"/>
            <a:chExt cx="141480" cy="141120"/>
          </a:xfrm>
        </p:grpSpPr>
        <p:sp>
          <p:nvSpPr>
            <p:cNvPr id="124" name=""/>
            <p:cNvSpPr/>
            <p:nvPr/>
          </p:nvSpPr>
          <p:spPr>
            <a:xfrm>
              <a:off x="3181320" y="1184760"/>
              <a:ext cx="141480" cy="94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181320" y="1137960"/>
              <a:ext cx="939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71760" y="1185840"/>
            <a:ext cx="93600" cy="93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4360" y="1179000"/>
            <a:ext cx="139680" cy="106920"/>
            <a:chOff x="3654360" y="1179000"/>
            <a:chExt cx="139680" cy="106920"/>
          </a:xfrm>
        </p:grpSpPr>
        <p:grpSp>
          <p:nvGrpSpPr>
            <p:cNvPr id="128" name=""/>
            <p:cNvGrpSpPr/>
            <p:nvPr/>
          </p:nvGrpSpPr>
          <p:grpSpPr>
            <a:xfrm>
              <a:off x="3654360" y="1179000"/>
              <a:ext cx="78840" cy="106920"/>
              <a:chOff x="3654360" y="1179000"/>
              <a:chExt cx="78840" cy="106920"/>
            </a:xfrm>
          </p:grpSpPr>
          <p:sp>
            <p:nvSpPr>
              <p:cNvPr id="129" name=""/>
              <p:cNvSpPr/>
              <p:nvPr/>
            </p:nvSpPr>
            <p:spPr>
              <a:xfrm flipV="1">
                <a:off x="3654360" y="1178640"/>
                <a:ext cx="78840" cy="3996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93600" y="1179360"/>
                <a:ext cx="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V="1">
              <a:off x="3723840" y="1249560"/>
              <a:ext cx="0" cy="3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759480" y="1214640"/>
              <a:ext cx="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759480" y="1214640"/>
              <a:ext cx="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794040" y="1179360"/>
              <a:ext cx="0" cy="10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731400" y="1136520"/>
            <a:ext cx="43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 MT"/>
                <a:ea typeface="바탕"/>
              </a:rPr>
              <a:t>1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90880" y="1184400"/>
            <a:ext cx="142920" cy="9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38400" y="1184400"/>
            <a:ext cx="0" cy="9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86280" y="1184400"/>
            <a:ext cx="0" cy="9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6000" y="3008160"/>
            <a:ext cx="147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Tune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rt up sc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79040" y="3008160"/>
            <a:ext cx="186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quire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music on air with 1 Cl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56200" y="1136520"/>
            <a:ext cx="1027080" cy="14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54760" y="1136520"/>
            <a:ext cx="1025280" cy="171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68960" y="1136520"/>
            <a:ext cx="128520" cy="128880"/>
            <a:chOff x="5268960" y="1136520"/>
            <a:chExt cx="128520" cy="128880"/>
          </a:xfrm>
        </p:grpSpPr>
        <p:sp>
          <p:nvSpPr>
            <p:cNvPr id="144" name=""/>
            <p:cNvSpPr/>
            <p:nvPr/>
          </p:nvSpPr>
          <p:spPr>
            <a:xfrm>
              <a:off x="5268960" y="1179000"/>
              <a:ext cx="128520" cy="86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268960" y="1136520"/>
              <a:ext cx="853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440320" y="1179360"/>
            <a:ext cx="85680" cy="86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695920" y="1172880"/>
            <a:ext cx="130320" cy="98640"/>
            <a:chOff x="5695920" y="1172880"/>
            <a:chExt cx="130320" cy="98640"/>
          </a:xfrm>
        </p:grpSpPr>
        <p:grpSp>
          <p:nvGrpSpPr>
            <p:cNvPr id="148" name=""/>
            <p:cNvGrpSpPr/>
            <p:nvPr/>
          </p:nvGrpSpPr>
          <p:grpSpPr>
            <a:xfrm>
              <a:off x="5695920" y="1173240"/>
              <a:ext cx="73440" cy="98280"/>
              <a:chOff x="5695920" y="1173240"/>
              <a:chExt cx="73440" cy="98280"/>
            </a:xfrm>
          </p:grpSpPr>
          <p:sp>
            <p:nvSpPr>
              <p:cNvPr id="149" name=""/>
              <p:cNvSpPr/>
              <p:nvPr/>
            </p:nvSpPr>
            <p:spPr>
              <a:xfrm flipV="1">
                <a:off x="5695920" y="1173240"/>
                <a:ext cx="73440" cy="367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32640" y="1173240"/>
                <a:ext cx="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V="1">
              <a:off x="5760720" y="1238040"/>
              <a:ext cx="0" cy="3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793840" y="1206000"/>
              <a:ext cx="0" cy="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793840" y="1206000"/>
              <a:ext cx="0" cy="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826240" y="1172880"/>
              <a:ext cx="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741280" y="1136520"/>
            <a:ext cx="43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 MT"/>
                <a:ea typeface="바탕"/>
              </a:rPr>
              <a:t>1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97600" y="1179360"/>
            <a:ext cx="128520" cy="86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0440" y="1179360"/>
            <a:ext cx="0" cy="8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3280" y="1179360"/>
            <a:ext cx="0" cy="8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3160" y="1281240"/>
            <a:ext cx="75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Arial Black"/>
              </a:rPr>
              <a:t>TOKYO F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56200" y="1460520"/>
            <a:ext cx="1027080" cy="8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2040" y="1424160"/>
            <a:ext cx="537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 Black"/>
              </a:rPr>
              <a:t>★</a:t>
            </a:r>
            <a:r>
              <a:rPr b="0" lang="en-US" sz="600" spc="-1" strike="noStrike">
                <a:solidFill>
                  <a:srgbClr val="ffffff"/>
                </a:solidFill>
                <a:latin typeface="Arial Black"/>
              </a:rPr>
              <a:t>EZ-FM★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41800" y="1514520"/>
            <a:ext cx="78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w On Air </a:t>
            </a: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楽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57640" y="1692360"/>
            <a:ext cx="54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Imag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92560" y="1784520"/>
            <a:ext cx="544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ohn Lenn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4080" y="1936800"/>
            <a:ext cx="75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着うたサイトリン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17680" y="2041560"/>
            <a:ext cx="688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en-US" sz="700" spc="-1" strike="noStrike" u="sng">
                <a:solidFill>
                  <a:srgbClr val="0066ff"/>
                </a:solidFill>
                <a:uFillTx/>
                <a:latin typeface="Arial"/>
              </a:rPr>
              <a:t>Imag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ohn Lenn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-EITAI00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12720" y="2325600"/>
            <a:ext cx="79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en-US" sz="600" spc="-1" strike="noStrike" u="sng">
                <a:solidFill>
                  <a:srgbClr val="0066ff"/>
                </a:solidFill>
                <a:uFillTx/>
                <a:latin typeface="Arial"/>
              </a:rPr>
              <a:t>EZ-FM</a:t>
            </a:r>
            <a:r>
              <a:rPr b="0" lang="zh-CN" sz="600" spc="-1" strike="noStrike" u="sng">
                <a:solidFill>
                  <a:srgbClr val="0066ff"/>
                </a:solidFill>
                <a:uFillTx/>
                <a:latin typeface="Arial"/>
              </a:rPr>
              <a:t>サイトへリンク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56200" y="1692360"/>
            <a:ext cx="10270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56200" y="1905120"/>
            <a:ext cx="10270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29280" y="2406600"/>
            <a:ext cx="52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66ff"/>
                </a:solidFill>
                <a:uFillTx/>
                <a:latin typeface="Arial"/>
              </a:rPr>
              <a:t>♪</a:t>
            </a:r>
            <a:r>
              <a:rPr b="0" lang="zh-CN" sz="600" spc="-1" strike="noStrike" u="sng">
                <a:solidFill>
                  <a:srgbClr val="0066ff"/>
                </a:solidFill>
                <a:uFillTx/>
                <a:latin typeface="Arial"/>
              </a:rPr>
              <a:t>アプリに戻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57640" y="2546280"/>
            <a:ext cx="1024200" cy="9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）２００３ 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KDDI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9360" y="3008160"/>
            <a:ext cx="201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Search for related cont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with 1 Click on the “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＊”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-- Now purchase is possibl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5920" y="4376880"/>
            <a:ext cx="6629400" cy="1728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receiving programs through broadcast waves and acquiring music information throug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, users can acquire and save music information etc. for a given song.  Through 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okmark list, users can enjoy a service that allows them to purchase ringtones, trueton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CDs related to the bookmarked song.  With this, broadcasters are able to go bey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broadcast business boundaries, and become content retail outlets as well.  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vice is also receiving much attention for its potential in realizing one to one mark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siness models.  With various content purchased through the mobile phone, using F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adcasts as triggers, the service also works to vitalize mobile commerce for carri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2760" y="4122720"/>
            <a:ext cx="142128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 Service overview 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写真: A5503SA"/>
          <p:cNvPicPr/>
          <p:nvPr/>
        </p:nvPicPr>
        <p:blipFill>
          <a:blip r:embed="rId3"/>
          <a:stretch/>
        </p:blipFill>
        <p:spPr>
          <a:xfrm>
            <a:off x="4221000" y="6824520"/>
            <a:ext cx="970200" cy="129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製品画像"/>
          <p:cNvPicPr/>
          <p:nvPr/>
        </p:nvPicPr>
        <p:blipFill>
          <a:blip r:embed="rId4"/>
          <a:stretch/>
        </p:blipFill>
        <p:spPr>
          <a:xfrm>
            <a:off x="5442120" y="6824520"/>
            <a:ext cx="963360" cy="1297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67840" y="6400800"/>
            <a:ext cx="1212480" cy="1742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iant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89680" y="8143560"/>
            <a:ext cx="7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5503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YO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58400" y="8143560"/>
            <a:ext cx="7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5505S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YO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7600" y="6602400"/>
            <a:ext cx="20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re devices to roll out in the futur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6321600"/>
            <a:ext cx="3313080" cy="25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4760" y="6431040"/>
            <a:ext cx="2743200" cy="196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680" y="6418440"/>
            <a:ext cx="720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960" rIns="669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360" y="6805440"/>
            <a:ext cx="3277080" cy="18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960" rIns="669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quire “Now On Air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arch for content related to “Now On Air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nk to broadcast station site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rowse broadcast time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My program gu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il notification at start time with program re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157720" y="9531360"/>
            <a:ext cx="91116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TFMトップページへ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68640" y="9337680"/>
            <a:ext cx="720720" cy="51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836640" y="9561600"/>
          <a:ext cx="785880" cy="258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6640" y="9561600"/>
                    <a:ext cx="785880" cy="2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60280" y="2359080"/>
            <a:ext cx="5184720" cy="14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44640" y="-160200"/>
            <a:ext cx="2968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ＭＳ Ｐゴシック"/>
              </a:rPr>
              <a:t>FM keit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157720" y="9531360"/>
            <a:ext cx="911160" cy="304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TFMトップページ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68640" y="9337680"/>
            <a:ext cx="720720" cy="511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821200" y="2508120"/>
            <a:ext cx="847800" cy="1060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49280" y="1500120"/>
            <a:ext cx="3444840" cy="3446640"/>
          </a:xfrm>
          <a:prstGeom prst="ellipse">
            <a:avLst/>
          </a:prstGeom>
          <a:noFill/>
          <a:ln w="2379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44920" y="1289160"/>
            <a:ext cx="92844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adcast s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wi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 st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779560" y="849240"/>
            <a:ext cx="530280" cy="504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133720" y="1135080"/>
            <a:ext cx="528480" cy="463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29720" y="1806480"/>
            <a:ext cx="10998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sic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45560" y="133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55200" y="1281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5640" y="3568680"/>
            <a:ext cx="68904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606600" y="3036960"/>
            <a:ext cx="260280" cy="743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V="1">
            <a:off x="817560" y="2508120"/>
            <a:ext cx="266760" cy="74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7560" y="3355920"/>
            <a:ext cx="26676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240" y="2475000"/>
            <a:ext cx="685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6600"/>
                </a:solidFill>
                <a:latin typeface="Arial Black"/>
              </a:rPr>
              <a:t>FMappl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6600"/>
                </a:solidFill>
                <a:latin typeface="Arial Black"/>
              </a:rPr>
              <a:t>“</a:t>
            </a:r>
            <a:r>
              <a:rPr b="0" lang="ja-JP" sz="1000" spc="-1" strike="noStrike">
                <a:solidFill>
                  <a:srgbClr val="ff6600"/>
                </a:solidFill>
                <a:latin typeface="Arial Black"/>
              </a:rPr>
              <a:t>EZ-FM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43080" y="3568680"/>
            <a:ext cx="68904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65640" y="2349360"/>
            <a:ext cx="68904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 rot="19657800">
            <a:off x="4315680" y="1967040"/>
            <a:ext cx="69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47600" y="1797120"/>
            <a:ext cx="15631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w On Air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3204720" y="4841640"/>
            <a:ext cx="68904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 rot="3883200">
            <a:off x="3204720" y="4548960"/>
            <a:ext cx="69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29200" y="4287960"/>
            <a:ext cx="2091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nk with Now On Air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64960" y="4295880"/>
            <a:ext cx="134964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rchase truet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79560" y="3409920"/>
            <a:ext cx="1008000" cy="606600"/>
          </a:xfrm>
          <a:prstGeom prst="wedgeRectCallout">
            <a:avLst>
              <a:gd name="adj1" fmla="val -33148"/>
              <a:gd name="adj2" fmla="val -6727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⑤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Display music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927760" y="2560680"/>
            <a:ext cx="676080" cy="223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927760" y="2932200"/>
            <a:ext cx="636480" cy="530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Mus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Index D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640" y="2666880"/>
            <a:ext cx="585720" cy="849600"/>
          </a:xfrm>
          <a:prstGeom prst="leftArrow">
            <a:avLst>
              <a:gd name="adj1" fmla="val 69426"/>
              <a:gd name="adj2" fmla="val 602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rov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us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Inf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720" y="155088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 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94080" y="2583000"/>
            <a:ext cx="113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52680" y="4457880"/>
            <a:ext cx="13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ent prov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1920" y="5311800"/>
            <a:ext cx="17301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38800" y="2222640"/>
            <a:ext cx="111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Carrier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92280" y="5311800"/>
            <a:ext cx="17305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8120" y="657864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83880" y="6578640"/>
            <a:ext cx="113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Broadc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TFMトップページへ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68640" y="5383080"/>
            <a:ext cx="574560" cy="406440"/>
          </a:xfrm>
          <a:prstGeom prst="rect">
            <a:avLst/>
          </a:prstGeom>
          <a:ln w="0">
            <a:noFill/>
          </a:ln>
        </p:spPr>
      </p:pic>
      <p:cxnSp>
        <p:nvCxnSpPr>
          <p:cNvPr id="227" name=""/>
          <p:cNvCxnSpPr>
            <a:stCxn id="195" idx="2"/>
            <a:endCxn id="223" idx="0"/>
          </p:cNvCxnSpPr>
          <p:nvPr/>
        </p:nvCxnSpPr>
        <p:spPr>
          <a:xfrm flipH="1" rot="16200000">
            <a:off x="1467720" y="3407040"/>
            <a:ext cx="3532680" cy="248400"/>
          </a:xfrm>
          <a:prstGeom prst="bentConnector3">
            <a:avLst>
              <a:gd name="adj1" fmla="val 50193"/>
            </a:avLst>
          </a:prstGeom>
          <a:ln w="28440">
            <a:solidFill>
              <a:srgbClr val="c0c0c0"/>
            </a:solidFill>
            <a:prstDash val="sysDot"/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4797360" y="5313240"/>
            <a:ext cx="17305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5300640" y="5527800"/>
            <a:ext cx="676440" cy="223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629600" y="6541920"/>
            <a:ext cx="21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lution ser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music INDEX information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193" idx="2"/>
            <a:endCxn id="228" idx="0"/>
          </p:cNvCxnSpPr>
          <p:nvPr/>
        </p:nvCxnSpPr>
        <p:spPr>
          <a:xfrm rot="5400000">
            <a:off x="5087880" y="4142160"/>
            <a:ext cx="1731240" cy="583560"/>
          </a:xfrm>
          <a:prstGeom prst="bentConnector3">
            <a:avLst>
              <a:gd name="adj1" fmla="val 50353"/>
            </a:avLst>
          </a:prstGeom>
          <a:ln w="31680">
            <a:solidFill>
              <a:srgbClr val="c0c0c0"/>
            </a:solidFill>
            <a:prstDash val="sysDot"/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89000" y="344520"/>
            <a:ext cx="648000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ystem sche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 rot="9576000">
            <a:off x="981000" y="3222000"/>
            <a:ext cx="8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1160" y="5821200"/>
            <a:ext cx="1557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rge Japanese carri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loying mobile pho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siness under “au” bra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60680" y="5821200"/>
            <a:ext cx="17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panese private sector F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adcaster that deplo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pan’s largest networks su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Tokyo F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93400" y="582120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ls for rights permis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ion operations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motes the common I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mat et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8" idx="2"/>
            <a:endCxn id="221" idx="0"/>
          </p:cNvCxnSpPr>
          <p:nvPr/>
        </p:nvCxnSpPr>
        <p:spPr>
          <a:xfrm flipH="1" rot="16200000">
            <a:off x="379440" y="4480560"/>
            <a:ext cx="1148040" cy="486360"/>
          </a:xfrm>
          <a:prstGeom prst="bentConnector3">
            <a:avLst>
              <a:gd name="adj1" fmla="val 50501"/>
            </a:avLst>
          </a:prstGeom>
          <a:ln w="31680">
            <a:solidFill>
              <a:srgbClr val="969696"/>
            </a:solidFill>
            <a:prstDash val="sysDot"/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2622600" y="4683240"/>
            <a:ext cx="847800" cy="47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37000" y="4735440"/>
            <a:ext cx="93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uetones, Ringtones, merchandise et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79560" y="2773440"/>
            <a:ext cx="2386080" cy="530280"/>
          </a:xfrm>
          <a:prstGeom prst="leftRightArrow">
            <a:avLst>
              <a:gd name="adj1" fmla="val 73509"/>
              <a:gd name="adj2" fmla="val 95909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④</a:t>
            </a: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cquire Now On Ai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⑥</a:t>
            </a: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Search content</a:t>
            </a:r>
            <a:r>
              <a:rPr b="1" lang="zh-CN" sz="900" spc="-1" strike="noStrike">
                <a:solidFill>
                  <a:srgbClr val="333399"/>
                </a:solidFill>
                <a:latin typeface="Arial"/>
              </a:rPr>
              <a:t>　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"/>
          <p:cNvCxnSpPr/>
          <p:nvPr/>
        </p:nvCxnSpPr>
        <p:spPr>
          <a:xfrm flipV="1" rot="16200000">
            <a:off x="4289760" y="552960"/>
            <a:ext cx="1157400" cy="2753640"/>
          </a:xfrm>
          <a:prstGeom prst="bentConnector2">
            <a:avLst/>
          </a:prstGeom>
          <a:ln w="13320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4602600" y="1208160"/>
            <a:ext cx="164052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MMID</a:t>
            </a: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1" lang="ja-JP" sz="900" spc="-1" strike="noStrike">
                <a:solidFill>
                  <a:srgbClr val="000000"/>
                </a:solidFill>
                <a:latin typeface="Arial"/>
              </a:rPr>
              <a:t>Mu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TFMトップページへ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429000" y="631800"/>
            <a:ext cx="720720" cy="509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60280" y="3780000"/>
            <a:ext cx="901800" cy="369720"/>
          </a:xfrm>
          <a:prstGeom prst="wedgeRectCallout">
            <a:avLst>
              <a:gd name="adj1" fmla="val -2111"/>
              <a:gd name="adj2" fmla="val -11781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Click while on ai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17840" y="2508120"/>
            <a:ext cx="847800" cy="1060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54280" y="2536920"/>
            <a:ext cx="5526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D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24400" y="2932200"/>
            <a:ext cx="636480" cy="530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Now On Ai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43080" y="2347920"/>
            <a:ext cx="68904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52640" y="2502000"/>
            <a:ext cx="795240" cy="10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52640" y="2502000"/>
            <a:ext cx="795240" cy="133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69920" y="2635200"/>
            <a:ext cx="762120" cy="92880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928800"/>
              <a:gd name="textAreaBottom" fmla="*/ 891720 h 928800"/>
            </a:gdLst>
            <a:ahLst/>
            <a:rect l="textAreaLeft" t="textAreaTop" r="textAreaRight" b="textAreaBottom"/>
            <a:pathLst>
              <a:path w="21600" h="26322">
                <a:moveTo>
                  <a:pt x="3600" y="0"/>
                </a:moveTo>
                <a:arcTo wR="3600" hR="3600" stAng="16200000" swAng="-5400000"/>
                <a:lnTo>
                  <a:pt x="0" y="22722"/>
                </a:lnTo>
                <a:arcTo wR="3600" hR="3600" stAng="10800000" swAng="-5400000"/>
                <a:lnTo>
                  <a:pt x="18000" y="26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36520" y="2800440"/>
            <a:ext cx="662040" cy="231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70000" y="2833560"/>
            <a:ext cx="363600" cy="1652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Arial"/>
              </a:rPr>
              <a:t>8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69160" y="2863800"/>
            <a:ext cx="4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6600"/>
                </a:solidFill>
                <a:latin typeface="Arial"/>
              </a:rPr>
              <a:t>MH</a:t>
            </a:r>
            <a:r>
              <a:rPr b="0" lang="zh-CN" sz="800" spc="-1" strike="noStrike">
                <a:solidFill>
                  <a:srgbClr val="ff6600"/>
                </a:solidFill>
                <a:latin typeface="Arial"/>
              </a:rPr>
              <a:t>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01560" y="2647800"/>
            <a:ext cx="365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6600"/>
                </a:solidFill>
                <a:latin typeface="Arial Black"/>
              </a:rPr>
              <a:t>EZ-F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03400" y="3098880"/>
            <a:ext cx="695160" cy="166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67000" y="3065400"/>
            <a:ext cx="331560" cy="666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NOW ON AIR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56240" y="3084480"/>
            <a:ext cx="84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6600"/>
                </a:solidFill>
                <a:latin typeface="Arial"/>
              </a:rPr>
              <a:t>14:54 </a:t>
            </a:r>
            <a:r>
              <a:rPr b="0" lang="en-US" sz="800" spc="-1" strike="noStrike">
                <a:solidFill>
                  <a:srgbClr val="ff6600"/>
                </a:solidFill>
                <a:latin typeface="Arial"/>
              </a:rPr>
              <a:t>Imagine 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03400" y="3298680"/>
            <a:ext cx="695160" cy="165240"/>
          </a:xfrm>
          <a:prstGeom prst="rect">
            <a:avLst/>
          </a:prstGeom>
          <a:solidFill>
            <a:srgbClr val="cc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36520" y="3314880"/>
            <a:ext cx="131760" cy="133200"/>
          </a:xfrm>
          <a:custGeom>
            <a:avLst/>
            <a:gdLst>
              <a:gd name="textAreaLeft" fmla="*/ 6120 w 131760"/>
              <a:gd name="textAreaRight" fmla="*/ 125640 w 131760"/>
              <a:gd name="textAreaTop" fmla="*/ 6120 h 133200"/>
              <a:gd name="textAreaBottom" fmla="*/ 127080 h 133200"/>
            </a:gdLst>
            <a:ahLst/>
            <a:rect l="textAreaLeft" t="textAreaTop" r="textAreaRight" b="textAreaBottom"/>
            <a:pathLst>
              <a:path w="21600" h="21835">
                <a:moveTo>
                  <a:pt x="3600" y="0"/>
                </a:moveTo>
                <a:arcTo wR="3600" hR="3600" stAng="16200000" swAng="-5400000"/>
                <a:lnTo>
                  <a:pt x="0" y="18235"/>
                </a:lnTo>
                <a:arcTo wR="3600" hR="3600" stAng="10800000" swAng="-5400000"/>
                <a:lnTo>
                  <a:pt x="18000" y="218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F 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312920" y="3330720"/>
            <a:ext cx="31680" cy="33120"/>
            <a:chOff x="1312920" y="3330720"/>
            <a:chExt cx="31680" cy="33120"/>
          </a:xfrm>
        </p:grpSpPr>
        <p:sp>
          <p:nvSpPr>
            <p:cNvPr id="262" name=""/>
            <p:cNvSpPr/>
            <p:nvPr/>
          </p:nvSpPr>
          <p:spPr>
            <a:xfrm>
              <a:off x="1312920" y="3330720"/>
              <a:ext cx="3168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320840" y="3338640"/>
              <a:ext cx="15840" cy="16560"/>
              <a:chOff x="1320840" y="3338640"/>
              <a:chExt cx="15840" cy="16560"/>
            </a:xfrm>
          </p:grpSpPr>
          <p:sp>
            <p:nvSpPr>
              <p:cNvPr id="264" name=""/>
              <p:cNvSpPr/>
              <p:nvPr/>
            </p:nvSpPr>
            <p:spPr>
              <a:xfrm>
                <a:off x="1320840" y="3347280"/>
                <a:ext cx="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320840" y="3339000"/>
                <a:ext cx="1584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1320840" y="3338640"/>
                <a:ext cx="1584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1312920" y="3397320"/>
            <a:ext cx="31680" cy="33120"/>
            <a:chOff x="1312920" y="3397320"/>
            <a:chExt cx="31680" cy="33120"/>
          </a:xfrm>
        </p:grpSpPr>
        <p:sp>
          <p:nvSpPr>
            <p:cNvPr id="268" name=""/>
            <p:cNvSpPr/>
            <p:nvPr/>
          </p:nvSpPr>
          <p:spPr>
            <a:xfrm>
              <a:off x="1312920" y="3397320"/>
              <a:ext cx="31680" cy="3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320840" y="3405240"/>
              <a:ext cx="15840" cy="16560"/>
              <a:chOff x="1320840" y="3405240"/>
              <a:chExt cx="15840" cy="16560"/>
            </a:xfrm>
          </p:grpSpPr>
          <p:sp>
            <p:nvSpPr>
              <p:cNvPr id="270" name=""/>
              <p:cNvSpPr/>
              <p:nvPr/>
            </p:nvSpPr>
            <p:spPr>
              <a:xfrm>
                <a:off x="1320840" y="3413880"/>
                <a:ext cx="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320840" y="3405600"/>
                <a:ext cx="1584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1320840" y="3405240"/>
                <a:ext cx="1584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1330920" y="3282840"/>
            <a:ext cx="4093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オンエア曲着うた検索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10400" y="3355920"/>
            <a:ext cx="4125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000000"/>
                </a:solidFill>
                <a:latin typeface="Arial"/>
              </a:rPr>
              <a:t>選局中の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FM</a:t>
            </a:r>
            <a:r>
              <a:rPr b="0" lang="zh-CN" sz="200" spc="-1" strike="noStrike">
                <a:solidFill>
                  <a:srgbClr val="000000"/>
                </a:solidFill>
                <a:latin typeface="Arial"/>
              </a:rPr>
              <a:t>サイトへジャンプ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68560" y="3497400"/>
            <a:ext cx="199800" cy="66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ff6600"/>
                </a:solidFill>
                <a:latin typeface="Arial"/>
              </a:rPr>
              <a:t>ツール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68360" y="3497400"/>
            <a:ext cx="198360" cy="66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6600"/>
                </a:solidFill>
                <a:latin typeface="Arial"/>
              </a:rPr>
              <a:t>CLIP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66720" y="3497400"/>
            <a:ext cx="200160" cy="66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ff6600"/>
                </a:solidFill>
                <a:latin typeface="Arial"/>
              </a:rPr>
              <a:t>メニュ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217520" y="2501640"/>
            <a:ext cx="101520" cy="100080"/>
            <a:chOff x="1217520" y="2501640"/>
            <a:chExt cx="101520" cy="100080"/>
          </a:xfrm>
        </p:grpSpPr>
        <p:sp>
          <p:nvSpPr>
            <p:cNvPr id="279" name=""/>
            <p:cNvSpPr/>
            <p:nvPr/>
          </p:nvSpPr>
          <p:spPr>
            <a:xfrm>
              <a:off x="1217520" y="2534760"/>
              <a:ext cx="10152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217520" y="2501640"/>
              <a:ext cx="6732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351080" y="2535120"/>
            <a:ext cx="66600" cy="66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549440" y="2531880"/>
            <a:ext cx="100080" cy="74880"/>
            <a:chOff x="1549440" y="2531880"/>
            <a:chExt cx="100080" cy="74880"/>
          </a:xfrm>
        </p:grpSpPr>
        <p:grpSp>
          <p:nvGrpSpPr>
            <p:cNvPr id="283" name=""/>
            <p:cNvGrpSpPr/>
            <p:nvPr/>
          </p:nvGrpSpPr>
          <p:grpSpPr>
            <a:xfrm>
              <a:off x="1549440" y="2531880"/>
              <a:ext cx="56520" cy="74880"/>
              <a:chOff x="1549440" y="2531880"/>
              <a:chExt cx="56520" cy="7488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1549440" y="2531520"/>
                <a:ext cx="56520" cy="277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77520" y="2532240"/>
                <a:ext cx="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V="1">
              <a:off x="1599120" y="2581200"/>
              <a:ext cx="0" cy="2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624680" y="2557080"/>
              <a:ext cx="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624680" y="2557080"/>
              <a:ext cx="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649520" y="2531880"/>
              <a:ext cx="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550520" y="2463840"/>
            <a:ext cx="37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Gill Sans MT"/>
                <a:ea typeface="바탕"/>
              </a:rPr>
              <a:t>15: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85760" y="2535120"/>
            <a:ext cx="100080" cy="66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9240" y="2535120"/>
            <a:ext cx="0" cy="6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0920" y="2535120"/>
            <a:ext cx="0" cy="6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 rot="2038200">
            <a:off x="1219680" y="1964520"/>
            <a:ext cx="69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8800" y="8501040"/>
            <a:ext cx="627120" cy="660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549360" y="8026560"/>
            <a:ext cx="171360" cy="487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670040" y="7400880"/>
            <a:ext cx="698400" cy="1676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74440" y="7827840"/>
            <a:ext cx="4291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DD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09720" y="8078760"/>
            <a:ext cx="419040" cy="399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Now On Ai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D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68640" y="7777080"/>
            <a:ext cx="1227240" cy="835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4"/>
          <a:stretch/>
        </p:blipFill>
        <p:spPr>
          <a:xfrm>
            <a:off x="3357720" y="7832880"/>
            <a:ext cx="531720" cy="176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141720" y="8021520"/>
            <a:ext cx="419040" cy="45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Mus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Index D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7469280"/>
            <a:ext cx="557280" cy="31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roadca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5477040" y="7226280"/>
            <a:ext cx="349200" cy="331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>
            <a:off x="2436840" y="7608960"/>
            <a:ext cx="293688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52640" y="7400880"/>
            <a:ext cx="349200" cy="173160"/>
          </a:xfrm>
          <a:custGeom>
            <a:avLst/>
            <a:gdLst>
              <a:gd name="textAreaLeft" fmla="*/ 0 w 349200"/>
              <a:gd name="textAreaRight" fmla="*/ 349560 w 349200"/>
              <a:gd name="textAreaTop" fmla="*/ 22320 h 173160"/>
              <a:gd name="textAreaBottom" fmla="*/ 150840 h 17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MM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65720" y="7905600"/>
            <a:ext cx="1063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 MM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prietary metadata info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73720" y="8089920"/>
            <a:ext cx="557280" cy="312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roadcas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6"/>
          <a:stretch/>
        </p:blipFill>
        <p:spPr>
          <a:xfrm>
            <a:off x="5477040" y="7846920"/>
            <a:ext cx="349200" cy="331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flipH="1">
            <a:off x="3645000" y="8229600"/>
            <a:ext cx="172872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81600" y="7812000"/>
            <a:ext cx="279360" cy="7668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Normal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401920" y="8265960"/>
            <a:ext cx="6667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37000" y="8193240"/>
            <a:ext cx="347400" cy="174600"/>
          </a:xfrm>
          <a:custGeom>
            <a:avLst/>
            <a:gdLst>
              <a:gd name="textAreaLeft" fmla="*/ 0 w 347400"/>
              <a:gd name="textAreaRight" fmla="*/ 347400 w 347400"/>
              <a:gd name="textAreaTop" fmla="*/ 22680 h 174600"/>
              <a:gd name="textAreaBottom" fmla="*/ 152280 h 174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MM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84560" y="7421400"/>
            <a:ext cx="1172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 air information with MM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3720" y="7905600"/>
            <a:ext cx="54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usic info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ith MM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01920" y="8933040"/>
            <a:ext cx="28987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7720" y="8840880"/>
            <a:ext cx="349200" cy="172800"/>
          </a:xfrm>
          <a:custGeom>
            <a:avLst/>
            <a:gdLst>
              <a:gd name="textAreaLeft" fmla="*/ 0 w 349200"/>
              <a:gd name="textAreaRight" fmla="*/ 349560 w 349200"/>
              <a:gd name="textAreaTop" fmla="*/ 22320 h 172800"/>
              <a:gd name="textAreaBottom" fmla="*/ 150480 h 172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MM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5000" y="8271000"/>
            <a:ext cx="8701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8960" y="805500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arch mus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42120" y="8813880"/>
            <a:ext cx="382320" cy="277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333399"/>
                </a:solidFill>
                <a:latin typeface="Arial"/>
              </a:rPr>
              <a:t>Cont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333399"/>
                </a:solidFill>
                <a:latin typeface="Arial"/>
              </a:rPr>
              <a:t>DB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86560" y="9023400"/>
            <a:ext cx="261720" cy="104760"/>
          </a:xfrm>
          <a:custGeom>
            <a:avLst/>
            <a:gdLst>
              <a:gd name="textAreaLeft" fmla="*/ 0 w 261720"/>
              <a:gd name="textAreaRight" fmla="*/ 261720 w 261720"/>
              <a:gd name="textAreaTop" fmla="*/ 13320 h 104760"/>
              <a:gd name="textAreaBottom" fmla="*/ 91440 h 104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333399"/>
                </a:solidFill>
                <a:latin typeface="Arial"/>
              </a:rPr>
              <a:t>MMI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76640" y="8697960"/>
            <a:ext cx="1008000" cy="50328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99"/>
                </a:solidFill>
                <a:latin typeface="Arial"/>
              </a:rPr>
              <a:t>identify music !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3360" y="7184880"/>
            <a:ext cx="6191280" cy="20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3360" y="7040160"/>
            <a:ext cx="6191280" cy="1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txBody>
          <a:bodyPr lIns="54000" rIns="5400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Resolution service that utilizes MMG’s MMID : MMID is a musical works ID system advocated by MMG that uniquely identifies musical work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7"/>
          <a:stretch/>
        </p:blipFill>
        <p:spPr>
          <a:xfrm>
            <a:off x="4869000" y="7400880"/>
            <a:ext cx="39672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836640" y="9561600"/>
          <a:ext cx="785880" cy="258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36640" y="9561600"/>
                    <a:ext cx="785880" cy="2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836640" y="5529240"/>
          <a:ext cx="657360" cy="216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36640" y="5529240"/>
                    <a:ext cx="65736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05:36:27Z</dcterms:created>
  <dc:creator>井上</dc:creator>
  <dc:description/>
  <dc:language>en-US</dc:language>
  <cp:lastModifiedBy>Mika Neergaard</cp:lastModifiedBy>
  <dcterms:modified xsi:type="dcterms:W3CDTF">2004-06-09T19:48:12Z</dcterms:modified>
  <cp:revision>51</cp:revision>
  <dc:subject/>
  <dc:title>スライド 1</dc:title>
</cp:coreProperties>
</file>