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0D-4686-48CB-BEEB-A6A99049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740-BA5F-4A72-962F-14D32D8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CAE-3D2C-4D55-BD33-0FA19A36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433-BFCA-4D32-8C59-EE3AC9AF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FBD-87EF-45A9-B4F6-834FC3D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9A6-8D63-4F38-A9D5-546719B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A04-7B74-41C6-AF44-D784A53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8A8-F7DD-44C7-AE82-0937381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867-7D87-4078-BE4C-7D3C1854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70C-171B-4190-8778-08D84BC2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66A-78CA-4226-9C97-EDA6F6D5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449-1A43-400D-9CD3-6943510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5D06-59AC-40AE-BAAD-0004DE42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fm.co.jp/index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kddi.com/index.html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1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hyperlink" Target="http://www.tfm.co.jp/index.html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0080" y="55440"/>
            <a:ext cx="2968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3000" spc="-1" strike="noStrike">
                <a:solidFill>
                  <a:srgbClr val="000000"/>
                </a:solidFill>
                <a:latin typeface="SimSun"/>
                <a:ea typeface="SimSun"/>
              </a:rPr>
              <a:t>FM </a:t>
            </a:r>
            <a:r>
              <a:rPr b="1" lang="zh-CN" sz="3000" spc="-1" strike="noStrike">
                <a:solidFill>
                  <a:srgbClr val="000000"/>
                </a:solidFill>
                <a:latin typeface="SimSun"/>
                <a:ea typeface="SimSun"/>
              </a:rPr>
              <a:t>手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24280" y="9340920"/>
            <a:ext cx="1092240" cy="36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TFMトップページ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1720" y="9053640"/>
            <a:ext cx="863640" cy="61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DD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7920" y="9093240"/>
            <a:ext cx="122256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0280" y="2104920"/>
            <a:ext cx="518472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21200" y="2254320"/>
            <a:ext cx="847800" cy="106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49280" y="1246320"/>
            <a:ext cx="3444840" cy="3446280"/>
          </a:xfrm>
          <a:prstGeom prst="ellipse">
            <a:avLst/>
          </a:prstGeom>
          <a:noFill/>
          <a:ln w="2379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1035000"/>
            <a:ext cx="8478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SimSun"/>
                <a:ea typeface="SimSun"/>
              </a:rPr>
              <a:t>广播电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779560" y="665280"/>
            <a:ext cx="53028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984320" y="716040"/>
            <a:ext cx="604800" cy="53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43080" y="209376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2038200">
            <a:off x="1219680" y="1711080"/>
            <a:ext cx="6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SimSun"/>
                <a:ea typeface="SimSun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10360" y="1546200"/>
            <a:ext cx="5767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①</a:t>
            </a: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音乐节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9040" y="10843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98680" y="102708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mSun"/>
                <a:ea typeface="SimSun"/>
              </a:rPr>
              <a:t>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5640" y="3314880"/>
            <a:ext cx="689040" cy="1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17840" y="2254320"/>
            <a:ext cx="847800" cy="106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2276640"/>
            <a:ext cx="5875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SimSun"/>
                <a:ea typeface="SimSun"/>
              </a:rPr>
              <a:t>运营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SimSun"/>
                <a:ea typeface="SimSun"/>
              </a:rPr>
              <a:t>KD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4400" y="2678040"/>
            <a:ext cx="636480" cy="530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SimSun"/>
                <a:ea typeface="SimSun"/>
              </a:rPr>
              <a:t>Now On 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SimSun"/>
                <a:ea typeface="SimSun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606600" y="2782800"/>
            <a:ext cx="260280" cy="743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817560" y="2253960"/>
            <a:ext cx="26676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102120"/>
            <a:ext cx="266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6600" y="2212920"/>
            <a:ext cx="720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6600"/>
                </a:solidFill>
                <a:latin typeface="SimSun"/>
                <a:ea typeface="SimSun"/>
              </a:rPr>
              <a:t>FM</a:t>
            </a:r>
            <a:r>
              <a:rPr b="1" lang="zh-CN" sz="600" spc="-1" strike="noStrike">
                <a:solidFill>
                  <a:srgbClr val="ff6600"/>
                </a:solidFill>
                <a:latin typeface="SimSun"/>
                <a:ea typeface="SimSun"/>
              </a:rPr>
              <a:t>程序</a:t>
            </a:r>
            <a:r>
              <a:rPr b="1" lang="en-US" sz="600" spc="-1" strike="noStrike">
                <a:solidFill>
                  <a:srgbClr val="ff6600"/>
                </a:solidFill>
                <a:latin typeface="SimSun"/>
                <a:ea typeface="SimSun"/>
              </a:rPr>
              <a:t>(BREW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6600"/>
                </a:solidFill>
                <a:latin typeface="SimSun"/>
                <a:ea typeface="SimSun"/>
              </a:rPr>
              <a:t>“</a:t>
            </a:r>
            <a:r>
              <a:rPr b="0" lang="ja-JP" sz="1000" spc="-1" strike="noStrike">
                <a:solidFill>
                  <a:srgbClr val="ff6600"/>
                </a:solidFill>
                <a:latin typeface="SimSun"/>
                <a:ea typeface="SimSun"/>
              </a:rPr>
              <a:t>EZ-FM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2640" y="2247840"/>
            <a:ext cx="795240" cy="10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2640" y="2247840"/>
            <a:ext cx="795240" cy="133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9920" y="2381400"/>
            <a:ext cx="762120" cy="92844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928440"/>
              <a:gd name="textAreaBottom" fmla="*/ 891360 h 928440"/>
            </a:gdLst>
            <a:ahLst/>
            <a:rect l="textAreaLeft" t="textAreaTop" r="textAreaRight" b="textAreaBottom"/>
            <a:pathLst>
              <a:path w="21600" h="26312">
                <a:moveTo>
                  <a:pt x="3600" y="0"/>
                </a:moveTo>
                <a:arcTo wR="3600" hR="3600" stAng="16200000" swAng="-5400000"/>
                <a:lnTo>
                  <a:pt x="0" y="22712"/>
                </a:lnTo>
                <a:arcTo wR="3600" hR="3600" stAng="10800000" swAng="-5400000"/>
                <a:lnTo>
                  <a:pt x="18000" y="26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6520" y="2546280"/>
            <a:ext cx="662040" cy="231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70000" y="2579760"/>
            <a:ext cx="363600" cy="164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SimSun"/>
                <a:ea typeface="SimSun"/>
              </a:rPr>
              <a:t>8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56920" y="2603520"/>
            <a:ext cx="44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6600"/>
                </a:solidFill>
                <a:latin typeface="SimSun"/>
                <a:ea typeface="SimSun"/>
              </a:rPr>
              <a:t>MH</a:t>
            </a:r>
            <a:r>
              <a:rPr b="0" lang="zh-CN" sz="800" spc="-1" strike="noStrike">
                <a:solidFill>
                  <a:srgbClr val="ff6600"/>
                </a:solidFill>
                <a:latin typeface="SimSun"/>
                <a:ea typeface="SimSun"/>
              </a:rPr>
              <a:t>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8080" y="2389320"/>
            <a:ext cx="37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6600"/>
                </a:solidFill>
                <a:latin typeface="SimSun"/>
                <a:ea typeface="SimSun"/>
              </a:rPr>
              <a:t>EZ-F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3400" y="2844720"/>
            <a:ext cx="695160" cy="166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7000" y="2811600"/>
            <a:ext cx="331560" cy="66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SimSun"/>
                <a:ea typeface="SimSun"/>
              </a:rPr>
              <a:t>NOW ON AI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50840" y="2838600"/>
            <a:ext cx="810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6600"/>
                </a:solidFill>
                <a:latin typeface="SimSun"/>
                <a:ea typeface="SimSun"/>
              </a:rPr>
              <a:t>14:54 Real m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3400" y="3044880"/>
            <a:ext cx="695160" cy="16488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36520" y="3060720"/>
            <a:ext cx="131760" cy="133200"/>
          </a:xfrm>
          <a:custGeom>
            <a:avLst/>
            <a:gdLst>
              <a:gd name="textAreaLeft" fmla="*/ 6120 w 131760"/>
              <a:gd name="textAreaRight" fmla="*/ 125640 w 131760"/>
              <a:gd name="textAreaTop" fmla="*/ 6120 h 133200"/>
              <a:gd name="textAreaBottom" fmla="*/ 127080 h 133200"/>
            </a:gdLst>
            <a:ahLst/>
            <a:rect l="textAreaLeft" t="textAreaTop" r="textAreaRight" b="textAreaBottom"/>
            <a:pathLst>
              <a:path w="21600" h="21835">
                <a:moveTo>
                  <a:pt x="3600" y="0"/>
                </a:moveTo>
                <a:arcTo wR="3600" hR="3600" stAng="16200000" swAng="-5400000"/>
                <a:lnTo>
                  <a:pt x="0" y="18235"/>
                </a:lnTo>
                <a:arcTo wR="3600" hR="3600" stAng="10800000" swAng="-5400000"/>
                <a:lnTo>
                  <a:pt x="18000" y="218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SimSun"/>
                <a:ea typeface="SimSun"/>
              </a:rPr>
              <a:t>F 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SimSun"/>
                <a:ea typeface="SimSun"/>
              </a:rPr>
              <a:t>INFO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312920" y="3076560"/>
            <a:ext cx="31680" cy="33480"/>
            <a:chOff x="1312920" y="3076560"/>
            <a:chExt cx="31680" cy="33480"/>
          </a:xfrm>
        </p:grpSpPr>
        <p:sp>
          <p:nvSpPr>
            <p:cNvPr id="77" name=""/>
            <p:cNvSpPr/>
            <p:nvPr/>
          </p:nvSpPr>
          <p:spPr>
            <a:xfrm>
              <a:off x="1312920" y="3076560"/>
              <a:ext cx="31680" cy="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320840" y="3084840"/>
              <a:ext cx="15840" cy="16560"/>
              <a:chOff x="1320840" y="3084840"/>
              <a:chExt cx="15840" cy="16560"/>
            </a:xfrm>
          </p:grpSpPr>
          <p:sp>
            <p:nvSpPr>
              <p:cNvPr id="79" name=""/>
              <p:cNvSpPr/>
              <p:nvPr/>
            </p:nvSpPr>
            <p:spPr>
              <a:xfrm>
                <a:off x="1320840" y="309312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20840" y="3084840"/>
                <a:ext cx="158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320840" y="3084840"/>
                <a:ext cx="158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1312920" y="3143160"/>
            <a:ext cx="31680" cy="33480"/>
            <a:chOff x="1312920" y="3143160"/>
            <a:chExt cx="31680" cy="33480"/>
          </a:xfrm>
        </p:grpSpPr>
        <p:sp>
          <p:nvSpPr>
            <p:cNvPr id="83" name=""/>
            <p:cNvSpPr/>
            <p:nvPr/>
          </p:nvSpPr>
          <p:spPr>
            <a:xfrm>
              <a:off x="1312920" y="3143160"/>
              <a:ext cx="31680" cy="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320840" y="3151440"/>
              <a:ext cx="15840" cy="16560"/>
              <a:chOff x="1320840" y="3151440"/>
              <a:chExt cx="15840" cy="16560"/>
            </a:xfrm>
          </p:grpSpPr>
          <p:sp>
            <p:nvSpPr>
              <p:cNvPr id="85" name=""/>
              <p:cNvSpPr/>
              <p:nvPr/>
            </p:nvSpPr>
            <p:spPr>
              <a:xfrm>
                <a:off x="1320840" y="315972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20840" y="3151440"/>
                <a:ext cx="158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320840" y="3151440"/>
                <a:ext cx="158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1346040" y="3029040"/>
            <a:ext cx="4093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SimSun"/>
                <a:ea typeface="SimSun"/>
              </a:rPr>
              <a:t>搜索播放中歌曲的振歌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1520" y="3087720"/>
            <a:ext cx="455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SimSun"/>
                <a:ea typeface="SimSun"/>
              </a:rPr>
              <a:t>跳到被收听调频电台的主业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8560" y="3243240"/>
            <a:ext cx="199800" cy="66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ff6600"/>
                </a:solidFill>
                <a:latin typeface="SimSun"/>
                <a:ea typeface="SimSun"/>
              </a:rPr>
              <a:t>ツール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3243240"/>
            <a:ext cx="198360" cy="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6600"/>
                </a:solidFill>
                <a:latin typeface="SimSun"/>
                <a:ea typeface="SimSun"/>
              </a:rPr>
              <a:t>CLI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66720" y="3243240"/>
            <a:ext cx="200160" cy="66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ff6600"/>
                </a:solidFill>
                <a:latin typeface="SimSun"/>
                <a:ea typeface="SimSun"/>
              </a:rPr>
              <a:t>メニュ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17520" y="2247480"/>
            <a:ext cx="101520" cy="100080"/>
            <a:chOff x="1217520" y="2247480"/>
            <a:chExt cx="101520" cy="100080"/>
          </a:xfrm>
        </p:grpSpPr>
        <p:sp>
          <p:nvSpPr>
            <p:cNvPr id="94" name=""/>
            <p:cNvSpPr/>
            <p:nvPr/>
          </p:nvSpPr>
          <p:spPr>
            <a:xfrm>
              <a:off x="1217520" y="2280600"/>
              <a:ext cx="10152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imSun"/>
                  <a:ea typeface="SimSun"/>
                </a:rPr>
                <a:t>F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217520" y="2247480"/>
              <a:ext cx="6732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351080" y="2281320"/>
            <a:ext cx="66600" cy="66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ffff"/>
                </a:solidFill>
                <a:latin typeface="SimSun"/>
                <a:ea typeface="SimSun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49440" y="2277720"/>
            <a:ext cx="100080" cy="74880"/>
            <a:chOff x="1549440" y="2277720"/>
            <a:chExt cx="100080" cy="74880"/>
          </a:xfrm>
        </p:grpSpPr>
        <p:grpSp>
          <p:nvGrpSpPr>
            <p:cNvPr id="98" name=""/>
            <p:cNvGrpSpPr/>
            <p:nvPr/>
          </p:nvGrpSpPr>
          <p:grpSpPr>
            <a:xfrm>
              <a:off x="1549440" y="2277720"/>
              <a:ext cx="56520" cy="74880"/>
              <a:chOff x="1549440" y="2277720"/>
              <a:chExt cx="56520" cy="7488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1549440" y="2277360"/>
                <a:ext cx="56520" cy="277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77520" y="2278080"/>
                <a:ext cx="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1599120" y="2327040"/>
              <a:ext cx="0" cy="2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624680" y="2302920"/>
              <a:ext cx="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624680" y="2302920"/>
              <a:ext cx="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649520" y="2277720"/>
              <a:ext cx="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563120" y="2205000"/>
            <a:ext cx="3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mSun"/>
                <a:ea typeface="SimSun"/>
              </a:rPr>
              <a:t>15: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5760" y="2281320"/>
            <a:ext cx="100080" cy="66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9240" y="2281320"/>
            <a:ext cx="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2281320"/>
            <a:ext cx="0" cy="6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3080" y="3314880"/>
            <a:ext cx="689040" cy="1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5640" y="209556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9657800">
            <a:off x="4315680" y="1711440"/>
            <a:ext cx="6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SimSun"/>
                <a:ea typeface="SimSun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536840"/>
            <a:ext cx="1244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②</a:t>
            </a: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Now On Air</a:t>
            </a: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歌曲信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79560" y="2519280"/>
            <a:ext cx="2386080" cy="530280"/>
          </a:xfrm>
          <a:prstGeom prst="leftRightArrow">
            <a:avLst>
              <a:gd name="adj1" fmla="val 73509"/>
              <a:gd name="adj2" fmla="val 95909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④</a:t>
            </a:r>
            <a:r>
              <a:rPr b="1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获取</a:t>
            </a:r>
            <a:r>
              <a:rPr b="1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Now On Air</a:t>
            </a:r>
            <a:r>
              <a:rPr b="1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歌曲信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⑥</a:t>
            </a:r>
            <a:r>
              <a:rPr b="1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搜索歌曲相关内容</a:t>
            </a:r>
            <a:r>
              <a:rPr b="1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　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205080" y="4587840"/>
            <a:ext cx="688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3883200">
            <a:off x="3204720" y="4294800"/>
            <a:ext cx="69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SimSun"/>
                <a:ea typeface="SimSun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2600" y="4429080"/>
            <a:ext cx="8478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90360" y="4481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振铃、振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在线购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0960" y="3898800"/>
            <a:ext cx="15678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⑦</a:t>
            </a: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绑定</a:t>
            </a:r>
            <a:r>
              <a:rPr b="1" lang="en-US" sz="900" spc="-1" strike="noStrike">
                <a:solidFill>
                  <a:srgbClr val="000000"/>
                </a:solidFill>
                <a:latin typeface="SimSun"/>
                <a:ea typeface="SimSun"/>
              </a:rPr>
              <a:t>Now On</a:t>
            </a: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 Air</a:t>
            </a: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歌曲相关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52320" y="4035600"/>
            <a:ext cx="57528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⑧</a:t>
            </a: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购买振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3525840"/>
            <a:ext cx="901800" cy="369720"/>
          </a:xfrm>
          <a:prstGeom prst="wedgeRectCallout">
            <a:avLst>
              <a:gd name="adj1" fmla="val -14787"/>
              <a:gd name="adj2" fmla="val -143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③</a:t>
            </a:r>
            <a:r>
              <a:rPr b="0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播放中</a:t>
            </a:r>
            <a:r>
              <a:rPr b="0" lang="ja-JP" sz="1200" spc="-1" strike="noStrike">
                <a:solidFill>
                  <a:srgbClr val="333399"/>
                </a:solidFill>
                <a:latin typeface="SimSun"/>
                <a:ea typeface="SimSun"/>
              </a:rPr>
              <a:t>Cli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79560" y="3156120"/>
            <a:ext cx="1008000" cy="264960"/>
          </a:xfrm>
          <a:prstGeom prst="wedgeRectCallout">
            <a:avLst>
              <a:gd name="adj1" fmla="val -33148"/>
              <a:gd name="adj2" fmla="val 3682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99"/>
                </a:solidFill>
                <a:latin typeface="SimSun"/>
                <a:ea typeface="SimSun"/>
              </a:rPr>
              <a:t>⑤</a:t>
            </a:r>
            <a:r>
              <a:rPr b="1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显示歌曲信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5927760" y="2306520"/>
            <a:ext cx="676080" cy="22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27760" y="2678040"/>
            <a:ext cx="636480" cy="530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99"/>
                </a:solidFill>
                <a:latin typeface="SimSun"/>
                <a:ea typeface="SimSun"/>
              </a:rPr>
              <a:t>歌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333399"/>
                </a:solidFill>
                <a:latin typeface="SimSun"/>
                <a:ea typeface="SimSun"/>
              </a:rPr>
              <a:t>Index 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2413080"/>
            <a:ext cx="585720" cy="849240"/>
          </a:xfrm>
          <a:prstGeom prst="leftArrow">
            <a:avLst>
              <a:gd name="adj1" fmla="val 69426"/>
              <a:gd name="adj2" fmla="val 602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99"/>
                </a:solidFill>
                <a:latin typeface="SimSun"/>
                <a:ea typeface="SimSun"/>
              </a:rPr>
              <a:t>提供歌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99"/>
                </a:solidFill>
                <a:latin typeface="SimSun"/>
                <a:ea typeface="SimSun"/>
              </a:rPr>
              <a:t>信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9960" y="128916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调频电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08080" y="232092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通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56880" y="4192560"/>
            <a:ext cx="51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内容提供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3080" y="1960560"/>
            <a:ext cx="5464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6600"/>
                </a:solidFill>
                <a:latin typeface="SimSun"/>
                <a:ea typeface="SimSun"/>
              </a:rPr>
              <a:t>运营商网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9576000">
            <a:off x="620640" y="2967120"/>
            <a:ext cx="8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SimSun"/>
                <a:ea typeface="SimSun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6638760"/>
            <a:ext cx="2879640" cy="22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5920" y="4984920"/>
            <a:ext cx="6626160" cy="12999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SimSun"/>
                <a:ea typeface="SimSun"/>
              </a:rPr>
              <a:t>使用一台手机，通过调频电波收听广播，同时通过无线互联网获取歌曲的相关信息，用户不仅仅是可以保存自己喜欢的歌曲信息到手机的书签里；还可以通过这些信息，搜索并购买互联网上的相关内容，如手机振铃、振歌、或ＣＤ等。通过这种方式，广播业者超越了传统的广播模式，不仅把广播和在线商务结合起来，并可以灵活运用到一对一市场营销（</a:t>
            </a:r>
            <a:r>
              <a:rPr b="0" lang="ja-JP" sz="1200" spc="-1" strike="noStrike">
                <a:solidFill>
                  <a:srgbClr val="ffffff"/>
                </a:solidFill>
                <a:latin typeface="SimSun"/>
                <a:ea typeface="SimSun"/>
              </a:rPr>
              <a:t>One-To-One Marketing</a:t>
            </a:r>
            <a:r>
              <a:rPr b="0" lang="zh-CN" sz="1200" spc="-1" strike="noStrike">
                <a:solidFill>
                  <a:srgbClr val="ffffff"/>
                </a:solidFill>
                <a:latin typeface="SimSun"/>
                <a:ea typeface="SimSun"/>
              </a:rPr>
              <a:t>）里去，从而倍受世人注目。同时，对运营商来说，以ＦＭ广播为契机，通过手机可以展开各种各样的在线内容服务业务，从而促使手机移动商务达到一个新的运用高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写真: A5503SA"/>
          <p:cNvPicPr/>
          <p:nvPr/>
        </p:nvPicPr>
        <p:blipFill>
          <a:blip r:embed="rId10"/>
          <a:stretch/>
        </p:blipFill>
        <p:spPr>
          <a:xfrm>
            <a:off x="4221000" y="6999120"/>
            <a:ext cx="97020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製品画像"/>
          <p:cNvPicPr/>
          <p:nvPr/>
        </p:nvPicPr>
        <p:blipFill>
          <a:blip r:embed="rId11"/>
          <a:stretch/>
        </p:blipFill>
        <p:spPr>
          <a:xfrm>
            <a:off x="5442120" y="6999120"/>
            <a:ext cx="963360" cy="129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68640" y="6567480"/>
            <a:ext cx="485640" cy="174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对应机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4360" y="8318160"/>
            <a:ext cx="6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A5503SA</a:t>
            </a: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SANYO</a:t>
            </a:r>
            <a:r>
              <a:rPr b="0" lang="zh-CN" sz="800" spc="-1" strike="noStrike">
                <a:solidFill>
                  <a:srgbClr val="000000"/>
                </a:solidFill>
                <a:latin typeface="SimSun"/>
                <a:ea typeface="SimSun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8318160"/>
            <a:ext cx="6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A5505SA</a:t>
            </a: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0" lang="en-US" sz="800" spc="-1" strike="noStrike">
                <a:solidFill>
                  <a:srgbClr val="000000"/>
                </a:solidFill>
                <a:latin typeface="SimSun"/>
                <a:ea typeface="SimSun"/>
              </a:rPr>
              <a:t>SANYO</a:t>
            </a:r>
            <a:r>
              <a:rPr b="0" lang="zh-CN" sz="800" spc="-1" strike="noStrike">
                <a:solidFill>
                  <a:srgbClr val="000000"/>
                </a:solidFill>
                <a:latin typeface="SimSun"/>
                <a:ea typeface="SimSun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06080" y="663876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SimSun"/>
                <a:ea typeface="SimSun"/>
              </a:rPr>
              <a:t>各类新机型将陆续登场</a:t>
            </a:r>
            <a:r>
              <a:rPr b="0" lang="ja-JP" sz="900" spc="-1" strike="noStrike">
                <a:solidFill>
                  <a:srgbClr val="000000"/>
                </a:solidFill>
                <a:latin typeface="SimSun"/>
                <a:ea typeface="SimSun"/>
              </a:rPr>
              <a:t>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0280" y="6496200"/>
            <a:ext cx="2971800" cy="245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4760" y="6605640"/>
            <a:ext cx="2743200" cy="196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8120" y="6583320"/>
            <a:ext cx="463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960" rIns="669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SimSun"/>
                <a:ea typeface="SimSun"/>
              </a:rPr>
              <a:t>機能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2560" y="6970680"/>
            <a:ext cx="17337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960" rIns="669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①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获取</a:t>
            </a: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Now On Air</a:t>
            </a: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（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播放中</a:t>
            </a: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）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②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搜索</a:t>
            </a: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Now On Air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信息相关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③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连接到广播局的站点</a:t>
            </a: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④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浏览节目播放时间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⑤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制作个人节目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SimSun"/>
                <a:ea typeface="SimSun"/>
              </a:rPr>
              <a:t>⑥</a:t>
            </a:r>
            <a:r>
              <a:rPr b="1" lang="zh-CN" sz="1000" spc="-1" strike="noStrike">
                <a:solidFill>
                  <a:srgbClr val="000000"/>
                </a:solidFill>
                <a:latin typeface="SimSun"/>
                <a:ea typeface="SimSun"/>
              </a:rPr>
              <a:t>预订节目开始时的邮件通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TFMトップページへ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73360" y="574560"/>
            <a:ext cx="792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5:36:27Z</dcterms:created>
  <dc:creator>井上</dc:creator>
  <dc:description/>
  <dc:language>en-US</dc:language>
  <cp:lastModifiedBy>mmg</cp:lastModifiedBy>
  <dcterms:modified xsi:type="dcterms:W3CDTF">2004-06-10T15:48:42Z</dcterms:modified>
  <cp:revision>8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7185313</vt:r8>
  </property>
  <property fmtid="{D5CDD505-2E9C-101B-9397-08002B2CF9AE}" pid="3" name="_AuthorEmail">
    <vt:lpwstr>onlinemika@yahoo.com</vt:lpwstr>
  </property>
  <property fmtid="{D5CDD505-2E9C-101B-9397-08002B2CF9AE}" pid="4" name="_AuthorEmailDisplayName">
    <vt:lpwstr>Mika Onishi Neergaard</vt:lpwstr>
  </property>
  <property fmtid="{D5CDD505-2E9C-101B-9397-08002B2CF9AE}" pid="5" name="_EmailSubject">
    <vt:lpwstr>TVA IDE from MMG (1)</vt:lpwstr>
  </property>
</Properties>
</file>