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2068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35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37368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3680"/>
            <a:ext cx="292068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5493D48-8F3E-47A6-8B23-DCDB5F4B018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66960" y="6094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3280" y="4086360"/>
            <a:ext cx="5340240" cy="507528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【要旨】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25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音楽ＤＬは非常に評価が高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Ｄ販売は今ひとつ。⇒私個人的には、ラジオとかＴＶで見聞きして、ネットで調べて買う方なので、良いと思う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問題の自由コメントとして、好意的・良い評価をしているものが多かったが、以下のようなものも、何名からかあった。（同じようなコメントが数名からあった。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ラジオは“～ながら”で聞けるのが良いところなので、データ放送とか官位動画はそれに反する。」⇒「データ放送によるサービスは、後でできるような仕組みを入れたらどうか？」という意見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今回のサービスは、今ＦＭラジオと携帯電話やインターネットで実現できていることであり、真新しさはない。」⇒これについては、今回は基本的なサービスをデジタルラジオと携帯通信の連携で実現したということ。「次のアクションにつなげられるので、可能性を感じる。」「聴取者と番組の一体感が高まる」という意見があっ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コンテンツに期待する。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ＥＰＧでエアチェック予約ができると良い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という意見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3560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Voice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おけるデモ放送は１７時までということを忘れていたので、どのような放送通信連携コンテンツだったかのイメージを抱いて頂けるよう、ビデオで幾つか紹介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⑬：放送ダウンロード＋表示モード変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④：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購入デ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⑪：アンケート応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25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何回も同じ紹介をしているが、初めての方もいるかもしれないので、復習ということで再度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9A6-D00E-422C-B9FC-F5A987DA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8CC-F812-455D-B84F-4433D68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26F-0413-41DF-9022-1CBFCA4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C28-6FFA-4258-A2EC-DA7F5F53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86E-098C-4E15-84F5-FD3D36F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939-2645-4C84-8403-1ED77B5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336-589D-45D5-85FA-1FEAFDBF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7C4-C386-4227-BBD9-AA471D7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2B9-DEAE-47FA-A72A-40E4744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A69-22FE-4565-8CE0-7E94CFF2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A96-CD72-4978-9C5A-24CF7E6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315-0E91-4021-8B4A-1E62FBA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BE71-1490-451C-836D-D9A11A4D92FE}" type="datetime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3241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497-F293-4531-B0E0-0BC42F31371A}" type="slidenum"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762120"/>
            <a:ext cx="7543800" cy="151920"/>
            <a:chOff x="685800" y="762120"/>
            <a:chExt cx="7543800" cy="151920"/>
          </a:xfrm>
        </p:grpSpPr>
        <p:sp>
          <p:nvSpPr>
            <p:cNvPr id="6" name=""/>
            <p:cNvSpPr/>
            <p:nvPr/>
          </p:nvSpPr>
          <p:spPr>
            <a:xfrm>
              <a:off x="685800" y="762120"/>
              <a:ext cx="708660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838080"/>
              <a:ext cx="7467480" cy="759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6172200" y="65833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L Rights Reserved, Copyright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）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K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066680" cy="52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7772400" y="82440"/>
          <a:ext cx="137160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82440"/>
                    <a:ext cx="13716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114480" y="6315120"/>
          <a:ext cx="114300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80" y="6315120"/>
                    <a:ext cx="11430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png"/><Relationship Id="rId8" Type="http://schemas.openxmlformats.org/officeDocument/2006/relationships/image" Target="../media/image13.jpe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image" Target="../media/image4.png"/><Relationship Id="rId9" Type="http://schemas.openxmlformats.org/officeDocument/2006/relationships/image" Target="../media/image6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6.wmf"/><Relationship Id="rId13" Type="http://schemas.openxmlformats.org/officeDocument/2006/relationships/image" Target="../media/image26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09480"/>
            <a:ext cx="8229600" cy="5639040"/>
          </a:xfrm>
          <a:prstGeom prst="roundRect">
            <a:avLst>
              <a:gd name="adj" fmla="val 13769"/>
            </a:avLst>
          </a:prstGeom>
          <a:gradFill rotWithShape="0">
            <a:gsLst>
              <a:gs pos="0">
                <a:srgbClr val="ffffff"/>
              </a:gs>
              <a:gs pos="100000">
                <a:srgbClr val="cef5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371600"/>
            <a:ext cx="6400800" cy="2209680"/>
          </a:xfrm>
          <a:prstGeom prst="rect">
            <a:avLst/>
          </a:prstGeom>
          <a:gradFill rotWithShape="0">
            <a:gsLst>
              <a:gs pos="0">
                <a:srgbClr val="b8b893"/>
              </a:gs>
              <a:gs pos="50000">
                <a:srgbClr val="ffffcc"/>
              </a:gs>
              <a:gs pos="100000">
                <a:srgbClr val="b8b89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gital Radio Broadcast 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bile Telecommunication Integrated Service and Associated Demonstration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657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3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572000"/>
            <a:ext cx="5257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Arial"/>
              </a:rPr>
              <a:t>ＫＤＤ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Arial"/>
              </a:rPr>
              <a:t>Technology Development Group</a:t>
            </a:r>
            <a:r>
              <a:rPr b="1" lang="ja-JP" sz="24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Arial"/>
              </a:rPr>
              <a:t>Media Technology Developmen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Arial"/>
              </a:rPr>
              <a:t>Toshiyasu Waka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99"/>
                </a:solidFill>
                <a:latin typeface="Arial"/>
              </a:rPr>
              <a:t>to-wakayama@kdd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858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BEF-5080-4877-B5C6-BEDF7106475A}" type="slidenum">
              <a:t>1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07160" y="1055520"/>
            <a:ext cx="79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actions after experiencing digital radio broadcast and mobile telecommunication integrated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９．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Results of verificatio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3600" y="1452600"/>
            <a:ext cx="8461440" cy="4432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63600" y="2000160"/>
            <a:ext cx="7228080" cy="3532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8240" y="2000160"/>
            <a:ext cx="180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544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0840" y="2000160"/>
            <a:ext cx="180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804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2000160"/>
            <a:ext cx="180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648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1188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3908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6448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9168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63600" y="2000160"/>
            <a:ext cx="7228080" cy="353232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9840" y="5041800"/>
            <a:ext cx="3816360" cy="30024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5440" y="4343400"/>
            <a:ext cx="1908360" cy="28116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27240" y="3624120"/>
            <a:ext cx="2163600" cy="30168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27240" y="2925720"/>
            <a:ext cx="2043000" cy="28116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28680" y="2208240"/>
            <a:ext cx="2192400" cy="29988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70600" y="5041800"/>
            <a:ext cx="2028600" cy="3002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49640" y="4343400"/>
            <a:ext cx="2193840" cy="28116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06680" y="3624120"/>
            <a:ext cx="2376720" cy="30168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87880" y="2925720"/>
            <a:ext cx="2600280" cy="28116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36920" y="2208240"/>
            <a:ext cx="2330640" cy="29988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07120" y="5041800"/>
            <a:ext cx="1096920" cy="300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59320" y="4343400"/>
            <a:ext cx="2374920" cy="2811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6000" y="3624120"/>
            <a:ext cx="1893960" cy="3016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02200" y="2925720"/>
            <a:ext cx="2165400" cy="2811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83400" y="2208240"/>
            <a:ext cx="2193840" cy="2998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04040" y="5041800"/>
            <a:ext cx="76320" cy="30024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6040" y="4343400"/>
            <a:ext cx="287280" cy="28116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3200" y="3624120"/>
            <a:ext cx="344160" cy="3016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53560" y="2925720"/>
            <a:ext cx="74520" cy="28116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78680" y="2208240"/>
            <a:ext cx="135000" cy="2998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20240" y="5041800"/>
            <a:ext cx="74520" cy="30024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23320" y="4343400"/>
            <a:ext cx="104760" cy="28116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37360" y="3624120"/>
            <a:ext cx="90720" cy="30168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28080" y="2925720"/>
            <a:ext cx="75960" cy="28116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83440" y="2208240"/>
            <a:ext cx="74880" cy="29988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50120" y="5041800"/>
            <a:ext cx="74880" cy="300240"/>
          </a:xfrm>
          <a:prstGeom prst="rect">
            <a:avLst/>
          </a:prstGeom>
          <a:solidFill>
            <a:srgbClr val="ff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28080" y="4343400"/>
            <a:ext cx="106200" cy="281160"/>
          </a:xfrm>
          <a:prstGeom prst="rect">
            <a:avLst/>
          </a:prstGeom>
          <a:solidFill>
            <a:srgbClr val="ff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3440" y="3624120"/>
            <a:ext cx="74880" cy="301680"/>
          </a:xfrm>
          <a:prstGeom prst="rect">
            <a:avLst/>
          </a:prstGeom>
          <a:solidFill>
            <a:srgbClr val="ff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59760" y="2925720"/>
            <a:ext cx="74520" cy="281160"/>
          </a:xfrm>
          <a:prstGeom prst="rect">
            <a:avLst/>
          </a:prstGeom>
          <a:solidFill>
            <a:srgbClr val="ff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26440" y="5041800"/>
            <a:ext cx="165240" cy="30024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6080" y="4343400"/>
            <a:ext cx="255600" cy="2811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59760" y="3624120"/>
            <a:ext cx="331920" cy="30168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36080" y="2925720"/>
            <a:ext cx="255600" cy="2811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59760" y="2208240"/>
            <a:ext cx="331920" cy="29988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63600" y="5551560"/>
            <a:ext cx="722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21284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938240" y="55134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6544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90840" y="55134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11804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859280" y="55134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58648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31188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3908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76448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8491680" y="5513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2840" y="2000160"/>
            <a:ext cx="1440" cy="353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2840" y="555156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2840" y="48340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2840" y="41353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2840" y="341640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2840" y="27176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2840" y="200016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61000" y="507996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6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44440" y="436104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8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79440" y="36622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8960" y="29448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8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5280" y="22446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8280" y="50799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7680" y="436104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3600" y="36622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9200" y="294480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65440" y="22446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1480" y="50799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4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66240" y="436104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15000" y="36622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6200" y="29448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50000" y="22446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9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80640" y="50799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48280" y="436104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34240" y="36622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45640" y="29448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83720" y="22446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26720" y="50799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5400" y="436104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29800" y="366228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06120" y="29448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5880" y="22446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56600" y="50799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20160" y="436104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9920" y="366228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66240" y="29448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6120" y="224460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47320" y="50799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34280" y="436104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202600" y="36622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34280" y="29448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02600" y="22446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8240" y="570240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1944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4664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204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9924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4048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6768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9308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2028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45680" y="5702400"/>
            <a:ext cx="24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38320" y="5702400"/>
            <a:ext cx="32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680" y="513540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Music 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680" y="4437000"/>
            <a:ext cx="50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CD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1600" y="3719520"/>
            <a:ext cx="117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Opinionaire ent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3000" y="300024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Ticket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6480" y="2209680"/>
            <a:ext cx="23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9680" y="1469880"/>
            <a:ext cx="5562720" cy="282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81280" y="1565280"/>
            <a:ext cx="74520" cy="76320"/>
          </a:xfrm>
          <a:prstGeom prst="rect">
            <a:avLst/>
          </a:prstGeom>
          <a:solidFill>
            <a:srgbClr val="99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90360" y="1546200"/>
            <a:ext cx="22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F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1565280"/>
            <a:ext cx="74520" cy="7632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44240" y="1546200"/>
            <a:ext cx="86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mewhat f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1565280"/>
            <a:ext cx="74880" cy="763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53320" y="154620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9760" y="1565280"/>
            <a:ext cx="74520" cy="7632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65320" y="15462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ot too f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7840" y="1565280"/>
            <a:ext cx="74880" cy="76320"/>
          </a:xfrm>
          <a:prstGeom prst="rect">
            <a:avLst/>
          </a:prstGeom>
          <a:solidFill>
            <a:srgbClr val="6600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09880" y="154620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ot f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1565280"/>
            <a:ext cx="74520" cy="76320"/>
          </a:xfrm>
          <a:prstGeom prst="rect">
            <a:avLst/>
          </a:prstGeom>
          <a:solidFill>
            <a:srgbClr val="ff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96400" y="15462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Don’t kn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12080" y="1565280"/>
            <a:ext cx="74520" cy="7632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98120" y="15462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o 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600" y="1452600"/>
            <a:ext cx="8461440" cy="4432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90000" y="3738600"/>
            <a:ext cx="83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938-1825-4C5C-9916-E26CE36EB4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114800" y="3124080"/>
            <a:ext cx="914400" cy="1371600"/>
          </a:xfrm>
          <a:prstGeom prst="downArrow">
            <a:avLst>
              <a:gd name="adj1" fmla="val 50000"/>
              <a:gd name="adj2" fmla="val 47285"/>
            </a:avLst>
          </a:prstGeom>
          <a:solidFill>
            <a:srgbClr val="ffff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3276720"/>
            <a:ext cx="990720" cy="1218960"/>
          </a:xfrm>
          <a:prstGeom prst="downArrow">
            <a:avLst>
              <a:gd name="adj1" fmla="val 32694"/>
              <a:gd name="adj2" fmla="val 37264"/>
            </a:avLst>
          </a:prstGeom>
          <a:solidFill>
            <a:srgbClr val="ffff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0120" y="3276720"/>
            <a:ext cx="990360" cy="1143000"/>
          </a:xfrm>
          <a:prstGeom prst="downArrow">
            <a:avLst>
              <a:gd name="adj1" fmla="val 32056"/>
              <a:gd name="adj2" fmla="val 35104"/>
            </a:avLst>
          </a:prstGeom>
          <a:solidFill>
            <a:srgbClr val="ffff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124080"/>
            <a:ext cx="838080" cy="1371600"/>
          </a:xfrm>
          <a:prstGeom prst="downArrow">
            <a:avLst>
              <a:gd name="adj1" fmla="val 50000"/>
              <a:gd name="adj2" fmla="val 51143"/>
            </a:avLst>
          </a:prstGeom>
          <a:solidFill>
            <a:srgbClr val="ffff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7620120" y="5656320"/>
          <a:ext cx="91440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5656320"/>
                    <a:ext cx="9144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33520" y="487692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769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6019920" y="4572000"/>
            <a:ext cx="281916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6520" y="1752480"/>
            <a:ext cx="1981080" cy="1295280"/>
            <a:chOff x="1676520" y="1752480"/>
            <a:chExt cx="1981080" cy="1295280"/>
          </a:xfrm>
        </p:grpSpPr>
        <p:sp>
          <p:nvSpPr>
            <p:cNvPr id="426" name=""/>
            <p:cNvSpPr/>
            <p:nvPr/>
          </p:nvSpPr>
          <p:spPr>
            <a:xfrm>
              <a:off x="1676520" y="2209680"/>
              <a:ext cx="198108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Networked home appli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1752480"/>
              <a:ext cx="1981080" cy="4366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Home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886200" y="1752480"/>
            <a:ext cx="1447920" cy="1295280"/>
            <a:chOff x="3886200" y="1752480"/>
            <a:chExt cx="1447920" cy="1295280"/>
          </a:xfrm>
        </p:grpSpPr>
        <p:sp>
          <p:nvSpPr>
            <p:cNvPr id="429" name=""/>
            <p:cNvSpPr/>
            <p:nvPr/>
          </p:nvSpPr>
          <p:spPr>
            <a:xfrm>
              <a:off x="3886200" y="2209680"/>
              <a:ext cx="1447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Networked advanc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function 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mass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86200" y="1752480"/>
              <a:ext cx="1447920" cy="4366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Car Navig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715000" y="1752480"/>
            <a:ext cx="1523880" cy="1295280"/>
            <a:chOff x="5715000" y="1752480"/>
            <a:chExt cx="1523880" cy="1295280"/>
          </a:xfrm>
        </p:grpSpPr>
        <p:sp>
          <p:nvSpPr>
            <p:cNvPr id="432" name=""/>
            <p:cNvSpPr/>
            <p:nvPr/>
          </p:nvSpPr>
          <p:spPr>
            <a:xfrm>
              <a:off x="5715000" y="2209680"/>
              <a:ext cx="152388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Network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advanced function 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mass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15000" y="1752480"/>
              <a:ext cx="1523880" cy="4366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ＰＤ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391520" y="1752480"/>
            <a:ext cx="1600200" cy="1295280"/>
            <a:chOff x="7391520" y="1752480"/>
            <a:chExt cx="1600200" cy="1295280"/>
          </a:xfrm>
        </p:grpSpPr>
        <p:sp>
          <p:nvSpPr>
            <p:cNvPr id="435" name=""/>
            <p:cNvSpPr/>
            <p:nvPr/>
          </p:nvSpPr>
          <p:spPr>
            <a:xfrm>
              <a:off x="7391520" y="2209680"/>
              <a:ext cx="160020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Capable of music, video streaming, and settle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91520" y="1752480"/>
              <a:ext cx="1600200" cy="4366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Cellular 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1082520" y="0"/>
            <a:ext cx="67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１０．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KDDI’s activities 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broadcast/telecommunication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4572000"/>
            <a:ext cx="30481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Telecommunication / broadcast integrated mobil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ＭＳ Ｐゴシック"/>
              </a:rPr>
              <a:t>Mobile phone / PDA with TV/radio reception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71600" y="4572000"/>
            <a:ext cx="23623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4572000"/>
            <a:ext cx="25146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ＭＳ Ｐゴシック"/>
              </a:rPr>
              <a:t>Telecommunication / broadcast integrated STB</a:t>
            </a:r>
            <a:r>
              <a:rPr b="0" lang="zh-CN" sz="1200" spc="-1" strike="noStrike">
                <a:solidFill>
                  <a:srgbClr val="0000ff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ＭＳ Ｐゴシック"/>
              </a:rPr>
              <a:t>Networked Digital AV, PC, Teleph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3581280"/>
            <a:ext cx="6858000" cy="3812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Built-in terrestrial digital broadcast reception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886200"/>
            <a:ext cx="3810240" cy="38088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Ｐゴシック"/>
              </a:rPr>
              <a:t>Storage / playback of broadcast wave data (server type broadca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2971800"/>
            <a:ext cx="2895840" cy="30492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olarization of devices based on display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1066680"/>
            <a:ext cx="1219320" cy="53352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752480"/>
            <a:ext cx="1219320" cy="45720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3505320"/>
            <a:ext cx="1219320" cy="8380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cill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2209680"/>
            <a:ext cx="1219320" cy="83844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191120" y="5486400"/>
          <a:ext cx="106668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5486400"/>
                    <a:ext cx="1066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3657600" y="4572000"/>
            <a:ext cx="21337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57600" y="4572000"/>
            <a:ext cx="22096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ＭＳ Ｐゴシック"/>
              </a:rPr>
              <a:t>Telecommunication / broadcast integrated car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ＭＳ Ｐゴシック"/>
              </a:rPr>
              <a:t>TV reception-capable internet naviga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1143000"/>
            <a:ext cx="19810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in fixed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1143000"/>
            <a:ext cx="15238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in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1143000"/>
            <a:ext cx="327672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rtable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AEA-25CE-40CB-A98E-247B0526D7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895480"/>
            <a:ext cx="830124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2880" y="3193920"/>
            <a:ext cx="82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Please visit the exhi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6CE-93D7-4A59-9EE1-DB2B7312F2C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219320"/>
            <a:ext cx="830592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800" y="990720"/>
            <a:ext cx="114012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200" y="11574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09880"/>
            <a:ext cx="830592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505320"/>
            <a:ext cx="138744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920" y="36702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473120"/>
            <a:ext cx="815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★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Progress in digital transition of broadcast 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    ⇒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velopment of broadcast/telecommunication integrated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★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Exploitation of new services and business models that take advantage of the integration of digital radio broadcasting and mobile devices through 3 Seg Group (FM Tokyo, Nippon Broadcasting System, JFNC)/K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⇒●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veloped a verification experimentation system (mobile device /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   ●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Conducted demonstration experiment (March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005360"/>
            <a:ext cx="76197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Development of a PDA-style terrestrial digital radio receiv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・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velopment of 3 Seg Digital Radio Receiver  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FM Tokyo / KDDI / Vit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・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velopment of device browser/viewer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K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velopment of experiment server system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K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Program concept / content production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FM Tokyo / 3 Se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Business model / Service examination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FM Tokyo / KDDI / 3 Se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Demonstration experiment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FM Tokyo / KDDI / 3 Se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0"/>
            <a:ext cx="8534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１．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Background: Digital Radio Broadcast / Telecommun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integrated servic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679-16D4-4722-A8BC-3478A91E97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71800" y="3048120"/>
            <a:ext cx="30481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125080" y="1306440"/>
            <a:ext cx="124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gital Rad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1219320"/>
            <a:ext cx="1752480" cy="17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 u="sng">
                <a:solidFill>
                  <a:srgbClr val="000000"/>
                </a:solidFill>
                <a:uFillTx/>
                <a:latin typeface="Times New Roman"/>
              </a:rPr>
              <a:t>3 Seg Group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Times New Roman"/>
              </a:rPr>
              <a:t>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467480" y="2341440"/>
            <a:ext cx="609840" cy="441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937920" y="207324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adcast s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962520"/>
            <a:ext cx="34290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560" y="3962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K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381240" cy="609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0840" y="453240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adcast lin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PG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049800" y="4495680"/>
            <a:ext cx="381240" cy="609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41480" y="521820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adcast lin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loud"/>
          <p:cNvSpPr/>
          <p:nvPr/>
        </p:nvSpPr>
        <p:spPr>
          <a:xfrm flipH="1" rot="16200000">
            <a:off x="3948840" y="2909160"/>
            <a:ext cx="789120" cy="1676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0040" y="3611520"/>
            <a:ext cx="128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ecommunication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6" idx="2"/>
            <a:endCxn id="80" idx="0"/>
          </p:cNvCxnSpPr>
          <p:nvPr/>
        </p:nvCxnSpPr>
        <p:spPr>
          <a:xfrm rot="5400000">
            <a:off x="6743880" y="3467880"/>
            <a:ext cx="1713600" cy="34344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5486400" y="3048120"/>
            <a:ext cx="1828800" cy="609480"/>
          </a:xfrm>
          <a:prstGeom prst="wedgeRoundRectCallout">
            <a:avLst>
              <a:gd name="adj1" fmla="val 15365"/>
              <a:gd name="adj2" fmla="val 14296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 of broad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serve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733920"/>
            <a:ext cx="1143000" cy="1447560"/>
          </a:xfrm>
          <a:prstGeom prst="wedgeRoundRectCallout">
            <a:avLst>
              <a:gd name="adj1" fmla="val -22361"/>
              <a:gd name="adj2" fmla="val -92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Developm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a 3 Seg compli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digital ra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receiver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438280"/>
            <a:ext cx="1981080" cy="609840"/>
          </a:xfrm>
          <a:prstGeom prst="wedgeRoundRectCallout">
            <a:avLst>
              <a:gd name="adj1" fmla="val 19152"/>
              <a:gd name="adj2" fmla="val -162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program lin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 mobile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419720"/>
            <a:ext cx="1752480" cy="609480"/>
          </a:xfrm>
          <a:prstGeom prst="wedgeRoundRectCallout">
            <a:avLst>
              <a:gd name="adj1" fmla="val 75814"/>
              <a:gd name="adj2" fmla="val 6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nt link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5684760"/>
            <a:ext cx="166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920" y="13827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37160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0666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DA-style terrestrial digital radio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257800"/>
            <a:ext cx="1905120" cy="1066680"/>
          </a:xfrm>
          <a:prstGeom prst="wedgeRoundRectCallout">
            <a:avLst>
              <a:gd name="adj1" fmla="val -87583"/>
              <a:gd name="adj2" fmla="val -3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Development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Digital Radio P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(data broadcast browser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video vi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276720"/>
            <a:ext cx="144756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2720" y="3352680"/>
            <a:ext cx="79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oo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6480" y="274320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US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ne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00400" y="1600200"/>
            <a:ext cx="2971440" cy="608760"/>
            <a:chOff x="3200400" y="1600200"/>
            <a:chExt cx="2971440" cy="608760"/>
          </a:xfrm>
        </p:grpSpPr>
        <p:sp>
          <p:nvSpPr>
            <p:cNvPr id="100" name=""/>
            <p:cNvSpPr/>
            <p:nvPr/>
          </p:nvSpPr>
          <p:spPr>
            <a:xfrm flipH="1">
              <a:off x="4363200" y="1600200"/>
              <a:ext cx="18086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200" y="1721880"/>
              <a:ext cx="45216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200400" y="2087280"/>
              <a:ext cx="16149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67080" y="1295280"/>
            <a:ext cx="1169640" cy="304560"/>
            <a:chOff x="4267080" y="1295280"/>
            <a:chExt cx="1169640" cy="304560"/>
          </a:xfrm>
        </p:grpSpPr>
        <p:sp>
          <p:nvSpPr>
            <p:cNvPr id="104" name=""/>
            <p:cNvSpPr/>
            <p:nvPr/>
          </p:nvSpPr>
          <p:spPr>
            <a:xfrm>
              <a:off x="4267080" y="1295280"/>
              <a:ext cx="116964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7440" y="1368360"/>
              <a:ext cx="955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roadcast wa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447920" y="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２．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Integrated system overview and develop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62320" y="1600200"/>
            <a:ext cx="838080" cy="1447920"/>
            <a:chOff x="2362320" y="1600200"/>
            <a:chExt cx="838080" cy="1447920"/>
          </a:xfrm>
        </p:grpSpPr>
        <p:sp>
          <p:nvSpPr>
            <p:cNvPr id="108" name=""/>
            <p:cNvSpPr/>
            <p:nvPr/>
          </p:nvSpPr>
          <p:spPr>
            <a:xfrm>
              <a:off x="3117960" y="1600200"/>
              <a:ext cx="0" cy="395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2208240" y="2055960"/>
              <a:ext cx="1146240" cy="838080"/>
            </a:xfrm>
            <a:prstGeom prst="flowChartPredefinedProcess">
              <a:avLst/>
            </a:prstGeom>
            <a:solidFill>
              <a:srgbClr val="c0c0c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23880" y="2286000"/>
            <a:ext cx="762120" cy="457200"/>
          </a:xfrm>
          <a:prstGeom prst="leftRightArrow">
            <a:avLst>
              <a:gd name="adj1" fmla="val 50000"/>
              <a:gd name="adj2" fmla="val 33184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1523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FM Tok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Nippon Broadcas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09480" y="1828800"/>
            <a:ext cx="89244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0574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33520" y="4038480"/>
            <a:ext cx="148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43040" y="4267080"/>
            <a:ext cx="108576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881-5246-43CD-A9E5-A2DFE488F5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2120" y="990720"/>
            <a:ext cx="7772400" cy="5333760"/>
            <a:chOff x="762120" y="990720"/>
            <a:chExt cx="7772400" cy="53337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762120" y="990720"/>
              <a:ext cx="7772400" cy="5333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0" name=""/>
            <p:cNvGraphicFramePr/>
            <p:nvPr/>
          </p:nvGraphicFramePr>
          <p:xfrm>
            <a:off x="1650240" y="1744920"/>
            <a:ext cx="1554480" cy="201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0240" y="1744920"/>
                      <a:ext cx="1554480" cy="201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2" name=""/>
          <p:cNvGraphicFramePr/>
          <p:nvPr/>
        </p:nvGraphicFramePr>
        <p:xfrm>
          <a:off x="2057400" y="3962520"/>
          <a:ext cx="533520" cy="11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962520"/>
                    <a:ext cx="533520" cy="11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19320" y="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３．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Exterior view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PDA-style terrestrial digital radio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F40-C57F-4455-A745-F074356E75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524240" cy="236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19720" y="4952880"/>
            <a:ext cx="1218960" cy="6858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1904760" cy="60948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Times New Roman"/>
              </a:rPr>
              <a:t>BML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429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Display 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53080" y="2438280"/>
            <a:ext cx="2286000" cy="1371600"/>
            <a:chOff x="6553080" y="2438280"/>
            <a:chExt cx="2286000" cy="13716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553080" y="24382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6692400" y="2629440"/>
              <a:ext cx="1428120" cy="98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4952880" y="2514600"/>
            <a:ext cx="1219320" cy="520200"/>
          </a:xfrm>
          <a:prstGeom prst="borderCallout2">
            <a:avLst>
              <a:gd name="adj1" fmla="val 18750"/>
              <a:gd name="adj2" fmla="val -8333"/>
              <a:gd name="adj3" fmla="val 15125"/>
              <a:gd name="adj4" fmla="val 147787"/>
              <a:gd name="adj5" fmla="val 117148"/>
              <a:gd name="adj6" fmla="val 190462"/>
            </a:avLst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lay entire screen Q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04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４．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Overview of digital radio player loaded on 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143000"/>
            <a:ext cx="81536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355760"/>
            <a:ext cx="7772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ja-JP" sz="1400" spc="-1" strike="noStrike">
                <a:solidFill>
                  <a:srgbClr val="0000cc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Digital radio tuning function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BML Content displa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　　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Video Display function (SQVGA/QVGA)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Mode switch function (standard /video/BML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　　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EPG display function                                 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Telecommunication link control function</a:t>
            </a:r>
            <a:r>
              <a:rPr b="1" lang="ja-JP" sz="12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990720"/>
            <a:ext cx="987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000" y="11318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362320"/>
            <a:ext cx="99036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438280"/>
            <a:ext cx="75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Screen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72200" y="5791320"/>
          <a:ext cx="380880" cy="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5791320"/>
                    <a:ext cx="380880" cy="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153280" y="2971800"/>
          <a:ext cx="13356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53280" y="2971800"/>
                    <a:ext cx="133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779480" y="2438280"/>
            <a:ext cx="2536920" cy="3886200"/>
            <a:chOff x="1779480" y="2438280"/>
            <a:chExt cx="2536920" cy="3886200"/>
          </a:xfrm>
        </p:grpSpPr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779480" y="2438280"/>
              <a:ext cx="2536920" cy="3886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"/>
            <p:cNvGraphicFramePr/>
            <p:nvPr/>
          </p:nvGraphicFramePr>
          <p:xfrm>
            <a:off x="2819520" y="5181480"/>
            <a:ext cx="533160" cy="15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19520" y="5181480"/>
                      <a:ext cx="53316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133720" y="2666880"/>
            <a:ext cx="1828800" cy="243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33720" y="2666880"/>
                      <a:ext cx="182880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1" name=""/>
          <p:cNvGraphicFramePr/>
          <p:nvPr/>
        </p:nvGraphicFramePr>
        <p:xfrm>
          <a:off x="5867280" y="4267080"/>
          <a:ext cx="1086120" cy="1447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4267080"/>
                    <a:ext cx="10861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5181480"/>
            <a:ext cx="1371600" cy="52020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125347"/>
              <a:gd name="adj5" fmla="val -134370"/>
              <a:gd name="adj6" fmla="val 145708"/>
            </a:avLst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ML displa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478320"/>
            <a:ext cx="1218960" cy="1280880"/>
          </a:xfrm>
          <a:prstGeom prst="borderCallout2">
            <a:avLst>
              <a:gd name="adj1" fmla="val 18750"/>
              <a:gd name="adj2" fmla="val -8333"/>
              <a:gd name="adj3" fmla="val 8768"/>
              <a:gd name="adj4" fmla="val 135027"/>
              <a:gd name="adj5" fmla="val -4324"/>
              <a:gd name="adj6" fmla="val 196453"/>
            </a:avLst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lay area SQ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f video is QVGA, reduced to ¼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343400"/>
            <a:ext cx="1676520" cy="11595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10888"/>
              <a:gd name="adj5" fmla="val 42828"/>
              <a:gd name="adj6" fmla="val -24319"/>
            </a:avLst>
          </a:prstGeom>
          <a:solidFill>
            <a:srgbClr val="cc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ML displa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liant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IB STD-B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-B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DFD-A140-4BF2-A723-7FC6178B74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620120" y="3809880"/>
          <a:ext cx="106668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809880"/>
                    <a:ext cx="1066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876920" y="48340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16280"/>
            <a:ext cx="1219320" cy="265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7480" y="39416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u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5257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02360"/>
            <a:ext cx="480060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27832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/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91120" y="6167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9240" y="62866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586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lectrical power supply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1382760"/>
            <a:ext cx="152280" cy="1214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207040"/>
            <a:ext cx="10666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94720" y="5219640"/>
            <a:ext cx="10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emoryS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366920"/>
            <a:ext cx="5105520" cy="35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280" y="1200240"/>
            <a:ext cx="1904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Helical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Center frequency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VHF190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ntenna length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0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ntenna format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/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1194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93160" y="319572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ＰＤ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5626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i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424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846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262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44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8400" y="313524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3s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mod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967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06856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3s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262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8815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414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433600"/>
            <a:ext cx="762120" cy="61452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288"/>
                </a:moveTo>
                <a:lnTo>
                  <a:pt x="336" y="288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464328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r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5278320"/>
            <a:ext cx="990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r 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371240" y="37893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8640" y="37656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76960" y="3436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S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86640" y="46432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Air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8760" y="4313160"/>
            <a:ext cx="57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91880" y="2509920"/>
            <a:ext cx="132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SM-C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467480" y="3728880"/>
          <a:ext cx="4525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3728880"/>
                    <a:ext cx="452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943600" y="5634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77120" y="5367240"/>
            <a:ext cx="2085120" cy="609840"/>
            <a:chOff x="6477120" y="5367240"/>
            <a:chExt cx="2085120" cy="609840"/>
          </a:xfrm>
        </p:grpSpPr>
        <p:sp>
          <p:nvSpPr>
            <p:cNvPr id="198" name=""/>
            <p:cNvSpPr/>
            <p:nvPr/>
          </p:nvSpPr>
          <p:spPr>
            <a:xfrm>
              <a:off x="6477120" y="5367240"/>
              <a:ext cx="2023920" cy="533520"/>
            </a:xfrm>
            <a:prstGeom prst="parallelogram">
              <a:avLst>
                <a:gd name="adj" fmla="val 457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8120" y="5443560"/>
              <a:ext cx="1976400" cy="533520"/>
            </a:xfrm>
            <a:prstGeom prst="parallelogram">
              <a:avLst>
                <a:gd name="adj" fmla="val 4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38040" y="5489640"/>
              <a:ext cx="1924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Lithium-ion polymer batt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X 2pcs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514600" y="2433600"/>
            <a:ext cx="2590920" cy="2138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　　　　 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</a:rPr>
              <a:t>Main DSP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Ａｌｐｈａｍｏｓａｉｃ　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VC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OFDM/Tuner control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Demultiplex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Decode audio 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MPEG2-AAC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USB Control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Channel scan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Audio broadcast record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playback processing</a:t>
            </a:r>
            <a:r>
              <a:rPr b="1" i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468440"/>
            <a:ext cx="1295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17478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B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23600" y="43815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32720" y="1366920"/>
            <a:ext cx="1282680" cy="1869840"/>
            <a:chOff x="7632720" y="1366920"/>
            <a:chExt cx="1282680" cy="1869840"/>
          </a:xfrm>
        </p:grpSpPr>
        <p:pic>
          <p:nvPicPr>
            <p:cNvPr id="206" name="" descr="Image"/>
            <p:cNvPicPr/>
            <p:nvPr/>
          </p:nvPicPr>
          <p:blipFill>
            <a:blip r:embed="rId5"/>
            <a:stretch/>
          </p:blipFill>
          <p:spPr>
            <a:xfrm>
              <a:off x="7632720" y="1366920"/>
              <a:ext cx="1282680" cy="1869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7" name=""/>
            <p:cNvGraphicFramePr/>
            <p:nvPr/>
          </p:nvGraphicFramePr>
          <p:xfrm>
            <a:off x="8001000" y="1562040"/>
            <a:ext cx="709560" cy="1104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01000" y="1562040"/>
                      <a:ext cx="70956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9" name=""/>
          <p:cNvSpPr/>
          <p:nvPr/>
        </p:nvSpPr>
        <p:spPr>
          <a:xfrm>
            <a:off x="64771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2080" y="2133720"/>
            <a:ext cx="8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Video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DSM-C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362320" y="5813280"/>
          <a:ext cx="114300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5813280"/>
                    <a:ext cx="11430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09480" y="604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５．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Configuration diagram for terrestrial digital radio receiver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458200" y="2666880"/>
          <a:ext cx="304920" cy="92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458200" y="2666880"/>
                    <a:ext cx="304920" cy="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52B-F47B-4AE1-98BE-B202A16D7A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4000" y="914400"/>
          <a:ext cx="8600760" cy="56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14400"/>
                    <a:ext cx="860076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066680" y="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６．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PDA-style terrestrial digital radio receiv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333-E3C5-4AF0-A2D0-0FE206A34D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733920"/>
            <a:ext cx="4419720" cy="251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219320"/>
            <a:ext cx="4572000" cy="243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19320"/>
            <a:ext cx="4419720" cy="243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889280"/>
            <a:ext cx="533520" cy="53316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>
            <a:stCxn id="222" idx="3"/>
          </p:cNvCxnSpPr>
          <p:nvPr/>
        </p:nvCxnSpPr>
        <p:spPr>
          <a:xfrm>
            <a:off x="762120" y="215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24" name=""/>
          <p:cNvGraphicFramePr/>
          <p:nvPr/>
        </p:nvGraphicFramePr>
        <p:xfrm>
          <a:off x="2133720" y="1676520"/>
          <a:ext cx="4521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676520"/>
                    <a:ext cx="452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044800" y="1981080"/>
            <a:ext cx="2536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1. Program airs favorite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2. Instruct song file down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on data broadcast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3. Authentication/pay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through telecommun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4. File download through broad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5. Playback file on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724280" y="1731960"/>
            <a:ext cx="533520" cy="533520"/>
          </a:xfrm>
          <a:prstGeom prst="rect">
            <a:avLst/>
          </a:prstGeom>
          <a:ln w="0">
            <a:noFill/>
          </a:ln>
        </p:spPr>
      </p:pic>
      <p:cxnSp>
        <p:nvCxnSpPr>
          <p:cNvPr id="228" name=""/>
          <p:cNvCxnSpPr>
            <a:stCxn id="227" idx="3"/>
          </p:cNvCxnSpPr>
          <p:nvPr/>
        </p:nvCxnSpPr>
        <p:spPr>
          <a:xfrm>
            <a:off x="5257440" y="1998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556320" y="1854360"/>
            <a:ext cx="245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1. Introduce concert ticket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through 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2. Go to ticket sale site from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broadcast screen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telecommunication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Times New Roman"/>
              </a:rPr>
              <a:t>3. Purchase, authenticate,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844880" y="2951280"/>
            <a:ext cx="41292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2280" y="12193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Times New Roman"/>
              </a:rPr>
              <a:t>File download (music / still image / video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5280" y="12762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Times New Roman"/>
              </a:rPr>
              <a:t>Ticket sale / radio s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2219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0" y="2941560"/>
            <a:ext cx="18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cket purchase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 /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ctronic 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733920"/>
            <a:ext cx="4572000" cy="251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724280" y="4343400"/>
            <a:ext cx="533520" cy="533520"/>
          </a:xfrm>
          <a:prstGeom prst="rect">
            <a:avLst/>
          </a:prstGeom>
          <a:ln w="0">
            <a:noFill/>
          </a:ln>
        </p:spPr>
      </p:pic>
      <p:cxnSp>
        <p:nvCxnSpPr>
          <p:cNvPr id="237" name=""/>
          <p:cNvCxnSpPr>
            <a:stCxn id="236" idx="3"/>
          </p:cNvCxnSpPr>
          <p:nvPr/>
        </p:nvCxnSpPr>
        <p:spPr>
          <a:xfrm>
            <a:off x="5257440" y="460980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6553080" y="4114800"/>
            <a:ext cx="24177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Times New Roman"/>
              </a:rPr>
              <a:t>1. Notification of opinionaire entry on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Times New Roman"/>
              </a:rPr>
              <a:t>2. Fill out opinionaire on data broadcast 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Times New Roman"/>
              </a:rPr>
              <a:t>3. Enter opinionaire through telecommunicatio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Times New Roman"/>
              </a:rPr>
              <a:t>4. Check status through telecommunicatio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4800600" y="5562720"/>
            <a:ext cx="41292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757760" y="382284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Times New Roman"/>
              </a:rPr>
              <a:t>Opinionaire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4343400"/>
            <a:ext cx="228600" cy="228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・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・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105520"/>
            <a:ext cx="228600" cy="38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あ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い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152280" y="4349880"/>
            <a:ext cx="533520" cy="53316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3" idx="3"/>
          </p:cNvCxnSpPr>
          <p:nvPr/>
        </p:nvCxnSpPr>
        <p:spPr>
          <a:xfrm>
            <a:off x="685440" y="4615920"/>
            <a:ext cx="106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286000" y="4197240"/>
            <a:ext cx="21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1. View EPG through radio broad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2. When more detailed information is des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3. Acquire detailed program information from EPG screen through telecommunicatio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272880" y="5562720"/>
            <a:ext cx="412920" cy="457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1040" y="3795840"/>
            <a:ext cx="42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Times New Roman"/>
              </a:rPr>
              <a:t>Electronic Program Guide (EPG)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1143000" y="53341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762120" y="4343400"/>
            <a:ext cx="401400" cy="533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16560" y="41148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adcast E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304920" y="3048120"/>
            <a:ext cx="41256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685800" y="2743200"/>
            <a:ext cx="371520" cy="214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15840" y="304812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38080" y="25142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334120" y="24174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4360" y="2036880"/>
            <a:ext cx="87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cket s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838080" y="5029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73800" y="5105520"/>
            <a:ext cx="19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quire detailed EPG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34120" y="4952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1680" y="5343480"/>
            <a:ext cx="116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check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3880" y="1981080"/>
            <a:ext cx="533520" cy="838440"/>
            <a:chOff x="1523880" y="1981080"/>
            <a:chExt cx="533520" cy="838440"/>
          </a:xfrm>
        </p:grpSpPr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1523880" y="1981080"/>
              <a:ext cx="5335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1598760" y="2036880"/>
              <a:ext cx="389160" cy="53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6019920" y="1828800"/>
            <a:ext cx="533160" cy="838080"/>
            <a:chOff x="6019920" y="1828800"/>
            <a:chExt cx="533160" cy="838080"/>
          </a:xfrm>
        </p:grpSpPr>
        <p:pic>
          <p:nvPicPr>
            <p:cNvPr id="265" name="" descr=""/>
            <p:cNvPicPr/>
            <p:nvPr/>
          </p:nvPicPr>
          <p:blipFill>
            <a:blip r:embed="rId16"/>
            <a:stretch/>
          </p:blipFill>
          <p:spPr>
            <a:xfrm>
              <a:off x="6019920" y="1828800"/>
              <a:ext cx="533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7"/>
            <a:stretch/>
          </p:blipFill>
          <p:spPr>
            <a:xfrm>
              <a:off x="6094800" y="1884600"/>
              <a:ext cx="388800" cy="53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1752480" y="4419720"/>
            <a:ext cx="533520" cy="838080"/>
            <a:chOff x="1752480" y="4419720"/>
            <a:chExt cx="533520" cy="838080"/>
          </a:xfrm>
        </p:grpSpPr>
        <p:pic>
          <p:nvPicPr>
            <p:cNvPr id="268" name="" descr=""/>
            <p:cNvPicPr/>
            <p:nvPr/>
          </p:nvPicPr>
          <p:blipFill>
            <a:blip r:embed="rId18"/>
            <a:stretch/>
          </p:blipFill>
          <p:spPr>
            <a:xfrm>
              <a:off x="1752480" y="4419720"/>
              <a:ext cx="533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9"/>
            <a:stretch/>
          </p:blipFill>
          <p:spPr>
            <a:xfrm>
              <a:off x="1827360" y="4475520"/>
              <a:ext cx="389160" cy="53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6019920" y="4419720"/>
            <a:ext cx="533160" cy="838080"/>
            <a:chOff x="6019920" y="4419720"/>
            <a:chExt cx="533160" cy="838080"/>
          </a:xfrm>
        </p:grpSpPr>
        <p:pic>
          <p:nvPicPr>
            <p:cNvPr id="271" name="" descr=""/>
            <p:cNvPicPr/>
            <p:nvPr/>
          </p:nvPicPr>
          <p:blipFill>
            <a:blip r:embed="rId20"/>
            <a:stretch/>
          </p:blipFill>
          <p:spPr>
            <a:xfrm>
              <a:off x="6019920" y="4419720"/>
              <a:ext cx="533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1"/>
            <a:stretch/>
          </p:blipFill>
          <p:spPr>
            <a:xfrm>
              <a:off x="6094800" y="4475520"/>
              <a:ext cx="38880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762120" y="-763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Broadcast/tele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integrated service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3B2-035F-410A-AD31-FD6F7B6438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1295280"/>
            <a:ext cx="8153280" cy="502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066680"/>
            <a:ext cx="251460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640" y="1143000"/>
            <a:ext cx="239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Implementation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76520"/>
            <a:ext cx="754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urpose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Gather comments from trial participants regarding the developed digital radio broadcast and mobile telecommunication integrated service to identify requirements and areas for improvement for future service deploy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Date and time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：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10:00 – 16:00,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March 4 - 6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Location: Tokyo Tower 2F  Special events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Trial participants : approximately 300 people (from the general publ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Activity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Had participants experience digital radio broadcast waves transmitted from Tokyo tower, try the service integrated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with mobile telecommunication and answer a survey.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                ●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download still image, music, video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　　　　●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experience radio shopping for event tickets / CD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　　　　   ●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enter opinionaires to communicate requests and reactions to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We were unable to put MPEG-4 video on the broadcast stream so we canned the broadcast and played back on a TS playback device and inputted TS to the receiver through c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600" y="4956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-60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８．　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Implementation overview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verificatio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8B6-A4D7-4934-A861-FE7529113B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2:45:40Z</dcterms:created>
  <dc:creator/>
  <dc:description/>
  <dc:language>en-US</dc:language>
  <cp:lastModifiedBy>Mika Neergaard</cp:lastModifiedBy>
  <cp:lastPrinted>2004-06-05T07:19:14Z</cp:lastPrinted>
  <dcterms:modified xsi:type="dcterms:W3CDTF">2004-06-09T06:52:09Z</dcterms:modified>
  <cp:revision>762</cp:revision>
  <dc:subject/>
  <dc:title>情報通信月間シンポジウム講演資料</dc:title>
</cp:coreProperties>
</file>