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E14E-85C9-4EED-AA97-A621EC72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54E1-6072-4F77-BE75-C592860A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DE07-75D7-4E1D-B00A-57D76CE8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9C7-0AD8-41C7-A01A-B0470B24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291-93A2-461F-AF58-D1B9132F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FB5-7D57-4CF0-84B9-E98084F4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EC9B-A926-4214-9710-11E13C38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CF19-09BA-4618-8DF7-4BB761A3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4AEF-79FD-4812-B883-1F8992C2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763-BE67-44A2-A575-814C1E87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404B-C187-432A-9624-3D6E09A6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B5B-CCE5-413C-90ED-FF347AF3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3836-4E6C-44E0-A88E-D9814A058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I:/MPEG%207%20Core%20Experiment/DID%20Sports%20Active%20Example.xml" TargetMode="External"/><Relationship Id="rId2" Type="http://schemas.openxmlformats.org/officeDocument/2006/relationships/hyperlink" Target="file:///I:/MPEG%207%20Core%20Experiment/DID%20Sports%20Active%20Record%20Example.xml" TargetMode="External"/><Relationship Id="rId3" Type="http://schemas.openxmlformats.org/officeDocument/2006/relationships/hyperlink" Target="file:///I:/MPEG%207%20Core%20Experiment/DID%20Sports%20Active%20Example.xml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V-Anytime Phas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 Pack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 Acqui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to Content Refere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that a CRID is a pa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age metadata describes items to be ac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 Identif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tem is identified with a C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independent 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quisition 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371680" y="1523880"/>
          <a:ext cx="40291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1680" y="1523880"/>
                    <a:ext cx="40291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standing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 Package Ident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es this fits into TVA Phase 1 metadata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Phase 1 metadata to support new Content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ling of Device Capabili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VB IPD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DC has similar Requirements to T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support for E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of content based on device cap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Content Pack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tent Item consisting of a collection of ass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ts selected base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ice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experience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p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s upon TVA Phase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320840" y="698400"/>
            <a:ext cx="6438960" cy="5435640"/>
            <a:chOff x="1320840" y="698400"/>
            <a:chExt cx="6438960" cy="5435640"/>
          </a:xfrm>
        </p:grpSpPr>
        <p:sp>
          <p:nvSpPr>
            <p:cNvPr id="46" name=""/>
            <p:cNvSpPr/>
            <p:nvPr/>
          </p:nvSpPr>
          <p:spPr>
            <a:xfrm>
              <a:off x="1320840" y="698400"/>
              <a:ext cx="6438960" cy="5435640"/>
            </a:xfrm>
            <a:custGeom>
              <a:avLst/>
              <a:gdLst/>
              <a:ahLst/>
              <a:rect l="l" t="t" r="r" b="b"/>
              <a:pathLst>
                <a:path w="4056" h="3424">
                  <a:moveTo>
                    <a:pt x="272" y="520"/>
                  </a:moveTo>
                  <a:cubicBezTo>
                    <a:pt x="352" y="352"/>
                    <a:pt x="248" y="440"/>
                    <a:pt x="800" y="424"/>
                  </a:cubicBezTo>
                  <a:cubicBezTo>
                    <a:pt x="1352" y="408"/>
                    <a:pt x="3112" y="0"/>
                    <a:pt x="3584" y="424"/>
                  </a:cubicBezTo>
                  <a:cubicBezTo>
                    <a:pt x="4056" y="848"/>
                    <a:pt x="3824" y="2512"/>
                    <a:pt x="3632" y="2968"/>
                  </a:cubicBezTo>
                  <a:cubicBezTo>
                    <a:pt x="3440" y="3424"/>
                    <a:pt x="2672" y="3408"/>
                    <a:pt x="2432" y="3160"/>
                  </a:cubicBezTo>
                  <a:cubicBezTo>
                    <a:pt x="2192" y="2912"/>
                    <a:pt x="2544" y="1768"/>
                    <a:pt x="2192" y="1480"/>
                  </a:cubicBezTo>
                  <a:cubicBezTo>
                    <a:pt x="1840" y="1192"/>
                    <a:pt x="640" y="1592"/>
                    <a:pt x="320" y="1432"/>
                  </a:cubicBezTo>
                  <a:cubicBezTo>
                    <a:pt x="0" y="1272"/>
                    <a:pt x="192" y="688"/>
                    <a:pt x="272" y="52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62520" y="1981080"/>
              <a:ext cx="609480" cy="533520"/>
              <a:chOff x="3962520" y="1981080"/>
              <a:chExt cx="609480" cy="533520"/>
            </a:xfrm>
          </p:grpSpPr>
          <p:sp>
            <p:nvSpPr>
              <p:cNvPr id="48" name=""/>
              <p:cNvSpPr/>
              <p:nvPr/>
            </p:nvSpPr>
            <p:spPr>
              <a:xfrm>
                <a:off x="4267080" y="198108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962520" y="224784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5715000" y="3200400"/>
              <a:ext cx="609480" cy="533520"/>
              <a:chOff x="5715000" y="3200400"/>
              <a:chExt cx="609480" cy="533520"/>
            </a:xfrm>
          </p:grpSpPr>
          <p:sp>
            <p:nvSpPr>
              <p:cNvPr id="51" name=""/>
              <p:cNvSpPr/>
              <p:nvPr/>
            </p:nvSpPr>
            <p:spPr>
              <a:xfrm>
                <a:off x="6019560" y="320040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715000" y="34671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"/>
          <p:cNvSpPr/>
          <p:nvPr/>
        </p:nvSpPr>
        <p:spPr>
          <a:xfrm>
            <a:off x="177840" y="3314880"/>
            <a:ext cx="4699080" cy="2743200"/>
          </a:xfrm>
          <a:custGeom>
            <a:avLst/>
            <a:gdLst/>
            <a:ahLst/>
            <a:rect l="l" t="t" r="r" b="b"/>
            <a:pathLst>
              <a:path w="2960" h="1728">
                <a:moveTo>
                  <a:pt x="656" y="216"/>
                </a:moveTo>
                <a:cubicBezTo>
                  <a:pt x="1040" y="0"/>
                  <a:pt x="2304" y="0"/>
                  <a:pt x="2624" y="216"/>
                </a:cubicBezTo>
                <a:cubicBezTo>
                  <a:pt x="2944" y="432"/>
                  <a:pt x="2960" y="1296"/>
                  <a:pt x="2576" y="1512"/>
                </a:cubicBezTo>
                <a:cubicBezTo>
                  <a:pt x="2192" y="1728"/>
                  <a:pt x="640" y="1728"/>
                  <a:pt x="320" y="1512"/>
                </a:cubicBezTo>
                <a:cubicBezTo>
                  <a:pt x="0" y="1296"/>
                  <a:pt x="272" y="432"/>
                  <a:pt x="656" y="2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filmreel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771480" cy="324000"/>
          </a:xfrm>
          <a:prstGeom prst="rect">
            <a:avLst/>
          </a:prstGeom>
          <a:ln w="0">
            <a:noFill/>
          </a:ln>
        </p:spPr>
      </p:pic>
      <p:pic>
        <p:nvPicPr>
          <p:cNvPr id="55" name="InteractiveApp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1114560" cy="904680"/>
          </a:xfrm>
          <a:prstGeom prst="rect">
            <a:avLst/>
          </a:prstGeom>
          <a:ln w="0">
            <a:noFill/>
          </a:ln>
        </p:spPr>
      </p:pic>
      <p:pic>
        <p:nvPicPr>
          <p:cNvPr id="56" name="record" descr=""/>
          <p:cNvPicPr/>
          <p:nvPr/>
        </p:nvPicPr>
        <p:blipFill>
          <a:blip r:embed="rId3"/>
          <a:stretch/>
        </p:blipFill>
        <p:spPr>
          <a:xfrm>
            <a:off x="2133720" y="3733920"/>
            <a:ext cx="961920" cy="961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62320" y="3049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09880" y="220968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A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1800" y="266688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ve A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48006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bum of Soundtr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Subtitles" descr=""/>
          <p:cNvPicPr/>
          <p:nvPr/>
        </p:nvPicPr>
        <p:blipFill>
          <a:blip r:embed="rId4"/>
          <a:stretch/>
        </p:blipFill>
        <p:spPr>
          <a:xfrm>
            <a:off x="5486400" y="3990960"/>
            <a:ext cx="1171440" cy="885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436720" y="495288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it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rts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interactive application to acqu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camera angels to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Audio tracks to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der Man Mov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quire content for playback on my PDA I.e Low bitrate, VC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record HD for my Home Cin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Director c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rol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‘Attractor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a device or user to make choices about the desired playback experience, at time of boo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mandatory content i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s the items that must be acquired for a specific user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temporal relationships between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T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MPEG-21 Digital Item Declaration (D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VA is defining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led D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data for defining Device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ling Digital Item Adaptation (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ing meta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Content Acquisition mechanis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cal Dat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3520" y="2575080"/>
          <a:ext cx="8229600" cy="21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75080"/>
                    <a:ext cx="8229600" cy="21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ort Active Ins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port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Active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 example 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 Acqui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D used for Package iden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n existing TVA Phase 1 Content Item has a Package, then it uses the same CR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 if there are multiple Packages for the content item. How do you identify the actual pack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D and IMI used for Content Ac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I enables the selection of a specific item instance e.g Code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 that there can only be one Instance per i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19:34:33Z</dcterms:created>
  <dc:creator>Keith Millar</dc:creator>
  <dc:description/>
  <dc:language>en-US</dc:language>
  <cp:lastModifiedBy>Keith Millar</cp:lastModifiedBy>
  <dcterms:modified xsi:type="dcterms:W3CDTF">2004-07-23T16:02:44Z</dcterms:modified>
  <cp:revision>7</cp:revision>
  <dc:subject/>
  <dc:title>TV-Anytime Phase 2</dc:title>
</cp:coreProperties>
</file>